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8518680" y="630864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00CADA3-71E5-436A-8E50-178FD7702D9B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89080" y="63086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AF86411-C5D3-4644-8D2B-9EE3E6DF2E6A}" type="datetime"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roduction to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Firew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ren 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81320" y="5029200"/>
            <a:ext cx="278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bersource Pty L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8280" y="4403880"/>
            <a:ext cx="3189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rrenr@cyber.com.a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are you protecting ?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fileser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able intellectual propert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datab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ersonnel records, balance sheets, customer recor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rep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isk Invol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you lose if someone breaks i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utatio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al of service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bom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etwork Security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 have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to consider for your poli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ms connected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llowing dialup PPP to a de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software from the Internet on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f trojans, viruses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o policy means wha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define your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hard to take action against insiders who undertake risky 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justify any exp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reating a Security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you protecting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level of risk is acceptable to you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happens when there is an inciden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CERT, police, other official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your network “offline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s and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ing illega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ing offensiv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ornographic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ing your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uilding the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does it g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networ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makes it up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s, bastion host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, other hard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1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ingle Screening Ro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6320" y="2438280"/>
            <a:ext cx="77328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2438280"/>
            <a:ext cx="5334120" cy="838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3276720"/>
            <a:ext cx="76212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06800" y="265104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114800"/>
            <a:ext cx="259092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3276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76720" y="41752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  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648320"/>
            <a:ext cx="0" cy="761760"/>
          </a:xfrm>
          <a:prstGeom prst="line">
            <a:avLst/>
          </a:prstGeom>
          <a:ln w="152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55600" y="541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3886200"/>
            <a:ext cx="2895480" cy="99072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724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48120" y="55627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943680" y="582444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43000" y="5791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59092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289548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1952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47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71500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6019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9608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52578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ingle Screening Ro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ely allows IP packets throug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a router or dual-interface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ackets must be able to travel from one endpoint to the oth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vial mistake can render the Firewall ineffect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ons between rules for different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ing Router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can be dangero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host on the internal network can talk to any external ho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times configured to only allow one internal host to talk to external networ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ternal hosts use it as a prox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a dedicated router, not Un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roduc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Firewalls Work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I need a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2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ual-Homed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438280"/>
            <a:ext cx="5334120" cy="838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3276720"/>
            <a:ext cx="76212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006800" y="265104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114800"/>
            <a:ext cx="228600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3276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14720" y="417528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648320"/>
            <a:ext cx="0" cy="761760"/>
          </a:xfrm>
          <a:prstGeom prst="line">
            <a:avLst/>
          </a:prstGeom>
          <a:ln w="152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886200"/>
            <a:ext cx="2590920" cy="99072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8120" y="55627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3680" y="582444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5791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9092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289548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1952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47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1500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6019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69608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52578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541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ual Homed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sort of multi-user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proxying for all network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d to NOT pass or route any IP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asily audit all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re easily filter on content than packet fil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3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ed Sub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514600"/>
            <a:ext cx="609480" cy="3429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27160" y="2727360"/>
            <a:ext cx="3207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0" y="2514600"/>
            <a:ext cx="3808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651040" y="3108240"/>
            <a:ext cx="320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2514600"/>
            <a:ext cx="685800" cy="3352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486400" y="2514600"/>
            <a:ext cx="3808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851440" y="3108240"/>
            <a:ext cx="320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2514600"/>
            <a:ext cx="685800" cy="3352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3962520"/>
            <a:ext cx="68580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26708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43280" y="315756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91520" y="2362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91520" y="342900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934320" y="2286000"/>
            <a:ext cx="0" cy="380988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26708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34320" y="2819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934320" y="38862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934320" y="58672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3657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2362320"/>
            <a:ext cx="4191120" cy="365760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43434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03848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67080" y="3809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4114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43400" y="38098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1148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441972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791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858000" y="27432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858000" y="27432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29718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29718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572000" y="38098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809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572000" y="41148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03848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ed Sub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creening router for each exterior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access to everything but the ba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Z’ between interior and exterior ro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(s) in DMZ are not trusted by an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(s) in DMZ do not trust an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dding Extra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P/S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OP mai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 (Appletalk Remote Ac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ty lo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OTPs (One Time Passwor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Internet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Servic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plit DNS </a:t>
            </a: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ut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serv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information for external hosts ON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to internal server for all client queries (/etc/resolv.conf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named.boot forwards queries to external name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ovide entire internal DN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plit DNS </a:t>
            </a: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 Server providing information for interna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information for internal hosts ON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ternal client queries point to it (/etc/resolv.conf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named.boot forwards unanswerable queries to external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WW Serv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machin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as an unpriviliedged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be on a port other than 80 (relay port 8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hroot environment if possib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f CGI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ouble as a cache/prox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ERN htt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nonymous F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daemons have had their share of security b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“ftp” has an invalid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u-archive ftp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li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t owns ~ft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llow group/world writeable director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/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an Firewalls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a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firewall as relay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horror story un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to hide intern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rewriting mail headers (trick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with minimal privili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mrsh to limit shel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se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internal machin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large amount of bandwidt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large amount of diskspace for a reasonably complete fe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t packets to/from feeds onl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roxy client-server connectio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can act as proxi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Unix clients hav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ngero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cripting languag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refore be dangerous to allow naive users to interact with malicious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B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ast-IP over UD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tunnelled over non-multicast supporting IP networ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ast packets aren’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l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’ing is too s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Varia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 between router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ing screening router and bas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ing a router in your DMZ with a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ccess points to your networ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ccess points to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astion between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homed bas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screening rou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connected externally and to the dual-homed bas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connected internally and to the dual-homed ba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mbined Screening Router and Ba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Unix with packet filtering abilit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bastion is compromised, internal network is directly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services to proxy, and which not t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rging Exterior router with Bastion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es the bastion to direct IP attac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quire extra software/hardware or configuration chang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ll leaves internal networ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rging Interior Router with Bastion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ed subnet is remov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bastion is compromised, internal network is directly at ris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ultiple Internal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more paths into your internal (valuable) networ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risk of a break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err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sult in routing internal traffic via external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likely for a access list problem/inconsista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ssary of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Z - De-Militarized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ultiple External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dundant Internet connectio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only provide more ways to get to your Firewall and not through 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mparis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ing a DMZ (at least 3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ing your Fire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uln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o Proxy or not to Prox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is slower than packet filte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is less risky than packet filte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debug proxy proble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provides access to session layer and higher dat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easier to filter on data stream cont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takes more effort to set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uilding Your own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y available pack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Unix for your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ing Internet Services for a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ly Available Packages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  <a:ea typeface="Arial"/>
              </a:rPr>
              <a:t>(unbund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tone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 Firewall Toolkit (FWT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Fil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  <a:ea typeface="Arial"/>
              </a:rPr>
              <a:t>(Version 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upport of client software to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ches available for some client software (but must have source), else custom clients requir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like Netscape will come with built-in suppor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 is done by clien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orks with TC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Pack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(proxy agent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access control chec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librar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Sified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, ftp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, Windows versions of client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(Version 5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C 1928 (Proposed Standard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GSSAP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IPv4 &amp; IPv6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UD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stone Toolk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tesy of Sources of Supply (SOS) Corpor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oscorp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s using TCP wrapp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configuration f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IS Firewall Toolkit (FWTK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tesy of Trusted Information Systems (T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is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proxies for common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-gw, http-gw, et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proxy to handle others (plug-gw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e mail relay softwar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pd/sma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tarting O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people have firewall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 it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n’t it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you protecting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risk involve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network/security poli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WTK &amp; Dual-homed Ba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nfiguration fi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lients have access control built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ac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different proxies for different destinations/origi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extended authorization checks (authser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stone/FWTK Lega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freely available but limitation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it as part of a “product”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changes to 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ly un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 users are encouraged to buy Gauntlet if they like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vailable freely and can be register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s common heritage with filtering code in Linux/FreeBSD (ipfw/ipfwadm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orks on BSD Unixes based on 4.4BSD-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SD, Free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interface to kernel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y available (for commercial use too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x, Solaris 2.x, FreeBSD, NetBSD, Open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oombs.anu.edu.au/~avalon/ip-filter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iltering of IP packe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filter on addresses, ports, ICMP types, et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gging through a character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details can be stored in a file or sent to syslog or bot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e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CMP/TCP RST re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 as part of the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built into the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x, NetBSD, Free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as a loadable kernel mo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, SunOS 4, NetBSD, FreeBS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of Unix tools to monitor and control the fil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ich Unix for your Firewall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I’s BSD/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BS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B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unOS 4.1.4 or Solaris 2.5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4 is Solaris 1.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.5 is SunOS 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 compiler bundled with Solaris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bugs fixes in SunOS 5.5 kernel that aren’t (and won’t be) in SunOS 4.1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-x86 for PCs i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inu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lly evolv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ng” compared to other Unix’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ess bugfre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a large variety of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s with its ow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SD/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remaining commercial BSD Unix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on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licence is relatively chea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ial, thus support is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y do people have Firewall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ccess to othe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al point for access to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fence for your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rdle for intruders to get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enforce network/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 users from inadvertantly creating security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remote access via insecure 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BS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to working on P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friendly installation and configur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4.4BSD-Li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networking and filesystem co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a large variety of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s with its ow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etBS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 large variety of different hardwar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Suns, DECs, Alphas, Macs, Amigas, et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4.4BSD-Li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networking and filesystem co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etting up your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Firewall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Con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perating System Instal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 your Firewall to-be from an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riginal media (tape/CD-R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you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perating System Configu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permissions on 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/disable set-uid and set-gid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all non-essential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lp, ingres, gam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ther softw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tcp-wrappers, gcc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Software Instal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software from CD-ROM/tape/flo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and install your Firewall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your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 excess programs used for installation but not required for op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est Firewall Set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your Firewall to the Internal network and attempt to us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 from Internal network and connect to External network and test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your Firewall closely during the tests and look for unexpected 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changes as necessary and repeat until the Firewall performs 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Going L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your Firewall to both Internal and External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be afraid to disconnect if a problem ar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ounce availability to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ogg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yslog’ing of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unus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process 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log roll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a daily/weekly/monthly bas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x kilo-byt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copies of log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ogging Network Conn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nd use TCP wrap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” flag for inetd under Solar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 access to portmap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map 3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log connections direct to RPC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 shared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does it do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s as a control poi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ccessing your network from other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kers trying to gain unauthorised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ccessing other networks from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CP Wra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 a standin for the real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s real daemon if access is gr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P# against Access Control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IP#’s in ACLs is more secure than domain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ttacking TCP Wra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onfigured to do reverse DNS lookups to check IP# to domainname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setup to disable source-route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patch for SunOS 4.1.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setup to disable IP spoofing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Spoofing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ro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ltered routes/ARP e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urce Routed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to be used is encoded in the IP options of the packet header by attack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in packet header is used to send packets bac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often allows this to be filtered on/disab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isco’s support “no ip source-rou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ake ARP/Routing table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P attacks only effective for LAN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ffective against Intranet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tables can often be easily spoof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sending fake RIP packets (no authentica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ged ICMP redir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lind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just send, no replies s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es are guessed/calculated by atta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done by making a trusted hos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k style used by Kevin Mitn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tarding IP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out (block) all ICMP redirect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atic routes wherever possib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e the “real routing” to route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ing IP spoofing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any traffic which comes from a network address you use, including 127.0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atching the Kernel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(SunOS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b -w -k /vmunix /dev/k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_portmon/W1, nfs_portmon?W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_forwarding/W-1, ip_forwarding?W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time o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“IPFORDWARDING=-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able Kernel Modules, 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atching the Kernel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(Solaris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init.d/inet, ndd -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path_mtu_discovery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forward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forward_src_routed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ignore_redirect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strict_dst_multihoming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conn_req_max 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close_wait_interval 3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strong_iss 1 (2.5 only - defau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aking Sendmail Sa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il.local as the Mlocal, rather than /bin/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 on o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authwarnings needmailhelo noexpn restrictmail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doesn’t it do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stop users doing silly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won’t stop someone walking out the door with confidential information on a floppy dis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event people from chosing bad password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event insiders from helping unauthorised outsiders get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liability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ing your Firewall up 24x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connectivity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ndant system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/user suppor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curity) patch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ncry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rypting IP p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/Photuris (IETF IPsec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PN’s (Virtual Private Networks)/ VNP’s (Virtual Network Perime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rypted IP tunnels between private networks over public networ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uthent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me passwords (challenge-respons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s: SecureID, et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ithms: S/Ke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beros (ticket based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 authser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ere to get more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 and Internet Security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lovin &amp; Cheswick, Addison Wes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201-63357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Internet Firewal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man &amp;  Zwick, O’Reilly &amp;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1-56592-124-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ailling l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@greatcircl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nd e-mail to majordomo@greatcircle.c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mailling lis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-users@ti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gtraq@crimelab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security@is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of-security@suburbia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s and Internal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increase internal secur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event users from using their PC’s to snoop internal network traff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make all your Unix systems safe from all sendmail bu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make NFS secu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stop people trying to break 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tell you who tried to break 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otect you against Vir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rren Reed</dc:creator>
  <dc:description/>
  <dc:language>en-US</dc:language>
  <cp:lastModifiedBy>Mr Magoo</cp:lastModifiedBy>
  <cp:revision>0</cp:revision>
  <dc:subject/>
  <dc:title>Introduction to Internet Firewalls</dc:title>
</cp:coreProperties>
</file>