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6AA5-9ECD-4854-B25E-8BA10AB5A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1484-5D8A-4883-8E1A-026C741DB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2E6D-FFFA-4BB4-BC50-0B3BD5B9A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CE4-AC09-4B39-8365-32552FA9D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5E93-20E4-494B-BFD2-5D9E6E8CA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D8F64-64A5-4766-A617-31B322EC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CB75-0DC8-4400-A7CD-B56FED024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379B2-6DB0-4D55-BF2B-814C2C12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43A98-136E-45B2-8F4B-5C8CDE86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CA8D-CDB8-432B-BFCD-4079F18F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2F79-50DE-453F-A27C-DB29BB2C1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A334-9559-4F90-B4D1-6D893ACEA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A6148-2E45-49C0-8795-60BF0364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EED8-31A7-4AF8-AD64-A1D87E8A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928B1-2569-4694-9AC7-FE27AA5F7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2338-23FD-4252-9D4D-737715BCE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349C-477F-4B3A-A48C-A3187B782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4A69-DE75-4C63-A49E-3912F5BD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982D-98E6-4619-8236-ABD2CDC38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5726E-ECB6-4A95-B509-5CC4E223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0A51-AD60-4FF2-A163-1B49E739A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5E61-FFCE-4968-9443-866D57A8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5286-DC6D-47C1-8079-748D0469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5366-C1A6-430A-9B7C-DC67CE5A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DAE4-0BAE-4055-B7E9-D267A98A180F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441F0BFA-2450-4764-9CCE-717AEF9E06BE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7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D4B3-A789-46CB-A821-CBF2465EEB00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-33480"/>
            <a:ext cx="71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urso C - IC/UNIC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43164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1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871236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4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A1F7-6297-4710-B9B6-BCECE4A4FB3F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2F9B8E7A-7805-4AF1-BC69-E42615949BE7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7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6A1E8-343A-4D7C-9A7D-8373BD35686E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Estruturas de Repetiçã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81EA9-D152-41A6-AFFF-4306F1E0951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F547EE1-E4DB-4535-87AA-5CB6D7DD18C9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6095880" y="3048120"/>
            <a:ext cx="2590920" cy="30477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3505320"/>
            <a:ext cx="5257800" cy="25905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strutura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whil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458040" y="3352680"/>
            <a:ext cx="1987560" cy="2616480"/>
            <a:chOff x="6458040" y="3352680"/>
            <a:chExt cx="1987560" cy="2616480"/>
          </a:xfrm>
        </p:grpSpPr>
        <p:sp>
          <p:nvSpPr>
            <p:cNvPr id="150" name=""/>
            <p:cNvSpPr/>
            <p:nvPr/>
          </p:nvSpPr>
          <p:spPr>
            <a:xfrm>
              <a:off x="6800760" y="3895560"/>
              <a:ext cx="1301760" cy="428760"/>
            </a:xfrm>
            <a:custGeom>
              <a:avLst/>
              <a:gdLst/>
              <a:ahLst/>
              <a:rect l="l" t="t" r="r" b="b"/>
              <a:pathLst>
                <a:path w="820" h="270">
                  <a:moveTo>
                    <a:pt x="415" y="0"/>
                  </a:moveTo>
                  <a:lnTo>
                    <a:pt x="0" y="135"/>
                  </a:lnTo>
                  <a:lnTo>
                    <a:pt x="415" y="270"/>
                  </a:lnTo>
                  <a:lnTo>
                    <a:pt x="820" y="135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fff66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043400" y="4010040"/>
              <a:ext cx="88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expressã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0760" y="4654440"/>
              <a:ext cx="1301760" cy="528840"/>
            </a:xfrm>
            <a:prstGeom prst="rect">
              <a:avLst/>
            </a:prstGeom>
            <a:solidFill>
              <a:srgbClr val="66ccff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984720" y="4826160"/>
              <a:ext cx="100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sentença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" name=""/>
            <p:cNvGrpSpPr/>
            <p:nvPr/>
          </p:nvGrpSpPr>
          <p:grpSpPr>
            <a:xfrm>
              <a:off x="7388280" y="4324320"/>
              <a:ext cx="156960" cy="330120"/>
              <a:chOff x="7388280" y="4324320"/>
              <a:chExt cx="156960" cy="330120"/>
            </a:xfrm>
          </p:grpSpPr>
          <p:sp>
            <p:nvSpPr>
              <p:cNvPr id="155" name=""/>
              <p:cNvSpPr/>
              <p:nvPr/>
            </p:nvSpPr>
            <p:spPr>
              <a:xfrm>
                <a:off x="7459560" y="4324320"/>
                <a:ext cx="1800" cy="216000"/>
              </a:xfrm>
              <a:prstGeom prst="line">
                <a:avLst/>
              </a:prstGeom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88280" y="4511520"/>
                <a:ext cx="156960" cy="14292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0"/>
                    </a:moveTo>
                    <a:lnTo>
                      <a:pt x="45" y="90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7459560" y="4038480"/>
              <a:ext cx="986040" cy="1487520"/>
              <a:chOff x="7459560" y="4038480"/>
              <a:chExt cx="986040" cy="1487520"/>
            </a:xfrm>
          </p:grpSpPr>
          <p:sp>
            <p:nvSpPr>
              <p:cNvPr id="158" name=""/>
              <p:cNvSpPr/>
              <p:nvPr/>
            </p:nvSpPr>
            <p:spPr>
              <a:xfrm>
                <a:off x="7459560" y="4110120"/>
                <a:ext cx="986040" cy="1415880"/>
              </a:xfrm>
              <a:custGeom>
                <a:avLst/>
                <a:gdLst/>
                <a:ahLst/>
                <a:rect l="l" t="t" r="r" b="b"/>
                <a:pathLst>
                  <a:path w="621" h="892">
                    <a:moveTo>
                      <a:pt x="0" y="676"/>
                    </a:moveTo>
                    <a:lnTo>
                      <a:pt x="0" y="892"/>
                    </a:lnTo>
                    <a:lnTo>
                      <a:pt x="621" y="892"/>
                    </a:lnTo>
                    <a:lnTo>
                      <a:pt x="621" y="0"/>
                    </a:lnTo>
                    <a:lnTo>
                      <a:pt x="477" y="0"/>
                    </a:lnTo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16920" y="4038480"/>
                <a:ext cx="142920" cy="157320"/>
              </a:xfrm>
              <a:custGeom>
                <a:avLst/>
                <a:gdLst/>
                <a:ahLst/>
                <a:rect l="l" t="t" r="r" b="b"/>
                <a:pathLst>
                  <a:path w="90" h="99">
                    <a:moveTo>
                      <a:pt x="90" y="0"/>
                    </a:moveTo>
                    <a:lnTo>
                      <a:pt x="0" y="45"/>
                    </a:lnTo>
                    <a:lnTo>
                      <a:pt x="90" y="99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7345440" y="3352680"/>
              <a:ext cx="214200" cy="214560"/>
            </a:xfrm>
            <a:prstGeom prst="ellipse">
              <a:avLst/>
            </a:prstGeom>
            <a:solidFill>
              <a:srgbClr val="ff0000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45440" y="5726160"/>
              <a:ext cx="214200" cy="214200"/>
            </a:xfrm>
            <a:prstGeom prst="ellipse">
              <a:avLst/>
            </a:prstGeom>
            <a:solidFill>
              <a:srgbClr val="00cc00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2" name=""/>
            <p:cNvGrpSpPr/>
            <p:nvPr/>
          </p:nvGrpSpPr>
          <p:grpSpPr>
            <a:xfrm>
              <a:off x="7388280" y="3567240"/>
              <a:ext cx="156960" cy="342720"/>
              <a:chOff x="7388280" y="3567240"/>
              <a:chExt cx="156960" cy="342720"/>
            </a:xfrm>
          </p:grpSpPr>
          <p:sp>
            <p:nvSpPr>
              <p:cNvPr id="163" name=""/>
              <p:cNvSpPr/>
              <p:nvPr/>
            </p:nvSpPr>
            <p:spPr>
              <a:xfrm>
                <a:off x="7459560" y="3567240"/>
                <a:ext cx="1800" cy="214200"/>
              </a:xfrm>
              <a:prstGeom prst="line">
                <a:avLst/>
              </a:prstGeom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388280" y="3753000"/>
                <a:ext cx="156960" cy="15696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45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7459560" y="4324320"/>
              <a:ext cx="21456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556040" y="43401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6458040" y="4110120"/>
              <a:ext cx="887400" cy="1815840"/>
              <a:chOff x="6458040" y="4110120"/>
              <a:chExt cx="887400" cy="1815840"/>
            </a:xfrm>
          </p:grpSpPr>
          <p:sp>
            <p:nvSpPr>
              <p:cNvPr id="168" name=""/>
              <p:cNvSpPr/>
              <p:nvPr/>
            </p:nvSpPr>
            <p:spPr>
              <a:xfrm>
                <a:off x="6458040" y="4110120"/>
                <a:ext cx="772920" cy="1730160"/>
              </a:xfrm>
              <a:custGeom>
                <a:avLst/>
                <a:gdLst/>
                <a:ahLst/>
                <a:rect l="l" t="t" r="r" b="b"/>
                <a:pathLst>
                  <a:path w="487" h="1090">
                    <a:moveTo>
                      <a:pt x="216" y="0"/>
                    </a:moveTo>
                    <a:lnTo>
                      <a:pt x="0" y="0"/>
                    </a:lnTo>
                    <a:lnTo>
                      <a:pt x="0" y="1090"/>
                    </a:lnTo>
                    <a:lnTo>
                      <a:pt x="487" y="1090"/>
                    </a:lnTo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202520" y="5769000"/>
                <a:ext cx="142920" cy="156960"/>
              </a:xfrm>
              <a:custGeom>
                <a:avLst/>
                <a:gdLst/>
                <a:ahLst/>
                <a:rect l="l" t="t" r="r" b="b"/>
                <a:pathLst>
                  <a:path w="90" h="99">
                    <a:moveTo>
                      <a:pt x="0" y="99"/>
                    </a:moveTo>
                    <a:lnTo>
                      <a:pt x="90" y="54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6486480" y="3895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82960" y="3909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559640" y="5726160"/>
              <a:ext cx="32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39200" y="5740560"/>
              <a:ext cx="25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559640" y="3352680"/>
              <a:ext cx="542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49640" y="336708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iníc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800760" y="3895560"/>
              <a:ext cx="1301760" cy="428760"/>
            </a:xfrm>
            <a:custGeom>
              <a:avLst/>
              <a:gdLst/>
              <a:ahLst/>
              <a:rect l="l" t="t" r="r" b="b"/>
              <a:pathLst>
                <a:path w="820" h="270">
                  <a:moveTo>
                    <a:pt x="415" y="0"/>
                  </a:moveTo>
                  <a:lnTo>
                    <a:pt x="0" y="135"/>
                  </a:lnTo>
                  <a:lnTo>
                    <a:pt x="415" y="270"/>
                  </a:lnTo>
                  <a:lnTo>
                    <a:pt x="820" y="135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fff66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043400" y="4010040"/>
              <a:ext cx="88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expressã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800760" y="4654440"/>
              <a:ext cx="1301760" cy="528840"/>
            </a:xfrm>
            <a:prstGeom prst="rect">
              <a:avLst/>
            </a:prstGeom>
            <a:solidFill>
              <a:srgbClr val="66ccff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955920" y="4826160"/>
              <a:ext cx="77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sentenç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7388280" y="4324320"/>
              <a:ext cx="156960" cy="330120"/>
              <a:chOff x="7388280" y="4324320"/>
              <a:chExt cx="156960" cy="330120"/>
            </a:xfrm>
          </p:grpSpPr>
          <p:sp>
            <p:nvSpPr>
              <p:cNvPr id="181" name=""/>
              <p:cNvSpPr/>
              <p:nvPr/>
            </p:nvSpPr>
            <p:spPr>
              <a:xfrm>
                <a:off x="7459560" y="4324320"/>
                <a:ext cx="1800" cy="216000"/>
              </a:xfrm>
              <a:prstGeom prst="line">
                <a:avLst/>
              </a:prstGeom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388280" y="4511520"/>
                <a:ext cx="156960" cy="14292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0"/>
                    </a:moveTo>
                    <a:lnTo>
                      <a:pt x="45" y="90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7459560" y="4038480"/>
              <a:ext cx="986040" cy="1487520"/>
              <a:chOff x="7459560" y="4038480"/>
              <a:chExt cx="986040" cy="1487520"/>
            </a:xfrm>
          </p:grpSpPr>
          <p:sp>
            <p:nvSpPr>
              <p:cNvPr id="184" name=""/>
              <p:cNvSpPr/>
              <p:nvPr/>
            </p:nvSpPr>
            <p:spPr>
              <a:xfrm>
                <a:off x="7459560" y="4110120"/>
                <a:ext cx="986040" cy="1415880"/>
              </a:xfrm>
              <a:custGeom>
                <a:avLst/>
                <a:gdLst/>
                <a:ahLst/>
                <a:rect l="l" t="t" r="r" b="b"/>
                <a:pathLst>
                  <a:path w="621" h="892">
                    <a:moveTo>
                      <a:pt x="0" y="676"/>
                    </a:moveTo>
                    <a:lnTo>
                      <a:pt x="0" y="892"/>
                    </a:lnTo>
                    <a:lnTo>
                      <a:pt x="621" y="892"/>
                    </a:lnTo>
                    <a:lnTo>
                      <a:pt x="621" y="0"/>
                    </a:lnTo>
                    <a:lnTo>
                      <a:pt x="477" y="0"/>
                    </a:lnTo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8116920" y="4038480"/>
                <a:ext cx="142920" cy="157320"/>
              </a:xfrm>
              <a:custGeom>
                <a:avLst/>
                <a:gdLst/>
                <a:ahLst/>
                <a:rect l="l" t="t" r="r" b="b"/>
                <a:pathLst>
                  <a:path w="90" h="99">
                    <a:moveTo>
                      <a:pt x="90" y="0"/>
                    </a:moveTo>
                    <a:lnTo>
                      <a:pt x="0" y="45"/>
                    </a:lnTo>
                    <a:lnTo>
                      <a:pt x="90" y="99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6" name=""/>
            <p:cNvSpPr/>
            <p:nvPr/>
          </p:nvSpPr>
          <p:spPr>
            <a:xfrm>
              <a:off x="7345440" y="3352680"/>
              <a:ext cx="214200" cy="214560"/>
            </a:xfrm>
            <a:prstGeom prst="ellipse">
              <a:avLst/>
            </a:prstGeom>
            <a:solidFill>
              <a:srgbClr val="ff0000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45440" y="5726160"/>
              <a:ext cx="214200" cy="214200"/>
            </a:xfrm>
            <a:prstGeom prst="ellipse">
              <a:avLst/>
            </a:prstGeom>
            <a:solidFill>
              <a:srgbClr val="00cc00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7388280" y="3567240"/>
              <a:ext cx="156960" cy="342720"/>
              <a:chOff x="7388280" y="3567240"/>
              <a:chExt cx="156960" cy="342720"/>
            </a:xfrm>
          </p:grpSpPr>
          <p:sp>
            <p:nvSpPr>
              <p:cNvPr id="189" name=""/>
              <p:cNvSpPr/>
              <p:nvPr/>
            </p:nvSpPr>
            <p:spPr>
              <a:xfrm>
                <a:off x="7459560" y="3567240"/>
                <a:ext cx="1800" cy="214200"/>
              </a:xfrm>
              <a:prstGeom prst="line">
                <a:avLst/>
              </a:prstGeom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388280" y="3753000"/>
                <a:ext cx="156960" cy="15696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45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7459560" y="4324320"/>
              <a:ext cx="21456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556040" y="43401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6458040" y="4110120"/>
              <a:ext cx="887400" cy="1815840"/>
              <a:chOff x="6458040" y="4110120"/>
              <a:chExt cx="887400" cy="1815840"/>
            </a:xfrm>
          </p:grpSpPr>
          <p:sp>
            <p:nvSpPr>
              <p:cNvPr id="194" name=""/>
              <p:cNvSpPr/>
              <p:nvPr/>
            </p:nvSpPr>
            <p:spPr>
              <a:xfrm>
                <a:off x="6458040" y="4110120"/>
                <a:ext cx="772920" cy="1730160"/>
              </a:xfrm>
              <a:custGeom>
                <a:avLst/>
                <a:gdLst/>
                <a:ahLst/>
                <a:rect l="l" t="t" r="r" b="b"/>
                <a:pathLst>
                  <a:path w="487" h="1090">
                    <a:moveTo>
                      <a:pt x="216" y="0"/>
                    </a:moveTo>
                    <a:lnTo>
                      <a:pt x="0" y="0"/>
                    </a:lnTo>
                    <a:lnTo>
                      <a:pt x="0" y="1090"/>
                    </a:lnTo>
                    <a:lnTo>
                      <a:pt x="487" y="1090"/>
                    </a:lnTo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202520" y="5769000"/>
                <a:ext cx="142920" cy="156960"/>
              </a:xfrm>
              <a:custGeom>
                <a:avLst/>
                <a:gdLst/>
                <a:ahLst/>
                <a:rect l="l" t="t" r="r" b="b"/>
                <a:pathLst>
                  <a:path w="90" h="99">
                    <a:moveTo>
                      <a:pt x="0" y="99"/>
                    </a:moveTo>
                    <a:lnTo>
                      <a:pt x="90" y="54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6" name=""/>
            <p:cNvSpPr/>
            <p:nvPr/>
          </p:nvSpPr>
          <p:spPr>
            <a:xfrm>
              <a:off x="6486480" y="3895560"/>
              <a:ext cx="214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582960" y="3909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9640" y="5726160"/>
              <a:ext cx="32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39200" y="5740560"/>
              <a:ext cx="25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559640" y="3352680"/>
              <a:ext cx="542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49640" y="336708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500" spc="-1" strike="noStrike">
                  <a:solidFill>
                    <a:srgbClr val="000000"/>
                  </a:solidFill>
                  <a:latin typeface="Arial"/>
                </a:rPr>
                <a:t>iníc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6200000">
            <a:off x="-15840" y="403344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ntax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43000" y="3657600"/>
            <a:ext cx="4191120" cy="229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Courier New"/>
                <a:ea typeface="Courier New"/>
              </a:rPr>
              <a:t>iníci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(expressã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enç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Courier New"/>
                <a:ea typeface="Courier New"/>
              </a:rPr>
              <a:t>fi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57200" y="20574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ntaxe simplificad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única sente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 blo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C9C8-2F76-40EC-B807-30EE94F279A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E02BFE-BC6F-4D21-BE8D-A88D6DDE1E33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095880" y="3048120"/>
            <a:ext cx="2590920" cy="30477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57200" y="3048120"/>
            <a:ext cx="5257800" cy="30477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do...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strutura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do...whil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-15840" y="35989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ntax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143000" y="3124080"/>
            <a:ext cx="4191120" cy="283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Courier New"/>
                <a:ea typeface="Courier New"/>
              </a:rPr>
              <a:t>iníci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} </a:t>
            </a:r>
            <a:r>
              <a:rPr b="1" lang="pt-BR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 (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ressão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)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;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fi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ta sentenças enquanto a condição for verdadei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dição é verificad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depo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 bl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1780920" cy="264168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DA38-CB33-4CC9-9793-5BF2B04D6C9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DB05E-CD9C-449B-93D3-16EF99107CDC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457200" y="2057400"/>
            <a:ext cx="8229600" cy="4038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do...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do...while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2720" y="2514600"/>
            <a:ext cx="7916760" cy="1905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umero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do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%d ” , 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ero = numero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} while (numero &lt;= 10);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89280" y="50292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 2 3 4 5 6 7 8 9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7120" y="21337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ódi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6760" y="44197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ul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75520" y="5792760"/>
            <a:ext cx="423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Repeticao\dowhile01\dowhile01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BAA6-35C5-4D50-AF42-9889370B32D3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756C7-CED0-4FED-BC83-E589E0F37EEC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2057400"/>
            <a:ext cx="8229600" cy="4572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do...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do...whil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33520" y="2133720"/>
            <a:ext cx="7995960" cy="4495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umeroA, numeroB,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Digite dois números (ordem crescente):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d %d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numeroA, &amp;numero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o = numeroB % numero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oB = numero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oA = res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numeroA &gt;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en-US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MDC: %d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umero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88240" y="6332400"/>
            <a:ext cx="362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Repeticao\mdc02\mdc02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DF60-5DD5-4A9B-BDBC-6C99C341CEDA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D8088-E24A-450D-9645-38B8D61762E0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dores de Incre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umero = numero + 1;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umero = numero -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go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+numer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--numer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tornam valor da variável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 após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ope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crem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37B8-AC15-4D37-BF17-C19CC77CA9D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D6FD9-25B3-463E-B63A-B4BAFB49BAF7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dores de Incre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crem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601640" y="3249720"/>
          <a:ext cx="5580000" cy="1466640"/>
        </p:xfrm>
        <a:graphic>
          <a:graphicData uri="http://schemas.openxmlformats.org/drawingml/2006/table">
            <a:tbl>
              <a:tblPr/>
              <a:tblGrid>
                <a:gridCol w="1703160"/>
                <a:gridCol w="1616040"/>
                <a:gridCol w="2260800"/>
              </a:tblGrid>
              <a:tr h="57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alh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ginal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ar um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3300"/>
                          </a:solidFill>
                          <a:latin typeface="Courier New"/>
                          <a:ea typeface="Arial"/>
                        </a:rPr>
                        <a:t>++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u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umero=numero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rair um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urier New"/>
                          <a:ea typeface="Courier New"/>
                        </a:rPr>
                        <a:t>­­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um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umero=numero–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25B6-D9DB-4B8B-A4DE-E1A6ABE7F42A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5351F5-2B54-47B4-A61E-4CECA95F0A01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dores de Incre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umero = numero + 1;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umero = numero - 1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go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umero++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umero--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tornam valor da variável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 antes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 ope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crem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59E8-40D6-4ECE-98F3-38C63C598CD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020C9-693F-45CF-BBA3-9B5439F9977F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dores de Incre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crem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71640" y="2619360"/>
          <a:ext cx="7224480" cy="1552680"/>
        </p:xfrm>
        <a:graphic>
          <a:graphicData uri="http://schemas.openxmlformats.org/drawingml/2006/table">
            <a:tbl>
              <a:tblPr/>
              <a:tblGrid>
                <a:gridCol w="2723760"/>
                <a:gridCol w="1979640"/>
                <a:gridCol w="252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alh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ginal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ar uma unidade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umero</a:t>
                      </a:r>
                      <a:r>
                        <a:rPr b="1" lang="pt-BR" sz="2000" spc="-1" strike="noStrike">
                          <a:solidFill>
                            <a:srgbClr val="ff3300"/>
                          </a:solidFill>
                          <a:latin typeface="Courier New"/>
                          <a:ea typeface="Arial"/>
                        </a:rPr>
                        <a:t>++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umero=numero+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rair uma unidade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umero</a:t>
                      </a:r>
                      <a:r>
                        <a:rPr b="1" lang="pt-BR" sz="2000" spc="-1" strike="noStrike">
                          <a:solidFill>
                            <a:srgbClr val="ff3300"/>
                          </a:solidFill>
                          <a:latin typeface="Courier New"/>
                          <a:ea typeface="Arial"/>
                        </a:rPr>
                        <a:t>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umero=numero–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16FD-FA87-451A-BF33-7319FC821E7A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3DFB3-FAEB-4155-BB39-940CFB3D88B8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dores Aritmét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umero = numero * 10;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umero = numero +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go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umero *= 10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umero +=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tornam valor da express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peradores aritméticos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notação simplific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F1027-3DBB-4A54-B60D-BC7BD9780BE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F27314-2746-4539-8D68-772B86875E25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dores de Incre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peradores de increm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971640" y="2438280"/>
          <a:ext cx="7224480" cy="2708280"/>
        </p:xfrm>
        <a:graphic>
          <a:graphicData uri="http://schemas.openxmlformats.org/drawingml/2006/table">
            <a:tbl>
              <a:tblPr/>
              <a:tblGrid>
                <a:gridCol w="2723760"/>
                <a:gridCol w="1979640"/>
                <a:gridCol w="2521080"/>
              </a:tblGrid>
              <a:tr h="398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ra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talho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riginal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57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omar k unidades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umero </a:t>
                      </a:r>
                      <a:r>
                        <a:rPr b="1" lang="pt-BR" sz="2000" spc="-1" strike="noStrike">
                          <a:solidFill>
                            <a:srgbClr val="ff3300"/>
                          </a:solidFill>
                          <a:latin typeface="Courier New"/>
                          <a:ea typeface="Arial"/>
                        </a:rPr>
                        <a:t>+=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umero=numero+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btrair k unidades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umero </a:t>
                      </a:r>
                      <a:r>
                        <a:rPr b="1" lang="pt-BR" sz="2000" spc="-1" strike="noStrike">
                          <a:solidFill>
                            <a:srgbClr val="ff3300"/>
                          </a:solidFill>
                          <a:latin typeface="Courier New"/>
                          <a:ea typeface="Arial"/>
                        </a:rPr>
                        <a:t>-=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umero=numero–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ultiplicar por k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umero </a:t>
                      </a:r>
                      <a:r>
                        <a:rPr b="1" lang="pt-BR" sz="2000" spc="-1" strike="noStrike">
                          <a:solidFill>
                            <a:srgbClr val="ff3300"/>
                          </a:solidFill>
                          <a:latin typeface="Courier New"/>
                          <a:ea typeface="Arial"/>
                        </a:rPr>
                        <a:t>*=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umero=numero*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idir por k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umero </a:t>
                      </a:r>
                      <a:r>
                        <a:rPr b="1" lang="pt-BR" sz="2000" spc="-1" strike="noStrike">
                          <a:solidFill>
                            <a:srgbClr val="ff3300"/>
                          </a:solidFill>
                          <a:latin typeface="Courier New"/>
                          <a:ea typeface="Arial"/>
                        </a:rPr>
                        <a:t>/=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numero=numero/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2924-98C3-434F-BAB5-DC70DC9F0B5E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7A760-39CB-404F-B55E-51B78161F63D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s de Repeti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vincular a repetição de blocos à cond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utilizar cada uma das estruturas disponí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8F2F-E47D-403B-9A17-8812071A802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4F8110-E181-4D13-869D-D07A63274AFE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2077920"/>
            <a:ext cx="8229600" cy="38642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dores de Incre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154240"/>
            <a:ext cx="7917120" cy="1635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umero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(numero &lt;= 1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%d ” , numer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numero = numero +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4960" y="207792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15960" y="3879720"/>
            <a:ext cx="7916760" cy="1773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umero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 (numero &lt;= 1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%d ” , numer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numero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0440" y="38718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po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883040" y="5319720"/>
            <a:ext cx="38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Repeticao\while02\while02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439160" y="5613480"/>
            <a:ext cx="423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Repeticao\dowhile02\dowhile02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8592-DD24-41E3-A412-17379C3D42CB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0AE3F-7AF4-4A6A-94C1-2CF0C72F30B0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3048120" y="2590920"/>
            <a:ext cx="5562360" cy="2361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trole das condiçõ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76720" y="2666880"/>
            <a:ext cx="5257800" cy="2286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int numero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while (numero &lt;= 10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%d ” , 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numero = numero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57200" y="2057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estrutura de repetição tem 4 compon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57200" y="2590920"/>
            <a:ext cx="2819520" cy="459720"/>
            <a:chOff x="457200" y="2590920"/>
            <a:chExt cx="2819520" cy="459720"/>
          </a:xfrm>
        </p:grpSpPr>
        <p:sp>
          <p:nvSpPr>
            <p:cNvPr id="270" name=""/>
            <p:cNvSpPr/>
            <p:nvPr/>
          </p:nvSpPr>
          <p:spPr>
            <a:xfrm>
              <a:off x="457200" y="25909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nicializ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514600" y="2819520"/>
              <a:ext cx="7621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57200" y="3124080"/>
            <a:ext cx="2743200" cy="459720"/>
            <a:chOff x="457200" y="3124080"/>
            <a:chExt cx="2743200" cy="459720"/>
          </a:xfrm>
        </p:grpSpPr>
        <p:sp>
          <p:nvSpPr>
            <p:cNvPr id="273" name=""/>
            <p:cNvSpPr/>
            <p:nvPr/>
          </p:nvSpPr>
          <p:spPr>
            <a:xfrm>
              <a:off x="457200" y="312408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Condi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133720" y="3352680"/>
              <a:ext cx="106668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457200" y="3657600"/>
            <a:ext cx="3657600" cy="459720"/>
            <a:chOff x="457200" y="3657600"/>
            <a:chExt cx="3657600" cy="459720"/>
          </a:xfrm>
        </p:grpSpPr>
        <p:sp>
          <p:nvSpPr>
            <p:cNvPr id="276" name=""/>
            <p:cNvSpPr/>
            <p:nvPr/>
          </p:nvSpPr>
          <p:spPr>
            <a:xfrm>
              <a:off x="457200" y="365760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entenç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2209680" y="3809880"/>
              <a:ext cx="1905120" cy="76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457200" y="4190760"/>
            <a:ext cx="3657600" cy="460080"/>
            <a:chOff x="457200" y="4190760"/>
            <a:chExt cx="3657600" cy="460080"/>
          </a:xfrm>
        </p:grpSpPr>
        <p:sp>
          <p:nvSpPr>
            <p:cNvPr id="279" name=""/>
            <p:cNvSpPr/>
            <p:nvPr/>
          </p:nvSpPr>
          <p:spPr>
            <a:xfrm>
              <a:off x="457200" y="4191120"/>
              <a:ext cx="220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7200" indent="-18720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Atualiz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2438280" y="4190760"/>
              <a:ext cx="1676520" cy="228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67B-2B15-457E-8E3D-C3DFE39E8509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FA001A-FBA8-40FC-90EB-2BE1D748DE5D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248520" y="1905120"/>
            <a:ext cx="2590560" cy="41907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57200" y="2514600"/>
            <a:ext cx="5257800" cy="35812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strutura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for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-15840" y="306504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ntax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143000" y="2666880"/>
            <a:ext cx="4495680" cy="3289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Courier New"/>
                <a:ea typeface="Courier New"/>
              </a:rPr>
              <a:t>iníci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(</a:t>
            </a:r>
            <a:r>
              <a:rPr b="1" lang="pt-BR" sz="2400" spc="-1" strike="noStrike">
                <a:solidFill>
                  <a:srgbClr val="cc6600"/>
                </a:solidFill>
                <a:latin typeface="Courier New"/>
                <a:ea typeface="Times New Roman"/>
              </a:rPr>
              <a:t>inicializaçã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pt-BR" sz="2400" spc="-1" strike="noStrike">
                <a:solidFill>
                  <a:srgbClr val="cc6600"/>
                </a:solidFill>
                <a:latin typeface="Courier New"/>
                <a:ea typeface="Times New Roman"/>
              </a:rPr>
              <a:t>atualização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}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fim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57200" y="2057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tomatiza estrutura de repetição típ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6324480" y="2133720"/>
            <a:ext cx="2124360" cy="3846240"/>
          </a:xfrm>
          <a:prstGeom prst="rect">
            <a:avLst/>
          </a:prstGeom>
          <a:ln w="0">
            <a:noFill/>
          </a:ln>
        </p:spPr>
      </p:pic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3D06-422C-488E-91C5-2820986E1ABE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54BE5B-DA09-4759-8128-418653EE4861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0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457200" y="2057400"/>
            <a:ext cx="8229600" cy="4038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for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12720" y="2514600"/>
            <a:ext cx="7916760" cy="1905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umer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for (numero = 1; numero &lt;= 10; numero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%d ”, 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}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989280" y="50292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 2 3 4 5 6 7 8 9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7120" y="21337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ódi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36760" y="44197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ul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88760" y="5769000"/>
            <a:ext cx="341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Repeticao\for01\for01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323E-2B0B-4BD5-B68D-B56946F89A98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5A9FDB-AB10-40C8-A3C9-7C9333802BB6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0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beçalho agrup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icia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d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tualiz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pa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trole (lógica) de repet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ódigo a ser repeti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or que usar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for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91120" y="2666880"/>
            <a:ext cx="152280" cy="1524240"/>
          </a:xfrm>
          <a:custGeom>
            <a:avLst/>
            <a:gdLst>
              <a:gd name="textAreaLeft" fmla="*/ 0 w 152280"/>
              <a:gd name="textAreaRight" fmla="*/ 55080 w 152280"/>
              <a:gd name="textAreaTop" fmla="*/ 39600 h 1524240"/>
              <a:gd name="textAreaBottom" fmla="*/ 148464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54360" y="2971800"/>
            <a:ext cx="382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dor não “esquece” nenhum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248520" y="4876920"/>
            <a:ext cx="169920" cy="838080"/>
          </a:xfrm>
          <a:custGeom>
            <a:avLst/>
            <a:gdLst>
              <a:gd name="textAreaLeft" fmla="*/ 0 w 169920"/>
              <a:gd name="textAreaRight" fmla="*/ 61200 w 16992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477120" y="48769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ódigo organ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5B65-8519-4B1A-BF45-A5FA31785A8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F76B3-F6D3-4445-B4B8-5265E2002B06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0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457200" y="2057400"/>
            <a:ext cx="8229600" cy="4572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for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33520" y="2133720"/>
            <a:ext cx="7995960" cy="4495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umero, divisor,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Digite o numero: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d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numer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  <a:ea typeface="Courier New"/>
              </a:rPr>
              <a:t>(divisor = 1; divisor &lt;= numero; divisor++)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to = numero % divis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resto =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Divisor: %d 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divis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78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204800" y="6243480"/>
            <a:ext cx="45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Repeticao\Divisores02\Divisores02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2EEC-1668-4057-90F2-6FFD6D88F170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87181-F67C-4472-9C14-25D2F341F931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asos de U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hile (expressão) { ...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há variável contad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lização, teste ou atualização complex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da condição obtidas na 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do { ... } while (expressã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tar um bloco pelo menos uma v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ó é possível avaliar a condição depois de execut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ormações da condição obtidas após exec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sos de U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B9BB-51BF-4428-9079-DAD3262320C5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FD96A8-3141-4673-A2A5-505657CDBBC5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0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asos de U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for (inicialização; teste;</a:t>
            </a:r>
            <a:br>
              <a:rPr sz="3200"/>
            </a:b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     reinicialização) { ... 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Há variável contadora de repet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icialização, teste e atualização simp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para claramente as instruções de controle das instruções do blo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sos de U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2E2E-287D-48CB-A624-F8B4D40DF32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DF7B2-D1C8-4BF0-876D-E68B3FEEFBA6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0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struturas de Repetição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8D08D-1616-4CA3-83C8-BC094F02BAC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982AEFD-097A-4CA7-8467-561A62883261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250920" y="1989000"/>
            <a:ext cx="8642160" cy="4800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so 1: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for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33520" y="2133720"/>
            <a:ext cx="7995960" cy="4495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quantidade, contad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or, soma 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med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Quantidade de valores: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d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quantida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contador 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contador &lt;= quantidade; contador++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Valor: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lf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val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ma += val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Media: %f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oma / quantida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982040" y="6332400"/>
            <a:ext cx="37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Repeticao\Caso01\Caso01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FE6-1CE4-48B3-B6B4-BBB5C5EFA8EF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F5BDAB-5E70-4007-B724-DE9EAFC1B23F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fill="hold">
                      <p:stCondLst>
                        <p:cond delay="0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s de Repeti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ando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ando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 do...wh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p. de incremento; formas simplific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ando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FE3BB-8CC7-4207-8E83-C47D6501B9CB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9A73A2-FBEB-4543-B8E1-AC9BC2B42F8F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250920" y="1989000"/>
            <a:ext cx="8642160" cy="4800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so 2: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whil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33520" y="2133720"/>
            <a:ext cx="7995960" cy="4495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quantidade, contad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or, soma 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med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Quantidade de valores: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d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quantida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tador 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contador &lt;= quantidad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Valor: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lf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val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ma += val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tador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Media: %f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oma / quantida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018760" y="6332400"/>
            <a:ext cx="37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Repeticao\Caso02\Caso02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1F2B6-34F7-4622-9232-226426ACE321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603F3-7C45-42A8-92A4-2BF03686D6AE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0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250920" y="1989000"/>
            <a:ext cx="8642160" cy="4800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so 3: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whil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33520" y="2133720"/>
            <a:ext cx="7995960" cy="4495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quantidade 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or, soma 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med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Escreva valores. -1 termina.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lf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val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valor &gt;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.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ma += val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antidade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lf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val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Media: %f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oma / quantida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82040" y="6332400"/>
            <a:ext cx="37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Repeticao\Caso03\Caso03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78B3-BB59-4348-B13C-080A798ADC1E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6F70C7-03E3-480E-BB1A-7FD711E3C097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0" dur="indefinite" restart="never" nodeType="tmRoot">
          <p:childTnLst>
            <p:seq>
              <p:cTn id="631" dur="indefinite" nodeType="mainSeq">
                <p:childTnLst>
                  <p:par>
                    <p:cTn id="632" fill="hold">
                      <p:stCondLst>
                        <p:cond delay="0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50920" y="1989000"/>
            <a:ext cx="8642160" cy="4800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so 4: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do...whil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533520" y="2168640"/>
            <a:ext cx="7995960" cy="4495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quantidade 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or, soma 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med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Escreva valores. -1 termina.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lf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val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valor &gt;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.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ma += val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quantidade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valor &gt;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.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Media: %f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oma / quantida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82040" y="6400800"/>
            <a:ext cx="37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Repeticao\Caso04\Caso04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82D6-F9C2-40B7-9093-A5C0069D5760}" type="slidenum">
              <a:t>3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BBD098-F362-4023-B784-FB4EC6323472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0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50920" y="1989000"/>
            <a:ext cx="8642160" cy="4800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so 5: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do...whil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33520" y="2133720"/>
            <a:ext cx="7995960" cy="4495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rgv[]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quantidade, contado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or, soma, medi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epeti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6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Quantidade de valores: "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6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d"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quantida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ma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contador = </a:t>
            </a:r>
            <a:r>
              <a:rPr b="1" lang="pt-BR" sz="16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contador &lt;= quantidade; contador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6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lf"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valo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oma += valo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6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Media: %f\n\n"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soma / quantidad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6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Deseja executar o programa novamente? (s/n) "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6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 %c"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repeti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repetir == </a:t>
            </a:r>
            <a:r>
              <a:rPr b="1" lang="pt-BR" sz="16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's'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3600"/>
                <a:tab algn="l" pos="711360"/>
                <a:tab algn="l" pos="107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018760" y="6332400"/>
            <a:ext cx="378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Repeticao\Caso05\Caso05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935C-C1A4-4A86-81F0-1810A92B65FC}" type="slidenum">
              <a:t>3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B9AB30-1628-47BF-B1BB-E75C1F4AE217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0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xempl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1241280" y="2349000"/>
            <a:ext cx="6400800" cy="38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omaSeri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tBase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aVogai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buada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aPalavra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ianguloFloy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Incr01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pIncr02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F69B0-BDA0-444A-B6B4-325C838E98B8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3BD09F1-514C-469C-A287-8E7193C24D2E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Controle de Execuçã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8AB88-CB25-499B-97D1-091267E61F4F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531C731-42AA-4B45-BA37-FC179563F041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trole de Exec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e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rom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inici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vançar e retroceder para pontos arbitr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612A-FDD7-4505-B379-33BE72A7B544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EAFDC-F810-43F3-B4A7-C1125E7FBCE8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trole de Exec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ando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ando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ando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7D5D-14EA-4F1F-B6ED-777DBC14ED1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F06253-6359-47B2-9610-FAF168F5A004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500"/>
                            </p:stCondLst>
                            <p:childTnLst>
                              <p:par>
                                <p:cTn id="6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5334120" y="3733920"/>
            <a:ext cx="3352680" cy="2895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334120" y="1447920"/>
            <a:ext cx="3352680" cy="21333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64832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ncelar execuçã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do...w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orta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rmina imediatamente o bl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executa restante do bl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inua logo após o bl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rminar uma bus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ituações de er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vitar repetiçõ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 do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 break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410080" y="1523880"/>
            <a:ext cx="3043440" cy="1981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pressã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ças(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içã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s(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6019920" y="3809880"/>
            <a:ext cx="1771560" cy="27432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5486400" y="2514600"/>
            <a:ext cx="2057400" cy="990720"/>
          </a:xfrm>
          <a:custGeom>
            <a:avLst/>
            <a:gdLst/>
            <a:ahLst/>
            <a:rect l="l" t="t" r="r" b="b"/>
            <a:pathLst>
              <a:path w="1296" h="624">
                <a:moveTo>
                  <a:pt x="1152" y="0"/>
                </a:moveTo>
                <a:lnTo>
                  <a:pt x="1296" y="0"/>
                </a:lnTo>
                <a:lnTo>
                  <a:pt x="1296" y="192"/>
                </a:lnTo>
                <a:lnTo>
                  <a:pt x="0" y="192"/>
                </a:lnTo>
                <a:lnTo>
                  <a:pt x="0" y="624"/>
                </a:lnTo>
                <a:lnTo>
                  <a:pt x="144" y="624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7112-AC15-49F8-9D2A-15A9F9CB2FDF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C6EE74-2854-40AF-8696-0384B8B30A92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57200" y="2514600"/>
            <a:ext cx="4267080" cy="36576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4120" y="2514600"/>
            <a:ext cx="3352680" cy="3657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222200" y="3048120"/>
            <a:ext cx="3170520" cy="259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pressão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s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içã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s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6172200" y="2743200"/>
            <a:ext cx="2124000" cy="328788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/>
          <p:nvPr/>
        </p:nvSpPr>
        <p:spPr>
          <a:xfrm rot="16200000">
            <a:off x="122760" y="30038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ntaxe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 break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com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w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990720" y="4419720"/>
            <a:ext cx="2438280" cy="1066680"/>
          </a:xfrm>
          <a:custGeom>
            <a:avLst/>
            <a:gdLst/>
            <a:ahLst/>
            <a:rect l="l" t="t" r="r" b="b"/>
            <a:pathLst>
              <a:path w="1296" h="624">
                <a:moveTo>
                  <a:pt x="1152" y="0"/>
                </a:moveTo>
                <a:lnTo>
                  <a:pt x="1296" y="0"/>
                </a:lnTo>
                <a:lnTo>
                  <a:pt x="1296" y="192"/>
                </a:lnTo>
                <a:lnTo>
                  <a:pt x="0" y="192"/>
                </a:lnTo>
                <a:lnTo>
                  <a:pt x="0" y="624"/>
                </a:lnTo>
                <a:lnTo>
                  <a:pt x="144" y="624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234B-E31A-4455-8DB8-B1EF9FB169C1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45964-BB5E-4BE4-9A86-9201003D6768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s de Repeti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ruturas Condiciona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vidade: Execução condicional de um bl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ruturas de Repeti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vidade: Repetir a execução de um blo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trolado por condi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encher uma tab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licar operação a todos elementos da li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star vários núme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correr matrizes, vetores, l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Introdu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A26-2C99-4DAA-A943-B6109BADAA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4F6634-720A-4D5A-994E-7D8C169F10AE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457200" y="2514600"/>
            <a:ext cx="4267080" cy="36576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34120" y="2514600"/>
            <a:ext cx="3352680" cy="3657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22200" y="3048120"/>
            <a:ext cx="3273480" cy="259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s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içã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s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pressão);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16200000">
            <a:off x="122760" y="30038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ntaxe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 break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com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do...w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6019920" y="2666880"/>
            <a:ext cx="2008080" cy="32720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990720" y="4343400"/>
            <a:ext cx="2438280" cy="1066680"/>
          </a:xfrm>
          <a:custGeom>
            <a:avLst/>
            <a:gdLst/>
            <a:ahLst/>
            <a:rect l="l" t="t" r="r" b="b"/>
            <a:pathLst>
              <a:path w="1296" h="624">
                <a:moveTo>
                  <a:pt x="1152" y="0"/>
                </a:moveTo>
                <a:lnTo>
                  <a:pt x="1296" y="0"/>
                </a:lnTo>
                <a:lnTo>
                  <a:pt x="1296" y="192"/>
                </a:lnTo>
                <a:lnTo>
                  <a:pt x="0" y="192"/>
                </a:lnTo>
                <a:lnTo>
                  <a:pt x="0" y="624"/>
                </a:lnTo>
                <a:lnTo>
                  <a:pt x="144" y="624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FFF-3A1D-485C-9D98-0A709B909B81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949E82-BEBD-4C4D-8AAC-43D6E84DE2CC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457200" y="2514600"/>
            <a:ext cx="4267080" cy="36576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095880" y="1447920"/>
            <a:ext cx="2590920" cy="472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222200" y="2819520"/>
            <a:ext cx="3273480" cy="3124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inicializ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tualização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s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ição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s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rot="16200000">
            <a:off x="122760" y="30038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ntaxe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 break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com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for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257880" y="1539720"/>
            <a:ext cx="2124000" cy="4480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150920" y="4780080"/>
            <a:ext cx="2438280" cy="1066680"/>
          </a:xfrm>
          <a:custGeom>
            <a:avLst/>
            <a:gdLst/>
            <a:ahLst/>
            <a:rect l="l" t="t" r="r" b="b"/>
            <a:pathLst>
              <a:path w="1296" h="624">
                <a:moveTo>
                  <a:pt x="1152" y="0"/>
                </a:moveTo>
                <a:lnTo>
                  <a:pt x="1296" y="0"/>
                </a:lnTo>
                <a:lnTo>
                  <a:pt x="1296" y="192"/>
                </a:lnTo>
                <a:lnTo>
                  <a:pt x="0" y="192"/>
                </a:lnTo>
                <a:lnTo>
                  <a:pt x="0" y="624"/>
                </a:lnTo>
                <a:lnTo>
                  <a:pt x="144" y="624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CC13-A43A-4B13-B06D-61A2BF523D9B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63DBC-6B33-47E2-B547-C4AFE79E6600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fill="hold">
                      <p:stCondLst>
                        <p:cond delay="0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57200" y="1447920"/>
            <a:ext cx="8229600" cy="5181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33520" y="1523880"/>
            <a:ext cx="7995960" cy="5029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c,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*argv[]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numero, divisor, 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o, numero_divisore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Digite o numero: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"%d", &amp;numer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o_divisores = </a:t>
            </a:r>
            <a:r>
              <a:rPr b="1" lang="pt-BR" sz="1600" spc="-1" strike="noStrike">
                <a:solidFill>
                  <a:srgbClr val="800000"/>
                </a:solidFill>
                <a:latin typeface="Courier New"/>
                <a:ea typeface="Courier New"/>
              </a:rPr>
              <a:t>0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divisor = </a:t>
            </a:r>
            <a:r>
              <a:rPr b="1" lang="pt-BR" sz="1600" spc="-1" strike="noStrike">
                <a:solidFill>
                  <a:srgbClr val="800000"/>
                </a:solidFill>
                <a:latin typeface="Courier New"/>
                <a:ea typeface="Courier New"/>
              </a:rPr>
              <a:t>1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divisor &lt;= numero; divisor++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sto = numero % diviso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to == </a:t>
            </a:r>
            <a:r>
              <a:rPr b="1" lang="pt-BR" sz="1600" spc="-1" strike="noStrike">
                <a:solidFill>
                  <a:srgbClr val="800000"/>
                </a:solidFill>
                <a:latin typeface="Courier New"/>
                <a:ea typeface="Courier New"/>
              </a:rPr>
              <a:t>0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numero_divisores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numero_divisores &gt;= </a:t>
            </a:r>
            <a:r>
              <a:rPr b="1" lang="pt-BR" sz="1600" spc="-1" strike="noStrike">
                <a:solidFill>
                  <a:srgbClr val="800000"/>
                </a:solidFill>
                <a:latin typeface="Courier New"/>
                <a:ea typeface="Courier New"/>
              </a:rPr>
              <a:t>3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break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(numero_divisores == </a:t>
            </a:r>
            <a:r>
              <a:rPr b="1" lang="pt-BR" sz="1600" spc="-1" strike="noStrike">
                <a:solidFill>
                  <a:srgbClr val="800000"/>
                </a:solidFill>
                <a:latin typeface="Courier New"/>
                <a:ea typeface="Courier New"/>
              </a:rPr>
              <a:t>2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"O número %d é primo!\n", numero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6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pt-BR" sz="1600" spc="-1" strike="noStrike">
                <a:solidFill>
                  <a:srgbClr val="800000"/>
                </a:solidFill>
                <a:latin typeface="Courier New"/>
                <a:ea typeface="Courier New"/>
              </a:rPr>
              <a:t>0</a:t>
            </a: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4495680"/>
            <a:ext cx="2819520" cy="1005120"/>
          </a:xfrm>
          <a:custGeom>
            <a:avLst/>
            <a:gdLst/>
            <a:ahLst/>
            <a:rect l="l" t="t" r="r" b="b"/>
            <a:pathLst>
              <a:path w="1776" h="633">
                <a:moveTo>
                  <a:pt x="1651" y="0"/>
                </a:moveTo>
                <a:lnTo>
                  <a:pt x="1776" y="0"/>
                </a:lnTo>
                <a:lnTo>
                  <a:pt x="1776" y="480"/>
                </a:lnTo>
                <a:lnTo>
                  <a:pt x="0" y="480"/>
                </a:lnTo>
                <a:lnTo>
                  <a:pt x="0" y="624"/>
                </a:lnTo>
                <a:lnTo>
                  <a:pt x="178" y="633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07040" y="6219720"/>
            <a:ext cx="4342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ControleExecucao\Divisores03\Divisores03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28F8-84E5-4263-A18E-01CDCF8D7078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8D3CD-760C-42F7-9587-3E000B36B341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6" dur="indefinite" restart="never" nodeType="tmRoot">
          <p:childTnLst>
            <p:seq>
              <p:cTn id="877" dur="indefinite" nodeType="mainSeq">
                <p:childTnLst>
                  <p:par>
                    <p:cTn id="878" fill="hold">
                      <p:stCondLst>
                        <p:cond delay="0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5334120" y="3733920"/>
            <a:ext cx="3352680" cy="28954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02360" y="1538280"/>
            <a:ext cx="3352680" cy="2133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64832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iniciar execuçã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or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hile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o...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porta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inicia o blo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executa resto do blo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ular valores invál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vitar processa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 do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 contin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86400" y="1143000"/>
            <a:ext cx="304308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pressão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s(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0" i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ição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tinu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s(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083280" y="3809880"/>
            <a:ext cx="1765440" cy="274320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7238520" y="1447560"/>
            <a:ext cx="1143360" cy="1143360"/>
            <a:chOff x="7238520" y="1447560"/>
            <a:chExt cx="1143360" cy="1143360"/>
          </a:xfrm>
        </p:grpSpPr>
        <p:sp>
          <p:nvSpPr>
            <p:cNvPr id="416" name=""/>
            <p:cNvSpPr/>
            <p:nvPr/>
          </p:nvSpPr>
          <p:spPr>
            <a:xfrm>
              <a:off x="7772400" y="2590920"/>
              <a:ext cx="6094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flipV="1">
              <a:off x="8381880" y="1447560"/>
              <a:ext cx="0" cy="1143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7238520" y="1447920"/>
              <a:ext cx="1143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238880" y="1447920"/>
              <a:ext cx="0" cy="2286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6B29A-BCFE-4292-BA56-6AA8D36442EE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02FDAE-071D-4AA7-83EC-39A72D9260E5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6" dur="indefinite" restart="never" nodeType="tmRoot">
          <p:childTnLst>
            <p:seq>
              <p:cTn id="887" dur="indefinite" nodeType="mainSeq">
                <p:childTnLst>
                  <p:par>
                    <p:cTn id="888" fill="hold">
                      <p:stCondLst>
                        <p:cond delay="0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8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4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457200" y="2514600"/>
            <a:ext cx="4267080" cy="36576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34120" y="2514600"/>
            <a:ext cx="3352680" cy="3657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22200" y="3048120"/>
            <a:ext cx="3197520" cy="259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pressão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s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ição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tinue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s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pt-B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rot="16200000">
            <a:off x="122760" y="30038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ntaxe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 contin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com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w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5958000" y="2727360"/>
            <a:ext cx="2119320" cy="3292560"/>
          </a:xfrm>
          <a:prstGeom prst="rect">
            <a:avLst/>
          </a:prstGeom>
          <a:ln w="0">
            <a:noFill/>
          </a:ln>
        </p:spPr>
      </p:pic>
      <p:grpSp>
        <p:nvGrpSpPr>
          <p:cNvPr id="428" name=""/>
          <p:cNvGrpSpPr/>
          <p:nvPr/>
        </p:nvGrpSpPr>
        <p:grpSpPr>
          <a:xfrm>
            <a:off x="3124080" y="2895480"/>
            <a:ext cx="1447920" cy="1447920"/>
            <a:chOff x="3124080" y="2895480"/>
            <a:chExt cx="1447920" cy="1447920"/>
          </a:xfrm>
        </p:grpSpPr>
        <p:sp>
          <p:nvSpPr>
            <p:cNvPr id="429" name=""/>
            <p:cNvSpPr/>
            <p:nvPr/>
          </p:nvSpPr>
          <p:spPr>
            <a:xfrm>
              <a:off x="3809880" y="4343400"/>
              <a:ext cx="7621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4572000" y="2895480"/>
              <a:ext cx="0" cy="144792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3124080" y="2895480"/>
              <a:ext cx="144792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24080" y="2895480"/>
              <a:ext cx="0" cy="45720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CB3-E274-4DFD-8505-D8C2536CE18C}" type="slidenum">
              <a:t>4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E590DC-7398-4BC6-AB9F-D179AB7357F8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0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57200" y="2514600"/>
            <a:ext cx="4267080" cy="36576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34120" y="2514600"/>
            <a:ext cx="3352680" cy="36576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22200" y="3048120"/>
            <a:ext cx="3273480" cy="25905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s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ição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tinue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s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pressão);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16200000">
            <a:off x="122760" y="30038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ntaxe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 contin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com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do...wh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143000" y="3581280"/>
            <a:ext cx="3429000" cy="762120"/>
          </a:xfrm>
          <a:custGeom>
            <a:avLst/>
            <a:gdLst/>
            <a:ahLst/>
            <a:rect l="l" t="t" r="r" b="b"/>
            <a:pathLst>
              <a:path w="2160" h="480">
                <a:moveTo>
                  <a:pt x="1584" y="480"/>
                </a:moveTo>
                <a:lnTo>
                  <a:pt x="2160" y="480"/>
                </a:lnTo>
                <a:lnTo>
                  <a:pt x="2160" y="0"/>
                </a:lnTo>
                <a:lnTo>
                  <a:pt x="0" y="0"/>
                </a:lnTo>
                <a:lnTo>
                  <a:pt x="0" y="96"/>
                </a:lnTo>
                <a:lnTo>
                  <a:pt x="384" y="9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5873760" y="2666880"/>
            <a:ext cx="2127240" cy="3291120"/>
          </a:xfrm>
          <a:prstGeom prst="rect">
            <a:avLst/>
          </a:prstGeom>
          <a:ln w="0">
            <a:noFill/>
          </a:ln>
        </p:spPr>
      </p:pic>
      <p:sp>
        <p:nvSpPr>
          <p:cNvPr id="44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E06E-2311-48D1-A3D5-72DE12DB98DE}" type="slidenum">
              <a:t>4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4BFB85-7392-41C2-BCA2-AAE99180945F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2" dur="indefinite" restart="never" nodeType="tmRoot">
          <p:childTnLst>
            <p:seq>
              <p:cTn id="983" dur="indefinite" nodeType="mainSeq">
                <p:childTnLst>
                  <p:par>
                    <p:cTn id="984" fill="hold">
                      <p:stCondLst>
                        <p:cond delay="0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0" fill="hold">
                      <p:stCondLst>
                        <p:cond delay="indefinite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457200" y="2057400"/>
            <a:ext cx="4267080" cy="36576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095880" y="1447920"/>
            <a:ext cx="2590920" cy="472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222200" y="2362320"/>
            <a:ext cx="3273480" cy="3124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or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inicializaçã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s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tualização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s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</a:t>
            </a:r>
            <a:r>
              <a:rPr b="1" i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ição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ontinue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s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rot="16200000">
            <a:off x="122760" y="25466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ntaxe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 contin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com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905120" y="3124080"/>
            <a:ext cx="2666880" cy="1143000"/>
          </a:xfrm>
          <a:custGeom>
            <a:avLst/>
            <a:gdLst/>
            <a:ahLst/>
            <a:rect l="l" t="t" r="r" b="b"/>
            <a:pathLst>
              <a:path w="1680" h="720">
                <a:moveTo>
                  <a:pt x="1152" y="720"/>
                </a:moveTo>
                <a:lnTo>
                  <a:pt x="1680" y="720"/>
                </a:lnTo>
                <a:lnTo>
                  <a:pt x="1680" y="0"/>
                </a:lnTo>
                <a:lnTo>
                  <a:pt x="0" y="0"/>
                </a:lnTo>
                <a:lnTo>
                  <a:pt x="0" y="96"/>
                </a:lnTo>
                <a:lnTo>
                  <a:pt x="144" y="9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41360" y="5807160"/>
            <a:ext cx="55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BS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ta também a atualizaçã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381720" y="1616040"/>
            <a:ext cx="1987560" cy="4471920"/>
            <a:chOff x="6381720" y="1616040"/>
            <a:chExt cx="1987560" cy="4471920"/>
          </a:xfrm>
        </p:grpSpPr>
        <p:sp>
          <p:nvSpPr>
            <p:cNvPr id="452" name=""/>
            <p:cNvSpPr/>
            <p:nvPr/>
          </p:nvSpPr>
          <p:spPr>
            <a:xfrm>
              <a:off x="6724800" y="2803680"/>
              <a:ext cx="1301760" cy="428400"/>
            </a:xfrm>
            <a:custGeom>
              <a:avLst/>
              <a:gdLst/>
              <a:ahLst/>
              <a:rect l="l" t="t" r="r" b="b"/>
              <a:pathLst>
                <a:path w="820" h="270">
                  <a:moveTo>
                    <a:pt x="415" y="0"/>
                  </a:moveTo>
                  <a:lnTo>
                    <a:pt x="0" y="135"/>
                  </a:lnTo>
                  <a:lnTo>
                    <a:pt x="415" y="270"/>
                  </a:lnTo>
                  <a:lnTo>
                    <a:pt x="820" y="135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fff66"/>
            </a:solidFill>
            <a:ln w="144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71560" y="2932200"/>
              <a:ext cx="4168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tes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724800" y="3676680"/>
              <a:ext cx="1301760" cy="973080"/>
            </a:xfrm>
            <a:prstGeom prst="rect">
              <a:avLst/>
            </a:prstGeom>
            <a:solidFill>
              <a:srgbClr val="66ccff"/>
            </a:solidFill>
            <a:ln w="144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83200" y="4062240"/>
              <a:ext cx="10036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sentença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6" name=""/>
            <p:cNvGrpSpPr/>
            <p:nvPr/>
          </p:nvGrpSpPr>
          <p:grpSpPr>
            <a:xfrm>
              <a:off x="7311960" y="3232080"/>
              <a:ext cx="157320" cy="459000"/>
              <a:chOff x="7311960" y="3232080"/>
              <a:chExt cx="157320" cy="459000"/>
            </a:xfrm>
          </p:grpSpPr>
          <p:sp>
            <p:nvSpPr>
              <p:cNvPr id="457" name=""/>
              <p:cNvSpPr/>
              <p:nvPr/>
            </p:nvSpPr>
            <p:spPr>
              <a:xfrm>
                <a:off x="7383600" y="3232080"/>
                <a:ext cx="1440" cy="330120"/>
              </a:xfrm>
              <a:prstGeom prst="line">
                <a:avLst/>
              </a:prstGeom>
              <a:ln w="144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311960" y="353376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54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8026560" y="2946240"/>
              <a:ext cx="342720" cy="2189160"/>
              <a:chOff x="8026560" y="2946240"/>
              <a:chExt cx="342720" cy="2189160"/>
            </a:xfrm>
          </p:grpSpPr>
          <p:sp>
            <p:nvSpPr>
              <p:cNvPr id="460" name=""/>
              <p:cNvSpPr/>
              <p:nvPr/>
            </p:nvSpPr>
            <p:spPr>
              <a:xfrm>
                <a:off x="8026560" y="3017880"/>
                <a:ext cx="342720" cy="2117520"/>
              </a:xfrm>
              <a:custGeom>
                <a:avLst/>
                <a:gdLst/>
                <a:ahLst/>
                <a:rect l="l" t="t" r="r" b="b"/>
                <a:pathLst>
                  <a:path w="216" h="1334">
                    <a:moveTo>
                      <a:pt x="0" y="1334"/>
                    </a:moveTo>
                    <a:lnTo>
                      <a:pt x="216" y="1334"/>
                    </a:lnTo>
                    <a:lnTo>
                      <a:pt x="216" y="0"/>
                    </a:lnTo>
                    <a:lnTo>
                      <a:pt x="7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026560" y="2946240"/>
                <a:ext cx="156960" cy="15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99" y="0"/>
                    </a:moveTo>
                    <a:lnTo>
                      <a:pt x="0" y="54"/>
                    </a:lnTo>
                    <a:lnTo>
                      <a:pt x="99" y="99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>
              <a:off x="7269120" y="1616040"/>
              <a:ext cx="214200" cy="2142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69120" y="5622840"/>
              <a:ext cx="214200" cy="214560"/>
            </a:xfrm>
            <a:prstGeom prst="ellipse">
              <a:avLst/>
            </a:prstGeom>
            <a:solidFill>
              <a:srgbClr val="00cc00"/>
            </a:solidFill>
            <a:ln w="144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4" name=""/>
            <p:cNvGrpSpPr/>
            <p:nvPr/>
          </p:nvGrpSpPr>
          <p:grpSpPr>
            <a:xfrm>
              <a:off x="7311960" y="1830240"/>
              <a:ext cx="157320" cy="344520"/>
              <a:chOff x="7311960" y="1830240"/>
              <a:chExt cx="157320" cy="344520"/>
            </a:xfrm>
          </p:grpSpPr>
          <p:sp>
            <p:nvSpPr>
              <p:cNvPr id="465" name=""/>
              <p:cNvSpPr/>
              <p:nvPr/>
            </p:nvSpPr>
            <p:spPr>
              <a:xfrm>
                <a:off x="7383600" y="1830240"/>
                <a:ext cx="1440" cy="214560"/>
              </a:xfrm>
              <a:prstGeom prst="line">
                <a:avLst/>
              </a:prstGeom>
              <a:ln w="144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311960" y="2016000"/>
                <a:ext cx="157320" cy="15876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0"/>
                    </a:moveTo>
                    <a:lnTo>
                      <a:pt x="54" y="100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381720" y="3017880"/>
              <a:ext cx="901800" cy="2790720"/>
              <a:chOff x="6381720" y="3017880"/>
              <a:chExt cx="901800" cy="2790720"/>
            </a:xfrm>
          </p:grpSpPr>
          <p:sp>
            <p:nvSpPr>
              <p:cNvPr id="468" name=""/>
              <p:cNvSpPr/>
              <p:nvPr/>
            </p:nvSpPr>
            <p:spPr>
              <a:xfrm>
                <a:off x="6381720" y="3017880"/>
                <a:ext cx="773280" cy="2705040"/>
              </a:xfrm>
              <a:custGeom>
                <a:avLst/>
                <a:gdLst/>
                <a:ahLst/>
                <a:rect l="l" t="t" r="r" b="b"/>
                <a:pathLst>
                  <a:path w="487" h="1704">
                    <a:moveTo>
                      <a:pt x="216" y="0"/>
                    </a:moveTo>
                    <a:lnTo>
                      <a:pt x="0" y="0"/>
                    </a:lnTo>
                    <a:lnTo>
                      <a:pt x="0" y="1704"/>
                    </a:lnTo>
                    <a:lnTo>
                      <a:pt x="487" y="170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7126200" y="5651640"/>
                <a:ext cx="157320" cy="15696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99"/>
                    </a:moveTo>
                    <a:lnTo>
                      <a:pt x="99" y="45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7540920" y="162864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iníc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6724800" y="2158920"/>
              <a:ext cx="1301760" cy="330120"/>
            </a:xfrm>
            <a:custGeom>
              <a:avLst/>
              <a:gdLst/>
              <a:ahLst/>
              <a:rect l="l" t="t" r="r" b="b"/>
              <a:pathLst>
                <a:path w="91" h="23">
                  <a:moveTo>
                    <a:pt x="3" y="0"/>
                  </a:moveTo>
                  <a:cubicBezTo>
                    <a:pt x="2" y="0"/>
                    <a:pt x="0" y="1"/>
                    <a:pt x="0" y="3"/>
                  </a:cubicBezTo>
                  <a:lnTo>
                    <a:pt x="0" y="20"/>
                  </a:lnTo>
                  <a:cubicBezTo>
                    <a:pt x="0" y="21"/>
                    <a:pt x="2" y="23"/>
                    <a:pt x="3" y="23"/>
                  </a:cubicBezTo>
                  <a:lnTo>
                    <a:pt x="88" y="23"/>
                  </a:lnTo>
                  <a:cubicBezTo>
                    <a:pt x="90" y="23"/>
                    <a:pt x="91" y="21"/>
                    <a:pt x="91" y="20"/>
                  </a:cubicBezTo>
                  <a:lnTo>
                    <a:pt x="91" y="3"/>
                  </a:lnTo>
                  <a:cubicBezTo>
                    <a:pt x="91" y="1"/>
                    <a:pt x="90" y="0"/>
                    <a:pt x="8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144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70240" y="2217600"/>
              <a:ext cx="103536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inicializaçã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24800" y="4964040"/>
              <a:ext cx="1301760" cy="328680"/>
            </a:xfrm>
            <a:custGeom>
              <a:avLst/>
              <a:gdLst/>
              <a:ahLst/>
              <a:rect l="l" t="t" r="r" b="b"/>
              <a:pathLst>
                <a:path w="91" h="23">
                  <a:moveTo>
                    <a:pt x="3" y="0"/>
                  </a:moveTo>
                  <a:cubicBezTo>
                    <a:pt x="2" y="0"/>
                    <a:pt x="0" y="2"/>
                    <a:pt x="0" y="3"/>
                  </a:cubicBezTo>
                  <a:lnTo>
                    <a:pt x="0" y="20"/>
                  </a:lnTo>
                  <a:cubicBezTo>
                    <a:pt x="0" y="22"/>
                    <a:pt x="2" y="23"/>
                    <a:pt x="3" y="23"/>
                  </a:cubicBezTo>
                  <a:lnTo>
                    <a:pt x="88" y="23"/>
                  </a:lnTo>
                  <a:cubicBezTo>
                    <a:pt x="90" y="23"/>
                    <a:pt x="91" y="22"/>
                    <a:pt x="91" y="20"/>
                  </a:cubicBezTo>
                  <a:lnTo>
                    <a:pt x="91" y="3"/>
                  </a:lnTo>
                  <a:cubicBezTo>
                    <a:pt x="91" y="2"/>
                    <a:pt x="90" y="0"/>
                    <a:pt x="8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144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98320" y="5035680"/>
              <a:ext cx="97164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atualizaçã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5" name=""/>
            <p:cNvGrpSpPr/>
            <p:nvPr/>
          </p:nvGrpSpPr>
          <p:grpSpPr>
            <a:xfrm>
              <a:off x="7311960" y="2489040"/>
              <a:ext cx="157320" cy="314640"/>
              <a:chOff x="7311960" y="2489040"/>
              <a:chExt cx="157320" cy="314640"/>
            </a:xfrm>
          </p:grpSpPr>
          <p:sp>
            <p:nvSpPr>
              <p:cNvPr id="476" name=""/>
              <p:cNvSpPr/>
              <p:nvPr/>
            </p:nvSpPr>
            <p:spPr>
              <a:xfrm>
                <a:off x="7383600" y="2489040"/>
                <a:ext cx="144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311960" y="2660760"/>
                <a:ext cx="157320" cy="14292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0"/>
                    </a:moveTo>
                    <a:lnTo>
                      <a:pt x="54" y="90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7311960" y="4649760"/>
              <a:ext cx="157320" cy="328680"/>
              <a:chOff x="7311960" y="4649760"/>
              <a:chExt cx="157320" cy="328680"/>
            </a:xfrm>
          </p:grpSpPr>
          <p:sp>
            <p:nvSpPr>
              <p:cNvPr id="479" name=""/>
              <p:cNvSpPr/>
              <p:nvPr/>
            </p:nvSpPr>
            <p:spPr>
              <a:xfrm>
                <a:off x="7383600" y="4649760"/>
                <a:ext cx="144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311960" y="482112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54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1" name=""/>
            <p:cNvSpPr/>
            <p:nvPr/>
          </p:nvSpPr>
          <p:spPr>
            <a:xfrm>
              <a:off x="7053120" y="4290840"/>
              <a:ext cx="873360" cy="216000"/>
            </a:xfrm>
            <a:prstGeom prst="rect">
              <a:avLst/>
            </a:prstGeom>
            <a:solidFill>
              <a:srgbClr val="f8f8f8"/>
            </a:solidFill>
            <a:ln w="144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143480" y="4307040"/>
              <a:ext cx="72612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contin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7311960" y="4392720"/>
              <a:ext cx="943200" cy="585720"/>
              <a:chOff x="7311960" y="4392720"/>
              <a:chExt cx="943200" cy="585720"/>
            </a:xfrm>
          </p:grpSpPr>
          <p:sp>
            <p:nvSpPr>
              <p:cNvPr id="484" name=""/>
              <p:cNvSpPr/>
              <p:nvPr/>
            </p:nvSpPr>
            <p:spPr>
              <a:xfrm>
                <a:off x="7383600" y="4392720"/>
                <a:ext cx="871560" cy="457200"/>
              </a:xfrm>
              <a:custGeom>
                <a:avLst/>
                <a:gdLst/>
                <a:ahLst/>
                <a:rect l="l" t="t" r="r" b="b"/>
                <a:pathLst>
                  <a:path w="549" h="288">
                    <a:moveTo>
                      <a:pt x="342" y="0"/>
                    </a:moveTo>
                    <a:lnTo>
                      <a:pt x="549" y="0"/>
                    </a:lnTo>
                    <a:lnTo>
                      <a:pt x="549" y="216"/>
                    </a:lnTo>
                    <a:lnTo>
                      <a:pt x="0" y="216"/>
                    </a:lnTo>
                    <a:lnTo>
                      <a:pt x="0" y="28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311960" y="482112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54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6724800" y="2803680"/>
              <a:ext cx="1301760" cy="428400"/>
            </a:xfrm>
            <a:custGeom>
              <a:avLst/>
              <a:gdLst/>
              <a:ahLst/>
              <a:rect l="l" t="t" r="r" b="b"/>
              <a:pathLst>
                <a:path w="820" h="270">
                  <a:moveTo>
                    <a:pt x="415" y="0"/>
                  </a:moveTo>
                  <a:lnTo>
                    <a:pt x="0" y="135"/>
                  </a:lnTo>
                  <a:lnTo>
                    <a:pt x="415" y="270"/>
                  </a:lnTo>
                  <a:lnTo>
                    <a:pt x="820" y="135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fff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167240" y="2932200"/>
              <a:ext cx="416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test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6724800" y="3676680"/>
              <a:ext cx="1301760" cy="973080"/>
            </a:xfrm>
            <a:prstGeom prst="rect">
              <a:avLst/>
            </a:prstGeom>
            <a:solidFill>
              <a:srgbClr val="66ccff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878520" y="4062240"/>
              <a:ext cx="100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sentença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7311960" y="3232080"/>
              <a:ext cx="157320" cy="459000"/>
              <a:chOff x="7311960" y="3232080"/>
              <a:chExt cx="157320" cy="459000"/>
            </a:xfrm>
          </p:grpSpPr>
          <p:sp>
            <p:nvSpPr>
              <p:cNvPr id="491" name=""/>
              <p:cNvSpPr/>
              <p:nvPr/>
            </p:nvSpPr>
            <p:spPr>
              <a:xfrm>
                <a:off x="7383600" y="3232080"/>
                <a:ext cx="1440" cy="330120"/>
              </a:xfrm>
              <a:prstGeom prst="line">
                <a:avLst/>
              </a:prstGeom>
              <a:ln w="144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311960" y="353376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54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3" name=""/>
            <p:cNvGrpSpPr/>
            <p:nvPr/>
          </p:nvGrpSpPr>
          <p:grpSpPr>
            <a:xfrm>
              <a:off x="8026560" y="2946240"/>
              <a:ext cx="342720" cy="2189160"/>
              <a:chOff x="8026560" y="2946240"/>
              <a:chExt cx="342720" cy="2189160"/>
            </a:xfrm>
          </p:grpSpPr>
          <p:sp>
            <p:nvSpPr>
              <p:cNvPr id="494" name=""/>
              <p:cNvSpPr/>
              <p:nvPr/>
            </p:nvSpPr>
            <p:spPr>
              <a:xfrm>
                <a:off x="8026560" y="3017880"/>
                <a:ext cx="342720" cy="2117520"/>
              </a:xfrm>
              <a:custGeom>
                <a:avLst/>
                <a:gdLst/>
                <a:ahLst/>
                <a:rect l="l" t="t" r="r" b="b"/>
                <a:pathLst>
                  <a:path w="216" h="1334">
                    <a:moveTo>
                      <a:pt x="0" y="1334"/>
                    </a:moveTo>
                    <a:lnTo>
                      <a:pt x="216" y="1334"/>
                    </a:lnTo>
                    <a:lnTo>
                      <a:pt x="216" y="0"/>
                    </a:lnTo>
                    <a:lnTo>
                      <a:pt x="72" y="0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026560" y="2946240"/>
                <a:ext cx="156960" cy="15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99" y="0"/>
                    </a:moveTo>
                    <a:lnTo>
                      <a:pt x="0" y="54"/>
                    </a:lnTo>
                    <a:lnTo>
                      <a:pt x="99" y="99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7269120" y="1616040"/>
              <a:ext cx="214200" cy="214200"/>
            </a:xfrm>
            <a:prstGeom prst="ellipse">
              <a:avLst/>
            </a:prstGeom>
            <a:solidFill>
              <a:srgbClr val="ff0000"/>
            </a:solidFill>
            <a:ln w="144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269120" y="5622840"/>
              <a:ext cx="214200" cy="214560"/>
            </a:xfrm>
            <a:prstGeom prst="ellipse">
              <a:avLst/>
            </a:prstGeom>
            <a:solidFill>
              <a:srgbClr val="00cc00"/>
            </a:solidFill>
            <a:ln w="144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7311960" y="1830240"/>
              <a:ext cx="157320" cy="344520"/>
              <a:chOff x="7311960" y="1830240"/>
              <a:chExt cx="157320" cy="344520"/>
            </a:xfrm>
          </p:grpSpPr>
          <p:sp>
            <p:nvSpPr>
              <p:cNvPr id="499" name=""/>
              <p:cNvSpPr/>
              <p:nvPr/>
            </p:nvSpPr>
            <p:spPr>
              <a:xfrm>
                <a:off x="7383600" y="1830240"/>
                <a:ext cx="1440" cy="214560"/>
              </a:xfrm>
              <a:prstGeom prst="line">
                <a:avLst/>
              </a:prstGeom>
              <a:ln w="144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7311960" y="2016000"/>
                <a:ext cx="157320" cy="158760"/>
              </a:xfrm>
              <a:custGeom>
                <a:avLst/>
                <a:gdLst/>
                <a:ahLst/>
                <a:rect l="l" t="t" r="r" b="b"/>
                <a:pathLst>
                  <a:path w="99" h="100">
                    <a:moveTo>
                      <a:pt x="0" y="0"/>
                    </a:moveTo>
                    <a:lnTo>
                      <a:pt x="54" y="100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1" name=""/>
            <p:cNvSpPr/>
            <p:nvPr/>
          </p:nvSpPr>
          <p:spPr>
            <a:xfrm>
              <a:off x="7451280" y="33386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6381720" y="3017880"/>
              <a:ext cx="901800" cy="2790720"/>
              <a:chOff x="6381720" y="3017880"/>
              <a:chExt cx="901800" cy="2790720"/>
            </a:xfrm>
          </p:grpSpPr>
          <p:sp>
            <p:nvSpPr>
              <p:cNvPr id="503" name=""/>
              <p:cNvSpPr/>
              <p:nvPr/>
            </p:nvSpPr>
            <p:spPr>
              <a:xfrm>
                <a:off x="6381720" y="3017880"/>
                <a:ext cx="773280" cy="2705040"/>
              </a:xfrm>
              <a:custGeom>
                <a:avLst/>
                <a:gdLst/>
                <a:ahLst/>
                <a:rect l="l" t="t" r="r" b="b"/>
                <a:pathLst>
                  <a:path w="487" h="1704">
                    <a:moveTo>
                      <a:pt x="216" y="0"/>
                    </a:moveTo>
                    <a:lnTo>
                      <a:pt x="0" y="0"/>
                    </a:lnTo>
                    <a:lnTo>
                      <a:pt x="0" y="1704"/>
                    </a:lnTo>
                    <a:lnTo>
                      <a:pt x="487" y="1704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126200" y="5651640"/>
                <a:ext cx="157320" cy="15696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99"/>
                    </a:moveTo>
                    <a:lnTo>
                      <a:pt x="99" y="45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5" name=""/>
            <p:cNvSpPr/>
            <p:nvPr/>
          </p:nvSpPr>
          <p:spPr>
            <a:xfrm>
              <a:off x="6462360" y="30686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71640" y="5859360"/>
              <a:ext cx="25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724800" y="2158920"/>
              <a:ext cx="1301760" cy="330120"/>
            </a:xfrm>
            <a:custGeom>
              <a:avLst/>
              <a:gdLst/>
              <a:ahLst/>
              <a:rect l="l" t="t" r="r" b="b"/>
              <a:pathLst>
                <a:path w="91" h="23">
                  <a:moveTo>
                    <a:pt x="3" y="0"/>
                  </a:moveTo>
                  <a:cubicBezTo>
                    <a:pt x="2" y="0"/>
                    <a:pt x="0" y="1"/>
                    <a:pt x="0" y="3"/>
                  </a:cubicBezTo>
                  <a:lnTo>
                    <a:pt x="0" y="20"/>
                  </a:lnTo>
                  <a:cubicBezTo>
                    <a:pt x="0" y="21"/>
                    <a:pt x="2" y="23"/>
                    <a:pt x="3" y="23"/>
                  </a:cubicBezTo>
                  <a:lnTo>
                    <a:pt x="88" y="23"/>
                  </a:lnTo>
                  <a:cubicBezTo>
                    <a:pt x="90" y="23"/>
                    <a:pt x="91" y="21"/>
                    <a:pt x="91" y="20"/>
                  </a:cubicBezTo>
                  <a:lnTo>
                    <a:pt x="91" y="3"/>
                  </a:lnTo>
                  <a:cubicBezTo>
                    <a:pt x="91" y="1"/>
                    <a:pt x="90" y="0"/>
                    <a:pt x="8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865920" y="2217600"/>
              <a:ext cx="1035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inicializaçã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724800" y="4964040"/>
              <a:ext cx="1301760" cy="328680"/>
            </a:xfrm>
            <a:custGeom>
              <a:avLst/>
              <a:gdLst/>
              <a:ahLst/>
              <a:rect l="l" t="t" r="r" b="b"/>
              <a:pathLst>
                <a:path w="91" h="23">
                  <a:moveTo>
                    <a:pt x="3" y="0"/>
                  </a:moveTo>
                  <a:cubicBezTo>
                    <a:pt x="2" y="0"/>
                    <a:pt x="0" y="2"/>
                    <a:pt x="0" y="3"/>
                  </a:cubicBezTo>
                  <a:lnTo>
                    <a:pt x="0" y="20"/>
                  </a:lnTo>
                  <a:cubicBezTo>
                    <a:pt x="0" y="22"/>
                    <a:pt x="2" y="23"/>
                    <a:pt x="3" y="23"/>
                  </a:cubicBezTo>
                  <a:lnTo>
                    <a:pt x="88" y="23"/>
                  </a:lnTo>
                  <a:cubicBezTo>
                    <a:pt x="90" y="23"/>
                    <a:pt x="91" y="22"/>
                    <a:pt x="91" y="20"/>
                  </a:cubicBezTo>
                  <a:lnTo>
                    <a:pt x="91" y="3"/>
                  </a:lnTo>
                  <a:cubicBezTo>
                    <a:pt x="91" y="2"/>
                    <a:pt x="90" y="0"/>
                    <a:pt x="88" y="0"/>
                  </a:cubicBezTo>
                  <a:lnTo>
                    <a:pt x="3" y="0"/>
                  </a:lnTo>
                  <a:close/>
                </a:path>
              </a:pathLst>
            </a:custGeom>
            <a:solidFill>
              <a:srgbClr val="ff9966"/>
            </a:solidFill>
            <a:ln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6893640" y="5035680"/>
              <a:ext cx="971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atualizaçã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311960" y="2489040"/>
              <a:ext cx="157320" cy="314640"/>
              <a:chOff x="7311960" y="2489040"/>
              <a:chExt cx="157320" cy="314640"/>
            </a:xfrm>
          </p:grpSpPr>
          <p:sp>
            <p:nvSpPr>
              <p:cNvPr id="512" name=""/>
              <p:cNvSpPr/>
              <p:nvPr/>
            </p:nvSpPr>
            <p:spPr>
              <a:xfrm>
                <a:off x="7383600" y="2489040"/>
                <a:ext cx="144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311960" y="2660760"/>
                <a:ext cx="157320" cy="14292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0"/>
                    </a:moveTo>
                    <a:lnTo>
                      <a:pt x="54" y="90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4" name=""/>
            <p:cNvGrpSpPr/>
            <p:nvPr/>
          </p:nvGrpSpPr>
          <p:grpSpPr>
            <a:xfrm>
              <a:off x="7311960" y="4649760"/>
              <a:ext cx="157320" cy="328680"/>
              <a:chOff x="7311960" y="4649760"/>
              <a:chExt cx="157320" cy="328680"/>
            </a:xfrm>
          </p:grpSpPr>
          <p:sp>
            <p:nvSpPr>
              <p:cNvPr id="515" name=""/>
              <p:cNvSpPr/>
              <p:nvPr/>
            </p:nvSpPr>
            <p:spPr>
              <a:xfrm>
                <a:off x="7383600" y="4649760"/>
                <a:ext cx="1440" cy="200160"/>
              </a:xfrm>
              <a:prstGeom prst="line">
                <a:avLst/>
              </a:prstGeom>
              <a:ln w="1440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311960" y="482112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54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7" name=""/>
            <p:cNvSpPr/>
            <p:nvPr/>
          </p:nvSpPr>
          <p:spPr>
            <a:xfrm>
              <a:off x="7053120" y="4290840"/>
              <a:ext cx="873360" cy="216000"/>
            </a:xfrm>
            <a:prstGeom prst="rect">
              <a:avLst/>
            </a:prstGeom>
            <a:solidFill>
              <a:srgbClr val="f8f8f8"/>
            </a:solidFill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138800" y="4307040"/>
              <a:ext cx="726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continu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9" name=""/>
            <p:cNvGrpSpPr/>
            <p:nvPr/>
          </p:nvGrpSpPr>
          <p:grpSpPr>
            <a:xfrm>
              <a:off x="7311960" y="4392720"/>
              <a:ext cx="943200" cy="585720"/>
              <a:chOff x="7311960" y="4392720"/>
              <a:chExt cx="943200" cy="585720"/>
            </a:xfrm>
          </p:grpSpPr>
          <p:sp>
            <p:nvSpPr>
              <p:cNvPr id="520" name=""/>
              <p:cNvSpPr/>
              <p:nvPr/>
            </p:nvSpPr>
            <p:spPr>
              <a:xfrm>
                <a:off x="7383600" y="4392720"/>
                <a:ext cx="871560" cy="457200"/>
              </a:xfrm>
              <a:custGeom>
                <a:avLst/>
                <a:gdLst/>
                <a:ahLst/>
                <a:rect l="l" t="t" r="r" b="b"/>
                <a:pathLst>
                  <a:path w="549" h="288">
                    <a:moveTo>
                      <a:pt x="342" y="0"/>
                    </a:moveTo>
                    <a:lnTo>
                      <a:pt x="549" y="0"/>
                    </a:lnTo>
                    <a:lnTo>
                      <a:pt x="549" y="216"/>
                    </a:lnTo>
                    <a:lnTo>
                      <a:pt x="0" y="216"/>
                    </a:lnTo>
                    <a:lnTo>
                      <a:pt x="0" y="288"/>
                    </a:lnTo>
                  </a:path>
                </a:pathLst>
              </a:custGeom>
              <a:noFill/>
              <a:ln w="1440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311960" y="482112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54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2" name=""/>
            <p:cNvSpPr/>
            <p:nvPr/>
          </p:nvSpPr>
          <p:spPr>
            <a:xfrm>
              <a:off x="6934320" y="46483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3A19-1B72-468E-A87F-84419B775F25}" type="slidenum">
              <a:t>4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459C52-DF8F-4909-BCF4-B7C269373A1A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250920" y="1447920"/>
            <a:ext cx="8435880" cy="4952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contin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1280" y="1523880"/>
            <a:ext cx="8188200" cy="4800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c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*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angulo, tangent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oub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pi =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3.141592653589793238462643383279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angulo 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gulo &lt;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18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gulo +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10.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(angulo ==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9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ontin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s-ES_trad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angente = tan((angulo/</a:t>
            </a:r>
            <a:r>
              <a:rPr b="1" lang="es-ES_tradnl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180)</a:t>
            </a:r>
            <a:r>
              <a:rPr b="1" lang="es-ES_trad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*pi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</a:t>
            </a:r>
            <a:r>
              <a:rPr b="1" lang="es-ES_tradnl" sz="1800" spc="-1" strike="noStrike">
                <a:solidFill>
                  <a:srgbClr val="000080"/>
                </a:solidFill>
                <a:latin typeface="Courier New"/>
                <a:ea typeface="Courier New"/>
              </a:rPr>
              <a:t>"tan(%8.2f)=%8.2f\n"</a:t>
            </a:r>
            <a:r>
              <a:rPr b="1" lang="es-ES_trad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angulo,tangent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Courier New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981080" y="3124080"/>
            <a:ext cx="3733920" cy="685800"/>
          </a:xfrm>
          <a:custGeom>
            <a:avLst/>
            <a:gdLst/>
            <a:ahLst/>
            <a:rect l="l" t="t" r="r" b="b"/>
            <a:pathLst>
              <a:path w="2352" h="432">
                <a:moveTo>
                  <a:pt x="1680" y="432"/>
                </a:moveTo>
                <a:lnTo>
                  <a:pt x="2352" y="432"/>
                </a:lnTo>
                <a:lnTo>
                  <a:pt x="2352" y="0"/>
                </a:lnTo>
                <a:lnTo>
                  <a:pt x="0" y="0"/>
                </a:lnTo>
                <a:lnTo>
                  <a:pt x="0" y="96"/>
                </a:lnTo>
                <a:lnTo>
                  <a:pt x="144" y="96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454280" y="6062760"/>
            <a:ext cx="419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ControleExecucao\Tangete01\Tangente01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81ED-BA9E-4A2A-A186-94A3119145BA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673CD-D72D-4684-8099-DDCEC4F1B12E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0" dur="indefinite" restart="never" nodeType="tmRoot">
          <p:childTnLst>
            <p:seq>
              <p:cTn id="1051" dur="indefinite" nodeType="mainSeq">
                <p:childTnLst>
                  <p:par>
                    <p:cTn id="1052" fill="hold">
                      <p:stCondLst>
                        <p:cond delay="0"/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2" fill="hold">
                      <p:stCondLst>
                        <p:cond delay="indefinite"/>
                      </p:stCondLst>
                      <p:childTnLst>
                        <p:par>
                          <p:cTn id="1063" fill="hold">
                            <p:stCondLst>
                              <p:cond delay="0"/>
                            </p:stCondLst>
                            <p:childTnLst>
                              <p:par>
                                <p:cTn id="10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ontrole de Execução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Courier New"/>
              </a:rPr>
              <a:t>got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37FE3-24B0-4B38-AE7A-8AEBCBBCA65A}" type="slidenum">
              <a:t>4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283D9E5-6616-4D71-BB40-AFB83F399732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 flipV="1">
            <a:off x="457200" y="3885840"/>
            <a:ext cx="8229600" cy="22096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g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viar execução para uma mar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altos para pontos arbitrá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rutura de repetição prim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 do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 got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343400" y="3962520"/>
            <a:ext cx="2967120" cy="2057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arca1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goto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rca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8560" y="3962520"/>
            <a:ext cx="251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etição infin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343400" y="3962520"/>
            <a:ext cx="3200400" cy="1752480"/>
          </a:xfrm>
          <a:custGeom>
            <a:avLst/>
            <a:gdLst/>
            <a:ahLst/>
            <a:rect l="l" t="t" r="r" b="b"/>
            <a:pathLst>
              <a:path w="2016" h="1104">
                <a:moveTo>
                  <a:pt x="1632" y="1104"/>
                </a:moveTo>
                <a:lnTo>
                  <a:pt x="2016" y="1104"/>
                </a:lnTo>
                <a:lnTo>
                  <a:pt x="2016" y="0"/>
                </a:lnTo>
                <a:lnTo>
                  <a:pt x="0" y="0"/>
                </a:lnTo>
                <a:lnTo>
                  <a:pt x="0" y="192"/>
                </a:lnTo>
                <a:lnTo>
                  <a:pt x="192" y="192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1B45-26B6-4583-A970-2543488798AA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8293F-CA73-41D4-AE67-3E3AB8DAAC4B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0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5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5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095880" y="3048120"/>
            <a:ext cx="2590920" cy="304776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3048120"/>
            <a:ext cx="5257800" cy="30477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strutura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whil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400800" y="3352680"/>
            <a:ext cx="2124000" cy="2654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 rot="16200000">
            <a:off x="-15840" y="35989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ntax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43000" y="3124080"/>
            <a:ext cx="4191120" cy="2832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Courier New"/>
                <a:ea typeface="Courier New"/>
              </a:rPr>
              <a:t>iníci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whil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Courier New"/>
              </a:rPr>
              <a:t>(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essão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Courier New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enç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enç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Courier New"/>
                <a:ea typeface="Courier New"/>
              </a:rPr>
              <a:t>fi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ta sentenças enquanto a condição for verdadei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dição é verificada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ant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 blo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F352-98D0-4EC2-99DA-F703250C17D9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9257BD-1B25-44FA-9AD1-CBF80D8A1F7A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457200" y="2514600"/>
            <a:ext cx="4038480" cy="36576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g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222200" y="2590920"/>
            <a:ext cx="3197520" cy="3504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arca1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got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rca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(s)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6200000">
            <a:off x="46440" y="29275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ntaxe: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 go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4648320" y="2514600"/>
            <a:ext cx="4038480" cy="36576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6200000">
            <a:off x="4237560" y="292752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tax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410080" y="2590920"/>
            <a:ext cx="3197520" cy="35049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got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rca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arca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(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371600" y="3352680"/>
            <a:ext cx="2819520" cy="1676520"/>
          </a:xfrm>
          <a:custGeom>
            <a:avLst/>
            <a:gdLst/>
            <a:ahLst/>
            <a:rect l="l" t="t" r="r" b="b"/>
            <a:pathLst>
              <a:path w="1776" h="1056">
                <a:moveTo>
                  <a:pt x="1536" y="1056"/>
                </a:moveTo>
                <a:lnTo>
                  <a:pt x="1776" y="1056"/>
                </a:lnTo>
                <a:lnTo>
                  <a:pt x="1776" y="0"/>
                </a:lnTo>
                <a:lnTo>
                  <a:pt x="0" y="0"/>
                </a:lnTo>
                <a:lnTo>
                  <a:pt x="0" y="144"/>
                </a:lnTo>
                <a:lnTo>
                  <a:pt x="192" y="144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62720" y="3581280"/>
            <a:ext cx="2971800" cy="1524240"/>
          </a:xfrm>
          <a:custGeom>
            <a:avLst/>
            <a:gdLst/>
            <a:ahLst/>
            <a:rect l="l" t="t" r="r" b="b"/>
            <a:pathLst>
              <a:path w="1872" h="960">
                <a:moveTo>
                  <a:pt x="1680" y="0"/>
                </a:moveTo>
                <a:lnTo>
                  <a:pt x="1872" y="0"/>
                </a:lnTo>
                <a:lnTo>
                  <a:pt x="1872" y="816"/>
                </a:lnTo>
                <a:lnTo>
                  <a:pt x="0" y="816"/>
                </a:lnTo>
                <a:lnTo>
                  <a:pt x="0" y="960"/>
                </a:lnTo>
                <a:lnTo>
                  <a:pt x="144" y="96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33520" y="20574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rocesso de execu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4648320" y="20574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nço de execu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BFFA-32D3-41E1-933D-C33EBAE13189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5AFF9-A95F-411E-950F-62D78C727D41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2" fill="hold">
                      <p:stCondLst>
                        <p:cond delay="indefinite"/>
                      </p:stCondLst>
                      <p:childTnLst>
                        <p:par>
                          <p:cTn id="1123" fill="hold">
                            <p:stCondLst>
                              <p:cond delay="0"/>
                            </p:stCondLst>
                            <p:childTnLst>
                              <p:par>
                                <p:cTn id="1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fill="hold">
                      <p:stCondLst>
                        <p:cond delay="indefinite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4" fill="hold">
                      <p:stCondLst>
                        <p:cond delay="indefinite"/>
                      </p:stCondLst>
                      <p:childTnLst>
                        <p:par>
                          <p:cTn id="1135" fill="hold">
                            <p:stCondLst>
                              <p:cond delay="0"/>
                            </p:stCondLst>
                            <p:childTnLst>
                              <p:par>
                                <p:cTn id="113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6" fill="hold">
                      <p:stCondLst>
                        <p:cond delay="indefinite"/>
                      </p:stCondLst>
                      <p:childTnLst>
                        <p:par>
                          <p:cTn id="1147" fill="hold">
                            <p:stCondLst>
                              <p:cond delay="0"/>
                            </p:stCondLst>
                            <p:childTnLst>
                              <p:par>
                                <p:cTn id="1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fill="hold">
                      <p:stCondLst>
                        <p:cond delay="indefinite"/>
                      </p:stCondLst>
                      <p:childTnLst>
                        <p:par>
                          <p:cTn id="1157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1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457200" y="1447920"/>
            <a:ext cx="8229600" cy="49528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g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33520" y="1523880"/>
            <a:ext cx="7995960" cy="4800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argc,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argv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umero =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inicio_repetica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numero &gt; 10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goto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fim_repetica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%d ” , numer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ero++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goto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nicio_repetica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im_repeticao: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pt-BR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447920" y="3276720"/>
            <a:ext cx="5715000" cy="1828800"/>
          </a:xfrm>
          <a:custGeom>
            <a:avLst/>
            <a:gdLst/>
            <a:ahLst/>
            <a:rect l="l" t="t" r="r" b="b"/>
            <a:pathLst>
              <a:path w="3600" h="1152">
                <a:moveTo>
                  <a:pt x="3360" y="0"/>
                </a:moveTo>
                <a:lnTo>
                  <a:pt x="3600" y="0"/>
                </a:lnTo>
                <a:lnTo>
                  <a:pt x="3600" y="1008"/>
                </a:lnTo>
                <a:lnTo>
                  <a:pt x="0" y="1008"/>
                </a:lnTo>
                <a:lnTo>
                  <a:pt x="0" y="1152"/>
                </a:lnTo>
                <a:lnTo>
                  <a:pt x="288" y="1152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7920" y="2362320"/>
            <a:ext cx="6172200" cy="2133360"/>
          </a:xfrm>
          <a:custGeom>
            <a:avLst/>
            <a:gdLst/>
            <a:ahLst/>
            <a:rect l="l" t="t" r="r" b="b"/>
            <a:pathLst>
              <a:path w="3888" h="1344">
                <a:moveTo>
                  <a:pt x="3072" y="1344"/>
                </a:moveTo>
                <a:lnTo>
                  <a:pt x="3888" y="1344"/>
                </a:lnTo>
                <a:lnTo>
                  <a:pt x="3888" y="0"/>
                </a:lnTo>
                <a:lnTo>
                  <a:pt x="0" y="0"/>
                </a:lnTo>
                <a:lnTo>
                  <a:pt x="0" y="240"/>
                </a:lnTo>
                <a:lnTo>
                  <a:pt x="240" y="24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053680" y="6062760"/>
            <a:ext cx="359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ControleExecucao\Goto01\Goto01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936F8-E7EF-4632-8B07-0620F44686ED}" type="slidenum">
              <a:t>5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4FFC6-5461-4ABB-BF5E-6E8838F07E4B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2" dur="indefinite" restart="never" nodeType="tmRoot">
          <p:childTnLst>
            <p:seq>
              <p:cTn id="1163" dur="indefinite" nodeType="mainSeq">
                <p:childTnLst>
                  <p:par>
                    <p:cTn id="1164" fill="hold">
                      <p:stCondLst>
                        <p:cond delay="0"/>
                      </p:stCondLst>
                      <p:childTnLst>
                        <p:par>
                          <p:cTn id="1165" fill="hold">
                            <p:stCondLst>
                              <p:cond delay="0"/>
                            </p:stCondLst>
                            <p:childTnLst>
                              <p:par>
                                <p:cTn id="1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fill="hold">
                      <p:stCondLst>
                        <p:cond delay="indefinite"/>
                      </p:stCondLst>
                      <p:childTnLst>
                        <p:par>
                          <p:cTn id="1179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4" fill="hold">
                      <p:stCondLst>
                        <p:cond delay="indefinite"/>
                      </p:stCondLst>
                      <p:childTnLst>
                        <p:par>
                          <p:cTn id="1185" fill="hold">
                            <p:stCondLst>
                              <p:cond delay="0"/>
                            </p:stCondLst>
                            <p:childTnLst>
                              <p:par>
                                <p:cTn id="1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go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fícil visualizar os destinos do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</a:rPr>
              <a:t>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culta lógica de exec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gramas tornam-se incompreensíve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3300"/>
                </a:solidFill>
                <a:latin typeface="Arial"/>
              </a:rPr>
              <a:t>Dica: </a:t>
            </a: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não use go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Uso do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 got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EFB0-AAEA-409E-86C3-B42F433DD396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54C505-6A38-4FF3-8947-62CBB194FA24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8" dur="indefinite" restart="never" nodeType="tmRoot">
          <p:childTnLst>
            <p:seq>
              <p:cTn id="1189" dur="indefinite" nodeType="mainSeq">
                <p:childTnLst>
                  <p:par>
                    <p:cTn id="1190" fill="hold">
                      <p:stCondLst>
                        <p:cond delay="0"/>
                      </p:stCondLst>
                      <p:childTnLst>
                        <p:par>
                          <p:cTn id="1191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4" fill="hold">
                      <p:stCondLst>
                        <p:cond delay="indefinite"/>
                      </p:stCondLst>
                      <p:childTnLst>
                        <p:par>
                          <p:cTn id="1195" fill="hold">
                            <p:stCondLst>
                              <p:cond delay="0"/>
                            </p:stCondLst>
                            <p:childTnLst>
                              <p:par>
                                <p:cTn id="1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8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9" dur="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fill="hold">
                      <p:stCondLst>
                        <p:cond delay="indefinite"/>
                      </p:stCondLst>
                      <p:childTnLst>
                        <p:par>
                          <p:cTn id="1201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4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5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fill="hold">
                      <p:stCondLst>
                        <p:cond delay="indefinite"/>
                      </p:stCondLst>
                      <p:childTnLst>
                        <p:par>
                          <p:cTn id="1207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2" fill="hold">
                      <p:stCondLst>
                        <p:cond delay="indefinite"/>
                      </p:stCondLst>
                      <p:childTnLst>
                        <p:par>
                          <p:cTn id="1213" fill="hold">
                            <p:stCondLst>
                              <p:cond delay="0"/>
                            </p:stCondLst>
                            <p:childTnLst>
                              <p:par>
                                <p:cTn id="1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7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struturas de Repetição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Fim do Capítul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60B92-8A51-4B0F-9AF0-05C3D460DC99}" type="slidenum">
              <a:t>5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B4CD8CD-C347-4FCA-B4AA-80FB10542499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057400"/>
            <a:ext cx="8229600" cy="4038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whil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2720" y="2514600"/>
            <a:ext cx="7916760" cy="19051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umero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while (numero &lt;= 10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%d " , 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ero = numero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989280" y="502920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 2 3 4 5 6 7 8 9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7120" y="213372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ódig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6760" y="4419720"/>
            <a:ext cx="163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ul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883040" y="5792760"/>
            <a:ext cx="382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Repeticao\while01\while01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443-A8AF-45E2-A48E-2FB1279F40EA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C4D8C-8F27-443A-968A-23FEB1A456FA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057400"/>
            <a:ext cx="8229600" cy="4038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trole das condiçõ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8120" y="2971800"/>
            <a:ext cx="5481360" cy="243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int numero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while (numero &lt;= 10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%d " , numer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numero = numero +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3429000"/>
            <a:ext cx="2666880" cy="838080"/>
          </a:xfrm>
          <a:prstGeom prst="wedgeRectCallout">
            <a:avLst>
              <a:gd name="adj1" fmla="val 106486"/>
              <a:gd name="adj2" fmla="val 4356"/>
            </a:avLst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dição que controla repet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5029200"/>
            <a:ext cx="3048120" cy="838080"/>
          </a:xfrm>
          <a:prstGeom prst="wedgeRectCallout">
            <a:avLst>
              <a:gd name="adj1" fmla="val 36356"/>
              <a:gd name="adj2" fmla="val -89013"/>
            </a:avLst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ualiza valores usados na cond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724280" y="2286000"/>
            <a:ext cx="3124440" cy="838080"/>
          </a:xfrm>
          <a:prstGeom prst="wedgeRectCallout">
            <a:avLst>
              <a:gd name="adj1" fmla="val -50305"/>
              <a:gd name="adj2" fmla="val 77273"/>
            </a:avLst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icializa valores usados na condi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6A9E-5F31-4ECA-9E70-D40C24515225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66D3F1-C7BB-4A9F-9F3F-DD80B35F3D05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57200" y="2057400"/>
            <a:ext cx="8229600" cy="4572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whil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520" y="2133720"/>
            <a:ext cx="7995960" cy="4495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umero, divisor,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Digite o numero: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d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numer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visor 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divisor &lt;= numero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to = numero % diviso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resto =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Divisor: %d 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divisor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visor = divisor +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204800" y="6308640"/>
            <a:ext cx="450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Repeticao\Divisores01\Divisores01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5BA5-F99F-47B2-894E-B4FF5F34FA08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412D17-F4FD-417B-BE5F-175A7E093AE6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2057400"/>
            <a:ext cx="8229600" cy="45720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wh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whil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520" y="2133720"/>
            <a:ext cx="7995960" cy="44956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umeroA, numeroB, 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Digite dois números (ordem crescente):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d %d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numeroA, &amp;numero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whil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numeroA &gt;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sto = numeroB % numero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eroB = numero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umeroA = rest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en-US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MDC: %d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numero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088240" y="6308640"/>
            <a:ext cx="362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Repeticao\mdc01\mdc01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9E45-0A5F-415E-91A2-15EDA98EC3A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3FABE-B820-4E26-846C-A3D84EA319A1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0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1:20:33Z</dcterms:created>
  <dc:creator>Daniel</dc:creator>
  <dc:description/>
  <dc:language>en-US</dc:language>
  <cp:lastModifiedBy> arnaldo</cp:lastModifiedBy>
  <dcterms:modified xsi:type="dcterms:W3CDTF">2008-04-01T18:31:27Z</dcterms:modified>
  <cp:revision>89</cp:revision>
  <dc:subject/>
  <dc:title>Curso de C</dc:title>
</cp:coreProperties>
</file>