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5B4F-6861-4B47-8D7E-59C7BBC287D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Podemos passar um </a:t>
            </a:r>
            <a:r>
              <a:rPr b="0" i="1" lang="pt-BR" sz="800" spc="-1" strike="noStrike">
                <a:solidFill>
                  <a:srgbClr val="000000"/>
                </a:solidFill>
                <a:latin typeface="Arial"/>
              </a:rPr>
              <a:t>nome de função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como argumento para outras funções em C. Isso possibilita um mecanismo flexível, onde a função que entra como argumento pode ser trocada a cada invocação da função mestre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Uma declaração de função na forma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int f( double g( int x), int a)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declara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f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como uma função que recebe dois argumentos e retorna um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int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. O segundo argumento é uma variável de tipo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int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. O primeiro argumento é uma função que recebe um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int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e retorna um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double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Lembre que o compilador trata nomes de funções como apontadores para endereço de memória. Assim, essa declaração seria equivalente 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int f( double (*g)( int x), int a);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onde está claro que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g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é um </a:t>
            </a:r>
            <a:r>
              <a:rPr b="0" i="1" lang="pt-BR" sz="800" spc="-1" strike="noStrike">
                <a:solidFill>
                  <a:srgbClr val="000000"/>
                </a:solidFill>
                <a:latin typeface="Arial"/>
              </a:rPr>
              <a:t>apontador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para uma função que recebe um int</a:t>
            </a: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e retorna um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double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O método de Newton é um algoritmo eficiente para se achar raízes de funções (contínuas). Se f é uma função, uma raíz de f é todo valor x onde f se anula, isto é, vale f(x)=0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Note que, se num ponto a temos f(a) &gt; 0, e se num outro ponto b mais adiante temos f(b) &lt; 0, ou seja f(a) e f(b) têm sinais trocados, então f deve se anular em algum ponto intermediário entre a e b.  O método de Newton determina um ponto intermediário c, entre a e b, tal que f(c) =0 (pode haver mais de um tal ponto c; o método acha um deles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O método funciona assim. Assuma que f(a) &gt; 0 e que f(b) &lt;0. Calculamos o ponto intermediário m=(a+b)/2. Se f(m) = 0, o ponto m é a raíz desejada. Se f(m) &gt; 0 então a raíz deve estar entre os pontos m e b, visto que f(m)&gt;0 e f(b)&lt;0 indicam a presença de uma raíz entre m e b. Caso contrário, a raíz está entre a e m. Em qualquer hipótese, o intervalo onde se encontra a raíz foi dividido à metade. O processo continua até que a raíz seja encontrada. É o mecanismo de dividir o intervalo útil de busca à metade,  a cada passo, que torna este método muito eficiente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800" spc="-1" strike="noStrike">
                <a:solidFill>
                  <a:srgbClr val="000000"/>
                </a:solidFill>
                <a:latin typeface="Verdana"/>
              </a:rPr>
              <a:t>Comentários sobre o programa “Newton"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#include&lt;math.h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/* ========== definicoes =======================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#define EPSILON 1.0E-1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O arquivo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 inc12.h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.  A biblioteca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math.h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é incluída para que tenhamos acesso a função cosseno. A constante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EPSILON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é usada para contornar o problema do interstício mínimo na representação binária de números reais. Assim, dois números reais que diferem de menos que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 EPSILION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serão considerados iguais. É o mesmo que dizer que aceitamos um erro de até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EPSILON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nos valores calculados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double poli(double a) 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/* funcao = 3.3a^5 - 25.0a^2 + 204.5a - 18.6 */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return (3.3*a*a*a*a*a - 25.0*a*a + 204.5*a - 18.6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double raiz(double f(double), double a, double b) 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double m,x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do {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m=(a+b)/2.0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x=f(m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if ( (fabs(x&lt;EPSILON)) || (fabs(b-a&lt;EPSILON)) ) break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    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if (f(a)*x&gt;0.0) a=m; else b=m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}while (1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return m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O arquivo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lib12.c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. A função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poli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é um simples polinômio. A função recebe o ponto onde queremos calcular o valor do polinômio e devolve o valor calculad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 função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raiz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implementa o método de Newton. Seu primeiro argumento é uma função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 f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que recebe um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double</a:t>
            </a:r>
            <a:r>
              <a:rPr b="1" lang="pt-B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e devolve outro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double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O código da função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 raiz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é formado por um laço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do-while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que, a cada iteração, realiza um passo do método de Newton. Observe que a função retorna assim que acha a raíz desejada, quando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 x&lt;EPSILON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, ou quando a distância entre entre os pontos extremos do intervalo útil atual é menor que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EPSILON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. Nos dois testes, é claro, devemos tomar o valor absoluto das grandezas (qualquer valor negativo é trivialmente menor que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 EPSILON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, mesmo grandezas negativas com um valor absoluto alto). Em qualquer hipótese, estamos informando o valor correto da raíz, a menos de um erro menor que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 EPSILON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 rotina deve calcular corretamente uma das raízes de qualquer função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 f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 que seja passada como parâmetro, desde que a função tenha valores de sinais trocados  nos extremos do intervalo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 [a,b]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. É responsabilidade do programador garantir essa última condição, uma vez que a rotina não verifica se ela é verdadeira quando começa a executar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printf("Funcao cosseno entre 0 e pi:\n"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r = raiz(cos,0.0,3.141592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printf("\t Raiz no ponto %g\n",r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printf("\t Valor de cos(%g) = %g\n",r,cos(r)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Nesse trecho do programa principal testamos a rotina raiz sobre a função cosseno. Essa função tem o valor 1 no ponto zero e o valor  -1 no ponto 3.14 (em radianos). Portanto, ela deve ter uma raíz em algum ponto intermediário. A saída é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Funcao cosseno entre 0 e pi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Raiz no ponto 1.570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Valor de cos(1.5708) = 1.56387e-1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A raíz está no ponto 1.5708 (em radianos). A linha seguinte confirma que a função calculada nesse ponto tem um valor próximo de zero (abaixo de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EPSILON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). Observe os parâmetros de chamada da função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raiz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.  O primeiro deles é o nome da função cosseno,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cos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. Na execução do código de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 raiz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, o nome do parâmetro formal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 f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é substituído pelo nome da função cosseno, fazendo com que, durante a execução, a rotina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raiz 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use de fato a função cosseno nos cálculos, como desejad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37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printf("Funcao poli entre 0 e 10.0:\n"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r = raiz(poli,0.0,10.0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printf("\t Raiz no ponto %g\n",r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pt-BR" sz="700" spc="-1" strike="noStrike">
                <a:solidFill>
                  <a:srgbClr val="000000"/>
                </a:solidFill>
                <a:latin typeface="Lucida Console"/>
              </a:rPr>
              <a:t>printf("\t Valor de poli(%g) = %g\n",r,poli(r))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Novo teste, agora usando a função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 poli</a:t>
            </a: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. A saída é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Funcao poli entre 0 e 10.0: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Raiz no ponto 0.091987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	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pt-BR" sz="800" spc="-1" strike="noStrike">
                <a:solidFill>
                  <a:srgbClr val="000000"/>
                </a:solidFill>
                <a:latin typeface="Lucida Console"/>
              </a:rPr>
              <a:t>Valor de poli(0.0919879) =  -8.02357e-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800" spc="-1" strike="noStrike">
                <a:solidFill>
                  <a:srgbClr val="000000"/>
                </a:solidFill>
                <a:latin typeface="Arial"/>
              </a:rPr>
              <a:t>De novo, fica comprovado que no ponto calculado para a raíz o valor da função é próximo de zero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F812-F14E-4910-9759-5668D0DE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CB2A-2E35-4C5E-B233-BE1FD081E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C48E-1004-48F8-BD42-CC621530E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E8D7-A996-48BD-8AE2-AEBDF9C06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E15A-23D5-4D68-A88B-CD120F52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63013-4BBF-4162-B7C0-4E5A1B09A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9D6B0-3B7D-4796-BDBB-0F31C3ED6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C472-2792-4102-86B6-AB8825C05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51CF5-3C7C-41E6-9053-F9A05D8E6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D2D8-0FBC-4C29-A7F0-BD261259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356F-8771-4A4C-BECF-01C37D277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CC6A-B1ED-4328-B60D-0BF1AEC5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F0983-160A-4A57-A0E4-9D25D6D6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48029-9BBC-4772-A8A4-48CEB13F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0C8E0-B45B-4EEF-A2B2-6D9D8C78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C695-7A19-4422-80AF-1DCADE07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8888-8402-41DC-A376-68E798D09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EDA6-D2E3-42B0-A70E-35079E53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DE41-186B-4F35-81EF-95B35FDF6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C745-E043-410C-BB36-E2DE23E2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ADDA-06A5-4A86-BE8D-5B41C45A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72DD-857B-426E-83CF-B084D589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EE2D-1753-4D3F-9175-35881A6FD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EB8D-ABCA-4FF4-8C49-EEA7037C6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5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D971E-BAF2-489E-B597-104F0E5FDF79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241BEF27-E2BA-47F6-AF77-D33D57EEE9A8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7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D643-C94A-454A-90F6-4A5F9DC81854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08000" y="-33480"/>
            <a:ext cx="71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urso C - IC/UNIC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43164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12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871236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14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FCF83-436E-43E4-820C-E120751C2A67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FD627D0A-B8E5-49D9-9655-C85850CD41CD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7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EFAEE-A2DB-479C-A264-4D70AE0690B2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3041640" y="3499920"/>
            <a:ext cx="405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Apontadore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AD19C-D674-49F2-9FBA-6A669CCB46E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C6ED5E6-C81C-4288-8472-C09F61D3A2C5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pont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1280" y="1558800"/>
            <a:ext cx="38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ipo da variável</a:t>
            </a:r>
            <a:r>
              <a:rPr b="0" lang="pt-BR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0" lang="pt-BR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92000" y="2168640"/>
            <a:ext cx="8010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int x( 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nção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e retorna um intei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int *x[ ]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tor que contém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ontadores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iros.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smo que </a:t>
            </a: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int *(x[ ]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int *x( 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unção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e retorna um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ontador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iro. Mesmo que </a:t>
            </a: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int *(x( )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54BF-14C3-4A3B-BDB0-C3836A564ECD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CFD9A-2D2F-4CFD-A269-4528F996537C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0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pont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31640" y="162828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int *x( )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int x[ ]( )</a:t>
            </a:r>
            <a:r>
              <a:rPr b="0" lang="pt-BR" sz="3200" spc="-1" strike="noStrike">
                <a:solidFill>
                  <a:srgbClr val="3333cc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int x( )[ ]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int x[ ][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140480" y="2168640"/>
            <a:ext cx="571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ção que retorna um apontador para inteiro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11560" y="3249720"/>
            <a:ext cx="533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tor que conté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ção que retorna intei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413720" y="5499000"/>
            <a:ext cx="466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tor que contém um vetor de intei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202360" y="165564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int *(x( )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11280" y="270828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int (x[ ])( 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53080" y="32497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rr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11280" y="378936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int (x( ))[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413000" y="4238640"/>
            <a:ext cx="478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ção que retorna um vetor de intei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02000" y="478008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int (x[ ])[ 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453080" y="423864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rr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B007-3B40-43A9-8270-211F7160D9B2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3E92E-44A1-4BFC-843A-54D637D89526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pont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31640" y="162828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Courier New"/>
              </a:rPr>
              <a:t>int x( )( )</a:t>
            </a:r>
            <a:r>
              <a:rPr b="0" lang="pt-BR" sz="3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int *x[ ](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int *x( )[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0120" y="2349360"/>
            <a:ext cx="643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ção que retorna outra função que retorna um int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11280" y="171936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int (x( ))(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24520" y="23493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rr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40920" y="28893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int *( (x[ ])( 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971640" y="3429000"/>
            <a:ext cx="495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tor que contém funções que retornam apontadores  para intei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364160" y="35193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rr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931280" y="414972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int *( (x( ))[ 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64160" y="46893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rr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062000" y="4689360"/>
            <a:ext cx="52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ção que retorna vetores de apontadores  para intei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7543-DBC0-44FD-B14E-C608730B36C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F7AC9-C26B-4235-ADF7-16F7F3A132CB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pont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31640" y="1449360"/>
            <a:ext cx="82296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int *x[ ][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int *x( )(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int (*x)[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11280" y="2077920"/>
            <a:ext cx="594036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tor que contém vetores de apontad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intei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93360" y="3789360"/>
            <a:ext cx="5790600" cy="70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ção que retorna uma segunda função q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torna um apontador  para um int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50560" y="15382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int *( (x([])[]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841280" y="324972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int *( (x())(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183080" y="38797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err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35160" y="5589720"/>
            <a:ext cx="421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ontador para um vetor de intei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4705-11E8-4B51-9DDF-78F7C64A183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970992-92CF-4991-8FB7-36F329FE18BE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pont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int (*x)( 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int **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int (*x[ ])(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963360" y="2036880"/>
            <a:ext cx="544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ontador para uma função que retorna intei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93000" y="3699000"/>
            <a:ext cx="593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ontador  para um apontador para um inteir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01640" y="5589720"/>
            <a:ext cx="693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tor de apontadores  para funções que retornam intei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751640" y="33386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int *(*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231A-D732-4DF9-A975-B3DAC0D1D23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8C2EE-72EA-407B-9805-52304BEE2A23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pont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28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int *(*(*x)( ))[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(*x)(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(*(...))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int *(...)[ ]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303360" y="2708280"/>
            <a:ext cx="496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ontador  para uma função que retorna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78400" y="3249720"/>
            <a:ext cx="261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apontador para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204440" y="3789360"/>
            <a:ext cx="45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 vetor de apontadores para intei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83440" y="4508640"/>
            <a:ext cx="616392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i="1" lang="pt-BR" sz="2400" spc="-1" strike="noStrike">
                <a:solidFill>
                  <a:srgbClr val="3333cc"/>
                </a:solidFill>
                <a:latin typeface="Arial"/>
              </a:rPr>
              <a:t>apontador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para uma </a:t>
            </a:r>
            <a:r>
              <a:rPr b="0" i="1" lang="pt-BR" sz="2400" spc="-1" strike="noStrike">
                <a:solidFill>
                  <a:srgbClr val="3333cc"/>
                </a:solidFill>
                <a:latin typeface="Arial"/>
              </a:rPr>
              <a:t>função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que retor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i="1" lang="pt-BR" sz="2400" spc="-1" strike="noStrike">
                <a:solidFill>
                  <a:srgbClr val="3333cc"/>
                </a:solidFill>
                <a:latin typeface="Arial"/>
              </a:rPr>
              <a:t>apontador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um </a:t>
            </a:r>
            <a:r>
              <a:rPr b="0" i="1" lang="pt-BR" sz="2400" spc="-1" strike="noStrike">
                <a:solidFill>
                  <a:srgbClr val="3333cc"/>
                </a:solidFill>
                <a:latin typeface="Arial"/>
              </a:rPr>
              <a:t>vetor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de </a:t>
            </a:r>
            <a:r>
              <a:rPr b="0" i="1" lang="pt-BR" sz="2400" spc="-1" strike="noStrike">
                <a:solidFill>
                  <a:srgbClr val="3333cc"/>
                </a:solidFill>
                <a:latin typeface="Arial"/>
              </a:rPr>
              <a:t>apontador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0" i="1" lang="pt-BR" sz="2400" spc="-1" strike="noStrike">
                <a:solidFill>
                  <a:srgbClr val="3333cc"/>
                </a:solidFill>
                <a:latin typeface="Arial"/>
              </a:rPr>
              <a:t>inteiros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C881B-E6F7-4484-90BA-086B1203ABB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621CDA-6F04-4209-AB44-ABDE9CC5C68A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pont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07400" y="14493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Apontadores e ve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791640" y="2077920"/>
            <a:ext cx="1954440" cy="4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008000"/>
                </a:solidFill>
                <a:latin typeface="Arial"/>
              </a:rPr>
              <a:t>int  vet[4] 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792000" y="2529000"/>
            <a:ext cx="7521480" cy="3431880"/>
            <a:chOff x="792000" y="2529000"/>
            <a:chExt cx="7521480" cy="3431880"/>
          </a:xfrm>
        </p:grpSpPr>
        <p:sp>
          <p:nvSpPr>
            <p:cNvPr id="325" name=""/>
            <p:cNvSpPr/>
            <p:nvPr/>
          </p:nvSpPr>
          <p:spPr>
            <a:xfrm>
              <a:off x="1339560" y="4086000"/>
              <a:ext cx="1575000" cy="3812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57080" y="4278240"/>
              <a:ext cx="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45880" y="4271760"/>
              <a:ext cx="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400120" y="4268880"/>
              <a:ext cx="0" cy="1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11320" y="4083120"/>
              <a:ext cx="1574640" cy="380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28840" y="4275000"/>
              <a:ext cx="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17640" y="4268880"/>
              <a:ext cx="0" cy="1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971520" y="4265640"/>
              <a:ext cx="0" cy="1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87760" y="4083120"/>
              <a:ext cx="1576080" cy="380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806720" y="4257720"/>
              <a:ext cx="0" cy="1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195520" y="4251240"/>
              <a:ext cx="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549760" y="4248000"/>
              <a:ext cx="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062400" y="4083120"/>
              <a:ext cx="1574640" cy="380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379920" y="4275000"/>
              <a:ext cx="0" cy="17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768720" y="4268880"/>
              <a:ext cx="0" cy="1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122960" y="4265640"/>
              <a:ext cx="0" cy="172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196640" y="4539240"/>
              <a:ext cx="56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336400" y="4518360"/>
              <a:ext cx="5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Tahoma"/>
                </a:rPr>
                <a:t>1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rot="5400000">
              <a:off x="1945800" y="4163760"/>
              <a:ext cx="204840" cy="1535040"/>
            </a:xfrm>
            <a:custGeom>
              <a:avLst/>
              <a:gdLst>
                <a:gd name="textAreaLeft" fmla="*/ 0 w 204840"/>
                <a:gd name="textAreaRight" fmla="*/ 73800 w 204840"/>
                <a:gd name="textAreaTop" fmla="*/ 39960 h 1535040"/>
                <a:gd name="textAreaBottom" fmla="*/ 1495080 h 153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65160" y="4515120"/>
              <a:ext cx="56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Tahoma"/>
                </a:rPr>
                <a:t>10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943080" y="4510440"/>
              <a:ext cx="56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Tahoma"/>
                </a:rPr>
                <a:t>10</a:t>
              </a:r>
              <a:r>
                <a:rPr b="1" lang="pt-BR" sz="1400" spc="-1" strike="noStrike">
                  <a:solidFill>
                    <a:srgbClr val="000000"/>
                  </a:solidFill>
                  <a:latin typeface="Tahoma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371840" y="4507200"/>
              <a:ext cx="56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1" lang="pt-BR" sz="1400" spc="-1" strike="noStrike">
                  <a:solidFill>
                    <a:srgbClr val="000000"/>
                  </a:solidFill>
                  <a:latin typeface="Tahoma"/>
                </a:rPr>
                <a:t>0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491080" y="4486680"/>
              <a:ext cx="56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1" lang="pt-BR" sz="14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954400" y="4483440"/>
              <a:ext cx="56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1" lang="pt-BR" sz="1400" spc="-1" strike="noStrike">
                  <a:solidFill>
                    <a:srgbClr val="000000"/>
                  </a:solidFill>
                  <a:latin typeface="Tahoma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15040" y="4478760"/>
              <a:ext cx="56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Tahoma"/>
                </a:rPr>
                <a:t>11</a:t>
              </a:r>
              <a:r>
                <a:rPr b="1" lang="pt-BR" sz="1400" spc="-1" strike="noStrike">
                  <a:solidFill>
                    <a:srgbClr val="000000"/>
                  </a:solidFill>
                  <a:latin typeface="Tahoma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718280" y="355536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Tahoma"/>
                </a:rPr>
                <a:t>vet[</a:t>
              </a:r>
              <a:r>
                <a:rPr b="1" sz="1800" spc="-1" strike="noStrike">
                  <a:solidFill>
                    <a:srgbClr val="fb5331"/>
                  </a:solidFill>
                  <a:latin typeface="Tahoma"/>
                </a:rPr>
                <a:t>0</a:t>
              </a:r>
              <a:r>
                <a:rPr b="1" sz="1800" spc="-1" strike="noStrike">
                  <a:solidFill>
                    <a:srgbClr val="2aa436"/>
                  </a:solidFill>
                  <a:latin typeface="Tahoma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53320" y="358524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Tahoma"/>
                </a:rPr>
                <a:t>vet[</a:t>
              </a:r>
              <a:r>
                <a:rPr b="1" sz="1800" spc="-1" strike="noStrike">
                  <a:solidFill>
                    <a:srgbClr val="fb5331"/>
                  </a:solidFill>
                  <a:latin typeface="Tahoma"/>
                </a:rPr>
                <a:t>1</a:t>
              </a:r>
              <a:r>
                <a:rPr b="1" sz="1800" spc="-1" strike="noStrike">
                  <a:solidFill>
                    <a:srgbClr val="2aa436"/>
                  </a:solidFill>
                  <a:latin typeface="Tahoma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786920" y="35647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Tahoma"/>
                </a:rPr>
                <a:t>vet[</a:t>
              </a:r>
              <a:r>
                <a:rPr b="1" sz="1800" spc="-1" strike="noStrike">
                  <a:solidFill>
                    <a:srgbClr val="fb5331"/>
                  </a:solidFill>
                  <a:latin typeface="Tahoma"/>
                </a:rPr>
                <a:t>2</a:t>
              </a:r>
              <a:r>
                <a:rPr b="1" sz="1800" spc="-1" strike="noStrike">
                  <a:solidFill>
                    <a:srgbClr val="2aa436"/>
                  </a:solidFill>
                  <a:latin typeface="Tahoma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339600" y="3579120"/>
              <a:ext cx="82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Tahoma"/>
                </a:rPr>
                <a:t>vet[</a:t>
              </a:r>
              <a:r>
                <a:rPr b="1" sz="1800" spc="-1" strike="noStrike">
                  <a:solidFill>
                    <a:srgbClr val="fb5331"/>
                  </a:solidFill>
                  <a:latin typeface="Tahoma"/>
                </a:rPr>
                <a:t>3</a:t>
              </a:r>
              <a:r>
                <a:rPr b="1" sz="1800" spc="-1" strike="noStrike">
                  <a:solidFill>
                    <a:srgbClr val="2aa436"/>
                  </a:solidFill>
                  <a:latin typeface="Tahoma"/>
                </a:rPr>
                <a:t>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74840" y="5315040"/>
              <a:ext cx="1833480" cy="645840"/>
            </a:xfrm>
            <a:prstGeom prst="wedgeRoundRectCallout">
              <a:avLst>
                <a:gd name="adj1" fmla="val 63976"/>
                <a:gd name="adj2" fmla="val -140171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3333cc"/>
                  </a:solidFill>
                  <a:latin typeface="Tahoma"/>
                </a:rPr>
                <a:t>endereços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3333cc"/>
                  </a:solidFill>
                  <a:latin typeface="Tahoma"/>
                </a:rPr>
                <a:t>memór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364080" y="2529000"/>
              <a:ext cx="1949400" cy="419040"/>
            </a:xfrm>
            <a:prstGeom prst="wedgeRoundRectCallout">
              <a:avLst>
                <a:gd name="adj1" fmla="val -104546"/>
                <a:gd name="adj2" fmla="val 157574"/>
                <a:gd name="adj3" fmla="val 16667"/>
              </a:avLst>
            </a:prstGeom>
            <a:solidFill>
              <a:srgbClr val="ddddd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3333cc"/>
                  </a:solidFill>
                  <a:latin typeface="Tahoma"/>
                </a:rPr>
                <a:t>contém um</a:t>
              </a:r>
              <a:r>
                <a:rPr b="1" sz="1600" spc="-1" strike="noStrike">
                  <a:solidFill>
                    <a:srgbClr val="fb5331"/>
                  </a:solidFill>
                  <a:latin typeface="Tahoma"/>
                </a:rPr>
                <a:t> </a:t>
              </a:r>
              <a:r>
                <a:rPr b="1" sz="1600" spc="-1" strike="noStrike">
                  <a:solidFill>
                    <a:srgbClr val="2aa436"/>
                  </a:solidFill>
                  <a:latin typeface="Tahoma"/>
                </a:rPr>
                <a:t>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16000" y="2563920"/>
              <a:ext cx="1555920" cy="401400"/>
            </a:xfrm>
            <a:prstGeom prst="wedgeRoundRectCallout">
              <a:avLst>
                <a:gd name="adj1" fmla="val -79754"/>
                <a:gd name="adj2" fmla="val 209685"/>
                <a:gd name="adj3" fmla="val 16667"/>
              </a:avLst>
            </a:prstGeom>
            <a:solidFill>
              <a:srgbClr val="99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3333cc"/>
                  </a:solidFill>
                  <a:latin typeface="Tahoma"/>
                </a:rPr>
                <a:t>inicia em</a:t>
              </a:r>
              <a:r>
                <a:rPr b="1" sz="16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sz="1600" spc="-1" strike="noStrike">
                  <a:solidFill>
                    <a:srgbClr val="fb5331"/>
                  </a:solidFill>
                  <a:latin typeface="Tahoma"/>
                </a:rPr>
                <a:t>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rot="5400000">
              <a:off x="5068440" y="2798280"/>
              <a:ext cx="306360" cy="1516320"/>
            </a:xfrm>
            <a:custGeom>
              <a:avLst/>
              <a:gdLst>
                <a:gd name="textAreaLeft" fmla="*/ 195840 w 306360"/>
                <a:gd name="textAreaRight" fmla="*/ 306360 w 306360"/>
                <a:gd name="textAreaTop" fmla="*/ 39240 h 1516320"/>
                <a:gd name="textAreaBottom" fmla="*/ 1477080 h 1516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2000" y="5522760"/>
              <a:ext cx="1122120" cy="385920"/>
            </a:xfrm>
            <a:prstGeom prst="wedgeRoundRectCallout">
              <a:avLst>
                <a:gd name="adj1" fmla="val 52912"/>
                <a:gd name="adj2" fmla="val -156171"/>
                <a:gd name="adj3" fmla="val 16667"/>
              </a:avLst>
            </a:prstGeom>
            <a:solidFill>
              <a:srgbClr val="ffffcc"/>
            </a:solidFill>
            <a:ln w="9360">
              <a:solidFill>
                <a:srgbClr val="af67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3333cc"/>
                  </a:solidFill>
                  <a:latin typeface="Tahoma"/>
                </a:rPr>
                <a:t>4 byt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609840" y="279864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et[0] == </a:t>
            </a:r>
            <a:r>
              <a:rPr b="0" lang="pt-BR" sz="2400" spc="-1" strike="noStrike">
                <a:solidFill>
                  <a:srgbClr val="009900"/>
                </a:solidFill>
                <a:latin typeface="Arial"/>
              </a:rPr>
              <a:t>*v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548400" y="5248440"/>
            <a:ext cx="253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et[2] == </a:t>
            </a:r>
            <a:r>
              <a:rPr b="0" lang="pt-BR" sz="2400" spc="-1" strike="noStrike">
                <a:solidFill>
                  <a:srgbClr val="009900"/>
                </a:solidFill>
                <a:latin typeface="Arial"/>
              </a:rPr>
              <a:t>*(vet+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6013440" y="1719360"/>
            <a:ext cx="2338560" cy="459720"/>
            <a:chOff x="6013440" y="1719360"/>
            <a:chExt cx="2338560" cy="459720"/>
          </a:xfrm>
        </p:grpSpPr>
        <p:sp>
          <p:nvSpPr>
            <p:cNvPr id="362" name=""/>
            <p:cNvSpPr/>
            <p:nvPr/>
          </p:nvSpPr>
          <p:spPr>
            <a:xfrm>
              <a:off x="6823080" y="1719360"/>
              <a:ext cx="1528920" cy="449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Arial"/>
                </a:rPr>
                <a:t>10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013440" y="1719360"/>
              <a:ext cx="58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9900"/>
                  </a:solidFill>
                  <a:latin typeface="Arial"/>
                </a:rPr>
                <a:t>ve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F8E2-4C93-4B6C-8C41-DAC3504339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DED2F-7491-489B-8EF8-1940DD67CC22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0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pont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07400" y="1449360"/>
            <a:ext cx="415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Apontadores e vet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951840" y="2077200"/>
            <a:ext cx="357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2aa436"/>
                </a:solidFill>
                <a:latin typeface="Tahoma"/>
              </a:rPr>
              <a:t>char v[ ]  = { ‘Z’, ‘M’, ‘T’, ‘A’ } 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857240" y="2614320"/>
            <a:ext cx="5699160" cy="1738080"/>
            <a:chOff x="1857240" y="2614320"/>
            <a:chExt cx="5699160" cy="1738080"/>
          </a:xfrm>
        </p:grpSpPr>
        <p:sp>
          <p:nvSpPr>
            <p:cNvPr id="369" name=""/>
            <p:cNvSpPr/>
            <p:nvPr/>
          </p:nvSpPr>
          <p:spPr>
            <a:xfrm>
              <a:off x="3678120" y="3584520"/>
              <a:ext cx="976320" cy="380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af67ff"/>
                  </a:solidFill>
                  <a:latin typeface="Tahoma"/>
                </a:rPr>
                <a:t>Z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92680" y="4037400"/>
              <a:ext cx="56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57240" y="2733840"/>
              <a:ext cx="1121040" cy="385560"/>
            </a:xfrm>
            <a:prstGeom prst="wedgeRoundRectCallout">
              <a:avLst>
                <a:gd name="adj1" fmla="val 131439"/>
                <a:gd name="adj2" fmla="val 149175"/>
                <a:gd name="adj3" fmla="val 16667"/>
              </a:avLst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af67ff"/>
                  </a:solidFill>
                  <a:latin typeface="Tahoma"/>
                </a:rPr>
                <a:t>1 by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649760" y="3581280"/>
              <a:ext cx="976320" cy="38124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af67ff"/>
                  </a:solidFill>
                  <a:latin typeface="Tahoma"/>
                </a:rPr>
                <a:t>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21400" y="3578400"/>
              <a:ext cx="974520" cy="380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af67ff"/>
                  </a:solidFill>
                  <a:latin typeface="Tahoma"/>
                </a:rPr>
                <a:t>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583320" y="3579840"/>
              <a:ext cx="973080" cy="380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af67ff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83040" y="4016880"/>
              <a:ext cx="56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Tahoma"/>
                </a:rPr>
                <a:t>10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54680" y="4013640"/>
              <a:ext cx="565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Tahoma"/>
                </a:rPr>
                <a:t>10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751800" y="4045320"/>
              <a:ext cx="566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Tahoma"/>
                </a:rPr>
                <a:t>10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23360" y="2620440"/>
              <a:ext cx="296640" cy="337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2aa436"/>
                  </a:solidFill>
                  <a:latin typeface="Tahoma"/>
                </a:rPr>
                <a:t>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65560" y="296244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70440" y="2617200"/>
              <a:ext cx="528120" cy="337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2aa436"/>
                  </a:solidFill>
                  <a:latin typeface="Tahoma"/>
                </a:rPr>
                <a:t>v+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137200" y="295920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842080" y="2614320"/>
              <a:ext cx="528120" cy="337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2aa436"/>
                  </a:solidFill>
                  <a:latin typeface="Tahoma"/>
                </a:rPr>
                <a:t>v+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108840" y="295596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796080" y="2628360"/>
              <a:ext cx="528120" cy="337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2aa436"/>
                  </a:solidFill>
                  <a:latin typeface="Tahoma"/>
                </a:rPr>
                <a:t>v+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062840" y="2970360"/>
              <a:ext cx="0" cy="5713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3219840" y="4583520"/>
            <a:ext cx="1468080" cy="813600"/>
            <a:chOff x="3219840" y="4583520"/>
            <a:chExt cx="1468080" cy="813600"/>
          </a:xfrm>
        </p:grpSpPr>
        <p:sp>
          <p:nvSpPr>
            <p:cNvPr id="387" name=""/>
            <p:cNvSpPr/>
            <p:nvPr/>
          </p:nvSpPr>
          <p:spPr>
            <a:xfrm>
              <a:off x="3713040" y="4637160"/>
              <a:ext cx="974880" cy="380880"/>
            </a:xfrm>
            <a:prstGeom prst="rect">
              <a:avLst/>
            </a:prstGeom>
            <a:solidFill>
              <a:srgbClr val="99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000000"/>
                  </a:solidFill>
                  <a:latin typeface="Tahoma"/>
                </a:rPr>
                <a:t>1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19840" y="4583520"/>
              <a:ext cx="354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400" spc="-1" strike="noStrike">
                  <a:solidFill>
                    <a:srgbClr val="fb5331"/>
                  </a:solidFill>
                  <a:latin typeface="Tahoma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06720" y="5090040"/>
              <a:ext cx="567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400" spc="-1" strike="noStrike">
                  <a:solidFill>
                    <a:srgbClr val="000000"/>
                  </a:solidFill>
                  <a:latin typeface="Tahoma"/>
                </a:rPr>
                <a:t>5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2226600" y="5518080"/>
            <a:ext cx="300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9900"/>
                </a:solidFill>
                <a:latin typeface="Arial"/>
              </a:rPr>
              <a:t>v[2]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= </a:t>
            </a:r>
            <a:r>
              <a:rPr b="1" lang="pt-BR" sz="2400" spc="-1" strike="noStrike">
                <a:solidFill>
                  <a:srgbClr val="009900"/>
                </a:solidFill>
                <a:latin typeface="Arial"/>
              </a:rPr>
              <a:t>*(v+2)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= </a:t>
            </a: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`</a:t>
            </a: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T</a:t>
            </a: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`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589120" y="6148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842000" y="6129360"/>
            <a:ext cx="3495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Vetores\Apontadores\ApontVetores.vc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Vetores\Apontadores\Peneira.vc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02DB-EDBF-41B8-AEC7-5DDDFCF7D28D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0F04EC-4454-4916-B44E-F5101F05B101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9" dur="indefinite" restart="never" nodeType="tmRoot">
          <p:childTnLst>
            <p:seq>
              <p:cTn id="600" dur="indefinite" nodeType="mainSeq">
                <p:childTnLst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pont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16600" y="1449360"/>
            <a:ext cx="717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xemplo: apontadores par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funçõ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179000" y="2077200"/>
            <a:ext cx="4227480" cy="869760"/>
            <a:chOff x="1179000" y="2077200"/>
            <a:chExt cx="4227480" cy="869760"/>
          </a:xfrm>
        </p:grpSpPr>
        <p:sp>
          <p:nvSpPr>
            <p:cNvPr id="397" name=""/>
            <p:cNvSpPr/>
            <p:nvPr/>
          </p:nvSpPr>
          <p:spPr>
            <a:xfrm>
              <a:off x="1209960" y="2077200"/>
              <a:ext cx="419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af67ff"/>
                  </a:solidFill>
                  <a:latin typeface="Tahoma"/>
                </a:rPr>
                <a:t>int </a:t>
              </a:r>
              <a:r>
                <a:rPr b="1" lang="pt-BR" sz="1800" spc="-1" strike="noStrike">
                  <a:solidFill>
                    <a:srgbClr val="2aa436"/>
                  </a:solidFill>
                  <a:latin typeface="Tahoma"/>
                </a:rPr>
                <a:t>soma</a:t>
              </a:r>
              <a:r>
                <a:rPr b="1" lang="pt-BR" sz="1800" spc="-1" strike="noStrike">
                  <a:solidFill>
                    <a:srgbClr val="af67ff"/>
                  </a:solidFill>
                  <a:latin typeface="Tahoma"/>
                </a:rPr>
                <a:t>(int x, int y) { return (x+y);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79000" y="2578680"/>
              <a:ext cx="138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af67ff"/>
                  </a:solidFill>
                  <a:latin typeface="Tahoma"/>
                </a:rPr>
                <a:t>int  (</a:t>
              </a:r>
              <a:r>
                <a:rPr b="1" lang="pt-BR" sz="1800" spc="-1" strike="noStrike">
                  <a:solidFill>
                    <a:srgbClr val="ff0000"/>
                  </a:solidFill>
                  <a:latin typeface="Tahoma"/>
                </a:rPr>
                <a:t>* </a:t>
              </a:r>
              <a:r>
                <a:rPr b="1" lang="pt-BR" sz="1800" spc="-1" strike="noStrike">
                  <a:solidFill>
                    <a:srgbClr val="2aa436"/>
                  </a:solidFill>
                  <a:latin typeface="Tahoma"/>
                </a:rPr>
                <a:t>f</a:t>
              </a:r>
              <a:r>
                <a:rPr b="1" lang="pt-BR" sz="18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pt-BR" sz="1800" spc="-1" strike="noStrike">
                  <a:solidFill>
                    <a:srgbClr val="af67ff"/>
                  </a:solidFill>
                  <a:latin typeface="Tahoma"/>
                </a:rPr>
                <a:t>)( 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5562720" y="2168640"/>
            <a:ext cx="3395520" cy="1125360"/>
            <a:chOff x="5562720" y="2168640"/>
            <a:chExt cx="3395520" cy="1125360"/>
          </a:xfrm>
        </p:grpSpPr>
        <p:sp>
          <p:nvSpPr>
            <p:cNvPr id="400" name=""/>
            <p:cNvSpPr/>
            <p:nvPr/>
          </p:nvSpPr>
          <p:spPr>
            <a:xfrm>
              <a:off x="5562720" y="2168640"/>
              <a:ext cx="3395520" cy="11253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550200" y="2288880"/>
              <a:ext cx="1298520" cy="31248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ahoma"/>
                </a:rPr>
                <a:t>códi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581880" y="2840040"/>
              <a:ext cx="1298520" cy="312120"/>
            </a:xfrm>
            <a:prstGeom prst="rect">
              <a:avLst/>
            </a:prstGeom>
            <a:solidFill>
              <a:srgbClr val="ffb5a3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ahoma"/>
                </a:rPr>
                <a:t>??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782680" y="2293560"/>
              <a:ext cx="72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ahoma"/>
                </a:rPr>
                <a:t>so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39160" y="2844360"/>
              <a:ext cx="25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884720" y="228708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ahoma"/>
                </a:rPr>
                <a:t>1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916400" y="283788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ahoma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1096560" y="3788640"/>
            <a:ext cx="108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2aa436"/>
                </a:solidFill>
                <a:latin typeface="Tahoma"/>
              </a:rPr>
              <a:t>f</a:t>
            </a:r>
            <a:r>
              <a:rPr b="1" lang="pt-BR" sz="1800" spc="-1" strike="noStrike">
                <a:solidFill>
                  <a:srgbClr val="af67ff"/>
                </a:solidFill>
                <a:latin typeface="Tahoma"/>
              </a:rPr>
              <a:t>=</a:t>
            </a:r>
            <a:r>
              <a:rPr b="1" lang="pt-BR" sz="1800" spc="-1" strike="noStrike">
                <a:solidFill>
                  <a:srgbClr val="2aa436"/>
                </a:solidFill>
                <a:latin typeface="Tahoma"/>
              </a:rPr>
              <a:t>soma</a:t>
            </a:r>
            <a:r>
              <a:rPr b="1" lang="pt-BR" sz="1800" spc="-1" strike="noStrike">
                <a:solidFill>
                  <a:srgbClr val="af67ff"/>
                </a:solidFill>
                <a:latin typeface="Tahom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5472000" y="3608280"/>
            <a:ext cx="3395520" cy="1125720"/>
            <a:chOff x="5472000" y="3608280"/>
            <a:chExt cx="3395520" cy="1125720"/>
          </a:xfrm>
        </p:grpSpPr>
        <p:sp>
          <p:nvSpPr>
            <p:cNvPr id="409" name=""/>
            <p:cNvSpPr/>
            <p:nvPr/>
          </p:nvSpPr>
          <p:spPr>
            <a:xfrm>
              <a:off x="5472000" y="3608280"/>
              <a:ext cx="3395520" cy="11257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459480" y="3729240"/>
              <a:ext cx="1298520" cy="3124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ahoma"/>
                </a:rPr>
                <a:t>códig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491160" y="4280040"/>
              <a:ext cx="1298520" cy="31284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Tahoma"/>
                </a:rPr>
                <a:t>1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691960" y="3733560"/>
              <a:ext cx="72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ahoma"/>
                </a:rPr>
                <a:t>som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48080" y="4284360"/>
              <a:ext cx="25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ahoma"/>
                </a:rPr>
                <a:t>f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93640" y="372708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ahoma"/>
                </a:rPr>
                <a:t>1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825320" y="4277880"/>
              <a:ext cx="528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Tahoma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970920" y="4866120"/>
            <a:ext cx="1975320" cy="1390320"/>
            <a:chOff x="970920" y="4866120"/>
            <a:chExt cx="1975320" cy="1390320"/>
          </a:xfrm>
        </p:grpSpPr>
        <p:sp>
          <p:nvSpPr>
            <p:cNvPr id="417" name=""/>
            <p:cNvSpPr/>
            <p:nvPr/>
          </p:nvSpPr>
          <p:spPr>
            <a:xfrm>
              <a:off x="970920" y="4866120"/>
              <a:ext cx="1688040" cy="136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2aa436"/>
                  </a:solidFill>
                  <a:latin typeface="Tahoma"/>
                </a:rPr>
                <a:t>soma</a:t>
              </a:r>
              <a:r>
                <a:rPr b="1" lang="pt-BR" sz="1800" spc="-1" strike="noStrike">
                  <a:solidFill>
                    <a:srgbClr val="af67ff"/>
                  </a:solidFill>
                  <a:latin typeface="Tahoma"/>
                </a:rPr>
                <a:t>(2,3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2aa436"/>
                  </a:solidFill>
                  <a:latin typeface="Tahoma"/>
                </a:rPr>
                <a:t>f</a:t>
              </a:r>
              <a:r>
                <a:rPr b="1" lang="pt-BR" sz="1800" spc="-1" strike="noStrike">
                  <a:solidFill>
                    <a:srgbClr val="ff0000"/>
                  </a:solidFill>
                  <a:latin typeface="Tahoma"/>
                </a:rPr>
                <a:t> </a:t>
              </a:r>
              <a:r>
                <a:rPr b="1" lang="pt-BR" sz="1800" spc="-1" strike="noStrike">
                  <a:solidFill>
                    <a:srgbClr val="af67ff"/>
                  </a:solidFill>
                  <a:latin typeface="Tahoma"/>
                </a:rPr>
                <a:t>(2,3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af67ff"/>
                  </a:solidFill>
                  <a:latin typeface="Tahoma"/>
                </a:rPr>
                <a:t>(</a:t>
              </a:r>
              <a:r>
                <a:rPr b="1" lang="pt-BR" sz="1800" spc="-1" strike="noStrike">
                  <a:solidFill>
                    <a:srgbClr val="ff0000"/>
                  </a:solidFill>
                  <a:latin typeface="Tahoma"/>
                </a:rPr>
                <a:t>* </a:t>
              </a:r>
              <a:r>
                <a:rPr b="1" lang="pt-BR" sz="1800" spc="-1" strike="noStrike">
                  <a:solidFill>
                    <a:srgbClr val="2aa436"/>
                  </a:solidFill>
                  <a:latin typeface="Tahoma"/>
                </a:rPr>
                <a:t>soma</a:t>
              </a:r>
              <a:r>
                <a:rPr b="1" lang="pt-BR" sz="1800" spc="-1" strike="noStrike">
                  <a:solidFill>
                    <a:srgbClr val="af67ff"/>
                  </a:solidFill>
                  <a:latin typeface="Tahoma"/>
                </a:rPr>
                <a:t>)(2,3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af67ff"/>
                  </a:solidFill>
                  <a:latin typeface="Tahoma"/>
                </a:rPr>
                <a:t>(</a:t>
              </a:r>
              <a:r>
                <a:rPr b="1" lang="pt-BR" sz="1800" spc="-1" strike="noStrike">
                  <a:solidFill>
                    <a:srgbClr val="ff0000"/>
                  </a:solidFill>
                  <a:latin typeface="Tahoma"/>
                </a:rPr>
                <a:t>*** </a:t>
              </a:r>
              <a:r>
                <a:rPr b="1" lang="pt-BR" sz="1800" spc="-1" strike="noStrike">
                  <a:solidFill>
                    <a:srgbClr val="2aa436"/>
                  </a:solidFill>
                  <a:latin typeface="Tahoma"/>
                </a:rPr>
                <a:t>f </a:t>
              </a:r>
              <a:r>
                <a:rPr b="1" lang="pt-BR" sz="1800" spc="-1" strike="noStrike">
                  <a:solidFill>
                    <a:srgbClr val="af67ff"/>
                  </a:solidFill>
                  <a:latin typeface="Tahoma"/>
                </a:rPr>
                <a:t>)(2,3)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741400" y="4978440"/>
              <a:ext cx="204840" cy="1278000"/>
            </a:xfrm>
            <a:custGeom>
              <a:avLst/>
              <a:gdLst>
                <a:gd name="textAreaLeft" fmla="*/ 0 w 204840"/>
                <a:gd name="textAreaRight" fmla="*/ 73800 w 204840"/>
                <a:gd name="textAreaTop" fmla="*/ 33120 h 1278000"/>
                <a:gd name="textAreaBottom" fmla="*/ 1244880 h 127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3895560" y="5378400"/>
            <a:ext cx="1046160" cy="415800"/>
          </a:xfrm>
          <a:prstGeom prst="rightArrow">
            <a:avLst>
              <a:gd name="adj1" fmla="val 50000"/>
              <a:gd name="adj2" fmla="val 62900"/>
            </a:avLst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31040" y="5321520"/>
            <a:ext cx="354600" cy="4597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842000" y="6129360"/>
            <a:ext cx="349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Vetores\Apontadores\ApontFunc.vc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EF6A-257D-4355-A5F0-55BC9C19EFC3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24D544-502A-4C4D-81CC-39C94C251EDF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pont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551640" y="1988640"/>
            <a:ext cx="2044800" cy="15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aa436"/>
                </a:solidFill>
                <a:latin typeface="Arial"/>
              </a:rPr>
              <a:t>m1</a:t>
            </a:r>
            <a:r>
              <a:rPr b="1" lang="pt-BR" sz="2000" spc="-1" strike="noStrike">
                <a:solidFill>
                  <a:srgbClr val="af67ff"/>
                </a:solidFill>
                <a:latin typeface="Arial"/>
              </a:rPr>
              <a:t>=(</a:t>
            </a:r>
            <a:r>
              <a:rPr b="1" lang="pt-BR" sz="2000" spc="-1" strike="noStrike">
                <a:solidFill>
                  <a:srgbClr val="2aa436"/>
                </a:solidFill>
                <a:latin typeface="Arial"/>
              </a:rPr>
              <a:t>a</a:t>
            </a:r>
            <a:r>
              <a:rPr b="1" lang="pt-BR" sz="2000" spc="-1" strike="noStrike">
                <a:solidFill>
                  <a:srgbClr val="af67ff"/>
                </a:solidFill>
                <a:latin typeface="Arial"/>
              </a:rPr>
              <a:t>+</a:t>
            </a:r>
            <a:r>
              <a:rPr b="1" lang="pt-BR" sz="2000" spc="-1" strike="noStrike">
                <a:solidFill>
                  <a:srgbClr val="2aa436"/>
                </a:solidFill>
                <a:latin typeface="Arial"/>
              </a:rPr>
              <a:t>b</a:t>
            </a:r>
            <a:r>
              <a:rPr b="1" lang="pt-BR" sz="2000" spc="-1" strike="noStrike">
                <a:solidFill>
                  <a:srgbClr val="af67ff"/>
                </a:solidFill>
                <a:latin typeface="Arial"/>
              </a:rPr>
              <a:t>)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aa436"/>
                </a:solidFill>
                <a:latin typeface="Arial"/>
              </a:rPr>
              <a:t>m2</a:t>
            </a:r>
            <a:r>
              <a:rPr b="1" lang="pt-BR" sz="2000" spc="-1" strike="noStrike">
                <a:solidFill>
                  <a:srgbClr val="af67ff"/>
                </a:solidFill>
                <a:latin typeface="Arial"/>
              </a:rPr>
              <a:t>=(</a:t>
            </a:r>
            <a:r>
              <a:rPr b="1" lang="pt-BR" sz="2000" spc="-1" strike="noStrike">
                <a:solidFill>
                  <a:srgbClr val="2aa436"/>
                </a:solidFill>
                <a:latin typeface="Arial"/>
              </a:rPr>
              <a:t>a</a:t>
            </a:r>
            <a:r>
              <a:rPr b="1" lang="pt-BR" sz="2000" spc="-1" strike="noStrike">
                <a:solidFill>
                  <a:srgbClr val="af67ff"/>
                </a:solidFill>
                <a:latin typeface="Arial"/>
              </a:rPr>
              <a:t>+</a:t>
            </a:r>
            <a:r>
              <a:rPr b="1" lang="pt-BR" sz="2000" spc="-1" strike="noStrike">
                <a:solidFill>
                  <a:srgbClr val="2aa436"/>
                </a:solidFill>
                <a:latin typeface="Arial"/>
              </a:rPr>
              <a:t>m1</a:t>
            </a:r>
            <a:r>
              <a:rPr b="1" lang="pt-BR" sz="2000" spc="-1" strike="noStrike">
                <a:solidFill>
                  <a:srgbClr val="af67ff"/>
                </a:solidFill>
                <a:latin typeface="Arial"/>
              </a:rPr>
              <a:t>)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2aa436"/>
                </a:solidFill>
                <a:latin typeface="Arial"/>
              </a:rPr>
              <a:t>m3</a:t>
            </a:r>
            <a:r>
              <a:rPr b="1" lang="pt-BR" sz="2000" spc="-1" strike="noStrike">
                <a:solidFill>
                  <a:srgbClr val="af67ff"/>
                </a:solidFill>
                <a:latin typeface="Arial"/>
              </a:rPr>
              <a:t>=(</a:t>
            </a:r>
            <a:r>
              <a:rPr b="1" lang="pt-BR" sz="2000" spc="-1" strike="noStrike">
                <a:solidFill>
                  <a:srgbClr val="2aa436"/>
                </a:solidFill>
                <a:latin typeface="Arial"/>
              </a:rPr>
              <a:t>m1</a:t>
            </a:r>
            <a:r>
              <a:rPr b="1" lang="pt-BR" sz="2000" spc="-1" strike="noStrike">
                <a:solidFill>
                  <a:srgbClr val="af67ff"/>
                </a:solidFill>
                <a:latin typeface="Arial"/>
              </a:rPr>
              <a:t>+</a:t>
            </a:r>
            <a:r>
              <a:rPr b="1" lang="pt-BR" sz="2000" spc="-1" strike="noStrike">
                <a:solidFill>
                  <a:srgbClr val="2aa436"/>
                </a:solidFill>
                <a:latin typeface="Arial"/>
              </a:rPr>
              <a:t>m2</a:t>
            </a:r>
            <a:r>
              <a:rPr b="1" lang="pt-BR" sz="2000" spc="-1" strike="noStrike">
                <a:solidFill>
                  <a:srgbClr val="af67ff"/>
                </a:solidFill>
                <a:latin typeface="Arial"/>
              </a:rPr>
              <a:t>)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m4</a:t>
            </a:r>
            <a:r>
              <a:rPr b="1" lang="pt-BR" sz="2000" spc="-1" strike="noStrike">
                <a:solidFill>
                  <a:srgbClr val="af67ff"/>
                </a:solidFill>
                <a:latin typeface="Arial"/>
              </a:rPr>
              <a:t>=(</a:t>
            </a:r>
            <a:r>
              <a:rPr b="1" lang="pt-BR" sz="2000" spc="-1" strike="noStrike">
                <a:solidFill>
                  <a:srgbClr val="2aa436"/>
                </a:solidFill>
                <a:latin typeface="Arial"/>
              </a:rPr>
              <a:t>m2</a:t>
            </a:r>
            <a:r>
              <a:rPr b="1" lang="pt-BR" sz="2000" spc="-1" strike="noStrike">
                <a:solidFill>
                  <a:srgbClr val="af67ff"/>
                </a:solidFill>
                <a:latin typeface="Arial"/>
              </a:rPr>
              <a:t>+</a:t>
            </a:r>
            <a:r>
              <a:rPr b="1" lang="pt-BR" sz="2000" spc="-1" strike="noStrike">
                <a:solidFill>
                  <a:srgbClr val="2aa436"/>
                </a:solidFill>
                <a:latin typeface="Arial"/>
              </a:rPr>
              <a:t>m3</a:t>
            </a:r>
            <a:r>
              <a:rPr b="1" lang="pt-BR" sz="2000" spc="-1" strike="noStrike">
                <a:solidFill>
                  <a:srgbClr val="af67ff"/>
                </a:solidFill>
                <a:latin typeface="Arial"/>
              </a:rPr>
              <a:t>)/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32440" y="1449360"/>
            <a:ext cx="805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pontadores para funções:</a:t>
            </a: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 Método de New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074600" y="2247840"/>
            <a:ext cx="0" cy="3895920"/>
          </a:xfrm>
          <a:prstGeom prst="line">
            <a:avLst/>
          </a:prstGeom>
          <a:ln w="28440">
            <a:solidFill>
              <a:srgbClr val="af67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85640" y="4221000"/>
            <a:ext cx="7274160" cy="0"/>
          </a:xfrm>
          <a:prstGeom prst="line">
            <a:avLst/>
          </a:prstGeom>
          <a:ln w="28440">
            <a:solidFill>
              <a:srgbClr val="af67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768320" y="2523960"/>
            <a:ext cx="5780160" cy="2554560"/>
          </a:xfrm>
          <a:custGeom>
            <a:avLst/>
            <a:gdLst/>
            <a:ahLst/>
            <a:rect l="l" t="t" r="r" b="b"/>
            <a:pathLst>
              <a:path w="3641" h="1609">
                <a:moveTo>
                  <a:pt x="0" y="0"/>
                </a:moveTo>
                <a:cubicBezTo>
                  <a:pt x="89" y="19"/>
                  <a:pt x="179" y="39"/>
                  <a:pt x="272" y="77"/>
                </a:cubicBezTo>
                <a:cubicBezTo>
                  <a:pt x="365" y="115"/>
                  <a:pt x="471" y="166"/>
                  <a:pt x="556" y="229"/>
                </a:cubicBezTo>
                <a:cubicBezTo>
                  <a:pt x="641" y="292"/>
                  <a:pt x="711" y="387"/>
                  <a:pt x="785" y="458"/>
                </a:cubicBezTo>
                <a:cubicBezTo>
                  <a:pt x="859" y="529"/>
                  <a:pt x="932" y="593"/>
                  <a:pt x="1003" y="655"/>
                </a:cubicBezTo>
                <a:cubicBezTo>
                  <a:pt x="1074" y="717"/>
                  <a:pt x="1159" y="773"/>
                  <a:pt x="1210" y="829"/>
                </a:cubicBezTo>
                <a:cubicBezTo>
                  <a:pt x="1261" y="885"/>
                  <a:pt x="1278" y="951"/>
                  <a:pt x="1309" y="993"/>
                </a:cubicBezTo>
                <a:cubicBezTo>
                  <a:pt x="1340" y="1035"/>
                  <a:pt x="1343" y="1036"/>
                  <a:pt x="1396" y="1080"/>
                </a:cubicBezTo>
                <a:cubicBezTo>
                  <a:pt x="1449" y="1124"/>
                  <a:pt x="1538" y="1206"/>
                  <a:pt x="1625" y="1255"/>
                </a:cubicBezTo>
                <a:cubicBezTo>
                  <a:pt x="1712" y="1304"/>
                  <a:pt x="1796" y="1335"/>
                  <a:pt x="1920" y="1375"/>
                </a:cubicBezTo>
                <a:cubicBezTo>
                  <a:pt x="2044" y="1415"/>
                  <a:pt x="2249" y="1464"/>
                  <a:pt x="2367" y="1495"/>
                </a:cubicBezTo>
                <a:cubicBezTo>
                  <a:pt x="2485" y="1526"/>
                  <a:pt x="2505" y="1544"/>
                  <a:pt x="2629" y="1560"/>
                </a:cubicBezTo>
                <a:cubicBezTo>
                  <a:pt x="2753" y="1576"/>
                  <a:pt x="2955" y="1586"/>
                  <a:pt x="3109" y="1593"/>
                </a:cubicBezTo>
                <a:cubicBezTo>
                  <a:pt x="3263" y="1600"/>
                  <a:pt x="3471" y="1602"/>
                  <a:pt x="3556" y="1604"/>
                </a:cubicBezTo>
                <a:cubicBezTo>
                  <a:pt x="3641" y="1606"/>
                  <a:pt x="3616" y="1609"/>
                  <a:pt x="3621" y="1604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373480" y="2489040"/>
            <a:ext cx="0" cy="310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205760" y="410040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373480" y="4464000"/>
            <a:ext cx="4832280" cy="0"/>
          </a:xfrm>
          <a:prstGeom prst="line">
            <a:avLst/>
          </a:prstGeom>
          <a:ln w="9360">
            <a:solidFill>
              <a:srgbClr val="2aa4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954680" y="4048200"/>
            <a:ext cx="0" cy="147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V="1">
            <a:off x="3603600" y="3631680"/>
            <a:ext cx="0" cy="185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>
            <a:off x="2373480" y="4862520"/>
            <a:ext cx="2598480" cy="0"/>
          </a:xfrm>
          <a:prstGeom prst="line">
            <a:avLst/>
          </a:prstGeom>
          <a:ln w="9360">
            <a:solidFill>
              <a:srgbClr val="2aa4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638520" y="5138640"/>
            <a:ext cx="1316160" cy="0"/>
          </a:xfrm>
          <a:prstGeom prst="line">
            <a:avLst/>
          </a:prstGeom>
          <a:ln w="9360">
            <a:solidFill>
              <a:srgbClr val="2aa4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330800" y="4100400"/>
            <a:ext cx="0" cy="14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3638160" y="5346720"/>
            <a:ext cx="692280" cy="0"/>
          </a:xfrm>
          <a:prstGeom prst="line">
            <a:avLst/>
          </a:prstGeom>
          <a:ln w="9360">
            <a:solidFill>
              <a:srgbClr val="2aa43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949560" y="4221000"/>
            <a:ext cx="0" cy="206064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1280" y="2257920"/>
            <a:ext cx="27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f67ff"/>
                </a:solidFill>
                <a:latin typeface="Tahoma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753320" y="428220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af67ff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052720" y="3879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aa436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934320" y="389376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aa436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95360" y="390636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aa436"/>
                </a:solidFill>
                <a:latin typeface="Tahoma"/>
              </a:rPr>
              <a:t>m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39560" y="388584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aa436"/>
                </a:solidFill>
                <a:latin typeface="Tahoma"/>
              </a:rPr>
              <a:t>m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296960" y="38826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2aa436"/>
                </a:solidFill>
                <a:latin typeface="Tahoma"/>
              </a:rPr>
              <a:t>m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807720" y="3895200"/>
            <a:ext cx="4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Tahoma"/>
              </a:rPr>
              <a:t>m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508560" y="6287760"/>
            <a:ext cx="942480" cy="337320"/>
          </a:xfrm>
          <a:prstGeom prst="rect">
            <a:avLst/>
          </a:prstGeom>
          <a:solidFill>
            <a:srgbClr val="ff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af67ff"/>
                </a:solidFill>
                <a:latin typeface="Tahoma"/>
              </a:rPr>
              <a:t>f(</a:t>
            </a:r>
            <a:r>
              <a:rPr b="1" lang="pt-BR" sz="1600" spc="-1" strike="noStrike">
                <a:solidFill>
                  <a:srgbClr val="ff0000"/>
                </a:solidFill>
                <a:latin typeface="Tahoma"/>
              </a:rPr>
              <a:t>m4</a:t>
            </a:r>
            <a:r>
              <a:rPr b="1" lang="pt-BR" sz="1600" spc="-1" strike="noStrike">
                <a:solidFill>
                  <a:srgbClr val="af67ff"/>
                </a:solidFill>
                <a:latin typeface="Tahoma"/>
              </a:rPr>
              <a:t>)=</a:t>
            </a:r>
            <a:r>
              <a:rPr b="1" lang="pt-BR" sz="1600" spc="-1" strike="noStrike">
                <a:solidFill>
                  <a:srgbClr val="ff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77640" y="566064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af67ff"/>
                </a:solidFill>
                <a:latin typeface="Tahoma"/>
              </a:rPr>
              <a:t>f 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954480" y="527652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af67ff"/>
                </a:solidFill>
                <a:latin typeface="Tahoma"/>
              </a:rPr>
              <a:t>f 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749480" y="553356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af67ff"/>
                </a:solidFill>
                <a:latin typeface="Tahoma"/>
              </a:rPr>
              <a:t>f 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123800" y="545904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af67ff"/>
                </a:solidFill>
                <a:latin typeface="Tahoma"/>
              </a:rPr>
              <a:t>f &l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358800" y="5420880"/>
            <a:ext cx="54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af67ff"/>
                </a:solidFill>
                <a:latin typeface="Tahoma"/>
              </a:rPr>
              <a:t>f &gt;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022720" y="6308640"/>
            <a:ext cx="332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Vetores\Apontadores\Newton.vc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C881D-C3FF-47E7-8BC1-2AA18897B43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7C794-8347-41F4-973C-473700CA9AE0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fill="hold">
                      <p:stCondLst>
                        <p:cond delay="0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pont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tender o conceito de apontadores em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riáveis tipo apont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04C-7605-4DBA-B46E-9F3B0A7F652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15110F-8789-447A-A695-263B07FCD71B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Apontador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5AB71-7629-4D61-88CD-03E429DEED4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1DD90DB-6385-465C-A119-DF633F6CF8A5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pont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18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800" spc="-1" strike="noStrike">
                <a:solidFill>
                  <a:srgbClr val="000000"/>
                </a:solidFill>
                <a:latin typeface="Arial"/>
              </a:rPr>
              <a:t>Variáv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sz="2800" spc="-1" strike="noStrike">
                <a:solidFill>
                  <a:srgbClr val="000000"/>
                </a:solidFill>
                <a:latin typeface="Arial"/>
              </a:rPr>
              <a:t> que armazena</a:t>
            </a:r>
            <a:r>
              <a:rPr b="0" sz="2800" spc="-1" strike="noStrike">
                <a:solidFill>
                  <a:srgbClr val="af67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um</a:t>
            </a:r>
            <a:r>
              <a:rPr b="0" sz="2800" spc="-1" strike="noStrike">
                <a:solidFill>
                  <a:srgbClr val="af67ff"/>
                </a:solidFill>
                <a:latin typeface="Arial"/>
              </a:rPr>
              <a:t> </a:t>
            </a:r>
            <a:r>
              <a:rPr b="0" sz="2800" spc="-1" strike="noStrike">
                <a:solidFill>
                  <a:srgbClr val="ff0000"/>
                </a:solidFill>
                <a:latin typeface="Arial"/>
              </a:rPr>
              <a:t>endereço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ndereço de outra variável, de uma função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0920" y="1366920"/>
            <a:ext cx="21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ontad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305240" y="3698280"/>
            <a:ext cx="2057400" cy="819000"/>
            <a:chOff x="4305240" y="3698280"/>
            <a:chExt cx="2057400" cy="819000"/>
          </a:xfrm>
        </p:grpSpPr>
        <p:sp>
          <p:nvSpPr>
            <p:cNvPr id="111" name=""/>
            <p:cNvSpPr/>
            <p:nvPr/>
          </p:nvSpPr>
          <p:spPr>
            <a:xfrm>
              <a:off x="5064120" y="4091040"/>
              <a:ext cx="1298520" cy="398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Lucida Console"/>
                </a:rPr>
                <a:t>-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90080" y="36982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305240" y="4149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6093000" y="4846680"/>
            <a:ext cx="1315800" cy="765000"/>
          </a:xfrm>
          <a:custGeom>
            <a:avLst/>
            <a:gdLst/>
            <a:ahLst/>
            <a:rect l="l" t="t" r="r" b="b"/>
            <a:pathLst>
              <a:path w="829" h="482">
                <a:moveTo>
                  <a:pt x="0" y="0"/>
                </a:moveTo>
                <a:cubicBezTo>
                  <a:pt x="49" y="72"/>
                  <a:pt x="88" y="146"/>
                  <a:pt x="142" y="218"/>
                </a:cubicBezTo>
                <a:cubicBezTo>
                  <a:pt x="175" y="263"/>
                  <a:pt x="194" y="398"/>
                  <a:pt x="251" y="436"/>
                </a:cubicBezTo>
                <a:cubicBezTo>
                  <a:pt x="306" y="472"/>
                  <a:pt x="519" y="478"/>
                  <a:pt x="578" y="480"/>
                </a:cubicBezTo>
                <a:cubicBezTo>
                  <a:pt x="662" y="482"/>
                  <a:pt x="745" y="480"/>
                  <a:pt x="829" y="48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334880" y="3607560"/>
            <a:ext cx="1914840" cy="850320"/>
            <a:chOff x="1334880" y="3607560"/>
            <a:chExt cx="1914840" cy="850320"/>
          </a:xfrm>
        </p:grpSpPr>
        <p:sp>
          <p:nvSpPr>
            <p:cNvPr id="116" name=""/>
            <p:cNvSpPr/>
            <p:nvPr/>
          </p:nvSpPr>
          <p:spPr>
            <a:xfrm>
              <a:off x="1951200" y="4059360"/>
              <a:ext cx="1298520" cy="398520"/>
            </a:xfrm>
            <a:prstGeom prst="rect">
              <a:avLst/>
            </a:prstGeom>
            <a:solidFill>
              <a:srgbClr val="ffb5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334880" y="40633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413440" y="3607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2aa436"/>
                  </a:solidFill>
                  <a:latin typeface="Lucida Console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1604520" y="5345280"/>
            <a:ext cx="2567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Apontador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p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pt-BR" sz="1600" spc="-1" strike="noStrike">
                <a:solidFill>
                  <a:srgbClr val="009900"/>
                </a:solidFill>
                <a:latin typeface="Arial"/>
              </a:rPr>
              <a:t>endereç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100 com </a:t>
            </a:r>
            <a:r>
              <a:rPr b="0" lang="pt-BR" sz="1600" spc="-1" strike="noStrike">
                <a:solidFill>
                  <a:srgbClr val="cc0000"/>
                </a:solidFill>
                <a:latin typeface="Arial"/>
              </a:rPr>
              <a:t>conteú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66680" y="5408640"/>
            <a:ext cx="215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Inteir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x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pt-BR" sz="1600" spc="-1" strike="noStrike">
                <a:solidFill>
                  <a:srgbClr val="009900"/>
                </a:solidFill>
                <a:latin typeface="Arial"/>
              </a:rPr>
              <a:t>endereç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500 com </a:t>
            </a:r>
            <a:r>
              <a:rPr b="0" lang="pt-BR" sz="1600" spc="-1" strike="noStrike">
                <a:solidFill>
                  <a:srgbClr val="cc0000"/>
                </a:solidFill>
                <a:latin typeface="Arial"/>
              </a:rPr>
              <a:t>conteú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33080" y="405936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501640" y="4419720"/>
            <a:ext cx="3150000" cy="539640"/>
            <a:chOff x="2501640" y="4419720"/>
            <a:chExt cx="3150000" cy="539640"/>
          </a:xfrm>
        </p:grpSpPr>
        <p:sp>
          <p:nvSpPr>
            <p:cNvPr id="123" name=""/>
            <p:cNvSpPr/>
            <p:nvPr/>
          </p:nvSpPr>
          <p:spPr>
            <a:xfrm flipH="1">
              <a:off x="2501640" y="4959360"/>
              <a:ext cx="314964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02000" y="4419720"/>
              <a:ext cx="0" cy="5396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5651640" y="4508640"/>
              <a:ext cx="0" cy="45072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3381-A494-4D20-BE18-7EEDECB6D5F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4493E4-3B75-40E8-8EA4-8D0265B2DF94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pont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50920" y="4598640"/>
            <a:ext cx="8229600" cy="160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sz="28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1" sz="2800" spc="-1" strike="noStrike">
                <a:solidFill>
                  <a:srgbClr val="2aa436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é</a:t>
            </a:r>
            <a:r>
              <a:rPr b="1" sz="2800" spc="-1" strike="noStrike">
                <a:solidFill>
                  <a:srgbClr val="3333cc"/>
                </a:solidFill>
                <a:latin typeface="Arial"/>
              </a:rPr>
              <a:t> uma variável que</a:t>
            </a: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sz="2800" spc="-1" strike="noStrike">
                <a:solidFill>
                  <a:srgbClr val="3333cc"/>
                </a:solidFill>
                <a:latin typeface="Arial"/>
              </a:rPr>
              <a:t>cont</a:t>
            </a: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erá o</a:t>
            </a:r>
            <a:r>
              <a:rPr b="1" sz="2800" spc="-1" strike="noStrike">
                <a:solidFill>
                  <a:srgbClr val="fb5331"/>
                </a:solidFill>
                <a:latin typeface="Arial"/>
              </a:rPr>
              <a:t> endereço </a:t>
            </a:r>
            <a:r>
              <a:rPr b="1" sz="2800" spc="-1" strike="noStrike">
                <a:solidFill>
                  <a:srgbClr val="3333cc"/>
                </a:solidFill>
                <a:latin typeface="Arial"/>
              </a:rPr>
              <a:t>de</a:t>
            </a:r>
            <a:r>
              <a:rPr b="1" lang="pt-BR" sz="2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sz="2800" spc="-1" strike="noStrike">
                <a:solidFill>
                  <a:srgbClr val="3333cc"/>
                </a:solidFill>
                <a:latin typeface="Arial"/>
              </a:rPr>
              <a:t>variáveis cujo  tipo é</a:t>
            </a:r>
            <a:r>
              <a:rPr b="1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t</a:t>
            </a:r>
            <a:r>
              <a:rPr b="1" sz="2800" spc="-1" strike="noStrike">
                <a:solidFill>
                  <a:srgbClr val="000000"/>
                </a:solidFill>
                <a:latin typeface="Courier New"/>
              </a:rPr>
              <a:t>ipo</a:t>
            </a:r>
            <a:r>
              <a:rPr b="1" sz="2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99840" y="1359000"/>
            <a:ext cx="713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claração de variável tipo apontad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2209680"/>
            <a:ext cx="6781680" cy="18288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753560" y="2349360"/>
            <a:ext cx="2835000" cy="472680"/>
            <a:chOff x="1753560" y="2349360"/>
            <a:chExt cx="2835000" cy="472680"/>
          </a:xfrm>
        </p:grpSpPr>
        <p:sp>
          <p:nvSpPr>
            <p:cNvPr id="132" name=""/>
            <p:cNvSpPr/>
            <p:nvPr/>
          </p:nvSpPr>
          <p:spPr>
            <a:xfrm>
              <a:off x="1753560" y="23623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tip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820960" y="2362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Courier New"/>
                </a:rPr>
                <a:t>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93440" y="23493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nome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860400" y="2819160"/>
            <a:ext cx="1963800" cy="1129320"/>
            <a:chOff x="860400" y="2819160"/>
            <a:chExt cx="1963800" cy="1129320"/>
          </a:xfrm>
        </p:grpSpPr>
        <p:sp>
          <p:nvSpPr>
            <p:cNvPr id="136" name=""/>
            <p:cNvSpPr/>
            <p:nvPr/>
          </p:nvSpPr>
          <p:spPr>
            <a:xfrm>
              <a:off x="860400" y="3244680"/>
              <a:ext cx="196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Qualquer ti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da linguagem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7" name=""/>
            <p:cNvCxnSpPr>
              <a:stCxn id="132" idx="2"/>
              <a:endCxn id="136" idx="0"/>
            </p:cNvCxnSpPr>
            <p:nvPr/>
          </p:nvCxnSpPr>
          <p:spPr>
            <a:xfrm rot="5400000">
              <a:off x="1813320" y="2848680"/>
              <a:ext cx="425880" cy="367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138" name=""/>
          <p:cNvGrpSpPr/>
          <p:nvPr/>
        </p:nvGrpSpPr>
        <p:grpSpPr>
          <a:xfrm>
            <a:off x="3762360" y="2806200"/>
            <a:ext cx="1822320" cy="1147320"/>
            <a:chOff x="3762360" y="2806200"/>
            <a:chExt cx="1822320" cy="1147320"/>
          </a:xfrm>
        </p:grpSpPr>
        <p:sp>
          <p:nvSpPr>
            <p:cNvPr id="139" name=""/>
            <p:cNvSpPr/>
            <p:nvPr/>
          </p:nvSpPr>
          <p:spPr>
            <a:xfrm>
              <a:off x="3762360" y="3249720"/>
              <a:ext cx="182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Nome do apont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0" name=""/>
            <p:cNvCxnSpPr>
              <a:stCxn id="134" idx="2"/>
              <a:endCxn id="139" idx="0"/>
            </p:cNvCxnSpPr>
            <p:nvPr/>
          </p:nvCxnSpPr>
          <p:spPr>
            <a:xfrm flipH="1" rot="16200000">
              <a:off x="4134960" y="2711880"/>
              <a:ext cx="443880" cy="632520"/>
            </a:xfrm>
            <a:prstGeom prst="bentConnector3">
              <a:avLst>
                <a:gd name="adj1" fmla="val 49756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48B9-196F-41A2-87DC-4D2545DD72D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2678E4-9D71-4F91-96E0-5B4A523D1EF7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pont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80880" y="2133720"/>
            <a:ext cx="8229600" cy="11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aa436"/>
                </a:solidFill>
                <a:latin typeface="Lucida Console"/>
              </a:rPr>
              <a:t>float  x=-1.0, y=10.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aa436"/>
                </a:solidFill>
                <a:latin typeface="Lucida Console"/>
              </a:rPr>
              <a:t>float  </a:t>
            </a:r>
            <a:r>
              <a:rPr b="1" sz="1800" spc="-1" strike="noStrike">
                <a:solidFill>
                  <a:srgbClr val="ff0000"/>
                </a:solidFill>
                <a:latin typeface="Lucida Console"/>
              </a:rPr>
              <a:t>*</a:t>
            </a:r>
            <a:r>
              <a:rPr b="1" sz="1800" spc="-1" strike="noStrike">
                <a:solidFill>
                  <a:srgbClr val="2aa436"/>
                </a:solidFill>
                <a:latin typeface="Lucida Console"/>
              </a:rPr>
              <a:t>p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aa436"/>
                </a:solidFill>
                <a:latin typeface="Lucida Console"/>
              </a:rPr>
              <a:t>p = </a:t>
            </a:r>
            <a:r>
              <a:rPr b="1" sz="1800" spc="-1" strike="noStrike">
                <a:solidFill>
                  <a:srgbClr val="fb5331"/>
                </a:solidFill>
                <a:latin typeface="Lucida Console"/>
              </a:rPr>
              <a:t>&amp;</a:t>
            </a:r>
            <a:r>
              <a:rPr b="1" sz="1800" spc="-1" strike="noStrike">
                <a:solidFill>
                  <a:srgbClr val="00b283"/>
                </a:solidFill>
                <a:latin typeface="Lucida Console"/>
              </a:rPr>
              <a:t>x</a:t>
            </a:r>
            <a:r>
              <a:rPr b="1" sz="1800" spc="-1" strike="noStrike">
                <a:solidFill>
                  <a:srgbClr val="2aa436"/>
                </a:solidFill>
                <a:latin typeface="Lucida Console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7480" y="1371600"/>
            <a:ext cx="291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Arial"/>
              </a:rPr>
              <a:t>Operador </a:t>
            </a:r>
            <a:r>
              <a:rPr b="1" sz="3600" spc="-1" strike="noStrike">
                <a:solidFill>
                  <a:srgbClr val="00b283"/>
                </a:solidFill>
                <a:latin typeface="Lucida Console"/>
              </a:rPr>
              <a:t>&amp;</a:t>
            </a:r>
            <a:r>
              <a:rPr b="1" lang="pt-BR" sz="3600" spc="-1" strike="noStrike">
                <a:solidFill>
                  <a:srgbClr val="3333cc"/>
                </a:solidFill>
                <a:latin typeface="Lucida Console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602360" y="3210840"/>
            <a:ext cx="2017080" cy="2710440"/>
            <a:chOff x="1602360" y="3210840"/>
            <a:chExt cx="2017080" cy="2710440"/>
          </a:xfrm>
        </p:grpSpPr>
        <p:sp>
          <p:nvSpPr>
            <p:cNvPr id="146" name=""/>
            <p:cNvSpPr/>
            <p:nvPr/>
          </p:nvSpPr>
          <p:spPr>
            <a:xfrm>
              <a:off x="2287440" y="3602160"/>
              <a:ext cx="1298880" cy="398520"/>
            </a:xfrm>
            <a:prstGeom prst="rect">
              <a:avLst/>
            </a:prstGeom>
            <a:solidFill>
              <a:srgbClr val="ffb5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ff0000"/>
                  </a:solidFill>
                  <a:latin typeface="Lucida Console"/>
                </a:rPr>
                <a:t>???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284560" y="5522760"/>
              <a:ext cx="1298520" cy="398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Lucida Console"/>
                </a:rPr>
                <a:t>-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298600" y="4583160"/>
              <a:ext cx="1298520" cy="398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Lucida Console"/>
                </a:rPr>
                <a:t>10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15200" y="32108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10520" y="51300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754720" y="41396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671480" y="36061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04960" y="55476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602360" y="46076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03640" y="4902120"/>
              <a:ext cx="1315800" cy="765360"/>
            </a:xfrm>
            <a:custGeom>
              <a:avLst/>
              <a:gdLst/>
              <a:ahLst/>
              <a:rect l="l" t="t" r="r" b="b"/>
              <a:pathLst>
                <a:path w="829" h="482">
                  <a:moveTo>
                    <a:pt x="0" y="0"/>
                  </a:moveTo>
                  <a:cubicBezTo>
                    <a:pt x="49" y="72"/>
                    <a:pt x="88" y="146"/>
                    <a:pt x="142" y="218"/>
                  </a:cubicBezTo>
                  <a:cubicBezTo>
                    <a:pt x="175" y="263"/>
                    <a:pt x="194" y="398"/>
                    <a:pt x="251" y="436"/>
                  </a:cubicBezTo>
                  <a:cubicBezTo>
                    <a:pt x="306" y="472"/>
                    <a:pt x="519" y="478"/>
                    <a:pt x="578" y="480"/>
                  </a:cubicBezTo>
                  <a:cubicBezTo>
                    <a:pt x="662" y="482"/>
                    <a:pt x="745" y="480"/>
                    <a:pt x="829" y="48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5391720" y="3546360"/>
            <a:ext cx="2626920" cy="2319480"/>
            <a:chOff x="5391720" y="3546360"/>
            <a:chExt cx="2626920" cy="2319480"/>
          </a:xfrm>
        </p:grpSpPr>
        <p:sp>
          <p:nvSpPr>
            <p:cNvPr id="157" name=""/>
            <p:cNvSpPr/>
            <p:nvPr/>
          </p:nvSpPr>
          <p:spPr>
            <a:xfrm>
              <a:off x="6076800" y="3546360"/>
              <a:ext cx="1298880" cy="398520"/>
            </a:xfrm>
            <a:prstGeom prst="rect">
              <a:avLst/>
            </a:prstGeom>
            <a:solidFill>
              <a:srgbClr val="ffb5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ff0000"/>
                  </a:solidFill>
                  <a:latin typeface="Lucida Console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073920" y="5467320"/>
              <a:ext cx="1298520" cy="398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Lucida Console"/>
                </a:rPr>
                <a:t>-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87960" y="4527720"/>
              <a:ext cx="1298520" cy="39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Lucida Console"/>
                </a:rPr>
                <a:t>10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599880" y="5074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44080" y="40838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60840" y="35506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94320" y="54921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91720" y="455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93000" y="4846680"/>
              <a:ext cx="1315800" cy="765000"/>
            </a:xfrm>
            <a:custGeom>
              <a:avLst/>
              <a:gdLst/>
              <a:ahLst/>
              <a:rect l="l" t="t" r="r" b="b"/>
              <a:pathLst>
                <a:path w="829" h="482">
                  <a:moveTo>
                    <a:pt x="0" y="0"/>
                  </a:moveTo>
                  <a:cubicBezTo>
                    <a:pt x="49" y="72"/>
                    <a:pt x="88" y="146"/>
                    <a:pt x="142" y="218"/>
                  </a:cubicBezTo>
                  <a:cubicBezTo>
                    <a:pt x="175" y="263"/>
                    <a:pt x="194" y="398"/>
                    <a:pt x="251" y="436"/>
                  </a:cubicBezTo>
                  <a:cubicBezTo>
                    <a:pt x="306" y="472"/>
                    <a:pt x="519" y="478"/>
                    <a:pt x="578" y="480"/>
                  </a:cubicBezTo>
                  <a:cubicBezTo>
                    <a:pt x="662" y="482"/>
                    <a:pt x="745" y="480"/>
                    <a:pt x="829" y="48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66080" y="3722760"/>
              <a:ext cx="952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018640" y="3722760"/>
              <a:ext cx="0" cy="19396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7376760" y="5645160"/>
              <a:ext cx="6238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4035600" y="3925800"/>
            <a:ext cx="1194480" cy="924120"/>
            <a:chOff x="4035600" y="3925800"/>
            <a:chExt cx="1194480" cy="924120"/>
          </a:xfrm>
        </p:grpSpPr>
        <p:sp>
          <p:nvSpPr>
            <p:cNvPr id="170" name=""/>
            <p:cNvSpPr/>
            <p:nvPr/>
          </p:nvSpPr>
          <p:spPr>
            <a:xfrm>
              <a:off x="4035600" y="4502160"/>
              <a:ext cx="1166760" cy="347760"/>
            </a:xfrm>
            <a:prstGeom prst="rightArrow">
              <a:avLst>
                <a:gd name="adj1" fmla="val 50000"/>
                <a:gd name="adj2" fmla="val 8387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176000" y="3925800"/>
              <a:ext cx="105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p = &amp;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3588120" y="1530360"/>
            <a:ext cx="448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r</a:t>
            </a:r>
            <a:r>
              <a:rPr b="1" sz="2200" spc="-1" strike="noStrike">
                <a:solidFill>
                  <a:srgbClr val="3333cc"/>
                </a:solidFill>
                <a:latin typeface="Arial"/>
              </a:rPr>
              <a:t>etorna </a:t>
            </a:r>
            <a:r>
              <a:rPr b="1" lang="pt-BR" sz="2200" spc="-1" strike="noStrike">
                <a:solidFill>
                  <a:srgbClr val="3333cc"/>
                </a:solidFill>
                <a:latin typeface="Arial"/>
              </a:rPr>
              <a:t>o </a:t>
            </a:r>
            <a:r>
              <a:rPr b="1" sz="2200" spc="-1" strike="noStrike">
                <a:solidFill>
                  <a:srgbClr val="ff0000"/>
                </a:solidFill>
                <a:latin typeface="Arial"/>
              </a:rPr>
              <a:t>endereço</a:t>
            </a:r>
            <a:r>
              <a:rPr b="1" sz="2200" spc="-1" strike="noStrike">
                <a:solidFill>
                  <a:srgbClr val="3333cc"/>
                </a:solidFill>
                <a:latin typeface="Arial"/>
              </a:rPr>
              <a:t> do operan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483800" y="6219720"/>
            <a:ext cx="375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Vetores\Apontadores\PegaEnder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EA7D-B3BE-4016-8627-B3467D3B9C3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215814-18FA-4FCE-8210-400718E4B5CC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pont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aa436"/>
                </a:solidFill>
                <a:latin typeface="Lucida Console"/>
              </a:rPr>
              <a:t>float  x=-1.0, y=10.0; </a:t>
            </a:r>
            <a:r>
              <a:rPr b="1" lang="pt-BR" sz="1800" spc="-1" strike="noStrike">
                <a:solidFill>
                  <a:srgbClr val="2aa436"/>
                </a:solidFill>
                <a:latin typeface="Lucida Console"/>
              </a:rPr>
              <a:t>float </a:t>
            </a:r>
            <a:r>
              <a:rPr b="1" lang="pt-BR" sz="1800" spc="-1" strike="noStrike">
                <a:solidFill>
                  <a:srgbClr val="ff0000"/>
                </a:solidFill>
                <a:latin typeface="Lucida Console"/>
              </a:rPr>
              <a:t>*</a:t>
            </a:r>
            <a:r>
              <a:rPr b="1" sz="1800" spc="-1" strike="noStrike">
                <a:solidFill>
                  <a:srgbClr val="2aa436"/>
                </a:solidFill>
                <a:latin typeface="Lucida Console"/>
              </a:rPr>
              <a:t>p = </a:t>
            </a:r>
            <a:r>
              <a:rPr b="1" sz="1800" spc="-1" strike="noStrike">
                <a:solidFill>
                  <a:srgbClr val="ff0000"/>
                </a:solidFill>
                <a:latin typeface="Lucida Console"/>
              </a:rPr>
              <a:t>&amp;</a:t>
            </a:r>
            <a:r>
              <a:rPr b="1" sz="1800" spc="-1" strike="noStrike">
                <a:solidFill>
                  <a:srgbClr val="2aa436"/>
                </a:solidFill>
                <a:latin typeface="Lucida Console"/>
              </a:rPr>
              <a:t>x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aa436"/>
                </a:solidFill>
                <a:latin typeface="Lucida Console"/>
              </a:rPr>
              <a:t>y = (</a:t>
            </a:r>
            <a:r>
              <a:rPr b="1" sz="1800" spc="-1" strike="noStrike">
                <a:solidFill>
                  <a:srgbClr val="fb5331"/>
                </a:solidFill>
                <a:latin typeface="Lucida Console"/>
              </a:rPr>
              <a:t>* </a:t>
            </a:r>
            <a:r>
              <a:rPr b="1" sz="1800" spc="-1" strike="noStrike">
                <a:solidFill>
                  <a:srgbClr val="2aa436"/>
                </a:solidFill>
                <a:latin typeface="Lucida Console"/>
              </a:rPr>
              <a:t>p) + 5.0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2360" y="1262160"/>
            <a:ext cx="31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Arial"/>
              </a:rPr>
              <a:t>Operador</a:t>
            </a:r>
            <a:r>
              <a:rPr b="1" lang="pt-B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sz="3600" spc="-1" strike="noStrike">
                <a:solidFill>
                  <a:srgbClr val="00b283"/>
                </a:solidFill>
                <a:latin typeface="Lucida Console"/>
              </a:rPr>
              <a:t>*</a:t>
            </a:r>
            <a:r>
              <a:rPr b="1" lang="pt-BR" sz="3600" spc="-1" strike="noStrike">
                <a:solidFill>
                  <a:srgbClr val="3333cc"/>
                </a:solidFill>
                <a:latin typeface="Lucida Console"/>
              </a:rPr>
              <a:t>:</a:t>
            </a:r>
            <a:r>
              <a:rPr b="1" lang="pt-BR" sz="3600" spc="-1" strike="noStrike">
                <a:solidFill>
                  <a:srgbClr val="00b283"/>
                </a:solidFill>
                <a:latin typeface="Lucida Console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1447920"/>
            <a:ext cx="529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no </a:t>
            </a:r>
            <a:r>
              <a:rPr b="1" sz="2000" spc="-1" strike="noStrike">
                <a:solidFill>
                  <a:srgbClr val="3333cc"/>
                </a:solidFill>
                <a:latin typeface="Arial"/>
              </a:rPr>
              <a:t>lado direito: retorna o conteúdo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d</a:t>
            </a:r>
            <a:r>
              <a:rPr b="1" sz="2000" spc="-1" strike="noStrike">
                <a:solidFill>
                  <a:srgbClr val="3333cc"/>
                </a:solidFill>
                <a:latin typeface="Arial"/>
              </a:rPr>
              <a:t>o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3333cc"/>
                </a:solidFill>
                <a:latin typeface="Arial"/>
              </a:rPr>
              <a:t>endereço apontado (um</a:t>
            </a:r>
            <a:r>
              <a:rPr b="1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fb5331"/>
                </a:solidFill>
                <a:latin typeface="Arial"/>
              </a:rPr>
              <a:t>valor</a:t>
            </a:r>
            <a:r>
              <a:rPr b="1" sz="2000" spc="-1" strike="noStrike">
                <a:solidFill>
                  <a:srgbClr val="3333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095840" y="3155400"/>
            <a:ext cx="2626920" cy="2710440"/>
            <a:chOff x="1095840" y="3155400"/>
            <a:chExt cx="2626920" cy="2710440"/>
          </a:xfrm>
        </p:grpSpPr>
        <p:sp>
          <p:nvSpPr>
            <p:cNvPr id="180" name=""/>
            <p:cNvSpPr/>
            <p:nvPr/>
          </p:nvSpPr>
          <p:spPr>
            <a:xfrm>
              <a:off x="1781280" y="3546360"/>
              <a:ext cx="1298520" cy="398520"/>
            </a:xfrm>
            <a:prstGeom prst="rect">
              <a:avLst/>
            </a:prstGeom>
            <a:solidFill>
              <a:srgbClr val="ffb5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Lucida Console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778040" y="5467320"/>
              <a:ext cx="1298520" cy="398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Lucida Console"/>
                </a:rPr>
                <a:t>-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792440" y="4527720"/>
              <a:ext cx="1298520" cy="39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Lucida Console"/>
                </a:rPr>
                <a:t>10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8680" y="31554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4000" y="5074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248560" y="40838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64960" y="35506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98440" y="54921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95840" y="455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770200" y="372276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722760" y="3722760"/>
              <a:ext cx="0" cy="19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080880" y="5645160"/>
              <a:ext cx="6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629680" y="3064680"/>
            <a:ext cx="2626920" cy="2710800"/>
            <a:chOff x="5629680" y="3064680"/>
            <a:chExt cx="2626920" cy="2710800"/>
          </a:xfrm>
        </p:grpSpPr>
        <p:sp>
          <p:nvSpPr>
            <p:cNvPr id="193" name=""/>
            <p:cNvSpPr/>
            <p:nvPr/>
          </p:nvSpPr>
          <p:spPr>
            <a:xfrm>
              <a:off x="6315120" y="3456000"/>
              <a:ext cx="1298520" cy="398520"/>
            </a:xfrm>
            <a:prstGeom prst="rect">
              <a:avLst/>
            </a:prstGeom>
            <a:solidFill>
              <a:srgbClr val="ffb5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Lucida Console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311880" y="5376960"/>
              <a:ext cx="1298520" cy="398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Lucida Console"/>
                </a:rPr>
                <a:t>-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6280" y="4437000"/>
              <a:ext cx="1298520" cy="398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ff0000"/>
                  </a:solidFill>
                  <a:latin typeface="Lucida Console"/>
                </a:rPr>
                <a:t>4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42520" y="30646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37840" y="49842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82400" y="399348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699160" y="34599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732280" y="540144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629680" y="446184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304040" y="363204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256600" y="3632040"/>
              <a:ext cx="0" cy="1940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614720" y="5554800"/>
              <a:ext cx="6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943800" y="4125960"/>
            <a:ext cx="1442520" cy="723960"/>
            <a:chOff x="3943800" y="4125960"/>
            <a:chExt cx="1442520" cy="723960"/>
          </a:xfrm>
        </p:grpSpPr>
        <p:sp>
          <p:nvSpPr>
            <p:cNvPr id="206" name=""/>
            <p:cNvSpPr/>
            <p:nvPr/>
          </p:nvSpPr>
          <p:spPr>
            <a:xfrm>
              <a:off x="4035600" y="4502160"/>
              <a:ext cx="1166760" cy="347760"/>
            </a:xfrm>
            <a:prstGeom prst="rightArrow">
              <a:avLst>
                <a:gd name="adj1" fmla="val 50000"/>
                <a:gd name="adj2" fmla="val 8387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43800" y="4125960"/>
              <a:ext cx="1442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y=(*p)+5.0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EC95-2E9A-49C8-8AA0-A00E3A8C266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DB17CE-D04E-472B-8500-B1ACA2D4EF79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pont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259000"/>
            <a:ext cx="822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2aa436"/>
                </a:solidFill>
                <a:latin typeface="Arial"/>
              </a:rPr>
              <a:t>float  x=-1.0, y=10.0; </a:t>
            </a:r>
            <a:r>
              <a:rPr b="1" lang="pt-BR" sz="2000" spc="-1" strike="noStrike">
                <a:solidFill>
                  <a:srgbClr val="2aa436"/>
                </a:solidFill>
                <a:latin typeface="Arial"/>
              </a:rPr>
              <a:t>float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1" sz="2000" spc="-1" strike="noStrike">
                <a:solidFill>
                  <a:srgbClr val="2aa436"/>
                </a:solidFill>
                <a:latin typeface="Arial"/>
              </a:rPr>
              <a:t>p=</a:t>
            </a:r>
            <a:r>
              <a:rPr b="1" sz="2000" spc="-1" strike="noStrike">
                <a:solidFill>
                  <a:srgbClr val="ff0000"/>
                </a:solidFill>
                <a:latin typeface="Arial"/>
              </a:rPr>
              <a:t>&amp;</a:t>
            </a:r>
            <a:r>
              <a:rPr b="1" sz="2000" spc="-1" strike="noStrike">
                <a:solidFill>
                  <a:srgbClr val="2aa436"/>
                </a:solidFill>
                <a:latin typeface="Arial"/>
              </a:rPr>
              <a:t>x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2aa436"/>
                </a:solidFill>
                <a:latin typeface="Arial"/>
              </a:rPr>
              <a:t>(</a:t>
            </a:r>
            <a:r>
              <a:rPr b="1" sz="2000" spc="-1" strike="noStrike">
                <a:solidFill>
                  <a:srgbClr val="fb5331"/>
                </a:solidFill>
                <a:latin typeface="Arial"/>
              </a:rPr>
              <a:t>*</a:t>
            </a:r>
            <a:r>
              <a:rPr b="1" sz="2000" spc="-1" strike="noStrike">
                <a:solidFill>
                  <a:srgbClr val="2aa436"/>
                </a:solidFill>
                <a:latin typeface="Arial"/>
              </a:rPr>
              <a:t>p) = y -</a:t>
            </a:r>
            <a:r>
              <a:rPr b="1" lang="pt-BR" sz="2000" spc="-1" strike="noStrike">
                <a:solidFill>
                  <a:srgbClr val="2aa436"/>
                </a:solidFill>
                <a:latin typeface="Arial"/>
              </a:rPr>
              <a:t> </a:t>
            </a:r>
            <a:r>
              <a:rPr b="1" sz="2000" spc="-1" strike="noStrike">
                <a:solidFill>
                  <a:srgbClr val="2aa436"/>
                </a:solidFill>
                <a:latin typeface="Arial"/>
              </a:rPr>
              <a:t>5.0</a:t>
            </a:r>
            <a:r>
              <a:rPr b="1" lang="pt-BR" sz="2000" spc="-1" strike="noStrike">
                <a:solidFill>
                  <a:srgbClr val="2aa436"/>
                </a:solidFill>
                <a:latin typeface="Arial"/>
              </a:rPr>
              <a:t>f</a:t>
            </a:r>
            <a:r>
              <a:rPr b="1" sz="2000" spc="-1" strike="noStrike">
                <a:solidFill>
                  <a:srgbClr val="2aa436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378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3080" y="1300320"/>
            <a:ext cx="269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Arial"/>
              </a:rPr>
              <a:t>Operador</a:t>
            </a:r>
            <a:r>
              <a:rPr b="1" lang="pt-BR" sz="36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sz="3600" spc="-1" strike="noStrike">
                <a:solidFill>
                  <a:srgbClr val="00b283"/>
                </a:solidFill>
                <a:latin typeface="Arial"/>
              </a:rPr>
              <a:t>*</a:t>
            </a:r>
            <a:r>
              <a:rPr b="1" lang="pt-BR" sz="36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79840" y="1378080"/>
            <a:ext cx="564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3333cc"/>
                </a:solidFill>
                <a:latin typeface="Arial"/>
              </a:rPr>
              <a:t>lado esquerdo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,</a:t>
            </a:r>
            <a:r>
              <a:rPr b="1" sz="2000" spc="-1" strike="noStrike">
                <a:solidFill>
                  <a:srgbClr val="3333cc"/>
                </a:solidFill>
                <a:latin typeface="Arial"/>
              </a:rPr>
              <a:t> retorna o</a:t>
            </a:r>
            <a:r>
              <a:rPr b="1" sz="2000" spc="-1" strike="noStrike">
                <a:solidFill>
                  <a:srgbClr val="af67ff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endereç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cc0000"/>
                </a:solidFill>
                <a:latin typeface="Arial"/>
              </a:rPr>
              <a:t>de memória </a:t>
            </a:r>
            <a:r>
              <a:rPr b="1" lang="pt-BR" sz="2000" spc="-1" strike="noStrike">
                <a:solidFill>
                  <a:srgbClr val="3333cc"/>
                </a:solidFill>
                <a:latin typeface="Arial"/>
              </a:rPr>
              <a:t>apont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095840" y="3155400"/>
            <a:ext cx="2626920" cy="2710440"/>
            <a:chOff x="1095840" y="3155400"/>
            <a:chExt cx="2626920" cy="2710440"/>
          </a:xfrm>
        </p:grpSpPr>
        <p:sp>
          <p:nvSpPr>
            <p:cNvPr id="215" name=""/>
            <p:cNvSpPr/>
            <p:nvPr/>
          </p:nvSpPr>
          <p:spPr>
            <a:xfrm>
              <a:off x="1781280" y="3546360"/>
              <a:ext cx="1298520" cy="398520"/>
            </a:xfrm>
            <a:prstGeom prst="rect">
              <a:avLst/>
            </a:prstGeom>
            <a:solidFill>
              <a:srgbClr val="ffb5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Lucida Console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778040" y="5467320"/>
              <a:ext cx="1298520" cy="398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Lucida Console"/>
                </a:rPr>
                <a:t>-1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92440" y="4527720"/>
              <a:ext cx="1298520" cy="39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Lucida Console"/>
                </a:rPr>
                <a:t>10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08680" y="31554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304000" y="5074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48560" y="40838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164960" y="35506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198440" y="54921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5840" y="455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770200" y="372276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722760" y="3722760"/>
              <a:ext cx="0" cy="19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080880" y="5645160"/>
              <a:ext cx="6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5391720" y="3155400"/>
            <a:ext cx="2626920" cy="2710440"/>
            <a:chOff x="5391720" y="3155400"/>
            <a:chExt cx="2626920" cy="2710440"/>
          </a:xfrm>
        </p:grpSpPr>
        <p:sp>
          <p:nvSpPr>
            <p:cNvPr id="228" name=""/>
            <p:cNvSpPr/>
            <p:nvPr/>
          </p:nvSpPr>
          <p:spPr>
            <a:xfrm>
              <a:off x="6076800" y="3546360"/>
              <a:ext cx="1298880" cy="398520"/>
            </a:xfrm>
            <a:prstGeom prst="rect">
              <a:avLst/>
            </a:prstGeom>
            <a:solidFill>
              <a:srgbClr val="ffb5a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Lucida Console"/>
                </a:rPr>
                <a:t>5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73920" y="5467320"/>
              <a:ext cx="1298520" cy="398520"/>
            </a:xfrm>
            <a:prstGeom prst="rect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2000" spc="-1" strike="noStrike">
                  <a:solidFill>
                    <a:srgbClr val="ff0000"/>
                  </a:solidFill>
                  <a:latin typeface="Lucida Console"/>
                </a:rPr>
                <a:t>5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87960" y="4527720"/>
              <a:ext cx="1298520" cy="39816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600" spc="-1" strike="noStrike">
                  <a:solidFill>
                    <a:srgbClr val="000000"/>
                  </a:solidFill>
                  <a:latin typeface="Lucida Console"/>
                </a:rPr>
                <a:t>10.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04560" y="315540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599880" y="507456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544080" y="4083840"/>
              <a:ext cx="31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460840" y="355068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494320" y="549216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391720" y="455220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sz="1800" spc="-1" strike="noStrike">
                  <a:solidFill>
                    <a:srgbClr val="2aa436"/>
                  </a:solidFill>
                  <a:latin typeface="Lucida Console"/>
                </a:rPr>
                <a:t>1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093000" y="4846680"/>
              <a:ext cx="1315800" cy="765000"/>
            </a:xfrm>
            <a:custGeom>
              <a:avLst/>
              <a:gdLst/>
              <a:ahLst/>
              <a:rect l="l" t="t" r="r" b="b"/>
              <a:pathLst>
                <a:path w="829" h="482">
                  <a:moveTo>
                    <a:pt x="0" y="0"/>
                  </a:moveTo>
                  <a:cubicBezTo>
                    <a:pt x="49" y="72"/>
                    <a:pt x="88" y="146"/>
                    <a:pt x="142" y="218"/>
                  </a:cubicBezTo>
                  <a:cubicBezTo>
                    <a:pt x="175" y="263"/>
                    <a:pt x="194" y="398"/>
                    <a:pt x="251" y="436"/>
                  </a:cubicBezTo>
                  <a:cubicBezTo>
                    <a:pt x="306" y="472"/>
                    <a:pt x="519" y="478"/>
                    <a:pt x="578" y="480"/>
                  </a:cubicBezTo>
                  <a:cubicBezTo>
                    <a:pt x="662" y="482"/>
                    <a:pt x="745" y="480"/>
                    <a:pt x="829" y="48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66080" y="3722760"/>
              <a:ext cx="9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018640" y="3722760"/>
              <a:ext cx="0" cy="19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376760" y="5645160"/>
              <a:ext cx="623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3937680" y="4035600"/>
            <a:ext cx="1308600" cy="814320"/>
            <a:chOff x="3937680" y="4035600"/>
            <a:chExt cx="1308600" cy="814320"/>
          </a:xfrm>
        </p:grpSpPr>
        <p:sp>
          <p:nvSpPr>
            <p:cNvPr id="242" name=""/>
            <p:cNvSpPr/>
            <p:nvPr/>
          </p:nvSpPr>
          <p:spPr>
            <a:xfrm>
              <a:off x="4035600" y="4502160"/>
              <a:ext cx="1166760" cy="347760"/>
            </a:xfrm>
            <a:prstGeom prst="rightArrow">
              <a:avLst>
                <a:gd name="adj1" fmla="val 50000"/>
                <a:gd name="adj2" fmla="val 8387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937680" y="4035600"/>
              <a:ext cx="130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(*p)=y-5.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5370840" y="6308640"/>
            <a:ext cx="349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Vetores\Apontadores\OpApontador.vc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97C3-D41D-4981-AE19-72664246E11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CB0D1-C4E7-480B-80BF-E4FC231AC56D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pont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19120" y="1378080"/>
            <a:ext cx="810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Declarações complexas usando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2aa436"/>
                </a:solidFill>
                <a:latin typeface="Arial"/>
              </a:rPr>
              <a:t>[ ]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t-BR" sz="3200" spc="-1" strike="noStrike">
                <a:solidFill>
                  <a:srgbClr val="af67ff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2aa436"/>
                </a:solidFill>
                <a:latin typeface="Arial"/>
              </a:rPr>
              <a:t>( )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pt-BR" sz="3200" spc="-1" strike="noStrike">
                <a:solidFill>
                  <a:srgbClr val="2aa436"/>
                </a:solidFill>
                <a:latin typeface="Arial"/>
              </a:rPr>
              <a:t> 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2057040"/>
            <a:ext cx="2584440" cy="5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Precedências: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2112840" y="2719080"/>
            <a:ext cx="3516120" cy="901800"/>
            <a:chOff x="2112840" y="2719080"/>
            <a:chExt cx="3516120" cy="901800"/>
          </a:xfrm>
        </p:grpSpPr>
        <p:sp>
          <p:nvSpPr>
            <p:cNvPr id="250" name=""/>
            <p:cNvSpPr/>
            <p:nvPr/>
          </p:nvSpPr>
          <p:spPr>
            <a:xfrm>
              <a:off x="2119320" y="2719080"/>
              <a:ext cx="3469680" cy="90180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Tahoma"/>
                </a:rPr>
                <a:t>1       </a:t>
              </a:r>
              <a:r>
                <a:rPr b="1" lang="pt-BR" sz="2400" spc="-1" strike="noStrike">
                  <a:solidFill>
                    <a:srgbClr val="ff0000"/>
                  </a:solidFill>
                  <a:latin typeface="Lucida Console"/>
                </a:rPr>
                <a:t> </a:t>
              </a:r>
              <a:r>
                <a:rPr b="1" lang="pt-BR" sz="2400" spc="-1" strike="noStrike">
                  <a:solidFill>
                    <a:srgbClr val="2aa436"/>
                  </a:solidFill>
                  <a:latin typeface="Lucida Console"/>
                </a:rPr>
                <a:t>[  ]</a:t>
              </a:r>
              <a:r>
                <a:rPr b="1" lang="pt-BR" sz="2400" spc="-1" strike="noStrike">
                  <a:solidFill>
                    <a:srgbClr val="ff0000"/>
                  </a:solidFill>
                  <a:latin typeface="Lucida Console"/>
                </a:rPr>
                <a:t>  </a:t>
              </a:r>
              <a:r>
                <a:rPr b="1" lang="pt-BR" sz="2400" spc="-1" strike="noStrike">
                  <a:solidFill>
                    <a:srgbClr val="af67ff"/>
                  </a:solidFill>
                  <a:latin typeface="Lucida Console"/>
                </a:rPr>
                <a:t>,</a:t>
              </a:r>
              <a:r>
                <a:rPr b="1" lang="pt-BR" sz="2400" spc="-1" strike="noStrike">
                  <a:solidFill>
                    <a:srgbClr val="ff0000"/>
                  </a:solidFill>
                  <a:latin typeface="Lucida Console"/>
                </a:rPr>
                <a:t> </a:t>
              </a:r>
              <a:r>
                <a:rPr b="1" lang="pt-BR" sz="2400" spc="-1" strike="noStrike">
                  <a:solidFill>
                    <a:srgbClr val="2aa436"/>
                  </a:solidFill>
                  <a:latin typeface="Lucida Console"/>
                </a:rPr>
                <a:t> ( 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Tahoma"/>
                </a:rPr>
                <a:t>2      </a:t>
              </a:r>
              <a:r>
                <a:rPr b="1" lang="pt-BR" sz="2400" spc="-1" strike="noStrike">
                  <a:solidFill>
                    <a:srgbClr val="ff0000"/>
                  </a:solidFill>
                  <a:latin typeface="Lucida Console"/>
                </a:rPr>
                <a:t> </a:t>
              </a:r>
              <a:r>
                <a:rPr b="1" lang="pt-BR" sz="2400" spc="-1" strike="noStrike">
                  <a:solidFill>
                    <a:srgbClr val="2aa436"/>
                  </a:solidFill>
                  <a:latin typeface="Lucida Console"/>
                </a:rPr>
                <a:t> *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112840" y="3186000"/>
              <a:ext cx="35161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666880" y="2787480"/>
              <a:ext cx="0" cy="797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1962000" y="4338000"/>
            <a:ext cx="4986360" cy="1343880"/>
            <a:chOff x="1962000" y="4338000"/>
            <a:chExt cx="4986360" cy="1343880"/>
          </a:xfrm>
        </p:grpSpPr>
        <p:sp>
          <p:nvSpPr>
            <p:cNvPr id="254" name=""/>
            <p:cNvSpPr/>
            <p:nvPr/>
          </p:nvSpPr>
          <p:spPr>
            <a:xfrm>
              <a:off x="1962000" y="4338000"/>
              <a:ext cx="4986360" cy="134388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2aa436"/>
                  </a:solidFill>
                  <a:latin typeface="Lucida Console"/>
                </a:rPr>
                <a:t>[  ]</a:t>
              </a:r>
              <a:r>
                <a:rPr b="1" lang="pt-BR" sz="2400" spc="-1" strike="noStrike">
                  <a:solidFill>
                    <a:srgbClr val="ff0000"/>
                  </a:solidFill>
                  <a:latin typeface="Lucida Console"/>
                </a:rPr>
                <a:t>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2aa436"/>
                  </a:solidFill>
                  <a:latin typeface="Tahoma"/>
                </a:rPr>
                <a:t>(     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2aa436"/>
                  </a:solidFill>
                  <a:latin typeface="Tahoma"/>
                </a:rPr>
                <a:t>   </a:t>
              </a:r>
              <a:r>
                <a:rPr b="1" lang="pt-BR" sz="2400" spc="-1" strike="noStrike">
                  <a:solidFill>
                    <a:srgbClr val="2aa436"/>
                  </a:solidFill>
                  <a:latin typeface="Tahoma"/>
                </a:rPr>
                <a:t>* </a:t>
              </a:r>
              <a:r>
                <a:rPr b="1" lang="pt-BR" sz="2400" spc="-1" strike="noStrike">
                  <a:solidFill>
                    <a:srgbClr val="ff0000"/>
                  </a:solidFill>
                  <a:latin typeface="Tahoma"/>
                </a:rPr>
                <a:t>     </a:t>
              </a:r>
              <a:r>
                <a:rPr b="1" lang="pt-BR" sz="2400" spc="-1" strike="noStrike">
                  <a:solidFill>
                    <a:srgbClr val="ff0000"/>
                  </a:solidFill>
                  <a:latin typeface="Lucida Console"/>
                </a:rPr>
                <a:t> </a:t>
              </a:r>
              <a:r>
                <a:rPr b="1" lang="pt-BR" sz="2400" spc="-1" strike="noStrike">
                  <a:solidFill>
                    <a:srgbClr val="2aa436"/>
                  </a:solidFill>
                  <a:latin typeface="Lucida Console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087800" y="4560840"/>
              <a:ext cx="1541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68720" y="5008320"/>
              <a:ext cx="15411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4054320" y="5445000"/>
              <a:ext cx="14716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headEnd len="med" type="oval" w="med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009520" y="4819680"/>
              <a:ext cx="4865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06280" y="5267160"/>
              <a:ext cx="48657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0760" y="4368600"/>
              <a:ext cx="0" cy="12654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635400" y="3697920"/>
            <a:ext cx="24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33cc"/>
                </a:solidFill>
                <a:latin typeface="Arial"/>
              </a:rPr>
              <a:t>Agrupamento</a:t>
            </a:r>
            <a:r>
              <a:rPr b="1" lang="pt-BR" sz="2400" spc="-1" strike="noStrike">
                <a:solidFill>
                  <a:srgbClr val="3333cc"/>
                </a:solidFill>
                <a:latin typeface="Tahoma"/>
              </a:rPr>
              <a:t>:</a:t>
            </a:r>
            <a:r>
              <a:rPr b="1" lang="pt-BR" sz="2400" spc="-1" strike="noStrike">
                <a:solidFill>
                  <a:srgbClr val="af67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8B054-32EA-481D-9217-9979BAB87AE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ED1639-36C3-4C4E-9B58-B3E29EBED9E0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pontad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31640" y="1537920"/>
            <a:ext cx="8436240" cy="369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ipo da variável</a:t>
            </a:r>
            <a:r>
              <a:rPr b="0" lang="pt-BR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x</a:t>
            </a:r>
            <a:r>
              <a:rPr b="0" lang="pt-BR" sz="3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int x</a:t>
            </a:r>
            <a:r>
              <a:rPr b="0" lang="pt-BR" sz="3200" spc="-1" strike="noStrike">
                <a:solidFill>
                  <a:srgbClr val="3333cc"/>
                </a:solidFill>
                <a:latin typeface="Courier New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int *x</a:t>
            </a:r>
            <a:r>
              <a:rPr b="0" lang="pt-BR" sz="3200" spc="-1" strike="noStrike">
                <a:solidFill>
                  <a:srgbClr val="3333cc"/>
                </a:solidFill>
                <a:latin typeface="Courier New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3333cc"/>
                </a:solidFill>
                <a:latin typeface="Courier New"/>
              </a:rPr>
              <a:t>int x[ 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334880" y="3929040"/>
            <a:ext cx="43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pontador para um intei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22000" y="5278320"/>
            <a:ext cx="428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tor que contém intei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242720" y="2757600"/>
            <a:ext cx="192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o inteir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8244-7A5B-4B23-A5D4-DAD2B1F7A13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8DF625-D77D-4CBE-BE13-ABD3BEB475E3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1:20:33Z</dcterms:created>
  <dc:creator>Daniel</dc:creator>
  <dc:description/>
  <dc:language>en-US</dc:language>
  <cp:lastModifiedBy> arnaldo</cp:lastModifiedBy>
  <dcterms:modified xsi:type="dcterms:W3CDTF">2008-04-21T15:50:11Z</dcterms:modified>
  <cp:revision>227</cp:revision>
  <dc:subject/>
  <dc:title>Curso de C</dc:title>
</cp:coreProperties>
</file>