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CA510-F315-4AE2-9320-4B88C06BF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F300E-B6CF-4093-B14F-1467B7ACA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E63E-1B21-44F7-A313-EE2C8B153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B049-F30F-4DB8-BCB5-B8787CF7C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4537B-A6FA-4DC9-9D1D-04CDDFFCC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EF5A-0B25-4581-9CB0-37589FC9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4FFA6-DA67-4435-97AF-5FDE5BB6E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AA59-9748-4BA0-AEB7-1FCCF9637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B4A8C-DD18-4314-9BFD-0C013AB17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30BA-EDC8-414A-8CFA-0AC21A21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806E6-5BC8-43F1-A630-89D0E992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22E26-5D2D-40F3-8387-B37393853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7CC72-EB71-4595-B8A2-58166369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74B0-0C14-4962-A7D2-39DF7D3DD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5A2D5-E7A4-4AE7-9513-E231F9AC1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700F-86ED-405F-B3E4-74596E859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F32CC-B894-431B-ADE6-7B4446F6D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F550-F201-4805-AC1D-CDF9660E0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9E6F-9998-4864-9D06-98B0B3982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5E2E-5E4A-4372-9C2E-40DFCD80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7D54-7D67-48B7-89F2-B95EBBDE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339-0422-4716-8220-A048F96E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78C9-76B2-4457-ADE1-DBCADCD0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7A5E-CC55-4BEB-B9E5-314A8DFA9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83B5-AC1A-4301-BB89-71F5B02BC485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A9715-39C2-4B48-8424-573D6940EB6B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urier New"/>
              </a:rPr>
              <a:t>if..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5715000" y="2971800"/>
            <a:ext cx="2971800" cy="320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7200" y="2971800"/>
            <a:ext cx="5029200" cy="32004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990720" y="3048120"/>
            <a:ext cx="4419360" cy="272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níc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xpressão)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f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ta código somente se uma condição for verdadei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resultado da expressão diferente de ze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rot="16200000">
            <a:off x="-15840" y="34459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6324480" y="3276720"/>
            <a:ext cx="1781280" cy="2654280"/>
          </a:xfrm>
          <a:prstGeom prst="rect">
            <a:avLst/>
          </a:prstGeom>
          <a:ln w="0">
            <a:noFill/>
          </a:ln>
        </p:spPr>
      </p:pic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12720" y="2209680"/>
            <a:ext cx="7916760" cy="3886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d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sua idade: "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idad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dade &gt;= 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20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Já pode obter habilitação!"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56880" y="58590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Idade01\Idade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" y="3886200"/>
            <a:ext cx="5029200" cy="22860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990720" y="4038480"/>
            <a:ext cx="4419360" cy="2057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iníc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if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(expressão)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ntenç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8000"/>
                </a:solidFill>
                <a:latin typeface="Courier New"/>
              </a:rPr>
              <a:t>fim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057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 simplifica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única sente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bl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5742000" y="2978280"/>
            <a:ext cx="2971800" cy="3200400"/>
            <a:chOff x="5742000" y="2978280"/>
            <a:chExt cx="2971800" cy="3200400"/>
          </a:xfrm>
        </p:grpSpPr>
        <p:sp>
          <p:nvSpPr>
            <p:cNvPr id="191" name=""/>
            <p:cNvSpPr/>
            <p:nvPr/>
          </p:nvSpPr>
          <p:spPr>
            <a:xfrm>
              <a:off x="5742000" y="2978280"/>
              <a:ext cx="2971800" cy="32004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26240" y="3819600"/>
              <a:ext cx="1301760" cy="42840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4" y="0"/>
                  </a:moveTo>
                  <a:lnTo>
                    <a:pt x="0" y="135"/>
                  </a:lnTo>
                  <a:lnTo>
                    <a:pt x="414" y="270"/>
                  </a:lnTo>
                  <a:lnTo>
                    <a:pt x="820" y="135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ffff66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70320" y="3933720"/>
              <a:ext cx="88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6240" y="4578480"/>
              <a:ext cx="1301760" cy="52848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11640" y="47498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7311960" y="4248000"/>
              <a:ext cx="157320" cy="330480"/>
              <a:chOff x="7311960" y="4248000"/>
              <a:chExt cx="157320" cy="330480"/>
            </a:xfrm>
          </p:grpSpPr>
          <p:sp>
            <p:nvSpPr>
              <p:cNvPr id="197" name=""/>
              <p:cNvSpPr/>
              <p:nvPr/>
            </p:nvSpPr>
            <p:spPr>
              <a:xfrm>
                <a:off x="7383600" y="4248000"/>
                <a:ext cx="1440" cy="2160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11960" y="4435560"/>
                <a:ext cx="15732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45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7269120" y="3276720"/>
              <a:ext cx="214200" cy="214200"/>
            </a:xfrm>
            <a:prstGeom prst="ellipse">
              <a:avLst/>
            </a:prstGeom>
            <a:solidFill>
              <a:srgbClr val="ff00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69120" y="5649840"/>
              <a:ext cx="214200" cy="214560"/>
            </a:xfrm>
            <a:prstGeom prst="ellipse">
              <a:avLst/>
            </a:prstGeom>
            <a:solidFill>
              <a:srgbClr val="00cc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311960" y="3490920"/>
              <a:ext cx="157320" cy="342720"/>
              <a:chOff x="7311960" y="3490920"/>
              <a:chExt cx="157320" cy="342720"/>
            </a:xfrm>
          </p:grpSpPr>
          <p:sp>
            <p:nvSpPr>
              <p:cNvPr id="202" name=""/>
              <p:cNvSpPr/>
              <p:nvPr/>
            </p:nvSpPr>
            <p:spPr>
              <a:xfrm>
                <a:off x="7383600" y="3490920"/>
                <a:ext cx="1440" cy="2142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311960" y="3676680"/>
                <a:ext cx="157320" cy="156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4" name=""/>
            <p:cNvSpPr/>
            <p:nvPr/>
          </p:nvSpPr>
          <p:spPr>
            <a:xfrm>
              <a:off x="7383600" y="4248000"/>
              <a:ext cx="2156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480440" y="4264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381720" y="4033800"/>
              <a:ext cx="887400" cy="1816200"/>
              <a:chOff x="6381720" y="4033800"/>
              <a:chExt cx="887400" cy="1816200"/>
            </a:xfrm>
          </p:grpSpPr>
          <p:sp>
            <p:nvSpPr>
              <p:cNvPr id="207" name=""/>
              <p:cNvSpPr/>
              <p:nvPr/>
            </p:nvSpPr>
            <p:spPr>
              <a:xfrm>
                <a:off x="6381720" y="4033800"/>
                <a:ext cx="773280" cy="1730520"/>
              </a:xfrm>
              <a:custGeom>
                <a:avLst/>
                <a:gdLst/>
                <a:ahLst/>
                <a:rect l="l" t="t" r="r" b="b"/>
                <a:pathLst>
                  <a:path w="487" h="1090">
                    <a:moveTo>
                      <a:pt x="217" y="0"/>
                    </a:moveTo>
                    <a:lnTo>
                      <a:pt x="0" y="0"/>
                    </a:lnTo>
                    <a:lnTo>
                      <a:pt x="0" y="1090"/>
                    </a:lnTo>
                    <a:lnTo>
                      <a:pt x="487" y="109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126200" y="5692680"/>
                <a:ext cx="142920" cy="157320"/>
              </a:xfrm>
              <a:custGeom>
                <a:avLst/>
                <a:gdLst/>
                <a:ahLst/>
                <a:rect l="l" t="t" r="r" b="b"/>
                <a:pathLst>
                  <a:path w="90" h="99">
                    <a:moveTo>
                      <a:pt x="0" y="99"/>
                    </a:moveTo>
                    <a:lnTo>
                      <a:pt x="90" y="5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6410160" y="3819600"/>
              <a:ext cx="21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507360" y="3833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83320" y="5649840"/>
              <a:ext cx="33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5400" y="566424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483320" y="3276720"/>
              <a:ext cx="54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575840" y="329076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5" name=""/>
            <p:cNvGrpSpPr/>
            <p:nvPr/>
          </p:nvGrpSpPr>
          <p:grpSpPr>
            <a:xfrm>
              <a:off x="7311960" y="5106960"/>
              <a:ext cx="157320" cy="557280"/>
              <a:chOff x="7311960" y="5106960"/>
              <a:chExt cx="157320" cy="557280"/>
            </a:xfrm>
          </p:grpSpPr>
          <p:sp>
            <p:nvSpPr>
              <p:cNvPr id="216" name=""/>
              <p:cNvSpPr/>
              <p:nvPr/>
            </p:nvSpPr>
            <p:spPr>
              <a:xfrm>
                <a:off x="7383600" y="5106960"/>
                <a:ext cx="1440" cy="42876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311960" y="550692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8" name=""/>
            <p:cNvSpPr/>
            <p:nvPr/>
          </p:nvSpPr>
          <p:spPr>
            <a:xfrm>
              <a:off x="6726240" y="3819600"/>
              <a:ext cx="1301760" cy="42840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4" y="0"/>
                  </a:moveTo>
                  <a:lnTo>
                    <a:pt x="0" y="135"/>
                  </a:lnTo>
                  <a:lnTo>
                    <a:pt x="414" y="270"/>
                  </a:lnTo>
                  <a:lnTo>
                    <a:pt x="820" y="135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ffff66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70320" y="3933720"/>
              <a:ext cx="88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726240" y="4578480"/>
              <a:ext cx="1301760" cy="52848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008120" y="472428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" name=""/>
            <p:cNvGrpSpPr/>
            <p:nvPr/>
          </p:nvGrpSpPr>
          <p:grpSpPr>
            <a:xfrm>
              <a:off x="7311960" y="4248000"/>
              <a:ext cx="157320" cy="330480"/>
              <a:chOff x="7311960" y="4248000"/>
              <a:chExt cx="157320" cy="330480"/>
            </a:xfrm>
          </p:grpSpPr>
          <p:sp>
            <p:nvSpPr>
              <p:cNvPr id="223" name=""/>
              <p:cNvSpPr/>
              <p:nvPr/>
            </p:nvSpPr>
            <p:spPr>
              <a:xfrm>
                <a:off x="7383600" y="4248000"/>
                <a:ext cx="1440" cy="2160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311960" y="4435560"/>
                <a:ext cx="15732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45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269120" y="3276720"/>
              <a:ext cx="214200" cy="214200"/>
            </a:xfrm>
            <a:prstGeom prst="ellipse">
              <a:avLst/>
            </a:prstGeom>
            <a:solidFill>
              <a:srgbClr val="ff00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269120" y="5649840"/>
              <a:ext cx="214200" cy="214560"/>
            </a:xfrm>
            <a:prstGeom prst="ellipse">
              <a:avLst/>
            </a:prstGeom>
            <a:solidFill>
              <a:srgbClr val="00cc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7311960" y="3490920"/>
              <a:ext cx="157320" cy="342720"/>
              <a:chOff x="7311960" y="3490920"/>
              <a:chExt cx="157320" cy="342720"/>
            </a:xfrm>
          </p:grpSpPr>
          <p:sp>
            <p:nvSpPr>
              <p:cNvPr id="228" name=""/>
              <p:cNvSpPr/>
              <p:nvPr/>
            </p:nvSpPr>
            <p:spPr>
              <a:xfrm>
                <a:off x="7383600" y="3490920"/>
                <a:ext cx="1440" cy="21420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311960" y="3676680"/>
                <a:ext cx="157320" cy="15696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7383600" y="4248000"/>
              <a:ext cx="2156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80440" y="42642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381720" y="4033800"/>
              <a:ext cx="887400" cy="1816200"/>
              <a:chOff x="6381720" y="4033800"/>
              <a:chExt cx="887400" cy="1816200"/>
            </a:xfrm>
          </p:grpSpPr>
          <p:sp>
            <p:nvSpPr>
              <p:cNvPr id="233" name=""/>
              <p:cNvSpPr/>
              <p:nvPr/>
            </p:nvSpPr>
            <p:spPr>
              <a:xfrm>
                <a:off x="6381720" y="4033800"/>
                <a:ext cx="773280" cy="1730520"/>
              </a:xfrm>
              <a:custGeom>
                <a:avLst/>
                <a:gdLst/>
                <a:ahLst/>
                <a:rect l="l" t="t" r="r" b="b"/>
                <a:pathLst>
                  <a:path w="487" h="1090">
                    <a:moveTo>
                      <a:pt x="217" y="0"/>
                    </a:moveTo>
                    <a:lnTo>
                      <a:pt x="0" y="0"/>
                    </a:lnTo>
                    <a:lnTo>
                      <a:pt x="0" y="1090"/>
                    </a:lnTo>
                    <a:lnTo>
                      <a:pt x="487" y="109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126200" y="5692680"/>
                <a:ext cx="142920" cy="157320"/>
              </a:xfrm>
              <a:custGeom>
                <a:avLst/>
                <a:gdLst/>
                <a:ahLst/>
                <a:rect l="l" t="t" r="r" b="b"/>
                <a:pathLst>
                  <a:path w="90" h="99">
                    <a:moveTo>
                      <a:pt x="0" y="99"/>
                    </a:moveTo>
                    <a:lnTo>
                      <a:pt x="90" y="54"/>
                    </a:lnTo>
                    <a:lnTo>
                      <a:pt x="0" y="0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5" name=""/>
            <p:cNvSpPr/>
            <p:nvPr/>
          </p:nvSpPr>
          <p:spPr>
            <a:xfrm>
              <a:off x="6410160" y="3819600"/>
              <a:ext cx="21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07360" y="38336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83320" y="5649840"/>
              <a:ext cx="330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565400" y="566424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83320" y="3276720"/>
              <a:ext cx="54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575840" y="329076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7311960" y="5106960"/>
              <a:ext cx="157320" cy="557280"/>
              <a:chOff x="7311960" y="5106960"/>
              <a:chExt cx="157320" cy="557280"/>
            </a:xfrm>
          </p:grpSpPr>
          <p:sp>
            <p:nvSpPr>
              <p:cNvPr id="242" name=""/>
              <p:cNvSpPr/>
              <p:nvPr/>
            </p:nvSpPr>
            <p:spPr>
              <a:xfrm>
                <a:off x="7383600" y="5106960"/>
                <a:ext cx="1440" cy="42876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311960" y="5506920"/>
                <a:ext cx="15732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4" name=""/>
          <p:cNvSpPr/>
          <p:nvPr/>
        </p:nvSpPr>
        <p:spPr>
          <a:xfrm rot="16200000">
            <a:off x="-15840" y="443664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urier New"/>
              </a:rPr>
              <a:t>if...else...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431640" y="1989000"/>
            <a:ext cx="8280720" cy="36601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sua idade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8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dade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Você já pode obter habilitação!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dade &l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7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Espere mais alguns anos!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2133720"/>
            <a:ext cx="2556000" cy="13737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dições mutuamente exclusiv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56880" y="531936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Idade02\Idade02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el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57200" y="2895480"/>
            <a:ext cx="4648320" cy="3429000"/>
            <a:chOff x="457200" y="2895480"/>
            <a:chExt cx="4648320" cy="3429000"/>
          </a:xfrm>
        </p:grpSpPr>
        <p:sp>
          <p:nvSpPr>
            <p:cNvPr id="257" name=""/>
            <p:cNvSpPr/>
            <p:nvPr/>
          </p:nvSpPr>
          <p:spPr>
            <a:xfrm>
              <a:off x="457200" y="2895480"/>
              <a:ext cx="4648320" cy="3429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990720" y="3048120"/>
              <a:ext cx="4114800" cy="3124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iníci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if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(expressão) 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} </a:t>
              </a: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else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}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Courier New"/>
                </a:rPr>
                <a:t>fim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6200000">
              <a:off x="-15840" y="3424320"/>
              <a:ext cx="14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Sintax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5334120" y="2895480"/>
            <a:ext cx="3352680" cy="3429000"/>
            <a:chOff x="5334120" y="2895480"/>
            <a:chExt cx="3352680" cy="3429000"/>
          </a:xfrm>
        </p:grpSpPr>
        <p:sp>
          <p:nvSpPr>
            <p:cNvPr id="261" name=""/>
            <p:cNvSpPr/>
            <p:nvPr/>
          </p:nvSpPr>
          <p:spPr>
            <a:xfrm>
              <a:off x="5334120" y="2895480"/>
              <a:ext cx="3352680" cy="34290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2" name="" descr=""/>
            <p:cNvPicPr/>
            <p:nvPr/>
          </p:nvPicPr>
          <p:blipFill>
            <a:blip r:embed="rId1"/>
            <a:stretch/>
          </p:blipFill>
          <p:spPr>
            <a:xfrm>
              <a:off x="5486400" y="3305160"/>
              <a:ext cx="3084480" cy="2638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3" name=""/>
          <p:cNvSpPr/>
          <p:nvPr/>
        </p:nvSpPr>
        <p:spPr>
          <a:xfrm>
            <a:off x="457200" y="205740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ão verdadeira: executa o primeiro bl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so contrário: executa o segundo blo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57200" y="1981080"/>
            <a:ext cx="8229600" cy="441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2057400"/>
            <a:ext cx="7925040" cy="4267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dade, diferenca_temp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sua idade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"%d", &amp;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dade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a_tempo = idade -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Voce tem habilitacao ha %d ano(s)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a_temp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a_tempo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- 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“Espere mais %d ano(s)!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iferenca_temp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el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556880" y="60624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Idade03\Idade03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2057400"/>
            <a:ext cx="8229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 simplifica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a única senten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 bl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el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3429000"/>
            <a:ext cx="4648320" cy="2743200"/>
            <a:chOff x="457200" y="3429000"/>
            <a:chExt cx="4648320" cy="2743200"/>
          </a:xfrm>
        </p:grpSpPr>
        <p:sp>
          <p:nvSpPr>
            <p:cNvPr id="275" name=""/>
            <p:cNvSpPr/>
            <p:nvPr/>
          </p:nvSpPr>
          <p:spPr>
            <a:xfrm>
              <a:off x="457200" y="3429000"/>
              <a:ext cx="4648320" cy="2743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990720" y="3581280"/>
              <a:ext cx="3886200" cy="2514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iníci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if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(expressão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el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8000"/>
                  </a:solidFill>
                  <a:latin typeface="Courier New"/>
                </a:rPr>
                <a:t>fim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60120" y="3979440"/>
              <a:ext cx="14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Sintax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5334120" y="3429000"/>
            <a:ext cx="3352680" cy="2743200"/>
            <a:chOff x="5334120" y="3429000"/>
            <a:chExt cx="3352680" cy="2743200"/>
          </a:xfrm>
        </p:grpSpPr>
        <p:sp>
          <p:nvSpPr>
            <p:cNvPr id="279" name=""/>
            <p:cNvSpPr/>
            <p:nvPr/>
          </p:nvSpPr>
          <p:spPr>
            <a:xfrm>
              <a:off x="5334120" y="3429000"/>
              <a:ext cx="3352680" cy="274320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57960" y="4076640"/>
              <a:ext cx="1301760" cy="42876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5" y="0"/>
                  </a:moveTo>
                  <a:lnTo>
                    <a:pt x="0" y="135"/>
                  </a:lnTo>
                  <a:lnTo>
                    <a:pt x="415" y="270"/>
                  </a:lnTo>
                  <a:lnTo>
                    <a:pt x="820" y="135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ff66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600600" y="4191120"/>
              <a:ext cx="88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30960" y="4834080"/>
              <a:ext cx="1300320" cy="52848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414920" y="50054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02280" y="3533760"/>
              <a:ext cx="214560" cy="214200"/>
            </a:xfrm>
            <a:prstGeom prst="ellipse">
              <a:avLst/>
            </a:prstGeom>
            <a:solidFill>
              <a:srgbClr val="ff00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02280" y="5905440"/>
              <a:ext cx="214560" cy="214200"/>
            </a:xfrm>
            <a:prstGeom prst="ellipse">
              <a:avLst/>
            </a:prstGeom>
            <a:solidFill>
              <a:srgbClr val="00cc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6945480" y="3747960"/>
              <a:ext cx="156960" cy="343080"/>
              <a:chOff x="6945480" y="3747960"/>
              <a:chExt cx="156960" cy="343080"/>
            </a:xfrm>
          </p:grpSpPr>
          <p:sp>
            <p:nvSpPr>
              <p:cNvPr id="287" name=""/>
              <p:cNvSpPr/>
              <p:nvPr/>
            </p:nvSpPr>
            <p:spPr>
              <a:xfrm>
                <a:off x="7016760" y="3747960"/>
                <a:ext cx="1440" cy="21456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45480" y="393372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5929200" y="4405320"/>
              <a:ext cx="21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25680" y="44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73920" y="4405320"/>
              <a:ext cx="21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70400" y="44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116840" y="5905440"/>
              <a:ext cx="32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96400" y="591984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116840" y="3533760"/>
              <a:ext cx="54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206480" y="354816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7" name=""/>
            <p:cNvGrpSpPr/>
            <p:nvPr/>
          </p:nvGrpSpPr>
          <p:grpSpPr>
            <a:xfrm>
              <a:off x="6945480" y="5362560"/>
              <a:ext cx="928440" cy="557280"/>
              <a:chOff x="6945480" y="5362560"/>
              <a:chExt cx="928440" cy="557280"/>
            </a:xfrm>
          </p:grpSpPr>
          <p:sp>
            <p:nvSpPr>
              <p:cNvPr id="298" name=""/>
              <p:cNvSpPr/>
              <p:nvPr/>
            </p:nvSpPr>
            <p:spPr>
              <a:xfrm>
                <a:off x="7016760" y="5362560"/>
                <a:ext cx="857160" cy="428760"/>
              </a:xfrm>
              <a:custGeom>
                <a:avLst/>
                <a:gdLst/>
                <a:ahLst/>
                <a:rect l="l" t="t" r="r" b="b"/>
                <a:pathLst>
                  <a:path w="540" h="270">
                    <a:moveTo>
                      <a:pt x="540" y="0"/>
                    </a:moveTo>
                    <a:lnTo>
                      <a:pt x="540" y="171"/>
                    </a:lnTo>
                    <a:lnTo>
                      <a:pt x="0" y="171"/>
                    </a:lnTo>
                    <a:lnTo>
                      <a:pt x="0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945480" y="576252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7659720" y="4290840"/>
              <a:ext cx="299880" cy="543240"/>
              <a:chOff x="7659720" y="4290840"/>
              <a:chExt cx="299880" cy="543240"/>
            </a:xfrm>
          </p:grpSpPr>
          <p:sp>
            <p:nvSpPr>
              <p:cNvPr id="301" name=""/>
              <p:cNvSpPr/>
              <p:nvPr/>
            </p:nvSpPr>
            <p:spPr>
              <a:xfrm>
                <a:off x="7659720" y="4290840"/>
                <a:ext cx="214200" cy="428760"/>
              </a:xfrm>
              <a:custGeom>
                <a:avLst/>
                <a:gdLst/>
                <a:ahLst/>
                <a:rect l="l" t="t" r="r" b="b"/>
                <a:pathLst>
                  <a:path w="135" h="270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802640" y="4691160"/>
                <a:ext cx="15696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45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3" name=""/>
            <p:cNvSpPr/>
            <p:nvPr/>
          </p:nvSpPr>
          <p:spPr>
            <a:xfrm>
              <a:off x="5500800" y="4834080"/>
              <a:ext cx="1301760" cy="52848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684400" y="5005440"/>
              <a:ext cx="1003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(s)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6072120" y="4290840"/>
              <a:ext cx="285840" cy="543240"/>
              <a:chOff x="6072120" y="4290840"/>
              <a:chExt cx="285840" cy="543240"/>
            </a:xfrm>
          </p:grpSpPr>
          <p:sp>
            <p:nvSpPr>
              <p:cNvPr id="306" name=""/>
              <p:cNvSpPr/>
              <p:nvPr/>
            </p:nvSpPr>
            <p:spPr>
              <a:xfrm>
                <a:off x="6143760" y="4290840"/>
                <a:ext cx="214200" cy="428760"/>
              </a:xfrm>
              <a:custGeom>
                <a:avLst/>
                <a:gdLst/>
                <a:ahLst/>
                <a:rect l="l" t="t" r="r" b="b"/>
                <a:pathLst>
                  <a:path w="135" h="270">
                    <a:moveTo>
                      <a:pt x="135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072120" y="4691160"/>
                <a:ext cx="15732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54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43760" y="5362560"/>
              <a:ext cx="958680" cy="557280"/>
              <a:chOff x="6143760" y="5362560"/>
              <a:chExt cx="958680" cy="557280"/>
            </a:xfrm>
          </p:grpSpPr>
          <p:sp>
            <p:nvSpPr>
              <p:cNvPr id="309" name=""/>
              <p:cNvSpPr/>
              <p:nvPr/>
            </p:nvSpPr>
            <p:spPr>
              <a:xfrm>
                <a:off x="6143760" y="5362560"/>
                <a:ext cx="873000" cy="428760"/>
              </a:xfrm>
              <a:custGeom>
                <a:avLst/>
                <a:gdLst/>
                <a:ahLst/>
                <a:rect l="l" t="t" r="r" b="b"/>
                <a:pathLst>
                  <a:path w="550" h="270">
                    <a:moveTo>
                      <a:pt x="0" y="0"/>
                    </a:moveTo>
                    <a:lnTo>
                      <a:pt x="0" y="171"/>
                    </a:lnTo>
                    <a:lnTo>
                      <a:pt x="550" y="171"/>
                    </a:lnTo>
                    <a:lnTo>
                      <a:pt x="550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945480" y="576252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1" name=""/>
            <p:cNvSpPr/>
            <p:nvPr/>
          </p:nvSpPr>
          <p:spPr>
            <a:xfrm>
              <a:off x="6357960" y="4076640"/>
              <a:ext cx="1301760" cy="428760"/>
            </a:xfrm>
            <a:custGeom>
              <a:avLst/>
              <a:gdLst/>
              <a:ahLst/>
              <a:rect l="l" t="t" r="r" b="b"/>
              <a:pathLst>
                <a:path w="820" h="270">
                  <a:moveTo>
                    <a:pt x="415" y="0"/>
                  </a:moveTo>
                  <a:lnTo>
                    <a:pt x="0" y="135"/>
                  </a:lnTo>
                  <a:lnTo>
                    <a:pt x="415" y="270"/>
                  </a:lnTo>
                  <a:lnTo>
                    <a:pt x="820" y="135"/>
                  </a:lnTo>
                  <a:lnTo>
                    <a:pt x="415" y="0"/>
                  </a:lnTo>
                  <a:close/>
                </a:path>
              </a:pathLst>
            </a:custGeom>
            <a:solidFill>
              <a:srgbClr val="ffff66"/>
            </a:solidFill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600600" y="4191120"/>
              <a:ext cx="886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expressã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230960" y="4834080"/>
              <a:ext cx="1300320" cy="52848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41640" y="495288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902280" y="3533760"/>
              <a:ext cx="214560" cy="214200"/>
            </a:xfrm>
            <a:prstGeom prst="ellipse">
              <a:avLst/>
            </a:prstGeom>
            <a:solidFill>
              <a:srgbClr val="ff00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02280" y="5905440"/>
              <a:ext cx="214560" cy="214200"/>
            </a:xfrm>
            <a:prstGeom prst="ellipse">
              <a:avLst/>
            </a:prstGeom>
            <a:solidFill>
              <a:srgbClr val="00cc00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7" name=""/>
            <p:cNvGrpSpPr/>
            <p:nvPr/>
          </p:nvGrpSpPr>
          <p:grpSpPr>
            <a:xfrm>
              <a:off x="6945480" y="3747960"/>
              <a:ext cx="156960" cy="343080"/>
              <a:chOff x="6945480" y="3747960"/>
              <a:chExt cx="156960" cy="343080"/>
            </a:xfrm>
          </p:grpSpPr>
          <p:sp>
            <p:nvSpPr>
              <p:cNvPr id="318" name=""/>
              <p:cNvSpPr/>
              <p:nvPr/>
            </p:nvSpPr>
            <p:spPr>
              <a:xfrm>
                <a:off x="7016760" y="3747960"/>
                <a:ext cx="1440" cy="214560"/>
              </a:xfrm>
              <a:prstGeom prst="line">
                <a:avLst/>
              </a:prstGeom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945480" y="393372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0" name=""/>
            <p:cNvSpPr/>
            <p:nvPr/>
          </p:nvSpPr>
          <p:spPr>
            <a:xfrm>
              <a:off x="5929200" y="4405320"/>
              <a:ext cx="21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25680" y="44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873920" y="4405320"/>
              <a:ext cx="214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970400" y="44197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16840" y="5905440"/>
              <a:ext cx="328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96400" y="5919840"/>
              <a:ext cx="25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16840" y="3533760"/>
              <a:ext cx="542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06480" y="3548160"/>
              <a:ext cx="448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8" name=""/>
            <p:cNvGrpSpPr/>
            <p:nvPr/>
          </p:nvGrpSpPr>
          <p:grpSpPr>
            <a:xfrm>
              <a:off x="6945480" y="5362560"/>
              <a:ext cx="928440" cy="557280"/>
              <a:chOff x="6945480" y="5362560"/>
              <a:chExt cx="928440" cy="557280"/>
            </a:xfrm>
          </p:grpSpPr>
          <p:sp>
            <p:nvSpPr>
              <p:cNvPr id="329" name=""/>
              <p:cNvSpPr/>
              <p:nvPr/>
            </p:nvSpPr>
            <p:spPr>
              <a:xfrm>
                <a:off x="7016760" y="5362560"/>
                <a:ext cx="857160" cy="428760"/>
              </a:xfrm>
              <a:custGeom>
                <a:avLst/>
                <a:gdLst/>
                <a:ahLst/>
                <a:rect l="l" t="t" r="r" b="b"/>
                <a:pathLst>
                  <a:path w="540" h="270">
                    <a:moveTo>
                      <a:pt x="540" y="0"/>
                    </a:moveTo>
                    <a:lnTo>
                      <a:pt x="540" y="171"/>
                    </a:lnTo>
                    <a:lnTo>
                      <a:pt x="0" y="171"/>
                    </a:lnTo>
                    <a:lnTo>
                      <a:pt x="0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945480" y="576252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7659720" y="4290840"/>
              <a:ext cx="299880" cy="543240"/>
              <a:chOff x="7659720" y="4290840"/>
              <a:chExt cx="299880" cy="543240"/>
            </a:xfrm>
          </p:grpSpPr>
          <p:sp>
            <p:nvSpPr>
              <p:cNvPr id="332" name=""/>
              <p:cNvSpPr/>
              <p:nvPr/>
            </p:nvSpPr>
            <p:spPr>
              <a:xfrm>
                <a:off x="7659720" y="4290840"/>
                <a:ext cx="214200" cy="428760"/>
              </a:xfrm>
              <a:custGeom>
                <a:avLst/>
                <a:gdLst/>
                <a:ahLst/>
                <a:rect l="l" t="t" r="r" b="b"/>
                <a:pathLst>
                  <a:path w="135" h="270">
                    <a:moveTo>
                      <a:pt x="0" y="0"/>
                    </a:moveTo>
                    <a:lnTo>
                      <a:pt x="135" y="0"/>
                    </a:lnTo>
                    <a:lnTo>
                      <a:pt x="135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802640" y="4691160"/>
                <a:ext cx="15696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45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4" name=""/>
            <p:cNvSpPr/>
            <p:nvPr/>
          </p:nvSpPr>
          <p:spPr>
            <a:xfrm>
              <a:off x="5500800" y="4834080"/>
              <a:ext cx="1301760" cy="528480"/>
            </a:xfrm>
            <a:prstGeom prst="rect">
              <a:avLst/>
            </a:prstGeom>
            <a:solidFill>
              <a:srgbClr val="66ccff"/>
            </a:solidFill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89160" y="4952880"/>
              <a:ext cx="779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sentença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6" name=""/>
            <p:cNvGrpSpPr/>
            <p:nvPr/>
          </p:nvGrpSpPr>
          <p:grpSpPr>
            <a:xfrm>
              <a:off x="6072120" y="4290840"/>
              <a:ext cx="285840" cy="543240"/>
              <a:chOff x="6072120" y="4290840"/>
              <a:chExt cx="285840" cy="543240"/>
            </a:xfrm>
          </p:grpSpPr>
          <p:sp>
            <p:nvSpPr>
              <p:cNvPr id="337" name=""/>
              <p:cNvSpPr/>
              <p:nvPr/>
            </p:nvSpPr>
            <p:spPr>
              <a:xfrm>
                <a:off x="6143760" y="4290840"/>
                <a:ext cx="214200" cy="428760"/>
              </a:xfrm>
              <a:custGeom>
                <a:avLst/>
                <a:gdLst/>
                <a:ahLst/>
                <a:rect l="l" t="t" r="r" b="b"/>
                <a:pathLst>
                  <a:path w="135" h="270">
                    <a:moveTo>
                      <a:pt x="135" y="0"/>
                    </a:moveTo>
                    <a:lnTo>
                      <a:pt x="0" y="0"/>
                    </a:lnTo>
                    <a:lnTo>
                      <a:pt x="0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6072120" y="4691160"/>
                <a:ext cx="157320" cy="142920"/>
              </a:xfrm>
              <a:custGeom>
                <a:avLst/>
                <a:gdLst/>
                <a:ahLst/>
                <a:rect l="l" t="t" r="r" b="b"/>
                <a:pathLst>
                  <a:path w="99" h="90">
                    <a:moveTo>
                      <a:pt x="0" y="0"/>
                    </a:moveTo>
                    <a:lnTo>
                      <a:pt x="54" y="90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9" name=""/>
            <p:cNvGrpSpPr/>
            <p:nvPr/>
          </p:nvGrpSpPr>
          <p:grpSpPr>
            <a:xfrm>
              <a:off x="6143760" y="5362560"/>
              <a:ext cx="958680" cy="557280"/>
              <a:chOff x="6143760" y="5362560"/>
              <a:chExt cx="958680" cy="557280"/>
            </a:xfrm>
          </p:grpSpPr>
          <p:sp>
            <p:nvSpPr>
              <p:cNvPr id="340" name=""/>
              <p:cNvSpPr/>
              <p:nvPr/>
            </p:nvSpPr>
            <p:spPr>
              <a:xfrm>
                <a:off x="6143760" y="5362560"/>
                <a:ext cx="873000" cy="428760"/>
              </a:xfrm>
              <a:custGeom>
                <a:avLst/>
                <a:gdLst/>
                <a:ahLst/>
                <a:rect l="l" t="t" r="r" b="b"/>
                <a:pathLst>
                  <a:path w="550" h="270">
                    <a:moveTo>
                      <a:pt x="0" y="0"/>
                    </a:moveTo>
                    <a:lnTo>
                      <a:pt x="0" y="171"/>
                    </a:lnTo>
                    <a:lnTo>
                      <a:pt x="550" y="171"/>
                    </a:lnTo>
                    <a:lnTo>
                      <a:pt x="550" y="270"/>
                    </a:lnTo>
                  </a:path>
                </a:pathLst>
              </a:custGeom>
              <a:noFill/>
              <a:ln cap="rnd" w="144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45480" y="5762520"/>
                <a:ext cx="156960" cy="157320"/>
              </a:xfrm>
              <a:custGeom>
                <a:avLst/>
                <a:gdLst/>
                <a:ahLst/>
                <a:rect l="l" t="t" r="r" b="b"/>
                <a:pathLst>
                  <a:path w="99" h="99">
                    <a:moveTo>
                      <a:pt x="0" y="0"/>
                    </a:moveTo>
                    <a:lnTo>
                      <a:pt x="45" y="99"/>
                    </a:lnTo>
                    <a:lnTo>
                      <a:pt x="99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4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vincular a execução de blocos de sentenças à condi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ndo utilizar cada uma das estruturas disponí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ões com mais de um te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binação: (E / AN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as expressões precisam ser verdadei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ternativas: (OU / O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a das duas expressões precisa ser verdad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egação: (NÃO / NO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condição precisa ser fal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que são Operadores Lóg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teira de Habilit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ade maior ou igual que 18 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ovação nos ex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binação E /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rgo de boa remune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celente currículo profiss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ção de uma pessoa influ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 OU /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s conceitua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Lóg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1523880" y="2225520"/>
          <a:ext cx="6275520" cy="2194200"/>
        </p:xfrm>
        <a:graphic>
          <a:graphicData uri="http://schemas.openxmlformats.org/drawingml/2006/table">
            <a:tbl>
              <a:tblPr/>
              <a:tblGrid>
                <a:gridCol w="560520"/>
                <a:gridCol w="560520"/>
                <a:gridCol w="560160"/>
                <a:gridCol w="1893960"/>
                <a:gridCol w="539640"/>
                <a:gridCol w="2160720"/>
              </a:tblGrid>
              <a:tr h="36612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s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ão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e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ão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0 caso contrári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não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ou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ão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0 caso contrári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 </a:t>
                      </a: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!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</a:t>
                      </a:r>
                      <a:r>
                        <a:rPr b="0" i="1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é 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0 caso contrári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abelas Verd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9" name=""/>
          <p:cNvGraphicFramePr/>
          <p:nvPr/>
        </p:nvGraphicFramePr>
        <p:xfrm>
          <a:off x="2286000" y="2133720"/>
          <a:ext cx="5346720" cy="1460520"/>
        </p:xfrm>
        <a:graphic>
          <a:graphicData uri="http://schemas.openxmlformats.org/drawingml/2006/table">
            <a:tbl>
              <a:tblPr/>
              <a:tblGrid>
                <a:gridCol w="1233360"/>
                <a:gridCol w="1398600"/>
                <a:gridCol w="1357560"/>
                <a:gridCol w="1357200"/>
              </a:tblGrid>
              <a:tr h="368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ond1 &amp;&amp; con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E / AND)</a:t>
                      </a: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0" name=""/>
          <p:cNvGraphicFramePr/>
          <p:nvPr/>
        </p:nvGraphicFramePr>
        <p:xfrm>
          <a:off x="2286000" y="3809880"/>
          <a:ext cx="5707080" cy="1460520"/>
        </p:xfrm>
        <a:graphic>
          <a:graphicData uri="http://schemas.openxmlformats.org/drawingml/2006/table">
            <a:tbl>
              <a:tblPr/>
              <a:tblGrid>
                <a:gridCol w="1298520"/>
                <a:gridCol w="1513080"/>
                <a:gridCol w="1454040"/>
                <a:gridCol w="1441440"/>
              </a:tblGrid>
              <a:tr h="368280">
                <a:tc gridSpan="2"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cond1 || con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U / O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9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3511440" y="5410080"/>
          <a:ext cx="3040200" cy="1111320"/>
        </p:xfrm>
        <a:graphic>
          <a:graphicData uri="http://schemas.openxmlformats.org/drawingml/2006/table">
            <a:tbl>
              <a:tblPr/>
              <a:tblGrid>
                <a:gridCol w="1443240"/>
                <a:gridCol w="1596960"/>
              </a:tblGrid>
              <a:tr h="374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! co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3333cc"/>
                          </a:solidFill>
                          <a:latin typeface="Arial"/>
                          <a:ea typeface="Arial"/>
                        </a:rPr>
                        <a:t>verdadei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fal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457200" y="2133720"/>
            <a:ext cx="843588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12720" y="2819520"/>
            <a:ext cx="7916760" cy="396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rovado = (nota &gt;= 7.0) &amp;&amp; (frequencia &gt;= 40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40000" y="2209680"/>
            <a:ext cx="834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pelo menos 7.0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reqüência de pelo menos 40 aul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5320" y="355428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5.0; frequencia = 3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aprovado = 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35320" y="409896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8.0; frequencia = 3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aprovado = 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35320" y="462132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5.0; frequencia = 5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aprovado = 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35320" y="516564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8.0; frequencia = 5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8000"/>
                </a:solidFill>
                <a:latin typeface="Courier New"/>
              </a:rPr>
              <a:t>aprovado = 1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457200" y="2133720"/>
            <a:ext cx="8229600" cy="4038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7400" y="2803680"/>
            <a:ext cx="7917120" cy="396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provado = (nota &gt; 5.0) || (frequencia &gt; 30)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38920" y="2209680"/>
            <a:ext cx="765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édia superior a 5.0 </a:t>
            </a: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ou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freqüência superior a 30 aul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35320" y="355428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3.0; frequencia = 2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cc0000"/>
                </a:solidFill>
                <a:latin typeface="Courier New"/>
              </a:rPr>
              <a:t>aprovado = 0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35320" y="409896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8.0; frequencia = 2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8000"/>
                </a:solidFill>
                <a:latin typeface="Courier New"/>
              </a:rPr>
              <a:t>aprovado = 1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35320" y="462132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3.0; frequencia = 5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8000"/>
                </a:solidFill>
                <a:latin typeface="Courier New"/>
              </a:rPr>
              <a:t>aprovado = 1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35320" y="5165640"/>
            <a:ext cx="764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nota = 8.0; frequencia = 50;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8000"/>
                </a:solidFill>
                <a:latin typeface="Courier New"/>
              </a:rPr>
              <a:t>aprovado = 1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0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457200" y="2070000"/>
            <a:ext cx="8229600" cy="441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2146320"/>
            <a:ext cx="7925040" cy="4267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ed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sua idade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sua media nos exames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medi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(idade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&amp;&amp; (media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5.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Voce esta aprovado!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Ainda nao aprovado!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56880" y="615276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Idade04\Idade04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urier New"/>
              </a:rPr>
              <a:t>if...else if...else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 if...e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else if...el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457200" y="2514600"/>
            <a:ext cx="3962520" cy="3809880"/>
            <a:chOff x="457200" y="2514600"/>
            <a:chExt cx="3962520" cy="3809880"/>
          </a:xfrm>
        </p:grpSpPr>
        <p:sp>
          <p:nvSpPr>
            <p:cNvPr id="394" name=""/>
            <p:cNvSpPr/>
            <p:nvPr/>
          </p:nvSpPr>
          <p:spPr>
            <a:xfrm>
              <a:off x="457200" y="2514600"/>
              <a:ext cx="3962520" cy="38098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990720" y="2590920"/>
              <a:ext cx="3276360" cy="3657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  <a:ea typeface="Courier New"/>
                </a:rPr>
                <a:t>iníci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if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(expressão) </a:t>
              </a: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}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else if 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(expressão)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} </a:t>
              </a:r>
              <a:r>
                <a:rPr b="1" lang="en-US" sz="2000" spc="-1" strike="noStrike">
                  <a:solidFill>
                    <a:srgbClr val="0000ff"/>
                  </a:solidFill>
                  <a:latin typeface="Courier New"/>
                  <a:ea typeface="Times New Roman"/>
                </a:rPr>
                <a:t>else 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sentença;   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    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  <a:ea typeface="Times New Roman"/>
                </a:rPr>
                <a:t>}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8000"/>
                  </a:solidFill>
                  <a:latin typeface="Courier New"/>
                </a:rPr>
                <a:t>fim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16200000">
              <a:off x="-15840" y="3424320"/>
              <a:ext cx="1467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800" spc="-1" strike="noStrike">
                  <a:solidFill>
                    <a:srgbClr val="000000"/>
                  </a:solidFill>
                  <a:latin typeface="Arial"/>
                </a:rPr>
                <a:t>Sintaxe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31640" y="207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últiplas decisões mutuamente exclusi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648320" y="2514600"/>
            <a:ext cx="4038480" cy="3809880"/>
            <a:chOff x="4648320" y="2514600"/>
            <a:chExt cx="4038480" cy="3809880"/>
          </a:xfrm>
        </p:grpSpPr>
        <p:sp>
          <p:nvSpPr>
            <p:cNvPr id="399" name=""/>
            <p:cNvSpPr/>
            <p:nvPr/>
          </p:nvSpPr>
          <p:spPr>
            <a:xfrm>
              <a:off x="4648320" y="2514600"/>
              <a:ext cx="4038480" cy="3809880"/>
            </a:xfrm>
            <a:prstGeom prst="rect">
              <a:avLst/>
            </a:prstGeom>
            <a:solidFill>
              <a:srgbClr val="ccffff"/>
            </a:solidFill>
            <a:ln w="12600">
              <a:solidFill>
                <a:srgbClr val="006699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00" name="" descr=""/>
            <p:cNvPicPr/>
            <p:nvPr/>
          </p:nvPicPr>
          <p:blipFill>
            <a:blip r:embed="rId1"/>
            <a:stretch/>
          </p:blipFill>
          <p:spPr>
            <a:xfrm>
              <a:off x="4781520" y="3019320"/>
              <a:ext cx="3828960" cy="2924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0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457200" y="1981080"/>
            <a:ext cx="8229600" cy="441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 if...e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9480" y="2057400"/>
            <a:ext cx="7925040" cy="4267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dad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sua idade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d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idad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(idade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&amp;&amp; (idade &lt;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Nao possui habilitacao.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 (idade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18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&amp;&amp; (idade &lt;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65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Renove exames a cada 5 anos.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idade &gt;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65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Renove exames a cada 3 anos.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else if...el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556880" y="6062400"/>
            <a:ext cx="414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Idade05\Idade05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ições e operadores relacion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if ... el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peradores lóg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s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if ... else if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em casc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ando </a:t>
            </a:r>
            <a:r>
              <a:rPr b="0" lang="pt-BR" sz="32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48320" y="2514600"/>
            <a:ext cx="4038480" cy="38098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57200" y="2514600"/>
            <a:ext cx="3962520" cy="38098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if...else if...el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2590920"/>
            <a:ext cx="3276360" cy="3657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íc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f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expressã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trutura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if...else if...els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-15840" y="34243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20574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 simplific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38760" y="3562200"/>
            <a:ext cx="1299960" cy="428760"/>
          </a:xfrm>
          <a:custGeom>
            <a:avLst/>
            <a:gdLst/>
            <a:ahLst/>
            <a:rect l="l" t="t" r="r" b="b"/>
            <a:pathLst>
              <a:path w="819" h="270">
                <a:moveTo>
                  <a:pt x="405" y="0"/>
                </a:moveTo>
                <a:lnTo>
                  <a:pt x="0" y="135"/>
                </a:lnTo>
                <a:lnTo>
                  <a:pt x="405" y="270"/>
                </a:lnTo>
                <a:lnTo>
                  <a:pt x="819" y="135"/>
                </a:lnTo>
                <a:lnTo>
                  <a:pt x="405" y="0"/>
                </a:lnTo>
                <a:close/>
              </a:path>
            </a:pathLst>
          </a:custGeom>
          <a:solidFill>
            <a:srgbClr val="ffff66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081400" y="367668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81640" y="3019320"/>
            <a:ext cx="214200" cy="214560"/>
          </a:xfrm>
          <a:prstGeom prst="ellipse">
            <a:avLst/>
          </a:prstGeom>
          <a:solidFill>
            <a:srgbClr val="ff0000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5410080" y="3233880"/>
            <a:ext cx="157320" cy="342720"/>
            <a:chOff x="5410080" y="3233880"/>
            <a:chExt cx="157320" cy="342720"/>
          </a:xfrm>
        </p:grpSpPr>
        <p:sp>
          <p:nvSpPr>
            <p:cNvPr id="419" name=""/>
            <p:cNvSpPr/>
            <p:nvPr/>
          </p:nvSpPr>
          <p:spPr>
            <a:xfrm>
              <a:off x="5481720" y="3233880"/>
              <a:ext cx="1440" cy="21420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10080" y="34196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7540560" y="3676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637040" y="3691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595840" y="3019320"/>
            <a:ext cx="54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685840" y="3033720"/>
            <a:ext cx="44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iní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5410080" y="3990960"/>
            <a:ext cx="157320" cy="442800"/>
            <a:chOff x="5410080" y="3990960"/>
            <a:chExt cx="157320" cy="442800"/>
          </a:xfrm>
        </p:grpSpPr>
        <p:sp>
          <p:nvSpPr>
            <p:cNvPr id="426" name=""/>
            <p:cNvSpPr/>
            <p:nvPr/>
          </p:nvSpPr>
          <p:spPr>
            <a:xfrm>
              <a:off x="5481720" y="3990960"/>
              <a:ext cx="1440" cy="31428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410080" y="427680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4838760" y="4419720"/>
            <a:ext cx="1299960" cy="442800"/>
          </a:xfrm>
          <a:custGeom>
            <a:avLst/>
            <a:gdLst/>
            <a:ahLst/>
            <a:rect l="l" t="t" r="r" b="b"/>
            <a:pathLst>
              <a:path w="819" h="279">
                <a:moveTo>
                  <a:pt x="405" y="0"/>
                </a:moveTo>
                <a:lnTo>
                  <a:pt x="0" y="144"/>
                </a:lnTo>
                <a:lnTo>
                  <a:pt x="405" y="279"/>
                </a:lnTo>
                <a:lnTo>
                  <a:pt x="819" y="144"/>
                </a:lnTo>
                <a:lnTo>
                  <a:pt x="405" y="0"/>
                </a:lnTo>
                <a:close/>
              </a:path>
            </a:pathLst>
          </a:custGeom>
          <a:solidFill>
            <a:srgbClr val="ffff66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081400" y="454824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781680" y="4419720"/>
            <a:ext cx="1301760" cy="442800"/>
          </a:xfrm>
          <a:prstGeom prst="rect">
            <a:avLst/>
          </a:prstGeom>
          <a:solidFill>
            <a:srgbClr val="66ccff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965640" y="4548240"/>
            <a:ext cx="100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sentença(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238800" y="356220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35280" y="3576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267160" y="410544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3640" y="41194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255160" y="5691240"/>
            <a:ext cx="32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8334360" y="5705640"/>
            <a:ext cx="25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8083440" y="4648320"/>
            <a:ext cx="400320" cy="757080"/>
            <a:chOff x="8083440" y="4648320"/>
            <a:chExt cx="400320" cy="757080"/>
          </a:xfrm>
        </p:grpSpPr>
        <p:sp>
          <p:nvSpPr>
            <p:cNvPr id="439" name=""/>
            <p:cNvSpPr/>
            <p:nvPr/>
          </p:nvSpPr>
          <p:spPr>
            <a:xfrm>
              <a:off x="8083440" y="4648320"/>
              <a:ext cx="314280" cy="628560"/>
            </a:xfrm>
            <a:custGeom>
              <a:avLst/>
              <a:gdLst/>
              <a:ahLst/>
              <a:rect l="l" t="t" r="r" b="b"/>
              <a:pathLst>
                <a:path w="198" h="396">
                  <a:moveTo>
                    <a:pt x="0" y="0"/>
                  </a:moveTo>
                  <a:lnTo>
                    <a:pt x="198" y="0"/>
                  </a:lnTo>
                  <a:lnTo>
                    <a:pt x="198" y="396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326440" y="52484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138720" y="4576680"/>
            <a:ext cx="657360" cy="157320"/>
            <a:chOff x="6138720" y="4576680"/>
            <a:chExt cx="657360" cy="157320"/>
          </a:xfrm>
        </p:grpSpPr>
        <p:sp>
          <p:nvSpPr>
            <p:cNvPr id="442" name=""/>
            <p:cNvSpPr/>
            <p:nvPr/>
          </p:nvSpPr>
          <p:spPr>
            <a:xfrm>
              <a:off x="6138720" y="4648320"/>
              <a:ext cx="528840" cy="144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638760" y="457668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99"/>
                  </a:moveTo>
                  <a:lnTo>
                    <a:pt x="99" y="5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6781680" y="3562200"/>
            <a:ext cx="1301760" cy="428760"/>
          </a:xfrm>
          <a:prstGeom prst="rect">
            <a:avLst/>
          </a:prstGeom>
          <a:solidFill>
            <a:srgbClr val="66ccff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965640" y="3676680"/>
            <a:ext cx="100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sentença(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6" name=""/>
          <p:cNvGrpSpPr/>
          <p:nvPr/>
        </p:nvGrpSpPr>
        <p:grpSpPr>
          <a:xfrm>
            <a:off x="6138720" y="3705120"/>
            <a:ext cx="657360" cy="157320"/>
            <a:chOff x="6138720" y="3705120"/>
            <a:chExt cx="657360" cy="157320"/>
          </a:xfrm>
        </p:grpSpPr>
        <p:sp>
          <p:nvSpPr>
            <p:cNvPr id="447" name=""/>
            <p:cNvSpPr/>
            <p:nvPr/>
          </p:nvSpPr>
          <p:spPr>
            <a:xfrm>
              <a:off x="6138720" y="3776760"/>
              <a:ext cx="528840" cy="144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638760" y="370512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99"/>
                  </a:moveTo>
                  <a:lnTo>
                    <a:pt x="99" y="45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8083440" y="3776760"/>
            <a:ext cx="400320" cy="1628640"/>
            <a:chOff x="8083440" y="3776760"/>
            <a:chExt cx="400320" cy="1628640"/>
          </a:xfrm>
        </p:grpSpPr>
        <p:sp>
          <p:nvSpPr>
            <p:cNvPr id="450" name=""/>
            <p:cNvSpPr/>
            <p:nvPr/>
          </p:nvSpPr>
          <p:spPr>
            <a:xfrm>
              <a:off x="8083440" y="3776760"/>
              <a:ext cx="314280" cy="1500120"/>
            </a:xfrm>
            <a:custGeom>
              <a:avLst/>
              <a:gdLst/>
              <a:ahLst/>
              <a:rect l="l" t="t" r="r" b="b"/>
              <a:pathLst>
                <a:path w="198" h="945">
                  <a:moveTo>
                    <a:pt x="0" y="0"/>
                  </a:moveTo>
                  <a:lnTo>
                    <a:pt x="198" y="0"/>
                  </a:lnTo>
                  <a:lnTo>
                    <a:pt x="198" y="945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326440" y="52484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6238800" y="441972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335280" y="4433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481720" y="4862520"/>
            <a:ext cx="1057320" cy="728640"/>
            <a:chOff x="5481720" y="4862520"/>
            <a:chExt cx="1057320" cy="728640"/>
          </a:xfrm>
        </p:grpSpPr>
        <p:sp>
          <p:nvSpPr>
            <p:cNvPr id="455" name=""/>
            <p:cNvSpPr/>
            <p:nvPr/>
          </p:nvSpPr>
          <p:spPr>
            <a:xfrm>
              <a:off x="5481720" y="4862520"/>
              <a:ext cx="942840" cy="642960"/>
            </a:xfrm>
            <a:custGeom>
              <a:avLst/>
              <a:gdLst/>
              <a:ahLst/>
              <a:rect l="l" t="t" r="r" b="b"/>
              <a:pathLst>
                <a:path w="594" h="405">
                  <a:moveTo>
                    <a:pt x="0" y="0"/>
                  </a:moveTo>
                  <a:lnTo>
                    <a:pt x="0" y="405"/>
                  </a:lnTo>
                  <a:lnTo>
                    <a:pt x="594" y="405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396120" y="5433840"/>
              <a:ext cx="14292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99"/>
                  </a:moveTo>
                  <a:lnTo>
                    <a:pt x="90" y="5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>
            <a:off x="5267160" y="496260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363640" y="4976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539040" y="5291280"/>
            <a:ext cx="1301760" cy="428400"/>
          </a:xfrm>
          <a:prstGeom prst="rect">
            <a:avLst/>
          </a:prstGeom>
          <a:solidFill>
            <a:srgbClr val="66ccff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22640" y="5405400"/>
            <a:ext cx="1003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sentença(s)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7840800" y="5419800"/>
            <a:ext cx="471240" cy="156960"/>
            <a:chOff x="7840800" y="5419800"/>
            <a:chExt cx="471240" cy="156960"/>
          </a:xfrm>
        </p:grpSpPr>
        <p:sp>
          <p:nvSpPr>
            <p:cNvPr id="462" name=""/>
            <p:cNvSpPr/>
            <p:nvPr/>
          </p:nvSpPr>
          <p:spPr>
            <a:xfrm>
              <a:off x="7840800" y="5491080"/>
              <a:ext cx="342720" cy="14400"/>
            </a:xfrm>
            <a:custGeom>
              <a:avLst/>
              <a:gdLst/>
              <a:ahLst/>
              <a:rect l="l" t="t" r="r" b="b"/>
              <a:pathLst>
                <a:path w="216" h="9">
                  <a:moveTo>
                    <a:pt x="0" y="9"/>
                  </a:moveTo>
                  <a:lnTo>
                    <a:pt x="144" y="9"/>
                  </a:lnTo>
                  <a:lnTo>
                    <a:pt x="144" y="0"/>
                  </a:lnTo>
                  <a:lnTo>
                    <a:pt x="216" y="0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155080" y="5419800"/>
              <a:ext cx="15696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99"/>
                  </a:moveTo>
                  <a:lnTo>
                    <a:pt x="99" y="45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8298000" y="5391000"/>
            <a:ext cx="214200" cy="214560"/>
          </a:xfrm>
          <a:prstGeom prst="ellipse">
            <a:avLst/>
          </a:prstGeom>
          <a:solidFill>
            <a:srgbClr val="00cc00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838760" y="3562200"/>
            <a:ext cx="1299960" cy="428760"/>
          </a:xfrm>
          <a:custGeom>
            <a:avLst/>
            <a:gdLst/>
            <a:ahLst/>
            <a:rect l="l" t="t" r="r" b="b"/>
            <a:pathLst>
              <a:path w="819" h="270">
                <a:moveTo>
                  <a:pt x="405" y="0"/>
                </a:moveTo>
                <a:lnTo>
                  <a:pt x="0" y="135"/>
                </a:lnTo>
                <a:lnTo>
                  <a:pt x="405" y="270"/>
                </a:lnTo>
                <a:lnTo>
                  <a:pt x="819" y="135"/>
                </a:lnTo>
                <a:lnTo>
                  <a:pt x="405" y="0"/>
                </a:lnTo>
                <a:close/>
              </a:path>
            </a:pathLst>
          </a:custGeom>
          <a:solidFill>
            <a:srgbClr val="ffff66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081400" y="367668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5381640" y="3019320"/>
            <a:ext cx="214200" cy="214560"/>
          </a:xfrm>
          <a:prstGeom prst="ellipse">
            <a:avLst/>
          </a:prstGeom>
          <a:solidFill>
            <a:srgbClr val="ff0000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5410080" y="3233880"/>
            <a:ext cx="157320" cy="342720"/>
            <a:chOff x="5410080" y="3233880"/>
            <a:chExt cx="157320" cy="342720"/>
          </a:xfrm>
        </p:grpSpPr>
        <p:sp>
          <p:nvSpPr>
            <p:cNvPr id="469" name=""/>
            <p:cNvSpPr/>
            <p:nvPr/>
          </p:nvSpPr>
          <p:spPr>
            <a:xfrm>
              <a:off x="5481720" y="3233880"/>
              <a:ext cx="1440" cy="21420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5410080" y="34196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7540560" y="3676680"/>
            <a:ext cx="214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37040" y="36910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95840" y="3019320"/>
            <a:ext cx="54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685840" y="3033720"/>
            <a:ext cx="448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iníci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5410080" y="3990960"/>
            <a:ext cx="157320" cy="442800"/>
            <a:chOff x="5410080" y="3990960"/>
            <a:chExt cx="157320" cy="442800"/>
          </a:xfrm>
        </p:grpSpPr>
        <p:sp>
          <p:nvSpPr>
            <p:cNvPr id="476" name=""/>
            <p:cNvSpPr/>
            <p:nvPr/>
          </p:nvSpPr>
          <p:spPr>
            <a:xfrm>
              <a:off x="5481720" y="3990960"/>
              <a:ext cx="1440" cy="31428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5410080" y="427680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4838760" y="4419720"/>
            <a:ext cx="1299960" cy="442800"/>
          </a:xfrm>
          <a:custGeom>
            <a:avLst/>
            <a:gdLst/>
            <a:ahLst/>
            <a:rect l="l" t="t" r="r" b="b"/>
            <a:pathLst>
              <a:path w="819" h="279">
                <a:moveTo>
                  <a:pt x="405" y="0"/>
                </a:moveTo>
                <a:lnTo>
                  <a:pt x="0" y="144"/>
                </a:lnTo>
                <a:lnTo>
                  <a:pt x="405" y="279"/>
                </a:lnTo>
                <a:lnTo>
                  <a:pt x="819" y="144"/>
                </a:lnTo>
                <a:lnTo>
                  <a:pt x="405" y="0"/>
                </a:lnTo>
                <a:close/>
              </a:path>
            </a:pathLst>
          </a:custGeom>
          <a:solidFill>
            <a:srgbClr val="ffff66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081400" y="4548240"/>
            <a:ext cx="886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expressã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781680" y="4419720"/>
            <a:ext cx="1301760" cy="442800"/>
          </a:xfrm>
          <a:prstGeom prst="rect">
            <a:avLst/>
          </a:prstGeom>
          <a:solidFill>
            <a:srgbClr val="66ccff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936840" y="4548240"/>
            <a:ext cx="77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sentenç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238800" y="356220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35280" y="3576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267160" y="410544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363640" y="411948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5691240"/>
            <a:ext cx="328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8334360" y="5705640"/>
            <a:ext cx="255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8" name=""/>
          <p:cNvGrpSpPr/>
          <p:nvPr/>
        </p:nvGrpSpPr>
        <p:grpSpPr>
          <a:xfrm>
            <a:off x="8083440" y="4648320"/>
            <a:ext cx="400320" cy="757080"/>
            <a:chOff x="8083440" y="4648320"/>
            <a:chExt cx="400320" cy="757080"/>
          </a:xfrm>
        </p:grpSpPr>
        <p:sp>
          <p:nvSpPr>
            <p:cNvPr id="489" name=""/>
            <p:cNvSpPr/>
            <p:nvPr/>
          </p:nvSpPr>
          <p:spPr>
            <a:xfrm>
              <a:off x="8083440" y="4648320"/>
              <a:ext cx="314280" cy="628560"/>
            </a:xfrm>
            <a:custGeom>
              <a:avLst/>
              <a:gdLst/>
              <a:ahLst/>
              <a:rect l="l" t="t" r="r" b="b"/>
              <a:pathLst>
                <a:path w="198" h="396">
                  <a:moveTo>
                    <a:pt x="0" y="0"/>
                  </a:moveTo>
                  <a:lnTo>
                    <a:pt x="198" y="0"/>
                  </a:lnTo>
                  <a:lnTo>
                    <a:pt x="198" y="396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26440" y="52484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6138720" y="4576680"/>
            <a:ext cx="657360" cy="157320"/>
            <a:chOff x="6138720" y="4576680"/>
            <a:chExt cx="657360" cy="157320"/>
          </a:xfrm>
        </p:grpSpPr>
        <p:sp>
          <p:nvSpPr>
            <p:cNvPr id="492" name=""/>
            <p:cNvSpPr/>
            <p:nvPr/>
          </p:nvSpPr>
          <p:spPr>
            <a:xfrm>
              <a:off x="6138720" y="4648320"/>
              <a:ext cx="528840" cy="144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638760" y="457668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99"/>
                  </a:moveTo>
                  <a:lnTo>
                    <a:pt x="99" y="5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781680" y="3562200"/>
            <a:ext cx="1301760" cy="428760"/>
          </a:xfrm>
          <a:prstGeom prst="rect">
            <a:avLst/>
          </a:prstGeom>
          <a:solidFill>
            <a:srgbClr val="66ccff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6936840" y="3676680"/>
            <a:ext cx="77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sentenç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6138720" y="3705120"/>
            <a:ext cx="657360" cy="157320"/>
            <a:chOff x="6138720" y="3705120"/>
            <a:chExt cx="657360" cy="157320"/>
          </a:xfrm>
        </p:grpSpPr>
        <p:sp>
          <p:nvSpPr>
            <p:cNvPr id="497" name=""/>
            <p:cNvSpPr/>
            <p:nvPr/>
          </p:nvSpPr>
          <p:spPr>
            <a:xfrm>
              <a:off x="6138720" y="3776760"/>
              <a:ext cx="528840" cy="1440"/>
            </a:xfrm>
            <a:prstGeom prst="line">
              <a:avLst/>
            </a:prstGeom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638760" y="3705120"/>
              <a:ext cx="157320" cy="15732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99"/>
                  </a:moveTo>
                  <a:lnTo>
                    <a:pt x="99" y="45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9" name=""/>
          <p:cNvGrpSpPr/>
          <p:nvPr/>
        </p:nvGrpSpPr>
        <p:grpSpPr>
          <a:xfrm>
            <a:off x="8083440" y="3776760"/>
            <a:ext cx="400320" cy="1628640"/>
            <a:chOff x="8083440" y="3776760"/>
            <a:chExt cx="400320" cy="1628640"/>
          </a:xfrm>
        </p:grpSpPr>
        <p:sp>
          <p:nvSpPr>
            <p:cNvPr id="500" name=""/>
            <p:cNvSpPr/>
            <p:nvPr/>
          </p:nvSpPr>
          <p:spPr>
            <a:xfrm>
              <a:off x="8083440" y="3776760"/>
              <a:ext cx="314280" cy="1500120"/>
            </a:xfrm>
            <a:custGeom>
              <a:avLst/>
              <a:gdLst/>
              <a:ahLst/>
              <a:rect l="l" t="t" r="r" b="b"/>
              <a:pathLst>
                <a:path w="198" h="945">
                  <a:moveTo>
                    <a:pt x="0" y="0"/>
                  </a:moveTo>
                  <a:lnTo>
                    <a:pt x="198" y="0"/>
                  </a:lnTo>
                  <a:lnTo>
                    <a:pt x="198" y="945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8326440" y="5248440"/>
              <a:ext cx="15732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0"/>
                  </a:moveTo>
                  <a:lnTo>
                    <a:pt x="45" y="99"/>
                  </a:lnTo>
                  <a:lnTo>
                    <a:pt x="9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6238800" y="441972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335280" y="443376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5481720" y="4862520"/>
            <a:ext cx="1057320" cy="728640"/>
            <a:chOff x="5481720" y="4862520"/>
            <a:chExt cx="1057320" cy="728640"/>
          </a:xfrm>
        </p:grpSpPr>
        <p:sp>
          <p:nvSpPr>
            <p:cNvPr id="505" name=""/>
            <p:cNvSpPr/>
            <p:nvPr/>
          </p:nvSpPr>
          <p:spPr>
            <a:xfrm>
              <a:off x="5481720" y="4862520"/>
              <a:ext cx="942840" cy="642960"/>
            </a:xfrm>
            <a:custGeom>
              <a:avLst/>
              <a:gdLst/>
              <a:ahLst/>
              <a:rect l="l" t="t" r="r" b="b"/>
              <a:pathLst>
                <a:path w="594" h="405">
                  <a:moveTo>
                    <a:pt x="0" y="0"/>
                  </a:moveTo>
                  <a:lnTo>
                    <a:pt x="0" y="405"/>
                  </a:lnTo>
                  <a:lnTo>
                    <a:pt x="594" y="405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6396120" y="5433840"/>
              <a:ext cx="142920" cy="157320"/>
            </a:xfrm>
            <a:custGeom>
              <a:avLst/>
              <a:gdLst/>
              <a:ahLst/>
              <a:rect l="l" t="t" r="r" b="b"/>
              <a:pathLst>
                <a:path w="90" h="99">
                  <a:moveTo>
                    <a:pt x="0" y="99"/>
                  </a:moveTo>
                  <a:lnTo>
                    <a:pt x="90" y="54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5267160" y="4962600"/>
            <a:ext cx="2145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63640" y="49766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539040" y="5291280"/>
            <a:ext cx="1301760" cy="428400"/>
          </a:xfrm>
          <a:prstGeom prst="rect">
            <a:avLst/>
          </a:prstGeom>
          <a:solidFill>
            <a:srgbClr val="66ccff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693840" y="5405400"/>
            <a:ext cx="77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sentenç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840800" y="5419800"/>
            <a:ext cx="471240" cy="156960"/>
            <a:chOff x="7840800" y="5419800"/>
            <a:chExt cx="471240" cy="156960"/>
          </a:xfrm>
        </p:grpSpPr>
        <p:sp>
          <p:nvSpPr>
            <p:cNvPr id="512" name=""/>
            <p:cNvSpPr/>
            <p:nvPr/>
          </p:nvSpPr>
          <p:spPr>
            <a:xfrm>
              <a:off x="7840800" y="5491080"/>
              <a:ext cx="342720" cy="14400"/>
            </a:xfrm>
            <a:custGeom>
              <a:avLst/>
              <a:gdLst/>
              <a:ahLst/>
              <a:rect l="l" t="t" r="r" b="b"/>
              <a:pathLst>
                <a:path w="216" h="9">
                  <a:moveTo>
                    <a:pt x="0" y="9"/>
                  </a:moveTo>
                  <a:lnTo>
                    <a:pt x="144" y="9"/>
                  </a:lnTo>
                  <a:lnTo>
                    <a:pt x="144" y="0"/>
                  </a:lnTo>
                  <a:lnTo>
                    <a:pt x="216" y="0"/>
                  </a:lnTo>
                </a:path>
              </a:pathLst>
            </a:custGeom>
            <a:noFill/>
            <a:ln cap="rnd" w="144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155080" y="5419800"/>
              <a:ext cx="156960" cy="1569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0" y="99"/>
                  </a:moveTo>
                  <a:lnTo>
                    <a:pt x="99" y="45"/>
                  </a:lnTo>
                  <a:lnTo>
                    <a:pt x="0" y="0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8298000" y="5391000"/>
            <a:ext cx="214200" cy="214560"/>
          </a:xfrm>
          <a:prstGeom prst="ellipse">
            <a:avLst/>
          </a:prstGeom>
          <a:solidFill>
            <a:srgbClr val="00cc00"/>
          </a:solidFill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6840" y="2077560"/>
            <a:ext cx="4800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as alternativas (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es const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valia express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a com cada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tra no </a:t>
            </a:r>
            <a:r>
              <a:rPr b="0" lang="pt-BR" sz="20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rrespond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defaul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e não encontra altern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break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– Finaliza swit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xecução prossegue através d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case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410080" y="1523880"/>
            <a:ext cx="3276720" cy="4953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526000" y="1735200"/>
            <a:ext cx="3084480" cy="458928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0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5410080" y="1523880"/>
            <a:ext cx="3276720" cy="495324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57200" y="1523880"/>
            <a:ext cx="4495680" cy="49532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1600200"/>
            <a:ext cx="3809880" cy="4800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Courier New"/>
              </a:rPr>
              <a:t>iníci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witch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xpressão)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or1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break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or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break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or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break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   </a:t>
            </a:r>
            <a:r>
              <a:rPr b="1" lang="pt-BR" sz="20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efaul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   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ntença(s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2000" spc="-1" strike="noStrike">
                <a:solidFill>
                  <a:srgbClr val="ff3300"/>
                </a:solidFill>
                <a:latin typeface="Courier New"/>
                <a:ea typeface="Times New Roman"/>
              </a:rPr>
              <a:t>break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8000"/>
                </a:solidFill>
                <a:latin typeface="Courier New"/>
              </a:rPr>
              <a:t>fi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 rot="16200000">
            <a:off x="-15840" y="2074320"/>
            <a:ext cx="146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intax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5526000" y="1735200"/>
            <a:ext cx="3084480" cy="4589280"/>
          </a:xfrm>
          <a:prstGeom prst="rect">
            <a:avLst/>
          </a:prstGeom>
          <a:ln w="0">
            <a:noFill/>
          </a:ln>
        </p:spPr>
      </p:pic>
      <p:sp>
        <p:nvSpPr>
          <p:cNvPr id="53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457200" y="1981080"/>
            <a:ext cx="8229600" cy="441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09480" y="2057400"/>
            <a:ext cx="7925040" cy="4267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floa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reco, preco_fina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categori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o preço do ingresso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prec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E - estudante,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A - aposentado,\n”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N - normal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a categoria do cliente (E/A/N)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c"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categori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wit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ategoria)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switch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0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57200" y="1981080"/>
            <a:ext cx="8229600" cy="4419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Courier New"/>
              </a:rPr>
              <a:t>swi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09480" y="2057400"/>
            <a:ext cx="7925040" cy="4267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switch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categoria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e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E'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o_final = preco *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.50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“Preco: %f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preco_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a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A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eco_final = preco *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.70f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“Preco: %f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preco_final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n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as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'N'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Preco sem desconto: %f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prec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efaul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Categoria invalida!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break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</a:t>
            </a:r>
            <a:r>
              <a:rPr b="1" lang="pt-BR" sz="3200" spc="-1" strike="noStrike">
                <a:solidFill>
                  <a:srgbClr val="000000"/>
                </a:solidFill>
                <a:latin typeface="Courier New"/>
                <a:ea typeface="Arial"/>
              </a:rPr>
              <a:t>switch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4219560" y="6062400"/>
            <a:ext cx="448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Cinema01\Cinema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 condicional de um blo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if + retur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Para finalizar execução sob determinadas condições (ex: err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f...else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ecução condicional de um bloco ou ou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ões mutuamente exclu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itar um dado ou imprimir mensagem de er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usar cada estrutu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0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asos de U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f...else if...e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ar intervalos de va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árias condições mutuamente exclus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dições com prio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witch (...)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ão com alternativas discre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ternativas em grande núme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processamento for igual para para várias alternati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Quando usar cada estrutur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124128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parativo01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tra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riangul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feitoColateral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gundoGrau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aSwitch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ressao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31640" y="1989000"/>
            <a:ext cx="8280720" cy="4483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main(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int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rgc, 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char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 argv[]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i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3.141592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double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raio, area, perimetr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Digite o raio: 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can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%lf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&amp;rai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 = pi * (raio * rai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 =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2.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pi * raio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Raio: %lf 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rai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“Area: %lf 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area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</a:t>
            </a:r>
            <a:r>
              <a:rPr b="1" lang="pt-BR" sz="1800" spc="-1" strike="noStrike">
                <a:solidFill>
                  <a:srgbClr val="000080"/>
                </a:solidFill>
                <a:latin typeface="Courier New"/>
                <a:ea typeface="Times New Roman"/>
              </a:rPr>
              <a:t>"Perimetro: %lf \n"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, perimetro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pt-BR" sz="18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return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pt-BR" sz="1800" spc="-1" strike="noStrike">
                <a:solidFill>
                  <a:srgbClr val="800000"/>
                </a:solidFill>
                <a:latin typeface="Courier New"/>
                <a:ea typeface="Times New Roman"/>
              </a:rPr>
              <a:t>0</a:t>
            </a: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61320" y="2168640"/>
            <a:ext cx="3957120" cy="9471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enci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74600" indent="-174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oritmos Si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292720" y="3429000"/>
            <a:ext cx="3600360" cy="1800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ndiçõ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decidir se deve executar ou não um blo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5600" y="6152760"/>
            <a:ext cx="56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600" spc="-1" strike="noStrike">
                <a:solidFill>
                  <a:srgbClr val="000000"/>
                </a:solidFill>
                <a:latin typeface="Times New Roman"/>
              </a:rPr>
              <a:t>EstruturasCondicionais\AreaPerimetro01\AreaPerimetro01.vcproj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 do Capítul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struturas Condiciona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ressões matemáticas convenciona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stam validade de uma afirma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sultado: número inte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terpret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gnifica </a:t>
            </a:r>
            <a:r>
              <a:rPr b="0" i="1" lang="pt-BR" sz="2400" spc="-1" strike="noStrike">
                <a:solidFill>
                  <a:srgbClr val="cc0000"/>
                </a:solidFill>
                <a:latin typeface="Arial"/>
              </a:rPr>
              <a:t>fal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não 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significa </a:t>
            </a:r>
            <a:r>
              <a:rPr b="0" i="1" lang="pt-BR" sz="2400" spc="-1" strike="noStrike">
                <a:solidFill>
                  <a:srgbClr val="008000"/>
                </a:solidFill>
                <a:latin typeface="Arial"/>
              </a:rPr>
              <a:t>verdade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dores especi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&lt;   &lt;=   &gt;   &gt;=   ==   !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que são condi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 de Comp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1640" y="2168640"/>
            <a:ext cx="8280720" cy="1260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23080" y="2168640"/>
            <a:ext cx="186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ior qu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01640" y="26949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esquer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51280" y="2707560"/>
            <a:ext cx="45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72000" y="2707560"/>
            <a:ext cx="21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dire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562720" y="3704040"/>
            <a:ext cx="2879640" cy="45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lor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4845240"/>
            <a:ext cx="2879640" cy="45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a express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560920" y="4285080"/>
            <a:ext cx="2879640" cy="45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1640" y="3704040"/>
            <a:ext cx="1800360" cy="45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rot="5400000">
            <a:off x="2295000" y="3095280"/>
            <a:ext cx="818280" cy="94536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127" name=""/>
          <p:cNvSpPr/>
          <p:nvPr/>
        </p:nvSpPr>
        <p:spPr>
          <a:xfrm>
            <a:off x="1690560" y="4401000"/>
            <a:ext cx="2611440" cy="45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: se esq &gt; 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690560" y="5031000"/>
            <a:ext cx="2611440" cy="459720"/>
          </a:xfrm>
          <a:prstGeom prst="rect">
            <a:avLst/>
          </a:prstGeom>
          <a:solidFill>
            <a:srgbClr val="ffcc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: caso contrá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2"/>
            <a:endCxn id="127" idx="1"/>
          </p:cNvCxnSpPr>
          <p:nvPr/>
        </p:nvCxnSpPr>
        <p:spPr>
          <a:xfrm flipH="1" rot="16200000">
            <a:off x="1280160" y="4220280"/>
            <a:ext cx="462600" cy="3589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</p:cxnSp>
      <p:cxnSp>
        <p:nvCxnSpPr>
          <p:cNvPr id="130" name=""/>
          <p:cNvCxnSpPr>
            <a:stCxn id="125" idx="2"/>
            <a:endCxn id="128" idx="1"/>
          </p:cNvCxnSpPr>
          <p:nvPr/>
        </p:nvCxnSpPr>
        <p:spPr>
          <a:xfrm flipH="1" rot="16200000">
            <a:off x="965160" y="4535640"/>
            <a:ext cx="1092960" cy="358920"/>
          </a:xfrm>
          <a:prstGeom prst="bentConnector2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</p:cxnSp>
      <p:sp>
        <p:nvSpPr>
          <p:cNvPr id="13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962000" y="3159000"/>
            <a:ext cx="3600000" cy="1916280"/>
            <a:chOff x="1962000" y="3159000"/>
            <a:chExt cx="3600000" cy="1916280"/>
          </a:xfrm>
        </p:grpSpPr>
        <p:cxnSp>
          <p:nvCxnSpPr>
            <p:cNvPr id="133" name=""/>
            <p:cNvCxnSpPr>
              <a:stCxn id="121" idx="2"/>
              <a:endCxn id="122" idx="1"/>
            </p:cNvCxnSpPr>
            <p:nvPr/>
          </p:nvCxnSpPr>
          <p:spPr>
            <a:xfrm flipH="1" rot="16200000">
              <a:off x="4803840" y="3175560"/>
              <a:ext cx="707040" cy="81036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134" name=""/>
            <p:cNvCxnSpPr>
              <a:stCxn id="121" idx="2"/>
              <a:endCxn id="123" idx="1"/>
            </p:cNvCxnSpPr>
            <p:nvPr/>
          </p:nvCxnSpPr>
          <p:spPr>
            <a:xfrm flipH="1" rot="16200000">
              <a:off x="4232880" y="3746160"/>
              <a:ext cx="1848600" cy="81036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</p:cxnSp>
        <p:cxnSp>
          <p:nvCxnSpPr>
            <p:cNvPr id="135" name=""/>
            <p:cNvCxnSpPr>
              <a:stCxn id="121" idx="2"/>
              <a:endCxn id="124" idx="1"/>
            </p:cNvCxnSpPr>
            <p:nvPr/>
          </p:nvCxnSpPr>
          <p:spPr>
            <a:xfrm flipH="1" rot="16200000">
              <a:off x="4513320" y="3466800"/>
              <a:ext cx="1288080" cy="808560"/>
            </a:xfrm>
            <a:prstGeom prst="bentConnector2">
              <a:avLst/>
            </a:prstGeom>
            <a:ln w="28440">
              <a:solidFill>
                <a:srgbClr val="ff0000"/>
              </a:solidFill>
              <a:miter/>
              <a:tailEnd len="med" type="triangle" w="lg"/>
            </a:ln>
          </p:spPr>
        </p:cxnSp>
        <p:sp>
          <p:nvSpPr>
            <p:cNvPr id="136" name=""/>
            <p:cNvSpPr/>
            <p:nvPr/>
          </p:nvSpPr>
          <p:spPr>
            <a:xfrm>
              <a:off x="1962000" y="3159000"/>
              <a:ext cx="0" cy="179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62000" y="3338640"/>
              <a:ext cx="278928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es de comp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962000" y="2077920"/>
          <a:ext cx="6275520" cy="4029120"/>
        </p:xfrm>
        <a:graphic>
          <a:graphicData uri="http://schemas.openxmlformats.org/drawingml/2006/table">
            <a:tbl>
              <a:tblPr/>
              <a:tblGrid>
                <a:gridCol w="560520"/>
                <a:gridCol w="560160"/>
                <a:gridCol w="560520"/>
                <a:gridCol w="1893960"/>
                <a:gridCol w="539640"/>
                <a:gridCol w="2160720"/>
              </a:tblGrid>
              <a:tr h="366120"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press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ondi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sult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&gt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≤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fals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≥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&lt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fals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&lt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≥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fals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&l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≤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&gt;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fals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=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≠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fals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528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!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400" spc="-1" strike="noStrike">
                          <a:solidFill>
                            <a:srgbClr val="000000"/>
                          </a:solidFill>
                          <a:latin typeface="Courier New"/>
                          <a:ea typeface="Arial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≠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8000"/>
                          </a:solidFill>
                          <a:latin typeface="Arial"/>
                          <a:ea typeface="Arial"/>
                        </a:rPr>
                        <a:t>(verdadeir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5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 a =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cc0000"/>
                          </a:solidFill>
                          <a:latin typeface="Arial"/>
                          <a:ea typeface="Arial"/>
                        </a:rPr>
                        <a:t>(fals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41" name=""/>
          <p:cNvGrpSpPr/>
          <p:nvPr/>
        </p:nvGrpSpPr>
        <p:grpSpPr>
          <a:xfrm>
            <a:off x="342360" y="3159000"/>
            <a:ext cx="2789640" cy="1621080"/>
            <a:chOff x="342360" y="3159000"/>
            <a:chExt cx="2789640" cy="1621080"/>
          </a:xfrm>
        </p:grpSpPr>
        <p:sp>
          <p:nvSpPr>
            <p:cNvPr id="142" name=""/>
            <p:cNvSpPr/>
            <p:nvPr/>
          </p:nvSpPr>
          <p:spPr>
            <a:xfrm>
              <a:off x="2502000" y="4419720"/>
              <a:ext cx="63000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502000" y="3159000"/>
              <a:ext cx="63000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2360" y="3718080"/>
              <a:ext cx="1297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Aten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45" name=""/>
            <p:cNvCxnSpPr>
              <a:stCxn id="144" idx="3"/>
              <a:endCxn id="143" idx="4"/>
            </p:cNvCxnSpPr>
            <p:nvPr/>
          </p:nvCxnSpPr>
          <p:spPr>
            <a:xfrm flipV="1">
              <a:off x="1642680" y="3533040"/>
              <a:ext cx="1175400" cy="41364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46" name=""/>
            <p:cNvCxnSpPr>
              <a:stCxn id="144" idx="3"/>
              <a:endCxn id="142" idx="0"/>
            </p:cNvCxnSpPr>
            <p:nvPr/>
          </p:nvCxnSpPr>
          <p:spPr>
            <a:xfrm>
              <a:off x="1642680" y="3946680"/>
              <a:ext cx="1175400" cy="45936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grpSp>
        <p:nvGrpSpPr>
          <p:cNvPr id="147" name=""/>
          <p:cNvGrpSpPr/>
          <p:nvPr/>
        </p:nvGrpSpPr>
        <p:grpSpPr>
          <a:xfrm>
            <a:off x="345240" y="5048280"/>
            <a:ext cx="2786760" cy="901800"/>
            <a:chOff x="345240" y="5048280"/>
            <a:chExt cx="2786760" cy="901800"/>
          </a:xfrm>
        </p:grpSpPr>
        <p:sp>
          <p:nvSpPr>
            <p:cNvPr id="148" name=""/>
            <p:cNvSpPr/>
            <p:nvPr/>
          </p:nvSpPr>
          <p:spPr>
            <a:xfrm>
              <a:off x="2502000" y="5589720"/>
              <a:ext cx="63000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502000" y="5048280"/>
              <a:ext cx="630000" cy="36036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5240" y="5234040"/>
              <a:ext cx="1398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Cuidado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1" name=""/>
            <p:cNvCxnSpPr>
              <a:stCxn id="150" idx="3"/>
              <a:endCxn id="149" idx="2"/>
            </p:cNvCxnSpPr>
            <p:nvPr/>
          </p:nvCxnSpPr>
          <p:spPr>
            <a:xfrm flipV="1">
              <a:off x="1747440" y="5229000"/>
              <a:ext cx="740520" cy="23400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stCxn id="150" idx="3"/>
              <a:endCxn id="148" idx="2"/>
            </p:cNvCxnSpPr>
            <p:nvPr/>
          </p:nvCxnSpPr>
          <p:spPr>
            <a:xfrm>
              <a:off x="1747440" y="5462280"/>
              <a:ext cx="740520" cy="308520"/>
            </a:xfrm>
            <a:prstGeom prst="straightConnector1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</p:cxnSp>
      </p:grpSp>
      <p:sp>
        <p:nvSpPr>
          <p:cNvPr id="153" name=""/>
          <p:cNvSpPr/>
          <p:nvPr/>
        </p:nvSpPr>
        <p:spPr>
          <a:xfrm>
            <a:off x="979200" y="6095880"/>
            <a:ext cx="674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Não confundir igualdade (==) com atribuição (=)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di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empl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431640" y="2168640"/>
            <a:ext cx="8280720" cy="1439640"/>
            <a:chOff x="431640" y="2168640"/>
            <a:chExt cx="8280720" cy="1439640"/>
          </a:xfrm>
        </p:grpSpPr>
        <p:sp>
          <p:nvSpPr>
            <p:cNvPr id="158" name=""/>
            <p:cNvSpPr/>
            <p:nvPr/>
          </p:nvSpPr>
          <p:spPr>
            <a:xfrm>
              <a:off x="431640" y="2168640"/>
              <a:ext cx="8280720" cy="1439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2720" y="2259000"/>
              <a:ext cx="2519280" cy="1311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a, b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a = (1 &lt; 2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b = (3 &lt;= 2);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431640" y="3789360"/>
            <a:ext cx="8280720" cy="2070000"/>
            <a:chOff x="431640" y="3789360"/>
            <a:chExt cx="8280720" cy="2070000"/>
          </a:xfrm>
        </p:grpSpPr>
        <p:sp>
          <p:nvSpPr>
            <p:cNvPr id="161" name=""/>
            <p:cNvSpPr/>
            <p:nvPr/>
          </p:nvSpPr>
          <p:spPr>
            <a:xfrm>
              <a:off x="431640" y="3789360"/>
              <a:ext cx="8280720" cy="2070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12720" y="3879720"/>
              <a:ext cx="2519280" cy="19209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c = 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d = 10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int e, f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e = (c == d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Times New Roman"/>
                </a:rPr>
                <a:t>f = (c != d);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3702960" y="2438280"/>
            <a:ext cx="86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702240" y="4419720"/>
            <a:ext cx="86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 =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852360" y="2438280"/>
            <a:ext cx="22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= </a:t>
            </a: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1 (verd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 =  </a:t>
            </a: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0 (fal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881160" y="4406760"/>
            <a:ext cx="225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 =  </a:t>
            </a: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0 (fal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  = </a:t>
            </a:r>
            <a:r>
              <a:rPr b="0" lang="pt-BR" sz="2400" spc="-1" strike="noStrike">
                <a:solidFill>
                  <a:srgbClr val="008000"/>
                </a:solidFill>
                <a:latin typeface="Arial"/>
              </a:rPr>
              <a:t>1 (verda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arnaldo</cp:lastModifiedBy>
  <dcterms:modified xsi:type="dcterms:W3CDTF">2007-03-12T19:04:22Z</dcterms:modified>
  <cp:revision>59</cp:revision>
  <dc:subject/>
  <dc:title>Curso de C</dc:title>
</cp:coreProperties>
</file>