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C7E0-1E82-4450-B894-554FA1DE1BE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hegou a hora de falar sobre o código C que está no corpo da função. É importante ressaltar que o início do corpo da função permite declarar novas variáveis locais e que sua atuação será restrita à fun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hegou a hora de falar sobre o código C que está no corpo da função. É importante ressaltar que o início do corpo da função permite declarar novas variáveis locais e que sua atuação será restrita à fun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hegou a hora de falar sobre o código C que está no corpo da função. É importante ressaltar que o início do corpo da função permite declarar novas variáveis locais e que sua atuação será restrita à fun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hegou a hora de falar sobre o código C que está no corpo da função. É importante ressaltar que o início do corpo da função permite declarar novas variáveis locais e que sua atuação será restrita à fun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hegou a hora de falar sobre o código C que está no corpo da função. É importante ressaltar que o início do corpo da função permite declarar novas variáveis locais e que sua atuação será restrita à fun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hegou a hora de falar sobre o código C que está no corpo da função. É importante ressaltar que o início do corpo da função permite declarar novas variáveis locais e que sua atuação será restrita à fun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hegou a hora de falar sobre o código C que está no corpo da função. É importante ressaltar que o início do corpo da função permite declarar novas variáveis locais e que sua atuação será restrita à fun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hegou a hora de falar sobre o código C que está no corpo da função. É importante ressaltar que o início do corpo da função permite declarar novas variáveis locais e que sua atuação será restrita à fun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slide, o objetivo é explicar aos alunos o que é uma funçã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plicar por que tirar o código do programa principal e espalhar ele em funções podem melhorar a estrutura do program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Vamos introduzir um exemplo simples, no começo usando programação sem estruturas de funç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ostrar o exemplo em Visual Studi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iscussão dos problemas de repetir o cálculo da média duas vezes, uma cada alun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encionar (mas não entrar em detalhes) que o programa principal é extenso e faz coisas diferen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41E4-70B3-4516-8448-A5B79DFC3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9A07-1021-43DB-8236-AE35F8DA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F30C-2BFD-4553-B65E-92C1CE71C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B9B0-4D96-4C40-8DB1-769256CF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E83F1-ECBA-48B1-9C77-3CB4D752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5D2B6-C1AD-4679-AC47-005FCA674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EDFA1-14AE-47CE-92A0-BD83D61A4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16C06-FCB0-4482-9397-B1672A87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FA52-AD76-410C-98DF-5AAEC5C2A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6D2E-100A-49CF-B7CA-8D4AD8199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223AD-A710-421A-9947-01F31BA39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7D0D-7E0A-416A-B92A-61C797FD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AD2E-95CC-4DDC-BC32-24357D04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4B7CF-AC78-4C51-B93B-78F3C81A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663F0-638E-4578-9412-1765175F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9B0EE-3C21-45BC-B259-FEC0D735E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556D2-A095-4C47-9DE6-B391DE693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DC32-CE4C-4403-ACF5-B9F54BF1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BA06-7338-4BBB-9210-336ADAFD3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5526-E6F6-4783-BE2B-B1B4AF10C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8361-D0BC-4A33-B357-1E92E4A9E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8604-B29C-47CD-9C6A-E288A9FC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9A1B-E6D2-4FEE-8C93-79328BE8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6C159-39BE-46F2-83A9-7617DE915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5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3CF68-6456-4730-8739-072C87D35F6C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607178F3-67F6-441D-9312-1CEA057B0BD2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9D74-AB44-4CBA-86C7-F94CD5031BEC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08000" y="-33480"/>
            <a:ext cx="71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urso C - IC/UNIC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43164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12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871236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14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64B66-C0A1-4B9C-A119-1DF2290112A9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CD106596-34ED-4477-BAC9-D936107FB10E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BAFA0-34C4-4222-804D-49D679206AFB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Procedimentos e Funçõe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0344-D6F6-4AFC-8BA9-838A966D2CE0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9AD7BC7-B8A0-45D6-B2E1-024EE318F62D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Chamada de Funçõe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F9AEA-5CA9-4382-98C4-B62AFE5FE3B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65BED11-E66C-4CCC-A708-4FE0CC91D9AD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83552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rrupção do programa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ssagem de dados de entrada para a fun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cução do código da fun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torno do 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inuação do programa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hamada de fun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292720" y="2665440"/>
            <a:ext cx="3387600" cy="3284640"/>
          </a:xfrm>
          <a:prstGeom prst="rect">
            <a:avLst/>
          </a:prstGeom>
          <a:ln w="0">
            <a:noFill/>
          </a:ln>
        </p:spPr>
      </p:pic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C7E8-026D-4F8B-A99F-ACB392D6A6D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E93BA4-CA87-46A1-BDF3-4C682C82FA0C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chamar uma fun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entença(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esultado = nome(entr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, entr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entença(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hamada de fun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111640" y="2708280"/>
            <a:ext cx="3252960" cy="825480"/>
          </a:xfrm>
          <a:prstGeom prst="borderCallout1">
            <a:avLst>
              <a:gd name="adj1" fmla="val 18750"/>
              <a:gd name="adj2" fmla="val -8333"/>
              <a:gd name="adj3" fmla="val 107671"/>
              <a:gd name="adj4" fmla="val -14638"/>
            </a:avLst>
          </a:prstGeom>
          <a:solidFill>
            <a:srgbClr val="ffffff"/>
          </a:solidFill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lores de entrada (parâme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51280" y="4819680"/>
            <a:ext cx="3252960" cy="459720"/>
          </a:xfrm>
          <a:prstGeom prst="borderCallout1">
            <a:avLst>
              <a:gd name="adj1" fmla="val 18750"/>
              <a:gd name="adj2" fmla="val -8333"/>
              <a:gd name="adj3" fmla="val -197805"/>
              <a:gd name="adj4" fmla="val -11805"/>
            </a:avLst>
          </a:prstGeom>
          <a:solidFill>
            <a:srgbClr val="ffffff"/>
          </a:solidFill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me da fu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0560" y="4059360"/>
            <a:ext cx="1722600" cy="459720"/>
          </a:xfrm>
          <a:prstGeom prst="borderCallout1">
            <a:avLst>
              <a:gd name="adj1" fmla="val 18750"/>
              <a:gd name="adj2" fmla="val -8333"/>
              <a:gd name="adj3" fmla="val -32782"/>
              <a:gd name="adj4" fmla="val 121370"/>
            </a:avLst>
          </a:prstGeom>
          <a:solidFill>
            <a:srgbClr val="ffffff"/>
          </a:solidFill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8488-C86C-4BF5-863F-4F1180063D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94A6EC-B79B-42B2-9B56-F2850C207B1C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31640" y="2077560"/>
            <a:ext cx="8280720" cy="4048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#include &lt;math.h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main(int argc, char *argv[]) {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ouble x1, x2, y1, y2, d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canf("%lf, %lf, %lf, %lf", &amp;x1, &amp;y1, &amp;x2, &amp;y2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 =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sqrt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((x1-x2)*(x1-x2) + (y1-y2)*(y1-y2)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rintf("Distância: %lf", d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eturn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alcular distância entre dois pon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743200" y="5181480"/>
            <a:ext cx="1363680" cy="459720"/>
          </a:xfrm>
          <a:prstGeom prst="borderCallout2">
            <a:avLst>
              <a:gd name="adj1" fmla="val 18750"/>
              <a:gd name="adj2" fmla="val -8333"/>
              <a:gd name="adj3" fmla="val 24162"/>
              <a:gd name="adj4" fmla="val -25611"/>
              <a:gd name="adj5" fmla="val -156962"/>
              <a:gd name="adj6" fmla="val -46421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Fu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5029200"/>
            <a:ext cx="2879640" cy="8254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37046"/>
              <a:gd name="adj5" fmla="val -52439"/>
              <a:gd name="adj6" fmla="val -72597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Valores de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(parâme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rot="16200000">
            <a:off x="3427920" y="3505680"/>
            <a:ext cx="90720" cy="2070360"/>
          </a:xfrm>
          <a:custGeom>
            <a:avLst/>
            <a:gdLst>
              <a:gd name="textAreaLeft" fmla="*/ 57960 w 90720"/>
              <a:gd name="textAreaRight" fmla="*/ 91080 w 90720"/>
              <a:gd name="textAreaTop" fmla="*/ 54000 h 2070360"/>
              <a:gd name="textAreaBottom" fmla="*/ 2016360 h 207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5791320"/>
            <a:ext cx="1800360" cy="459720"/>
          </a:xfrm>
          <a:prstGeom prst="borderCallout2">
            <a:avLst>
              <a:gd name="adj1" fmla="val 18750"/>
              <a:gd name="adj2" fmla="val -8333"/>
              <a:gd name="adj3" fmla="val 24162"/>
              <a:gd name="adj4" fmla="val -34037"/>
              <a:gd name="adj5" fmla="val -302657"/>
              <a:gd name="adj6" fmla="val -64532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Result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551640" y="2259000"/>
            <a:ext cx="2251080" cy="1191240"/>
          </a:xfrm>
          <a:prstGeom prst="borderCallout2">
            <a:avLst>
              <a:gd name="adj1" fmla="val 18750"/>
              <a:gd name="adj2" fmla="val -8333"/>
              <a:gd name="adj3" fmla="val 9500"/>
              <a:gd name="adj4" fmla="val -40055"/>
              <a:gd name="adj5" fmla="val 150601"/>
              <a:gd name="adj6" fmla="val -78060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Interrompe o programa para executar 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sq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77120" y="4038480"/>
            <a:ext cx="2251080" cy="8254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29125"/>
              <a:gd name="adj5" fmla="val 69615"/>
              <a:gd name="adj6" fmla="val -55833"/>
            </a:avLst>
          </a:prstGeom>
          <a:solidFill>
            <a:srgbClr val="ffffff"/>
          </a:solidFill>
          <a:ln w="15840">
            <a:solidFill>
              <a:srgbClr val="ff0000"/>
            </a:solidFill>
            <a:miter/>
            <a:head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Depois continua aq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01280" y="5792400"/>
            <a:ext cx="354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Funcoes\Chamada01\Chamada01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85EC-6CA2-4FFF-A1F0-4B908240EA2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F83D91-2E94-418D-95E5-95E145AAAC4E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Definição de Funçõe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6F376-2538-411D-8EB7-1FDDDB39B05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F0E1B4C-4580-49F8-88BC-A1A717C5A476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612720" y="2529000"/>
            <a:ext cx="7916760" cy="36003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tipo</a:t>
            </a:r>
            <a:r>
              <a:rPr b="1" lang="pt-BR" sz="28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 nome(parâmetros)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6600"/>
                </a:solidFill>
                <a:latin typeface="Courier New"/>
                <a:ea typeface="Times New Roman"/>
              </a:rPr>
              <a:t>declarações de variáve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Courier New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6600"/>
                </a:solidFill>
                <a:latin typeface="Courier New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Courier New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6600"/>
                </a:solidFill>
                <a:latin typeface="Courier New"/>
                <a:ea typeface="Times New Roman"/>
              </a:rPr>
              <a:t>instruçõ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6600"/>
                </a:solidFill>
                <a:latin typeface="Courier New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6600"/>
                </a:solidFill>
                <a:latin typeface="Courier New"/>
                <a:ea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return valor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finição de funçõ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12946-881B-4615-9341-988FCE4D41C9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5657CA-BEFA-4269-91D3-D2CC2A8EB548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31640" y="1989000"/>
            <a:ext cx="822960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bjetivo: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dentificar o trecho de código da fun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nome é usado na cham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Formação: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gual a nome de vari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No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00720" y="4563000"/>
            <a:ext cx="4386960" cy="19227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p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nom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âmetro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lar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ruçõ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va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032360" y="4959000"/>
            <a:ext cx="1439640" cy="53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50920" y="5229360"/>
            <a:ext cx="287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Nome da fun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F1EF-BB0A-4C2A-A8B3-14C288AE8BC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47A6B3-4B37-496B-B3C9-63DF54E03885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882720" y="2259000"/>
            <a:ext cx="3779640" cy="3152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... </a:t>
            </a:r>
            <a:r>
              <a:rPr b="1" lang="pt-BR" sz="2800" spc="-1" strike="noStrike">
                <a:solidFill>
                  <a:srgbClr val="cc0000"/>
                </a:solidFill>
                <a:latin typeface="Courier New"/>
              </a:rPr>
              <a:t>media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(...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Declar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Instru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No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500720" y="4563000"/>
            <a:ext cx="4386960" cy="19227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p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nom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âmetro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lar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ruçõ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va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9840" y="1512720"/>
            <a:ext cx="405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Nome da função: </a:t>
            </a:r>
            <a:r>
              <a:rPr b="0" lang="pt-BR" sz="2800" spc="-1" strike="noStrike">
                <a:solidFill>
                  <a:srgbClr val="ff0000"/>
                </a:solidFill>
                <a:latin typeface="Courier Ne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2411280" y="1808280"/>
            <a:ext cx="720720" cy="541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842000" y="2889360"/>
            <a:ext cx="90360" cy="1619280"/>
          </a:xfrm>
          <a:custGeom>
            <a:avLst/>
            <a:gdLst>
              <a:gd name="textAreaLeft" fmla="*/ 0 w 90360"/>
              <a:gd name="textAreaRight" fmla="*/ 32760 w 90360"/>
              <a:gd name="textAreaTop" fmla="*/ 42120 h 1619280"/>
              <a:gd name="textAreaBottom" fmla="*/ 1577160 h 16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14160" y="3465360"/>
            <a:ext cx="281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Corpo da fun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1E7F-05D4-4F4C-9B87-0BA12C96C6E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639A74-423A-4A95-88A4-6454684FB369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2077920"/>
            <a:ext cx="816624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bjetiv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r dados de entr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ão variáveis especiais, atribuída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na chamad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a fun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sta de tipos e no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arâmet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6680" y="4602600"/>
            <a:ext cx="4386960" cy="19227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p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me(</a:t>
            </a:r>
            <a:r>
              <a:rPr b="1" i="1" lang="pt-BR" sz="24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parâmetro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lar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ruçõ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va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5202360" y="3249720"/>
            <a:ext cx="3387600" cy="3284280"/>
          </a:xfrm>
          <a:prstGeom prst="rect">
            <a:avLst/>
          </a:prstGeom>
          <a:ln w="0">
            <a:noFill/>
          </a:ln>
        </p:spPr>
      </p:pic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74FA-936F-4B2A-B40D-B75E4E55701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EBF80F-2C5B-481A-AEB8-D17D7F0DC14F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701640" y="3389400"/>
            <a:ext cx="7740720" cy="27255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... media(</a:t>
            </a:r>
            <a:r>
              <a:rPr b="1" lang="pt-BR" sz="2800" spc="-1" strike="noStrike">
                <a:solidFill>
                  <a:srgbClr val="cc0000"/>
                </a:solidFill>
                <a:latin typeface="Courier New"/>
              </a:rPr>
              <a:t>float nota1, float nota2,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pt-BR" sz="2800" spc="-1" strike="noStrike">
                <a:solidFill>
                  <a:srgbClr val="cc0000"/>
                </a:solidFill>
                <a:latin typeface="Courier New"/>
              </a:rPr>
              <a:t>float nota3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Declar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Instru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arâmet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00720" y="4563000"/>
            <a:ext cx="4386960" cy="19227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p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me(</a:t>
            </a:r>
            <a:r>
              <a:rPr b="1" i="1" lang="pt-BR" sz="24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parâmetro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lar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ruçõ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va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3492360" y="2798640"/>
            <a:ext cx="449280" cy="63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92360" y="1898640"/>
            <a:ext cx="692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Lista de 3 parâmetr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Variáveis </a:t>
            </a:r>
            <a:r>
              <a:rPr b="1" lang="pt-BR" sz="2400" spc="-1" strike="noStrike">
                <a:solidFill>
                  <a:srgbClr val="cc0000"/>
                </a:solidFill>
                <a:latin typeface="Arial"/>
              </a:rPr>
              <a:t>float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0000"/>
                </a:solidFill>
                <a:latin typeface="Courier New"/>
              </a:rPr>
              <a:t>nota1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pt-BR" sz="2800" spc="-1" strike="noStrike">
                <a:solidFill>
                  <a:srgbClr val="ff0000"/>
                </a:solidFill>
                <a:latin typeface="Courier New"/>
              </a:rPr>
              <a:t>nota2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 e </a:t>
            </a:r>
            <a:r>
              <a:rPr b="0" lang="pt-BR" sz="2800" spc="-1" strike="noStrike">
                <a:solidFill>
                  <a:srgbClr val="ff0000"/>
                </a:solidFill>
                <a:latin typeface="Courier New"/>
              </a:rPr>
              <a:t>nota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CACE-B52B-440A-BB86-99174F1C09A1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2BEDE-06F7-4F23-BE56-B3071DAC5F56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vidir o programa em funções pa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lhorar a organ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proveitar códi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mplificar os progra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tender quando variáveis são acessíveis e por quanto tempo armazenam o val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9293-22BD-4B04-BFE5-DB36EA8C9F3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02227-18DA-4919-964C-D74CDBDC7E0B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o chamar a função, o valor de cada parâmetro deve ser inform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gr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valor para cada parâme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lores compatíveis com o tipo do parâmet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lores na mesma ordem que na declar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arâmetros na chamada de fun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971640" y="5478480"/>
            <a:ext cx="7200720" cy="82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mada de fun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ome(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ametro1, parametro2, ...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D1C1-2381-49B0-976A-6F9D9603856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FC95A-03C7-454E-8D8E-E6542B89BD6A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701640" y="4508640"/>
            <a:ext cx="7921800" cy="19947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 potencia(</a:t>
            </a:r>
            <a:r>
              <a:rPr b="1" lang="pt-BR" sz="2400" spc="-1" strike="noStrike">
                <a:solidFill>
                  <a:srgbClr val="cc0000"/>
                </a:solidFill>
                <a:latin typeface="Courier New"/>
              </a:rPr>
              <a:t>float base, float expoent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// Corpo da fun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arâmetros na chamada de fun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11280" y="2168640"/>
            <a:ext cx="7921440" cy="897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loat result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esultado = </a:t>
            </a:r>
            <a:r>
              <a:rPr b="1" lang="pt-BR" sz="2400" spc="-1" strike="noStrike">
                <a:solidFill>
                  <a:srgbClr val="cc0000"/>
                </a:solidFill>
                <a:latin typeface="Courier New"/>
              </a:rPr>
              <a:t>potencia(2.0f, 5.0f)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4392720" y="3159000"/>
            <a:ext cx="358560" cy="126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42000" y="3159000"/>
            <a:ext cx="809640" cy="126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233760" y="3448080"/>
            <a:ext cx="229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expoente = 5.0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863080" y="34290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base = 2.0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8040" y="4059360"/>
            <a:ext cx="40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claração da funçã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otenc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1640" y="3159000"/>
            <a:ext cx="261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ção execu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65C0-08AD-496D-A64B-54811BCE4A35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1CADB-29C3-4777-A620-0C7634625F38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077920"/>
            <a:ext cx="8229600" cy="28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ipos: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 int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long int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ão variáveis declaradas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no corp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a função e que vão ser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inicializadas com cópi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os valores correspondentes às expressões na chamada da funçã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arâmetros na chamada de fun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5037120"/>
            <a:ext cx="7921440" cy="1080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 maior_elemento(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</a:rPr>
              <a:t>char c, int tamanho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orpo da fun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5EC0-CD4A-4AFA-B36B-2BFA68B51BBE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D9AAA-C7FF-4B04-83BE-FECADF9A8731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880920" y="2798640"/>
            <a:ext cx="5940720" cy="2298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...funcaoSemParametros</a:t>
            </a:r>
            <a:r>
              <a:rPr b="1" lang="pt-BR" sz="2800" spc="-1" strike="noStrike">
                <a:solidFill>
                  <a:srgbClr val="cc0000"/>
                </a:solidFill>
                <a:latin typeface="Courier New"/>
              </a:rPr>
              <a:t>()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Declar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Instru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Função sem parâmet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832360" y="2506680"/>
            <a:ext cx="449280" cy="3618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83080" y="2077920"/>
            <a:ext cx="443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Lista vazia de parâmet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5143320"/>
            <a:ext cx="4140000" cy="82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amada de fun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aoSemParametros(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46600" y="4238640"/>
            <a:ext cx="4397400" cy="193032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p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me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)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lar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ruçõ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va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B59D-0637-4EA1-A9C3-DBA0E4D58D10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38E54-D26D-442B-9073-385AC262FF8F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27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bjetivo: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ém o código que implementa o algoritmo da fun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clara variáveis loca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âmetros são variáveis locais, já pré-declar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rpo da fun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00720" y="4563000"/>
            <a:ext cx="4386960" cy="19227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p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me(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âmetro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declar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cc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instruçõ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va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DC51-5DF2-44CB-B290-3FFD2639EB2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1E82F9-72C2-42FB-B5D1-9BB7FCA7490F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31640" y="2259000"/>
            <a:ext cx="8280720" cy="3825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 media(float nota1, float nota2, float nota3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float med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if ((nota1 &lt;= nota2) &amp;&amp; (nota1 &lt;= nota3)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media = (nota2 + nota3) / 2.0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} else if ((nota2 &lt;= nota1) &amp;&amp; (nota2 &lt;= nota3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media = (nota1 + nota3) / 2.0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media = (nota1 + nota2) / 2.0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rpo da fun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2AB6-13D3-4A77-93D5-702796974ECC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5C310A-45FB-40F8-AF94-90958FAE53EA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0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18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ipo da fun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dica o domínio do resultado da fun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lquer tipo válido para variá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Valor de retorn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5240" y="4242240"/>
            <a:ext cx="4386960" cy="19227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tip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me(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âmetro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lar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ruçõ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va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00200" y="4508640"/>
            <a:ext cx="900000" cy="180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4689360"/>
            <a:ext cx="161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Tipo da fun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6281640" y="3789360"/>
            <a:ext cx="2400480" cy="2327400"/>
          </a:xfrm>
          <a:prstGeom prst="rect">
            <a:avLst/>
          </a:prstGeom>
          <a:ln w="0">
            <a:noFill/>
          </a:ln>
        </p:spPr>
      </p:pic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39F9-A3E9-492C-BEC0-12767F1D922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078805-74FE-4122-84BF-68227C01D63D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mando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rmina a execução da fun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e o resultado (valor de retorn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 ser compatível com o tipo da fun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Valor de retorn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5960" y="4242240"/>
            <a:ext cx="4386960" cy="19227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p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me(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arâmetro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claraçõ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struçõ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return va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6281640" y="3968640"/>
            <a:ext cx="2400480" cy="232740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1781280" y="5408640"/>
            <a:ext cx="900000" cy="903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4959360"/>
            <a:ext cx="170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Valor do result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7D14-E605-4E7F-8FAB-0DD7FC8030B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89FFB-F6DD-4F13-89C0-09E13F021755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431640" y="2259000"/>
            <a:ext cx="8280720" cy="3520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Courier New"/>
              </a:rPr>
              <a:t>float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media(float nota1, float nota2, float nota3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loat med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if ((nota1 &lt;= nota2) &amp;&amp; (nota1 &lt;= nota3)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edia = (nota2 + nota3) / 2.0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 else if ((nota2 &lt;= nota1) &amp;&amp; (nota1 &lt;= nota3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edia = (nota1 + nota3) / 2.0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media = (nota1 + nota2) / 2.0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</a:rPr>
              <a:t>return med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Valor de retorn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6847-22B3-445D-88C6-B6B4ED0E52A0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9246BD-0BF9-47E6-B95F-EE81D2D039B8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0" dur="indefinite" restart="never" nodeType="tmRoot">
          <p:childTnLst>
            <p:seq>
              <p:cTn id="541" dur="indefinite" nodeType="mainSeq">
                <p:childTnLst>
                  <p:par>
                    <p:cTn id="542" fill="hold">
                      <p:stCondLst>
                        <p:cond delay="0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520560" y="2044800"/>
            <a:ext cx="8012160" cy="3215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Courier New"/>
              </a:rPr>
              <a:t>void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comparaNotas(float mediaA, float mediaB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f (mediaA &gt; mediaB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rintf("Aluno A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 else if (mediaA &lt; mediaB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rintf("Aluno B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rintf(“Alunos A e B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</a:rPr>
              <a:t>return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Função sem valor de retorn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0560" y="5319720"/>
            <a:ext cx="8102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Tipo de retorno: </a:t>
            </a:r>
            <a:r>
              <a:rPr b="1" lang="pt-BR" sz="2800" spc="-1" strike="noStrike">
                <a:solidFill>
                  <a:srgbClr val="ff0000"/>
                </a:solidFill>
                <a:latin typeface="Courier New"/>
              </a:rPr>
              <a:t>vo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Esta função não retorna resul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3756-FC54-49B9-A072-B2128618284F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13A5A8-DB4B-477D-8714-67F9FF69A0BA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0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claração e cham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unções importa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s de fun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lobais, locais, estáticas e parâme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otei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28BB-CC28-40FD-9E91-DC13C1587F3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A4DF57-CB33-4A2C-B1F0-B6EEB5304D53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31640" y="2044800"/>
            <a:ext cx="8280720" cy="4434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Courier New"/>
              </a:rPr>
              <a:t>float media(float nota1, float nota2, float nota3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float med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if ((nota1 &lt;= nota2) &amp;&amp; (nota1 &lt;= nota3)) {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media = (nota2 + nota3) / 2.0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} else if ((nota2 &lt;= nota1) &amp;&amp; (nota1 &lt;= nota3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media = (nota1 + nota3) / 2.0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} else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media = (nota1 + nota2) / 2.0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it-IT" sz="20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eturn medi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completo: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fun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1C3E-150B-4A58-A4BD-F03296C5DB0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C9EBC-EA3E-47FA-B931-E75AE58C0ED4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31640" y="2044800"/>
            <a:ext cx="8280720" cy="3928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82800" bIns="82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int main(int argc, char *argv[]) {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float notaA1, notaA2, notaA3, mediaA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float notaB1, notaB2, notaB3, mediaB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scanf("%f %f %f", &amp;notaA1, &amp;notaA2, &amp;notaA3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scanf("%f %f %f", &amp;notaB1, &amp;notaB2, &amp;notaB3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900" spc="-1" strike="noStrike">
                <a:solidFill>
                  <a:srgbClr val="008000"/>
                </a:solidFill>
                <a:latin typeface="Courier New"/>
              </a:rPr>
              <a:t>mediaA</a:t>
            </a: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pt-BR" sz="1900" spc="-1" strike="noStrike">
                <a:solidFill>
                  <a:srgbClr val="ff0000"/>
                </a:solidFill>
                <a:latin typeface="Courier New"/>
              </a:rPr>
              <a:t>mediaMelhoresNotas</a:t>
            </a: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1900" spc="-1" strike="noStrike">
                <a:solidFill>
                  <a:srgbClr val="3333cc"/>
                </a:solidFill>
                <a:latin typeface="Courier New"/>
              </a:rPr>
              <a:t>notaA1, notaA2, notaA3</a:t>
            </a: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900" spc="-1" strike="noStrike">
                <a:solidFill>
                  <a:srgbClr val="008000"/>
                </a:solidFill>
                <a:latin typeface="Courier New"/>
              </a:rPr>
              <a:t>mediaB</a:t>
            </a: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pt-BR" sz="1900" spc="-1" strike="noStrike">
                <a:solidFill>
                  <a:srgbClr val="ff0000"/>
                </a:solidFill>
                <a:latin typeface="Courier New"/>
              </a:rPr>
              <a:t>mediaMelhoresNotas</a:t>
            </a: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1900" spc="-1" strike="noStrike">
                <a:solidFill>
                  <a:srgbClr val="3333cc"/>
                </a:solidFill>
                <a:latin typeface="Courier New"/>
              </a:rPr>
              <a:t>notaB1, notaB2, notaB3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comparaNotas(mediaA, mediaB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completo: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rograma princip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90760" y="5589360"/>
            <a:ext cx="27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Funcoes\Nota02\Nota02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32C4-6F72-4505-9997-6E8374E6366B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986490-3446-4773-B270-219A19E00798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6" dur="indefinite" restart="never" nodeType="tmRoot">
          <p:childTnLst>
            <p:seq>
              <p:cTn id="567" dur="indefinite" nodeType="mainSeq">
                <p:childTnLst>
                  <p:par>
                    <p:cTn id="568" fill="hold">
                      <p:stCondLst>
                        <p:cond delay="0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Funções importante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9C447-44AA-4A11-B444-C9A78BBB6604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D3D6224-735B-4966-AB3B-CEE4852048F6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bjetivo: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ém o programa 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árias declarações possíve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void main(void) { ...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int main() { ...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int main(int argc, char *argv[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 import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Função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main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B59C-A4B6-4D3D-ADF8-96267438C192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A7A28C-B6EC-4F2E-A3F6-AB2440A79407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fill="hold">
                      <p:stCondLst>
                        <p:cond delay="0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bjetiv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r dados do usuário e escrever na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Courier New"/>
              </a:rPr>
              <a:t>#include &lt;stdlib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árias funções disponíve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canf, printf, getchar, putchar, gets, puts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rinft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pt-BR" sz="2400" spc="-1" strike="noStrike">
                <a:solidFill>
                  <a:srgbClr val="cc0000"/>
                </a:solidFill>
                <a:latin typeface="Courier New"/>
              </a:rPr>
              <a:t>"Resultado: %d"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cc0000"/>
                </a:solidFill>
                <a:latin typeface="Courier New"/>
              </a:rPr>
              <a:t>valor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pt-BR" sz="2400" spc="-1" strike="noStrike">
                <a:solidFill>
                  <a:srgbClr val="cc0000"/>
                </a:solidFill>
                <a:latin typeface="Courier New"/>
              </a:rPr>
              <a:t>"%d %d"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, &amp;</a:t>
            </a:r>
            <a:r>
              <a:rPr b="0" lang="pt-BR" sz="2400" spc="-1" strike="noStrike">
                <a:solidFill>
                  <a:srgbClr val="cc0000"/>
                </a:solidFill>
                <a:latin typeface="Courier New"/>
              </a:rPr>
              <a:t>linhas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, &amp;</a:t>
            </a:r>
            <a:r>
              <a:rPr b="0" lang="pt-BR" sz="2400" spc="-1" strike="noStrike">
                <a:solidFill>
                  <a:srgbClr val="cc0000"/>
                </a:solidFill>
                <a:latin typeface="Courier New"/>
              </a:rPr>
              <a:t>colunas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 import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Leitura e Escrit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FC5C-2DC2-4359-BDB1-892565E4FC1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D1F7F6-6E52-4E60-8F7B-CD784B095DE1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0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bjetiv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r e escrever dados em arquivos ou fluxos de d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Courier New"/>
              </a:rPr>
              <a:t>#include &lt;stdio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árias funções disponíve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pen, fclose, fscanf, fprintf, rewind, fflush, fputc, fputs, fgetc, fgets, ftell, fseek,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tc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 import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Manipulação de arqu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116C-4DBE-4F17-83BC-A21654DB4C3B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B5F82-34D1-44FB-8C09-12AE3BC7F6F1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/>
          </p:nvPr>
        </p:nvSpPr>
        <p:spPr>
          <a:xfrm>
            <a:off x="456840" y="2077560"/>
            <a:ext cx="84582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bjetiv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lizar operações matemát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Courier New"/>
              </a:rPr>
              <a:t>#include &lt;math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árias funções disponíve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qrt,sqr, pow, exp, log, log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in, asen, senh, cos, acos, cosh, tan, atan, atan2, tan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oor, ceil, a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 import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Matemátic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433E-9B61-4E44-B8EA-671AB1B0C1D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2909BE-777C-4C17-8574-2479A3DCDCBE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Objetiv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dificar texto (vetores de caracter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Courier New"/>
              </a:rPr>
              <a:t>#include &lt;string.h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árias funções disponíve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rcat, strdup, strlen, strcmp, strcpy, strst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 importan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exto e caracte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21B2-B9A9-4521-84BA-8FB84905AE4E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4CB5A9-5CD5-40E8-9646-2D91118AC5DC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0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Exemplos de Funçõe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72FCB-E1C3-4B14-9A0F-4924B323B4DA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945C6AA-CD48-4B97-A08F-4E31DAB6D10C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431640" y="2077920"/>
            <a:ext cx="8280720" cy="4051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xemplos de 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Matemát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2720" y="2168640"/>
            <a:ext cx="7916760" cy="387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loat potencia(float base, int expoente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loat resultado = 1.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or (i = 0; i &lt; expoente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esultado = resultado * bas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eturn resulta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335920" y="5792400"/>
            <a:ext cx="34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Funcoes\Potencia02\Potencia02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337720" y="5486040"/>
            <a:ext cx="340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Funcoes\Potencia01\Potencia01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29C1-022E-4235-9324-E8015F4AAB5D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1FA0C-2809-436C-82DF-BBCECE06A159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0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O que são funçõe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O porquê de usá-la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BD0B-C87A-4E3B-9421-96A9FF7D756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7F90805-A224-4050-B83B-5F942BE85511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431640" y="2077920"/>
            <a:ext cx="8280720" cy="4051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xemplos de 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Lógica de progra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1280" y="2168640"/>
            <a:ext cx="7920000" cy="3781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le_numero(int min, int max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leitu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canf("%d", &amp;leitur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hile ((leitura &lt; min) || (leitura &gt; max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rintf(“Digite entre %1d e %1d)\n", min, max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rintf("Digite novamente: 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canf("%d", &amp;leitura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eturn leitur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48240" y="5792400"/>
            <a:ext cx="329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Funcoes\Entrada01\Entrada01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015A-776B-4B33-9D90-51687203ECC4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0C3F46-929B-4659-B961-56CA3D6875B3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31640" y="2077920"/>
            <a:ext cx="8280720" cy="4051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xemplos de 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Gerar/obter d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2259000"/>
            <a:ext cx="7921440" cy="3780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#include &lt;time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main(int argc, char argv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fim, inicio = 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</a:rPr>
              <a:t>clock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nt 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or (i = 0; i &lt; 20000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rintf("Um texto para imprimir... %d\n", 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im = 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</a:rPr>
              <a:t>clock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printf("Tempo necessário: %d\n", fim - inici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16600" y="5769000"/>
            <a:ext cx="267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Funcoes\Time01\Time01.vc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DED9-990C-4E43-B4D7-0531AA4DBA62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CE8DFF-EBFD-4AE3-82DC-F870EE142F7B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0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431640" y="2077920"/>
            <a:ext cx="8280720" cy="4321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xemplos de 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rganização de códig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11280" y="2529000"/>
            <a:ext cx="7921440" cy="377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har opca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canf(“%c”, &amp;opca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if (opcao == ‘P’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ódigo para calcular raizes de polinôm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 else if (opcao == ‘M’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ódigo para calcular determinantes de matriz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 else if (opcao == ‘D’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Código para calcular derivadas de funçõ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//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2000" y="21686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Arial"/>
              </a:rPr>
              <a:t>Ru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2108-757E-46B8-86ED-AEA2ACED4BD5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6D6A51-9432-4F43-8AD4-D3F86131FC2D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431640" y="2077920"/>
            <a:ext cx="5040360" cy="2570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57200" y="2057400"/>
            <a:ext cx="5332320" cy="2590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pt-BR" sz="1800" spc="-1" strike="noStrike">
                <a:solidFill>
                  <a:srgbClr val="cc0000"/>
                </a:solidFill>
                <a:latin typeface="Courier New"/>
              </a:rPr>
              <a:t>resolver_polinim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(void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// Código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pt-BR" sz="1800" spc="-1" strike="noStrike">
                <a:solidFill>
                  <a:srgbClr val="cc0000"/>
                </a:solidFill>
                <a:latin typeface="Courier New"/>
              </a:rPr>
              <a:t>calcular_determinant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(void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// Código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void </a:t>
            </a:r>
            <a:r>
              <a:rPr b="1" lang="pt-BR" sz="1800" spc="-1" strike="noStrike">
                <a:solidFill>
                  <a:srgbClr val="cc0000"/>
                </a:solidFill>
                <a:latin typeface="Courier New"/>
              </a:rPr>
              <a:t>derivar_funca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(void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// Código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51280" y="4059360"/>
            <a:ext cx="4861080" cy="2666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xemplos de 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rganização de códig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941640" y="4106880"/>
            <a:ext cx="4681800" cy="2436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canf(“%c”, &amp;opca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f (opcao == ‘P’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cc0000"/>
                </a:solidFill>
                <a:latin typeface="Courier New"/>
              </a:rPr>
              <a:t>resolver_polinomi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 else if (opcao == ‘M’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cc0000"/>
                </a:solidFill>
                <a:latin typeface="Courier New"/>
              </a:rPr>
              <a:t>calcular_determinant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 else if (opcao == ‘D’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cc0000"/>
                </a:solidFill>
                <a:latin typeface="Courier New"/>
              </a:rPr>
              <a:t>derivar_funca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1570E-9771-4763-AD78-5399B1082954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E30FCA-F327-404D-B5BB-15ED521C906E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4" dur="indefinite" restart="never" nodeType="tmRoot">
          <p:childTnLst>
            <p:seq>
              <p:cTn id="725" dur="indefinite" nodeType="mainSeq">
                <p:childTnLst>
                  <p:par>
                    <p:cTn id="726" fill="hold">
                      <p:stCondLst>
                        <p:cond delay="0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Tempo de vida de variávei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E1DE1-E047-4BBA-85FA-F271E218BFD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0C2490D-12E8-4452-8FAB-EDF12023431F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mpo que o valor da variável permanece na memó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 início até final do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program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 início até final da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fun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início da função: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cr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spaço na memó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fim da função: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liber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espaço usado na memó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empo de v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C888-C774-4C2C-8817-B3062569A0C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F9F2C-D17B-481F-82A0-8B34C647DAD7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41280" y="2077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riáveis declaradas localmente em uma função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de vida: durante a execução da fun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urante a execução a variável é visível, acessí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urante a execução estão associadas à posições de memó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duas execuções, ocupam posições de memória difer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empo de v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880920" y="4419720"/>
            <a:ext cx="297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Courier New"/>
              </a:rPr>
              <a:t>{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ff"/>
                </a:solidFill>
                <a:latin typeface="Courier New"/>
              </a:rPr>
              <a:t>int</a:t>
            </a:r>
            <a:r>
              <a:rPr b="1" lang="pt-BR" sz="2400" spc="-1" strike="noStrike">
                <a:solidFill>
                  <a:srgbClr val="9933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cc0000"/>
                </a:solidFill>
                <a:latin typeface="Courier New"/>
              </a:rPr>
              <a:t>v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cc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573440" y="4959360"/>
            <a:ext cx="30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Arial"/>
              </a:rPr>
              <a:t>Vida da variável </a:t>
            </a:r>
            <a:r>
              <a:rPr b="1" lang="pt-BR" sz="2800" spc="-1" strike="noStrike">
                <a:solidFill>
                  <a:srgbClr val="cc0000"/>
                </a:solidFill>
                <a:latin typeface="Courier New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241280" y="4780080"/>
            <a:ext cx="3168720" cy="901440"/>
            <a:chOff x="1241280" y="4780080"/>
            <a:chExt cx="3168720" cy="901440"/>
          </a:xfrm>
        </p:grpSpPr>
        <p:sp>
          <p:nvSpPr>
            <p:cNvPr id="339" name=""/>
            <p:cNvSpPr/>
            <p:nvPr/>
          </p:nvSpPr>
          <p:spPr>
            <a:xfrm>
              <a:off x="4211640" y="4780080"/>
              <a:ext cx="198360" cy="901440"/>
            </a:xfrm>
            <a:custGeom>
              <a:avLst/>
              <a:gdLst>
                <a:gd name="textAreaLeft" fmla="*/ 0 w 198360"/>
                <a:gd name="textAreaRight" fmla="*/ 71640 w 198360"/>
                <a:gd name="textAreaTop" fmla="*/ 23400 h 901440"/>
                <a:gd name="textAreaBottom" fmla="*/ 878040 h 90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241280" y="4780080"/>
              <a:ext cx="28800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60360" y="5681520"/>
              <a:ext cx="288144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38F7-A9F7-4227-8BDF-8CBAFE5C6625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0E2EF6-0AD4-4574-9CDE-516DA92C358A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claração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den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o corpo da fun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isibilidade apenas na fun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empo de v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1640" y="3249720"/>
            <a:ext cx="8280720" cy="3330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11280" y="3429000"/>
            <a:ext cx="2970000" cy="306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funcao(void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int v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main(void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511440" y="3789360"/>
            <a:ext cx="179640" cy="900000"/>
          </a:xfrm>
          <a:custGeom>
            <a:avLst/>
            <a:gdLst>
              <a:gd name="textAreaLeft" fmla="*/ 0 w 179640"/>
              <a:gd name="textAreaRight" fmla="*/ 64800 w 179640"/>
              <a:gd name="textAreaTop" fmla="*/ 23400 h 900000"/>
              <a:gd name="textAreaBottom" fmla="*/ 87660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783240" y="3970440"/>
            <a:ext cx="411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Arial"/>
              </a:rPr>
              <a:t>Visibilidade da variável </a:t>
            </a:r>
            <a:r>
              <a:rPr b="1" lang="pt-BR" sz="2800" spc="-1" strike="noStrike">
                <a:solidFill>
                  <a:srgbClr val="cc0000"/>
                </a:solidFill>
                <a:latin typeface="Courier New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492360" y="5319720"/>
            <a:ext cx="179640" cy="900000"/>
          </a:xfrm>
          <a:custGeom>
            <a:avLst/>
            <a:gdLst>
              <a:gd name="textAreaLeft" fmla="*/ 0 w 179640"/>
              <a:gd name="textAreaRight" fmla="*/ 64800 w 179640"/>
              <a:gd name="textAreaTop" fmla="*/ 23400 h 900000"/>
              <a:gd name="textAreaBottom" fmla="*/ 87660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62360" y="5500800"/>
            <a:ext cx="44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Arial"/>
              </a:rPr>
              <a:t>Aqui a variável </a:t>
            </a:r>
            <a:r>
              <a:rPr b="1" lang="pt-BR" sz="2800" spc="-1" strike="noStrike">
                <a:solidFill>
                  <a:srgbClr val="cc0000"/>
                </a:solidFill>
                <a:latin typeface="Courier New"/>
              </a:rPr>
              <a:t>v</a:t>
            </a:r>
            <a:r>
              <a:rPr b="0" lang="pt-BR" sz="2800" spc="-1" strike="noStrike">
                <a:solidFill>
                  <a:srgbClr val="cc0000"/>
                </a:solidFill>
                <a:latin typeface="Arial"/>
              </a:rPr>
              <a:t> é invisí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85F6-D00E-418A-B91A-A1A2D186E2A2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7C262E-27C3-49FA-9022-36C0CEA0E6FD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riáveis declarada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for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o corpo das fun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brevivem por toda a execução do progra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manecem ocupando a mesma posição de memó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empo de v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31640" y="3249720"/>
            <a:ext cx="8280720" cy="3330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1280" y="3429000"/>
            <a:ext cx="2970000" cy="306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int v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funcao(void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main(void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81280" y="3429000"/>
            <a:ext cx="179640" cy="2970360"/>
          </a:xfrm>
          <a:custGeom>
            <a:avLst/>
            <a:gdLst>
              <a:gd name="textAreaLeft" fmla="*/ 0 w 179640"/>
              <a:gd name="textAreaRight" fmla="*/ 64800 w 179640"/>
              <a:gd name="textAreaTop" fmla="*/ 77400 h 2970360"/>
              <a:gd name="textAreaBottom" fmla="*/ 2892960 h 297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039920" y="4648320"/>
            <a:ext cx="302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Arial"/>
              </a:rPr>
              <a:t>Vida de variável </a:t>
            </a:r>
            <a:r>
              <a:rPr b="1" lang="pt-BR" sz="2800" spc="-1" strike="noStrike">
                <a:solidFill>
                  <a:srgbClr val="cc0000"/>
                </a:solidFill>
                <a:latin typeface="Courier New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27F0-D895-4E13-AAD3-3BFE12AE5685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8113D3-8CEA-42A9-AFD4-99BF40B0DB97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empo de v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1640" y="2168640"/>
            <a:ext cx="8280720" cy="3960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11280" y="2257560"/>
            <a:ext cx="2970000" cy="3781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int x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a(void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int v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b(void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int w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main(void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132000" y="2887560"/>
            <a:ext cx="179640" cy="900360"/>
          </a:xfrm>
          <a:custGeom>
            <a:avLst/>
            <a:gdLst>
              <a:gd name="textAreaLeft" fmla="*/ 0 w 179640"/>
              <a:gd name="textAreaRight" fmla="*/ 64800 w 179640"/>
              <a:gd name="textAreaTop" fmla="*/ 23400 h 900360"/>
              <a:gd name="textAreaBottom" fmla="*/ 87696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03080" y="2841480"/>
            <a:ext cx="172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Arial"/>
              </a:rPr>
              <a:t>Vida da </a:t>
            </a:r>
            <a:br>
              <a:rPr sz="2800"/>
            </a:br>
            <a:r>
              <a:rPr b="0" lang="pt-BR" sz="2800" spc="-1" strike="noStrike">
                <a:solidFill>
                  <a:srgbClr val="cc0000"/>
                </a:solidFill>
                <a:latin typeface="Arial"/>
              </a:rPr>
              <a:t>variável </a:t>
            </a:r>
            <a:r>
              <a:rPr b="1" lang="pt-BR" sz="2800" spc="-1" strike="noStrike">
                <a:solidFill>
                  <a:srgbClr val="cc0000"/>
                </a:solidFill>
                <a:latin typeface="Courier New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132000" y="4014720"/>
            <a:ext cx="179640" cy="900360"/>
          </a:xfrm>
          <a:custGeom>
            <a:avLst/>
            <a:gdLst>
              <a:gd name="textAreaLeft" fmla="*/ 0 w 179640"/>
              <a:gd name="textAreaRight" fmla="*/ 64800 w 179640"/>
              <a:gd name="textAreaTop" fmla="*/ 23400 h 900360"/>
              <a:gd name="textAreaBottom" fmla="*/ 876960 h 90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403080" y="3968640"/>
            <a:ext cx="172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Arial"/>
              </a:rPr>
              <a:t>Vida da </a:t>
            </a:r>
            <a:br>
              <a:rPr sz="2800"/>
            </a:br>
            <a:r>
              <a:rPr b="0" lang="pt-BR" sz="2800" spc="-1" strike="noStrike">
                <a:solidFill>
                  <a:srgbClr val="cc0000"/>
                </a:solidFill>
                <a:latin typeface="Arial"/>
              </a:rPr>
              <a:t>variável </a:t>
            </a:r>
            <a:r>
              <a:rPr b="1" lang="pt-BR" sz="2800" spc="-1" strike="noStrike">
                <a:solidFill>
                  <a:srgbClr val="cc0000"/>
                </a:solidFill>
                <a:latin typeface="Courier New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59360" y="2438280"/>
            <a:ext cx="181080" cy="3419640"/>
          </a:xfrm>
          <a:custGeom>
            <a:avLst/>
            <a:gdLst>
              <a:gd name="textAreaLeft" fmla="*/ 0 w 181080"/>
              <a:gd name="textAreaRight" fmla="*/ 65520 w 181080"/>
              <a:gd name="textAreaTop" fmla="*/ 88920 h 3419640"/>
              <a:gd name="textAreaBottom" fmla="*/ 3330720 h 341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131880" y="3699000"/>
            <a:ext cx="172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cc0000"/>
                </a:solidFill>
                <a:latin typeface="Arial"/>
              </a:rPr>
              <a:t>Vida da </a:t>
            </a:r>
            <a:br>
              <a:rPr sz="2800"/>
            </a:br>
            <a:r>
              <a:rPr b="0" lang="pt-BR" sz="2800" spc="-1" strike="noStrike">
                <a:solidFill>
                  <a:srgbClr val="cc0000"/>
                </a:solidFill>
                <a:latin typeface="Arial"/>
              </a:rPr>
              <a:t>variável </a:t>
            </a:r>
            <a:r>
              <a:rPr b="1" lang="pt-BR" sz="2800" spc="-1" strike="noStrike">
                <a:solidFill>
                  <a:srgbClr val="cc00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1708-DC70-4313-8693-976E63C7F967}" type="slidenum">
              <a:t>4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85AE0D-4884-4A8B-80DF-F0B4EBCCC682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2" dur="indefinite" restart="never" nodeType="tmRoot">
          <p:childTnLst>
            <p:seq>
              <p:cTn id="873" dur="indefinite" nodeType="mainSeq">
                <p:childTnLst>
                  <p:par>
                    <p:cTn id="874" fill="hold">
                      <p:stCondLst>
                        <p:cond delay="0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ão um trechos de código fora do programa princip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mplementam um algoritmo necessário pelo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ão utilizadas (chamadas) em diversos pontos do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Funçõ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E573-AA7B-4FA7-A2AB-5C907E80EE2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14C5BF-2952-43A1-A935-70960F0BC063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empo de vi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1640" y="2077920"/>
            <a:ext cx="8280720" cy="4502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1280" y="2168640"/>
            <a:ext cx="2970000" cy="4321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int v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funcaoA(void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int w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funcaoB(void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main(void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352680" y="2214720"/>
            <a:ext cx="138240" cy="604800"/>
          </a:xfrm>
          <a:custGeom>
            <a:avLst/>
            <a:gdLst>
              <a:gd name="textAreaLeft" fmla="*/ 0 w 138240"/>
              <a:gd name="textAreaRight" fmla="*/ 50040 w 138240"/>
              <a:gd name="textAreaTop" fmla="*/ 15480 h 604800"/>
              <a:gd name="textAreaBottom" fmla="*/ 589320 h 60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78760" y="2432160"/>
            <a:ext cx="23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Courier New"/>
              </a:rPr>
              <a:t>w </a:t>
            </a:r>
            <a:r>
              <a:rPr b="0" lang="pt-BR" sz="2800" spc="-1" strike="noStrike">
                <a:solidFill>
                  <a:srgbClr val="cc0000"/>
                </a:solidFill>
                <a:latin typeface="Arial"/>
              </a:rPr>
              <a:t>inacessí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11640" y="3159000"/>
            <a:ext cx="180720" cy="809640"/>
          </a:xfrm>
          <a:custGeom>
            <a:avLst/>
            <a:gdLst>
              <a:gd name="textAreaLeft" fmla="*/ 0 w 180720"/>
              <a:gd name="textAreaRight" fmla="*/ 65160 w 180720"/>
              <a:gd name="textAreaTop" fmla="*/ 20880 h 809640"/>
              <a:gd name="textAreaBottom" fmla="*/ 78876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11640" y="3968640"/>
            <a:ext cx="180720" cy="2430720"/>
          </a:xfrm>
          <a:custGeom>
            <a:avLst/>
            <a:gdLst>
              <a:gd name="textAreaLeft" fmla="*/ 0 w 180720"/>
              <a:gd name="textAreaRight" fmla="*/ 65160 w 180720"/>
              <a:gd name="textAreaTop" fmla="*/ 63360 h 2430720"/>
              <a:gd name="textAreaBottom" fmla="*/ 2367360 h 243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581640" y="324972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Courier New"/>
              </a:rPr>
              <a:t>w </a:t>
            </a: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acessí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81640" y="5043600"/>
            <a:ext cx="237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00"/>
                </a:solidFill>
                <a:latin typeface="Courier New"/>
              </a:rPr>
              <a:t>w </a:t>
            </a:r>
            <a:r>
              <a:rPr b="0" lang="pt-BR" sz="2800" spc="-1" strike="noStrike">
                <a:solidFill>
                  <a:srgbClr val="cc0000"/>
                </a:solidFill>
                <a:latin typeface="Arial"/>
              </a:rPr>
              <a:t>inacessí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192720" y="2168640"/>
            <a:ext cx="179640" cy="4230720"/>
          </a:xfrm>
          <a:custGeom>
            <a:avLst/>
            <a:gdLst>
              <a:gd name="textAreaLeft" fmla="*/ 0 w 179640"/>
              <a:gd name="textAreaRight" fmla="*/ 64800 w 179640"/>
              <a:gd name="textAreaTop" fmla="*/ 110160 h 4230720"/>
              <a:gd name="textAreaBottom" fmla="*/ 4120560 h 423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464520" y="3873600"/>
            <a:ext cx="179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Courier New"/>
              </a:rPr>
              <a:t>v </a:t>
            </a: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sempre</a:t>
            </a:r>
            <a:br>
              <a:rPr sz="2800"/>
            </a:b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acessí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E281-0FE4-4FB9-B998-8D2F7B14F389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0A8F9-0674-4920-9090-235216DF5426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fill="hold">
                      <p:stCondLst>
                        <p:cond delay="0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diçõ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riáveis com mesmo 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breposição de esco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eqüênc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claração mais recente torna inacessível outras declar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obreposição de no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63C8-FAD1-4DF0-994B-57F389A053C4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69F676-ABBD-4F85-B8EE-DA665A5CC644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0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obreposição de no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31640" y="2077920"/>
            <a:ext cx="8280720" cy="4502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2168640"/>
            <a:ext cx="4051080" cy="4321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int w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funcao (void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int w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main(void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62360" y="3338640"/>
            <a:ext cx="179640" cy="1260360"/>
          </a:xfrm>
          <a:custGeom>
            <a:avLst/>
            <a:gdLst>
              <a:gd name="textAreaLeft" fmla="*/ 0 w 179640"/>
              <a:gd name="textAreaRight" fmla="*/ 64800 w 179640"/>
              <a:gd name="textAreaTop" fmla="*/ 32760 h 1260360"/>
              <a:gd name="textAreaBottom" fmla="*/ 122760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842000" y="3519360"/>
            <a:ext cx="355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Courier New"/>
              </a:rPr>
              <a:t>w </a:t>
            </a: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acessível, mas sobrepõe </a:t>
            </a:r>
            <a:r>
              <a:rPr b="1" lang="pt-BR" sz="2800" spc="-1" strike="noStrike">
                <a:solidFill>
                  <a:srgbClr val="008000"/>
                </a:solidFill>
                <a:latin typeface="Courier New"/>
              </a:rPr>
              <a:t>w</a:t>
            </a: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 anteri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660920" y="2438280"/>
            <a:ext cx="181080" cy="809640"/>
          </a:xfrm>
          <a:custGeom>
            <a:avLst/>
            <a:gdLst>
              <a:gd name="textAreaLeft" fmla="*/ 0 w 181080"/>
              <a:gd name="textAreaRight" fmla="*/ 65520 w 181080"/>
              <a:gd name="textAreaTop" fmla="*/ 20880 h 809640"/>
              <a:gd name="textAreaBottom" fmla="*/ 78876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842000" y="252900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Courier New"/>
              </a:rPr>
              <a:t>w </a:t>
            </a: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acessí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640400" y="4689360"/>
            <a:ext cx="203040" cy="1349640"/>
          </a:xfrm>
          <a:custGeom>
            <a:avLst/>
            <a:gdLst>
              <a:gd name="textAreaLeft" fmla="*/ 0 w 203040"/>
              <a:gd name="textAreaRight" fmla="*/ 73440 w 203040"/>
              <a:gd name="textAreaTop" fmla="*/ 34920 h 1349640"/>
              <a:gd name="textAreaBottom" fmla="*/ 1314720 h 134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910040" y="4869000"/>
            <a:ext cx="362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Courier New"/>
              </a:rPr>
              <a:t>w </a:t>
            </a: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anterior</a:t>
            </a: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novamente acessí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A6A3-9F9D-4398-BADC-7FE33C7ADFED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5D5D2-BE78-46BA-9FFE-432543AB82B9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2" fill="hold">
                      <p:stCondLst>
                        <p:cond delay="indefinite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fill="hold">
                      <p:stCondLst>
                        <p:cond delay="indefinite"/>
                      </p:stCondLst>
                      <p:childTnLst>
                        <p:par>
                          <p:cTn id="1003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obreposição de nom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0920" y="2077920"/>
            <a:ext cx="8280360" cy="4502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11280" y="2168640"/>
            <a:ext cx="3781440" cy="4321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int w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funcao(</a:t>
            </a:r>
            <a:r>
              <a:rPr b="1" lang="pt-BR" sz="24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int w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main(void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662360" y="3338640"/>
            <a:ext cx="179640" cy="1260360"/>
          </a:xfrm>
          <a:custGeom>
            <a:avLst/>
            <a:gdLst>
              <a:gd name="textAreaLeft" fmla="*/ 0 w 179640"/>
              <a:gd name="textAreaRight" fmla="*/ 64800 w 179640"/>
              <a:gd name="textAreaTop" fmla="*/ 32760 h 1260360"/>
              <a:gd name="textAreaBottom" fmla="*/ 122760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42000" y="3519360"/>
            <a:ext cx="355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Courier New"/>
              </a:rPr>
              <a:t>w </a:t>
            </a: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acessível, mas sobrepõe </a:t>
            </a:r>
            <a:r>
              <a:rPr b="1" lang="pt-BR" sz="2800" spc="-1" strike="noStrike">
                <a:solidFill>
                  <a:srgbClr val="008000"/>
                </a:solidFill>
                <a:latin typeface="Courier New"/>
              </a:rPr>
              <a:t>w</a:t>
            </a: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 anteri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60920" y="2438280"/>
            <a:ext cx="181080" cy="809640"/>
          </a:xfrm>
          <a:custGeom>
            <a:avLst/>
            <a:gdLst>
              <a:gd name="textAreaLeft" fmla="*/ 0 w 181080"/>
              <a:gd name="textAreaRight" fmla="*/ 65520 w 181080"/>
              <a:gd name="textAreaTop" fmla="*/ 20880 h 809640"/>
              <a:gd name="textAreaBottom" fmla="*/ 788760 h 8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42000" y="2529000"/>
            <a:ext cx="20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Courier New"/>
              </a:rPr>
              <a:t>w </a:t>
            </a: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acessí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640400" y="4689360"/>
            <a:ext cx="203040" cy="1349640"/>
          </a:xfrm>
          <a:custGeom>
            <a:avLst/>
            <a:gdLst>
              <a:gd name="textAreaLeft" fmla="*/ 0 w 203040"/>
              <a:gd name="textAreaRight" fmla="*/ 73440 w 203040"/>
              <a:gd name="textAreaTop" fmla="*/ 34920 h 1349640"/>
              <a:gd name="textAreaBottom" fmla="*/ 1314720 h 134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10040" y="4869000"/>
            <a:ext cx="3622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8000"/>
                </a:solidFill>
                <a:latin typeface="Courier New"/>
              </a:rPr>
              <a:t>w </a:t>
            </a: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anterior</a:t>
            </a:r>
            <a:r>
              <a:rPr b="1" lang="pt-BR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novamente acessí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B077-38E6-448A-B2FF-1430575F9F13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301B5-73C7-463C-BBBE-BC84D8A5579C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fill="hold">
                      <p:stCondLst>
                        <p:cond delay="0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fill="hold">
                      <p:stCondLst>
                        <p:cond delay="indefinite"/>
                      </p:stCondLst>
                      <p:childTnLst>
                        <p:par>
                          <p:cTn id="1033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5472000" y="3068640"/>
            <a:ext cx="3240360" cy="3060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2077920"/>
            <a:ext cx="5014800" cy="432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clarada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</a:rPr>
              <a:t>for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as fun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mpo vid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é fim do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essível a todas funções do programa, exceto quando há sobreposi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icializ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o iniciar o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Variável glo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562720" y="3247920"/>
            <a:ext cx="2968560" cy="2791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Courier New"/>
              </a:rPr>
              <a:t>int v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id f1(void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id f2(void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B322-22D5-4E1D-9155-125A738D431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10E70F-7433-413A-9403-E9C715F119F3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4" dur="indefinite" restart="never" nodeType="tmRoot">
          <p:childTnLst>
            <p:seq>
              <p:cTn id="1045" dur="indefinite" nodeType="mainSeq">
                <p:childTnLst>
                  <p:par>
                    <p:cTn id="1046" fill="hold">
                      <p:stCondLst>
                        <p:cond delay="0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6551640" y="3338640"/>
            <a:ext cx="2071800" cy="1800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ult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1: v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2: v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1: v =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Variável glob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31640" y="2077920"/>
            <a:ext cx="5670720" cy="4591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11280" y="2166840"/>
            <a:ext cx="5130720" cy="4411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int v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f1(void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v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f1: v = %d\n", 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v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f2(void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v+=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f2: v = %d\n", 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v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main(int argc, char argv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1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2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1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162520" y="6332040"/>
            <a:ext cx="39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Funcoes\Visibilidade01\Visibilidade01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B82C-0391-4388-B618-9538BE79D0EF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6764F2-E23E-4363-950A-3EC80ADBB0CA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fill="hold">
                      <p:stCondLst>
                        <p:cond delay="indefinite"/>
                      </p:stCondLst>
                      <p:childTnLst>
                        <p:par>
                          <p:cTn id="1087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2077920"/>
            <a:ext cx="483552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clarada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den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das fun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mpo vida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o início até o fim da fun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va execução não lembra valor an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icializa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início da fun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Variável loc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651640" y="2978280"/>
            <a:ext cx="2968560" cy="2835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id f1(void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</a:rPr>
              <a:t>int v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void f2(void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</a:rPr>
              <a:t>int w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572-76A5-4829-A5E8-442BC9EE270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0C2F39-1648-4C6A-A13F-E725135EC30A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fill="hold">
                      <p:stCondLst>
                        <p:cond delay="0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fill="hold">
                      <p:stCondLst>
                        <p:cond delay="indefinite"/>
                      </p:stCondLst>
                      <p:childTnLst>
                        <p:par>
                          <p:cTn id="1105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/>
          <p:nvPr/>
        </p:nvSpPr>
        <p:spPr>
          <a:xfrm>
            <a:off x="6551640" y="3338640"/>
            <a:ext cx="2071800" cy="1800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ult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1: v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2: v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1: v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Variável loc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31640" y="1989000"/>
            <a:ext cx="5670720" cy="4591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11280" y="2077920"/>
            <a:ext cx="5130720" cy="4411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f1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int v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v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f1: v = %d\n", 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v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f2(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int v = 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v+=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f2: v = %d\n", 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  <a:ea typeface="Times New Roman"/>
              </a:rPr>
              <a:t>v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main(int argc, char argv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1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2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1(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0360"/>
                <a:tab algn="l" pos="71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2162520" y="6219360"/>
            <a:ext cx="39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Funcoes\Visibilidade02\Visibilidade02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AAB3-DFE9-494C-80E8-CAF52B67E614}" type="slidenum">
              <a:t>5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CB359-FF5A-4ED3-B75F-21CDC84B156C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Arquivos de cabeçalho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Compilação em separad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52EA-B0D9-42E9-86F7-B000E559217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36F7121-408E-4BCB-8B53-DAE494DB980D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rquivos Cabeçal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22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iretiva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#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mite incluir arquivos no ponto de cham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xto do arquivo substitui a diretiva, no ponto de cham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me do arquivo entre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&lt;  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stema operacional sabe onde encontrar o arqu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rquivos cabeçalho (“</a:t>
            </a:r>
            <a:r>
              <a:rPr b="1" lang="pt-BR" sz="3200" spc="-1" strike="noStrike">
                <a:solidFill>
                  <a:srgbClr val="009900"/>
                </a:solidFill>
                <a:latin typeface="Arial"/>
                <a:ea typeface="Arial"/>
              </a:rPr>
              <a:t>headers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” ou </a:t>
            </a:r>
            <a:r>
              <a:rPr b="1" lang="pt-BR" sz="3200" spc="-1" strike="noStrike">
                <a:solidFill>
                  <a:srgbClr val="009900"/>
                </a:solidFill>
                <a:latin typeface="Arial"/>
                <a:ea typeface="Arial"/>
              </a:rPr>
              <a:t>.h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1280" y="4508640"/>
            <a:ext cx="7740720" cy="1530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880920" y="4508640"/>
            <a:ext cx="369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urier New"/>
              </a:rPr>
              <a:t>#include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400" spc="-1" strike="noStrike">
                <a:solidFill>
                  <a:srgbClr val="ff0000"/>
                </a:solidFill>
                <a:latin typeface="Courier New"/>
              </a:rPr>
              <a:t>&lt;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tdio.h</a:t>
            </a:r>
            <a:r>
              <a:rPr b="0" lang="pt-BR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Courier New"/>
              </a:rPr>
              <a:t>#include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pt-BR" sz="2400" spc="-1" strike="noStrike">
                <a:solidFill>
                  <a:srgbClr val="ff0000"/>
                </a:solidFill>
                <a:latin typeface="Courier New"/>
              </a:rPr>
              <a:t>&lt;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math.h</a:t>
            </a:r>
            <a:r>
              <a:rPr b="0" lang="pt-BR" sz="2400" spc="-1" strike="noStrike">
                <a:solidFill>
                  <a:srgbClr val="ff0000"/>
                </a:solidFill>
                <a:latin typeface="Courier New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3BF-BCD5-423D-870D-3A665DA0A5D3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DA1B9C-7016-4149-9625-15CAD4A146CA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2" dur="indefinite" restart="never" nodeType="tmRoot">
          <p:childTnLst>
            <p:seq>
              <p:cTn id="1133" dur="indefinite" nodeType="mainSeq">
                <p:childTnLst>
                  <p:par>
                    <p:cTn id="1134" fill="hold">
                      <p:stCondLst>
                        <p:cond delay="0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2" fill="hold">
                      <p:stCondLst>
                        <p:cond delay="indefinite"/>
                      </p:stCondLst>
                      <p:childTnLst>
                        <p:par>
                          <p:cTn id="1143" fill="hold">
                            <p:stCondLst>
                              <p:cond delay="0"/>
                            </p:stCondLst>
                            <p:childTnLst>
                              <p:par>
                                <p:cTn id="1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4" fill="hold">
                      <p:stCondLst>
                        <p:cond delay="indefinite"/>
                      </p:stCondLst>
                      <p:childTnLst>
                        <p:par>
                          <p:cTn id="1155" fill="hold">
                            <p:stCondLst>
                              <p:cond delay="0"/>
                            </p:stCondLst>
                            <p:childTnLst>
                              <p:par>
                                <p:cTn id="1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0" fill="hold">
                      <p:stCondLst>
                        <p:cond delay="indefinite"/>
                      </p:stCondLst>
                      <p:childTnLst>
                        <p:par>
                          <p:cTn id="1171" fill="hold">
                            <p:stCondLst>
                              <p:cond delay="0"/>
                            </p:stCondLst>
                            <p:childTnLst>
                              <p:par>
                                <p:cTn id="1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4" fill="hold">
                      <p:stCondLst>
                        <p:cond delay="indefinite"/>
                      </p:stCondLst>
                      <p:childTnLst>
                        <p:par>
                          <p:cTn id="1175" fill="hold">
                            <p:stCondLst>
                              <p:cond delay="0"/>
                            </p:stCondLst>
                            <p:childTnLst>
                              <p:par>
                                <p:cTn id="1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rganiza o códig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função é um algorit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vidir um programa complicado em várias funções 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vita repetição de código semelh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rever o código apenas um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r a mesma função várias vezes para variáveis difer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mplifica e agiliza a progra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Vantage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7D64-52A3-4255-AB25-0841F3A7695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8DE2C8-FB02-451B-9A87-9D9C842E70AA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rquivos Cabeçal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mes com extensão 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mes devem aparecer entre aspas duplas (</a:t>
            </a:r>
            <a:r>
              <a:rPr b="0" lang="pt-BR" sz="2400" spc="-1" strike="noStrike">
                <a:solidFill>
                  <a:srgbClr val="ff0000"/>
                </a:solidFill>
                <a:latin typeface="Courier New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icar diretório onde estão os arqu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ault depende do sistema oper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ém: definições de constantes comuns, etc. .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eus próprios arquivos cabeçalh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1280" y="4508640"/>
            <a:ext cx="7740720" cy="1530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80920" y="4508640"/>
            <a:ext cx="486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Courier New"/>
              </a:rPr>
              <a:t>#include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2400" spc="-1" strike="noStrike">
                <a:solidFill>
                  <a:srgbClr val="ff0000"/>
                </a:solidFill>
                <a:latin typeface="Courier New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onsts.h</a:t>
            </a:r>
            <a:r>
              <a:rPr b="0" lang="pt-BR" sz="2400" spc="-1" strike="noStrike">
                <a:solidFill>
                  <a:srgbClr val="ff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 . .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713120" y="4329000"/>
            <a:ext cx="4430880" cy="192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/* arquivo .h com definiçã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de constantes 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#define pi 3.14159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#define tru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. . .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7182000" y="3159000"/>
            <a:ext cx="1962000" cy="451080"/>
          </a:xfrm>
          <a:prstGeom prst="wedgeRectCallout">
            <a:avLst>
              <a:gd name="adj1" fmla="val 6231"/>
              <a:gd name="adj2" fmla="val 213731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rquivo const.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374440" y="6308280"/>
            <a:ext cx="295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Funcoes\PegaPal\PegaPal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3CEF-86C2-49D6-9065-1A46A4BD567E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DD493-75DA-4771-A2FB-20EBDE6A8A4B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6" dur="indefinite" restart="never" nodeType="tmRoot">
          <p:childTnLst>
            <p:seq>
              <p:cTn id="1187" dur="indefinite" nodeType="mainSeq">
                <p:childTnLst>
                  <p:par>
                    <p:cTn id="1188" fill="hold">
                      <p:stCondLst>
                        <p:cond delay="0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2" fill="hold">
                      <p:stCondLst>
                        <p:cond delay="indefinite"/>
                      </p:stCondLst>
                      <p:childTnLst>
                        <p:par>
                          <p:cTn id="1193" fill="hold">
                            <p:stCondLst>
                              <p:cond delay="0"/>
                            </p:stCondLst>
                            <p:childTnLst>
                              <p:par>
                                <p:cTn id="1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9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0" fill="hold">
                      <p:stCondLst>
                        <p:cond delay="indefinite"/>
                      </p:stCondLst>
                      <p:childTnLst>
                        <p:par>
                          <p:cTn id="1231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4" fill="hold">
                      <p:stCondLst>
                        <p:cond delay="indefinite"/>
                      </p:stCondLst>
                      <p:childTnLst>
                        <p:par>
                          <p:cTn id="1235" fill="hold">
                            <p:stCondLst>
                              <p:cond delay="0"/>
                            </p:stCondLst>
                            <p:childTnLst>
                              <p:par>
                                <p:cTn id="1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8" fill="hold">
                      <p:stCondLst>
                        <p:cond delay="indefinite"/>
                      </p:stCondLst>
                      <p:childTnLst>
                        <p:par>
                          <p:cTn id="1239" fill="hold">
                            <p:stCondLst>
                              <p:cond delay="0"/>
                            </p:stCondLst>
                            <p:childTnLst>
                              <p:par>
                                <p:cTn id="1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ag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é agor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. .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int funcaoA(int a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"/>
              </a:rPr>
              <a:t>float funcaoB(char c, double r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9900"/>
                </a:solidFill>
                <a:latin typeface="Arial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Arial"/>
              </a:rPr>
              <a:t>char funcaoC(char c, int x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3333cc"/>
                </a:solidFill>
                <a:latin typeface="Arial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3333cc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t main( ... 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nde escrever o código de funçõ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231640" y="3519360"/>
            <a:ext cx="5310360" cy="449280"/>
            <a:chOff x="2231640" y="3519360"/>
            <a:chExt cx="5310360" cy="449280"/>
          </a:xfrm>
        </p:grpSpPr>
        <p:sp>
          <p:nvSpPr>
            <p:cNvPr id="458" name=""/>
            <p:cNvSpPr/>
            <p:nvPr/>
          </p:nvSpPr>
          <p:spPr>
            <a:xfrm>
              <a:off x="4211640" y="3519360"/>
              <a:ext cx="3330360" cy="44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303440" y="3521160"/>
              <a:ext cx="261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Arial"/>
                </a:rPr>
                <a:t>funcaoA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conhecida aq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H="1">
              <a:off x="2231640" y="3789360"/>
              <a:ext cx="197964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1871280" y="4238640"/>
            <a:ext cx="5940720" cy="449280"/>
            <a:chOff x="1871280" y="4238640"/>
            <a:chExt cx="5940720" cy="449280"/>
          </a:xfrm>
        </p:grpSpPr>
        <p:sp>
          <p:nvSpPr>
            <p:cNvPr id="462" name=""/>
            <p:cNvSpPr/>
            <p:nvPr/>
          </p:nvSpPr>
          <p:spPr>
            <a:xfrm>
              <a:off x="3851280" y="4238640"/>
              <a:ext cx="3960720" cy="44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43440" y="4240080"/>
              <a:ext cx="3692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Arial"/>
                </a:rPr>
                <a:t>funcaoA, </a:t>
              </a:r>
              <a:r>
                <a:rPr b="0" lang="pt-BR" sz="1800" spc="-1" strike="noStrike">
                  <a:solidFill>
                    <a:srgbClr val="009900"/>
                  </a:solidFill>
                  <a:latin typeface="Arial"/>
                </a:rPr>
                <a:t>funcaoB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conhecidas aq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1871280" y="4508640"/>
              <a:ext cx="1979640" cy="1440"/>
            </a:xfrm>
            <a:prstGeom prst="line">
              <a:avLst/>
            </a:prstGeom>
            <a:ln w="1260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2050920" y="5229360"/>
            <a:ext cx="6751800" cy="449280"/>
            <a:chOff x="2050920" y="5229360"/>
            <a:chExt cx="6751800" cy="449280"/>
          </a:xfrm>
        </p:grpSpPr>
        <p:sp>
          <p:nvSpPr>
            <p:cNvPr id="466" name=""/>
            <p:cNvSpPr/>
            <p:nvPr/>
          </p:nvSpPr>
          <p:spPr>
            <a:xfrm>
              <a:off x="4030560" y="5229360"/>
              <a:ext cx="4772160" cy="44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23440" y="5230800"/>
              <a:ext cx="46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Arial"/>
                </a:rPr>
                <a:t>funcaoA, </a:t>
              </a:r>
              <a:r>
                <a:rPr b="0" lang="pt-BR" sz="1800" spc="-1" strike="noStrike">
                  <a:solidFill>
                    <a:srgbClr val="009900"/>
                  </a:solidFill>
                  <a:latin typeface="Arial"/>
                </a:rPr>
                <a:t>funcaoB,</a:t>
              </a:r>
              <a:r>
                <a:rPr b="0" lang="pt-BR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3333cc"/>
                  </a:solidFill>
                  <a:latin typeface="Arial"/>
                </a:rPr>
                <a:t>funcaoC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conhecidas aq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flipH="1">
              <a:off x="2050920" y="5499000"/>
              <a:ext cx="1981440" cy="18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72CB-2210-4D16-A5D3-3F50AD804862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441768-B6D3-401C-86AD-0F491EF32C75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8" fill="hold">
                      <p:stCondLst>
                        <p:cond delay="indefinite"/>
                      </p:stCondLst>
                      <p:childTnLst>
                        <p:par>
                          <p:cTn id="1249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fill="hold">
                      <p:stCondLst>
                        <p:cond delay="indefinite"/>
                      </p:stCondLst>
                      <p:childTnLst>
                        <p:par>
                          <p:cTn id="1257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fill="hold">
                      <p:stCondLst>
                        <p:cond delay="indefinite"/>
                      </p:stCondLst>
                      <p:childTnLst>
                        <p:par>
                          <p:cTn id="1273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2" fill="hold">
                      <p:stCondLst>
                        <p:cond delay="indefinite"/>
                      </p:stCondLst>
                      <p:childTnLst>
                        <p:par>
                          <p:cTn id="1283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8" fill="hold">
                      <p:stCondLst>
                        <p:cond delay="indefinite"/>
                      </p:stCondLst>
                      <p:childTnLst>
                        <p:par>
                          <p:cTn id="1289" fill="hold">
                            <p:stCondLst>
                              <p:cond delay="0"/>
                            </p:stCondLst>
                            <p:childTnLst>
                              <p:par>
                                <p:cTn id="12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fill="hold">
                      <p:stCondLst>
                        <p:cond delay="indefinite"/>
                      </p:stCondLst>
                      <p:childTnLst>
                        <p:par>
                          <p:cTn id="1295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agm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. .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int funcaoA(int a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00"/>
                </a:solidFill>
                <a:latin typeface="Arial"/>
              </a:rPr>
              <a:t>float funcaoB(char c, double 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char funcaoC(char c, int x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 main( ... ) {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. . .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/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int funcaoA(int a) {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. . .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00"/>
                </a:solidFill>
                <a:latin typeface="Arial"/>
              </a:rPr>
              <a:t>float funcaoB(char c, double 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9900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009900"/>
                </a:solidFill>
                <a:latin typeface="Arial"/>
              </a:rPr>
              <a:t>. . .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char funcaoC(char c, int x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0" lang="pt-BR" sz="1800" spc="-1" strike="noStrike">
                <a:solidFill>
                  <a:srgbClr val="3333cc"/>
                </a:solidFill>
                <a:latin typeface="Arial"/>
              </a:rPr>
              <a:t>. . . 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ódigo das funções no final: pragm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4392720" y="2259000"/>
            <a:ext cx="3303720" cy="1079640"/>
            <a:chOff x="4392720" y="2259000"/>
            <a:chExt cx="3303720" cy="1079640"/>
          </a:xfrm>
        </p:grpSpPr>
        <p:sp>
          <p:nvSpPr>
            <p:cNvPr id="474" name=""/>
            <p:cNvSpPr/>
            <p:nvPr/>
          </p:nvSpPr>
          <p:spPr>
            <a:xfrm>
              <a:off x="4392720" y="2259000"/>
              <a:ext cx="152280" cy="107964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8080 h 1079640"/>
                <a:gd name="textAreaBottom" fmla="*/ 1051560 h 107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754160" y="2438280"/>
              <a:ext cx="2942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pragmas de funçõ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5562720" y="4238640"/>
            <a:ext cx="3012480" cy="1711440"/>
            <a:chOff x="5562720" y="4238640"/>
            <a:chExt cx="3012480" cy="1711440"/>
          </a:xfrm>
        </p:grpSpPr>
        <p:sp>
          <p:nvSpPr>
            <p:cNvPr id="477" name=""/>
            <p:cNvSpPr/>
            <p:nvPr/>
          </p:nvSpPr>
          <p:spPr>
            <a:xfrm>
              <a:off x="5562720" y="4238640"/>
              <a:ext cx="166320" cy="1711440"/>
            </a:xfrm>
            <a:custGeom>
              <a:avLst/>
              <a:gdLst>
                <a:gd name="textAreaLeft" fmla="*/ 0 w 166320"/>
                <a:gd name="textAreaRight" fmla="*/ 116640 w 166320"/>
                <a:gd name="textAreaTop" fmla="*/ 71280 h 1711440"/>
                <a:gd name="textAreaBottom" fmla="*/ 1640160 h 171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837040" y="4780080"/>
              <a:ext cx="273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Corpo das funçõ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502000" y="3429000"/>
            <a:ext cx="6391080" cy="449280"/>
            <a:chOff x="2502000" y="3429000"/>
            <a:chExt cx="6391080" cy="449280"/>
          </a:xfrm>
        </p:grpSpPr>
        <p:sp>
          <p:nvSpPr>
            <p:cNvPr id="480" name=""/>
            <p:cNvSpPr/>
            <p:nvPr/>
          </p:nvSpPr>
          <p:spPr>
            <a:xfrm>
              <a:off x="4057560" y="3429000"/>
              <a:ext cx="4835520" cy="449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145040" y="3430440"/>
              <a:ext cx="474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Arial"/>
                </a:rPr>
                <a:t>funcaoA, </a:t>
              </a:r>
              <a:r>
                <a:rPr b="0" lang="pt-BR" sz="1800" spc="-1" strike="noStrike">
                  <a:solidFill>
                    <a:srgbClr val="009900"/>
                  </a:solidFill>
                  <a:latin typeface="Arial"/>
                </a:rPr>
                <a:t>funcaoB,</a:t>
              </a:r>
              <a:r>
                <a:rPr b="0" lang="pt-BR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3333cc"/>
                  </a:solidFill>
                  <a:latin typeface="Arial"/>
                </a:rPr>
                <a:t>funcaoC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 conhecidas aq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2502000" y="3699000"/>
              <a:ext cx="155736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3311280" y="3879720"/>
            <a:ext cx="1530720" cy="1979640"/>
            <a:chOff x="3311280" y="3879720"/>
            <a:chExt cx="1530720" cy="1979640"/>
          </a:xfrm>
        </p:grpSpPr>
        <p:sp>
          <p:nvSpPr>
            <p:cNvPr id="484" name=""/>
            <p:cNvSpPr/>
            <p:nvPr/>
          </p:nvSpPr>
          <p:spPr>
            <a:xfrm>
              <a:off x="4842000" y="3879720"/>
              <a:ext cx="0" cy="19796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3311280" y="4599000"/>
              <a:ext cx="1530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3311280" y="5229360"/>
              <a:ext cx="153036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3402000" y="5859360"/>
              <a:ext cx="1440000" cy="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5725800" y="6308280"/>
            <a:ext cx="26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Funcoes\MDC\MDDC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56B7-7C1D-4456-B0DB-978BB70D770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BF0B7D-C797-4090-95B0-AFBD802A9D31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0" dur="indefinite" restart="never" nodeType="tmRoot">
          <p:childTnLst>
            <p:seq>
              <p:cTn id="1301" dur="indefinite" nodeType="mainSeq">
                <p:childTnLst>
                  <p:par>
                    <p:cTn id="1302" fill="hold">
                      <p:stCondLst>
                        <p:cond delay="indefinite"/>
                      </p:stCondLst>
                      <p:childTnLst>
                        <p:par>
                          <p:cTn id="1303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fill="hold">
                      <p:stCondLst>
                        <p:cond delay="indefinite"/>
                      </p:stCondLst>
                      <p:childTnLst>
                        <p:par>
                          <p:cTn id="1307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fill="hold">
                      <p:stCondLst>
                        <p:cond delay="indefinite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fill="hold">
                      <p:stCondLst>
                        <p:cond delay="indefinite"/>
                      </p:stCondLst>
                      <p:childTnLst>
                        <p:par>
                          <p:cTn id="1315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fill="hold">
                      <p:stCondLst>
                        <p:cond delay="indefinite"/>
                      </p:stCondLst>
                      <p:childTnLst>
                        <p:par>
                          <p:cTn id="1321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fill="hold">
                      <p:stCondLst>
                        <p:cond delay="indefinite"/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fill="hold">
                      <p:stCondLst>
                        <p:cond delay="indefinite"/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fill="hold">
                      <p:stCondLst>
                        <p:cond delay="indefinite"/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8" fill="hold">
                      <p:stCondLst>
                        <p:cond delay="indefinite"/>
                      </p:stCondLst>
                      <p:childTnLst>
                        <p:par>
                          <p:cTn id="1359" fill="hold">
                            <p:stCondLst>
                              <p:cond delay="0"/>
                            </p:stCondLst>
                            <p:childTnLst>
                              <p:par>
                                <p:cTn id="13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fill="hold">
                      <p:stCondLst>
                        <p:cond delay="indefinite"/>
                      </p:stCondLst>
                      <p:childTnLst>
                        <p:par>
                          <p:cTn id="1365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8" fill="hold">
                      <p:stCondLst>
                        <p:cond delay="indefinite"/>
                      </p:stCondLst>
                      <p:childTnLst>
                        <p:par>
                          <p:cTn id="1369" fill="hold">
                            <p:stCondLst>
                              <p:cond delay="0"/>
                            </p:stCondLst>
                            <p:childTnLst>
                              <p:par>
                                <p:cTn id="1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Fim do capítulo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D56BA-408B-471C-A1A8-40318318A29C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604D670-EB72-4305-A6DE-CE8717AA3229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31640" y="2708280"/>
            <a:ext cx="8229600" cy="33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r 3 notas dos alunos A 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lcular a média d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lcular a média d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arar as mé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rimir 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1640" y="1449360"/>
            <a:ext cx="8280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omparar a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médi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as </a:t>
            </a:r>
            <a:r>
              <a:rPr b="0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duas melhores nota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do aluno A e do aluno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6B72-BFBC-44D8-A532-003788157A8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64AA31-CF9B-4715-A23C-0C03708CF6CA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5472000" y="2771640"/>
            <a:ext cx="2791080" cy="82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etição do mesmo algorit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er 3 notas dos alunos A 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lcular a média de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lcular a média de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arar as méd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mprimir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lguns problemas no exemplo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02360" y="2708280"/>
            <a:ext cx="90360" cy="988920"/>
          </a:xfrm>
          <a:custGeom>
            <a:avLst/>
            <a:gdLst>
              <a:gd name="textAreaLeft" fmla="*/ 0 w 90360"/>
              <a:gd name="textAreaRight" fmla="*/ 32760 w 90360"/>
              <a:gd name="textAreaTop" fmla="*/ 25560 h 988920"/>
              <a:gd name="textAreaBottom" fmla="*/ 963360 h 98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105520"/>
            <a:ext cx="747072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lução: Uma função genérica para calcular a mé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064B-B248-45A6-9811-7B077B3AF45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3E69F2-C31A-43C5-BB6C-4CBBDC22D7FA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6119640" y="2077920"/>
            <a:ext cx="2773440" cy="228852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 principal mistura vários algorit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Leitu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álculo de mé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a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mpress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r 3 notas dos alunos A 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lcular a média de 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lcular a média d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arar as méd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rimir 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lguns problemas no exemplo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832360" y="2168640"/>
            <a:ext cx="179640" cy="2881080"/>
          </a:xfrm>
          <a:custGeom>
            <a:avLst/>
            <a:gdLst>
              <a:gd name="textAreaLeft" fmla="*/ 0 w 179640"/>
              <a:gd name="textAreaRight" fmla="*/ 64800 w 179640"/>
              <a:gd name="textAreaTop" fmla="*/ 74880 h 2881080"/>
              <a:gd name="textAreaBottom" fmla="*/ 2806200 h 28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5638680"/>
            <a:ext cx="711036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lução: Uma função para cada algorit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21000" y="4723920"/>
            <a:ext cx="275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Funcoes\Nota01\Nota01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09B9-362B-41F0-ABDA-6E3A8297555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75B6C4-68F8-46E6-8C30-E22212BF6596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1:20:33Z</dcterms:created>
  <dc:creator>Daniel</dc:creator>
  <dc:description/>
  <dc:language>en-US</dc:language>
  <cp:lastModifiedBy> arnaldo</cp:lastModifiedBy>
  <dcterms:modified xsi:type="dcterms:W3CDTF">2008-04-07T22:43:38Z</dcterms:modified>
  <cp:revision>193</cp:revision>
  <dc:subject/>
  <dc:title>Curso de C</dc:title>
</cp:coreProperties>
</file>