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79876-AEBC-42DA-AA2D-3603874C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DCD-BDB7-4C38-BF1B-90106807A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B86-67BE-4C6D-B25A-9BA74DC2C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443-F302-4786-BE0C-F4F5F0B78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4984-230D-4122-8B4C-FFFE3D809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1C58-F64D-426F-A455-10CEC020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B52DE-68CA-4AA0-8C4F-369B6F29B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2C1C-2B44-4CB0-AE9B-D7D6F9AC8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2724-844D-463A-B6C2-67A8B06A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11300-3173-4F9E-B642-1DF204475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9CE19-AA8A-4C22-9D64-A20FD266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6928-66FC-4FEC-8D15-E24E5D7E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965C-6EF8-4FA6-88F4-A4626063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5447C-F654-4469-99CC-9D308E4D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7879-5FE7-4E9E-96D0-DC9DE9840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A0490-70B7-4DA4-88C7-6AB61E6F1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30185-371E-4A8A-A7C9-8D410814C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266F-811C-4E5B-9355-4762B336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A5F6-D34F-4F62-9FA4-5AC93513C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C8F2-4AE6-4A34-ACD6-D9335487E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C73F-4854-4B78-88B9-5D3CF1EC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EE166-F137-483B-87F1-DD104F738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B5B-A233-4E12-93F7-72ABFA43E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D7A-2351-4601-9D39-B00B67AC5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2A99-E0FD-4D8B-B424-E87022F19184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DC67910A-1DB2-4E21-A0D0-0643AE097D2D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A99-20FD-4DA0-B7F7-690304D2A8F6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B5BA4-B892-4DFC-9850-55A4029F4B13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EF1C78CE-4D49-42FC-8931-A8726CE180F6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F5273-FC0F-4397-9C12-BF35D19AE3DC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C68F4-9D92-4A75-887D-053BD5AF100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BB98202-CF23-4DCA-993C-7B10FAD6D04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20560" y="2168280"/>
            <a:ext cx="82296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so b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 = 0, 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2^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o indu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 &gt; 0, e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já sei calcula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2^(n-1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2^(n-2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calcular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2^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lculamo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2^(n-1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400" spc="-1" strike="noStrike">
                <a:solidFill>
                  <a:srgbClr val="ff0000"/>
                </a:solidFill>
                <a:latin typeface="Arial"/>
              </a:rPr>
              <a:t>recurs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lculamo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2^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2*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z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14479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lcular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  <a:ea typeface="Arial"/>
              </a:rPr>
              <a:t>pot(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  <a:ea typeface="Arial"/>
              </a:rPr>
              <a:t>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2^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, recursivamente, para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n &gt;= 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641280" y="642456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ot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ADBE-7234-463E-AC31-365FA36E1C93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EAEE01-D91E-4681-A610-6ECD8407957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40920" y="2529000"/>
            <a:ext cx="2791080" cy="36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tBaseGe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ex2de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DC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ano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wt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bo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ibo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62360" y="2438280"/>
            <a:ext cx="18892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i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uscaB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po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ulaInfix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ain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E594D-AD59-4E18-808E-5A4EC562083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F17616-DEDD-4105-B0C3-2AF12DE9FD7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éia do procedimento recursiv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385-21B6-4904-92F8-A1CF074995A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9F7F1-CE51-4688-91C3-585BC7FF912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Idéi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E4DD7-CCD8-4E55-B194-D1DFBCACBA5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C611C85-6DF7-4C05-A62D-A23322CE85D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t(n) =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n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(n-1) x (n-2) x ... x 2 x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t(1) =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t(2) =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t(3) =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2 x 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at(4) =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3 x 2 x 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lcular a função fator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24D3-7860-4769-AD44-BAE3EC9B8D3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D51AE-77AE-4400-9B1B-3B6A5061B0D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 dado um problema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parametrizado por um valor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x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calcular a função fatorial,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f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é o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parâmetr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da fun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éto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E71C-BC6E-4AED-B395-C483F649C69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5E9119-B15A-48C4-AB9E-35191C2B75B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lguns valores de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sabemos diretamente o valor de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ualmente são os primeiros (mais baixos) valores de 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x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fa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diretam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s </a:t>
            </a:r>
            <a:r>
              <a:rPr b="1" lang="pt-BR" sz="3200" spc="-1" strike="noStrike">
                <a:solidFill>
                  <a:srgbClr val="0000ff"/>
                </a:solidFill>
                <a:latin typeface="Arial"/>
                <a:ea typeface="Arial"/>
              </a:rPr>
              <a:t>bas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38D8-025C-4843-B1E1-A627C3348EA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FD8DF9-C987-4CC4-84A6-87135E0A411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um valor de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erente do caso base, assumimos que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já tem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rontos os valores de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pt-BR" sz="3200" spc="-1" strike="noStrike">
                <a:solidFill>
                  <a:srgbClr val="009900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n-1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P(n-2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mos esses valores para calcular </a:t>
            </a: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P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exempl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fa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(n-1) x ... x 2 x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x </a:t>
            </a: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fat(n-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Arial"/>
                <a:ea typeface="Arial"/>
              </a:rPr>
              <a:t>Passo indutiv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0FAC-812E-4345-B63D-C9A762DD372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B7728-137E-4EC6-B665-EEEE0341536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2000" y="2077560"/>
            <a:ext cx="278928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at(4) = n x fat(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demos calcular 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Arial"/>
              </a:rPr>
              <a:t>P(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pt-BR" sz="3200" spc="-1" strike="noStrike">
                <a:solidFill>
                  <a:srgbClr val="008000"/>
                </a:solidFill>
                <a:latin typeface="Arial"/>
                <a:ea typeface="Arial"/>
              </a:rPr>
              <a:t>)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para qualquer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159000"/>
            <a:ext cx="279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at(3) = 2 x fat(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114800"/>
            <a:ext cx="27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at(2) = 1 x fat(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2666880"/>
            <a:ext cx="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3657600"/>
            <a:ext cx="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4800600"/>
            <a:ext cx="0" cy="4572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5319720"/>
            <a:ext cx="231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fat(1)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220560" y="5319720"/>
            <a:ext cx="1066680" cy="368280"/>
            <a:chOff x="3220560" y="5319720"/>
            <a:chExt cx="1066680" cy="368280"/>
          </a:xfrm>
        </p:grpSpPr>
        <p:sp>
          <p:nvSpPr>
            <p:cNvPr id="127" name=""/>
            <p:cNvSpPr/>
            <p:nvPr/>
          </p:nvSpPr>
          <p:spPr>
            <a:xfrm flipH="1">
              <a:off x="3220560" y="5664240"/>
              <a:ext cx="1066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435840" y="531972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729760" y="5322960"/>
            <a:ext cx="34992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220560" y="4689360"/>
            <a:ext cx="2675520" cy="547560"/>
            <a:chOff x="3220560" y="4689360"/>
            <a:chExt cx="2675520" cy="547560"/>
          </a:xfrm>
        </p:grpSpPr>
        <p:sp>
          <p:nvSpPr>
            <p:cNvPr id="131" name=""/>
            <p:cNvSpPr/>
            <p:nvPr/>
          </p:nvSpPr>
          <p:spPr>
            <a:xfrm flipH="1">
              <a:off x="3220560" y="513864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11640" y="4689360"/>
              <a:ext cx="143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"/>
                </a:rPr>
                <a:t>in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V="1">
              <a:off x="5896080" y="4855680"/>
              <a:ext cx="0" cy="3812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5270400" y="4286160"/>
            <a:ext cx="13604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 x 1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220560" y="3519360"/>
            <a:ext cx="2570760" cy="644760"/>
            <a:chOff x="3220560" y="3519360"/>
            <a:chExt cx="2570760" cy="644760"/>
          </a:xfrm>
        </p:grpSpPr>
        <p:sp>
          <p:nvSpPr>
            <p:cNvPr id="136" name=""/>
            <p:cNvSpPr/>
            <p:nvPr/>
          </p:nvSpPr>
          <p:spPr>
            <a:xfrm flipH="1">
              <a:off x="3220560" y="3968640"/>
              <a:ext cx="11430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20920" y="3519360"/>
              <a:ext cx="142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"/>
                </a:rPr>
                <a:t>in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5791320" y="3706920"/>
              <a:ext cx="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5257800" y="3249720"/>
            <a:ext cx="13604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 x 2 =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950920" y="2529000"/>
            <a:ext cx="2916360" cy="644400"/>
            <a:chOff x="2950920" y="2529000"/>
            <a:chExt cx="2916360" cy="644400"/>
          </a:xfrm>
        </p:grpSpPr>
        <p:sp>
          <p:nvSpPr>
            <p:cNvPr id="141" name=""/>
            <p:cNvSpPr/>
            <p:nvPr/>
          </p:nvSpPr>
          <p:spPr>
            <a:xfrm flipH="1">
              <a:off x="2950920" y="2978280"/>
              <a:ext cx="1336680" cy="28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044880" y="2529000"/>
              <a:ext cx="97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ff"/>
                  </a:solidFill>
                  <a:latin typeface="Arial"/>
                </a:rPr>
                <a:t>induçã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5867280" y="2716200"/>
              <a:ext cx="0" cy="4572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5181840" y="2259000"/>
            <a:ext cx="1529640" cy="4597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 x 6 = 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12720" y="624528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F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99BB-A4EB-485E-9E97-CD49764BE1F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70F0F-1F3F-462E-B942-6D7BC3D02A7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curs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1447920"/>
            <a:ext cx="82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cursão deve tratar </a:t>
            </a:r>
            <a:r>
              <a:rPr b="1" lang="pt-BR" sz="3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tod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os casos de valores do parâmetro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  <a:ea typeface="Arial"/>
              </a:rPr>
              <a:t>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202360" y="3699000"/>
            <a:ext cx="1245960" cy="360360"/>
          </a:xfrm>
          <a:custGeom>
            <a:avLst/>
            <a:gdLst>
              <a:gd name="textAreaLeft" fmla="*/ 0 w 1245960"/>
              <a:gd name="textAreaRight" fmla="*/ 1246320 w 124596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605960" y="3699000"/>
            <a:ext cx="1608840" cy="1237320"/>
            <a:chOff x="1605960" y="3699000"/>
            <a:chExt cx="1608840" cy="1237320"/>
          </a:xfrm>
        </p:grpSpPr>
        <p:sp>
          <p:nvSpPr>
            <p:cNvPr id="152" name=""/>
            <p:cNvSpPr/>
            <p:nvPr/>
          </p:nvSpPr>
          <p:spPr>
            <a:xfrm rot="5400000">
              <a:off x="2342880" y="4038480"/>
              <a:ext cx="152280" cy="914400"/>
            </a:xfrm>
            <a:custGeom>
              <a:avLst/>
              <a:gdLst>
                <a:gd name="textAreaLeft" fmla="*/ 0 w 152280"/>
                <a:gd name="textAreaRight" fmla="*/ 5508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605960" y="4599000"/>
              <a:ext cx="1608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ff"/>
                  </a:solidFill>
                  <a:latin typeface="Arial"/>
                </a:rPr>
                <a:t>passo indutiv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71640" y="3699000"/>
              <a:ext cx="1246320" cy="360360"/>
            </a:xfrm>
            <a:custGeom>
              <a:avLst/>
              <a:gdLst>
                <a:gd name="textAreaLeft" fmla="*/ 0 w 1246320"/>
                <a:gd name="textAreaRight" fmla="*/ 1246320 w 1246320"/>
                <a:gd name="textAreaTop" fmla="*/ 0 h 360360"/>
                <a:gd name="textAreaBottom" fmla="*/ 360720 h 3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00000"/>
                  <a:lnTo>
                    <a:pt x="0" y="10800"/>
                  </a:lnTo>
                  <a:arcTo wR="10800" hR="10800" stAng="10800000" swAng="10800000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797040" y="4059360"/>
            <a:ext cx="7086600" cy="896760"/>
            <a:chOff x="797040" y="4059360"/>
            <a:chExt cx="7086600" cy="896760"/>
          </a:xfrm>
        </p:grpSpPr>
        <p:sp>
          <p:nvSpPr>
            <p:cNvPr id="156" name=""/>
            <p:cNvSpPr/>
            <p:nvPr/>
          </p:nvSpPr>
          <p:spPr>
            <a:xfrm>
              <a:off x="797040" y="4170240"/>
              <a:ext cx="7086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49320" y="409428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177920" y="409428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11440" y="4094280"/>
              <a:ext cx="0" cy="152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rot="16200000">
              <a:off x="1253880" y="3941280"/>
              <a:ext cx="152280" cy="914400"/>
            </a:xfrm>
            <a:custGeom>
              <a:avLst/>
              <a:gdLst>
                <a:gd name="textAreaLeft" fmla="*/ 97200 w 152280"/>
                <a:gd name="textAreaRight" fmla="*/ 152640 w 15228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5640" y="4587840"/>
              <a:ext cx="700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Arial"/>
                </a:rPr>
                <a:t>ba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283440" y="4094280"/>
              <a:ext cx="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369040" y="4094280"/>
              <a:ext cx="0" cy="152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962000" y="4059360"/>
              <a:ext cx="0" cy="269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951280" y="4059360"/>
              <a:ext cx="0" cy="26964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763800" y="3519360"/>
            <a:ext cx="9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. . .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3F43-C8BC-4737-A693-E3C2B283A8CA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F73649-3CE4-4B17-BDED-0CE09CB8FF2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arnaldo</cp:lastModifiedBy>
  <dcterms:modified xsi:type="dcterms:W3CDTF">2007-05-17T18:15:27Z</dcterms:modified>
  <cp:revision>157</cp:revision>
  <dc:subject/>
  <dc:title>Curso de C</dc:title>
</cp:coreProperties>
</file>