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2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891A-15E9-4D92-BF52-7DFB31B14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137B-16B0-42AB-81C2-54330EC4B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9F75-80CF-42C3-9E86-001243BCE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9AF7-58E4-4881-87F7-01B99FE19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1671C-3DE2-4936-98DB-D696FAB6E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43F2-B503-41FB-AE9E-78D5DE12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2F326-AE57-4974-8085-22A572ABA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EFAD-C478-4814-8C2A-B481F9EE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FD1E0-4673-4FE5-A106-4F398605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A124-9EF7-43E1-B7AC-324C312D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D79A-6790-448B-90F2-D36810FC6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6082-FE71-43FB-889F-B63A4C8D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F5137-EC33-4D06-9F97-159B544B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9BA81-12A2-471D-8BE7-AE1D16FC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1B2B2-8D74-4AF0-A790-873B798F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3136-D57C-4D77-AE80-BF04328B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83DC-3513-4C7C-8E15-097B4B0EF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E80C-5048-4868-B829-F5A349BE9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6AFA-65C6-4F15-8170-0E449D49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AADA-C10C-429E-B804-62A2C302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BBA1-010C-40AB-B809-CCE44590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0F17-D56A-4C93-ACBA-F91635737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98F9-A282-42D8-A1CF-335B5D415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01ED-18C9-4C8A-A208-2A7789FF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8F05-56B2-482E-AF51-2718400A8375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FB48D639-1627-40A6-AF51-78A3EFAC0A80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D0185-51EF-4230-85CA-41396A39EF7F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B7036-E0AA-4C8C-BD3E-3D8C662D7C93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1DB69784-E0C1-4276-9C30-20282B530913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06896-2B65-4E9E-B8F0-B3EA9DBFB388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claração de Variávei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A479-C1EC-4C07-893E-093FE5BABC6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7E81B9E-6E77-4590-9824-E78EDE2A518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077920"/>
            <a:ext cx="50148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üência 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tras maiúsculas 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tras minúsculas 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ígitos 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blinhado (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_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me de variá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951280" y="5106960"/>
            <a:ext cx="585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121280" y="4689360"/>
            <a:ext cx="457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N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eçar com digi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 uma palavra c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8B6-BC68-4FAB-8120-6710D559E04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7DC32-FA22-4C0A-B32E-B564652DED04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2000" y="2349360"/>
            <a:ext cx="164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rr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2360" y="4059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rr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628360" y="252900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cont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18920" y="3249720"/>
            <a:ext cx="295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resto_divis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21440" y="23842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nota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5080" y="344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788000" y="537372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é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626560" y="4581360"/>
            <a:ext cx="188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uga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44370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Courier New"/>
              </a:rPr>
              <a:t>_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va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me de variá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BE7D-297E-4BDC-B6CF-925976C0175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E3155B-6CFB-4902-BD7A-99153F18E3D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stinção maiúscula/minús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áximo 31 sí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lavras chaves (proibidas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22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u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ns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ntinu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exter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got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lin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giste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stri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hor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ign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izeo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tatic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witc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ypedef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void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olati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whil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me de variáv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CFE4-6160-461C-9445-E329CFCE0D5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60A12D-5C61-4036-928B-0EAD46C27C8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Tipos Inteir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55807-4A53-4F00-A6CD-11BAED82A46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03CC002-A1AD-453F-980C-9C11B637273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r variáveis que armazenam números int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rimir números inteiros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 números inteiros digitados pel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D525-3F02-4497-A453-407DEC83D3B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040767-1134-4BFA-B6F4-64D0A7A81FD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Tipo Intei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r texto 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r números 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r números do te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ticularidades da lei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5F7C-0132-48FC-AB18-744BCCD7836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C7AA96-F5D3-4FB0-8222-A084192B5CB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Tipos Inteir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 Tipo Inteir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34157-AAFC-4952-97D9-5A71411766A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4214491-60E2-40CA-87FF-FC044921D7F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Int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ção de números inteir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4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itivos e neg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mitação de valor mínimo e máxi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4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valo válido para números inteir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romi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34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mória x Ampl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34136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Intei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4405-0FDB-454B-800C-209D0FFA7F7E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55954D-FE8D-4EC8-9FBC-2691ED1C7A9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Int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1967040" y="2349360"/>
            <a:ext cx="5208480" cy="28051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Inteiros: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Hierar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436-6881-4B51-B4A8-C0D3068D8691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3734C4-AC4D-403A-97A3-69EB2A39C95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431640" y="2168640"/>
            <a:ext cx="5670720" cy="143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Int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ções de Tipos Intei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3762720"/>
            <a:ext cx="63010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short in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s pequeno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4398840"/>
            <a:ext cx="63010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s gran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20640" y="5029200"/>
            <a:ext cx="62614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ong long 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s muito grand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411280" y="5659560"/>
            <a:ext cx="630108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loc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83800" y="288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36320" y="2889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ome = val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13360" y="22194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2"/>
            <a:endCxn id="244" idx="1"/>
          </p:cNvCxnSpPr>
          <p:nvPr/>
        </p:nvCxnSpPr>
        <p:spPr>
          <a:xfrm flipH="1" rot="16200000">
            <a:off x="1674000" y="3255120"/>
            <a:ext cx="524160" cy="9500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252" name=""/>
          <p:cNvCxnSpPr>
            <a:stCxn id="248" idx="2"/>
            <a:endCxn id="245" idx="1"/>
          </p:cNvCxnSpPr>
          <p:nvPr/>
        </p:nvCxnSpPr>
        <p:spPr>
          <a:xfrm flipH="1" rot="16200000">
            <a:off x="1352880" y="3576240"/>
            <a:ext cx="1166040" cy="9500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253" name=""/>
          <p:cNvCxnSpPr>
            <a:stCxn id="248" idx="2"/>
            <a:endCxn id="246" idx="1"/>
          </p:cNvCxnSpPr>
          <p:nvPr/>
        </p:nvCxnSpPr>
        <p:spPr>
          <a:xfrm flipH="1" rot="16200000">
            <a:off x="1037880" y="3891600"/>
            <a:ext cx="1796400" cy="9500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254" name=""/>
          <p:cNvCxnSpPr>
            <a:stCxn id="248" idx="2"/>
            <a:endCxn id="247" idx="1"/>
          </p:cNvCxnSpPr>
          <p:nvPr/>
        </p:nvCxnSpPr>
        <p:spPr>
          <a:xfrm flipH="1" rot="16200000">
            <a:off x="722880" y="4206600"/>
            <a:ext cx="2426400" cy="95004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F9A1-9FBB-4674-B45F-9E5183921430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92EE8-2834-49F6-ACD8-3989977DE4C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claração de 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r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ribuir um valor inicial à vari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olher um nome para a vari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BFF6D-511F-43C6-8D58-0D9AD8256B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FD3434-5FBF-4513-94B1-A933633D643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31640" y="2259000"/>
            <a:ext cx="8280720" cy="387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Int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ções de Tipos Intei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2720" y="4059360"/>
            <a:ext cx="7916760" cy="822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hort int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umero_pequen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hort int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ntador = 4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12720" y="3057480"/>
            <a:ext cx="7916760" cy="822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ontado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imite_tentativas = 10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2720" y="5049720"/>
            <a:ext cx="7916760" cy="82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ong int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quantidade_pecas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ong int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umero_repeticoes = 500000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25240" y="236052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s de decl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63BEB-3724-4966-80F7-17F4A1527F86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A0048-C8AD-4FC3-84A6-242DDA5441B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Int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533520" y="1676520"/>
          <a:ext cx="8135640" cy="4406760"/>
        </p:xfrm>
        <a:graphic>
          <a:graphicData uri="http://schemas.openxmlformats.org/drawingml/2006/table">
            <a:tbl>
              <a:tblPr/>
              <a:tblGrid>
                <a:gridCol w="1479240"/>
                <a:gridCol w="2211480"/>
                <a:gridCol w="1584360"/>
                <a:gridCol w="2860560"/>
              </a:tblGrid>
              <a:tr h="5371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mória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manho padr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.147.483.648 até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47.483.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short 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úmeros pequen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32.768 até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7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2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long 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úmeros gran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2.147.483.648 até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47.483.64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long long i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úmeros muito grand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b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9,223·10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23·10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781280" y="6400800"/>
            <a:ext cx="69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 Específico para o Visual C (Win3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C2B1-F8C8-44BF-8A3A-C10ED5DC2E8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2618B7-1B0F-4519-B353-719FAA0F63F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Int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tilize sempre o tipo </a:t>
            </a:r>
            <a:r>
              <a:rPr b="1" lang="pt-BR" sz="36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para declarar variáveis cujo conteúdo será um número inteir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fu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0D16-1CEA-4027-A76D-D5C16D34F90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8323AF-6BEE-4FF1-95CE-9EAEBBC28A5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0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Tipos Inteir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screver Text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98506-A6A2-4248-9EC5-A0B9E529983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811DFE7-DFAA-4843-B47B-4BC1DBAE802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431640" y="2438280"/>
            <a:ext cx="8280720" cy="1305000"/>
            <a:chOff x="431640" y="2438280"/>
            <a:chExt cx="8280720" cy="1305000"/>
          </a:xfrm>
        </p:grpSpPr>
        <p:sp>
          <p:nvSpPr>
            <p:cNvPr id="276" name=""/>
            <p:cNvSpPr/>
            <p:nvPr/>
          </p:nvSpPr>
          <p:spPr>
            <a:xfrm>
              <a:off x="431640" y="2441520"/>
              <a:ext cx="8280720" cy="13017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1040" y="244152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12720" y="3090960"/>
              <a:ext cx="7916760" cy="579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32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r>
                <a:rPr b="0" lang="pt-BR" sz="3200" spc="-1" strike="noStrike">
                  <a:solidFill>
                    <a:srgbClr val="ff0000"/>
                  </a:solidFill>
                  <a:latin typeface="Courier New"/>
                </a:rPr>
                <a:t>“</a:t>
              </a:r>
              <a:r>
                <a:rPr b="0" lang="pt-BR" sz="3200" spc="-1" strike="noStrike">
                  <a:solidFill>
                    <a:srgbClr val="000000"/>
                  </a:solidFill>
                  <a:latin typeface="Courier New"/>
                </a:rPr>
                <a:t>mensagem</a:t>
              </a:r>
              <a:r>
                <a:rPr b="0" lang="pt-BR" sz="3200" spc="-1" strike="noStrike">
                  <a:solidFill>
                    <a:srgbClr val="ff0000"/>
                  </a:solidFill>
                  <a:latin typeface="Courier New"/>
                </a:rPr>
                <a:t>”</a:t>
              </a:r>
              <a:r>
                <a:rPr b="0" lang="pt-BR" sz="32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r>
                <a:rPr b="1" lang="pt-BR" sz="3200" spc="-1" strike="noStrike">
                  <a:solidFill>
                    <a:srgbClr val="ff0000"/>
                  </a:solidFill>
                  <a:latin typeface="Courier New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459160" y="2438280"/>
              <a:ext cx="60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Mesma linh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31640" y="4357800"/>
            <a:ext cx="8280720" cy="1228680"/>
            <a:chOff x="431640" y="4357800"/>
            <a:chExt cx="8280720" cy="1228680"/>
          </a:xfrm>
        </p:grpSpPr>
        <p:sp>
          <p:nvSpPr>
            <p:cNvPr id="281" name=""/>
            <p:cNvSpPr/>
            <p:nvPr/>
          </p:nvSpPr>
          <p:spPr>
            <a:xfrm>
              <a:off x="431640" y="4361040"/>
              <a:ext cx="8280720" cy="122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61040" y="436104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2720" y="4959360"/>
              <a:ext cx="79167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3200" spc="-1" strike="noStrike">
                  <a:solidFill>
                    <a:srgbClr val="000000"/>
                  </a:solidFill>
                  <a:latin typeface="Courier New"/>
                </a:rPr>
                <a:t>(“mensagem</a:t>
              </a:r>
              <a:r>
                <a:rPr b="1" lang="pt-BR" sz="3200" spc="-1" strike="noStrike">
                  <a:solidFill>
                    <a:srgbClr val="ff0000"/>
                  </a:solidFill>
                  <a:latin typeface="Courier New"/>
                </a:rPr>
                <a:t>\n</a:t>
              </a:r>
              <a:r>
                <a:rPr b="0" lang="pt-BR" sz="3200" spc="-1" strike="noStrike">
                  <a:solidFill>
                    <a:srgbClr val="000000"/>
                  </a:solidFill>
                  <a:latin typeface="Courier New"/>
                </a:rPr>
                <a:t>”)</a:t>
              </a:r>
              <a:r>
                <a:rPr b="1" lang="pt-BR" sz="32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459160" y="4357800"/>
              <a:ext cx="6000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Avançar para próxima linh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Comando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Courier New"/>
              </a:rPr>
              <a:t>print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09D2-79D5-4C86-887A-631EA3EF3774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68585-88E6-449E-8CF5-93C43432056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31640" y="5291280"/>
            <a:ext cx="8280720" cy="9169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meira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egunda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Terceira linhacontinua terceira lin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1640" y="2079720"/>
            <a:ext cx="8280720" cy="305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nt main(int argc, char* 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ff0000"/>
                </a:solidFill>
                <a:latin typeface="Courier New"/>
              </a:rPr>
              <a:t>printf(“Primeira linha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3333cc"/>
                </a:solidFill>
                <a:latin typeface="Courier New"/>
              </a:rPr>
              <a:t>printf(“   Segunda linha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008000"/>
                </a:solidFill>
                <a:latin typeface="Courier New"/>
              </a:rPr>
              <a:t>printf(“Terceira linha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800" spc="-1" strike="noStrike">
                <a:solidFill>
                  <a:srgbClr val="cc9900"/>
                </a:solidFill>
                <a:latin typeface="Courier New"/>
              </a:rPr>
              <a:t>printf(“continua terceira linha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EA23-BE21-44A0-90CE-620A3945C0BB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69E9E2-8C82-47C8-BE42-70B731F278F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Tipos Inteir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screver Números Inteir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na Tela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E1FA1-E7AF-4B99-B1DA-85B0707DD223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3D71904-17F7-4A8F-BEE7-120272ADF1E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númer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1280" y="1496880"/>
            <a:ext cx="47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dicador de esc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431640" y="2077920"/>
            <a:ext cx="8280720" cy="1441440"/>
            <a:chOff x="431640" y="2077920"/>
            <a:chExt cx="8280720" cy="1441440"/>
          </a:xfrm>
        </p:grpSpPr>
        <p:sp>
          <p:nvSpPr>
            <p:cNvPr id="297" name=""/>
            <p:cNvSpPr/>
            <p:nvPr/>
          </p:nvSpPr>
          <p:spPr>
            <a:xfrm>
              <a:off x="431640" y="2081160"/>
              <a:ext cx="8280720" cy="1438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88240" y="208116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11280" y="2819520"/>
              <a:ext cx="791676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texto com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d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variavel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363760" y="2077920"/>
              <a:ext cx="627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Uma vari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31640" y="3699000"/>
            <a:ext cx="8280720" cy="1581120"/>
            <a:chOff x="431640" y="3699000"/>
            <a:chExt cx="8280720" cy="1581120"/>
          </a:xfrm>
        </p:grpSpPr>
        <p:sp>
          <p:nvSpPr>
            <p:cNvPr id="302" name=""/>
            <p:cNvSpPr/>
            <p:nvPr/>
          </p:nvSpPr>
          <p:spPr>
            <a:xfrm>
              <a:off x="431640" y="3699000"/>
              <a:ext cx="8280720" cy="1581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8600" y="369900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12720" y="4199040"/>
              <a:ext cx="7916760" cy="99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int q = 10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Quantidade: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d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 itens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q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31640" y="5499000"/>
            <a:ext cx="8280720" cy="52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Quantidade: 10 i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FA93-EEB3-4793-A37C-B1FA16DA746B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4C0FBD-D754-4812-B22F-EBD26E5FE34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númer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31280" y="1496880"/>
            <a:ext cx="47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dicador de esc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431640" y="3519360"/>
            <a:ext cx="8280720" cy="2070000"/>
            <a:chOff x="431640" y="3519360"/>
            <a:chExt cx="8280720" cy="2070000"/>
          </a:xfrm>
        </p:grpSpPr>
        <p:sp>
          <p:nvSpPr>
            <p:cNvPr id="310" name=""/>
            <p:cNvSpPr/>
            <p:nvPr/>
          </p:nvSpPr>
          <p:spPr>
            <a:xfrm>
              <a:off x="431640" y="3519360"/>
              <a:ext cx="8280720" cy="2070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12720" y="4059000"/>
              <a:ext cx="7916760" cy="153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int nota1 = 7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int nota2 = 8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(“Primera nota: 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%d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; segunda: 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%d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.”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nota1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,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 nota2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36040" y="351936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431640" y="2077920"/>
            <a:ext cx="8280720" cy="1260360"/>
            <a:chOff x="431640" y="2077920"/>
            <a:chExt cx="8280720" cy="1260360"/>
          </a:xfrm>
        </p:grpSpPr>
        <p:sp>
          <p:nvSpPr>
            <p:cNvPr id="314" name=""/>
            <p:cNvSpPr/>
            <p:nvPr/>
          </p:nvSpPr>
          <p:spPr>
            <a:xfrm>
              <a:off x="431640" y="2081160"/>
              <a:ext cx="8280720" cy="12571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88240" y="208116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11280" y="2707920"/>
              <a:ext cx="791676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(“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mensagem com varios %d”, v1, v2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 ...)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2363760" y="2077920"/>
              <a:ext cx="627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Mais variávei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31640" y="5749920"/>
            <a:ext cx="828072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meira nota: 7; segunda: 8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FFC4-29E3-47BB-A263-E8FFAE549E8C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D47843-33B6-4247-96AC-0F91CDE119D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númer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29120" y="144936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utros indicadores de esc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076720" y="4797360"/>
            <a:ext cx="315936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ll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long long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32000" y="4508640"/>
            <a:ext cx="246384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l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long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716360" y="3141720"/>
            <a:ext cx="23670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033560" y="2852640"/>
            <a:ext cx="24480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h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hort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F40E-3B42-4782-BB02-518E09B14268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382583-EE4C-4976-AF0C-E4408F237AB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3000"/>
                            </p:stCondLst>
                            <p:childTnLst>
                              <p:par>
                                <p:cTn id="3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claração de 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lembrando concei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s de 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ntif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84B9D-21F8-4D85-93D7-73E76C1FF9A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7F69D-E08A-4551-BF8C-0956EED21F5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númer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431640" y="2259000"/>
            <a:ext cx="8280720" cy="1231920"/>
            <a:chOff x="431640" y="2259000"/>
            <a:chExt cx="8280720" cy="1231920"/>
          </a:xfrm>
        </p:grpSpPr>
        <p:sp>
          <p:nvSpPr>
            <p:cNvPr id="329" name=""/>
            <p:cNvSpPr/>
            <p:nvPr/>
          </p:nvSpPr>
          <p:spPr>
            <a:xfrm>
              <a:off x="431640" y="2265480"/>
              <a:ext cx="8280720" cy="122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05760" y="226224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12720" y="2911320"/>
              <a:ext cx="79167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formato com %d”,</a:t>
              </a:r>
              <a:r>
                <a:rPr b="0" lang="pt-BR" sz="28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variavel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603520" y="2259000"/>
              <a:ext cx="600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Um número por coman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433080" y="1496880"/>
            <a:ext cx="52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an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431640" y="3882960"/>
            <a:ext cx="8280720" cy="2155680"/>
            <a:chOff x="431640" y="3882960"/>
            <a:chExt cx="8280720" cy="2155680"/>
          </a:xfrm>
        </p:grpSpPr>
        <p:sp>
          <p:nvSpPr>
            <p:cNvPr id="335" name=""/>
            <p:cNvSpPr/>
            <p:nvPr/>
          </p:nvSpPr>
          <p:spPr>
            <a:xfrm>
              <a:off x="431640" y="3882960"/>
              <a:ext cx="8280720" cy="2155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906120" y="388296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12720" y="4532040"/>
              <a:ext cx="7916760" cy="1363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int quantidade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printf(“Digite a quantidade: ”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d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quantidade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2266-D8CB-48E8-BF52-7915921927C8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E3334E-1BBB-4258-9233-DB4048B8AC2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númer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31640" y="2349360"/>
            <a:ext cx="8244000" cy="1231920"/>
            <a:chOff x="431640" y="2349360"/>
            <a:chExt cx="8244000" cy="1231920"/>
          </a:xfrm>
        </p:grpSpPr>
        <p:sp>
          <p:nvSpPr>
            <p:cNvPr id="341" name=""/>
            <p:cNvSpPr/>
            <p:nvPr/>
          </p:nvSpPr>
          <p:spPr>
            <a:xfrm>
              <a:off x="431640" y="2355840"/>
              <a:ext cx="8244000" cy="122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5760" y="235260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2720" y="3002040"/>
              <a:ext cx="791676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(“formato com %d”,</a:t>
              </a:r>
              <a:r>
                <a:rPr b="0" lang="pt-BR" sz="24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v1, 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v1, ...)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603520" y="2349360"/>
              <a:ext cx="600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Vários números por coman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431640" y="3699000"/>
            <a:ext cx="8280720" cy="2160000"/>
            <a:chOff x="431640" y="3699000"/>
            <a:chExt cx="8280720" cy="2160000"/>
          </a:xfrm>
        </p:grpSpPr>
        <p:sp>
          <p:nvSpPr>
            <p:cNvPr id="346" name=""/>
            <p:cNvSpPr/>
            <p:nvPr/>
          </p:nvSpPr>
          <p:spPr>
            <a:xfrm>
              <a:off x="431640" y="3699000"/>
              <a:ext cx="8280720" cy="2160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906120" y="369900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12720" y="4349160"/>
              <a:ext cx="7916760" cy="13665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0000"/>
                  </a:solidFill>
                  <a:latin typeface="Courier New"/>
                </a:rPr>
                <a:t>int nota1, nota2;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600" spc="-1" strike="noStrike">
                  <a:solidFill>
                    <a:srgbClr val="000000"/>
                  </a:solidFill>
                  <a:latin typeface="Courier New"/>
                </a:rPr>
                <a:t>printf(“Digite as duas notas: ”)</a:t>
              </a:r>
              <a:r>
                <a:rPr b="1" lang="pt-BR" sz="2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600" spc="-1" strike="noStrike">
                  <a:solidFill>
                    <a:srgbClr val="000000"/>
                  </a:solidFill>
                  <a:latin typeface="Courier New"/>
                </a:rPr>
                <a:t>(“</a:t>
              </a:r>
              <a:r>
                <a:rPr b="1" lang="pt-BR" sz="2600" spc="-1" strike="noStrike">
                  <a:solidFill>
                    <a:srgbClr val="ff0000"/>
                  </a:solidFill>
                  <a:latin typeface="Courier New"/>
                </a:rPr>
                <a:t>%d %d</a:t>
              </a:r>
              <a:r>
                <a:rPr b="0" lang="pt-BR" sz="2600" spc="-1" strike="noStrike">
                  <a:solidFill>
                    <a:srgbClr val="000000"/>
                  </a:solidFill>
                  <a:latin typeface="Courier New"/>
                </a:rPr>
                <a:t>”, </a:t>
              </a:r>
              <a:r>
                <a:rPr b="1" lang="pt-BR" sz="26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600" spc="-1" strike="noStrike">
                  <a:solidFill>
                    <a:srgbClr val="000000"/>
                  </a:solidFill>
                  <a:latin typeface="Courier New"/>
                </a:rPr>
                <a:t>nota1, </a:t>
              </a:r>
              <a:r>
                <a:rPr b="1" lang="pt-BR" sz="26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600" spc="-1" strike="noStrike">
                  <a:solidFill>
                    <a:srgbClr val="000000"/>
                  </a:solidFill>
                  <a:latin typeface="Courier New"/>
                </a:rPr>
                <a:t>nota2)</a:t>
              </a:r>
              <a:r>
                <a:rPr b="1" lang="pt-BR" sz="26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33080" y="1496880"/>
            <a:ext cx="52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Comando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Courier New"/>
              </a:rPr>
              <a:t>scanf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()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com</a:t>
            </a:r>
            <a:r>
              <a:rPr b="0" lang="pt-BR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pt-BR" sz="3200" spc="-1" strike="noStrike" u="sng">
                <a:solidFill>
                  <a:srgbClr val="ff0000"/>
                </a:solidFill>
                <a:uFillTx/>
                <a:latin typeface="Courier New"/>
              </a:rPr>
              <a:t>%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94E8-551C-4746-BAB2-0F165FC945CB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6CD742-95A3-4FCA-9E77-42182317DCD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númer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27640" y="3678120"/>
            <a:ext cx="31590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ll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l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long long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55640" y="4037040"/>
            <a:ext cx="246384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l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l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long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716360" y="2168640"/>
            <a:ext cx="23670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33560" y="2381400"/>
            <a:ext cx="244800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h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h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hort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121280" y="5319720"/>
            <a:ext cx="3448080" cy="1068840"/>
          </a:xfrm>
          <a:prstGeom prst="rect">
            <a:avLst/>
          </a:prstGeom>
          <a:solidFill>
            <a:srgbClr val="ffffcc"/>
          </a:solidFill>
          <a:ln w="9360">
            <a:solidFill>
              <a:srgbClr val="66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I64d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I64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long long 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29120" y="1449360"/>
            <a:ext cx="59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utros indicadores de leitu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C39B-660E-41AB-9063-A854E8510E19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7AE8D-72EF-49D9-A99B-00E597224094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000"/>
                            </p:stCondLst>
                            <p:childTnLst>
                              <p:par>
                                <p:cTn id="3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3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4000"/>
                            </p:stCondLst>
                            <p:childTnLst>
                              <p:par>
                                <p:cTn id="3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ticularidades da lei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 bloqueia até o usuár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rever todos os valores pend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ssionar EN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31640" y="3789360"/>
            <a:ext cx="6391440" cy="900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int a, b, c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(“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%d %d %d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”, 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b, 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c)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3080" y="1496880"/>
            <a:ext cx="52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an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1640" y="5319720"/>
            <a:ext cx="261000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3 4 6 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20920" y="5319720"/>
            <a:ext cx="2610000" cy="82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3 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4 6 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33440" y="4710240"/>
            <a:ext cx="44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suário poderá escre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012000" y="5319720"/>
            <a:ext cx="2609640" cy="1191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3 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4 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6 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E0E-8A3C-46F2-A01C-C3A7D1607793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08DC6A-05FC-4047-BB60-24EFAE10C2F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ticularidades da leitu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úmeros digitados em ex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cam em uma fila para próximos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scan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1640" y="3249720"/>
            <a:ext cx="6391440" cy="12589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int a, b, c, d, e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(“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%d %d %d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”, 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a, 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b, 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c)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(“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%d %d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”, 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d, </a:t>
            </a:r>
            <a:r>
              <a:rPr b="1" lang="pt-BR" sz="26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600" spc="-1" strike="noStrike">
                <a:solidFill>
                  <a:srgbClr val="000000"/>
                </a:solidFill>
                <a:latin typeface="Courier New"/>
              </a:rPr>
              <a:t>e)</a:t>
            </a:r>
            <a:r>
              <a:rPr b="1" lang="pt-BR" sz="26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3080" y="1496880"/>
            <a:ext cx="52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an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1640" y="5229360"/>
            <a:ext cx="3330720" cy="82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3 4 6 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7 8 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3440" y="4599000"/>
            <a:ext cx="449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usuário poderá escre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21280" y="5229360"/>
            <a:ext cx="333036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3 4 6 7 8(ent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180920" y="630864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200" spc="-1" strike="noStrike">
                <a:solidFill>
                  <a:srgbClr val="000000"/>
                </a:solidFill>
                <a:latin typeface="Arial"/>
              </a:rPr>
              <a:t>LeituraEscri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437E-DDE8-49BA-AF9D-2032C7E0D837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5B9FE-E37E-4F06-8F58-91F6FD861DF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utros exempl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371600" y="3500280"/>
            <a:ext cx="640080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mitesInteir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CE790-52F4-4C03-8DF5-445F47E5B6F5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CF53026-B080-4646-9968-E7D8805D26D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Introdução aos Operador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Aritmétic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B7D75-FBF1-4ABD-B2FA-53590D2B5238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CC7CCDD-4C41-41A2-BC9A-9512B1A7587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trodução aos Ope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alizar operações matemáticas com números e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alvar novamente o resultado das operações em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29DC-F7BE-465C-8F4E-6E0F855D682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0C3189-C6C6-44D5-8C21-585AE5E51F5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trodução aos Oper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ribui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44C-3055-40FD-8B72-F120804DE190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9EC0BF-8F30-4A5C-B866-3DEEDF646DC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tribu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1280" y="144936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tribui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431640" y="2529000"/>
            <a:ext cx="5545440" cy="1260360"/>
            <a:chOff x="431640" y="2529000"/>
            <a:chExt cx="5545440" cy="1260360"/>
          </a:xfrm>
        </p:grpSpPr>
        <p:sp>
          <p:nvSpPr>
            <p:cNvPr id="392" name=""/>
            <p:cNvSpPr/>
            <p:nvPr/>
          </p:nvSpPr>
          <p:spPr>
            <a:xfrm>
              <a:off x="431640" y="2529000"/>
              <a:ext cx="5545440" cy="1260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21280" y="252900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12720" y="3159000"/>
              <a:ext cx="521964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variavel = valor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431640" y="4149720"/>
            <a:ext cx="5545440" cy="1349280"/>
            <a:chOff x="431640" y="4149720"/>
            <a:chExt cx="5545440" cy="1349280"/>
          </a:xfrm>
        </p:grpSpPr>
        <p:sp>
          <p:nvSpPr>
            <p:cNvPr id="396" name=""/>
            <p:cNvSpPr/>
            <p:nvPr/>
          </p:nvSpPr>
          <p:spPr>
            <a:xfrm>
              <a:off x="431640" y="4149720"/>
              <a:ext cx="5545440" cy="1349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12000" y="423864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2720" y="4800600"/>
              <a:ext cx="521964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variavel = expressão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2771640" y="1449360"/>
            <a:ext cx="59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ubstitui o valor da variá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6102360" y="2529000"/>
            <a:ext cx="2700360" cy="2595960"/>
            <a:chOff x="6102360" y="2529000"/>
            <a:chExt cx="2700360" cy="2595960"/>
          </a:xfrm>
        </p:grpSpPr>
        <p:sp>
          <p:nvSpPr>
            <p:cNvPr id="401" name=""/>
            <p:cNvSpPr/>
            <p:nvPr/>
          </p:nvSpPr>
          <p:spPr>
            <a:xfrm>
              <a:off x="7002360" y="3214800"/>
              <a:ext cx="1710000" cy="36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002360" y="4222800"/>
              <a:ext cx="1710000" cy="36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02360" y="3718080"/>
              <a:ext cx="1710000" cy="36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28000" y="4149720"/>
              <a:ext cx="59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Times New Roman"/>
                </a:rPr>
                <a:t>so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28000" y="3214800"/>
              <a:ext cx="519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28000" y="3718080"/>
              <a:ext cx="519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cc66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102360" y="396900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ót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56440" y="472608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teú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09" name=""/>
            <p:cNvCxnSpPr>
              <a:stCxn id="408" idx="3"/>
              <a:endCxn id="410" idx="2"/>
            </p:cNvCxnSpPr>
            <p:nvPr/>
          </p:nvCxnSpPr>
          <p:spPr>
            <a:xfrm flipV="1">
              <a:off x="8442360" y="4546080"/>
              <a:ext cx="4680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7" idx="0"/>
              <a:endCxn id="405" idx="1"/>
            </p:cNvCxnSpPr>
            <p:nvPr/>
          </p:nvCxnSpPr>
          <p:spPr>
            <a:xfrm flipH="1" flipV="1" rot="5400000">
              <a:off x="6562440" y="3403440"/>
              <a:ext cx="573840" cy="55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2" name=""/>
            <p:cNvSpPr/>
            <p:nvPr/>
          </p:nvSpPr>
          <p:spPr>
            <a:xfrm>
              <a:off x="7812000" y="3178080"/>
              <a:ext cx="5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00"/>
                  </a:solidFill>
                  <a:latin typeface="Castellar"/>
                </a:rPr>
                <a:t>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62720" y="252900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omín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14" name=""/>
            <p:cNvCxnSpPr>
              <a:stCxn id="413" idx="2"/>
              <a:endCxn id="412" idx="0"/>
            </p:cNvCxnSpPr>
            <p:nvPr/>
          </p:nvCxnSpPr>
          <p:spPr>
            <a:xfrm rot="5400000">
              <a:off x="7956000" y="3051000"/>
              <a:ext cx="253080" cy="2160"/>
            </a:xfrm>
            <a:prstGeom prst="bentConnector3">
              <a:avLst>
                <a:gd name="adj1" fmla="val 4957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15" name=""/>
            <p:cNvSpPr/>
            <p:nvPr/>
          </p:nvSpPr>
          <p:spPr>
            <a:xfrm>
              <a:off x="8263080" y="319572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263080" y="373536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263080" y="418644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12000" y="3735360"/>
              <a:ext cx="5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663300"/>
                  </a:solidFill>
                  <a:latin typeface="Castellar"/>
                </a:rPr>
                <a:t>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812000" y="4238640"/>
              <a:ext cx="5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Castellar"/>
                </a:rPr>
                <a:t>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5EF5-7B26-4FA7-8B88-29381A2CD5A3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3DAD90-8C6B-438A-94D8-1616A77C5DC4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3068640"/>
            <a:ext cx="29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lembran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578160" y="4133880"/>
            <a:ext cx="5198040" cy="1312560"/>
            <a:chOff x="578160" y="4133880"/>
            <a:chExt cx="5198040" cy="1312560"/>
          </a:xfrm>
        </p:grpSpPr>
        <p:sp>
          <p:nvSpPr>
            <p:cNvPr id="106" name=""/>
            <p:cNvSpPr/>
            <p:nvPr/>
          </p:nvSpPr>
          <p:spPr>
            <a:xfrm>
              <a:off x="578160" y="4471920"/>
              <a:ext cx="156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Variável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95600" y="4133880"/>
              <a:ext cx="11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594520" y="4925880"/>
              <a:ext cx="10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91600" y="4133880"/>
              <a:ext cx="13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(rótulo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91600" y="4925880"/>
              <a:ext cx="188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(conteúdo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305080" y="4133880"/>
              <a:ext cx="144360" cy="129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33480 h 1295280"/>
                <a:gd name="textAreaBottom" fmla="*/ 126180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20560" y="1449360"/>
            <a:ext cx="7921800" cy="9907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ariável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nome simbólico associado a um d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102360" y="3211560"/>
            <a:ext cx="2610000" cy="1929240"/>
            <a:chOff x="6102360" y="3211560"/>
            <a:chExt cx="2610000" cy="1929240"/>
          </a:xfrm>
        </p:grpSpPr>
        <p:sp>
          <p:nvSpPr>
            <p:cNvPr id="114" name=""/>
            <p:cNvSpPr/>
            <p:nvPr/>
          </p:nvSpPr>
          <p:spPr>
            <a:xfrm>
              <a:off x="7002360" y="3230640"/>
              <a:ext cx="1710000" cy="36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2360" y="4238640"/>
              <a:ext cx="1710000" cy="36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2360" y="3733920"/>
              <a:ext cx="1710000" cy="36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8000" y="4165560"/>
              <a:ext cx="59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Times New Roman"/>
                </a:rPr>
                <a:t>so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128000" y="3230640"/>
              <a:ext cx="519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8000" y="3733920"/>
              <a:ext cx="519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cc66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102360" y="398448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ót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156440" y="474192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teú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" name=""/>
            <p:cNvCxnSpPr>
              <a:stCxn id="121" idx="3"/>
              <a:endCxn id="123" idx="2"/>
            </p:cNvCxnSpPr>
            <p:nvPr/>
          </p:nvCxnSpPr>
          <p:spPr>
            <a:xfrm flipV="1">
              <a:off x="8442360" y="4561920"/>
              <a:ext cx="4680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4" name=""/>
            <p:cNvCxnSpPr>
              <a:stCxn id="120" idx="0"/>
              <a:endCxn id="118" idx="1"/>
            </p:cNvCxnSpPr>
            <p:nvPr/>
          </p:nvCxnSpPr>
          <p:spPr>
            <a:xfrm flipH="1" flipV="1" rot="5400000">
              <a:off x="6562440" y="3418920"/>
              <a:ext cx="573840" cy="55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25" name=""/>
            <p:cNvSpPr/>
            <p:nvPr/>
          </p:nvSpPr>
          <p:spPr>
            <a:xfrm>
              <a:off x="8263080" y="321156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263080" y="375120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263080" y="420228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50EF-F961-4B3B-B2A9-7345E61F784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91B1B-2B43-4FCA-8387-BC7A4B4F5C8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431640" y="2259000"/>
            <a:ext cx="8280720" cy="3870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tribu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522720" y="2349360"/>
            <a:ext cx="6749640" cy="968400"/>
            <a:chOff x="522720" y="2349360"/>
            <a:chExt cx="6749640" cy="968400"/>
          </a:xfrm>
        </p:grpSpPr>
        <p:sp>
          <p:nvSpPr>
            <p:cNvPr id="423" name=""/>
            <p:cNvSpPr/>
            <p:nvPr/>
          </p:nvSpPr>
          <p:spPr>
            <a:xfrm>
              <a:off x="522720" y="2349360"/>
              <a:ext cx="37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Atribuir um novo valo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11280" y="2798640"/>
              <a:ext cx="576108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quantidade = 10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523440" y="3519360"/>
            <a:ext cx="7288560" cy="1059120"/>
            <a:chOff x="523440" y="3519360"/>
            <a:chExt cx="7288560" cy="1059120"/>
          </a:xfrm>
        </p:grpSpPr>
        <p:sp>
          <p:nvSpPr>
            <p:cNvPr id="426" name=""/>
            <p:cNvSpPr/>
            <p:nvPr/>
          </p:nvSpPr>
          <p:spPr>
            <a:xfrm>
              <a:off x="523440" y="3519360"/>
              <a:ext cx="5842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Armazenar resultado de uma conta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11280" y="4059360"/>
              <a:ext cx="720072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oma = valor_a + valor_b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522720" y="4780080"/>
            <a:ext cx="8010000" cy="1170000"/>
            <a:chOff x="522720" y="4780080"/>
            <a:chExt cx="8010000" cy="1170000"/>
          </a:xfrm>
        </p:grpSpPr>
        <p:sp>
          <p:nvSpPr>
            <p:cNvPr id="429" name=""/>
            <p:cNvSpPr/>
            <p:nvPr/>
          </p:nvSpPr>
          <p:spPr>
            <a:xfrm>
              <a:off x="522720" y="4780080"/>
              <a:ext cx="374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Atualizar um contador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15960" y="5430960"/>
              <a:ext cx="791676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contador = contador + 1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431280" y="1449360"/>
            <a:ext cx="232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Atribui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771640" y="1449360"/>
            <a:ext cx="59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ubstitui o valor da variá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188C-4759-40AA-B79B-00BDD79A053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17A25B-F454-4526-9EA8-8BB7FA47A8F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perado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t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ltiplic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v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ódulo (re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pres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2360" y="1449360"/>
            <a:ext cx="252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atemátic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56D-C5FC-4DDF-B83A-BAB14466A51D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A410C8-0B30-4C4A-83D9-FD4D359E0CE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431640" y="5325120"/>
            <a:ext cx="8280720" cy="52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Soma: 10 mais 16 é 2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1640" y="2259000"/>
            <a:ext cx="8280720" cy="279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12720" y="2438280"/>
            <a:ext cx="7916760" cy="2611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parcela1 = 10, parcela2 = 1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som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oma =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 parcela1 + parcel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ntf("Soma: %d mais %d é %d",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parcela1, parcela2, soma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33080" y="144936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om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40AB-4B9C-4031-B0DC-D303A766D1FE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80C14-4100-4CD6-8941-6CB1FE0AE23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31640" y="5325120"/>
            <a:ext cx="8280720" cy="52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Subtração: 10 menos 16 é -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31640" y="2259000"/>
            <a:ext cx="8280720" cy="279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2720" y="2349360"/>
            <a:ext cx="7916760" cy="270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parcela1 = 10, parcela2 = 1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subtraca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ubtracao =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parcela1 - parcela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ntf("Subtração: %d menos %d é %d"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parcela1, parcela2, subtraca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1640" y="144936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Subt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43C-8404-4AB4-83FE-75B82B30212B}" type="slidenum">
              <a:t>4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3262A2-949D-4DA6-8D48-DE700CC72D1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431640" y="5325120"/>
            <a:ext cx="8280720" cy="52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Multiplicação: 4 vezes 6 é 2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31640" y="2259000"/>
            <a:ext cx="8280720" cy="279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2720" y="2349360"/>
            <a:ext cx="7916760" cy="270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fator_a = 4, fator_b =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produ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oduto =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fator_a * fator_b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ntf("Multipliação: %d vezes %d é %d"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fator_a, fator_b, produ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31280" y="1449360"/>
            <a:ext cx="288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Multiplic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1730-5560-4E1B-AEF3-457FBE73532F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A427C-0E70-4787-9575-86149E6A0AC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431640" y="5664600"/>
            <a:ext cx="8280720" cy="4597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ivisão: 46 por 6 é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31640" y="2259000"/>
            <a:ext cx="8280720" cy="3240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1280" y="2438280"/>
            <a:ext cx="7918200" cy="2881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dividendo = 46, divisor =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quocien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quociente =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dividendo / diviso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ntf("Divisão: %d por %d é %d",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    dividendo, divisor, quocient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31640" y="1449360"/>
            <a:ext cx="309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visão intei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562720" y="3068640"/>
            <a:ext cx="3330360" cy="844560"/>
          </a:xfrm>
          <a:prstGeom prst="borderCallout2">
            <a:avLst>
              <a:gd name="adj1" fmla="val 18750"/>
              <a:gd name="adj2" fmla="val -8333"/>
              <a:gd name="adj3" fmla="val 13532"/>
              <a:gd name="adj4" fmla="val -8009"/>
              <a:gd name="adj5" fmla="val 110712"/>
              <a:gd name="adj6" fmla="val -13870"/>
            </a:avLst>
          </a:prstGeom>
          <a:solidFill>
            <a:srgbClr val="ffffcc"/>
          </a:solidFill>
          <a:ln w="1260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Divisão Intei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Sem parte fracioná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9156-7BEA-4315-8F44-7695484E89D7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F6124-1356-4297-A81B-70A8DA0882D4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431640" y="5512680"/>
            <a:ext cx="8280720" cy="52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Divisão: 46 por 6 é 7, resto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431640" y="2259000"/>
            <a:ext cx="8280720" cy="306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emá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2720" y="2349360"/>
            <a:ext cx="7916760" cy="2880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dividendo = 46, divisor = 6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int quociente, res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quociente =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dividendo / divisor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resto =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dividendo % divisor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Divisão: %d por %d é %d, resto %d",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     dividendo, divisor, quociente, rest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2000" y="1449360"/>
            <a:ext cx="14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s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48CF-93C0-4382-897C-AF7D04806CF1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154482-E65A-4D6D-BA50-9F14A14BF732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431640" y="1449360"/>
            <a:ext cx="8280720" cy="513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612720" y="1538280"/>
            <a:ext cx="7920000" cy="477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* argv[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horas, minutos, segund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int total_segund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Digite o intervalo de tempo (segundos)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canf("%d", &amp;total_segund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horas    = (total_segundos / 60) / 6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minutos  = (total_segundos / 60) % 6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egundos = total_segundos % 6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Total de segundos: %d \n", total_segund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Tempo: %d:%d:%d\n", horas, minutos, segundo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906960" y="6183720"/>
            <a:ext cx="176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Times New Roman"/>
              </a:rPr>
              <a:t>Horario01/Horario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68A7-68E7-4863-9C39-6D0CF75DC87E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7A74F5-931C-4361-9784-1AB66F484DC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0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utros Exempl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its2Digit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gitos2Bit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5372-0480-4007-8F09-8E15519613C5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5EF0BD1-04E7-4E04-8F17-6FC69BCDBE0A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Tipo Caracter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C548-1838-4E28-B19C-715310EA481C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3901C5D-C0CA-4497-B0C0-AF622F2837C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2720" y="1449360"/>
            <a:ext cx="29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ariável em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433440" y="2708280"/>
            <a:ext cx="5969520" cy="2341440"/>
            <a:chOff x="433440" y="2708280"/>
            <a:chExt cx="5969520" cy="2341440"/>
          </a:xfrm>
        </p:grpSpPr>
        <p:sp>
          <p:nvSpPr>
            <p:cNvPr id="131" name=""/>
            <p:cNvSpPr/>
            <p:nvPr/>
          </p:nvSpPr>
          <p:spPr>
            <a:xfrm>
              <a:off x="433440" y="3119400"/>
              <a:ext cx="1566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Variável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50880" y="2708280"/>
              <a:ext cx="1128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Nom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50160" y="3844800"/>
              <a:ext cx="1011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Valo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746880" y="2708280"/>
              <a:ext cx="1310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(rótulo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746880" y="3844800"/>
              <a:ext cx="188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(conteúdo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0360" y="2708280"/>
              <a:ext cx="177840" cy="2341440"/>
            </a:xfrm>
            <a:custGeom>
              <a:avLst/>
              <a:gdLst>
                <a:gd name="textAreaLeft" fmla="*/ 113760 w 177840"/>
                <a:gd name="textAreaRight" fmla="*/ 177840 w 177840"/>
                <a:gd name="textAreaTop" fmla="*/ 60840 h 2341440"/>
                <a:gd name="textAreaBottom" fmla="*/ 2280600 h 23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4532"/>
                  </a:lnTo>
                  <a:cubicBezTo>
                    <a:pt x="10800" y="5432"/>
                    <a:pt x="5400" y="6332"/>
                    <a:pt x="0" y="6332"/>
                  </a:cubicBezTo>
                  <a:cubicBezTo>
                    <a:pt x="5400" y="6332"/>
                    <a:pt x="10800" y="7232"/>
                    <a:pt x="10800" y="8132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450160" y="32688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0000"/>
                  </a:solidFill>
                  <a:latin typeface="Arial"/>
                </a:rPr>
                <a:t>Tip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747600" y="3268800"/>
              <a:ext cx="1684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(domínio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449440" y="4421160"/>
              <a:ext cx="1368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ff0000"/>
                  </a:solidFill>
                  <a:latin typeface="Arial"/>
                </a:rPr>
                <a:t>Escop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747240" y="4421160"/>
              <a:ext cx="2655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(tempo de vida)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6102360" y="1808280"/>
            <a:ext cx="2700360" cy="2595960"/>
            <a:chOff x="6102360" y="1808280"/>
            <a:chExt cx="2700360" cy="2595960"/>
          </a:xfrm>
        </p:grpSpPr>
        <p:sp>
          <p:nvSpPr>
            <p:cNvPr id="142" name=""/>
            <p:cNvSpPr/>
            <p:nvPr/>
          </p:nvSpPr>
          <p:spPr>
            <a:xfrm>
              <a:off x="7002360" y="2494080"/>
              <a:ext cx="1710000" cy="36036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002360" y="3502080"/>
              <a:ext cx="1710000" cy="3603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02360" y="2997360"/>
              <a:ext cx="1710000" cy="360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128000" y="3429000"/>
              <a:ext cx="595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3333cc"/>
                  </a:solidFill>
                  <a:latin typeface="Times New Roman"/>
                </a:rPr>
                <a:t>so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28000" y="2494080"/>
              <a:ext cx="519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28000" y="2997360"/>
              <a:ext cx="5191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cc66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102360" y="3248280"/>
              <a:ext cx="93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ót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56440" y="4005360"/>
              <a:ext cx="128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teú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0" name=""/>
            <p:cNvCxnSpPr>
              <a:stCxn id="149" idx="3"/>
              <a:endCxn id="151" idx="2"/>
            </p:cNvCxnSpPr>
            <p:nvPr/>
          </p:nvCxnSpPr>
          <p:spPr>
            <a:xfrm flipV="1">
              <a:off x="8442360" y="3825360"/>
              <a:ext cx="46800" cy="3783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48" idx="0"/>
              <a:endCxn id="146" idx="1"/>
            </p:cNvCxnSpPr>
            <p:nvPr/>
          </p:nvCxnSpPr>
          <p:spPr>
            <a:xfrm flipH="1" flipV="1" rot="5400000">
              <a:off x="6562440" y="2682720"/>
              <a:ext cx="573840" cy="558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7812000" y="2457360"/>
              <a:ext cx="5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3300"/>
                  </a:solidFill>
                  <a:latin typeface="Castellar"/>
                </a:rPr>
                <a:t>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362720" y="1808280"/>
              <a:ext cx="144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omín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4" idx="2"/>
              <a:endCxn id="153" idx="0"/>
            </p:cNvCxnSpPr>
            <p:nvPr/>
          </p:nvCxnSpPr>
          <p:spPr>
            <a:xfrm rot="5400000">
              <a:off x="7956000" y="2330280"/>
              <a:ext cx="253080" cy="2160"/>
            </a:xfrm>
            <a:prstGeom prst="bentConnector3">
              <a:avLst>
                <a:gd name="adj1" fmla="val 49572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8263080" y="247500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263080" y="301464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63080" y="3465720"/>
              <a:ext cx="449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12000" y="3014640"/>
              <a:ext cx="5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663300"/>
                  </a:solidFill>
                  <a:latin typeface="Castellar"/>
                </a:rPr>
                <a:t>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812000" y="3517920"/>
              <a:ext cx="540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66"/>
                  </a:solidFill>
                  <a:latin typeface="Castellar"/>
                </a:rPr>
                <a:t>(N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1DA-335F-4970-9223-C685EDEAF558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CC509E-FED8-4E94-9FE6-A2A4D8C61BE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 Caract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r variáveis que armazenam um caractere (letra ou símbol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rimir um caractere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 um caractere digitado pel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C2DA-1B65-48D8-B4EA-771FEA814C9E}" type="slidenum">
              <a:t>5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399E09-D9C4-4A54-ABBF-C54894BD50B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 Caract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Tipo caract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r caracteres na te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r caracteres do te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7B9-4ADD-401E-9A14-A5A288EC7C66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EEB58-AA7D-4C3E-9487-0AC57F1BA4E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0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431640" y="2168640"/>
            <a:ext cx="5670720" cy="143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Caract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Única opção de Tipo Caracte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050920" y="4043520"/>
            <a:ext cx="432144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ractere/Let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883800" y="288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2236320" y="2889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ome = val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13360" y="22194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0" idx="2"/>
            <a:endCxn id="489" idx="1"/>
          </p:cNvCxnSpPr>
          <p:nvPr/>
        </p:nvCxnSpPr>
        <p:spPr>
          <a:xfrm flipH="1" rot="16200000">
            <a:off x="1353960" y="3576240"/>
            <a:ext cx="805680" cy="5896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49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6D14-04E6-4DC4-AE19-22696986CE38}" type="slidenum">
              <a:t>5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30852F-FA88-46ED-A02D-B312641E3A1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Caract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ractere vs Código ASCII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12720" y="2876400"/>
            <a:ext cx="4589640" cy="82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etra = 'A'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25240" y="234936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s de decl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11280" y="4059360"/>
            <a:ext cx="4589280" cy="822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etra = 6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5202000" y="3287520"/>
            <a:ext cx="3519720" cy="1182960"/>
            <a:chOff x="5202000" y="3287520"/>
            <a:chExt cx="3519720" cy="1182960"/>
          </a:xfrm>
        </p:grpSpPr>
        <p:sp>
          <p:nvSpPr>
            <p:cNvPr id="502" name=""/>
            <p:cNvSpPr/>
            <p:nvPr/>
          </p:nvSpPr>
          <p:spPr>
            <a:xfrm>
              <a:off x="6281640" y="3429000"/>
              <a:ext cx="244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Tabela ASCI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‘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’ equivale a 6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3" name=""/>
            <p:cNvCxnSpPr>
              <a:stCxn id="502" idx="1"/>
              <a:endCxn id="498" idx="3"/>
            </p:cNvCxnSpPr>
            <p:nvPr/>
          </p:nvCxnSpPr>
          <p:spPr>
            <a:xfrm flipH="1" flipV="1">
              <a:off x="5202000" y="3287520"/>
              <a:ext cx="1080000" cy="5529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504" name=""/>
            <p:cNvCxnSpPr>
              <a:stCxn id="502" idx="1"/>
              <a:endCxn id="500" idx="3"/>
            </p:cNvCxnSpPr>
            <p:nvPr/>
          </p:nvCxnSpPr>
          <p:spPr>
            <a:xfrm flipH="1">
              <a:off x="5202000" y="3839760"/>
              <a:ext cx="1080000" cy="63108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6C6-9DDF-4F78-BD45-C22A6DC4DBC2}" type="slidenum">
              <a:t>5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F7749-6FE7-4420-9519-30F73EBF881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caract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31280" y="1496880"/>
            <a:ext cx="47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dicador de esc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31640" y="2166840"/>
            <a:ext cx="8280720" cy="1441440"/>
            <a:chOff x="431640" y="2166840"/>
            <a:chExt cx="8280720" cy="1441440"/>
          </a:xfrm>
        </p:grpSpPr>
        <p:sp>
          <p:nvSpPr>
            <p:cNvPr id="508" name=""/>
            <p:cNvSpPr/>
            <p:nvPr/>
          </p:nvSpPr>
          <p:spPr>
            <a:xfrm>
              <a:off x="431640" y="2170080"/>
              <a:ext cx="8280720" cy="1438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88240" y="217008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11280" y="2908440"/>
              <a:ext cx="791676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mensagem”, variavel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363760" y="2166840"/>
              <a:ext cx="627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Uma vari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31640" y="3738600"/>
            <a:ext cx="8280720" cy="1581120"/>
            <a:chOff x="431640" y="3738600"/>
            <a:chExt cx="8280720" cy="1581120"/>
          </a:xfrm>
        </p:grpSpPr>
        <p:sp>
          <p:nvSpPr>
            <p:cNvPr id="513" name=""/>
            <p:cNvSpPr/>
            <p:nvPr/>
          </p:nvSpPr>
          <p:spPr>
            <a:xfrm>
              <a:off x="431640" y="3738600"/>
              <a:ext cx="8280720" cy="1581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88600" y="373860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12720" y="4238640"/>
              <a:ext cx="7916760" cy="99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char l = ‘A’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Letra: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c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l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31640" y="5506920"/>
            <a:ext cx="8280720" cy="52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etra: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D72-D8ED-4B26-BFAE-120FF42528F7}" type="slidenum">
              <a:t>5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522F63-4C6C-4076-B067-958A3F78C56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caract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9120" y="144936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utros indicadores de esc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1" name=""/>
          <p:cNvGrpSpPr/>
          <p:nvPr/>
        </p:nvGrpSpPr>
        <p:grpSpPr>
          <a:xfrm>
            <a:off x="1420920" y="2619360"/>
            <a:ext cx="2089080" cy="1008000"/>
            <a:chOff x="1420920" y="2619360"/>
            <a:chExt cx="2089080" cy="1008000"/>
          </a:xfrm>
        </p:grpSpPr>
        <p:sp>
          <p:nvSpPr>
            <p:cNvPr id="522" name=""/>
            <p:cNvSpPr/>
            <p:nvPr/>
          </p:nvSpPr>
          <p:spPr>
            <a:xfrm>
              <a:off x="1420920" y="2619360"/>
              <a:ext cx="20890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ch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612520" y="264456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letr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4572000" y="3159000"/>
            <a:ext cx="3114360" cy="1008000"/>
            <a:chOff x="4572000" y="3159000"/>
            <a:chExt cx="3114360" cy="1008000"/>
          </a:xfrm>
        </p:grpSpPr>
        <p:sp>
          <p:nvSpPr>
            <p:cNvPr id="525" name=""/>
            <p:cNvSpPr/>
            <p:nvPr/>
          </p:nvSpPr>
          <p:spPr>
            <a:xfrm>
              <a:off x="4572000" y="3159000"/>
              <a:ext cx="311436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hh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códi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774400" y="318420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código ASC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692360" y="4599000"/>
            <a:ext cx="3114360" cy="1008000"/>
            <a:chOff x="1692360" y="4599000"/>
            <a:chExt cx="3114360" cy="1008000"/>
          </a:xfrm>
        </p:grpSpPr>
        <p:sp>
          <p:nvSpPr>
            <p:cNvPr id="528" name=""/>
            <p:cNvSpPr/>
            <p:nvPr/>
          </p:nvSpPr>
          <p:spPr>
            <a:xfrm>
              <a:off x="1692360" y="4599000"/>
              <a:ext cx="311436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hh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códi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94760" y="462420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código ASC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3CC-DAFF-4E5E-83CE-43554CE35980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1969EF-B9E3-40A3-8BF3-8741A001680A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000"/>
                            </p:stCondLst>
                            <p:childTnLst>
                              <p:par>
                                <p:cTn id="5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000"/>
                            </p:stCondLst>
                            <p:childTnLst>
                              <p:par>
                                <p:cTn id="5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caract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31640" y="2259000"/>
            <a:ext cx="8280720" cy="1231920"/>
            <a:chOff x="431640" y="2259000"/>
            <a:chExt cx="8280720" cy="1231920"/>
          </a:xfrm>
        </p:grpSpPr>
        <p:sp>
          <p:nvSpPr>
            <p:cNvPr id="532" name=""/>
            <p:cNvSpPr/>
            <p:nvPr/>
          </p:nvSpPr>
          <p:spPr>
            <a:xfrm>
              <a:off x="431640" y="2265480"/>
              <a:ext cx="8280720" cy="122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905760" y="226224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2720" y="2911320"/>
              <a:ext cx="79167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3200" spc="-1" strike="noStrike">
                  <a:solidFill>
                    <a:srgbClr val="000000"/>
                  </a:solidFill>
                  <a:latin typeface="Courier New"/>
                </a:rPr>
                <a:t>(“formato”,</a:t>
              </a:r>
              <a:r>
                <a:rPr b="0" lang="pt-BR" sz="32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pt-BR" sz="32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3200" spc="-1" strike="noStrike">
                  <a:solidFill>
                    <a:srgbClr val="000000"/>
                  </a:solidFill>
                  <a:latin typeface="Courier New"/>
                </a:rPr>
                <a:t>variavel)</a:t>
              </a:r>
              <a:r>
                <a:rPr b="1" lang="pt-BR" sz="32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603520" y="2259000"/>
              <a:ext cx="600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Um número por coman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433080" y="1496880"/>
            <a:ext cx="52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an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)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31640" y="3882960"/>
            <a:ext cx="8280720" cy="2155680"/>
            <a:chOff x="431640" y="3882960"/>
            <a:chExt cx="8280720" cy="2155680"/>
          </a:xfrm>
        </p:grpSpPr>
        <p:sp>
          <p:nvSpPr>
            <p:cNvPr id="538" name=""/>
            <p:cNvSpPr/>
            <p:nvPr/>
          </p:nvSpPr>
          <p:spPr>
            <a:xfrm>
              <a:off x="431640" y="3882960"/>
              <a:ext cx="8280720" cy="2155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906120" y="388296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12720" y="4532040"/>
              <a:ext cx="7916760" cy="1363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char letra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printf(“Digite a letra: ”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c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letra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E82C-96E4-4846-B9E7-FFB7C716CCBA}" type="slidenum">
              <a:t>5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884103-7F25-4396-8C40-6C9ED39CFC3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caract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29120" y="1449360"/>
            <a:ext cx="59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utros indicadores de leitu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420920" y="2619360"/>
            <a:ext cx="2089080" cy="1008000"/>
            <a:chOff x="1420920" y="2619360"/>
            <a:chExt cx="2089080" cy="1008000"/>
          </a:xfrm>
        </p:grpSpPr>
        <p:sp>
          <p:nvSpPr>
            <p:cNvPr id="546" name=""/>
            <p:cNvSpPr/>
            <p:nvPr/>
          </p:nvSpPr>
          <p:spPr>
            <a:xfrm>
              <a:off x="1420920" y="2619360"/>
              <a:ext cx="20890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c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cha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12520" y="2644560"/>
              <a:ext cx="84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letr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4572000" y="3159000"/>
            <a:ext cx="3114360" cy="1008000"/>
            <a:chOff x="4572000" y="3159000"/>
            <a:chExt cx="3114360" cy="1008000"/>
          </a:xfrm>
        </p:grpSpPr>
        <p:sp>
          <p:nvSpPr>
            <p:cNvPr id="549" name=""/>
            <p:cNvSpPr/>
            <p:nvPr/>
          </p:nvSpPr>
          <p:spPr>
            <a:xfrm>
              <a:off x="4572000" y="3159000"/>
              <a:ext cx="311436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hhd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códi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74400" y="318420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código ASC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1692360" y="4599000"/>
            <a:ext cx="3114360" cy="1008000"/>
            <a:chOff x="1692360" y="4599000"/>
            <a:chExt cx="3114360" cy="1008000"/>
          </a:xfrm>
        </p:grpSpPr>
        <p:sp>
          <p:nvSpPr>
            <p:cNvPr id="552" name=""/>
            <p:cNvSpPr/>
            <p:nvPr/>
          </p:nvSpPr>
          <p:spPr>
            <a:xfrm>
              <a:off x="1692360" y="4599000"/>
              <a:ext cx="311436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hh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códig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894760" y="462420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código ASCII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F20F-83E9-46BE-B7E7-25284FD8853B}" type="slidenum">
              <a:t>5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7BC031-FFFE-4320-B74F-7FDC84C94A4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0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2000"/>
                            </p:stCondLst>
                            <p:childTnLst>
                              <p:par>
                                <p:cTn id="5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caracte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49688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ica: Ler próxima let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31640" y="2168640"/>
            <a:ext cx="8280720" cy="189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11280" y="2349360"/>
            <a:ext cx="7918200" cy="172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nt num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har letr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printf("Digite um número e uma letra: "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%d %c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",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numero,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&amp;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etra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31640" y="4870440"/>
            <a:ext cx="8280720" cy="1079640"/>
            <a:chOff x="431640" y="4870440"/>
            <a:chExt cx="8280720" cy="1079640"/>
          </a:xfrm>
        </p:grpSpPr>
        <p:sp>
          <p:nvSpPr>
            <p:cNvPr id="560" name=""/>
            <p:cNvSpPr/>
            <p:nvPr/>
          </p:nvSpPr>
          <p:spPr>
            <a:xfrm>
              <a:off x="431640" y="4870440"/>
              <a:ext cx="8280720" cy="1079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0560" y="5049720"/>
              <a:ext cx="7918560" cy="72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("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%d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", 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numero)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("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 %c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", 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letra)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433440" y="4149720"/>
            <a:ext cx="7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181480" y="6095880"/>
            <a:ext cx="1440000" cy="567000"/>
          </a:xfrm>
          <a:prstGeom prst="borderCallout2">
            <a:avLst>
              <a:gd name="adj1" fmla="val 18750"/>
              <a:gd name="adj2" fmla="val -8333"/>
              <a:gd name="adj3" fmla="val 20166"/>
              <a:gd name="adj4" fmla="val -45537"/>
              <a:gd name="adj5" fmla="val -77592"/>
              <a:gd name="adj6" fmla="val -86657"/>
            </a:avLst>
          </a:prstGeom>
          <a:solidFill>
            <a:srgbClr val="ffffcc"/>
          </a:solidFill>
          <a:ln w="12600">
            <a:solidFill>
              <a:srgbClr val="ff0000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Espaç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B89A-8793-403B-977D-583C3272DCEC}" type="slidenum">
              <a:t>5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41A0C-6BFB-495B-957E-9F7470C1E1F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xemplos de Códig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andoCaracter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coesCaracter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82E4E-6DBD-42B4-9A5D-56B6AFD8E2F5}" type="slidenum">
              <a:t>5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D08C343-E6EC-476D-BC86-FC18FB11E272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s de 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826920" y="2536920"/>
            <a:ext cx="7848720" cy="33224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da Linguagem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915-D197-4998-96F6-1137F64FD05B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7A07B9-4B4D-43EA-8C9F-65CED1A24B2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2761-4134-4CF5-B0A8-60D9A0990EF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50EDFEC-A216-43A9-B05B-D5AAE472D58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r variáveis que armazenam outros tipos de números intei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rimir estes números inteiros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 estes números inteiros digitados pel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357D-938D-41A1-8D06-81F9A437DB97}" type="slidenum">
              <a:t>6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892586-F858-409B-BC04-23271E7704E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0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s co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s sem Sin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r Inteiros se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r Inteiros sem S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983F-B984-4AB3-AEF4-8FC922890C63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C4E18-760F-4409-8652-62B025D4AC6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0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Modific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23800" y="216864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cl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1870560" y="270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variave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81640" y="27082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232000" y="3338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anho padr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32000" y="385776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232000" y="439740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- 2.147.483.648 até 2.147.483.64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4" name=""/>
          <p:cNvCxnSpPr>
            <a:stCxn id="580" idx="2"/>
            <a:endCxn id="581" idx="1"/>
          </p:cNvCxnSpPr>
          <p:nvPr/>
        </p:nvCxnSpPr>
        <p:spPr>
          <a:xfrm flipH="1" rot="16200000">
            <a:off x="1576440" y="2943000"/>
            <a:ext cx="372240" cy="9403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85" name=""/>
          <p:cNvCxnSpPr>
            <a:stCxn id="580" idx="2"/>
            <a:endCxn id="582" idx="1"/>
          </p:cNvCxnSpPr>
          <p:nvPr/>
        </p:nvCxnSpPr>
        <p:spPr>
          <a:xfrm flipH="1" rot="16200000">
            <a:off x="1316880" y="3202560"/>
            <a:ext cx="891360" cy="9403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86" name=""/>
          <p:cNvCxnSpPr>
            <a:stCxn id="580" idx="2"/>
            <a:endCxn id="583" idx="1"/>
          </p:cNvCxnSpPr>
          <p:nvPr/>
        </p:nvCxnSpPr>
        <p:spPr>
          <a:xfrm flipH="1" rot="16200000">
            <a:off x="1047240" y="3471840"/>
            <a:ext cx="1430640" cy="9403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87" name=""/>
          <p:cNvSpPr/>
          <p:nvPr/>
        </p:nvSpPr>
        <p:spPr>
          <a:xfrm>
            <a:off x="6013440" y="5452920"/>
            <a:ext cx="295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valo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núme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951280" y="545292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sitivo 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g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9" name=""/>
          <p:cNvCxnSpPr>
            <a:stCxn id="583" idx="2"/>
            <a:endCxn id="587" idx="0"/>
          </p:cNvCxnSpPr>
          <p:nvPr/>
        </p:nvCxnSpPr>
        <p:spPr>
          <a:xfrm>
            <a:off x="5471640" y="4916520"/>
            <a:ext cx="2018160" cy="536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stCxn id="583" idx="2"/>
            <a:endCxn id="588" idx="0"/>
          </p:cNvCxnSpPr>
          <p:nvPr/>
        </p:nvCxnSpPr>
        <p:spPr>
          <a:xfrm flipH="1">
            <a:off x="3985560" y="4916520"/>
            <a:ext cx="1486440" cy="536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59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E65A-B6E7-497E-A7AB-8B0096D9B08E}" type="slidenum">
              <a:t>6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5988A-1988-4FFE-B5F0-834B9500B59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"/>
          <p:cNvSpPr/>
          <p:nvPr/>
        </p:nvSpPr>
        <p:spPr>
          <a:xfrm>
            <a:off x="431640" y="2259000"/>
            <a:ext cx="8280720" cy="3870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s inteiros conhecidos: (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com si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har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igned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signed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sh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o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signed short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long int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signed long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long long int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signed long long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com s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4302000" y="5229000"/>
            <a:ext cx="4321440" cy="780480"/>
            <a:chOff x="4302000" y="5229000"/>
            <a:chExt cx="4321440" cy="780480"/>
          </a:xfrm>
        </p:grpSpPr>
        <p:sp>
          <p:nvSpPr>
            <p:cNvPr id="596" name=""/>
            <p:cNvSpPr/>
            <p:nvPr/>
          </p:nvSpPr>
          <p:spPr>
            <a:xfrm>
              <a:off x="4804200" y="5549760"/>
              <a:ext cx="3361320" cy="459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Declaração equival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16200000">
              <a:off x="6327720" y="3202920"/>
              <a:ext cx="269640" cy="4321440"/>
            </a:xfrm>
            <a:custGeom>
              <a:avLst/>
              <a:gdLst>
                <a:gd name="textAreaLeft" fmla="*/ 172440 w 269640"/>
                <a:gd name="textAreaRight" fmla="*/ 270000 w 269640"/>
                <a:gd name="textAreaTop" fmla="*/ 112680 h 4321440"/>
                <a:gd name="textAreaBottom" fmla="*/ 4208760 h 432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F60B-59F4-40DA-88FC-44051DB2A3C6}" type="slidenum">
              <a:t>6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F0A86-E935-4573-97CC-FB198888FBF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0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sem s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23800" y="2168640"/>
            <a:ext cx="219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ecl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732840" y="27082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variavel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79120" y="270828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ourier New"/>
              </a:rPr>
              <a:t>unsigned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32000" y="333864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anho padr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32000" y="3857760"/>
            <a:ext cx="55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32000" y="439740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até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4.294.967.29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07" name=""/>
          <p:cNvCxnSpPr>
            <a:stCxn id="603" idx="2"/>
            <a:endCxn id="604" idx="1"/>
          </p:cNvCxnSpPr>
          <p:nvPr/>
        </p:nvCxnSpPr>
        <p:spPr>
          <a:xfrm flipH="1" rot="16200000">
            <a:off x="2504160" y="2971800"/>
            <a:ext cx="372240" cy="8830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8" name=""/>
          <p:cNvCxnSpPr>
            <a:stCxn id="603" idx="2"/>
            <a:endCxn id="605" idx="1"/>
          </p:cNvCxnSpPr>
          <p:nvPr/>
        </p:nvCxnSpPr>
        <p:spPr>
          <a:xfrm flipH="1" rot="16200000">
            <a:off x="2244600" y="3231360"/>
            <a:ext cx="891360" cy="8830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09" name=""/>
          <p:cNvCxnSpPr>
            <a:stCxn id="603" idx="2"/>
            <a:endCxn id="606" idx="1"/>
          </p:cNvCxnSpPr>
          <p:nvPr/>
        </p:nvCxnSpPr>
        <p:spPr>
          <a:xfrm flipH="1" rot="16200000">
            <a:off x="1974960" y="3500640"/>
            <a:ext cx="1430640" cy="88308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0" name=""/>
          <p:cNvSpPr/>
          <p:nvPr/>
        </p:nvSpPr>
        <p:spPr>
          <a:xfrm>
            <a:off x="5310360" y="5452920"/>
            <a:ext cx="232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valo não simétr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592360" y="5452920"/>
            <a:ext cx="207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enas Posi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2" name=""/>
          <p:cNvCxnSpPr>
            <a:stCxn id="606" idx="2"/>
            <a:endCxn id="610" idx="0"/>
          </p:cNvCxnSpPr>
          <p:nvPr/>
        </p:nvCxnSpPr>
        <p:spPr>
          <a:xfrm>
            <a:off x="4932000" y="4916520"/>
            <a:ext cx="1540440" cy="536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613" name=""/>
          <p:cNvCxnSpPr>
            <a:stCxn id="606" idx="2"/>
            <a:endCxn id="611" idx="0"/>
          </p:cNvCxnSpPr>
          <p:nvPr/>
        </p:nvCxnSpPr>
        <p:spPr>
          <a:xfrm flipH="1">
            <a:off x="3626640" y="4916520"/>
            <a:ext cx="1305720" cy="53676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16B6-870B-4AE8-A309-9D84B8651534}" type="slidenum">
              <a:t>6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164F8-715E-4FF8-8279-42F502B5C97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431640" y="2259000"/>
            <a:ext cx="8280720" cy="351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vos Tipos Inteiros: (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sem sina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unsigned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unsigned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urier New"/>
              </a:rPr>
              <a:t>unsigned short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unsigned long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unsigned long long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sem sin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8A48-BF32-4164-BA0E-25BC24E5068A}" type="slidenum">
              <a:t>6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EECAC5-FA75-40E1-92C0-D9E6DC329CA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0" name=""/>
          <p:cNvGraphicFramePr/>
          <p:nvPr/>
        </p:nvGraphicFramePr>
        <p:xfrm>
          <a:off x="457200" y="1449360"/>
          <a:ext cx="8229600" cy="5305320"/>
        </p:xfrm>
        <a:graphic>
          <a:graphicData uri="http://schemas.openxmlformats.org/drawingml/2006/table">
            <a:tbl>
              <a:tblPr/>
              <a:tblGrid>
                <a:gridCol w="3844800"/>
                <a:gridCol w="1349640"/>
                <a:gridCol w="3035160"/>
              </a:tblGrid>
              <a:tr h="3412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man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mín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signed) 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8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98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nsigned 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 by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5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62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signed) 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47.483.648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47.483.6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98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nsigned 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94.967.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signed) 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768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76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80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nsigned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5.53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62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signed) 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47.483.648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147.483.6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nsigned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.294.967.2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620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signed) </a:t>
                      </a:r>
                      <a:r>
                        <a:rPr b="1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ng 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23·10</a:t>
                      </a:r>
                      <a:r>
                        <a:rPr b="1" lang="pt-BR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,223·10</a:t>
                      </a:r>
                      <a:r>
                        <a:rPr b="1" lang="pt-BR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41280"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unsigned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long 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by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18000" bIns="18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 </a:t>
                      </a: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,446·10</a:t>
                      </a:r>
                      <a:r>
                        <a:rPr b="1" lang="pt-BR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62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9F45-F1FA-4A06-BB27-786ACAD66EB5}" type="slidenum">
              <a:t>6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A37B0-A971-46F2-8381-A89A1F8D3D2A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utros Tipos Intei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tilize sempre o tipo </a:t>
            </a:r>
            <a:r>
              <a:rPr b="1" lang="pt-BR" sz="36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para declarar variáveis de número inteiro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erá adequado para 99% dos cas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fu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2121-978F-45DD-9D06-404FCD8A77DB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8A9B8E-1AA6-4D81-B5C5-C760C7D8E934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Inteiros sem S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431280" y="1496880"/>
            <a:ext cx="473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dicador de esc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431640" y="2168640"/>
            <a:ext cx="8280720" cy="1441440"/>
            <a:chOff x="431640" y="2168640"/>
            <a:chExt cx="8280720" cy="1441440"/>
          </a:xfrm>
        </p:grpSpPr>
        <p:sp>
          <p:nvSpPr>
            <p:cNvPr id="629" name=""/>
            <p:cNvSpPr/>
            <p:nvPr/>
          </p:nvSpPr>
          <p:spPr>
            <a:xfrm>
              <a:off x="431640" y="2171880"/>
              <a:ext cx="8280720" cy="1438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8240" y="217188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11280" y="2910240"/>
              <a:ext cx="791676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mensagem com %u”, variavel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2363760" y="2168640"/>
              <a:ext cx="627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Uma vari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431640" y="3789360"/>
            <a:ext cx="8280720" cy="1581120"/>
            <a:chOff x="431640" y="3789360"/>
            <a:chExt cx="8280720" cy="1581120"/>
          </a:xfrm>
        </p:grpSpPr>
        <p:sp>
          <p:nvSpPr>
            <p:cNvPr id="634" name=""/>
            <p:cNvSpPr/>
            <p:nvPr/>
          </p:nvSpPr>
          <p:spPr>
            <a:xfrm>
              <a:off x="431640" y="3789360"/>
              <a:ext cx="8280720" cy="1581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8600" y="378936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2720" y="4289400"/>
              <a:ext cx="7916760" cy="99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unsigned int n = 5000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Quantidade: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u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 itens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n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431640" y="5506920"/>
            <a:ext cx="8280720" cy="52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Quantidade: 5000 it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711E-0D44-44A7-94ED-6D65700F8DD0}" type="slidenum">
              <a:t>6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00070E-604A-4954-B596-D8A25902C87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claração de Variá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1280" y="1449360"/>
            <a:ext cx="25196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clar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95240" y="6019920"/>
            <a:ext cx="5191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Cuidado: valor inicial indefinid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31640" y="4648320"/>
            <a:ext cx="8280720" cy="1260360"/>
            <a:chOff x="431640" y="4648320"/>
            <a:chExt cx="8280720" cy="1260360"/>
          </a:xfrm>
        </p:grpSpPr>
        <p:sp>
          <p:nvSpPr>
            <p:cNvPr id="169" name=""/>
            <p:cNvSpPr/>
            <p:nvPr/>
          </p:nvSpPr>
          <p:spPr>
            <a:xfrm>
              <a:off x="431640" y="4648320"/>
              <a:ext cx="8280720" cy="1260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2000" y="469908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12720" y="5299200"/>
              <a:ext cx="7916760" cy="579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tipo nome</a:t>
              </a:r>
              <a:r>
                <a:rPr b="1" lang="pt-BR" sz="3600" spc="-1" strike="noStrike">
                  <a:solidFill>
                    <a:srgbClr val="ff0000"/>
                  </a:solidFill>
                  <a:latin typeface="Courier New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19120" y="4699080"/>
              <a:ext cx="3137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Sem valor inic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31640" y="2619360"/>
            <a:ext cx="8280720" cy="1873440"/>
            <a:chOff x="431640" y="2619360"/>
            <a:chExt cx="8280720" cy="1873440"/>
          </a:xfrm>
        </p:grpSpPr>
        <p:sp>
          <p:nvSpPr>
            <p:cNvPr id="174" name=""/>
            <p:cNvSpPr/>
            <p:nvPr/>
          </p:nvSpPr>
          <p:spPr>
            <a:xfrm>
              <a:off x="431640" y="2619360"/>
              <a:ext cx="8280720" cy="1349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12000" y="261936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2720" y="3267000"/>
              <a:ext cx="79167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tipo nome </a:t>
              </a:r>
              <a:r>
                <a:rPr b="1" lang="pt-BR" sz="3600" spc="-1" strike="noStrike">
                  <a:solidFill>
                    <a:srgbClr val="ff0000"/>
                  </a:solidFill>
                  <a:latin typeface="Courier New"/>
                </a:rPr>
                <a:t>=</a:t>
              </a: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 valor</a:t>
              </a:r>
              <a:r>
                <a:rPr b="1" lang="pt-BR" sz="3600" spc="-1" strike="noStrike">
                  <a:solidFill>
                    <a:srgbClr val="ff0000"/>
                  </a:solidFill>
                  <a:latin typeface="Courier New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572000" y="4059360"/>
              <a:ext cx="134928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111296"/>
                <a:gd name="adj5" fmla="val -79851"/>
                <a:gd name="adj6" fmla="val 121763"/>
              </a:avLst>
            </a:pr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Conteú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87640" y="4059360"/>
              <a:ext cx="99072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125319"/>
                <a:gd name="adj5" fmla="val -73990"/>
                <a:gd name="adj6" fmla="val 159615"/>
              </a:avLst>
            </a:pr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ótul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71640" y="4059360"/>
              <a:ext cx="1187280" cy="433440"/>
            </a:xfrm>
            <a:prstGeom prst="borderCallout2">
              <a:avLst>
                <a:gd name="adj1" fmla="val 18750"/>
                <a:gd name="adj2" fmla="val -8333"/>
                <a:gd name="adj3" fmla="val 26375"/>
                <a:gd name="adj4" fmla="val 144518"/>
                <a:gd name="adj5" fmla="val -79851"/>
                <a:gd name="adj6" fmla="val 182754"/>
              </a:avLst>
            </a:prstGeom>
            <a:noFill/>
            <a:ln w="93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omíni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41800" y="2619360"/>
              <a:ext cx="225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Valor inici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3045240" y="1498680"/>
            <a:ext cx="512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Reservar espaço na memó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4680" indent="-2746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ssociar com identific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7781-7298-426C-83E3-75F401E3F8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59BCC-C698-427F-847F-37F0441773D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Inteiros sem S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29120" y="144936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utros indicadores de esc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31640" y="2077920"/>
            <a:ext cx="225108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h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3446640" y="2349360"/>
            <a:ext cx="225072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</a:t>
            </a: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hot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6462720" y="2619360"/>
            <a:ext cx="2251080" cy="1442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</a:t>
            </a: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31640" y="4146480"/>
            <a:ext cx="225108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long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3446640" y="4417920"/>
            <a:ext cx="301608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ii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I64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long long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DB3B-681F-482B-9D39-04E4EAF2A735}" type="slidenum">
              <a:t>7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B97B88-7608-4B48-A57E-B173BC57662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Inteiros sem S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431640" y="2259000"/>
            <a:ext cx="8280720" cy="1231920"/>
            <a:chOff x="431640" y="2259000"/>
            <a:chExt cx="8280720" cy="1231920"/>
          </a:xfrm>
        </p:grpSpPr>
        <p:sp>
          <p:nvSpPr>
            <p:cNvPr id="649" name=""/>
            <p:cNvSpPr/>
            <p:nvPr/>
          </p:nvSpPr>
          <p:spPr>
            <a:xfrm>
              <a:off x="431640" y="2265480"/>
              <a:ext cx="8280720" cy="122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05760" y="226224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12720" y="2911320"/>
              <a:ext cx="79167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formato com %u”,</a:t>
              </a:r>
              <a:r>
                <a:rPr b="0" lang="pt-BR" sz="28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variavel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603520" y="2259000"/>
              <a:ext cx="600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Um número por coman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3" name=""/>
          <p:cNvSpPr/>
          <p:nvPr/>
        </p:nvSpPr>
        <p:spPr>
          <a:xfrm>
            <a:off x="433080" y="1496880"/>
            <a:ext cx="520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an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)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431640" y="3882960"/>
            <a:ext cx="8280720" cy="2155680"/>
            <a:chOff x="431640" y="3882960"/>
            <a:chExt cx="8280720" cy="2155680"/>
          </a:xfrm>
        </p:grpSpPr>
        <p:sp>
          <p:nvSpPr>
            <p:cNvPr id="655" name=""/>
            <p:cNvSpPr/>
            <p:nvPr/>
          </p:nvSpPr>
          <p:spPr>
            <a:xfrm>
              <a:off x="431640" y="3882960"/>
              <a:ext cx="8280720" cy="2155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906120" y="388296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12720" y="4532040"/>
              <a:ext cx="7916760" cy="1363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unsined int repeticoes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printf(“Número de repetições: ”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u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repeticoes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DFF0-22D6-42D2-ACC4-7A8120829FAC}" type="slidenum">
              <a:t>7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806E81-7CEB-4DEE-A5BD-D6F57576EAA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0" dur="indefinite" restart="never" nodeType="tmRoot">
          <p:childTnLst>
            <p:seq>
              <p:cTn id="811" dur="indefinite" nodeType="mainSeq">
                <p:childTnLst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Inteiros sem Si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429120" y="1449360"/>
            <a:ext cx="59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utros indicadores de leitu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431640" y="2077920"/>
            <a:ext cx="225108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h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ch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446640" y="2349360"/>
            <a:ext cx="225072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h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</a:t>
            </a: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shot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62720" y="2619360"/>
            <a:ext cx="2251080" cy="144288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</a:t>
            </a:r>
            <a:br>
              <a:rPr sz="2800"/>
            </a:b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431640" y="4146480"/>
            <a:ext cx="225108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l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long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446640" y="4417920"/>
            <a:ext cx="3016080" cy="1441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ii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%I64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unsigned long long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200-B0F5-4F09-B7A2-C296FB83D912}" type="slidenum">
              <a:t>7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90AFF4-1946-48ED-A8FF-741ACF216A4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Tipos de Ponto Flutuant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(Números Fracionários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A18A-A6C5-48D0-B053-F714BF701D22}" type="slidenum">
              <a:t>7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29FFF83-B060-48F7-9F72-14DAB70F8D8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s de Ponto Flutu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r variáveis que armazenam valores fracion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mprimir números fracionários na te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 números fracionários digitados pelo usu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1ECD-B7A2-4E8C-92D2-0CE456B306E3}" type="slidenum">
              <a:t>7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F322B6-B9E1-4354-A82A-02ACD0E4C85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0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s de Ponto Flutu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tipo  ponto flutu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r número em ponto flutu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r número em ponto flutu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E685-15C9-48F8-960A-01570C64D527}" type="slidenum">
              <a:t>7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219EA-6CA8-49F5-BDFF-1460916E9C1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fill="hold">
                      <p:stCondLst>
                        <p:cond delay="0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431640" y="2168640"/>
            <a:ext cx="5670720" cy="143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Ponto Flutu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de tipos ponto flutuan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050920" y="3861000"/>
            <a:ext cx="666144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uca precisão, baixa magnit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050920" y="4668840"/>
            <a:ext cx="6661440" cy="459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ita precisão, alta magnitu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050920" y="5294160"/>
            <a:ext cx="6661440" cy="8254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long dou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cisão maior, altíssima magnitude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883800" y="28893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ti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36320" y="288936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nome = valor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3360" y="2219400"/>
            <a:ext cx="23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6" name=""/>
          <p:cNvCxnSpPr>
            <a:stCxn id="683" idx="2"/>
            <a:endCxn id="680" idx="1"/>
          </p:cNvCxnSpPr>
          <p:nvPr/>
        </p:nvCxnSpPr>
        <p:spPr>
          <a:xfrm flipH="1" rot="16200000">
            <a:off x="1353960" y="3576240"/>
            <a:ext cx="805680" cy="5896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687" name=""/>
          <p:cNvCxnSpPr>
            <a:stCxn id="683" idx="2"/>
            <a:endCxn id="681" idx="1"/>
          </p:cNvCxnSpPr>
          <p:nvPr/>
        </p:nvCxnSpPr>
        <p:spPr>
          <a:xfrm flipH="1" rot="16200000">
            <a:off x="1038960" y="3890880"/>
            <a:ext cx="1435680" cy="5896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688" name=""/>
          <p:cNvCxnSpPr>
            <a:stCxn id="683" idx="2"/>
            <a:endCxn id="682" idx="1"/>
          </p:cNvCxnSpPr>
          <p:nvPr/>
        </p:nvCxnSpPr>
        <p:spPr>
          <a:xfrm flipH="1" rot="16200000">
            <a:off x="634680" y="4295160"/>
            <a:ext cx="2243880" cy="58968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68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43B-BCAC-4299-811D-10F2FFBEF070}" type="slidenum">
              <a:t>7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2BD6B7-AAC8-437A-B261-0D6DC4831A22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1" fill="hold">
                            <p:stCondLst>
                              <p:cond delay="500"/>
                            </p:stCondLst>
                            <p:childTnLst>
                              <p:par>
                                <p:cTn id="8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1000"/>
                            </p:stCondLst>
                            <p:childTnLst>
                              <p:par>
                                <p:cTn id="8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431640" y="2259000"/>
            <a:ext cx="8280720" cy="279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Ponto Flutu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12720" y="4059360"/>
            <a:ext cx="7916760" cy="822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ouble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elocidade = 5.333222567854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612720" y="3057480"/>
            <a:ext cx="7916760" cy="822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loat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raio = 5.4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loat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area = 50040.2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240" y="2360520"/>
            <a:ext cx="444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emplos de decla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5FF21-C3BD-4F8C-9AD4-E4E13C45802E}" type="slidenum">
              <a:t>7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E5A055-1387-4880-AB94-58960A016F7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7" dur="indefinite" restart="never" nodeType="tmRoot">
          <p:childTnLst>
            <p:seq>
              <p:cTn id="878" dur="indefinite" nodeType="mainSeq">
                <p:childTnLst>
                  <p:par>
                    <p:cTn id="879" fill="hold">
                      <p:stCondLst>
                        <p:cond delay="0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Ponto Flutu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1730520" y="2978280"/>
            <a:ext cx="5721120" cy="1942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Ponto Flutuante: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Hierarqu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5BAF-F78E-48EF-9C35-A8E3CD2C3602}" type="slidenum">
              <a:t>7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737338-F708-4501-B733-FA748036A7AA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0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Ponto Flutu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781280" y="6400800"/>
            <a:ext cx="69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* Padrão (IEE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4" name=""/>
          <p:cNvGraphicFramePr/>
          <p:nvPr/>
        </p:nvGraphicFramePr>
        <p:xfrm>
          <a:off x="457200" y="2077920"/>
          <a:ext cx="8229600" cy="4048200"/>
        </p:xfrm>
        <a:graphic>
          <a:graphicData uri="http://schemas.openxmlformats.org/drawingml/2006/table">
            <a:tbl>
              <a:tblPr/>
              <a:tblGrid>
                <a:gridCol w="1504800"/>
                <a:gridCol w="1800360"/>
                <a:gridCol w="1800360"/>
                <a:gridCol w="3124080"/>
              </a:tblGrid>
              <a:tr h="101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manh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isã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valo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 b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 dígi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4680" indent="-27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3,4·10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</a:t>
                      </a:r>
                      <a:br>
                        <a:rPr sz="2400"/>
                      </a:b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4·10</a:t>
                      </a:r>
                      <a:r>
                        <a:rPr b="0" lang="pt-BR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 b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dígi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4680" indent="-27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,7·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8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7·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long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i="1" lang="en-US" sz="2400" spc="-1" strike="noStrike">
                          <a:solidFill>
                            <a:srgbClr val="ff0000"/>
                          </a:solidFill>
                          <a:latin typeface="Courier New"/>
                          <a:ea typeface="Times New Roman"/>
                        </a:rPr>
                        <a:t>dou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 by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 dígi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274680" indent="-2746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- 1,2·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3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é</a:t>
                      </a:r>
                      <a:br>
                        <a:rPr sz="2400"/>
                      </a:b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2·10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9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7C69-34DB-430A-A717-6FAC64D59645}" type="slidenum">
              <a:t>7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D6197A-7690-436C-99EA-580D3340B90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claração de Variá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31640" y="1989000"/>
            <a:ext cx="8280720" cy="1440000"/>
            <a:chOff x="431640" y="1989000"/>
            <a:chExt cx="8280720" cy="1440000"/>
          </a:xfrm>
        </p:grpSpPr>
        <p:sp>
          <p:nvSpPr>
            <p:cNvPr id="185" name=""/>
            <p:cNvSpPr/>
            <p:nvPr/>
          </p:nvSpPr>
          <p:spPr>
            <a:xfrm>
              <a:off x="431640" y="1989000"/>
              <a:ext cx="8280720" cy="1440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12360" y="2021040"/>
              <a:ext cx="164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Sintax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12720" y="2670120"/>
              <a:ext cx="79167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tipo nome1</a:t>
              </a:r>
              <a:r>
                <a:rPr b="0" lang="pt-BR" sz="3600" spc="-1" strike="noStrike">
                  <a:solidFill>
                    <a:srgbClr val="ff0000"/>
                  </a:solidFill>
                  <a:latin typeface="Courier New"/>
                </a:rPr>
                <a:t>,</a:t>
              </a: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 nome2</a:t>
              </a:r>
              <a:r>
                <a:rPr b="0" lang="pt-BR" sz="3600" spc="-1" strike="noStrike">
                  <a:solidFill>
                    <a:srgbClr val="ff0000"/>
                  </a:solidFill>
                  <a:latin typeface="Courier New"/>
                </a:rPr>
                <a:t>,</a:t>
              </a: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 nome3</a:t>
              </a:r>
              <a:r>
                <a:rPr b="1" lang="pt-BR" sz="3600" spc="-1" strike="noStrike">
                  <a:solidFill>
                    <a:srgbClr val="ff0000"/>
                  </a:solidFill>
                  <a:latin typeface="Courier New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316960" y="2017800"/>
              <a:ext cx="58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Diversas variáveis, mesmo ti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431640" y="4149720"/>
            <a:ext cx="8280720" cy="1440000"/>
            <a:chOff x="431640" y="4149720"/>
            <a:chExt cx="8280720" cy="1440000"/>
          </a:xfrm>
        </p:grpSpPr>
        <p:sp>
          <p:nvSpPr>
            <p:cNvPr id="190" name=""/>
            <p:cNvSpPr/>
            <p:nvPr/>
          </p:nvSpPr>
          <p:spPr>
            <a:xfrm>
              <a:off x="431640" y="4149720"/>
              <a:ext cx="8280720" cy="1440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2360" y="4241880"/>
              <a:ext cx="1648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Sintaxe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2720" y="4890960"/>
              <a:ext cx="79167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tipo nome1 </a:t>
              </a:r>
              <a:r>
                <a:rPr b="1" lang="pt-BR" sz="3600" spc="-1" strike="noStrike">
                  <a:solidFill>
                    <a:srgbClr val="ff0000"/>
                  </a:solidFill>
                  <a:latin typeface="Courier New"/>
                </a:rPr>
                <a:t>=</a:t>
              </a: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 valor</a:t>
              </a:r>
              <a:r>
                <a:rPr b="0" lang="pt-BR" sz="3600" spc="-1" strike="noStrike">
                  <a:solidFill>
                    <a:srgbClr val="ff0000"/>
                  </a:solidFill>
                  <a:latin typeface="Courier New"/>
                </a:rPr>
                <a:t>,</a:t>
              </a:r>
              <a:r>
                <a:rPr b="0" lang="pt-BR" sz="3600" spc="-1" strike="noStrike">
                  <a:solidFill>
                    <a:srgbClr val="000000"/>
                  </a:solidFill>
                  <a:latin typeface="Courier New"/>
                </a:rPr>
                <a:t> nome2</a:t>
              </a:r>
              <a:r>
                <a:rPr b="1" lang="pt-BR" sz="3600" spc="-1" strike="noStrike">
                  <a:solidFill>
                    <a:srgbClr val="ff0000"/>
                  </a:solidFill>
                  <a:latin typeface="Courier New"/>
                </a:rPr>
                <a:t>;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315160" y="4238640"/>
              <a:ext cx="5805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Diversas variáveis, mesmo tip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4BF7-6DF9-4121-9B4D-CE60498E9986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EB5FD1-5FEA-4E2C-89AA-0114EEACDAA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Tipo Ponto Flutu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tilize sempre o tipo </a:t>
            </a:r>
            <a:r>
              <a:rPr b="1" lang="pt-BR" sz="3600" spc="-1" strike="noStrike">
                <a:solidFill>
                  <a:srgbClr val="ff0000"/>
                </a:solidFill>
                <a:latin typeface="Courier New"/>
              </a:rPr>
              <a:t>double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para declarar variáveis de ponto flutuante.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erá adequado para 99% dos caso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fu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DAA1-6617-4D2B-8F38-98BB373C7DE1}" type="slidenum">
              <a:t>8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13BA7E-76C7-4153-9AC8-D4265DB0388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7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8" dur="500" fill="hold"/>
                                        <p:tgtEl>
                                          <p:spTgt spid="7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números re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429120" y="1496880"/>
            <a:ext cx="626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Indicadores de substituiç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431640" y="2168640"/>
            <a:ext cx="8280720" cy="1441440"/>
            <a:chOff x="431640" y="2168640"/>
            <a:chExt cx="8280720" cy="1441440"/>
          </a:xfrm>
        </p:grpSpPr>
        <p:sp>
          <p:nvSpPr>
            <p:cNvPr id="711" name=""/>
            <p:cNvSpPr/>
            <p:nvPr/>
          </p:nvSpPr>
          <p:spPr>
            <a:xfrm>
              <a:off x="431640" y="2171880"/>
              <a:ext cx="8280720" cy="1438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88240" y="217188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11280" y="2910240"/>
              <a:ext cx="7916760" cy="519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mensagem com %f”, variavel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363760" y="2168640"/>
              <a:ext cx="6273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Uma variáve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5" name=""/>
          <p:cNvGrpSpPr/>
          <p:nvPr/>
        </p:nvGrpSpPr>
        <p:grpSpPr>
          <a:xfrm>
            <a:off x="431640" y="3789360"/>
            <a:ext cx="8280720" cy="1581120"/>
            <a:chOff x="431640" y="3789360"/>
            <a:chExt cx="8280720" cy="1581120"/>
          </a:xfrm>
        </p:grpSpPr>
        <p:sp>
          <p:nvSpPr>
            <p:cNvPr id="716" name=""/>
            <p:cNvSpPr/>
            <p:nvPr/>
          </p:nvSpPr>
          <p:spPr>
            <a:xfrm>
              <a:off x="431640" y="3789360"/>
              <a:ext cx="8280720" cy="15811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588600" y="378936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12720" y="4289400"/>
              <a:ext cx="7916760" cy="99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float v = 10.1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print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Velocidade: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km/h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v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431640" y="5506920"/>
            <a:ext cx="8280720" cy="5205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Velocidade: 10.1km/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D5DE-1779-43F6-ACE0-6E38F3952FE5}" type="slidenum">
              <a:t>8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E2DE03-109B-4765-85FC-83FBF910A0F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5" fill="hold">
                            <p:stCondLst>
                              <p:cond delay="500"/>
                            </p:stCondLst>
                            <p:childTnLst>
                              <p:par>
                                <p:cTn id="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crever números re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429120" y="1449360"/>
            <a:ext cx="602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utros indicadores de esc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431640" y="2413080"/>
            <a:ext cx="2089440" cy="1008000"/>
            <a:chOff x="431640" y="2413080"/>
            <a:chExt cx="2089440" cy="1008000"/>
          </a:xfrm>
        </p:grpSpPr>
        <p:sp>
          <p:nvSpPr>
            <p:cNvPr id="725" name=""/>
            <p:cNvSpPr/>
            <p:nvPr/>
          </p:nvSpPr>
          <p:spPr>
            <a:xfrm>
              <a:off x="431640" y="2413080"/>
              <a:ext cx="208944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float/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1241280" y="243828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deci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7" name=""/>
          <p:cNvGrpSpPr/>
          <p:nvPr/>
        </p:nvGrpSpPr>
        <p:grpSpPr>
          <a:xfrm>
            <a:off x="3490920" y="2413080"/>
            <a:ext cx="2166120" cy="1008000"/>
            <a:chOff x="3490920" y="2413080"/>
            <a:chExt cx="2166120" cy="1008000"/>
          </a:xfrm>
        </p:grpSpPr>
        <p:sp>
          <p:nvSpPr>
            <p:cNvPr id="728" name=""/>
            <p:cNvSpPr/>
            <p:nvPr/>
          </p:nvSpPr>
          <p:spPr>
            <a:xfrm>
              <a:off x="3490920" y="2413080"/>
              <a:ext cx="216072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float/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301280" y="243828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científic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6551640" y="2413080"/>
            <a:ext cx="2167200" cy="1008000"/>
            <a:chOff x="6551640" y="2413080"/>
            <a:chExt cx="2167200" cy="1008000"/>
          </a:xfrm>
        </p:grpSpPr>
        <p:sp>
          <p:nvSpPr>
            <p:cNvPr id="731" name=""/>
            <p:cNvSpPr/>
            <p:nvPr/>
          </p:nvSpPr>
          <p:spPr>
            <a:xfrm>
              <a:off x="6551640" y="2413080"/>
              <a:ext cx="216072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float/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207560" y="243828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dec./cient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431640" y="4059360"/>
            <a:ext cx="8196120" cy="1008000"/>
            <a:chOff x="431640" y="4059360"/>
            <a:chExt cx="8196120" cy="1008000"/>
          </a:xfrm>
        </p:grpSpPr>
        <p:grpSp>
          <p:nvGrpSpPr>
            <p:cNvPr id="734" name=""/>
            <p:cNvGrpSpPr/>
            <p:nvPr/>
          </p:nvGrpSpPr>
          <p:grpSpPr>
            <a:xfrm>
              <a:off x="431640" y="4059360"/>
              <a:ext cx="2430360" cy="1008000"/>
              <a:chOff x="431640" y="4059360"/>
              <a:chExt cx="2430360" cy="1008000"/>
            </a:xfrm>
          </p:grpSpPr>
          <p:sp>
            <p:nvSpPr>
              <p:cNvPr id="735" name=""/>
              <p:cNvSpPr/>
              <p:nvPr/>
            </p:nvSpPr>
            <p:spPr>
              <a:xfrm>
                <a:off x="431640" y="4059360"/>
                <a:ext cx="2430360" cy="1008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cc99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ourier New"/>
                  </a:rPr>
                  <a:t>%Lf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800" spc="-1" strike="noStrike">
                    <a:solidFill>
                      <a:srgbClr val="000000"/>
                    </a:solidFill>
                    <a:latin typeface="Arial"/>
                  </a:rPr>
                  <a:t>long dou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1573920" y="4084560"/>
                <a:ext cx="1229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(decimal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7" name=""/>
            <p:cNvGrpSpPr/>
            <p:nvPr/>
          </p:nvGrpSpPr>
          <p:grpSpPr>
            <a:xfrm>
              <a:off x="3397320" y="4059360"/>
              <a:ext cx="2345040" cy="1008000"/>
              <a:chOff x="3397320" y="4059360"/>
              <a:chExt cx="2345040" cy="1008000"/>
            </a:xfrm>
          </p:grpSpPr>
          <p:sp>
            <p:nvSpPr>
              <p:cNvPr id="738" name=""/>
              <p:cNvSpPr/>
              <p:nvPr/>
            </p:nvSpPr>
            <p:spPr>
              <a:xfrm>
                <a:off x="3397320" y="4059360"/>
                <a:ext cx="2339280" cy="1008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cc99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ourier New"/>
                  </a:rPr>
                  <a:t>%Le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800" spc="-1" strike="noStrike">
                    <a:solidFill>
                      <a:srgbClr val="000000"/>
                    </a:solidFill>
                    <a:latin typeface="Arial"/>
                  </a:rPr>
                  <a:t>long dou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4386600" y="4084560"/>
                <a:ext cx="1355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(científico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0" name=""/>
            <p:cNvGrpSpPr/>
            <p:nvPr/>
          </p:nvGrpSpPr>
          <p:grpSpPr>
            <a:xfrm>
              <a:off x="6281640" y="4059360"/>
              <a:ext cx="2346120" cy="1008000"/>
              <a:chOff x="6281640" y="4059360"/>
              <a:chExt cx="2346120" cy="1008000"/>
            </a:xfrm>
          </p:grpSpPr>
          <p:sp>
            <p:nvSpPr>
              <p:cNvPr id="741" name=""/>
              <p:cNvSpPr/>
              <p:nvPr/>
            </p:nvSpPr>
            <p:spPr>
              <a:xfrm>
                <a:off x="6281640" y="4059360"/>
                <a:ext cx="2339280" cy="100800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cc9900"/>
                </a:solidFill>
                <a:miter/>
              </a:ln>
              <a:effectLst>
                <a:outerShdw dist="107932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ourier New"/>
                  </a:rPr>
                  <a:t>%Lg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pt-BR" sz="2800" spc="-1" strike="noStrike">
                    <a:solidFill>
                      <a:srgbClr val="000000"/>
                    </a:solidFill>
                    <a:latin typeface="Arial"/>
                  </a:rPr>
                  <a:t>long dou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7116480" y="4084560"/>
                <a:ext cx="15112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(dec./cient.)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9EAB-4FB2-476B-9216-BEA4BBB2C7CC}" type="slidenum">
              <a:t>8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D748E7-E241-4D4B-9431-2860C615811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0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4" fill="hold">
                            <p:stCondLst>
                              <p:cond delay="4500"/>
                            </p:stCondLst>
                            <p:childTnLst>
                              <p:par>
                                <p:cTn id="9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números re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431640" y="2259000"/>
            <a:ext cx="8280720" cy="1231920"/>
            <a:chOff x="431640" y="2259000"/>
            <a:chExt cx="8280720" cy="1231920"/>
          </a:xfrm>
        </p:grpSpPr>
        <p:sp>
          <p:nvSpPr>
            <p:cNvPr id="745" name=""/>
            <p:cNvSpPr/>
            <p:nvPr/>
          </p:nvSpPr>
          <p:spPr>
            <a:xfrm>
              <a:off x="431640" y="2265480"/>
              <a:ext cx="8280720" cy="1225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905760" y="2262240"/>
              <a:ext cx="1738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Sintaxe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612720" y="2911320"/>
              <a:ext cx="7916760" cy="57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formato com %f”,</a:t>
              </a:r>
              <a:r>
                <a:rPr b="0" lang="pt-BR" sz="2800" spc="-1" strike="noStrike">
                  <a:solidFill>
                    <a:srgbClr val="ff0000"/>
                  </a:solidFill>
                  <a:latin typeface="Courier New"/>
                </a:rPr>
                <a:t>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variavel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03520" y="2259000"/>
              <a:ext cx="6000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3200" spc="-1" strike="noStrike">
                  <a:solidFill>
                    <a:srgbClr val="000000"/>
                  </a:solidFill>
                  <a:latin typeface="Arial"/>
                </a:rPr>
                <a:t>Um número por comand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9" name=""/>
          <p:cNvSpPr/>
          <p:nvPr/>
        </p:nvSpPr>
        <p:spPr>
          <a:xfrm>
            <a:off x="432720" y="1496880"/>
            <a:ext cx="514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oman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scan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) com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%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"/>
          <p:cNvGrpSpPr/>
          <p:nvPr/>
        </p:nvGrpSpPr>
        <p:grpSpPr>
          <a:xfrm>
            <a:off x="431640" y="3882960"/>
            <a:ext cx="8280720" cy="2155680"/>
            <a:chOff x="431640" y="3882960"/>
            <a:chExt cx="8280720" cy="2155680"/>
          </a:xfrm>
        </p:grpSpPr>
        <p:sp>
          <p:nvSpPr>
            <p:cNvPr id="751" name=""/>
            <p:cNvSpPr/>
            <p:nvPr/>
          </p:nvSpPr>
          <p:spPr>
            <a:xfrm>
              <a:off x="431640" y="3882960"/>
              <a:ext cx="8280720" cy="2155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906120" y="3882960"/>
              <a:ext cx="1986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200" spc="-1" strike="noStrike">
                  <a:solidFill>
                    <a:srgbClr val="000000"/>
                  </a:solidFill>
                  <a:latin typeface="Arial"/>
                </a:rPr>
                <a:t>Exemplo</a:t>
              </a:r>
              <a:r>
                <a:rPr b="0" lang="pt-BR" sz="32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12720" y="4532040"/>
              <a:ext cx="7916760" cy="13636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float nota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printf(“Digite a nota da prova: ”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(“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%f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”,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&amp;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nota</a:t>
              </a:r>
              <a:r>
                <a:rPr b="0" lang="pt-BR" sz="2800" spc="-1" strike="noStrike">
                  <a:solidFill>
                    <a:srgbClr val="000000"/>
                  </a:solidFill>
                  <a:latin typeface="Courier New"/>
                </a:rPr>
                <a:t>)</a:t>
              </a: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309E-92D8-47E4-B2D3-344F8A19CFE7}" type="slidenum">
              <a:t>8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B654AB-4146-405C-9017-FAE9093EAE5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500"/>
                            </p:stCondLst>
                            <p:childTnLst>
                              <p:par>
                                <p:cTn id="9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er números re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29120" y="1449360"/>
            <a:ext cx="593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Outros indicadores de leitu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258840" y="2413080"/>
            <a:ext cx="2261880" cy="1008000"/>
            <a:chOff x="258840" y="2413080"/>
            <a:chExt cx="2261880" cy="1008000"/>
          </a:xfrm>
        </p:grpSpPr>
        <p:sp>
          <p:nvSpPr>
            <p:cNvPr id="759" name=""/>
            <p:cNvSpPr/>
            <p:nvPr/>
          </p:nvSpPr>
          <p:spPr>
            <a:xfrm>
              <a:off x="258840" y="2413080"/>
              <a:ext cx="22618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flo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1236600" y="243828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deci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"/>
          <p:cNvGrpSpPr/>
          <p:nvPr/>
        </p:nvGrpSpPr>
        <p:grpSpPr>
          <a:xfrm>
            <a:off x="3311640" y="2413080"/>
            <a:ext cx="2345040" cy="1008000"/>
            <a:chOff x="3311640" y="2413080"/>
            <a:chExt cx="2345040" cy="1008000"/>
          </a:xfrm>
        </p:grpSpPr>
        <p:sp>
          <p:nvSpPr>
            <p:cNvPr id="762" name=""/>
            <p:cNvSpPr/>
            <p:nvPr/>
          </p:nvSpPr>
          <p:spPr>
            <a:xfrm>
              <a:off x="3311640" y="2413080"/>
              <a:ext cx="23392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flo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00920" y="243828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científic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4" name=""/>
          <p:cNvGrpSpPr/>
          <p:nvPr/>
        </p:nvGrpSpPr>
        <p:grpSpPr>
          <a:xfrm>
            <a:off x="6372360" y="2413080"/>
            <a:ext cx="2346120" cy="1008000"/>
            <a:chOff x="6372360" y="2413080"/>
            <a:chExt cx="2346120" cy="1008000"/>
          </a:xfrm>
        </p:grpSpPr>
        <p:sp>
          <p:nvSpPr>
            <p:cNvPr id="765" name=""/>
            <p:cNvSpPr/>
            <p:nvPr/>
          </p:nvSpPr>
          <p:spPr>
            <a:xfrm>
              <a:off x="6372360" y="2413080"/>
              <a:ext cx="23392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floa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207200" y="243828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dec./cient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58840" y="3789360"/>
            <a:ext cx="2261880" cy="1008000"/>
            <a:chOff x="258840" y="3789360"/>
            <a:chExt cx="2261880" cy="1008000"/>
          </a:xfrm>
        </p:grpSpPr>
        <p:sp>
          <p:nvSpPr>
            <p:cNvPr id="768" name=""/>
            <p:cNvSpPr/>
            <p:nvPr/>
          </p:nvSpPr>
          <p:spPr>
            <a:xfrm>
              <a:off x="258840" y="3789360"/>
              <a:ext cx="22618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l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236600" y="381456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deci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3311640" y="3789360"/>
            <a:ext cx="2345040" cy="1008000"/>
            <a:chOff x="3311640" y="3789360"/>
            <a:chExt cx="2345040" cy="1008000"/>
          </a:xfrm>
        </p:grpSpPr>
        <p:sp>
          <p:nvSpPr>
            <p:cNvPr id="771" name=""/>
            <p:cNvSpPr/>
            <p:nvPr/>
          </p:nvSpPr>
          <p:spPr>
            <a:xfrm>
              <a:off x="3311640" y="3789360"/>
              <a:ext cx="23392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00920" y="381456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científic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3" name=""/>
          <p:cNvGrpSpPr/>
          <p:nvPr/>
        </p:nvGrpSpPr>
        <p:grpSpPr>
          <a:xfrm>
            <a:off x="6372360" y="3789360"/>
            <a:ext cx="2346120" cy="1008000"/>
            <a:chOff x="6372360" y="3789360"/>
            <a:chExt cx="2346120" cy="1008000"/>
          </a:xfrm>
        </p:grpSpPr>
        <p:sp>
          <p:nvSpPr>
            <p:cNvPr id="774" name=""/>
            <p:cNvSpPr/>
            <p:nvPr/>
          </p:nvSpPr>
          <p:spPr>
            <a:xfrm>
              <a:off x="6372360" y="3789360"/>
              <a:ext cx="23392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l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207200" y="381456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dec./cient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6" name=""/>
          <p:cNvGrpSpPr/>
          <p:nvPr/>
        </p:nvGrpSpPr>
        <p:grpSpPr>
          <a:xfrm>
            <a:off x="258840" y="5113440"/>
            <a:ext cx="2261880" cy="1008000"/>
            <a:chOff x="258840" y="5113440"/>
            <a:chExt cx="2261880" cy="1008000"/>
          </a:xfrm>
        </p:grpSpPr>
        <p:sp>
          <p:nvSpPr>
            <p:cNvPr id="777" name=""/>
            <p:cNvSpPr/>
            <p:nvPr/>
          </p:nvSpPr>
          <p:spPr>
            <a:xfrm>
              <a:off x="258840" y="5113440"/>
              <a:ext cx="22618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Lf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long 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1236600" y="5138640"/>
              <a:ext cx="1229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decimal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9" name=""/>
          <p:cNvGrpSpPr/>
          <p:nvPr/>
        </p:nvGrpSpPr>
        <p:grpSpPr>
          <a:xfrm>
            <a:off x="3311640" y="5113440"/>
            <a:ext cx="2345040" cy="1008000"/>
            <a:chOff x="3311640" y="5113440"/>
            <a:chExt cx="2345040" cy="1008000"/>
          </a:xfrm>
        </p:grpSpPr>
        <p:sp>
          <p:nvSpPr>
            <p:cNvPr id="780" name=""/>
            <p:cNvSpPr/>
            <p:nvPr/>
          </p:nvSpPr>
          <p:spPr>
            <a:xfrm>
              <a:off x="3311640" y="5113440"/>
              <a:ext cx="23392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L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long 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300920" y="5138640"/>
              <a:ext cx="135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científico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2" name=""/>
          <p:cNvGrpSpPr/>
          <p:nvPr/>
        </p:nvGrpSpPr>
        <p:grpSpPr>
          <a:xfrm>
            <a:off x="6372360" y="5113440"/>
            <a:ext cx="2346120" cy="1008000"/>
            <a:chOff x="6372360" y="5113440"/>
            <a:chExt cx="2346120" cy="1008000"/>
          </a:xfrm>
        </p:grpSpPr>
        <p:sp>
          <p:nvSpPr>
            <p:cNvPr id="783" name=""/>
            <p:cNvSpPr/>
            <p:nvPr/>
          </p:nvSpPr>
          <p:spPr>
            <a:xfrm>
              <a:off x="6372360" y="5113440"/>
              <a:ext cx="2339280" cy="1008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Courier New"/>
                </a:rPr>
                <a:t>%Lg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800" spc="-1" strike="noStrike">
                  <a:solidFill>
                    <a:srgbClr val="000000"/>
                  </a:solidFill>
                  <a:latin typeface="Arial"/>
                </a:rPr>
                <a:t>long doubl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07200" y="5138640"/>
              <a:ext cx="151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dec./cient.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D015-02DD-4C7C-BAA2-25101B9CFF20}" type="slidenum">
              <a:t>8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E8168B-41BC-4275-A7CA-0211F556254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500"/>
                            </p:stCondLst>
                            <p:childTnLst>
                              <p:par>
                                <p:cTn id="95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1500"/>
                            </p:stCondLst>
                            <p:childTnLst>
                              <p:par>
                                <p:cTn id="96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2500"/>
                            </p:stCondLst>
                            <p:childTnLst>
                              <p:par>
                                <p:cTn id="96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3500"/>
                            </p:stCondLst>
                            <p:childTnLst>
                              <p:par>
                                <p:cTn id="9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4500"/>
                            </p:stCondLst>
                            <p:childTnLst>
                              <p:par>
                                <p:cTn id="9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5500"/>
                            </p:stCondLst>
                            <p:childTnLst>
                              <p:par>
                                <p:cTn id="97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6500"/>
                            </p:stCondLst>
                            <p:childTnLst>
                              <p:par>
                                <p:cTn id="97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7500"/>
                            </p:stCondLst>
                            <p:childTnLst>
                              <p:par>
                                <p:cTn id="97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8500"/>
                            </p:stCondLst>
                            <p:childTnLst>
                              <p:par>
                                <p:cTn id="98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431640" y="1449360"/>
            <a:ext cx="8280720" cy="4950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612720" y="1538280"/>
            <a:ext cx="7920000" cy="477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include &lt;stdlib.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main(int argc, char* argv[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ouble pi = 3.14159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double raio, area, perimetr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Digite o raio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scanf("%lf", &amp;rai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area = pi * (raio * rai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erimetro = 2.0 * pi * rai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\n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Raio: %lf \n", rai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Área: %lf \n", area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printf("Perímetro: %lf \n", perimetr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7673760" y="607824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Circulo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29AD-A287-4649-898A-97A3C74B7B5D}" type="slidenum">
              <a:t>8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54099-8859-4CA5-9F0F-D4AFFC3A007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0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xemplo de Códig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subTitle"/>
          </p:nvPr>
        </p:nvSpPr>
        <p:spPr>
          <a:xfrm>
            <a:off x="1332000" y="2437920"/>
            <a:ext cx="6400800" cy="34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cisaoReal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mitesReai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metrosReai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coesSobreReai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manhoObjeto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verso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83A0A-5B11-4566-8C9A-D62526DFFBBB}" type="slidenum">
              <a:t>8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1A90C0-F0C6-41DE-B216-5B9CC292111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57200" y="2611080"/>
            <a:ext cx="8229600" cy="25700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ta_prova_a = 8.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ta_prova_b = 6.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</a:t>
            </a:r>
            <a:r>
              <a:rPr b="0" lang="es-ES_tradnl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ta_laboratorio = 10.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loat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edia;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claração de Variá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DF52-EFFC-4957-B588-0365B5A5825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DC9B21-6630-4345-92B7-3B3AD038317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15:14Z</dcterms:created>
  <dc:creator>Daniel</dc:creator>
  <dc:description/>
  <dc:language>en-US</dc:language>
  <cp:lastModifiedBy> arnaldo</cp:lastModifiedBy>
  <dcterms:modified xsi:type="dcterms:W3CDTF">2008-03-17T22:17:50Z</dcterms:modified>
  <cp:revision>97</cp:revision>
  <dc:subject/>
  <dc:title>Curso de C</dc:title>
</cp:coreProperties>
</file>