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F5BC-AF69-41E2-B3E6-4BD344B9C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230E-591C-4755-877E-8624A6CC7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9D8A-93CA-431D-9BB5-3AD0D8A5A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CDAE-3E39-48BF-BE93-1A137E7DF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968B-C721-475B-A0FF-216CA15D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E1FB6-D496-4645-819C-5F816BDD0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AABA-FDD9-49FB-9234-7EC6811C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DEE48-7B94-484D-9DBD-43DAEEB0E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DC8BA-817A-4752-98A3-71204A573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B8E99-9754-47FB-A6BF-F07680585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CE13-9758-4089-ABFF-33D967A95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A06A-A9D0-41A4-A8E0-BCFF58D3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EF018-CA20-41EF-A514-45B95151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FC334-13E8-436C-BDE0-D6EABD8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7E8E3-7BB3-4F68-9915-D92F418C8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FE873-E582-470C-836D-0A4426785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8FF7-F1F8-4A8D-A2D5-4E8388323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EB05-314D-4339-9BDE-72D8C3D37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BE0-1E55-4AF4-A956-0EE992429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6CD5-B316-4DCD-BD2B-C5D8BBF41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4C6-0C00-434C-A43A-108CE4648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E739-3ABA-41AC-BC96-D10A6AE14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0D91-9BC3-4161-990A-F5D3D738C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199A-5D30-4585-A420-F0B84234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6B83-D29D-4ADC-AB16-D566FB0F8AEA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6FBB39BE-A785-4200-8249-821ECC773E3B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6CE4-4293-4AFC-9168-5969C90CD19B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CAAF-6429-4566-B42E-BFB1F17B629F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0346C1E5-3AC7-4AE9-989E-707CA1A59E70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7:00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F48F3-DCCC-425D-B93F-C1F9F61FE9C4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Outros Tópic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6375-1100-4B8F-8947-47F522CD65C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8FDF6197-A289-486B-BD63-97DE23C7824C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otei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arâmetros de 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mandos para o sistema operac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mandos para medir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D336-C9CF-4504-880F-FC1712BF017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0EC32-213E-4033-B183-C60444704648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gumentos de </a:t>
            </a: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208880" y="1723680"/>
            <a:ext cx="4879080" cy="1343880"/>
            <a:chOff x="1208880" y="1723680"/>
            <a:chExt cx="4879080" cy="1343880"/>
          </a:xfrm>
        </p:grpSpPr>
        <p:sp>
          <p:nvSpPr>
            <p:cNvPr id="99" name=""/>
            <p:cNvSpPr/>
            <p:nvPr/>
          </p:nvSpPr>
          <p:spPr>
            <a:xfrm>
              <a:off x="1274400" y="2142000"/>
              <a:ext cx="4813560" cy="9255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int main (int </a:t>
              </a: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argc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, char *</a:t>
              </a: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argv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 [ ] ) {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   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int</a:t>
              </a: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r>
                <a:rPr b="1" lang="pt-BR" sz="1600" spc="-1" strike="noStrike">
                  <a:solidFill>
                    <a:srgbClr val="2aa436"/>
                  </a:solidFill>
                  <a:latin typeface="Lucida Console"/>
                </a:rPr>
                <a:t> k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;  double </a:t>
              </a:r>
              <a:r>
                <a:rPr b="1" lang="pt-BR" sz="1600" spc="-1" strike="noStrike">
                  <a:solidFill>
                    <a:srgbClr val="2aa436"/>
                  </a:solidFill>
                  <a:latin typeface="Lucida Console"/>
                </a:rPr>
                <a:t>x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;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  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    </a:t>
              </a:r>
              <a:r>
                <a:rPr b="1" lang="pt-BR" sz="1600" spc="-1" strike="noStrike">
                  <a:solidFill>
                    <a:srgbClr val="af67ff"/>
                  </a:solidFill>
                  <a:latin typeface="Lucida Console"/>
                </a:rPr>
                <a:t>. . . .  }</a:t>
              </a:r>
              <a:r>
                <a:rPr b="1" lang="pt-BR" sz="1600" spc="-1" strike="noStrike">
                  <a:solidFill>
                    <a:srgbClr val="ff0000"/>
                  </a:solidFill>
                  <a:latin typeface="Lucida Console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08880" y="172368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prog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1152000" y="3746160"/>
            <a:ext cx="225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af67ff"/>
                </a:solidFill>
                <a:latin typeface="Lucida Console"/>
              </a:rPr>
              <a:t>$ prog toto fafa</a:t>
            </a:r>
            <a:r>
              <a:rPr b="1" lang="pt-BR" sz="1600" spc="-1" strike="noStrike">
                <a:solidFill>
                  <a:srgbClr val="ff00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44520" y="4398840"/>
            <a:ext cx="5924520" cy="1817640"/>
            <a:chOff x="1244520" y="4398840"/>
            <a:chExt cx="5924520" cy="1817640"/>
          </a:xfrm>
        </p:grpSpPr>
        <p:sp>
          <p:nvSpPr>
            <p:cNvPr id="103" name=""/>
            <p:cNvSpPr/>
            <p:nvPr/>
          </p:nvSpPr>
          <p:spPr>
            <a:xfrm>
              <a:off x="1244520" y="4398840"/>
              <a:ext cx="5924520" cy="1817640"/>
            </a:xfrm>
            <a:prstGeom prst="rect">
              <a:avLst/>
            </a:prstGeom>
            <a:solidFill>
              <a:srgbClr val="ccff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590840" y="4832280"/>
              <a:ext cx="631800" cy="328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800440" y="4794120"/>
              <a:ext cx="631800" cy="11080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803680" y="5178600"/>
              <a:ext cx="63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803680" y="5559480"/>
              <a:ext cx="631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774960" y="4848120"/>
              <a:ext cx="1101960" cy="25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pro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772080" y="5243400"/>
              <a:ext cx="1101600" cy="25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tot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768840" y="5621400"/>
              <a:ext cx="1101600" cy="25884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faf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230880" y="4741920"/>
              <a:ext cx="631800" cy="328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261120" y="5413320"/>
              <a:ext cx="631800" cy="328680"/>
            </a:xfrm>
            <a:prstGeom prst="rect">
              <a:avLst/>
            </a:prstGeom>
            <a:solidFill>
              <a:srgbClr val="ccffcc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487840" y="4484520"/>
              <a:ext cx="0" cy="164628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13440" y="4419360"/>
              <a:ext cx="668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arg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83440" y="4419360"/>
              <a:ext cx="66852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argv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151080" y="5005440"/>
              <a:ext cx="622440" cy="0"/>
            </a:xfrm>
            <a:prstGeom prst="line">
              <a:avLst/>
            </a:prstGeom>
            <a:ln w="28440">
              <a:solidFill>
                <a:srgbClr val="af6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130560" y="5383080"/>
              <a:ext cx="622440" cy="0"/>
            </a:xfrm>
            <a:prstGeom prst="line">
              <a:avLst/>
            </a:prstGeom>
            <a:ln w="28440">
              <a:solidFill>
                <a:srgbClr val="af6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127320" y="5708520"/>
              <a:ext cx="622440" cy="0"/>
            </a:xfrm>
            <a:prstGeom prst="line">
              <a:avLst/>
            </a:prstGeom>
            <a:ln w="28440">
              <a:solidFill>
                <a:srgbClr val="af67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834160" y="4779720"/>
              <a:ext cx="3027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834160" y="5408280"/>
              <a:ext cx="302760" cy="33732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Lucida Console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52880" y="5725080"/>
              <a:ext cx="790200" cy="3988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ff"/>
                  </a:solidFill>
                  <a:latin typeface="Lucida Console"/>
                </a:rPr>
                <a:t>mai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13440" y="4780080"/>
              <a:ext cx="30708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413440" y="5229360"/>
              <a:ext cx="30708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413440" y="5589720"/>
              <a:ext cx="307080" cy="36828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6644520" y="6357960"/>
            <a:ext cx="1364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ramExte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81A5-23B1-4A04-9A3B-16B80FFFC340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EE7515-1A7A-47CF-A627-2AE7DA08D549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mandos extern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20560" y="162828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andos para o Sistema Operacional são dados através de comandos C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system(“ comando”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cuta “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comand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junto ao sistema operac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remove(“ nome ”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move arquivo “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nom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rename(“velho”, “novo”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nomeia arquivo “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velh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como “</a:t>
            </a:r>
            <a:r>
              <a:rPr b="1" lang="pt-BR" sz="2000" spc="-1" strike="noStrike">
                <a:solidFill>
                  <a:srgbClr val="009900"/>
                </a:solidFill>
                <a:latin typeface="Arial"/>
              </a:rPr>
              <a:t>nov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324000">
              <a:spcBef>
                <a:spcPts val="499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tmpnam(char * s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s é NUL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torna nome de um arquivo que não existe no diretório local; se s não é NULL, armazena em s o nome do arqu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60920" y="63356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Siste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7812-E30E-46CE-AB29-3207AFC2C59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05745B-49DB-423F-AB82-35A840928825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s para medir t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time(NULL)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aproximação para tempo real; tipo “time_t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clock( )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‘tiques de cpu’; tipo “clock_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CLOCKS_PER_SEC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s tiques há em cada segu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8000"/>
                </a:solidFill>
                <a:latin typeface="Arial"/>
              </a:rPr>
              <a:t>difftime(time_t  t1, time_t  t2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torna diferença em segundos entre tempos t1 e t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8000"/>
                </a:solidFill>
                <a:latin typeface="Arial"/>
              </a:rPr>
              <a:t>. .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61640" y="63356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MedTemp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854-37E6-4242-A31B-178DB275030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EF9E08-A935-4B8C-8201-68F4B169779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ariáveis de amb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mbiente de execução tem uma lista de ‘variáveis de ambient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sta é na forma “</a:t>
            </a:r>
            <a:r>
              <a:rPr b="0" lang="pt-BR" sz="2800" spc="-1" strike="noStrike">
                <a:solidFill>
                  <a:srgbClr val="0000ff"/>
                </a:solidFill>
                <a:latin typeface="Arial"/>
              </a:rPr>
              <a:t>nome = valo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terceiro argumento de main retornar a li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 main(int argc, char *argv[ ],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char * amb[ ]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{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getenv(“nome”)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retorna o “valor” associado a “nom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62360" y="6311880"/>
            <a:ext cx="114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F078-8FE5-416E-B909-C3CFE4CCD9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F4E352-61E4-4BD6-8CAE-1520AC4651E6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Outros Tópic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coes </a:t>
            </a:r>
            <a:endParaRPr b="0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855-4F73-4137-A360-2EE5F86B4E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B7B7EA54-F8FF-4C1F-9C6F-737349DDAA5D}" type="datetime8">
              <a:rPr lang="en-US"/>
              <a:t>07/28/26 07:0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5-27T23:09:39Z</dcterms:modified>
  <cp:revision>104</cp:revision>
  <dc:subject/>
  <dc:title>Curso de C</dc:title>
</cp:coreProperties>
</file>