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8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9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58E1F-43A8-439B-B590-889D603344A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para pegar o bi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E biná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Primeira possibilidade do 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egunda possbilidade do result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Note que em qualquer caso, e binário com 0 apaga o valor, com 1 copia o valor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 para atribuir o bit em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para pegar o bi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OU binário. Note que em qualquer caso, ou binário com 0 copia o valor, com 1 atribui o valo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 para atribuir o bit em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para pegar o bit 5. A máscara é inverdida, ou seja, tem 0 no bit que desejamos afet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OU binário. Note que em qualquer caso, e binário com 0 apaga o valor, com 1 copia o valor </a:t>
            </a:r>
            <a:r>
              <a:rPr b="0" i="1" lang="pt-BR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pt-BR" sz="1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 para trocar o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para pegar o bit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OU exclusivo. Note que em qualquer caso, ou exclusivo com 0 copia o valor, com 1 inverte o val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 para extrair um número representado por um intervalo de 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para pegar os bit 4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E binário. Note que em qualquer caso, ou binário com 0 copia o valor, com 1 atribui o valor 1. Esta operação é igual a realizada para verificar um único bit, mas agora estamos verificando um intervalo completo de 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gora, o intervalo precisa ser deslocado para a direita, para que o bit menos significativo do intervalo coincida com o bit menos significativo da palavra. Assim, o computador poderá interpretar estes bits como um número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necessários para atribuir um intervalo de bits. Primeiro, precisamos apagar os bits do intervalo. É necessário apagar os bits para evitar que o valor 1 se propague para as próximas operaçõ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e uma palavra de 8 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áscara invertida para pegar os bits 4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 após aplicar E binário para apagar os bits. Note que em qualquer caso, E binário com 0 apaga o valor, com 1 copia o valo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0) Passos para atribuir o valor dentro do interv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emplo do número de 3 bits que desejamos copiar para o interva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eslocar para a esquerda, para que o bit menos significativo do número fique alinhado com o bit menos significativo do interva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 número com o intervalo apagado, gerado no slide anter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peração OU binário, que copia os bits para dentro do interval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esultado. Note que em qualquer caso, OU binário une os valores dos bi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5163-03AC-4286-8EAA-56C5A7B10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6D2-4663-4DB7-BB50-ED841447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47A2-BFEA-44A4-BD60-F752F6885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A08-D6D2-467C-BA53-CB98A294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A9DAE-B516-4C0B-B7B2-5815F4A41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8643-C55F-412D-B3DC-9C93D8AD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CDAF-948A-4363-887D-18D8646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B1EF6-E963-4B5F-B769-0F482C72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8DED-8AB3-49E3-AE43-83E6D34D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F823-7E2A-4E31-95B9-C1F559DFE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8DC76-F10B-476B-B643-90280DB9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3EC7-D1DC-464F-A409-488DC217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66A2C-B24D-43EA-B5C6-78A149BBF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15E69-176E-499E-B4CA-0A2F57F3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6A07-DD69-4EA6-B05D-93DF9B46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18443-C7D1-4274-A57F-125A015F6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941F8-D809-45B7-9032-FD2778613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9DD3-9C00-4691-A707-C7EBE84B8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DC2-F66A-4C90-8973-5C19C7780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8B91-65B5-43D5-909B-0577C426C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B590-AFE6-457B-B813-FF42EC252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8A14-573C-4163-BDF5-D74E132E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29B1-EBD5-44E9-B225-B5E5484A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A901-EA03-44FB-A239-3759EA76C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070D3-A6A9-44A0-9833-24CC5D0512A6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6AFD15B3-5D4E-468C-B9BE-EB7E8D0E548E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0ADD-0453-402B-BC55-8F094FE1772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5CC8-AF49-4FF6-8C13-36FD18FD1CB2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029AA11A-8C95-4D33-9AF4-66F23CAEA257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16D-420A-4D02-B060-EFB2D5325E14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Operações com Bit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19CC9-A576-4EC7-889A-2AAC6B44115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0F97B1D-9A2B-494C-87AD-95D95F4A09F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431640" y="1989000"/>
            <a:ext cx="8280720" cy="450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15328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u,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nd_binario, and_log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nd_binario = u &amp;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and_logico = u &amp;&amp;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nd_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i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and_logic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54760" y="2978280"/>
            <a:ext cx="3979080" cy="265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= 000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000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&amp; v 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&amp;&amp; v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0000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22360" y="6039000"/>
            <a:ext cx="62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nd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9038-4361-49D5-A6DC-E4975A8AC51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E824B3-FEA4-41FC-A06D-CAFE85F50BB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clui pares de bits igua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U exclusiv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12000" y="3159000"/>
            <a:ext cx="2841480" cy="21387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Ver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^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^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^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^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12000" y="2259000"/>
            <a:ext cx="287964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:  ^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3581280" y="2978280"/>
            <a:ext cx="2138400" cy="1963440"/>
          </a:xfrm>
          <a:prstGeom prst="rect">
            <a:avLst/>
          </a:prstGeom>
          <a:ln w="0">
            <a:noFill/>
          </a:ln>
        </p:spPr>
      </p:pic>
      <p:grpSp>
        <p:nvGrpSpPr>
          <p:cNvPr id="435" name=""/>
          <p:cNvGrpSpPr/>
          <p:nvPr/>
        </p:nvGrpSpPr>
        <p:grpSpPr>
          <a:xfrm>
            <a:off x="1108080" y="4376880"/>
            <a:ext cx="2155680" cy="268200"/>
            <a:chOff x="1108080" y="4376880"/>
            <a:chExt cx="2155680" cy="268200"/>
          </a:xfrm>
        </p:grpSpPr>
        <p:sp>
          <p:nvSpPr>
            <p:cNvPr id="436" name=""/>
            <p:cNvSpPr/>
            <p:nvPr/>
          </p:nvSpPr>
          <p:spPr>
            <a:xfrm>
              <a:off x="1108080" y="437688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23516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1376280" y="437688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50192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644480" y="437688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7192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916280" y="4376880"/>
              <a:ext cx="26964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4336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185920" y="437688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1300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454120" y="437688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57976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25560" y="437688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85300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995560" y="437688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2120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2" name=""/>
          <p:cNvSpPr/>
          <p:nvPr/>
        </p:nvSpPr>
        <p:spPr>
          <a:xfrm>
            <a:off x="857520" y="308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66360" y="4383000"/>
            <a:ext cx="432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 ^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1108080" y="3067200"/>
            <a:ext cx="2155680" cy="269640"/>
            <a:chOff x="1108080" y="3067200"/>
            <a:chExt cx="2155680" cy="269640"/>
          </a:xfrm>
        </p:grpSpPr>
        <p:sp>
          <p:nvSpPr>
            <p:cNvPr id="455" name=""/>
            <p:cNvSpPr/>
            <p:nvPr/>
          </p:nvSpPr>
          <p:spPr>
            <a:xfrm>
              <a:off x="1108080" y="306720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23120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376280" y="306720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49796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644480" y="306720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76796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916280" y="3067200"/>
              <a:ext cx="26964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3940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185920" y="306720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30904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454120" y="306720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57580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25560" y="306720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4904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995560" y="306720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11724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1210320" y="2851200"/>
            <a:ext cx="2010600" cy="210960"/>
            <a:chOff x="1210320" y="2851200"/>
            <a:chExt cx="2010600" cy="210960"/>
          </a:xfrm>
        </p:grpSpPr>
        <p:sp>
          <p:nvSpPr>
            <p:cNvPr id="472" name=""/>
            <p:cNvSpPr/>
            <p:nvPr/>
          </p:nvSpPr>
          <p:spPr>
            <a:xfrm>
              <a:off x="121032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27620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47996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4620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74996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81584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2140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8728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28816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35584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55780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62404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82924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89692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9780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6368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"/>
          <p:cNvSpPr/>
          <p:nvPr/>
        </p:nvSpPr>
        <p:spPr>
          <a:xfrm>
            <a:off x="2128680" y="3859200"/>
            <a:ext cx="114480" cy="352440"/>
          </a:xfrm>
          <a:custGeom>
            <a:avLst/>
            <a:gdLst/>
            <a:ahLst/>
            <a:rect l="l" t="t" r="r" b="b"/>
            <a:pathLst>
              <a:path w="400" h="1233">
                <a:moveTo>
                  <a:pt x="234" y="33"/>
                </a:moveTo>
                <a:lnTo>
                  <a:pt x="234" y="900"/>
                </a:lnTo>
                <a:cubicBezTo>
                  <a:pt x="234" y="919"/>
                  <a:pt x="219" y="933"/>
                  <a:pt x="200" y="933"/>
                </a:cubicBezTo>
                <a:cubicBezTo>
                  <a:pt x="182" y="933"/>
                  <a:pt x="167" y="919"/>
                  <a:pt x="167" y="900"/>
                </a:cubicBezTo>
                <a:lnTo>
                  <a:pt x="167" y="33"/>
                </a:lnTo>
                <a:cubicBezTo>
                  <a:pt x="167" y="15"/>
                  <a:pt x="182" y="0"/>
                  <a:pt x="200" y="0"/>
                </a:cubicBezTo>
                <a:cubicBezTo>
                  <a:pt x="219" y="0"/>
                  <a:pt x="234" y="15"/>
                  <a:pt x="234" y="33"/>
                </a:cubicBezTo>
                <a:close/>
                <a:moveTo>
                  <a:pt x="400" y="833"/>
                </a:moveTo>
                <a:lnTo>
                  <a:pt x="200" y="1233"/>
                </a:lnTo>
                <a:lnTo>
                  <a:pt x="0" y="833"/>
                </a:lnTo>
                <a:lnTo>
                  <a:pt x="400" y="83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9" name=""/>
          <p:cNvGrpSpPr/>
          <p:nvPr/>
        </p:nvGrpSpPr>
        <p:grpSpPr>
          <a:xfrm>
            <a:off x="1108080" y="3486240"/>
            <a:ext cx="2155680" cy="268200"/>
            <a:chOff x="1108080" y="3486240"/>
            <a:chExt cx="2155680" cy="268200"/>
          </a:xfrm>
        </p:grpSpPr>
        <p:sp>
          <p:nvSpPr>
            <p:cNvPr id="490" name=""/>
            <p:cNvSpPr/>
            <p:nvPr/>
          </p:nvSpPr>
          <p:spPr>
            <a:xfrm>
              <a:off x="1108080" y="348624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3120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376280" y="348624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49796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1644480" y="348624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76796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916280" y="3486240"/>
              <a:ext cx="26964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3940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85920" y="348624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30904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454120" y="348624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57580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725560" y="3486240"/>
              <a:ext cx="2700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84904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995560" y="3486240"/>
              <a:ext cx="268200" cy="26820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1724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856080" y="3538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10808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2351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37628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5019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64448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7719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16280" y="4376880"/>
            <a:ext cx="26964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20433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18592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313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45412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5797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72556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853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99556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1212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10808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351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37628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5019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64448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7719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916280" y="4376880"/>
            <a:ext cx="26964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20433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18592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313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45412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25797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725560" y="437688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2853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995560" y="437688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1212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57520" y="308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10808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12312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7628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4979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164448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17679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1916280" y="3067200"/>
            <a:ext cx="26964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20394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218592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2309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245412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5758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72556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849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99556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172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110808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2312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37628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4979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164448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17679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1916280" y="3067200"/>
            <a:ext cx="26964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0394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18592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309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45412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5758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725560" y="3067200"/>
            <a:ext cx="2700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2849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995560" y="3067200"/>
            <a:ext cx="268200" cy="26964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1172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21032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1276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4799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1546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7499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158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214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0872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2881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3558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557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240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82924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289692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97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636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121032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276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4799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546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7499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8158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0214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0872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22881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558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557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6240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282924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89692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097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1636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128680" y="3859200"/>
            <a:ext cx="114480" cy="352440"/>
          </a:xfrm>
          <a:custGeom>
            <a:avLst/>
            <a:gdLst/>
            <a:ahLst/>
            <a:rect l="l" t="t" r="r" b="b"/>
            <a:pathLst>
              <a:path w="400" h="1233">
                <a:moveTo>
                  <a:pt x="234" y="33"/>
                </a:moveTo>
                <a:lnTo>
                  <a:pt x="234" y="900"/>
                </a:lnTo>
                <a:cubicBezTo>
                  <a:pt x="234" y="919"/>
                  <a:pt x="219" y="933"/>
                  <a:pt x="200" y="933"/>
                </a:cubicBezTo>
                <a:cubicBezTo>
                  <a:pt x="182" y="933"/>
                  <a:pt x="167" y="919"/>
                  <a:pt x="167" y="900"/>
                </a:cubicBezTo>
                <a:lnTo>
                  <a:pt x="167" y="33"/>
                </a:lnTo>
                <a:cubicBezTo>
                  <a:pt x="167" y="15"/>
                  <a:pt x="182" y="0"/>
                  <a:pt x="200" y="0"/>
                </a:cubicBezTo>
                <a:cubicBezTo>
                  <a:pt x="219" y="0"/>
                  <a:pt x="234" y="15"/>
                  <a:pt x="234" y="33"/>
                </a:cubicBezTo>
                <a:close/>
                <a:moveTo>
                  <a:pt x="400" y="833"/>
                </a:moveTo>
                <a:lnTo>
                  <a:pt x="200" y="1233"/>
                </a:lnTo>
                <a:lnTo>
                  <a:pt x="0" y="833"/>
                </a:lnTo>
                <a:lnTo>
                  <a:pt x="400" y="833"/>
                </a:lnTo>
                <a:close/>
              </a:path>
            </a:pathLst>
          </a:custGeom>
          <a:solidFill>
            <a:srgbClr val="000000"/>
          </a:solidFill>
          <a:ln w="14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10808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2312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37628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14979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64448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7679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916280" y="3486240"/>
            <a:ext cx="26964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0394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18592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2309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45412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5758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72556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849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9556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1172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10808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2312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137628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14979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64448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7679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916280" y="3486240"/>
            <a:ext cx="26964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0394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8592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309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45412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5758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725560" y="3486240"/>
            <a:ext cx="2700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849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995560" y="3486240"/>
            <a:ext cx="268200" cy="268200"/>
          </a:xfrm>
          <a:prstGeom prst="rect">
            <a:avLst/>
          </a:prstGeom>
          <a:noFill/>
          <a:ln cap="rnd"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172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56080" y="3538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1050840" y="3011400"/>
            <a:ext cx="2270160" cy="1692360"/>
          </a:xfrm>
          <a:prstGeom prst="rect">
            <a:avLst/>
          </a:prstGeom>
          <a:ln w="0">
            <a:noFill/>
          </a:ln>
        </p:spPr>
      </p:pic>
      <p:sp>
        <p:nvSpPr>
          <p:cNvPr id="63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80A2-8D80-4C05-AF8A-847B6BE3AB2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D9DF7-4846-4197-A99A-5EAB796D6FE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431640" y="1989000"/>
            <a:ext cx="8280720" cy="450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71280" y="2077560"/>
            <a:ext cx="576108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u,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or_binar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xor_binario = u ^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or_binari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U EXCLUSIVO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366880" y="3124080"/>
            <a:ext cx="3528000" cy="228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= 00001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0000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^ v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00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723080" y="60390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Xor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F72-3F72-4DC5-8B94-2393D7B02C9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4C3532-4D7D-4D05-A110-558921ECBF5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6120" rIns="96120" tIns="52920" bIns="5292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locamento de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102360" y="2738520"/>
            <a:ext cx="2340000" cy="104148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es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lt;&lt;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 e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gt;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1"/>
          <a:stretch/>
        </p:blipFill>
        <p:spPr>
          <a:xfrm>
            <a:off x="520560" y="2347920"/>
            <a:ext cx="2829240" cy="132552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"/>
          <p:cNvPicPr/>
          <p:nvPr/>
        </p:nvPicPr>
        <p:blipFill>
          <a:blip r:embed="rId2"/>
          <a:stretch/>
        </p:blipFill>
        <p:spPr>
          <a:xfrm>
            <a:off x="4289400" y="2077920"/>
            <a:ext cx="2262240" cy="196236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3343680" y="3301920"/>
            <a:ext cx="122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Insere 0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4" name=""/>
          <p:cNvGrpSpPr/>
          <p:nvPr/>
        </p:nvGrpSpPr>
        <p:grpSpPr>
          <a:xfrm>
            <a:off x="607680" y="3968640"/>
            <a:ext cx="6821640" cy="1963800"/>
            <a:chOff x="607680" y="3968640"/>
            <a:chExt cx="6821640" cy="1963800"/>
          </a:xfrm>
        </p:grpSpPr>
        <p:grpSp>
          <p:nvGrpSpPr>
            <p:cNvPr id="655" name=""/>
            <p:cNvGrpSpPr/>
            <p:nvPr/>
          </p:nvGrpSpPr>
          <p:grpSpPr>
            <a:xfrm>
              <a:off x="3867120" y="5356080"/>
              <a:ext cx="2157480" cy="268560"/>
              <a:chOff x="3867120" y="5356080"/>
              <a:chExt cx="2157480" cy="268560"/>
            </a:xfrm>
          </p:grpSpPr>
          <p:sp>
            <p:nvSpPr>
              <p:cNvPr id="656" name=""/>
              <p:cNvSpPr/>
              <p:nvPr/>
            </p:nvSpPr>
            <p:spPr>
              <a:xfrm>
                <a:off x="3867120" y="5356080"/>
                <a:ext cx="2700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989520" y="53910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4137120" y="5356080"/>
                <a:ext cx="2682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259520" y="539100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4405320" y="5356080"/>
                <a:ext cx="2700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453096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76760" y="5356080"/>
                <a:ext cx="2700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480384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4946760" y="5356080"/>
                <a:ext cx="2682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07240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214960" y="5356080"/>
                <a:ext cx="2682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34204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486400" y="5356080"/>
                <a:ext cx="2682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61204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754600" y="5356080"/>
                <a:ext cx="270000" cy="26856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82040" y="538812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2" name=""/>
            <p:cNvSpPr/>
            <p:nvPr/>
          </p:nvSpPr>
          <p:spPr>
            <a:xfrm>
              <a:off x="3618000" y="4564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46120" y="5330880"/>
              <a:ext cx="54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pt-BR" sz="15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3867120" y="4594320"/>
              <a:ext cx="2157480" cy="269640"/>
              <a:chOff x="3867120" y="4594320"/>
              <a:chExt cx="2157480" cy="269640"/>
            </a:xfrm>
          </p:grpSpPr>
          <p:sp>
            <p:nvSpPr>
              <p:cNvPr id="675" name=""/>
              <p:cNvSpPr/>
              <p:nvPr/>
            </p:nvSpPr>
            <p:spPr>
              <a:xfrm>
                <a:off x="3867120" y="4594320"/>
                <a:ext cx="2700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8952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137120" y="4594320"/>
                <a:ext cx="2682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425952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4405320" y="4594320"/>
                <a:ext cx="2700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452628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4676760" y="4594320"/>
                <a:ext cx="2700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479916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4946760" y="4594320"/>
                <a:ext cx="2682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06772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214960" y="4594320"/>
                <a:ext cx="2682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33736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486400" y="4594320"/>
                <a:ext cx="2682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60736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754600" y="4594320"/>
                <a:ext cx="270000" cy="269640"/>
              </a:xfrm>
              <a:prstGeom prst="rect">
                <a:avLst/>
              </a:prstGeom>
              <a:noFill/>
              <a:ln cap="rnd" w="144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77360" y="4630680"/>
                <a:ext cx="1072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5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1" name=""/>
            <p:cNvGrpSpPr/>
            <p:nvPr/>
          </p:nvGrpSpPr>
          <p:grpSpPr>
            <a:xfrm>
              <a:off x="3966120" y="4381560"/>
              <a:ext cx="2017080" cy="209160"/>
              <a:chOff x="3966120" y="4381560"/>
              <a:chExt cx="2017080" cy="209160"/>
            </a:xfrm>
          </p:grpSpPr>
          <p:sp>
            <p:nvSpPr>
              <p:cNvPr id="692" name=""/>
              <p:cNvSpPr/>
              <p:nvPr/>
            </p:nvSpPr>
            <p:spPr>
              <a:xfrm>
                <a:off x="396612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403848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7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423288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30668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450288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457488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477432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484812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04396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11812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31252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38452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58396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65632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53600" y="438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12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925960" y="446868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PT" sz="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8" name=""/>
            <p:cNvSpPr/>
            <p:nvPr/>
          </p:nvSpPr>
          <p:spPr>
            <a:xfrm>
              <a:off x="534024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07060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9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802040" y="4853160"/>
              <a:ext cx="547920" cy="502920"/>
            </a:xfrm>
            <a:custGeom>
              <a:avLst/>
              <a:gdLst/>
              <a:ahLst/>
              <a:rect l="l" t="t" r="r" b="b"/>
              <a:pathLst>
                <a:path w="1920" h="1762">
                  <a:moveTo>
                    <a:pt x="59" y="12"/>
                  </a:moveTo>
                  <a:lnTo>
                    <a:pt x="1697" y="1512"/>
                  </a:lnTo>
                  <a:cubicBezTo>
                    <a:pt x="1710" y="1525"/>
                    <a:pt x="1711" y="1546"/>
                    <a:pt x="1699" y="1559"/>
                  </a:cubicBezTo>
                  <a:cubicBezTo>
                    <a:pt x="1686" y="1573"/>
                    <a:pt x="1665" y="1574"/>
                    <a:pt x="1652" y="1561"/>
                  </a:cubicBezTo>
                  <a:lnTo>
                    <a:pt x="14" y="61"/>
                  </a:lnTo>
                  <a:cubicBezTo>
                    <a:pt x="1" y="49"/>
                    <a:pt x="0" y="28"/>
                    <a:pt x="12" y="14"/>
                  </a:cubicBezTo>
                  <a:cubicBezTo>
                    <a:pt x="25" y="1"/>
                    <a:pt x="46" y="0"/>
                    <a:pt x="59" y="12"/>
                  </a:cubicBezTo>
                  <a:close/>
                  <a:moveTo>
                    <a:pt x="1760" y="1344"/>
                  </a:moveTo>
                  <a:lnTo>
                    <a:pt x="1920" y="1762"/>
                  </a:lnTo>
                  <a:lnTo>
                    <a:pt x="1490" y="1639"/>
                  </a:lnTo>
                  <a:lnTo>
                    <a:pt x="1760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530600" y="4853160"/>
              <a:ext cx="551160" cy="502920"/>
            </a:xfrm>
            <a:custGeom>
              <a:avLst/>
              <a:gdLst/>
              <a:ahLst/>
              <a:rect l="l" t="t" r="r" b="b"/>
              <a:pathLst>
                <a:path w="1928" h="1762">
                  <a:moveTo>
                    <a:pt x="59" y="12"/>
                  </a:moveTo>
                  <a:lnTo>
                    <a:pt x="1705" y="1513"/>
                  </a:lnTo>
                  <a:cubicBezTo>
                    <a:pt x="1718" y="1525"/>
                    <a:pt x="1719" y="1546"/>
                    <a:pt x="1707" y="1560"/>
                  </a:cubicBezTo>
                  <a:cubicBezTo>
                    <a:pt x="1694" y="1573"/>
                    <a:pt x="1673" y="1574"/>
                    <a:pt x="1660" y="1562"/>
                  </a:cubicBezTo>
                  <a:lnTo>
                    <a:pt x="14" y="61"/>
                  </a:lnTo>
                  <a:cubicBezTo>
                    <a:pt x="1" y="49"/>
                    <a:pt x="0" y="28"/>
                    <a:pt x="12" y="14"/>
                  </a:cubicBezTo>
                  <a:cubicBezTo>
                    <a:pt x="25" y="1"/>
                    <a:pt x="46" y="0"/>
                    <a:pt x="59" y="12"/>
                  </a:cubicBezTo>
                  <a:close/>
                  <a:moveTo>
                    <a:pt x="1768" y="1344"/>
                  </a:moveTo>
                  <a:lnTo>
                    <a:pt x="1928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26240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992400" y="4853160"/>
              <a:ext cx="549360" cy="502920"/>
            </a:xfrm>
            <a:custGeom>
              <a:avLst/>
              <a:gdLst/>
              <a:ahLst/>
              <a:rect l="l" t="t" r="r" b="b"/>
              <a:pathLst>
                <a:path w="1921" h="1762">
                  <a:moveTo>
                    <a:pt x="60" y="12"/>
                  </a:moveTo>
                  <a:lnTo>
                    <a:pt x="1698" y="1512"/>
                  </a:lnTo>
                  <a:cubicBezTo>
                    <a:pt x="1711" y="1525"/>
                    <a:pt x="1712" y="1546"/>
                    <a:pt x="1700" y="1559"/>
                  </a:cubicBezTo>
                  <a:cubicBezTo>
                    <a:pt x="1687" y="1573"/>
                    <a:pt x="1666" y="1574"/>
                    <a:pt x="1652" y="1561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1" y="1344"/>
                  </a:moveTo>
                  <a:lnTo>
                    <a:pt x="1921" y="1762"/>
                  </a:lnTo>
                  <a:lnTo>
                    <a:pt x="1491" y="1639"/>
                  </a:lnTo>
                  <a:lnTo>
                    <a:pt x="1761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6712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989520" y="539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3712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59520" y="539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40532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53096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67676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8038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4676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07240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521496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534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48640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61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75460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88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6712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989520" y="539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13712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259520" y="5391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40532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53096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67676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8038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4676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507240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21496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534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486400" y="5356080"/>
              <a:ext cx="2682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61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54600" y="5356080"/>
              <a:ext cx="270000" cy="26856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882040" y="5388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618000" y="45640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86712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9895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13712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2595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0532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52628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67676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7991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94676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677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21496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533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548640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0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75460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587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86712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895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13712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2595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40532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2628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67676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7991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94676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06772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21496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33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486400" y="4594320"/>
              <a:ext cx="2682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60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54600" y="4594320"/>
              <a:ext cx="270000" cy="269640"/>
            </a:xfrm>
            <a:prstGeom prst="rect">
              <a:avLst/>
            </a:prstGeom>
            <a:noFill/>
            <a:ln cap="rnd"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877360" y="463068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9661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384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23288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3066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50288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5748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47743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48481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04396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51181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3125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845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58396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6563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85360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92596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9661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0384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23288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3066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50288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57488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7743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8481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04396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1181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31252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53845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558396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565632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5853600" y="43815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925960" y="446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34024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507060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9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802040" y="4853160"/>
              <a:ext cx="547920" cy="502920"/>
            </a:xfrm>
            <a:custGeom>
              <a:avLst/>
              <a:gdLst/>
              <a:ahLst/>
              <a:rect l="l" t="t" r="r" b="b"/>
              <a:pathLst>
                <a:path w="1920" h="1762">
                  <a:moveTo>
                    <a:pt x="59" y="12"/>
                  </a:moveTo>
                  <a:lnTo>
                    <a:pt x="1697" y="1512"/>
                  </a:lnTo>
                  <a:cubicBezTo>
                    <a:pt x="1710" y="1525"/>
                    <a:pt x="1711" y="1546"/>
                    <a:pt x="1699" y="1559"/>
                  </a:cubicBezTo>
                  <a:cubicBezTo>
                    <a:pt x="1686" y="1573"/>
                    <a:pt x="1665" y="1574"/>
                    <a:pt x="1652" y="1561"/>
                  </a:cubicBezTo>
                  <a:lnTo>
                    <a:pt x="14" y="61"/>
                  </a:lnTo>
                  <a:cubicBezTo>
                    <a:pt x="1" y="49"/>
                    <a:pt x="0" y="28"/>
                    <a:pt x="12" y="14"/>
                  </a:cubicBezTo>
                  <a:cubicBezTo>
                    <a:pt x="25" y="1"/>
                    <a:pt x="46" y="0"/>
                    <a:pt x="59" y="12"/>
                  </a:cubicBezTo>
                  <a:close/>
                  <a:moveTo>
                    <a:pt x="1760" y="1344"/>
                  </a:moveTo>
                  <a:lnTo>
                    <a:pt x="1920" y="1762"/>
                  </a:lnTo>
                  <a:lnTo>
                    <a:pt x="1490" y="1639"/>
                  </a:lnTo>
                  <a:lnTo>
                    <a:pt x="1760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530600" y="4853160"/>
              <a:ext cx="551160" cy="502920"/>
            </a:xfrm>
            <a:custGeom>
              <a:avLst/>
              <a:gdLst/>
              <a:ahLst/>
              <a:rect l="l" t="t" r="r" b="b"/>
              <a:pathLst>
                <a:path w="1928" h="1762">
                  <a:moveTo>
                    <a:pt x="59" y="12"/>
                  </a:moveTo>
                  <a:lnTo>
                    <a:pt x="1705" y="1513"/>
                  </a:lnTo>
                  <a:cubicBezTo>
                    <a:pt x="1718" y="1525"/>
                    <a:pt x="1719" y="1546"/>
                    <a:pt x="1707" y="1560"/>
                  </a:cubicBezTo>
                  <a:cubicBezTo>
                    <a:pt x="1694" y="1573"/>
                    <a:pt x="1673" y="1574"/>
                    <a:pt x="1660" y="1562"/>
                  </a:cubicBezTo>
                  <a:lnTo>
                    <a:pt x="14" y="61"/>
                  </a:lnTo>
                  <a:cubicBezTo>
                    <a:pt x="1" y="49"/>
                    <a:pt x="0" y="28"/>
                    <a:pt x="12" y="14"/>
                  </a:cubicBezTo>
                  <a:cubicBezTo>
                    <a:pt x="25" y="1"/>
                    <a:pt x="46" y="0"/>
                    <a:pt x="59" y="12"/>
                  </a:cubicBezTo>
                  <a:close/>
                  <a:moveTo>
                    <a:pt x="1768" y="1344"/>
                  </a:moveTo>
                  <a:lnTo>
                    <a:pt x="1928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262400" y="4853160"/>
              <a:ext cx="550800" cy="502920"/>
            </a:xfrm>
            <a:custGeom>
              <a:avLst/>
              <a:gdLst/>
              <a:ahLst/>
              <a:rect l="l" t="t" r="r" b="b"/>
              <a:pathLst>
                <a:path w="1929" h="1762">
                  <a:moveTo>
                    <a:pt x="60" y="12"/>
                  </a:moveTo>
                  <a:lnTo>
                    <a:pt x="1705" y="1513"/>
                  </a:lnTo>
                  <a:cubicBezTo>
                    <a:pt x="1719" y="1525"/>
                    <a:pt x="1720" y="1546"/>
                    <a:pt x="1707" y="1560"/>
                  </a:cubicBezTo>
                  <a:cubicBezTo>
                    <a:pt x="1695" y="1573"/>
                    <a:pt x="1674" y="1574"/>
                    <a:pt x="1660" y="1562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8" y="1344"/>
                  </a:moveTo>
                  <a:lnTo>
                    <a:pt x="1929" y="1762"/>
                  </a:lnTo>
                  <a:lnTo>
                    <a:pt x="1498" y="1640"/>
                  </a:lnTo>
                  <a:lnTo>
                    <a:pt x="1768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992400" y="4853160"/>
              <a:ext cx="549360" cy="502920"/>
            </a:xfrm>
            <a:custGeom>
              <a:avLst/>
              <a:gdLst/>
              <a:ahLst/>
              <a:rect l="l" t="t" r="r" b="b"/>
              <a:pathLst>
                <a:path w="1921" h="1762">
                  <a:moveTo>
                    <a:pt x="60" y="12"/>
                  </a:moveTo>
                  <a:lnTo>
                    <a:pt x="1698" y="1512"/>
                  </a:lnTo>
                  <a:cubicBezTo>
                    <a:pt x="1711" y="1525"/>
                    <a:pt x="1712" y="1546"/>
                    <a:pt x="1700" y="1559"/>
                  </a:cubicBezTo>
                  <a:cubicBezTo>
                    <a:pt x="1687" y="1573"/>
                    <a:pt x="1666" y="1574"/>
                    <a:pt x="1652" y="1561"/>
                  </a:cubicBezTo>
                  <a:lnTo>
                    <a:pt x="15" y="61"/>
                  </a:lnTo>
                  <a:cubicBezTo>
                    <a:pt x="1" y="49"/>
                    <a:pt x="0" y="28"/>
                    <a:pt x="13" y="14"/>
                  </a:cubicBezTo>
                  <a:cubicBezTo>
                    <a:pt x="25" y="1"/>
                    <a:pt x="46" y="0"/>
                    <a:pt x="60" y="12"/>
                  </a:cubicBezTo>
                  <a:close/>
                  <a:moveTo>
                    <a:pt x="1761" y="1344"/>
                  </a:moveTo>
                  <a:lnTo>
                    <a:pt x="1921" y="1762"/>
                  </a:lnTo>
                  <a:lnTo>
                    <a:pt x="1491" y="1639"/>
                  </a:lnTo>
                  <a:lnTo>
                    <a:pt x="1761" y="1344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17" name="" descr=""/>
            <p:cNvPicPr/>
            <p:nvPr/>
          </p:nvPicPr>
          <p:blipFill>
            <a:blip r:embed="rId3"/>
            <a:stretch/>
          </p:blipFill>
          <p:spPr>
            <a:xfrm>
              <a:off x="971640" y="3968640"/>
              <a:ext cx="2262240" cy="196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8" name=""/>
            <p:cNvSpPr/>
            <p:nvPr/>
          </p:nvSpPr>
          <p:spPr>
            <a:xfrm>
              <a:off x="6102720" y="5319720"/>
              <a:ext cx="1326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Perde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07680" y="4495680"/>
              <a:ext cx="543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x </a:t>
              </a:r>
              <a:r>
                <a:rPr b="1" lang="pt-BR" sz="1500" spc="-1" strike="noStrike">
                  <a:solidFill>
                    <a:srgbClr val="000000"/>
                  </a:solidFill>
                  <a:latin typeface="Arial"/>
                </a:rPr>
                <a:t>&gt;&gt;</a:t>
              </a: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 y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3C12-F919-4C9E-9548-76243E9389D1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851737-D64A-4089-AAC6-ADBF76E9495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"/>
          <p:cNvSpPr/>
          <p:nvPr/>
        </p:nvSpPr>
        <p:spPr>
          <a:xfrm>
            <a:off x="431640" y="1989000"/>
            <a:ext cx="8280720" cy="450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2077560"/>
            <a:ext cx="699444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_direita, v_esquer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_esquerda = v &lt;&lt; 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_direita  = v &gt;&gt; 3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v_esquerd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v_direit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slocamento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33360" y="3124080"/>
            <a:ext cx="3710880" cy="228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100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&lt;&lt; 2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100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&gt;&gt; 3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10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6999480" y="6129360"/>
            <a:ext cx="132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slocamento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A95-36BE-48A2-ABF2-4D35F103BDF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3870A2-D7E9-4653-8BC0-35DA4613F58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lecionar alguns bits de uma palav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áscara de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1" name=""/>
          <p:cNvGrpSpPr/>
          <p:nvPr/>
        </p:nvGrpSpPr>
        <p:grpSpPr>
          <a:xfrm>
            <a:off x="4572000" y="2979720"/>
            <a:ext cx="2881440" cy="449280"/>
            <a:chOff x="4572000" y="2979720"/>
            <a:chExt cx="2881440" cy="449280"/>
          </a:xfrm>
        </p:grpSpPr>
        <p:sp>
          <p:nvSpPr>
            <p:cNvPr id="832" name=""/>
            <p:cNvSpPr/>
            <p:nvPr/>
          </p:nvSpPr>
          <p:spPr>
            <a:xfrm>
              <a:off x="457200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93236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29272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65308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01200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637236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3272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093080" y="297972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0" name=""/>
          <p:cNvSpPr/>
          <p:nvPr/>
        </p:nvSpPr>
        <p:spPr>
          <a:xfrm flipV="1">
            <a:off x="5832360" y="3429000"/>
            <a:ext cx="0" cy="27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6912000" y="3429000"/>
            <a:ext cx="0" cy="27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974160" y="2971800"/>
            <a:ext cx="30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Bits desejados: 1 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4572000" y="3879720"/>
            <a:ext cx="2881440" cy="449280"/>
            <a:chOff x="4572000" y="3879720"/>
            <a:chExt cx="2881440" cy="449280"/>
          </a:xfrm>
        </p:grpSpPr>
        <p:sp>
          <p:nvSpPr>
            <p:cNvPr id="844" name=""/>
            <p:cNvSpPr/>
            <p:nvPr/>
          </p:nvSpPr>
          <p:spPr>
            <a:xfrm>
              <a:off x="457200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93236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29272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53080" y="387972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01200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637236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32720" y="387972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093080" y="387972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2" name=""/>
          <p:cNvSpPr/>
          <p:nvPr/>
        </p:nvSpPr>
        <p:spPr>
          <a:xfrm>
            <a:off x="973080" y="387972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ásc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74880" y="495936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Seleção dos bi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4" name=""/>
          <p:cNvGrpSpPr/>
          <p:nvPr/>
        </p:nvGrpSpPr>
        <p:grpSpPr>
          <a:xfrm>
            <a:off x="4572000" y="4959360"/>
            <a:ext cx="2881440" cy="449280"/>
            <a:chOff x="4572000" y="4959360"/>
            <a:chExt cx="2881440" cy="449280"/>
          </a:xfrm>
        </p:grpSpPr>
        <p:sp>
          <p:nvSpPr>
            <p:cNvPr id="855" name=""/>
            <p:cNvSpPr/>
            <p:nvPr/>
          </p:nvSpPr>
          <p:spPr>
            <a:xfrm>
              <a:off x="457200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93236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29272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5308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1200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37236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3272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093080" y="49593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3" name=""/>
          <p:cNvSpPr/>
          <p:nvPr/>
        </p:nvSpPr>
        <p:spPr>
          <a:xfrm flipV="1">
            <a:off x="5832360" y="5408640"/>
            <a:ext cx="0" cy="27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912000" y="5408640"/>
            <a:ext cx="0" cy="270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5" name=""/>
          <p:cNvGrpSpPr/>
          <p:nvPr/>
        </p:nvGrpSpPr>
        <p:grpSpPr>
          <a:xfrm>
            <a:off x="4572000" y="4959360"/>
            <a:ext cx="2881440" cy="449280"/>
            <a:chOff x="4572000" y="4959360"/>
            <a:chExt cx="2881440" cy="449280"/>
          </a:xfrm>
        </p:grpSpPr>
        <p:sp>
          <p:nvSpPr>
            <p:cNvPr id="866" name=""/>
            <p:cNvSpPr/>
            <p:nvPr/>
          </p:nvSpPr>
          <p:spPr>
            <a:xfrm>
              <a:off x="457200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3236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29272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5653080" y="495936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01200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37236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732720" y="495936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93080" y="495936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4573080" y="2708280"/>
            <a:ext cx="84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alav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3DE7-7E5A-407A-AA64-61353EC70E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C93ED-2849-47C8-9FDE-9E8021E8BA8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"/>
                            </p:stCondLst>
                            <p:childTnLst>
                              <p:par>
                                <p:cTn id="2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500"/>
                            </p:stCondLst>
                            <p:childTnLst>
                              <p:par>
                                <p:cTn id="2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áscara: número inteiro e bin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ção de máscara de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5021280" y="2708280"/>
            <a:ext cx="2881440" cy="449280"/>
            <a:chOff x="5021280" y="2708280"/>
            <a:chExt cx="2881440" cy="449280"/>
          </a:xfrm>
        </p:grpSpPr>
        <p:sp>
          <p:nvSpPr>
            <p:cNvPr id="880" name=""/>
            <p:cNvSpPr/>
            <p:nvPr/>
          </p:nvSpPr>
          <p:spPr>
            <a:xfrm>
              <a:off x="502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8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74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10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646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82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8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4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973080" y="2708280"/>
            <a:ext cx="143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áscar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75960" y="423216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presentação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0" name=""/>
          <p:cNvGrpSpPr/>
          <p:nvPr/>
        </p:nvGrpSpPr>
        <p:grpSpPr>
          <a:xfrm>
            <a:off x="5021280" y="4232160"/>
            <a:ext cx="2881440" cy="449280"/>
            <a:chOff x="5021280" y="4232160"/>
            <a:chExt cx="2881440" cy="449280"/>
          </a:xfrm>
        </p:grpSpPr>
        <p:sp>
          <p:nvSpPr>
            <p:cNvPr id="891" name=""/>
            <p:cNvSpPr/>
            <p:nvPr/>
          </p:nvSpPr>
          <p:spPr>
            <a:xfrm>
              <a:off x="502128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38164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4200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10236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46128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82164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18200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542360" y="423216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9" name=""/>
          <p:cNvSpPr/>
          <p:nvPr/>
        </p:nvSpPr>
        <p:spPr>
          <a:xfrm>
            <a:off x="6281640" y="2978280"/>
            <a:ext cx="0" cy="135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62720" y="2979720"/>
            <a:ext cx="0" cy="134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1242720" y="3429000"/>
            <a:ext cx="309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cuna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ígito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ais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ígito 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1254600" y="5307120"/>
            <a:ext cx="6588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cimal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00010010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hex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2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5022720" y="4689000"/>
            <a:ext cx="2880000" cy="489960"/>
            <a:chOff x="5022720" y="4689000"/>
            <a:chExt cx="2880000" cy="489960"/>
          </a:xfrm>
        </p:grpSpPr>
        <p:sp>
          <p:nvSpPr>
            <p:cNvPr id="904" name=""/>
            <p:cNvSpPr/>
            <p:nvPr/>
          </p:nvSpPr>
          <p:spPr>
            <a:xfrm rot="16200000">
              <a:off x="5652000" y="405936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rot="16200000">
              <a:off x="7092000" y="405936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5562720" y="4780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002360" y="47800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6FCD-10DD-4956-88F7-2FAF62AC546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8A16C0-2B66-4548-B191-59DD63F4141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000"/>
                            </p:stCondLst>
                            <p:childTnLst>
                              <p:par>
                                <p:cTn id="3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lecionar primeiro bi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másc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2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913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9" name=""/>
          <p:cNvSpPr/>
          <p:nvPr/>
        </p:nvSpPr>
        <p:spPr>
          <a:xfrm>
            <a:off x="745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0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931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7" name=""/>
          <p:cNvGrpSpPr/>
          <p:nvPr/>
        </p:nvGrpSpPr>
        <p:grpSpPr>
          <a:xfrm>
            <a:off x="1511280" y="3429000"/>
            <a:ext cx="6121440" cy="449280"/>
            <a:chOff x="1511280" y="3429000"/>
            <a:chExt cx="6121440" cy="449280"/>
          </a:xfrm>
        </p:grpSpPr>
        <p:sp>
          <p:nvSpPr>
            <p:cNvPr id="948" name=""/>
            <p:cNvSpPr/>
            <p:nvPr/>
          </p:nvSpPr>
          <p:spPr>
            <a:xfrm>
              <a:off x="47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1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4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8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19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5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91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27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51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7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23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59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9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3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36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0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4" name=""/>
          <p:cNvSpPr/>
          <p:nvPr/>
        </p:nvSpPr>
        <p:spPr>
          <a:xfrm>
            <a:off x="975960" y="441972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presentação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71640" y="4978440"/>
            <a:ext cx="774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cimal: 00000000 000000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he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x0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"/>
          <p:cNvGrpSpPr/>
          <p:nvPr/>
        </p:nvGrpSpPr>
        <p:grpSpPr>
          <a:xfrm>
            <a:off x="4751280" y="3879360"/>
            <a:ext cx="2880000" cy="489960"/>
            <a:chOff x="4751280" y="3879360"/>
            <a:chExt cx="2880000" cy="489960"/>
          </a:xfrm>
        </p:grpSpPr>
        <p:sp>
          <p:nvSpPr>
            <p:cNvPr id="967" name=""/>
            <p:cNvSpPr/>
            <p:nvPr/>
          </p:nvSpPr>
          <p:spPr>
            <a:xfrm rot="16200000">
              <a:off x="538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rot="16200000">
              <a:off x="682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29128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67309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1" name=""/>
          <p:cNvGrpSpPr/>
          <p:nvPr/>
        </p:nvGrpSpPr>
        <p:grpSpPr>
          <a:xfrm>
            <a:off x="1512720" y="3879360"/>
            <a:ext cx="2880000" cy="489960"/>
            <a:chOff x="1512720" y="3879360"/>
            <a:chExt cx="2880000" cy="489960"/>
          </a:xfrm>
        </p:grpSpPr>
        <p:sp>
          <p:nvSpPr>
            <p:cNvPr id="972" name=""/>
            <p:cNvSpPr/>
            <p:nvPr/>
          </p:nvSpPr>
          <p:spPr>
            <a:xfrm rot="16200000">
              <a:off x="214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 rot="16200000">
              <a:off x="358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0527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49236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3FE8-9AF0-48B6-BF66-5F23BE896C2D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72A27-1931-49C4-959D-FF8D90C074A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lecionar bits 1, 4 e 6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másc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981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7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998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4" name=""/>
          <p:cNvGrpSpPr/>
          <p:nvPr/>
        </p:nvGrpSpPr>
        <p:grpSpPr>
          <a:xfrm>
            <a:off x="1511280" y="3429000"/>
            <a:ext cx="6121440" cy="449280"/>
            <a:chOff x="1511280" y="3429000"/>
            <a:chExt cx="6121440" cy="449280"/>
          </a:xfrm>
        </p:grpSpPr>
        <p:sp>
          <p:nvSpPr>
            <p:cNvPr id="1015" name=""/>
            <p:cNvSpPr/>
            <p:nvPr/>
          </p:nvSpPr>
          <p:spPr>
            <a:xfrm>
              <a:off x="47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51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54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8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19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655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1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27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51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87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23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59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3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36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0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1" name=""/>
          <p:cNvSpPr/>
          <p:nvPr/>
        </p:nvSpPr>
        <p:spPr>
          <a:xfrm>
            <a:off x="975960" y="441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presentação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971640" y="4941720"/>
            <a:ext cx="774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cimal: 00000000 01010010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= 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he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52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x005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601200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0930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"/>
          <p:cNvGrpSpPr/>
          <p:nvPr/>
        </p:nvGrpSpPr>
        <p:grpSpPr>
          <a:xfrm>
            <a:off x="4751280" y="3879360"/>
            <a:ext cx="2880000" cy="489960"/>
            <a:chOff x="4751280" y="3879360"/>
            <a:chExt cx="2880000" cy="489960"/>
          </a:xfrm>
        </p:grpSpPr>
        <p:sp>
          <p:nvSpPr>
            <p:cNvPr id="1037" name=""/>
            <p:cNvSpPr/>
            <p:nvPr/>
          </p:nvSpPr>
          <p:spPr>
            <a:xfrm rot="16200000">
              <a:off x="538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rot="16200000">
              <a:off x="682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29128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7309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1" name=""/>
          <p:cNvGrpSpPr/>
          <p:nvPr/>
        </p:nvGrpSpPr>
        <p:grpSpPr>
          <a:xfrm>
            <a:off x="1512720" y="3879360"/>
            <a:ext cx="2880000" cy="489960"/>
            <a:chOff x="1512720" y="3879360"/>
            <a:chExt cx="2880000" cy="489960"/>
          </a:xfrm>
        </p:grpSpPr>
        <p:sp>
          <p:nvSpPr>
            <p:cNvPr id="1042" name=""/>
            <p:cNvSpPr/>
            <p:nvPr/>
          </p:nvSpPr>
          <p:spPr>
            <a:xfrm rot="16200000">
              <a:off x="214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rot="16200000">
              <a:off x="358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527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49236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17B7-194A-4814-B90D-AA24FF56A2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92129B-839C-48B0-A7A0-D566E9D9323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ervalo de bits de 4 a 12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másc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0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1051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7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1068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1511280" y="3429000"/>
            <a:ext cx="6121440" cy="449280"/>
            <a:chOff x="1511280" y="3429000"/>
            <a:chExt cx="6121440" cy="449280"/>
          </a:xfrm>
        </p:grpSpPr>
        <p:sp>
          <p:nvSpPr>
            <p:cNvPr id="1085" name=""/>
            <p:cNvSpPr/>
            <p:nvPr/>
          </p:nvSpPr>
          <p:spPr>
            <a:xfrm>
              <a:off x="47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4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19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5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91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727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51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87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3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59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29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6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40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1" name=""/>
          <p:cNvSpPr/>
          <p:nvPr/>
        </p:nvSpPr>
        <p:spPr>
          <a:xfrm>
            <a:off x="975960" y="441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presentação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971640" y="4941720"/>
            <a:ext cx="774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cimal: 00011111 11110000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81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he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FF0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x1FF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309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421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01200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6" name=""/>
          <p:cNvGrpSpPr/>
          <p:nvPr/>
        </p:nvGrpSpPr>
        <p:grpSpPr>
          <a:xfrm>
            <a:off x="4751280" y="3879360"/>
            <a:ext cx="2880000" cy="489960"/>
            <a:chOff x="4751280" y="3879360"/>
            <a:chExt cx="2880000" cy="489960"/>
          </a:xfrm>
        </p:grpSpPr>
        <p:sp>
          <p:nvSpPr>
            <p:cNvPr id="1107" name=""/>
            <p:cNvSpPr/>
            <p:nvPr/>
          </p:nvSpPr>
          <p:spPr>
            <a:xfrm rot="16200000">
              <a:off x="538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rot="16200000">
              <a:off x="682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529128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7309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1512720" y="3879360"/>
            <a:ext cx="2880000" cy="489960"/>
            <a:chOff x="1512720" y="3879360"/>
            <a:chExt cx="2880000" cy="489960"/>
          </a:xfrm>
        </p:grpSpPr>
        <p:sp>
          <p:nvSpPr>
            <p:cNvPr id="1112" name=""/>
            <p:cNvSpPr/>
            <p:nvPr/>
          </p:nvSpPr>
          <p:spPr>
            <a:xfrm rot="16200000">
              <a:off x="214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 rot="16200000">
              <a:off x="358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0527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9236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6" name=""/>
          <p:cNvSpPr/>
          <p:nvPr/>
        </p:nvSpPr>
        <p:spPr>
          <a:xfrm>
            <a:off x="313200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38512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565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21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349236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77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A90F-A1FF-4CAE-8A07-07738166A2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7A3AC6-3CAA-47A3-B737-160499931B6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446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oma de dígitos bi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+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+ 1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+ 0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+ 1 = 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“vai um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itmética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om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055400" y="4038480"/>
            <a:ext cx="4253760" cy="2279880"/>
            <a:chOff x="4055400" y="4038480"/>
            <a:chExt cx="4253760" cy="2279880"/>
          </a:xfrm>
        </p:grpSpPr>
        <p:sp>
          <p:nvSpPr>
            <p:cNvPr id="106" name=""/>
            <p:cNvSpPr/>
            <p:nvPr/>
          </p:nvSpPr>
          <p:spPr>
            <a:xfrm>
              <a:off x="519192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75856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2700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9220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5884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19192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75856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32700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9220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45884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49600" y="5732640"/>
              <a:ext cx="3213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19192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5856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32700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89220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5884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623480" y="5937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9192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31908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89220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5168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9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1" y="1893"/>
                    <a:pt x="210" y="1892"/>
                  </a:cubicBezTo>
                  <a:lnTo>
                    <a:pt x="206" y="1885"/>
                  </a:lnTo>
                  <a:cubicBezTo>
                    <a:pt x="205" y="1885"/>
                    <a:pt x="205" y="1884"/>
                    <a:pt x="204" y="1883"/>
                  </a:cubicBezTo>
                  <a:lnTo>
                    <a:pt x="200" y="1874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8" y="1793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59"/>
                  </a:lnTo>
                  <a:lnTo>
                    <a:pt x="234" y="1868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40" y="1874"/>
                  </a:lnTo>
                  <a:lnTo>
                    <a:pt x="233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6"/>
                  </a:cubicBezTo>
                  <a:lnTo>
                    <a:pt x="184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4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7" y="1318"/>
                  </a:cubicBezTo>
                  <a:cubicBezTo>
                    <a:pt x="156" y="1317"/>
                    <a:pt x="164" y="1324"/>
                    <a:pt x="164" y="1334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6" y="1451"/>
                    <a:pt x="138" y="1445"/>
                    <a:pt x="137" y="1435"/>
                  </a:cubicBezTo>
                  <a:close/>
                  <a:moveTo>
                    <a:pt x="125" y="1202"/>
                  </a:moveTo>
                  <a:lnTo>
                    <a:pt x="123" y="1120"/>
                  </a:lnTo>
                  <a:lnTo>
                    <a:pt x="122" y="1101"/>
                  </a:lnTo>
                  <a:cubicBezTo>
                    <a:pt x="122" y="1092"/>
                    <a:pt x="130" y="1085"/>
                    <a:pt x="139" y="1085"/>
                  </a:cubicBezTo>
                  <a:cubicBezTo>
                    <a:pt x="148" y="1084"/>
                    <a:pt x="156" y="1092"/>
                    <a:pt x="156" y="1101"/>
                  </a:cubicBezTo>
                  <a:lnTo>
                    <a:pt x="156" y="1119"/>
                  </a:lnTo>
                  <a:lnTo>
                    <a:pt x="158" y="1201"/>
                  </a:lnTo>
                  <a:cubicBezTo>
                    <a:pt x="158" y="1210"/>
                    <a:pt x="151" y="1218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1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7" y="851"/>
                    <a:pt x="136" y="851"/>
                  </a:cubicBezTo>
                  <a:cubicBezTo>
                    <a:pt x="145" y="851"/>
                    <a:pt x="153" y="859"/>
                    <a:pt x="153" y="868"/>
                  </a:cubicBezTo>
                  <a:lnTo>
                    <a:pt x="154" y="944"/>
                  </a:lnTo>
                  <a:lnTo>
                    <a:pt x="154" y="968"/>
                  </a:lnTo>
                  <a:cubicBezTo>
                    <a:pt x="154" y="977"/>
                    <a:pt x="147" y="984"/>
                    <a:pt x="137" y="985"/>
                  </a:cubicBezTo>
                  <a:cubicBezTo>
                    <a:pt x="128" y="985"/>
                    <a:pt x="121" y="977"/>
                    <a:pt x="121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1" y="734"/>
                  </a:lnTo>
                  <a:cubicBezTo>
                    <a:pt x="151" y="743"/>
                    <a:pt x="144" y="751"/>
                    <a:pt x="134" y="751"/>
                  </a:cubicBezTo>
                  <a:cubicBezTo>
                    <a:pt x="125" y="752"/>
                    <a:pt x="118" y="744"/>
                    <a:pt x="117" y="735"/>
                  </a:cubicBezTo>
                  <a:close/>
                  <a:moveTo>
                    <a:pt x="107" y="503"/>
                  </a:moveTo>
                  <a:lnTo>
                    <a:pt x="103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1" y="510"/>
                    <a:pt x="134" y="518"/>
                    <a:pt x="125" y="518"/>
                  </a:cubicBezTo>
                  <a:cubicBezTo>
                    <a:pt x="116" y="519"/>
                    <a:pt x="108" y="512"/>
                    <a:pt x="107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8" y="156"/>
                    <a:pt x="87" y="154"/>
                  </a:cubicBezTo>
                  <a:cubicBezTo>
                    <a:pt x="95" y="152"/>
                    <a:pt x="104" y="157"/>
                    <a:pt x="107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2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8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83240" y="4294080"/>
              <a:ext cx="252360" cy="1817640"/>
            </a:xfrm>
            <a:custGeom>
              <a:avLst/>
              <a:gdLst/>
              <a:ahLst/>
              <a:rect l="l" t="t" r="r" b="b"/>
              <a:pathLst>
                <a:path w="252" h="1906">
                  <a:moveTo>
                    <a:pt x="230" y="1904"/>
                  </a:moveTo>
                  <a:lnTo>
                    <a:pt x="225" y="1903"/>
                  </a:lnTo>
                  <a:cubicBezTo>
                    <a:pt x="222" y="1902"/>
                    <a:pt x="220" y="1900"/>
                    <a:pt x="218" y="1899"/>
                  </a:cubicBezTo>
                  <a:lnTo>
                    <a:pt x="214" y="1894"/>
                  </a:lnTo>
                  <a:cubicBezTo>
                    <a:pt x="213" y="1894"/>
                    <a:pt x="212" y="1893"/>
                    <a:pt x="211" y="1892"/>
                  </a:cubicBezTo>
                  <a:lnTo>
                    <a:pt x="207" y="1885"/>
                  </a:lnTo>
                  <a:cubicBezTo>
                    <a:pt x="206" y="1884"/>
                    <a:pt x="206" y="1884"/>
                    <a:pt x="205" y="1883"/>
                  </a:cubicBezTo>
                  <a:lnTo>
                    <a:pt x="201" y="1873"/>
                  </a:lnTo>
                  <a:lnTo>
                    <a:pt x="196" y="1861"/>
                  </a:lnTo>
                  <a:lnTo>
                    <a:pt x="192" y="1846"/>
                  </a:lnTo>
                  <a:lnTo>
                    <a:pt x="187" y="1829"/>
                  </a:lnTo>
                  <a:lnTo>
                    <a:pt x="183" y="1810"/>
                  </a:lnTo>
                  <a:lnTo>
                    <a:pt x="181" y="1802"/>
                  </a:lnTo>
                  <a:cubicBezTo>
                    <a:pt x="179" y="1792"/>
                    <a:pt x="185" y="1784"/>
                    <a:pt x="194" y="1782"/>
                  </a:cubicBezTo>
                  <a:cubicBezTo>
                    <a:pt x="203" y="1780"/>
                    <a:pt x="212" y="1786"/>
                    <a:pt x="214" y="1795"/>
                  </a:cubicBezTo>
                  <a:lnTo>
                    <a:pt x="215" y="1803"/>
                  </a:lnTo>
                  <a:lnTo>
                    <a:pt x="219" y="1821"/>
                  </a:lnTo>
                  <a:lnTo>
                    <a:pt x="223" y="1836"/>
                  </a:lnTo>
                  <a:lnTo>
                    <a:pt x="227" y="1849"/>
                  </a:lnTo>
                  <a:lnTo>
                    <a:pt x="231" y="1860"/>
                  </a:lnTo>
                  <a:lnTo>
                    <a:pt x="236" y="1869"/>
                  </a:lnTo>
                  <a:lnTo>
                    <a:pt x="234" y="1866"/>
                  </a:lnTo>
                  <a:lnTo>
                    <a:pt x="239" y="1873"/>
                  </a:lnTo>
                  <a:lnTo>
                    <a:pt x="236" y="1870"/>
                  </a:lnTo>
                  <a:lnTo>
                    <a:pt x="241" y="1874"/>
                  </a:lnTo>
                  <a:lnTo>
                    <a:pt x="234" y="1870"/>
                  </a:lnTo>
                  <a:lnTo>
                    <a:pt x="238" y="1872"/>
                  </a:lnTo>
                  <a:cubicBezTo>
                    <a:pt x="247" y="1874"/>
                    <a:pt x="252" y="1883"/>
                    <a:pt x="250" y="1892"/>
                  </a:cubicBezTo>
                  <a:cubicBezTo>
                    <a:pt x="248" y="1901"/>
                    <a:pt x="238" y="1906"/>
                    <a:pt x="230" y="1904"/>
                  </a:cubicBezTo>
                  <a:close/>
                  <a:moveTo>
                    <a:pt x="160" y="1669"/>
                  </a:moveTo>
                  <a:lnTo>
                    <a:pt x="159" y="1658"/>
                  </a:lnTo>
                  <a:lnTo>
                    <a:pt x="155" y="1627"/>
                  </a:lnTo>
                  <a:lnTo>
                    <a:pt x="152" y="1595"/>
                  </a:lnTo>
                  <a:lnTo>
                    <a:pt x="149" y="1569"/>
                  </a:lnTo>
                  <a:cubicBezTo>
                    <a:pt x="148" y="1559"/>
                    <a:pt x="155" y="1551"/>
                    <a:pt x="164" y="1550"/>
                  </a:cubicBezTo>
                  <a:cubicBezTo>
                    <a:pt x="173" y="1550"/>
                    <a:pt x="182" y="1556"/>
                    <a:pt x="182" y="1565"/>
                  </a:cubicBezTo>
                  <a:lnTo>
                    <a:pt x="185" y="1591"/>
                  </a:lnTo>
                  <a:lnTo>
                    <a:pt x="188" y="1623"/>
                  </a:lnTo>
                  <a:lnTo>
                    <a:pt x="192" y="1654"/>
                  </a:lnTo>
                  <a:lnTo>
                    <a:pt x="193" y="1664"/>
                  </a:lnTo>
                  <a:cubicBezTo>
                    <a:pt x="194" y="1673"/>
                    <a:pt x="188" y="1682"/>
                    <a:pt x="179" y="1683"/>
                  </a:cubicBezTo>
                  <a:cubicBezTo>
                    <a:pt x="169" y="1684"/>
                    <a:pt x="161" y="1678"/>
                    <a:pt x="160" y="1669"/>
                  </a:cubicBezTo>
                  <a:close/>
                  <a:moveTo>
                    <a:pt x="138" y="1435"/>
                  </a:moveTo>
                  <a:lnTo>
                    <a:pt x="134" y="1373"/>
                  </a:lnTo>
                  <a:lnTo>
                    <a:pt x="132" y="1335"/>
                  </a:lnTo>
                  <a:cubicBezTo>
                    <a:pt x="132" y="1326"/>
                    <a:pt x="139" y="1318"/>
                    <a:pt x="148" y="1318"/>
                  </a:cubicBezTo>
                  <a:cubicBezTo>
                    <a:pt x="157" y="1317"/>
                    <a:pt x="165" y="1324"/>
                    <a:pt x="165" y="1333"/>
                  </a:cubicBezTo>
                  <a:lnTo>
                    <a:pt x="167" y="1371"/>
                  </a:lnTo>
                  <a:lnTo>
                    <a:pt x="172" y="1433"/>
                  </a:lnTo>
                  <a:cubicBezTo>
                    <a:pt x="172" y="1442"/>
                    <a:pt x="165" y="1450"/>
                    <a:pt x="156" y="1451"/>
                  </a:cubicBezTo>
                  <a:cubicBezTo>
                    <a:pt x="147" y="1451"/>
                    <a:pt x="139" y="1444"/>
                    <a:pt x="138" y="1435"/>
                  </a:cubicBezTo>
                  <a:close/>
                  <a:moveTo>
                    <a:pt x="126" y="1202"/>
                  </a:moveTo>
                  <a:lnTo>
                    <a:pt x="124" y="1120"/>
                  </a:lnTo>
                  <a:lnTo>
                    <a:pt x="123" y="1101"/>
                  </a:lnTo>
                  <a:cubicBezTo>
                    <a:pt x="123" y="1092"/>
                    <a:pt x="131" y="1085"/>
                    <a:pt x="140" y="1085"/>
                  </a:cubicBezTo>
                  <a:cubicBezTo>
                    <a:pt x="149" y="1084"/>
                    <a:pt x="157" y="1092"/>
                    <a:pt x="157" y="1101"/>
                  </a:cubicBezTo>
                  <a:lnTo>
                    <a:pt x="157" y="1119"/>
                  </a:lnTo>
                  <a:lnTo>
                    <a:pt x="159" y="1201"/>
                  </a:lnTo>
                  <a:cubicBezTo>
                    <a:pt x="160" y="1210"/>
                    <a:pt x="153" y="1217"/>
                    <a:pt x="143" y="1218"/>
                  </a:cubicBezTo>
                  <a:cubicBezTo>
                    <a:pt x="134" y="1218"/>
                    <a:pt x="126" y="1211"/>
                    <a:pt x="126" y="1202"/>
                  </a:cubicBezTo>
                  <a:close/>
                  <a:moveTo>
                    <a:pt x="122" y="968"/>
                  </a:moveTo>
                  <a:lnTo>
                    <a:pt x="122" y="944"/>
                  </a:lnTo>
                  <a:lnTo>
                    <a:pt x="121" y="868"/>
                  </a:lnTo>
                  <a:cubicBezTo>
                    <a:pt x="120" y="859"/>
                    <a:pt x="128" y="851"/>
                    <a:pt x="137" y="851"/>
                  </a:cubicBezTo>
                  <a:cubicBezTo>
                    <a:pt x="146" y="851"/>
                    <a:pt x="154" y="858"/>
                    <a:pt x="154" y="868"/>
                  </a:cubicBezTo>
                  <a:lnTo>
                    <a:pt x="155" y="944"/>
                  </a:lnTo>
                  <a:lnTo>
                    <a:pt x="155" y="968"/>
                  </a:lnTo>
                  <a:cubicBezTo>
                    <a:pt x="155" y="977"/>
                    <a:pt x="148" y="984"/>
                    <a:pt x="139" y="985"/>
                  </a:cubicBezTo>
                  <a:cubicBezTo>
                    <a:pt x="129" y="985"/>
                    <a:pt x="122" y="977"/>
                    <a:pt x="122" y="968"/>
                  </a:cubicBezTo>
                  <a:close/>
                  <a:moveTo>
                    <a:pt x="118" y="735"/>
                  </a:moveTo>
                  <a:lnTo>
                    <a:pt x="117" y="682"/>
                  </a:lnTo>
                  <a:lnTo>
                    <a:pt x="115" y="635"/>
                  </a:lnTo>
                  <a:cubicBezTo>
                    <a:pt x="114" y="626"/>
                    <a:pt x="122" y="618"/>
                    <a:pt x="131" y="618"/>
                  </a:cubicBezTo>
                  <a:cubicBezTo>
                    <a:pt x="140" y="618"/>
                    <a:pt x="148" y="625"/>
                    <a:pt x="148" y="634"/>
                  </a:cubicBezTo>
                  <a:lnTo>
                    <a:pt x="150" y="681"/>
                  </a:lnTo>
                  <a:lnTo>
                    <a:pt x="152" y="734"/>
                  </a:lnTo>
                  <a:cubicBezTo>
                    <a:pt x="152" y="743"/>
                    <a:pt x="145" y="751"/>
                    <a:pt x="135" y="751"/>
                  </a:cubicBezTo>
                  <a:cubicBezTo>
                    <a:pt x="126" y="751"/>
                    <a:pt x="119" y="744"/>
                    <a:pt x="118" y="735"/>
                  </a:cubicBezTo>
                  <a:close/>
                  <a:moveTo>
                    <a:pt x="108" y="503"/>
                  </a:moveTo>
                  <a:lnTo>
                    <a:pt x="104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6" y="384"/>
                    <a:pt x="134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2" y="510"/>
                    <a:pt x="135" y="517"/>
                    <a:pt x="126" y="518"/>
                  </a:cubicBezTo>
                  <a:cubicBezTo>
                    <a:pt x="117" y="519"/>
                    <a:pt x="109" y="512"/>
                    <a:pt x="108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3" y="174"/>
                  </a:lnTo>
                  <a:cubicBezTo>
                    <a:pt x="71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4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6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20"/>
                  </a:moveTo>
                  <a:lnTo>
                    <a:pt x="42" y="0"/>
                  </a:lnTo>
                  <a:lnTo>
                    <a:pt x="193" y="16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923080" y="4294080"/>
              <a:ext cx="25056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8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0" y="1893"/>
                    <a:pt x="210" y="1892"/>
                  </a:cubicBezTo>
                  <a:lnTo>
                    <a:pt x="205" y="1885"/>
                  </a:lnTo>
                  <a:cubicBezTo>
                    <a:pt x="205" y="1884"/>
                    <a:pt x="204" y="1884"/>
                    <a:pt x="204" y="1883"/>
                  </a:cubicBezTo>
                  <a:lnTo>
                    <a:pt x="200" y="1873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7" y="1792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60"/>
                  </a:lnTo>
                  <a:lnTo>
                    <a:pt x="234" y="1869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39" y="1874"/>
                  </a:lnTo>
                  <a:lnTo>
                    <a:pt x="232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5"/>
                  </a:cubicBezTo>
                  <a:lnTo>
                    <a:pt x="183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3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6" y="1318"/>
                  </a:cubicBezTo>
                  <a:cubicBezTo>
                    <a:pt x="156" y="1317"/>
                    <a:pt x="163" y="1324"/>
                    <a:pt x="164" y="1333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5" y="1451"/>
                    <a:pt x="137" y="1444"/>
                    <a:pt x="137" y="1435"/>
                  </a:cubicBezTo>
                  <a:close/>
                  <a:moveTo>
                    <a:pt x="125" y="1202"/>
                  </a:moveTo>
                  <a:lnTo>
                    <a:pt x="122" y="1120"/>
                  </a:lnTo>
                  <a:lnTo>
                    <a:pt x="122" y="1101"/>
                  </a:lnTo>
                  <a:cubicBezTo>
                    <a:pt x="122" y="1092"/>
                    <a:pt x="129" y="1085"/>
                    <a:pt x="138" y="1085"/>
                  </a:cubicBezTo>
                  <a:cubicBezTo>
                    <a:pt x="148" y="1084"/>
                    <a:pt x="155" y="1092"/>
                    <a:pt x="155" y="1101"/>
                  </a:cubicBezTo>
                  <a:lnTo>
                    <a:pt x="155" y="1119"/>
                  </a:lnTo>
                  <a:lnTo>
                    <a:pt x="158" y="1201"/>
                  </a:lnTo>
                  <a:cubicBezTo>
                    <a:pt x="158" y="1210"/>
                    <a:pt x="151" y="1217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0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6" y="851"/>
                    <a:pt x="136" y="851"/>
                  </a:cubicBezTo>
                  <a:cubicBezTo>
                    <a:pt x="145" y="851"/>
                    <a:pt x="152" y="858"/>
                    <a:pt x="153" y="868"/>
                  </a:cubicBezTo>
                  <a:lnTo>
                    <a:pt x="153" y="944"/>
                  </a:lnTo>
                  <a:lnTo>
                    <a:pt x="154" y="968"/>
                  </a:lnTo>
                  <a:cubicBezTo>
                    <a:pt x="154" y="977"/>
                    <a:pt x="146" y="984"/>
                    <a:pt x="137" y="985"/>
                  </a:cubicBezTo>
                  <a:cubicBezTo>
                    <a:pt x="128" y="985"/>
                    <a:pt x="120" y="977"/>
                    <a:pt x="120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0" y="734"/>
                  </a:lnTo>
                  <a:cubicBezTo>
                    <a:pt x="151" y="743"/>
                    <a:pt x="143" y="751"/>
                    <a:pt x="134" y="751"/>
                  </a:cubicBezTo>
                  <a:cubicBezTo>
                    <a:pt x="125" y="751"/>
                    <a:pt x="117" y="744"/>
                    <a:pt x="117" y="735"/>
                  </a:cubicBezTo>
                  <a:close/>
                  <a:moveTo>
                    <a:pt x="107" y="502"/>
                  </a:moveTo>
                  <a:lnTo>
                    <a:pt x="103" y="439"/>
                  </a:lnTo>
                  <a:lnTo>
                    <a:pt x="100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6" y="437"/>
                  </a:lnTo>
                  <a:lnTo>
                    <a:pt x="140" y="500"/>
                  </a:lnTo>
                  <a:cubicBezTo>
                    <a:pt x="141" y="510"/>
                    <a:pt x="134" y="517"/>
                    <a:pt x="125" y="518"/>
                  </a:cubicBezTo>
                  <a:cubicBezTo>
                    <a:pt x="116" y="519"/>
                    <a:pt x="108" y="512"/>
                    <a:pt x="107" y="502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3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2" y="267"/>
                  </a:lnTo>
                  <a:cubicBezTo>
                    <a:pt x="123" y="276"/>
                    <a:pt x="116" y="284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7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35140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9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1" y="1893"/>
                    <a:pt x="210" y="1892"/>
                  </a:cubicBezTo>
                  <a:lnTo>
                    <a:pt x="206" y="1885"/>
                  </a:lnTo>
                  <a:cubicBezTo>
                    <a:pt x="205" y="1885"/>
                    <a:pt x="205" y="1884"/>
                    <a:pt x="204" y="1883"/>
                  </a:cubicBezTo>
                  <a:lnTo>
                    <a:pt x="200" y="1874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8" y="1793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59"/>
                  </a:lnTo>
                  <a:lnTo>
                    <a:pt x="234" y="1868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40" y="1874"/>
                  </a:lnTo>
                  <a:lnTo>
                    <a:pt x="233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6"/>
                  </a:cubicBezTo>
                  <a:lnTo>
                    <a:pt x="184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4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7" y="1318"/>
                  </a:cubicBezTo>
                  <a:cubicBezTo>
                    <a:pt x="156" y="1317"/>
                    <a:pt x="164" y="1324"/>
                    <a:pt x="164" y="1334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6" y="1451"/>
                    <a:pt x="138" y="1445"/>
                    <a:pt x="137" y="1435"/>
                  </a:cubicBezTo>
                  <a:close/>
                  <a:moveTo>
                    <a:pt x="125" y="1202"/>
                  </a:moveTo>
                  <a:lnTo>
                    <a:pt x="123" y="1120"/>
                  </a:lnTo>
                  <a:lnTo>
                    <a:pt x="122" y="1101"/>
                  </a:lnTo>
                  <a:cubicBezTo>
                    <a:pt x="122" y="1092"/>
                    <a:pt x="130" y="1085"/>
                    <a:pt x="139" y="1085"/>
                  </a:cubicBezTo>
                  <a:cubicBezTo>
                    <a:pt x="148" y="1084"/>
                    <a:pt x="156" y="1092"/>
                    <a:pt x="156" y="1101"/>
                  </a:cubicBezTo>
                  <a:lnTo>
                    <a:pt x="156" y="1119"/>
                  </a:lnTo>
                  <a:lnTo>
                    <a:pt x="158" y="1201"/>
                  </a:lnTo>
                  <a:cubicBezTo>
                    <a:pt x="158" y="1210"/>
                    <a:pt x="151" y="1218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1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7" y="851"/>
                    <a:pt x="136" y="851"/>
                  </a:cubicBezTo>
                  <a:cubicBezTo>
                    <a:pt x="145" y="851"/>
                    <a:pt x="153" y="859"/>
                    <a:pt x="153" y="868"/>
                  </a:cubicBezTo>
                  <a:lnTo>
                    <a:pt x="154" y="944"/>
                  </a:lnTo>
                  <a:lnTo>
                    <a:pt x="154" y="968"/>
                  </a:lnTo>
                  <a:cubicBezTo>
                    <a:pt x="154" y="977"/>
                    <a:pt x="147" y="984"/>
                    <a:pt x="137" y="985"/>
                  </a:cubicBezTo>
                  <a:cubicBezTo>
                    <a:pt x="128" y="985"/>
                    <a:pt x="121" y="977"/>
                    <a:pt x="121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1" y="734"/>
                  </a:lnTo>
                  <a:cubicBezTo>
                    <a:pt x="151" y="743"/>
                    <a:pt x="144" y="751"/>
                    <a:pt x="134" y="751"/>
                  </a:cubicBezTo>
                  <a:cubicBezTo>
                    <a:pt x="125" y="752"/>
                    <a:pt x="118" y="744"/>
                    <a:pt x="117" y="735"/>
                  </a:cubicBezTo>
                  <a:close/>
                  <a:moveTo>
                    <a:pt x="107" y="503"/>
                  </a:moveTo>
                  <a:lnTo>
                    <a:pt x="103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1" y="510"/>
                    <a:pt x="134" y="518"/>
                    <a:pt x="125" y="518"/>
                  </a:cubicBezTo>
                  <a:cubicBezTo>
                    <a:pt x="116" y="519"/>
                    <a:pt x="108" y="512"/>
                    <a:pt x="107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8" y="156"/>
                    <a:pt x="87" y="154"/>
                  </a:cubicBezTo>
                  <a:cubicBezTo>
                    <a:pt x="95" y="152"/>
                    <a:pt x="104" y="157"/>
                    <a:pt x="107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2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8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8476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0" h="1906">
                  <a:moveTo>
                    <a:pt x="228" y="1904"/>
                  </a:moveTo>
                  <a:lnTo>
                    <a:pt x="223" y="1903"/>
                  </a:lnTo>
                  <a:cubicBezTo>
                    <a:pt x="220" y="1902"/>
                    <a:pt x="218" y="1900"/>
                    <a:pt x="216" y="1899"/>
                  </a:cubicBezTo>
                  <a:lnTo>
                    <a:pt x="212" y="1894"/>
                  </a:lnTo>
                  <a:cubicBezTo>
                    <a:pt x="211" y="1894"/>
                    <a:pt x="210" y="1893"/>
                    <a:pt x="209" y="1892"/>
                  </a:cubicBezTo>
                  <a:lnTo>
                    <a:pt x="205" y="1885"/>
                  </a:lnTo>
                  <a:cubicBezTo>
                    <a:pt x="204" y="1884"/>
                    <a:pt x="204" y="1884"/>
                    <a:pt x="203" y="1883"/>
                  </a:cubicBezTo>
                  <a:lnTo>
                    <a:pt x="199" y="1873"/>
                  </a:lnTo>
                  <a:lnTo>
                    <a:pt x="194" y="1861"/>
                  </a:lnTo>
                  <a:lnTo>
                    <a:pt x="190" y="1846"/>
                  </a:lnTo>
                  <a:lnTo>
                    <a:pt x="185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7" y="1792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3" y="1803"/>
                  </a:lnTo>
                  <a:lnTo>
                    <a:pt x="217" y="1821"/>
                  </a:lnTo>
                  <a:lnTo>
                    <a:pt x="221" y="1836"/>
                  </a:lnTo>
                  <a:lnTo>
                    <a:pt x="225" y="1849"/>
                  </a:lnTo>
                  <a:lnTo>
                    <a:pt x="229" y="1860"/>
                  </a:lnTo>
                  <a:lnTo>
                    <a:pt x="234" y="1869"/>
                  </a:lnTo>
                  <a:lnTo>
                    <a:pt x="232" y="1866"/>
                  </a:lnTo>
                  <a:lnTo>
                    <a:pt x="237" y="1873"/>
                  </a:lnTo>
                  <a:lnTo>
                    <a:pt x="234" y="1870"/>
                  </a:lnTo>
                  <a:lnTo>
                    <a:pt x="239" y="1874"/>
                  </a:lnTo>
                  <a:lnTo>
                    <a:pt x="232" y="1870"/>
                  </a:lnTo>
                  <a:lnTo>
                    <a:pt x="236" y="1872"/>
                  </a:lnTo>
                  <a:cubicBezTo>
                    <a:pt x="245" y="1874"/>
                    <a:pt x="250" y="1883"/>
                    <a:pt x="248" y="1892"/>
                  </a:cubicBezTo>
                  <a:cubicBezTo>
                    <a:pt x="246" y="1901"/>
                    <a:pt x="236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3" y="1627"/>
                  </a:lnTo>
                  <a:lnTo>
                    <a:pt x="150" y="1595"/>
                  </a:lnTo>
                  <a:lnTo>
                    <a:pt x="147" y="1569"/>
                  </a:lnTo>
                  <a:cubicBezTo>
                    <a:pt x="146" y="1559"/>
                    <a:pt x="153" y="1551"/>
                    <a:pt x="162" y="1550"/>
                  </a:cubicBezTo>
                  <a:cubicBezTo>
                    <a:pt x="171" y="1550"/>
                    <a:pt x="180" y="1556"/>
                    <a:pt x="180" y="1565"/>
                  </a:cubicBezTo>
                  <a:lnTo>
                    <a:pt x="183" y="1591"/>
                  </a:lnTo>
                  <a:lnTo>
                    <a:pt x="186" y="1623"/>
                  </a:lnTo>
                  <a:lnTo>
                    <a:pt x="190" y="1654"/>
                  </a:lnTo>
                  <a:lnTo>
                    <a:pt x="191" y="1664"/>
                  </a:lnTo>
                  <a:cubicBezTo>
                    <a:pt x="192" y="1673"/>
                    <a:pt x="186" y="1682"/>
                    <a:pt x="177" y="1683"/>
                  </a:cubicBezTo>
                  <a:cubicBezTo>
                    <a:pt x="167" y="1684"/>
                    <a:pt x="159" y="1678"/>
                    <a:pt x="158" y="1669"/>
                  </a:cubicBezTo>
                  <a:close/>
                  <a:moveTo>
                    <a:pt x="136" y="1435"/>
                  </a:moveTo>
                  <a:lnTo>
                    <a:pt x="132" y="1373"/>
                  </a:lnTo>
                  <a:lnTo>
                    <a:pt x="130" y="1335"/>
                  </a:lnTo>
                  <a:cubicBezTo>
                    <a:pt x="130" y="1326"/>
                    <a:pt x="137" y="1318"/>
                    <a:pt x="146" y="1318"/>
                  </a:cubicBezTo>
                  <a:cubicBezTo>
                    <a:pt x="155" y="1317"/>
                    <a:pt x="163" y="1324"/>
                    <a:pt x="163" y="1333"/>
                  </a:cubicBezTo>
                  <a:lnTo>
                    <a:pt x="165" y="1371"/>
                  </a:lnTo>
                  <a:lnTo>
                    <a:pt x="170" y="1433"/>
                  </a:lnTo>
                  <a:cubicBezTo>
                    <a:pt x="170" y="1442"/>
                    <a:pt x="163" y="1450"/>
                    <a:pt x="154" y="1451"/>
                  </a:cubicBezTo>
                  <a:cubicBezTo>
                    <a:pt x="145" y="1451"/>
                    <a:pt x="137" y="1444"/>
                    <a:pt x="136" y="1435"/>
                  </a:cubicBezTo>
                  <a:close/>
                  <a:moveTo>
                    <a:pt x="124" y="1202"/>
                  </a:moveTo>
                  <a:lnTo>
                    <a:pt x="122" y="1120"/>
                  </a:lnTo>
                  <a:lnTo>
                    <a:pt x="121" y="1101"/>
                  </a:lnTo>
                  <a:cubicBezTo>
                    <a:pt x="121" y="1092"/>
                    <a:pt x="129" y="1085"/>
                    <a:pt x="138" y="1085"/>
                  </a:cubicBezTo>
                  <a:cubicBezTo>
                    <a:pt x="147" y="1084"/>
                    <a:pt x="155" y="1092"/>
                    <a:pt x="155" y="1101"/>
                  </a:cubicBezTo>
                  <a:lnTo>
                    <a:pt x="155" y="1119"/>
                  </a:lnTo>
                  <a:lnTo>
                    <a:pt x="157" y="1201"/>
                  </a:lnTo>
                  <a:cubicBezTo>
                    <a:pt x="158" y="1210"/>
                    <a:pt x="151" y="1217"/>
                    <a:pt x="141" y="1218"/>
                  </a:cubicBezTo>
                  <a:cubicBezTo>
                    <a:pt x="132" y="1218"/>
                    <a:pt x="124" y="1211"/>
                    <a:pt x="124" y="1202"/>
                  </a:cubicBezTo>
                  <a:close/>
                  <a:moveTo>
                    <a:pt x="120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6" y="851"/>
                    <a:pt x="135" y="851"/>
                  </a:cubicBezTo>
                  <a:cubicBezTo>
                    <a:pt x="144" y="851"/>
                    <a:pt x="152" y="858"/>
                    <a:pt x="152" y="868"/>
                  </a:cubicBezTo>
                  <a:lnTo>
                    <a:pt x="153" y="944"/>
                  </a:lnTo>
                  <a:lnTo>
                    <a:pt x="153" y="968"/>
                  </a:lnTo>
                  <a:cubicBezTo>
                    <a:pt x="153" y="977"/>
                    <a:pt x="146" y="984"/>
                    <a:pt x="137" y="985"/>
                  </a:cubicBezTo>
                  <a:cubicBezTo>
                    <a:pt x="127" y="985"/>
                    <a:pt x="120" y="977"/>
                    <a:pt x="120" y="968"/>
                  </a:cubicBezTo>
                  <a:close/>
                  <a:moveTo>
                    <a:pt x="117" y="735"/>
                  </a:moveTo>
                  <a:lnTo>
                    <a:pt x="115" y="682"/>
                  </a:lnTo>
                  <a:lnTo>
                    <a:pt x="113" y="635"/>
                  </a:lnTo>
                  <a:cubicBezTo>
                    <a:pt x="113" y="626"/>
                    <a:pt x="120" y="618"/>
                    <a:pt x="129" y="618"/>
                  </a:cubicBezTo>
                  <a:cubicBezTo>
                    <a:pt x="138" y="618"/>
                    <a:pt x="146" y="625"/>
                    <a:pt x="147" y="634"/>
                  </a:cubicBezTo>
                  <a:lnTo>
                    <a:pt x="148" y="681"/>
                  </a:lnTo>
                  <a:lnTo>
                    <a:pt x="150" y="734"/>
                  </a:lnTo>
                  <a:cubicBezTo>
                    <a:pt x="150" y="743"/>
                    <a:pt x="143" y="751"/>
                    <a:pt x="134" y="751"/>
                  </a:cubicBezTo>
                  <a:cubicBezTo>
                    <a:pt x="125" y="751"/>
                    <a:pt x="117" y="744"/>
                    <a:pt x="117" y="735"/>
                  </a:cubicBezTo>
                  <a:close/>
                  <a:moveTo>
                    <a:pt x="107" y="502"/>
                  </a:moveTo>
                  <a:lnTo>
                    <a:pt x="103" y="439"/>
                  </a:lnTo>
                  <a:lnTo>
                    <a:pt x="100" y="403"/>
                  </a:lnTo>
                  <a:cubicBezTo>
                    <a:pt x="99" y="394"/>
                    <a:pt x="106" y="386"/>
                    <a:pt x="115" y="385"/>
                  </a:cubicBezTo>
                  <a:cubicBezTo>
                    <a:pt x="124" y="384"/>
                    <a:pt x="132" y="391"/>
                    <a:pt x="133" y="400"/>
                  </a:cubicBezTo>
                  <a:lnTo>
                    <a:pt x="136" y="437"/>
                  </a:lnTo>
                  <a:lnTo>
                    <a:pt x="140" y="500"/>
                  </a:lnTo>
                  <a:cubicBezTo>
                    <a:pt x="141" y="510"/>
                    <a:pt x="134" y="517"/>
                    <a:pt x="124" y="518"/>
                  </a:cubicBezTo>
                  <a:cubicBezTo>
                    <a:pt x="115" y="519"/>
                    <a:pt x="107" y="512"/>
                    <a:pt x="107" y="502"/>
                  </a:cubicBezTo>
                  <a:close/>
                  <a:moveTo>
                    <a:pt x="88" y="271"/>
                  </a:moveTo>
                  <a:lnTo>
                    <a:pt x="88" y="264"/>
                  </a:lnTo>
                  <a:lnTo>
                    <a:pt x="84" y="233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1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4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1" y="267"/>
                  </a:lnTo>
                  <a:cubicBezTo>
                    <a:pt x="122" y="276"/>
                    <a:pt x="116" y="284"/>
                    <a:pt x="107" y="285"/>
                  </a:cubicBezTo>
                  <a:cubicBezTo>
                    <a:pt x="98" y="286"/>
                    <a:pt x="89" y="280"/>
                    <a:pt x="88" y="271"/>
                  </a:cubicBezTo>
                  <a:close/>
                  <a:moveTo>
                    <a:pt x="0" y="219"/>
                  </a:moveTo>
                  <a:lnTo>
                    <a:pt x="44" y="0"/>
                  </a:lnTo>
                  <a:lnTo>
                    <a:pt x="193" y="167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62348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5400" y="521640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055400" y="59371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19192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5856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2700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9220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58840" y="466740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9192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5856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32700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89220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58840" y="52117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449600" y="5732640"/>
              <a:ext cx="3213360" cy="144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9192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5856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2700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89220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458840" y="593244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23480" y="593712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9192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6360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31908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89220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05168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9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1" y="1893"/>
                    <a:pt x="210" y="1892"/>
                  </a:cubicBezTo>
                  <a:lnTo>
                    <a:pt x="206" y="1885"/>
                  </a:lnTo>
                  <a:cubicBezTo>
                    <a:pt x="205" y="1885"/>
                    <a:pt x="205" y="1884"/>
                    <a:pt x="204" y="1883"/>
                  </a:cubicBezTo>
                  <a:lnTo>
                    <a:pt x="200" y="1874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8" y="1793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59"/>
                  </a:lnTo>
                  <a:lnTo>
                    <a:pt x="234" y="1868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40" y="1874"/>
                  </a:lnTo>
                  <a:lnTo>
                    <a:pt x="233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6"/>
                  </a:cubicBezTo>
                  <a:lnTo>
                    <a:pt x="184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4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7" y="1318"/>
                  </a:cubicBezTo>
                  <a:cubicBezTo>
                    <a:pt x="156" y="1317"/>
                    <a:pt x="164" y="1324"/>
                    <a:pt x="164" y="1334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6" y="1451"/>
                    <a:pt x="138" y="1445"/>
                    <a:pt x="137" y="1435"/>
                  </a:cubicBezTo>
                  <a:close/>
                  <a:moveTo>
                    <a:pt x="125" y="1202"/>
                  </a:moveTo>
                  <a:lnTo>
                    <a:pt x="123" y="1120"/>
                  </a:lnTo>
                  <a:lnTo>
                    <a:pt x="122" y="1101"/>
                  </a:lnTo>
                  <a:cubicBezTo>
                    <a:pt x="122" y="1092"/>
                    <a:pt x="130" y="1085"/>
                    <a:pt x="139" y="1085"/>
                  </a:cubicBezTo>
                  <a:cubicBezTo>
                    <a:pt x="148" y="1084"/>
                    <a:pt x="156" y="1092"/>
                    <a:pt x="156" y="1101"/>
                  </a:cubicBezTo>
                  <a:lnTo>
                    <a:pt x="156" y="1119"/>
                  </a:lnTo>
                  <a:lnTo>
                    <a:pt x="158" y="1201"/>
                  </a:lnTo>
                  <a:cubicBezTo>
                    <a:pt x="158" y="1210"/>
                    <a:pt x="151" y="1218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1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7" y="851"/>
                    <a:pt x="136" y="851"/>
                  </a:cubicBezTo>
                  <a:cubicBezTo>
                    <a:pt x="145" y="851"/>
                    <a:pt x="153" y="859"/>
                    <a:pt x="153" y="868"/>
                  </a:cubicBezTo>
                  <a:lnTo>
                    <a:pt x="154" y="944"/>
                  </a:lnTo>
                  <a:lnTo>
                    <a:pt x="154" y="968"/>
                  </a:lnTo>
                  <a:cubicBezTo>
                    <a:pt x="154" y="977"/>
                    <a:pt x="147" y="984"/>
                    <a:pt x="137" y="985"/>
                  </a:cubicBezTo>
                  <a:cubicBezTo>
                    <a:pt x="128" y="985"/>
                    <a:pt x="121" y="977"/>
                    <a:pt x="121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1" y="734"/>
                  </a:lnTo>
                  <a:cubicBezTo>
                    <a:pt x="151" y="743"/>
                    <a:pt x="144" y="751"/>
                    <a:pt x="134" y="751"/>
                  </a:cubicBezTo>
                  <a:cubicBezTo>
                    <a:pt x="125" y="752"/>
                    <a:pt x="118" y="744"/>
                    <a:pt x="117" y="735"/>
                  </a:cubicBezTo>
                  <a:close/>
                  <a:moveTo>
                    <a:pt x="107" y="503"/>
                  </a:moveTo>
                  <a:lnTo>
                    <a:pt x="103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1" y="510"/>
                    <a:pt x="134" y="518"/>
                    <a:pt x="125" y="518"/>
                  </a:cubicBezTo>
                  <a:cubicBezTo>
                    <a:pt x="116" y="519"/>
                    <a:pt x="108" y="512"/>
                    <a:pt x="107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8" y="156"/>
                    <a:pt x="87" y="154"/>
                  </a:cubicBezTo>
                  <a:cubicBezTo>
                    <a:pt x="95" y="152"/>
                    <a:pt x="104" y="157"/>
                    <a:pt x="107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2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8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483240" y="4294080"/>
              <a:ext cx="252360" cy="1817640"/>
            </a:xfrm>
            <a:custGeom>
              <a:avLst/>
              <a:gdLst/>
              <a:ahLst/>
              <a:rect l="l" t="t" r="r" b="b"/>
              <a:pathLst>
                <a:path w="252" h="1906">
                  <a:moveTo>
                    <a:pt x="230" y="1904"/>
                  </a:moveTo>
                  <a:lnTo>
                    <a:pt x="225" y="1903"/>
                  </a:lnTo>
                  <a:cubicBezTo>
                    <a:pt x="222" y="1902"/>
                    <a:pt x="220" y="1900"/>
                    <a:pt x="218" y="1899"/>
                  </a:cubicBezTo>
                  <a:lnTo>
                    <a:pt x="214" y="1894"/>
                  </a:lnTo>
                  <a:cubicBezTo>
                    <a:pt x="213" y="1894"/>
                    <a:pt x="212" y="1893"/>
                    <a:pt x="211" y="1892"/>
                  </a:cubicBezTo>
                  <a:lnTo>
                    <a:pt x="207" y="1885"/>
                  </a:lnTo>
                  <a:cubicBezTo>
                    <a:pt x="206" y="1884"/>
                    <a:pt x="206" y="1884"/>
                    <a:pt x="205" y="1883"/>
                  </a:cubicBezTo>
                  <a:lnTo>
                    <a:pt x="201" y="1873"/>
                  </a:lnTo>
                  <a:lnTo>
                    <a:pt x="196" y="1861"/>
                  </a:lnTo>
                  <a:lnTo>
                    <a:pt x="192" y="1846"/>
                  </a:lnTo>
                  <a:lnTo>
                    <a:pt x="187" y="1829"/>
                  </a:lnTo>
                  <a:lnTo>
                    <a:pt x="183" y="1810"/>
                  </a:lnTo>
                  <a:lnTo>
                    <a:pt x="181" y="1802"/>
                  </a:lnTo>
                  <a:cubicBezTo>
                    <a:pt x="179" y="1792"/>
                    <a:pt x="185" y="1784"/>
                    <a:pt x="194" y="1782"/>
                  </a:cubicBezTo>
                  <a:cubicBezTo>
                    <a:pt x="203" y="1780"/>
                    <a:pt x="212" y="1786"/>
                    <a:pt x="214" y="1795"/>
                  </a:cubicBezTo>
                  <a:lnTo>
                    <a:pt x="215" y="1803"/>
                  </a:lnTo>
                  <a:lnTo>
                    <a:pt x="219" y="1821"/>
                  </a:lnTo>
                  <a:lnTo>
                    <a:pt x="223" y="1836"/>
                  </a:lnTo>
                  <a:lnTo>
                    <a:pt x="227" y="1849"/>
                  </a:lnTo>
                  <a:lnTo>
                    <a:pt x="231" y="1860"/>
                  </a:lnTo>
                  <a:lnTo>
                    <a:pt x="236" y="1869"/>
                  </a:lnTo>
                  <a:lnTo>
                    <a:pt x="234" y="1866"/>
                  </a:lnTo>
                  <a:lnTo>
                    <a:pt x="239" y="1873"/>
                  </a:lnTo>
                  <a:lnTo>
                    <a:pt x="236" y="1870"/>
                  </a:lnTo>
                  <a:lnTo>
                    <a:pt x="241" y="1874"/>
                  </a:lnTo>
                  <a:lnTo>
                    <a:pt x="234" y="1870"/>
                  </a:lnTo>
                  <a:lnTo>
                    <a:pt x="238" y="1872"/>
                  </a:lnTo>
                  <a:cubicBezTo>
                    <a:pt x="247" y="1874"/>
                    <a:pt x="252" y="1883"/>
                    <a:pt x="250" y="1892"/>
                  </a:cubicBezTo>
                  <a:cubicBezTo>
                    <a:pt x="248" y="1901"/>
                    <a:pt x="238" y="1906"/>
                    <a:pt x="230" y="1904"/>
                  </a:cubicBezTo>
                  <a:close/>
                  <a:moveTo>
                    <a:pt x="160" y="1669"/>
                  </a:moveTo>
                  <a:lnTo>
                    <a:pt x="159" y="1658"/>
                  </a:lnTo>
                  <a:lnTo>
                    <a:pt x="155" y="1627"/>
                  </a:lnTo>
                  <a:lnTo>
                    <a:pt x="152" y="1595"/>
                  </a:lnTo>
                  <a:lnTo>
                    <a:pt x="149" y="1569"/>
                  </a:lnTo>
                  <a:cubicBezTo>
                    <a:pt x="148" y="1559"/>
                    <a:pt x="155" y="1551"/>
                    <a:pt x="164" y="1550"/>
                  </a:cubicBezTo>
                  <a:cubicBezTo>
                    <a:pt x="173" y="1550"/>
                    <a:pt x="182" y="1556"/>
                    <a:pt x="182" y="1565"/>
                  </a:cubicBezTo>
                  <a:lnTo>
                    <a:pt x="185" y="1591"/>
                  </a:lnTo>
                  <a:lnTo>
                    <a:pt x="188" y="1623"/>
                  </a:lnTo>
                  <a:lnTo>
                    <a:pt x="192" y="1654"/>
                  </a:lnTo>
                  <a:lnTo>
                    <a:pt x="193" y="1664"/>
                  </a:lnTo>
                  <a:cubicBezTo>
                    <a:pt x="194" y="1673"/>
                    <a:pt x="188" y="1682"/>
                    <a:pt x="179" y="1683"/>
                  </a:cubicBezTo>
                  <a:cubicBezTo>
                    <a:pt x="169" y="1684"/>
                    <a:pt x="161" y="1678"/>
                    <a:pt x="160" y="1669"/>
                  </a:cubicBezTo>
                  <a:close/>
                  <a:moveTo>
                    <a:pt x="138" y="1435"/>
                  </a:moveTo>
                  <a:lnTo>
                    <a:pt x="134" y="1373"/>
                  </a:lnTo>
                  <a:lnTo>
                    <a:pt x="132" y="1335"/>
                  </a:lnTo>
                  <a:cubicBezTo>
                    <a:pt x="132" y="1326"/>
                    <a:pt x="139" y="1318"/>
                    <a:pt x="148" y="1318"/>
                  </a:cubicBezTo>
                  <a:cubicBezTo>
                    <a:pt x="157" y="1317"/>
                    <a:pt x="165" y="1324"/>
                    <a:pt x="165" y="1333"/>
                  </a:cubicBezTo>
                  <a:lnTo>
                    <a:pt x="167" y="1371"/>
                  </a:lnTo>
                  <a:lnTo>
                    <a:pt x="172" y="1433"/>
                  </a:lnTo>
                  <a:cubicBezTo>
                    <a:pt x="172" y="1442"/>
                    <a:pt x="165" y="1450"/>
                    <a:pt x="156" y="1451"/>
                  </a:cubicBezTo>
                  <a:cubicBezTo>
                    <a:pt x="147" y="1451"/>
                    <a:pt x="139" y="1444"/>
                    <a:pt x="138" y="1435"/>
                  </a:cubicBezTo>
                  <a:close/>
                  <a:moveTo>
                    <a:pt x="126" y="1202"/>
                  </a:moveTo>
                  <a:lnTo>
                    <a:pt x="124" y="1120"/>
                  </a:lnTo>
                  <a:lnTo>
                    <a:pt x="123" y="1101"/>
                  </a:lnTo>
                  <a:cubicBezTo>
                    <a:pt x="123" y="1092"/>
                    <a:pt x="131" y="1085"/>
                    <a:pt x="140" y="1085"/>
                  </a:cubicBezTo>
                  <a:cubicBezTo>
                    <a:pt x="149" y="1084"/>
                    <a:pt x="157" y="1092"/>
                    <a:pt x="157" y="1101"/>
                  </a:cubicBezTo>
                  <a:lnTo>
                    <a:pt x="157" y="1119"/>
                  </a:lnTo>
                  <a:lnTo>
                    <a:pt x="159" y="1201"/>
                  </a:lnTo>
                  <a:cubicBezTo>
                    <a:pt x="160" y="1210"/>
                    <a:pt x="153" y="1217"/>
                    <a:pt x="143" y="1218"/>
                  </a:cubicBezTo>
                  <a:cubicBezTo>
                    <a:pt x="134" y="1218"/>
                    <a:pt x="126" y="1211"/>
                    <a:pt x="126" y="1202"/>
                  </a:cubicBezTo>
                  <a:close/>
                  <a:moveTo>
                    <a:pt x="122" y="968"/>
                  </a:moveTo>
                  <a:lnTo>
                    <a:pt x="122" y="944"/>
                  </a:lnTo>
                  <a:lnTo>
                    <a:pt x="121" y="868"/>
                  </a:lnTo>
                  <a:cubicBezTo>
                    <a:pt x="120" y="859"/>
                    <a:pt x="128" y="851"/>
                    <a:pt x="137" y="851"/>
                  </a:cubicBezTo>
                  <a:cubicBezTo>
                    <a:pt x="146" y="851"/>
                    <a:pt x="154" y="858"/>
                    <a:pt x="154" y="868"/>
                  </a:cubicBezTo>
                  <a:lnTo>
                    <a:pt x="155" y="944"/>
                  </a:lnTo>
                  <a:lnTo>
                    <a:pt x="155" y="968"/>
                  </a:lnTo>
                  <a:cubicBezTo>
                    <a:pt x="155" y="977"/>
                    <a:pt x="148" y="984"/>
                    <a:pt x="139" y="985"/>
                  </a:cubicBezTo>
                  <a:cubicBezTo>
                    <a:pt x="129" y="985"/>
                    <a:pt x="122" y="977"/>
                    <a:pt x="122" y="968"/>
                  </a:cubicBezTo>
                  <a:close/>
                  <a:moveTo>
                    <a:pt x="118" y="735"/>
                  </a:moveTo>
                  <a:lnTo>
                    <a:pt x="117" y="682"/>
                  </a:lnTo>
                  <a:lnTo>
                    <a:pt x="115" y="635"/>
                  </a:lnTo>
                  <a:cubicBezTo>
                    <a:pt x="114" y="626"/>
                    <a:pt x="122" y="618"/>
                    <a:pt x="131" y="618"/>
                  </a:cubicBezTo>
                  <a:cubicBezTo>
                    <a:pt x="140" y="618"/>
                    <a:pt x="148" y="625"/>
                    <a:pt x="148" y="634"/>
                  </a:cubicBezTo>
                  <a:lnTo>
                    <a:pt x="150" y="681"/>
                  </a:lnTo>
                  <a:lnTo>
                    <a:pt x="152" y="734"/>
                  </a:lnTo>
                  <a:cubicBezTo>
                    <a:pt x="152" y="743"/>
                    <a:pt x="145" y="751"/>
                    <a:pt x="135" y="751"/>
                  </a:cubicBezTo>
                  <a:cubicBezTo>
                    <a:pt x="126" y="751"/>
                    <a:pt x="119" y="744"/>
                    <a:pt x="118" y="735"/>
                  </a:cubicBezTo>
                  <a:close/>
                  <a:moveTo>
                    <a:pt x="108" y="503"/>
                  </a:moveTo>
                  <a:lnTo>
                    <a:pt x="104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6" y="384"/>
                    <a:pt x="134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2" y="510"/>
                    <a:pt x="135" y="517"/>
                    <a:pt x="126" y="518"/>
                  </a:cubicBezTo>
                  <a:cubicBezTo>
                    <a:pt x="117" y="519"/>
                    <a:pt x="109" y="512"/>
                    <a:pt x="108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3" y="174"/>
                  </a:lnTo>
                  <a:cubicBezTo>
                    <a:pt x="71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4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6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20"/>
                  </a:moveTo>
                  <a:lnTo>
                    <a:pt x="42" y="0"/>
                  </a:lnTo>
                  <a:lnTo>
                    <a:pt x="193" y="166"/>
                  </a:lnTo>
                  <a:lnTo>
                    <a:pt x="0" y="22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923080" y="4294080"/>
              <a:ext cx="25056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8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0" y="1893"/>
                    <a:pt x="210" y="1892"/>
                  </a:cubicBezTo>
                  <a:lnTo>
                    <a:pt x="205" y="1885"/>
                  </a:lnTo>
                  <a:cubicBezTo>
                    <a:pt x="205" y="1884"/>
                    <a:pt x="204" y="1884"/>
                    <a:pt x="204" y="1883"/>
                  </a:cubicBezTo>
                  <a:lnTo>
                    <a:pt x="200" y="1873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7" y="1792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60"/>
                  </a:lnTo>
                  <a:lnTo>
                    <a:pt x="234" y="1869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39" y="1874"/>
                  </a:lnTo>
                  <a:lnTo>
                    <a:pt x="232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5"/>
                  </a:cubicBezTo>
                  <a:lnTo>
                    <a:pt x="183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3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6" y="1318"/>
                  </a:cubicBezTo>
                  <a:cubicBezTo>
                    <a:pt x="156" y="1317"/>
                    <a:pt x="163" y="1324"/>
                    <a:pt x="164" y="1333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5" y="1451"/>
                    <a:pt x="137" y="1444"/>
                    <a:pt x="137" y="1435"/>
                  </a:cubicBezTo>
                  <a:close/>
                  <a:moveTo>
                    <a:pt x="125" y="1202"/>
                  </a:moveTo>
                  <a:lnTo>
                    <a:pt x="122" y="1120"/>
                  </a:lnTo>
                  <a:lnTo>
                    <a:pt x="122" y="1101"/>
                  </a:lnTo>
                  <a:cubicBezTo>
                    <a:pt x="122" y="1092"/>
                    <a:pt x="129" y="1085"/>
                    <a:pt x="138" y="1085"/>
                  </a:cubicBezTo>
                  <a:cubicBezTo>
                    <a:pt x="148" y="1084"/>
                    <a:pt x="155" y="1092"/>
                    <a:pt x="155" y="1101"/>
                  </a:cubicBezTo>
                  <a:lnTo>
                    <a:pt x="155" y="1119"/>
                  </a:lnTo>
                  <a:lnTo>
                    <a:pt x="158" y="1201"/>
                  </a:lnTo>
                  <a:cubicBezTo>
                    <a:pt x="158" y="1210"/>
                    <a:pt x="151" y="1217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0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6" y="851"/>
                    <a:pt x="136" y="851"/>
                  </a:cubicBezTo>
                  <a:cubicBezTo>
                    <a:pt x="145" y="851"/>
                    <a:pt x="152" y="858"/>
                    <a:pt x="153" y="868"/>
                  </a:cubicBezTo>
                  <a:lnTo>
                    <a:pt x="153" y="944"/>
                  </a:lnTo>
                  <a:lnTo>
                    <a:pt x="154" y="968"/>
                  </a:lnTo>
                  <a:cubicBezTo>
                    <a:pt x="154" y="977"/>
                    <a:pt x="146" y="984"/>
                    <a:pt x="137" y="985"/>
                  </a:cubicBezTo>
                  <a:cubicBezTo>
                    <a:pt x="128" y="985"/>
                    <a:pt x="120" y="977"/>
                    <a:pt x="120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0" y="734"/>
                  </a:lnTo>
                  <a:cubicBezTo>
                    <a:pt x="151" y="743"/>
                    <a:pt x="143" y="751"/>
                    <a:pt x="134" y="751"/>
                  </a:cubicBezTo>
                  <a:cubicBezTo>
                    <a:pt x="125" y="751"/>
                    <a:pt x="117" y="744"/>
                    <a:pt x="117" y="735"/>
                  </a:cubicBezTo>
                  <a:close/>
                  <a:moveTo>
                    <a:pt x="107" y="502"/>
                  </a:moveTo>
                  <a:lnTo>
                    <a:pt x="103" y="439"/>
                  </a:lnTo>
                  <a:lnTo>
                    <a:pt x="100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6" y="437"/>
                  </a:lnTo>
                  <a:lnTo>
                    <a:pt x="140" y="500"/>
                  </a:lnTo>
                  <a:cubicBezTo>
                    <a:pt x="141" y="510"/>
                    <a:pt x="134" y="517"/>
                    <a:pt x="125" y="518"/>
                  </a:cubicBezTo>
                  <a:cubicBezTo>
                    <a:pt x="116" y="519"/>
                    <a:pt x="108" y="512"/>
                    <a:pt x="107" y="502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3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2" y="267"/>
                  </a:lnTo>
                  <a:cubicBezTo>
                    <a:pt x="123" y="276"/>
                    <a:pt x="116" y="284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7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35140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1" h="1906">
                  <a:moveTo>
                    <a:pt x="228" y="1904"/>
                  </a:moveTo>
                  <a:lnTo>
                    <a:pt x="224" y="1903"/>
                  </a:lnTo>
                  <a:cubicBezTo>
                    <a:pt x="221" y="1902"/>
                    <a:pt x="219" y="1900"/>
                    <a:pt x="217" y="1899"/>
                  </a:cubicBezTo>
                  <a:lnTo>
                    <a:pt x="212" y="1894"/>
                  </a:lnTo>
                  <a:cubicBezTo>
                    <a:pt x="211" y="1894"/>
                    <a:pt x="211" y="1893"/>
                    <a:pt x="210" y="1892"/>
                  </a:cubicBezTo>
                  <a:lnTo>
                    <a:pt x="206" y="1885"/>
                  </a:lnTo>
                  <a:cubicBezTo>
                    <a:pt x="205" y="1885"/>
                    <a:pt x="205" y="1884"/>
                    <a:pt x="204" y="1883"/>
                  </a:cubicBezTo>
                  <a:lnTo>
                    <a:pt x="200" y="1874"/>
                  </a:lnTo>
                  <a:lnTo>
                    <a:pt x="195" y="1861"/>
                  </a:lnTo>
                  <a:lnTo>
                    <a:pt x="190" y="1846"/>
                  </a:lnTo>
                  <a:lnTo>
                    <a:pt x="186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8" y="1793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4" y="1803"/>
                  </a:lnTo>
                  <a:lnTo>
                    <a:pt x="218" y="1821"/>
                  </a:lnTo>
                  <a:lnTo>
                    <a:pt x="222" y="1836"/>
                  </a:lnTo>
                  <a:lnTo>
                    <a:pt x="226" y="1849"/>
                  </a:lnTo>
                  <a:lnTo>
                    <a:pt x="230" y="1859"/>
                  </a:lnTo>
                  <a:lnTo>
                    <a:pt x="234" y="1868"/>
                  </a:lnTo>
                  <a:lnTo>
                    <a:pt x="233" y="1866"/>
                  </a:lnTo>
                  <a:lnTo>
                    <a:pt x="237" y="1873"/>
                  </a:lnTo>
                  <a:lnTo>
                    <a:pt x="235" y="1870"/>
                  </a:lnTo>
                  <a:lnTo>
                    <a:pt x="240" y="1874"/>
                  </a:lnTo>
                  <a:lnTo>
                    <a:pt x="233" y="1870"/>
                  </a:lnTo>
                  <a:lnTo>
                    <a:pt x="237" y="1872"/>
                  </a:lnTo>
                  <a:cubicBezTo>
                    <a:pt x="246" y="1874"/>
                    <a:pt x="251" y="1883"/>
                    <a:pt x="249" y="1892"/>
                  </a:cubicBezTo>
                  <a:cubicBezTo>
                    <a:pt x="246" y="1901"/>
                    <a:pt x="237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4" y="1627"/>
                  </a:lnTo>
                  <a:lnTo>
                    <a:pt x="150" y="1595"/>
                  </a:lnTo>
                  <a:lnTo>
                    <a:pt x="148" y="1569"/>
                  </a:lnTo>
                  <a:cubicBezTo>
                    <a:pt x="147" y="1559"/>
                    <a:pt x="154" y="1551"/>
                    <a:pt x="163" y="1550"/>
                  </a:cubicBezTo>
                  <a:cubicBezTo>
                    <a:pt x="172" y="1550"/>
                    <a:pt x="180" y="1556"/>
                    <a:pt x="181" y="1566"/>
                  </a:cubicBezTo>
                  <a:lnTo>
                    <a:pt x="184" y="1591"/>
                  </a:lnTo>
                  <a:lnTo>
                    <a:pt x="187" y="1623"/>
                  </a:lnTo>
                  <a:lnTo>
                    <a:pt x="190" y="1654"/>
                  </a:lnTo>
                  <a:lnTo>
                    <a:pt x="192" y="1664"/>
                  </a:lnTo>
                  <a:cubicBezTo>
                    <a:pt x="193" y="1674"/>
                    <a:pt x="186" y="1682"/>
                    <a:pt x="177" y="1683"/>
                  </a:cubicBezTo>
                  <a:cubicBezTo>
                    <a:pt x="168" y="1684"/>
                    <a:pt x="160" y="1678"/>
                    <a:pt x="158" y="1669"/>
                  </a:cubicBezTo>
                  <a:close/>
                  <a:moveTo>
                    <a:pt x="137" y="1435"/>
                  </a:moveTo>
                  <a:lnTo>
                    <a:pt x="133" y="1373"/>
                  </a:lnTo>
                  <a:lnTo>
                    <a:pt x="131" y="1335"/>
                  </a:lnTo>
                  <a:cubicBezTo>
                    <a:pt x="130" y="1326"/>
                    <a:pt x="137" y="1318"/>
                    <a:pt x="147" y="1318"/>
                  </a:cubicBezTo>
                  <a:cubicBezTo>
                    <a:pt x="156" y="1317"/>
                    <a:pt x="164" y="1324"/>
                    <a:pt x="164" y="1334"/>
                  </a:cubicBezTo>
                  <a:lnTo>
                    <a:pt x="166" y="1371"/>
                  </a:lnTo>
                  <a:lnTo>
                    <a:pt x="170" y="1433"/>
                  </a:lnTo>
                  <a:cubicBezTo>
                    <a:pt x="171" y="1442"/>
                    <a:pt x="164" y="1450"/>
                    <a:pt x="155" y="1451"/>
                  </a:cubicBezTo>
                  <a:cubicBezTo>
                    <a:pt x="146" y="1451"/>
                    <a:pt x="138" y="1445"/>
                    <a:pt x="137" y="1435"/>
                  </a:cubicBezTo>
                  <a:close/>
                  <a:moveTo>
                    <a:pt x="125" y="1202"/>
                  </a:moveTo>
                  <a:lnTo>
                    <a:pt x="123" y="1120"/>
                  </a:lnTo>
                  <a:lnTo>
                    <a:pt x="122" y="1101"/>
                  </a:lnTo>
                  <a:cubicBezTo>
                    <a:pt x="122" y="1092"/>
                    <a:pt x="130" y="1085"/>
                    <a:pt x="139" y="1085"/>
                  </a:cubicBezTo>
                  <a:cubicBezTo>
                    <a:pt x="148" y="1084"/>
                    <a:pt x="156" y="1092"/>
                    <a:pt x="156" y="1101"/>
                  </a:cubicBezTo>
                  <a:lnTo>
                    <a:pt x="156" y="1119"/>
                  </a:lnTo>
                  <a:lnTo>
                    <a:pt x="158" y="1201"/>
                  </a:lnTo>
                  <a:cubicBezTo>
                    <a:pt x="158" y="1210"/>
                    <a:pt x="151" y="1218"/>
                    <a:pt x="142" y="1218"/>
                  </a:cubicBezTo>
                  <a:cubicBezTo>
                    <a:pt x="133" y="1218"/>
                    <a:pt x="125" y="1211"/>
                    <a:pt x="125" y="1202"/>
                  </a:cubicBezTo>
                  <a:close/>
                  <a:moveTo>
                    <a:pt x="121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7" y="851"/>
                    <a:pt x="136" y="851"/>
                  </a:cubicBezTo>
                  <a:cubicBezTo>
                    <a:pt x="145" y="851"/>
                    <a:pt x="153" y="859"/>
                    <a:pt x="153" y="868"/>
                  </a:cubicBezTo>
                  <a:lnTo>
                    <a:pt x="154" y="944"/>
                  </a:lnTo>
                  <a:lnTo>
                    <a:pt x="154" y="968"/>
                  </a:lnTo>
                  <a:cubicBezTo>
                    <a:pt x="154" y="977"/>
                    <a:pt x="147" y="984"/>
                    <a:pt x="137" y="985"/>
                  </a:cubicBezTo>
                  <a:cubicBezTo>
                    <a:pt x="128" y="985"/>
                    <a:pt x="121" y="977"/>
                    <a:pt x="121" y="968"/>
                  </a:cubicBezTo>
                  <a:close/>
                  <a:moveTo>
                    <a:pt x="117" y="735"/>
                  </a:moveTo>
                  <a:lnTo>
                    <a:pt x="116" y="682"/>
                  </a:lnTo>
                  <a:lnTo>
                    <a:pt x="114" y="635"/>
                  </a:lnTo>
                  <a:cubicBezTo>
                    <a:pt x="113" y="626"/>
                    <a:pt x="121" y="618"/>
                    <a:pt x="130" y="618"/>
                  </a:cubicBezTo>
                  <a:cubicBezTo>
                    <a:pt x="139" y="618"/>
                    <a:pt x="147" y="625"/>
                    <a:pt x="147" y="634"/>
                  </a:cubicBezTo>
                  <a:lnTo>
                    <a:pt x="149" y="681"/>
                  </a:lnTo>
                  <a:lnTo>
                    <a:pt x="151" y="734"/>
                  </a:lnTo>
                  <a:cubicBezTo>
                    <a:pt x="151" y="743"/>
                    <a:pt x="144" y="751"/>
                    <a:pt x="134" y="751"/>
                  </a:cubicBezTo>
                  <a:cubicBezTo>
                    <a:pt x="125" y="752"/>
                    <a:pt x="118" y="744"/>
                    <a:pt x="117" y="735"/>
                  </a:cubicBezTo>
                  <a:close/>
                  <a:moveTo>
                    <a:pt x="107" y="503"/>
                  </a:moveTo>
                  <a:lnTo>
                    <a:pt x="103" y="439"/>
                  </a:lnTo>
                  <a:lnTo>
                    <a:pt x="101" y="403"/>
                  </a:lnTo>
                  <a:cubicBezTo>
                    <a:pt x="100" y="394"/>
                    <a:pt x="107" y="386"/>
                    <a:pt x="116" y="385"/>
                  </a:cubicBezTo>
                  <a:cubicBezTo>
                    <a:pt x="125" y="384"/>
                    <a:pt x="133" y="391"/>
                    <a:pt x="134" y="400"/>
                  </a:cubicBezTo>
                  <a:lnTo>
                    <a:pt x="137" y="437"/>
                  </a:lnTo>
                  <a:lnTo>
                    <a:pt x="141" y="500"/>
                  </a:lnTo>
                  <a:cubicBezTo>
                    <a:pt x="141" y="510"/>
                    <a:pt x="134" y="518"/>
                    <a:pt x="125" y="518"/>
                  </a:cubicBezTo>
                  <a:cubicBezTo>
                    <a:pt x="116" y="519"/>
                    <a:pt x="108" y="512"/>
                    <a:pt x="107" y="503"/>
                  </a:cubicBezTo>
                  <a:close/>
                  <a:moveTo>
                    <a:pt x="89" y="271"/>
                  </a:moveTo>
                  <a:lnTo>
                    <a:pt x="88" y="264"/>
                  </a:lnTo>
                  <a:lnTo>
                    <a:pt x="85" y="234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2" y="165"/>
                    <a:pt x="78" y="156"/>
                    <a:pt x="87" y="154"/>
                  </a:cubicBezTo>
                  <a:cubicBezTo>
                    <a:pt x="95" y="152"/>
                    <a:pt x="104" y="157"/>
                    <a:pt x="107" y="166"/>
                  </a:cubicBezTo>
                  <a:lnTo>
                    <a:pt x="115" y="200"/>
                  </a:lnTo>
                  <a:lnTo>
                    <a:pt x="118" y="230"/>
                  </a:lnTo>
                  <a:lnTo>
                    <a:pt x="122" y="261"/>
                  </a:lnTo>
                  <a:lnTo>
                    <a:pt x="122" y="267"/>
                  </a:lnTo>
                  <a:cubicBezTo>
                    <a:pt x="123" y="276"/>
                    <a:pt x="116" y="285"/>
                    <a:pt x="107" y="285"/>
                  </a:cubicBezTo>
                  <a:cubicBezTo>
                    <a:pt x="98" y="286"/>
                    <a:pt x="90" y="280"/>
                    <a:pt x="89" y="271"/>
                  </a:cubicBezTo>
                  <a:close/>
                  <a:moveTo>
                    <a:pt x="0" y="219"/>
                  </a:moveTo>
                  <a:lnTo>
                    <a:pt x="45" y="0"/>
                  </a:lnTo>
                  <a:lnTo>
                    <a:pt x="193" y="168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784760" y="4294080"/>
              <a:ext cx="250920" cy="1817640"/>
            </a:xfrm>
            <a:custGeom>
              <a:avLst/>
              <a:gdLst/>
              <a:ahLst/>
              <a:rect l="l" t="t" r="r" b="b"/>
              <a:pathLst>
                <a:path w="250" h="1906">
                  <a:moveTo>
                    <a:pt x="228" y="1904"/>
                  </a:moveTo>
                  <a:lnTo>
                    <a:pt x="223" y="1903"/>
                  </a:lnTo>
                  <a:cubicBezTo>
                    <a:pt x="220" y="1902"/>
                    <a:pt x="218" y="1900"/>
                    <a:pt x="216" y="1899"/>
                  </a:cubicBezTo>
                  <a:lnTo>
                    <a:pt x="212" y="1894"/>
                  </a:lnTo>
                  <a:cubicBezTo>
                    <a:pt x="211" y="1894"/>
                    <a:pt x="210" y="1893"/>
                    <a:pt x="209" y="1892"/>
                  </a:cubicBezTo>
                  <a:lnTo>
                    <a:pt x="205" y="1885"/>
                  </a:lnTo>
                  <a:cubicBezTo>
                    <a:pt x="204" y="1884"/>
                    <a:pt x="204" y="1884"/>
                    <a:pt x="203" y="1883"/>
                  </a:cubicBezTo>
                  <a:lnTo>
                    <a:pt x="199" y="1873"/>
                  </a:lnTo>
                  <a:lnTo>
                    <a:pt x="194" y="1861"/>
                  </a:lnTo>
                  <a:lnTo>
                    <a:pt x="190" y="1846"/>
                  </a:lnTo>
                  <a:lnTo>
                    <a:pt x="185" y="1829"/>
                  </a:lnTo>
                  <a:lnTo>
                    <a:pt x="181" y="1810"/>
                  </a:lnTo>
                  <a:lnTo>
                    <a:pt x="179" y="1802"/>
                  </a:lnTo>
                  <a:cubicBezTo>
                    <a:pt x="177" y="1792"/>
                    <a:pt x="183" y="1784"/>
                    <a:pt x="192" y="1782"/>
                  </a:cubicBezTo>
                  <a:cubicBezTo>
                    <a:pt x="201" y="1780"/>
                    <a:pt x="210" y="1786"/>
                    <a:pt x="212" y="1795"/>
                  </a:cubicBezTo>
                  <a:lnTo>
                    <a:pt x="213" y="1803"/>
                  </a:lnTo>
                  <a:lnTo>
                    <a:pt x="217" y="1821"/>
                  </a:lnTo>
                  <a:lnTo>
                    <a:pt x="221" y="1836"/>
                  </a:lnTo>
                  <a:lnTo>
                    <a:pt x="225" y="1849"/>
                  </a:lnTo>
                  <a:lnTo>
                    <a:pt x="229" y="1860"/>
                  </a:lnTo>
                  <a:lnTo>
                    <a:pt x="234" y="1869"/>
                  </a:lnTo>
                  <a:lnTo>
                    <a:pt x="232" y="1866"/>
                  </a:lnTo>
                  <a:lnTo>
                    <a:pt x="237" y="1873"/>
                  </a:lnTo>
                  <a:lnTo>
                    <a:pt x="234" y="1870"/>
                  </a:lnTo>
                  <a:lnTo>
                    <a:pt x="239" y="1874"/>
                  </a:lnTo>
                  <a:lnTo>
                    <a:pt x="232" y="1870"/>
                  </a:lnTo>
                  <a:lnTo>
                    <a:pt x="236" y="1872"/>
                  </a:lnTo>
                  <a:cubicBezTo>
                    <a:pt x="245" y="1874"/>
                    <a:pt x="250" y="1883"/>
                    <a:pt x="248" y="1892"/>
                  </a:cubicBezTo>
                  <a:cubicBezTo>
                    <a:pt x="246" y="1901"/>
                    <a:pt x="236" y="1906"/>
                    <a:pt x="228" y="1904"/>
                  </a:cubicBezTo>
                  <a:close/>
                  <a:moveTo>
                    <a:pt x="158" y="1669"/>
                  </a:moveTo>
                  <a:lnTo>
                    <a:pt x="157" y="1658"/>
                  </a:lnTo>
                  <a:lnTo>
                    <a:pt x="153" y="1627"/>
                  </a:lnTo>
                  <a:lnTo>
                    <a:pt x="150" y="1595"/>
                  </a:lnTo>
                  <a:lnTo>
                    <a:pt x="147" y="1569"/>
                  </a:lnTo>
                  <a:cubicBezTo>
                    <a:pt x="146" y="1559"/>
                    <a:pt x="153" y="1551"/>
                    <a:pt x="162" y="1550"/>
                  </a:cubicBezTo>
                  <a:cubicBezTo>
                    <a:pt x="171" y="1550"/>
                    <a:pt x="180" y="1556"/>
                    <a:pt x="180" y="1565"/>
                  </a:cubicBezTo>
                  <a:lnTo>
                    <a:pt x="183" y="1591"/>
                  </a:lnTo>
                  <a:lnTo>
                    <a:pt x="186" y="1623"/>
                  </a:lnTo>
                  <a:lnTo>
                    <a:pt x="190" y="1654"/>
                  </a:lnTo>
                  <a:lnTo>
                    <a:pt x="191" y="1664"/>
                  </a:lnTo>
                  <a:cubicBezTo>
                    <a:pt x="192" y="1673"/>
                    <a:pt x="186" y="1682"/>
                    <a:pt x="177" y="1683"/>
                  </a:cubicBezTo>
                  <a:cubicBezTo>
                    <a:pt x="167" y="1684"/>
                    <a:pt x="159" y="1678"/>
                    <a:pt x="158" y="1669"/>
                  </a:cubicBezTo>
                  <a:close/>
                  <a:moveTo>
                    <a:pt x="136" y="1435"/>
                  </a:moveTo>
                  <a:lnTo>
                    <a:pt x="132" y="1373"/>
                  </a:lnTo>
                  <a:lnTo>
                    <a:pt x="130" y="1335"/>
                  </a:lnTo>
                  <a:cubicBezTo>
                    <a:pt x="130" y="1326"/>
                    <a:pt x="137" y="1318"/>
                    <a:pt x="146" y="1318"/>
                  </a:cubicBezTo>
                  <a:cubicBezTo>
                    <a:pt x="155" y="1317"/>
                    <a:pt x="163" y="1324"/>
                    <a:pt x="163" y="1333"/>
                  </a:cubicBezTo>
                  <a:lnTo>
                    <a:pt x="165" y="1371"/>
                  </a:lnTo>
                  <a:lnTo>
                    <a:pt x="170" y="1433"/>
                  </a:lnTo>
                  <a:cubicBezTo>
                    <a:pt x="170" y="1442"/>
                    <a:pt x="163" y="1450"/>
                    <a:pt x="154" y="1451"/>
                  </a:cubicBezTo>
                  <a:cubicBezTo>
                    <a:pt x="145" y="1451"/>
                    <a:pt x="137" y="1444"/>
                    <a:pt x="136" y="1435"/>
                  </a:cubicBezTo>
                  <a:close/>
                  <a:moveTo>
                    <a:pt x="124" y="1202"/>
                  </a:moveTo>
                  <a:lnTo>
                    <a:pt x="122" y="1120"/>
                  </a:lnTo>
                  <a:lnTo>
                    <a:pt x="121" y="1101"/>
                  </a:lnTo>
                  <a:cubicBezTo>
                    <a:pt x="121" y="1092"/>
                    <a:pt x="129" y="1085"/>
                    <a:pt x="138" y="1085"/>
                  </a:cubicBezTo>
                  <a:cubicBezTo>
                    <a:pt x="147" y="1084"/>
                    <a:pt x="155" y="1092"/>
                    <a:pt x="155" y="1101"/>
                  </a:cubicBezTo>
                  <a:lnTo>
                    <a:pt x="155" y="1119"/>
                  </a:lnTo>
                  <a:lnTo>
                    <a:pt x="157" y="1201"/>
                  </a:lnTo>
                  <a:cubicBezTo>
                    <a:pt x="158" y="1210"/>
                    <a:pt x="151" y="1217"/>
                    <a:pt x="141" y="1218"/>
                  </a:cubicBezTo>
                  <a:cubicBezTo>
                    <a:pt x="132" y="1218"/>
                    <a:pt x="124" y="1211"/>
                    <a:pt x="124" y="1202"/>
                  </a:cubicBezTo>
                  <a:close/>
                  <a:moveTo>
                    <a:pt x="120" y="968"/>
                  </a:moveTo>
                  <a:lnTo>
                    <a:pt x="120" y="944"/>
                  </a:lnTo>
                  <a:lnTo>
                    <a:pt x="119" y="868"/>
                  </a:lnTo>
                  <a:cubicBezTo>
                    <a:pt x="119" y="859"/>
                    <a:pt x="126" y="851"/>
                    <a:pt x="135" y="851"/>
                  </a:cubicBezTo>
                  <a:cubicBezTo>
                    <a:pt x="144" y="851"/>
                    <a:pt x="152" y="858"/>
                    <a:pt x="152" y="868"/>
                  </a:cubicBezTo>
                  <a:lnTo>
                    <a:pt x="153" y="944"/>
                  </a:lnTo>
                  <a:lnTo>
                    <a:pt x="153" y="968"/>
                  </a:lnTo>
                  <a:cubicBezTo>
                    <a:pt x="153" y="977"/>
                    <a:pt x="146" y="984"/>
                    <a:pt x="137" y="985"/>
                  </a:cubicBezTo>
                  <a:cubicBezTo>
                    <a:pt x="127" y="985"/>
                    <a:pt x="120" y="977"/>
                    <a:pt x="120" y="968"/>
                  </a:cubicBezTo>
                  <a:close/>
                  <a:moveTo>
                    <a:pt x="117" y="735"/>
                  </a:moveTo>
                  <a:lnTo>
                    <a:pt x="115" y="682"/>
                  </a:lnTo>
                  <a:lnTo>
                    <a:pt x="113" y="635"/>
                  </a:lnTo>
                  <a:cubicBezTo>
                    <a:pt x="113" y="626"/>
                    <a:pt x="120" y="618"/>
                    <a:pt x="129" y="618"/>
                  </a:cubicBezTo>
                  <a:cubicBezTo>
                    <a:pt x="138" y="618"/>
                    <a:pt x="146" y="625"/>
                    <a:pt x="147" y="634"/>
                  </a:cubicBezTo>
                  <a:lnTo>
                    <a:pt x="148" y="681"/>
                  </a:lnTo>
                  <a:lnTo>
                    <a:pt x="150" y="734"/>
                  </a:lnTo>
                  <a:cubicBezTo>
                    <a:pt x="150" y="743"/>
                    <a:pt x="143" y="751"/>
                    <a:pt x="134" y="751"/>
                  </a:cubicBezTo>
                  <a:cubicBezTo>
                    <a:pt x="125" y="751"/>
                    <a:pt x="117" y="744"/>
                    <a:pt x="117" y="735"/>
                  </a:cubicBezTo>
                  <a:close/>
                  <a:moveTo>
                    <a:pt x="107" y="502"/>
                  </a:moveTo>
                  <a:lnTo>
                    <a:pt x="103" y="439"/>
                  </a:lnTo>
                  <a:lnTo>
                    <a:pt x="100" y="403"/>
                  </a:lnTo>
                  <a:cubicBezTo>
                    <a:pt x="99" y="394"/>
                    <a:pt x="106" y="386"/>
                    <a:pt x="115" y="385"/>
                  </a:cubicBezTo>
                  <a:cubicBezTo>
                    <a:pt x="124" y="384"/>
                    <a:pt x="132" y="391"/>
                    <a:pt x="133" y="400"/>
                  </a:cubicBezTo>
                  <a:lnTo>
                    <a:pt x="136" y="437"/>
                  </a:lnTo>
                  <a:lnTo>
                    <a:pt x="140" y="500"/>
                  </a:lnTo>
                  <a:cubicBezTo>
                    <a:pt x="141" y="510"/>
                    <a:pt x="134" y="517"/>
                    <a:pt x="124" y="518"/>
                  </a:cubicBezTo>
                  <a:cubicBezTo>
                    <a:pt x="115" y="519"/>
                    <a:pt x="107" y="512"/>
                    <a:pt x="107" y="502"/>
                  </a:cubicBezTo>
                  <a:close/>
                  <a:moveTo>
                    <a:pt x="88" y="271"/>
                  </a:moveTo>
                  <a:lnTo>
                    <a:pt x="88" y="264"/>
                  </a:lnTo>
                  <a:lnTo>
                    <a:pt x="84" y="233"/>
                  </a:lnTo>
                  <a:lnTo>
                    <a:pt x="81" y="204"/>
                  </a:lnTo>
                  <a:lnTo>
                    <a:pt x="74" y="174"/>
                  </a:lnTo>
                  <a:cubicBezTo>
                    <a:pt x="71" y="165"/>
                    <a:pt x="77" y="156"/>
                    <a:pt x="86" y="154"/>
                  </a:cubicBezTo>
                  <a:cubicBezTo>
                    <a:pt x="95" y="152"/>
                    <a:pt x="104" y="157"/>
                    <a:pt x="106" y="166"/>
                  </a:cubicBezTo>
                  <a:lnTo>
                    <a:pt x="114" y="200"/>
                  </a:lnTo>
                  <a:lnTo>
                    <a:pt x="118" y="230"/>
                  </a:lnTo>
                  <a:lnTo>
                    <a:pt x="121" y="261"/>
                  </a:lnTo>
                  <a:lnTo>
                    <a:pt x="121" y="267"/>
                  </a:lnTo>
                  <a:cubicBezTo>
                    <a:pt x="122" y="276"/>
                    <a:pt x="116" y="284"/>
                    <a:pt x="107" y="285"/>
                  </a:cubicBezTo>
                  <a:cubicBezTo>
                    <a:pt x="98" y="286"/>
                    <a:pt x="89" y="280"/>
                    <a:pt x="88" y="271"/>
                  </a:cubicBezTo>
                  <a:close/>
                  <a:moveTo>
                    <a:pt x="0" y="219"/>
                  </a:moveTo>
                  <a:lnTo>
                    <a:pt x="44" y="0"/>
                  </a:lnTo>
                  <a:lnTo>
                    <a:pt x="193" y="167"/>
                  </a:lnTo>
                  <a:lnTo>
                    <a:pt x="0" y="219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23480" y="4133880"/>
              <a:ext cx="1774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64000" y="4038480"/>
              <a:ext cx="114516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PT" sz="2500" spc="-1" strike="noStrike">
                  <a:solidFill>
                    <a:srgbClr val="000000"/>
                  </a:solidFill>
                  <a:latin typeface="Arial"/>
                </a:rPr>
                <a:t>(vai um)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55400" y="521640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55400" y="5937120"/>
              <a:ext cx="18504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25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2B3-5BA4-4A08-A7C7-4330DBD735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0F3D58-AF26-4E22-96DC-C895A4193336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os, exceto bi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másc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7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1128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44" name=""/>
          <p:cNvGrpSpPr/>
          <p:nvPr/>
        </p:nvGrpSpPr>
        <p:grpSpPr>
          <a:xfrm>
            <a:off x="1511280" y="2708280"/>
            <a:ext cx="6121440" cy="449280"/>
            <a:chOff x="1511280" y="2708280"/>
            <a:chExt cx="6121440" cy="449280"/>
          </a:xfrm>
        </p:grpSpPr>
        <p:sp>
          <p:nvSpPr>
            <p:cNvPr id="1145" name=""/>
            <p:cNvSpPr/>
            <p:nvPr/>
          </p:nvSpPr>
          <p:spPr>
            <a:xfrm>
              <a:off x="511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47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83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55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91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27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75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19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187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223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259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31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67200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03236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151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295128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1" name=""/>
          <p:cNvGrpSpPr/>
          <p:nvPr/>
        </p:nvGrpSpPr>
        <p:grpSpPr>
          <a:xfrm>
            <a:off x="1511280" y="3429000"/>
            <a:ext cx="6121440" cy="449280"/>
            <a:chOff x="1511280" y="3429000"/>
            <a:chExt cx="6121440" cy="449280"/>
          </a:xfrm>
        </p:grpSpPr>
        <p:sp>
          <p:nvSpPr>
            <p:cNvPr id="1162" name=""/>
            <p:cNvSpPr/>
            <p:nvPr/>
          </p:nvSpPr>
          <p:spPr>
            <a:xfrm>
              <a:off x="47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51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4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58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19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55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91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27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51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87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223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259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95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331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67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0323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975960" y="441180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Representação numér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971640" y="4941720"/>
            <a:ext cx="77407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decimal: 11111111 1101111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655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hex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FFDF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C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xFF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49309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21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01200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3" name=""/>
          <p:cNvGrpSpPr/>
          <p:nvPr/>
        </p:nvGrpSpPr>
        <p:grpSpPr>
          <a:xfrm>
            <a:off x="4751280" y="3879360"/>
            <a:ext cx="2880000" cy="489960"/>
            <a:chOff x="4751280" y="3879360"/>
            <a:chExt cx="2880000" cy="489960"/>
          </a:xfrm>
        </p:grpSpPr>
        <p:sp>
          <p:nvSpPr>
            <p:cNvPr id="1184" name=""/>
            <p:cNvSpPr/>
            <p:nvPr/>
          </p:nvSpPr>
          <p:spPr>
            <a:xfrm rot="16200000">
              <a:off x="538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 rot="16200000">
              <a:off x="682056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29128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67309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8" name=""/>
          <p:cNvGrpSpPr/>
          <p:nvPr/>
        </p:nvGrpSpPr>
        <p:grpSpPr>
          <a:xfrm>
            <a:off x="1512720" y="3879360"/>
            <a:ext cx="2880000" cy="489960"/>
            <a:chOff x="1512720" y="3879360"/>
            <a:chExt cx="2880000" cy="489960"/>
          </a:xfrm>
        </p:grpSpPr>
        <p:sp>
          <p:nvSpPr>
            <p:cNvPr id="1189" name=""/>
            <p:cNvSpPr/>
            <p:nvPr/>
          </p:nvSpPr>
          <p:spPr>
            <a:xfrm rot="16200000">
              <a:off x="214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 rot="16200000">
              <a:off x="358200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05272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349236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3" name=""/>
          <p:cNvSpPr/>
          <p:nvPr/>
        </p:nvSpPr>
        <p:spPr>
          <a:xfrm>
            <a:off x="313200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38512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37236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21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349236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52927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77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67327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0912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745164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5092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9236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983D-4375-4B1B-B3CF-E20504DFED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18837D-5135-4985-B9C5-A3FA378DBB1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500"/>
                            </p:stCondLst>
                            <p:childTnLst>
                              <p:par>
                                <p:cTn id="4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odos, exceto bi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de máscar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2320920" y="2708280"/>
            <a:ext cx="6121440" cy="449280"/>
            <a:chOff x="2320920" y="2708280"/>
            <a:chExt cx="6121440" cy="449280"/>
          </a:xfrm>
        </p:grpSpPr>
        <p:sp>
          <p:nvSpPr>
            <p:cNvPr id="1211" name=""/>
            <p:cNvSpPr/>
            <p:nvPr/>
          </p:nvSpPr>
          <p:spPr>
            <a:xfrm>
              <a:off x="556092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592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28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64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0092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36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72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808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232092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268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304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40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376092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12128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8164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842000" y="270828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7" name=""/>
          <p:cNvGrpSpPr/>
          <p:nvPr/>
        </p:nvGrpSpPr>
        <p:grpSpPr>
          <a:xfrm>
            <a:off x="2320920" y="2708280"/>
            <a:ext cx="6121440" cy="449280"/>
            <a:chOff x="2320920" y="2708280"/>
            <a:chExt cx="6121440" cy="449280"/>
          </a:xfrm>
        </p:grpSpPr>
        <p:sp>
          <p:nvSpPr>
            <p:cNvPr id="1228" name=""/>
            <p:cNvSpPr/>
            <p:nvPr/>
          </p:nvSpPr>
          <p:spPr>
            <a:xfrm>
              <a:off x="592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281640" y="270828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4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36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72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808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56092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00092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68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304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340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12128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8164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84200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32092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760920" y="270828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4" name=""/>
          <p:cNvGrpSpPr/>
          <p:nvPr/>
        </p:nvGrpSpPr>
        <p:grpSpPr>
          <a:xfrm>
            <a:off x="2320920" y="3429000"/>
            <a:ext cx="6121440" cy="449280"/>
            <a:chOff x="2320920" y="3429000"/>
            <a:chExt cx="6121440" cy="449280"/>
          </a:xfrm>
        </p:grpSpPr>
        <p:sp>
          <p:nvSpPr>
            <p:cNvPr id="1245" name=""/>
            <p:cNvSpPr/>
            <p:nvPr/>
          </p:nvSpPr>
          <p:spPr>
            <a:xfrm>
              <a:off x="556092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92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28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664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00092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6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72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808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232092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268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304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340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376092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1212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4816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8420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1" name=""/>
          <p:cNvGrpSpPr/>
          <p:nvPr/>
        </p:nvGrpSpPr>
        <p:grpSpPr>
          <a:xfrm>
            <a:off x="5560920" y="3879360"/>
            <a:ext cx="2879280" cy="489960"/>
            <a:chOff x="5560920" y="3879360"/>
            <a:chExt cx="2879280" cy="489960"/>
          </a:xfrm>
        </p:grpSpPr>
        <p:sp>
          <p:nvSpPr>
            <p:cNvPr id="1262" name=""/>
            <p:cNvSpPr/>
            <p:nvPr/>
          </p:nvSpPr>
          <p:spPr>
            <a:xfrm rot="16200000">
              <a:off x="6190200" y="3250080"/>
              <a:ext cx="181080" cy="14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 rot="16200000">
              <a:off x="7629840" y="3250080"/>
              <a:ext cx="181080" cy="14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100560" y="397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540200" y="3970440"/>
              <a:ext cx="36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6" name=""/>
          <p:cNvGrpSpPr/>
          <p:nvPr/>
        </p:nvGrpSpPr>
        <p:grpSpPr>
          <a:xfrm>
            <a:off x="2322360" y="3879360"/>
            <a:ext cx="2880000" cy="489960"/>
            <a:chOff x="2322360" y="3879360"/>
            <a:chExt cx="2880000" cy="489960"/>
          </a:xfrm>
        </p:grpSpPr>
        <p:sp>
          <p:nvSpPr>
            <p:cNvPr id="1267" name=""/>
            <p:cNvSpPr/>
            <p:nvPr/>
          </p:nvSpPr>
          <p:spPr>
            <a:xfrm rot="16200000">
              <a:off x="295164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rot="16200000">
              <a:off x="4391640" y="3249720"/>
              <a:ext cx="181080" cy="144000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86236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02000" y="397044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6461280" y="3068640"/>
            <a:ext cx="0" cy="36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520920" y="4676760"/>
            <a:ext cx="164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~ 0x00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= 0xFFD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3" name=""/>
          <p:cNvGrpSpPr/>
          <p:nvPr/>
        </p:nvGrpSpPr>
        <p:grpSpPr>
          <a:xfrm>
            <a:off x="2320920" y="4599000"/>
            <a:ext cx="6121440" cy="449280"/>
            <a:chOff x="2320920" y="4599000"/>
            <a:chExt cx="6121440" cy="449280"/>
          </a:xfrm>
        </p:grpSpPr>
        <p:sp>
          <p:nvSpPr>
            <p:cNvPr id="1274" name=""/>
            <p:cNvSpPr/>
            <p:nvPr/>
          </p:nvSpPr>
          <p:spPr>
            <a:xfrm>
              <a:off x="556092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592128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28164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64200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00092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36128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772164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808200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32092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68128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304164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0200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76092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12128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48164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842000" y="459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0" name=""/>
          <p:cNvGrpSpPr/>
          <p:nvPr/>
        </p:nvGrpSpPr>
        <p:grpSpPr>
          <a:xfrm>
            <a:off x="2320920" y="5138640"/>
            <a:ext cx="6121440" cy="449280"/>
            <a:chOff x="2320920" y="5138640"/>
            <a:chExt cx="6121440" cy="449280"/>
          </a:xfrm>
        </p:grpSpPr>
        <p:sp>
          <p:nvSpPr>
            <p:cNvPr id="1291" name=""/>
            <p:cNvSpPr/>
            <p:nvPr/>
          </p:nvSpPr>
          <p:spPr>
            <a:xfrm>
              <a:off x="592128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6281640" y="5138640"/>
              <a:ext cx="360360" cy="449280"/>
            </a:xfrm>
            <a:prstGeom prst="rect">
              <a:avLst/>
            </a:prstGeom>
            <a:solidFill>
              <a:srgbClr val="0066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64200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36128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72164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8200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56092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00092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68128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304164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340200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12128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48164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84200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232092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760920" y="5138640"/>
              <a:ext cx="360360" cy="44928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E717-75C7-44AF-804B-F2435DF6F37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FFE0A-2091-4A5A-967E-CDE031DF0B9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1500"/>
                            </p:stCondLst>
                            <p:childTnLst>
                              <p:par>
                                <p:cTn id="4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2000"/>
                            </p:stCondLst>
                            <p:childTnLst>
                              <p:par>
                                <p:cTn id="4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di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E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r com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Verificar valor de um b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1" name=""/>
          <p:cNvGrpSpPr/>
          <p:nvPr/>
        </p:nvGrpSpPr>
        <p:grpSpPr>
          <a:xfrm>
            <a:off x="5291280" y="3429000"/>
            <a:ext cx="2880720" cy="449280"/>
            <a:chOff x="5291280" y="3429000"/>
            <a:chExt cx="2880720" cy="449280"/>
          </a:xfrm>
        </p:grpSpPr>
        <p:sp>
          <p:nvSpPr>
            <p:cNvPr id="1312" name=""/>
            <p:cNvSpPr/>
            <p:nvPr/>
          </p:nvSpPr>
          <p:spPr>
            <a:xfrm>
              <a:off x="529128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65128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01164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637200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73092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09128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45164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812000" y="342900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5292720" y="4330800"/>
            <a:ext cx="2881440" cy="449280"/>
            <a:chOff x="5292720" y="4330800"/>
            <a:chExt cx="2881440" cy="449280"/>
          </a:xfrm>
        </p:grpSpPr>
        <p:sp>
          <p:nvSpPr>
            <p:cNvPr id="1321" name=""/>
            <p:cNvSpPr/>
            <p:nvPr/>
          </p:nvSpPr>
          <p:spPr>
            <a:xfrm>
              <a:off x="56530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013440" y="43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3738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930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45344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8138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2927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7327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701640" y="5229360"/>
            <a:ext cx="2881440" cy="940320"/>
            <a:chOff x="701640" y="5229360"/>
            <a:chExt cx="2881440" cy="940320"/>
          </a:xfrm>
        </p:grpSpPr>
        <p:grpSp>
          <p:nvGrpSpPr>
            <p:cNvPr id="1330" name=""/>
            <p:cNvGrpSpPr/>
            <p:nvPr/>
          </p:nvGrpSpPr>
          <p:grpSpPr>
            <a:xfrm>
              <a:off x="701640" y="5229360"/>
              <a:ext cx="2881440" cy="449280"/>
              <a:chOff x="701640" y="5229360"/>
              <a:chExt cx="2881440" cy="449280"/>
            </a:xfrm>
          </p:grpSpPr>
          <p:sp>
            <p:nvSpPr>
              <p:cNvPr id="1331" name=""/>
              <p:cNvSpPr/>
              <p:nvPr/>
            </p:nvSpPr>
            <p:spPr>
              <a:xfrm>
                <a:off x="70164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106200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142236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178272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214164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250200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286236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3222720" y="522936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9" name=""/>
            <p:cNvGrpSpPr/>
            <p:nvPr/>
          </p:nvGrpSpPr>
          <p:grpSpPr>
            <a:xfrm>
              <a:off x="701640" y="5679720"/>
              <a:ext cx="2879280" cy="489960"/>
              <a:chOff x="701640" y="5679720"/>
              <a:chExt cx="2879280" cy="489960"/>
            </a:xfrm>
          </p:grpSpPr>
          <p:sp>
            <p:nvSpPr>
              <p:cNvPr id="1340" name=""/>
              <p:cNvSpPr/>
              <p:nvPr/>
            </p:nvSpPr>
            <p:spPr>
              <a:xfrm rot="16200000">
                <a:off x="1330920" y="5050440"/>
                <a:ext cx="181080" cy="1439640"/>
              </a:xfrm>
              <a:custGeom>
                <a:avLst/>
                <a:gdLst>
                  <a:gd name="textAreaLeft" fmla="*/ 115920 w 181080"/>
                  <a:gd name="textAreaRight" fmla="*/ 181440 w 181080"/>
                  <a:gd name="textAreaTop" fmla="*/ 37440 h 1439640"/>
                  <a:gd name="textAreaBottom" fmla="*/ 14022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 rot="16200000">
                <a:off x="2770560" y="5050440"/>
                <a:ext cx="181080" cy="1439640"/>
              </a:xfrm>
              <a:custGeom>
                <a:avLst/>
                <a:gdLst>
                  <a:gd name="textAreaLeft" fmla="*/ 115920 w 181080"/>
                  <a:gd name="textAreaRight" fmla="*/ 181440 w 181080"/>
                  <a:gd name="textAreaTop" fmla="*/ 37440 h 1439640"/>
                  <a:gd name="textAreaBottom" fmla="*/ 14022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1241280" y="577080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2680920" y="577080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44" name=""/>
          <p:cNvGrpSpPr/>
          <p:nvPr/>
        </p:nvGrpSpPr>
        <p:grpSpPr>
          <a:xfrm>
            <a:off x="701640" y="4238640"/>
            <a:ext cx="2881440" cy="940320"/>
            <a:chOff x="701640" y="4238640"/>
            <a:chExt cx="2881440" cy="940320"/>
          </a:xfrm>
        </p:grpSpPr>
        <p:grpSp>
          <p:nvGrpSpPr>
            <p:cNvPr id="1345" name=""/>
            <p:cNvGrpSpPr/>
            <p:nvPr/>
          </p:nvGrpSpPr>
          <p:grpSpPr>
            <a:xfrm>
              <a:off x="701640" y="4238640"/>
              <a:ext cx="2881440" cy="449280"/>
              <a:chOff x="701640" y="4238640"/>
              <a:chExt cx="2881440" cy="449280"/>
            </a:xfrm>
          </p:grpSpPr>
          <p:sp>
            <p:nvSpPr>
              <p:cNvPr id="1346" name=""/>
              <p:cNvSpPr/>
              <p:nvPr/>
            </p:nvSpPr>
            <p:spPr>
              <a:xfrm>
                <a:off x="70164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106200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142236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178272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214164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250200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286236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3222720" y="4238640"/>
                <a:ext cx="360360" cy="449280"/>
              </a:xfrm>
              <a:prstGeom prst="rect">
                <a:avLst/>
              </a:prstGeom>
              <a:solidFill>
                <a:srgbClr val="eaeaea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54" name=""/>
            <p:cNvGrpSpPr/>
            <p:nvPr/>
          </p:nvGrpSpPr>
          <p:grpSpPr>
            <a:xfrm>
              <a:off x="701640" y="4689000"/>
              <a:ext cx="2879280" cy="489960"/>
              <a:chOff x="701640" y="4689000"/>
              <a:chExt cx="2879280" cy="489960"/>
            </a:xfrm>
          </p:grpSpPr>
          <p:sp>
            <p:nvSpPr>
              <p:cNvPr id="1355" name=""/>
              <p:cNvSpPr/>
              <p:nvPr/>
            </p:nvSpPr>
            <p:spPr>
              <a:xfrm rot="16200000">
                <a:off x="1330920" y="4059720"/>
                <a:ext cx="181080" cy="1439640"/>
              </a:xfrm>
              <a:custGeom>
                <a:avLst/>
                <a:gdLst>
                  <a:gd name="textAreaLeft" fmla="*/ 115920 w 181080"/>
                  <a:gd name="textAreaRight" fmla="*/ 181440 w 181080"/>
                  <a:gd name="textAreaTop" fmla="*/ 37440 h 1439640"/>
                  <a:gd name="textAreaBottom" fmla="*/ 14022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 rot="16200000">
                <a:off x="2770560" y="4059720"/>
                <a:ext cx="181080" cy="1439640"/>
              </a:xfrm>
              <a:custGeom>
                <a:avLst/>
                <a:gdLst>
                  <a:gd name="textAreaLeft" fmla="*/ 115920 w 181080"/>
                  <a:gd name="textAreaRight" fmla="*/ 181440 w 181080"/>
                  <a:gd name="textAreaTop" fmla="*/ 37440 h 1439640"/>
                  <a:gd name="textAreaBottom" fmla="*/ 1402200 h 14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1241280" y="478008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2680920" y="4780080"/>
                <a:ext cx="360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9" name=""/>
          <p:cNvSpPr/>
          <p:nvPr/>
        </p:nvSpPr>
        <p:spPr>
          <a:xfrm>
            <a:off x="3580200" y="5229360"/>
            <a:ext cx="132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erdad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3627720" y="4238640"/>
            <a:ext cx="94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fals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z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7000920" y="135900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5291280" y="5230800"/>
            <a:ext cx="2880720" cy="449280"/>
            <a:chOff x="5291280" y="5230800"/>
            <a:chExt cx="2880720" cy="449280"/>
          </a:xfrm>
        </p:grpSpPr>
        <p:sp>
          <p:nvSpPr>
            <p:cNvPr id="1363" name=""/>
            <p:cNvSpPr/>
            <p:nvPr/>
          </p:nvSpPr>
          <p:spPr>
            <a:xfrm>
              <a:off x="529128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65128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011640" y="523080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200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73092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709128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45164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7812000" y="523080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1" name=""/>
          <p:cNvSpPr/>
          <p:nvPr/>
        </p:nvSpPr>
        <p:spPr>
          <a:xfrm>
            <a:off x="6527160" y="38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6553080" y="477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2F32-787A-4251-846A-59293AA5B03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D7891-D921-4B6A-A0ED-ED1CA0D3B536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100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20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r valor do bi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12720" y="2708280"/>
            <a:ext cx="7916760" cy="33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signed int v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v &amp; 0x002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“Bit 5 é 1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“Bit 5 é 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748120" y="28893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Máscara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00000000 001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 flipH="1">
            <a:off x="4842000" y="3429000"/>
            <a:ext cx="900000" cy="5396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7632000" y="5769000"/>
            <a:ext cx="75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Bit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7A8F-39BC-4900-ACE0-6BDC19893DD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2530D0-A550-4626-BF55-E963EA3E162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dar para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OU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lterar o valor de um b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5" name=""/>
          <p:cNvGrpSpPr/>
          <p:nvPr/>
        </p:nvGrpSpPr>
        <p:grpSpPr>
          <a:xfrm>
            <a:off x="4389480" y="3429000"/>
            <a:ext cx="2881440" cy="449280"/>
            <a:chOff x="4389480" y="3429000"/>
            <a:chExt cx="2881440" cy="449280"/>
          </a:xfrm>
        </p:grpSpPr>
        <p:sp>
          <p:nvSpPr>
            <p:cNvPr id="1386" name=""/>
            <p:cNvSpPr/>
            <p:nvPr/>
          </p:nvSpPr>
          <p:spPr>
            <a:xfrm>
              <a:off x="438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474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11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47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82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18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55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1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4390920" y="4330800"/>
            <a:ext cx="2881440" cy="449280"/>
            <a:chOff x="4390920" y="4330800"/>
            <a:chExt cx="2881440" cy="449280"/>
          </a:xfrm>
        </p:grpSpPr>
        <p:sp>
          <p:nvSpPr>
            <p:cNvPr id="1395" name=""/>
            <p:cNvSpPr/>
            <p:nvPr/>
          </p:nvSpPr>
          <p:spPr>
            <a:xfrm>
              <a:off x="475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111640" y="43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47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19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55164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1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39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83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3" name=""/>
          <p:cNvSpPr/>
          <p:nvPr/>
        </p:nvSpPr>
        <p:spPr>
          <a:xfrm>
            <a:off x="7000920" y="135900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|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|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|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|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5625360" y="387180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OU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5651280" y="477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6" name=""/>
          <p:cNvGrpSpPr/>
          <p:nvPr/>
        </p:nvGrpSpPr>
        <p:grpSpPr>
          <a:xfrm>
            <a:off x="4390920" y="5230800"/>
            <a:ext cx="2881440" cy="449280"/>
            <a:chOff x="4390920" y="5230800"/>
            <a:chExt cx="2881440" cy="449280"/>
          </a:xfrm>
        </p:grpSpPr>
        <p:sp>
          <p:nvSpPr>
            <p:cNvPr id="1407" name=""/>
            <p:cNvSpPr/>
            <p:nvPr/>
          </p:nvSpPr>
          <p:spPr>
            <a:xfrm>
              <a:off x="439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75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111640" y="52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47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3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19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55164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91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0DE-B5AE-4CF8-926A-AAD9BCE479E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5A08A-E36C-4956-82B7-5442D2D587C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fill="hold">
                            <p:stCondLst>
                              <p:cond delay="500"/>
                            </p:stCondLst>
                            <p:childTnLst>
                              <p:par>
                                <p:cTn id="5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9" fill="hold">
                            <p:stCondLst>
                              <p:cond delay="1000"/>
                            </p:stCondLst>
                            <p:childTnLst>
                              <p:par>
                                <p:cTn id="5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500"/>
                            </p:stCondLst>
                            <p:childTnLst>
                              <p:par>
                                <p:cTn id="5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5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udar para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rter má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não binári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E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lterar o valor de um b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9" name=""/>
          <p:cNvGrpSpPr/>
          <p:nvPr/>
        </p:nvGrpSpPr>
        <p:grpSpPr>
          <a:xfrm>
            <a:off x="4389480" y="3429000"/>
            <a:ext cx="2881440" cy="449280"/>
            <a:chOff x="4389480" y="3429000"/>
            <a:chExt cx="2881440" cy="449280"/>
          </a:xfrm>
        </p:grpSpPr>
        <p:sp>
          <p:nvSpPr>
            <p:cNvPr id="1420" name=""/>
            <p:cNvSpPr/>
            <p:nvPr/>
          </p:nvSpPr>
          <p:spPr>
            <a:xfrm>
              <a:off x="438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474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11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47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2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618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655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691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8" name=""/>
          <p:cNvGrpSpPr/>
          <p:nvPr/>
        </p:nvGrpSpPr>
        <p:grpSpPr>
          <a:xfrm>
            <a:off x="4390920" y="4330800"/>
            <a:ext cx="2881440" cy="449280"/>
            <a:chOff x="4390920" y="4330800"/>
            <a:chExt cx="2881440" cy="449280"/>
          </a:xfrm>
        </p:grpSpPr>
        <p:sp>
          <p:nvSpPr>
            <p:cNvPr id="1429" name=""/>
            <p:cNvSpPr/>
            <p:nvPr/>
          </p:nvSpPr>
          <p:spPr>
            <a:xfrm>
              <a:off x="475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111640" y="43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47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19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655164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91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39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3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7" name=""/>
          <p:cNvSpPr/>
          <p:nvPr/>
        </p:nvSpPr>
        <p:spPr>
          <a:xfrm>
            <a:off x="5625360" y="3871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5651280" y="477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4390920" y="5230800"/>
            <a:ext cx="2881440" cy="449280"/>
            <a:chOff x="4390920" y="5230800"/>
            <a:chExt cx="2881440" cy="449280"/>
          </a:xfrm>
        </p:grpSpPr>
        <p:sp>
          <p:nvSpPr>
            <p:cNvPr id="1440" name=""/>
            <p:cNvSpPr/>
            <p:nvPr/>
          </p:nvSpPr>
          <p:spPr>
            <a:xfrm>
              <a:off x="439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475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11640" y="52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47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83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619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55164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1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48" name=""/>
          <p:cNvSpPr/>
          <p:nvPr/>
        </p:nvSpPr>
        <p:spPr>
          <a:xfrm>
            <a:off x="7000920" y="135900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4615-47BC-4999-8385-6F2358225DA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70BC05-15DC-49EB-B3AC-31C199B36E0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000"/>
                            </p:stCondLst>
                            <p:childTnLst>
                              <p:par>
                                <p:cTn id="5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500"/>
                            </p:stCondLst>
                            <p:childTnLst>
                              <p:par>
                                <p:cTn id="5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ocar valor de um b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OU excl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lterar o valor de um bi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3" name=""/>
          <p:cNvGrpSpPr/>
          <p:nvPr/>
        </p:nvGrpSpPr>
        <p:grpSpPr>
          <a:xfrm>
            <a:off x="4389480" y="3429000"/>
            <a:ext cx="2881440" cy="449280"/>
            <a:chOff x="4389480" y="3429000"/>
            <a:chExt cx="2881440" cy="449280"/>
          </a:xfrm>
        </p:grpSpPr>
        <p:sp>
          <p:nvSpPr>
            <p:cNvPr id="1454" name=""/>
            <p:cNvSpPr/>
            <p:nvPr/>
          </p:nvSpPr>
          <p:spPr>
            <a:xfrm>
              <a:off x="438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74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11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47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582948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18984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55020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910560" y="3429000"/>
              <a:ext cx="36036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2" name=""/>
          <p:cNvGrpSpPr/>
          <p:nvPr/>
        </p:nvGrpSpPr>
        <p:grpSpPr>
          <a:xfrm>
            <a:off x="4390920" y="4330800"/>
            <a:ext cx="2881440" cy="449280"/>
            <a:chOff x="4390920" y="4330800"/>
            <a:chExt cx="2881440" cy="449280"/>
          </a:xfrm>
        </p:grpSpPr>
        <p:sp>
          <p:nvSpPr>
            <p:cNvPr id="1463" name=""/>
            <p:cNvSpPr/>
            <p:nvPr/>
          </p:nvSpPr>
          <p:spPr>
            <a:xfrm>
              <a:off x="475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5111640" y="43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47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19128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55164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91200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39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5830920" y="43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1" name=""/>
          <p:cNvSpPr/>
          <p:nvPr/>
        </p:nvSpPr>
        <p:spPr>
          <a:xfrm>
            <a:off x="7000920" y="135900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exclus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^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^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^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^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5624640" y="3871800"/>
            <a:ext cx="19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^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OU exclusiv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5651280" y="477216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4" name=""/>
          <p:cNvGrpSpPr/>
          <p:nvPr/>
        </p:nvGrpSpPr>
        <p:grpSpPr>
          <a:xfrm>
            <a:off x="4390920" y="5230800"/>
            <a:ext cx="2881440" cy="449280"/>
            <a:chOff x="4390920" y="5230800"/>
            <a:chExt cx="2881440" cy="449280"/>
          </a:xfrm>
        </p:grpSpPr>
        <p:sp>
          <p:nvSpPr>
            <p:cNvPr id="1475" name=""/>
            <p:cNvSpPr/>
            <p:nvPr/>
          </p:nvSpPr>
          <p:spPr>
            <a:xfrm>
              <a:off x="439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75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111640" y="523080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47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83092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19128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55164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912000" y="523080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3" name=""/>
          <p:cNvSpPr/>
          <p:nvPr/>
        </p:nvSpPr>
        <p:spPr>
          <a:xfrm>
            <a:off x="5154480" y="5334120"/>
            <a:ext cx="27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F86B-277C-453D-88EA-A85C441BAF6C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D3BD7-FA26-453D-9F8B-4DB829926190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fill="hold">
                            <p:stCondLst>
                              <p:cond delay="500"/>
                            </p:stCondLst>
                            <p:childTnLst>
                              <p:par>
                                <p:cTn id="5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"/>
                            </p:stCondLst>
                            <p:childTnLst>
                              <p:par>
                                <p:cTn id="5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2000"/>
                            </p:stCondLst>
                            <p:childTnLst>
                              <p:par>
                                <p:cTn id="5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2500"/>
                            </p:stCondLst>
                            <p:childTnLst>
                              <p:par>
                                <p:cTn id="5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/>
          </p:nvPr>
        </p:nvSpPr>
        <p:spPr>
          <a:xfrm>
            <a:off x="520560" y="2168640"/>
            <a:ext cx="8229600" cy="40478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dar o valor do bit 5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612720" y="2708280"/>
            <a:ext cx="7916760" cy="33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unsigned int u, v, w, x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// Mudar para 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v =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u | 0x0020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// Mudar para 0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u &amp; (~0x0020)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// Invert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1" lang="pt-BR" sz="3600" spc="-1" strike="noStrike">
                <a:solidFill>
                  <a:srgbClr val="ff0000"/>
                </a:solidFill>
                <a:latin typeface="Courier New"/>
              </a:rPr>
              <a:t>u ^ 0x0020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632000" y="5769000"/>
            <a:ext cx="10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tribuirBit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4C2-217A-4946-BA5C-754EBD2DE5C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389F48-0526-4846-A796-0255C582009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0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cedimen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 do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iltrar bits com E bin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r bits para dir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er um interva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5651640" y="2438280"/>
            <a:ext cx="2880720" cy="449280"/>
            <a:chOff x="5651640" y="2438280"/>
            <a:chExt cx="2880720" cy="449280"/>
          </a:xfrm>
        </p:grpSpPr>
        <p:sp>
          <p:nvSpPr>
            <p:cNvPr id="1495" name=""/>
            <p:cNvSpPr/>
            <p:nvPr/>
          </p:nvSpPr>
          <p:spPr>
            <a:xfrm>
              <a:off x="565164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1164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7200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73236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709128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745164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781200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172360" y="24382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3" name=""/>
          <p:cNvGrpSpPr/>
          <p:nvPr/>
        </p:nvGrpSpPr>
        <p:grpSpPr>
          <a:xfrm>
            <a:off x="5740560" y="3340080"/>
            <a:ext cx="2880720" cy="449280"/>
            <a:chOff x="5740560" y="3340080"/>
            <a:chExt cx="2880720" cy="449280"/>
          </a:xfrm>
        </p:grpSpPr>
        <p:sp>
          <p:nvSpPr>
            <p:cNvPr id="1504" name=""/>
            <p:cNvSpPr/>
            <p:nvPr/>
          </p:nvSpPr>
          <p:spPr>
            <a:xfrm>
              <a:off x="6100560" y="334008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60920" y="334008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821280" y="334008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540560" y="334008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900920" y="334008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261280" y="334008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740560" y="334008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180200" y="334008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2" name=""/>
          <p:cNvSpPr/>
          <p:nvPr/>
        </p:nvSpPr>
        <p:spPr>
          <a:xfrm>
            <a:off x="341280" y="441972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975000" y="288144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7000560" y="37814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5" name=""/>
          <p:cNvGrpSpPr/>
          <p:nvPr/>
        </p:nvGrpSpPr>
        <p:grpSpPr>
          <a:xfrm>
            <a:off x="5742000" y="4238640"/>
            <a:ext cx="2881440" cy="449280"/>
            <a:chOff x="5742000" y="4238640"/>
            <a:chExt cx="2881440" cy="449280"/>
          </a:xfrm>
        </p:grpSpPr>
        <p:sp>
          <p:nvSpPr>
            <p:cNvPr id="1516" name=""/>
            <p:cNvSpPr/>
            <p:nvPr/>
          </p:nvSpPr>
          <p:spPr>
            <a:xfrm>
              <a:off x="5742000" y="423864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102360" y="423864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462720" y="423864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823080" y="423864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7182000" y="423864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7542360" y="423864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7902720" y="423864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8263080" y="423864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4" name=""/>
          <p:cNvSpPr/>
          <p:nvPr/>
        </p:nvSpPr>
        <p:spPr>
          <a:xfrm>
            <a:off x="5563440" y="478008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gt;&g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5" name=""/>
          <p:cNvGrpSpPr/>
          <p:nvPr/>
        </p:nvGrpSpPr>
        <p:grpSpPr>
          <a:xfrm>
            <a:off x="5742000" y="5237280"/>
            <a:ext cx="2881440" cy="449280"/>
            <a:chOff x="5742000" y="5237280"/>
            <a:chExt cx="2881440" cy="449280"/>
          </a:xfrm>
        </p:grpSpPr>
        <p:sp>
          <p:nvSpPr>
            <p:cNvPr id="1526" name=""/>
            <p:cNvSpPr/>
            <p:nvPr/>
          </p:nvSpPr>
          <p:spPr>
            <a:xfrm>
              <a:off x="5742000" y="52372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102360" y="52372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462720" y="52372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23080" y="52372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182000" y="52372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542360" y="52372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902720" y="52372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8263080" y="52372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534" name=""/>
          <p:cNvCxnSpPr>
            <a:stCxn id="1517" idx="2"/>
            <a:endCxn id="1531" idx="0"/>
          </p:cNvCxnSpPr>
          <p:nvPr/>
        </p:nvCxnSpPr>
        <p:spPr>
          <a:xfrm>
            <a:off x="6283080" y="4687920"/>
            <a:ext cx="14403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5" name=""/>
          <p:cNvCxnSpPr>
            <a:stCxn id="1518" idx="2"/>
            <a:endCxn id="1532" idx="0"/>
          </p:cNvCxnSpPr>
          <p:nvPr/>
        </p:nvCxnSpPr>
        <p:spPr>
          <a:xfrm>
            <a:off x="6643440" y="4687920"/>
            <a:ext cx="14403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6" name=""/>
          <p:cNvCxnSpPr>
            <a:stCxn id="1519" idx="2"/>
            <a:endCxn id="1533" idx="0"/>
          </p:cNvCxnSpPr>
          <p:nvPr/>
        </p:nvCxnSpPr>
        <p:spPr>
          <a:xfrm>
            <a:off x="7003800" y="4687920"/>
            <a:ext cx="1440360" cy="55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CD2E-327C-4A65-B718-0C605AF6278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CABAEE-95DD-47F2-BF7F-17C3C50E266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500"/>
                            </p:stCondLst>
                            <p:childTnLst>
                              <p:par>
                                <p:cTn id="6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fill="hold">
                            <p:stCondLst>
                              <p:cond delay="1000"/>
                            </p:stCondLst>
                            <p:childTnLst>
                              <p:par>
                                <p:cTn id="6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1500"/>
                            </p:stCondLst>
                            <p:childTnLst>
                              <p:par>
                                <p:cTn id="6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2000"/>
                            </p:stCondLst>
                            <p:childTnLst>
                              <p:par>
                                <p:cTn id="6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1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500"/>
                            </p:stCondLst>
                            <p:childTnLst>
                              <p:par>
                                <p:cTn id="6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fill="hold">
                            <p:stCondLst>
                              <p:cond delay="2000"/>
                            </p:stCondLst>
                            <p:childTnLst>
                              <p:par>
                                <p:cTn id="6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2500"/>
                            </p:stCondLst>
                            <p:childTnLst>
                              <p:par>
                                <p:cTn id="6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trair número no intervalo 4 -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12720" y="2708280"/>
            <a:ext cx="4498920" cy="33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signed int u, v, w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Extrair interva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u &amp; 0x0070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// Desloc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w = </a:t>
            </a:r>
            <a:r>
              <a:rPr b="1" lang="pt-BR" sz="3200" spc="-1" strike="noStrike">
                <a:solidFill>
                  <a:srgbClr val="ff0000"/>
                </a:solidFill>
                <a:latin typeface="Courier New"/>
              </a:rPr>
              <a:t>v &gt;&gt;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2" name="" descr=""/>
          <p:cNvPicPr/>
          <p:nvPr/>
        </p:nvPicPr>
        <p:blipFill>
          <a:blip r:embed="rId1"/>
          <a:stretch/>
        </p:blipFill>
        <p:spPr>
          <a:xfrm>
            <a:off x="5022720" y="3068640"/>
            <a:ext cx="3544920" cy="2820960"/>
          </a:xfrm>
          <a:prstGeom prst="rect">
            <a:avLst/>
          </a:prstGeom>
          <a:ln w="0">
            <a:noFill/>
          </a:ln>
        </p:spPr>
      </p:pic>
      <p:sp>
        <p:nvSpPr>
          <p:cNvPr id="154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7450200" y="5859360"/>
            <a:ext cx="120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LerFaixaBits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FFB4-7051-4EBE-A195-C54F68269F2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9AB64-8ADC-4222-A95E-F273AD88095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44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btração de dígitos binár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- 0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- 1 = 1 e “empresta 1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- 0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- 1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Aritmética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ubtraçã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592360" y="4238640"/>
            <a:ext cx="5973840" cy="2243160"/>
          </a:xfrm>
          <a:prstGeom prst="rect">
            <a:avLst/>
          </a:prstGeom>
          <a:ln w="0">
            <a:noFill/>
          </a:ln>
        </p:spPr>
      </p:pic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427A-E750-4B82-B1E8-0A8C80E2E8C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AAA3B3-AAEE-4BAB-8046-0AFE09FD396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5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sso 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agar bits na palav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obrir máscara invertida do interva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E binário para apa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tribuir um intervalo de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8" name=""/>
          <p:cNvGrpSpPr/>
          <p:nvPr/>
        </p:nvGrpSpPr>
        <p:grpSpPr>
          <a:xfrm>
            <a:off x="5651640" y="3610080"/>
            <a:ext cx="2880720" cy="449280"/>
            <a:chOff x="5651640" y="3610080"/>
            <a:chExt cx="2880720" cy="449280"/>
          </a:xfrm>
        </p:grpSpPr>
        <p:sp>
          <p:nvSpPr>
            <p:cNvPr id="1549" name=""/>
            <p:cNvSpPr/>
            <p:nvPr/>
          </p:nvSpPr>
          <p:spPr>
            <a:xfrm>
              <a:off x="565164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01164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37200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3236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9128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5164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81200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172360" y="3610080"/>
              <a:ext cx="360000" cy="449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7" name=""/>
          <p:cNvGrpSpPr/>
          <p:nvPr/>
        </p:nvGrpSpPr>
        <p:grpSpPr>
          <a:xfrm>
            <a:off x="5651640" y="4511520"/>
            <a:ext cx="2880720" cy="449280"/>
            <a:chOff x="5651640" y="4511520"/>
            <a:chExt cx="2880720" cy="449280"/>
          </a:xfrm>
        </p:grpSpPr>
        <p:sp>
          <p:nvSpPr>
            <p:cNvPr id="1558" name=""/>
            <p:cNvSpPr/>
            <p:nvPr/>
          </p:nvSpPr>
          <p:spPr>
            <a:xfrm>
              <a:off x="6011640" y="451152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372000" y="451152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32360" y="4511520"/>
              <a:ext cx="360000" cy="449280"/>
            </a:xfrm>
            <a:prstGeom prst="rect">
              <a:avLst/>
            </a:prstGeom>
            <a:solidFill>
              <a:srgbClr val="66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7451640" y="451152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7812000" y="451152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8172360" y="451152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5651640" y="451152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7091280" y="4511520"/>
              <a:ext cx="360000" cy="449280"/>
            </a:xfrm>
            <a:prstGeom prst="rect">
              <a:avLst/>
            </a:prstGeom>
            <a:solidFill>
              <a:srgbClr val="ff99cc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6" name=""/>
          <p:cNvSpPr/>
          <p:nvPr/>
        </p:nvSpPr>
        <p:spPr>
          <a:xfrm>
            <a:off x="341280" y="441972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&amp;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975000" y="405288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amp;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E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7000560" y="4952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9" name=""/>
          <p:cNvGrpSpPr/>
          <p:nvPr/>
        </p:nvGrpSpPr>
        <p:grpSpPr>
          <a:xfrm>
            <a:off x="5651640" y="5410080"/>
            <a:ext cx="2880720" cy="449280"/>
            <a:chOff x="5651640" y="5410080"/>
            <a:chExt cx="2880720" cy="449280"/>
          </a:xfrm>
        </p:grpSpPr>
        <p:sp>
          <p:nvSpPr>
            <p:cNvPr id="1570" name=""/>
            <p:cNvSpPr/>
            <p:nvPr/>
          </p:nvSpPr>
          <p:spPr>
            <a:xfrm>
              <a:off x="5651640" y="541008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011640" y="541008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72000" y="541008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732360" y="541008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91280" y="541008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451640" y="541008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812000" y="541008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8172360" y="541008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5ED-D048-4C23-8009-238B716D75CC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E33C5-D623-49A0-B4FD-CFB64D4E5A9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1500"/>
                            </p:stCondLst>
                            <p:childTnLst>
                              <p:par>
                                <p:cTn id="6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sso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locar para a esquer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licar OU binário para copiar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tribuir um intervalo de bi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912000" y="1719360"/>
            <a:ext cx="1981080" cy="18345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U biná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|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| 0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0 |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1 | 1 </a:t>
            </a:r>
            <a:r>
              <a:rPr b="1" lang="pt-BR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3" name=""/>
          <p:cNvGrpSpPr/>
          <p:nvPr/>
        </p:nvGrpSpPr>
        <p:grpSpPr>
          <a:xfrm>
            <a:off x="971640" y="4149720"/>
            <a:ext cx="2880720" cy="449280"/>
            <a:chOff x="971640" y="4149720"/>
            <a:chExt cx="2880720" cy="449280"/>
          </a:xfrm>
        </p:grpSpPr>
        <p:sp>
          <p:nvSpPr>
            <p:cNvPr id="1584" name=""/>
            <p:cNvSpPr/>
            <p:nvPr/>
          </p:nvSpPr>
          <p:spPr>
            <a:xfrm>
              <a:off x="971640" y="414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1331640" y="414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1692000" y="414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052360" y="414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411280" y="414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771640" y="414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3132000" y="414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3492360" y="414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2" name=""/>
          <p:cNvGrpSpPr/>
          <p:nvPr/>
        </p:nvGrpSpPr>
        <p:grpSpPr>
          <a:xfrm>
            <a:off x="971640" y="5138640"/>
            <a:ext cx="2880720" cy="449280"/>
            <a:chOff x="971640" y="5138640"/>
            <a:chExt cx="2880720" cy="449280"/>
          </a:xfrm>
        </p:grpSpPr>
        <p:sp>
          <p:nvSpPr>
            <p:cNvPr id="1593" name=""/>
            <p:cNvSpPr/>
            <p:nvPr/>
          </p:nvSpPr>
          <p:spPr>
            <a:xfrm>
              <a:off x="971640" y="513864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1331640" y="513864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692000" y="513864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052360" y="513864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11280" y="513864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771640" y="513864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132000" y="513864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492360" y="513864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1" name=""/>
          <p:cNvSpPr/>
          <p:nvPr/>
        </p:nvSpPr>
        <p:spPr>
          <a:xfrm>
            <a:off x="792720" y="46814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&lt;&lt;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02" name=""/>
          <p:cNvCxnSpPr>
            <a:stCxn id="1589" idx="2"/>
            <a:endCxn id="1594" idx="0"/>
          </p:cNvCxnSpPr>
          <p:nvPr/>
        </p:nvCxnSpPr>
        <p:spPr>
          <a:xfrm flipH="1">
            <a:off x="1512720" y="4598640"/>
            <a:ext cx="144036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3" name=""/>
          <p:cNvCxnSpPr>
            <a:stCxn id="1590" idx="2"/>
            <a:endCxn id="1595" idx="0"/>
          </p:cNvCxnSpPr>
          <p:nvPr/>
        </p:nvCxnSpPr>
        <p:spPr>
          <a:xfrm flipH="1">
            <a:off x="1873080" y="4598640"/>
            <a:ext cx="144036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4" name=""/>
          <p:cNvCxnSpPr>
            <a:stCxn id="1591" idx="2"/>
            <a:endCxn id="1596" idx="0"/>
          </p:cNvCxnSpPr>
          <p:nvPr/>
        </p:nvCxnSpPr>
        <p:spPr>
          <a:xfrm flipH="1">
            <a:off x="2233440" y="4598640"/>
            <a:ext cx="1440360" cy="540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605" name=""/>
          <p:cNvGrpSpPr/>
          <p:nvPr/>
        </p:nvGrpSpPr>
        <p:grpSpPr>
          <a:xfrm>
            <a:off x="5292720" y="4780080"/>
            <a:ext cx="2881440" cy="449280"/>
            <a:chOff x="5292720" y="4780080"/>
            <a:chExt cx="2881440" cy="449280"/>
          </a:xfrm>
        </p:grpSpPr>
        <p:sp>
          <p:nvSpPr>
            <p:cNvPr id="1606" name=""/>
            <p:cNvSpPr/>
            <p:nvPr/>
          </p:nvSpPr>
          <p:spPr>
            <a:xfrm>
              <a:off x="5292720" y="47800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5653080" y="47800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6013440" y="47800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373800" y="478008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732720" y="47800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093080" y="47800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53440" y="47800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813800" y="478008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5294160" y="5589720"/>
            <a:ext cx="2881440" cy="449280"/>
            <a:chOff x="5294160" y="5589720"/>
            <a:chExt cx="2881440" cy="449280"/>
          </a:xfrm>
        </p:grpSpPr>
        <p:sp>
          <p:nvSpPr>
            <p:cNvPr id="1615" name=""/>
            <p:cNvSpPr/>
            <p:nvPr/>
          </p:nvSpPr>
          <p:spPr>
            <a:xfrm>
              <a:off x="5294160" y="558972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654520" y="558972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6014880" y="558972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375240" y="5589720"/>
              <a:ext cx="36036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734160" y="558972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094520" y="558972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454880" y="558972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815240" y="5589720"/>
              <a:ext cx="36036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3" name=""/>
          <p:cNvSpPr/>
          <p:nvPr/>
        </p:nvSpPr>
        <p:spPr>
          <a:xfrm>
            <a:off x="6644520" y="4322880"/>
            <a:ext cx="158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(OU binár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6491160" y="52228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5291280" y="3879720"/>
            <a:ext cx="2880720" cy="449280"/>
            <a:chOff x="5291280" y="3879720"/>
            <a:chExt cx="2880720" cy="449280"/>
          </a:xfrm>
        </p:grpSpPr>
        <p:sp>
          <p:nvSpPr>
            <p:cNvPr id="1626" name=""/>
            <p:cNvSpPr/>
            <p:nvPr/>
          </p:nvSpPr>
          <p:spPr>
            <a:xfrm>
              <a:off x="5291280" y="387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5651280" y="387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6011640" y="387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6372000" y="3879720"/>
              <a:ext cx="360000" cy="44928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6730920" y="387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091280" y="387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51640" y="387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812000" y="3879720"/>
              <a:ext cx="360000" cy="44928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pt-BR" sz="20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pt-BR" sz="2000" spc="-1" strike="noStrike" baseline="-25000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910200" y="6219720"/>
            <a:ext cx="14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tribuirFaixaBits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4EF-9520-4289-93B2-AD2D3E933D30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5C0ADA-CCEE-43E5-8F9A-319D32ED516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000"/>
                            </p:stCondLst>
                            <p:childTnLst>
                              <p:par>
                                <p:cTn id="6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500"/>
                            </p:stCondLst>
                            <p:childTnLst>
                              <p:par>
                                <p:cTn id="7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1000"/>
                            </p:stCondLst>
                            <p:childTnLst>
                              <p:par>
                                <p:cTn id="7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1500"/>
                            </p:stCondLst>
                            <p:childTnLst>
                              <p:par>
                                <p:cTn id="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2000"/>
                            </p:stCondLst>
                            <p:childTnLst>
                              <p:par>
                                <p:cTn id="7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fill="hold">
                            <p:stCondLst>
                              <p:cond delay="2500"/>
                            </p:stCondLst>
                            <p:childTnLst>
                              <p:par>
                                <p:cTn id="7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presentação Binár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rocaBit01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1D2C2-D216-49BD-BF3C-084EFA4D9D9E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864BCEF-A50F-4042-AB6C-62D9EE6A5E1F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presentação Binár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9BD98-B7D0-407E-9C9D-4D78EA8C432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3A7938EF-FBCB-4989-B771-D8D1F8E9B15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abeçalho de MP3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880920" y="2978280"/>
            <a:ext cx="6762960" cy="293040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951080" y="1600200"/>
            <a:ext cx="3873960" cy="152964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erificar estado de um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ribuir um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trair um intervalo (núme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981080" y="5943600"/>
            <a:ext cx="6377040" cy="675720"/>
          </a:xfrm>
          <a:prstGeom prst="rect">
            <a:avLst/>
          </a:prstGeom>
          <a:solidFill>
            <a:srgbClr val="ccffcc"/>
          </a:solidFill>
          <a:ln w="9360">
            <a:solidFill>
              <a:srgbClr val="66ccff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: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signed in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32 bi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C564-0C41-4EDF-9077-2DBFB59E444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19B553-026A-4ACF-843B-45050A2B861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verte todos os b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ÃO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52720" y="5319720"/>
            <a:ext cx="504036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confundir com o operador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!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12720" y="2978280"/>
            <a:ext cx="3479760" cy="17697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4392720" y="2944800"/>
            <a:ext cx="1204920" cy="201456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6012000" y="3159000"/>
            <a:ext cx="2841480" cy="140724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Ver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~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~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12000" y="2259000"/>
            <a:ext cx="287964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: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~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6CD4-028F-4B47-B809-7E3A52A3D7F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88CD0-1F55-4953-ABA2-CAA703FA773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431640" y="1989000"/>
            <a:ext cx="8280720" cy="423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1640" y="2077560"/>
            <a:ext cx="8229600" cy="4048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v, not_binario_v, not_logico_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not_binario_v = ~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not_logico_v = !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screveBinario(not_binario_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escreveBinario(not_logico_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ÃO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414400" y="2619360"/>
            <a:ext cx="3247200" cy="22885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001011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~v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1101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!v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0000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902720" y="5769000"/>
            <a:ext cx="58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Not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998-C6DD-4089-AAA1-29AA946163AF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CB3C5-C8CB-4D30-9D51-E02F4155AF1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bina pares de b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U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52720" y="5533920"/>
            <a:ext cx="504036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confundir com o operador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||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12000" y="3159000"/>
            <a:ext cx="2841480" cy="21387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Ver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|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|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|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|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12000" y="2259000"/>
            <a:ext cx="287964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: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3402000" y="2992320"/>
            <a:ext cx="2138400" cy="196704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73200" y="2798640"/>
            <a:ext cx="2638440" cy="188928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7254-2F9A-424F-9D3E-C3FACCB230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68440C-3EF8-4A07-B861-30A1602B7C0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1640" y="1989000"/>
            <a:ext cx="8280720" cy="450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077560"/>
            <a:ext cx="8229600" cy="4411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,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Times New Roman"/>
              </a:rPr>
              <a:t>unsigned in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r_binario, or_logic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u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eBinario(&amp;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_binario = u |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Courier New"/>
                <a:ea typeface="Times New Roman"/>
              </a:rPr>
              <a:t>or_logico = u || v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or_binari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screveBinario(or_logic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U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055120" y="2978280"/>
            <a:ext cx="3796200" cy="265428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sultad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tra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= 00011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 = 00010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aíd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| v 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1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 || v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000000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723800" y="60390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Or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AB1B-C6D6-4C42-BC42-DE7CBFDA650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F5130C-ECA8-4E95-A6EE-4F8A81022B90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380880" y="198072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nifica pares de bi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Operações em 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 binár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52720" y="5533920"/>
            <a:ext cx="504036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confundir com o operador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&amp;&amp;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12000" y="3159000"/>
            <a:ext cx="2841480" cy="213876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abela Verda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&amp;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0 &amp;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&amp; 0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1 &amp; 1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12000" y="2259000"/>
            <a:ext cx="2879640" cy="675720"/>
          </a:xfrm>
          <a:prstGeom prst="rect">
            <a:avLst/>
          </a:prstGeom>
          <a:solidFill>
            <a:srgbClr val="ffcccc"/>
          </a:solidFill>
          <a:ln w="936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98000" rIns="198000" tIns="154800" bIns="154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perador: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1074600" y="4376880"/>
            <a:ext cx="2325960" cy="268200"/>
            <a:chOff x="1074600" y="4376880"/>
            <a:chExt cx="2325960" cy="268200"/>
          </a:xfrm>
        </p:grpSpPr>
        <p:sp>
          <p:nvSpPr>
            <p:cNvPr id="217" name=""/>
            <p:cNvSpPr/>
            <p:nvPr/>
          </p:nvSpPr>
          <p:spPr>
            <a:xfrm>
              <a:off x="1074600" y="4376880"/>
              <a:ext cx="28908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1464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363680" y="437688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50516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54200" y="437688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79568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47960" y="4376880"/>
              <a:ext cx="2887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08944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36680" y="437688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7672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527200" y="437688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6868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20960" y="4376880"/>
              <a:ext cx="28908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96100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110040" y="437688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9720" y="44053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809640" y="308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2640" y="4383000"/>
            <a:ext cx="45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 &amp; 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074600" y="3067200"/>
            <a:ext cx="2325960" cy="269640"/>
            <a:chOff x="1074600" y="3067200"/>
            <a:chExt cx="2325960" cy="269640"/>
          </a:xfrm>
        </p:grpSpPr>
        <p:sp>
          <p:nvSpPr>
            <p:cNvPr id="236" name=""/>
            <p:cNvSpPr/>
            <p:nvPr/>
          </p:nvSpPr>
          <p:spPr>
            <a:xfrm>
              <a:off x="1074600" y="3067200"/>
              <a:ext cx="28908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21068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36368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0120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420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79172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47960" y="3067200"/>
              <a:ext cx="2887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8548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23668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37276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2720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66472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1952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95704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10040" y="3067200"/>
              <a:ext cx="290520" cy="26964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45760" y="31021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1190160" y="2851200"/>
            <a:ext cx="2163240" cy="210960"/>
            <a:chOff x="1190160" y="2851200"/>
            <a:chExt cx="2163240" cy="210960"/>
          </a:xfrm>
        </p:grpSpPr>
        <p:sp>
          <p:nvSpPr>
            <p:cNvPr id="253" name=""/>
            <p:cNvSpPr/>
            <p:nvPr/>
          </p:nvSpPr>
          <p:spPr>
            <a:xfrm>
              <a:off x="119016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25964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48068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5016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77120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84212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6172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13264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35404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2316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64456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1368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93508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00420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225600" y="28512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2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296160" y="29401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174760" y="3859200"/>
            <a:ext cx="123840" cy="352440"/>
          </a:xfrm>
          <a:custGeom>
            <a:avLst/>
            <a:gdLst/>
            <a:ahLst/>
            <a:rect l="l" t="t" r="r" b="b"/>
            <a:pathLst>
              <a:path w="400" h="1233">
                <a:moveTo>
                  <a:pt x="234" y="33"/>
                </a:moveTo>
                <a:lnTo>
                  <a:pt x="234" y="900"/>
                </a:lnTo>
                <a:cubicBezTo>
                  <a:pt x="234" y="919"/>
                  <a:pt x="219" y="933"/>
                  <a:pt x="200" y="933"/>
                </a:cubicBezTo>
                <a:cubicBezTo>
                  <a:pt x="182" y="933"/>
                  <a:pt x="167" y="919"/>
                  <a:pt x="167" y="900"/>
                </a:cubicBezTo>
                <a:lnTo>
                  <a:pt x="167" y="33"/>
                </a:lnTo>
                <a:cubicBezTo>
                  <a:pt x="167" y="15"/>
                  <a:pt x="182" y="0"/>
                  <a:pt x="200" y="0"/>
                </a:cubicBezTo>
                <a:cubicBezTo>
                  <a:pt x="219" y="0"/>
                  <a:pt x="234" y="15"/>
                  <a:pt x="234" y="33"/>
                </a:cubicBezTo>
                <a:close/>
                <a:moveTo>
                  <a:pt x="400" y="833"/>
                </a:moveTo>
                <a:lnTo>
                  <a:pt x="200" y="1233"/>
                </a:lnTo>
                <a:lnTo>
                  <a:pt x="0" y="833"/>
                </a:lnTo>
                <a:lnTo>
                  <a:pt x="400" y="83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1074600" y="3486240"/>
            <a:ext cx="2325960" cy="268200"/>
            <a:chOff x="1074600" y="3486240"/>
            <a:chExt cx="2325960" cy="268200"/>
          </a:xfrm>
        </p:grpSpPr>
        <p:sp>
          <p:nvSpPr>
            <p:cNvPr id="271" name=""/>
            <p:cNvSpPr/>
            <p:nvPr/>
          </p:nvSpPr>
          <p:spPr>
            <a:xfrm>
              <a:off x="1074600" y="3486240"/>
              <a:ext cx="28908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21068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36368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50120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5420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79172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47960" y="3486240"/>
              <a:ext cx="2887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08548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23668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7276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52720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66472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1952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95704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110040" y="3486240"/>
              <a:ext cx="290520" cy="268200"/>
            </a:xfrm>
            <a:prstGeom prst="rect">
              <a:avLst/>
            </a:prstGeom>
            <a:noFill/>
            <a:ln cap="rnd"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45760" y="35226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PT" sz="15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809640" y="3538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074600" y="437688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464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6368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5051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5420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9568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947960" y="4376880"/>
            <a:ext cx="2887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08944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3668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767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2720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66868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20960" y="437688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61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11004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32497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074600" y="437688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21464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36368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0516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65420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9568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47960" y="4376880"/>
            <a:ext cx="2887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08944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23668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3767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52720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66868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20960" y="437688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6100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110040" y="437688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49720" y="44053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09640" y="30812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074600" y="3067200"/>
            <a:ext cx="28908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21068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6368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5012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65420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79172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947960" y="3067200"/>
            <a:ext cx="2887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08548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23668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3727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52720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66472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81952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957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1004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457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074600" y="3067200"/>
            <a:ext cx="28908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1068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36368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0120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65420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79172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947960" y="3067200"/>
            <a:ext cx="2887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08548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3668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3727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52720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472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81952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95704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10040" y="3067200"/>
            <a:ext cx="290520" cy="26964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45760" y="310212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1901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2596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8068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550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7712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4212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06172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1326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5404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423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445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7136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93508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004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256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296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1901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596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48068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550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712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84212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06172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13264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35404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423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64456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71368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293508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00420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2256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296160" y="2940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174760" y="3859200"/>
            <a:ext cx="123840" cy="352440"/>
          </a:xfrm>
          <a:custGeom>
            <a:avLst/>
            <a:gdLst/>
            <a:ahLst/>
            <a:rect l="l" t="t" r="r" b="b"/>
            <a:pathLst>
              <a:path w="400" h="1233">
                <a:moveTo>
                  <a:pt x="234" y="33"/>
                </a:moveTo>
                <a:lnTo>
                  <a:pt x="234" y="900"/>
                </a:lnTo>
                <a:cubicBezTo>
                  <a:pt x="234" y="919"/>
                  <a:pt x="219" y="933"/>
                  <a:pt x="200" y="933"/>
                </a:cubicBezTo>
                <a:cubicBezTo>
                  <a:pt x="182" y="933"/>
                  <a:pt x="167" y="919"/>
                  <a:pt x="167" y="900"/>
                </a:cubicBezTo>
                <a:lnTo>
                  <a:pt x="167" y="33"/>
                </a:lnTo>
                <a:cubicBezTo>
                  <a:pt x="167" y="15"/>
                  <a:pt x="182" y="0"/>
                  <a:pt x="200" y="0"/>
                </a:cubicBezTo>
                <a:cubicBezTo>
                  <a:pt x="219" y="0"/>
                  <a:pt x="234" y="15"/>
                  <a:pt x="234" y="33"/>
                </a:cubicBezTo>
                <a:close/>
                <a:moveTo>
                  <a:pt x="400" y="833"/>
                </a:moveTo>
                <a:lnTo>
                  <a:pt x="200" y="1233"/>
                </a:lnTo>
                <a:lnTo>
                  <a:pt x="0" y="833"/>
                </a:lnTo>
                <a:lnTo>
                  <a:pt x="400" y="833"/>
                </a:lnTo>
                <a:close/>
              </a:path>
            </a:pathLst>
          </a:custGeom>
          <a:solidFill>
            <a:srgbClr val="000000"/>
          </a:solidFill>
          <a:ln w="324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074600" y="348624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21068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36368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5012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165420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179172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947960" y="3486240"/>
            <a:ext cx="2887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08548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23668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3727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52720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66472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81952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57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311004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457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074600" y="3486240"/>
            <a:ext cx="28908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1068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36368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50120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65420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179172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1947960" y="3486240"/>
            <a:ext cx="2887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08548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3668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3727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2720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6472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81952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95704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10040" y="3486240"/>
            <a:ext cx="290520" cy="268200"/>
          </a:xfrm>
          <a:prstGeom prst="rect">
            <a:avLst/>
          </a:prstGeom>
          <a:noFill/>
          <a:ln cap="rnd"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245760" y="352260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5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809640" y="3538440"/>
            <a:ext cx="1072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1014480" y="3011400"/>
            <a:ext cx="2449440" cy="16923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2"/>
          <a:stretch/>
        </p:blipFill>
        <p:spPr>
          <a:xfrm>
            <a:off x="3608280" y="2778120"/>
            <a:ext cx="2133720" cy="1963800"/>
          </a:xfrm>
          <a:prstGeom prst="rect">
            <a:avLst/>
          </a:prstGeom>
          <a:ln w="0">
            <a:noFill/>
          </a:ln>
        </p:spPr>
      </p:pic>
      <p:sp>
        <p:nvSpPr>
          <p:cNvPr id="42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D2FB-B6CB-4D80-B78A-A58B1DD7F3A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AE7C8E-89D2-407C-AB51-3E4562952BB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arnaldo</cp:lastModifiedBy>
  <dcterms:modified xsi:type="dcterms:W3CDTF">2007-05-17T02:14:33Z</dcterms:modified>
  <cp:revision>174</cp:revision>
  <dc:subject/>
  <dc:title>Curso de C</dc:title>
</cp:coreProperties>
</file>