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ECDB-E07F-40AD-B19F-D44CF821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2533-444F-4B76-9912-1DAEF2809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83DB-509B-49CE-B57D-522BC6C36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9BDE-BDE1-4277-9997-55570418C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8CB3B-65DE-4BB0-BAC2-797AC2870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3049-5064-43E2-8ED0-EC07F38F2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1F94C-750A-479F-A807-B7964AE97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DDE1A-976B-4636-8C29-6FBF9BC7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5980E-5C7E-4964-8758-CE3C012CC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FFBD-D7A7-4D52-AD7B-D3C787E60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7F432-BCEF-4E8B-BA05-EAAFD787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5EF-C3FB-4914-96BC-7AC1757BF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707B7-AEDF-425A-8074-ED9FDFC02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53085-3BA1-401C-983D-4C8A02510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4A42-EACA-449B-B90F-02D0160B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EC9D6-A49A-4E90-A244-B1F461593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3556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99880" y="34999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37160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3556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699880" y="44157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6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CB94A-0003-4D95-88AC-34260488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C63A-7A8C-42DE-B7D7-A917E1A5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5C79-6C66-4173-AB83-1CABA19CF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720-685E-4640-BA48-3538CD9C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764640"/>
            <a:ext cx="7772400" cy="83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08E2-245F-4E90-B54E-7552A727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8BEE-2FBA-4860-8792-96B6364E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4157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B2DBF-F073-44CA-BE50-7BEAD1C88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4999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4157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3B0-7890-486E-B99D-B05E84B22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2589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077560"/>
            <a:ext cx="8229600" cy="404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741E-F164-4AA2-AB92-94447BB3C0F6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A0D44664-C88D-47A4-B3CA-31CECA3ADFEF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4884-32AC-4BB1-8D9E-B5F076CB11FC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908000" y="-33480"/>
            <a:ext cx="71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ffffff"/>
                </a:solidFill>
                <a:latin typeface="Arial"/>
                <a:ea typeface="Arial"/>
              </a:rPr>
              <a:t>Curso C - IC/UNICAM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V="1">
            <a:off x="43164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612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 flipV="1">
            <a:off x="8712360" y="1267920"/>
            <a:ext cx="0" cy="558972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144936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964720" y="0"/>
            <a:ext cx="179280" cy="6858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078B-92A6-4640-99F6-CC4AFE23ACA4}" type="datetime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fld id="{E8A9BA6D-7A15-432F-B081-9DDE49D4FB92}" type="datetime10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06:5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0C895-9AE3-41E4-8595-F8D3B0765C6D}" type="slidenum">
              <a:rPr b="0" lang="pt-BR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urso de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36AF5-070F-4968-B841-C795A88DA1EA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D5AC3763-9554-43AB-B899-1EC2BEAD170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41280" y="1989000"/>
            <a:ext cx="8461440" cy="423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2077920"/>
          <a:ext cx="4038480" cy="4048200"/>
        </p:xfrm>
        <a:graphic>
          <a:graphicData uri="http://schemas.openxmlformats.org/drawingml/2006/table">
            <a:tbl>
              <a:tblPr/>
              <a:tblGrid>
                <a:gridCol w="977760"/>
                <a:gridCol w="917640"/>
                <a:gridCol w="765360"/>
                <a:gridCol w="137772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0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5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6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9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1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4648320" y="2077920"/>
          <a:ext cx="4038480" cy="4073760"/>
        </p:xfrm>
        <a:graphic>
          <a:graphicData uri="http://schemas.openxmlformats.org/drawingml/2006/table">
            <a:tbl>
              <a:tblPr/>
              <a:tblGrid>
                <a:gridCol w="977760"/>
                <a:gridCol w="917640"/>
                <a:gridCol w="765000"/>
                <a:gridCol w="137808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1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0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0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D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1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11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F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0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0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0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0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1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10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2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2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10011</a:t>
                      </a:r>
                      <a:r>
                        <a:rPr b="1" lang="pt-BR" sz="1800" spc="-1" strike="noStrike" baseline="-30000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23</a:t>
                      </a:r>
                      <a:r>
                        <a:rPr b="1" lang="pt-BR" sz="1800" spc="-1" strike="noStrike" baseline="-30000">
                          <a:solidFill>
                            <a:srgbClr val="009900"/>
                          </a:solidFill>
                          <a:latin typeface="Arial"/>
                          <a:ea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3</a:t>
                      </a:r>
                      <a:r>
                        <a:rPr b="1" lang="pt-BR" sz="1800" spc="-1" strike="noStrike" baseline="-30000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100</a:t>
                      </a:r>
                      <a:r>
                        <a:rPr b="1" lang="pt-BR" sz="18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24</a:t>
                      </a:r>
                      <a:r>
                        <a:rPr b="1" lang="pt-BR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4</a:t>
                      </a:r>
                      <a:r>
                        <a:rPr b="1" lang="pt-BR" sz="18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10101</a:t>
                      </a:r>
                      <a:r>
                        <a:rPr b="1" lang="pt-BR" sz="1800" spc="-1" strike="noStrike" baseline="-25000">
                          <a:solidFill>
                            <a:srgbClr val="ff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25</a:t>
                      </a:r>
                      <a:r>
                        <a:rPr b="1" lang="pt-BR" sz="1800" spc="-1" strike="noStrike" baseline="-25000">
                          <a:solidFill>
                            <a:srgbClr val="0099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800" spc="-1" strike="noStrike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16</a:t>
                      </a:r>
                      <a:r>
                        <a:rPr b="1" lang="pt-BR" sz="1800" spc="-1" strike="noStrike" baseline="-25000">
                          <a:solidFill>
                            <a:srgbClr val="0000ff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8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mparação entre sistemas numéric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48F8-3B27-4762-934E-B253E7CC2890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8FCE2-89B6-46A4-98AB-88A6C60D1B9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2C82F-5DED-49A3-B2B5-401190BCDAF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B4BFB70-C5A5-44B9-BBF1-CECB9FF8D47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multiplicaçõ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cessiv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trad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, bas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B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ígito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-1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pt-BR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-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pt-BR" sz="2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Algorit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Resultado </a:t>
            </a:r>
            <a:r>
              <a:rPr b="1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Para cada dígito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pt-BR" sz="28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(de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pt-BR" sz="2800" spc="-1" strike="noStrike" baseline="-25000">
                <a:solidFill>
                  <a:srgbClr val="000000"/>
                </a:solidFill>
                <a:latin typeface="Courier New"/>
              </a:rPr>
              <a:t>n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 até </a:t>
            </a:r>
            <a:r>
              <a:rPr b="1" i="1" lang="pt-BR" sz="2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pt-BR" sz="2800" spc="-1" strike="noStrike" baseline="-25000">
                <a:solidFill>
                  <a:srgbClr val="000000"/>
                </a:solidFill>
                <a:latin typeface="Courier New"/>
              </a:rPr>
              <a:t>0</a:t>
            </a:r>
            <a:r>
              <a:rPr b="1" lang="pt-BR" sz="2800" spc="-1" strike="noStrike">
                <a:solidFill>
                  <a:srgbClr val="000000"/>
                </a:solidFill>
                <a:latin typeface="Courier New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Resultado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Resultado*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1" lang="pt-BR" sz="2400" spc="-1" strike="noStrike">
                <a:solidFill>
                  <a:srgbClr val="000000"/>
                </a:solidFill>
                <a:latin typeface="Courier New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i="1" lang="pt-BR" sz="24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versão para base decim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4905-A48A-46E3-B4F0-1CBCFEC24A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EEFE2-454D-46D2-888E-E68FB73547D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r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305</a:t>
            </a:r>
            <a:r>
              <a:rPr b="1" lang="pt-BR" sz="2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octal) para a base deci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ígit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ó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8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0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66960" y="6019920"/>
            <a:ext cx="345096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1305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709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53080" y="3519360"/>
            <a:ext cx="449280" cy="19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2" idx="3"/>
          </p:cNvCxnSpPr>
          <p:nvPr/>
        </p:nvCxnSpPr>
        <p:spPr>
          <a:xfrm>
            <a:off x="8686800" y="4157640"/>
            <a:ext cx="2160" cy="2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4170-1C28-4C1A-AA12-8504F9A7AFE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F092E7-4619-44E1-9708-CF9F6243426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0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r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1E31</a:t>
            </a:r>
            <a:r>
              <a:rPr b="1" lang="pt-BR" sz="2800" spc="-1" strike="noStrike" baseline="-25000">
                <a:solidFill>
                  <a:srgbClr val="ff0000"/>
                </a:solidFill>
                <a:latin typeface="Arial"/>
                <a:ea typeface="Times New Roman"/>
              </a:rPr>
              <a:t>1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hexadecimal) para deci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Val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ígit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ró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14)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(16 + 14 = 3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0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8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83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1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7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539640"/>
                <a:tab algn="l" pos="1703520"/>
                <a:tab algn="l" pos="3144960"/>
                <a:tab algn="l" pos="4668840"/>
                <a:tab algn="l" pos="51116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729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IM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738520" y="6019920"/>
            <a:ext cx="382428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1E31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6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7729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41640" y="3519360"/>
            <a:ext cx="449280" cy="1979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B84-6E43-4E97-A486-FE918DC0701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7239B-BEF4-4CAB-8238-BDC27EDB045A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53964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Transformar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00101011</a:t>
            </a:r>
            <a:r>
              <a:rPr b="1" lang="pt-BR" sz="2800" spc="-1" strike="noStrike" baseline="-30000">
                <a:solidFill>
                  <a:srgbClr val="ff0000"/>
                </a:solidFill>
                <a:latin typeface="Arial"/>
                <a:ea typeface="Times New Roman"/>
              </a:rPr>
              <a:t>2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binário) para decim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Dígito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róxi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260360"/>
                <a:tab algn="l" pos="2508120"/>
                <a:tab algn="l" pos="3948120"/>
                <a:tab algn="l" pos="5029200"/>
                <a:tab algn="l" pos="57355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43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11280" y="6019920"/>
            <a:ext cx="415152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00101011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43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53080" y="2978280"/>
            <a:ext cx="449280" cy="252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B720-0292-4E6C-B7D0-9A62AA14921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610F8-94D7-4DC3-AB18-C2EE7ED156C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goritm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divisõ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sucessiv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ntrada: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úmer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, base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ígitos: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-1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-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...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 algn="just"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lgorit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quant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≠ 0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(res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r (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té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0" i="1" lang="pt-BR" sz="24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m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versão de decimal para outra bas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E31AE-B8CE-4B3B-8586-815F26A33831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DA4DF-F8BA-4953-9A36-F059F320FF1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203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base oct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        R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034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8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25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8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8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8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411280" y="6019920"/>
            <a:ext cx="415152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2034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3762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823080" y="3338640"/>
            <a:ext cx="630360" cy="23414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295-4DC9-4A2E-AA50-6DE9336EDA7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951BD-355E-46EB-AAC0-C1176E735FCA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ransformar </a:t>
            </a:r>
            <a:r>
              <a:rPr b="1" lang="pt-BR" sz="3200" spc="-1" strike="noStrike">
                <a:solidFill>
                  <a:srgbClr val="ff0000"/>
                </a:solidFill>
                <a:latin typeface="Arial"/>
              </a:rPr>
              <a:t>125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a base hexadecim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           Re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253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16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78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16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14 (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66884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16 =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11280" y="6019920"/>
            <a:ext cx="415152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1253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4E5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821640" y="3338640"/>
            <a:ext cx="1530360" cy="17110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3C0A-176E-4664-8E27-C72C1755899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888137-F787-4006-A765-156D0908F67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fill="hold">
                      <p:stCondLst>
                        <p:cond delay="0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ransformar </a:t>
            </a:r>
            <a:r>
              <a:rPr b="1" lang="pt-BR" sz="2800" spc="-1" strike="noStrike">
                <a:solidFill>
                  <a:srgbClr val="ff0000"/>
                </a:solidFill>
                <a:latin typeface="Arial"/>
              </a:rPr>
              <a:t>35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para a base binár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Valor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             Re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81080"/>
                <a:tab algn="l" pos="2147760"/>
                <a:tab algn="l" pos="3227400"/>
                <a:tab algn="l" pos="3587760"/>
                <a:tab algn="l" pos="4751280"/>
                <a:tab algn="l" pos="5735520"/>
                <a:tab algn="l" pos="64562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2 =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11280" y="6019920"/>
            <a:ext cx="4151520" cy="510120"/>
          </a:xfrm>
          <a:prstGeom prst="rect">
            <a:avLst/>
          </a:prstGeom>
          <a:solidFill>
            <a:srgbClr val="ccffff"/>
          </a:solidFill>
          <a:ln w="12600">
            <a:solidFill>
              <a:srgbClr val="006699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Portanto: 35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10</a:t>
            </a:r>
            <a:r>
              <a:rPr b="1" lang="pt-BR" sz="2400" spc="-1" strike="noStrike">
                <a:solidFill>
                  <a:srgbClr val="ff0000"/>
                </a:solidFill>
                <a:latin typeface="Arial"/>
              </a:rPr>
              <a:t> = 100011</a:t>
            </a:r>
            <a:r>
              <a:rPr b="1" lang="pt-BR" sz="24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732720" y="3068640"/>
            <a:ext cx="630000" cy="2790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CD97-DD55-4149-9BCA-89990FE915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55C2E4-C9E4-4FA8-99CD-3205F296C57C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0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2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ntender como representar núm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prender a converter entre representaçõ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mpreender como o computador representa números na memó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Ler e escrever em outra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bjetiv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A583-20BE-4312-B52D-75C1D8BEFE8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524E0B-93D7-42FE-85CE-54C2DC236E0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ais fáci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ter da base original para base decimal (multiplicações sucessiv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ter da base decimal para outra base (divisões sucessiva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Binário, Octal e Hexadecimal: usar casos especiai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nversão entre quaisquer ba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45ED-E643-433F-A314-44DA6DB7A5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C693CD-542B-48B2-942D-53E37A49173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431640" y="2258640"/>
            <a:ext cx="822960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lvl="1" marL="743040" indent="0" algn="just">
              <a:spcBef>
                <a:spcPts val="700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Conversão de Ba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asos especia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2259000"/>
            <a:ext cx="7921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ter 00110110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hexadecim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4238640"/>
            <a:ext cx="795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ter 00110110</a:t>
            </a:r>
            <a:r>
              <a:rPr b="0" lang="pt-BR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para octa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572000" y="2978280"/>
            <a:ext cx="2933640" cy="110484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1693800" y="315900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s de 4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603080" y="5049720"/>
            <a:ext cx="241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Grupos de 3 b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572000" y="4869000"/>
            <a:ext cx="3070080" cy="1104840"/>
          </a:xfrm>
          <a:prstGeom prst="rect">
            <a:avLst/>
          </a:prstGeom>
          <a:ln w="0">
            <a:noFill/>
          </a:ln>
        </p:spPr>
      </p:pic>
      <p:sp>
        <p:nvSpPr>
          <p:cNvPr id="24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339-6963-42C5-B5A1-5231F48E7FE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E9809-B1B6-41B6-A0A6-583D687AD34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1" dur="indefinite" restart="never" nodeType="tmRoot">
          <p:childTnLst>
            <p:seq>
              <p:cTn id="632" dur="indefinite" nodeType="mainSeq">
                <p:childTnLst>
                  <p:par>
                    <p:cTn id="633" fill="hold">
                      <p:stCondLst>
                        <p:cond delay="0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Números em C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F9B74-7226-4D14-A2E3-BBE572786F7F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BC2FABA-ABD7-481C-BC57-226292D8E6A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cimais: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10, 132, 32179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çam com 1, 2, 3, ...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ctais: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12, 0204, 076663, ...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çam com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Hexadecimais: 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0xA, 0xa, 0x84, 0x7B3,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çam com 0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úmeros 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s em 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4B12-93E3-4FDD-B403-DA02BF75E0F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5B466-C404-4897-BDD9-E9D77C0DD74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725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int i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i = 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printf(“i(dec)=%d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i =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printf(“i(dec)=%d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i = </a:t>
            </a:r>
            <a:r>
              <a:rPr b="1" lang="pt-BR" sz="2000" spc="-1" strike="noStrike">
                <a:solidFill>
                  <a:srgbClr val="ff0000"/>
                </a:solidFill>
                <a:latin typeface="Courier New"/>
              </a:rPr>
              <a:t>0x</a:t>
            </a: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1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6600"/>
                </a:solidFill>
                <a:latin typeface="Courier New"/>
              </a:rPr>
              <a:t>printf(“i(dec)=%d”,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úmeros 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o códig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72000" y="3249720"/>
            <a:ext cx="900360" cy="269640"/>
          </a:xfrm>
          <a:prstGeom prst="rightArrow">
            <a:avLst>
              <a:gd name="adj1" fmla="val 50000"/>
              <a:gd name="adj2" fmla="val 83478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14160" y="315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472000" y="4329000"/>
            <a:ext cx="900360" cy="270000"/>
          </a:xfrm>
          <a:prstGeom prst="rightArrow">
            <a:avLst>
              <a:gd name="adj1" fmla="val 50000"/>
              <a:gd name="adj2" fmla="val 833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472000" y="5408640"/>
            <a:ext cx="900360" cy="270000"/>
          </a:xfrm>
          <a:prstGeom prst="rightArrow">
            <a:avLst>
              <a:gd name="adj1" fmla="val 50000"/>
              <a:gd name="adj2" fmla="val 833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7004520" y="42386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7004520" y="522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923080" y="6219720"/>
            <a:ext cx="24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digo01\Codigo01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D783-ECE4-4ED2-B3EA-CF8A946686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5AFDF9-68E4-4A42-A297-5613AA9BA4E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base 10 (decinal):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%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%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base 8 (octal):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%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a base 16 (hexadecimal): 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%x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</a:t>
            </a:r>
            <a:r>
              <a:rPr b="1" lang="pt-BR" sz="2400" spc="-1" strike="noStrike">
                <a:solidFill>
                  <a:srgbClr val="3333cc"/>
                </a:solidFill>
                <a:latin typeface="Courier New"/>
              </a:rPr>
              <a:t> %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int i=22; int j=-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printf(“i(dec)=%d, i(oct)=%o, i(hex)=%x”,i,i,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printf(“j(dec)=%d, j(oct)=%o, j(hex)=%x, j(HEX)=%X”,j,j,j,j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i(dec)=22, i(oct)=26, i(hex)=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 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j(dec)=-1, j(oct)=37777777777, j(hex)=ffffffff, j(HEX)=FFFFFF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úmeros 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scrita com 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  <a:ea typeface="Arial"/>
              </a:rPr>
              <a:t>printf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20560" y="5499000"/>
            <a:ext cx="8012160" cy="63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Converte automaticamente para a representação pedi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923080" y="6219720"/>
            <a:ext cx="245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Imprime01\Imprime01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2B6F-C0CB-47B0-9076-A5F6C793DDA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1FA65C-3D87-40B3-A3A5-1BA5BF0CD54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520560" y="4959360"/>
            <a:ext cx="8229600" cy="13492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base 16 (hexadecimal):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  <a:ea typeface="Arial"/>
              </a:rPr>
              <a:t>%x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u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  <a:ea typeface="Arial"/>
              </a:rPr>
              <a:t> %X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Courier New"/>
                <a:ea typeface="Arial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int 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   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scanf(“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  <a:ea typeface="Arial"/>
              </a:rPr>
              <a:t>%x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”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printf(“i(dec)=%d”,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431640" y="1988640"/>
            <a:ext cx="8229600" cy="13496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 base 10 (decinal):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%d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</a:rPr>
              <a:t>%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int i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   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scanf(“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</a:rPr>
              <a:t>%d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”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</a:rPr>
              <a:t>printf(“i(dec)=%d”,i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92720" y="2619360"/>
            <a:ext cx="3060720" cy="5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Números em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Leitura com </a:t>
            </a:r>
            <a:r>
              <a:rPr b="1" lang="pt-BR" sz="3200" spc="-1" strike="noStrike">
                <a:solidFill>
                  <a:srgbClr val="3333cc"/>
                </a:solidFill>
                <a:latin typeface="Courier New"/>
                <a:ea typeface="Arial"/>
              </a:rPr>
              <a:t>scanf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725600" y="26193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5474160" y="2619360"/>
            <a:ext cx="1798200" cy="459720"/>
            <a:chOff x="5474160" y="2619360"/>
            <a:chExt cx="1798200" cy="459720"/>
          </a:xfrm>
        </p:grpSpPr>
        <p:sp>
          <p:nvSpPr>
            <p:cNvPr id="278" name=""/>
            <p:cNvSpPr/>
            <p:nvPr/>
          </p:nvSpPr>
          <p:spPr>
            <a:xfrm>
              <a:off x="5474160" y="261936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2000" y="279864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879480" y="533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31640" y="3429000"/>
            <a:ext cx="8229600" cy="13492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base 8 (octal): </a:t>
            </a:r>
            <a:r>
              <a:rPr b="1" lang="pt-BR" sz="2800" spc="-1" strike="noStrike">
                <a:solidFill>
                  <a:srgbClr val="3333cc"/>
                </a:solidFill>
                <a:latin typeface="Courier New"/>
                <a:ea typeface="Arial"/>
              </a:rPr>
              <a:t>%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6600"/>
                </a:solidFill>
                <a:latin typeface="Courier New"/>
                <a:ea typeface="Arial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int i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   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scanf(“</a:t>
            </a:r>
            <a:r>
              <a:rPr b="1" lang="pt-BR" sz="1600" spc="-1" strike="noStrike">
                <a:solidFill>
                  <a:srgbClr val="ff0000"/>
                </a:solidFill>
                <a:latin typeface="Courier New"/>
                <a:ea typeface="Arial"/>
              </a:rPr>
              <a:t>%o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”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	</a:t>
            </a:r>
            <a:r>
              <a:rPr b="1" lang="pt-BR" sz="1600" spc="-1" strike="noStrike">
                <a:solidFill>
                  <a:srgbClr val="006600"/>
                </a:solidFill>
                <a:latin typeface="Courier New"/>
                <a:ea typeface="Arial"/>
              </a:rPr>
              <a:t>printf(“i(dec)=%d”,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292720" y="3519360"/>
            <a:ext cx="3060720" cy="540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5383800" y="3608280"/>
            <a:ext cx="1798200" cy="459720"/>
            <a:chOff x="5383800" y="3608280"/>
            <a:chExt cx="1798200" cy="459720"/>
          </a:xfrm>
        </p:grpSpPr>
        <p:sp>
          <p:nvSpPr>
            <p:cNvPr id="284" name=""/>
            <p:cNvSpPr/>
            <p:nvPr/>
          </p:nvSpPr>
          <p:spPr>
            <a:xfrm>
              <a:off x="5383800" y="360828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81640" y="378756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7725600" y="36082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292720" y="4149720"/>
            <a:ext cx="3060720" cy="5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474160" y="4238640"/>
            <a:ext cx="1798200" cy="459720"/>
            <a:chOff x="5474160" y="4238640"/>
            <a:chExt cx="1798200" cy="459720"/>
          </a:xfrm>
        </p:grpSpPr>
        <p:sp>
          <p:nvSpPr>
            <p:cNvPr id="289" name=""/>
            <p:cNvSpPr/>
            <p:nvPr/>
          </p:nvSpPr>
          <p:spPr>
            <a:xfrm>
              <a:off x="5474160" y="4238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8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72000" y="441792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7544160" y="4149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er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2720" y="5408640"/>
            <a:ext cx="3060720" cy="5396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5113800" y="5408640"/>
            <a:ext cx="1798200" cy="459720"/>
            <a:chOff x="5113800" y="5408640"/>
            <a:chExt cx="1798200" cy="459720"/>
          </a:xfrm>
        </p:grpSpPr>
        <p:sp>
          <p:nvSpPr>
            <p:cNvPr id="294" name=""/>
            <p:cNvSpPr/>
            <p:nvPr/>
          </p:nvSpPr>
          <p:spPr>
            <a:xfrm>
              <a:off x="5113800" y="540864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011640" y="5587920"/>
              <a:ext cx="900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6" name=""/>
          <p:cNvSpPr/>
          <p:nvPr/>
        </p:nvSpPr>
        <p:spPr>
          <a:xfrm>
            <a:off x="7274520" y="54086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32360" y="630864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Saida01\Saida01.vcproj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32AC-02C8-43A8-BE28-3B2510A6EC6D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093CC1-A45B-4197-B808-AAD04F3C9178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6" dur="indefinite" restart="never" nodeType="tmRoot">
          <p:childTnLst>
            <p:seq>
              <p:cTn id="787" dur="indefinite" nodeType="mainSeq">
                <p:childTnLst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fill="hold">
                      <p:stCondLst>
                        <p:cond delay="indefinite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2872D-874E-4462-A322-DE4BC3C28022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1CF2E58-941A-4CDD-A96E-76E56938962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it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unidade básica de inform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: 0 ou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Nibbl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4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: 0000, 0001, 00010, ..., 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Byt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8 b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alores: 0000 0000, ..., 1111 11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Palavr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: 2, 4 ou 8 by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Bits, Nibbles, Bytes e Palav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4E0A-EDF2-49A4-9175-CFE1CF6B24D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49B4FA-7F88-4F51-809B-4ECFF8AAC98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8" dur="indefinite" restart="never" nodeType="tmRoot">
          <p:childTnLst>
            <p:seq>
              <p:cTn id="889" dur="indefinite" nodeType="mainSeq">
                <p:childTnLst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byt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a palav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ção Binári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2862360" y="2708280"/>
            <a:ext cx="3483000" cy="11826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2"/>
          <a:stretch/>
        </p:blipFill>
        <p:spPr>
          <a:xfrm>
            <a:off x="743040" y="4611600"/>
            <a:ext cx="7656480" cy="1608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3458520" y="2278080"/>
            <a:ext cx="227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Dígitos biná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C24F-FB27-44F0-8FC5-AC62F9CFAED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E89FAF-DE2D-4379-8484-5D4624F9D117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0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versão entre sistema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scrita e leirura em outras 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oteir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5546-8F81-4546-85F9-0E1CAA8FFFC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C20DAD-89EE-43CA-B39B-A71460A916C6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31640" y="1989000"/>
            <a:ext cx="8280720" cy="459108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Tipos Binár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060560" y="2077920"/>
          <a:ext cx="7021440" cy="4470480"/>
        </p:xfrm>
        <a:graphic>
          <a:graphicData uri="http://schemas.openxmlformats.org/drawingml/2006/table">
            <a:tbl>
              <a:tblPr/>
              <a:tblGrid>
                <a:gridCol w="4049640"/>
                <a:gridCol w="29718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i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Quantidade de memó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signed 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unsigned ch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byte (8 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(signed)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unsigned short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 bytes (16 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(signed)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unsigned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bytes (32 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(signed)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unsigned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bytes (32 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(signed) long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000080"/>
                          </a:solidFill>
                          <a:latin typeface="Courier New"/>
                          <a:ea typeface="Times New Roman"/>
                        </a:rPr>
                        <a:t>unsigned long long 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bytes (64 bit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B250-B8FF-48EA-B55E-16B41E55A1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E1F9C-3EA4-4AEF-B548-53DCBFDCC894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1" dur="indefinite" restart="never" nodeType="tmRoot">
          <p:childTnLst>
            <p:seq>
              <p:cTn id="942" dur="indefinite" nodeType="mainSeq">
                <p:childTnLst>
                  <p:par>
                    <p:cTn id="943" fill="hold">
                      <p:stCondLst>
                        <p:cond delay="0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0000"/>
                </a:solidFill>
                <a:latin typeface="Arial"/>
              </a:rPr>
              <a:t>Cada bit representa um dígi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 unsigned (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em sinal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3402000" y="2889360"/>
            <a:ext cx="2346480" cy="10396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612720" y="3968640"/>
            <a:ext cx="7916760" cy="72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Valor: 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1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1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1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2000" y="4780080"/>
            <a:ext cx="7560000" cy="128844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Palavra com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bits: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alor mínimo: 0 (todos os bits são 0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Valor máximo: 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-1 (todos são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150B-8A89-4A76-9550-8F61F35B537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81A900-E309-4A71-97DE-3516D27D990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500"/>
                            </p:stCondLst>
                            <p:childTnLst>
                              <p:par>
                                <p:cTn id="9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44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meiro bit: </a:t>
            </a: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deslocamento nega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utros bits: díg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Número signed (</a:t>
            </a:r>
            <a:r>
              <a:rPr b="1" i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com sinal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3397320" y="3068640"/>
            <a:ext cx="2349360" cy="175248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12720" y="4869000"/>
            <a:ext cx="7916760" cy="457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d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: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2</a:t>
            </a:r>
            <a:r>
              <a:rPr b="0" lang="pt-BR" sz="24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8-1</a:t>
            </a:r>
            <a:r>
              <a:rPr b="0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·</a:t>
            </a:r>
            <a:r>
              <a:rPr b="0" i="1" lang="pt-BR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</a:t>
            </a:r>
            <a:r>
              <a:rPr b="0" lang="pt-BR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71640" y="5408640"/>
            <a:ext cx="7200720" cy="1130400"/>
          </a:xfrm>
          <a:prstGeom prst="rect">
            <a:avLst/>
          </a:prstGeom>
          <a:noFill/>
          <a:ln w="93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lavra com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bits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mínimo (s é -1, resto é 0): </a:t>
            </a:r>
            <a:r>
              <a:rPr b="1" lang="pt-BR" sz="2000" spc="-1" strike="noStrike">
                <a:solidFill>
                  <a:srgbClr val="ff0000"/>
                </a:solidFill>
                <a:latin typeface="Arial"/>
              </a:rPr>
              <a:t>-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alor máximo (s é 0, resto é 1)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2</a:t>
            </a:r>
            <a:r>
              <a:rPr b="0" lang="pt-BR" sz="20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n-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– 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0EAF-55BE-46FF-8D3A-576103F9A41B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0A6473-7C1B-4D2C-B68F-649184868F0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0" dur="indefinite" restart="never" nodeType="tmRoot">
          <p:childTnLst>
            <p:seq>
              <p:cTn id="961" dur="indefinite" nodeType="mainSeq">
                <p:childTnLst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0" fill="hold">
                            <p:stCondLst>
                              <p:cond delay="500"/>
                            </p:stCondLst>
                            <p:childTnLst>
                              <p:par>
                                <p:cTn id="9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31640" y="1898640"/>
            <a:ext cx="8229600" cy="444672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05600" y="2208240"/>
            <a:ext cx="413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presentar (8 bits):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85320" y="2798640"/>
            <a:ext cx="358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m binário: 1000010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12720" y="3338640"/>
            <a:ext cx="7916760" cy="1350360"/>
            <a:chOff x="612720" y="3338640"/>
            <a:chExt cx="7916760" cy="1350360"/>
          </a:xfrm>
        </p:grpSpPr>
        <p:sp>
          <p:nvSpPr>
            <p:cNvPr id="336" name=""/>
            <p:cNvSpPr/>
            <p:nvPr/>
          </p:nvSpPr>
          <p:spPr>
            <a:xfrm>
              <a:off x="612720" y="3428640"/>
              <a:ext cx="7916760" cy="126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1"/>
            <a:stretch/>
          </p:blipFill>
          <p:spPr>
            <a:xfrm>
              <a:off x="4572000" y="3338640"/>
              <a:ext cx="2936880" cy="94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1418400" y="371916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unsigned in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9" name=""/>
          <p:cNvGrpSpPr/>
          <p:nvPr/>
        </p:nvGrpSpPr>
        <p:grpSpPr>
          <a:xfrm>
            <a:off x="612720" y="4508640"/>
            <a:ext cx="7916760" cy="1309680"/>
            <a:chOff x="612720" y="4508640"/>
            <a:chExt cx="7916760" cy="1309680"/>
          </a:xfrm>
        </p:grpSpPr>
        <p:sp>
          <p:nvSpPr>
            <p:cNvPr id="340" name=""/>
            <p:cNvSpPr/>
            <p:nvPr/>
          </p:nvSpPr>
          <p:spPr>
            <a:xfrm>
              <a:off x="612720" y="4557600"/>
              <a:ext cx="7916760" cy="126072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41" name="" descr=""/>
            <p:cNvPicPr/>
            <p:nvPr/>
          </p:nvPicPr>
          <p:blipFill>
            <a:blip r:embed="rId2"/>
            <a:stretch/>
          </p:blipFill>
          <p:spPr>
            <a:xfrm>
              <a:off x="4572000" y="4508640"/>
              <a:ext cx="293688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1415880" y="48276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igned in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614160" y="5859360"/>
            <a:ext cx="77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representação é igual para signed e unsig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6920-5661-454F-8924-9694F76F097C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EB5D2-3A28-4FF9-A4D3-939F65C40AB2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fill="hold">
                      <p:stCondLst>
                        <p:cond delay="0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31640" y="1989000"/>
            <a:ext cx="8229600" cy="426744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05600" y="2208240"/>
            <a:ext cx="433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presentar (8 bits):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75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49040" y="2798640"/>
            <a:ext cx="3778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m binário: 10101111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12720" y="3338640"/>
            <a:ext cx="7916760" cy="1350720"/>
            <a:chOff x="612720" y="3338640"/>
            <a:chExt cx="7916760" cy="1350720"/>
          </a:xfrm>
        </p:grpSpPr>
        <p:sp>
          <p:nvSpPr>
            <p:cNvPr id="351" name=""/>
            <p:cNvSpPr/>
            <p:nvPr/>
          </p:nvSpPr>
          <p:spPr>
            <a:xfrm>
              <a:off x="612720" y="3429000"/>
              <a:ext cx="7916760" cy="126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418400" y="3719520"/>
              <a:ext cx="2954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unsigned in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3" name="" descr=""/>
            <p:cNvPicPr/>
            <p:nvPr/>
          </p:nvPicPr>
          <p:blipFill>
            <a:blip r:embed="rId1"/>
            <a:stretch/>
          </p:blipFill>
          <p:spPr>
            <a:xfrm>
              <a:off x="4572000" y="3338640"/>
              <a:ext cx="293688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4" name=""/>
          <p:cNvGrpSpPr/>
          <p:nvPr/>
        </p:nvGrpSpPr>
        <p:grpSpPr>
          <a:xfrm>
            <a:off x="611280" y="4508640"/>
            <a:ext cx="7916760" cy="1260360"/>
            <a:chOff x="611280" y="4508640"/>
            <a:chExt cx="7916760" cy="1260360"/>
          </a:xfrm>
        </p:grpSpPr>
        <p:sp>
          <p:nvSpPr>
            <p:cNvPr id="355" name=""/>
            <p:cNvSpPr/>
            <p:nvPr/>
          </p:nvSpPr>
          <p:spPr>
            <a:xfrm>
              <a:off x="611280" y="4508640"/>
              <a:ext cx="7916760" cy="126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415880" y="48276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igned in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57" name="" descr=""/>
            <p:cNvPicPr/>
            <p:nvPr/>
          </p:nvPicPr>
          <p:blipFill>
            <a:blip r:embed="rId2"/>
            <a:stretch/>
          </p:blipFill>
          <p:spPr>
            <a:xfrm>
              <a:off x="4572000" y="4599000"/>
              <a:ext cx="293688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58" name=""/>
          <p:cNvGrpSpPr/>
          <p:nvPr/>
        </p:nvGrpSpPr>
        <p:grpSpPr>
          <a:xfrm>
            <a:off x="1065960" y="5589720"/>
            <a:ext cx="3685320" cy="729360"/>
            <a:chOff x="1065960" y="5589720"/>
            <a:chExt cx="3685320" cy="729360"/>
          </a:xfrm>
        </p:grpSpPr>
        <p:sp>
          <p:nvSpPr>
            <p:cNvPr id="359" name=""/>
            <p:cNvSpPr/>
            <p:nvPr/>
          </p:nvSpPr>
          <p:spPr>
            <a:xfrm>
              <a:off x="1065960" y="5859360"/>
              <a:ext cx="3297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ff0000"/>
                  </a:solidFill>
                  <a:latin typeface="Arial"/>
                </a:rPr>
                <a:t>Representação errada!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302000" y="5589720"/>
              <a:ext cx="449280" cy="539640"/>
            </a:xfrm>
            <a:custGeom>
              <a:avLst/>
              <a:gdLst/>
              <a:ahLst/>
              <a:rect l="l" t="t" r="r" b="b"/>
              <a:pathLst>
                <a:path w="283" h="340">
                  <a:moveTo>
                    <a:pt x="0" y="340"/>
                  </a:moveTo>
                  <a:lnTo>
                    <a:pt x="283" y="340"/>
                  </a:lnTo>
                  <a:lnTo>
                    <a:pt x="283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025240" y="6039000"/>
            <a:ext cx="34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-128</a:t>
            </a: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32+8+4+2+1= </a:t>
            </a: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-8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6372360" y="5680080"/>
            <a:ext cx="1773720" cy="398880"/>
            <a:chOff x="6372360" y="5680080"/>
            <a:chExt cx="1773720" cy="398880"/>
          </a:xfrm>
        </p:grpSpPr>
        <p:sp>
          <p:nvSpPr>
            <p:cNvPr id="364" name=""/>
            <p:cNvSpPr/>
            <p:nvPr/>
          </p:nvSpPr>
          <p:spPr>
            <a:xfrm>
              <a:off x="6372360" y="5697720"/>
              <a:ext cx="0" cy="355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48040" y="5680080"/>
              <a:ext cx="159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ff"/>
                  </a:solidFill>
                  <a:latin typeface="Arial"/>
                </a:rPr>
                <a:t>valor corret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A3D3-304A-43E7-BBE5-648F5C0229A4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826B28-5E22-430D-9351-28DBCC083F72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3905280"/>
          </a:xfrm>
          <a:prstGeom prst="rect">
            <a:avLst/>
          </a:prstGeom>
          <a:solidFill>
            <a:srgbClr val="ccffcc"/>
          </a:solidFill>
          <a:ln w="12600">
            <a:solidFill>
              <a:srgbClr val="008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Representação de Númer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Exempl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05600" y="22082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Representar: -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004400" y="2798640"/>
            <a:ext cx="4184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"/>
              </a:rPr>
              <a:t>Em binário: 38 = 100110</a:t>
            </a:r>
            <a:r>
              <a:rPr b="0" lang="pt-BR" sz="2800" spc="-1" strike="noStrike" baseline="-25000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12720" y="3429000"/>
            <a:ext cx="7916760" cy="1260360"/>
            <a:chOff x="612720" y="3429000"/>
            <a:chExt cx="7916760" cy="1260360"/>
          </a:xfrm>
        </p:grpSpPr>
        <p:sp>
          <p:nvSpPr>
            <p:cNvPr id="372" name=""/>
            <p:cNvSpPr/>
            <p:nvPr/>
          </p:nvSpPr>
          <p:spPr>
            <a:xfrm>
              <a:off x="612720" y="3429000"/>
              <a:ext cx="7916760" cy="1260360"/>
            </a:xfrm>
            <a:prstGeom prst="rect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c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415160" y="3719520"/>
              <a:ext cx="5301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unsigned int: </a:t>
              </a:r>
              <a:r>
                <a:rPr b="1" lang="pt-BR" sz="2800" spc="-1" strike="noStrike">
                  <a:solidFill>
                    <a:srgbClr val="ff0000"/>
                  </a:solidFill>
                  <a:latin typeface="Courier New"/>
                </a:rPr>
                <a:t>impossíve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612720" y="4557600"/>
            <a:ext cx="7916760" cy="126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583520" y="2228040"/>
            <a:ext cx="26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-90 = – 2</a:t>
            </a:r>
            <a:r>
              <a:rPr b="0" lang="pt-BR" sz="2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+ 3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415880" y="4508640"/>
            <a:ext cx="6096240" cy="949320"/>
            <a:chOff x="1415880" y="4508640"/>
            <a:chExt cx="6096240" cy="949320"/>
          </a:xfrm>
        </p:grpSpPr>
        <p:sp>
          <p:nvSpPr>
            <p:cNvPr id="377" name=""/>
            <p:cNvSpPr/>
            <p:nvPr/>
          </p:nvSpPr>
          <p:spPr>
            <a:xfrm>
              <a:off x="1415880" y="4827600"/>
              <a:ext cx="2527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Courier New"/>
                </a:rPr>
                <a:t>signed int: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78" name="" descr=""/>
            <p:cNvPicPr/>
            <p:nvPr/>
          </p:nvPicPr>
          <p:blipFill>
            <a:blip r:embed="rId1"/>
            <a:stretch/>
          </p:blipFill>
          <p:spPr>
            <a:xfrm>
              <a:off x="4572000" y="4508640"/>
              <a:ext cx="2940120" cy="949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9A38-3328-4433-B2F4-CD3C951A6F0C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D17591-B56D-4019-810D-1B6BD492D63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fill="hold">
                            <p:stCondLst>
                              <p:cond delay="500"/>
                            </p:stCondLst>
                            <p:childTnLst>
                              <p:par>
                                <p:cTn id="10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500"/>
                            </p:stCondLst>
                            <p:childTnLst>
                              <p:par>
                                <p:cTn id="10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76464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3716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inais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ngShort</a:t>
            </a:r>
            <a:endParaRPr b="0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87893-FD44-4B52-BBFF-4401A0861A57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04A8CDDB-FE0E-4EF9-9FEB-647DB09A5E43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792468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z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, 1, 2, 3, 4, 5, 6, 7, 8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0, 01, 02, 03, 04, 05, 06, 07, 08, 0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0, 11, 12, 13, 14, 15, 16, 17, 18, 19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0, 21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stema decimal de cont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3200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87164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200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164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7200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302000" y="3789360"/>
            <a:ext cx="54000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3236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2000" y="3789360"/>
            <a:ext cx="54000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02360" y="3789360"/>
            <a:ext cx="53964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42720" y="478008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sar os dez símbolos um após o ou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4038480"/>
            <a:ext cx="106560" cy="54000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066680" y="4668840"/>
            <a:ext cx="106560" cy="53964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57400" y="5273640"/>
            <a:ext cx="638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Terminando os dígitos numa coluna, avançar o dígito à esquerda, e assim por diant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BA5F-7133-454C-938E-685B3FE3990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9F7816-8CCC-4201-99DF-47E637C634B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431640" y="216864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oma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”, “II”, “III”, “IV”, “V”, “VI”, “VII”, “VIII”, “IX” e “X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úzia, gr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s, minu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ná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s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utros sistemas de cont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643120" y="5222880"/>
            <a:ext cx="245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7 </a:t>
            </a:r>
            <a:r>
              <a:rPr b="1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x x x x x x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CD95-F74D-4DD9-8C80-88A2F0BC7F1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E073AD-1F00-429A-AF27-34092D1968C5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00, 00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10, 01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00, 10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10, 11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stema binário de cont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3809880"/>
            <a:ext cx="100080" cy="41616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4419720"/>
            <a:ext cx="100080" cy="41580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71800" y="5257800"/>
            <a:ext cx="592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o esgotar os símbolos numa coluna, avançar o símbolo na coluna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952880"/>
            <a:ext cx="100080" cy="41616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3880" y="3581280"/>
            <a:ext cx="80964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3080" y="4780080"/>
            <a:ext cx="555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sar os dois símbolos um após o ou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01640" y="4148280"/>
            <a:ext cx="71928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565280" y="4640400"/>
            <a:ext cx="719280" cy="9036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5105520"/>
            <a:ext cx="630360" cy="889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F038-2D85-48D9-B95A-FF59EA730A4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75D469-369D-491F-A2B7-CEA00AF961EE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0"/>
                            </p:stCondLst>
                            <p:childTnLst>
                              <p:par>
                                <p:cTn id="1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6840" y="2209320"/>
            <a:ext cx="8381880" cy="404820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ito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, 1, 2, 3, 4, 5, 6,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0, 01, 02, 03, 04, 05, 06, 0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10, 11, 12, 13, 14, 15, 16, 17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20, 21,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stema octal de cont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51460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812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5760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26708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76920" y="3809880"/>
            <a:ext cx="56520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01480" y="4800600"/>
            <a:ext cx="548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sar os oito símbolos um após o ou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80920" y="4059360"/>
            <a:ext cx="90720" cy="53964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80920" y="4689360"/>
            <a:ext cx="90720" cy="54000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518148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o esgotar os símbolos em uma coluna, avançar o símbolo na coluna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9091D-7251-4AF1-98DD-9F3166DEB06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61A05-1E8D-4A4E-A89D-269B79551E41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04784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zesseis símbol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0, 1, 2, 3, 4, 5, 6, 7, 8, 9, A, B, C, D, E, 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ag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00, 01, 02, 03, 04, 05, 06, 07, 08, 09, 0A, 0B, 0C, 0D, 0E, 0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0, 11, 12, 13, 14, 15, 16, 17, 18, 19, 1A, 1B, 1C, 1D, 1E, 1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0, 21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Sistema hexadecimal de contagem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4038480"/>
            <a:ext cx="90360" cy="29052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143000" y="4378320"/>
            <a:ext cx="90360" cy="290520"/>
          </a:xfrm>
          <a:custGeom>
            <a:avLst/>
            <a:gdLst/>
            <a:ahLst/>
            <a:rect l="l" t="t" r="r" b="b"/>
            <a:pathLst>
              <a:path w="57" h="340">
                <a:moveTo>
                  <a:pt x="57" y="0"/>
                </a:moveTo>
                <a:cubicBezTo>
                  <a:pt x="28" y="56"/>
                  <a:pt x="0" y="113"/>
                  <a:pt x="0" y="170"/>
                </a:cubicBezTo>
                <a:cubicBezTo>
                  <a:pt x="0" y="227"/>
                  <a:pt x="28" y="283"/>
                  <a:pt x="57" y="340"/>
                </a:cubicBezTo>
              </a:path>
            </a:pathLst>
          </a:custGeom>
          <a:noFill/>
          <a:ln w="2844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438280" y="5181480"/>
            <a:ext cx="585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ff"/>
                </a:solidFill>
                <a:latin typeface="Arial"/>
              </a:rPr>
              <a:t>Ao esgotar os símbolos numa coluna,  avançar o símbolo na coluna à esque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61960" y="3809880"/>
            <a:ext cx="3603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13040" y="3809880"/>
            <a:ext cx="3585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4480" y="4800600"/>
            <a:ext cx="63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"/>
              </a:rPr>
              <a:t>Usar os dezesseis símbolos um após o out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362320" y="3809880"/>
            <a:ext cx="3585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722680" y="3809880"/>
            <a:ext cx="3603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73400" y="3809880"/>
            <a:ext cx="35892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622680" y="3809880"/>
            <a:ext cx="35892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984480" y="3809880"/>
            <a:ext cx="3603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435560" y="3809880"/>
            <a:ext cx="3585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84840" y="3809880"/>
            <a:ext cx="35856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243400" y="3809880"/>
            <a:ext cx="44928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694480" y="3809880"/>
            <a:ext cx="44928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143760" y="3809880"/>
            <a:ext cx="44928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593040" y="3809880"/>
            <a:ext cx="45072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134120" y="3809880"/>
            <a:ext cx="35892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583400" y="3809880"/>
            <a:ext cx="358920" cy="90720"/>
          </a:xfrm>
          <a:custGeom>
            <a:avLst/>
            <a:gdLst/>
            <a:ahLst/>
            <a:rect l="l" t="t" r="r" b="b"/>
            <a:pathLst>
              <a:path w="340" h="57">
                <a:moveTo>
                  <a:pt x="0" y="57"/>
                </a:moveTo>
                <a:cubicBezTo>
                  <a:pt x="56" y="28"/>
                  <a:pt x="113" y="0"/>
                  <a:pt x="170" y="0"/>
                </a:cubicBezTo>
                <a:cubicBezTo>
                  <a:pt x="227" y="0"/>
                  <a:pt x="283" y="28"/>
                  <a:pt x="340" y="5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24B7C-9A9A-4104-A893-8CB1312907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B74719-E3DD-4CBC-BA46-BC6E53FFABDD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"/>
                            </p:stCondLst>
                            <p:childTnLst>
                              <p:par>
                                <p:cTn id="2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16360"/>
          </a:xfrm>
          <a:prstGeom prst="rect">
            <a:avLst/>
          </a:prstGeom>
          <a:solidFill>
            <a:srgbClr val="ffffcc"/>
          </a:solidFill>
          <a:ln w="1260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presentação não ambígu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spcBef>
                <a:spcPts val="601"/>
              </a:spcBef>
              <a:buNone/>
              <a:tabLst>
                <a:tab algn="l" pos="0"/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ígitos 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Qual o valor de “101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cimal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inário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 5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ctal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 65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2327400"/>
                <a:tab algn="l" pos="3311640"/>
                <a:tab algn="l" pos="4308480"/>
                <a:tab algn="l" pos="5375160"/>
                <a:tab algn="l" pos="65530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exadec.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0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+ 1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pt-BR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=   257</a:t>
            </a:r>
            <a:r>
              <a:rPr b="0" lang="pt-BR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title"/>
          </p:nvPr>
        </p:nvSpPr>
        <p:spPr>
          <a:xfrm>
            <a:off x="2700000" y="404640"/>
            <a:ext cx="598644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</a:rPr>
              <a:t>Sistemas numéri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1640" y="1449360"/>
            <a:ext cx="828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Representação de númer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712360" y="6489720"/>
            <a:ext cx="431640" cy="36828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E42F8-0B0E-4C65-B192-87BA93CD66C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2B0A40-0EE1-458D-8949-E32B02B8AFB9}" type="datetime8">
              <a:rPr lang="en-US"/>
              <a:t>07/28/26 06: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21:20:33Z</dcterms:created>
  <dc:creator>Daniel</dc:creator>
  <dc:description/>
  <dc:language>en-US</dc:language>
  <cp:lastModifiedBy> arnaldo</cp:lastModifiedBy>
  <dcterms:modified xsi:type="dcterms:W3CDTF">2008-04-18T11:41:25Z</dcterms:modified>
  <cp:revision>179</cp:revision>
  <dc:subject/>
  <dc:title>Curso de C</dc:title>
</cp:coreProperties>
</file>