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8D549-A350-458B-A481-9A436ECF89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4415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12841E-69D7-43EE-8E95-E7E7D109D7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5E6C2-D0C5-4DE1-AE97-02EAF25FB8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555369-C0DD-42B4-AE69-4AA2072B38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EFC8EE-E7A3-4371-8B53-479B844BB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47DA8A-B7B9-4ACA-8E58-DAC51DE46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1DAFA9-D0E3-49A1-95BF-BB62EB44B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0051B2-0930-41CC-95B0-E4EBDE18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9897E-D7CC-4962-994E-88F1E263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764640"/>
            <a:ext cx="7772400" cy="83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E47F7D-B50B-4834-A046-0134AAF1A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CD1DF9-BB6B-489D-B47D-218A480EA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CC483-0BB2-48A4-B30D-1A8F8F7C3C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F5CB9A-4219-411B-B661-C74DDA492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96B9B6-8CF9-48AC-950A-3184E9AE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4415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752B3-2E14-45DE-880A-97248B0B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FB1A2E-E699-4152-B38D-06E0A4246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CA3D6-BC2E-40D2-90E9-FC299A7EE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6E22B-16F8-4529-800D-D2F7CB749B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5C6BD-6548-4CF6-B7E7-730E254E85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C0F44-48CA-4201-90B3-356EC494AE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764640"/>
            <a:ext cx="7772400" cy="83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51293-AC5C-49D0-9130-FB9B945F33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9240AE-5EC0-491B-81B0-E745E238A5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A3439-C493-4FFB-B1C2-5DD8056C60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050F4-C211-477F-AD69-8C4B4EAE2B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58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533520" y="6244920"/>
            <a:ext cx="57909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FECF-382F-4B0E-89B1-CD08F8F4A788}" type="slidenum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908000" y="-33480"/>
            <a:ext cx="719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Curso C - IC/UNICA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431640" y="126792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6129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 flipV="1">
            <a:off x="8712360" y="126792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1449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179280" cy="6858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964720" y="0"/>
            <a:ext cx="179280" cy="6858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FA8C-CC66-489B-953C-A95F3C2E5E24}" type="datetime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fld id="{0CA4CFA3-BFCC-4555-ABAA-8123AD41C8BD}" type="datetime10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06:5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BB93-C7B8-4E71-B60F-AD9424866A2F}" type="slidenum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Curso de C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Estruturas: Structs e Union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607DB6-8D7F-4387-BACF-42262139A982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B636C31F-8A7E-442C-9329-7BB7EE68B466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Str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xemplo 2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34880" y="2133720"/>
            <a:ext cx="8277480" cy="23414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28480" y="2224080"/>
            <a:ext cx="8088480" cy="216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9672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struct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char nome[20]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float salari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int codigo_carg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} funcionari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735280" y="2765520"/>
            <a:ext cx="182520" cy="1079280"/>
          </a:xfrm>
          <a:custGeom>
            <a:avLst/>
            <a:gdLst>
              <a:gd name="textAreaLeft" fmla="*/ 116640 w 182520"/>
              <a:gd name="textAreaRight" fmla="*/ 182880 w 18252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3800" y="2933640"/>
            <a:ext cx="134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Lista de</a:t>
            </a:r>
            <a:br>
              <a:rPr sz="2400"/>
            </a:b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atrib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14400" y="3305160"/>
            <a:ext cx="7365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5600" y="468936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Criar variá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2502000" y="4343040"/>
            <a:ext cx="573120" cy="4366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3132000" y="4780080"/>
            <a:ext cx="5491080" cy="1800000"/>
            <a:chOff x="3132000" y="4780080"/>
            <a:chExt cx="5491080" cy="1800000"/>
          </a:xfrm>
        </p:grpSpPr>
        <p:sp>
          <p:nvSpPr>
            <p:cNvPr id="158" name=""/>
            <p:cNvSpPr/>
            <p:nvPr/>
          </p:nvSpPr>
          <p:spPr>
            <a:xfrm>
              <a:off x="3132000" y="4780080"/>
              <a:ext cx="5491080" cy="18000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8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9" name="" descr=""/>
            <p:cNvPicPr/>
            <p:nvPr/>
          </p:nvPicPr>
          <p:blipFill>
            <a:blip r:embed="rId1"/>
            <a:stretch/>
          </p:blipFill>
          <p:spPr>
            <a:xfrm>
              <a:off x="3222360" y="4970160"/>
              <a:ext cx="5310360" cy="1417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" name=""/>
          <p:cNvGrpSpPr/>
          <p:nvPr/>
        </p:nvGrpSpPr>
        <p:grpSpPr>
          <a:xfrm>
            <a:off x="3048120" y="1523880"/>
            <a:ext cx="3011040" cy="755640"/>
            <a:chOff x="3048120" y="1523880"/>
            <a:chExt cx="3011040" cy="755640"/>
          </a:xfrm>
        </p:grpSpPr>
        <p:sp>
          <p:nvSpPr>
            <p:cNvPr id="161" name=""/>
            <p:cNvSpPr/>
            <p:nvPr/>
          </p:nvSpPr>
          <p:spPr>
            <a:xfrm>
              <a:off x="3964320" y="1523880"/>
              <a:ext cx="209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3300"/>
                  </a:solidFill>
                  <a:latin typeface="Arial"/>
                </a:rPr>
                <a:t>Tipo Estrutu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3048120" y="1828800"/>
              <a:ext cx="900000" cy="450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CB1F7-FE07-4E64-ACAD-33B21B57C9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Struct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Uso dos atributo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2AA5DC-C57F-4D93-A50B-ECF76AB77FBC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1A5AB97-701E-4B7A-8CAC-863DE6E64963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Structs: atribu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Acesso a atribu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431640" y="3979800"/>
            <a:ext cx="8254800" cy="720720"/>
            <a:chOff x="431640" y="3979800"/>
            <a:chExt cx="8254800" cy="720720"/>
          </a:xfrm>
        </p:grpSpPr>
        <p:sp>
          <p:nvSpPr>
            <p:cNvPr id="169" name=""/>
            <p:cNvSpPr/>
            <p:nvPr/>
          </p:nvSpPr>
          <p:spPr>
            <a:xfrm>
              <a:off x="431640" y="3979800"/>
              <a:ext cx="8254800" cy="7207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65840" y="4070160"/>
              <a:ext cx="6191280" cy="5400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d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printf(“A variável: %s”, funcionario.nome)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96440" y="3979800"/>
              <a:ext cx="168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Impressã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431640" y="3081240"/>
            <a:ext cx="8254800" cy="719280"/>
            <a:chOff x="431640" y="3081240"/>
            <a:chExt cx="8254800" cy="719280"/>
          </a:xfrm>
        </p:grpSpPr>
        <p:sp>
          <p:nvSpPr>
            <p:cNvPr id="173" name=""/>
            <p:cNvSpPr/>
            <p:nvPr/>
          </p:nvSpPr>
          <p:spPr>
            <a:xfrm>
              <a:off x="431640" y="3081240"/>
              <a:ext cx="8254800" cy="7192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65840" y="3170160"/>
              <a:ext cx="6191280" cy="5130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d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uncionario.salario = 1000.0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10840" y="3121200"/>
              <a:ext cx="16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Atribuiçã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31640" y="4840200"/>
            <a:ext cx="8254800" cy="720720"/>
            <a:chOff x="431640" y="4840200"/>
            <a:chExt cx="8254800" cy="720720"/>
          </a:xfrm>
        </p:grpSpPr>
        <p:sp>
          <p:nvSpPr>
            <p:cNvPr id="177" name=""/>
            <p:cNvSpPr/>
            <p:nvPr/>
          </p:nvSpPr>
          <p:spPr>
            <a:xfrm>
              <a:off x="431640" y="4840200"/>
              <a:ext cx="8254800" cy="7207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65840" y="4930560"/>
              <a:ext cx="6191280" cy="539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d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scanf(“%f”, &amp;funcionario.salario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97520" y="4840200"/>
              <a:ext cx="1197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Leitur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431640" y="2181240"/>
            <a:ext cx="8254800" cy="719280"/>
            <a:chOff x="431640" y="2181240"/>
            <a:chExt cx="8254800" cy="719280"/>
          </a:xfrm>
        </p:grpSpPr>
        <p:sp>
          <p:nvSpPr>
            <p:cNvPr id="181" name=""/>
            <p:cNvSpPr/>
            <p:nvPr/>
          </p:nvSpPr>
          <p:spPr>
            <a:xfrm>
              <a:off x="431640" y="2181240"/>
              <a:ext cx="8254800" cy="7192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65840" y="2270160"/>
              <a:ext cx="6191280" cy="5130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d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uncionario.salari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09400" y="2221200"/>
              <a:ext cx="1264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Acess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431640" y="5678640"/>
            <a:ext cx="8254800" cy="720720"/>
            <a:chOff x="431640" y="5678640"/>
            <a:chExt cx="8254800" cy="720720"/>
          </a:xfrm>
        </p:grpSpPr>
        <p:sp>
          <p:nvSpPr>
            <p:cNvPr id="185" name=""/>
            <p:cNvSpPr/>
            <p:nvPr/>
          </p:nvSpPr>
          <p:spPr>
            <a:xfrm>
              <a:off x="431640" y="5678640"/>
              <a:ext cx="8254800" cy="72072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65840" y="5769000"/>
              <a:ext cx="6191280" cy="5396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d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funcionarioA = funcionarioB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8240" y="567864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Cópia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FAA32-0E77-4B8A-8CE9-4A127660ED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Structs: atribut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7200" y="144936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perador de seleção de atribu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2349360"/>
            <a:ext cx="5029200" cy="190512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930240" y="2446200"/>
            <a:ext cx="4321080" cy="175752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523880" y="4619520"/>
            <a:ext cx="7467840" cy="20494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633680" y="4689360"/>
            <a:ext cx="548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funcionario.salario = 1000.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2771640" y="5121360"/>
            <a:ext cx="4861080" cy="1501560"/>
            <a:chOff x="2771640" y="5121360"/>
            <a:chExt cx="4861080" cy="1501560"/>
          </a:xfrm>
        </p:grpSpPr>
        <p:grpSp>
          <p:nvGrpSpPr>
            <p:cNvPr id="196" name=""/>
            <p:cNvGrpSpPr/>
            <p:nvPr/>
          </p:nvGrpSpPr>
          <p:grpSpPr>
            <a:xfrm>
              <a:off x="2771640" y="5775480"/>
              <a:ext cx="2570400" cy="847440"/>
              <a:chOff x="2771640" y="5775480"/>
              <a:chExt cx="2570400" cy="847440"/>
            </a:xfrm>
          </p:grpSpPr>
          <p:cxnSp>
            <p:nvCxnSpPr>
              <p:cNvPr id="197" name=""/>
              <p:cNvCxnSpPr>
                <a:stCxn id="198" idx="3"/>
                <a:endCxn id="199" idx="1"/>
              </p:cNvCxnSpPr>
              <p:nvPr/>
            </p:nvCxnSpPr>
            <p:spPr>
              <a:xfrm>
                <a:off x="4122360" y="5953320"/>
                <a:ext cx="11437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98" name=""/>
              <p:cNvSpPr/>
              <p:nvPr/>
            </p:nvSpPr>
            <p:spPr>
              <a:xfrm>
                <a:off x="2771640" y="5775480"/>
                <a:ext cx="1351080" cy="368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</a:rPr>
                  <a:t>funcionário 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3954600" y="5919120"/>
                <a:ext cx="138744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2000" spc="-1" strike="noStrike">
                    <a:solidFill>
                      <a:srgbClr val="000000"/>
                    </a:solidFill>
                    <a:latin typeface="Arial"/>
                  </a:rPr>
                  <a:t>ref. memóri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5022720" y="5121360"/>
              <a:ext cx="90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salári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2" name=""/>
            <p:cNvCxnSpPr>
              <a:stCxn id="201" idx="2"/>
              <a:endCxn id="199" idx="0"/>
            </p:cNvCxnSpPr>
            <p:nvPr/>
          </p:nvCxnSpPr>
          <p:spPr>
            <a:xfrm>
              <a:off x="5473440" y="5467320"/>
              <a:ext cx="20880" cy="3088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triangle" w="med"/>
            </a:ln>
          </p:spPr>
        </p:cxnSp>
        <p:sp>
          <p:nvSpPr>
            <p:cNvPr id="199" name=""/>
            <p:cNvSpPr/>
            <p:nvPr/>
          </p:nvSpPr>
          <p:spPr>
            <a:xfrm>
              <a:off x="5265720" y="5775480"/>
              <a:ext cx="457200" cy="3682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Courier New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3" name=""/>
            <p:cNvCxnSpPr>
              <a:stCxn id="199" idx="3"/>
              <a:endCxn id="204" idx="1"/>
            </p:cNvCxnSpPr>
            <p:nvPr/>
          </p:nvCxnSpPr>
          <p:spPr>
            <a:xfrm>
              <a:off x="5722560" y="5963760"/>
              <a:ext cx="1220040" cy="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05" name=""/>
            <p:cNvSpPr/>
            <p:nvPr/>
          </p:nvSpPr>
          <p:spPr>
            <a:xfrm>
              <a:off x="5630760" y="5889600"/>
              <a:ext cx="1387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"/>
                </a:rPr>
                <a:t>ref. memóri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6553080" y="5121360"/>
              <a:ext cx="1079640" cy="1419120"/>
              <a:chOff x="6553080" y="5121360"/>
              <a:chExt cx="1079640" cy="1419120"/>
            </a:xfrm>
          </p:grpSpPr>
          <p:sp>
            <p:nvSpPr>
              <p:cNvPr id="204" name=""/>
              <p:cNvSpPr/>
              <p:nvPr/>
            </p:nvSpPr>
            <p:spPr>
              <a:xfrm>
                <a:off x="6942240" y="5777640"/>
                <a:ext cx="304560" cy="368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</a:rPr>
                  <a:t>=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553080" y="5121360"/>
                <a:ext cx="1079640" cy="36828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</a:rPr>
                  <a:t>1000.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08" name=""/>
              <p:cNvCxnSpPr>
                <a:stCxn id="207" idx="2"/>
                <a:endCxn id="204" idx="0"/>
              </p:cNvCxnSpPr>
              <p:nvPr/>
            </p:nvCxnSpPr>
            <p:spPr>
              <a:xfrm>
                <a:off x="7093080" y="5476320"/>
                <a:ext cx="2160" cy="300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09" name=""/>
              <p:cNvCxnSpPr>
                <a:stCxn id="204" idx="2"/>
              </p:cNvCxnSpPr>
              <p:nvPr/>
            </p:nvCxnSpPr>
            <p:spPr>
              <a:xfrm>
                <a:off x="7094160" y="6131160"/>
                <a:ext cx="1080" cy="4096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  <p:sp>
        <p:nvSpPr>
          <p:cNvPr id="210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FD464-7085-4DCE-BA20-988F9949E41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Struct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Declaração com </a:t>
            </a:r>
            <a:br>
              <a:rPr sz="3600"/>
            </a:b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definição de tipo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BE976A-EBDB-4824-B381-61CC4CBC412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D01A33E-6F4E-44BA-BD3A-E733F266AD8B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31640" y="2797200"/>
            <a:ext cx="8280720" cy="234144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Structs: definição de ti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31640" y="1449360"/>
            <a:ext cx="531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Declaração identificad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2720" y="2887560"/>
            <a:ext cx="7916760" cy="216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d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9672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ff3300"/>
                </a:solidFill>
                <a:latin typeface="Courier New"/>
              </a:rPr>
              <a:t>nome_estrutura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tipo1 atributo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tipo2 atributo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tipo3 atributo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 variáve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22360" y="216864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Arial"/>
              </a:rPr>
              <a:t>Tipo Estru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11280" y="2619360"/>
            <a:ext cx="1709640" cy="270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1640" y="3249720"/>
            <a:ext cx="181080" cy="1439640"/>
          </a:xfrm>
          <a:custGeom>
            <a:avLst/>
            <a:gdLst>
              <a:gd name="textAreaLeft" fmla="*/ 115920 w 181080"/>
              <a:gd name="textAreaRight" fmla="*/ 181440 w 18108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94160" y="3597120"/>
            <a:ext cx="134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Arial"/>
              </a:rPr>
              <a:t>Lista de</a:t>
            </a:r>
            <a:br>
              <a:rPr sz="2400"/>
            </a:br>
            <a:r>
              <a:rPr b="0" lang="pt-BR" sz="2400" spc="-1" strike="noStrike">
                <a:solidFill>
                  <a:srgbClr val="3333cc"/>
                </a:solidFill>
                <a:latin typeface="Arial"/>
              </a:rPr>
              <a:t>atrib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968640"/>
            <a:ext cx="8114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606320" y="5499000"/>
            <a:ext cx="29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Arial"/>
              </a:rPr>
              <a:t>Aloca e cria variá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862360" y="5049720"/>
            <a:ext cx="809640" cy="4492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374520" y="1628640"/>
            <a:ext cx="141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Nome da</a:t>
            </a:r>
            <a:br>
              <a:rPr sz="2400"/>
            </a:b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Estru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841640" y="2077920"/>
            <a:ext cx="1439640" cy="8114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025600" y="5234400"/>
            <a:ext cx="3093120" cy="1313640"/>
          </a:xfrm>
          <a:prstGeom prst="rect">
            <a:avLst/>
          </a:prstGeom>
          <a:solidFill>
            <a:srgbClr val="ffcccc"/>
          </a:solidFill>
          <a:ln w="12600">
            <a:solidFill>
              <a:srgbClr val="a50021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eclara 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Memoriza a decla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ovo tipo de d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Cria a variáv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57C76-33C0-4995-B09B-8B3D6D75ED6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431640" y="2797200"/>
            <a:ext cx="8280720" cy="234144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Structs: definição de ti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Declaração identificad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12720" y="2887560"/>
            <a:ext cx="7916760" cy="216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d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9672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3333cc"/>
                </a:solidFill>
                <a:latin typeface="Courier New"/>
              </a:rPr>
              <a:t>nome_estrutura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tipo1 atributo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tipo2 atributo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tipo3 atributo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522360" y="2168640"/>
            <a:ext cx="2698560" cy="720720"/>
            <a:chOff x="522360" y="2168640"/>
            <a:chExt cx="2698560" cy="720720"/>
          </a:xfrm>
        </p:grpSpPr>
        <p:sp>
          <p:nvSpPr>
            <p:cNvPr id="233" name=""/>
            <p:cNvSpPr/>
            <p:nvPr/>
          </p:nvSpPr>
          <p:spPr>
            <a:xfrm>
              <a:off x="522360" y="2168640"/>
              <a:ext cx="209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3333cc"/>
                  </a:solidFill>
                  <a:latin typeface="Arial"/>
                </a:rPr>
                <a:t>Tipo Estrutu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511280" y="2619360"/>
              <a:ext cx="1709640" cy="270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794160" y="3249720"/>
            <a:ext cx="2428560" cy="1439640"/>
            <a:chOff x="794160" y="3249720"/>
            <a:chExt cx="2428560" cy="1439640"/>
          </a:xfrm>
        </p:grpSpPr>
        <p:sp>
          <p:nvSpPr>
            <p:cNvPr id="236" name=""/>
            <p:cNvSpPr/>
            <p:nvPr/>
          </p:nvSpPr>
          <p:spPr>
            <a:xfrm>
              <a:off x="3041640" y="3249720"/>
              <a:ext cx="181080" cy="1439640"/>
            </a:xfrm>
            <a:custGeom>
              <a:avLst/>
              <a:gdLst>
                <a:gd name="textAreaLeft" fmla="*/ 115920 w 181080"/>
                <a:gd name="textAreaRight" fmla="*/ 181440 w 181080"/>
                <a:gd name="textAreaTop" fmla="*/ 37440 h 1439640"/>
                <a:gd name="textAreaBottom" fmla="*/ 14022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94160" y="3597120"/>
              <a:ext cx="1349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3333cc"/>
                  </a:solidFill>
                  <a:latin typeface="Arial"/>
                </a:rPr>
                <a:t>Lista de</a:t>
              </a:r>
              <a:br>
                <a:rPr sz="2400"/>
              </a:br>
              <a:r>
                <a:rPr b="0" lang="pt-BR" sz="2400" spc="-1" strike="noStrike">
                  <a:solidFill>
                    <a:srgbClr val="3333cc"/>
                  </a:solidFill>
                  <a:latin typeface="Arial"/>
                </a:rPr>
                <a:t>atribu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050920" y="3968640"/>
              <a:ext cx="8114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1601640" y="5049720"/>
            <a:ext cx="2430720" cy="909000"/>
            <a:chOff x="1601640" y="5049720"/>
            <a:chExt cx="2430720" cy="909000"/>
          </a:xfrm>
        </p:grpSpPr>
        <p:sp>
          <p:nvSpPr>
            <p:cNvPr id="240" name=""/>
            <p:cNvSpPr/>
            <p:nvPr/>
          </p:nvSpPr>
          <p:spPr>
            <a:xfrm>
              <a:off x="1601640" y="5499000"/>
              <a:ext cx="243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Arial"/>
                </a:rPr>
                <a:t>Não aloca na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2862360" y="5049720"/>
              <a:ext cx="88920" cy="449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4841640" y="1628640"/>
            <a:ext cx="2950920" cy="1260720"/>
            <a:chOff x="4841640" y="1628640"/>
            <a:chExt cx="2950920" cy="1260720"/>
          </a:xfrm>
        </p:grpSpPr>
        <p:sp>
          <p:nvSpPr>
            <p:cNvPr id="243" name=""/>
            <p:cNvSpPr/>
            <p:nvPr/>
          </p:nvSpPr>
          <p:spPr>
            <a:xfrm>
              <a:off x="6374520" y="1628640"/>
              <a:ext cx="1418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3333cc"/>
                  </a:solidFill>
                  <a:latin typeface="Arial"/>
                </a:rPr>
                <a:t>Nome da</a:t>
              </a:r>
              <a:br>
                <a:rPr sz="2400"/>
              </a:br>
              <a:r>
                <a:rPr b="0" lang="pt-BR" sz="2400" spc="-1" strike="noStrike">
                  <a:solidFill>
                    <a:srgbClr val="3333cc"/>
                  </a:solidFill>
                  <a:latin typeface="Arial"/>
                </a:rPr>
                <a:t>Estrutu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4841640" y="2077920"/>
              <a:ext cx="1439640" cy="8114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5025600" y="5324760"/>
            <a:ext cx="3093120" cy="1313640"/>
          </a:xfrm>
          <a:prstGeom prst="rect">
            <a:avLst/>
          </a:prstGeom>
          <a:solidFill>
            <a:srgbClr val="ffcccc"/>
          </a:solidFill>
          <a:ln w="12600">
            <a:solidFill>
              <a:srgbClr val="a50021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eclara estru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Memoriza a decla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ovo tipo de d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Arial"/>
              </a:rPr>
              <a:t>NÃO cria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a variáv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DBAC2C-7A0D-48A7-825B-883E5491F47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431640" y="2077920"/>
            <a:ext cx="8280720" cy="234180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Structs: definição de ti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Declaração identificada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12720" y="2168640"/>
            <a:ext cx="7916760" cy="216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d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9672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ff3300"/>
                </a:solidFill>
                <a:latin typeface="Courier New"/>
              </a:rPr>
              <a:t>nome_estrutura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tipo1 atributo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tipo2 atributo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tipo3 atributo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31640" y="4599000"/>
            <a:ext cx="8280720" cy="153036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12720" y="4689360"/>
            <a:ext cx="7916760" cy="1349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d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9672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ff3300"/>
                </a:solidFill>
                <a:latin typeface="Courier New"/>
              </a:rPr>
              <a:t>nome_estrutura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ariá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322360" y="2168640"/>
            <a:ext cx="179640" cy="2160360"/>
          </a:xfrm>
          <a:custGeom>
            <a:avLst/>
            <a:gdLst>
              <a:gd name="textAreaLeft" fmla="*/ 114840 w 179640"/>
              <a:gd name="textAreaRight" fmla="*/ 180000 w 179640"/>
              <a:gd name="textAreaTop" fmla="*/ 56160 h 2160360"/>
              <a:gd name="textAreaBottom" fmla="*/ 2104200 h 21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0920" y="2978280"/>
            <a:ext cx="1978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Arial"/>
              </a:rPr>
              <a:t>Decla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Arial"/>
              </a:rPr>
              <a:t>memoriz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Arial"/>
              </a:rPr>
              <a:t>pelo compil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27760" y="4689360"/>
            <a:ext cx="47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Arial"/>
              </a:rPr>
              <a:t>Declaração abreviada de variáv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15A94-E0B0-495D-9411-FCEBD4F5803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Structs: definição de ti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31640" y="2168640"/>
            <a:ext cx="8280720" cy="423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main(int argc, char *argv[]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truct </a:t>
            </a:r>
            <a:r>
              <a:rPr b="1" lang="pt-BR" sz="2400" spc="-1" strike="noStrike">
                <a:solidFill>
                  <a:srgbClr val="3333cc"/>
                </a:solidFill>
                <a:latin typeface="Courier New"/>
              </a:rPr>
              <a:t>TipoAlun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har sobrenome[50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int registro_academic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int codigo_curs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truct </a:t>
            </a:r>
            <a:r>
              <a:rPr b="1" lang="pt-BR" sz="2400" spc="-1" strike="noStrike">
                <a:solidFill>
                  <a:srgbClr val="3333cc"/>
                </a:solidFill>
                <a:latin typeface="Courier New"/>
              </a:rPr>
              <a:t>TipoAlun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ff0000"/>
                </a:solidFill>
                <a:latin typeface="Courier New"/>
              </a:rPr>
              <a:t>aluno1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truct </a:t>
            </a:r>
            <a:r>
              <a:rPr b="1" lang="pt-BR" sz="2400" spc="-1" strike="noStrike">
                <a:solidFill>
                  <a:srgbClr val="3333cc"/>
                </a:solidFill>
                <a:latin typeface="Courier New"/>
              </a:rPr>
              <a:t>TipoAlun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0000ff"/>
                </a:solidFill>
                <a:latin typeface="Courier New"/>
              </a:rPr>
              <a:t>aluno2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truct </a:t>
            </a:r>
            <a:r>
              <a:rPr b="1" lang="pt-BR" sz="2400" spc="-1" strike="noStrike">
                <a:solidFill>
                  <a:srgbClr val="3333cc"/>
                </a:solidFill>
                <a:latin typeface="Courier New"/>
              </a:rPr>
              <a:t>TipoAlun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cc9900"/>
                </a:solidFill>
                <a:latin typeface="Courier New"/>
              </a:rPr>
              <a:t>aluno_selecionad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Declarar e criar variáve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39624-4627-4FD4-95AF-962D78216C4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431640" y="2174760"/>
            <a:ext cx="8280720" cy="42246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rintf("Aluno 1: 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canf("%s", </a:t>
            </a:r>
            <a:r>
              <a:rPr b="1" lang="pt-BR" sz="2400" spc="-1" strike="noStrike">
                <a:solidFill>
                  <a:srgbClr val="ff0000"/>
                </a:solidFill>
                <a:latin typeface="Courier New"/>
              </a:rPr>
              <a:t>aluno1.sobrenom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canf("%d", &amp;</a:t>
            </a:r>
            <a:r>
              <a:rPr b="1" lang="pt-BR" sz="2400" spc="-1" strike="noStrike">
                <a:solidFill>
                  <a:srgbClr val="ff0000"/>
                </a:solidFill>
                <a:latin typeface="Courier New"/>
              </a:rPr>
              <a:t>aluno1.registro_academic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canf("%d", &amp;</a:t>
            </a:r>
            <a:r>
              <a:rPr b="1" lang="pt-BR" sz="2400" spc="-1" strike="noStrike">
                <a:solidFill>
                  <a:srgbClr val="ff0000"/>
                </a:solidFill>
                <a:latin typeface="Courier New"/>
              </a:rPr>
              <a:t>aluno1.codigo_curs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rintf("Aluno 2: "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canf("%s", </a:t>
            </a:r>
            <a:r>
              <a:rPr b="1" lang="pt-BR" sz="2400" spc="-1" strike="noStrike">
                <a:solidFill>
                  <a:srgbClr val="0000ff"/>
                </a:solidFill>
                <a:latin typeface="Courier New"/>
              </a:rPr>
              <a:t>aluno2.sobrenom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canf("%d", &amp;</a:t>
            </a:r>
            <a:r>
              <a:rPr b="1" lang="pt-BR" sz="2400" spc="-1" strike="noStrike">
                <a:solidFill>
                  <a:srgbClr val="0000ff"/>
                </a:solidFill>
                <a:latin typeface="Courier New"/>
              </a:rPr>
              <a:t>aluno2.registro_academic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canf("%d", &amp;</a:t>
            </a:r>
            <a:r>
              <a:rPr b="1" lang="pt-BR" sz="2400" spc="-1" strike="noStrike">
                <a:solidFill>
                  <a:srgbClr val="0000ff"/>
                </a:solidFill>
                <a:latin typeface="Courier New"/>
              </a:rPr>
              <a:t>aluno2.codigo_curs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Structs: definição de ti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Ler atribu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B7DB6-B4AE-4108-9A41-CF6E34AFABF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strutu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0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prender 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rganizar dados inter-relacion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rabalhar co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g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abe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ni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bjetiv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CAE361-6A59-4DA1-9193-DEA588D992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31640" y="2168640"/>
            <a:ext cx="8280720" cy="42307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1" lang="pt-BR" sz="2400" spc="-1" strike="noStrike">
                <a:solidFill>
                  <a:srgbClr val="ff0000"/>
                </a:solidFill>
                <a:latin typeface="Courier New"/>
              </a:rPr>
              <a:t>aluno1.registro_academic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&lt;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2400" spc="-1" strike="noStrike">
                <a:solidFill>
                  <a:srgbClr val="0000ff"/>
                </a:solidFill>
                <a:latin typeface="Courier New"/>
              </a:rPr>
              <a:t>aluno2.registro_academic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400" spc="-1" strike="noStrike">
                <a:solidFill>
                  <a:srgbClr val="cc6600"/>
                </a:solidFill>
                <a:latin typeface="Courier New"/>
              </a:rPr>
              <a:t>aluno_selecionad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pt-BR" sz="2400" spc="-1" strike="noStrike">
                <a:solidFill>
                  <a:srgbClr val="ff0000"/>
                </a:solidFill>
                <a:latin typeface="Courier New"/>
              </a:rPr>
              <a:t>aluno1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pt-BR" sz="2400" spc="-1" strike="noStrike">
                <a:solidFill>
                  <a:srgbClr val="cc6600"/>
                </a:solidFill>
                <a:latin typeface="Courier New"/>
              </a:rPr>
              <a:t>aluno_selecionad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= </a:t>
            </a:r>
            <a:r>
              <a:rPr b="1" lang="pt-BR" sz="2400" spc="-1" strike="noStrike">
                <a:solidFill>
                  <a:srgbClr val="0000ff"/>
                </a:solidFill>
                <a:latin typeface="Courier New"/>
              </a:rPr>
              <a:t>aluno2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Structs: definição de ti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Comparar atribu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561371-998D-4054-980C-D4C3889847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0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431640" y="2168640"/>
            <a:ext cx="8280720" cy="42307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rintf("Sobrenome: %s \n",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2400" spc="-1" strike="noStrike">
                <a:solidFill>
                  <a:srgbClr val="cc6600"/>
                </a:solidFill>
                <a:latin typeface="Courier New"/>
              </a:rPr>
              <a:t>aluno_selecionado.sobrenome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rintf("RA:        %d \n",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2400" spc="-1" strike="noStrike">
                <a:solidFill>
                  <a:srgbClr val="cc6600"/>
                </a:solidFill>
                <a:latin typeface="Courier New"/>
              </a:rPr>
              <a:t>aluno_selecionado.registro_academic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printf("Curso:     %d \n",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2400" spc="-1" strike="noStrike">
                <a:solidFill>
                  <a:srgbClr val="cc6600"/>
                </a:solidFill>
                <a:latin typeface="Courier New"/>
              </a:rPr>
              <a:t>aluno_selecionado.codigo_curs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Structs: definição de ti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Imprimir resulta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E37C8-8B51-4A09-9439-42911846845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Struct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Declarações aninhada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4ABAF0-30A1-46A2-9639-99B5937F21A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067CB40-9C4D-474C-BD4E-C95C3B7CFC38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Structs: aninham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rganizando o códig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431640" y="2147760"/>
            <a:ext cx="4140360" cy="3171960"/>
            <a:chOff x="431640" y="2147760"/>
            <a:chExt cx="4140360" cy="3171960"/>
          </a:xfrm>
        </p:grpSpPr>
        <p:sp>
          <p:nvSpPr>
            <p:cNvPr id="278" name=""/>
            <p:cNvSpPr/>
            <p:nvPr/>
          </p:nvSpPr>
          <p:spPr>
            <a:xfrm>
              <a:off x="431640" y="2147760"/>
              <a:ext cx="4140360" cy="31719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08320" y="2222280"/>
              <a:ext cx="3910320" cy="30211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d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struct</a:t>
              </a:r>
              <a:r>
                <a:rPr b="0" lang="pt-BR" sz="2000" spc="-1" strike="noStrike">
                  <a:solidFill>
                    <a:srgbClr val="000000"/>
                  </a:solidFill>
                  <a:latin typeface="Courier New"/>
                </a:rPr>
                <a:t>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pt-BR" sz="2000" spc="-1" strike="noStrike">
                  <a:solidFill>
                    <a:srgbClr val="000000"/>
                  </a:solidFill>
                  <a:latin typeface="Courier New"/>
                </a:rPr>
                <a:t>char nome[50]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pt-BR" sz="2000" spc="-1" strike="noStrike">
                  <a:solidFill>
                    <a:srgbClr val="000000"/>
                  </a:solidFill>
                  <a:latin typeface="Courier New"/>
                </a:rPr>
                <a:t>int codigo_curso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int dia_matricula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int mes_matricula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int ano_matricula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pt-BR" sz="20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urier New"/>
                </a:rPr>
                <a:t>} aluno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4775040" y="2147760"/>
            <a:ext cx="3961080" cy="3171960"/>
            <a:chOff x="4775040" y="2147760"/>
            <a:chExt cx="3961080" cy="3171960"/>
          </a:xfrm>
        </p:grpSpPr>
        <p:sp>
          <p:nvSpPr>
            <p:cNvPr id="281" name=""/>
            <p:cNvSpPr/>
            <p:nvPr/>
          </p:nvSpPr>
          <p:spPr>
            <a:xfrm>
              <a:off x="4775040" y="2147760"/>
              <a:ext cx="3961080" cy="31719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848480" y="2222280"/>
              <a:ext cx="3741120" cy="30211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d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struct</a:t>
              </a:r>
              <a:r>
                <a:rPr b="0" lang="pt-BR" sz="2000" spc="-1" strike="noStrike">
                  <a:solidFill>
                    <a:srgbClr val="000000"/>
                  </a:solidFill>
                  <a:latin typeface="Courier New"/>
                </a:rPr>
                <a:t>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pt-BR" sz="2000" spc="-1" strike="noStrike">
                  <a:solidFill>
                    <a:srgbClr val="000000"/>
                  </a:solidFill>
                  <a:latin typeface="Courier New"/>
                </a:rPr>
                <a:t>char nome[50]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pt-BR" sz="2000" spc="-1" strike="noStrike">
                  <a:solidFill>
                    <a:srgbClr val="000000"/>
                  </a:solidFill>
                  <a:latin typeface="Courier New"/>
                </a:rPr>
                <a:t>int codigo_curso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struct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int dia,mes,ano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pt-BR" sz="2000" spc="-1" strike="noStrike">
                  <a:solidFill>
                    <a:srgbClr val="ff0000"/>
                  </a:solidFill>
                  <a:latin typeface="Courier New"/>
                </a:rPr>
                <a:t>} data_matricula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pt-BR" sz="20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28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Courier New"/>
                </a:rPr>
                <a:t>} aluno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2320920" y="5513400"/>
            <a:ext cx="6391440" cy="1066680"/>
            <a:chOff x="2320920" y="5513400"/>
            <a:chExt cx="6391440" cy="1066680"/>
          </a:xfrm>
        </p:grpSpPr>
        <p:sp>
          <p:nvSpPr>
            <p:cNvPr id="284" name=""/>
            <p:cNvSpPr/>
            <p:nvPr/>
          </p:nvSpPr>
          <p:spPr>
            <a:xfrm>
              <a:off x="2320920" y="5513400"/>
              <a:ext cx="6391440" cy="10666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8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411640" y="5647320"/>
              <a:ext cx="6121440" cy="8658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9672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aluno.data_matricula.dia = 2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aluno.data_matricula.mes = 3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aluno.data_matricula.ano = 1999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2FBC8-CA4D-4CFF-894B-5DB2F9E1B35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Structs: aninham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Reaproveitando estrutur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431640" y="2174760"/>
            <a:ext cx="4861080" cy="2514600"/>
            <a:chOff x="431640" y="2174760"/>
            <a:chExt cx="4861080" cy="2514600"/>
          </a:xfrm>
        </p:grpSpPr>
        <p:sp>
          <p:nvSpPr>
            <p:cNvPr id="290" name=""/>
            <p:cNvSpPr/>
            <p:nvPr/>
          </p:nvSpPr>
          <p:spPr>
            <a:xfrm>
              <a:off x="431640" y="2174760"/>
              <a:ext cx="4861080" cy="25146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0560" y="2244600"/>
              <a:ext cx="4591080" cy="230508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d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9672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Courier New"/>
                </a:rPr>
                <a:t>struct</a:t>
              </a:r>
              <a:r>
                <a:rPr b="0" lang="pt-BR" sz="1800" spc="-1" strike="noStrike">
                  <a:solidFill>
                    <a:srgbClr val="000000"/>
                  </a:solidFill>
                  <a:latin typeface="Courier New"/>
                </a:rPr>
                <a:t> TipoAluno 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pt-BR" sz="1800" spc="-1" strike="noStrike">
                  <a:solidFill>
                    <a:srgbClr val="000000"/>
                  </a:solidFill>
                  <a:latin typeface="Courier New"/>
                </a:rPr>
                <a:t>char nome[50]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pt-BR" sz="1800" spc="-1" strike="noStrike">
                  <a:solidFill>
                    <a:srgbClr val="000000"/>
                  </a:solidFill>
                  <a:latin typeface="Courier New"/>
                </a:rPr>
                <a:t>int codigo_curso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pt-BR" sz="1800" spc="-1" strike="noStrike">
                  <a:solidFill>
                    <a:srgbClr val="000000"/>
                  </a:solidFill>
                  <a:latin typeface="Courier New"/>
                </a:rPr>
                <a:t>int dia_matricula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pt-BR" sz="1800" spc="-1" strike="noStrike">
                  <a:solidFill>
                    <a:srgbClr val="000000"/>
                  </a:solidFill>
                  <a:latin typeface="Courier New"/>
                </a:rPr>
                <a:t>int mes_matricula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pt-BR" sz="1800" spc="-1" strike="noStrike">
                  <a:solidFill>
                    <a:srgbClr val="000000"/>
                  </a:solidFill>
                  <a:latin typeface="Courier New"/>
                </a:rPr>
                <a:t>int ano_matricula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pt-BR" sz="18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urier New"/>
                </a:rPr>
                <a:t>}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5111640" y="2978280"/>
            <a:ext cx="3627360" cy="990360"/>
            <a:chOff x="5111640" y="2978280"/>
            <a:chExt cx="3627360" cy="990360"/>
          </a:xfrm>
        </p:grpSpPr>
        <p:sp>
          <p:nvSpPr>
            <p:cNvPr id="293" name=""/>
            <p:cNvSpPr/>
            <p:nvPr/>
          </p:nvSpPr>
          <p:spPr>
            <a:xfrm>
              <a:off x="5111640" y="2978280"/>
              <a:ext cx="3627360" cy="99036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178600" y="3001320"/>
              <a:ext cx="3426120" cy="9432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d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struct TipoData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	</a:t>
              </a: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int dia,mes,ano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ff0000"/>
                  </a:solidFill>
                  <a:latin typeface="Courier New"/>
                </a:rPr>
                <a:t>}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880920" y="4508640"/>
            <a:ext cx="5790960" cy="1600200"/>
            <a:chOff x="880920" y="4508640"/>
            <a:chExt cx="5790960" cy="1600200"/>
          </a:xfrm>
        </p:grpSpPr>
        <p:sp>
          <p:nvSpPr>
            <p:cNvPr id="296" name=""/>
            <p:cNvSpPr/>
            <p:nvPr/>
          </p:nvSpPr>
          <p:spPr>
            <a:xfrm>
              <a:off x="880920" y="4508640"/>
              <a:ext cx="5790960" cy="16002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988200" y="4545720"/>
              <a:ext cx="5469120" cy="15242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d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Courier New"/>
                </a:rPr>
                <a:t>struct TipoAluno 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pt-BR" sz="1800" spc="-1" strike="noStrike">
                  <a:solidFill>
                    <a:srgbClr val="000000"/>
                  </a:solidFill>
                  <a:latin typeface="Courier New"/>
                </a:rPr>
                <a:t>char nome[50]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urier New"/>
                </a:rPr>
                <a:t>       </a:t>
              </a:r>
              <a:r>
                <a:rPr b="0" lang="pt-BR" sz="1800" spc="-1" strike="noStrike">
                  <a:solidFill>
                    <a:srgbClr val="000000"/>
                  </a:solidFill>
                  <a:latin typeface="Courier New"/>
                </a:rPr>
                <a:t>int codigo_curso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pt-BR" sz="1800" spc="-1" strike="noStrike">
                  <a:solidFill>
                    <a:srgbClr val="ff0000"/>
                  </a:solidFill>
                  <a:latin typeface="Courier New"/>
                </a:rPr>
                <a:t>struct TipoData data_matricula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pt-BR" sz="18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Courier New"/>
                </a:rPr>
                <a:t>}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762360" y="5680080"/>
            <a:ext cx="4952880" cy="914400"/>
            <a:chOff x="3762360" y="5680080"/>
            <a:chExt cx="4952880" cy="914400"/>
          </a:xfrm>
        </p:grpSpPr>
        <p:sp>
          <p:nvSpPr>
            <p:cNvPr id="299" name=""/>
            <p:cNvSpPr/>
            <p:nvPr/>
          </p:nvSpPr>
          <p:spPr>
            <a:xfrm>
              <a:off x="3762360" y="5680080"/>
              <a:ext cx="4952880" cy="91440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8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832560" y="5794920"/>
              <a:ext cx="4743720" cy="7419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9672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Courier New"/>
                </a:rPr>
                <a:t>aluno.data_matricula.dia = 2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Courier New"/>
                </a:rPr>
                <a:t>aluno.data_matricula.mes = 3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Courier New"/>
                </a:rPr>
                <a:t>aluno.data_matricula.ano = 1999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4753080" y="3068640"/>
            <a:ext cx="88920" cy="900000"/>
          </a:xfrm>
          <a:custGeom>
            <a:avLst/>
            <a:gdLst>
              <a:gd name="textAreaLeft" fmla="*/ 0 w 88920"/>
              <a:gd name="textAreaRight" fmla="*/ 32040 w 88920"/>
              <a:gd name="textAreaTop" fmla="*/ 23400 h 900000"/>
              <a:gd name="textAreaBottom" fmla="*/ 876600 h 9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52F3C-51C4-4253-8C48-0FB187252F2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Structs: aninham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Reaproveitando estrutur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1841400" y="3303720"/>
            <a:ext cx="6870600" cy="1565280"/>
            <a:chOff x="1841400" y="3303720"/>
            <a:chExt cx="6870600" cy="1565280"/>
          </a:xfrm>
        </p:grpSpPr>
        <p:sp>
          <p:nvSpPr>
            <p:cNvPr id="306" name=""/>
            <p:cNvSpPr/>
            <p:nvPr/>
          </p:nvSpPr>
          <p:spPr>
            <a:xfrm>
              <a:off x="1841400" y="3303720"/>
              <a:ext cx="6870600" cy="15652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968840" y="3340080"/>
              <a:ext cx="6488640" cy="14907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d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struct TipoAluno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char nome[50]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pt-BR" sz="2000" spc="-1" strike="noStrike">
                  <a:solidFill>
                    <a:srgbClr val="ff0000"/>
                  </a:solidFill>
                  <a:latin typeface="Courier New"/>
                </a:rPr>
                <a:t>struct TipoData data_matricula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}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1841400" y="5049720"/>
            <a:ext cx="6870600" cy="1587600"/>
            <a:chOff x="1841400" y="5049720"/>
            <a:chExt cx="6870600" cy="1587600"/>
          </a:xfrm>
        </p:grpSpPr>
        <p:sp>
          <p:nvSpPr>
            <p:cNvPr id="309" name=""/>
            <p:cNvSpPr/>
            <p:nvPr/>
          </p:nvSpPr>
          <p:spPr>
            <a:xfrm>
              <a:off x="1841400" y="5049720"/>
              <a:ext cx="6870600" cy="15876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968840" y="5086440"/>
              <a:ext cx="6488640" cy="15120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d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struct TipoFuncionario 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char nome[50]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pt-BR" sz="2000" spc="-1" strike="noStrike">
                  <a:solidFill>
                    <a:srgbClr val="ff0000"/>
                  </a:solidFill>
                  <a:latin typeface="Courier New"/>
                </a:rPr>
                <a:t>struct TipoData data_contratacao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}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431640" y="2077920"/>
            <a:ext cx="3740040" cy="1081080"/>
            <a:chOff x="431640" y="2077920"/>
            <a:chExt cx="3740040" cy="1081080"/>
          </a:xfrm>
        </p:grpSpPr>
        <p:sp>
          <p:nvSpPr>
            <p:cNvPr id="312" name=""/>
            <p:cNvSpPr/>
            <p:nvPr/>
          </p:nvSpPr>
          <p:spPr>
            <a:xfrm>
              <a:off x="431640" y="2077920"/>
              <a:ext cx="3740040" cy="108108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00760" y="2102760"/>
              <a:ext cx="3532320" cy="10296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d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struct</a:t>
              </a:r>
              <a:r>
                <a:rPr b="1" lang="en-US" sz="2000" spc="-1" strike="noStrike">
                  <a:solidFill>
                    <a:srgbClr val="ff0000"/>
                  </a:solidFill>
                  <a:latin typeface="Courier New"/>
                </a:rPr>
                <a:t> TipoData 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{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int dia,mes, ano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Courier New"/>
                </a:rPr>
                <a:t>}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14" name=""/>
          <p:cNvCxnSpPr>
            <a:stCxn id="312" idx="1"/>
            <a:endCxn id="306" idx="1"/>
          </p:cNvCxnSpPr>
          <p:nvPr/>
        </p:nvCxnSpPr>
        <p:spPr>
          <a:xfrm flipH="1" flipV="1" rot="10800000">
            <a:off x="431280" y="2618280"/>
            <a:ext cx="1410480" cy="1467720"/>
          </a:xfrm>
          <a:prstGeom prst="bentConnector3">
            <a:avLst>
              <a:gd name="adj1" fmla="val -16211"/>
            </a:avLst>
          </a:prstGeom>
          <a:ln w="28440">
            <a:solidFill>
              <a:srgbClr val="ff0000"/>
            </a:solidFill>
            <a:miter/>
            <a:tailEnd len="lg" type="triangle" w="lg"/>
          </a:ln>
        </p:spPr>
      </p:cxnSp>
      <p:cxnSp>
        <p:nvCxnSpPr>
          <p:cNvPr id="315" name=""/>
          <p:cNvCxnSpPr>
            <a:stCxn id="312" idx="1"/>
            <a:endCxn id="309" idx="1"/>
          </p:cNvCxnSpPr>
          <p:nvPr/>
        </p:nvCxnSpPr>
        <p:spPr>
          <a:xfrm flipH="1" flipV="1" rot="10800000">
            <a:off x="431280" y="2619000"/>
            <a:ext cx="1410480" cy="3224880"/>
          </a:xfrm>
          <a:prstGeom prst="bentConnector3">
            <a:avLst>
              <a:gd name="adj1" fmla="val -16211"/>
            </a:avLst>
          </a:prstGeom>
          <a:ln w="28440">
            <a:solidFill>
              <a:srgbClr val="ff0000"/>
            </a:solidFill>
            <a:miter/>
            <a:tailEnd len="lg" type="triangle" w="lg"/>
          </a:ln>
        </p:spPr>
      </p:cxnSp>
      <p:sp>
        <p:nvSpPr>
          <p:cNvPr id="316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C7DF7-CC70-499E-B1D1-A76541B48441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Structs: aninham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rr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: declaração cícl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431640" y="2170080"/>
            <a:ext cx="8280000" cy="2782440"/>
            <a:chOff x="431640" y="2170080"/>
            <a:chExt cx="8280000" cy="2782440"/>
          </a:xfrm>
        </p:grpSpPr>
        <p:sp>
          <p:nvSpPr>
            <p:cNvPr id="320" name=""/>
            <p:cNvSpPr/>
            <p:nvPr/>
          </p:nvSpPr>
          <p:spPr>
            <a:xfrm>
              <a:off x="431640" y="2170080"/>
              <a:ext cx="8280000" cy="278244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85000" y="2234520"/>
              <a:ext cx="7819920" cy="26503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ffffd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struct TipoFuncionario 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char nome[50]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int codigo_cargo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struct TipoData data_contratacao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1" lang="pt-BR" sz="2400" spc="-1" strike="noStrike">
                  <a:solidFill>
                    <a:srgbClr val="ff0000"/>
                  </a:solidFill>
                  <a:latin typeface="Courier New"/>
                </a:rPr>
                <a:t>TipoFuncionario supervisor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}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3122280" y="5410080"/>
            <a:ext cx="458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3300"/>
                </a:solidFill>
                <a:latin typeface="Arial"/>
              </a:rPr>
              <a:t>Erro: Declaração cíclica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H="1" flipV="1">
            <a:off x="3962520" y="4495680"/>
            <a:ext cx="630000" cy="9907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B38BC-A4F1-4952-9ADD-FB87A8C0EF6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0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Union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91AA86-3CF2-4B17-B964-8C03434B4BBE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C19D0C8-2609-4B9D-A366-4A694D3C0BBA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456840" y="2133360"/>
            <a:ext cx="7535880" cy="210492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Mesma idéia que de estrutu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conomizando memór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ó um dentre vários valores ocupa a memó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gramador é responsável por gerenciar qual valor é válido a cada ins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Un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Motivaçã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951280" y="4869000"/>
            <a:ext cx="5581440" cy="63000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519120" y="4959360"/>
            <a:ext cx="6948360" cy="398880"/>
            <a:chOff x="519120" y="4959360"/>
            <a:chExt cx="6948360" cy="398880"/>
          </a:xfrm>
        </p:grpSpPr>
        <p:sp>
          <p:nvSpPr>
            <p:cNvPr id="332" name=""/>
            <p:cNvSpPr/>
            <p:nvPr/>
          </p:nvSpPr>
          <p:spPr>
            <a:xfrm>
              <a:off x="519120" y="4959360"/>
              <a:ext cx="1808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0000"/>
                  </a:solidFill>
                  <a:latin typeface="Arial"/>
                </a:rPr>
                <a:t>char nome[20]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3762360" y="5049720"/>
              <a:ext cx="3705120" cy="277920"/>
              <a:chOff x="3762360" y="5049720"/>
              <a:chExt cx="3705120" cy="277920"/>
            </a:xfrm>
          </p:grpSpPr>
          <p:sp>
            <p:nvSpPr>
              <p:cNvPr id="334" name=""/>
              <p:cNvSpPr/>
              <p:nvPr/>
            </p:nvSpPr>
            <p:spPr>
              <a:xfrm>
                <a:off x="3948120" y="5049720"/>
                <a:ext cx="185760" cy="277920"/>
              </a:xfrm>
              <a:prstGeom prst="rect">
                <a:avLst/>
              </a:pr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133880" y="5049720"/>
                <a:ext cx="185760" cy="277920"/>
              </a:xfrm>
              <a:prstGeom prst="rect">
                <a:avLst/>
              </a:pr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4319640" y="5049720"/>
                <a:ext cx="182520" cy="277920"/>
              </a:xfrm>
              <a:prstGeom prst="rect">
                <a:avLst/>
              </a:pr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502160" y="5049720"/>
                <a:ext cx="185760" cy="277920"/>
              </a:xfrm>
              <a:prstGeom prst="rect">
                <a:avLst/>
              </a:pr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762360" y="5049720"/>
                <a:ext cx="185760" cy="277920"/>
              </a:xfrm>
              <a:prstGeom prst="rect">
                <a:avLst/>
              </a:pr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4875120" y="5049720"/>
                <a:ext cx="185760" cy="277920"/>
              </a:xfrm>
              <a:prstGeom prst="rect">
                <a:avLst/>
              </a:pr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060880" y="5049720"/>
                <a:ext cx="185760" cy="277920"/>
              </a:xfrm>
              <a:prstGeom prst="rect">
                <a:avLst/>
              </a:pr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246640" y="5049720"/>
                <a:ext cx="182520" cy="277920"/>
              </a:xfrm>
              <a:prstGeom prst="rect">
                <a:avLst/>
              </a:pr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429160" y="5049720"/>
                <a:ext cx="187560" cy="277920"/>
              </a:xfrm>
              <a:prstGeom prst="rect">
                <a:avLst/>
              </a:pr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687920" y="5049720"/>
                <a:ext cx="187200" cy="277920"/>
              </a:xfrm>
              <a:prstGeom prst="rect">
                <a:avLst/>
              </a:pr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802480" y="5049720"/>
                <a:ext cx="185400" cy="277920"/>
              </a:xfrm>
              <a:prstGeom prst="rect">
                <a:avLst/>
              </a:pr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987880" y="5049720"/>
                <a:ext cx="185760" cy="277920"/>
              </a:xfrm>
              <a:prstGeom prst="rect">
                <a:avLst/>
              </a:pr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173640" y="5049720"/>
                <a:ext cx="182520" cy="277920"/>
              </a:xfrm>
              <a:prstGeom prst="rect">
                <a:avLst/>
              </a:pr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356160" y="5049720"/>
                <a:ext cx="185760" cy="277920"/>
              </a:xfrm>
              <a:prstGeom prst="rect">
                <a:avLst/>
              </a:pr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616720" y="5049720"/>
                <a:ext cx="185760" cy="277920"/>
              </a:xfrm>
              <a:prstGeom prst="rect">
                <a:avLst/>
              </a:pr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540480" y="5049720"/>
                <a:ext cx="185760" cy="277920"/>
              </a:xfrm>
              <a:prstGeom prst="rect">
                <a:avLst/>
              </a:pr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726240" y="5049720"/>
                <a:ext cx="185760" cy="277920"/>
              </a:xfrm>
              <a:prstGeom prst="rect">
                <a:avLst/>
              </a:pr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912000" y="5049720"/>
                <a:ext cx="185760" cy="277920"/>
              </a:xfrm>
              <a:prstGeom prst="rect">
                <a:avLst/>
              </a:pr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095960" y="5049720"/>
                <a:ext cx="185760" cy="277920"/>
              </a:xfrm>
              <a:prstGeom prst="rect">
                <a:avLst/>
              </a:pr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281720" y="5049720"/>
                <a:ext cx="185760" cy="277920"/>
              </a:xfrm>
              <a:prstGeom prst="rect">
                <a:avLst/>
              </a:pr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948120" y="5049720"/>
                <a:ext cx="185760" cy="277920"/>
              </a:xfrm>
              <a:prstGeom prst="rect">
                <a:avLst/>
              </a:prstGeom>
              <a:noFill/>
              <a:ln cap="rnd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4133880" y="5049720"/>
                <a:ext cx="185760" cy="277920"/>
              </a:xfrm>
              <a:prstGeom prst="rect">
                <a:avLst/>
              </a:prstGeom>
              <a:noFill/>
              <a:ln cap="rnd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319640" y="5049720"/>
                <a:ext cx="182520" cy="277920"/>
              </a:xfrm>
              <a:prstGeom prst="rect">
                <a:avLst/>
              </a:prstGeom>
              <a:noFill/>
              <a:ln cap="rnd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4502160" y="5049720"/>
                <a:ext cx="185760" cy="277920"/>
              </a:xfrm>
              <a:prstGeom prst="rect">
                <a:avLst/>
              </a:prstGeom>
              <a:noFill/>
              <a:ln cap="rnd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762360" y="5049720"/>
                <a:ext cx="185760" cy="277920"/>
              </a:xfrm>
              <a:prstGeom prst="rect">
                <a:avLst/>
              </a:prstGeom>
              <a:noFill/>
              <a:ln cap="rnd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875120" y="5049720"/>
                <a:ext cx="185760" cy="277920"/>
              </a:xfrm>
              <a:prstGeom prst="rect">
                <a:avLst/>
              </a:prstGeom>
              <a:noFill/>
              <a:ln cap="rnd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060880" y="5049720"/>
                <a:ext cx="185760" cy="277920"/>
              </a:xfrm>
              <a:prstGeom prst="rect">
                <a:avLst/>
              </a:prstGeom>
              <a:noFill/>
              <a:ln cap="rnd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246640" y="5049720"/>
                <a:ext cx="182520" cy="277920"/>
              </a:xfrm>
              <a:prstGeom prst="rect">
                <a:avLst/>
              </a:prstGeom>
              <a:noFill/>
              <a:ln cap="rnd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429160" y="5049720"/>
                <a:ext cx="187560" cy="277920"/>
              </a:xfrm>
              <a:prstGeom prst="rect">
                <a:avLst/>
              </a:prstGeom>
              <a:noFill/>
              <a:ln cap="rnd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687920" y="5049720"/>
                <a:ext cx="187200" cy="277920"/>
              </a:xfrm>
              <a:prstGeom prst="rect">
                <a:avLst/>
              </a:prstGeom>
              <a:noFill/>
              <a:ln cap="rnd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802480" y="5049720"/>
                <a:ext cx="185400" cy="277920"/>
              </a:xfrm>
              <a:prstGeom prst="rect">
                <a:avLst/>
              </a:prstGeom>
              <a:noFill/>
              <a:ln cap="rnd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987880" y="5049720"/>
                <a:ext cx="185760" cy="277920"/>
              </a:xfrm>
              <a:prstGeom prst="rect">
                <a:avLst/>
              </a:prstGeom>
              <a:noFill/>
              <a:ln cap="rnd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173640" y="5049720"/>
                <a:ext cx="182520" cy="277920"/>
              </a:xfrm>
              <a:prstGeom prst="rect">
                <a:avLst/>
              </a:prstGeom>
              <a:noFill/>
              <a:ln cap="rnd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356160" y="5049720"/>
                <a:ext cx="185760" cy="277920"/>
              </a:xfrm>
              <a:prstGeom prst="rect">
                <a:avLst/>
              </a:prstGeom>
              <a:noFill/>
              <a:ln cap="rnd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616720" y="5049720"/>
                <a:ext cx="185760" cy="277920"/>
              </a:xfrm>
              <a:prstGeom prst="rect">
                <a:avLst/>
              </a:prstGeom>
              <a:noFill/>
              <a:ln cap="rnd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540480" y="5049720"/>
                <a:ext cx="185760" cy="277920"/>
              </a:xfrm>
              <a:prstGeom prst="rect">
                <a:avLst/>
              </a:prstGeom>
              <a:noFill/>
              <a:ln cap="rnd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6726240" y="5049720"/>
                <a:ext cx="185760" cy="277920"/>
              </a:xfrm>
              <a:prstGeom prst="rect">
                <a:avLst/>
              </a:prstGeom>
              <a:noFill/>
              <a:ln cap="rnd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912000" y="5049720"/>
                <a:ext cx="185760" cy="277920"/>
              </a:xfrm>
              <a:prstGeom prst="rect">
                <a:avLst/>
              </a:prstGeom>
              <a:noFill/>
              <a:ln cap="rnd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095960" y="5049720"/>
                <a:ext cx="185760" cy="277920"/>
              </a:xfrm>
              <a:prstGeom prst="rect">
                <a:avLst/>
              </a:prstGeom>
              <a:noFill/>
              <a:ln cap="rnd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281720" y="5049720"/>
                <a:ext cx="185760" cy="277920"/>
              </a:xfrm>
              <a:prstGeom prst="rect">
                <a:avLst/>
              </a:prstGeom>
              <a:noFill/>
              <a:ln cap="rnd"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74" name=""/>
          <p:cNvGrpSpPr/>
          <p:nvPr/>
        </p:nvGrpSpPr>
        <p:grpSpPr>
          <a:xfrm>
            <a:off x="520560" y="4869000"/>
            <a:ext cx="8012160" cy="630000"/>
            <a:chOff x="520560" y="4869000"/>
            <a:chExt cx="8012160" cy="630000"/>
          </a:xfrm>
        </p:grpSpPr>
        <p:sp>
          <p:nvSpPr>
            <p:cNvPr id="375" name=""/>
            <p:cNvSpPr/>
            <p:nvPr/>
          </p:nvSpPr>
          <p:spPr>
            <a:xfrm>
              <a:off x="2951280" y="4869000"/>
              <a:ext cx="5581440" cy="6300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20560" y="4957560"/>
              <a:ext cx="2070360" cy="44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7" name=""/>
          <p:cNvGrpSpPr/>
          <p:nvPr/>
        </p:nvGrpSpPr>
        <p:grpSpPr>
          <a:xfrm>
            <a:off x="429840" y="4959360"/>
            <a:ext cx="7653600" cy="398880"/>
            <a:chOff x="429840" y="4959360"/>
            <a:chExt cx="7653600" cy="398880"/>
          </a:xfrm>
        </p:grpSpPr>
        <p:sp>
          <p:nvSpPr>
            <p:cNvPr id="378" name=""/>
            <p:cNvSpPr/>
            <p:nvPr/>
          </p:nvSpPr>
          <p:spPr>
            <a:xfrm>
              <a:off x="429840" y="4959360"/>
              <a:ext cx="2262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3333cc"/>
                  </a:solidFill>
                  <a:latin typeface="Arial"/>
                </a:rPr>
                <a:t>int reg_academic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492360" y="5049720"/>
              <a:ext cx="4591080" cy="270000"/>
            </a:xfrm>
            <a:prstGeom prst="rect">
              <a:avLst/>
            </a:prstGeom>
            <a:solidFill>
              <a:srgbClr val="66ccff"/>
            </a:solidFill>
            <a:ln cap="rnd"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520560" y="4869000"/>
            <a:ext cx="8012160" cy="630000"/>
            <a:chOff x="520560" y="4869000"/>
            <a:chExt cx="8012160" cy="630000"/>
          </a:xfrm>
        </p:grpSpPr>
        <p:sp>
          <p:nvSpPr>
            <p:cNvPr id="381" name=""/>
            <p:cNvSpPr/>
            <p:nvPr/>
          </p:nvSpPr>
          <p:spPr>
            <a:xfrm>
              <a:off x="2951280" y="4869000"/>
              <a:ext cx="5581440" cy="6300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20560" y="4957560"/>
              <a:ext cx="2070360" cy="448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609840" y="4959360"/>
            <a:ext cx="7653240" cy="398880"/>
            <a:chOff x="609840" y="4959360"/>
            <a:chExt cx="7653240" cy="398880"/>
          </a:xfrm>
        </p:grpSpPr>
        <p:sp>
          <p:nvSpPr>
            <p:cNvPr id="384" name=""/>
            <p:cNvSpPr/>
            <p:nvPr/>
          </p:nvSpPr>
          <p:spPr>
            <a:xfrm>
              <a:off x="609840" y="4959360"/>
              <a:ext cx="1697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9900"/>
                  </a:solidFill>
                  <a:latin typeface="Arial"/>
                </a:rPr>
                <a:t>int cod_curs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672000" y="5049720"/>
              <a:ext cx="4591080" cy="270000"/>
            </a:xfrm>
            <a:prstGeom prst="rect">
              <a:avLst/>
            </a:prstGeom>
            <a:solidFill>
              <a:srgbClr val="99cc00"/>
            </a:solidFill>
            <a:ln cap="rnd"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184A7-F013-4A0F-81F7-96B67030F70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Union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Declaração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E3A0FD-2E95-47F9-B477-A60C9008E92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06C40F0A-C82B-4121-8F1D-CB104A18698B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strutura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0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que são estruturas compos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clar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tribu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Roteir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BFDB8-8B7F-4F17-8956-DF2A015E825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431640" y="2797200"/>
            <a:ext cx="8280720" cy="234144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Unions: declar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Sintax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12720" y="2887560"/>
            <a:ext cx="7916760" cy="216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d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9672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nion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tipo1 atributo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tipo2 atributo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tipo3 atributo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 variáve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525240" y="2168640"/>
            <a:ext cx="2695680" cy="720720"/>
            <a:chOff x="525240" y="2168640"/>
            <a:chExt cx="2695680" cy="720720"/>
          </a:xfrm>
        </p:grpSpPr>
        <p:sp>
          <p:nvSpPr>
            <p:cNvPr id="393" name=""/>
            <p:cNvSpPr/>
            <p:nvPr/>
          </p:nvSpPr>
          <p:spPr>
            <a:xfrm>
              <a:off x="525240" y="2168640"/>
              <a:ext cx="165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3300"/>
                  </a:solidFill>
                  <a:latin typeface="Arial"/>
                </a:rPr>
                <a:t>Tipo Uni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511280" y="2619360"/>
              <a:ext cx="1709640" cy="270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>
            <a:off x="3311640" y="3249720"/>
            <a:ext cx="180720" cy="1439640"/>
          </a:xfrm>
          <a:custGeom>
            <a:avLst/>
            <a:gdLst>
              <a:gd name="textAreaLeft" fmla="*/ 115560 w 180720"/>
              <a:gd name="textAreaRight" fmla="*/ 181080 w 18072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94160" y="3597120"/>
            <a:ext cx="134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Lista de</a:t>
            </a:r>
            <a:br>
              <a:rPr sz="2400"/>
            </a:b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atrib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050920" y="3968640"/>
            <a:ext cx="1170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1606320" y="5049720"/>
            <a:ext cx="2905560" cy="909000"/>
            <a:chOff x="1606320" y="5049720"/>
            <a:chExt cx="2905560" cy="909000"/>
          </a:xfrm>
        </p:grpSpPr>
        <p:sp>
          <p:nvSpPr>
            <p:cNvPr id="399" name=""/>
            <p:cNvSpPr/>
            <p:nvPr/>
          </p:nvSpPr>
          <p:spPr>
            <a:xfrm>
              <a:off x="1606320" y="5499000"/>
              <a:ext cx="290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3300"/>
                  </a:solidFill>
                  <a:latin typeface="Arial"/>
                </a:rPr>
                <a:t>Aloca e cria variáv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2862360" y="5049720"/>
              <a:ext cx="809640" cy="449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5111640" y="5315400"/>
            <a:ext cx="3581640" cy="1008720"/>
          </a:xfrm>
          <a:prstGeom prst="rect">
            <a:avLst/>
          </a:prstGeom>
          <a:solidFill>
            <a:srgbClr val="ffcccc"/>
          </a:solidFill>
          <a:ln w="12600">
            <a:solidFill>
              <a:srgbClr val="a50021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eclara a un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Cria apenas a variá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Só para esta decla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E499A-52F7-4A8F-BA68-AC24C170166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0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Unions: exemp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xempl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20560" y="2168640"/>
            <a:ext cx="8088480" cy="2160360"/>
          </a:xfrm>
          <a:prstGeom prst="rect">
            <a:avLst/>
          </a:prstGeom>
          <a:solidFill>
            <a:srgbClr val="ffffcc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9672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union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3333cc"/>
                </a:solidFill>
                <a:latin typeface="Courier New"/>
              </a:rPr>
              <a:t>int inteiro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009900"/>
                </a:solidFill>
                <a:latin typeface="Courier New"/>
              </a:rPr>
              <a:t>float frac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} numflexivel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041640" y="2798640"/>
            <a:ext cx="182520" cy="1079640"/>
          </a:xfrm>
          <a:custGeom>
            <a:avLst/>
            <a:gdLst>
              <a:gd name="textAreaLeft" fmla="*/ 116640 w 182520"/>
              <a:gd name="textAreaRight" fmla="*/ 182880 w 18252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38120" y="2933640"/>
            <a:ext cx="209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Lista de</a:t>
            </a:r>
            <a:br>
              <a:rPr sz="2400"/>
            </a:b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possibil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050920" y="3338640"/>
            <a:ext cx="7365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05600" y="468936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Criar variá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2502000" y="4149360"/>
            <a:ext cx="809640" cy="63036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3581280" y="1628640"/>
            <a:ext cx="2570040" cy="755640"/>
            <a:chOff x="3581280" y="1628640"/>
            <a:chExt cx="2570040" cy="755640"/>
          </a:xfrm>
        </p:grpSpPr>
        <p:sp>
          <p:nvSpPr>
            <p:cNvPr id="412" name=""/>
            <p:cNvSpPr/>
            <p:nvPr/>
          </p:nvSpPr>
          <p:spPr>
            <a:xfrm>
              <a:off x="4500000" y="1628640"/>
              <a:ext cx="165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3300"/>
                  </a:solidFill>
                  <a:latin typeface="Arial"/>
                </a:rPr>
                <a:t>Tipo Un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3581280" y="1933560"/>
              <a:ext cx="900000" cy="45072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220920" y="5138640"/>
            <a:ext cx="4951440" cy="1530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662360" y="5589720"/>
            <a:ext cx="2376720" cy="520560"/>
          </a:xfrm>
          <a:prstGeom prst="rect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Arial"/>
              </a:rPr>
              <a:t>intei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842000" y="5769000"/>
            <a:ext cx="2376360" cy="520560"/>
          </a:xfrm>
          <a:prstGeom prst="rect">
            <a:avLst/>
          </a:prstGeom>
          <a:solidFill>
            <a:srgbClr val="99ff99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9900"/>
                </a:solidFill>
                <a:latin typeface="Arial"/>
              </a:rPr>
              <a:t>fr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392720" y="5680080"/>
            <a:ext cx="2376360" cy="520560"/>
          </a:xfrm>
          <a:prstGeom prst="rect">
            <a:avLst/>
          </a:prstGeom>
          <a:solidFill>
            <a:srgbClr val="ccecff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3333cc"/>
                </a:solidFill>
                <a:latin typeface="Arial"/>
              </a:rPr>
              <a:t>intei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92000" y="5589720"/>
            <a:ext cx="21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numflexi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C4C81-55A6-4335-8603-4485FB2A9FA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Union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Atribuindo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0C2B95-038E-44FA-890B-B82EBC32CC3B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30AD11B-AC1C-452D-9D7E-6F5BDE8B6855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Unions: atribuin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20560" y="1538280"/>
            <a:ext cx="8088480" cy="1981080"/>
          </a:xfrm>
          <a:prstGeom prst="rect">
            <a:avLst/>
          </a:prstGeom>
          <a:solidFill>
            <a:srgbClr val="ffffcc"/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39672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union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3333cc"/>
                </a:solidFill>
                <a:latin typeface="Courier New"/>
              </a:rPr>
              <a:t>int inteiro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009900"/>
                </a:solidFill>
                <a:latin typeface="Courier New"/>
              </a:rPr>
              <a:t>float frac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} numflexivel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662360" y="3789360"/>
            <a:ext cx="378000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???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11280" y="468936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numflexivel.</a:t>
            </a:r>
            <a:r>
              <a:rPr b="1" lang="pt-BR" sz="2400" spc="-1" strike="noStrike">
                <a:solidFill>
                  <a:srgbClr val="3333cc"/>
                </a:solidFill>
                <a:latin typeface="Courier New"/>
              </a:rPr>
              <a:t>inteir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= 1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662360" y="3789360"/>
            <a:ext cx="378000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33cc"/>
                </a:solidFill>
                <a:latin typeface="Courier New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11280" y="522936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numflexivel.</a:t>
            </a:r>
            <a:r>
              <a:rPr b="1" lang="pt-BR" sz="2400" spc="-1" strike="noStrike">
                <a:solidFill>
                  <a:srgbClr val="009900"/>
                </a:solidFill>
                <a:latin typeface="Courier New"/>
              </a:rPr>
              <a:t>frac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= 3.1415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662360" y="3789360"/>
            <a:ext cx="378000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9900"/>
                </a:solidFill>
                <a:latin typeface="Courier New"/>
              </a:rPr>
              <a:t>3.141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11280" y="568008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numflexivel.</a:t>
            </a:r>
            <a:r>
              <a:rPr b="1" lang="pt-BR" sz="2400" spc="-1" strike="noStrike">
                <a:solidFill>
                  <a:srgbClr val="3333cc"/>
                </a:solidFill>
                <a:latin typeface="Courier New"/>
              </a:rPr>
              <a:t>inteir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= -5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662360" y="3789360"/>
            <a:ext cx="3780000" cy="71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3333cc"/>
                </a:solidFill>
                <a:latin typeface="Courier New"/>
              </a:rPr>
              <a:t>-5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1255F-1299-4FE0-9E9D-C572BD2C207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Union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Declaração com </a:t>
            </a:r>
            <a:br>
              <a:rPr sz="3600"/>
            </a:b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definição de tipo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5B2D2-A12A-444C-8F40-7B16C6BF21D0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8C0A461-1EFD-4335-BB04-7803823F8164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431640" y="2797200"/>
            <a:ext cx="8280720" cy="234144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Unions: definição de ti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31640" y="1449360"/>
            <a:ext cx="531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Declaração identificad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12720" y="2887560"/>
            <a:ext cx="7916760" cy="216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d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9672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nion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ff3300"/>
                </a:solidFill>
                <a:latin typeface="Courier New"/>
              </a:rPr>
              <a:t>nome_union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tipo1 atributo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tipo2 atributo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tipo3 atributo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 variáve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25240" y="2168640"/>
            <a:ext cx="165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Arial"/>
              </a:rPr>
              <a:t>Tipo U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511280" y="2619360"/>
            <a:ext cx="1709640" cy="270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041640" y="3249720"/>
            <a:ext cx="181080" cy="1439640"/>
          </a:xfrm>
          <a:custGeom>
            <a:avLst/>
            <a:gdLst>
              <a:gd name="textAreaLeft" fmla="*/ 115920 w 181080"/>
              <a:gd name="textAreaRight" fmla="*/ 181440 w 18108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47760" y="3608280"/>
            <a:ext cx="224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Arial"/>
              </a:rPr>
              <a:t>Lista de</a:t>
            </a:r>
            <a:br>
              <a:rPr sz="2400"/>
            </a:br>
            <a:r>
              <a:rPr b="0" lang="pt-BR" sz="2400" spc="-1" strike="noStrike">
                <a:solidFill>
                  <a:srgbClr val="3333cc"/>
                </a:solidFill>
                <a:latin typeface="Arial"/>
              </a:rPr>
              <a:t>possibilids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050920" y="3968640"/>
            <a:ext cx="8114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606320" y="5499000"/>
            <a:ext cx="29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Arial"/>
              </a:rPr>
              <a:t>Aloca e cria variá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2862360" y="5049720"/>
            <a:ext cx="809640" cy="4492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375240" y="1628640"/>
            <a:ext cx="141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Nome da</a:t>
            </a:r>
            <a:br>
              <a:rPr sz="2400"/>
            </a:b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Un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4841640" y="2077920"/>
            <a:ext cx="1439640" cy="8114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025600" y="5234400"/>
            <a:ext cx="3093120" cy="1313640"/>
          </a:xfrm>
          <a:prstGeom prst="rect">
            <a:avLst/>
          </a:prstGeom>
          <a:solidFill>
            <a:srgbClr val="ffcccc"/>
          </a:solidFill>
          <a:ln w="12600">
            <a:solidFill>
              <a:srgbClr val="a50021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eclara a un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Memoriza a decla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Arial"/>
              </a:rPr>
              <a:t>Novo tipo de d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Cria a variáv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6326A-61F7-42AD-A8ED-0690174B45F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0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431640" y="2797200"/>
            <a:ext cx="8280720" cy="234144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Unions: definição de ti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Declaração identificad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12720" y="2887560"/>
            <a:ext cx="7916760" cy="216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d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9672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nion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3333cc"/>
                </a:solidFill>
                <a:latin typeface="Courier New"/>
              </a:rPr>
              <a:t>nome_union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tipo1 atributo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tipo2 atributo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tipo3 atributo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525240" y="2168640"/>
            <a:ext cx="2695680" cy="720720"/>
            <a:chOff x="525240" y="2168640"/>
            <a:chExt cx="2695680" cy="720720"/>
          </a:xfrm>
        </p:grpSpPr>
        <p:sp>
          <p:nvSpPr>
            <p:cNvPr id="454" name=""/>
            <p:cNvSpPr/>
            <p:nvPr/>
          </p:nvSpPr>
          <p:spPr>
            <a:xfrm>
              <a:off x="525240" y="2168640"/>
              <a:ext cx="1651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3333cc"/>
                  </a:solidFill>
                  <a:latin typeface="Arial"/>
                </a:rPr>
                <a:t>Tipo Un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511280" y="2619360"/>
              <a:ext cx="1709640" cy="270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795960" y="3249720"/>
            <a:ext cx="2426760" cy="1439640"/>
            <a:chOff x="795960" y="3249720"/>
            <a:chExt cx="2426760" cy="1439640"/>
          </a:xfrm>
        </p:grpSpPr>
        <p:sp>
          <p:nvSpPr>
            <p:cNvPr id="457" name=""/>
            <p:cNvSpPr/>
            <p:nvPr/>
          </p:nvSpPr>
          <p:spPr>
            <a:xfrm>
              <a:off x="3041640" y="3249720"/>
              <a:ext cx="181080" cy="1439640"/>
            </a:xfrm>
            <a:custGeom>
              <a:avLst/>
              <a:gdLst>
                <a:gd name="textAreaLeft" fmla="*/ 115920 w 181080"/>
                <a:gd name="textAreaRight" fmla="*/ 181440 w 181080"/>
                <a:gd name="textAreaTop" fmla="*/ 37440 h 1439640"/>
                <a:gd name="textAreaBottom" fmla="*/ 1402200 h 1439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5960" y="3597120"/>
              <a:ext cx="1279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3333cc"/>
                  </a:solidFill>
                  <a:latin typeface="Arial"/>
                </a:rPr>
                <a:t>Lista de</a:t>
              </a:r>
              <a:br>
                <a:rPr sz="2400"/>
              </a:br>
              <a:r>
                <a:rPr b="0" lang="pt-BR" sz="2400" spc="-1" strike="noStrike">
                  <a:solidFill>
                    <a:srgbClr val="3333cc"/>
                  </a:solidFill>
                  <a:latin typeface="Arial"/>
                </a:rPr>
                <a:t>possibil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050920" y="3968640"/>
              <a:ext cx="81144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1601640" y="5049720"/>
            <a:ext cx="2430720" cy="909000"/>
            <a:chOff x="1601640" y="5049720"/>
            <a:chExt cx="2430720" cy="909000"/>
          </a:xfrm>
        </p:grpSpPr>
        <p:sp>
          <p:nvSpPr>
            <p:cNvPr id="461" name=""/>
            <p:cNvSpPr/>
            <p:nvPr/>
          </p:nvSpPr>
          <p:spPr>
            <a:xfrm>
              <a:off x="1601640" y="5499000"/>
              <a:ext cx="243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Arial"/>
                </a:rPr>
                <a:t>Não aloca na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2862360" y="5049720"/>
              <a:ext cx="88920" cy="449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4841640" y="1628640"/>
            <a:ext cx="2950920" cy="1260720"/>
            <a:chOff x="4841640" y="1628640"/>
            <a:chExt cx="2950920" cy="1260720"/>
          </a:xfrm>
        </p:grpSpPr>
        <p:sp>
          <p:nvSpPr>
            <p:cNvPr id="464" name=""/>
            <p:cNvSpPr/>
            <p:nvPr/>
          </p:nvSpPr>
          <p:spPr>
            <a:xfrm>
              <a:off x="6375960" y="1628640"/>
              <a:ext cx="1416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3333cc"/>
                  </a:solidFill>
                  <a:latin typeface="Arial"/>
                </a:rPr>
                <a:t>Nome da</a:t>
              </a:r>
              <a:br>
                <a:rPr sz="2400"/>
              </a:br>
              <a:r>
                <a:rPr b="0" lang="pt-BR" sz="2400" spc="-1" strike="noStrike">
                  <a:solidFill>
                    <a:srgbClr val="3333cc"/>
                  </a:solidFill>
                  <a:latin typeface="Arial"/>
                </a:rPr>
                <a:t>Un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>
              <a:off x="4841640" y="2077920"/>
              <a:ext cx="1439640" cy="8114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5025600" y="5324760"/>
            <a:ext cx="3093120" cy="1313640"/>
          </a:xfrm>
          <a:prstGeom prst="rect">
            <a:avLst/>
          </a:prstGeom>
          <a:solidFill>
            <a:srgbClr val="ffcccc"/>
          </a:solidFill>
          <a:ln w="12600">
            <a:solidFill>
              <a:srgbClr val="a50021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eclara a un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Memoriza a decla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ovo tipo de d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ff0000"/>
                </a:solidFill>
                <a:latin typeface="Arial"/>
              </a:rPr>
              <a:t>NÃO cria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a variáve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F8635-8B62-4B78-957C-D60AEBC110A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431640" y="2077920"/>
            <a:ext cx="8280720" cy="234180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Unions: definição de ti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Declaração identificada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12720" y="2168640"/>
            <a:ext cx="7916760" cy="216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d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9672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nion </a:t>
            </a:r>
            <a:r>
              <a:rPr b="1" lang="pt-BR" sz="2400" spc="-1" strike="noStrike">
                <a:solidFill>
                  <a:srgbClr val="ff3300"/>
                </a:solidFill>
                <a:latin typeface="Courier New"/>
              </a:rPr>
              <a:t>nome_union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tipo1 atributo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tipo2 atributo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tipo3 atributo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31640" y="4599000"/>
            <a:ext cx="8280720" cy="153036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12720" y="4689360"/>
            <a:ext cx="7916760" cy="1349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d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9672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union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ff3300"/>
                </a:solidFill>
                <a:latin typeface="Courier New"/>
              </a:rPr>
              <a:t>nome_union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variá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322360" y="2168640"/>
            <a:ext cx="179640" cy="2160360"/>
          </a:xfrm>
          <a:custGeom>
            <a:avLst/>
            <a:gdLst>
              <a:gd name="textAreaLeft" fmla="*/ 114840 w 179640"/>
              <a:gd name="textAreaRight" fmla="*/ 180000 w 179640"/>
              <a:gd name="textAreaTop" fmla="*/ 56160 h 2160360"/>
              <a:gd name="textAreaBottom" fmla="*/ 2104200 h 21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40920" y="2978280"/>
            <a:ext cx="1978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Arial"/>
              </a:rPr>
              <a:t>Decla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Arial"/>
              </a:rPr>
              <a:t>memoriz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3333cc"/>
                </a:solidFill>
                <a:latin typeface="Arial"/>
              </a:rPr>
              <a:t>pelo compila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27760" y="4689360"/>
            <a:ext cx="478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33cc"/>
                </a:solidFill>
                <a:latin typeface="Arial"/>
              </a:rPr>
              <a:t>Declaração abreviada de variáv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56A83-BAE0-4225-A799-E9E76774054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0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31640" y="1449360"/>
            <a:ext cx="7917120" cy="513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d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9672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31640" y="1538280"/>
            <a:ext cx="456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uct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ipoData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di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mes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int an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20560" y="3968640"/>
            <a:ext cx="456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uct </a:t>
            </a: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TipoEndereco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har local[50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t numer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char cep[10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73EA0-9A9B-48C3-970B-54BF80E9E93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0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xempl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31640" y="1449360"/>
            <a:ext cx="7917120" cy="513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d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9672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struct TipoPessoa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char nome[5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struct TipoData data_nasciment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struct TipoEndereco endereco_residenci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union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struc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struct TipoData data_matricul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int codigo_curs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9900"/>
                </a:solidFill>
                <a:latin typeface="Arial"/>
              </a:rPr>
              <a:t>} alun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cc00ff"/>
                </a:solidFill>
                <a:latin typeface="Arial"/>
              </a:rPr>
              <a:t>struc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cc00ff"/>
                </a:solidFill>
                <a:latin typeface="Arial"/>
              </a:rPr>
              <a:t>int codigo_contrat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cc00ff"/>
                </a:solidFill>
                <a:latin typeface="Arial"/>
              </a:rPr>
              <a:t>struct TipoData data_contrataca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cc00ff"/>
                </a:solidFill>
                <a:latin typeface="Arial"/>
              </a:rPr>
              <a:t>int codigo_carg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cc00ff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cc00ff"/>
                </a:solidFill>
                <a:latin typeface="Arial"/>
              </a:rPr>
              <a:t>} funcionario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struct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char area_pesquisa[4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char nome_departamento[40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} professo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} dados_especificos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3333cc"/>
                </a:solidFill>
                <a:latin typeface="Arial"/>
              </a:rPr>
              <a:t>} pessoa;</a:t>
            </a: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25070-E054-4593-B1B3-70A6BB1748B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fill="hold">
                      <p:stCondLst>
                        <p:cond delay="indefinite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fill="hold">
                      <p:stCondLst>
                        <p:cond delay="indefinite"/>
                      </p:stCondLst>
                      <p:childTnLst>
                        <p:par>
                          <p:cTn id="814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20560" y="207756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Struct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4435F4-6FC7-4187-8742-F02D9856DCC7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FEB9293-2B2F-47C6-ABCE-0A12A0FD530B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Structs e Union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Fim do Capítulo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3FE5DF-42AC-4B1D-AFF4-4EA038FC03FE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536F4274-6979-4D12-868B-6B6AAE568EC5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Curso de C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Nomeando Tipo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40DE0E-7FED-4611-8789-60358B957368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1315062C-4036-47D0-A11C-B93825CE6C7E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Nomeando Tip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0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prender 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riar sinônimos para tipos de d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sar sinônimos para esconder detalhes da declaração de tip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bjetiv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FAEA0-6C8D-4B6E-9C0A-C124777A473C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0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Nomeando Tipos 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Typedef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3D43B-51C7-4F74-9F7D-65E68A590F13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94D96C36-B276-4164-B6EE-9E7A470B4F29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Typede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31640" y="1449360"/>
            <a:ext cx="8280720" cy="679320"/>
          </a:xfrm>
          <a:prstGeom prst="rect">
            <a:avLst/>
          </a:prstGeom>
          <a:solidFill>
            <a:srgbClr val="ffcccc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</a:rPr>
              <a:t>Typedef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: Definir novos nomes para tipos existen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31640" y="3319560"/>
            <a:ext cx="8280720" cy="91908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12720" y="3409920"/>
            <a:ext cx="7916760" cy="7398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d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9672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typedef tipo_original sinônim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914400" y="4495680"/>
            <a:ext cx="27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Arial"/>
              </a:rPr>
              <a:t>Qualquer tipo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3402000" y="3968640"/>
            <a:ext cx="449280" cy="11700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31640" y="25797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Declaraçã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914400" y="50292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Arial"/>
              </a:rPr>
              <a:t>Declaração jáv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flipH="1" flipV="1">
            <a:off x="6821280" y="3968280"/>
            <a:ext cx="360360" cy="9003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832360" y="4959360"/>
            <a:ext cx="27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Arial"/>
              </a:rPr>
              <a:t>Novo nome do ti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A2E15-6D97-4492-B24F-58680829FE97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Typede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xemp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457200" y="2168640"/>
            <a:ext cx="8229600" cy="1081080"/>
            <a:chOff x="457200" y="2168640"/>
            <a:chExt cx="8229600" cy="1081080"/>
          </a:xfrm>
        </p:grpSpPr>
        <p:sp>
          <p:nvSpPr>
            <p:cNvPr id="510" name=""/>
            <p:cNvSpPr/>
            <p:nvPr/>
          </p:nvSpPr>
          <p:spPr>
            <a:xfrm>
              <a:off x="457200" y="2168640"/>
              <a:ext cx="8229600" cy="10810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8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520560" y="2708280"/>
              <a:ext cx="8102880" cy="4507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typedef </a:t>
              </a:r>
              <a:r>
                <a:rPr b="1" lang="pt-BR" sz="2400" spc="-1" strike="noStrike">
                  <a:solidFill>
                    <a:srgbClr val="cc0000"/>
                  </a:solidFill>
                  <a:latin typeface="Courier New"/>
                </a:rPr>
                <a:t>int</a:t>
              </a: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pt-BR" sz="2400" spc="-1" strike="noStrike">
                  <a:solidFill>
                    <a:srgbClr val="3333ff"/>
                  </a:solidFill>
                  <a:latin typeface="Courier New"/>
                </a:rPr>
                <a:t>inteiro</a:t>
              </a: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0920" y="2181240"/>
              <a:ext cx="377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Definir sinonimo para </a:t>
              </a: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3" name=""/>
          <p:cNvGrpSpPr/>
          <p:nvPr/>
        </p:nvGrpSpPr>
        <p:grpSpPr>
          <a:xfrm>
            <a:off x="457200" y="3429000"/>
            <a:ext cx="8229600" cy="2430360"/>
            <a:chOff x="457200" y="3429000"/>
            <a:chExt cx="8229600" cy="2430360"/>
          </a:xfrm>
        </p:grpSpPr>
        <p:sp>
          <p:nvSpPr>
            <p:cNvPr id="514" name=""/>
            <p:cNvSpPr/>
            <p:nvPr/>
          </p:nvSpPr>
          <p:spPr>
            <a:xfrm>
              <a:off x="457200" y="3429000"/>
              <a:ext cx="8229600" cy="24303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8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20560" y="4060800"/>
              <a:ext cx="8102880" cy="4507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33ff"/>
                  </a:solidFill>
                  <a:latin typeface="Courier New"/>
                </a:rPr>
                <a:t>inteiro</a:t>
              </a: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 numero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22720" y="3511440"/>
              <a:ext cx="476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Declarar variável com o sinonim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23800" y="5229360"/>
              <a:ext cx="8102520" cy="4507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cc0000"/>
                  </a:solidFill>
                  <a:latin typeface="Courier New"/>
                </a:rPr>
                <a:t>int</a:t>
              </a: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 numero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26680" y="4681440"/>
              <a:ext cx="344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Declaração equivalen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3062520" y="1531800"/>
            <a:ext cx="44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nonimos para nomes de t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6E9B5-D008-49D0-8C8E-C5D16C6CCD7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Typede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xemp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57200" y="2168640"/>
            <a:ext cx="8229600" cy="1081080"/>
            <a:chOff x="457200" y="2168640"/>
            <a:chExt cx="8229600" cy="1081080"/>
          </a:xfrm>
        </p:grpSpPr>
        <p:sp>
          <p:nvSpPr>
            <p:cNvPr id="524" name=""/>
            <p:cNvSpPr/>
            <p:nvPr/>
          </p:nvSpPr>
          <p:spPr>
            <a:xfrm>
              <a:off x="457200" y="2168640"/>
              <a:ext cx="8229600" cy="10810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8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20560" y="2708280"/>
              <a:ext cx="8102880" cy="4507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typedef </a:t>
              </a:r>
              <a:r>
                <a:rPr b="1" lang="pt-BR" sz="2400" spc="-1" strike="noStrike">
                  <a:solidFill>
                    <a:srgbClr val="cc0000"/>
                  </a:solidFill>
                  <a:latin typeface="Courier New"/>
                </a:rPr>
                <a:t>unsigned long long int</a:t>
              </a: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pt-BR" sz="2400" spc="-1" strike="noStrike">
                  <a:solidFill>
                    <a:srgbClr val="3333ff"/>
                  </a:solidFill>
                  <a:latin typeface="Courier New"/>
                </a:rPr>
                <a:t>superint</a:t>
              </a: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17680" y="2181240"/>
              <a:ext cx="7154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Definir sinonimo para </a:t>
              </a: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unsigned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long long int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457200" y="3429000"/>
            <a:ext cx="8229600" cy="2430360"/>
            <a:chOff x="457200" y="3429000"/>
            <a:chExt cx="8229600" cy="2430360"/>
          </a:xfrm>
        </p:grpSpPr>
        <p:sp>
          <p:nvSpPr>
            <p:cNvPr id="528" name=""/>
            <p:cNvSpPr/>
            <p:nvPr/>
          </p:nvSpPr>
          <p:spPr>
            <a:xfrm>
              <a:off x="457200" y="3429000"/>
              <a:ext cx="8229600" cy="24303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8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20560" y="4060800"/>
              <a:ext cx="8102880" cy="4507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3333ff"/>
                  </a:solidFill>
                  <a:latin typeface="Courier New"/>
                </a:rPr>
                <a:t>superint</a:t>
              </a: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 numero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522720" y="3511440"/>
              <a:ext cx="476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Declarar variável com o sinonim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23800" y="5229360"/>
              <a:ext cx="8102520" cy="4507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cc0000"/>
                  </a:solidFill>
                  <a:latin typeface="Courier New"/>
                </a:rPr>
                <a:t>unsigned long long int</a:t>
              </a: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 numero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26680" y="4681440"/>
              <a:ext cx="344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Declaração equivalente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3061080" y="1531800"/>
            <a:ext cx="346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breviar nomes de ti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D43C6-8C5F-4229-9E3E-F0AA6C2DCC6F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Typede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xemp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431640" y="4419720"/>
            <a:ext cx="8229600" cy="1089000"/>
            <a:chOff x="431640" y="4419720"/>
            <a:chExt cx="8229600" cy="1089000"/>
          </a:xfrm>
        </p:grpSpPr>
        <p:sp>
          <p:nvSpPr>
            <p:cNvPr id="538" name=""/>
            <p:cNvSpPr/>
            <p:nvPr/>
          </p:nvSpPr>
          <p:spPr>
            <a:xfrm>
              <a:off x="431640" y="4427640"/>
              <a:ext cx="8229600" cy="10810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8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95000" y="4967280"/>
              <a:ext cx="8102880" cy="4507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cc0000"/>
                  </a:solidFill>
                  <a:latin typeface="Courier New"/>
                </a:rPr>
                <a:t>struct TipoComplexo</a:t>
              </a: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 numero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97520" y="4419720"/>
              <a:ext cx="548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Declarar variável de número complex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431640" y="2077920"/>
            <a:ext cx="8229600" cy="2168280"/>
            <a:chOff x="431640" y="2077920"/>
            <a:chExt cx="8229600" cy="2168280"/>
          </a:xfrm>
        </p:grpSpPr>
        <p:sp>
          <p:nvSpPr>
            <p:cNvPr id="542" name=""/>
            <p:cNvSpPr/>
            <p:nvPr/>
          </p:nvSpPr>
          <p:spPr>
            <a:xfrm>
              <a:off x="431640" y="2085840"/>
              <a:ext cx="8229600" cy="21603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8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20560" y="2625480"/>
              <a:ext cx="8077320" cy="15303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cc0000"/>
                  </a:solidFill>
                  <a:latin typeface="Courier New"/>
                </a:rPr>
                <a:t>struc TipoComplexo</a:t>
              </a: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 {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double real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double imaginario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97160" y="2077920"/>
              <a:ext cx="446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Definição de número complex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>
            <a:off x="3059280" y="1531800"/>
            <a:ext cx="41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cultar detalhes da estru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 flipV="1">
            <a:off x="3220560" y="5408640"/>
            <a:ext cx="1801800" cy="72072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951800" y="5562720"/>
            <a:ext cx="391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cc0000"/>
                </a:solidFill>
                <a:latin typeface="Arial"/>
              </a:rPr>
              <a:t>Não desejamos saber que </a:t>
            </a:r>
            <a:br>
              <a:rPr sz="2400"/>
            </a:br>
            <a:r>
              <a:rPr b="1" lang="pt-BR" sz="2400" spc="-1" strike="noStrike">
                <a:solidFill>
                  <a:srgbClr val="cc0000"/>
                </a:solidFill>
                <a:latin typeface="Courier New"/>
              </a:rPr>
              <a:t>TipoComplexo</a:t>
            </a:r>
            <a:r>
              <a:rPr b="0" lang="pt-BR" sz="2400" spc="-1" strike="noStrike">
                <a:solidFill>
                  <a:srgbClr val="cc0000"/>
                </a:solidFill>
                <a:latin typeface="Arial"/>
              </a:rPr>
              <a:t> é estru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FD91C-2341-49DB-BB1D-0B6817D377F0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Typede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xemp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431640" y="3879720"/>
            <a:ext cx="8229600" cy="1081080"/>
            <a:chOff x="431640" y="3879720"/>
            <a:chExt cx="8229600" cy="1081080"/>
          </a:xfrm>
        </p:grpSpPr>
        <p:sp>
          <p:nvSpPr>
            <p:cNvPr id="552" name=""/>
            <p:cNvSpPr/>
            <p:nvPr/>
          </p:nvSpPr>
          <p:spPr>
            <a:xfrm>
              <a:off x="431640" y="3879720"/>
              <a:ext cx="8229600" cy="10810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8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95000" y="4419360"/>
              <a:ext cx="8102880" cy="4507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typedef </a:t>
              </a:r>
              <a:r>
                <a:rPr b="1" lang="pt-BR" sz="2400" spc="-1" strike="noStrike">
                  <a:solidFill>
                    <a:srgbClr val="cc0000"/>
                  </a:solidFill>
                  <a:latin typeface="Courier New"/>
                </a:rPr>
                <a:t>struct TipoComplexo</a:t>
              </a: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r>
                <a:rPr b="1" lang="pt-BR" sz="2400" spc="-1" strike="noStrike">
                  <a:solidFill>
                    <a:srgbClr val="0000ff"/>
                  </a:solidFill>
                  <a:latin typeface="Courier New"/>
                </a:rPr>
                <a:t>complexo</a:t>
              </a: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94280" y="3892320"/>
              <a:ext cx="802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Definir sinonimo que esconde </a:t>
              </a: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 struct TipoComplexo</a:t>
              </a: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5" name=""/>
          <p:cNvSpPr/>
          <p:nvPr/>
        </p:nvSpPr>
        <p:spPr>
          <a:xfrm>
            <a:off x="431640" y="2085840"/>
            <a:ext cx="8229600" cy="161316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20560" y="2168640"/>
            <a:ext cx="8077320" cy="1439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cc0000"/>
                </a:solidFill>
                <a:latin typeface="Courier New"/>
              </a:rPr>
              <a:t>struct TipoComplexo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ouble rea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double imaginari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059280" y="1531800"/>
            <a:ext cx="41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cultar detalhes da estru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431640" y="5130720"/>
            <a:ext cx="8229600" cy="1089000"/>
            <a:chOff x="431640" y="5130720"/>
            <a:chExt cx="8229600" cy="1089000"/>
          </a:xfrm>
        </p:grpSpPr>
        <p:sp>
          <p:nvSpPr>
            <p:cNvPr id="559" name=""/>
            <p:cNvSpPr/>
            <p:nvPr/>
          </p:nvSpPr>
          <p:spPr>
            <a:xfrm>
              <a:off x="431640" y="5138640"/>
              <a:ext cx="8229600" cy="108108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8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95000" y="5678280"/>
              <a:ext cx="8102880" cy="4507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ff"/>
                  </a:solidFill>
                  <a:latin typeface="Courier New"/>
                </a:rPr>
                <a:t>complexo</a:t>
              </a: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 numero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96080" y="5130720"/>
              <a:ext cx="255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Declarar variável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0818C-1C5A-4DEF-B7E0-3B52CBE9EE0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9" dur="indefinite" restart="never" nodeType="tmRoot">
          <p:childTnLst>
            <p:seq>
              <p:cTn id="910" dur="indefinite" nodeType="mainSeq">
                <p:childTnLst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Curso de C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Enumeraçõe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109FE6-2C2D-4788-8A7F-1D1016BEABFE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AE511B2F-9907-49AE-BB70-52E64338C4B1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6840" y="2133360"/>
            <a:ext cx="7535880" cy="210492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nir variáveis inter-relacion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rganizar dados complex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duzir número de variáv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sando um único nome de variá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Str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Motivaçã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3132000" y="4689360"/>
            <a:ext cx="5491080" cy="1800000"/>
            <a:chOff x="3132000" y="4689360"/>
            <a:chExt cx="5491080" cy="1800000"/>
          </a:xfrm>
        </p:grpSpPr>
        <p:sp>
          <p:nvSpPr>
            <p:cNvPr id="107" name=""/>
            <p:cNvSpPr/>
            <p:nvPr/>
          </p:nvSpPr>
          <p:spPr>
            <a:xfrm>
              <a:off x="3132000" y="4689360"/>
              <a:ext cx="5491080" cy="18000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1"/>
            <a:stretch/>
          </p:blipFill>
          <p:spPr>
            <a:xfrm>
              <a:off x="3222360" y="4892400"/>
              <a:ext cx="5310360" cy="141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7DD1B-8879-43D5-9655-ADDBE0C953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numera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0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prender a representar um conjunto de opções através de identific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bjetiv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B981A-B72E-4781-813C-397122301C9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fill="hold">
                      <p:stCondLst>
                        <p:cond delay="0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numera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12360" y="1405080"/>
            <a:ext cx="7916760" cy="5084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 anchorCtr="1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har forma_pagament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switch (forma_pagamento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ase ‘d’: // dinhei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ase ‘c’: // cart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case ‘v’: // v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717520" y="4196160"/>
            <a:ext cx="3306240" cy="1618560"/>
          </a:xfrm>
          <a:prstGeom prst="rect">
            <a:avLst/>
          </a:prstGeom>
          <a:solidFill>
            <a:srgbClr val="ffcccc"/>
          </a:solidFill>
          <a:ln w="12600">
            <a:solidFill>
              <a:srgbClr val="a50021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63520" indent="-263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Problemas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Criar a conven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Manter a conven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dicionar signific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lterações na conven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2" name=""/>
          <p:cNvGrpSpPr/>
          <p:nvPr/>
        </p:nvGrpSpPr>
        <p:grpSpPr>
          <a:xfrm>
            <a:off x="611280" y="3068640"/>
            <a:ext cx="3025800" cy="703800"/>
            <a:chOff x="611280" y="3068640"/>
            <a:chExt cx="3025800" cy="703800"/>
          </a:xfrm>
        </p:grpSpPr>
        <p:sp>
          <p:nvSpPr>
            <p:cNvPr id="573" name=""/>
            <p:cNvSpPr/>
            <p:nvPr/>
          </p:nvSpPr>
          <p:spPr>
            <a:xfrm flipV="1">
              <a:off x="2286000" y="3123720"/>
              <a:ext cx="1351080" cy="45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11280" y="3068640"/>
              <a:ext cx="2133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0000"/>
                  </a:solidFill>
                  <a:latin typeface="Arial"/>
                </a:rPr>
                <a:t>Convenção de significad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5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1D3AC-2234-469A-A553-D6DFA4BBC400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/>
          </p:nvPr>
        </p:nvSpPr>
        <p:spPr>
          <a:xfrm>
            <a:off x="457200" y="2077920"/>
            <a:ext cx="8229600" cy="340848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numeração: conjunto de n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socia internamente cada nome com um núm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alor da variável tipo enumeração é sempre apenas uma das op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numera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Concei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4C5A4-67B9-4F21-A158-33C2FD06934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0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431640" y="2797200"/>
            <a:ext cx="8280720" cy="234144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numea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Declaraçã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12720" y="2887560"/>
            <a:ext cx="7916760" cy="216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d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9672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pt-BR" sz="2800" spc="-1" strike="noStrike">
                <a:solidFill>
                  <a:srgbClr val="000000"/>
                </a:solidFill>
                <a:latin typeface="Courier New"/>
              </a:rPr>
              <a:t>nome_enumeracao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i="1" lang="pt-BR" sz="2800" spc="-1" strike="noStrike">
                <a:solidFill>
                  <a:srgbClr val="000000"/>
                </a:solidFill>
                <a:latin typeface="Courier New"/>
              </a:rPr>
              <a:t>opcao1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i="1" lang="pt-BR" sz="2800" spc="-1" strike="noStrike">
                <a:solidFill>
                  <a:srgbClr val="000000"/>
                </a:solidFill>
                <a:latin typeface="Courier New"/>
              </a:rPr>
              <a:t>opcao2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i="1" lang="pt-BR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} variavel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524520" y="2168640"/>
            <a:ext cx="2584080" cy="720720"/>
            <a:chOff x="524520" y="2168640"/>
            <a:chExt cx="2584080" cy="720720"/>
          </a:xfrm>
        </p:grpSpPr>
        <p:sp>
          <p:nvSpPr>
            <p:cNvPr id="585" name=""/>
            <p:cNvSpPr/>
            <p:nvPr/>
          </p:nvSpPr>
          <p:spPr>
            <a:xfrm>
              <a:off x="524520" y="2168640"/>
              <a:ext cx="25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3300"/>
                  </a:solidFill>
                  <a:latin typeface="Arial"/>
                </a:rPr>
                <a:t>Tipo Enumera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11280" y="2619360"/>
              <a:ext cx="1351080" cy="270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523080" y="3429000"/>
            <a:ext cx="2428200" cy="1260360"/>
            <a:chOff x="523080" y="3429000"/>
            <a:chExt cx="2428200" cy="1260360"/>
          </a:xfrm>
        </p:grpSpPr>
        <p:sp>
          <p:nvSpPr>
            <p:cNvPr id="588" name=""/>
            <p:cNvSpPr/>
            <p:nvPr/>
          </p:nvSpPr>
          <p:spPr>
            <a:xfrm>
              <a:off x="2770200" y="3429000"/>
              <a:ext cx="181080" cy="1260360"/>
            </a:xfrm>
            <a:custGeom>
              <a:avLst/>
              <a:gdLst>
                <a:gd name="textAreaLeft" fmla="*/ 115920 w 181080"/>
                <a:gd name="textAreaRight" fmla="*/ 181440 w 181080"/>
                <a:gd name="textAreaTop" fmla="*/ 32760 h 1260360"/>
                <a:gd name="textAreaBottom" fmla="*/ 1227600 h 12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23080" y="3429000"/>
              <a:ext cx="124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3300"/>
                  </a:solidFill>
                  <a:latin typeface="Arial"/>
                </a:rPr>
                <a:t>Lista de</a:t>
              </a:r>
              <a:br>
                <a:rPr sz="2400"/>
              </a:br>
              <a:r>
                <a:rPr b="0" lang="pt-BR" sz="2400" spc="-1" strike="noStrike">
                  <a:solidFill>
                    <a:srgbClr val="ff3300"/>
                  </a:solidFill>
                  <a:latin typeface="Arial"/>
                </a:rPr>
                <a:t>opçõ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779480" y="4059360"/>
              <a:ext cx="900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1" name=""/>
          <p:cNvGrpSpPr/>
          <p:nvPr/>
        </p:nvGrpSpPr>
        <p:grpSpPr>
          <a:xfrm>
            <a:off x="1605960" y="5049720"/>
            <a:ext cx="2066040" cy="909000"/>
            <a:chOff x="1605960" y="5049720"/>
            <a:chExt cx="2066040" cy="909000"/>
          </a:xfrm>
        </p:grpSpPr>
        <p:sp>
          <p:nvSpPr>
            <p:cNvPr id="592" name=""/>
            <p:cNvSpPr/>
            <p:nvPr/>
          </p:nvSpPr>
          <p:spPr>
            <a:xfrm>
              <a:off x="1605960" y="5499000"/>
              <a:ext cx="187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3300"/>
                  </a:solidFill>
                  <a:latin typeface="Arial"/>
                </a:rPr>
                <a:t>Cria variáv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2862360" y="5049720"/>
              <a:ext cx="809640" cy="449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4" name=""/>
          <p:cNvGrpSpPr/>
          <p:nvPr/>
        </p:nvGrpSpPr>
        <p:grpSpPr>
          <a:xfrm>
            <a:off x="4841640" y="1628640"/>
            <a:ext cx="3408120" cy="1260720"/>
            <a:chOff x="4841640" y="1628640"/>
            <a:chExt cx="3408120" cy="1260720"/>
          </a:xfrm>
        </p:grpSpPr>
        <p:sp>
          <p:nvSpPr>
            <p:cNvPr id="595" name=""/>
            <p:cNvSpPr/>
            <p:nvPr/>
          </p:nvSpPr>
          <p:spPr>
            <a:xfrm>
              <a:off x="6375960" y="1628640"/>
              <a:ext cx="1873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3300"/>
                  </a:solidFill>
                  <a:latin typeface="Arial"/>
                </a:rPr>
                <a:t>Nome da</a:t>
              </a:r>
              <a:br>
                <a:rPr sz="2400"/>
              </a:br>
              <a:r>
                <a:rPr b="0" lang="pt-BR" sz="2400" spc="-1" strike="noStrike">
                  <a:solidFill>
                    <a:srgbClr val="ff3300"/>
                  </a:solidFill>
                  <a:latin typeface="Arial"/>
                </a:rPr>
                <a:t>enumera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>
              <a:off x="4841640" y="2077920"/>
              <a:ext cx="1439640" cy="8114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5122080" y="4602960"/>
            <a:ext cx="3611160" cy="1557000"/>
          </a:xfrm>
          <a:prstGeom prst="rect">
            <a:avLst/>
          </a:prstGeom>
          <a:solidFill>
            <a:srgbClr val="ffcccc"/>
          </a:solidFill>
          <a:ln w="12600">
            <a:solidFill>
              <a:srgbClr val="a50021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Declara enume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Memoriza a declar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Novo tipo de 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ff0000"/>
                </a:solidFill>
                <a:latin typeface="Arial"/>
              </a:rPr>
              <a:t>Cria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 a variáv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B6AF22-0476-437B-94AF-2FFF2286AF76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7" fill="hold">
                      <p:stCondLst>
                        <p:cond delay="indefinite"/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0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numera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Uso de enumeraçõ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1" name=""/>
          <p:cNvGrpSpPr/>
          <p:nvPr/>
        </p:nvGrpSpPr>
        <p:grpSpPr>
          <a:xfrm>
            <a:off x="444600" y="3789360"/>
            <a:ext cx="8229600" cy="1079640"/>
            <a:chOff x="444600" y="3789360"/>
            <a:chExt cx="8229600" cy="1079640"/>
          </a:xfrm>
        </p:grpSpPr>
        <p:sp>
          <p:nvSpPr>
            <p:cNvPr id="602" name=""/>
            <p:cNvSpPr/>
            <p:nvPr/>
          </p:nvSpPr>
          <p:spPr>
            <a:xfrm>
              <a:off x="444600" y="3789360"/>
              <a:ext cx="8229600" cy="107964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8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2411280" y="3878280"/>
              <a:ext cx="6105600" cy="90000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orma_pagamento = </a:t>
              </a:r>
              <a:r>
                <a:rPr b="1" lang="pt-BR" sz="2400" spc="-1" strike="noStrike">
                  <a:solidFill>
                    <a:srgbClr val="cc00cc"/>
                  </a:solidFill>
                  <a:latin typeface="Courier New"/>
                  <a:ea typeface="Courier New"/>
                </a:rPr>
                <a:t>cheque</a:t>
              </a: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orma_pagamento = 1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23800" y="3828960"/>
              <a:ext cx="1619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Atribuiçã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431640" y="2168640"/>
            <a:ext cx="8229600" cy="1268280"/>
            <a:chOff x="431640" y="2168640"/>
            <a:chExt cx="8229600" cy="1268280"/>
          </a:xfrm>
        </p:grpSpPr>
        <p:sp>
          <p:nvSpPr>
            <p:cNvPr id="606" name=""/>
            <p:cNvSpPr/>
            <p:nvPr/>
          </p:nvSpPr>
          <p:spPr>
            <a:xfrm>
              <a:off x="431640" y="2176560"/>
              <a:ext cx="8229600" cy="12603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8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95000" y="2625840"/>
              <a:ext cx="8102880" cy="7207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enum {</a:t>
              </a:r>
              <a:r>
                <a:rPr b="1" lang="pt-BR" sz="2400" spc="-1" strike="noStrike">
                  <a:solidFill>
                    <a:srgbClr val="3333ff"/>
                  </a:solidFill>
                  <a:latin typeface="Courier New"/>
                </a:rPr>
                <a:t>dinheiro</a:t>
              </a: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, </a:t>
              </a:r>
              <a:r>
                <a:rPr b="1" lang="pt-BR" sz="2400" spc="-1" strike="noStrike">
                  <a:solidFill>
                    <a:srgbClr val="cc00cc"/>
                  </a:solidFill>
                  <a:latin typeface="Courier New"/>
                </a:rPr>
                <a:t>cheque</a:t>
              </a: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, </a:t>
              </a:r>
              <a:r>
                <a:rPr b="1" lang="pt-BR" sz="2400" spc="-1" strike="noStrike">
                  <a:solidFill>
                    <a:srgbClr val="cc0000"/>
                  </a:solidFill>
                  <a:latin typeface="Courier New"/>
                </a:rPr>
                <a:t>vale_refeicao</a:t>
              </a: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, </a:t>
              </a:r>
              <a:br>
                <a:rPr sz="2400"/>
              </a:b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      </a:t>
              </a:r>
              <a:r>
                <a:rPr b="1" lang="pt-BR" sz="2400" spc="-1" strike="noStrike">
                  <a:solidFill>
                    <a:srgbClr val="cc9900"/>
                  </a:solidFill>
                  <a:latin typeface="Courier New"/>
                </a:rPr>
                <a:t>cartao</a:t>
              </a:r>
              <a:r>
                <a:rPr b="1" lang="pt-BR" sz="2400" spc="-1" strike="noStrike">
                  <a:solidFill>
                    <a:srgbClr val="000000"/>
                  </a:solidFill>
                  <a:latin typeface="Courier New"/>
                </a:rPr>
                <a:t> } forma_pagamento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86000" y="2168640"/>
              <a:ext cx="180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Declaraçã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378240" y="2446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18240" y="2446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567920" y="2446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067200" y="28893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ff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431640" y="3699000"/>
            <a:ext cx="8191800" cy="2790720"/>
            <a:chOff x="431640" y="3699000"/>
            <a:chExt cx="8191800" cy="2790720"/>
          </a:xfrm>
        </p:grpSpPr>
        <p:sp>
          <p:nvSpPr>
            <p:cNvPr id="614" name=""/>
            <p:cNvSpPr/>
            <p:nvPr/>
          </p:nvSpPr>
          <p:spPr>
            <a:xfrm>
              <a:off x="431640" y="3699000"/>
              <a:ext cx="8191800" cy="279072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8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376720" y="3755880"/>
              <a:ext cx="6089760" cy="267624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urier New"/>
                </a:rPr>
                <a:t>switch (forma_pagamento) {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pt-BR" sz="1800" spc="-1" strike="noStrike">
                  <a:solidFill>
                    <a:srgbClr val="000000"/>
                  </a:solidFill>
                  <a:latin typeface="Courier New"/>
                </a:rPr>
                <a:t>case </a:t>
              </a:r>
              <a:r>
                <a:rPr b="0" lang="pt-BR" sz="1800" spc="-1" strike="noStrike">
                  <a:solidFill>
                    <a:srgbClr val="3333ff"/>
                  </a:solidFill>
                  <a:latin typeface="Courier New"/>
                </a:rPr>
                <a:t>dinheiro</a:t>
              </a:r>
              <a:r>
                <a:rPr b="0" lang="pt-BR" sz="1800" spc="-1" strike="noStrike">
                  <a:solidFill>
                    <a:srgbClr val="000000"/>
                  </a:solidFill>
                  <a:latin typeface="Courier New"/>
                </a:rPr>
                <a:t>: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pt-BR" sz="18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pt-BR" sz="1800" spc="-1" strike="noStrike">
                  <a:solidFill>
                    <a:srgbClr val="000000"/>
                  </a:solidFill>
                  <a:latin typeface="Courier New"/>
                </a:rPr>
                <a:t>break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pt-BR" sz="1800" spc="-1" strike="noStrike">
                  <a:solidFill>
                    <a:srgbClr val="000000"/>
                  </a:solidFill>
                  <a:latin typeface="Courier New"/>
                </a:rPr>
                <a:t>case </a:t>
              </a:r>
              <a:r>
                <a:rPr b="0" lang="pt-BR" sz="1800" spc="-1" strike="noStrike">
                  <a:solidFill>
                    <a:srgbClr val="cc00cc"/>
                  </a:solidFill>
                  <a:latin typeface="Courier New"/>
                </a:rPr>
                <a:t>cheque</a:t>
              </a:r>
              <a:r>
                <a:rPr b="0" lang="pt-BR" sz="1800" spc="-1" strike="noStrike">
                  <a:solidFill>
                    <a:srgbClr val="000000"/>
                  </a:solidFill>
                  <a:latin typeface="Courier New"/>
                </a:rPr>
                <a:t>: 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pt-BR" sz="18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pt-BR" sz="1800" spc="-1" strike="noStrike">
                  <a:solidFill>
                    <a:srgbClr val="000000"/>
                  </a:solidFill>
                  <a:latin typeface="Courier New"/>
                </a:rPr>
                <a:t>break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pt-BR" sz="1800" spc="-1" strike="noStrike">
                  <a:solidFill>
                    <a:srgbClr val="000000"/>
                  </a:solidFill>
                  <a:latin typeface="Courier New"/>
                </a:rPr>
                <a:t>case </a:t>
              </a:r>
              <a:r>
                <a:rPr b="0" lang="pt-BR" sz="1800" spc="-1" strike="noStrike">
                  <a:solidFill>
                    <a:srgbClr val="cc0000"/>
                  </a:solidFill>
                  <a:latin typeface="Courier New"/>
                </a:rPr>
                <a:t>vale_refeicao</a:t>
              </a:r>
              <a:r>
                <a:rPr b="0" lang="pt-BR" sz="1800" spc="-1" strike="noStrike">
                  <a:solidFill>
                    <a:srgbClr val="000000"/>
                  </a:solidFill>
                  <a:latin typeface="Courier New"/>
                </a:rPr>
                <a:t>: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pt-BR" sz="18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pt-BR" sz="1800" spc="-1" strike="noStrike">
                  <a:solidFill>
                    <a:srgbClr val="000000"/>
                  </a:solidFill>
                  <a:latin typeface="Courier New"/>
                </a:rPr>
                <a:t>break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pt-BR" sz="1800" spc="-1" strike="noStrike">
                  <a:solidFill>
                    <a:srgbClr val="000000"/>
                  </a:solidFill>
                  <a:latin typeface="Courier New"/>
                </a:rPr>
                <a:t>case </a:t>
              </a:r>
              <a:r>
                <a:rPr b="0" lang="pt-BR" sz="1800" spc="-1" strike="noStrike">
                  <a:solidFill>
                    <a:srgbClr val="cc9900"/>
                  </a:solidFill>
                  <a:latin typeface="Courier New"/>
                </a:rPr>
                <a:t>cartao</a:t>
              </a:r>
              <a:r>
                <a:rPr b="0" lang="pt-BR" sz="1800" spc="-1" strike="noStrike">
                  <a:solidFill>
                    <a:srgbClr val="000000"/>
                  </a:solidFill>
                  <a:latin typeface="Courier New"/>
                </a:rPr>
                <a:t>: 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pt-BR" sz="18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pt-BR" sz="1800" spc="-1" strike="noStrike">
                  <a:solidFill>
                    <a:srgbClr val="000000"/>
                  </a:solidFill>
                  <a:latin typeface="Courier New"/>
                </a:rPr>
                <a:t>break;       }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97880" y="3754080"/>
              <a:ext cx="136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Seleção: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7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6D6F7-92F2-4FD7-A475-0F8982F53BD1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1" dur="indefinite" restart="never" nodeType="tmRoot">
          <p:childTnLst>
            <p:seq>
              <p:cTn id="992" dur="indefinite" nodeType="mainSeq">
                <p:childTnLst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431640" y="2797200"/>
            <a:ext cx="8280720" cy="234144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numera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Declaraçã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12720" y="2887560"/>
            <a:ext cx="7916760" cy="216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d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9672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enum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pt-BR" sz="2800" spc="-1" strike="noStrike">
                <a:solidFill>
                  <a:srgbClr val="000000"/>
                </a:solidFill>
                <a:latin typeface="Courier New"/>
              </a:rPr>
              <a:t>nome_enumeracao</a:t>
            </a: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i="1" lang="pt-BR" sz="2800" spc="-1" strike="noStrike">
                <a:solidFill>
                  <a:srgbClr val="000000"/>
                </a:solidFill>
                <a:latin typeface="Courier New"/>
              </a:rPr>
              <a:t>opcao1 = valor1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i="1" lang="pt-BR" sz="2800" spc="-1" strike="noStrike">
                <a:solidFill>
                  <a:srgbClr val="000000"/>
                </a:solidFill>
                <a:latin typeface="Courier New"/>
              </a:rPr>
              <a:t>opcao2 = valor2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i="1" lang="pt-BR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Courier New"/>
              </a:rPr>
              <a:t>} variavel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524520" y="2168640"/>
            <a:ext cx="2584080" cy="720720"/>
            <a:chOff x="524520" y="2168640"/>
            <a:chExt cx="2584080" cy="720720"/>
          </a:xfrm>
        </p:grpSpPr>
        <p:sp>
          <p:nvSpPr>
            <p:cNvPr id="623" name=""/>
            <p:cNvSpPr/>
            <p:nvPr/>
          </p:nvSpPr>
          <p:spPr>
            <a:xfrm>
              <a:off x="524520" y="2168640"/>
              <a:ext cx="258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3333cc"/>
                  </a:solidFill>
                  <a:latin typeface="Arial"/>
                </a:rPr>
                <a:t>Tipo Enumera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511280" y="2619360"/>
              <a:ext cx="1351080" cy="27000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523080" y="3429000"/>
            <a:ext cx="2428200" cy="1260360"/>
            <a:chOff x="523080" y="3429000"/>
            <a:chExt cx="2428200" cy="1260360"/>
          </a:xfrm>
        </p:grpSpPr>
        <p:sp>
          <p:nvSpPr>
            <p:cNvPr id="626" name=""/>
            <p:cNvSpPr/>
            <p:nvPr/>
          </p:nvSpPr>
          <p:spPr>
            <a:xfrm>
              <a:off x="2770200" y="3429000"/>
              <a:ext cx="181080" cy="1260360"/>
            </a:xfrm>
            <a:custGeom>
              <a:avLst/>
              <a:gdLst>
                <a:gd name="textAreaLeft" fmla="*/ 115920 w 181080"/>
                <a:gd name="textAreaRight" fmla="*/ 181440 w 181080"/>
                <a:gd name="textAreaTop" fmla="*/ 32760 h 1260360"/>
                <a:gd name="textAreaBottom" fmla="*/ 1227600 h 12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23080" y="3429000"/>
              <a:ext cx="1247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3333cc"/>
                  </a:solidFill>
                  <a:latin typeface="Arial"/>
                </a:rPr>
                <a:t>Lista de</a:t>
              </a:r>
              <a:br>
                <a:rPr sz="2400"/>
              </a:br>
              <a:r>
                <a:rPr b="0" lang="pt-BR" sz="2400" spc="-1" strike="noStrike">
                  <a:solidFill>
                    <a:srgbClr val="3333cc"/>
                  </a:solidFill>
                  <a:latin typeface="Arial"/>
                </a:rPr>
                <a:t>opçõ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779480" y="4059360"/>
              <a:ext cx="90036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1605960" y="5049720"/>
            <a:ext cx="2066040" cy="909000"/>
            <a:chOff x="1605960" y="5049720"/>
            <a:chExt cx="2066040" cy="909000"/>
          </a:xfrm>
        </p:grpSpPr>
        <p:sp>
          <p:nvSpPr>
            <p:cNvPr id="630" name=""/>
            <p:cNvSpPr/>
            <p:nvPr/>
          </p:nvSpPr>
          <p:spPr>
            <a:xfrm>
              <a:off x="1605960" y="5499000"/>
              <a:ext cx="187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3333cc"/>
                  </a:solidFill>
                  <a:latin typeface="Arial"/>
                </a:rPr>
                <a:t>Cria variáv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2862360" y="5049720"/>
              <a:ext cx="809640" cy="4492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4841640" y="1628640"/>
            <a:ext cx="3408120" cy="1260720"/>
            <a:chOff x="4841640" y="1628640"/>
            <a:chExt cx="3408120" cy="1260720"/>
          </a:xfrm>
        </p:grpSpPr>
        <p:sp>
          <p:nvSpPr>
            <p:cNvPr id="633" name=""/>
            <p:cNvSpPr/>
            <p:nvPr/>
          </p:nvSpPr>
          <p:spPr>
            <a:xfrm>
              <a:off x="6375960" y="1628640"/>
              <a:ext cx="1873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3333cc"/>
                  </a:solidFill>
                  <a:latin typeface="Arial"/>
                </a:rPr>
                <a:t>Nome da</a:t>
              </a:r>
              <a:br>
                <a:rPr sz="2400"/>
              </a:br>
              <a:r>
                <a:rPr b="0" lang="pt-BR" sz="2400" spc="-1" strike="noStrike">
                  <a:solidFill>
                    <a:srgbClr val="3333cc"/>
                  </a:solidFill>
                  <a:latin typeface="Arial"/>
                </a:rPr>
                <a:t>enumeraçã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>
              <a:off x="4841640" y="2077920"/>
              <a:ext cx="1439640" cy="8114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4932360" y="4149720"/>
            <a:ext cx="4211640" cy="2708280"/>
            <a:chOff x="4932360" y="4149720"/>
            <a:chExt cx="4211640" cy="2708280"/>
          </a:xfrm>
        </p:grpSpPr>
        <p:sp>
          <p:nvSpPr>
            <p:cNvPr id="636" name=""/>
            <p:cNvSpPr/>
            <p:nvPr/>
          </p:nvSpPr>
          <p:spPr>
            <a:xfrm>
              <a:off x="6372360" y="5229360"/>
              <a:ext cx="27716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Arial"/>
                </a:rPr>
                <a:t>Associação manual entre nomes e valor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 flipV="1">
              <a:off x="4932360" y="4149720"/>
              <a:ext cx="1349280" cy="1349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>
              <a:hlinkClick r:id="" action="ppaction://hlinkshowjump?jump=nextslide"/>
            </p:cNvPr>
            <p:cNvSpPr/>
            <p:nvPr/>
          </p:nvSpPr>
          <p:spPr>
            <a:xfrm>
              <a:off x="8712360" y="6489720"/>
              <a:ext cx="431640" cy="36828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Arial"/>
                </a:rPr>
                <a:t>&gt;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DE3CA0-5833-4118-AE42-DC906719A98D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indefinite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Enumeraçõ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Uso de enumeraçõ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57200" y="2168640"/>
            <a:ext cx="8229600" cy="34210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971640" y="2617920"/>
            <a:ext cx="7200720" cy="28810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enum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800" spc="-1" strike="noStrike">
                <a:solidFill>
                  <a:srgbClr val="3333ff"/>
                </a:solidFill>
                <a:latin typeface="Courier New"/>
              </a:rPr>
              <a:t>dinheiro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 = ‘d’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00cc"/>
                </a:solidFill>
                <a:latin typeface="Courier New"/>
              </a:rPr>
              <a:t>      </a:t>
            </a:r>
            <a:r>
              <a:rPr b="1" lang="pt-BR" sz="2800" spc="-1" strike="noStrike">
                <a:solidFill>
                  <a:srgbClr val="cc00cc"/>
                </a:solidFill>
                <a:latin typeface="Courier New"/>
              </a:rPr>
              <a:t>cheque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 = ‘c’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800" spc="-1" strike="noStrike">
                <a:solidFill>
                  <a:srgbClr val="cc0000"/>
                </a:solidFill>
                <a:latin typeface="Courier New"/>
              </a:rPr>
              <a:t>vale_refeicao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 = ‘v’,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pt-BR" sz="2800" spc="-1" strike="noStrike">
                <a:solidFill>
                  <a:srgbClr val="cc9900"/>
                </a:solidFill>
                <a:latin typeface="Courier New"/>
              </a:rPr>
              <a:t>cartao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 = ‘k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} forma_pagament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511560" y="2160720"/>
            <a:ext cx="180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claraçã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EC1D5-28DB-410F-940E-68BEC34A34B6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0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Enumeraçõe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Fim de capítulo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C3769D-D10F-4C14-80BD-DB5C5AEF636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F29D0185-72D5-4AC3-8D82-329326644FC9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2131920"/>
            <a:ext cx="7624800" cy="237672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leção de variáve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ipos difer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claração com um único n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peração simultânea sobre todos os d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cesso por atrib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Str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Conceit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132000" y="4689360"/>
            <a:ext cx="5491080" cy="1800000"/>
            <a:chOff x="3132000" y="4689360"/>
            <a:chExt cx="5491080" cy="1800000"/>
          </a:xfrm>
        </p:grpSpPr>
        <p:sp>
          <p:nvSpPr>
            <p:cNvPr id="114" name=""/>
            <p:cNvSpPr/>
            <p:nvPr/>
          </p:nvSpPr>
          <p:spPr>
            <a:xfrm>
              <a:off x="3132000" y="4689360"/>
              <a:ext cx="5491080" cy="1800000"/>
            </a:xfrm>
            <a:prstGeom prst="rect">
              <a:avLst/>
            </a:prstGeom>
            <a:solidFill>
              <a:srgbClr val="ffffcc"/>
            </a:solidFill>
            <a:ln w="12600">
              <a:solidFill>
                <a:srgbClr val="cc99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5" name="" descr=""/>
            <p:cNvPicPr/>
            <p:nvPr/>
          </p:nvPicPr>
          <p:blipFill>
            <a:blip r:embed="rId1"/>
            <a:stretch/>
          </p:blipFill>
          <p:spPr>
            <a:xfrm>
              <a:off x="3222360" y="4892400"/>
              <a:ext cx="5310360" cy="141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232B2D-907B-414B-9457-3C8A7EDFB07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Struct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Declaração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3E13A-97D4-4466-B0D9-5320E22B37D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BE4F00A-260D-4B21-AD10-7BC7BF579A2C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31640" y="2797200"/>
            <a:ext cx="8280720" cy="234144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Structs: declar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Sintax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2720" y="2887560"/>
            <a:ext cx="7916760" cy="216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d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9672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struct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tipo1 atributo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tipo2 atributo2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tipo3 atributo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ourier New"/>
              </a:rPr>
              <a:t>} variáve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22360" y="2168640"/>
            <a:ext cx="2698560" cy="720720"/>
            <a:chOff x="522360" y="2168640"/>
            <a:chExt cx="2698560" cy="720720"/>
          </a:xfrm>
        </p:grpSpPr>
        <p:sp>
          <p:nvSpPr>
            <p:cNvPr id="124" name=""/>
            <p:cNvSpPr/>
            <p:nvPr/>
          </p:nvSpPr>
          <p:spPr>
            <a:xfrm>
              <a:off x="522360" y="2168640"/>
              <a:ext cx="209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3300"/>
                  </a:solidFill>
                  <a:latin typeface="Arial"/>
                </a:rPr>
                <a:t>Tipo Estrutu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11280" y="2619360"/>
              <a:ext cx="1709640" cy="270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3311640" y="3249720"/>
            <a:ext cx="180720" cy="1439640"/>
          </a:xfrm>
          <a:custGeom>
            <a:avLst/>
            <a:gdLst>
              <a:gd name="textAreaLeft" fmla="*/ 115560 w 180720"/>
              <a:gd name="textAreaRight" fmla="*/ 181080 w 18072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94160" y="3597120"/>
            <a:ext cx="134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Lista de</a:t>
            </a:r>
            <a:br>
              <a:rPr sz="2400"/>
            </a:b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atrib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0920" y="3968640"/>
            <a:ext cx="117000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1606320" y="5049720"/>
            <a:ext cx="2905560" cy="909000"/>
            <a:chOff x="1606320" y="5049720"/>
            <a:chExt cx="2905560" cy="909000"/>
          </a:xfrm>
        </p:grpSpPr>
        <p:sp>
          <p:nvSpPr>
            <p:cNvPr id="130" name=""/>
            <p:cNvSpPr/>
            <p:nvPr/>
          </p:nvSpPr>
          <p:spPr>
            <a:xfrm>
              <a:off x="1606320" y="5499000"/>
              <a:ext cx="2905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3300"/>
                  </a:solidFill>
                  <a:latin typeface="Arial"/>
                </a:rPr>
                <a:t>Aloca e cria variáv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V="1">
              <a:off x="2862360" y="5049720"/>
              <a:ext cx="809640" cy="449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5111640" y="5315400"/>
            <a:ext cx="3581640" cy="1008720"/>
          </a:xfrm>
          <a:prstGeom prst="rect">
            <a:avLst/>
          </a:prstGeom>
          <a:solidFill>
            <a:srgbClr val="ffcccc"/>
          </a:solidFill>
          <a:ln w="12600">
            <a:solidFill>
              <a:srgbClr val="a50021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eclara estrutu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Cria apenas a variá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63520" indent="-26352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Só para esta declaraçã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F86630-B024-454B-B88D-37BFC8542D6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Stru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xemplo 1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1640" y="2259000"/>
            <a:ext cx="8191800" cy="216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9672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struct {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char nome[20]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int registro_academico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int codigo_curs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} alun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411280" y="2798640"/>
            <a:ext cx="179640" cy="1079640"/>
          </a:xfrm>
          <a:custGeom>
            <a:avLst/>
            <a:gdLst>
              <a:gd name="textAreaLeft" fmla="*/ 114840 w 179640"/>
              <a:gd name="textAreaRight" fmla="*/ 180000 w 17964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9840" y="2889360"/>
            <a:ext cx="134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Lista de</a:t>
            </a:r>
            <a:br>
              <a:rPr sz="2400"/>
            </a:b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atribu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71640" y="3338640"/>
            <a:ext cx="36036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11640" y="4800600"/>
            <a:ext cx="257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Criar variá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(reseva memó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438280" y="4343400"/>
            <a:ext cx="179640" cy="4492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132000" y="4689360"/>
            <a:ext cx="5491440" cy="1800360"/>
            <a:chOff x="3132000" y="4689360"/>
            <a:chExt cx="5491440" cy="1800360"/>
          </a:xfrm>
        </p:grpSpPr>
        <p:sp>
          <p:nvSpPr>
            <p:cNvPr id="143" name=""/>
            <p:cNvSpPr/>
            <p:nvPr/>
          </p:nvSpPr>
          <p:spPr>
            <a:xfrm>
              <a:off x="3132000" y="4689360"/>
              <a:ext cx="5491440" cy="1800360"/>
            </a:xfrm>
            <a:prstGeom prst="rect">
              <a:avLst/>
            </a:prstGeom>
            <a:solidFill>
              <a:srgbClr val="ccffcc"/>
            </a:solidFill>
            <a:ln w="12600">
              <a:solidFill>
                <a:srgbClr val="008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4" name="" descr=""/>
            <p:cNvPicPr/>
            <p:nvPr/>
          </p:nvPicPr>
          <p:blipFill>
            <a:blip r:embed="rId1"/>
            <a:stretch/>
          </p:blipFill>
          <p:spPr>
            <a:xfrm>
              <a:off x="3220920" y="4802040"/>
              <a:ext cx="5310360" cy="141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"/>
          <p:cNvSpPr/>
          <p:nvPr/>
        </p:nvSpPr>
        <p:spPr>
          <a:xfrm>
            <a:off x="3673800" y="160020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3300"/>
                </a:solidFill>
                <a:latin typeface="Arial"/>
              </a:rPr>
              <a:t>Tipo Estru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862360" y="1905120"/>
            <a:ext cx="900000" cy="4507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2AFD9-AE63-4E96-88DB-868B63C383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3T21:20:33Z</dcterms:created>
  <dc:creator>Daniel</dc:creator>
  <dc:description/>
  <dc:language>en-US</dc:language>
  <cp:lastModifiedBy> arnaldo</cp:lastModifiedBy>
  <dcterms:modified xsi:type="dcterms:W3CDTF">2008-05-15T02:09:20Z</dcterms:modified>
  <cp:revision>136</cp:revision>
  <dc:subject/>
  <dc:title>Curso de C</dc:title>
</cp:coreProperties>
</file>