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4796-6C42-4E31-A8FB-365C17CE7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71600" y="4415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A07D-A844-4857-B6EA-1B1821B09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7160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5156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B69D-67B4-4989-A211-19E495805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5560" y="3499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699880" y="3499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71600" y="4415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5560" y="4415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699880" y="4415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2FA4-62AC-4AA9-97EB-6B2A57EB0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328C3-0B1D-48A9-8A20-2088D826F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2B93A-200F-45AE-AA8E-7867C43EC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A14E5-B654-4A97-8379-C572F8B34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424C7-1198-4801-879D-7C5A2A057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A79EC-0983-4F49-B29A-ACE7F77CC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764640"/>
            <a:ext cx="7772400" cy="83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36091-92F2-49AD-9A5E-F5D284CA4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B9E33-5DF5-4509-B7D4-F05A21C0E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100AA-8DC9-43D8-89AB-EA20607E7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5156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4113B-33E4-41E4-B9D8-20806612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415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38C8B-2E5C-4DFA-A0E0-F402EF85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371600" y="4415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DC7E1-A0FE-41FC-938D-4E310F8D1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5156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AE41C-BFD2-423E-8304-D1D2B2948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35560" y="3499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699880" y="3499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371600" y="4415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35560" y="4415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699880" y="4415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31A0F-CF69-409E-9194-D11438CFB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C433-7052-4C8F-A047-2241AA914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BF6E-0A46-46AE-8280-1BEDD9D91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25B1-2012-4FDB-B99C-62D56C10E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764640"/>
            <a:ext cx="7772400" cy="83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C90B-CAE8-4582-BA4E-D8C29044C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7160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E0563-64F6-4220-BE4E-2F9B4F62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5156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4CDC-B836-4266-8C35-3B044ADC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600" y="4415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4C9F-0CF3-4FB0-A9B1-00386175A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58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48E38-ECD0-4AE7-91D1-B29B85DD924A}" type="datetime"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fld id="{9DAE7F4A-6EBF-45CC-A147-E4176CFDD627}" type="datetime10"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07:0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76B70-2FBD-4462-A9CB-1DB4527D3F71}" type="slidenum"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908000" y="-33480"/>
            <a:ext cx="719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Curso C - IC/UNICA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V="1">
            <a:off x="431640" y="1267920"/>
            <a:ext cx="0" cy="5589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6129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V="1">
            <a:off x="8712360" y="1267920"/>
            <a:ext cx="0" cy="5589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1449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179280" cy="6858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964720" y="0"/>
            <a:ext cx="179280" cy="6858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189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C615A-6CE4-43CB-A0B9-2D28B68821FB}" type="datetime"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fld id="{9923D21C-FCB1-4238-A4E3-A75922118EC2}" type="datetime10"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07:01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80F5C-72D5-48E5-B10D-1C18967B7B52}" type="slidenum"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Curso de C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0000"/>
                </a:solidFill>
                <a:latin typeface="Arial"/>
              </a:rPr>
              <a:t>Memória Dinâmica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5ACA6-44F5-4ABF-A6B2-8981C7CB9AF8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A979E9A-93A3-4D92-8D69-B505CAEB9DD7}" type="datetime8">
              <a:rPr lang="en-US"/>
              <a:t>07/28/26 07: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281640" y="4873320"/>
            <a:ext cx="2430720" cy="11912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66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aí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Vetor dinâm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31640" y="2077560"/>
            <a:ext cx="8280720" cy="252108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sizeof(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ariavel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torna quantidade de memória ocupada pela variá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sizeof(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ipo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torna quantidade de memória ocupada por uma  variável com este ti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Função </a:t>
            </a:r>
            <a:r>
              <a:rPr b="1" lang="pt-BR" sz="3200" spc="-1" strike="noStrike">
                <a:solidFill>
                  <a:srgbClr val="ff0000"/>
                </a:solidFill>
                <a:latin typeface="Courier New"/>
                <a:ea typeface="Arial"/>
              </a:rPr>
              <a:t>sizeof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31640" y="4843080"/>
            <a:ext cx="5580360" cy="11912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int 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rinft(“%d”, </a:t>
            </a:r>
            <a:r>
              <a:rPr b="1" lang="pt-BR" sz="2400" spc="-1" strike="noStrike">
                <a:solidFill>
                  <a:srgbClr val="ff0000"/>
                </a:solidFill>
                <a:latin typeface="Courier New"/>
              </a:rPr>
              <a:t>sizeof(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pt-BR" sz="2400" spc="-1" strike="noStrike">
                <a:solidFill>
                  <a:srgbClr val="ff0000"/>
                </a:solidFill>
                <a:latin typeface="Courier New"/>
              </a:rPr>
              <a:t>)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rinft(“%d”, </a:t>
            </a:r>
            <a:r>
              <a:rPr b="1" lang="pt-BR" sz="2400" spc="-1" strike="noStrike">
                <a:solidFill>
                  <a:srgbClr val="ff0000"/>
                </a:solidFill>
                <a:latin typeface="Courier New"/>
              </a:rPr>
              <a:t>sizeof(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pt-BR" sz="2400" spc="-1" strike="noStrike">
                <a:solidFill>
                  <a:srgbClr val="ff0000"/>
                </a:solidFill>
                <a:latin typeface="Courier New"/>
              </a:rPr>
              <a:t>)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DB727-8CD1-4917-B2E1-4277DE2A5CB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22C223-80CF-4466-95B0-EF1E0F346EAB}" type="datetime8">
              <a:rPr lang="en-US"/>
              <a:t>07/28/26 07: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Vetor dinâm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31640" y="2437920"/>
            <a:ext cx="8280720" cy="297180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alcular tamanho do vetor com </a:t>
            </a:r>
            <a:r>
              <a:rPr b="1" lang="pt-BR" sz="3200" spc="-1" strike="noStrike">
                <a:solidFill>
                  <a:srgbClr val="ff0000"/>
                </a:solidFill>
                <a:latin typeface="Courier New"/>
              </a:rPr>
              <a:t>size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servar memória com </a:t>
            </a:r>
            <a:r>
              <a:rPr b="1" lang="pt-BR" sz="3200" spc="-1" strike="noStrike">
                <a:solidFill>
                  <a:srgbClr val="ff0000"/>
                </a:solidFill>
                <a:latin typeface="Courier New"/>
              </a:rPr>
              <a:t>mall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cessar elementos com </a:t>
            </a:r>
            <a:r>
              <a:rPr b="1" lang="pt-BR" sz="3200" spc="-1" strike="noStrike">
                <a:solidFill>
                  <a:srgbClr val="ff0000"/>
                </a:solidFill>
                <a:latin typeface="Courier New"/>
              </a:rPr>
              <a:t>[ ]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pontei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Liberar memória do vetor com </a:t>
            </a:r>
            <a:r>
              <a:rPr b="1" lang="pt-BR" sz="3200" spc="-1" strike="noStrike">
                <a:solidFill>
                  <a:srgbClr val="ff0000"/>
                </a:solidFill>
                <a:latin typeface="Courier New"/>
              </a:rPr>
              <a:t>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Passo a pass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60F4-44C1-4A64-B5A8-04F7D6E2DCE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65F320-7B60-493A-9078-E6F24633B571}" type="datetime8">
              <a:rPr lang="en-US"/>
              <a:t>07/28/26 07: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431640" y="2077920"/>
            <a:ext cx="8280720" cy="43214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Vetor dinâm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Exempl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71640" y="207792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cc"/>
                </a:solidFill>
                <a:latin typeface="Courier New"/>
              </a:rPr>
              <a:t>in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*</a:t>
            </a:r>
            <a:r>
              <a:rPr b="1" lang="pt-BR" sz="2400" spc="-1" strike="noStrike">
                <a:solidFill>
                  <a:srgbClr val="a50021"/>
                </a:solidFill>
                <a:latin typeface="Courier New"/>
              </a:rPr>
              <a:t>v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cc"/>
                </a:solidFill>
                <a:latin typeface="Courier New"/>
              </a:rPr>
              <a:t>in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a50021"/>
                </a:solidFill>
                <a:latin typeface="Courier New"/>
              </a:rPr>
              <a:t>tamanho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971640" y="3141720"/>
            <a:ext cx="783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canf(“%d”, &amp;</a:t>
            </a:r>
            <a:r>
              <a:rPr b="1" lang="pt-BR" sz="2400" spc="-1" strike="noStrike">
                <a:solidFill>
                  <a:srgbClr val="a50021"/>
                </a:solidFill>
                <a:latin typeface="Courier New"/>
              </a:rPr>
              <a:t>tamanho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v = (</a:t>
            </a:r>
            <a:r>
              <a:rPr b="1" lang="pt-BR" sz="2400" spc="-1" strike="noStrike">
                <a:solidFill>
                  <a:srgbClr val="0000cc"/>
                </a:solidFill>
                <a:latin typeface="Courier New"/>
              </a:rPr>
              <a:t>in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*)malloc(sizeof(</a:t>
            </a:r>
            <a:r>
              <a:rPr b="1" lang="pt-BR" sz="2400" spc="-1" strike="noStrike">
                <a:solidFill>
                  <a:srgbClr val="0000cc"/>
                </a:solidFill>
                <a:latin typeface="Courier New"/>
              </a:rPr>
              <a:t>in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)*</a:t>
            </a:r>
            <a:r>
              <a:rPr b="1" lang="pt-BR" sz="2400" spc="-1" strike="noStrike">
                <a:solidFill>
                  <a:srgbClr val="a50021"/>
                </a:solidFill>
                <a:latin typeface="Courier New"/>
              </a:rPr>
              <a:t>tamanho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70560" y="432288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a50021"/>
                </a:solidFill>
                <a:latin typeface="Courier New"/>
              </a:rPr>
              <a:t>v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[1] = </a:t>
            </a:r>
            <a:r>
              <a:rPr b="1" lang="pt-BR" sz="2400" spc="-1" strike="noStrike">
                <a:solidFill>
                  <a:srgbClr val="a50021"/>
                </a:solidFill>
                <a:latin typeface="Courier New"/>
              </a:rPr>
              <a:t>v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[2] + </a:t>
            </a:r>
            <a:r>
              <a:rPr b="1" lang="pt-BR" sz="2400" spc="-1" strike="noStrike">
                <a:solidFill>
                  <a:srgbClr val="a50021"/>
                </a:solidFill>
                <a:latin typeface="Courier New"/>
              </a:rPr>
              <a:t>v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[3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71640" y="495144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*(</a:t>
            </a:r>
            <a:r>
              <a:rPr b="1" lang="pt-BR" sz="2400" spc="-1" strike="noStrike">
                <a:solidFill>
                  <a:srgbClr val="a50021"/>
                </a:solidFill>
                <a:latin typeface="Courier New"/>
              </a:rPr>
              <a:t>v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+1) = *(</a:t>
            </a:r>
            <a:r>
              <a:rPr b="1" lang="pt-BR" sz="2400" spc="-1" strike="noStrike">
                <a:solidFill>
                  <a:srgbClr val="a50021"/>
                </a:solidFill>
                <a:latin typeface="Courier New"/>
              </a:rPr>
              <a:t>v+2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) + *(</a:t>
            </a:r>
            <a:r>
              <a:rPr b="1" lang="pt-BR" sz="2400" spc="-1" strike="noStrike">
                <a:solidFill>
                  <a:srgbClr val="a50021"/>
                </a:solidFill>
                <a:latin typeface="Courier New"/>
              </a:rPr>
              <a:t>v+3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72000" y="558180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ree(</a:t>
            </a:r>
            <a:r>
              <a:rPr b="1" lang="pt-BR" sz="2400" spc="-1" strike="noStrike">
                <a:solidFill>
                  <a:srgbClr val="a50021"/>
                </a:solidFill>
                <a:latin typeface="Courier New"/>
              </a:rPr>
              <a:t>v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34880" y="6060960"/>
            <a:ext cx="89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Vetor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EFDE-BCD2-436E-BD9B-2C5F08C8A81C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485081-1F61-4389-90AD-ED1759099313}" type="datetime8">
              <a:rPr lang="en-US"/>
              <a:t>07/28/26 07: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ceito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terar tamanho de memória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31280" y="1628280"/>
            <a:ext cx="5761080" cy="252108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hamar função </a:t>
            </a:r>
            <a:r>
              <a:rPr b="1" lang="pt-BR" sz="3200" spc="-1" strike="noStrike">
                <a:solidFill>
                  <a:srgbClr val="ff0000"/>
                </a:solidFill>
                <a:latin typeface="Courier New"/>
              </a:rPr>
              <a:t>realloc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râmetros: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pontador para espaço antigo, tamanho desej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sultado: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pontador para novo espaç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372360" y="2077920"/>
            <a:ext cx="2340000" cy="1890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gr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649560" y="2530440"/>
            <a:ext cx="1982160" cy="119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Memória estátic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int 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int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int *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72360" y="4329000"/>
            <a:ext cx="2340000" cy="1800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Memória dinâmic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6642000" y="3519360"/>
            <a:ext cx="1892520" cy="1890720"/>
            <a:chOff x="6642000" y="3519360"/>
            <a:chExt cx="1892520" cy="1890720"/>
          </a:xfrm>
        </p:grpSpPr>
        <p:sp>
          <p:nvSpPr>
            <p:cNvPr id="180" name=""/>
            <p:cNvSpPr/>
            <p:nvPr/>
          </p:nvSpPr>
          <p:spPr>
            <a:xfrm>
              <a:off x="7723080" y="5049720"/>
              <a:ext cx="811440" cy="3603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42000" y="3519360"/>
              <a:ext cx="1065240" cy="1711440"/>
            </a:xfrm>
            <a:custGeom>
              <a:avLst/>
              <a:gdLst/>
              <a:ahLst/>
              <a:rect l="l" t="t" r="r" b="b"/>
              <a:pathLst>
                <a:path w="671" h="1078">
                  <a:moveTo>
                    <a:pt x="387" y="0"/>
                  </a:moveTo>
                  <a:cubicBezTo>
                    <a:pt x="330" y="132"/>
                    <a:pt x="0" y="614"/>
                    <a:pt x="47" y="794"/>
                  </a:cubicBezTo>
                  <a:cubicBezTo>
                    <a:pt x="94" y="974"/>
                    <a:pt x="541" y="1019"/>
                    <a:pt x="671" y="107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611280" y="4423320"/>
            <a:ext cx="5580000" cy="19227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int *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 = (int*)malloc(4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 = (int*)</a:t>
            </a:r>
            <a:r>
              <a:rPr b="1" lang="pt-BR" sz="2400" spc="-1" strike="noStrike">
                <a:solidFill>
                  <a:srgbClr val="ff0000"/>
                </a:solidFill>
                <a:latin typeface="Courier New"/>
              </a:rPr>
              <a:t>realloc(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, 8</a:t>
            </a:r>
            <a:r>
              <a:rPr b="1" lang="pt-BR" sz="2400" spc="-1" strike="noStrike">
                <a:solidFill>
                  <a:srgbClr val="ff0000"/>
                </a:solidFill>
                <a:latin typeface="Courier New"/>
              </a:rPr>
              <a:t>)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330960" y="3627360"/>
            <a:ext cx="2201760" cy="2322720"/>
            <a:chOff x="6330960" y="3627360"/>
            <a:chExt cx="2201760" cy="2322720"/>
          </a:xfrm>
        </p:grpSpPr>
        <p:sp>
          <p:nvSpPr>
            <p:cNvPr id="184" name=""/>
            <p:cNvSpPr/>
            <p:nvPr/>
          </p:nvSpPr>
          <p:spPr>
            <a:xfrm>
              <a:off x="6642000" y="5589720"/>
              <a:ext cx="1890720" cy="3603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330960" y="3627360"/>
              <a:ext cx="909720" cy="2129040"/>
            </a:xfrm>
            <a:custGeom>
              <a:avLst/>
              <a:gdLst/>
              <a:ahLst/>
              <a:rect l="l" t="t" r="r" b="b"/>
              <a:pathLst>
                <a:path w="573" h="1341">
                  <a:moveTo>
                    <a:pt x="573" y="0"/>
                  </a:moveTo>
                  <a:cubicBezTo>
                    <a:pt x="488" y="151"/>
                    <a:pt x="126" y="684"/>
                    <a:pt x="63" y="907"/>
                  </a:cubicBezTo>
                  <a:cubicBezTo>
                    <a:pt x="0" y="1130"/>
                    <a:pt x="168" y="1251"/>
                    <a:pt x="195" y="1341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6911640" y="4779720"/>
            <a:ext cx="1440360" cy="718920"/>
            <a:chOff x="6911640" y="4779720"/>
            <a:chExt cx="1440360" cy="718920"/>
          </a:xfrm>
        </p:grpSpPr>
        <p:grpSp>
          <p:nvGrpSpPr>
            <p:cNvPr id="188" name=""/>
            <p:cNvGrpSpPr/>
            <p:nvPr/>
          </p:nvGrpSpPr>
          <p:grpSpPr>
            <a:xfrm>
              <a:off x="7812000" y="4959000"/>
              <a:ext cx="540000" cy="539640"/>
              <a:chOff x="7812000" y="4959000"/>
              <a:chExt cx="540000" cy="539640"/>
            </a:xfrm>
          </p:grpSpPr>
          <p:sp>
            <p:nvSpPr>
              <p:cNvPr id="189" name=""/>
              <p:cNvSpPr/>
              <p:nvPr/>
            </p:nvSpPr>
            <p:spPr>
              <a:xfrm flipV="1">
                <a:off x="7812000" y="4959000"/>
                <a:ext cx="540000" cy="5396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 flipV="1">
                <a:off x="7812000" y="4959000"/>
                <a:ext cx="540000" cy="5396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6911640" y="4779720"/>
              <a:ext cx="540000" cy="539640"/>
              <a:chOff x="6911640" y="4779720"/>
              <a:chExt cx="540000" cy="539640"/>
            </a:xfrm>
          </p:grpSpPr>
          <p:sp>
            <p:nvSpPr>
              <p:cNvPr id="192" name=""/>
              <p:cNvSpPr/>
              <p:nvPr/>
            </p:nvSpPr>
            <p:spPr>
              <a:xfrm flipV="1">
                <a:off x="6912000" y="4779720"/>
                <a:ext cx="539640" cy="5396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 flipV="1">
                <a:off x="6911640" y="4779720"/>
                <a:ext cx="539640" cy="5396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ABCC-9A16-4F4B-BA00-850EC498A66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81347D-0384-49EF-BF1C-41A5FCF394C0}" type="datetime8">
              <a:rPr lang="en-US"/>
              <a:t>07/28/26 07: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431640" y="2077920"/>
            <a:ext cx="8280720" cy="43214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Vetor dinâmic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Exempl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71640" y="2304360"/>
            <a:ext cx="71974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cc"/>
                </a:solidFill>
                <a:latin typeface="Courier New"/>
              </a:rPr>
              <a:t>in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*</a:t>
            </a:r>
            <a:r>
              <a:rPr b="1" lang="pt-BR" sz="2400" spc="-1" strike="noStrike">
                <a:solidFill>
                  <a:srgbClr val="a50021"/>
                </a:solidFill>
                <a:latin typeface="Courier New"/>
              </a:rPr>
              <a:t>v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cc"/>
                </a:solidFill>
                <a:latin typeface="Courier New"/>
              </a:rPr>
              <a:t>in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a50021"/>
                </a:solidFill>
                <a:latin typeface="Courier New"/>
              </a:rPr>
              <a:t>tamanho, n_tamanho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71640" y="3415680"/>
            <a:ext cx="76518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canf(“%d”, &amp;</a:t>
            </a:r>
            <a:r>
              <a:rPr b="1" lang="pt-BR" sz="2400" spc="-1" strike="noStrike">
                <a:solidFill>
                  <a:srgbClr val="a50021"/>
                </a:solidFill>
                <a:latin typeface="Courier New"/>
              </a:rPr>
              <a:t>tamanho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v=(</a:t>
            </a:r>
            <a:r>
              <a:rPr b="1" lang="pt-BR" sz="2400" spc="-1" strike="noStrike">
                <a:solidFill>
                  <a:srgbClr val="0000cc"/>
                </a:solidFill>
                <a:latin typeface="Courier New"/>
              </a:rPr>
              <a:t>in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*)malloc(sizeof(</a:t>
            </a:r>
            <a:r>
              <a:rPr b="1" lang="pt-BR" sz="2400" spc="-1" strike="noStrike">
                <a:solidFill>
                  <a:srgbClr val="0000cc"/>
                </a:solidFill>
                <a:latin typeface="Courier New"/>
              </a:rPr>
              <a:t>in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)*</a:t>
            </a:r>
            <a:r>
              <a:rPr b="1" lang="pt-BR" sz="2400" spc="-1" strike="noStrike">
                <a:solidFill>
                  <a:srgbClr val="a50021"/>
                </a:solidFill>
                <a:latin typeface="Courier New"/>
              </a:rPr>
              <a:t>tamanho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971640" y="4682520"/>
            <a:ext cx="71974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canf("%d", &amp;</a:t>
            </a:r>
            <a:r>
              <a:rPr b="1" lang="pt-BR" sz="2400" spc="-1" strike="noStrike">
                <a:solidFill>
                  <a:srgbClr val="a50021"/>
                </a:solidFill>
                <a:latin typeface="Courier New"/>
              </a:rPr>
              <a:t>n_tamanho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v=realloc(</a:t>
            </a:r>
            <a:r>
              <a:rPr b="1" lang="pt-BR" sz="2400" spc="-1" strike="noStrike">
                <a:solidFill>
                  <a:srgbClr val="a50021"/>
                </a:solidFill>
                <a:latin typeface="Courier New"/>
              </a:rPr>
              <a:t>v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,sizeof(</a:t>
            </a:r>
            <a:r>
              <a:rPr b="1" lang="pt-BR" sz="2400" spc="-1" strike="noStrike">
                <a:solidFill>
                  <a:srgbClr val="0000cc"/>
                </a:solidFill>
                <a:latin typeface="Courier New"/>
              </a:rPr>
              <a:t>in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)*n</a:t>
            </a:r>
            <a:r>
              <a:rPr b="1" lang="pt-BR" sz="2400" spc="-1" strike="noStrike">
                <a:solidFill>
                  <a:srgbClr val="a50021"/>
                </a:solidFill>
                <a:latin typeface="Courier New"/>
              </a:rPr>
              <a:t>_tamanho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971640" y="5635440"/>
            <a:ext cx="7197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ree(</a:t>
            </a:r>
            <a:r>
              <a:rPr b="1" lang="pt-BR" sz="2400" spc="-1" strike="noStrike">
                <a:solidFill>
                  <a:srgbClr val="a50021"/>
                </a:solidFill>
                <a:latin typeface="Courier New"/>
              </a:rPr>
              <a:t>v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32360" y="5999040"/>
            <a:ext cx="80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Vetor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3517-9CB1-44E0-B272-9B112FC5AD94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481689-1A65-4A10-ACA9-81F56A608136}" type="datetime8">
              <a:rPr lang="en-US"/>
              <a:t>07/28/26 07: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Estrutura dinâ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31640" y="2077560"/>
            <a:ext cx="8280720" cy="396108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alcular tamanho da estrutura com </a:t>
            </a:r>
            <a:r>
              <a:rPr b="1" lang="pt-BR" sz="3200" spc="-1" strike="noStrike">
                <a:solidFill>
                  <a:srgbClr val="ff0000"/>
                </a:solidFill>
                <a:latin typeface="Courier New"/>
              </a:rPr>
              <a:t>size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servar memória com </a:t>
            </a:r>
            <a:r>
              <a:rPr b="1" lang="pt-BR" sz="3200" spc="-1" strike="noStrike">
                <a:solidFill>
                  <a:srgbClr val="ff0000"/>
                </a:solidFill>
                <a:latin typeface="Courier New"/>
              </a:rPr>
              <a:t>mall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cessar membros da estrutura com </a:t>
            </a:r>
            <a:r>
              <a:rPr b="1" lang="pt-BR" sz="3200" spc="-1" strike="noStrike">
                <a:solidFill>
                  <a:srgbClr val="ff0000"/>
                </a:solidFill>
                <a:latin typeface="Courier New"/>
              </a:rPr>
              <a:t>-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Liberar memória da estrutura com </a:t>
            </a:r>
            <a:r>
              <a:rPr b="1" lang="pt-BR" sz="3200" spc="-1" strike="noStrike">
                <a:solidFill>
                  <a:srgbClr val="ff0000"/>
                </a:solidFill>
                <a:latin typeface="Courier New"/>
              </a:rPr>
              <a:t>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A6A9-06AE-4F93-88CD-532FBC8F32D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4B1011-CFE3-4289-8AFC-C96C55472303}" type="datetime8">
              <a:rPr lang="en-US"/>
              <a:t>07/28/26 07: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Estrutura dinâ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31640" y="2077920"/>
            <a:ext cx="8280720" cy="40514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971640" y="2118960"/>
            <a:ext cx="7197480" cy="12200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Courier New"/>
              </a:rPr>
              <a:t>struct complex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loat re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float imaginari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971640" y="3484440"/>
            <a:ext cx="7197480" cy="305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cc"/>
                </a:solidFill>
                <a:latin typeface="Courier New"/>
              </a:rPr>
              <a:t>struct complexo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*numer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71640" y="3989160"/>
            <a:ext cx="7197480" cy="61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Courier New"/>
              </a:rPr>
              <a:t>numer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(</a:t>
            </a:r>
            <a:r>
              <a:rPr b="1" lang="en-US" sz="2000" spc="-1" strike="noStrike">
                <a:solidFill>
                  <a:srgbClr val="0000cc"/>
                </a:solidFill>
                <a:latin typeface="Courier New"/>
              </a:rPr>
              <a:t>struct complex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*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lloc(sizeof(</a:t>
            </a:r>
            <a:r>
              <a:rPr b="1" lang="en-US" sz="2000" spc="-1" strike="noStrike">
                <a:solidFill>
                  <a:srgbClr val="0000cc"/>
                </a:solidFill>
                <a:latin typeface="Courier New"/>
              </a:rPr>
              <a:t>struct complex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71640" y="4782960"/>
            <a:ext cx="7197480" cy="61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a50021"/>
                </a:solidFill>
                <a:latin typeface="Courier New"/>
              </a:rPr>
              <a:t>numero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-&gt;real = 10.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a50021"/>
                </a:solidFill>
                <a:latin typeface="Courier New"/>
              </a:rPr>
              <a:t>numero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-&gt;imaginario = 5.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71640" y="5657760"/>
            <a:ext cx="7197480" cy="305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free(</a:t>
            </a:r>
            <a:r>
              <a:rPr b="1" lang="pt-BR" sz="2000" spc="-1" strike="noStrike">
                <a:solidFill>
                  <a:srgbClr val="a50021"/>
                </a:solidFill>
                <a:latin typeface="Courier New"/>
              </a:rPr>
              <a:t>numero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20920" y="5614920"/>
            <a:ext cx="141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umComlex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7B96-04E0-40EF-ADEA-D9B52B507750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D3D69A-EADD-4A6A-8DCE-C7F14976722E}" type="datetime8">
              <a:rPr lang="en-US"/>
              <a:t>07/28/26 07: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Apontadore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0000"/>
                </a:solidFill>
                <a:latin typeface="Arial"/>
              </a:rPr>
              <a:t>Listas Ligada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04681-47FE-4708-A991-B4F92704439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0FF4AE9-F4CD-488F-B484-4DACE3994F03}" type="datetime8">
              <a:rPr lang="en-US"/>
              <a:t>07/28/26 07: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457200" y="2077560"/>
            <a:ext cx="8229600" cy="324180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et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único grande bloco de memó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lementos consecutivos adjac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Lista ligad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da elemento em posição de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memória sepa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sições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desordenad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 não consecu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Apontador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conectando um elemento ao ou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Listas Liga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Idéia principal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431640" y="5499000"/>
            <a:ext cx="8280720" cy="900000"/>
            <a:chOff x="431640" y="5499000"/>
            <a:chExt cx="8280720" cy="900000"/>
          </a:xfrm>
        </p:grpSpPr>
        <p:sp>
          <p:nvSpPr>
            <p:cNvPr id="221" name=""/>
            <p:cNvSpPr/>
            <p:nvPr/>
          </p:nvSpPr>
          <p:spPr>
            <a:xfrm>
              <a:off x="431640" y="5499000"/>
              <a:ext cx="8280720" cy="900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66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557280" y="5611680"/>
              <a:ext cx="7523280" cy="523080"/>
              <a:chOff x="557280" y="5611680"/>
              <a:chExt cx="7523280" cy="523080"/>
            </a:xfrm>
          </p:grpSpPr>
          <p:sp>
            <p:nvSpPr>
              <p:cNvPr id="223" name=""/>
              <p:cNvSpPr/>
              <p:nvPr/>
            </p:nvSpPr>
            <p:spPr>
              <a:xfrm>
                <a:off x="557280" y="5612040"/>
                <a:ext cx="1255320" cy="52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Arial"/>
                  </a:rPr>
                  <a:t>inicio_list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4" name=""/>
              <p:cNvGrpSpPr/>
              <p:nvPr/>
            </p:nvGrpSpPr>
            <p:grpSpPr>
              <a:xfrm>
                <a:off x="2439000" y="5612040"/>
                <a:ext cx="1463040" cy="519120"/>
                <a:chOff x="2439000" y="5612040"/>
                <a:chExt cx="1463040" cy="51912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3484800" y="5612040"/>
                  <a:ext cx="417240" cy="51912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2439000" y="5612040"/>
                  <a:ext cx="1045800" cy="51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600" spc="-1" strike="noStrike">
                      <a:solidFill>
                        <a:srgbClr val="000000"/>
                      </a:solidFill>
                      <a:latin typeface="Arial"/>
                    </a:rPr>
                    <a:t>dad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4528800" y="5612040"/>
                <a:ext cx="1461960" cy="519120"/>
                <a:chOff x="4528800" y="5612040"/>
                <a:chExt cx="1461960" cy="51912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5573880" y="5612040"/>
                  <a:ext cx="416880" cy="51912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4528800" y="5612040"/>
                  <a:ext cx="1045080" cy="51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600" spc="-1" strike="noStrike">
                      <a:solidFill>
                        <a:srgbClr val="000000"/>
                      </a:solidFill>
                      <a:latin typeface="Arial"/>
                    </a:rPr>
                    <a:t>dad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6618600" y="5612040"/>
                <a:ext cx="1461960" cy="519120"/>
                <a:chOff x="6618600" y="5612040"/>
                <a:chExt cx="1461960" cy="51912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7663680" y="5612040"/>
                  <a:ext cx="416880" cy="51912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200" spc="-1" strike="noStrike">
                      <a:solidFill>
                        <a:srgbClr val="000000"/>
                      </a:solidFill>
                      <a:latin typeface="Arial"/>
                    </a:rPr>
                    <a:t>NUL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6618600" y="5612040"/>
                  <a:ext cx="1045080" cy="5191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600" spc="-1" strike="noStrike">
                      <a:solidFill>
                        <a:srgbClr val="000000"/>
                      </a:solidFill>
                      <a:latin typeface="Arial"/>
                    </a:rPr>
                    <a:t>dad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 flipV="1" rot="16200000">
                <a:off x="3981240" y="5322240"/>
                <a:ext cx="258120" cy="836280"/>
              </a:xfrm>
              <a:custGeom>
                <a:avLst/>
                <a:gdLst/>
                <a:ahLst/>
                <a:rect l="l" t="t" r="r" b="b"/>
                <a:pathLst>
                  <a:path w="136" h="363">
                    <a:moveTo>
                      <a:pt x="0" y="363"/>
                    </a:moveTo>
                    <a:cubicBezTo>
                      <a:pt x="68" y="302"/>
                      <a:pt x="136" y="242"/>
                      <a:pt x="136" y="182"/>
                    </a:cubicBezTo>
                    <a:cubicBezTo>
                      <a:pt x="136" y="122"/>
                      <a:pt x="68" y="61"/>
                      <a:pt x="0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V="1" rot="16200000">
                <a:off x="2046600" y="5480280"/>
                <a:ext cx="261000" cy="522720"/>
              </a:xfrm>
              <a:custGeom>
                <a:avLst/>
                <a:gdLst/>
                <a:ahLst/>
                <a:rect l="l" t="t" r="r" b="b"/>
                <a:pathLst>
                  <a:path w="136" h="363">
                    <a:moveTo>
                      <a:pt x="0" y="363"/>
                    </a:moveTo>
                    <a:cubicBezTo>
                      <a:pt x="68" y="302"/>
                      <a:pt x="136" y="242"/>
                      <a:pt x="136" y="182"/>
                    </a:cubicBezTo>
                    <a:cubicBezTo>
                      <a:pt x="136" y="122"/>
                      <a:pt x="68" y="61"/>
                      <a:pt x="0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V="1" rot="16200000">
                <a:off x="6073200" y="5322240"/>
                <a:ext cx="258120" cy="836280"/>
              </a:xfrm>
              <a:custGeom>
                <a:avLst/>
                <a:gdLst/>
                <a:ahLst/>
                <a:rect l="l" t="t" r="r" b="b"/>
                <a:pathLst>
                  <a:path w="136" h="363">
                    <a:moveTo>
                      <a:pt x="0" y="363"/>
                    </a:moveTo>
                    <a:cubicBezTo>
                      <a:pt x="68" y="302"/>
                      <a:pt x="136" y="242"/>
                      <a:pt x="136" y="182"/>
                    </a:cubicBezTo>
                    <a:cubicBezTo>
                      <a:pt x="136" y="122"/>
                      <a:pt x="68" y="61"/>
                      <a:pt x="0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6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04925-765C-4EE8-B8E1-807271E87F3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C4452B-16C7-4E7B-8A0F-03A54ABC3D0C}" type="datetime8">
              <a:rPr lang="en-US"/>
              <a:t>07/28/26 07: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431640" y="5499000"/>
            <a:ext cx="8280720" cy="10810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66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431640" y="1628280"/>
            <a:ext cx="8229600" cy="369108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struct </a:t>
            </a:r>
            <a:r>
              <a:rPr b="1" lang="pt-BR" sz="3200" spc="-1" strike="noStrike">
                <a:solidFill>
                  <a:srgbClr val="ff0000"/>
                </a:solidFill>
                <a:latin typeface="Courier New"/>
              </a:rPr>
              <a:t>elemento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pt-BR" sz="3200" spc="-1" strike="noStrike">
                <a:solidFill>
                  <a:srgbClr val="3333cc"/>
                </a:solidFill>
                <a:latin typeface="Courier New"/>
              </a:rPr>
              <a:t>valor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struct </a:t>
            </a:r>
            <a:r>
              <a:rPr b="1" lang="pt-BR" sz="3200" spc="-1" strike="noStrike">
                <a:solidFill>
                  <a:srgbClr val="ff0000"/>
                </a:solidFill>
                <a:latin typeface="Courier New"/>
              </a:rPr>
              <a:t>elemento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 *</a:t>
            </a:r>
            <a:r>
              <a:rPr b="1" lang="pt-BR" sz="3200" spc="-1" strike="noStrike">
                <a:solidFill>
                  <a:srgbClr val="3333cc"/>
                </a:solidFill>
                <a:latin typeface="Courier New"/>
              </a:rPr>
              <a:t>prox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Listas Ligadas: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clar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302000" y="1719360"/>
            <a:ext cx="2984760" cy="459720"/>
          </a:xfrm>
          <a:prstGeom prst="borderCallout2">
            <a:avLst>
              <a:gd name="adj1" fmla="val 18750"/>
              <a:gd name="adj2" fmla="val -8333"/>
              <a:gd name="adj3" fmla="val 26865"/>
              <a:gd name="adj4" fmla="val -17550"/>
              <a:gd name="adj5" fmla="val 116273"/>
              <a:gd name="adj6" fmla="val -33185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Nome da estru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062000" y="4238640"/>
            <a:ext cx="3959280" cy="825480"/>
          </a:xfrm>
          <a:prstGeom prst="borderCallout2">
            <a:avLst>
              <a:gd name="adj1" fmla="val 18750"/>
              <a:gd name="adj2" fmla="val -8333"/>
              <a:gd name="adj3" fmla="val 13430"/>
              <a:gd name="adj4" fmla="val 108861"/>
              <a:gd name="adj5" fmla="val -38578"/>
              <a:gd name="adj6" fmla="val 116152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Apontador para próximo elemento na seqüê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01640" y="5950080"/>
            <a:ext cx="12556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nicio_li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2060280" y="5589720"/>
            <a:ext cx="2250720" cy="777240"/>
            <a:chOff x="2060280" y="5589720"/>
            <a:chExt cx="2250720" cy="777240"/>
          </a:xfrm>
        </p:grpSpPr>
        <p:grpSp>
          <p:nvGrpSpPr>
            <p:cNvPr id="245" name=""/>
            <p:cNvGrpSpPr/>
            <p:nvPr/>
          </p:nvGrpSpPr>
          <p:grpSpPr>
            <a:xfrm>
              <a:off x="2584440" y="5950080"/>
              <a:ext cx="1461600" cy="416880"/>
              <a:chOff x="2584440" y="5950080"/>
              <a:chExt cx="1461600" cy="416880"/>
            </a:xfrm>
          </p:grpSpPr>
          <p:sp>
            <p:nvSpPr>
              <p:cNvPr id="246" name=""/>
              <p:cNvSpPr/>
              <p:nvPr/>
            </p:nvSpPr>
            <p:spPr>
              <a:xfrm>
                <a:off x="3629160" y="5950080"/>
                <a:ext cx="416880" cy="4168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584440" y="5950080"/>
                <a:ext cx="1044720" cy="416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Arial"/>
                  </a:rPr>
                  <a:t>dad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8" name=""/>
            <p:cNvSpPr/>
            <p:nvPr/>
          </p:nvSpPr>
          <p:spPr>
            <a:xfrm flipV="1" rot="16200000">
              <a:off x="2217240" y="5792760"/>
              <a:ext cx="209520" cy="523800"/>
            </a:xfrm>
            <a:custGeom>
              <a:avLst/>
              <a:gdLst/>
              <a:ahLst/>
              <a:rect l="l" t="t" r="r" b="b"/>
              <a:pathLst>
                <a:path w="136" h="363">
                  <a:moveTo>
                    <a:pt x="0" y="363"/>
                  </a:moveTo>
                  <a:cubicBezTo>
                    <a:pt x="68" y="302"/>
                    <a:pt x="136" y="242"/>
                    <a:pt x="136" y="182"/>
                  </a:cubicBezTo>
                  <a:cubicBezTo>
                    <a:pt x="136" y="122"/>
                    <a:pt x="68" y="61"/>
                    <a:pt x="0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92360" y="558972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Courier New"/>
                </a:rPr>
                <a:t>val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581640" y="55897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Courier New"/>
                </a:rPr>
                <a:t>pro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3836880" y="5589720"/>
            <a:ext cx="2455560" cy="777240"/>
            <a:chOff x="3836880" y="5589720"/>
            <a:chExt cx="2455560" cy="777240"/>
          </a:xfrm>
        </p:grpSpPr>
        <p:grpSp>
          <p:nvGrpSpPr>
            <p:cNvPr id="252" name=""/>
            <p:cNvGrpSpPr/>
            <p:nvPr/>
          </p:nvGrpSpPr>
          <p:grpSpPr>
            <a:xfrm>
              <a:off x="4673520" y="5950080"/>
              <a:ext cx="1463040" cy="416880"/>
              <a:chOff x="4673520" y="5950080"/>
              <a:chExt cx="1463040" cy="416880"/>
            </a:xfrm>
          </p:grpSpPr>
          <p:sp>
            <p:nvSpPr>
              <p:cNvPr id="253" name=""/>
              <p:cNvSpPr/>
              <p:nvPr/>
            </p:nvSpPr>
            <p:spPr>
              <a:xfrm>
                <a:off x="5719320" y="5950080"/>
                <a:ext cx="417240" cy="4168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673520" y="5950080"/>
                <a:ext cx="1045800" cy="416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Arial"/>
                  </a:rPr>
                  <a:t>dad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5" name=""/>
            <p:cNvSpPr/>
            <p:nvPr/>
          </p:nvSpPr>
          <p:spPr>
            <a:xfrm flipV="1" rot="16200000">
              <a:off x="4151160" y="5634720"/>
              <a:ext cx="207720" cy="836640"/>
            </a:xfrm>
            <a:custGeom>
              <a:avLst/>
              <a:gdLst/>
              <a:ahLst/>
              <a:rect l="l" t="t" r="r" b="b"/>
              <a:pathLst>
                <a:path w="136" h="363">
                  <a:moveTo>
                    <a:pt x="0" y="363"/>
                  </a:moveTo>
                  <a:cubicBezTo>
                    <a:pt x="68" y="302"/>
                    <a:pt x="136" y="242"/>
                    <a:pt x="136" y="182"/>
                  </a:cubicBezTo>
                  <a:cubicBezTo>
                    <a:pt x="136" y="122"/>
                    <a:pt x="68" y="61"/>
                    <a:pt x="0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573440" y="558972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Courier New"/>
                </a:rPr>
                <a:t>val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563080" y="55897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Courier New"/>
                </a:rPr>
                <a:t>pro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5929200" y="5589720"/>
            <a:ext cx="2522160" cy="777240"/>
            <a:chOff x="5929200" y="5589720"/>
            <a:chExt cx="2522160" cy="777240"/>
          </a:xfrm>
        </p:grpSpPr>
        <p:grpSp>
          <p:nvGrpSpPr>
            <p:cNvPr id="259" name=""/>
            <p:cNvGrpSpPr/>
            <p:nvPr/>
          </p:nvGrpSpPr>
          <p:grpSpPr>
            <a:xfrm>
              <a:off x="6762600" y="5950080"/>
              <a:ext cx="1463040" cy="416880"/>
              <a:chOff x="6762600" y="5950080"/>
              <a:chExt cx="1463040" cy="416880"/>
            </a:xfrm>
          </p:grpSpPr>
          <p:sp>
            <p:nvSpPr>
              <p:cNvPr id="260" name=""/>
              <p:cNvSpPr/>
              <p:nvPr/>
            </p:nvSpPr>
            <p:spPr>
              <a:xfrm>
                <a:off x="7808400" y="5950080"/>
                <a:ext cx="417240" cy="4168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Arial"/>
                  </a:rPr>
                  <a:t>NUL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762600" y="5950080"/>
                <a:ext cx="1045800" cy="416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Arial"/>
                  </a:rPr>
                  <a:t>dad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 flipV="1" rot="16200000">
              <a:off x="6243480" y="5634720"/>
              <a:ext cx="207720" cy="836640"/>
            </a:xfrm>
            <a:custGeom>
              <a:avLst/>
              <a:gdLst/>
              <a:ahLst/>
              <a:rect l="l" t="t" r="r" b="b"/>
              <a:pathLst>
                <a:path w="136" h="363">
                  <a:moveTo>
                    <a:pt x="0" y="363"/>
                  </a:moveTo>
                  <a:cubicBezTo>
                    <a:pt x="68" y="302"/>
                    <a:pt x="136" y="242"/>
                    <a:pt x="136" y="182"/>
                  </a:cubicBezTo>
                  <a:cubicBezTo>
                    <a:pt x="136" y="122"/>
                    <a:pt x="68" y="61"/>
                    <a:pt x="0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32720" y="5589720"/>
              <a:ext cx="86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Courier New"/>
                </a:rPr>
                <a:t>val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722000" y="558972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Courier New"/>
                </a:rPr>
                <a:t>pro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F9CD-4760-42CA-B05B-53C019F737C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9B9EF6-A886-4176-AF0E-2969FDFDF33F}" type="datetime8">
              <a:rPr lang="en-US"/>
              <a:t>07/28/26 07: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Memória Dinâ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0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riar vetores durante a execução do programa e com tamanho ex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lterar o tamanho de um ve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riar listas de elem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Objetiv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A682-253A-4EDB-8FBA-9E1E2A252BB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2A4405-A7DB-4F9C-8EBF-6ECDDD6B2FBE}" type="datetime8">
              <a:rPr lang="en-US"/>
              <a:t>07/28/26 07: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520560" y="2529000"/>
            <a:ext cx="8280720" cy="36003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31640" y="1538280"/>
            <a:ext cx="8280720" cy="630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66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Listas Ligadas: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ercor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71640" y="3205080"/>
            <a:ext cx="7197480" cy="7304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truct elemento *atu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atual = inicio_list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971640" y="4149720"/>
            <a:ext cx="7197480" cy="1889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while (atual != null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971640" y="4594320"/>
            <a:ext cx="7197480" cy="3650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rintf(“ ...”,atual-&gt;valor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971640" y="5229360"/>
            <a:ext cx="7197480" cy="3650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atual = autal-&gt;proxim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701640" y="1628280"/>
            <a:ext cx="7523280" cy="419400"/>
            <a:chOff x="701640" y="1628280"/>
            <a:chExt cx="7523280" cy="419400"/>
          </a:xfrm>
        </p:grpSpPr>
        <p:sp>
          <p:nvSpPr>
            <p:cNvPr id="273" name=""/>
            <p:cNvSpPr/>
            <p:nvPr/>
          </p:nvSpPr>
          <p:spPr>
            <a:xfrm>
              <a:off x="701640" y="1628640"/>
              <a:ext cx="1255320" cy="41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inicio_lis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4" name=""/>
            <p:cNvGrpSpPr/>
            <p:nvPr/>
          </p:nvGrpSpPr>
          <p:grpSpPr>
            <a:xfrm>
              <a:off x="2583360" y="1628640"/>
              <a:ext cx="1463040" cy="416160"/>
              <a:chOff x="2583360" y="1628640"/>
              <a:chExt cx="1463040" cy="416160"/>
            </a:xfrm>
          </p:grpSpPr>
          <p:sp>
            <p:nvSpPr>
              <p:cNvPr id="275" name=""/>
              <p:cNvSpPr/>
              <p:nvPr/>
            </p:nvSpPr>
            <p:spPr>
              <a:xfrm>
                <a:off x="3629160" y="1628640"/>
                <a:ext cx="417240" cy="416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2583360" y="1628640"/>
                <a:ext cx="1045800" cy="416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Arial"/>
                  </a:rPr>
                  <a:t>dad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7" name=""/>
            <p:cNvGrpSpPr/>
            <p:nvPr/>
          </p:nvGrpSpPr>
          <p:grpSpPr>
            <a:xfrm>
              <a:off x="4673160" y="1628640"/>
              <a:ext cx="1461960" cy="416160"/>
              <a:chOff x="4673160" y="1628640"/>
              <a:chExt cx="1461960" cy="416160"/>
            </a:xfrm>
          </p:grpSpPr>
          <p:sp>
            <p:nvSpPr>
              <p:cNvPr id="278" name=""/>
              <p:cNvSpPr/>
              <p:nvPr/>
            </p:nvSpPr>
            <p:spPr>
              <a:xfrm>
                <a:off x="5718240" y="1628640"/>
                <a:ext cx="416880" cy="416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673160" y="1628640"/>
                <a:ext cx="1045080" cy="416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Arial"/>
                  </a:rPr>
                  <a:t>dad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6762960" y="1628640"/>
              <a:ext cx="1461960" cy="416160"/>
              <a:chOff x="6762960" y="1628640"/>
              <a:chExt cx="1461960" cy="416160"/>
            </a:xfrm>
          </p:grpSpPr>
          <p:sp>
            <p:nvSpPr>
              <p:cNvPr id="281" name=""/>
              <p:cNvSpPr/>
              <p:nvPr/>
            </p:nvSpPr>
            <p:spPr>
              <a:xfrm>
                <a:off x="7808040" y="1628640"/>
                <a:ext cx="416880" cy="4161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Arial"/>
                  </a:rPr>
                  <a:t>NUL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762960" y="1628640"/>
                <a:ext cx="1045080" cy="416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Arial"/>
                  </a:rPr>
                  <a:t>dad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 flipV="1" rot="16200000">
              <a:off x="4151160" y="1313280"/>
              <a:ext cx="207000" cy="836280"/>
            </a:xfrm>
            <a:custGeom>
              <a:avLst/>
              <a:gdLst/>
              <a:ahLst/>
              <a:rect l="l" t="t" r="r" b="b"/>
              <a:pathLst>
                <a:path w="136" h="363">
                  <a:moveTo>
                    <a:pt x="0" y="363"/>
                  </a:moveTo>
                  <a:cubicBezTo>
                    <a:pt x="68" y="302"/>
                    <a:pt x="136" y="242"/>
                    <a:pt x="136" y="182"/>
                  </a:cubicBezTo>
                  <a:cubicBezTo>
                    <a:pt x="136" y="122"/>
                    <a:pt x="68" y="61"/>
                    <a:pt x="0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 rot="16200000">
              <a:off x="2216880" y="1470960"/>
              <a:ext cx="209160" cy="522720"/>
            </a:xfrm>
            <a:custGeom>
              <a:avLst/>
              <a:gdLst/>
              <a:ahLst/>
              <a:rect l="l" t="t" r="r" b="b"/>
              <a:pathLst>
                <a:path w="136" h="363">
                  <a:moveTo>
                    <a:pt x="0" y="363"/>
                  </a:moveTo>
                  <a:cubicBezTo>
                    <a:pt x="68" y="302"/>
                    <a:pt x="136" y="242"/>
                    <a:pt x="136" y="182"/>
                  </a:cubicBezTo>
                  <a:cubicBezTo>
                    <a:pt x="136" y="122"/>
                    <a:pt x="68" y="61"/>
                    <a:pt x="0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16200000">
              <a:off x="6243120" y="1313280"/>
              <a:ext cx="207000" cy="836280"/>
            </a:xfrm>
            <a:custGeom>
              <a:avLst/>
              <a:gdLst/>
              <a:ahLst/>
              <a:rect l="l" t="t" r="r" b="b"/>
              <a:pathLst>
                <a:path w="136" h="363">
                  <a:moveTo>
                    <a:pt x="0" y="363"/>
                  </a:moveTo>
                  <a:cubicBezTo>
                    <a:pt x="68" y="302"/>
                    <a:pt x="136" y="242"/>
                    <a:pt x="136" y="182"/>
                  </a:cubicBezTo>
                  <a:cubicBezTo>
                    <a:pt x="136" y="122"/>
                    <a:pt x="68" y="61"/>
                    <a:pt x="0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838F-5445-47DC-9B14-5A82AEF75E44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4FE5AA-12E1-47AB-882D-9DCF533935F3}" type="datetime8">
              <a:rPr lang="en-US"/>
              <a:t>07/28/26 07: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31640" y="4059360"/>
            <a:ext cx="8280720" cy="18018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novo=(. . . *)malloc(sizeof(. . .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novo-&gt;valor = . . .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novo-&gt;proximo = NUL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inicio_lista = nov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31640" y="1628640"/>
            <a:ext cx="8280720" cy="18907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66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Listas Ligadas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serir em lista vaz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132000" y="2708280"/>
            <a:ext cx="3304440" cy="457200"/>
            <a:chOff x="3132000" y="2708280"/>
            <a:chExt cx="3304440" cy="457200"/>
          </a:xfrm>
        </p:grpSpPr>
        <p:sp>
          <p:nvSpPr>
            <p:cNvPr id="291" name=""/>
            <p:cNvSpPr/>
            <p:nvPr/>
          </p:nvSpPr>
          <p:spPr>
            <a:xfrm rot="5400000">
              <a:off x="4276080" y="2589120"/>
              <a:ext cx="225720" cy="911160"/>
            </a:xfrm>
            <a:custGeom>
              <a:avLst/>
              <a:gdLst/>
              <a:ahLst/>
              <a:rect l="l" t="t" r="r" b="b"/>
              <a:pathLst>
                <a:path w="136" h="363">
                  <a:moveTo>
                    <a:pt x="0" y="363"/>
                  </a:moveTo>
                  <a:cubicBezTo>
                    <a:pt x="68" y="302"/>
                    <a:pt x="136" y="242"/>
                    <a:pt x="136" y="182"/>
                  </a:cubicBezTo>
                  <a:cubicBezTo>
                    <a:pt x="136" y="122"/>
                    <a:pt x="68" y="61"/>
                    <a:pt x="0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4843440" y="2708280"/>
              <a:ext cx="1593000" cy="453600"/>
              <a:chOff x="4843440" y="2708280"/>
              <a:chExt cx="1593000" cy="453600"/>
            </a:xfrm>
          </p:grpSpPr>
          <p:sp>
            <p:nvSpPr>
              <p:cNvPr id="293" name=""/>
              <p:cNvSpPr/>
              <p:nvPr/>
            </p:nvSpPr>
            <p:spPr>
              <a:xfrm>
                <a:off x="5982120" y="2708280"/>
                <a:ext cx="454320" cy="45360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843440" y="2708280"/>
                <a:ext cx="1138680" cy="453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5" name=""/>
            <p:cNvSpPr/>
            <p:nvPr/>
          </p:nvSpPr>
          <p:spPr>
            <a:xfrm>
              <a:off x="3132000" y="2708280"/>
              <a:ext cx="722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nov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2681280" y="1898640"/>
            <a:ext cx="3332160" cy="457200"/>
            <a:chOff x="2681280" y="1898640"/>
            <a:chExt cx="3332160" cy="457200"/>
          </a:xfrm>
        </p:grpSpPr>
        <p:sp>
          <p:nvSpPr>
            <p:cNvPr id="297" name=""/>
            <p:cNvSpPr/>
            <p:nvPr/>
          </p:nvSpPr>
          <p:spPr>
            <a:xfrm>
              <a:off x="2681280" y="1898640"/>
              <a:ext cx="1081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inicio_lis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V="1" rot="16200000">
              <a:off x="4212720" y="1538280"/>
              <a:ext cx="270000" cy="990360"/>
            </a:xfrm>
            <a:custGeom>
              <a:avLst/>
              <a:gdLst/>
              <a:ahLst/>
              <a:rect l="l" t="t" r="r" b="b"/>
              <a:pathLst>
                <a:path w="136" h="363">
                  <a:moveTo>
                    <a:pt x="0" y="363"/>
                  </a:moveTo>
                  <a:cubicBezTo>
                    <a:pt x="68" y="302"/>
                    <a:pt x="136" y="242"/>
                    <a:pt x="136" y="182"/>
                  </a:cubicBezTo>
                  <a:cubicBezTo>
                    <a:pt x="136" y="122"/>
                    <a:pt x="68" y="61"/>
                    <a:pt x="0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932360" y="2029320"/>
              <a:ext cx="1081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NUL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0" name=""/>
          <p:cNvSpPr/>
          <p:nvPr/>
        </p:nvSpPr>
        <p:spPr>
          <a:xfrm>
            <a:off x="3672000" y="2349360"/>
            <a:ext cx="1079280" cy="449280"/>
          </a:xfrm>
          <a:custGeom>
            <a:avLst/>
            <a:gdLst/>
            <a:ahLst/>
            <a:rect l="l" t="t" r="r" b="b"/>
            <a:pathLst>
              <a:path w="530" h="248">
                <a:moveTo>
                  <a:pt x="0" y="0"/>
                </a:moveTo>
                <a:cubicBezTo>
                  <a:pt x="96" y="71"/>
                  <a:pt x="198" y="101"/>
                  <a:pt x="286" y="142"/>
                </a:cubicBezTo>
                <a:cubicBezTo>
                  <a:pt x="374" y="183"/>
                  <a:pt x="479" y="226"/>
                  <a:pt x="530" y="24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933800" y="279864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925240" y="2798640"/>
            <a:ext cx="58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851280" y="1808280"/>
            <a:ext cx="1890720" cy="630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C1A8B-182F-4DC5-AA24-B1C8D1117480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AC6756-F242-46FF-B9A0-A9B4CE4E4670}" type="datetime8">
              <a:rPr lang="en-US"/>
              <a:t>07/28/26 07: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431640" y="4148280"/>
            <a:ext cx="8280720" cy="18018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novo=(. . . *)malloc(sizeof(. . .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novo-&gt;valor = . . . 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novo-&gt;proximo = inicio_list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inicio_lista = nov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41280" y="1538280"/>
            <a:ext cx="8280360" cy="21607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66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11280" y="404640"/>
            <a:ext cx="673272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Listas Ligadas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serir no início, não vaz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232000" y="2349360"/>
            <a:ext cx="2070000" cy="628920"/>
          </a:xfrm>
          <a:custGeom>
            <a:avLst/>
            <a:gdLst/>
            <a:ahLst/>
            <a:rect l="l" t="t" r="r" b="b"/>
            <a:pathLst>
              <a:path w="1612" h="424">
                <a:moveTo>
                  <a:pt x="1282" y="424"/>
                </a:moveTo>
                <a:cubicBezTo>
                  <a:pt x="1307" y="388"/>
                  <a:pt x="1612" y="254"/>
                  <a:pt x="1433" y="207"/>
                </a:cubicBezTo>
                <a:cubicBezTo>
                  <a:pt x="1254" y="160"/>
                  <a:pt x="412" y="175"/>
                  <a:pt x="206" y="141"/>
                </a:cubicBezTo>
                <a:cubicBezTo>
                  <a:pt x="0" y="107"/>
                  <a:pt x="198" y="29"/>
                  <a:pt x="196" y="0"/>
                </a:cubicBezTo>
              </a:path>
            </a:pathLst>
          </a:custGeom>
          <a:noFill/>
          <a:ln w="2844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611280" y="2700360"/>
            <a:ext cx="3302640" cy="461520"/>
            <a:chOff x="611280" y="2700360"/>
            <a:chExt cx="3302640" cy="461520"/>
          </a:xfrm>
        </p:grpSpPr>
        <p:sp>
          <p:nvSpPr>
            <p:cNvPr id="310" name=""/>
            <p:cNvSpPr/>
            <p:nvPr/>
          </p:nvSpPr>
          <p:spPr>
            <a:xfrm rot="5400000">
              <a:off x="1663200" y="2581200"/>
              <a:ext cx="225360" cy="911160"/>
            </a:xfrm>
            <a:custGeom>
              <a:avLst/>
              <a:gdLst/>
              <a:ahLst/>
              <a:rect l="l" t="t" r="r" b="b"/>
              <a:pathLst>
                <a:path w="136" h="363">
                  <a:moveTo>
                    <a:pt x="0" y="363"/>
                  </a:moveTo>
                  <a:cubicBezTo>
                    <a:pt x="68" y="302"/>
                    <a:pt x="136" y="242"/>
                    <a:pt x="136" y="182"/>
                  </a:cubicBezTo>
                  <a:cubicBezTo>
                    <a:pt x="136" y="122"/>
                    <a:pt x="68" y="61"/>
                    <a:pt x="0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11280" y="2700360"/>
              <a:ext cx="630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nov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2320920" y="2708280"/>
              <a:ext cx="1593000" cy="453600"/>
              <a:chOff x="2320920" y="2708280"/>
              <a:chExt cx="1593000" cy="453600"/>
            </a:xfrm>
          </p:grpSpPr>
          <p:sp>
            <p:nvSpPr>
              <p:cNvPr id="313" name=""/>
              <p:cNvSpPr/>
              <p:nvPr/>
            </p:nvSpPr>
            <p:spPr>
              <a:xfrm>
                <a:off x="3459600" y="2708280"/>
                <a:ext cx="454320" cy="45360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2320920" y="2708280"/>
                <a:ext cx="1138680" cy="453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5" name=""/>
          <p:cNvGrpSpPr/>
          <p:nvPr/>
        </p:nvGrpSpPr>
        <p:grpSpPr>
          <a:xfrm>
            <a:off x="701640" y="1898640"/>
            <a:ext cx="7741440" cy="457200"/>
            <a:chOff x="701640" y="1898640"/>
            <a:chExt cx="7741440" cy="457200"/>
          </a:xfrm>
        </p:grpSpPr>
        <p:sp>
          <p:nvSpPr>
            <p:cNvPr id="316" name=""/>
            <p:cNvSpPr/>
            <p:nvPr/>
          </p:nvSpPr>
          <p:spPr>
            <a:xfrm>
              <a:off x="701640" y="1898640"/>
              <a:ext cx="1081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inicio_lis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1640" y="1898640"/>
              <a:ext cx="1081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inicio_lis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2295360" y="1898640"/>
              <a:ext cx="1593000" cy="453600"/>
              <a:chOff x="2295360" y="1898640"/>
              <a:chExt cx="1593000" cy="453600"/>
            </a:xfrm>
          </p:grpSpPr>
          <p:sp>
            <p:nvSpPr>
              <p:cNvPr id="319" name=""/>
              <p:cNvSpPr/>
              <p:nvPr/>
            </p:nvSpPr>
            <p:spPr>
              <a:xfrm>
                <a:off x="3434040" y="1898640"/>
                <a:ext cx="454320" cy="45360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295360" y="1898640"/>
                <a:ext cx="1138680" cy="453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Arial"/>
                  </a:rPr>
                  <a:t>dad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4573440" y="1898640"/>
              <a:ext cx="1593000" cy="453600"/>
              <a:chOff x="4573440" y="1898640"/>
              <a:chExt cx="1593000" cy="453600"/>
            </a:xfrm>
          </p:grpSpPr>
          <p:sp>
            <p:nvSpPr>
              <p:cNvPr id="322" name=""/>
              <p:cNvSpPr/>
              <p:nvPr/>
            </p:nvSpPr>
            <p:spPr>
              <a:xfrm>
                <a:off x="5712120" y="1898640"/>
                <a:ext cx="454320" cy="45360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4573440" y="1898640"/>
                <a:ext cx="1138680" cy="453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Arial"/>
                  </a:rPr>
                  <a:t>dad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6850080" y="1898640"/>
              <a:ext cx="1593000" cy="453600"/>
              <a:chOff x="6850080" y="1898640"/>
              <a:chExt cx="1593000" cy="453600"/>
            </a:xfrm>
          </p:grpSpPr>
          <p:sp>
            <p:nvSpPr>
              <p:cNvPr id="325" name=""/>
              <p:cNvSpPr/>
              <p:nvPr/>
            </p:nvSpPr>
            <p:spPr>
              <a:xfrm>
                <a:off x="7988760" y="1898640"/>
                <a:ext cx="454320" cy="45360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Arial"/>
                  </a:rPr>
                  <a:t>NUL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850080" y="1898640"/>
                <a:ext cx="1138680" cy="453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Arial"/>
                  </a:rPr>
                  <a:t>dad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7" name=""/>
            <p:cNvSpPr/>
            <p:nvPr/>
          </p:nvSpPr>
          <p:spPr>
            <a:xfrm flipV="1" rot="16200000">
              <a:off x="4004280" y="1554840"/>
              <a:ext cx="225360" cy="912960"/>
            </a:xfrm>
            <a:custGeom>
              <a:avLst/>
              <a:gdLst/>
              <a:ahLst/>
              <a:rect l="l" t="t" r="r" b="b"/>
              <a:pathLst>
                <a:path w="136" h="363">
                  <a:moveTo>
                    <a:pt x="0" y="363"/>
                  </a:moveTo>
                  <a:cubicBezTo>
                    <a:pt x="68" y="302"/>
                    <a:pt x="136" y="242"/>
                    <a:pt x="136" y="182"/>
                  </a:cubicBezTo>
                  <a:cubicBezTo>
                    <a:pt x="136" y="122"/>
                    <a:pt x="68" y="61"/>
                    <a:pt x="0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 rot="16200000">
              <a:off x="1904040" y="1777320"/>
              <a:ext cx="270000" cy="512640"/>
            </a:xfrm>
            <a:custGeom>
              <a:avLst/>
              <a:gdLst/>
              <a:ahLst/>
              <a:rect l="l" t="t" r="r" b="b"/>
              <a:pathLst>
                <a:path w="136" h="363">
                  <a:moveTo>
                    <a:pt x="0" y="363"/>
                  </a:moveTo>
                  <a:cubicBezTo>
                    <a:pt x="68" y="302"/>
                    <a:pt x="136" y="242"/>
                    <a:pt x="136" y="182"/>
                  </a:cubicBezTo>
                  <a:cubicBezTo>
                    <a:pt x="136" y="122"/>
                    <a:pt x="68" y="61"/>
                    <a:pt x="0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V="1" rot="16200000">
              <a:off x="6282720" y="1555560"/>
              <a:ext cx="225360" cy="911160"/>
            </a:xfrm>
            <a:custGeom>
              <a:avLst/>
              <a:gdLst/>
              <a:ahLst/>
              <a:rect l="l" t="t" r="r" b="b"/>
              <a:pathLst>
                <a:path w="136" h="363">
                  <a:moveTo>
                    <a:pt x="0" y="363"/>
                  </a:moveTo>
                  <a:cubicBezTo>
                    <a:pt x="68" y="302"/>
                    <a:pt x="136" y="242"/>
                    <a:pt x="136" y="182"/>
                  </a:cubicBezTo>
                  <a:cubicBezTo>
                    <a:pt x="136" y="122"/>
                    <a:pt x="68" y="61"/>
                    <a:pt x="0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0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503440" y="279864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1241280" y="1719360"/>
            <a:ext cx="988920" cy="1079280"/>
            <a:chOff x="1241280" y="1719360"/>
            <a:chExt cx="988920" cy="1079280"/>
          </a:xfrm>
        </p:grpSpPr>
        <p:sp>
          <p:nvSpPr>
            <p:cNvPr id="333" name=""/>
            <p:cNvSpPr/>
            <p:nvPr/>
          </p:nvSpPr>
          <p:spPr>
            <a:xfrm>
              <a:off x="1241280" y="2259000"/>
              <a:ext cx="900000" cy="539640"/>
            </a:xfrm>
            <a:custGeom>
              <a:avLst/>
              <a:gdLst/>
              <a:ahLst/>
              <a:rect l="l" t="t" r="r" b="b"/>
              <a:pathLst>
                <a:path w="284" h="408">
                  <a:moveTo>
                    <a:pt x="56" y="0"/>
                  </a:moveTo>
                  <a:cubicBezTo>
                    <a:pt x="53" y="57"/>
                    <a:pt x="0" y="276"/>
                    <a:pt x="38" y="342"/>
                  </a:cubicBezTo>
                  <a:cubicBezTo>
                    <a:pt x="76" y="408"/>
                    <a:pt x="233" y="387"/>
                    <a:pt x="284" y="399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1690560" y="1719360"/>
              <a:ext cx="539640" cy="63000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1B61-ACEE-4142-B045-A928C1918981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630433-17D8-4737-A14C-308E48EC463C}" type="datetime8">
              <a:rPr lang="en-US"/>
              <a:t>07/28/26 07: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431640" y="3789360"/>
            <a:ext cx="8280720" cy="27003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31640" y="1538280"/>
            <a:ext cx="8280720" cy="21607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66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Listas Ligadas: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serir no f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4508640" y="3151080"/>
            <a:ext cx="3302640" cy="461880"/>
            <a:chOff x="4508640" y="3151080"/>
            <a:chExt cx="3302640" cy="461880"/>
          </a:xfrm>
        </p:grpSpPr>
        <p:sp>
          <p:nvSpPr>
            <p:cNvPr id="339" name=""/>
            <p:cNvSpPr/>
            <p:nvPr/>
          </p:nvSpPr>
          <p:spPr>
            <a:xfrm rot="5400000">
              <a:off x="5560560" y="3031920"/>
              <a:ext cx="225360" cy="911160"/>
            </a:xfrm>
            <a:custGeom>
              <a:avLst/>
              <a:gdLst/>
              <a:ahLst/>
              <a:rect l="l" t="t" r="r" b="b"/>
              <a:pathLst>
                <a:path w="136" h="363">
                  <a:moveTo>
                    <a:pt x="0" y="363"/>
                  </a:moveTo>
                  <a:cubicBezTo>
                    <a:pt x="68" y="302"/>
                    <a:pt x="136" y="242"/>
                    <a:pt x="136" y="182"/>
                  </a:cubicBezTo>
                  <a:cubicBezTo>
                    <a:pt x="136" y="122"/>
                    <a:pt x="68" y="61"/>
                    <a:pt x="0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508640" y="3151080"/>
              <a:ext cx="630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nov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6218280" y="3159000"/>
              <a:ext cx="1593000" cy="453960"/>
              <a:chOff x="6218280" y="3159000"/>
              <a:chExt cx="1593000" cy="453960"/>
            </a:xfrm>
          </p:grpSpPr>
          <p:sp>
            <p:nvSpPr>
              <p:cNvPr id="342" name=""/>
              <p:cNvSpPr/>
              <p:nvPr/>
            </p:nvSpPr>
            <p:spPr>
              <a:xfrm>
                <a:off x="7356960" y="3159000"/>
                <a:ext cx="454320" cy="45396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218280" y="3159000"/>
                <a:ext cx="1138680" cy="453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4" name=""/>
          <p:cNvGrpSpPr/>
          <p:nvPr/>
        </p:nvGrpSpPr>
        <p:grpSpPr>
          <a:xfrm>
            <a:off x="520560" y="1719000"/>
            <a:ext cx="8010000" cy="457560"/>
            <a:chOff x="520560" y="1719000"/>
            <a:chExt cx="8010000" cy="457560"/>
          </a:xfrm>
        </p:grpSpPr>
        <p:sp>
          <p:nvSpPr>
            <p:cNvPr id="345" name=""/>
            <p:cNvSpPr/>
            <p:nvPr/>
          </p:nvSpPr>
          <p:spPr>
            <a:xfrm>
              <a:off x="520560" y="1719360"/>
              <a:ext cx="1081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inicio_lis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6" name=""/>
            <p:cNvGrpSpPr/>
            <p:nvPr/>
          </p:nvGrpSpPr>
          <p:grpSpPr>
            <a:xfrm>
              <a:off x="2382840" y="1719360"/>
              <a:ext cx="1593000" cy="453960"/>
              <a:chOff x="2382840" y="1719360"/>
              <a:chExt cx="1593000" cy="453960"/>
            </a:xfrm>
          </p:grpSpPr>
          <p:sp>
            <p:nvSpPr>
              <p:cNvPr id="347" name=""/>
              <p:cNvSpPr/>
              <p:nvPr/>
            </p:nvSpPr>
            <p:spPr>
              <a:xfrm>
                <a:off x="3521520" y="1719360"/>
                <a:ext cx="454320" cy="45396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382840" y="1719360"/>
                <a:ext cx="1138680" cy="453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Arial"/>
                  </a:rPr>
                  <a:t>dad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9" name=""/>
            <p:cNvGrpSpPr/>
            <p:nvPr/>
          </p:nvGrpSpPr>
          <p:grpSpPr>
            <a:xfrm>
              <a:off x="4660920" y="1719360"/>
              <a:ext cx="1593000" cy="453960"/>
              <a:chOff x="4660920" y="1719360"/>
              <a:chExt cx="1593000" cy="453960"/>
            </a:xfrm>
          </p:grpSpPr>
          <p:sp>
            <p:nvSpPr>
              <p:cNvPr id="350" name=""/>
              <p:cNvSpPr/>
              <p:nvPr/>
            </p:nvSpPr>
            <p:spPr>
              <a:xfrm>
                <a:off x="5799600" y="1719360"/>
                <a:ext cx="454320" cy="45396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660920" y="1719360"/>
                <a:ext cx="1138680" cy="453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Arial"/>
                  </a:rPr>
                  <a:t>dad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6937560" y="1719360"/>
              <a:ext cx="1593000" cy="453960"/>
              <a:chOff x="6937560" y="1719360"/>
              <a:chExt cx="1593000" cy="453960"/>
            </a:xfrm>
          </p:grpSpPr>
          <p:sp>
            <p:nvSpPr>
              <p:cNvPr id="353" name=""/>
              <p:cNvSpPr/>
              <p:nvPr/>
            </p:nvSpPr>
            <p:spPr>
              <a:xfrm>
                <a:off x="8076240" y="1719360"/>
                <a:ext cx="454320" cy="45396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Arial"/>
                  </a:rPr>
                  <a:t>NUL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937560" y="1719360"/>
                <a:ext cx="1138680" cy="453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Arial"/>
                  </a:rPr>
                  <a:t>dad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 flipV="1" rot="16200000">
              <a:off x="4091400" y="1374840"/>
              <a:ext cx="225720" cy="912960"/>
            </a:xfrm>
            <a:custGeom>
              <a:avLst/>
              <a:gdLst/>
              <a:ahLst/>
              <a:rect l="l" t="t" r="r" b="b"/>
              <a:pathLst>
                <a:path w="136" h="363">
                  <a:moveTo>
                    <a:pt x="0" y="363"/>
                  </a:moveTo>
                  <a:cubicBezTo>
                    <a:pt x="68" y="302"/>
                    <a:pt x="136" y="242"/>
                    <a:pt x="136" y="182"/>
                  </a:cubicBezTo>
                  <a:cubicBezTo>
                    <a:pt x="136" y="122"/>
                    <a:pt x="68" y="61"/>
                    <a:pt x="0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 rot="16200000">
              <a:off x="1992240" y="1686960"/>
              <a:ext cx="90360" cy="512640"/>
            </a:xfrm>
            <a:custGeom>
              <a:avLst/>
              <a:gdLst/>
              <a:ahLst/>
              <a:rect l="l" t="t" r="r" b="b"/>
              <a:pathLst>
                <a:path w="136" h="363">
                  <a:moveTo>
                    <a:pt x="0" y="363"/>
                  </a:moveTo>
                  <a:cubicBezTo>
                    <a:pt x="68" y="302"/>
                    <a:pt x="136" y="242"/>
                    <a:pt x="136" y="182"/>
                  </a:cubicBezTo>
                  <a:cubicBezTo>
                    <a:pt x="136" y="122"/>
                    <a:pt x="68" y="61"/>
                    <a:pt x="0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 rot="16200000">
              <a:off x="6370200" y="1375920"/>
              <a:ext cx="225720" cy="911160"/>
            </a:xfrm>
            <a:custGeom>
              <a:avLst/>
              <a:gdLst/>
              <a:ahLst/>
              <a:rect l="l" t="t" r="r" b="b"/>
              <a:pathLst>
                <a:path w="136" h="363">
                  <a:moveTo>
                    <a:pt x="0" y="363"/>
                  </a:moveTo>
                  <a:cubicBezTo>
                    <a:pt x="68" y="302"/>
                    <a:pt x="136" y="242"/>
                    <a:pt x="136" y="182"/>
                  </a:cubicBezTo>
                  <a:cubicBezTo>
                    <a:pt x="136" y="122"/>
                    <a:pt x="68" y="61"/>
                    <a:pt x="0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8" name=""/>
          <p:cNvSpPr/>
          <p:nvPr/>
        </p:nvSpPr>
        <p:spPr>
          <a:xfrm>
            <a:off x="880920" y="3879720"/>
            <a:ext cx="7197840" cy="14367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struct elemento *ultim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ultimo = inicio_list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while (ultimo-&gt;proximo != null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ultimo = ultimo-&gt;proximo; 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971640" y="5319720"/>
            <a:ext cx="7197480" cy="1079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novo=(. . . *)malloc(sizeof(. . .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novo-&gt;valor = . . .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novo-&gt;proximo = NUL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ultimo-&gt;proximo = nov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4481640" y="2168640"/>
            <a:ext cx="2997000" cy="628560"/>
            <a:chOff x="4481640" y="2168640"/>
            <a:chExt cx="2997000" cy="628560"/>
          </a:xfrm>
        </p:grpSpPr>
        <p:sp>
          <p:nvSpPr>
            <p:cNvPr id="362" name=""/>
            <p:cNvSpPr/>
            <p:nvPr/>
          </p:nvSpPr>
          <p:spPr>
            <a:xfrm>
              <a:off x="4481640" y="2220840"/>
              <a:ext cx="630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ultim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181480" y="2168640"/>
              <a:ext cx="2297160" cy="628560"/>
            </a:xfrm>
            <a:custGeom>
              <a:avLst/>
              <a:gdLst/>
              <a:ahLst/>
              <a:rect l="l" t="t" r="r" b="b"/>
              <a:pathLst>
                <a:path w="1447" h="396">
                  <a:moveTo>
                    <a:pt x="0" y="199"/>
                  </a:moveTo>
                  <a:cubicBezTo>
                    <a:pt x="129" y="204"/>
                    <a:pt x="156" y="205"/>
                    <a:pt x="254" y="219"/>
                  </a:cubicBezTo>
                  <a:cubicBezTo>
                    <a:pt x="621" y="188"/>
                    <a:pt x="1059" y="396"/>
                    <a:pt x="1365" y="192"/>
                  </a:cubicBezTo>
                  <a:cubicBezTo>
                    <a:pt x="1404" y="128"/>
                    <a:pt x="1347" y="217"/>
                    <a:pt x="1399" y="151"/>
                  </a:cubicBezTo>
                  <a:cubicBezTo>
                    <a:pt x="1435" y="105"/>
                    <a:pt x="1447" y="57"/>
                    <a:pt x="1447" y="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6373800" y="324972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d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273800" y="324972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082000" y="1719360"/>
            <a:ext cx="450720" cy="44928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832360" y="2077920"/>
            <a:ext cx="2700360" cy="1081080"/>
          </a:xfrm>
          <a:custGeom>
            <a:avLst/>
            <a:gdLst/>
            <a:ahLst/>
            <a:rect l="l" t="t" r="r" b="b"/>
            <a:pathLst>
              <a:path w="2262" h="482">
                <a:moveTo>
                  <a:pt x="1958" y="0"/>
                </a:moveTo>
                <a:cubicBezTo>
                  <a:pt x="1961" y="49"/>
                  <a:pt x="2262" y="243"/>
                  <a:pt x="1977" y="293"/>
                </a:cubicBezTo>
                <a:cubicBezTo>
                  <a:pt x="1692" y="343"/>
                  <a:pt x="498" y="271"/>
                  <a:pt x="249" y="302"/>
                </a:cubicBezTo>
                <a:cubicBezTo>
                  <a:pt x="0" y="333"/>
                  <a:pt x="436" y="445"/>
                  <a:pt x="485" y="482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82C0-E876-4451-86AB-D0C3F6A8DBC0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766261-5856-4352-9687-0B9AA17D0EF8}" type="datetime8">
              <a:rPr lang="en-US"/>
              <a:t>07/28/26 07: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431640" y="3879720"/>
            <a:ext cx="8280720" cy="2880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50920" y="1538280"/>
            <a:ext cx="8280360" cy="21607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66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Listas Ligadas: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serir no meio (ordena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92000" y="5138640"/>
            <a:ext cx="765180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while ((anterior-&gt; proximo != NULL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&amp;&amp; (anterior-&gt;proximo-&gt;valor &lt; novo-&gt;valor)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nterior = anterior-&gt;proximo;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80920" y="6039000"/>
            <a:ext cx="719784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novo-&gt;proximo = anterior-&gt;proxim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anterior-&gt;proximo = nov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701640" y="2227320"/>
            <a:ext cx="7327440" cy="488880"/>
            <a:chOff x="701640" y="2227320"/>
            <a:chExt cx="7327440" cy="488880"/>
          </a:xfrm>
        </p:grpSpPr>
        <p:sp>
          <p:nvSpPr>
            <p:cNvPr id="374" name=""/>
            <p:cNvSpPr/>
            <p:nvPr/>
          </p:nvSpPr>
          <p:spPr>
            <a:xfrm>
              <a:off x="701640" y="2259000"/>
              <a:ext cx="1081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inicio_lis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01640" y="2259000"/>
              <a:ext cx="1081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inicio_lis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2214720" y="2259000"/>
              <a:ext cx="1117080" cy="453600"/>
              <a:chOff x="2214720" y="2259000"/>
              <a:chExt cx="1117080" cy="453600"/>
            </a:xfrm>
          </p:grpSpPr>
          <p:sp>
            <p:nvSpPr>
              <p:cNvPr id="377" name=""/>
              <p:cNvSpPr/>
              <p:nvPr/>
            </p:nvSpPr>
            <p:spPr>
              <a:xfrm>
                <a:off x="3013200" y="2259000"/>
                <a:ext cx="318600" cy="45360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2214720" y="2259000"/>
                <a:ext cx="798480" cy="453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Arial"/>
                  </a:rPr>
                  <a:t>dad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5470560" y="2259000"/>
              <a:ext cx="1117080" cy="453600"/>
              <a:chOff x="5470560" y="2259000"/>
              <a:chExt cx="1117080" cy="453600"/>
            </a:xfrm>
          </p:grpSpPr>
          <p:sp>
            <p:nvSpPr>
              <p:cNvPr id="380" name=""/>
              <p:cNvSpPr/>
              <p:nvPr/>
            </p:nvSpPr>
            <p:spPr>
              <a:xfrm>
                <a:off x="6269040" y="2259000"/>
                <a:ext cx="318600" cy="45360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470560" y="2259000"/>
                <a:ext cx="798480" cy="453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Arial"/>
                  </a:rPr>
                  <a:t>dad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6912000" y="2259000"/>
              <a:ext cx="1117080" cy="453600"/>
              <a:chOff x="6912000" y="2259000"/>
              <a:chExt cx="1117080" cy="453600"/>
            </a:xfrm>
          </p:grpSpPr>
          <p:sp>
            <p:nvSpPr>
              <p:cNvPr id="383" name=""/>
              <p:cNvSpPr/>
              <p:nvPr/>
            </p:nvSpPr>
            <p:spPr>
              <a:xfrm>
                <a:off x="7710480" y="2259000"/>
                <a:ext cx="318600" cy="45360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000" spc="-1" strike="noStrike">
                    <a:solidFill>
                      <a:srgbClr val="000000"/>
                    </a:solidFill>
                    <a:latin typeface="Arial"/>
                  </a:rPr>
                  <a:t>NUL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6912000" y="2259000"/>
                <a:ext cx="798480" cy="453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Arial"/>
                  </a:rPr>
                  <a:t>dad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5" name=""/>
            <p:cNvSpPr/>
            <p:nvPr/>
          </p:nvSpPr>
          <p:spPr>
            <a:xfrm flipV="1" rot="16200000">
              <a:off x="1870920" y="2170800"/>
              <a:ext cx="255600" cy="432000"/>
            </a:xfrm>
            <a:custGeom>
              <a:avLst/>
              <a:gdLst/>
              <a:ahLst/>
              <a:rect l="l" t="t" r="r" b="b"/>
              <a:pathLst>
                <a:path w="136" h="363">
                  <a:moveTo>
                    <a:pt x="0" y="363"/>
                  </a:moveTo>
                  <a:cubicBezTo>
                    <a:pt x="68" y="302"/>
                    <a:pt x="136" y="242"/>
                    <a:pt x="136" y="182"/>
                  </a:cubicBezTo>
                  <a:cubicBezTo>
                    <a:pt x="136" y="122"/>
                    <a:pt x="68" y="61"/>
                    <a:pt x="0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 rot="16200000">
              <a:off x="6572160" y="2165400"/>
              <a:ext cx="255600" cy="442800"/>
            </a:xfrm>
            <a:custGeom>
              <a:avLst/>
              <a:gdLst/>
              <a:ahLst/>
              <a:rect l="l" t="t" r="r" b="b"/>
              <a:pathLst>
                <a:path w="136" h="363">
                  <a:moveTo>
                    <a:pt x="0" y="363"/>
                  </a:moveTo>
                  <a:cubicBezTo>
                    <a:pt x="68" y="302"/>
                    <a:pt x="136" y="242"/>
                    <a:pt x="136" y="182"/>
                  </a:cubicBezTo>
                  <a:cubicBezTo>
                    <a:pt x="136" y="122"/>
                    <a:pt x="68" y="61"/>
                    <a:pt x="0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 rot="16200000">
              <a:off x="3316320" y="2133720"/>
              <a:ext cx="255600" cy="442800"/>
            </a:xfrm>
            <a:custGeom>
              <a:avLst/>
              <a:gdLst/>
              <a:ahLst/>
              <a:rect l="l" t="t" r="r" b="b"/>
              <a:pathLst>
                <a:path w="136" h="363">
                  <a:moveTo>
                    <a:pt x="0" y="363"/>
                  </a:moveTo>
                  <a:cubicBezTo>
                    <a:pt x="68" y="302"/>
                    <a:pt x="136" y="242"/>
                    <a:pt x="136" y="182"/>
                  </a:cubicBezTo>
                  <a:cubicBezTo>
                    <a:pt x="136" y="122"/>
                    <a:pt x="68" y="61"/>
                    <a:pt x="0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8" name=""/>
            <p:cNvGrpSpPr/>
            <p:nvPr/>
          </p:nvGrpSpPr>
          <p:grpSpPr>
            <a:xfrm>
              <a:off x="3654360" y="2227320"/>
              <a:ext cx="1117440" cy="453600"/>
              <a:chOff x="3654360" y="2227320"/>
              <a:chExt cx="1117440" cy="453600"/>
            </a:xfrm>
          </p:grpSpPr>
          <p:sp>
            <p:nvSpPr>
              <p:cNvPr id="389" name=""/>
              <p:cNvSpPr/>
              <p:nvPr/>
            </p:nvSpPr>
            <p:spPr>
              <a:xfrm>
                <a:off x="4453200" y="2227320"/>
                <a:ext cx="318600" cy="45360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3654360" y="2227320"/>
                <a:ext cx="798840" cy="453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Arial"/>
                  </a:rPr>
                  <a:t>dad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1" name=""/>
            <p:cNvSpPr/>
            <p:nvPr/>
          </p:nvSpPr>
          <p:spPr>
            <a:xfrm flipV="1" rot="16200000">
              <a:off x="5067000" y="2032560"/>
              <a:ext cx="88920" cy="720720"/>
            </a:xfrm>
            <a:custGeom>
              <a:avLst/>
              <a:gdLst/>
              <a:ahLst/>
              <a:rect l="l" t="t" r="r" b="b"/>
              <a:pathLst>
                <a:path w="136" h="363">
                  <a:moveTo>
                    <a:pt x="0" y="363"/>
                  </a:moveTo>
                  <a:cubicBezTo>
                    <a:pt x="68" y="302"/>
                    <a:pt x="136" y="242"/>
                    <a:pt x="136" y="182"/>
                  </a:cubicBezTo>
                  <a:cubicBezTo>
                    <a:pt x="136" y="122"/>
                    <a:pt x="68" y="61"/>
                    <a:pt x="0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3151080" y="1628640"/>
            <a:ext cx="1301760" cy="578160"/>
            <a:chOff x="3151080" y="1628640"/>
            <a:chExt cx="1301760" cy="578160"/>
          </a:xfrm>
        </p:grpSpPr>
        <p:sp>
          <p:nvSpPr>
            <p:cNvPr id="393" name=""/>
            <p:cNvSpPr/>
            <p:nvPr/>
          </p:nvSpPr>
          <p:spPr>
            <a:xfrm>
              <a:off x="3151080" y="1628640"/>
              <a:ext cx="630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70360" y="1870200"/>
              <a:ext cx="582480" cy="336600"/>
            </a:xfrm>
            <a:custGeom>
              <a:avLst/>
              <a:gdLst/>
              <a:ahLst/>
              <a:rect l="l" t="t" r="r" b="b"/>
              <a:pathLst>
                <a:path w="367" h="212">
                  <a:moveTo>
                    <a:pt x="0" y="29"/>
                  </a:moveTo>
                  <a:cubicBezTo>
                    <a:pt x="48" y="29"/>
                    <a:pt x="225" y="0"/>
                    <a:pt x="286" y="30"/>
                  </a:cubicBezTo>
                  <a:cubicBezTo>
                    <a:pt x="347" y="60"/>
                    <a:pt x="350" y="174"/>
                    <a:pt x="367" y="21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92000" y="396864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novo=(. . . *)malloc(sizeof(. . 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novo-&gt;valor = . . . 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77600" y="4599000"/>
            <a:ext cx="717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// ordenada por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struct elemento *anterior; anterior = inicio_list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3762360" y="3068640"/>
            <a:ext cx="2925000" cy="461520"/>
            <a:chOff x="3762360" y="3068640"/>
            <a:chExt cx="2925000" cy="461520"/>
          </a:xfrm>
        </p:grpSpPr>
        <p:sp>
          <p:nvSpPr>
            <p:cNvPr id="399" name=""/>
            <p:cNvSpPr/>
            <p:nvPr/>
          </p:nvSpPr>
          <p:spPr>
            <a:xfrm rot="5400000">
              <a:off x="4814280" y="2949480"/>
              <a:ext cx="225720" cy="911160"/>
            </a:xfrm>
            <a:custGeom>
              <a:avLst/>
              <a:gdLst/>
              <a:ahLst/>
              <a:rect l="l" t="t" r="r" b="b"/>
              <a:pathLst>
                <a:path w="136" h="363">
                  <a:moveTo>
                    <a:pt x="0" y="363"/>
                  </a:moveTo>
                  <a:cubicBezTo>
                    <a:pt x="68" y="302"/>
                    <a:pt x="136" y="242"/>
                    <a:pt x="136" y="182"/>
                  </a:cubicBezTo>
                  <a:cubicBezTo>
                    <a:pt x="136" y="122"/>
                    <a:pt x="68" y="61"/>
                    <a:pt x="0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762360" y="3068640"/>
              <a:ext cx="630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nov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1" name=""/>
            <p:cNvGrpSpPr/>
            <p:nvPr/>
          </p:nvGrpSpPr>
          <p:grpSpPr>
            <a:xfrm>
              <a:off x="5472000" y="3076560"/>
              <a:ext cx="1117440" cy="453600"/>
              <a:chOff x="5472000" y="3076560"/>
              <a:chExt cx="1117440" cy="453600"/>
            </a:xfrm>
          </p:grpSpPr>
          <p:sp>
            <p:nvSpPr>
              <p:cNvPr id="402" name=""/>
              <p:cNvSpPr/>
              <p:nvPr/>
            </p:nvSpPr>
            <p:spPr>
              <a:xfrm>
                <a:off x="6270840" y="3076560"/>
                <a:ext cx="318600" cy="45360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472000" y="3076560"/>
                <a:ext cx="798840" cy="453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Arial"/>
                  </a:rPr>
                  <a:t>dad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6168240" y="3233520"/>
              <a:ext cx="519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000" spc="-1" strike="noStrike">
                  <a:solidFill>
                    <a:srgbClr val="000000"/>
                  </a:solidFill>
                  <a:latin typeface="Arial"/>
                </a:rPr>
                <a:t>NUL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792000" y="1628640"/>
            <a:ext cx="1528560" cy="539640"/>
            <a:chOff x="792000" y="1628640"/>
            <a:chExt cx="1528560" cy="539640"/>
          </a:xfrm>
        </p:grpSpPr>
        <p:sp>
          <p:nvSpPr>
            <p:cNvPr id="406" name=""/>
            <p:cNvSpPr/>
            <p:nvPr/>
          </p:nvSpPr>
          <p:spPr>
            <a:xfrm>
              <a:off x="792000" y="1628640"/>
              <a:ext cx="642960" cy="34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470960" y="1835280"/>
              <a:ext cx="849600" cy="333000"/>
            </a:xfrm>
            <a:custGeom>
              <a:avLst/>
              <a:gdLst/>
              <a:ahLst/>
              <a:rect l="l" t="t" r="r" b="b"/>
              <a:pathLst>
                <a:path w="367" h="212">
                  <a:moveTo>
                    <a:pt x="0" y="29"/>
                  </a:moveTo>
                  <a:cubicBezTo>
                    <a:pt x="48" y="29"/>
                    <a:pt x="225" y="0"/>
                    <a:pt x="286" y="30"/>
                  </a:cubicBezTo>
                  <a:cubicBezTo>
                    <a:pt x="347" y="60"/>
                    <a:pt x="350" y="174"/>
                    <a:pt x="367" y="212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431640" y="1628640"/>
            <a:ext cx="2071800" cy="5400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9" name=""/>
          <p:cNvGrpSpPr/>
          <p:nvPr/>
        </p:nvGrpSpPr>
        <p:grpSpPr>
          <a:xfrm>
            <a:off x="5923080" y="2708280"/>
            <a:ext cx="1152360" cy="811080"/>
            <a:chOff x="5923080" y="2708280"/>
            <a:chExt cx="1152360" cy="811080"/>
          </a:xfrm>
        </p:grpSpPr>
        <p:sp>
          <p:nvSpPr>
            <p:cNvPr id="410" name=""/>
            <p:cNvSpPr/>
            <p:nvPr/>
          </p:nvSpPr>
          <p:spPr>
            <a:xfrm>
              <a:off x="5923080" y="2708280"/>
              <a:ext cx="1152360" cy="541440"/>
            </a:xfrm>
            <a:custGeom>
              <a:avLst/>
              <a:gdLst/>
              <a:ahLst/>
              <a:rect l="l" t="t" r="r" b="b"/>
              <a:pathLst>
                <a:path w="726" h="452">
                  <a:moveTo>
                    <a:pt x="463" y="452"/>
                  </a:moveTo>
                  <a:cubicBezTo>
                    <a:pt x="497" y="413"/>
                    <a:pt x="726" y="262"/>
                    <a:pt x="665" y="220"/>
                  </a:cubicBezTo>
                  <a:cubicBezTo>
                    <a:pt x="604" y="178"/>
                    <a:pt x="190" y="236"/>
                    <a:pt x="95" y="199"/>
                  </a:cubicBezTo>
                  <a:cubicBezTo>
                    <a:pt x="0" y="162"/>
                    <a:pt x="95" y="41"/>
                    <a:pt x="95" y="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281640" y="3068640"/>
              <a:ext cx="360360" cy="45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2" name=""/>
          <p:cNvGrpSpPr/>
          <p:nvPr/>
        </p:nvGrpSpPr>
        <p:grpSpPr>
          <a:xfrm>
            <a:off x="4662360" y="2259000"/>
            <a:ext cx="719280" cy="1027080"/>
            <a:chOff x="4662360" y="2259000"/>
            <a:chExt cx="719280" cy="1027080"/>
          </a:xfrm>
        </p:grpSpPr>
        <p:sp>
          <p:nvSpPr>
            <p:cNvPr id="413" name=""/>
            <p:cNvSpPr/>
            <p:nvPr/>
          </p:nvSpPr>
          <p:spPr>
            <a:xfrm>
              <a:off x="4662360" y="2619360"/>
              <a:ext cx="705240" cy="666720"/>
            </a:xfrm>
            <a:custGeom>
              <a:avLst/>
              <a:gdLst/>
              <a:ahLst/>
              <a:rect l="l" t="t" r="r" b="b"/>
              <a:pathLst>
                <a:path w="273" h="453">
                  <a:moveTo>
                    <a:pt x="0" y="0"/>
                  </a:moveTo>
                  <a:cubicBezTo>
                    <a:pt x="12" y="52"/>
                    <a:pt x="29" y="236"/>
                    <a:pt x="75" y="312"/>
                  </a:cubicBezTo>
                  <a:cubicBezTo>
                    <a:pt x="121" y="388"/>
                    <a:pt x="232" y="424"/>
                    <a:pt x="273" y="453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805640" y="2259000"/>
              <a:ext cx="576000" cy="3603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F362-01ED-42BC-AF14-E3640F899245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DA943C-AD6C-44E2-9C8E-DFC237A3B9F8}" type="datetime8">
              <a:rPr lang="en-US"/>
              <a:t>07/28/26 07: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431640" y="3519360"/>
            <a:ext cx="8280720" cy="25196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1640" y="1538280"/>
            <a:ext cx="8280720" cy="18003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66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465280" y="367920"/>
            <a:ext cx="6678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Listas Ligadas: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mover do inicio (não vazi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20920" y="1628640"/>
            <a:ext cx="3601800" cy="449280"/>
          </a:xfrm>
          <a:custGeom>
            <a:avLst/>
            <a:gdLst/>
            <a:ahLst/>
            <a:rect l="l" t="t" r="r" b="b"/>
            <a:pathLst>
              <a:path w="1740" h="244">
                <a:moveTo>
                  <a:pt x="28" y="244"/>
                </a:moveTo>
                <a:cubicBezTo>
                  <a:pt x="60" y="209"/>
                  <a:pt x="0" y="72"/>
                  <a:pt x="220" y="36"/>
                </a:cubicBezTo>
                <a:cubicBezTo>
                  <a:pt x="440" y="0"/>
                  <a:pt x="1095" y="1"/>
                  <a:pt x="1348" y="28"/>
                </a:cubicBezTo>
                <a:cubicBezTo>
                  <a:pt x="1601" y="55"/>
                  <a:pt x="1658" y="161"/>
                  <a:pt x="1740" y="196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1150920" y="2529000"/>
            <a:ext cx="990720" cy="726840"/>
            <a:chOff x="1150920" y="2529000"/>
            <a:chExt cx="990720" cy="726840"/>
          </a:xfrm>
        </p:grpSpPr>
        <p:sp>
          <p:nvSpPr>
            <p:cNvPr id="420" name=""/>
            <p:cNvSpPr/>
            <p:nvPr/>
          </p:nvSpPr>
          <p:spPr>
            <a:xfrm>
              <a:off x="1511280" y="2529000"/>
              <a:ext cx="630360" cy="449280"/>
            </a:xfrm>
            <a:custGeom>
              <a:avLst/>
              <a:gdLst/>
              <a:ahLst/>
              <a:rect l="l" t="t" r="r" b="b"/>
              <a:pathLst>
                <a:path w="289" h="298">
                  <a:moveTo>
                    <a:pt x="0" y="298"/>
                  </a:moveTo>
                  <a:cubicBezTo>
                    <a:pt x="19" y="275"/>
                    <a:pt x="65" y="210"/>
                    <a:pt x="113" y="160"/>
                  </a:cubicBezTo>
                  <a:cubicBezTo>
                    <a:pt x="161" y="110"/>
                    <a:pt x="252" y="33"/>
                    <a:pt x="289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150920" y="2798640"/>
              <a:ext cx="431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alv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11280" y="513864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ree(alvo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04520" y="3968640"/>
            <a:ext cx="3740760" cy="459720"/>
          </a:xfrm>
          <a:prstGeom prst="rect">
            <a:avLst/>
          </a:prstGeom>
          <a:noFill/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alvo = inicio_list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01640" y="4329000"/>
            <a:ext cx="729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inicio_lista = inicio_lista-&gt;proxim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// ou: inicio_lista = alvo-&gt;proxim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520560" y="1989000"/>
            <a:ext cx="8011440" cy="542880"/>
            <a:chOff x="520560" y="1989000"/>
            <a:chExt cx="8011440" cy="542880"/>
          </a:xfrm>
        </p:grpSpPr>
        <p:sp>
          <p:nvSpPr>
            <p:cNvPr id="427" name=""/>
            <p:cNvSpPr/>
            <p:nvPr/>
          </p:nvSpPr>
          <p:spPr>
            <a:xfrm>
              <a:off x="520560" y="1989000"/>
              <a:ext cx="1081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inicio_lis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8" name=""/>
            <p:cNvGrpSpPr/>
            <p:nvPr/>
          </p:nvGrpSpPr>
          <p:grpSpPr>
            <a:xfrm>
              <a:off x="2205000" y="2046240"/>
              <a:ext cx="1593000" cy="453600"/>
              <a:chOff x="2205000" y="2046240"/>
              <a:chExt cx="1593000" cy="453600"/>
            </a:xfrm>
          </p:grpSpPr>
          <p:sp>
            <p:nvSpPr>
              <p:cNvPr id="429" name=""/>
              <p:cNvSpPr/>
              <p:nvPr/>
            </p:nvSpPr>
            <p:spPr>
              <a:xfrm>
                <a:off x="3343680" y="2046240"/>
                <a:ext cx="454320" cy="45360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2205000" y="2046240"/>
                <a:ext cx="1138680" cy="453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Arial"/>
                  </a:rPr>
                  <a:t>dad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4662360" y="2077920"/>
              <a:ext cx="1593360" cy="453960"/>
              <a:chOff x="4662360" y="2077920"/>
              <a:chExt cx="1593360" cy="453960"/>
            </a:xfrm>
          </p:grpSpPr>
          <p:sp>
            <p:nvSpPr>
              <p:cNvPr id="432" name=""/>
              <p:cNvSpPr/>
              <p:nvPr/>
            </p:nvSpPr>
            <p:spPr>
              <a:xfrm>
                <a:off x="5801400" y="2077920"/>
                <a:ext cx="454320" cy="45396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4662360" y="2077920"/>
                <a:ext cx="1139040" cy="453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Arial"/>
                  </a:rPr>
                  <a:t>dad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6939000" y="2077920"/>
              <a:ext cx="1593000" cy="453960"/>
              <a:chOff x="6939000" y="2077920"/>
              <a:chExt cx="1593000" cy="453960"/>
            </a:xfrm>
          </p:grpSpPr>
          <p:sp>
            <p:nvSpPr>
              <p:cNvPr id="435" name=""/>
              <p:cNvSpPr/>
              <p:nvPr/>
            </p:nvSpPr>
            <p:spPr>
              <a:xfrm>
                <a:off x="8077680" y="2077920"/>
                <a:ext cx="454320" cy="45396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Arial"/>
                  </a:rPr>
                  <a:t>NUL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939000" y="2077920"/>
                <a:ext cx="1138680" cy="453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Arial"/>
                  </a:rPr>
                  <a:t>dad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7" name=""/>
            <p:cNvSpPr/>
            <p:nvPr/>
          </p:nvSpPr>
          <p:spPr>
            <a:xfrm flipV="1" rot="16200000">
              <a:off x="4172400" y="1846440"/>
              <a:ext cx="90360" cy="733320"/>
            </a:xfrm>
            <a:custGeom>
              <a:avLst/>
              <a:gdLst/>
              <a:ahLst/>
              <a:rect l="l" t="t" r="r" b="b"/>
              <a:pathLst>
                <a:path w="136" h="363">
                  <a:moveTo>
                    <a:pt x="0" y="363"/>
                  </a:moveTo>
                  <a:cubicBezTo>
                    <a:pt x="68" y="302"/>
                    <a:pt x="136" y="242"/>
                    <a:pt x="136" y="182"/>
                  </a:cubicBezTo>
                  <a:cubicBezTo>
                    <a:pt x="136" y="122"/>
                    <a:pt x="68" y="61"/>
                    <a:pt x="0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V="1" rot="16200000">
              <a:off x="1858680" y="2001240"/>
              <a:ext cx="90360" cy="423720"/>
            </a:xfrm>
            <a:custGeom>
              <a:avLst/>
              <a:gdLst/>
              <a:ahLst/>
              <a:rect l="l" t="t" r="r" b="b"/>
              <a:pathLst>
                <a:path w="136" h="363">
                  <a:moveTo>
                    <a:pt x="0" y="363"/>
                  </a:moveTo>
                  <a:cubicBezTo>
                    <a:pt x="68" y="302"/>
                    <a:pt x="136" y="242"/>
                    <a:pt x="136" y="182"/>
                  </a:cubicBezTo>
                  <a:cubicBezTo>
                    <a:pt x="136" y="122"/>
                    <a:pt x="68" y="61"/>
                    <a:pt x="0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 rot="16200000">
              <a:off x="6514200" y="1846080"/>
              <a:ext cx="90360" cy="733680"/>
            </a:xfrm>
            <a:custGeom>
              <a:avLst/>
              <a:gdLst/>
              <a:ahLst/>
              <a:rect l="l" t="t" r="r" b="b"/>
              <a:pathLst>
                <a:path w="136" h="363">
                  <a:moveTo>
                    <a:pt x="0" y="363"/>
                  </a:moveTo>
                  <a:cubicBezTo>
                    <a:pt x="68" y="302"/>
                    <a:pt x="136" y="242"/>
                    <a:pt x="136" y="182"/>
                  </a:cubicBezTo>
                  <a:cubicBezTo>
                    <a:pt x="136" y="122"/>
                    <a:pt x="68" y="61"/>
                    <a:pt x="0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0" name=""/>
          <p:cNvSpPr/>
          <p:nvPr/>
        </p:nvSpPr>
        <p:spPr>
          <a:xfrm>
            <a:off x="1692360" y="1989000"/>
            <a:ext cx="449280" cy="449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2320920" y="1898640"/>
            <a:ext cx="1620720" cy="809640"/>
            <a:chOff x="2320920" y="1898640"/>
            <a:chExt cx="1620720" cy="809640"/>
          </a:xfrm>
        </p:grpSpPr>
        <p:sp>
          <p:nvSpPr>
            <p:cNvPr id="442" name=""/>
            <p:cNvSpPr/>
            <p:nvPr/>
          </p:nvSpPr>
          <p:spPr>
            <a:xfrm flipV="1">
              <a:off x="2320920" y="1898640"/>
              <a:ext cx="1620720" cy="7207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320920" y="1898640"/>
              <a:ext cx="1620720" cy="809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75157-38F6-435F-9D63-EBE125B9E4E9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842836-1FD0-4241-84B4-46BE26354D27}" type="datetime8">
              <a:rPr lang="en-US"/>
              <a:t>07/28/26 07: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3" dur="indefinite" restart="never" nodeType="tmRoot">
          <p:childTnLst>
            <p:seq>
              <p:cTn id="644" dur="indefinite" nodeType="mainSeq">
                <p:childTnLst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431640" y="3968640"/>
            <a:ext cx="8280720" cy="25210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41280" y="1628640"/>
            <a:ext cx="8280360" cy="19796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66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62816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Listas Ligadas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mover no meio ou f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431640" y="2259000"/>
            <a:ext cx="8164080" cy="468000"/>
            <a:chOff x="431640" y="2259000"/>
            <a:chExt cx="8164080" cy="468000"/>
          </a:xfrm>
        </p:grpSpPr>
        <p:sp>
          <p:nvSpPr>
            <p:cNvPr id="448" name=""/>
            <p:cNvSpPr/>
            <p:nvPr/>
          </p:nvSpPr>
          <p:spPr>
            <a:xfrm>
              <a:off x="431640" y="2259000"/>
              <a:ext cx="10810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inicio_list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2050920" y="2259000"/>
              <a:ext cx="1593360" cy="453600"/>
              <a:chOff x="2050920" y="2259000"/>
              <a:chExt cx="1593360" cy="453600"/>
            </a:xfrm>
          </p:grpSpPr>
          <p:sp>
            <p:nvSpPr>
              <p:cNvPr id="450" name=""/>
              <p:cNvSpPr/>
              <p:nvPr/>
            </p:nvSpPr>
            <p:spPr>
              <a:xfrm>
                <a:off x="3189960" y="2259000"/>
                <a:ext cx="454320" cy="45360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2050920" y="2259000"/>
                <a:ext cx="1139040" cy="453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Arial"/>
                  </a:rPr>
                  <a:t>dad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4483080" y="2273400"/>
              <a:ext cx="1593000" cy="453600"/>
              <a:chOff x="4483080" y="2273400"/>
              <a:chExt cx="1593000" cy="453600"/>
            </a:xfrm>
          </p:grpSpPr>
          <p:sp>
            <p:nvSpPr>
              <p:cNvPr id="453" name=""/>
              <p:cNvSpPr/>
              <p:nvPr/>
            </p:nvSpPr>
            <p:spPr>
              <a:xfrm>
                <a:off x="5621760" y="2273400"/>
                <a:ext cx="454320" cy="45360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483080" y="2273400"/>
                <a:ext cx="1138680" cy="453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Arial"/>
                  </a:rPr>
                  <a:t>dad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7002360" y="2259000"/>
              <a:ext cx="1593360" cy="453600"/>
              <a:chOff x="7002360" y="2259000"/>
              <a:chExt cx="1593360" cy="453600"/>
            </a:xfrm>
          </p:grpSpPr>
          <p:sp>
            <p:nvSpPr>
              <p:cNvPr id="456" name=""/>
              <p:cNvSpPr/>
              <p:nvPr/>
            </p:nvSpPr>
            <p:spPr>
              <a:xfrm>
                <a:off x="8141400" y="2259000"/>
                <a:ext cx="454320" cy="45360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200" spc="-1" strike="noStrike">
                    <a:solidFill>
                      <a:srgbClr val="000000"/>
                    </a:solidFill>
                    <a:latin typeface="Arial"/>
                  </a:rPr>
                  <a:t>NUL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7002360" y="2259000"/>
                <a:ext cx="1139040" cy="453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Arial"/>
                  </a:rPr>
                  <a:t>dado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8" name=""/>
            <p:cNvSpPr/>
            <p:nvPr/>
          </p:nvSpPr>
          <p:spPr>
            <a:xfrm flipV="1" rot="16200000">
              <a:off x="3949560" y="2070720"/>
              <a:ext cx="165240" cy="720720"/>
            </a:xfrm>
            <a:custGeom>
              <a:avLst/>
              <a:gdLst/>
              <a:ahLst/>
              <a:rect l="l" t="t" r="r" b="b"/>
              <a:pathLst>
                <a:path w="136" h="363">
                  <a:moveTo>
                    <a:pt x="0" y="363"/>
                  </a:moveTo>
                  <a:cubicBezTo>
                    <a:pt x="68" y="302"/>
                    <a:pt x="136" y="242"/>
                    <a:pt x="136" y="182"/>
                  </a:cubicBezTo>
                  <a:cubicBezTo>
                    <a:pt x="136" y="122"/>
                    <a:pt x="68" y="61"/>
                    <a:pt x="0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flipV="1" rot="16200000">
              <a:off x="1659600" y="2137680"/>
              <a:ext cx="270000" cy="512640"/>
            </a:xfrm>
            <a:custGeom>
              <a:avLst/>
              <a:gdLst/>
              <a:ahLst/>
              <a:rect l="l" t="t" r="r" b="b"/>
              <a:pathLst>
                <a:path w="136" h="363">
                  <a:moveTo>
                    <a:pt x="0" y="363"/>
                  </a:moveTo>
                  <a:cubicBezTo>
                    <a:pt x="68" y="302"/>
                    <a:pt x="136" y="242"/>
                    <a:pt x="136" y="182"/>
                  </a:cubicBezTo>
                  <a:cubicBezTo>
                    <a:pt x="136" y="122"/>
                    <a:pt x="68" y="61"/>
                    <a:pt x="0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 rot="16200000">
              <a:off x="6422760" y="2027880"/>
              <a:ext cx="179640" cy="820800"/>
            </a:xfrm>
            <a:custGeom>
              <a:avLst/>
              <a:gdLst/>
              <a:ahLst/>
              <a:rect l="l" t="t" r="r" b="b"/>
              <a:pathLst>
                <a:path w="136" h="363">
                  <a:moveTo>
                    <a:pt x="0" y="363"/>
                  </a:moveTo>
                  <a:cubicBezTo>
                    <a:pt x="68" y="302"/>
                    <a:pt x="136" y="242"/>
                    <a:pt x="136" y="182"/>
                  </a:cubicBezTo>
                  <a:cubicBezTo>
                    <a:pt x="136" y="122"/>
                    <a:pt x="68" y="61"/>
                    <a:pt x="0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1" name=""/>
          <p:cNvGrpSpPr/>
          <p:nvPr/>
        </p:nvGrpSpPr>
        <p:grpSpPr>
          <a:xfrm>
            <a:off x="4121280" y="1989000"/>
            <a:ext cx="2251080" cy="1079640"/>
            <a:chOff x="4121280" y="1989000"/>
            <a:chExt cx="2251080" cy="1079640"/>
          </a:xfrm>
        </p:grpSpPr>
        <p:sp>
          <p:nvSpPr>
            <p:cNvPr id="462" name=""/>
            <p:cNvSpPr/>
            <p:nvPr/>
          </p:nvSpPr>
          <p:spPr>
            <a:xfrm flipV="1">
              <a:off x="4211640" y="1989000"/>
              <a:ext cx="2070000" cy="989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121280" y="1989000"/>
              <a:ext cx="2251080" cy="1079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3492360" y="1808280"/>
            <a:ext cx="4050000" cy="450720"/>
          </a:xfrm>
          <a:custGeom>
            <a:avLst/>
            <a:gdLst/>
            <a:ahLst/>
            <a:rect l="l" t="t" r="r" b="b"/>
            <a:pathLst>
              <a:path w="1996" h="249">
                <a:moveTo>
                  <a:pt x="0" y="248"/>
                </a:moveTo>
                <a:cubicBezTo>
                  <a:pt x="68" y="212"/>
                  <a:pt x="138" y="66"/>
                  <a:pt x="406" y="33"/>
                </a:cubicBezTo>
                <a:cubicBezTo>
                  <a:pt x="674" y="0"/>
                  <a:pt x="1341" y="13"/>
                  <a:pt x="1606" y="49"/>
                </a:cubicBezTo>
                <a:cubicBezTo>
                  <a:pt x="1871" y="85"/>
                  <a:pt x="1915" y="207"/>
                  <a:pt x="1996" y="249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3402000" y="2708280"/>
            <a:ext cx="990720" cy="727200"/>
            <a:chOff x="3402000" y="2708280"/>
            <a:chExt cx="990720" cy="727200"/>
          </a:xfrm>
        </p:grpSpPr>
        <p:sp>
          <p:nvSpPr>
            <p:cNvPr id="466" name=""/>
            <p:cNvSpPr/>
            <p:nvPr/>
          </p:nvSpPr>
          <p:spPr>
            <a:xfrm>
              <a:off x="3851280" y="2708280"/>
              <a:ext cx="541440" cy="473040"/>
            </a:xfrm>
            <a:custGeom>
              <a:avLst/>
              <a:gdLst/>
              <a:ahLst/>
              <a:rect l="l" t="t" r="r" b="b"/>
              <a:pathLst>
                <a:path w="289" h="298">
                  <a:moveTo>
                    <a:pt x="0" y="298"/>
                  </a:moveTo>
                  <a:cubicBezTo>
                    <a:pt x="19" y="275"/>
                    <a:pt x="65" y="210"/>
                    <a:pt x="113" y="160"/>
                  </a:cubicBezTo>
                  <a:cubicBezTo>
                    <a:pt x="161" y="110"/>
                    <a:pt x="252" y="33"/>
                    <a:pt x="289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402000" y="2978280"/>
              <a:ext cx="4316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alv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1062000" y="2708280"/>
            <a:ext cx="1089000" cy="817560"/>
            <a:chOff x="1062000" y="2708280"/>
            <a:chExt cx="1089000" cy="817560"/>
          </a:xfrm>
        </p:grpSpPr>
        <p:sp>
          <p:nvSpPr>
            <p:cNvPr id="469" name=""/>
            <p:cNvSpPr/>
            <p:nvPr/>
          </p:nvSpPr>
          <p:spPr>
            <a:xfrm>
              <a:off x="1692360" y="2708280"/>
              <a:ext cx="458640" cy="473040"/>
            </a:xfrm>
            <a:custGeom>
              <a:avLst/>
              <a:gdLst/>
              <a:ahLst/>
              <a:rect l="l" t="t" r="r" b="b"/>
              <a:pathLst>
                <a:path w="289" h="298">
                  <a:moveTo>
                    <a:pt x="0" y="298"/>
                  </a:moveTo>
                  <a:cubicBezTo>
                    <a:pt x="19" y="275"/>
                    <a:pt x="65" y="210"/>
                    <a:pt x="113" y="160"/>
                  </a:cubicBezTo>
                  <a:cubicBezTo>
                    <a:pt x="161" y="110"/>
                    <a:pt x="252" y="33"/>
                    <a:pt x="289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062000" y="3068640"/>
              <a:ext cx="7462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</a:rPr>
                <a:t>anteri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1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16960" y="3968640"/>
            <a:ext cx="639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// anterior aponta para o ele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// imediatamente antes de al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16960" y="4780080"/>
            <a:ext cx="639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anterior-&gt;proximo = alvo-&gt;proxim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20560" y="531972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ree(alvo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672000" y="2259000"/>
            <a:ext cx="720720" cy="449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21B1-1527-4782-AAF1-C40148B011E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4E5E9F-F9FF-48C0-A9B7-788484AF6C97}" type="datetime8">
              <a:rPr lang="en-US"/>
              <a:t>07/28/26 07: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457200" y="2077560"/>
            <a:ext cx="8229600" cy="324180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antage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ácil aumento/diminuição no tamanho da l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erva memória exatamente sob med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ermite mais de um critério de orden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vantage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cada elemento, armazena um apont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ão é possível acessar diretamente um ele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Listas Ligad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Vantagens/Desvantagen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431640" y="5499000"/>
            <a:ext cx="8280720" cy="720720"/>
            <a:chOff x="431640" y="5499000"/>
            <a:chExt cx="8280720" cy="720720"/>
          </a:xfrm>
        </p:grpSpPr>
        <p:sp>
          <p:nvSpPr>
            <p:cNvPr id="480" name=""/>
            <p:cNvSpPr/>
            <p:nvPr/>
          </p:nvSpPr>
          <p:spPr>
            <a:xfrm>
              <a:off x="431640" y="5499000"/>
              <a:ext cx="8280720" cy="72072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6699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1" name=""/>
            <p:cNvGrpSpPr/>
            <p:nvPr/>
          </p:nvGrpSpPr>
          <p:grpSpPr>
            <a:xfrm>
              <a:off x="738360" y="5679720"/>
              <a:ext cx="7523280" cy="419040"/>
              <a:chOff x="738360" y="5679720"/>
              <a:chExt cx="7523280" cy="419040"/>
            </a:xfrm>
          </p:grpSpPr>
          <p:sp>
            <p:nvSpPr>
              <p:cNvPr id="482" name=""/>
              <p:cNvSpPr/>
              <p:nvPr/>
            </p:nvSpPr>
            <p:spPr>
              <a:xfrm>
                <a:off x="738360" y="5680080"/>
                <a:ext cx="12553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1600" spc="-1" strike="noStrike">
                    <a:solidFill>
                      <a:srgbClr val="000000"/>
                    </a:solidFill>
                    <a:latin typeface="Arial"/>
                  </a:rPr>
                  <a:t>inicio_list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83" name=""/>
              <p:cNvGrpSpPr/>
              <p:nvPr/>
            </p:nvGrpSpPr>
            <p:grpSpPr>
              <a:xfrm>
                <a:off x="2620080" y="5680080"/>
                <a:ext cx="1463040" cy="415800"/>
                <a:chOff x="2620080" y="5680080"/>
                <a:chExt cx="1463040" cy="41580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3665880" y="5680080"/>
                  <a:ext cx="417240" cy="41580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>
                  <a:off x="2620080" y="5680080"/>
                  <a:ext cx="1045800" cy="4158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600" spc="-1" strike="noStrike">
                      <a:solidFill>
                        <a:srgbClr val="000000"/>
                      </a:solidFill>
                      <a:latin typeface="Arial"/>
                    </a:rPr>
                    <a:t>dad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6" name=""/>
              <p:cNvGrpSpPr/>
              <p:nvPr/>
            </p:nvGrpSpPr>
            <p:grpSpPr>
              <a:xfrm>
                <a:off x="4709880" y="5680080"/>
                <a:ext cx="1461960" cy="415800"/>
                <a:chOff x="4709880" y="5680080"/>
                <a:chExt cx="1461960" cy="415800"/>
              </a:xfrm>
            </p:grpSpPr>
            <p:sp>
              <p:nvSpPr>
                <p:cNvPr id="487" name=""/>
                <p:cNvSpPr/>
                <p:nvPr/>
              </p:nvSpPr>
              <p:spPr>
                <a:xfrm>
                  <a:off x="5754960" y="5680080"/>
                  <a:ext cx="416880" cy="41580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4709880" y="5680080"/>
                  <a:ext cx="1045080" cy="4158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600" spc="-1" strike="noStrike">
                      <a:solidFill>
                        <a:srgbClr val="000000"/>
                      </a:solidFill>
                      <a:latin typeface="Arial"/>
                    </a:rPr>
                    <a:t>dad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9" name=""/>
              <p:cNvGrpSpPr/>
              <p:nvPr/>
            </p:nvGrpSpPr>
            <p:grpSpPr>
              <a:xfrm>
                <a:off x="6799680" y="5680080"/>
                <a:ext cx="1461960" cy="415800"/>
                <a:chOff x="6799680" y="5680080"/>
                <a:chExt cx="1461960" cy="415800"/>
              </a:xfrm>
            </p:grpSpPr>
            <p:sp>
              <p:nvSpPr>
                <p:cNvPr id="490" name=""/>
                <p:cNvSpPr/>
                <p:nvPr/>
              </p:nvSpPr>
              <p:spPr>
                <a:xfrm>
                  <a:off x="7844760" y="5680080"/>
                  <a:ext cx="416880" cy="41580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200" spc="-1" strike="noStrike">
                      <a:solidFill>
                        <a:srgbClr val="000000"/>
                      </a:solidFill>
                      <a:latin typeface="Arial"/>
                    </a:rPr>
                    <a:t>NUL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>
                  <a:off x="6799680" y="5680080"/>
                  <a:ext cx="1045080" cy="41580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t-BR" sz="1600" spc="-1" strike="noStrike">
                      <a:solidFill>
                        <a:srgbClr val="000000"/>
                      </a:solidFill>
                      <a:latin typeface="Arial"/>
                    </a:rPr>
                    <a:t>dado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2" name=""/>
              <p:cNvSpPr/>
              <p:nvPr/>
            </p:nvSpPr>
            <p:spPr>
              <a:xfrm flipV="1" rot="16200000">
                <a:off x="4187880" y="5364720"/>
                <a:ext cx="207000" cy="836280"/>
              </a:xfrm>
              <a:custGeom>
                <a:avLst/>
                <a:gdLst/>
                <a:ahLst/>
                <a:rect l="l" t="t" r="r" b="b"/>
                <a:pathLst>
                  <a:path w="136" h="363">
                    <a:moveTo>
                      <a:pt x="0" y="363"/>
                    </a:moveTo>
                    <a:cubicBezTo>
                      <a:pt x="68" y="302"/>
                      <a:pt x="136" y="242"/>
                      <a:pt x="136" y="182"/>
                    </a:cubicBezTo>
                    <a:cubicBezTo>
                      <a:pt x="136" y="122"/>
                      <a:pt x="68" y="61"/>
                      <a:pt x="0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 flipV="1" rot="16200000">
                <a:off x="2253600" y="5522400"/>
                <a:ext cx="209160" cy="522720"/>
              </a:xfrm>
              <a:custGeom>
                <a:avLst/>
                <a:gdLst/>
                <a:ahLst/>
                <a:rect l="l" t="t" r="r" b="b"/>
                <a:pathLst>
                  <a:path w="136" h="363">
                    <a:moveTo>
                      <a:pt x="0" y="363"/>
                    </a:moveTo>
                    <a:cubicBezTo>
                      <a:pt x="68" y="302"/>
                      <a:pt x="136" y="242"/>
                      <a:pt x="136" y="182"/>
                    </a:cubicBezTo>
                    <a:cubicBezTo>
                      <a:pt x="136" y="122"/>
                      <a:pt x="68" y="61"/>
                      <a:pt x="0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V="1" rot="16200000">
                <a:off x="6279840" y="5364720"/>
                <a:ext cx="207000" cy="836280"/>
              </a:xfrm>
              <a:custGeom>
                <a:avLst/>
                <a:gdLst/>
                <a:ahLst/>
                <a:rect l="l" t="t" r="r" b="b"/>
                <a:pathLst>
                  <a:path w="136" h="363">
                    <a:moveTo>
                      <a:pt x="0" y="363"/>
                    </a:moveTo>
                    <a:cubicBezTo>
                      <a:pt x="68" y="302"/>
                      <a:pt x="136" y="242"/>
                      <a:pt x="136" y="182"/>
                    </a:cubicBezTo>
                    <a:cubicBezTo>
                      <a:pt x="136" y="122"/>
                      <a:pt x="68" y="61"/>
                      <a:pt x="0" y="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95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DAE3-6B0E-481D-9C36-6320A942629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AB943C-9A18-4630-BC0E-F1D0F64EA44F}" type="datetime8">
              <a:rPr lang="en-US"/>
              <a:t>07/28/26 07: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fill="hold">
                      <p:stCondLst>
                        <p:cond delay="0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Memória Dinâmica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1420920" y="2889360"/>
            <a:ext cx="3109680" cy="26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etor2Lista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etor2ListaRec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catListas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catListasRec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verteLista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verteListaRec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verteListaNaMemoria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842000" y="2889360"/>
            <a:ext cx="2840040" cy="22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Vetor2Lista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Vetor2ListaOrdR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OperaListasR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OperaComFil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Lista2ListaDup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Express2Arv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DicionarioBi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350A3-F59A-4FB7-B817-4785FE862CE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AFB774E-10DD-407A-BC9C-DFAFE468DD6C}" type="datetime8">
              <a:rPr lang="en-US"/>
              <a:t>07/28/26 07: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Memória Dinâmica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0000"/>
                </a:solidFill>
                <a:latin typeface="Arial"/>
              </a:rPr>
              <a:t>Fim!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9A2B1-6473-4FC3-B467-C3C54D178B2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E16B65DA-4445-4337-B63B-A4D9B17A1485}" type="datetime8">
              <a:rPr lang="en-US"/>
              <a:t>07/28/26 07: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Memória Dinâm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0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emória dinâm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Vetores dinâm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Listas lig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Roteir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6BAC-7BA5-47AB-89AB-56F667ED3A6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E8F90D-22F1-4491-AE0B-575273424267}" type="datetime8">
              <a:rPr lang="en-US"/>
              <a:t>07/28/26 07: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Memória Dinâmica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0000"/>
                </a:solidFill>
                <a:latin typeface="Arial"/>
              </a:rPr>
              <a:t>Conceito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DC57B-BC08-4A22-8C97-4BCD5B4A859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D14D706-834D-47B2-8042-EB8140D492AA}" type="datetime8">
              <a:rPr lang="en-US"/>
              <a:t>07/28/26 07: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ceitos: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emória 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dinâmica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está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31280" y="1719360"/>
            <a:ext cx="5580360" cy="189072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emória estátic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ariáveis declaradas no códi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amanho fix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úmero limitado de variáve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281640" y="1808280"/>
            <a:ext cx="2340000" cy="1890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gr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558840" y="2259000"/>
            <a:ext cx="1982160" cy="119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Memória estátic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int 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int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int *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72360" y="4329000"/>
            <a:ext cx="2340000" cy="1800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Memória dinâmic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31640" y="4148280"/>
            <a:ext cx="5580360" cy="225108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Memória dinâmic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Espaços adicionais de memó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Memória alocada/liberada quando necessá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723080" y="5087880"/>
            <a:ext cx="811440" cy="4111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657840" y="3338640"/>
            <a:ext cx="1065240" cy="1955520"/>
          </a:xfrm>
          <a:custGeom>
            <a:avLst/>
            <a:gdLst/>
            <a:ahLst/>
            <a:rect l="l" t="t" r="r" b="b"/>
            <a:pathLst>
              <a:path w="671" h="1078">
                <a:moveTo>
                  <a:pt x="387" y="0"/>
                </a:moveTo>
                <a:cubicBezTo>
                  <a:pt x="330" y="132"/>
                  <a:pt x="0" y="614"/>
                  <a:pt x="47" y="794"/>
                </a:cubicBezTo>
                <a:cubicBezTo>
                  <a:pt x="94" y="974"/>
                  <a:pt x="541" y="1019"/>
                  <a:pt x="671" y="107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3DBF-A24B-4841-9395-94B236583AA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8740CD-72E4-415E-8EAC-E5F6CD5CF8CA}" type="datetime8">
              <a:rPr lang="en-US"/>
              <a:t>07/28/26 07: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Concei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31280" y="2077920"/>
            <a:ext cx="5580360" cy="405144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olicitar memória dinâm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Guardar apontador para espaço obt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rmazenar d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lquer conteú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iberar memória obt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Passo a passo no program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372360" y="2077920"/>
            <a:ext cx="2340000" cy="1890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gr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649560" y="2530440"/>
            <a:ext cx="1982160" cy="11912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Memória estátic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int 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int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int *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372360" y="4329000"/>
            <a:ext cx="2340000" cy="180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Memória dinâmic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12000" y="5138640"/>
            <a:ext cx="720720" cy="360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657840" y="3608280"/>
            <a:ext cx="1065240" cy="1711440"/>
          </a:xfrm>
          <a:custGeom>
            <a:avLst/>
            <a:gdLst/>
            <a:ahLst/>
            <a:rect l="l" t="t" r="r" b="b"/>
            <a:pathLst>
              <a:path w="671" h="1078">
                <a:moveTo>
                  <a:pt x="387" y="0"/>
                </a:moveTo>
                <a:cubicBezTo>
                  <a:pt x="330" y="132"/>
                  <a:pt x="0" y="614"/>
                  <a:pt x="47" y="794"/>
                </a:cubicBezTo>
                <a:cubicBezTo>
                  <a:pt x="94" y="974"/>
                  <a:pt x="541" y="1019"/>
                  <a:pt x="671" y="107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903440" y="5138640"/>
            <a:ext cx="59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xy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7723080" y="5064120"/>
            <a:ext cx="900360" cy="525240"/>
            <a:chOff x="7723080" y="5064120"/>
            <a:chExt cx="900360" cy="525240"/>
          </a:xfrm>
        </p:grpSpPr>
        <p:sp>
          <p:nvSpPr>
            <p:cNvPr id="125" name=""/>
            <p:cNvSpPr/>
            <p:nvPr/>
          </p:nvSpPr>
          <p:spPr>
            <a:xfrm>
              <a:off x="7723080" y="5064120"/>
              <a:ext cx="900360" cy="52524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947720" y="5169240"/>
              <a:ext cx="670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??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6CEF-8576-4CEC-A478-10794A71D5B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043537-A1BC-4134-90D6-94E8DC1E522A}" type="datetime8">
              <a:rPr lang="en-US"/>
              <a:t>07/28/26 07: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Conceitos: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bter memó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31280" y="1628280"/>
            <a:ext cx="5580360" cy="252108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hamar função </a:t>
            </a:r>
            <a:r>
              <a:rPr b="1" lang="pt-BR" sz="3200" spc="-1" strike="noStrike">
                <a:solidFill>
                  <a:srgbClr val="ff0000"/>
                </a:solidFill>
                <a:latin typeface="Courier New"/>
              </a:rPr>
              <a:t>mall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râmetro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amanho desejado, em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sultado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ontador para espaço na memó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372360" y="2077920"/>
            <a:ext cx="2340000" cy="1890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gr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649560" y="2530440"/>
            <a:ext cx="1982160" cy="119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Memória estátic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int 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int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int *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372360" y="4329000"/>
            <a:ext cx="2340000" cy="1800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Memória dinâmic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723080" y="5138640"/>
            <a:ext cx="811440" cy="360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3608280"/>
            <a:ext cx="1065240" cy="1711440"/>
          </a:xfrm>
          <a:custGeom>
            <a:avLst/>
            <a:gdLst/>
            <a:ahLst/>
            <a:rect l="l" t="t" r="r" b="b"/>
            <a:pathLst>
              <a:path w="671" h="1078">
                <a:moveTo>
                  <a:pt x="387" y="0"/>
                </a:moveTo>
                <a:cubicBezTo>
                  <a:pt x="330" y="132"/>
                  <a:pt x="0" y="614"/>
                  <a:pt x="47" y="794"/>
                </a:cubicBezTo>
                <a:cubicBezTo>
                  <a:pt x="94" y="974"/>
                  <a:pt x="541" y="1019"/>
                  <a:pt x="671" y="1078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41280" y="4423320"/>
            <a:ext cx="5580000" cy="19227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int *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 = (int*)</a:t>
            </a:r>
            <a:r>
              <a:rPr b="1" lang="pt-BR" sz="2400" spc="-1" strike="noStrike">
                <a:solidFill>
                  <a:srgbClr val="ff0000"/>
                </a:solidFill>
                <a:latin typeface="Courier New"/>
              </a:rPr>
              <a:t>malloc(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1" lang="pt-BR" sz="2400" spc="-1" strike="noStrike">
                <a:solidFill>
                  <a:srgbClr val="ff0000"/>
                </a:solidFill>
                <a:latin typeface="Courier New"/>
              </a:rPr>
              <a:t>)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*p = 5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rintf("%d", *p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994880" y="50497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9EA8-D287-4EA0-8574-1F78F27E580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F4419E-1BD1-4E6E-8581-D440A44B3324}" type="datetime8">
              <a:rPr lang="en-US"/>
              <a:t>07/28/26 07: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Conceitos: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liberar memó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31280" y="1628280"/>
            <a:ext cx="5761080" cy="197964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hamar função </a:t>
            </a:r>
            <a:r>
              <a:rPr b="1" lang="pt-BR" sz="3200" spc="-1" strike="noStrike">
                <a:solidFill>
                  <a:srgbClr val="ff0000"/>
                </a:solidFill>
                <a:latin typeface="Courier New"/>
              </a:rPr>
              <a:t>fre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râmetro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ndereço já aloca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sultado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ibera a área aloc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72360" y="2077920"/>
            <a:ext cx="2340000" cy="18907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gr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649560" y="2530440"/>
            <a:ext cx="1982160" cy="11912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Memória estátic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int 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int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int *p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372360" y="4329000"/>
            <a:ext cx="2340000" cy="18003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Memória dinâmic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657840" y="3608280"/>
            <a:ext cx="1876680" cy="1890720"/>
            <a:chOff x="6657840" y="3608280"/>
            <a:chExt cx="1876680" cy="1890720"/>
          </a:xfrm>
        </p:grpSpPr>
        <p:sp>
          <p:nvSpPr>
            <p:cNvPr id="143" name=""/>
            <p:cNvSpPr/>
            <p:nvPr/>
          </p:nvSpPr>
          <p:spPr>
            <a:xfrm>
              <a:off x="7723080" y="5138640"/>
              <a:ext cx="811440" cy="3603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657840" y="3608280"/>
              <a:ext cx="1065240" cy="1711440"/>
            </a:xfrm>
            <a:custGeom>
              <a:avLst/>
              <a:gdLst/>
              <a:ahLst/>
              <a:rect l="l" t="t" r="r" b="b"/>
              <a:pathLst>
                <a:path w="671" h="1078">
                  <a:moveTo>
                    <a:pt x="387" y="0"/>
                  </a:moveTo>
                  <a:cubicBezTo>
                    <a:pt x="330" y="132"/>
                    <a:pt x="0" y="614"/>
                    <a:pt x="47" y="794"/>
                  </a:cubicBezTo>
                  <a:cubicBezTo>
                    <a:pt x="94" y="974"/>
                    <a:pt x="541" y="1019"/>
                    <a:pt x="671" y="1078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7812000" y="5049720"/>
            <a:ext cx="540000" cy="540000"/>
            <a:chOff x="7812000" y="5049720"/>
            <a:chExt cx="540000" cy="540000"/>
          </a:xfrm>
        </p:grpSpPr>
        <p:sp>
          <p:nvSpPr>
            <p:cNvPr id="146" name=""/>
            <p:cNvSpPr/>
            <p:nvPr/>
          </p:nvSpPr>
          <p:spPr>
            <a:xfrm flipV="1">
              <a:off x="7812000" y="5049720"/>
              <a:ext cx="540000" cy="540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7812000" y="5049720"/>
              <a:ext cx="540000" cy="540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431640" y="3883680"/>
            <a:ext cx="5580360" cy="19227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int *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 = (int*)malloc(4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*p = 5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Courier New"/>
              </a:rPr>
              <a:t>free(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1" lang="pt-BR" sz="2400" spc="-1" strike="noStrike">
                <a:solidFill>
                  <a:srgbClr val="ff0000"/>
                </a:solidFill>
                <a:latin typeface="Courier New"/>
              </a:rPr>
              <a:t>)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904160" y="5138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909480" y="6362640"/>
            <a:ext cx="114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TesteMallo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FEFE-1CBE-42FE-A10E-46D56C07D19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1F887C-CC4F-493B-B382-3C26C49E8F49}" type="datetime8">
              <a:rPr lang="en-US"/>
              <a:t>07/28/26 07: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Memória Dinâmica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0000"/>
                </a:solidFill>
                <a:latin typeface="Arial"/>
              </a:rPr>
              <a:t>Vetor dinâmico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E3290-60E0-4306-8FD4-9E4D0F2D429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91BF77AD-56BD-47EA-9945-5DC53D7BE4D0}" type="datetime8">
              <a:rPr lang="en-US"/>
              <a:t>07/28/26 07:0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3T21:20:33Z</dcterms:created>
  <dc:creator>Daniel</dc:creator>
  <dc:description/>
  <dc:language>en-US</dc:language>
  <cp:lastModifiedBy> arnaldo</cp:lastModifiedBy>
  <dcterms:modified xsi:type="dcterms:W3CDTF">2008-06-17T02:57:23Z</dcterms:modified>
  <cp:revision>216</cp:revision>
  <dc:subject/>
  <dc:title>Curso de C</dc:title>
</cp:coreProperties>
</file>