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7D1E4-6DC8-4F1A-A9CD-00B2C9C91F90}" type="slidenum"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ste slide é apenas um resumo de algumas informações importantes. A apostila, estas informações foram descritas durante o texto dos slides anteri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D8A6-9F78-491F-B85B-703A9B760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192200"/>
            <a:ext cx="82296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2CE5-1B94-4A1F-802E-70BB55616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40158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077560"/>
            <a:ext cx="40158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8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192200"/>
            <a:ext cx="40158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47B2-615A-42DE-AB73-592FEBC32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26496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2077560"/>
            <a:ext cx="26496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2077560"/>
            <a:ext cx="26496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192200"/>
            <a:ext cx="26496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192200"/>
            <a:ext cx="26496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192200"/>
            <a:ext cx="26496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2079-6745-4D42-9C81-2CCAB669F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72925-C2B0-4FC9-8AE9-4062767BB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9B000-AC54-4A58-8110-A558BAABE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70CEA-658C-414E-BFD7-6AA0401E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40158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077560"/>
            <a:ext cx="40158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FB1BC-7E2F-4599-BCFC-DBFD40B2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F6114-772B-4BD1-BC8F-D00CBD96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700000" y="404640"/>
            <a:ext cx="598644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1A9D6-588B-4B50-96C6-B0A1100F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40158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077560"/>
            <a:ext cx="40158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8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8BB2-CD9F-47E7-A2AC-C605BC73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F5EE-97ED-41CC-8C69-6E06896D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40158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077560"/>
            <a:ext cx="40158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192200"/>
            <a:ext cx="40158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BFB5-91FB-48BE-944E-E3C278A7D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40158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077560"/>
            <a:ext cx="40158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82296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3216B-1C08-4202-B66E-B172AFFC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192200"/>
            <a:ext cx="82296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553EA-5FF7-4349-BFDC-C79C17D1E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40158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2077560"/>
            <a:ext cx="40158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8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192200"/>
            <a:ext cx="40158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364B4-4F9C-412A-A893-8593E7ABC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26496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2077560"/>
            <a:ext cx="26496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2077560"/>
            <a:ext cx="26496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192200"/>
            <a:ext cx="26496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192200"/>
            <a:ext cx="26496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192200"/>
            <a:ext cx="26496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1B21F-BA61-41ED-BDCE-B1B297F50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65DC-DB21-4604-8BC8-D9B28685B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40158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077560"/>
            <a:ext cx="40158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0C45-58E8-418F-9B5D-8C51314AA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A924-BA0C-4EA5-8CD3-CF50B446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700000" y="404640"/>
            <a:ext cx="598644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96C4-A9AB-4133-8050-BC5740C6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40158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077560"/>
            <a:ext cx="40158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8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D374-5E6E-4AAC-A74E-472B1781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40158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077560"/>
            <a:ext cx="40158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192200"/>
            <a:ext cx="40158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7CEA5-ED49-4F71-B0DF-D906283B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40158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077560"/>
            <a:ext cx="40158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82296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5B02-3629-4461-90C7-09C5A3A5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58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307FB-DAD1-403A-9B51-9D18F06C4C4E}" type="datetime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fld id="{C053799E-2E26-42D5-8B64-F361D268487D}" type="datetime10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07:0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9BE1-7D16-4646-94ED-C70C959BED3E}" type="slidenum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908000" y="-33480"/>
            <a:ext cx="719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Curso C - IC/UNIC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V="1">
            <a:off x="431640" y="126792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12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V="1">
            <a:off x="8712360" y="126792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144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179280" cy="6858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964720" y="0"/>
            <a:ext cx="179280" cy="6858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CE683-E276-4FF4-B4E0-A4EB016152A4}" type="datetime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fld id="{69D5966D-227E-45E0-8CC7-4F4A7512999F}" type="datetime10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07:0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3A12-A807-42F9-AB22-E59077AC4A16}" type="slidenum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Curso de C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Variáveis e Memória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776CC-2EEB-4C14-AD44-3DFFBD2AB49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52114FB-67B6-44C9-8E0E-66E09EA96ACF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Variáve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bstração dos endereços de memó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ótulo simbólico para cada endereç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ior semelhança com descrição do algorit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86400" y="5562720"/>
            <a:ext cx="144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representação</a:t>
            </a:r>
            <a:br>
              <a:rPr sz="1800"/>
            </a:b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stili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10080" y="5029200"/>
            <a:ext cx="1387440" cy="3049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1371600" y="3352680"/>
            <a:ext cx="2590920" cy="3202200"/>
            <a:chOff x="1371600" y="3352680"/>
            <a:chExt cx="2590920" cy="3202200"/>
          </a:xfrm>
        </p:grpSpPr>
        <p:sp>
          <p:nvSpPr>
            <p:cNvPr id="253" name=""/>
            <p:cNvSpPr/>
            <p:nvPr/>
          </p:nvSpPr>
          <p:spPr>
            <a:xfrm>
              <a:off x="1905120" y="4313160"/>
              <a:ext cx="1387440" cy="30492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905120" y="4008600"/>
              <a:ext cx="13874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05120" y="3703680"/>
              <a:ext cx="13874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905120" y="5837400"/>
              <a:ext cx="13874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905120" y="5532480"/>
              <a:ext cx="13874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905120" y="5227560"/>
              <a:ext cx="1387440" cy="3049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371600" y="586728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71600" y="556272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371600" y="524988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371600" y="495288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371600" y="464832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371600" y="434340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371600" y="403560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371600" y="373392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828800" y="3352680"/>
              <a:ext cx="144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. . 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905120" y="4923000"/>
              <a:ext cx="1387440" cy="30456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905120" y="4618080"/>
              <a:ext cx="13874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134080" y="6186600"/>
              <a:ext cx="996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memó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352680" y="4343400"/>
              <a:ext cx="1508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8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352680" y="5288040"/>
              <a:ext cx="15264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cc66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76720" y="4952880"/>
              <a:ext cx="6858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3333cc"/>
                  </a:solidFill>
                  <a:latin typeface="Times New Roman"/>
                </a:rPr>
                <a:t>so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4114800" y="4495680"/>
            <a:ext cx="1143000" cy="762120"/>
          </a:xfrm>
          <a:prstGeom prst="rightArrow">
            <a:avLst>
              <a:gd name="adj1" fmla="val 50000"/>
              <a:gd name="adj2" fmla="val 374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410080" y="4648320"/>
            <a:ext cx="1387440" cy="304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410080" y="4267080"/>
            <a:ext cx="1387440" cy="304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10080" y="5029200"/>
            <a:ext cx="685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Times New Roman"/>
              </a:rPr>
              <a:t>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410080" y="4267080"/>
            <a:ext cx="609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8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4648320"/>
            <a:ext cx="6098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cc66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" y="3429000"/>
            <a:ext cx="990720" cy="306360"/>
          </a:xfrm>
          <a:prstGeom prst="borderCallout2">
            <a:avLst>
              <a:gd name="adj1" fmla="val 18750"/>
              <a:gd name="adj2" fmla="val -8333"/>
              <a:gd name="adj3" fmla="val 37305"/>
              <a:gd name="adj4" fmla="val 114902"/>
              <a:gd name="adj5" fmla="val 91708"/>
              <a:gd name="adj6" fmla="val 129328"/>
            </a:avLst>
          </a:prstGeom>
          <a:noFill/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Endereç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657600" y="5656320"/>
            <a:ext cx="990720" cy="337320"/>
          </a:xfrm>
          <a:prstGeom prst="borderCallout2">
            <a:avLst>
              <a:gd name="adj1" fmla="val 18750"/>
              <a:gd name="adj2" fmla="val -8333"/>
              <a:gd name="adj3" fmla="val 33027"/>
              <a:gd name="adj4" fmla="val -32851"/>
              <a:gd name="adj5" fmla="val -73773"/>
              <a:gd name="adj6" fmla="val -80745"/>
            </a:avLst>
          </a:prstGeom>
          <a:noFill/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Val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57200" y="5486400"/>
            <a:ext cx="1143000" cy="611280"/>
          </a:xfrm>
          <a:prstGeom prst="borderCallout2">
            <a:avLst>
              <a:gd name="adj1" fmla="val 18750"/>
              <a:gd name="adj2" fmla="val -8333"/>
              <a:gd name="adj3" fmla="val 18699"/>
              <a:gd name="adj4" fmla="val 128055"/>
              <a:gd name="adj5" fmla="val 80518"/>
              <a:gd name="adj6" fmla="val 169027"/>
            </a:avLst>
          </a:prstGeom>
          <a:noFill/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Célula de memó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962520" y="3581280"/>
            <a:ext cx="990360" cy="306360"/>
          </a:xfrm>
          <a:prstGeom prst="borderCallout2">
            <a:avLst>
              <a:gd name="adj1" fmla="val 18750"/>
              <a:gd name="adj2" fmla="val -8333"/>
              <a:gd name="adj3" fmla="val 37305"/>
              <a:gd name="adj4" fmla="val -23555"/>
              <a:gd name="adj5" fmla="val 247148"/>
              <a:gd name="adj6" fmla="val -55129"/>
            </a:avLst>
          </a:prstGeom>
          <a:noFill/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Rótu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oncei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A26F-7195-4A7B-91A6-FB58955ED68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B79B32-0C81-4E24-9BD7-6D5F55F4AE78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Variáve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6840" y="2077560"/>
            <a:ext cx="663084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áximo Divisor Co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ei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um número e armazene n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ariável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ei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um número e armazene n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ariável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vid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o valor da variável A pelo valor da variável B. Guarde o quociente n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ariável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 e o resto n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ariável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o valor da variável R for 0 (zero), entã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ostr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o valor da variável B 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AR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pie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conteúdo da variável B para a variável 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pie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conteúdo da variável R para a variável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etorn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ao passo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877080" y="3932280"/>
            <a:ext cx="2109600" cy="22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24760" y="4305240"/>
            <a:ext cx="55872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118360" y="5173560"/>
            <a:ext cx="5590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118360" y="4429080"/>
            <a:ext cx="5590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000920" y="5297400"/>
            <a:ext cx="55872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877080" y="5794200"/>
            <a:ext cx="21096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Repositório/Memó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 com variáve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884A-EEF7-423A-9B1C-BDC6FD293630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7C45AC-95E4-4566-9DB3-797C472ABF85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Variáveis e Memó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ntender com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unciona a memória do comput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sar variáveis para armazenar dados na memó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bjetiv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1893-48E8-4272-BD3A-6054008AD58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F74F66-7F3E-4CCA-BA4E-C7E63B2776F1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Variáveis e Memó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vi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móri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ce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per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ariáve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Roteir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FE0A-5141-4F2E-BF9B-AF09740599BC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538A8C-1BA4-413A-B1ED-FA93CDD6204F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lgorit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46800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goritmos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usam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ados e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produzem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um result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passo de um algorit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Lê dados armazenad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no comput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ta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operações matemátic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lógic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obre d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Armazena o resultad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2057400"/>
            <a:ext cx="3809880" cy="1676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867280" y="3733920"/>
            <a:ext cx="457200" cy="76176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750080" y="3733920"/>
            <a:ext cx="457200" cy="76176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638680" y="44956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98520" y="4495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aí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57800" y="2209680"/>
            <a:ext cx="3429000" cy="6098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57800" y="2971800"/>
            <a:ext cx="3429000" cy="6094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57800" y="2209680"/>
            <a:ext cx="1752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rmazen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3276720"/>
            <a:ext cx="1523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rocess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25146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Times New Roman"/>
              </a:rPr>
              <a:t>d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20120" y="25146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Times New Roman"/>
              </a:rPr>
              <a:t>result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32446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Times New Roman"/>
              </a:rPr>
              <a:t>instruç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rot="2700000">
            <a:off x="6248520" y="2819520"/>
            <a:ext cx="838080" cy="380880"/>
          </a:xfrm>
          <a:custGeom>
            <a:avLst/>
            <a:gdLst>
              <a:gd name="textAreaLeft" fmla="*/ 130680 w 838080"/>
              <a:gd name="textAreaRight" fmla="*/ 733320 w 8380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rot="18900000">
            <a:off x="6934320" y="2819160"/>
            <a:ext cx="838080" cy="380880"/>
          </a:xfrm>
          <a:custGeom>
            <a:avLst/>
            <a:gdLst>
              <a:gd name="textAreaLeft" fmla="*/ 130680 w 838080"/>
              <a:gd name="textAreaRight" fmla="*/ 733320 w 8380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visã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863F-61D7-42F2-A9CC-7EBD7ABB19A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F16019-ABCF-4192-8D32-4B44A1727A19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emó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2133360"/>
            <a:ext cx="453888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mória: seqüência de célu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dereço: posição da célu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élulas armazenam 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alor pequeno: uma cél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alor grande: duas ou mais célu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rmazenamento volát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162920" y="6400800"/>
            <a:ext cx="1387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629400" y="2743200"/>
            <a:ext cx="1920960" cy="3962520"/>
            <a:chOff x="6629400" y="2743200"/>
            <a:chExt cx="1920960" cy="3962520"/>
          </a:xfrm>
        </p:grpSpPr>
        <p:sp>
          <p:nvSpPr>
            <p:cNvPr id="132" name=""/>
            <p:cNvSpPr/>
            <p:nvPr/>
          </p:nvSpPr>
          <p:spPr>
            <a:xfrm>
              <a:off x="7162920" y="2743200"/>
              <a:ext cx="13874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162920" y="3962520"/>
              <a:ext cx="13874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162920" y="3657600"/>
              <a:ext cx="13874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62920" y="3352680"/>
              <a:ext cx="13874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162920" y="3048120"/>
              <a:ext cx="13874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162920" y="5181480"/>
              <a:ext cx="1387440" cy="609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162920" y="4876920"/>
              <a:ext cx="13874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162920" y="4572000"/>
              <a:ext cx="13874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162920" y="4267080"/>
              <a:ext cx="13874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162920" y="6095880"/>
              <a:ext cx="13874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162920" y="5791320"/>
              <a:ext cx="13874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629400" y="643104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29400" y="612612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629400" y="581328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29400" y="551664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629400" y="521172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629400" y="490680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629400" y="459900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629400" y="429732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29400" y="399240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29400" y="368784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629400" y="337500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29400" y="307800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29400" y="277344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7086600" y="239220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686800" y="2743200"/>
            <a:ext cx="228600" cy="3962520"/>
          </a:xfrm>
          <a:prstGeom prst="upArrow">
            <a:avLst>
              <a:gd name="adj1" fmla="val 26389"/>
              <a:gd name="adj2" fmla="val 238661"/>
            </a:avLst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638680" y="2665440"/>
            <a:ext cx="990720" cy="306360"/>
          </a:xfrm>
          <a:prstGeom prst="borderCallout2">
            <a:avLst>
              <a:gd name="adj1" fmla="val 18750"/>
              <a:gd name="adj2" fmla="val -8333"/>
              <a:gd name="adj3" fmla="val 37305"/>
              <a:gd name="adj4" fmla="val 112981"/>
              <a:gd name="adj5" fmla="val 89120"/>
              <a:gd name="adj6" fmla="val 123078"/>
            </a:avLst>
          </a:prstGeom>
          <a:noFill/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Endereç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3733920"/>
            <a:ext cx="99072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134134"/>
              <a:gd name="adj5" fmla="val -28125"/>
              <a:gd name="adj6" fmla="val 184777"/>
            </a:avLst>
          </a:prstGeom>
          <a:noFill/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Valor pequen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638680" y="5410080"/>
            <a:ext cx="990720" cy="611280"/>
          </a:xfrm>
          <a:prstGeom prst="borderCallout2">
            <a:avLst>
              <a:gd name="adj1" fmla="val 18750"/>
              <a:gd name="adj2" fmla="val -8333"/>
              <a:gd name="adj3" fmla="val 18699"/>
              <a:gd name="adj4" fmla="val 136699"/>
              <a:gd name="adj5" fmla="val 29611"/>
              <a:gd name="adj6" fmla="val 192148"/>
            </a:avLst>
          </a:prstGeom>
          <a:noFill/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Valor gran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848720" y="1676520"/>
            <a:ext cx="1143000" cy="610920"/>
          </a:xfrm>
          <a:prstGeom prst="borderCallout2">
            <a:avLst>
              <a:gd name="adj1" fmla="val 18750"/>
              <a:gd name="adj2" fmla="val -8333"/>
              <a:gd name="adj3" fmla="val 18699"/>
              <a:gd name="adj4" fmla="val -18333"/>
              <a:gd name="adj5" fmla="val 201300"/>
              <a:gd name="adj6" fmla="val -40972"/>
            </a:avLst>
          </a:prstGeom>
          <a:noFill/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Célula de memó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oncei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96360" y="328464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-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236000" y="522936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5000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A4AF-3D96-4C19-9787-C3FB00161A3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44787F-BC69-4CE9-A076-559F7782DA23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emó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14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ulta (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lê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células de memó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grama calcula um novo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rmazena (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escrev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o novo valor em uma célu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143000" y="3352680"/>
            <a:ext cx="1920960" cy="2789280"/>
            <a:chOff x="1143000" y="3352680"/>
            <a:chExt cx="1920960" cy="2789280"/>
          </a:xfrm>
        </p:grpSpPr>
        <p:sp>
          <p:nvSpPr>
            <p:cNvPr id="169" name=""/>
            <p:cNvSpPr/>
            <p:nvPr/>
          </p:nvSpPr>
          <p:spPr>
            <a:xfrm>
              <a:off x="1676520" y="4313160"/>
              <a:ext cx="13874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676520" y="4008240"/>
              <a:ext cx="13874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676520" y="3703320"/>
              <a:ext cx="13874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676520" y="5837040"/>
              <a:ext cx="13874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76520" y="5532120"/>
              <a:ext cx="13874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676520" y="5227560"/>
              <a:ext cx="13874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143000" y="586728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43000" y="556236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43000" y="524952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43000" y="495288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43000" y="464796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143000" y="434304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43000" y="403524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43000" y="373356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600200" y="3352680"/>
              <a:ext cx="144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. . 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676520" y="4922640"/>
              <a:ext cx="13874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676520" y="4617720"/>
              <a:ext cx="13874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6095880" y="3352680"/>
            <a:ext cx="14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638680" y="3703680"/>
            <a:ext cx="1920960" cy="2438280"/>
            <a:chOff x="5638680" y="3703680"/>
            <a:chExt cx="1920960" cy="2438280"/>
          </a:xfrm>
        </p:grpSpPr>
        <p:sp>
          <p:nvSpPr>
            <p:cNvPr id="188" name=""/>
            <p:cNvSpPr/>
            <p:nvPr/>
          </p:nvSpPr>
          <p:spPr>
            <a:xfrm>
              <a:off x="6172200" y="4313160"/>
              <a:ext cx="13874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72200" y="4008600"/>
              <a:ext cx="13874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172200" y="3703680"/>
              <a:ext cx="13874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172200" y="5837400"/>
              <a:ext cx="13874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172200" y="5532480"/>
              <a:ext cx="13874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172200" y="5227560"/>
              <a:ext cx="13874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638680" y="586728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638680" y="556272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638680" y="524988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638680" y="495288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638680" y="464832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638680" y="434340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38680" y="403560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38680" y="373392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172200" y="4923000"/>
              <a:ext cx="13874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172200" y="4618080"/>
              <a:ext cx="13874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014200" y="618660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02240" y="618660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po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95120" y="4613400"/>
            <a:ext cx="159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5 + 6 = 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063960" y="4465440"/>
            <a:ext cx="730440" cy="914400"/>
            <a:chOff x="3063960" y="4465440"/>
            <a:chExt cx="730440" cy="914400"/>
          </a:xfrm>
        </p:grpSpPr>
        <p:cxnSp>
          <p:nvCxnSpPr>
            <p:cNvPr id="208" name=""/>
            <p:cNvCxnSpPr>
              <a:stCxn id="169" idx="3"/>
              <a:endCxn id="206" idx="1"/>
            </p:cNvCxnSpPr>
            <p:nvPr/>
          </p:nvCxnSpPr>
          <p:spPr>
            <a:xfrm>
              <a:off x="3063960" y="4465440"/>
              <a:ext cx="730800" cy="376920"/>
            </a:xfrm>
            <a:prstGeom prst="bentConnector3">
              <a:avLst>
                <a:gd name="adj1" fmla="val 49975"/>
              </a:avLst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209" name=""/>
            <p:cNvCxnSpPr>
              <a:stCxn id="174" idx="3"/>
              <a:endCxn id="206" idx="1"/>
            </p:cNvCxnSpPr>
            <p:nvPr/>
          </p:nvCxnSpPr>
          <p:spPr>
            <a:xfrm flipV="1">
              <a:off x="3063960" y="4841280"/>
              <a:ext cx="730800" cy="538920"/>
            </a:xfrm>
            <a:prstGeom prst="bentConnector3">
              <a:avLst>
                <a:gd name="adj1" fmla="val 49975"/>
              </a:avLst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210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perações na memór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5387760" y="4842000"/>
            <a:ext cx="1735560" cy="443160"/>
            <a:chOff x="5387760" y="4842000"/>
            <a:chExt cx="1735560" cy="443160"/>
          </a:xfrm>
        </p:grpSpPr>
        <p:cxnSp>
          <p:nvCxnSpPr>
            <p:cNvPr id="212" name=""/>
            <p:cNvCxnSpPr>
              <a:stCxn id="206" idx="3"/>
              <a:endCxn id="213" idx="1"/>
            </p:cNvCxnSpPr>
            <p:nvPr/>
          </p:nvCxnSpPr>
          <p:spPr>
            <a:xfrm>
              <a:off x="5387760" y="4842000"/>
              <a:ext cx="1270440" cy="2433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213" name=""/>
            <p:cNvSpPr/>
            <p:nvPr/>
          </p:nvSpPr>
          <p:spPr>
            <a:xfrm>
              <a:off x="6659280" y="48862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CF2E-E29F-4E13-B38A-186B5EECF8D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B0BAD2-718D-4A4E-AF45-1543447DADEC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emó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71640" y="3625920"/>
            <a:ext cx="7200720" cy="131292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Um programa apenas manipula </a:t>
            </a:r>
            <a:br>
              <a:rPr sz="4000"/>
            </a:br>
            <a:r>
              <a:rPr b="0" lang="pt-BR" sz="4000" spc="-1" strike="noStrike">
                <a:solidFill>
                  <a:srgbClr val="000000"/>
                </a:solidFill>
                <a:latin typeface="Times New Roman"/>
              </a:rPr>
              <a:t>valores nas células da memóri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EA8D-F6C0-45EF-8C47-1CA2735A2BDB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2588B5-F9C2-4845-8ABC-1244409D7ABB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emó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66960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áximo Divisor Com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um número e escreva na célula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um número e escreva na célula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vid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 valor da célula 1 pelo valor da célula 2. Guarde o quociente na célula 3 e o resto na célula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 valor da célula 4 for 0 (zero), entã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str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 valor da célula 2 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AR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crev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 célula 1 o valor da célula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crev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na célula 2 o valor da célula 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torn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o passo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858000" y="1828800"/>
            <a:ext cx="1920960" cy="2789280"/>
            <a:chOff x="6858000" y="1828800"/>
            <a:chExt cx="1920960" cy="2789280"/>
          </a:xfrm>
        </p:grpSpPr>
        <p:sp>
          <p:nvSpPr>
            <p:cNvPr id="221" name=""/>
            <p:cNvSpPr/>
            <p:nvPr/>
          </p:nvSpPr>
          <p:spPr>
            <a:xfrm>
              <a:off x="7391520" y="2789280"/>
              <a:ext cx="13874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91520" y="2484360"/>
              <a:ext cx="13874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91520" y="2179800"/>
              <a:ext cx="13874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91520" y="4313160"/>
              <a:ext cx="13874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91520" y="4008600"/>
              <a:ext cx="13874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91520" y="3703680"/>
              <a:ext cx="13874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58000" y="434340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58000" y="403848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58000" y="372600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0" y="342900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58000" y="312408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58000" y="281952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858000" y="251136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858000" y="2209680"/>
              <a:ext cx="457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315200" y="1828800"/>
              <a:ext cx="1447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Memó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391520" y="3398760"/>
              <a:ext cx="1387440" cy="30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91520" y="3094200"/>
              <a:ext cx="138744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 de operação na memór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380360" y="400536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úmer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380360" y="371628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úmero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380360" y="335772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oc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451640" y="306864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Re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2DEE-4D0C-460A-B34A-9B94E91854E5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421EA2-51F9-4BC4-B81A-C73D22CA7C52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emó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plexidade desnecessária no algorit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ifícil manutenção do códi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mpossível prever células liv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erferência por execução simultân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Dificuldad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C248-D154-4B8D-BDC2-7F175CF4AF8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7A487D-6F3A-45EE-A7B1-2DB384A0ADD5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21:15:14Z</dcterms:created>
  <dc:creator>Daniel</dc:creator>
  <dc:description/>
  <dc:language>en-US</dc:language>
  <cp:lastModifiedBy> arnaldo</cp:lastModifiedBy>
  <dcterms:modified xsi:type="dcterms:W3CDTF">2008-03-09T20:58:21Z</dcterms:modified>
  <cp:revision>42</cp:revision>
  <dc:subject/>
  <dc:title>Curso de C</dc:title>
</cp:coreProperties>
</file>