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43601-5E3B-4428-A0FB-90CD6759D8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AF55C-D8E9-4B98-83F1-BCAD5E2F12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27F29-BAA7-43DB-9562-4B4497FBD0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E0340-4612-469C-B25F-8AC3976FBA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C2EAE4-9F0A-46FF-B8DB-A7B384CC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DC316A-0D96-4CBF-8865-810DAF67D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39B0D4-22C3-49B9-BFCD-4F569050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EBCC4-1952-499F-A6BB-0EC45018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63943-D48D-42CB-8164-AD82D374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0E4B20-74E5-48A9-916E-E9308672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290FAE-8C4E-4159-B503-B0115E9AF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75540-5767-4F9A-93F8-B2D990794E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07ABC-E4B9-4B57-A6B7-41D3ADF2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4721E9-3BC7-4DC5-AD17-73F1656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20481-26FD-487B-80C3-86E43619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1D8A4-0F41-43F5-BA17-92D6BE610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70F93-F011-4885-9B0D-B7A86193C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EDF0A-D5CC-4728-9555-78F03609C7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FA977-8075-4BA6-A72B-A07F00C0D8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CCAA6-5F11-44A3-8316-4DCA01B654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B8743-DA05-432C-BC71-C96F8B2868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A30406-BD05-469B-9BD9-4665AF43B3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87F94-A1C9-49F6-BE66-568A99F9B0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80A5E-67F2-46E7-8ECE-5C2C58D53BE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33520" y="6244920"/>
            <a:ext cx="579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248DB-7D91-4CDC-A995-0DBD55DB6C59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15142-48F8-4D5E-B575-16DC3EAB575D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34026BDC-D14C-4787-A3A1-BDF70809CAF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13466-0DD0-46E1-83E8-59CD0291639A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27EC5C-6093-4698-9B42-9257F4C0F99F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FE00402-6B1A-4C84-B9C1-299EDADBE41B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2057400"/>
            <a:ext cx="5029200" cy="198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 de ín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609480" y="2139840"/>
            <a:ext cx="4114800" cy="1746360"/>
          </a:xfrm>
          <a:prstGeom prst="rect">
            <a:avLst/>
          </a:prstGeom>
          <a:ln w="0">
            <a:noFill/>
          </a:ln>
        </p:spPr>
      </p:pic>
      <p:grpSp>
        <p:nvGrpSpPr>
          <p:cNvPr id="189" name=""/>
          <p:cNvGrpSpPr/>
          <p:nvPr/>
        </p:nvGrpSpPr>
        <p:grpSpPr>
          <a:xfrm>
            <a:off x="1219320" y="4338720"/>
            <a:ext cx="7467480" cy="2241360"/>
            <a:chOff x="1219320" y="4338720"/>
            <a:chExt cx="7467480" cy="2241360"/>
          </a:xfrm>
        </p:grpSpPr>
        <p:sp>
          <p:nvSpPr>
            <p:cNvPr id="190" name=""/>
            <p:cNvSpPr/>
            <p:nvPr/>
          </p:nvSpPr>
          <p:spPr>
            <a:xfrm>
              <a:off x="1219320" y="4338720"/>
              <a:ext cx="7467480" cy="2241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46480" y="441072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vetor[i+j] = k * 2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391520" y="5786280"/>
            <a:ext cx="304560" cy="574560"/>
            <a:chOff x="7391520" y="5786280"/>
            <a:chExt cx="304560" cy="574560"/>
          </a:xfrm>
        </p:grpSpPr>
        <p:cxnSp>
          <p:nvCxnSpPr>
            <p:cNvPr id="193" name=""/>
            <p:cNvCxnSpPr>
              <a:stCxn id="194" idx="2"/>
            </p:cNvCxnSpPr>
            <p:nvPr/>
          </p:nvCxnSpPr>
          <p:spPr>
            <a:xfrm>
              <a:off x="7543440" y="613188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4" name=""/>
            <p:cNvSpPr/>
            <p:nvPr/>
          </p:nvSpPr>
          <p:spPr>
            <a:xfrm>
              <a:off x="7391520" y="5786280"/>
              <a:ext cx="3045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5562720" y="4678200"/>
            <a:ext cx="685800" cy="1108080"/>
            <a:chOff x="5562720" y="4678200"/>
            <a:chExt cx="685800" cy="1108080"/>
          </a:xfrm>
        </p:grpSpPr>
        <p:sp>
          <p:nvSpPr>
            <p:cNvPr id="196" name=""/>
            <p:cNvSpPr/>
            <p:nvPr/>
          </p:nvSpPr>
          <p:spPr>
            <a:xfrm>
              <a:off x="5562720" y="4678200"/>
              <a:ext cx="3045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6" idx="2"/>
              <a:endCxn id="198" idx="0"/>
            </p:cNvCxnSpPr>
            <p:nvPr/>
          </p:nvCxnSpPr>
          <p:spPr>
            <a:xfrm>
              <a:off x="5714640" y="5024160"/>
              <a:ext cx="229320" cy="18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8" name=""/>
            <p:cNvSpPr/>
            <p:nvPr/>
          </p:nvSpPr>
          <p:spPr>
            <a:xfrm>
              <a:off x="5791320" y="5211360"/>
              <a:ext cx="3045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9" name=""/>
            <p:cNvCxnSpPr>
              <a:stCxn id="200" idx="2"/>
              <a:endCxn id="198" idx="0"/>
            </p:cNvCxnSpPr>
            <p:nvPr/>
          </p:nvCxnSpPr>
          <p:spPr>
            <a:xfrm flipH="1">
              <a:off x="5942880" y="5024160"/>
              <a:ext cx="153000" cy="18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01" name=""/>
            <p:cNvCxnSpPr>
              <a:stCxn id="198" idx="2"/>
              <a:endCxn id="202" idx="0"/>
            </p:cNvCxnSpPr>
            <p:nvPr/>
          </p:nvCxnSpPr>
          <p:spPr>
            <a:xfrm>
              <a:off x="5943240" y="555732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0" name=""/>
            <p:cNvSpPr/>
            <p:nvPr/>
          </p:nvSpPr>
          <p:spPr>
            <a:xfrm>
              <a:off x="5943600" y="4678200"/>
              <a:ext cx="30492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j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162920" y="4678200"/>
            <a:ext cx="685800" cy="1108080"/>
            <a:chOff x="7162920" y="4678200"/>
            <a:chExt cx="685800" cy="1108080"/>
          </a:xfrm>
        </p:grpSpPr>
        <p:sp>
          <p:nvSpPr>
            <p:cNvPr id="204" name=""/>
            <p:cNvSpPr/>
            <p:nvPr/>
          </p:nvSpPr>
          <p:spPr>
            <a:xfrm>
              <a:off x="7162920" y="4678200"/>
              <a:ext cx="3045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4" idx="2"/>
              <a:endCxn id="206" idx="0"/>
            </p:cNvCxnSpPr>
            <p:nvPr/>
          </p:nvCxnSpPr>
          <p:spPr>
            <a:xfrm>
              <a:off x="7314840" y="5024160"/>
              <a:ext cx="229320" cy="18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6" name=""/>
            <p:cNvSpPr/>
            <p:nvPr/>
          </p:nvSpPr>
          <p:spPr>
            <a:xfrm>
              <a:off x="7391520" y="5211360"/>
              <a:ext cx="30456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7" name=""/>
            <p:cNvCxnSpPr>
              <a:stCxn id="208" idx="2"/>
              <a:endCxn id="206" idx="0"/>
            </p:cNvCxnSpPr>
            <p:nvPr/>
          </p:nvCxnSpPr>
          <p:spPr>
            <a:xfrm flipH="1">
              <a:off x="7543080" y="5024160"/>
              <a:ext cx="153000" cy="187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8" name=""/>
            <p:cNvSpPr/>
            <p:nvPr/>
          </p:nvSpPr>
          <p:spPr>
            <a:xfrm>
              <a:off x="7543800" y="4678200"/>
              <a:ext cx="30492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9" name=""/>
            <p:cNvCxnSpPr>
              <a:stCxn id="206" idx="2"/>
              <a:endCxn id="194" idx="0"/>
            </p:cNvCxnSpPr>
            <p:nvPr/>
          </p:nvCxnSpPr>
          <p:spPr>
            <a:xfrm>
              <a:off x="7543440" y="5557320"/>
              <a:ext cx="1080" cy="229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10" name=""/>
          <p:cNvGrpSpPr/>
          <p:nvPr/>
        </p:nvGrpSpPr>
        <p:grpSpPr>
          <a:xfrm>
            <a:off x="3733920" y="5786280"/>
            <a:ext cx="2057400" cy="794880"/>
            <a:chOff x="3733920" y="5786280"/>
            <a:chExt cx="2057400" cy="794880"/>
          </a:xfrm>
        </p:grpSpPr>
        <p:cxnSp>
          <p:nvCxnSpPr>
            <p:cNvPr id="211" name=""/>
            <p:cNvCxnSpPr>
              <a:stCxn id="212" idx="3"/>
              <a:endCxn id="202" idx="1"/>
            </p:cNvCxnSpPr>
            <p:nvPr/>
          </p:nvCxnSpPr>
          <p:spPr>
            <a:xfrm>
              <a:off x="4571640" y="5958720"/>
              <a:ext cx="114372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2" name=""/>
            <p:cNvSpPr/>
            <p:nvPr/>
          </p:nvSpPr>
          <p:spPr>
            <a:xfrm>
              <a:off x="3733920" y="5786280"/>
              <a:ext cx="83808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vetor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03880" y="5938560"/>
              <a:ext cx="13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f. 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5715000" y="5786280"/>
            <a:ext cx="1752480" cy="763200"/>
            <a:chOff x="5715000" y="5786280"/>
            <a:chExt cx="1752480" cy="763200"/>
          </a:xfrm>
        </p:grpSpPr>
        <p:sp>
          <p:nvSpPr>
            <p:cNvPr id="202" name=""/>
            <p:cNvSpPr/>
            <p:nvPr/>
          </p:nvSpPr>
          <p:spPr>
            <a:xfrm>
              <a:off x="5715000" y="5786280"/>
              <a:ext cx="457200" cy="337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[ ]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02" idx="3"/>
              <a:endCxn id="194" idx="1"/>
            </p:cNvCxnSpPr>
            <p:nvPr/>
          </p:nvCxnSpPr>
          <p:spPr>
            <a:xfrm>
              <a:off x="6171840" y="5958720"/>
              <a:ext cx="12200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6" name=""/>
            <p:cNvSpPr/>
            <p:nvPr/>
          </p:nvSpPr>
          <p:spPr>
            <a:xfrm>
              <a:off x="6080040" y="5906880"/>
              <a:ext cx="1387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f. memór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57D9D-5570-4953-A6DB-D90FC9F8AA6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57200" y="1905120"/>
            <a:ext cx="8229600" cy="4403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905120"/>
            <a:ext cx="7917120" cy="4314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main(i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 argc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*argv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valores[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ic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</a:t>
            </a:r>
            <a:r>
              <a:rPr b="1" lang="en-US" sz="2000" spc="-1" strike="noStrike">
                <a:solidFill>
                  <a:srgbClr val="000080"/>
                </a:solidFill>
                <a:latin typeface="Courier New"/>
                <a:ea typeface="Courier New"/>
              </a:rPr>
              <a:t>"Escreva 10 números inteiros: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indic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indice &lt;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1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indice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(</a:t>
            </a:r>
            <a:r>
              <a:rPr b="1" lang="en-US" sz="2000" spc="-1" strike="noStrike">
                <a:solidFill>
                  <a:srgbClr val="000080"/>
                </a:solidFill>
                <a:latin typeface="Courier New"/>
                <a:ea typeface="Courier New"/>
              </a:rPr>
              <a:t>"%d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&amp;valores[indice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</a:t>
            </a:r>
            <a:r>
              <a:rPr b="1" lang="en-US" sz="2000" spc="-1" strike="noStrike">
                <a:solidFill>
                  <a:srgbClr val="000080"/>
                </a:solidFill>
                <a:latin typeface="Courier New"/>
                <a:ea typeface="Courier New"/>
              </a:rPr>
              <a:t>"Valores em ordem reversa:\n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fo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(indice 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indice &gt;=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 indice--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</a:t>
            </a:r>
            <a:r>
              <a:rPr b="1" lang="en-US" sz="2000" spc="-1" strike="noStrike">
                <a:solidFill>
                  <a:srgbClr val="000080"/>
                </a:solidFill>
                <a:latin typeface="Courier New"/>
                <a:ea typeface="Courier New"/>
              </a:rPr>
              <a:t>"%d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 valores[indice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Courier New"/>
                <a:ea typeface="Courier New"/>
              </a:rPr>
              <a:t>0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40640" y="1411200"/>
            <a:ext cx="53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imir uma listra de trás para fr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29640" y="594216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etores\Reverso01\Reverso01.vc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C4BB4-5B68-4CBB-90AB-A06F1ECE0F6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457200" y="2209680"/>
            <a:ext cx="822960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teúd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com conteúdo inici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12720" y="2362320"/>
            <a:ext cx="799776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3460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2320" y="2362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e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23623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[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752480" y="3260880"/>
            <a:ext cx="1981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o ve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2608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st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3" name=""/>
          <p:cNvCxnSpPr>
            <a:stCxn id="230" idx="2"/>
            <a:endCxn id="231" idx="0"/>
          </p:cNvCxnSpPr>
          <p:nvPr/>
        </p:nvCxnSpPr>
        <p:spPr>
          <a:xfrm flipV="1" rot="10800000">
            <a:off x="2742480" y="2819160"/>
            <a:ext cx="1080" cy="442080"/>
          </a:xfrm>
          <a:prstGeom prst="bent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34" name=""/>
          <p:cNvCxnSpPr>
            <a:stCxn id="235" idx="2"/>
            <a:endCxn id="232" idx="0"/>
          </p:cNvCxnSpPr>
          <p:nvPr/>
        </p:nvCxnSpPr>
        <p:spPr>
          <a:xfrm flipV="1" rot="10800000">
            <a:off x="5904720" y="2819160"/>
            <a:ext cx="1080" cy="442080"/>
          </a:xfrm>
          <a:prstGeom prst="bent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grpSp>
        <p:nvGrpSpPr>
          <p:cNvPr id="236" name=""/>
          <p:cNvGrpSpPr/>
          <p:nvPr/>
        </p:nvGrpSpPr>
        <p:grpSpPr>
          <a:xfrm>
            <a:off x="457200" y="4343400"/>
            <a:ext cx="8229600" cy="1676520"/>
            <a:chOff x="457200" y="4343400"/>
            <a:chExt cx="8229600" cy="1676520"/>
          </a:xfrm>
        </p:grpSpPr>
        <p:sp>
          <p:nvSpPr>
            <p:cNvPr id="237" name=""/>
            <p:cNvSpPr/>
            <p:nvPr/>
          </p:nvSpPr>
          <p:spPr>
            <a:xfrm>
              <a:off x="457200" y="4343400"/>
              <a:ext cx="8229600" cy="1676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36040" y="44197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12720" y="4952880"/>
              <a:ext cx="791676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 impares[5] = {1, 3, 5, 7, 9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98764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352680" y="236232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ele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, ele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, ..., ele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urier New"/>
              </a:rPr>
              <a:t>n-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E64C2-69A8-4D76-A640-9ADCB89661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457200" y="2209680"/>
            <a:ext cx="822960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teúdo inic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com conteúdo inicial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12720" y="2362320"/>
            <a:ext cx="799776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3460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372320" y="23623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e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20920" y="2362320"/>
            <a:ext cx="8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[ 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92360" y="3260880"/>
            <a:ext cx="207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do vetor omis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326088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sta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1" name=""/>
          <p:cNvCxnSpPr>
            <a:stCxn id="248" idx="2"/>
            <a:endCxn id="249" idx="0"/>
          </p:cNvCxnSpPr>
          <p:nvPr/>
        </p:nvCxnSpPr>
        <p:spPr>
          <a:xfrm flipH="1" rot="16200000">
            <a:off x="2503440" y="3037680"/>
            <a:ext cx="442080" cy="5400"/>
          </a:xfrm>
          <a:prstGeom prst="bentConnector3">
            <a:avLst>
              <a:gd name="adj1" fmla="val 4995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252" name=""/>
          <p:cNvCxnSpPr>
            <a:stCxn id="253" idx="2"/>
            <a:endCxn id="250" idx="0"/>
          </p:cNvCxnSpPr>
          <p:nvPr/>
        </p:nvCxnSpPr>
        <p:spPr>
          <a:xfrm flipV="1" rot="10800000">
            <a:off x="5904720" y="2819160"/>
            <a:ext cx="1080" cy="442080"/>
          </a:xfrm>
          <a:prstGeom prst="bent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grpSp>
        <p:nvGrpSpPr>
          <p:cNvPr id="254" name=""/>
          <p:cNvGrpSpPr/>
          <p:nvPr/>
        </p:nvGrpSpPr>
        <p:grpSpPr>
          <a:xfrm>
            <a:off x="457200" y="4343400"/>
            <a:ext cx="8229600" cy="1676520"/>
            <a:chOff x="457200" y="4343400"/>
            <a:chExt cx="8229600" cy="1676520"/>
          </a:xfrm>
        </p:grpSpPr>
        <p:sp>
          <p:nvSpPr>
            <p:cNvPr id="255" name=""/>
            <p:cNvSpPr/>
            <p:nvPr/>
          </p:nvSpPr>
          <p:spPr>
            <a:xfrm>
              <a:off x="457200" y="4343400"/>
              <a:ext cx="8229600" cy="16765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6040" y="44197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2720" y="4952880"/>
              <a:ext cx="791676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 impares[] = {1, 3, 5, 7, 9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2987640" y="23623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352680" y="2362320"/>
            <a:ext cx="5105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ele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, ele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, ..., elem</a:t>
            </a:r>
            <a:r>
              <a:rPr b="0" i="1" lang="pt-BR" sz="2400" spc="-1" strike="noStrike" baseline="-25000">
                <a:solidFill>
                  <a:srgbClr val="000000"/>
                </a:solidFill>
                <a:latin typeface="Courier New"/>
              </a:rPr>
              <a:t>n-1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822BA-E909-4FC7-BE84-D5623C06356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Regras para uso corret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DD866-FCC3-4620-8BB3-729142EAC8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60470EF0-BF45-4FA4-813E-7AE96C7D3B2E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31640" y="2057400"/>
            <a:ext cx="8255160" cy="2209680"/>
          </a:xfrm>
          <a:prstGeom prst="rect">
            <a:avLst/>
          </a:prstGeom>
          <a:solidFill>
            <a:srgbClr val="ffcccc"/>
          </a:solidFill>
          <a:ln w="12600">
            <a:solidFill>
              <a:srgbClr val="cc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uidado com ín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2720" y="2209680"/>
            <a:ext cx="7997760" cy="1981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vetor[10]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etor[-2]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etor[20] = 6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431640" y="4419720"/>
            <a:ext cx="8280360" cy="1828800"/>
            <a:chOff x="431640" y="4419720"/>
            <a:chExt cx="8280360" cy="1828800"/>
          </a:xfrm>
        </p:grpSpPr>
        <p:sp>
          <p:nvSpPr>
            <p:cNvPr id="267" name=""/>
            <p:cNvSpPr/>
            <p:nvPr/>
          </p:nvSpPr>
          <p:spPr>
            <a:xfrm>
              <a:off x="431640" y="4419720"/>
              <a:ext cx="8280360" cy="18288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7880" y="4876920"/>
              <a:ext cx="7965720" cy="1295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vetor[4] = 3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vetor[7] = 6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9760" y="441972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rre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535320" y="2057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182640" y="3352680"/>
            <a:ext cx="202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fei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imprevisíve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C9494-E4F9-4572-BB93-C9B7938920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431640" y="2057400"/>
            <a:ext cx="8280720" cy="1600200"/>
          </a:xfrm>
          <a:prstGeom prst="rect">
            <a:avLst/>
          </a:prstGeom>
          <a:solidFill>
            <a:srgbClr val="ffcccc"/>
          </a:solidFill>
          <a:ln w="12600">
            <a:solidFill>
              <a:srgbClr val="cc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tribuir todos os val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2720" y="2209680"/>
            <a:ext cx="7997760" cy="121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vetor[10]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etor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31640" y="3789360"/>
            <a:ext cx="8280720" cy="2438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8960" y="4322880"/>
            <a:ext cx="7964640" cy="182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nd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dice = 0; indice &lt; 10; indice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tor[indice] =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09400" y="38656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35320" y="2057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3E4DF3-637C-4627-B923-3D63FCAA90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31640" y="2057400"/>
            <a:ext cx="8255160" cy="1600200"/>
          </a:xfrm>
          <a:prstGeom prst="rect">
            <a:avLst/>
          </a:prstGeom>
          <a:solidFill>
            <a:srgbClr val="ffcccc"/>
          </a:solidFill>
          <a:ln w="12600">
            <a:solidFill>
              <a:srgbClr val="cc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piar todos os valo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12720" y="2209680"/>
            <a:ext cx="7997760" cy="121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vetorA[10], vetorB[10]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vetorA = vetorB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431640" y="3809880"/>
            <a:ext cx="8255160" cy="24386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87520" y="4343400"/>
            <a:ext cx="7941960" cy="1828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ndic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dice = 0; indice &lt; 10; indice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etorA[indice] = vetorB[indice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09400" y="388620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e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5320" y="2057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72E06-D848-4B27-A01C-40B6576D17E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Vetor de tamanho variável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6FAE5-E1BC-4084-BBDC-E9381FFBA64F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9F028E1-21C5-4829-AEE6-7F0867098CB4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31640" y="2104920"/>
            <a:ext cx="8280720" cy="4114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 de tamanho variá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olução Simp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2720" y="2181240"/>
            <a:ext cx="7916760" cy="3886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valores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numero_elemento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0; i &lt; numero_elementos; i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"%d", valores[i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2971800" y="3324240"/>
            <a:ext cx="3968280" cy="764640"/>
            <a:chOff x="2971800" y="3324240"/>
            <a:chExt cx="3968280" cy="764640"/>
          </a:xfrm>
        </p:grpSpPr>
        <p:sp>
          <p:nvSpPr>
            <p:cNvPr id="298" name=""/>
            <p:cNvSpPr/>
            <p:nvPr/>
          </p:nvSpPr>
          <p:spPr>
            <a:xfrm>
              <a:off x="4272120" y="3629160"/>
              <a:ext cx="266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Tamanho utiliza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971800" y="3324240"/>
              <a:ext cx="1371600" cy="53352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3429000" y="2181240"/>
            <a:ext cx="3249000" cy="825480"/>
            <a:chOff x="3429000" y="2181240"/>
            <a:chExt cx="3249000" cy="825480"/>
          </a:xfrm>
        </p:grpSpPr>
        <p:sp>
          <p:nvSpPr>
            <p:cNvPr id="301" name=""/>
            <p:cNvSpPr/>
            <p:nvPr/>
          </p:nvSpPr>
          <p:spPr>
            <a:xfrm>
              <a:off x="4499280" y="2181240"/>
              <a:ext cx="217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Limite superi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para tamanh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3429000" y="2257560"/>
              <a:ext cx="1143000" cy="380880"/>
            </a:xfrm>
            <a:custGeom>
              <a:avLst/>
              <a:gdLst/>
              <a:ahLst/>
              <a:rect l="l" t="t" r="r" b="b"/>
              <a:pathLst>
                <a:path w="864" h="336">
                  <a:moveTo>
                    <a:pt x="864" y="336"/>
                  </a:moveTo>
                  <a:lnTo>
                    <a:pt x="0" y="336"/>
                  </a:lnTo>
                  <a:lnTo>
                    <a:pt x="0" y="0"/>
                  </a:lnTo>
                </a:path>
              </a:pathLst>
            </a:custGeom>
            <a:noFill/>
            <a:ln w="284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61490-D8F9-403C-81E9-B2584C3F1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 guardar mais de um valor de mesmo tipo usando um mesmo nome de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r com listas, vetores e mat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1306C-EFAB-480B-ABCC-89D1EF5266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457200" y="1905120"/>
            <a:ext cx="8229600" cy="41907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 de tamanho variá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905120"/>
            <a:ext cx="8269200" cy="41907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ores[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0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]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umero_valore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Quantos valores? (no máximo 100)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numero_valores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 (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numero_valores &lt;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||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numero_valores &gt; </a:t>
            </a:r>
            <a:r>
              <a:rPr b="0" lang="pt-BR" sz="1800" spc="-1" strike="noStrike">
                <a:solidFill>
                  <a:srgbClr val="800000"/>
                </a:solidFill>
                <a:latin typeface="Arial"/>
              </a:rPr>
              <a:t>100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)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“Quantidade invalida!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1000" y="1411200"/>
            <a:ext cx="69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imir uma lista de números de trás para fr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A21A3-AED6-4532-830B-B5FC78BF0AC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457200" y="190512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2720" y="2057400"/>
            <a:ext cx="7916760" cy="3886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Escreva os números: “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i &lt; numero_valores; i++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valores[i] 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Valores em ordem reversa:\n"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 = numero_valores-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i &gt;= 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i--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 "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valores[i]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1000" y="1411200"/>
            <a:ext cx="694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imir uma lista de números de trás para frent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129640" y="5589720"/>
            <a:ext cx="358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Vetores\Reverso02\Reverso02.vcproj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D3FB7-9688-4B76-BC05-E1AE14B356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 de Matriz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58DBC5-420C-4503-80E3-A931C85F9BF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186EFCE-FB12-41BD-946A-552F3766B538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250920" y="4238640"/>
            <a:ext cx="5105160" cy="17402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s propriedad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 do mesmo ti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aos valores através de um único nome de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mensões fix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1998720"/>
            <a:ext cx="6750000" cy="16185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abel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esso p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oi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índ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nha e colu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umeraçã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até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linh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1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 até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lun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486400" y="4191120"/>
            <a:ext cx="3492000" cy="2117520"/>
            <a:chOff x="5486400" y="4191120"/>
            <a:chExt cx="3492000" cy="2117520"/>
          </a:xfrm>
        </p:grpSpPr>
        <p:sp>
          <p:nvSpPr>
            <p:cNvPr id="322" name=""/>
            <p:cNvSpPr/>
            <p:nvPr/>
          </p:nvSpPr>
          <p:spPr>
            <a:xfrm>
              <a:off x="5834160" y="455148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183360" y="4551480"/>
              <a:ext cx="3510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29680" y="455148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878880" y="455148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18360" y="4551480"/>
              <a:ext cx="3510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69360" y="455148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909200" y="455148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258400" y="4551480"/>
              <a:ext cx="35064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597880" y="4551480"/>
              <a:ext cx="3510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455148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838840" y="501336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189840" y="501336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534360" y="501336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883560" y="501336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23400" y="501336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74040" y="501336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13880" y="501336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263080" y="501336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602920" y="501336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91440" y="501336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838840" y="547200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189840" y="54720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34360" y="54720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883560" y="54720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23400" y="54720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74040" y="54720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13880" y="54720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63080" y="54720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602920" y="54720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491440" y="54720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43880" y="593388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94520" y="593388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539040" y="593388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88240" y="593388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28080" y="593388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78720" y="593388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918560" y="593388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67760" y="593388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609040" y="593388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496120" y="593388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014600" y="419112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int a[4][10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D229-1929-4C60-97C5-CB4105A5A1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57200" y="2063880"/>
            <a:ext cx="67816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2720" y="2362320"/>
            <a:ext cx="647388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688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752840" y="236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vari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429360" y="236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linha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3160" y="324468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828800" y="326088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a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429000" y="326088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linh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2"/>
            <a:endCxn id="371" idx="0"/>
          </p:cNvCxnSpPr>
          <p:nvPr/>
        </p:nvCxnSpPr>
        <p:spPr>
          <a:xfrm flipH="1" rot="16200000">
            <a:off x="931680" y="3029400"/>
            <a:ext cx="425880" cy="5400"/>
          </a:xfrm>
          <a:prstGeom prst="bentConnector3">
            <a:avLst>
              <a:gd name="adj1" fmla="val 50000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75" name=""/>
          <p:cNvCxnSpPr>
            <a:stCxn id="369" idx="2"/>
            <a:endCxn id="372" idx="0"/>
          </p:cNvCxnSpPr>
          <p:nvPr/>
        </p:nvCxnSpPr>
        <p:spPr>
          <a:xfrm flipH="1" rot="16200000">
            <a:off x="2362320" y="3031920"/>
            <a:ext cx="442080" cy="16560"/>
          </a:xfrm>
          <a:prstGeom prst="bentConnector3">
            <a:avLst>
              <a:gd name="adj1" fmla="val 4995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0" idx="2"/>
            <a:endCxn id="373" idx="0"/>
          </p:cNvCxnSpPr>
          <p:nvPr/>
        </p:nvCxnSpPr>
        <p:spPr>
          <a:xfrm flipH="1" rot="16200000">
            <a:off x="4038480" y="3031920"/>
            <a:ext cx="442080" cy="16560"/>
          </a:xfrm>
          <a:prstGeom prst="bentConnector3">
            <a:avLst>
              <a:gd name="adj1" fmla="val 4995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grpSp>
        <p:nvGrpSpPr>
          <p:cNvPr id="377" name=""/>
          <p:cNvGrpSpPr/>
          <p:nvPr/>
        </p:nvGrpSpPr>
        <p:grpSpPr>
          <a:xfrm>
            <a:off x="457200" y="4191120"/>
            <a:ext cx="4419720" cy="1676160"/>
            <a:chOff x="457200" y="4191120"/>
            <a:chExt cx="4419720" cy="1676160"/>
          </a:xfrm>
        </p:grpSpPr>
        <p:sp>
          <p:nvSpPr>
            <p:cNvPr id="378" name=""/>
            <p:cNvSpPr/>
            <p:nvPr/>
          </p:nvSpPr>
          <p:spPr>
            <a:xfrm>
              <a:off x="457200" y="4191120"/>
              <a:ext cx="4419720" cy="1676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09400" y="42670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5160" y="472428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 matriz[4][10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94640" y="5257440"/>
              <a:ext cx="1198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5105520" y="2362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colunas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257800" y="327672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úmero de colu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4" name=""/>
          <p:cNvCxnSpPr>
            <a:stCxn id="382" idx="2"/>
            <a:endCxn id="383" idx="0"/>
          </p:cNvCxnSpPr>
          <p:nvPr/>
        </p:nvCxnSpPr>
        <p:spPr>
          <a:xfrm flipV="1" rot="10800000">
            <a:off x="6019200" y="2819160"/>
            <a:ext cx="1080" cy="457920"/>
          </a:xfrm>
          <a:prstGeom prst="bentConnector2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grpSp>
        <p:nvGrpSpPr>
          <p:cNvPr id="385" name=""/>
          <p:cNvGrpSpPr/>
          <p:nvPr/>
        </p:nvGrpSpPr>
        <p:grpSpPr>
          <a:xfrm>
            <a:off x="5654520" y="4059360"/>
            <a:ext cx="3492000" cy="2117520"/>
            <a:chOff x="5654520" y="4059360"/>
            <a:chExt cx="3492000" cy="2117520"/>
          </a:xfrm>
        </p:grpSpPr>
        <p:sp>
          <p:nvSpPr>
            <p:cNvPr id="386" name=""/>
            <p:cNvSpPr/>
            <p:nvPr/>
          </p:nvSpPr>
          <p:spPr>
            <a:xfrm>
              <a:off x="6002280" y="441972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351480" y="4419720"/>
              <a:ext cx="3510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697800" y="441972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047000" y="441972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386480" y="4419720"/>
              <a:ext cx="3510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737480" y="441972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077320" y="441972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426520" y="4419720"/>
              <a:ext cx="35064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766000" y="4419720"/>
              <a:ext cx="3510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654520" y="4419720"/>
              <a:ext cx="349200" cy="37440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6006960" y="488160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357960" y="48816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702480" y="48816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051680" y="48816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391520" y="48816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742160" y="48816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82000" y="488160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431200" y="48816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771040" y="48816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659560" y="488160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006960" y="534024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357960" y="534024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702480" y="534024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051680" y="534024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91520" y="534024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42160" y="534024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82000" y="534024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431200" y="534024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771040" y="534024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659560" y="534024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12000" y="580212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362640" y="580212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707160" y="580212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056360" y="580212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396200" y="580212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746840" y="580212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086680" y="580212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435880" y="5802120"/>
              <a:ext cx="3510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777160" y="5802120"/>
              <a:ext cx="34920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64240" y="5802120"/>
              <a:ext cx="350640" cy="37476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pt-BR" sz="1600" spc="-1" strike="noStrike" baseline="-25000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182720" y="4059360"/>
              <a:ext cx="196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int a[4][10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0C48D-B319-4274-89F8-E4149801D6E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457200" y="2073240"/>
            <a:ext cx="8229600" cy="2368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ces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09480" y="2155680"/>
            <a:ext cx="7917120" cy="1187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do ve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etor[0][0], vetor[0][1], vetor[0][2], ... </a:t>
            </a:r>
            <a:br>
              <a:rPr sz="2400"/>
            </a:b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etor[linhas-1][colunas-1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3527280"/>
            <a:ext cx="5943600" cy="82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i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vetor[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linha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][</a:t>
            </a:r>
            <a:r>
              <a:rPr b="0" i="1" lang="pt-BR" sz="2400" spc="-1" strike="noStrike">
                <a:solidFill>
                  <a:srgbClr val="000000"/>
                </a:solidFill>
                <a:latin typeface="Courier New"/>
              </a:rPr>
              <a:t>coluna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] =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457200" y="4683240"/>
            <a:ext cx="8229600" cy="1806480"/>
            <a:chOff x="457200" y="4683240"/>
            <a:chExt cx="8229600" cy="1806480"/>
          </a:xfrm>
        </p:grpSpPr>
        <p:sp>
          <p:nvSpPr>
            <p:cNvPr id="434" name=""/>
            <p:cNvSpPr/>
            <p:nvPr/>
          </p:nvSpPr>
          <p:spPr>
            <a:xfrm>
              <a:off x="457200" y="4683240"/>
              <a:ext cx="8229600" cy="18064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33520" y="5099040"/>
              <a:ext cx="7916760" cy="12952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int vetor[6][10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vetor[5][1] = 3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vetor[0][2] = vetor[1][0] + vetor[2][3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23440" y="468324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7FFD54-928B-44B5-927C-CDDCF74C4F3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Matriz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ces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" y="2057400"/>
            <a:ext cx="8229600" cy="3962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536040" y="205740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2720" y="2590920"/>
            <a:ext cx="7916760" cy="3429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lin, c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 matriz[4]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lin = 0; lin &lt; 4; lin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col = 0; col &lt; 10; col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 ”, matriz[lin][col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\n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4B703-11E6-4D95-A255-44A32FA0232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0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457200" y="2743200"/>
            <a:ext cx="822960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 multidimens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etor com 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dimens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12720" y="2895480"/>
            <a:ext cx="647388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86880" y="28954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752840" y="28954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vari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437640" y="2895480"/>
            <a:ext cx="12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dim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33160" y="3778200"/>
            <a:ext cx="12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ipo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828800" y="379404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ome da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429000" y="37940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mensão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"/>
          <p:cNvCxnSpPr>
            <a:stCxn id="448" idx="2"/>
            <a:endCxn id="451" idx="0"/>
          </p:cNvCxnSpPr>
          <p:nvPr/>
        </p:nvCxnSpPr>
        <p:spPr>
          <a:xfrm flipH="1" rot="16200000">
            <a:off x="931680" y="3562920"/>
            <a:ext cx="426240" cy="5400"/>
          </a:xfrm>
          <a:prstGeom prst="bentConnector3">
            <a:avLst>
              <a:gd name="adj1" fmla="val 49957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55" name=""/>
          <p:cNvCxnSpPr>
            <a:stCxn id="449" idx="2"/>
            <a:endCxn id="452" idx="0"/>
          </p:cNvCxnSpPr>
          <p:nvPr/>
        </p:nvCxnSpPr>
        <p:spPr>
          <a:xfrm flipH="1" rot="16200000">
            <a:off x="2362320" y="3565080"/>
            <a:ext cx="442080" cy="16560"/>
          </a:xfrm>
          <a:prstGeom prst="bentConnector3">
            <a:avLst>
              <a:gd name="adj1" fmla="val 4995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0" idx="2"/>
            <a:endCxn id="453" idx="0"/>
          </p:cNvCxnSpPr>
          <p:nvPr/>
        </p:nvCxnSpPr>
        <p:spPr>
          <a:xfrm flipH="1" rot="16200000">
            <a:off x="3931200" y="3458880"/>
            <a:ext cx="442080" cy="229320"/>
          </a:xfrm>
          <a:prstGeom prst="bentConnector3">
            <a:avLst>
              <a:gd name="adj1" fmla="val 4995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57" name=""/>
          <p:cNvSpPr/>
          <p:nvPr/>
        </p:nvSpPr>
        <p:spPr>
          <a:xfrm>
            <a:off x="5257800" y="38098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mensão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59" idx="2"/>
            <a:endCxn id="457" idx="0"/>
          </p:cNvCxnSpPr>
          <p:nvPr/>
        </p:nvCxnSpPr>
        <p:spPr>
          <a:xfrm flipH="1" rot="16200000">
            <a:off x="5428440" y="3180960"/>
            <a:ext cx="457920" cy="801000"/>
          </a:xfrm>
          <a:prstGeom prst="bentConnector3">
            <a:avLst>
              <a:gd name="adj1" fmla="val 49960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459" name=""/>
          <p:cNvSpPr/>
          <p:nvPr/>
        </p:nvSpPr>
        <p:spPr>
          <a:xfrm>
            <a:off x="4656960" y="2895480"/>
            <a:ext cx="12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dim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ourier New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792400" y="28954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409440" y="2895480"/>
            <a:ext cx="1201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dim</a:t>
            </a:r>
            <a:r>
              <a:rPr b="1" lang="pt-BR" sz="24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545240" y="2895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842160" y="379584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mensã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5" name=""/>
          <p:cNvCxnSpPr>
            <a:stCxn id="461" idx="2"/>
            <a:endCxn id="464" idx="0"/>
          </p:cNvCxnSpPr>
          <p:nvPr/>
        </p:nvCxnSpPr>
        <p:spPr>
          <a:xfrm flipH="1" rot="16200000">
            <a:off x="7103520" y="3258000"/>
            <a:ext cx="443880" cy="632520"/>
          </a:xfrm>
          <a:prstGeom prst="bentConnector3">
            <a:avLst>
              <a:gd name="adj1" fmla="val 49756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A6F53-D1E4-433A-B6AB-C4F43DF5FDC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0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Vetor de caracter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(Texto)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91AB36-E692-41DC-9CD7-5020C2BFF74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7D01AC20-862C-40A8-A549-39DBE0CF1696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racteres individu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'A'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'f'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'4'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'.'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m apenas um símbolo, letra ou díg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x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ência de carac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"Algoritmos e Programação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5292720" y="2708280"/>
            <a:ext cx="2917800" cy="459720"/>
            <a:chOff x="5292720" y="2708280"/>
            <a:chExt cx="2917800" cy="459720"/>
          </a:xfrm>
        </p:grpSpPr>
        <p:sp>
          <p:nvSpPr>
            <p:cNvPr id="472" name=""/>
            <p:cNvSpPr/>
            <p:nvPr/>
          </p:nvSpPr>
          <p:spPr>
            <a:xfrm>
              <a:off x="6015240" y="2708280"/>
              <a:ext cx="21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aspas simple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292720" y="2978280"/>
              <a:ext cx="71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3851280" y="3879720"/>
            <a:ext cx="2790720" cy="1440000"/>
            <a:chOff x="3851280" y="3879720"/>
            <a:chExt cx="2790720" cy="1440000"/>
          </a:xfrm>
        </p:grpSpPr>
        <p:sp>
          <p:nvSpPr>
            <p:cNvPr id="476" name=""/>
            <p:cNvSpPr/>
            <p:nvPr/>
          </p:nvSpPr>
          <p:spPr>
            <a:xfrm>
              <a:off x="3851280" y="3879720"/>
              <a:ext cx="2066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aspas duplas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2000" y="4149720"/>
              <a:ext cx="630000" cy="11700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FC2D8-8841-4D82-AB43-306675F6CAD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ção de ve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o correto de ve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tores com tamanho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tr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tores de caracteres (tex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FA987-149C-4E24-8BB7-CAD87E21AB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457200" y="2077920"/>
            <a:ext cx="8229600" cy="216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tor de caracte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da caractere do texto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um elemento do ve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Último caractere: nulo (‘\0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manho mínimo do vetor: comprimento do texto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rmazenamen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611280" y="4869000"/>
            <a:ext cx="7916760" cy="838080"/>
            <a:chOff x="611280" y="4869000"/>
            <a:chExt cx="7916760" cy="838080"/>
          </a:xfrm>
        </p:grpSpPr>
        <p:sp>
          <p:nvSpPr>
            <p:cNvPr id="482" name=""/>
            <p:cNvSpPr/>
            <p:nvPr/>
          </p:nvSpPr>
          <p:spPr>
            <a:xfrm>
              <a:off x="611280" y="4869000"/>
              <a:ext cx="7916760" cy="838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730440" y="4962600"/>
              <a:ext cx="7574040" cy="74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425D2-F1BB-436F-8DD2-357CAD9386B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/>
          <p:nvPr/>
        </p:nvSpPr>
        <p:spPr>
          <a:xfrm>
            <a:off x="457200" y="2209680"/>
            <a:ext cx="822960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12720" y="2362320"/>
            <a:ext cx="784548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33460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400920" y="236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vari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076720" y="236232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tamanho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4572000" y="326088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anho máximo do tex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3" name=""/>
          <p:cNvCxnSpPr>
            <a:stCxn id="491" idx="2"/>
            <a:endCxn id="492" idx="0"/>
          </p:cNvCxnSpPr>
          <p:nvPr/>
        </p:nvCxnSpPr>
        <p:spPr>
          <a:xfrm rot="5400000">
            <a:off x="5676840" y="2856600"/>
            <a:ext cx="442080" cy="367560"/>
          </a:xfrm>
          <a:prstGeom prst="bentConnector3">
            <a:avLst>
              <a:gd name="adj1" fmla="val 49959"/>
            </a:avLst>
          </a:prstGeom>
          <a:ln w="28440">
            <a:solidFill>
              <a:srgbClr val="ff3300"/>
            </a:solidFill>
            <a:miter/>
            <a:tailEnd len="med" type="triangle" w="med"/>
          </a:ln>
        </p:spPr>
      </p:cxnSp>
      <p:grpSp>
        <p:nvGrpSpPr>
          <p:cNvPr id="494" name=""/>
          <p:cNvGrpSpPr/>
          <p:nvPr/>
        </p:nvGrpSpPr>
        <p:grpSpPr>
          <a:xfrm>
            <a:off x="457200" y="4419720"/>
            <a:ext cx="8229600" cy="1676160"/>
            <a:chOff x="457200" y="4419720"/>
            <a:chExt cx="8229600" cy="1676160"/>
          </a:xfrm>
        </p:grpSpPr>
        <p:sp>
          <p:nvSpPr>
            <p:cNvPr id="495" name=""/>
            <p:cNvSpPr/>
            <p:nvPr/>
          </p:nvSpPr>
          <p:spPr>
            <a:xfrm>
              <a:off x="457200" y="4419720"/>
              <a:ext cx="8229600" cy="16761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1160" y="449568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12720" y="5257800"/>
              <a:ext cx="791676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har texto[50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34DB1-F7CC-403F-9F6C-E76E5DA18BF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0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1" name=""/>
          <p:cNvGrpSpPr/>
          <p:nvPr/>
        </p:nvGrpSpPr>
        <p:grpSpPr>
          <a:xfrm>
            <a:off x="457200" y="3200400"/>
            <a:ext cx="8229600" cy="609480"/>
            <a:chOff x="457200" y="3200400"/>
            <a:chExt cx="8229600" cy="609480"/>
          </a:xfrm>
        </p:grpSpPr>
        <p:sp>
          <p:nvSpPr>
            <p:cNvPr id="502" name=""/>
            <p:cNvSpPr/>
            <p:nvPr/>
          </p:nvSpPr>
          <p:spPr>
            <a:xfrm>
              <a:off x="457200" y="3200400"/>
              <a:ext cx="8229600" cy="6094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51160" y="32767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133720" y="3276720"/>
              <a:ext cx="639576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har texto[50] = 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João da Silva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5" name=""/>
          <p:cNvGrpSpPr/>
          <p:nvPr/>
        </p:nvGrpSpPr>
        <p:grpSpPr>
          <a:xfrm>
            <a:off x="457200" y="2057400"/>
            <a:ext cx="8229600" cy="914400"/>
            <a:chOff x="457200" y="2057400"/>
            <a:chExt cx="8229600" cy="914400"/>
          </a:xfrm>
        </p:grpSpPr>
        <p:sp>
          <p:nvSpPr>
            <p:cNvPr id="506" name=""/>
            <p:cNvSpPr/>
            <p:nvPr/>
          </p:nvSpPr>
          <p:spPr>
            <a:xfrm>
              <a:off x="457200" y="2057400"/>
              <a:ext cx="8229600" cy="914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2720" y="2209680"/>
              <a:ext cx="784548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10560" y="2209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676880" y="220968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varia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53040" y="220968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[tamanho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334120" y="220968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= 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exto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57200" y="5181480"/>
            <a:ext cx="8229600" cy="609840"/>
            <a:chOff x="457200" y="5181480"/>
            <a:chExt cx="8229600" cy="609840"/>
          </a:xfrm>
        </p:grpSpPr>
        <p:sp>
          <p:nvSpPr>
            <p:cNvPr id="513" name=""/>
            <p:cNvSpPr/>
            <p:nvPr/>
          </p:nvSpPr>
          <p:spPr>
            <a:xfrm>
              <a:off x="457200" y="5181480"/>
              <a:ext cx="8229600" cy="6098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51160" y="525780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133720" y="5257800"/>
              <a:ext cx="639576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har texto[] = 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“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João da Silva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“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" y="4038480"/>
            <a:ext cx="8229600" cy="914400"/>
            <a:chOff x="457200" y="4038480"/>
            <a:chExt cx="8229600" cy="914400"/>
          </a:xfrm>
        </p:grpSpPr>
        <p:sp>
          <p:nvSpPr>
            <p:cNvPr id="517" name=""/>
            <p:cNvSpPr/>
            <p:nvPr/>
          </p:nvSpPr>
          <p:spPr>
            <a:xfrm>
              <a:off x="457200" y="4038480"/>
              <a:ext cx="8229600" cy="9144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2720" y="4191120"/>
              <a:ext cx="7845480" cy="457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0560" y="41911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ha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676880" y="4191120"/>
              <a:ext cx="1643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0000"/>
                  </a:solidFill>
                  <a:latin typeface="Courier New"/>
                </a:rPr>
                <a:t>varia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354120" y="419112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[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962520" y="419112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= 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exto</a:t>
              </a:r>
              <a:r>
                <a:rPr b="0" lang="pt-BR" sz="2400" spc="-1" strike="noStrike">
                  <a:solidFill>
                    <a:srgbClr val="000000"/>
                  </a:solidFill>
                  <a:latin typeface="Courier New"/>
                </a:rPr>
                <a:t>"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E9099-98B8-4B5B-A7D8-4BBC743CFF3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er e imprimi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" y="2057400"/>
            <a:ext cx="8229600" cy="12952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2209680"/>
            <a:ext cx="617220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texto[] = “Um texto em C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(“A variável: %s”, tex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34600" y="2133720"/>
            <a:ext cx="168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ess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57200" y="3581280"/>
            <a:ext cx="8229600" cy="2823480"/>
            <a:chOff x="457200" y="3581280"/>
            <a:chExt cx="8229600" cy="2823480"/>
          </a:xfrm>
        </p:grpSpPr>
        <p:sp>
          <p:nvSpPr>
            <p:cNvPr id="530" name=""/>
            <p:cNvSpPr/>
            <p:nvPr/>
          </p:nvSpPr>
          <p:spPr>
            <a:xfrm>
              <a:off x="457200" y="3581280"/>
              <a:ext cx="8229600" cy="12956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286000" y="3733920"/>
              <a:ext cx="6172200" cy="99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char texto[20];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printf(“Escreva uma palavra: ”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canf(“%s”, texto);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35680" y="36576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eitur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143720" y="5257800"/>
              <a:ext cx="90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OBS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122920" y="5213520"/>
              <a:ext cx="4994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eitura por palav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Não usa 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uidado com tamanho da variá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48B91B-C711-4965-AA70-5F46A2F76BC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" y="2057400"/>
            <a:ext cx="8229600" cy="1600200"/>
          </a:xfrm>
          <a:prstGeom prst="rect">
            <a:avLst/>
          </a:prstGeom>
          <a:solidFill>
            <a:srgbClr val="ffcccc"/>
          </a:solidFill>
          <a:ln w="12600">
            <a:solidFill>
              <a:srgbClr val="cc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tribuir à uma variável tipo tex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12720" y="2209680"/>
            <a:ext cx="7997760" cy="12193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cc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texto[100]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texto = “João da Silva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457200" y="3809880"/>
            <a:ext cx="8229600" cy="2438280"/>
            <a:chOff x="457200" y="3809880"/>
            <a:chExt cx="8229600" cy="2438280"/>
          </a:xfrm>
        </p:grpSpPr>
        <p:sp>
          <p:nvSpPr>
            <p:cNvPr id="541" name=""/>
            <p:cNvSpPr/>
            <p:nvPr/>
          </p:nvSpPr>
          <p:spPr>
            <a:xfrm>
              <a:off x="457200" y="3809880"/>
              <a:ext cx="8229600" cy="24382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2720" y="4343400"/>
              <a:ext cx="7916760" cy="18288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#include &lt;string.h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trcpy(texto, “João da Silva”);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34960" y="3886200"/>
              <a:ext cx="128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orre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4" name=""/>
          <p:cNvSpPr/>
          <p:nvPr/>
        </p:nvSpPr>
        <p:spPr>
          <a:xfrm>
            <a:off x="535320" y="2057400"/>
            <a:ext cx="118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r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27798-09EC-4E31-B7EB-54682194F05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ex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cessar caracter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457200" y="5519880"/>
            <a:ext cx="8229600" cy="609480"/>
            <a:chOff x="457200" y="5519880"/>
            <a:chExt cx="8229600" cy="609480"/>
          </a:xfrm>
        </p:grpSpPr>
        <p:sp>
          <p:nvSpPr>
            <p:cNvPr id="549" name=""/>
            <p:cNvSpPr/>
            <p:nvPr/>
          </p:nvSpPr>
          <p:spPr>
            <a:xfrm>
              <a:off x="457200" y="5519880"/>
              <a:ext cx="8229600" cy="6094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09480" y="5595840"/>
              <a:ext cx="79200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Um texto em 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457200" y="2057400"/>
            <a:ext cx="822960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33520" y="2209680"/>
            <a:ext cx="7924680" cy="1447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har texto[20] = “Um texto em C”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exto[12] = ‘B’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s”, text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12720" y="4121280"/>
            <a:ext cx="7916760" cy="838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31880" y="4214880"/>
            <a:ext cx="7574040" cy="744480"/>
          </a:xfrm>
          <a:prstGeom prst="rect">
            <a:avLst/>
          </a:prstGeom>
          <a:ln w="0">
            <a:noFill/>
          </a:ln>
        </p:spPr>
      </p:pic>
      <p:sp>
        <p:nvSpPr>
          <p:cNvPr id="55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6AAC48-2491-4464-B19D-598EC7DA7EC2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34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tistic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calcula média e desvio padrão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ind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testa palindromos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mos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pegar primos, método da peneira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trings1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teste com cadeias e funções sobre cadeias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ca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concatena cadeias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grama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testa anagramas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omaMat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soma de matrizes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dradMag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[testa quadrado mágico]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86D902-0E0D-49AC-B1A9-6C5E14A21343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1924FED-B361-49E9-874E-7900840BC335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 do Capítul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E8455F-7AE2-4D51-9130-E29D6999B3C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43926AC-B4DA-420E-838F-D2FF94FFD009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31280" y="1988640"/>
            <a:ext cx="8371080" cy="396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a linguagem C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s inteiros: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long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unsigne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s fracionários: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floa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doubl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acteres: 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 programad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tores, estruturas, enumeraçõe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ôni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de D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DBD76-630C-47FE-B539-892EAAADA7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 e Us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D3D5BF-25F4-4045-8001-E10E8324A2B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F4AFB04-38B4-4AC4-BC0C-3902626813DB}" type="datetime8">
              <a:rPr lang="en-US"/>
              <a:t>07/28/26 06: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6840" y="2133720"/>
            <a:ext cx="701028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qüência de val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os do mesmo t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me único para a variá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cesso por índ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amanho fi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umeração de 0 até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tamanh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Veto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7634520" y="1538280"/>
            <a:ext cx="1079280" cy="4640400"/>
            <a:chOff x="7634520" y="1538280"/>
            <a:chExt cx="1079280" cy="4640400"/>
          </a:xfrm>
        </p:grpSpPr>
        <p:sp>
          <p:nvSpPr>
            <p:cNvPr id="112" name=""/>
            <p:cNvSpPr/>
            <p:nvPr/>
          </p:nvSpPr>
          <p:spPr>
            <a:xfrm>
              <a:off x="7696080" y="2330280"/>
              <a:ext cx="1017720" cy="438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96080" y="274464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96080" y="3182760"/>
              <a:ext cx="1017720" cy="438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696080" y="361008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96080" y="403560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96080" y="446256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96080" y="488808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96080" y="531504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696080" y="574056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696080" y="190512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634520" y="153828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t v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C2213-EE55-40D4-85A8-629F2C0977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2209680"/>
            <a:ext cx="6781680" cy="1828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de vet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12720" y="2362320"/>
            <a:ext cx="647388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53560" y="23623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19880" y="23623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varia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573800" y="236232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[tamanho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860400" y="2819160"/>
            <a:ext cx="1963800" cy="1129320"/>
            <a:chOff x="860400" y="2819160"/>
            <a:chExt cx="1963800" cy="1129320"/>
          </a:xfrm>
        </p:grpSpPr>
        <p:sp>
          <p:nvSpPr>
            <p:cNvPr id="132" name=""/>
            <p:cNvSpPr/>
            <p:nvPr/>
          </p:nvSpPr>
          <p:spPr>
            <a:xfrm>
              <a:off x="860400" y="3244680"/>
              <a:ext cx="1963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Qualquer tip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a linguagem 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3" name=""/>
            <p:cNvCxnSpPr>
              <a:stCxn id="128" idx="2"/>
              <a:endCxn id="132" idx="0"/>
            </p:cNvCxnSpPr>
            <p:nvPr/>
          </p:nvCxnSpPr>
          <p:spPr>
            <a:xfrm rot="5400000">
              <a:off x="1813320" y="2848680"/>
              <a:ext cx="425880" cy="3672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4" name=""/>
          <p:cNvGrpSpPr/>
          <p:nvPr/>
        </p:nvGrpSpPr>
        <p:grpSpPr>
          <a:xfrm>
            <a:off x="3276720" y="2819520"/>
            <a:ext cx="1822320" cy="1145160"/>
            <a:chOff x="3276720" y="2819520"/>
            <a:chExt cx="1822320" cy="1145160"/>
          </a:xfrm>
        </p:grpSpPr>
        <p:sp>
          <p:nvSpPr>
            <p:cNvPr id="135" name=""/>
            <p:cNvSpPr/>
            <p:nvPr/>
          </p:nvSpPr>
          <p:spPr>
            <a:xfrm>
              <a:off x="3276720" y="3260880"/>
              <a:ext cx="18223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ome da variáv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>
              <a:stCxn id="129" idx="2"/>
              <a:endCxn id="135" idx="0"/>
            </p:cNvCxnSpPr>
            <p:nvPr/>
          </p:nvCxnSpPr>
          <p:spPr>
            <a:xfrm flipH="1" rot="16200000">
              <a:off x="3692880" y="2766960"/>
              <a:ext cx="442080" cy="54648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grpSp>
        <p:nvGrpSpPr>
          <p:cNvPr id="137" name=""/>
          <p:cNvGrpSpPr/>
          <p:nvPr/>
        </p:nvGrpSpPr>
        <p:grpSpPr>
          <a:xfrm>
            <a:off x="5181480" y="2819520"/>
            <a:ext cx="2079720" cy="1145160"/>
            <a:chOff x="5181480" y="2819520"/>
            <a:chExt cx="2079720" cy="1145160"/>
          </a:xfrm>
        </p:grpSpPr>
        <p:sp>
          <p:nvSpPr>
            <p:cNvPr id="138" name=""/>
            <p:cNvSpPr/>
            <p:nvPr/>
          </p:nvSpPr>
          <p:spPr>
            <a:xfrm>
              <a:off x="5181480" y="3260880"/>
              <a:ext cx="2079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Número de element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9" name=""/>
            <p:cNvCxnSpPr>
              <a:stCxn id="130" idx="2"/>
              <a:endCxn id="138" idx="0"/>
            </p:cNvCxnSpPr>
            <p:nvPr/>
          </p:nvCxnSpPr>
          <p:spPr>
            <a:xfrm flipH="1" rot="16200000">
              <a:off x="5634000" y="2673000"/>
              <a:ext cx="442080" cy="734400"/>
            </a:xfrm>
            <a:prstGeom prst="bentConnector3">
              <a:avLst>
                <a:gd name="adj1" fmla="val 49959"/>
              </a:avLst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</p:cxnSp>
      </p:grpSp>
      <p:sp>
        <p:nvSpPr>
          <p:cNvPr id="140" name=""/>
          <p:cNvSpPr/>
          <p:nvPr/>
        </p:nvSpPr>
        <p:spPr>
          <a:xfrm>
            <a:off x="492120" y="4341960"/>
            <a:ext cx="6781680" cy="1676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570960" y="4417920"/>
            <a:ext cx="2890440" cy="916920"/>
            <a:chOff x="570960" y="4417920"/>
            <a:chExt cx="2890440" cy="916920"/>
          </a:xfrm>
        </p:grpSpPr>
        <p:sp>
          <p:nvSpPr>
            <p:cNvPr id="142" name=""/>
            <p:cNvSpPr/>
            <p:nvPr/>
          </p:nvSpPr>
          <p:spPr>
            <a:xfrm>
              <a:off x="570960" y="44179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20360" y="4875120"/>
              <a:ext cx="2741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 vetor[10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701640" y="540864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ouble medidas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7634520" y="1538280"/>
            <a:ext cx="1079280" cy="4640400"/>
            <a:chOff x="7634520" y="1538280"/>
            <a:chExt cx="1079280" cy="4640400"/>
          </a:xfrm>
        </p:grpSpPr>
        <p:sp>
          <p:nvSpPr>
            <p:cNvPr id="146" name=""/>
            <p:cNvSpPr/>
            <p:nvPr/>
          </p:nvSpPr>
          <p:spPr>
            <a:xfrm>
              <a:off x="7696080" y="2330280"/>
              <a:ext cx="1017720" cy="438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96080" y="274464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696080" y="3182760"/>
              <a:ext cx="1017720" cy="438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696080" y="361008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696080" y="403560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96080" y="446256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696080" y="488808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96080" y="531504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696080" y="574056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696080" y="190512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34520" y="153828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t v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E5F61-9704-471C-8497-ABD639F204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2133720"/>
            <a:ext cx="6781680" cy="16761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lementos com índi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3520" y="21337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mentos do vet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tor[0], vetor[1], vetor[2]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57200" y="3962520"/>
            <a:ext cx="6781680" cy="2057400"/>
            <a:chOff x="457200" y="3962520"/>
            <a:chExt cx="6781680" cy="2057400"/>
          </a:xfrm>
        </p:grpSpPr>
        <p:sp>
          <p:nvSpPr>
            <p:cNvPr id="163" name=""/>
            <p:cNvSpPr/>
            <p:nvPr/>
          </p:nvSpPr>
          <p:spPr>
            <a:xfrm>
              <a:off x="457200" y="3962520"/>
              <a:ext cx="6781680" cy="2057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36040" y="396252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Exempl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33520" y="4343400"/>
              <a:ext cx="662940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 vetor[10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vetor[5] = 3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vetor[0] = vetor[1] + vetor[2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33520" y="29113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ibuiçã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etor[indice] = valor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634520" y="1538280"/>
            <a:ext cx="1079280" cy="4640400"/>
            <a:chOff x="7634520" y="1538280"/>
            <a:chExt cx="1079280" cy="4640400"/>
          </a:xfrm>
        </p:grpSpPr>
        <p:sp>
          <p:nvSpPr>
            <p:cNvPr id="168" name=""/>
            <p:cNvSpPr/>
            <p:nvPr/>
          </p:nvSpPr>
          <p:spPr>
            <a:xfrm>
              <a:off x="7696080" y="2330280"/>
              <a:ext cx="1017720" cy="438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96080" y="274464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696080" y="3182760"/>
              <a:ext cx="1017720" cy="4384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96080" y="361008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696080" y="403560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6080" y="446256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696080" y="488808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696080" y="531504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96080" y="574056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696080" y="1905120"/>
              <a:ext cx="1017720" cy="4381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36000" bIns="360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pt-BR" sz="18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pt-BR" sz="1800" spc="-1" strike="noStrike" baseline="-25000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(i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634520" y="1538280"/>
              <a:ext cx="105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"/>
                </a:rPr>
                <a:t>int v[10]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F5B4A-E32A-4EC6-B48E-79C7093681A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ces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2057400"/>
            <a:ext cx="8229600" cy="39625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2720" y="2168640"/>
            <a:ext cx="7916760" cy="3851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vetor[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10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 (indice = 0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ice &lt;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100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ice++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%d, ”, vetor[indice]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665AA-D599-47E5-A7D2-9D1CE7B3FF6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arnaldo</cp:lastModifiedBy>
  <dcterms:modified xsi:type="dcterms:W3CDTF">2007-03-24T20:50:44Z</dcterms:modified>
  <cp:revision>120</cp:revision>
  <dc:subject/>
  <dc:title>Curso de C</dc:title>
</cp:coreProperties>
</file>