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pt-BR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149B29-C99D-4D53-BB5B-D35B3E604CCE}" type="slidenum">
              <a:rPr b="0" lang="pt-BR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erá que existem nomes melhores que entrada e saída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perações matemáticas ou aritmétic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pós compilar o programa, deve realizar uma série de testes para obter confiança suficiente quanto a funcionalidade correta do programa executável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e, por algum motivo, o programa gerar resultados imprevistos ou incorretos, existem duas possíveis falha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rro no programa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rro na lógica do algorit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este caso, o programador precisa utilizar seu conhecimento para identificar o local da falha e corrigi-la. O programa C precisa ser novamente compilad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elhor não juntar os passos 2 e 3 do algoritmo para evitar um item muito gran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Qual a melhor palavra para não ambíguo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5FE9-24DA-4196-A4E3-4199F3F73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3E3-07D6-4B24-9D98-2706A057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07756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419220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D49A-8186-4FE5-8B84-DD514862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264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2077560"/>
            <a:ext cx="264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2077560"/>
            <a:ext cx="264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4192200"/>
            <a:ext cx="264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4192200"/>
            <a:ext cx="264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33DF2-FF82-43B2-9AB6-803F4337A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B1EE-BD83-4F48-852B-A5A34A31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3E7D5-45D6-4C3F-8650-9C7E2F1A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80A1-3DE5-43E6-AF57-A044D5142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4015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077560"/>
            <a:ext cx="4015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C44C8-FE1F-4409-9687-C04A98AE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8FF7-2DE7-4E51-9DA6-388E76A89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700000" y="404640"/>
            <a:ext cx="598644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B6384-7437-45A3-9F86-6E70588DC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077560"/>
            <a:ext cx="4015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D31F-4559-40FB-83D0-466687FAC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27A6-ADEF-4E3D-B650-7D3C9204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4015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207756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4240" y="419220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9326-BEEC-443A-A950-DD156469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07756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F9CB-F2E9-4599-986C-83697059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57200" y="4192200"/>
            <a:ext cx="822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61A0-B46E-42BB-B1FC-7CE73FF8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07756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4240" y="419220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0425-55F9-4F6E-872B-EE085B3B9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264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39640" y="2077560"/>
            <a:ext cx="264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22080" y="2077560"/>
            <a:ext cx="264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57200" y="4192200"/>
            <a:ext cx="264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39640" y="4192200"/>
            <a:ext cx="264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22080" y="4192200"/>
            <a:ext cx="264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40EBB-9E39-4103-AE59-76F21797E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05C2-CC90-4E7F-ADDB-B507DCC24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4015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2077560"/>
            <a:ext cx="4015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6F25-71B0-421F-827D-4FF2B6D46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E2C1-9E67-4510-B18C-0A2F03EE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700000" y="404640"/>
            <a:ext cx="598644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8149-9BE6-408E-A616-97226AB0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077560"/>
            <a:ext cx="4015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70DC-3CC2-465D-925A-B080AE26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4015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07756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419220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EB59-A910-4FAF-A728-FD60D922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077560"/>
            <a:ext cx="40158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92200"/>
            <a:ext cx="8229600" cy="19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0648-1BAB-4246-AAAE-DDFBAC16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5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B3A3A-7EC9-4F8A-BE8A-AA6500DB3772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BDB975A7-E6F2-4B07-B155-A78C0BE678DD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6:5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BA4D-DFA0-40A2-B8D2-2FA7F7F45953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908000" y="-33480"/>
            <a:ext cx="71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urso C - IC/UNIC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43164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12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871236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14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7A3E2-FF1F-4EAB-B293-33EE96AEEBE1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03241DC4-D73E-47E9-93E9-5026E2F784DD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6:59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5C8E-8BE0-4B03-966A-6D16325BE2F2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urso de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4749-B036-4AE2-B405-66A1A7D81E8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5925C0C4-5698-4C8D-913C-52EC42047354}" type="datetime8">
              <a:rPr lang="en-US"/>
              <a:t>07/28/26 06:59</a:t>
            </a:fld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447920" y="2209680"/>
            <a:ext cx="6172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Linguagem de Program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819520"/>
            <a:ext cx="6172200" cy="3352320"/>
          </a:xfrm>
          <a:prstGeom prst="rect">
            <a:avLst/>
          </a:prstGeom>
          <a:solidFill>
            <a:srgbClr val="ffffcc"/>
          </a:solidFill>
          <a:ln w="9360">
            <a:solidFill>
              <a:srgbClr val="99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a, b, 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scanf(“%d %d”, &amp;a, &amp;b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r = a %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if (r == 0) 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 = 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b = r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intf(“O MDC é %d”, 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return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0880" y="2514600"/>
            <a:ext cx="990720" cy="306360"/>
          </a:xfrm>
          <a:prstGeom prst="borderCallout2">
            <a:avLst>
              <a:gd name="adj1" fmla="val 18750"/>
              <a:gd name="adj2" fmla="val -8333"/>
              <a:gd name="adj3" fmla="val 37305"/>
              <a:gd name="adj4" fmla="val 116986"/>
              <a:gd name="adj5" fmla="val 100000"/>
              <a:gd name="adj6" fmla="val 126763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í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3352680"/>
            <a:ext cx="990720" cy="306360"/>
          </a:xfrm>
          <a:prstGeom prst="borderCallout2">
            <a:avLst>
              <a:gd name="adj1" fmla="val 18750"/>
              <a:gd name="adj2" fmla="val -8333"/>
              <a:gd name="adj3" fmla="val 37305"/>
              <a:gd name="adj4" fmla="val 127884"/>
              <a:gd name="adj5" fmla="val 27462"/>
              <a:gd name="adj6" fmla="val 14903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880" y="5334120"/>
            <a:ext cx="990720" cy="306360"/>
          </a:xfrm>
          <a:prstGeom prst="borderCallout2">
            <a:avLst>
              <a:gd name="adj1" fmla="val 18750"/>
              <a:gd name="adj2" fmla="val -8333"/>
              <a:gd name="adj3" fmla="val 37305"/>
              <a:gd name="adj4" fmla="val 127245"/>
              <a:gd name="adj5" fmla="val 70986"/>
              <a:gd name="adj6" fmla="val 14759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í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5715000"/>
            <a:ext cx="990720" cy="306360"/>
          </a:xfrm>
          <a:prstGeom prst="borderCallout2">
            <a:avLst>
              <a:gd name="adj1" fmla="val 18750"/>
              <a:gd name="adj2" fmla="val -8333"/>
              <a:gd name="adj3" fmla="val 37305"/>
              <a:gd name="adj4" fmla="val 127245"/>
              <a:gd name="adj5" fmla="val 70986"/>
              <a:gd name="adj6" fmla="val 14759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4038480"/>
            <a:ext cx="220968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24569"/>
              <a:gd name="adj5" fmla="val -2606"/>
              <a:gd name="adj6" fmla="val -13843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ímbolos específ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e opera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19920" y="3352680"/>
            <a:ext cx="2209680" cy="304920"/>
          </a:xfrm>
          <a:prstGeom prst="borderCallout2">
            <a:avLst>
              <a:gd name="adj1" fmla="val 18750"/>
              <a:gd name="adj2" fmla="val -8333"/>
              <a:gd name="adj3" fmla="val 37500"/>
              <a:gd name="adj4" fmla="val -167671"/>
              <a:gd name="adj5" fmla="val 85939"/>
              <a:gd name="adj6" fmla="val -18649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alavra ch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43600" y="4876920"/>
            <a:ext cx="220968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25717"/>
              <a:gd name="adj5" fmla="val 19273"/>
              <a:gd name="adj6" fmla="val -139726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Regra: ponto-e-virgula após cada opera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empl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alcular o máximo divisor com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BCB0-6D7A-4ECF-9EDF-73EC650F0B08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38489-AECF-404B-BFF0-91DD45D4761B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4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5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5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6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6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6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7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7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28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"/>
                            </p:stCondLst>
                            <p:childTnLst>
                              <p:par>
                                <p:cTn id="284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8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8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8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9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0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0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0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0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1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1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1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31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 Comput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2077560"/>
            <a:ext cx="44370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aliza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processament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obre dados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armazena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no comput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ta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operações matemátic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lógic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sobre d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cebe dados do meio externo (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entra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senta os resultados para o meio externo (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saí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105520" y="2057400"/>
            <a:ext cx="3809880" cy="1676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257800" y="2209680"/>
            <a:ext cx="3505320" cy="6098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mazen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257800" y="2971800"/>
            <a:ext cx="350532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cessam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324480" y="373392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67480" y="373392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257800" y="396252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903440" y="396252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í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410080" y="4572000"/>
            <a:ext cx="1905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eclado,</a:t>
            </a: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 mouse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, rede, </a:t>
            </a: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scanner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webcam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, câmera digital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43800" y="4572000"/>
            <a:ext cx="160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Monitor, impressora, caixa de s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391520" y="220968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memória, fitas, discos, C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ncei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4CB1-8444-4D3F-A26A-BCA628C6D12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5D600-163D-4B86-8E0A-CFFEF5E0D61F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7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 Comput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2077560"/>
            <a:ext cx="4437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m primitivas operações sobre d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m formato digital próprio (código de máqui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105520" y="2057400"/>
            <a:ext cx="3809880" cy="1676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3733920"/>
            <a:ext cx="457200" cy="761760"/>
          </a:xfrm>
          <a:prstGeom prst="upArrow">
            <a:avLst>
              <a:gd name="adj1" fmla="val 50000"/>
              <a:gd name="adj2" fmla="val 41654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750080" y="3733920"/>
            <a:ext cx="457200" cy="761760"/>
          </a:xfrm>
          <a:prstGeom prst="downArrow">
            <a:avLst>
              <a:gd name="adj1" fmla="val 50000"/>
              <a:gd name="adj2" fmla="val 41654"/>
            </a:avLst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4495680"/>
            <a:ext cx="113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598520" y="4495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í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257800" y="2209680"/>
            <a:ext cx="3429000" cy="60984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2971800"/>
            <a:ext cx="3429000" cy="6094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257800" y="2209680"/>
            <a:ext cx="175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rmazen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257800" y="3276720"/>
            <a:ext cx="15238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rocess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25146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d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620120" y="25146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result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086600" y="3244680"/>
            <a:ext cx="121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instruçõ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2700000">
            <a:off x="6248520" y="2819520"/>
            <a:ext cx="838080" cy="380880"/>
          </a:xfrm>
          <a:custGeom>
            <a:avLst/>
            <a:gdLst>
              <a:gd name="textAreaLeft" fmla="*/ 130680 w 838080"/>
              <a:gd name="textAreaRight" fmla="*/ 733320 w 8380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rot="18900000">
            <a:off x="6934320" y="2819160"/>
            <a:ext cx="838080" cy="380880"/>
          </a:xfrm>
          <a:custGeom>
            <a:avLst/>
            <a:gdLst>
              <a:gd name="textAreaLeft" fmla="*/ 130680 w 838080"/>
              <a:gd name="textAreaRight" fmla="*/ 733320 w 8380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71640" y="5084640"/>
            <a:ext cx="7473960" cy="947160"/>
          </a:xfrm>
          <a:prstGeom prst="rect">
            <a:avLst/>
          </a:prstGeom>
          <a:solidFill>
            <a:srgbClr val="ffffcc"/>
          </a:solidFill>
          <a:ln w="9360">
            <a:solidFill>
              <a:srgbClr val="99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computador é uma máquina </a:t>
            </a: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rápida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e </a:t>
            </a: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eficiente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 para </a:t>
            </a:r>
            <a:r>
              <a:rPr b="0" lang="pt-BR" sz="2800" spc="-1" strike="noStrike">
                <a:solidFill>
                  <a:srgbClr val="ff0000"/>
                </a:solidFill>
                <a:latin typeface="Times New Roman"/>
              </a:rPr>
              <a:t>simular algoritmos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nstruções de Máquina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662E-BB21-4898-8F20-B4EC6E7F529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9640D7-BD19-4BEE-82AB-E2FBB2596742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 Computad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2104920"/>
            <a:ext cx="6172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Instruções de Máqu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057400" y="2714760"/>
            <a:ext cx="6172200" cy="3395880"/>
          </a:xfrm>
          <a:prstGeom prst="rect">
            <a:avLst/>
          </a:prstGeom>
          <a:solidFill>
            <a:srgbClr val="ffffcc"/>
          </a:solidFill>
          <a:ln w="9360">
            <a:solidFill>
              <a:srgbClr val="99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  a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IN  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ivisa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MOV dx,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DIV 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CMP dx,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JE  f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MOV ax, 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MOV bx, d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JMP divisa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fi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OUT b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pt-BR" sz="1400" spc="-1" strike="noStrike">
                <a:solidFill>
                  <a:srgbClr val="000000"/>
                </a:solidFill>
                <a:latin typeface="Courier New"/>
              </a:rPr>
              <a:t>H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2486160"/>
            <a:ext cx="990360" cy="306360"/>
          </a:xfrm>
          <a:prstGeom prst="borderCallout2">
            <a:avLst>
              <a:gd name="adj1" fmla="val 18750"/>
              <a:gd name="adj2" fmla="val -8333"/>
              <a:gd name="adj3" fmla="val 37305"/>
              <a:gd name="adj4" fmla="val 116986"/>
              <a:gd name="adj5" fmla="val 83939"/>
              <a:gd name="adj6" fmla="val 126763"/>
            </a:avLst>
          </a:prstGeom>
          <a:noFill/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í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990720" y="2943360"/>
            <a:ext cx="990360" cy="306360"/>
          </a:xfrm>
          <a:prstGeom prst="borderCallout2">
            <a:avLst>
              <a:gd name="adj1" fmla="val 18750"/>
              <a:gd name="adj2" fmla="val -8333"/>
              <a:gd name="adj3" fmla="val 37305"/>
              <a:gd name="adj4" fmla="val 116666"/>
              <a:gd name="adj5" fmla="val -20726"/>
              <a:gd name="adj6" fmla="val 134134"/>
            </a:avLst>
          </a:prstGeom>
          <a:noFill/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990720" y="5380200"/>
            <a:ext cx="990360" cy="306360"/>
          </a:xfrm>
          <a:prstGeom prst="borderCallout2">
            <a:avLst>
              <a:gd name="adj1" fmla="val 18750"/>
              <a:gd name="adj2" fmla="val -8333"/>
              <a:gd name="adj3" fmla="val 37305"/>
              <a:gd name="adj4" fmla="val 120671"/>
              <a:gd name="adj5" fmla="val 70986"/>
              <a:gd name="adj6" fmla="val 134296"/>
            </a:avLst>
          </a:prstGeom>
          <a:noFill/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í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990720" y="5761080"/>
            <a:ext cx="990360" cy="306360"/>
          </a:xfrm>
          <a:prstGeom prst="borderCallout2">
            <a:avLst>
              <a:gd name="adj1" fmla="val 18750"/>
              <a:gd name="adj2" fmla="val -8333"/>
              <a:gd name="adj3" fmla="val 37305"/>
              <a:gd name="adj4" fmla="val 120671"/>
              <a:gd name="adj5" fmla="val 47148"/>
              <a:gd name="adj6" fmla="val 134134"/>
            </a:avLst>
          </a:prstGeom>
          <a:noFill/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990720" y="3933720"/>
            <a:ext cx="990360" cy="306360"/>
          </a:xfrm>
          <a:prstGeom prst="borderCallout2">
            <a:avLst>
              <a:gd name="adj1" fmla="val 18750"/>
              <a:gd name="adj2" fmla="val -8333"/>
              <a:gd name="adj3" fmla="val 37305"/>
              <a:gd name="adj4" fmla="val 113620"/>
              <a:gd name="adj5" fmla="val 68393"/>
              <a:gd name="adj6" fmla="val 130930"/>
            </a:avLst>
          </a:prstGeom>
          <a:noFill/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Condi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90720" y="4924440"/>
            <a:ext cx="990360" cy="306360"/>
          </a:xfrm>
          <a:prstGeom prst="borderCallout2">
            <a:avLst>
              <a:gd name="adj1" fmla="val 18750"/>
              <a:gd name="adj2" fmla="val -8333"/>
              <a:gd name="adj3" fmla="val 37305"/>
              <a:gd name="adj4" fmla="val 114421"/>
              <a:gd name="adj5" fmla="val 56476"/>
              <a:gd name="adj6" fmla="val 133814"/>
            </a:avLst>
          </a:prstGeom>
          <a:noFill/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003640" y="3284640"/>
            <a:ext cx="289584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20560"/>
              <a:gd name="adj5" fmla="val 48175"/>
              <a:gd name="adj6" fmla="val -55481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etalhes do computador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Controle de circuito eletrô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4162320"/>
            <a:ext cx="19810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escrição detalh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62720" y="4695840"/>
            <a:ext cx="198108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Representação pouco intuiti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Calcular o máximo divisor com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0F21-A83F-4915-A2C6-D8DDDCE23C86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EA24A-6F70-49F2-BDB2-ECCB421B507C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8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9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9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9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3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9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0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0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0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1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2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2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2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2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2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3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3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3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3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4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4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43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4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4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4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5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4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Níveis de Abst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45180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tuguê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ácil, intui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utador não ente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mbíguo, mal defi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nguagem de Máqui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lexo e trabalho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Única forma aceita pelo compu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ciso, bem defin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volve detalhes específicos do computador, irrelevantes para o algorit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4800600" y="2666880"/>
            <a:ext cx="3962520" cy="2822040"/>
            <a:chOff x="4800600" y="2666880"/>
            <a:chExt cx="3962520" cy="2822040"/>
          </a:xfrm>
        </p:grpSpPr>
        <p:sp>
          <p:nvSpPr>
            <p:cNvPr id="206" name=""/>
            <p:cNvSpPr/>
            <p:nvPr/>
          </p:nvSpPr>
          <p:spPr>
            <a:xfrm>
              <a:off x="5105520" y="28195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Portuguê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105520" y="35812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Ling. Program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331240" y="431784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Instrução Computad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05520" y="50292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Linguagem de Máqu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00600" y="2666880"/>
              <a:ext cx="533520" cy="2743200"/>
            </a:xfrm>
            <a:prstGeom prst="downArrow">
              <a:avLst>
                <a:gd name="adj1" fmla="val 53574"/>
                <a:gd name="adj2" fmla="val 5951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rot="16200000">
              <a:off x="4385160" y="3847320"/>
              <a:ext cx="132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complexi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8229600" y="2743200"/>
              <a:ext cx="533520" cy="2743200"/>
            </a:xfrm>
            <a:prstGeom prst="downArrow">
              <a:avLst>
                <a:gd name="adj1" fmla="val 53574"/>
                <a:gd name="adj2" fmla="val 5951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rot="5400000">
              <a:off x="8044200" y="3965760"/>
              <a:ext cx="9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abstr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ois casos extrem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F564-E619-4477-9882-F2BB8D7A2C3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69766-7F84-42F7-B338-5B12A9DBBF9F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Níveis de Abst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6840" y="2077920"/>
            <a:ext cx="4599000" cy="17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crição precisa do algorit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dependente do compu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ível de complexidade intermediário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4800600" y="2666880"/>
            <a:ext cx="3962520" cy="2822040"/>
            <a:chOff x="4800600" y="2666880"/>
            <a:chExt cx="3962520" cy="2822040"/>
          </a:xfrm>
        </p:grpSpPr>
        <p:sp>
          <p:nvSpPr>
            <p:cNvPr id="219" name=""/>
            <p:cNvSpPr/>
            <p:nvPr/>
          </p:nvSpPr>
          <p:spPr>
            <a:xfrm>
              <a:off x="5105520" y="281952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Portuguê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105520" y="358128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Times New Roman"/>
                </a:rPr>
                <a:t>Ling. Program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331240" y="4317840"/>
              <a:ext cx="291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Instrução Computado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105520" y="5029200"/>
              <a:ext cx="342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Linguagem de Máquin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800600" y="2666880"/>
              <a:ext cx="533520" cy="2743200"/>
            </a:xfrm>
            <a:prstGeom prst="downArrow">
              <a:avLst>
                <a:gd name="adj1" fmla="val 53574"/>
                <a:gd name="adj2" fmla="val 5951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16200000">
              <a:off x="4385160" y="3847320"/>
              <a:ext cx="132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complexida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8229600" y="2743200"/>
              <a:ext cx="533520" cy="2743200"/>
            </a:xfrm>
            <a:prstGeom prst="downArrow">
              <a:avLst>
                <a:gd name="adj1" fmla="val 53574"/>
                <a:gd name="adj2" fmla="val 59510"/>
              </a:avLst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5400000">
              <a:off x="8044200" y="3965760"/>
              <a:ext cx="947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Times New Roman"/>
                </a:rPr>
                <a:t>abstraçã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187280" y="465300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332000" y="5516640"/>
            <a:ext cx="43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Linguagem de program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4221000"/>
            <a:ext cx="787680" cy="3240"/>
          </a:xfrm>
          <a:custGeom>
            <a:avLst/>
            <a:gdLst/>
            <a:ahLst/>
            <a:rect l="l" t="t" r="r" b="b"/>
            <a:pathLst>
              <a:path w="496" h="2">
                <a:moveTo>
                  <a:pt x="0" y="0"/>
                </a:moveTo>
                <a:lnTo>
                  <a:pt x="496" y="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-42480" bIns="-4248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589720"/>
            <a:ext cx="647640" cy="288720"/>
          </a:xfrm>
          <a:custGeom>
            <a:avLst/>
            <a:gdLst>
              <a:gd name="textAreaLeft" fmla="*/ 101160 w 647640"/>
              <a:gd name="textAreaRight" fmla="*/ 567000 w 647640"/>
              <a:gd name="textAreaTop" fmla="*/ 72000 h 288720"/>
              <a:gd name="textAreaBottom" fmla="*/ 216720 h 288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500-E675-4A2C-BB8F-004E31077DD0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8F55B-2B81-4036-B4B2-1102E12C11DC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0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strução do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sso 1: Elaborar um algorit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sso 2: Reescrever o algoritmo em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sso 3: Acionar o compil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380880" y="4191120"/>
            <a:ext cx="8382240" cy="1046520"/>
            <a:chOff x="380880" y="4191120"/>
            <a:chExt cx="8382240" cy="1046520"/>
          </a:xfrm>
        </p:grpSpPr>
        <p:sp>
          <p:nvSpPr>
            <p:cNvPr id="236" name=""/>
            <p:cNvSpPr/>
            <p:nvPr/>
          </p:nvSpPr>
          <p:spPr>
            <a:xfrm>
              <a:off x="5623200" y="483876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Compil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40120" y="4838760"/>
              <a:ext cx="1514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Times New Roman"/>
                </a:rPr>
                <a:t>Program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80880" y="4191120"/>
              <a:ext cx="1524240" cy="914400"/>
            </a:xfrm>
            <a:prstGeom prst="foldedCorner">
              <a:avLst>
                <a:gd name="adj" fmla="val 125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Algorit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809880" y="4191120"/>
              <a:ext cx="1524240" cy="914400"/>
            </a:xfrm>
            <a:prstGeom prst="foldedCorner">
              <a:avLst>
                <a:gd name="adj" fmla="val 125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Progra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238880" y="4191120"/>
              <a:ext cx="1524240" cy="914400"/>
            </a:xfrm>
            <a:prstGeom prst="foldedCorner">
              <a:avLst>
                <a:gd name="adj" fmla="val 12500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Progra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Executá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34120" y="4495680"/>
              <a:ext cx="1904760" cy="304920"/>
            </a:xfrm>
            <a:prstGeom prst="rightArrow">
              <a:avLst>
                <a:gd name="adj1" fmla="val 50000"/>
                <a:gd name="adj2" fmla="val 156169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05120" y="4495680"/>
              <a:ext cx="1904760" cy="304920"/>
            </a:xfrm>
            <a:prstGeom prst="rightArrow">
              <a:avLst>
                <a:gd name="adj1" fmla="val 50000"/>
                <a:gd name="adj2" fmla="val 156169"/>
              </a:avLst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93CC-D841-41BE-8A3B-816CC1E092F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C58EAA-E775-4C39-B045-8722ED68FC1C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strução do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sso 4: Testar o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cc"/>
                </a:solidFill>
                <a:latin typeface="Arial"/>
              </a:rPr>
              <a:t>Erros?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Verificar programa em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Continuam erros?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Verificar o algoritm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637240" y="4800600"/>
            <a:ext cx="139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Compi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4520" y="4800600"/>
            <a:ext cx="151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Program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80880" y="4191120"/>
            <a:ext cx="1524240" cy="91440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lgorit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809880" y="4191120"/>
            <a:ext cx="1524240" cy="91440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238880" y="4191120"/>
            <a:ext cx="1524240" cy="91440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xecut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334120" y="4495680"/>
            <a:ext cx="1904760" cy="304920"/>
          </a:xfrm>
          <a:prstGeom prst="rightArrow">
            <a:avLst>
              <a:gd name="adj1" fmla="val 50000"/>
              <a:gd name="adj2" fmla="val 15616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905120" y="4495680"/>
            <a:ext cx="1904760" cy="304920"/>
          </a:xfrm>
          <a:prstGeom prst="rightArrow">
            <a:avLst>
              <a:gd name="adj1" fmla="val 50000"/>
              <a:gd name="adj2" fmla="val 156169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1066680" y="5105520"/>
            <a:ext cx="6782040" cy="1143000"/>
            <a:chOff x="1066680" y="5105520"/>
            <a:chExt cx="6782040" cy="1143000"/>
          </a:xfrm>
        </p:grpSpPr>
        <p:sp>
          <p:nvSpPr>
            <p:cNvPr id="254" name=""/>
            <p:cNvSpPr/>
            <p:nvPr/>
          </p:nvSpPr>
          <p:spPr>
            <a:xfrm>
              <a:off x="4572000" y="5105520"/>
              <a:ext cx="3276720" cy="533160"/>
            </a:xfrm>
            <a:custGeom>
              <a:avLst/>
              <a:gdLst/>
              <a:ahLst/>
              <a:rect l="l" t="t" r="r" b="b"/>
              <a:pathLst>
                <a:path w="2064" h="432">
                  <a:moveTo>
                    <a:pt x="2064" y="0"/>
                  </a:moveTo>
                  <a:lnTo>
                    <a:pt x="2064" y="432"/>
                  </a:lnTo>
                  <a:lnTo>
                    <a:pt x="0" y="432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066680" y="5105520"/>
              <a:ext cx="6782040" cy="1143000"/>
            </a:xfrm>
            <a:custGeom>
              <a:avLst/>
              <a:gdLst/>
              <a:ahLst/>
              <a:rect l="l" t="t" r="r" b="b"/>
              <a:pathLst>
                <a:path w="2064" h="432">
                  <a:moveTo>
                    <a:pt x="2064" y="0"/>
                  </a:moveTo>
                  <a:lnTo>
                    <a:pt x="2064" y="432"/>
                  </a:lnTo>
                  <a:lnTo>
                    <a:pt x="0" y="432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ff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804720" y="566100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Times New Roman"/>
                </a:rPr>
                <a:t>Erros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3D35-3EE1-4D66-95C0-8A49972429A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CA1F5A-ADB5-42F2-A6D3-FE57C68E5044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urso de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Primeiro Programa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BAA6-FB02-44F5-9F3E-92A5A7A750D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7ACAD6B-966E-4E20-99E1-E26D1E11A402}" type="datetime8">
              <a:rPr lang="en-US"/>
              <a:t>07/28/26 06:59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imeiro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reen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modelo genérico usado para escrever programas na linguagem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476B-9650-4837-B1C6-3D843CBC94C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D1F3F-FD8D-46C4-9575-C29023199473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fill="hold">
                      <p:stCondLst>
                        <p:cond delay="0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8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reen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funciona o processo de desenvolvimento de um pro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transformar um algoritmo em um programa executá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diferença entre diversas linguagens de programação e níveis de abstr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tivos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A39E-5222-4EA2-AF3B-75BCDC09F8D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332D0-9990-4F79-BED9-2DAE3D9859E7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imeiro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primeiro programa em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rutura do código fo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entá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retivas de compil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cedimento prin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tilo do código fo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otei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5B92-DE01-480A-AC68-54C6E3102F72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CC52AD-89D0-4157-A42B-CC6A48C7FF73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0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7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0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9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880" y="2133720"/>
            <a:ext cx="8534520" cy="279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8000"/>
                </a:solidFill>
                <a:latin typeface="Courier New"/>
              </a:rPr>
              <a:t>// PrimeirosPassos.c: Nosso primeiro programa em 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&lt;stdio.h&gt; // mais um coment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main(</a:t>
            </a:r>
            <a:r>
              <a:rPr b="0" lang="pt-BR" sz="18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rgc,</a:t>
            </a:r>
            <a:r>
              <a:rPr b="0" lang="pt-BR" sz="1800" spc="-1" strike="noStrike">
                <a:solidFill>
                  <a:srgbClr val="0000ff"/>
                </a:solidFill>
                <a:latin typeface="Courier New"/>
              </a:rPr>
              <a:t> char*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argv[])</a:t>
            </a:r>
            <a:r>
              <a:rPr b="0" lang="pt-BR" sz="18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printf("O primeiro programa lhe deseja um bom dia!"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ff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ff"/>
                </a:solidFill>
                <a:latin typeface="Courier New"/>
              </a:rPr>
              <a:t>return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 Programa “Bom Dia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515C-DFCC-4EC1-9E5B-6A062A42C160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E3DE5-6CA3-4244-BAB4-29EB7AA28A48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trutura do Código Fo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124080" y="2057400"/>
            <a:ext cx="5562720" cy="28382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8000"/>
                </a:solidFill>
                <a:latin typeface="Courier New"/>
              </a:rPr>
              <a:t>// PrimeirosPassos.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&lt;stdio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#include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&lt;stdlib.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main(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rgc,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 char*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rgv[])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rintf("bom dia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   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return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57200" y="1514520"/>
            <a:ext cx="1981080" cy="459720"/>
          </a:xfrm>
          <a:prstGeom prst="borderCallout2">
            <a:avLst>
              <a:gd name="adj1" fmla="val 18750"/>
              <a:gd name="adj2" fmla="val -8333"/>
              <a:gd name="adj3" fmla="val 25000"/>
              <a:gd name="adj4" fmla="val 119231"/>
              <a:gd name="adj5" fmla="val 80356"/>
              <a:gd name="adj6" fmla="val 135333"/>
            </a:avLst>
          </a:prstGeom>
          <a:noFill/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ent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57200" y="2505240"/>
            <a:ext cx="1981080" cy="8254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113782"/>
              <a:gd name="adj5" fmla="val 43504"/>
              <a:gd name="adj6" fmla="val 124106"/>
            </a:avLst>
          </a:prstGeom>
          <a:noFill/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retivas de compil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71800" y="242892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57200" y="3887640"/>
            <a:ext cx="1981080" cy="825480"/>
          </a:xfrm>
          <a:prstGeom prst="borderCallout2">
            <a:avLst>
              <a:gd name="adj1" fmla="val 18750"/>
              <a:gd name="adj2" fmla="val -8333"/>
              <a:gd name="adj3" fmla="val 13740"/>
              <a:gd name="adj4" fmla="val 113300"/>
              <a:gd name="adj5" fmla="val 41148"/>
              <a:gd name="adj6" fmla="val 123074"/>
            </a:avLst>
          </a:prstGeom>
          <a:noFill/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rocedimento princip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71800" y="3724200"/>
            <a:ext cx="76320" cy="1067040"/>
          </a:xfrm>
          <a:custGeom>
            <a:avLst/>
            <a:gdLst>
              <a:gd name="textAreaLeft" fmla="*/ 48960 w 76320"/>
              <a:gd name="textAreaRight" fmla="*/ 76320 w 7632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86400" y="5095800"/>
            <a:ext cx="19810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25638"/>
              <a:gd name="adj5" fmla="val -195458"/>
              <a:gd name="adj6" fmla="val -48634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str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828800" y="5019840"/>
            <a:ext cx="19810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117949"/>
              <a:gd name="adj5" fmla="val -106180"/>
              <a:gd name="adj6" fmla="val 132754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stru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34320" y="4172040"/>
            <a:ext cx="198108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12337"/>
              <a:gd name="adj5" fmla="val -7120"/>
              <a:gd name="adj6" fmla="val -21055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ntu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5DD3-5E92-452B-A61C-D3992097AA84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0AC67B-3B03-4130-816D-A781E3F80DC6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2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2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2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28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2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3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3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2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3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3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3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3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3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3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4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4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4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4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4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4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4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65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500"/>
                            </p:stCondLst>
                            <p:childTnLst>
                              <p:par>
                                <p:cTn id="653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54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5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5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5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5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6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6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6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6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6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66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67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8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6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7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7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7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7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8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68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68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trutura do Código Fo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xto ignorado pelo compil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cumentação útil para descrever trechos do algorit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sível em qualquer posição do código fo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uas formas para comentá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linha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/ Comentário ...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árias linhas: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/* Comentário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1800" spc="-1" strike="noStrike">
                <a:solidFill>
                  <a:srgbClr val="000000"/>
                </a:solidFill>
                <a:latin typeface="Courier New"/>
              </a:rPr>
              <a:t>mais comentários ...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219320" y="4819680"/>
            <a:ext cx="6933960" cy="31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Courier New"/>
              </a:rPr>
              <a:t>// PrimeirosPassos.c: Nosso primeiro programa em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34080" y="5200560"/>
            <a:ext cx="6642360" cy="3128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Courier New"/>
              </a:rPr>
              <a:t>/* PrimeirosPassos.c: Nosso primeiro programa em C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5581800"/>
            <a:ext cx="6933960" cy="5806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Courier New"/>
              </a:rPr>
              <a:t>/* PrimeirosPassos.c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9900"/>
                </a:solidFill>
                <a:latin typeface="Courier New"/>
              </a:rPr>
              <a:t>   </a:t>
            </a:r>
            <a:r>
              <a:rPr b="0" lang="pt-BR" sz="1600" spc="-1" strike="noStrike">
                <a:solidFill>
                  <a:srgbClr val="009900"/>
                </a:solidFill>
                <a:latin typeface="Courier New"/>
              </a:rPr>
              <a:t>Nosso primeiro programa em C *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mentári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6B3F-E488-483F-8D1C-8EAE78FC1C1C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CB1460-A9FF-494B-98FD-2EEC94F9F8CC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trutura do Código Fo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235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formam outros arquivos que devem ser consultados antes de compil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em parâmetros utilizados pelo compil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locadas no início do código fo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0" y="4876920"/>
            <a:ext cx="4572000" cy="12027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Courier New"/>
              </a:rPr>
              <a:t>#includ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&lt;stdio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Courier New"/>
              </a:rPr>
              <a:t>#includ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&lt;stdlib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Courier New"/>
              </a:rPr>
              <a:t>#includ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</a:rPr>
              <a:t> &lt;math.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iretivas de Compilad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CF104-8931-462E-9CDB-EF52AE32584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23184-411B-45F7-8402-DFBDF0ED3517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trutura do Código Fo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15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qüência de instru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ntuaçã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nto-e-vírgula termina instr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haves agrupam instruções relacion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87280" y="3933720"/>
            <a:ext cx="6629400" cy="180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main(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rgc,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 char*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rgv[])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pt-BR" sz="2800" spc="-1" strike="noStrike">
                <a:solidFill>
                  <a:srgbClr val="ff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rintf("bom dia!")</a:t>
            </a:r>
            <a:r>
              <a:rPr b="1" lang="pt-BR" sz="2800" spc="-1" strike="noStrike">
                <a:solidFill>
                  <a:srgbClr val="ff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   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return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pt-BR" sz="2800" spc="-1" strike="noStrike">
                <a:solidFill>
                  <a:srgbClr val="ff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rocedimento princip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DE4C-DC7B-4330-9466-7FFFFB6F155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6EB85F-ABF2-4F04-8CAC-941631D98C7E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trutura do Código Fo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077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iga sempre o seguinte esquele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rocedimento princip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1219320" y="3048120"/>
            <a:ext cx="6629400" cy="2593080"/>
            <a:chOff x="1219320" y="3048120"/>
            <a:chExt cx="6629400" cy="2593080"/>
          </a:xfrm>
        </p:grpSpPr>
        <p:sp>
          <p:nvSpPr>
            <p:cNvPr id="304" name=""/>
            <p:cNvSpPr/>
            <p:nvPr/>
          </p:nvSpPr>
          <p:spPr>
            <a:xfrm>
              <a:off x="1219320" y="3048120"/>
              <a:ext cx="6629400" cy="22885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Times New Roman"/>
                </a:rPr>
                <a:t>int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main(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Times New Roman"/>
                </a:rPr>
                <a:t>int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rgc,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Times New Roman"/>
                </a:rPr>
                <a:t> char*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rgv[])</a:t>
              </a:r>
              <a:r>
                <a:rPr b="1" lang="en-US" sz="2400" spc="-1" strike="noStrike">
                  <a:solidFill>
                    <a:srgbClr val="0000ff"/>
                  </a:solidFill>
                  <a:latin typeface="Courier New"/>
                  <a:ea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lgoritm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ff"/>
                  </a:solidFill>
                  <a:latin typeface="Courier New"/>
                  <a:ea typeface="Times New Roman"/>
                </a:rPr>
                <a:t>   </a:t>
              </a:r>
              <a:r>
                <a:rPr b="1" lang="pt-BR" sz="2400" spc="-1" strike="noStrike">
                  <a:solidFill>
                    <a:srgbClr val="0000ff"/>
                  </a:solidFill>
                  <a:latin typeface="Courier New"/>
                  <a:ea typeface="Times New Roman"/>
                </a:rPr>
                <a:t>return 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0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993300"/>
                  </a:solidFill>
                  <a:latin typeface="Courier New"/>
                  <a:ea typeface="Times New Roman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76720" y="5181480"/>
              <a:ext cx="1981080" cy="459720"/>
            </a:xfrm>
            <a:prstGeom prst="borderCallout2">
              <a:avLst>
                <a:gd name="adj1" fmla="val 18750"/>
                <a:gd name="adj2" fmla="val -8333"/>
                <a:gd name="adj3" fmla="val 24490"/>
                <a:gd name="adj4" fmla="val -17870"/>
                <a:gd name="adj5" fmla="val -45069"/>
                <a:gd name="adj6" fmla="val -32592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Obrigató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6200000">
              <a:off x="2629080" y="4076280"/>
              <a:ext cx="75960" cy="167652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43560 h 1676520"/>
                <a:gd name="textAreaBottom" fmla="*/ 1632960 h 1676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638680" y="3809880"/>
              <a:ext cx="1981440" cy="459720"/>
            </a:xfrm>
            <a:prstGeom prst="borderCallout2">
              <a:avLst>
                <a:gd name="adj1" fmla="val 18750"/>
                <a:gd name="adj2" fmla="val -8333"/>
                <a:gd name="adj3" fmla="val 24000"/>
                <a:gd name="adj4" fmla="val -17870"/>
                <a:gd name="adj5" fmla="val -45537"/>
                <a:gd name="adj6" fmla="val -32606"/>
              </a:avLst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Obrigató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6200000">
              <a:off x="4952880" y="1523880"/>
              <a:ext cx="76320" cy="38862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01160 h 3886200"/>
                <a:gd name="textAreaBottom" fmla="*/ 3785040 h 38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F8E9-B213-4EE0-A47E-85A24F793D2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27FEE6-DA9E-400C-9DFD-F640F149FE15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trutura do Código Fo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nhas em branco são igno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3520" y="2717640"/>
            <a:ext cx="5638680" cy="131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main(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rgc,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 char*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rgv[])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rintf("bom dia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   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return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4165560"/>
            <a:ext cx="5639040" cy="19234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main(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rgc,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 char*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rgv[])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rintf("bom dia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   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return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247440" y="271764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00"/>
                </a:solidFill>
                <a:latin typeface="Times New Roman"/>
              </a:rPr>
              <a:t>(recomend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6120" y="556272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00"/>
                </a:solidFill>
                <a:latin typeface="Times New Roman"/>
              </a:rPr>
              <a:t>(permiti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ráticas interessa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50BC-A542-4C74-BD04-FB6F7833F28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8C2D49-3939-46CF-BEB3-2C2C8ACF1F9A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721" dur="indefinite" restart="never" nodeType="tmRoot">
          <p:childTnLst>
            <p:seq>
              <p:cTn id="722" dur="indefinite" nodeType="mainSeq">
                <p:childTnLst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trutura do Código Fo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paços e tabulações são ignor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90880" y="4495680"/>
            <a:ext cx="5638680" cy="1008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main(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rgc,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 char*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rgv[])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rintf("bom dia!"); 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   return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82080" y="4844880"/>
            <a:ext cx="19029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(permitid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mais confu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2819520"/>
            <a:ext cx="5638680" cy="131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main(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rgc,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 char*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rgv[])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rintf("bom dia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   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return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47440" y="281952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00"/>
                </a:solidFill>
                <a:latin typeface="Times New Roman"/>
              </a:rPr>
              <a:t>(recomend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ráticas interessa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C521-938F-41D2-AF87-045EB48FD83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33009C-2E8A-4BF1-9808-8360FFDCA8A0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trutura do Código Fo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 preferência, uma instrução por lin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990880" y="4800600"/>
            <a:ext cx="5638680" cy="1008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main(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rgc,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 char*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rgv[])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rintf("bom dia!"); 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return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82080" y="4902120"/>
            <a:ext cx="19029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(permitido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Times New Roman"/>
              </a:rPr>
              <a:t>mais confu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33520" y="2743200"/>
            <a:ext cx="5638680" cy="1313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main(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int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rgc,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 char*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argv[])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printf("bom dia!"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   </a:t>
            </a:r>
            <a:r>
              <a:rPr b="0" lang="pt-BR" sz="2000" spc="-1" strike="noStrike">
                <a:solidFill>
                  <a:srgbClr val="0000ff"/>
                </a:solidFill>
                <a:latin typeface="Courier New"/>
              </a:rPr>
              <a:t>return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0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247440" y="274320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9900"/>
                </a:solidFill>
                <a:latin typeface="Times New Roman"/>
              </a:rPr>
              <a:t>(recomendad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Práticas interessant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DB90-FD94-470E-B145-704C304815F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5A76E1-E24B-436C-AF99-DB7BD27154D7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770" dur="indefinite" restart="never" nodeType="tmRoot">
          <p:childTnLst>
            <p:seq>
              <p:cTn id="771" dur="indefinite" nodeType="mainSeq">
                <p:childTnLst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cordando Algorit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inguagem de Program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comput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struções de Máqu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íveis de Abst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il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teir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6B26C-7338-44E7-8073-815142BDD88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D4D44-8B6D-4B5D-9B23-CE85FD4A9CBB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urso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Primeiro Programa no Microsoft Visual Studio .ne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89BED-65C4-44C3-9643-DC523B517CAD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35A68E4-2F65-47B0-A7EB-9C982F9D4842}" type="datetime8">
              <a:rPr lang="en-US"/>
              <a:t>07/28/26 06:59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imeiro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render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ar o Visual Studio para escrever, salvar e compilar seu pro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bjetivos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FE42-82A0-4564-BE1B-7CA83BAD228D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39D63-F33B-4946-A773-8C2CFECA76B2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788" dur="indefinite" restart="never" nodeType="tmRoot">
          <p:childTnLst>
            <p:seq>
              <p:cTn id="789" dur="indefinite" nodeType="mainSeq">
                <p:childTnLst>
                  <p:par>
                    <p:cTn id="790" fill="hold">
                      <p:stCondLst>
                        <p:cond delay="0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imeiro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iar um novo pro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crever o prog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i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cu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oteir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3C26-6700-4E08-AE4C-5D2A47C70903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E65666-33B8-4994-8D75-DC5120A40F0E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imeiro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riar um projeto para cada programa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projeto conté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quivos em Linguagem de Progra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figu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grama compilad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jet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 e recursos disponíve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rface Grá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erramentas adicionais de program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ojeto Visual Studi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4A15-1C77-4BA9-983B-A98B426F0881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67E28-1BC6-4AA0-997E-B70E94F127B1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0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imeiro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540720" y="2035080"/>
            <a:ext cx="8145720" cy="4057560"/>
            <a:chOff x="540720" y="2035080"/>
            <a:chExt cx="8145720" cy="4057560"/>
          </a:xfrm>
        </p:grpSpPr>
        <p:pic>
          <p:nvPicPr>
            <p:cNvPr id="350" name="" descr=""/>
            <p:cNvPicPr/>
            <p:nvPr/>
          </p:nvPicPr>
          <p:blipFill>
            <a:blip r:embed="rId1"/>
            <a:stretch/>
          </p:blipFill>
          <p:spPr>
            <a:xfrm>
              <a:off x="1019160" y="2035080"/>
              <a:ext cx="7667280" cy="40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941040" y="2476440"/>
              <a:ext cx="832680" cy="422640"/>
            </a:xfrm>
            <a:prstGeom prst="roundRect">
              <a:avLst>
                <a:gd name="adj" fmla="val 28333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40720" y="24044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27840" y="2847600"/>
              <a:ext cx="832680" cy="420840"/>
            </a:xfrm>
            <a:prstGeom prst="roundRect">
              <a:avLst>
                <a:gd name="adj" fmla="val 28333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391480" y="2775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014800" y="2847600"/>
              <a:ext cx="831960" cy="420840"/>
            </a:xfrm>
            <a:prstGeom prst="roundRect">
              <a:avLst>
                <a:gd name="adj" fmla="val 28333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880240" y="2775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riar projet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9703-5603-4165-A285-250ACAD52793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C2347A-DB2E-4995-8418-3DB6C041E8AF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0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1187280" y="2065320"/>
            <a:ext cx="6912000" cy="465624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1619280" y="3284640"/>
            <a:ext cx="1738440" cy="288720"/>
          </a:xfrm>
          <a:prstGeom prst="roundRect">
            <a:avLst>
              <a:gd name="adj" fmla="val 2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848640" y="3789360"/>
            <a:ext cx="819000" cy="934920"/>
          </a:xfrm>
          <a:custGeom>
            <a:avLst/>
            <a:gdLst>
              <a:gd name="textAreaLeft" fmla="*/ 67680 w 819000"/>
              <a:gd name="textAreaRight" fmla="*/ 751320 w 819000"/>
              <a:gd name="textAreaTop" fmla="*/ 67680 h 934920"/>
              <a:gd name="textAreaBottom" fmla="*/ 867240 h 934920"/>
            </a:gdLst>
            <a:ahLst/>
            <a:rect l="textAreaLeft" t="textAreaTop" r="textAreaRight" b="textAreaBottom"/>
            <a:pathLst>
              <a:path w="21600" h="24656">
                <a:moveTo>
                  <a:pt x="6120" y="0"/>
                </a:moveTo>
                <a:arcTo wR="6120" hR="6120" stAng="16200000" swAng="-5400000"/>
                <a:lnTo>
                  <a:pt x="0" y="18536"/>
                </a:lnTo>
                <a:arcTo wR="6120" hR="6120" stAng="10800000" swAng="-5400000"/>
                <a:lnTo>
                  <a:pt x="15480" y="24656"/>
                </a:lnTo>
                <a:arcTo wR="6120" hR="6120" stAng="5400000" swAng="-5400000"/>
                <a:lnTo>
                  <a:pt x="21600" y="6120"/>
                </a:lnTo>
                <a:arcTo wR="6120" hR="6120" stAng="0" swAng="-5400000"/>
                <a:close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851200" y="4989600"/>
            <a:ext cx="1738440" cy="290520"/>
          </a:xfrm>
          <a:prstGeom prst="roundRect">
            <a:avLst>
              <a:gd name="adj" fmla="val 2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358800" y="3187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597440" y="45813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466720" y="48942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imeiro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scolher tipo de projet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AF69-68A4-4BA5-96BB-5A92367288B6}" type="slidenum">
              <a:t>3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96FE44-89D1-439B-A079-2708DB34F534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0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imeiro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474920" y="1989000"/>
            <a:ext cx="6336720" cy="4495680"/>
            <a:chOff x="1474920" y="1989000"/>
            <a:chExt cx="6336720" cy="4495680"/>
          </a:xfrm>
        </p:grpSpPr>
        <p:pic>
          <p:nvPicPr>
            <p:cNvPr id="371" name="" descr=""/>
            <p:cNvPicPr/>
            <p:nvPr/>
          </p:nvPicPr>
          <p:blipFill>
            <a:blip r:embed="rId1"/>
            <a:stretch/>
          </p:blipFill>
          <p:spPr>
            <a:xfrm>
              <a:off x="1483200" y="1989000"/>
              <a:ext cx="6328440" cy="449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1474920" y="3552840"/>
              <a:ext cx="1481400" cy="246600"/>
            </a:xfrm>
            <a:prstGeom prst="roundRect">
              <a:avLst>
                <a:gd name="adj" fmla="val 28333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figurar projet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15A2-A17A-4676-A675-B7E9CE28D98C}" type="slidenum">
              <a:t>3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BD9927-FC74-41A5-B84F-7A1BC4F96DF3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818" dur="indefinite" restart="never" nodeType="tmRoot">
          <p:childTnLst>
            <p:seq>
              <p:cTn id="819" dur="indefinite" nodeType="mainSeq">
                <p:childTnLst>
                  <p:par>
                    <p:cTn id="820" fill="hold">
                      <p:stCondLst>
                        <p:cond delay="0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1332000" y="2060640"/>
            <a:ext cx="6351480" cy="447336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imeiro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Configurar projet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476360" y="3502080"/>
            <a:ext cx="1657440" cy="4316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348000" y="3573360"/>
            <a:ext cx="1511280" cy="358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76720" y="4438800"/>
            <a:ext cx="1511280" cy="358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117080" y="3502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3440" y="35733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909680" y="447372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3839-F4DE-4A79-BB79-591C87708A9B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0FC8FD5-E831-48DF-B377-9944BA2BA487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0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imeiro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icionar arquivo de código font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2411280" y="1989000"/>
            <a:ext cx="4407120" cy="4343400"/>
            <a:chOff x="2411280" y="1989000"/>
            <a:chExt cx="4407120" cy="4343400"/>
          </a:xfrm>
        </p:grpSpPr>
        <p:pic>
          <p:nvPicPr>
            <p:cNvPr id="388" name="" descr=""/>
            <p:cNvPicPr/>
            <p:nvPr/>
          </p:nvPicPr>
          <p:blipFill>
            <a:blip r:embed="rId1"/>
            <a:stretch/>
          </p:blipFill>
          <p:spPr>
            <a:xfrm>
              <a:off x="2411280" y="1989000"/>
              <a:ext cx="4407120" cy="434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4932360" y="3645000"/>
              <a:ext cx="1152360" cy="28872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076720" y="3860640"/>
              <a:ext cx="1152720" cy="360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59280" y="3860640"/>
              <a:ext cx="1728720" cy="360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085800" y="3357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301800" y="3933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2988720" y="35002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AF9-C6BE-45FD-91AF-1B4EA8A2FC57}" type="slidenum">
              <a:t>3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460B9C-08ED-4155-AEA2-934ED907AD30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830" dur="indefinite" restart="never" nodeType="tmRoot">
          <p:childTnLst>
            <p:seq>
              <p:cTn id="831" dur="indefinite" nodeType="mainSeq">
                <p:childTnLst>
                  <p:par>
                    <p:cTn id="832" fill="hold">
                      <p:stCondLst>
                        <p:cond delay="0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imeiro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dicionar arquivo de código font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403280" y="1973160"/>
            <a:ext cx="6232680" cy="4551480"/>
            <a:chOff x="1403280" y="1973160"/>
            <a:chExt cx="6232680" cy="4551480"/>
          </a:xfrm>
        </p:grpSpPr>
        <p:pic>
          <p:nvPicPr>
            <p:cNvPr id="399" name="" descr=""/>
            <p:cNvPicPr/>
            <p:nvPr/>
          </p:nvPicPr>
          <p:blipFill>
            <a:blip r:embed="rId1"/>
            <a:stretch/>
          </p:blipFill>
          <p:spPr>
            <a:xfrm>
              <a:off x="1403280" y="1973160"/>
              <a:ext cx="6232680" cy="455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5724360" y="2492280"/>
              <a:ext cx="792360" cy="936720"/>
            </a:xfrm>
            <a:custGeom>
              <a:avLst/>
              <a:gdLst>
                <a:gd name="textAreaLeft" fmla="*/ 38520 w 792360"/>
                <a:gd name="textAreaRight" fmla="*/ 753840 w 792360"/>
                <a:gd name="textAreaTop" fmla="*/ 38520 h 936720"/>
                <a:gd name="textAreaBottom" fmla="*/ 898200 h 936720"/>
              </a:gdLst>
              <a:ahLst/>
              <a:rect l="textAreaLeft" t="textAreaTop" r="textAreaRight" b="textAreaBottom"/>
              <a:pathLst>
                <a:path w="21600" h="25534">
                  <a:moveTo>
                    <a:pt x="3600" y="0"/>
                  </a:moveTo>
                  <a:arcTo wR="3600" hR="3600" stAng="16200000" swAng="-5400000"/>
                  <a:lnTo>
                    <a:pt x="0" y="21934"/>
                  </a:lnTo>
                  <a:arcTo wR="3600" hR="3600" stAng="10800000" swAng="-5400000"/>
                  <a:lnTo>
                    <a:pt x="18000" y="2553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24000" y="5300640"/>
              <a:ext cx="1152720" cy="360360"/>
            </a:xfrm>
            <a:prstGeom prst="roundRect">
              <a:avLst>
                <a:gd name="adj" fmla="val 1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517800" y="227664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0000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349080" y="515772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A94FD-A77A-47DB-BEA4-521EEE9A1F86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E5917-7B9B-4B7E-90D0-F0A3C05BF0BE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lgorit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Algoritmo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conjunto finito de instru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ualmente, começa com a primeira instru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 seqüencial, uma instrução de cada vez, com possibilidade de saltos para outras instru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struções individuais suficientemente elementares, ou primi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mpre deve alcançar uma instrução PARE, para terminar a execução do algorit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tiliza dados (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entrad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 e gera um resultado (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saíd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cordand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3667-4550-4CFF-BBAB-FFDB929D995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4D06D8-10BC-4361-926B-5CCBD0B956E2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rcRect l="64045" t="12234" r="0" b="43617"/>
          <a:stretch/>
        </p:blipFill>
        <p:spPr>
          <a:xfrm>
            <a:off x="5796000" y="3500280"/>
            <a:ext cx="3030480" cy="2989440"/>
          </a:xfrm>
          <a:prstGeom prst="rect">
            <a:avLst/>
          </a:prstGeom>
          <a:ln w="0">
            <a:noFill/>
          </a:ln>
        </p:spPr>
      </p:pic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imeiro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6840" y="2077560"/>
            <a:ext cx="63738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brir o arquivo que armazenará o código font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uplo-clicar sobre o nome do arquivo: “main.c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conteúdo do arquivo é mostrado na te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588000" y="5084640"/>
            <a:ext cx="1368720" cy="289080"/>
          </a:xfrm>
          <a:prstGeom prst="roundRect">
            <a:avLst>
              <a:gd name="adj" fmla="val 2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ditar código font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6BCA-1260-458C-8C6C-8C7E14D8D9AA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FAB72-4F78-4CD2-9FF5-37BCCD3E2AB1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imeiro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905600" cy="524844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/>
          <p:nvPr/>
        </p:nvSpPr>
        <p:spPr>
          <a:xfrm>
            <a:off x="1042920" y="4292640"/>
            <a:ext cx="4753080" cy="1512720"/>
          </a:xfrm>
          <a:prstGeom prst="roundRect">
            <a:avLst>
              <a:gd name="adj" fmla="val 28333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96A6-68D7-4A5E-9A00-557504827824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F96FA8-5016-4E0E-8144-F09602B1E8E5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848" dur="indefinite" restart="never" nodeType="tmRoot">
          <p:childTnLst>
            <p:seq>
              <p:cTn id="849" dur="indefinite" nodeType="mainSeq">
                <p:childTnLst>
                  <p:par>
                    <p:cTn id="850" fill="hold">
                      <p:stCondLst>
                        <p:cond delay="0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Primeiro Prog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2514600" y="3352680"/>
            <a:ext cx="6373800" cy="32194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4572000" y="1449360"/>
            <a:ext cx="41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ecutar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380880" y="1752480"/>
            <a:ext cx="4010040" cy="3353040"/>
            <a:chOff x="380880" y="1752480"/>
            <a:chExt cx="4010040" cy="3353040"/>
          </a:xfrm>
        </p:grpSpPr>
        <p:pic>
          <p:nvPicPr>
            <p:cNvPr id="420" name="" descr=""/>
            <p:cNvPicPr/>
            <p:nvPr/>
          </p:nvPicPr>
          <p:blipFill>
            <a:blip r:embed="rId2"/>
            <a:stretch/>
          </p:blipFill>
          <p:spPr>
            <a:xfrm>
              <a:off x="380880" y="1752480"/>
              <a:ext cx="4010040" cy="335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1905120" y="2438280"/>
              <a:ext cx="2057400" cy="228600"/>
            </a:xfrm>
            <a:prstGeom prst="roundRect">
              <a:avLst>
                <a:gd name="adj" fmla="val 28333"/>
              </a:avLst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9AC9-6B41-4D37-93E9-178E49E3D4F9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10E4CA-F33B-4178-A29D-721D2353DD1A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854" dur="indefinite" restart="never" nodeType="tmRoot">
          <p:childTnLst>
            <p:seq>
              <p:cTn id="855" dur="indefinite" nodeType="mainSeq">
                <p:childTnLst>
                  <p:par>
                    <p:cTn id="856" fill="hold">
                      <p:stCondLst>
                        <p:cond delay="0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lgorit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2209680"/>
            <a:ext cx="61722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lgoritmo em Portuguê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00200" y="2819520"/>
            <a:ext cx="6172200" cy="2913480"/>
          </a:xfrm>
          <a:prstGeom prst="rect">
            <a:avLst/>
          </a:prstGeom>
          <a:solidFill>
            <a:srgbClr val="ffffcc"/>
          </a:solidFill>
          <a:ln w="9360">
            <a:solidFill>
              <a:srgbClr val="99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eia dois núme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ivida o primeiro pelo segundo e guarde o r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 o resto for diferente de 0 (zero),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ntão salta para passo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screva o segundo número e P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ubstitua o primeiro número pelo seg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ubstitua o segundo número pelo resto da divis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torne ao passo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2819520"/>
            <a:ext cx="990720" cy="306360"/>
          </a:xfrm>
          <a:prstGeom prst="borderCallout2">
            <a:avLst>
              <a:gd name="adj1" fmla="val 18750"/>
              <a:gd name="adj2" fmla="val -8333"/>
              <a:gd name="adj3" fmla="val 37305"/>
              <a:gd name="adj4" fmla="val -182370"/>
              <a:gd name="adj5" fmla="val 76685"/>
              <a:gd name="adj6" fmla="val -36490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í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924680" y="4495680"/>
            <a:ext cx="990720" cy="306360"/>
          </a:xfrm>
          <a:prstGeom prst="borderCallout2">
            <a:avLst>
              <a:gd name="adj1" fmla="val 18750"/>
              <a:gd name="adj2" fmla="val -8333"/>
              <a:gd name="adj3" fmla="val 37305"/>
              <a:gd name="adj4" fmla="val -186861"/>
              <a:gd name="adj5" fmla="val -4143"/>
              <a:gd name="adj6" fmla="val -20753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F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3429000"/>
            <a:ext cx="990720" cy="306360"/>
          </a:xfrm>
          <a:prstGeom prst="borderCallout2">
            <a:avLst>
              <a:gd name="adj1" fmla="val 18750"/>
              <a:gd name="adj2" fmla="val -8333"/>
              <a:gd name="adj3" fmla="val 37305"/>
              <a:gd name="adj4" fmla="val 187337"/>
              <a:gd name="adj5" fmla="val 81865"/>
              <a:gd name="adj6" fmla="val 19647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Condiçã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5180040"/>
            <a:ext cx="990720" cy="306360"/>
          </a:xfrm>
          <a:prstGeom prst="borderCallout2">
            <a:avLst>
              <a:gd name="adj1" fmla="val 18750"/>
              <a:gd name="adj2" fmla="val -8333"/>
              <a:gd name="adj3" fmla="val 37305"/>
              <a:gd name="adj4" fmla="val 187337"/>
              <a:gd name="adj5" fmla="val 81865"/>
              <a:gd name="adj6" fmla="val 19647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2565360"/>
            <a:ext cx="990720" cy="306360"/>
          </a:xfrm>
          <a:prstGeom prst="borderCallout2">
            <a:avLst>
              <a:gd name="adj1" fmla="val 18750"/>
              <a:gd name="adj2" fmla="val -8333"/>
              <a:gd name="adj3" fmla="val 37305"/>
              <a:gd name="adj4" fmla="val 179166"/>
              <a:gd name="adj5" fmla="val 109328"/>
              <a:gd name="adj6" fmla="val 18733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0880" y="3962520"/>
            <a:ext cx="990720" cy="306360"/>
          </a:xfrm>
          <a:prstGeom prst="borderCallout2">
            <a:avLst>
              <a:gd name="adj1" fmla="val 18750"/>
              <a:gd name="adj2" fmla="val -8333"/>
              <a:gd name="adj3" fmla="val 37305"/>
              <a:gd name="adj4" fmla="val 162500"/>
              <a:gd name="adj5" fmla="val 115546"/>
              <a:gd name="adj6" fmla="val 232212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í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empl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alcular o máximo divisor com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6705-16AE-4D14-B83B-EDAB8FE038C1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D5F66-0203-4AD2-B167-42FE1194EDA2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9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9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0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0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0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2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2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3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4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lgorit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ambíg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única operação bem defin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cnologicamente viá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Representações possíve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agra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delos mate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Linguagens de progra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ada instrução precisa 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0569-A247-4BD8-ADD5-1A63958A7D6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8F0D6-CC84-406F-86FD-57AE09565F47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lgorit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5800" y="2133720"/>
            <a:ext cx="617220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imes New Roman"/>
              </a:rPr>
              <a:t>Algoritmo em Portuguê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5800" y="2743200"/>
            <a:ext cx="6172200" cy="2913480"/>
          </a:xfrm>
          <a:prstGeom prst="rect">
            <a:avLst/>
          </a:prstGeom>
          <a:solidFill>
            <a:srgbClr val="ffffcc"/>
          </a:solidFill>
          <a:ln w="9360">
            <a:solidFill>
              <a:srgbClr val="9966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Leia dois núme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ivida o primeiro pelo segundo e guarde o r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 o resto for diferente de 0 (zero), 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ntão salta para passo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screva o segundo número e PA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ubstitua o primeiro número pelo seg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ubstitua o segundo número pelo resto da divis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Retorne ao passo 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238880" y="2971800"/>
            <a:ext cx="1676520" cy="60948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289675"/>
              <a:gd name="adj5" fmla="val 35939"/>
              <a:gd name="adj6" fmla="val -32253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otencialmente ambígu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4419720"/>
            <a:ext cx="1676520" cy="838080"/>
          </a:xfrm>
          <a:prstGeom prst="borderCallout2">
            <a:avLst>
              <a:gd name="adj1" fmla="val 18750"/>
              <a:gd name="adj2" fmla="val -8333"/>
              <a:gd name="adj3" fmla="val 13634"/>
              <a:gd name="adj4" fmla="val -62689"/>
              <a:gd name="adj5" fmla="val -10037"/>
              <a:gd name="adj6" fmla="val -136648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ão é uma única instrução bem defin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empl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alcular o máximo divisor com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412A-26A6-40A7-BD9E-1016DE14C019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5ABA8-F336-45F9-B1ED-60A5CCEDF112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8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8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19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19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19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" nodeType="with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9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0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0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Linguagem de Program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agra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linguagem específica para escrever algorit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Linguagens de program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ções de representar algoritmos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0A95-B048-4389-B11E-AA5A31A42A5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952D34-280F-4481-937F-B359C84AB768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Linguagem de program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linguagem de programação é um veículo para se escrever algorit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Característic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ocabulário restr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gras de sinta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cursos automáticos de verificação da sintaxe da linguag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ncei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6332-43CC-437A-9769-464629A5DA8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1D2E44-4E87-4C4D-B16A-C4536CC206EA}" type="datetime8">
              <a:rPr lang="en-US"/>
              <a:t>07/28/26 06:59</a:t>
            </a:fld>
          </a:p>
        </p:txBody>
      </p:sp>
    </p:spTree>
  </p:cSld>
  <p:transition>
    <p:random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21:25:34Z</dcterms:created>
  <dc:creator>Daniel</dc:creator>
  <dc:description/>
  <dc:language>en-US</dc:language>
  <cp:lastModifiedBy> arnaldo</cp:lastModifiedBy>
  <dcterms:modified xsi:type="dcterms:W3CDTF">2008-03-09T20:52:39Z</dcterms:modified>
  <cp:revision>60</cp:revision>
  <dc:subject/>
  <dc:title>Curso de C</dc:title>
</cp:coreProperties>
</file>