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81959-CA13-4BA3-BE16-85D246FEB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71600" y="34999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71600" y="44157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C739D-FA90-44D9-BE56-6B3763EB4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3499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51560" y="3499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71600" y="4415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51560" y="4415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6ED19-516C-4A2F-A933-741D387FD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71600" y="3499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35560" y="3499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699880" y="3499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71600" y="4415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35560" y="4415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699880" y="4415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350F8-76C2-4736-AE3B-C19F7DE90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7C330-2708-46EF-832A-03F95FD29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499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680E0-D00D-49C0-BAA2-6DDB576EA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499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E2A01-56D2-49C0-B579-C34D356C6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71600" y="34999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51560" y="34999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88557-FD6B-42D1-B254-85F648E2A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FEFBB-9C47-47D7-9B37-941C31F48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685800" y="764640"/>
            <a:ext cx="7772400" cy="83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E9BCA-FEBA-4A80-94B6-7466837BA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3499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51560" y="34999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371600" y="4415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15F15-EE06-434F-AB33-F0A7A72AA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71600" y="3499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BAFF1-8390-46C3-B533-9A18E1AC4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4999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499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51560" y="4415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A3F3F-161A-401E-8F18-64633AC5C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3499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1560" y="3499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371600" y="44157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54F50-A84E-4301-84F6-E848AE784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71600" y="34999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1371600" y="44157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22F7D-8151-4497-9AB0-74152EC78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371600" y="3499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51560" y="3499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371600" y="4415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51560" y="4415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9FE08-682D-4069-935D-D14B5DB53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371600" y="3499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535560" y="3499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5699880" y="3499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1371600" y="4415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535560" y="4415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5699880" y="4415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59142-FA7A-449B-89EA-FAE6CB973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71600" y="3499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3D017-15C7-4288-89F8-3572DA583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34999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1560" y="34999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765EB-A4B1-485A-A117-44CB746E8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2D7D7-2BA6-4B4D-8618-E7F214D4A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764640"/>
            <a:ext cx="7772400" cy="83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663AF-126D-4284-BB98-814E8D1E3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71600" y="3499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51560" y="34999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71600" y="4415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83A38-6FD1-456B-B9C3-03852F413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71600" y="34999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51560" y="3499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51560" y="4415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90C30-7BD4-4584-A1A3-B61B8BD9B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71600" y="3499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1560" y="3499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71600" y="44157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32DF8-BF98-4408-A3D4-4DC3E75CB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2589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2077560"/>
            <a:ext cx="8229600" cy="404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5EB40-A76E-4C57-B10D-028C661F8615}" type="datetime"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28/07/26</a:t>
            </a:fld>
            <a:r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fld id="{3053B9B1-658E-4FF2-914C-86A0948616A5}" type="datetime10"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06:5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31069-2656-46DB-B462-23D9577254BF}" type="slidenum"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908000" y="-33480"/>
            <a:ext cx="719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ffffff"/>
                </a:solidFill>
                <a:latin typeface="Arial"/>
                <a:ea typeface="Arial"/>
              </a:rPr>
              <a:t>Curso C - IC/UNICAM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 flipV="1">
            <a:off x="431640" y="1267920"/>
            <a:ext cx="0" cy="558972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612936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 flipV="1">
            <a:off x="8712360" y="1267920"/>
            <a:ext cx="0" cy="558972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144936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0" y="4680"/>
            <a:ext cx="9144000" cy="68454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179280" cy="6858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964720" y="0"/>
            <a:ext cx="179280" cy="6858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144000" cy="189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1D9D1-8D7D-4759-8F0F-976A02F5067F}" type="datetime"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28/07/26</a:t>
            </a:fld>
            <a:r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fld id="{43008C24-594F-45B3-B227-C65486A2144E}" type="datetime10"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06:5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6B4AD-8E7E-44D2-9E70-BC1C20AB12A5}" type="slidenum"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000000"/>
                </a:solidFill>
                <a:latin typeface="Arial"/>
              </a:rPr>
              <a:t>Curso de C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499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000000"/>
                </a:solidFill>
                <a:latin typeface="Arial"/>
              </a:rPr>
              <a:t>Comunicação e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000000"/>
                </a:solidFill>
                <a:latin typeface="Arial"/>
              </a:rPr>
              <a:t>Arquivos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E795B-B556-415E-8364-F918732E3E8B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D8CA3493-56D1-4E68-AB68-EBE6F8A6E78C}" type="datetime8">
              <a:rPr lang="en-US"/>
              <a:t>07/28/26 06: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457200" y="2077560"/>
            <a:ext cx="8229600" cy="4170600"/>
          </a:xfrm>
          <a:prstGeom prst="rect">
            <a:avLst/>
          </a:prstGeom>
          <a:solidFill>
            <a:srgbClr val="ffffcc"/>
          </a:solidFill>
          <a:ln w="12600">
            <a:solidFill>
              <a:srgbClr val="cc99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Somente leitu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Somente escri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Leitura e escri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Fluxo de Dados: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ip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511280" y="2692080"/>
            <a:ext cx="6413400" cy="642240"/>
            <a:chOff x="1511280" y="2692080"/>
            <a:chExt cx="6413400" cy="642240"/>
          </a:xfrm>
        </p:grpSpPr>
        <p:sp>
          <p:nvSpPr>
            <p:cNvPr id="149" name=""/>
            <p:cNvSpPr/>
            <p:nvPr/>
          </p:nvSpPr>
          <p:spPr>
            <a:xfrm>
              <a:off x="6281640" y="2692080"/>
              <a:ext cx="1643040" cy="64224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rial"/>
                </a:rPr>
                <a:t>Program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(consumidor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511280" y="2692080"/>
              <a:ext cx="1593720" cy="64224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rial"/>
                </a:rPr>
                <a:t>Teclad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(produtor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220920" y="2708280"/>
              <a:ext cx="2971800" cy="604800"/>
            </a:xfrm>
            <a:prstGeom prst="rightArrow">
              <a:avLst>
                <a:gd name="adj1" fmla="val 49676"/>
                <a:gd name="adj2" fmla="val 56325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Teclas pressionad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1511280" y="3862080"/>
            <a:ext cx="6413400" cy="646560"/>
            <a:chOff x="1511280" y="3862080"/>
            <a:chExt cx="6413400" cy="646560"/>
          </a:xfrm>
        </p:grpSpPr>
        <p:sp>
          <p:nvSpPr>
            <p:cNvPr id="153" name=""/>
            <p:cNvSpPr/>
            <p:nvPr/>
          </p:nvSpPr>
          <p:spPr>
            <a:xfrm>
              <a:off x="1511280" y="3879720"/>
              <a:ext cx="1620720" cy="5968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rial"/>
                </a:rPr>
                <a:t>Impressor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(consumidor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flipH="1">
              <a:off x="3220200" y="3879720"/>
              <a:ext cx="2987640" cy="628920"/>
            </a:xfrm>
            <a:prstGeom prst="rightArrow">
              <a:avLst>
                <a:gd name="adj1" fmla="val 49676"/>
                <a:gd name="adj2" fmla="val 54454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Dado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281640" y="3862080"/>
              <a:ext cx="1643040" cy="64224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rial"/>
                </a:rPr>
                <a:t>Program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(produtor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1511280" y="5078880"/>
            <a:ext cx="6413400" cy="1013400"/>
            <a:chOff x="1511280" y="5078880"/>
            <a:chExt cx="6413400" cy="1013400"/>
          </a:xfrm>
        </p:grpSpPr>
        <p:sp>
          <p:nvSpPr>
            <p:cNvPr id="157" name=""/>
            <p:cNvSpPr/>
            <p:nvPr/>
          </p:nvSpPr>
          <p:spPr>
            <a:xfrm>
              <a:off x="3220920" y="5283360"/>
              <a:ext cx="2971800" cy="630000"/>
            </a:xfrm>
            <a:prstGeom prst="leftRightArrow">
              <a:avLst>
                <a:gd name="adj1" fmla="val 50130"/>
                <a:gd name="adj2" fmla="val 54684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Conteúd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511280" y="5078880"/>
              <a:ext cx="1620720" cy="100872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rial"/>
                </a:rPr>
                <a:t>Arquiv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rial"/>
                </a:rPr>
                <a:t>(produtor e consumidor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281640" y="5083560"/>
              <a:ext cx="1643040" cy="100872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rial"/>
                </a:rPr>
                <a:t>Program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rial"/>
                </a:rPr>
                <a:t>(produtor e consumidor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F5DC8-60DB-4B0B-8758-EF935B855A2A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3654E7-1744-4F5B-B213-14B6850A94C8}" type="datetime8">
              <a:rPr lang="en-US"/>
              <a:t>07/28/26 06: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7200" y="2077560"/>
            <a:ext cx="8229600" cy="4048200"/>
          </a:xfrm>
          <a:prstGeom prst="rect">
            <a:avLst/>
          </a:prstGeom>
          <a:solidFill>
            <a:srgbClr val="ffffcc"/>
          </a:solidFill>
          <a:ln w="12600">
            <a:solidFill>
              <a:srgbClr val="cc99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Posição de leitur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Seqüencial ou aleató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Comprimen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Limitado ou ilimit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Marcas BOF &amp; E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Recebimento de dad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Bloqueante ou não bloquea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Fluxo de Dados: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fluxos de leitu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A223A-4720-40B6-AF45-31AEA94EA16F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809F30-2569-4845-A58F-C1301E7426B3}" type="datetime8">
              <a:rPr lang="en-US"/>
              <a:t>07/28/26 06: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457200" y="2077560"/>
            <a:ext cx="8229600" cy="4048200"/>
          </a:xfrm>
          <a:prstGeom prst="rect">
            <a:avLst/>
          </a:prstGeom>
          <a:solidFill>
            <a:srgbClr val="ffffcc"/>
          </a:solidFill>
          <a:ln w="12600">
            <a:solidFill>
              <a:srgbClr val="cc99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Posição de escrit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Seqüencial ou aleató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Comprimen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raticamente ilimit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nvio de dad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Bloqueante ou não bloquea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Fluxo de Dados: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fluxos de escri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C1BF8-BEF9-4582-8DEA-27E8D513246C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816A4A-7CDB-42B1-AB05-680DD8149243}" type="datetime8">
              <a:rPr lang="en-US"/>
              <a:t>07/28/26 06: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457200" y="2077560"/>
            <a:ext cx="8229600" cy="4048200"/>
          </a:xfrm>
          <a:prstGeom prst="rect">
            <a:avLst/>
          </a:prstGeom>
          <a:solidFill>
            <a:srgbClr val="ffffcc"/>
          </a:solidFill>
          <a:ln w="12600">
            <a:solidFill>
              <a:srgbClr val="cc99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Posição de leitura ou escrit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Sempre aleató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Comprimen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raticamente ilimit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nvio de dad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Bloqueante ou não bloquea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Fluxo de Dados: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leitura e escri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C46D5-AC2E-4B5E-B0DC-C833681CEDBB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9B38D0-DFC5-4A41-994E-D4FE9DD0E7B3}" type="datetime8">
              <a:rPr lang="en-US"/>
              <a:t>07/28/26 06: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57200" y="2077560"/>
            <a:ext cx="8229600" cy="4048200"/>
          </a:xfrm>
          <a:prstGeom prst="rect">
            <a:avLst/>
          </a:prstGeom>
          <a:solidFill>
            <a:srgbClr val="ffffcc"/>
          </a:solidFill>
          <a:ln w="12600">
            <a:solidFill>
              <a:srgbClr val="cc99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Fluxo biná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Fluxo tex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Reconhecimento de ‘\n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raduções automáticas de símbol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ratamento automático de símbolo EO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Fluxo de Dados: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eculiarida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1A7E6-7D1D-4D18-89DC-BE16557F6620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AA177F-F3F2-4C41-B093-A14500FD8DAB}" type="datetime8">
              <a:rPr lang="en-US"/>
              <a:t>07/28/26 06: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457200" y="2077560"/>
            <a:ext cx="8229600" cy="4048200"/>
          </a:xfrm>
          <a:prstGeom prst="rect">
            <a:avLst/>
          </a:prstGeom>
          <a:solidFill>
            <a:srgbClr val="ffffcc"/>
          </a:solidFill>
          <a:ln w="12600">
            <a:solidFill>
              <a:srgbClr val="cc99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Abrir (estabelecer)  o flux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Define operações permitid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specifica tipo de fluxo (binário/text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ipo de acesso (seqüencial ou aleatóri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Ler e/ou escrever da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Fechar (terminar) o flux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Libera recurs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ermite uso do fluxo por outro progra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Fluxo de Dados: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peraçõ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5DBD3-9C10-4963-BE86-858E0C0CAD21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8A9EEE-B42B-4BFC-9182-5A45598842FE}" type="datetime8">
              <a:rPr lang="en-US"/>
              <a:t>07/28/26 06: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000000"/>
                </a:solidFill>
                <a:latin typeface="Arial"/>
              </a:rPr>
              <a:t>Comunicação e Arquivos 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1371600" y="3499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600" spc="-1" strike="noStrike">
                <a:solidFill>
                  <a:srgbClr val="000000"/>
                </a:solidFill>
                <a:latin typeface="Arial"/>
              </a:rPr>
              <a:t>Acesso a arquivos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94445-634E-45A1-A322-BB29DEA10DA7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6AC3C262-D390-475C-AD1A-A4C75490B5F1}" type="datetime8">
              <a:rPr lang="en-US"/>
              <a:t>07/28/26 06: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62160"/>
          </a:xfrm>
          <a:prstGeom prst="rect">
            <a:avLst/>
          </a:prstGeom>
          <a:solidFill>
            <a:srgbClr val="ffffcc"/>
          </a:solidFill>
          <a:ln w="12600">
            <a:solidFill>
              <a:srgbClr val="cc99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Declaraçã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pt-BR" sz="2800" spc="-1" strike="noStrike">
                <a:solidFill>
                  <a:srgbClr val="0000ff"/>
                </a:solidFill>
                <a:latin typeface="Courier New"/>
              </a:rPr>
              <a:t>FILE * arquivo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Define um fluxo para leitura e escrita em arquiv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ada variável é fluxo (arquivo) independ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Não é relevante como funciona o tipo </a:t>
            </a:r>
            <a:r>
              <a:rPr b="0" lang="pt-BR" sz="2800" spc="-1" strike="noStrike">
                <a:solidFill>
                  <a:srgbClr val="0000ff"/>
                </a:solidFill>
                <a:latin typeface="Courier New"/>
              </a:rPr>
              <a:t>FILE 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Arquivos: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ipos de da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60BA9-EA77-43F8-AC46-8D5577467116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53B5F8-2389-4B2D-8748-623E6C7EAD71}" type="datetime8">
              <a:rPr lang="en-US"/>
              <a:t>07/28/26 06: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431640" y="2077920"/>
            <a:ext cx="8280720" cy="3781440"/>
          </a:xfrm>
          <a:prstGeom prst="rect">
            <a:avLst/>
          </a:prstGeom>
          <a:solidFill>
            <a:srgbClr val="ffffcc"/>
          </a:solidFill>
          <a:ln w="12600">
            <a:solidFill>
              <a:srgbClr val="cc99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Arquivos: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brir e fech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22080" y="2079720"/>
            <a:ext cx="7007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ff"/>
                </a:solidFill>
                <a:latin typeface="Courier New"/>
              </a:rPr>
              <a:t>FILE *arquivo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ff"/>
                </a:solidFill>
                <a:latin typeface="Courier New"/>
              </a:rPr>
              <a:t>arquivo = </a:t>
            </a:r>
            <a:r>
              <a:rPr b="1" lang="pt-BR" sz="3200" spc="-1" strike="noStrike">
                <a:solidFill>
                  <a:srgbClr val="ff0000"/>
                </a:solidFill>
                <a:latin typeface="Courier New"/>
              </a:rPr>
              <a:t>fopen(</a:t>
            </a:r>
            <a:r>
              <a:rPr b="1" i="1" lang="pt-BR" sz="3200" spc="-1" strike="noStrike">
                <a:solidFill>
                  <a:srgbClr val="0000ff"/>
                </a:solidFill>
                <a:latin typeface="Courier New"/>
              </a:rPr>
              <a:t>nome</a:t>
            </a:r>
            <a:r>
              <a:rPr b="1" lang="pt-BR" sz="3200" spc="-1" strike="noStrike">
                <a:solidFill>
                  <a:srgbClr val="0000ff"/>
                </a:solidFill>
                <a:latin typeface="Courier New"/>
              </a:rPr>
              <a:t>, </a:t>
            </a:r>
            <a:r>
              <a:rPr b="1" i="1" lang="pt-BR" sz="3200" spc="-1" strike="noStrike">
                <a:solidFill>
                  <a:srgbClr val="0000ff"/>
                </a:solidFill>
                <a:latin typeface="Courier New"/>
              </a:rPr>
              <a:t>modo</a:t>
            </a:r>
            <a:r>
              <a:rPr b="1" lang="pt-BR" sz="3200" spc="-1" strike="noStrike">
                <a:solidFill>
                  <a:srgbClr val="ff0000"/>
                </a:solidFill>
                <a:latin typeface="Courier New"/>
              </a:rPr>
              <a:t>)</a:t>
            </a:r>
            <a:r>
              <a:rPr b="1" lang="pt-BR" sz="3200" spc="-1" strike="noStrike">
                <a:solidFill>
                  <a:srgbClr val="0000ff"/>
                </a:solidFill>
                <a:latin typeface="Courier New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18120" y="4869000"/>
            <a:ext cx="408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0000"/>
                </a:solidFill>
                <a:latin typeface="Courier New"/>
              </a:rPr>
              <a:t>fclose(</a:t>
            </a:r>
            <a:r>
              <a:rPr b="1" i="1" lang="pt-BR" sz="3200" spc="-1" strike="noStrike">
                <a:solidFill>
                  <a:srgbClr val="0000ff"/>
                </a:solidFill>
                <a:latin typeface="Courier New"/>
              </a:rPr>
              <a:t>arquivo</a:t>
            </a:r>
            <a:r>
              <a:rPr b="1" lang="pt-BR" sz="3200" spc="-1" strike="noStrike">
                <a:solidFill>
                  <a:srgbClr val="ff0000"/>
                </a:solidFill>
                <a:latin typeface="Courier New"/>
              </a:rPr>
              <a:t>)</a:t>
            </a:r>
            <a:r>
              <a:rPr b="1" lang="pt-BR" sz="3200" spc="-1" strike="noStrike">
                <a:solidFill>
                  <a:srgbClr val="0000ff"/>
                </a:solidFill>
                <a:latin typeface="Courier New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577440" y="3068640"/>
            <a:ext cx="5164560" cy="1624680"/>
            <a:chOff x="577440" y="3068640"/>
            <a:chExt cx="5164560" cy="1624680"/>
          </a:xfrm>
        </p:grpSpPr>
        <p:sp>
          <p:nvSpPr>
            <p:cNvPr id="179" name=""/>
            <p:cNvSpPr/>
            <p:nvPr/>
          </p:nvSpPr>
          <p:spPr>
            <a:xfrm>
              <a:off x="577440" y="3502080"/>
              <a:ext cx="41648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192240" indent="-19224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Arial"/>
                </a:rPr>
                <a:t>Unidade de disco e diretóri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2240" indent="-19224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Arial"/>
                </a:rPr>
                <a:t>Caminho Relativ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92240" indent="-192240"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Arial"/>
                </a:rPr>
                <a:t>Nome do arquiv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rot="5400000">
              <a:off x="5111640" y="2528640"/>
              <a:ext cx="90360" cy="1170000"/>
            </a:xfrm>
            <a:custGeom>
              <a:avLst/>
              <a:gdLst>
                <a:gd name="textAreaLeft" fmla="*/ 0 w 90360"/>
                <a:gd name="textAreaRight" fmla="*/ 32760 w 90360"/>
                <a:gd name="textAreaTop" fmla="*/ 30240 h 1170000"/>
                <a:gd name="textAreaBottom" fmla="*/ 1139760 h 1170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81" name=""/>
            <p:cNvCxnSpPr>
              <a:stCxn id="180" idx="1"/>
              <a:endCxn id="179" idx="3"/>
            </p:cNvCxnSpPr>
            <p:nvPr/>
          </p:nvCxnSpPr>
          <p:spPr>
            <a:xfrm rot="5400000">
              <a:off x="4442760" y="3379320"/>
              <a:ext cx="935640" cy="497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82" name=""/>
          <p:cNvGrpSpPr/>
          <p:nvPr/>
        </p:nvGrpSpPr>
        <p:grpSpPr>
          <a:xfrm>
            <a:off x="6012000" y="3068640"/>
            <a:ext cx="2688840" cy="2614680"/>
            <a:chOff x="6012000" y="3068640"/>
            <a:chExt cx="2688840" cy="2614680"/>
          </a:xfrm>
        </p:grpSpPr>
        <p:sp>
          <p:nvSpPr>
            <p:cNvPr id="183" name=""/>
            <p:cNvSpPr/>
            <p:nvPr/>
          </p:nvSpPr>
          <p:spPr>
            <a:xfrm>
              <a:off x="7003800" y="3502080"/>
              <a:ext cx="16970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0" lang="pt-BR" sz="2400" spc="-1" strike="noStrike">
                  <a:solidFill>
                    <a:srgbClr val="000000"/>
                  </a:solidFill>
                  <a:latin typeface="Arial"/>
                </a:rPr>
                <a:t>r”</a:t>
              </a:r>
              <a:r>
                <a:rPr b="0" lang="pt-BR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pt-BR" sz="2400" spc="-1" strike="noStrike">
                  <a:solidFill>
                    <a:srgbClr val="000000"/>
                  </a:solidFill>
                  <a:latin typeface="Arial"/>
                </a:rPr>
                <a:t>“r+”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0" lang="pt-BR" sz="2400" spc="-1" strike="noStrike">
                  <a:solidFill>
                    <a:srgbClr val="000000"/>
                  </a:solidFill>
                  <a:latin typeface="Arial"/>
                </a:rPr>
                <a:t>w”</a:t>
              </a:r>
              <a:r>
                <a:rPr b="0" lang="pt-BR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pt-BR" sz="2400" spc="-1" strike="noStrike">
                  <a:solidFill>
                    <a:srgbClr val="000000"/>
                  </a:solidFill>
                  <a:latin typeface="Arial"/>
                </a:rPr>
                <a:t>“w+”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0" lang="pt-BR" sz="2400" spc="-1" strike="noStrike">
                  <a:solidFill>
                    <a:srgbClr val="000000"/>
                  </a:solidFill>
                  <a:latin typeface="Arial"/>
                </a:rPr>
                <a:t>a”</a:t>
              </a:r>
              <a:r>
                <a:rPr b="0" lang="pt-BR" sz="2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pt-BR" sz="2400" spc="-1" strike="noStrike">
                  <a:solidFill>
                    <a:srgbClr val="000000"/>
                  </a:solidFill>
                  <a:latin typeface="Arial"/>
                </a:rPr>
                <a:t>“a+”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rot="5400000">
              <a:off x="6551640" y="2528640"/>
              <a:ext cx="90360" cy="1170000"/>
            </a:xfrm>
            <a:custGeom>
              <a:avLst/>
              <a:gdLst>
                <a:gd name="textAreaLeft" fmla="*/ 0 w 90360"/>
                <a:gd name="textAreaRight" fmla="*/ 32760 w 90360"/>
                <a:gd name="textAreaTop" fmla="*/ 30240 h 1170000"/>
                <a:gd name="textAreaBottom" fmla="*/ 1139760 h 1170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85" name=""/>
            <p:cNvCxnSpPr>
              <a:stCxn id="184" idx="1"/>
              <a:endCxn id="183" idx="1"/>
            </p:cNvCxnSpPr>
            <p:nvPr/>
          </p:nvCxnSpPr>
          <p:spPr>
            <a:xfrm flipH="1" rot="16200000">
              <a:off x="6333120" y="3426120"/>
              <a:ext cx="935640" cy="4039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86" name=""/>
            <p:cNvSpPr/>
            <p:nvPr/>
          </p:nvSpPr>
          <p:spPr>
            <a:xfrm>
              <a:off x="7004880" y="4857840"/>
              <a:ext cx="16376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0" lang="pt-BR" sz="2400" spc="-1" strike="noStrike">
                  <a:solidFill>
                    <a:srgbClr val="000000"/>
                  </a:solidFill>
                  <a:latin typeface="Arial"/>
                </a:rPr>
                <a:t>b”: binári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0" lang="pt-BR" sz="2400" spc="-1" strike="noStrike">
                  <a:solidFill>
                    <a:srgbClr val="000000"/>
                  </a:solidFill>
                  <a:latin typeface="Arial"/>
                </a:rPr>
                <a:t>t”: text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87" name=""/>
            <p:cNvCxnSpPr>
              <a:stCxn id="184" idx="1"/>
              <a:endCxn id="186" idx="1"/>
            </p:cNvCxnSpPr>
            <p:nvPr/>
          </p:nvCxnSpPr>
          <p:spPr>
            <a:xfrm flipH="1" rot="16200000">
              <a:off x="5746680" y="4012920"/>
              <a:ext cx="2108880" cy="4039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96683-4D56-44AD-9A4C-9BF5346CFB13}" type="slidenum">
              <a:t>1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43A6B1-3CB7-4EE9-926D-708FC3726198}" type="datetime8">
              <a:rPr lang="en-US"/>
              <a:t>07/28/26 06: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457200" y="2077560"/>
            <a:ext cx="8229600" cy="4048200"/>
          </a:xfrm>
          <a:prstGeom prst="rect">
            <a:avLst/>
          </a:prstGeom>
          <a:solidFill>
            <a:srgbClr val="ccffcc"/>
          </a:solidFill>
          <a:ln w="12600">
            <a:solidFill>
              <a:srgbClr val="008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 anchorCtr="1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ff"/>
                </a:solidFill>
                <a:latin typeface="Courier New"/>
              </a:rPr>
              <a:t>FILE *arquivo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ourier New"/>
              </a:rPr>
              <a:t>arquivo = fopen(“alunos.txt”, “r”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ourier New"/>
              </a:rPr>
              <a:t>// Lê o nome de todos os alu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ff"/>
                </a:solidFill>
                <a:latin typeface="Courier New"/>
              </a:rPr>
              <a:t>fclose(arquivo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Arquivos: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brir e fech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A18C8-8EF2-4DF6-A75D-A9629F9AAF9C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3BDCFA-F66D-4DCC-A834-BE7E46024B28}" type="datetime8">
              <a:rPr lang="en-US"/>
              <a:t>07/28/26 06: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Tipos Avançados de Dad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40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ntender o modelo utilizado em C para ler e escrever dados através de dispositiv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Aprender a ler e escrever dados em arquiv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31640" y="1449360"/>
            <a:ext cx="828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Objetivo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CAE43-A858-4CCE-A62A-FEFD444F18D2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8B4AEA-A6F2-4CAC-B737-880C82F0A50E}" type="datetime8">
              <a:rPr lang="en-US"/>
              <a:t>07/28/26 06: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431640" y="2077920"/>
            <a:ext cx="8280720" cy="3781440"/>
          </a:xfrm>
          <a:prstGeom prst="rect">
            <a:avLst/>
          </a:prstGeom>
          <a:solidFill>
            <a:srgbClr val="ffffcc"/>
          </a:solidFill>
          <a:ln w="12600">
            <a:solidFill>
              <a:srgbClr val="cc99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Arquivos: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leitu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08760" y="2168640"/>
            <a:ext cx="530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FILE *arquivo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arquivo = fopen(</a:t>
            </a:r>
            <a:r>
              <a:rPr b="1" i="1" lang="pt-BR" sz="2400" spc="-1" strike="noStrike">
                <a:solidFill>
                  <a:srgbClr val="000000"/>
                </a:solidFill>
                <a:latin typeface="Courier New"/>
              </a:rPr>
              <a:t>nom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i="1" lang="pt-BR" sz="2400" spc="-1" strike="noStrike">
                <a:solidFill>
                  <a:srgbClr val="000000"/>
                </a:solidFill>
                <a:latin typeface="Courier New"/>
              </a:rPr>
              <a:t>modo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07320" y="3248640"/>
            <a:ext cx="694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ff"/>
                </a:solidFill>
                <a:latin typeface="Courier New"/>
              </a:rPr>
              <a:t>fscanf(arquivo, “fomato”, &amp;variavel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3668760" y="3699000"/>
            <a:ext cx="2914920" cy="1810440"/>
            <a:chOff x="3668760" y="3699000"/>
            <a:chExt cx="2914920" cy="1810440"/>
          </a:xfrm>
        </p:grpSpPr>
        <p:sp>
          <p:nvSpPr>
            <p:cNvPr id="195" name=""/>
            <p:cNvSpPr/>
            <p:nvPr/>
          </p:nvSpPr>
          <p:spPr>
            <a:xfrm rot="5400000">
              <a:off x="4346280" y="3024360"/>
              <a:ext cx="90360" cy="1439640"/>
            </a:xfrm>
            <a:custGeom>
              <a:avLst/>
              <a:gdLst>
                <a:gd name="textAreaLeft" fmla="*/ 0 w 90360"/>
                <a:gd name="textAreaRight" fmla="*/ 32760 w 90360"/>
                <a:gd name="textAreaTop" fmla="*/ 37440 h 1439640"/>
                <a:gd name="textAreaBottom" fmla="*/ 1402200 h 1439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668760" y="5049720"/>
              <a:ext cx="291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Arial"/>
                </a:rPr>
                <a:t>%d, %f, %c, %s, et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97" name=""/>
            <p:cNvCxnSpPr>
              <a:stCxn id="195" idx="1"/>
            </p:cNvCxnSpPr>
            <p:nvPr/>
          </p:nvCxnSpPr>
          <p:spPr>
            <a:xfrm flipH="1" rot="16200000">
              <a:off x="4010040" y="4174560"/>
              <a:ext cx="1216800" cy="44856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98" name=""/>
          <p:cNvGrpSpPr/>
          <p:nvPr/>
        </p:nvGrpSpPr>
        <p:grpSpPr>
          <a:xfrm>
            <a:off x="5562360" y="3789360"/>
            <a:ext cx="2825280" cy="1095480"/>
            <a:chOff x="5562360" y="3789360"/>
            <a:chExt cx="2825280" cy="1095480"/>
          </a:xfrm>
        </p:grpSpPr>
        <p:sp>
          <p:nvSpPr>
            <p:cNvPr id="199" name=""/>
            <p:cNvSpPr/>
            <p:nvPr/>
          </p:nvSpPr>
          <p:spPr>
            <a:xfrm>
              <a:off x="7005960" y="4059360"/>
              <a:ext cx="13816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Arial"/>
                </a:rPr>
                <a:t>Lista d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Arial"/>
                </a:rPr>
                <a:t>variávei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00" name=""/>
            <p:cNvCxnSpPr>
              <a:stCxn id="201" idx="1"/>
              <a:endCxn id="199" idx="1"/>
            </p:cNvCxnSpPr>
            <p:nvPr/>
          </p:nvCxnSpPr>
          <p:spPr>
            <a:xfrm flipH="1" rot="16200000">
              <a:off x="6347880" y="3817080"/>
              <a:ext cx="589680" cy="7178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01" name=""/>
            <p:cNvSpPr/>
            <p:nvPr/>
          </p:nvSpPr>
          <p:spPr>
            <a:xfrm rot="5400000">
              <a:off x="6237000" y="3114720"/>
              <a:ext cx="90360" cy="1439640"/>
            </a:xfrm>
            <a:custGeom>
              <a:avLst/>
              <a:gdLst>
                <a:gd name="textAreaLeft" fmla="*/ 0 w 90360"/>
                <a:gd name="textAreaRight" fmla="*/ 32760 w 90360"/>
                <a:gd name="textAreaTop" fmla="*/ 37440 h 1439640"/>
                <a:gd name="textAreaBottom" fmla="*/ 1402200 h 1439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610920" y="3789360"/>
            <a:ext cx="3144600" cy="1274760"/>
            <a:chOff x="610920" y="3789360"/>
            <a:chExt cx="3144600" cy="1274760"/>
          </a:xfrm>
        </p:grpSpPr>
        <p:sp>
          <p:nvSpPr>
            <p:cNvPr id="203" name=""/>
            <p:cNvSpPr/>
            <p:nvPr/>
          </p:nvSpPr>
          <p:spPr>
            <a:xfrm rot="5400000">
              <a:off x="1195920" y="3204360"/>
              <a:ext cx="90360" cy="1260360"/>
            </a:xfrm>
            <a:custGeom>
              <a:avLst/>
              <a:gdLst>
                <a:gd name="textAreaLeft" fmla="*/ 0 w 90360"/>
                <a:gd name="textAreaRight" fmla="*/ 32760 w 90360"/>
                <a:gd name="textAreaTop" fmla="*/ 32760 h 1260360"/>
                <a:gd name="textAreaBottom" fmla="*/ 1227600 h 12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695600" y="4238640"/>
              <a:ext cx="20599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Arial"/>
                </a:rPr>
                <a:t>Semelhante 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Courier New"/>
                </a:rPr>
                <a:t>scan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05" name=""/>
            <p:cNvCxnSpPr>
              <a:stCxn id="203" idx="1"/>
              <a:endCxn id="204" idx="1"/>
            </p:cNvCxnSpPr>
            <p:nvPr/>
          </p:nvCxnSpPr>
          <p:spPr>
            <a:xfrm flipH="1" rot="16200000">
              <a:off x="1082520" y="4039560"/>
              <a:ext cx="770760" cy="45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94968-90A8-4F88-A602-9EE400BE908D}" type="slidenum">
              <a:t>2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734F74-AC94-46A3-99B8-8499C6C4DE66}" type="datetime8">
              <a:rPr lang="en-US"/>
              <a:t>07/28/26 06: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457200" y="2077560"/>
            <a:ext cx="8229600" cy="4048200"/>
          </a:xfrm>
          <a:prstGeom prst="rect">
            <a:avLst/>
          </a:prstGeom>
          <a:solidFill>
            <a:srgbClr val="ccffcc"/>
          </a:solidFill>
          <a:ln w="12600">
            <a:solidFill>
              <a:srgbClr val="008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 anchorCtr="1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FILE *arquiv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char nome[30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float nota1, nota2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arquivo = fopen(“alunos.txt”, “</a:t>
            </a:r>
            <a:r>
              <a:rPr b="1" lang="pt-BR" sz="2400" spc="-1" strike="noStrike">
                <a:solidFill>
                  <a:srgbClr val="ff0000"/>
                </a:solidFill>
                <a:latin typeface="Courier New"/>
              </a:rPr>
              <a:t>r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// Lê o nome e nota do primeiro alu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ff"/>
                </a:solidFill>
                <a:latin typeface="Courier New"/>
              </a:rPr>
              <a:t>fscanf(arquivo, “%s %f %f”, nome, &amp;nota1, &amp;nota2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fclose(arquivo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Arquivos: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leitu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31640" y="1449360"/>
            <a:ext cx="828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Leitura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18480" y="1671480"/>
            <a:ext cx="2433240" cy="1557000"/>
          </a:xfrm>
          <a:prstGeom prst="rect">
            <a:avLst/>
          </a:prstGeom>
          <a:solidFill>
            <a:srgbClr val="ffffcc"/>
          </a:solidFill>
          <a:ln w="9360">
            <a:solidFill>
              <a:srgbClr val="cc99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Arquiv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José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9.5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na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7.0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8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aul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3.5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5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9F889-A057-4B86-B199-68CB056C6881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9FBD19-A259-4D47-BB13-9F04C2370A6A}" type="datetime8">
              <a:rPr lang="en-US"/>
              <a:t>07/28/26 06: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380880" y="2057400"/>
            <a:ext cx="8280360" cy="3781440"/>
          </a:xfrm>
          <a:prstGeom prst="rect">
            <a:avLst/>
          </a:prstGeom>
          <a:solidFill>
            <a:srgbClr val="ffffcc"/>
          </a:solidFill>
          <a:ln w="12600">
            <a:solidFill>
              <a:srgbClr val="cc99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Arquivos: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leitu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08760" y="2168640"/>
            <a:ext cx="5301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FILE *arquivo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char c, linha[102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arquivo = fopen(</a:t>
            </a:r>
            <a:r>
              <a:rPr b="1" i="1" lang="pt-BR" sz="2400" spc="-1" strike="noStrike">
                <a:solidFill>
                  <a:srgbClr val="000000"/>
                </a:solidFill>
                <a:latin typeface="Courier New"/>
              </a:rPr>
              <a:t>nom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i="1" lang="pt-BR" sz="2400" spc="-1" strike="noStrike">
                <a:solidFill>
                  <a:srgbClr val="000000"/>
                </a:solidFill>
                <a:latin typeface="Courier New"/>
              </a:rPr>
              <a:t>modo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383400" y="3601080"/>
            <a:ext cx="6775920" cy="466920"/>
            <a:chOff x="383400" y="3601080"/>
            <a:chExt cx="6775920" cy="466920"/>
          </a:xfrm>
        </p:grpSpPr>
        <p:sp>
          <p:nvSpPr>
            <p:cNvPr id="214" name=""/>
            <p:cNvSpPr/>
            <p:nvPr/>
          </p:nvSpPr>
          <p:spPr>
            <a:xfrm>
              <a:off x="3503880" y="3601080"/>
              <a:ext cx="3655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Courier New"/>
                </a:rPr>
                <a:t>c = </a:t>
              </a:r>
              <a:r>
                <a:rPr b="1" lang="pt-BR" sz="2400" spc="-1" strike="noStrike">
                  <a:solidFill>
                    <a:srgbClr val="0000ff"/>
                  </a:solidFill>
                  <a:latin typeface="Courier New"/>
                </a:rPr>
                <a:t>fgetc(arquivo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83400" y="3608280"/>
              <a:ext cx="2739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Ler um caractere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380880" y="4224960"/>
            <a:ext cx="8216280" cy="1384200"/>
            <a:chOff x="380880" y="4224960"/>
            <a:chExt cx="8216280" cy="1384200"/>
          </a:xfrm>
        </p:grpSpPr>
        <p:sp>
          <p:nvSpPr>
            <p:cNvPr id="217" name=""/>
            <p:cNvSpPr/>
            <p:nvPr/>
          </p:nvSpPr>
          <p:spPr>
            <a:xfrm>
              <a:off x="6592680" y="4905360"/>
              <a:ext cx="12567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rial"/>
                </a:rPr>
                <a:t>Tamanho</a:t>
              </a:r>
              <a:br>
                <a:rPr sz="2000"/>
              </a:br>
              <a:r>
                <a:rPr b="0" lang="pt-BR" sz="2000" spc="-1" strike="noStrike">
                  <a:solidFill>
                    <a:srgbClr val="000000"/>
                  </a:solidFill>
                  <a:latin typeface="Arial"/>
                </a:rPr>
                <a:t>máxim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 rot="5400000">
              <a:off x="5060880" y="4239360"/>
              <a:ext cx="90720" cy="990360"/>
            </a:xfrm>
            <a:custGeom>
              <a:avLst/>
              <a:gdLst>
                <a:gd name="textAreaLeft" fmla="*/ 0 w 90720"/>
                <a:gd name="textAreaRight" fmla="*/ 32760 w 90720"/>
                <a:gd name="textAreaTop" fmla="*/ 25560 h 990360"/>
                <a:gd name="textAreaBottom" fmla="*/ 964800 h 99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19" name=""/>
            <p:cNvCxnSpPr>
              <a:stCxn id="220" idx="1"/>
              <a:endCxn id="217" idx="1"/>
            </p:cNvCxnSpPr>
            <p:nvPr/>
          </p:nvCxnSpPr>
          <p:spPr>
            <a:xfrm flipH="1" rot="16200000">
              <a:off x="6153480" y="4816800"/>
              <a:ext cx="475560" cy="4039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21" name=""/>
            <p:cNvSpPr/>
            <p:nvPr/>
          </p:nvSpPr>
          <p:spPr>
            <a:xfrm>
              <a:off x="464760" y="5186520"/>
              <a:ext cx="4048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rial"/>
                </a:rPr>
                <a:t>variável para armazenar conteúd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22" name=""/>
            <p:cNvCxnSpPr>
              <a:stCxn id="218" idx="1"/>
              <a:endCxn id="221" idx="0"/>
            </p:cNvCxnSpPr>
            <p:nvPr/>
          </p:nvCxnSpPr>
          <p:spPr>
            <a:xfrm rot="5400000">
              <a:off x="3594960" y="3673440"/>
              <a:ext cx="407160" cy="2620080"/>
            </a:xfrm>
            <a:prstGeom prst="bentConnector3">
              <a:avLst>
                <a:gd name="adj1" fmla="val 4955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20" name=""/>
            <p:cNvSpPr/>
            <p:nvPr/>
          </p:nvSpPr>
          <p:spPr>
            <a:xfrm rot="5400000">
              <a:off x="6141240" y="4419360"/>
              <a:ext cx="90720" cy="630360"/>
            </a:xfrm>
            <a:custGeom>
              <a:avLst/>
              <a:gdLst>
                <a:gd name="textAreaLeft" fmla="*/ 0 w 90720"/>
                <a:gd name="textAreaRight" fmla="*/ 32760 w 90720"/>
                <a:gd name="textAreaTop" fmla="*/ 16200 h 630360"/>
                <a:gd name="textAreaBottom" fmla="*/ 614160 h 63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478680" y="4224960"/>
              <a:ext cx="5118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ff"/>
                  </a:solidFill>
                  <a:latin typeface="Courier New"/>
                </a:rPr>
                <a:t>fgets(linha, 100, arquivo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80880" y="4232160"/>
              <a:ext cx="2265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Ler uma linha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47CBF-5871-4938-BAFB-514B145ED763}" type="slidenum">
              <a:t>2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77A3C8-5A34-46F1-9983-61F1DC5C0CE0}" type="datetime8">
              <a:rPr lang="en-US"/>
              <a:t>07/28/26 06: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457200" y="2077560"/>
            <a:ext cx="8229600" cy="4048200"/>
          </a:xfrm>
          <a:prstGeom prst="rect">
            <a:avLst/>
          </a:prstGeom>
          <a:solidFill>
            <a:srgbClr val="ccffcc"/>
          </a:solidFill>
          <a:ln w="12600">
            <a:solidFill>
              <a:srgbClr val="008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 anchorCtr="1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FILE *arquiv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char linha1[102], linha2[102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arquivo = fopen(“mensagem.txt”, “</a:t>
            </a:r>
            <a:r>
              <a:rPr b="1" lang="pt-BR" sz="2400" spc="-1" strike="noStrike">
                <a:solidFill>
                  <a:srgbClr val="ff0000"/>
                </a:solidFill>
                <a:latin typeface="Courier New"/>
              </a:rPr>
              <a:t>r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ff"/>
                </a:solidFill>
                <a:latin typeface="Courier New"/>
              </a:rPr>
              <a:t>fgets(linha1, 100, arquivo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ff"/>
                </a:solidFill>
                <a:latin typeface="Courier New"/>
              </a:rPr>
              <a:t>fgets(linha2, 100, arquivo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fclose(arquivo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Arquivos: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leitu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015600" y="1268280"/>
            <a:ext cx="2606760" cy="1191240"/>
          </a:xfrm>
          <a:prstGeom prst="rect">
            <a:avLst/>
          </a:prstGeom>
          <a:solidFill>
            <a:srgbClr val="ffffcc"/>
          </a:solidFill>
          <a:ln w="9360">
            <a:solidFill>
              <a:srgbClr val="cc99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Arquiv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ezado client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Gostaríamos de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424400" y="5499000"/>
            <a:ext cx="3954240" cy="825480"/>
          </a:xfrm>
          <a:prstGeom prst="rect">
            <a:avLst/>
          </a:prstGeom>
          <a:solidFill>
            <a:srgbClr val="ffffcc"/>
          </a:solidFill>
          <a:ln w="9360">
            <a:solidFill>
              <a:srgbClr val="cc99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linha1</a:t>
            </a:r>
            <a:r>
              <a:rPr b="0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“Prezado cliente,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linha2</a:t>
            </a:r>
            <a:r>
              <a:rPr b="0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“Gostaríamos de..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7EFD6-CBE8-4A5E-A49E-C7F22DF925D8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73FB0A-E796-4471-B613-B2F910BD2EFF}" type="datetime8">
              <a:rPr lang="en-US"/>
              <a:t>07/28/26 06: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431640" y="2077920"/>
            <a:ext cx="8280720" cy="4051440"/>
          </a:xfrm>
          <a:prstGeom prst="rect">
            <a:avLst/>
          </a:prstGeom>
          <a:solidFill>
            <a:srgbClr val="ffffcc"/>
          </a:solidFill>
          <a:ln w="12600">
            <a:solidFill>
              <a:srgbClr val="cc99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Arquivos: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fim de arqui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971640" y="2156760"/>
            <a:ext cx="7200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  <a:ea typeface="Arial"/>
              </a:rPr>
              <a:t>FILE *arquivo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  <a:ea typeface="Arial"/>
              </a:rPr>
              <a:t>arquivo = fopen(“mensagem.txt”, “r”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while (! </a:t>
            </a:r>
            <a:r>
              <a:rPr b="1" lang="pt-BR" sz="2400" spc="-1" strike="noStrike">
                <a:solidFill>
                  <a:srgbClr val="ff0000"/>
                </a:solidFill>
                <a:latin typeface="Courier New"/>
              </a:rPr>
              <a:t>eof(arquivo)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Operação de leitu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fclose(arquivo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19B69-1D59-4900-A2A5-A90F2C6AE70A}" type="slidenum">
              <a:t>2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4A2800-4C31-4F29-942D-65E621FEB705}" type="datetime8">
              <a:rPr lang="en-US"/>
              <a:t>07/28/26 06: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431640" y="2077920"/>
            <a:ext cx="8280720" cy="4502160"/>
          </a:xfrm>
          <a:prstGeom prst="rect">
            <a:avLst/>
          </a:prstGeom>
          <a:solidFill>
            <a:srgbClr val="ffffcc"/>
          </a:solidFill>
          <a:ln w="12600">
            <a:solidFill>
              <a:srgbClr val="cc99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Arquivos: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fim de arqui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971640" y="2046240"/>
            <a:ext cx="720072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  <a:ea typeface="Arial"/>
              </a:rPr>
              <a:t>FILE *arquivo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  <a:ea typeface="Arial"/>
              </a:rPr>
              <a:t>char nome[30]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  <a:ea typeface="Arial"/>
              </a:rPr>
              <a:t>float nota1, nota2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  <a:ea typeface="Arial"/>
              </a:rPr>
              <a:t>arquivo = fopen(“notas.txt”, “r”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while (! eof(arquivo))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pt-BR" sz="2000" spc="-1" strike="noStrike">
                <a:solidFill>
                  <a:srgbClr val="ff0000"/>
                </a:solidFill>
                <a:latin typeface="Courier New"/>
              </a:rPr>
              <a:t>q = fscanf(arquivo, “%s %f %f”,</a:t>
            </a:r>
            <a:br>
              <a:rPr sz="2000"/>
            </a:br>
            <a:r>
              <a:rPr b="1" lang="pt-BR" sz="2000" spc="-1" strike="noStrike">
                <a:solidFill>
                  <a:srgbClr val="ff0000"/>
                </a:solidFill>
                <a:latin typeface="Courier New"/>
              </a:rPr>
              <a:t>       nome, &amp;nota1, &amp;nota2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0000"/>
                </a:solidFill>
                <a:latin typeface="Courier New"/>
              </a:rPr>
              <a:t>   </a:t>
            </a:r>
            <a:r>
              <a:rPr b="1" lang="pt-BR" sz="2000" spc="-1" strike="noStrike">
                <a:solidFill>
                  <a:srgbClr val="ff0000"/>
                </a:solidFill>
                <a:latin typeface="Courier New"/>
              </a:rPr>
              <a:t>if (q == 0) break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fclose(arquivo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FA97D-1FD1-4263-A479-2F196C8EC973}" type="slidenum">
              <a:t>2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C02E76-52A2-4637-8D2D-F6739A06CF6E}" type="datetime8">
              <a:rPr lang="en-US"/>
              <a:t>07/28/26 06: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31640" y="2077920"/>
            <a:ext cx="8280720" cy="3781440"/>
          </a:xfrm>
          <a:prstGeom prst="rect">
            <a:avLst/>
          </a:prstGeom>
          <a:solidFill>
            <a:srgbClr val="ffffcc"/>
          </a:solidFill>
          <a:ln w="12600">
            <a:solidFill>
              <a:srgbClr val="cc99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Arquivos: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scri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08760" y="2168640"/>
            <a:ext cx="530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FILE *arquivo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arquivo = fopen(</a:t>
            </a:r>
            <a:r>
              <a:rPr b="1" i="1" lang="pt-BR" sz="2400" spc="-1" strike="noStrike">
                <a:solidFill>
                  <a:srgbClr val="000000"/>
                </a:solidFill>
                <a:latin typeface="Courier New"/>
              </a:rPr>
              <a:t>nom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i="1" lang="pt-BR" sz="2400" spc="-1" strike="noStrike">
                <a:solidFill>
                  <a:srgbClr val="000000"/>
                </a:solidFill>
                <a:latin typeface="Courier New"/>
              </a:rPr>
              <a:t>modo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07320" y="3248640"/>
            <a:ext cx="694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ff"/>
                </a:solidFill>
                <a:latin typeface="Courier New"/>
              </a:rPr>
              <a:t>fprintf(arquivo, “texto”, &amp;variavel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3850920" y="3789360"/>
            <a:ext cx="4536720" cy="1629720"/>
            <a:chOff x="3850920" y="3789360"/>
            <a:chExt cx="4536720" cy="1629720"/>
          </a:xfrm>
        </p:grpSpPr>
        <p:sp>
          <p:nvSpPr>
            <p:cNvPr id="240" name=""/>
            <p:cNvSpPr/>
            <p:nvPr/>
          </p:nvSpPr>
          <p:spPr>
            <a:xfrm>
              <a:off x="7005960" y="4059360"/>
              <a:ext cx="13816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Arial"/>
                </a:rPr>
                <a:t>Lista d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Arial"/>
                </a:rPr>
                <a:t>variávei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 rot="5400000">
              <a:off x="4435920" y="3204360"/>
              <a:ext cx="90360" cy="1260360"/>
            </a:xfrm>
            <a:custGeom>
              <a:avLst/>
              <a:gdLst>
                <a:gd name="textAreaLeft" fmla="*/ 0 w 90360"/>
                <a:gd name="textAreaRight" fmla="*/ 32760 w 90360"/>
                <a:gd name="textAreaTop" fmla="*/ 32760 h 1260360"/>
                <a:gd name="textAreaBottom" fmla="*/ 1227600 h 12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42" name=""/>
            <p:cNvCxnSpPr>
              <a:stCxn id="243" idx="1"/>
              <a:endCxn id="240" idx="1"/>
            </p:cNvCxnSpPr>
            <p:nvPr/>
          </p:nvCxnSpPr>
          <p:spPr>
            <a:xfrm flipH="1" rot="16200000">
              <a:off x="6347880" y="3817080"/>
              <a:ext cx="589680" cy="7178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44" name=""/>
            <p:cNvSpPr/>
            <p:nvPr/>
          </p:nvSpPr>
          <p:spPr>
            <a:xfrm>
              <a:off x="5468760" y="4959360"/>
              <a:ext cx="291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Arial"/>
                </a:rPr>
                <a:t>%d, %f, %c, %s, et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45" name=""/>
            <p:cNvCxnSpPr>
              <a:stCxn id="241" idx="1"/>
              <a:endCxn id="244" idx="1"/>
            </p:cNvCxnSpPr>
            <p:nvPr/>
          </p:nvCxnSpPr>
          <p:spPr>
            <a:xfrm flipH="1" rot="16200000">
              <a:off x="4322160" y="4039200"/>
              <a:ext cx="1308960" cy="989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43" name=""/>
            <p:cNvSpPr/>
            <p:nvPr/>
          </p:nvSpPr>
          <p:spPr>
            <a:xfrm rot="5400000">
              <a:off x="6237000" y="3114720"/>
              <a:ext cx="90360" cy="1439640"/>
            </a:xfrm>
            <a:custGeom>
              <a:avLst/>
              <a:gdLst>
                <a:gd name="textAreaLeft" fmla="*/ 0 w 90360"/>
                <a:gd name="textAreaRight" fmla="*/ 32760 w 90360"/>
                <a:gd name="textAreaTop" fmla="*/ 37440 h 1439640"/>
                <a:gd name="textAreaBottom" fmla="*/ 1402200 h 1439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6" name=""/>
          <p:cNvSpPr/>
          <p:nvPr/>
        </p:nvSpPr>
        <p:spPr>
          <a:xfrm rot="5400000">
            <a:off x="1195920" y="3204360"/>
            <a:ext cx="90360" cy="1260360"/>
          </a:xfrm>
          <a:custGeom>
            <a:avLst/>
            <a:gdLst>
              <a:gd name="textAreaLeft" fmla="*/ 0 w 90360"/>
              <a:gd name="textAreaRight" fmla="*/ 32760 w 90360"/>
              <a:gd name="textAreaTop" fmla="*/ 32760 h 1260360"/>
              <a:gd name="textAreaBottom" fmla="*/ 1227600 h 12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695600" y="4238640"/>
            <a:ext cx="2059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emelhante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print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8" name=""/>
          <p:cNvCxnSpPr>
            <a:stCxn id="246" idx="1"/>
            <a:endCxn id="247" idx="1"/>
          </p:cNvCxnSpPr>
          <p:nvPr/>
        </p:nvCxnSpPr>
        <p:spPr>
          <a:xfrm flipH="1" rot="16200000">
            <a:off x="1082520" y="4039560"/>
            <a:ext cx="770760" cy="4500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B4200-8003-44CC-AA6E-2B82296CC3A4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D6E0BD-7799-480A-8313-726A8C037AC4}" type="datetime8">
              <a:rPr lang="en-US"/>
              <a:t>07/28/26 06: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457200" y="2077560"/>
            <a:ext cx="8229600" cy="4048200"/>
          </a:xfrm>
          <a:prstGeom prst="rect">
            <a:avLst/>
          </a:prstGeom>
          <a:solidFill>
            <a:srgbClr val="ccffcc"/>
          </a:solidFill>
          <a:ln w="12600">
            <a:solidFill>
              <a:srgbClr val="008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 anchorCtr="1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FILE *arquiv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char nome[30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float nota1, nota2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arquivo = fopen(“alunos.txt”, “</a:t>
            </a:r>
            <a:r>
              <a:rPr b="1" lang="pt-BR" sz="2400" spc="-1" strike="noStrike">
                <a:solidFill>
                  <a:srgbClr val="ff0000"/>
                </a:solidFill>
                <a:latin typeface="Courier New"/>
              </a:rPr>
              <a:t>w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// Escreve nome e nota do primeiro alu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0000"/>
                </a:solidFill>
                <a:latin typeface="Courier New"/>
              </a:rPr>
              <a:t>fprintf(arquivo, “%s %f %f”, nome, nota1, nota2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fclose(arquivo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Arquivos: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scri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B35B6-69BC-4B34-96D8-53A5541B4AEF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CCD642-B13C-44FD-A106-91ED12D3E729}" type="datetime8">
              <a:rPr lang="en-US"/>
              <a:t>07/28/26 06: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431640" y="2077920"/>
            <a:ext cx="8280720" cy="3781440"/>
          </a:xfrm>
          <a:prstGeom prst="rect">
            <a:avLst/>
          </a:prstGeom>
          <a:solidFill>
            <a:srgbClr val="ffffcc"/>
          </a:solidFill>
          <a:ln w="12600">
            <a:solidFill>
              <a:srgbClr val="cc99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Arquivos: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scri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08760" y="2168640"/>
            <a:ext cx="5301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FILE *arquivo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arquivo = fopen(</a:t>
            </a:r>
            <a:r>
              <a:rPr b="1" i="1" lang="pt-BR" sz="2400" spc="-1" strike="noStrike">
                <a:solidFill>
                  <a:srgbClr val="000000"/>
                </a:solidFill>
                <a:latin typeface="Courier New"/>
              </a:rPr>
              <a:t>nom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i="1" lang="pt-BR" sz="2400" spc="-1" strike="noStrike">
                <a:solidFill>
                  <a:srgbClr val="000000"/>
                </a:solidFill>
                <a:latin typeface="Courier New"/>
              </a:rPr>
              <a:t>modo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char c, texto[100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615600" y="3607200"/>
            <a:ext cx="7427880" cy="460800"/>
            <a:chOff x="615600" y="3607200"/>
            <a:chExt cx="7427880" cy="460800"/>
          </a:xfrm>
        </p:grpSpPr>
        <p:sp>
          <p:nvSpPr>
            <p:cNvPr id="255" name=""/>
            <p:cNvSpPr/>
            <p:nvPr/>
          </p:nvSpPr>
          <p:spPr>
            <a:xfrm>
              <a:off x="4570920" y="3607200"/>
              <a:ext cx="3472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ff0000"/>
                  </a:solidFill>
                  <a:latin typeface="Courier New"/>
                </a:rPr>
                <a:t>fputc(c, arquivo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15600" y="3608280"/>
              <a:ext cx="3551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Escrever um caractere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613800" y="4224960"/>
            <a:ext cx="7300080" cy="466920"/>
            <a:chOff x="613800" y="4224960"/>
            <a:chExt cx="7300080" cy="466920"/>
          </a:xfrm>
        </p:grpSpPr>
        <p:sp>
          <p:nvSpPr>
            <p:cNvPr id="258" name=""/>
            <p:cNvSpPr/>
            <p:nvPr/>
          </p:nvSpPr>
          <p:spPr>
            <a:xfrm>
              <a:off x="3709800" y="4224960"/>
              <a:ext cx="420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ff0000"/>
                  </a:solidFill>
                  <a:latin typeface="Courier New"/>
                </a:rPr>
                <a:t>fputs(linha, arquivo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13800" y="4232160"/>
              <a:ext cx="2925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Escrever um texto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0" name=""/>
          <p:cNvGrpSpPr/>
          <p:nvPr/>
        </p:nvGrpSpPr>
        <p:grpSpPr>
          <a:xfrm>
            <a:off x="610560" y="4867920"/>
            <a:ext cx="7427880" cy="460800"/>
            <a:chOff x="610560" y="4867920"/>
            <a:chExt cx="7427880" cy="460800"/>
          </a:xfrm>
        </p:grpSpPr>
        <p:sp>
          <p:nvSpPr>
            <p:cNvPr id="261" name=""/>
            <p:cNvSpPr/>
            <p:nvPr/>
          </p:nvSpPr>
          <p:spPr>
            <a:xfrm>
              <a:off x="4931640" y="4867920"/>
              <a:ext cx="3106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ff0000"/>
                  </a:solidFill>
                  <a:latin typeface="Courier New"/>
                </a:rPr>
                <a:t>fflush(arquivo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10560" y="4869000"/>
              <a:ext cx="387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Garantir escrita no disco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ECDC4-57F2-4D69-A7DE-76CA1D5528B2}" type="slidenum">
              <a:t>2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BA3517-A233-4C16-849C-A7E5052C3990}" type="datetime8">
              <a:rPr lang="en-US"/>
              <a:t>07/28/26 06: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/>
          </p:nvPr>
        </p:nvSpPr>
        <p:spPr>
          <a:xfrm>
            <a:off x="457200" y="2077560"/>
            <a:ext cx="8229600" cy="4048200"/>
          </a:xfrm>
          <a:prstGeom prst="rect">
            <a:avLst/>
          </a:prstGeom>
          <a:solidFill>
            <a:srgbClr val="ccffcc"/>
          </a:solidFill>
          <a:ln w="12600">
            <a:solidFill>
              <a:srgbClr val="008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 anchorCtr="1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FILE *arquiv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arquivo = fopen(“mensagem.txt”, “</a:t>
            </a:r>
            <a:r>
              <a:rPr b="1" lang="pt-BR" sz="2400" spc="-1" strike="noStrike">
                <a:solidFill>
                  <a:srgbClr val="ff0000"/>
                </a:solidFill>
                <a:latin typeface="Courier New"/>
              </a:rPr>
              <a:t>w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0000"/>
                </a:solidFill>
                <a:latin typeface="Courier New"/>
              </a:rPr>
              <a:t>fprintf(arquivo, “Resultado da operacao:\n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// o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0000"/>
                </a:solidFill>
                <a:latin typeface="Courier New"/>
              </a:rPr>
              <a:t>fputs(“Resultado da operacao:\n”, arquivo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fclose(arquivo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Arquivos: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scri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733440" y="6269040"/>
            <a:ext cx="9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rquiv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B4405-F1ED-432D-AD57-2EC2B1B4B1CF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95468F-7299-46D2-9534-7452B53C726E}" type="datetime8">
              <a:rPr lang="en-US"/>
              <a:t>07/28/26 06: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1" dur="indefinite" restart="never" nodeType="tmRoot">
          <p:childTnLst>
            <p:seq>
              <p:cTn id="582" dur="indefinite" nodeType="mainSeq">
                <p:childTnLst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Tipos Avançados de Dad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40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Fluxos de Da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Arquiv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brir/Fech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Ler/Escre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utras operaçõ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ntrada/Saída Padr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31640" y="1449360"/>
            <a:ext cx="828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Roteir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D86D2-37C2-4C71-88FA-A325C295CB9E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A96A89-AB73-468B-9E4F-BA2A1BDC0EE3}" type="datetime8">
              <a:rPr lang="en-US"/>
              <a:t>07/28/26 06: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431640" y="2077920"/>
            <a:ext cx="8280720" cy="4591080"/>
          </a:xfrm>
          <a:prstGeom prst="rect">
            <a:avLst/>
          </a:prstGeom>
          <a:solidFill>
            <a:srgbClr val="ffffcc"/>
          </a:solidFill>
          <a:ln w="12600">
            <a:solidFill>
              <a:srgbClr val="cc99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Arquivos: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deslocamen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08760" y="2168640"/>
            <a:ext cx="530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FILE *arquivo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arquivo = fopen(</a:t>
            </a:r>
            <a:r>
              <a:rPr b="1" i="1" lang="pt-BR" sz="2400" spc="-1" strike="noStrike">
                <a:solidFill>
                  <a:srgbClr val="000000"/>
                </a:solidFill>
                <a:latin typeface="Courier New"/>
              </a:rPr>
              <a:t>nom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i="1" lang="pt-BR" sz="2400" spc="-1" strike="noStrike">
                <a:solidFill>
                  <a:srgbClr val="000000"/>
                </a:solidFill>
                <a:latin typeface="Courier New"/>
              </a:rPr>
              <a:t>modo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517680" y="3607200"/>
            <a:ext cx="7250760" cy="460800"/>
            <a:chOff x="517680" y="3607200"/>
            <a:chExt cx="7250760" cy="460800"/>
          </a:xfrm>
        </p:grpSpPr>
        <p:sp>
          <p:nvSpPr>
            <p:cNvPr id="270" name=""/>
            <p:cNvSpPr/>
            <p:nvPr/>
          </p:nvSpPr>
          <p:spPr>
            <a:xfrm>
              <a:off x="4661640" y="3607200"/>
              <a:ext cx="3106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ff"/>
                  </a:solidFill>
                  <a:latin typeface="Courier New"/>
                </a:rPr>
                <a:t>rewind(arquivo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17680" y="3608280"/>
              <a:ext cx="4112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Voltar ao inicio do arquivo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488880" y="4148640"/>
            <a:ext cx="7737480" cy="460800"/>
            <a:chOff x="488880" y="4148640"/>
            <a:chExt cx="7737480" cy="460800"/>
          </a:xfrm>
        </p:grpSpPr>
        <p:sp>
          <p:nvSpPr>
            <p:cNvPr id="273" name=""/>
            <p:cNvSpPr/>
            <p:nvPr/>
          </p:nvSpPr>
          <p:spPr>
            <a:xfrm>
              <a:off x="4570920" y="4148640"/>
              <a:ext cx="3655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ff"/>
                  </a:solidFill>
                  <a:latin typeface="Courier New"/>
                </a:rPr>
                <a:t>p = ftell(arquivo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88880" y="4149720"/>
              <a:ext cx="3992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Consultar a posição atual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5" name=""/>
          <p:cNvSpPr/>
          <p:nvPr/>
        </p:nvSpPr>
        <p:spPr>
          <a:xfrm>
            <a:off x="1185120" y="2978280"/>
            <a:ext cx="33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Arial"/>
              </a:rPr>
              <a:t>obrigatório: “w+” ou “r+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6" name=""/>
          <p:cNvCxnSpPr>
            <a:stCxn id="277" idx="1"/>
            <a:endCxn id="275" idx="3"/>
          </p:cNvCxnSpPr>
          <p:nvPr/>
        </p:nvCxnSpPr>
        <p:spPr>
          <a:xfrm rot="5400000">
            <a:off x="4752360" y="2800080"/>
            <a:ext cx="226440" cy="5882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7" name=""/>
          <p:cNvSpPr/>
          <p:nvPr/>
        </p:nvSpPr>
        <p:spPr>
          <a:xfrm rot="5400000">
            <a:off x="5111640" y="2528640"/>
            <a:ext cx="90360" cy="811440"/>
          </a:xfrm>
          <a:custGeom>
            <a:avLst/>
            <a:gdLst>
              <a:gd name="textAreaLeft" fmla="*/ 0 w 90360"/>
              <a:gd name="textAreaRight" fmla="*/ 32760 w 90360"/>
              <a:gd name="textAreaTop" fmla="*/ 20880 h 811440"/>
              <a:gd name="textAreaBottom" fmla="*/ 790560 h 81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525240" y="4689360"/>
            <a:ext cx="8048880" cy="1892880"/>
            <a:chOff x="525240" y="4689360"/>
            <a:chExt cx="8048880" cy="1892880"/>
          </a:xfrm>
        </p:grpSpPr>
        <p:sp>
          <p:nvSpPr>
            <p:cNvPr id="279" name=""/>
            <p:cNvSpPr/>
            <p:nvPr/>
          </p:nvSpPr>
          <p:spPr>
            <a:xfrm>
              <a:off x="696960" y="5137560"/>
              <a:ext cx="767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ff"/>
                  </a:solidFill>
                  <a:latin typeface="Courier New"/>
                </a:rPr>
                <a:t>fseek(arquivo, deslocamento, referência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25240" y="4689360"/>
              <a:ext cx="3177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Arial"/>
                </a:rPr>
                <a:t>Avançar/Retroceder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09480" y="5505480"/>
              <a:ext cx="27896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Arial"/>
                </a:rPr>
                <a:t>positivo: avanç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Arial"/>
                </a:rPr>
                <a:t>negativo: retroced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2" name=""/>
            <p:cNvCxnSpPr>
              <a:stCxn id="283" idx="1"/>
              <a:endCxn id="281" idx="3"/>
            </p:cNvCxnSpPr>
            <p:nvPr/>
          </p:nvCxnSpPr>
          <p:spPr>
            <a:xfrm rot="5400000">
              <a:off x="3912480" y="5175000"/>
              <a:ext cx="230760" cy="1253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3" name=""/>
            <p:cNvSpPr/>
            <p:nvPr/>
          </p:nvSpPr>
          <p:spPr>
            <a:xfrm rot="5400000">
              <a:off x="4560480" y="4505400"/>
              <a:ext cx="187560" cy="2174760"/>
            </a:xfrm>
            <a:custGeom>
              <a:avLst/>
              <a:gdLst>
                <a:gd name="textAreaLeft" fmla="*/ 0 w 187560"/>
                <a:gd name="textAreaRight" fmla="*/ 67680 w 187560"/>
                <a:gd name="textAreaTop" fmla="*/ 56520 h 2174760"/>
                <a:gd name="textAreaBottom" fmla="*/ 2118240 h 2174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5400000">
              <a:off x="6873840" y="4637160"/>
              <a:ext cx="271440" cy="1814400"/>
            </a:xfrm>
            <a:custGeom>
              <a:avLst/>
              <a:gdLst>
                <a:gd name="textAreaLeft" fmla="*/ 0 w 271440"/>
                <a:gd name="textAreaRight" fmla="*/ 97920 w 271440"/>
                <a:gd name="textAreaTop" fmla="*/ 47160 h 1814400"/>
                <a:gd name="textAreaBottom" fmla="*/ 1767240 h 18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384880" y="5878440"/>
              <a:ext cx="31892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rial"/>
                </a:rPr>
                <a:t>SEEK_CUR, SEEK_END,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rial"/>
                </a:rPr>
                <a:t>SEEK_S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6" name=""/>
            <p:cNvCxnSpPr>
              <a:stCxn id="284" idx="1"/>
              <a:endCxn id="285" idx="0"/>
            </p:cNvCxnSpPr>
            <p:nvPr/>
          </p:nvCxnSpPr>
          <p:spPr>
            <a:xfrm rot="5400000">
              <a:off x="6897240" y="5763960"/>
              <a:ext cx="197640" cy="32400"/>
            </a:xfrm>
            <a:prstGeom prst="bentConnector3">
              <a:avLst>
                <a:gd name="adj1" fmla="val 4908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82507-1142-4416-A21C-56333626DF4D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811D36-E41B-4B03-8716-898996EF2E67}" type="datetime8">
              <a:rPr lang="en-US"/>
              <a:t>07/28/26 06: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000000"/>
                </a:solidFill>
                <a:latin typeface="Arial"/>
              </a:rPr>
              <a:t>Comunicação e Arquivos 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1371600" y="3499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600" spc="-1" strike="noStrike">
                <a:solidFill>
                  <a:srgbClr val="000000"/>
                </a:solidFill>
                <a:latin typeface="Arial"/>
              </a:rPr>
              <a:t>Entrada/Saída Padrão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18A80-097E-461D-91EF-AAD95BA541AA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6928A5D1-EA5D-499E-A272-5FC8A1B954EF}" type="datetime8">
              <a:rPr lang="en-US"/>
              <a:t>07/28/26 06: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/>
          </p:nvPr>
        </p:nvSpPr>
        <p:spPr>
          <a:xfrm>
            <a:off x="457200" y="2077560"/>
            <a:ext cx="8229600" cy="4048200"/>
          </a:xfrm>
          <a:prstGeom prst="rect">
            <a:avLst/>
          </a:prstGeom>
          <a:solidFill>
            <a:srgbClr val="ffffcc"/>
          </a:solidFill>
          <a:ln w="12600">
            <a:solidFill>
              <a:srgbClr val="cc99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Três arquivos abertos automaticament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ff"/>
                </a:solidFill>
                <a:latin typeface="Courier New"/>
              </a:rPr>
              <a:t>stdin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: entrada padrão (teclad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ff"/>
                </a:solidFill>
                <a:latin typeface="Courier New"/>
              </a:rPr>
              <a:t>stdout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: saída padrão (terminal/tela DO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ff"/>
                </a:solidFill>
                <a:latin typeface="Courier New"/>
              </a:rPr>
              <a:t>stderr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: saída de erro (terminal/tela DO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quivalent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intf(“texto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printf(stdout, “texto”)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Entrada/Saída Padrã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F14A2-E061-4255-B200-9FD5503B89F1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BBE185-A8C3-4A39-80C1-5150F530F57C}" type="datetime8">
              <a:rPr lang="en-US"/>
              <a:t>07/28/26 06: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3" dur="indefinite" restart="never" nodeType="tmRoot">
          <p:childTnLst>
            <p:seq>
              <p:cTn id="634" dur="indefinite" nodeType="mainSeq">
                <p:childTnLst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000000"/>
                </a:solidFill>
                <a:latin typeface="Arial"/>
              </a:rPr>
              <a:t>Comunicação e Arquivos 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1371600" y="3499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FormatArq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9E5E2-2366-4E14-97B1-2F23A29E4DF8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F5845ABD-6C01-4ACE-80DC-4DC063864823}" type="datetime8">
              <a:rPr lang="en-US"/>
              <a:t>07/28/26 06: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000000"/>
                </a:solidFill>
                <a:latin typeface="Arial"/>
              </a:rPr>
              <a:t>Comunicação e Arquivos 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3499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600" spc="-1" strike="noStrike">
                <a:solidFill>
                  <a:srgbClr val="000000"/>
                </a:solidFill>
                <a:latin typeface="Arial"/>
              </a:rPr>
              <a:t>Modelo de Fluxo de Dados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A754C-B007-4CF1-A045-5E42A8431804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7A8380E6-2FF4-48F4-8FA2-10DA3E0817CF}" type="datetime8">
              <a:rPr lang="en-US"/>
              <a:t>07/28/26 06: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31640" y="1719000"/>
            <a:ext cx="8229600" cy="4048200"/>
          </a:xfrm>
          <a:prstGeom prst="rect">
            <a:avLst/>
          </a:prstGeom>
          <a:solidFill>
            <a:srgbClr val="ffffcc"/>
          </a:solidFill>
          <a:ln w="12600">
            <a:solidFill>
              <a:srgbClr val="cc99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É a comunicação entre o programa e outras entidad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ecl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erminal/prompt 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rqu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nexões de rede, Bluetoo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mpressor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ortas seriais, USB, infra-vermelh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utros progra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Fluxo de Dados: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definiç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B060C-72AE-4BE6-BB5B-A03994C3BFBA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2942A5-F1BF-4ECA-AAFD-07252600EA8D}" type="datetime8">
              <a:rPr lang="en-US"/>
              <a:t>07/28/26 06: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57200" y="2133720"/>
            <a:ext cx="8229600" cy="4047840"/>
          </a:xfrm>
          <a:prstGeom prst="rect">
            <a:avLst/>
          </a:prstGeom>
          <a:solidFill>
            <a:srgbClr val="ffffcc"/>
          </a:solidFill>
          <a:ln w="12600">
            <a:solidFill>
              <a:srgbClr val="cc99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Modelo de comunicação genérico e unificad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Qualquer dispositivo parece funcionar da “mesma maneira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rogramas mais simpl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Independência de plataforma e sistema operacion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Fluxo de Dados: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vantage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BC32B-160D-4935-9E2D-79C78C4B8BB8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216CCA-3D2C-401C-B7F3-8B25D376CA49}" type="datetime8">
              <a:rPr lang="en-US"/>
              <a:t>07/28/26 06: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520560" y="1719000"/>
            <a:ext cx="8229600" cy="2950920"/>
          </a:xfrm>
          <a:prstGeom prst="rect">
            <a:avLst/>
          </a:prstGeom>
          <a:solidFill>
            <a:srgbClr val="ffffcc"/>
          </a:solidFill>
          <a:ln w="12600">
            <a:solidFill>
              <a:srgbClr val="cc99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Produtor: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screve no flux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Consumidor: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lê do flux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Fluxo: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fila de entrega de d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 fluxo preserva a ord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odutor e consumidor operam em ritmos difer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Fluxo de Dados: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mode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657840" y="5818320"/>
            <a:ext cx="1694160" cy="59688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onsumi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880920" y="5818320"/>
            <a:ext cx="1694160" cy="59688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rodu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971280" y="5221440"/>
            <a:ext cx="2300400" cy="1095120"/>
            <a:chOff x="971280" y="5221440"/>
            <a:chExt cx="2300400" cy="1095120"/>
          </a:xfrm>
        </p:grpSpPr>
        <p:sp>
          <p:nvSpPr>
            <p:cNvPr id="112" name=""/>
            <p:cNvSpPr/>
            <p:nvPr/>
          </p:nvSpPr>
          <p:spPr>
            <a:xfrm>
              <a:off x="1878120" y="5221440"/>
              <a:ext cx="1393560" cy="1095120"/>
            </a:xfrm>
            <a:custGeom>
              <a:avLst/>
              <a:gdLst>
                <a:gd name="textAreaLeft" fmla="*/ 0 w 1393560"/>
                <a:gd name="textAreaRight" fmla="*/ 1393920 w 1393560"/>
                <a:gd name="textAreaTop" fmla="*/ 0 h 1095120"/>
                <a:gd name="textAreaBottom" fmla="*/ 1095480 h 109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415" y="10783"/>
                  </a:moveTo>
                  <a:arcTo wR="-8385" hR="-8385" stAng="-10793031" swAng="-10806969"/>
                  <a:lnTo>
                    <a:pt x="0" y="10800"/>
                  </a:lnTo>
                  <a:arcTo wR="10800" hR="10800" stAng="10800000" swAng="10806969"/>
                  <a:lnTo>
                    <a:pt x="24300" y="10827"/>
                  </a:lnTo>
                  <a:lnTo>
                    <a:pt x="20385" y="14727"/>
                  </a:lnTo>
                  <a:lnTo>
                    <a:pt x="16485" y="10812"/>
                  </a:lnTo>
                  <a:close/>
                </a:path>
              </a:pathLst>
            </a:cu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971280" y="5229360"/>
              <a:ext cx="1102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rial"/>
                </a:rPr>
                <a:t>Escrev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050920" y="5357880"/>
              <a:ext cx="179640" cy="181080"/>
            </a:xfrm>
            <a:prstGeom prst="triangle">
              <a:avLst>
                <a:gd name="adj" fmla="val 50000"/>
              </a:avLst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411280" y="5267160"/>
              <a:ext cx="181080" cy="181080"/>
            </a:xfrm>
            <a:prstGeom prst="diamond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771640" y="5357880"/>
              <a:ext cx="179640" cy="17928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" name=""/>
          <p:cNvGrpSpPr/>
          <p:nvPr/>
        </p:nvGrpSpPr>
        <p:grpSpPr>
          <a:xfrm>
            <a:off x="5861160" y="5102280"/>
            <a:ext cx="1696320" cy="1214280"/>
            <a:chOff x="5861160" y="5102280"/>
            <a:chExt cx="1696320" cy="1214280"/>
          </a:xfrm>
        </p:grpSpPr>
        <p:sp>
          <p:nvSpPr>
            <p:cNvPr id="118" name=""/>
            <p:cNvSpPr/>
            <p:nvPr/>
          </p:nvSpPr>
          <p:spPr>
            <a:xfrm>
              <a:off x="5861160" y="5221440"/>
              <a:ext cx="1395360" cy="1095120"/>
            </a:xfrm>
            <a:custGeom>
              <a:avLst/>
              <a:gdLst>
                <a:gd name="textAreaLeft" fmla="*/ 0 w 1395360"/>
                <a:gd name="textAreaRight" fmla="*/ 1395360 w 1395360"/>
                <a:gd name="textAreaTop" fmla="*/ 0 h 1095120"/>
                <a:gd name="textAreaBottom" fmla="*/ 1095480 h 1095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415" y="10783"/>
                  </a:moveTo>
                  <a:arcTo wR="-8385" hR="-8385" stAng="-10793031" swAng="-10806969"/>
                  <a:lnTo>
                    <a:pt x="0" y="10800"/>
                  </a:lnTo>
                  <a:arcTo wR="10800" hR="10800" stAng="10800000" swAng="10806969"/>
                  <a:lnTo>
                    <a:pt x="24300" y="10827"/>
                  </a:lnTo>
                  <a:lnTo>
                    <a:pt x="20385" y="14727"/>
                  </a:lnTo>
                  <a:lnTo>
                    <a:pt x="16485" y="10812"/>
                  </a:lnTo>
                  <a:close/>
                </a:path>
              </a:pathLst>
            </a:cu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093440" y="5102280"/>
              <a:ext cx="464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rial"/>
                </a:rPr>
                <a:t>Lê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912000" y="5448240"/>
              <a:ext cx="179280" cy="181080"/>
            </a:xfrm>
            <a:prstGeom prst="triangle">
              <a:avLst>
                <a:gd name="adj" fmla="val 50000"/>
              </a:avLst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102360" y="5357880"/>
              <a:ext cx="179280" cy="17928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3171960" y="5818320"/>
            <a:ext cx="2987640" cy="671400"/>
            <a:chOff x="3171960" y="5818320"/>
            <a:chExt cx="2987640" cy="671400"/>
          </a:xfrm>
        </p:grpSpPr>
        <p:sp>
          <p:nvSpPr>
            <p:cNvPr id="123" name=""/>
            <p:cNvSpPr/>
            <p:nvPr/>
          </p:nvSpPr>
          <p:spPr>
            <a:xfrm>
              <a:off x="3171960" y="5818320"/>
              <a:ext cx="2987640" cy="671400"/>
            </a:xfrm>
            <a:prstGeom prst="rightArrow">
              <a:avLst>
                <a:gd name="adj1" fmla="val 49676"/>
                <a:gd name="adj2" fmla="val 51009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rial"/>
                </a:rPr>
                <a:t>Flux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651640" y="6078600"/>
              <a:ext cx="180720" cy="181080"/>
            </a:xfrm>
            <a:prstGeom prst="diamond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032360" y="6078600"/>
              <a:ext cx="179280" cy="181080"/>
            </a:xfrm>
            <a:prstGeom prst="triangle">
              <a:avLst>
                <a:gd name="adj" fmla="val 50000"/>
              </a:avLst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022720" y="6167520"/>
              <a:ext cx="181080" cy="180720"/>
            </a:xfrm>
            <a:prstGeom prst="diamond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292720" y="5987880"/>
              <a:ext cx="179280" cy="17964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82DEC-BB33-4524-9B57-2DEE9C33173C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9EEE30-A5E6-4EBC-9F86-F8C49384D42F}" type="datetime8">
              <a:rPr lang="en-US"/>
              <a:t>07/28/26 06: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520560" y="1719000"/>
            <a:ext cx="8229600" cy="4319640"/>
          </a:xfrm>
          <a:prstGeom prst="rect">
            <a:avLst/>
          </a:prstGeom>
          <a:solidFill>
            <a:srgbClr val="ffffcc"/>
          </a:solidFill>
          <a:ln w="12600">
            <a:solidFill>
              <a:srgbClr val="cc99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No fluxo, o programa pode ser consumidor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Fluxo de Dados: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xemp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208560" y="4267080"/>
            <a:ext cx="1694160" cy="78768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rogra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(consumido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1347840" y="3338640"/>
            <a:ext cx="1693800" cy="2549520"/>
            <a:chOff x="1347840" y="3338640"/>
            <a:chExt cx="1693800" cy="2549520"/>
          </a:xfrm>
        </p:grpSpPr>
        <p:sp>
          <p:nvSpPr>
            <p:cNvPr id="132" name=""/>
            <p:cNvSpPr/>
            <p:nvPr/>
          </p:nvSpPr>
          <p:spPr>
            <a:xfrm>
              <a:off x="1347840" y="3338640"/>
              <a:ext cx="1693800" cy="5968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rial"/>
                </a:rPr>
                <a:t>Teclad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(produtor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347840" y="5291280"/>
              <a:ext cx="1693800" cy="5968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rial"/>
                </a:rPr>
                <a:t>Arquiv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(produtor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3181680" y="3299040"/>
            <a:ext cx="3083400" cy="2692440"/>
            <a:chOff x="3181680" y="3299040"/>
            <a:chExt cx="3083400" cy="2692440"/>
          </a:xfrm>
        </p:grpSpPr>
        <p:sp>
          <p:nvSpPr>
            <p:cNvPr id="135" name=""/>
            <p:cNvSpPr/>
            <p:nvPr/>
          </p:nvSpPr>
          <p:spPr>
            <a:xfrm rot="875400">
              <a:off x="3220560" y="3664080"/>
              <a:ext cx="2987640" cy="693720"/>
            </a:xfrm>
            <a:prstGeom prst="rightArrow">
              <a:avLst>
                <a:gd name="adj1" fmla="val 49676"/>
                <a:gd name="adj2" fmla="val 4936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Teclas pressionada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rot="20700000">
              <a:off x="3238200" y="4923000"/>
              <a:ext cx="2987640" cy="693720"/>
            </a:xfrm>
            <a:prstGeom prst="rightArrow">
              <a:avLst>
                <a:gd name="adj1" fmla="val 49676"/>
                <a:gd name="adj2" fmla="val 4936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Dad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418F0-2CD3-4ECE-89C7-F8AAB8A58341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815697-8ED3-4717-BE07-7FFCD5BC7F23}" type="datetime8">
              <a:rPr lang="en-US"/>
              <a:t>07/28/26 06: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457200" y="2077560"/>
            <a:ext cx="8229600" cy="4048200"/>
          </a:xfrm>
          <a:prstGeom prst="rect">
            <a:avLst/>
          </a:prstGeom>
          <a:solidFill>
            <a:srgbClr val="ffffcc"/>
          </a:solidFill>
          <a:ln w="12600">
            <a:solidFill>
              <a:srgbClr val="cc99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No fluxo, o programa pode ser produtor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Fluxo de Dados: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xemp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438200" y="3789360"/>
            <a:ext cx="1693800" cy="78732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rogra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(produto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6299280" y="2922480"/>
            <a:ext cx="1693800" cy="2543400"/>
            <a:chOff x="6299280" y="2922480"/>
            <a:chExt cx="1693800" cy="2543400"/>
          </a:xfrm>
        </p:grpSpPr>
        <p:sp>
          <p:nvSpPr>
            <p:cNvPr id="141" name=""/>
            <p:cNvSpPr/>
            <p:nvPr/>
          </p:nvSpPr>
          <p:spPr>
            <a:xfrm>
              <a:off x="6299280" y="2922480"/>
              <a:ext cx="1693800" cy="5968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rial"/>
                </a:rPr>
                <a:t>Arquiv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(consumidor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299280" y="4869000"/>
              <a:ext cx="1693800" cy="5968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rial"/>
                </a:rPr>
                <a:t>Tela DO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"/>
                </a:rPr>
                <a:t>(consumidor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3199320" y="2874960"/>
            <a:ext cx="3065760" cy="2603520"/>
            <a:chOff x="3199320" y="2874960"/>
            <a:chExt cx="3065760" cy="2603520"/>
          </a:xfrm>
        </p:grpSpPr>
        <p:sp>
          <p:nvSpPr>
            <p:cNvPr id="144" name=""/>
            <p:cNvSpPr/>
            <p:nvPr/>
          </p:nvSpPr>
          <p:spPr>
            <a:xfrm rot="875400">
              <a:off x="3238200" y="4419720"/>
              <a:ext cx="2987640" cy="693720"/>
            </a:xfrm>
            <a:prstGeom prst="rightArrow">
              <a:avLst>
                <a:gd name="adj1" fmla="val 49676"/>
                <a:gd name="adj2" fmla="val 4936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Resultad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rot="20700000">
              <a:off x="3238200" y="3249720"/>
              <a:ext cx="2987640" cy="693720"/>
            </a:xfrm>
            <a:prstGeom prst="rightArrow">
              <a:avLst>
                <a:gd name="adj1" fmla="val 49676"/>
                <a:gd name="adj2" fmla="val 4936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Dad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122FA-F857-4D9B-8AA9-9C712DCA12A6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1F183D-CA4F-4E39-BD5E-C7441B63E67A}" type="datetime8">
              <a:rPr lang="en-US"/>
              <a:t>07/28/26 06: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3T21:20:33Z</dcterms:created>
  <dc:creator>Daniel</dc:creator>
  <dc:description/>
  <dc:language>en-US</dc:language>
  <cp:lastModifiedBy>arnaldo</cp:lastModifiedBy>
  <dcterms:modified xsi:type="dcterms:W3CDTF">2007-05-24T22:09:00Z</dcterms:modified>
  <cp:revision>111</cp:revision>
  <dc:subject/>
  <dc:title>Curso de C</dc:title>
</cp:coreProperties>
</file>