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B32EB-4F51-4884-8EC8-9E988A0B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75C5-2E91-4A96-B579-5FA5914CA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675B-5987-4A79-8F49-DD6E4119B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2130-0069-455A-A83C-80E263A7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FF51-584D-45E5-B770-92A59AF65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7A7BE-B5EA-4C6B-9FF3-D06C51AA0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347C6-7DAD-42E2-BB2F-C03CBE40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D09B-AB3C-4506-82EC-E501EC2B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B8B5-F1CE-4992-9759-A0C6B3C0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E0885-BC3F-46FE-B624-27469F3E1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E1FCD-EC12-493B-9453-8DEB58EDC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5A12-1AE4-4520-B550-B57C5F760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2C72-3BD1-407F-AE61-8C73929D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8135B-5286-4264-AFE7-B4306C181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04667-4039-41EB-87DD-0584F487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7DC77-E7E6-4AB5-B0AE-DD74AB268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7BCE-DE6B-408D-9A79-09305B415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A55C4-6276-4A8C-B665-E9E63C5A7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2A4-E542-4611-97E1-30A233E1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6840-F84C-4FC9-9141-CA00A9270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E516-8135-4562-BC19-9862F53AC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E18B-2D47-43FD-BEFF-7473B8D2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C745-F28A-4266-AFDC-FD9DD6D1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75C45-0B98-4D94-A8DB-C7E8516E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3550-DB9B-4E4E-B082-0CAE45F46545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A11FFF9B-3601-4828-8250-61CD135BE793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4C2F4-6E30-4432-B941-CE8EA5A3AC7D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E6EDC-6023-4A39-9457-97312C4F4282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5EF03139-8319-47D0-AABB-7531B377ACFE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CBF45-FE4F-4689-8E39-71C5FD847262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struturas da Linguagem C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7CE9-0207-4922-A183-6EF903E6664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B61C6CE-27B9-423E-A01C-A5F325F4CB96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Blo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junto de senten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grupadas entre chaves { ... }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e lógica de execução seqüen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ntenças do mesmo bloco são executadas seqüencial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que s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Bloc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98CB-02F4-471C-A087-9F387BB2412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A4E2B4-3608-4D3E-BD7F-10A7E26E1803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57200" y="2101680"/>
            <a:ext cx="8229600" cy="3657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in</a:t>
            </a:r>
            <a:r>
              <a:rPr b="0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(int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gc,</a:t>
            </a:r>
            <a:r>
              <a:rPr b="0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char*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gv[])</a:t>
            </a:r>
            <a:r>
              <a:rPr b="0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{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0" lang="pt-BR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loat nota1, nota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0" lang="pt-BR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float media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0" lang="pt-BR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intf("Digite as duas notas: 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0" lang="es-ES_tradnl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scanf("%f %f", &amp;nota1, &amp;nota2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0" lang="es-ES_tradnl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media = (nota1 + nota2) / 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0" lang="pt-BR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printf("Média: %f", media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	</a:t>
            </a:r>
            <a:r>
              <a:rPr b="0" lang="pt-BR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}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Blo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de Blo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8407-53C5-4828-8154-EE82392C13A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7FDE4A-1DF3-4813-872F-DE3CB24365CA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de Linguage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im do Capítul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8ADEC-6DE7-424D-93CD-FB1AEAC576F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E951FF2-7D2C-4532-B908-05AED6105E4C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 de Linguagem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re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 componentes que compõem um programa em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006D-D536-4454-BFC9-3FADDF15187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146D9-3B0C-482F-B03E-D7C7B47AEE32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 de Linguagem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lo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ntenç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pres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EA18-C130-4B60-B02B-AAB1724AD0E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9473D0-60D5-4EC2-9EA6-BD599E77C520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 de Linguag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12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press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.: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edia =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(nota_a + 2 * nota_b) / 3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Um programa C é composto p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666880"/>
            <a:ext cx="38862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156120"/>
            <a:ext cx="525780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entenç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.: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Arial"/>
              </a:rPr>
              <a:t>int variavel = 3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657600"/>
            <a:ext cx="2514600" cy="358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7960" y="4038480"/>
            <a:ext cx="7495920" cy="22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Blo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Ex.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if (media &gt;= 5.0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printf(“Aprovado!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Arial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38280" y="4495680"/>
            <a:ext cx="4834080" cy="16336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DADEF-BC55-491F-9101-E33FC284D1D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56B37E-652D-4110-9B0D-ECFE70B1E9CB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entenç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idade comple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ão um passo do algoritmo ou uma decla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erminam em ponto-e-vírgul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xempl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junto de expressões (ex: atribuição e operador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peração de leitura ou escrita (ex: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trole de fluxo de execuçã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que são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entença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81AF-28BE-471F-B3C5-37663BAAE3B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CE01B7-CE76-488E-ACB9-676F0A9DB6C8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086200"/>
            <a:ext cx="8229600" cy="28659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loat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ota1, nota2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loat</a:t>
            </a: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edia;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Digite as duas notas: "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"%f %f", &amp;nota1, &amp;nota2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edia = (nota1 + nota2) / 2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Média: %f", media)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entenç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de Sentenç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50480" y="5138640"/>
            <a:ext cx="720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O programa é uma seqüência de sentenç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2000" y="5700600"/>
            <a:ext cx="711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Cada uma é um passo do algoritmo o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           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uma decl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AAFC-B02C-42C2-9DD9-0F60A15A2078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A724B6-C1B0-4E23-AE86-0BA569270990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nidade indivisível de código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fin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es utiliz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pagação do resul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itas expressões são parecidas com expressões matemát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que é uma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pressã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67C-71D9-4A1C-995A-C58F01CD688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61E4EB-6DD9-4F4E-BD73-232BE49BC92C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403848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262080" indent="-262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nsamento matemá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 =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2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b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2077560"/>
            <a:ext cx="403848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nsamento em Código 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b =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b = 5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uid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1871640" y="3763800"/>
            <a:ext cx="2533680" cy="1104840"/>
            <a:chOff x="1871640" y="3763800"/>
            <a:chExt cx="2533680" cy="1104840"/>
          </a:xfrm>
        </p:grpSpPr>
        <p:sp>
          <p:nvSpPr>
            <p:cNvPr id="131" name=""/>
            <p:cNvSpPr/>
            <p:nvPr/>
          </p:nvSpPr>
          <p:spPr>
            <a:xfrm>
              <a:off x="1871640" y="3787560"/>
              <a:ext cx="463680" cy="1081080"/>
            </a:xfrm>
            <a:custGeom>
              <a:avLst/>
              <a:gdLst/>
              <a:ahLst/>
              <a:rect l="l" t="t" r="r" b="b"/>
              <a:pathLst>
                <a:path w="292" h="624">
                  <a:moveTo>
                    <a:pt x="56" y="624"/>
                  </a:moveTo>
                  <a:cubicBezTo>
                    <a:pt x="174" y="477"/>
                    <a:pt x="292" y="331"/>
                    <a:pt x="283" y="227"/>
                  </a:cubicBezTo>
                  <a:cubicBezTo>
                    <a:pt x="274" y="123"/>
                    <a:pt x="137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333880" y="3763800"/>
              <a:ext cx="2071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Arial"/>
                </a:rPr>
                <a:t>Propaga para expressões anteri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192720" y="3789360"/>
            <a:ext cx="2249640" cy="1104840"/>
            <a:chOff x="6192720" y="3789360"/>
            <a:chExt cx="2249640" cy="1104840"/>
          </a:xfrm>
        </p:grpSpPr>
        <p:sp>
          <p:nvSpPr>
            <p:cNvPr id="134" name=""/>
            <p:cNvSpPr/>
            <p:nvPr/>
          </p:nvSpPr>
          <p:spPr>
            <a:xfrm>
              <a:off x="6192720" y="3813120"/>
              <a:ext cx="463680" cy="1081080"/>
            </a:xfrm>
            <a:custGeom>
              <a:avLst/>
              <a:gdLst/>
              <a:ahLst/>
              <a:rect l="l" t="t" r="r" b="b"/>
              <a:pathLst>
                <a:path w="292" h="624">
                  <a:moveTo>
                    <a:pt x="56" y="624"/>
                  </a:moveTo>
                  <a:cubicBezTo>
                    <a:pt x="174" y="477"/>
                    <a:pt x="292" y="331"/>
                    <a:pt x="283" y="227"/>
                  </a:cubicBezTo>
                  <a:cubicBezTo>
                    <a:pt x="274" y="123"/>
                    <a:pt x="137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910560" y="3789360"/>
              <a:ext cx="1531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Arial"/>
                </a:rPr>
                <a:t>Não afeta sentenças anteri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6550200" y="4044960"/>
              <a:ext cx="180720" cy="270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flipV="1">
              <a:off x="6505560" y="4088880"/>
              <a:ext cx="270000" cy="1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20560" y="5049720"/>
            <a:ext cx="387216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= b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ressões representam afirmações verdadei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751280" y="5049720"/>
            <a:ext cx="3781440" cy="11912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= 5, mas a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ressões representam operações indepen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4C61-D7DA-4DDF-8827-B58993F8421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58303-48D5-4071-93D3-404088CAC604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press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b = 3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b = 5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ntenças contém expressões independe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expressão é avaliada somente no momento da execu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pressões e Sentenç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592360" y="2954160"/>
            <a:ext cx="2249640" cy="1104840"/>
            <a:chOff x="2592360" y="2954160"/>
            <a:chExt cx="2249640" cy="1104840"/>
          </a:xfrm>
        </p:grpSpPr>
        <p:sp>
          <p:nvSpPr>
            <p:cNvPr id="145" name=""/>
            <p:cNvSpPr/>
            <p:nvPr/>
          </p:nvSpPr>
          <p:spPr>
            <a:xfrm>
              <a:off x="2592360" y="2977920"/>
              <a:ext cx="463680" cy="1081080"/>
            </a:xfrm>
            <a:custGeom>
              <a:avLst/>
              <a:gdLst/>
              <a:ahLst/>
              <a:rect l="l" t="t" r="r" b="b"/>
              <a:pathLst>
                <a:path w="292" h="624">
                  <a:moveTo>
                    <a:pt x="56" y="624"/>
                  </a:moveTo>
                  <a:cubicBezTo>
                    <a:pt x="174" y="477"/>
                    <a:pt x="292" y="331"/>
                    <a:pt x="283" y="227"/>
                  </a:cubicBezTo>
                  <a:cubicBezTo>
                    <a:pt x="274" y="123"/>
                    <a:pt x="137" y="61"/>
                    <a:pt x="0" y="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10200" y="2954160"/>
              <a:ext cx="15318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Arial"/>
                </a:rPr>
                <a:t>Não afeta sentenças anterior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949840" y="3209760"/>
              <a:ext cx="180720" cy="270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905200" y="3253680"/>
              <a:ext cx="270000" cy="1810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3BC0-F9E0-4840-A8DD-E66B6B62B06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8C8459-A52B-4B8D-874D-628B9D425FD4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15:14Z</dcterms:created>
  <dc:creator>Daniel</dc:creator>
  <dc:description/>
  <dc:language>en-US</dc:language>
  <cp:lastModifiedBy> arnaldo</cp:lastModifiedBy>
  <dcterms:modified xsi:type="dcterms:W3CDTF">2008-03-17T22:16:33Z</dcterms:modified>
  <cp:revision>99</cp:revision>
  <dc:subject/>
  <dc:title>Curso de C</dc:title>
</cp:coreProperties>
</file>