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9.wmf" ContentType="image/x-wmf"/>
  <Override PartName="/ppt/media/image68.png" ContentType="image/png"/>
  <Override PartName="/ppt/media/image3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28.wmf" ContentType="image/x-wmf"/>
  <Override PartName="/ppt/media/image3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8.png"/><Relationship Id="rId5" Type="http://schemas.openxmlformats.org/officeDocument/2006/relationships/image" Target="../media/image2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2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0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0.png"/><Relationship Id="rId3" Type="http://schemas.openxmlformats.org/officeDocument/2006/relationships/image" Target="../media/image69.png"/><Relationship Id="rId4" Type="http://schemas.openxmlformats.org/officeDocument/2006/relationships/image" Target="../media/image72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 ao Processamento de Imagens Digi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eucimar J. Le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C-UNI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-mail: neucimar@ic.unicamp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10080" y="278928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de histogra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ua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581280" cy="3121200"/>
          </a:xfrm>
          <a:prstGeom prst="rect">
            <a:avLst/>
          </a:prstGeom>
          <a:ln w="0">
            <a:noFill/>
          </a:ln>
        </p:spPr>
      </p:pic>
      <p:pic>
        <p:nvPicPr>
          <p:cNvPr id="125" name="cabeca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504960" cy="2717640"/>
          </a:xfrm>
          <a:prstGeom prst="rect">
            <a:avLst/>
          </a:prstGeom>
          <a:ln w="0">
            <a:noFill/>
          </a:ln>
        </p:spPr>
      </p:pic>
      <p:pic>
        <p:nvPicPr>
          <p:cNvPr id="126" name="histograma-cabeca" descr=""/>
          <p:cNvPicPr/>
          <p:nvPr/>
        </p:nvPicPr>
        <p:blipFill>
          <a:blip r:embed="rId3"/>
          <a:stretch/>
        </p:blipFill>
        <p:spPr>
          <a:xfrm>
            <a:off x="5334120" y="685800"/>
            <a:ext cx="3200400" cy="2678040"/>
          </a:xfrm>
          <a:prstGeom prst="rect">
            <a:avLst/>
          </a:prstGeom>
          <a:ln w="0">
            <a:noFill/>
          </a:ln>
        </p:spPr>
      </p:pic>
      <p:pic>
        <p:nvPicPr>
          <p:cNvPr id="127" name="histograma-lua" descr=""/>
          <p:cNvPicPr/>
          <p:nvPr/>
        </p:nvPicPr>
        <p:blipFill>
          <a:blip r:embed="rId4"/>
          <a:stretch/>
        </p:blipFill>
        <p:spPr>
          <a:xfrm>
            <a:off x="5334120" y="3740040"/>
            <a:ext cx="3292200" cy="3117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95680" y="22860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tc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581280" cy="4346640"/>
          </a:xfrm>
          <a:prstGeom prst="rect">
            <a:avLst/>
          </a:prstGeom>
          <a:ln w="0">
            <a:noFill/>
          </a:ln>
        </p:spPr>
      </p:pic>
      <p:pic>
        <p:nvPicPr>
          <p:cNvPr id="131" name="histograma-wtc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6087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simples de aplic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ua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lua-binaria" descr=""/>
          <p:cNvPicPr/>
          <p:nvPr/>
        </p:nvPicPr>
        <p:blipFill>
          <a:blip r:embed="rId2"/>
          <a:stretch/>
        </p:blipFill>
        <p:spPr>
          <a:xfrm>
            <a:off x="6118200" y="762120"/>
            <a:ext cx="2797200" cy="279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3505320" y="13712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28954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03800" y="2879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371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343400" y="15238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523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34600" y="2895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wtc" descr=""/>
          <p:cNvPicPr/>
          <p:nvPr/>
        </p:nvPicPr>
        <p:blipFill>
          <a:blip r:embed="rId3"/>
          <a:stretch/>
        </p:blipFill>
        <p:spPr>
          <a:xfrm>
            <a:off x="131760" y="3657600"/>
            <a:ext cx="276372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wtc-binarizada" descr=""/>
          <p:cNvPicPr/>
          <p:nvPr/>
        </p:nvPicPr>
        <p:blipFill>
          <a:blip r:embed="rId4"/>
          <a:stretch/>
        </p:blipFill>
        <p:spPr>
          <a:xfrm>
            <a:off x="6172200" y="3733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3657600" y="447984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6004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6080" y="598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724280" y="46324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64000" y="60040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6483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serva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mesmo histograma pode estar associado a diferentes ima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a informação é invariante com as operações de rotação e transl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mos considerar um histograma para cada banda espectral ou um histograma 3-D, por exemplo, referente às componentes RGB de uma imagem color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ansformações radiométricas ou de escala de ci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dependem da localização dos pixels na imag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termos de implementação, podem ser represen-tadas por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ook-up-tables (LU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formam um pixel de nível de cinz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t-BR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nível de cinz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t-BR" sz="4000" spc="-1" strike="noStrike" baseline="-25000">
                <a:solidFill>
                  <a:srgbClr val="000000"/>
                </a:solidFill>
                <a:latin typeface="Times New Roman"/>
              </a:rPr>
              <a:t>f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Uma tranformação radiométrica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uma aplicação I(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       F(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,  tal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 [0,1,...,N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],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 [0,1,...,N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]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38080" y="4495680"/>
                <a:ext cx="74678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de funções r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: complemento ou neg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89160" y="1219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916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16520" y="3002040"/>
            <a:ext cx="43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806400"/>
            <a:ext cx="609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1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9160" y="1523880"/>
            <a:ext cx="2590920" cy="15242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623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0064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81480" y="1295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lenna" descr=""/>
          <p:cNvPicPr/>
          <p:nvPr/>
        </p:nvPicPr>
        <p:blipFill>
          <a:blip r:embed="rId1"/>
          <a:stretch/>
        </p:blipFill>
        <p:spPr>
          <a:xfrm>
            <a:off x="304920" y="3679920"/>
            <a:ext cx="2949480" cy="2949480"/>
          </a:xfrm>
          <a:prstGeom prst="rect">
            <a:avLst/>
          </a:prstGeom>
          <a:ln w="0">
            <a:noFill/>
          </a:ln>
        </p:spPr>
      </p:pic>
      <p:pic>
        <p:nvPicPr>
          <p:cNvPr id="170" name="lenna-negativo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3025800" cy="302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38480" y="525780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Realce de contraste (stretch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pt-PT" sz="3200" spc="-1" strike="noStrike" baseline="-25000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089160" y="1219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8916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16520" y="3002040"/>
            <a:ext cx="43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685800"/>
            <a:ext cx="609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1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23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81480" y="1295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48120" y="2666520"/>
            <a:ext cx="1066680" cy="3812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175248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72000" y="152352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47760" y="3048120"/>
            <a:ext cx="461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6760" y="3048120"/>
            <a:ext cx="461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828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wtc" descr=""/>
          <p:cNvPicPr/>
          <p:nvPr/>
        </p:nvPicPr>
        <p:blipFill>
          <a:blip r:embed="rId1"/>
          <a:stretch/>
        </p:blipFill>
        <p:spPr>
          <a:xfrm>
            <a:off x="533520" y="3578400"/>
            <a:ext cx="2487600" cy="2974680"/>
          </a:xfrm>
          <a:prstGeom prst="rect">
            <a:avLst/>
          </a:prstGeom>
          <a:ln w="0">
            <a:noFill/>
          </a:ln>
        </p:spPr>
      </p:pic>
      <p:pic>
        <p:nvPicPr>
          <p:cNvPr id="191" name="wtc-contraste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52760" cy="3054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wtc-color-contraste" descr=""/>
          <p:cNvPicPr/>
          <p:nvPr/>
        </p:nvPicPr>
        <p:blipFill>
          <a:blip r:embed="rId1"/>
          <a:stretch/>
        </p:blipFill>
        <p:spPr>
          <a:xfrm>
            <a:off x="4889520" y="1600200"/>
            <a:ext cx="37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wtc-color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657600" cy="389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8360" y="4572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 co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imiariz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89160" y="1219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8916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69160" y="2666880"/>
            <a:ext cx="43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685800"/>
            <a:ext cx="609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41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623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0064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1480" y="1295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114800" y="14475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447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usca" descr=""/>
          <p:cNvPicPr/>
          <p:nvPr/>
        </p:nvPicPr>
        <p:blipFill>
          <a:blip r:embed="rId1"/>
          <a:stretch/>
        </p:blipFill>
        <p:spPr>
          <a:xfrm>
            <a:off x="380880" y="3743280"/>
            <a:ext cx="2971800" cy="2795760"/>
          </a:xfrm>
          <a:prstGeom prst="rect">
            <a:avLst/>
          </a:prstGeom>
          <a:ln w="0">
            <a:noFill/>
          </a:ln>
        </p:spPr>
      </p:pic>
      <p:pic>
        <p:nvPicPr>
          <p:cNvPr id="210" name="fusca-limiar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3103560" cy="2921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038480" y="51055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971800"/>
            <a:ext cx="99072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336"/>
                </a:moveTo>
                <a:cubicBezTo>
                  <a:pt x="20" y="244"/>
                  <a:pt x="40" y="152"/>
                  <a:pt x="144" y="96"/>
                </a:cubicBezTo>
                <a:cubicBezTo>
                  <a:pt x="248" y="40"/>
                  <a:pt x="544" y="16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87160" y="25909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 bi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amento de Im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ltragem e seg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ções linea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da de Fourier, conv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ções não linea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rfologia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qualização histogrâm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formação radiométrica que visa aumentar a dinâmica dos níveis de cinza melhorando, por exemplo, o contraste de imagens obtidas sob péssimas condicões de ilumin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: gerar uma distribuição mais uniforme dos níveis de cinza           um histograma pla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5812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7920" y="4495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7920" y="6400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9720" y="4973760"/>
            <a:ext cx="2344680" cy="1431720"/>
          </a:xfrm>
          <a:custGeom>
            <a:avLst/>
            <a:gdLst/>
            <a:ahLst/>
            <a:rect l="l" t="t" r="r" b="b"/>
            <a:pathLst>
              <a:path w="1477" h="902">
                <a:moveTo>
                  <a:pt x="0" y="902"/>
                </a:moveTo>
                <a:cubicBezTo>
                  <a:pt x="13" y="859"/>
                  <a:pt x="25" y="818"/>
                  <a:pt x="42" y="776"/>
                </a:cubicBezTo>
                <a:cubicBezTo>
                  <a:pt x="53" y="697"/>
                  <a:pt x="83" y="625"/>
                  <a:pt x="94" y="546"/>
                </a:cubicBezTo>
                <a:cubicBezTo>
                  <a:pt x="132" y="263"/>
                  <a:pt x="99" y="457"/>
                  <a:pt x="126" y="305"/>
                </a:cubicBezTo>
                <a:cubicBezTo>
                  <a:pt x="129" y="207"/>
                  <a:pt x="122" y="108"/>
                  <a:pt x="136" y="11"/>
                </a:cubicBezTo>
                <a:cubicBezTo>
                  <a:pt x="138" y="0"/>
                  <a:pt x="160" y="13"/>
                  <a:pt x="167" y="22"/>
                </a:cubicBezTo>
                <a:cubicBezTo>
                  <a:pt x="176" y="33"/>
                  <a:pt x="175" y="50"/>
                  <a:pt x="178" y="64"/>
                </a:cubicBezTo>
                <a:cubicBezTo>
                  <a:pt x="191" y="128"/>
                  <a:pt x="172" y="239"/>
                  <a:pt x="241" y="263"/>
                </a:cubicBezTo>
                <a:cubicBezTo>
                  <a:pt x="245" y="250"/>
                  <a:pt x="253" y="202"/>
                  <a:pt x="283" y="210"/>
                </a:cubicBezTo>
                <a:cubicBezTo>
                  <a:pt x="294" y="213"/>
                  <a:pt x="290" y="231"/>
                  <a:pt x="293" y="242"/>
                </a:cubicBezTo>
                <a:cubicBezTo>
                  <a:pt x="301" y="394"/>
                  <a:pt x="250" y="471"/>
                  <a:pt x="377" y="441"/>
                </a:cubicBezTo>
                <a:cubicBezTo>
                  <a:pt x="405" y="386"/>
                  <a:pt x="406" y="373"/>
                  <a:pt x="461" y="409"/>
                </a:cubicBezTo>
                <a:cubicBezTo>
                  <a:pt x="471" y="451"/>
                  <a:pt x="479" y="494"/>
                  <a:pt x="492" y="535"/>
                </a:cubicBezTo>
                <a:cubicBezTo>
                  <a:pt x="547" y="522"/>
                  <a:pt x="546" y="498"/>
                  <a:pt x="597" y="514"/>
                </a:cubicBezTo>
                <a:cubicBezTo>
                  <a:pt x="648" y="549"/>
                  <a:pt x="636" y="579"/>
                  <a:pt x="670" y="629"/>
                </a:cubicBezTo>
                <a:cubicBezTo>
                  <a:pt x="674" y="643"/>
                  <a:pt x="677" y="657"/>
                  <a:pt x="681" y="671"/>
                </a:cubicBezTo>
                <a:cubicBezTo>
                  <a:pt x="684" y="682"/>
                  <a:pt x="680" y="701"/>
                  <a:pt x="691" y="703"/>
                </a:cubicBezTo>
                <a:cubicBezTo>
                  <a:pt x="706" y="706"/>
                  <a:pt x="719" y="689"/>
                  <a:pt x="733" y="682"/>
                </a:cubicBezTo>
                <a:cubicBezTo>
                  <a:pt x="747" y="661"/>
                  <a:pt x="761" y="640"/>
                  <a:pt x="775" y="619"/>
                </a:cubicBezTo>
                <a:cubicBezTo>
                  <a:pt x="782" y="608"/>
                  <a:pt x="796" y="587"/>
                  <a:pt x="796" y="587"/>
                </a:cubicBezTo>
                <a:cubicBezTo>
                  <a:pt x="821" y="513"/>
                  <a:pt x="805" y="543"/>
                  <a:pt x="838" y="493"/>
                </a:cubicBezTo>
                <a:cubicBezTo>
                  <a:pt x="896" y="514"/>
                  <a:pt x="886" y="557"/>
                  <a:pt x="901" y="608"/>
                </a:cubicBezTo>
                <a:cubicBezTo>
                  <a:pt x="916" y="657"/>
                  <a:pt x="925" y="693"/>
                  <a:pt x="953" y="734"/>
                </a:cubicBezTo>
                <a:cubicBezTo>
                  <a:pt x="971" y="790"/>
                  <a:pt x="1007" y="791"/>
                  <a:pt x="1058" y="807"/>
                </a:cubicBezTo>
                <a:cubicBezTo>
                  <a:pt x="1118" y="847"/>
                  <a:pt x="1217" y="864"/>
                  <a:pt x="1288" y="870"/>
                </a:cubicBezTo>
                <a:cubicBezTo>
                  <a:pt x="1475" y="885"/>
                  <a:pt x="1422" y="841"/>
                  <a:pt x="1477" y="891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3600" y="618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960" y="41911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105520" y="4549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6454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0" y="624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560" y="42451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5257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xemplo de uma técnica de equalizaç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j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variável no intervalo [0,1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transformação T no intervalo [0,1] é tal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 = T(f)     (g(x,y) = T(f(x,y)), no nosso ca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isando monotonicidade e preservação da escala de cin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 deve ser monotonicamente crescente no intervalo [0,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" y="3581280"/>
                <a:ext cx="539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para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 flipV="1">
            <a:off x="2473200" y="43430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647712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06160" y="645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27320" y="647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45000" y="6324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798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73200" y="4800600"/>
            <a:ext cx="3429000" cy="1676520"/>
          </a:xfrm>
          <a:custGeom>
            <a:avLst/>
            <a:gdLst/>
            <a:ahLst/>
            <a:rect l="l" t="t" r="r" b="b"/>
            <a:pathLst>
              <a:path w="2160" h="1056">
                <a:moveTo>
                  <a:pt x="0" y="1056"/>
                </a:moveTo>
                <a:cubicBezTo>
                  <a:pt x="152" y="856"/>
                  <a:pt x="304" y="656"/>
                  <a:pt x="576" y="528"/>
                </a:cubicBezTo>
                <a:cubicBezTo>
                  <a:pt x="848" y="400"/>
                  <a:pt x="1368" y="376"/>
                  <a:pt x="1632" y="288"/>
                </a:cubicBezTo>
                <a:cubicBezTo>
                  <a:pt x="1896" y="200"/>
                  <a:pt x="2072" y="48"/>
                  <a:pt x="216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8680" y="6400800"/>
            <a:ext cx="398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53600" y="5181480"/>
            <a:ext cx="1195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T(f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78520" y="48006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472840" y="480060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3956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68840" y="5486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472840" y="54864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ideremos, agora, a seguinte função T(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 representa a função de distribuição cumulativa (FDC)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sta função é monotonicamente crescente e varia de 0 a 1 em funçã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clusão: se T(f) é uma FDC, então ela pode ser empregada na defi-nição de uma nova imagem cuja distribuição dos níveis de cinza será mai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form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71600" y="1511280"/>
                <a:ext cx="61722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f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rPr>
                            <m:lit/>
                            <m:nor/>
                          </m:rPr>
                          <m:t xml:space="preserve">     0</m:t>
                        </m:r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aso discre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=M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pixels com valores discretos k = 0,1,...,L-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nde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= número de aparições do nível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pt-BR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= probabilidade de ocorência de f</a:t>
            </a:r>
            <a:r>
              <a:rPr b="0" i="1" lang="pt-BR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ss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371600" y="2362320"/>
                <a:ext cx="4114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8600" y="5257800"/>
                <a:ext cx="8763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e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wtc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612880" cy="3124440"/>
          </a:xfrm>
          <a:prstGeom prst="rect">
            <a:avLst/>
          </a:prstGeom>
          <a:ln w="0">
            <a:noFill/>
          </a:ln>
        </p:spPr>
      </p:pic>
      <p:pic>
        <p:nvPicPr>
          <p:cNvPr id="255" name="wtc-equalizado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2611440" cy="3124440"/>
          </a:xfrm>
          <a:prstGeom prst="rect">
            <a:avLst/>
          </a:prstGeom>
          <a:ln w="0">
            <a:noFill/>
          </a:ln>
        </p:spPr>
      </p:pic>
      <p:pic>
        <p:nvPicPr>
          <p:cNvPr id="256" name="fusca" descr=""/>
          <p:cNvPicPr/>
          <p:nvPr/>
        </p:nvPicPr>
        <p:blipFill>
          <a:blip r:embed="rId3"/>
          <a:stretch/>
        </p:blipFill>
        <p:spPr>
          <a:xfrm>
            <a:off x="914400" y="4348080"/>
            <a:ext cx="2666880" cy="2509920"/>
          </a:xfrm>
          <a:prstGeom prst="rect">
            <a:avLst/>
          </a:prstGeom>
          <a:ln w="0">
            <a:noFill/>
          </a:ln>
        </p:spPr>
      </p:pic>
      <p:pic>
        <p:nvPicPr>
          <p:cNvPr id="257" name="fusca-equalizado" descr=""/>
          <p:cNvPicPr/>
          <p:nvPr/>
        </p:nvPicPr>
        <p:blipFill>
          <a:blip r:embed="rId4"/>
          <a:stretch/>
        </p:blipFill>
        <p:spPr>
          <a:xfrm>
            <a:off x="5029200" y="4367160"/>
            <a:ext cx="2646360" cy="2490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86200" y="2209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55627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wtc-color-equaliza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935440" cy="3511440"/>
          </a:xfrm>
          <a:prstGeom prst="rect">
            <a:avLst/>
          </a:prstGeom>
          <a:ln w="0">
            <a:noFill/>
          </a:ln>
        </p:spPr>
      </p:pic>
      <p:pic>
        <p:nvPicPr>
          <p:cNvPr id="261" name="wtc-color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2935440" cy="3511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1800" y="65088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 co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3657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asamento de histo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forma o histograma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uma imagem original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 acordo com o histograma de uma imagem de referênci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ja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(f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(f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os histogramas das imagens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ginal e de referência, respec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1600200" y="1295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2096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10666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(fo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62680" y="20574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1460520"/>
            <a:ext cx="1523880" cy="749160"/>
          </a:xfrm>
          <a:custGeom>
            <a:avLst/>
            <a:gdLst/>
            <a:ahLst/>
            <a:rect l="l" t="t" r="r" b="b"/>
            <a:pathLst>
              <a:path w="960" h="472">
                <a:moveTo>
                  <a:pt x="0" y="472"/>
                </a:moveTo>
                <a:cubicBezTo>
                  <a:pt x="56" y="276"/>
                  <a:pt x="112" y="80"/>
                  <a:pt x="144" y="40"/>
                </a:cubicBezTo>
                <a:cubicBezTo>
                  <a:pt x="176" y="0"/>
                  <a:pt x="168" y="192"/>
                  <a:pt x="192" y="232"/>
                </a:cubicBezTo>
                <a:cubicBezTo>
                  <a:pt x="216" y="272"/>
                  <a:pt x="264" y="256"/>
                  <a:pt x="288" y="280"/>
                </a:cubicBezTo>
                <a:cubicBezTo>
                  <a:pt x="312" y="304"/>
                  <a:pt x="304" y="360"/>
                  <a:pt x="336" y="376"/>
                </a:cubicBezTo>
                <a:cubicBezTo>
                  <a:pt x="368" y="392"/>
                  <a:pt x="440" y="384"/>
                  <a:pt x="480" y="376"/>
                </a:cubicBezTo>
                <a:cubicBezTo>
                  <a:pt x="520" y="368"/>
                  <a:pt x="536" y="328"/>
                  <a:pt x="576" y="328"/>
                </a:cubicBezTo>
                <a:cubicBezTo>
                  <a:pt x="616" y="328"/>
                  <a:pt x="688" y="360"/>
                  <a:pt x="720" y="376"/>
                </a:cubicBezTo>
                <a:cubicBezTo>
                  <a:pt x="752" y="392"/>
                  <a:pt x="728" y="408"/>
                  <a:pt x="768" y="424"/>
                </a:cubicBezTo>
                <a:cubicBezTo>
                  <a:pt x="808" y="440"/>
                  <a:pt x="928" y="464"/>
                  <a:pt x="960" y="4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257800" y="1203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1178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9748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(fr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42600" y="196524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38098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600200" y="2879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2590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=T[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4800" y="3641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2971800"/>
            <a:ext cx="16002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80" y="416"/>
                  <a:pt x="160" y="304"/>
                  <a:pt x="288" y="240"/>
                </a:cubicBezTo>
                <a:cubicBezTo>
                  <a:pt x="416" y="176"/>
                  <a:pt x="648" y="184"/>
                  <a:pt x="768" y="144"/>
                </a:cubicBezTo>
                <a:cubicBezTo>
                  <a:pt x="888" y="104"/>
                  <a:pt x="968" y="24"/>
                  <a:pt x="100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3657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57800" y="27273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43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=G[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84360" y="3489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2819520"/>
            <a:ext cx="16002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80" y="416"/>
                  <a:pt x="160" y="304"/>
                  <a:pt x="288" y="240"/>
                </a:cubicBezTo>
                <a:cubicBezTo>
                  <a:pt x="416" y="176"/>
                  <a:pt x="648" y="184"/>
                  <a:pt x="768" y="144"/>
                </a:cubicBezTo>
                <a:cubicBezTo>
                  <a:pt x="888" y="104"/>
                  <a:pt x="968" y="24"/>
                  <a:pt x="100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5410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00200" y="44798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19200" y="524196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876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00640" y="53341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300640" y="4403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484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05240" y="5165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00640" y="4800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11600" y="5985000"/>
            <a:ext cx="453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 transformada:      r = G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1257480"/>
            <a:ext cx="1549440" cy="876240"/>
          </a:xfrm>
          <a:custGeom>
            <a:avLst/>
            <a:gdLst/>
            <a:ahLst/>
            <a:rect l="l" t="t" r="r" b="b"/>
            <a:pathLst>
              <a:path w="976" h="552">
                <a:moveTo>
                  <a:pt x="0" y="552"/>
                </a:moveTo>
                <a:cubicBezTo>
                  <a:pt x="52" y="500"/>
                  <a:pt x="104" y="448"/>
                  <a:pt x="144" y="360"/>
                </a:cubicBezTo>
                <a:cubicBezTo>
                  <a:pt x="184" y="272"/>
                  <a:pt x="200" y="48"/>
                  <a:pt x="240" y="24"/>
                </a:cubicBezTo>
                <a:cubicBezTo>
                  <a:pt x="280" y="0"/>
                  <a:pt x="336" y="200"/>
                  <a:pt x="384" y="216"/>
                </a:cubicBezTo>
                <a:cubicBezTo>
                  <a:pt x="432" y="232"/>
                  <a:pt x="488" y="144"/>
                  <a:pt x="528" y="120"/>
                </a:cubicBezTo>
                <a:cubicBezTo>
                  <a:pt x="568" y="96"/>
                  <a:pt x="600" y="48"/>
                  <a:pt x="624" y="72"/>
                </a:cubicBezTo>
                <a:cubicBezTo>
                  <a:pt x="648" y="96"/>
                  <a:pt x="640" y="272"/>
                  <a:pt x="672" y="264"/>
                </a:cubicBezTo>
                <a:cubicBezTo>
                  <a:pt x="704" y="256"/>
                  <a:pt x="784" y="32"/>
                  <a:pt x="816" y="24"/>
                </a:cubicBezTo>
                <a:cubicBezTo>
                  <a:pt x="848" y="16"/>
                  <a:pt x="840" y="176"/>
                  <a:pt x="864" y="216"/>
                </a:cubicBezTo>
                <a:cubicBezTo>
                  <a:pt x="888" y="256"/>
                  <a:pt x="944" y="208"/>
                  <a:pt x="960" y="264"/>
                </a:cubicBezTo>
                <a:cubicBezTo>
                  <a:pt x="976" y="320"/>
                  <a:pt x="968" y="436"/>
                  <a:pt x="960" y="5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04920"/>
            <a:ext cx="2057400" cy="457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agem cl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304920"/>
            <a:ext cx="205740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</a:rPr>
              <a:t>imagem e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16800" y="30492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 de casamento de hist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imagem-ref1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1390680" cy="1307880"/>
          </a:xfrm>
          <a:prstGeom prst="rect">
            <a:avLst/>
          </a:prstGeom>
          <a:ln w="0">
            <a:noFill/>
          </a:ln>
        </p:spPr>
      </p:pic>
      <p:pic>
        <p:nvPicPr>
          <p:cNvPr id="301" name="imagem-orig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292560" cy="2193840"/>
          </a:xfrm>
          <a:prstGeom prst="rect">
            <a:avLst/>
          </a:prstGeom>
          <a:ln w="0">
            <a:noFill/>
          </a:ln>
        </p:spPr>
      </p:pic>
      <p:pic>
        <p:nvPicPr>
          <p:cNvPr id="302" name="modif1" descr=""/>
          <p:cNvPicPr/>
          <p:nvPr/>
        </p:nvPicPr>
        <p:blipFill>
          <a:blip r:embed="rId3"/>
          <a:stretch/>
        </p:blipFill>
        <p:spPr>
          <a:xfrm>
            <a:off x="5851440" y="1692360"/>
            <a:ext cx="3292560" cy="2193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307520" y="1143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ig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04040" y="1143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6680" y="11430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wtc" descr=""/>
          <p:cNvPicPr/>
          <p:nvPr/>
        </p:nvPicPr>
        <p:blipFill>
          <a:blip r:embed="rId4"/>
          <a:stretch/>
        </p:blipFill>
        <p:spPr>
          <a:xfrm>
            <a:off x="895320" y="4114800"/>
            <a:ext cx="2228760" cy="2666880"/>
          </a:xfrm>
          <a:prstGeom prst="rect">
            <a:avLst/>
          </a:prstGeom>
          <a:ln w="0">
            <a:noFill/>
          </a:ln>
        </p:spPr>
      </p:pic>
      <p:pic>
        <p:nvPicPr>
          <p:cNvPr id="307" name="imagem-ref1" descr=""/>
          <p:cNvPicPr/>
          <p:nvPr/>
        </p:nvPicPr>
        <p:blipFill>
          <a:blip r:embed="rId5"/>
          <a:stretch/>
        </p:blipFill>
        <p:spPr>
          <a:xfrm>
            <a:off x="3886200" y="4254480"/>
            <a:ext cx="1390680" cy="1308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334120" y="2362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modif2" descr=""/>
          <p:cNvPicPr/>
          <p:nvPr/>
        </p:nvPicPr>
        <p:blipFill>
          <a:blip r:embed="rId6"/>
          <a:stretch/>
        </p:blipFill>
        <p:spPr>
          <a:xfrm>
            <a:off x="6438960" y="4108320"/>
            <a:ext cx="2235240" cy="2673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48640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iltr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amento local: pixels vizinhos têm, em geral, as mesmas característic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uído: fenômeno de brusca variação de um pixel em relação a sua vizinh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pos gerais: linear, não-linear, híbr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: espacial, freqü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aplicaçõ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utomação e visão arti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conhecimento de caract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nálise de cromosso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ículos autôn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eamento de 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tecção de al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mografia computador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ltra-son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speçã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nálise de imagens de satélites em S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: domínio da freqüência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627360" cy="3627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83040" y="2895480"/>
            <a:ext cx="3602160" cy="361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 flipV="1">
            <a:off x="2666880" y="22734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840" y="2286000"/>
            <a:ext cx="40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81680" y="22986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8000" y="16002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agem original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07000" y="1600200"/>
            <a:ext cx="353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pectr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|F(u,v)|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572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ransformada inversa de Fouri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7696080" cy="335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pt-PT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276720" cy="3429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924440" y="2438280"/>
            <a:ext cx="345744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2514600" y="189180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27200" y="1905120"/>
            <a:ext cx="408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19177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ípio geral da filtragem line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64080" y="3054240"/>
            <a:ext cx="1663560" cy="978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63840" y="3581280"/>
            <a:ext cx="1168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59320" y="3581280"/>
            <a:ext cx="1168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56840" y="3103560"/>
            <a:ext cx="150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95680" y="310356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24080" y="333216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37400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37400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84240" y="4246560"/>
            <a:ext cx="87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65880" y="4322880"/>
            <a:ext cx="93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3892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99680" y="439884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28240" y="5237280"/>
            <a:ext cx="312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u,v) = H(u,v) F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51640" y="2189160"/>
            <a:ext cx="32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unção de transferê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2749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24640" y="5846760"/>
            <a:ext cx="48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F inversa  de G(u,v) define g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3680" y="1911240"/>
            <a:ext cx="829152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o discre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5480" y="2896920"/>
            <a:ext cx="7039080" cy="82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representação espacial da função de transferência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" y="1366920"/>
                <a:ext cx="651816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=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i,y-</m:t>
                            </m:r>
                          </m:e>
                        </m:nary>
                      </m:e>
                    </m:nary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893520" y="3332160"/>
            <a:ext cx="50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 = imagem de entrada de tamanho N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90280" y="3789360"/>
            <a:ext cx="462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imagem resultante da filtrage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75240" y="3605040"/>
                <a:ext cx="25812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511440" y="4821120"/>
            <a:ext cx="1663920" cy="978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11560" y="5348160"/>
            <a:ext cx="1168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07040" y="5348160"/>
            <a:ext cx="1168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03840" y="4870440"/>
            <a:ext cx="14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9880" y="487044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71080" y="509904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50692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91320" y="550692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31960" y="6013440"/>
            <a:ext cx="109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13240" y="6089760"/>
            <a:ext cx="116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56595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47760" y="616572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u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nvoluç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8120" y="11160"/>
            <a:ext cx="4800600" cy="21034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5192640" cy="2214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62200" y="4708440"/>
            <a:ext cx="384048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ção local de filtra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volu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934920" y="1824120"/>
                <a:ext cx="5542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-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y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606680" y="4121280"/>
            <a:ext cx="227304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195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6680" y="43434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6680" y="464832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6680" y="495288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06680" y="52578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6680" y="556272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93880" y="3195720"/>
            <a:ext cx="8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193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06680" y="380988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99280" y="4551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99480" y="340992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65440" y="4267080"/>
            <a:ext cx="19555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11240" y="44197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5440" y="4800600"/>
            <a:ext cx="19555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5440" y="5410080"/>
            <a:ext cx="19555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746000" y="4273560"/>
            <a:ext cx="191772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746000" y="4883040"/>
            <a:ext cx="191772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2880" y="4121280"/>
            <a:ext cx="2273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50080" y="4654440"/>
            <a:ext cx="749160" cy="673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46544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46544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50080" y="48769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50080" y="51055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77280" y="4238640"/>
            <a:ext cx="101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(x-i,y-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37440" y="5029200"/>
            <a:ext cx="13460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708160" y="5111640"/>
            <a:ext cx="191772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27600" y="5638680"/>
            <a:ext cx="1879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uns exemp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tro méd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438280" y="2395440"/>
                <a:ext cx="344016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</m:e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973800" y="439884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680" y="577224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747800" y="5227560"/>
                <a:ext cx="17956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38920" y="5103720"/>
                <a:ext cx="190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4356000" y="6019920"/>
            <a:ext cx="8128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5880" y="5721480"/>
            <a:ext cx="520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8440" y="5797440"/>
            <a:ext cx="520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: máscara 11x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20760" y="5411520"/>
            <a:ext cx="2479680" cy="82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com ruí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914400" y="2085840"/>
            <a:ext cx="3246480" cy="3246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13600" y="5389560"/>
            <a:ext cx="212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fil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62760" y="5694480"/>
            <a:ext cx="26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ínio esp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797440" y="1746000"/>
            <a:ext cx="292320" cy="927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4240" y="1351080"/>
            <a:ext cx="30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preserva conto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 de um sistema de P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753080" y="3503520"/>
            <a:ext cx="2867040" cy="28828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190520" y="3505320"/>
            <a:ext cx="2894040" cy="2894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1143000" y="250920"/>
            <a:ext cx="2819520" cy="26445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887840" y="287640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41240" y="2874960"/>
            <a:ext cx="142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 ruí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59960" y="638028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dia 3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17200" y="6380280"/>
            <a:ext cx="17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dia 17x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ores de conto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906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m transições bruscas na função f(x,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dores diferencia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 gra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684600" y="2789280"/>
                <a:ext cx="15732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f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¶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¶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¶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¶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93280" y="2951280"/>
            <a:ext cx="89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9560" y="4932360"/>
            <a:ext cx="155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90920" y="4478400"/>
                <a:ext cx="36068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Ñf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¶</m:t>
                                        </m:r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r>
                                          <m:t xml:space="preserve">¶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¶</m:t>
                                        </m:r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r>
                                          <m:t xml:space="preserve">¶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075120" y="5875200"/>
                <a:ext cx="1954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Ñy</m:t>
                            </m:r>
                          </m:num>
                          <m:den>
                            <m:r>
                              <m:t xml:space="preserve">Ñ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516240" y="6151680"/>
            <a:ext cx="116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Gradiente de Robert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36480" y="2698920"/>
                <a:ext cx="6526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09480" y="1949400"/>
                <a:ext cx="6569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1128600" y="4246560"/>
            <a:ext cx="56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6840" y="4121280"/>
            <a:ext cx="1816200" cy="158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41212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6840" y="487692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87840" y="505476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+1,y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89120" y="4737240"/>
            <a:ext cx="431640" cy="3553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35680" y="4121280"/>
            <a:ext cx="1815840" cy="158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43600" y="41212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35680" y="48769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28840" y="4322880"/>
            <a:ext cx="88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14440" y="5084640"/>
            <a:ext cx="88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625720" y="4737240"/>
            <a:ext cx="482760" cy="43164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987560" y="4260600"/>
            <a:ext cx="128268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8284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49680" y="3941640"/>
            <a:ext cx="72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73760" y="5035680"/>
            <a:ext cx="90180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88160" y="61722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35880" y="5923080"/>
            <a:ext cx="57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1520" y="1000080"/>
            <a:ext cx="265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zinhança 2x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189080" y="2122560"/>
            <a:ext cx="2641680" cy="3519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5075280" y="2122560"/>
            <a:ext cx="2641680" cy="3519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656720" y="5772240"/>
            <a:ext cx="219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087160" y="5770440"/>
            <a:ext cx="270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adiente de Rob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ontinuidades em x, 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dores 3x3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ewit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00200" y="2776680"/>
                <a:ext cx="2233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705200" y="2700360"/>
                <a:ext cx="22798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1127880" y="4354560"/>
            <a:ext cx="1336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ob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274760" y="5062680"/>
                <a:ext cx="22669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921200" y="4986360"/>
                <a:ext cx="2295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mplo: operadores de Prewi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276720" y="1676520"/>
                <a:ext cx="213336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74680" y="3265560"/>
            <a:ext cx="2641680" cy="3519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246480" y="3260880"/>
            <a:ext cx="2641680" cy="35193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41960" y="3265560"/>
            <a:ext cx="2641680" cy="351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80880" y="1633680"/>
                <a:ext cx="1981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6781680" y="2590920"/>
                <a:ext cx="1243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Ñ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Ñ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7459560" y="217440"/>
            <a:ext cx="153216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Laplaci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ada de segunda ord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846520" y="2436840"/>
                <a:ext cx="244944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745200" y="439884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840" y="577044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831960" y="5227560"/>
                <a:ext cx="33019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608800" y="5103720"/>
                <a:ext cx="32972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432320" y="6019920"/>
            <a:ext cx="8128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31160" y="5111640"/>
            <a:ext cx="44460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7536960" y="4793760"/>
            <a:ext cx="6224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18480" y="424656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543800" y="46414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486400" y="1219320"/>
                <a:ext cx="3008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¶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¶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7620120" y="5111640"/>
            <a:ext cx="0" cy="16639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5327280" y="4870440"/>
            <a:ext cx="22986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334120" y="47181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99200" y="4368960"/>
            <a:ext cx="208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agem por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agem não-lin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gem com preservação de contor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ros estatísticos da ord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: filtro da median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tros estatísticos da orde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04920" y="4268880"/>
                <a:ext cx="19224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987640" y="4799160"/>
                <a:ext cx="5845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e>
                                      <m:m>
                                        <m:mr>
                                          <m:e>
                                            <m:m>
                                              <m:mr>
                                                <m:e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10</m:t>
                                                  </m:r>
                                                </m:e>
                                                <m:e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10</m:t>
                                                  </m:r>
                                                </m:e>
                                              </m:mr>
                                            </m:m>
                                          </m:e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0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5867280" y="5340240"/>
            <a:ext cx="0" cy="59688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35240" y="5846760"/>
            <a:ext cx="193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me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3480" y="3638520"/>
            <a:ext cx="86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054240" y="4184640"/>
            <a:ext cx="5550120" cy="3938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27200" y="394344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8840" y="4807080"/>
            <a:ext cx="4446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974600" y="5340240"/>
            <a:ext cx="359388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1517400" y="5251320"/>
            <a:ext cx="46980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26280" y="5846760"/>
            <a:ext cx="121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8440" y="5029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Filtro da medi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imina eficientemente o ruído impulsivo (ruído de Poiss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introduz novos valores de níveis de cinza na im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serva bordas e pode ser aplicado itera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vantag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imina linhas muito finas e vértices dos obj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941400" y="5168880"/>
                <a:ext cx="1106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1295280" y="5562720"/>
            <a:ext cx="381240" cy="380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5778360"/>
            <a:ext cx="685800" cy="546120"/>
          </a:xfrm>
          <a:custGeom>
            <a:avLst/>
            <a:gdLst/>
            <a:ahLst/>
            <a:rect l="l" t="t" r="r" b="b"/>
            <a:pathLst>
              <a:path w="432" h="344">
                <a:moveTo>
                  <a:pt x="0" y="8"/>
                </a:moveTo>
                <a:cubicBezTo>
                  <a:pt x="132" y="4"/>
                  <a:pt x="264" y="0"/>
                  <a:pt x="336" y="56"/>
                </a:cubicBezTo>
                <a:cubicBezTo>
                  <a:pt x="408" y="112"/>
                  <a:pt x="416" y="296"/>
                  <a:pt x="432" y="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3840" y="6262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246560" y="5181480"/>
                <a:ext cx="11970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4645080" y="5575320"/>
            <a:ext cx="380880" cy="380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25960" y="5791320"/>
            <a:ext cx="685800" cy="546120"/>
          </a:xfrm>
          <a:custGeom>
            <a:avLst/>
            <a:gdLst/>
            <a:ahLst/>
            <a:rect l="l" t="t" r="r" b="b"/>
            <a:pathLst>
              <a:path w="432" h="344">
                <a:moveTo>
                  <a:pt x="0" y="8"/>
                </a:moveTo>
                <a:cubicBezTo>
                  <a:pt x="132" y="4"/>
                  <a:pt x="264" y="0"/>
                  <a:pt x="336" y="56"/>
                </a:cubicBezTo>
                <a:cubicBezTo>
                  <a:pt x="408" y="112"/>
                  <a:pt x="416" y="296"/>
                  <a:pt x="432" y="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33640" y="627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 comparativ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582720" y="2211120"/>
            <a:ext cx="1212840" cy="82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094200" cy="30942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410080" y="47520"/>
            <a:ext cx="3381480" cy="33814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 flipV="1">
            <a:off x="3435480" y="2127240"/>
            <a:ext cx="1815840" cy="16891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35480" y="3816360"/>
            <a:ext cx="1892160" cy="1816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69640" y="48560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71800" y="2570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71440" y="52372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x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35304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imagem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ção 2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6680" y="4121280"/>
            <a:ext cx="227304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6680" y="43434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6680" y="464832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6680" y="495288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6680" y="52578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6680" y="556272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8080" y="4275000"/>
            <a:ext cx="303480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2320" y="4551480"/>
            <a:ext cx="77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03360" y="2738520"/>
            <a:ext cx="8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6680" y="380988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9280" y="4551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99480" y="340992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29200" y="1981080"/>
            <a:ext cx="1995480" cy="4044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32520" y="2133720"/>
            <a:ext cx="16509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146320"/>
            <a:ext cx="0" cy="3632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559560" y="1746360"/>
            <a:ext cx="97776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0280" y="17524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09560" y="1503360"/>
            <a:ext cx="76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lternativa: Mediana separ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bdivide a vizinhança 2-D em linhas ou colunas; calcula a mediana destas e em seguida a mediana d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896760" y="3081240"/>
                <a:ext cx="11970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295280" y="3475080"/>
            <a:ext cx="381240" cy="380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3691080"/>
            <a:ext cx="685800" cy="546120"/>
          </a:xfrm>
          <a:custGeom>
            <a:avLst/>
            <a:gdLst/>
            <a:ahLst/>
            <a:rect l="l" t="t" r="r" b="b"/>
            <a:pathLst>
              <a:path w="432" h="344">
                <a:moveTo>
                  <a:pt x="0" y="8"/>
                </a:moveTo>
                <a:cubicBezTo>
                  <a:pt x="132" y="4"/>
                  <a:pt x="264" y="0"/>
                  <a:pt x="336" y="56"/>
                </a:cubicBezTo>
                <a:cubicBezTo>
                  <a:pt x="408" y="112"/>
                  <a:pt x="416" y="296"/>
                  <a:pt x="432" y="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2012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3081240"/>
            <a:ext cx="1295640" cy="30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38080" y="3538440"/>
            <a:ext cx="1295640" cy="30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8080" y="3919680"/>
            <a:ext cx="1295640" cy="304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3880" y="25909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diana das lin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39520" y="3429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3952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6660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02884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93760" y="331776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diana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d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7920" y="51814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vantagem:  variante à rotaçã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Filtro da ordem-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bstitui um pixel central M, numa vizinhança qualquer, pelo k-ésimo valor dos elementos desta vizinhança ordenados segundo sua magn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806400" y="3429000"/>
                <a:ext cx="1378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1295280" y="3822840"/>
            <a:ext cx="381240" cy="380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91120" y="2895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de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93840" y="36576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0  10  11  49  50  50  51  52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27672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01028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38160" y="457200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ltr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51560" y="449568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ltro 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76840" y="45561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d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18148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ltro da média com os k-vizinhos mais próx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bstitui um pixel central M pelo valor médio dos k níveis de cinza que mais se aproximam do valor de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598320" y="3098880"/>
            <a:ext cx="1401840" cy="12445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098720" y="3492360"/>
            <a:ext cx="380880" cy="3812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99880" y="2860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048120" y="3352680"/>
                <a:ext cx="4114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447920" y="3174840"/>
            <a:ext cx="1523880" cy="406440"/>
          </a:xfrm>
          <a:custGeom>
            <a:avLst/>
            <a:gdLst/>
            <a:ahLst/>
            <a:rect l="l" t="t" r="r" b="b"/>
            <a:pathLst>
              <a:path w="960" h="256">
                <a:moveTo>
                  <a:pt x="0" y="256"/>
                </a:moveTo>
                <a:cubicBezTo>
                  <a:pt x="232" y="144"/>
                  <a:pt x="464" y="32"/>
                  <a:pt x="624" y="16"/>
                </a:cubicBezTo>
                <a:cubicBezTo>
                  <a:pt x="784" y="0"/>
                  <a:pt x="904" y="136"/>
                  <a:pt x="960" y="1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755640" y="4622760"/>
                <a:ext cx="1108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2719080" y="491796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39000" y="3505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´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78040" y="531828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´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14440" y="525780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´=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93720" y="48769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fologia Mat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nálise da imag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25440" y="3511440"/>
            <a:ext cx="444600" cy="596880"/>
          </a:xfrm>
          <a:prstGeom prst="star5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9480" y="4273560"/>
            <a:ext cx="368280" cy="520560"/>
          </a:xfrm>
          <a:prstGeom prst="cube">
            <a:avLst>
              <a:gd name="adj" fmla="val 24995"/>
            </a:avLst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2280" y="3359160"/>
            <a:ext cx="1358640" cy="166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7360" y="340848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28240" y="32558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3680" y="3941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61760" y="37130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75960" y="36370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7360" y="44751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14040" y="41702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09480" y="45514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09480" y="31798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75960" y="32558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1040" y="36370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61760" y="3408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80880" y="46274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75960" y="46274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7360" y="4170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33160" y="41702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04560" y="43228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57200" y="35607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75960" y="37893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38080" y="44751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85800" y="4246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85440" y="38656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04560" y="3941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6176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28600" y="417024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80880" y="34084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28240" y="43988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5840" y="3587760"/>
            <a:ext cx="444600" cy="596880"/>
          </a:xfrm>
          <a:prstGeom prst="star5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5840" y="4425840"/>
            <a:ext cx="368280" cy="520920"/>
          </a:xfrm>
          <a:prstGeom prst="cube">
            <a:avLst>
              <a:gd name="adj" fmla="val 24995"/>
            </a:avLst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92680" y="3435480"/>
            <a:ext cx="1358640" cy="166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7480" y="3666960"/>
            <a:ext cx="579600" cy="525600"/>
          </a:xfrm>
          <a:custGeom>
            <a:avLst/>
            <a:gdLst/>
            <a:ahLst/>
            <a:rect l="l" t="t" r="r" b="b"/>
            <a:pathLst>
              <a:path w="365" h="331">
                <a:moveTo>
                  <a:pt x="333" y="60"/>
                </a:moveTo>
                <a:lnTo>
                  <a:pt x="295" y="60"/>
                </a:lnTo>
                <a:lnTo>
                  <a:pt x="245" y="50"/>
                </a:lnTo>
                <a:lnTo>
                  <a:pt x="216" y="20"/>
                </a:lnTo>
                <a:lnTo>
                  <a:pt x="177" y="10"/>
                </a:lnTo>
                <a:lnTo>
                  <a:pt x="127" y="0"/>
                </a:lnTo>
                <a:lnTo>
                  <a:pt x="98" y="0"/>
                </a:lnTo>
                <a:lnTo>
                  <a:pt x="68" y="4"/>
                </a:lnTo>
                <a:lnTo>
                  <a:pt x="63" y="44"/>
                </a:lnTo>
                <a:lnTo>
                  <a:pt x="34" y="74"/>
                </a:lnTo>
                <a:lnTo>
                  <a:pt x="24" y="104"/>
                </a:lnTo>
                <a:lnTo>
                  <a:pt x="14" y="144"/>
                </a:lnTo>
                <a:lnTo>
                  <a:pt x="4" y="164"/>
                </a:lnTo>
                <a:lnTo>
                  <a:pt x="4" y="194"/>
                </a:lnTo>
                <a:lnTo>
                  <a:pt x="0" y="225"/>
                </a:lnTo>
                <a:lnTo>
                  <a:pt x="0" y="255"/>
                </a:lnTo>
                <a:lnTo>
                  <a:pt x="0" y="275"/>
                </a:lnTo>
                <a:lnTo>
                  <a:pt x="14" y="315"/>
                </a:lnTo>
                <a:lnTo>
                  <a:pt x="29" y="325"/>
                </a:lnTo>
                <a:lnTo>
                  <a:pt x="63" y="330"/>
                </a:lnTo>
                <a:lnTo>
                  <a:pt x="83" y="330"/>
                </a:lnTo>
                <a:lnTo>
                  <a:pt x="122" y="330"/>
                </a:lnTo>
                <a:lnTo>
                  <a:pt x="161" y="325"/>
                </a:lnTo>
                <a:lnTo>
                  <a:pt x="181" y="285"/>
                </a:lnTo>
                <a:lnTo>
                  <a:pt x="221" y="255"/>
                </a:lnTo>
                <a:lnTo>
                  <a:pt x="236" y="245"/>
                </a:lnTo>
                <a:lnTo>
                  <a:pt x="250" y="235"/>
                </a:lnTo>
                <a:lnTo>
                  <a:pt x="280" y="225"/>
                </a:lnTo>
                <a:lnTo>
                  <a:pt x="309" y="214"/>
                </a:lnTo>
                <a:lnTo>
                  <a:pt x="339" y="204"/>
                </a:lnTo>
                <a:lnTo>
                  <a:pt x="354" y="190"/>
                </a:lnTo>
                <a:lnTo>
                  <a:pt x="358" y="174"/>
                </a:lnTo>
                <a:lnTo>
                  <a:pt x="364" y="160"/>
                </a:lnTo>
                <a:lnTo>
                  <a:pt x="364" y="144"/>
                </a:lnTo>
                <a:lnTo>
                  <a:pt x="358" y="130"/>
                </a:lnTo>
                <a:lnTo>
                  <a:pt x="354" y="114"/>
                </a:lnTo>
                <a:lnTo>
                  <a:pt x="348" y="100"/>
                </a:lnTo>
                <a:lnTo>
                  <a:pt x="348" y="84"/>
                </a:lnTo>
                <a:lnTo>
                  <a:pt x="333" y="60"/>
                </a:lnTo>
                <a:lnTo>
                  <a:pt x="333" y="60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0920" y="4602240"/>
            <a:ext cx="323640" cy="371520"/>
          </a:xfrm>
          <a:custGeom>
            <a:avLst/>
            <a:gdLst/>
            <a:ahLst/>
            <a:rect l="l" t="t" r="r" b="b"/>
            <a:pathLst>
              <a:path w="204" h="234">
                <a:moveTo>
                  <a:pt x="17" y="221"/>
                </a:moveTo>
                <a:lnTo>
                  <a:pt x="0" y="181"/>
                </a:lnTo>
                <a:lnTo>
                  <a:pt x="8" y="90"/>
                </a:lnTo>
                <a:lnTo>
                  <a:pt x="8" y="30"/>
                </a:lnTo>
                <a:lnTo>
                  <a:pt x="15" y="0"/>
                </a:lnTo>
                <a:lnTo>
                  <a:pt x="45" y="0"/>
                </a:lnTo>
                <a:lnTo>
                  <a:pt x="121" y="0"/>
                </a:lnTo>
                <a:lnTo>
                  <a:pt x="166" y="0"/>
                </a:lnTo>
                <a:lnTo>
                  <a:pt x="188" y="8"/>
                </a:lnTo>
                <a:lnTo>
                  <a:pt x="203" y="60"/>
                </a:lnTo>
                <a:lnTo>
                  <a:pt x="203" y="90"/>
                </a:lnTo>
                <a:lnTo>
                  <a:pt x="203" y="120"/>
                </a:lnTo>
                <a:lnTo>
                  <a:pt x="203" y="150"/>
                </a:lnTo>
                <a:lnTo>
                  <a:pt x="203" y="173"/>
                </a:lnTo>
                <a:lnTo>
                  <a:pt x="173" y="173"/>
                </a:lnTo>
                <a:lnTo>
                  <a:pt x="151" y="143"/>
                </a:lnTo>
                <a:lnTo>
                  <a:pt x="121" y="143"/>
                </a:lnTo>
                <a:lnTo>
                  <a:pt x="60" y="135"/>
                </a:lnTo>
                <a:lnTo>
                  <a:pt x="60" y="165"/>
                </a:lnTo>
                <a:lnTo>
                  <a:pt x="60" y="181"/>
                </a:lnTo>
                <a:lnTo>
                  <a:pt x="60" y="211"/>
                </a:lnTo>
                <a:lnTo>
                  <a:pt x="60" y="233"/>
                </a:lnTo>
                <a:lnTo>
                  <a:pt x="17" y="221"/>
                </a:lnTo>
                <a:lnTo>
                  <a:pt x="17" y="221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7360" y="3713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23680" y="340848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33160" y="43988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78880" y="3587760"/>
            <a:ext cx="444240" cy="596880"/>
          </a:xfrm>
          <a:prstGeom prst="star5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8880" y="4425840"/>
            <a:ext cx="368280" cy="520920"/>
          </a:xfrm>
          <a:prstGeom prst="cube">
            <a:avLst>
              <a:gd name="adj" fmla="val 24995"/>
            </a:avLst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45360" y="3435480"/>
            <a:ext cx="1359000" cy="166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6320" y="4191120"/>
            <a:ext cx="16509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17880" y="3743280"/>
            <a:ext cx="579600" cy="525600"/>
          </a:xfrm>
          <a:custGeom>
            <a:avLst/>
            <a:gdLst/>
            <a:ahLst/>
            <a:rect l="l" t="t" r="r" b="b"/>
            <a:pathLst>
              <a:path w="365" h="331">
                <a:moveTo>
                  <a:pt x="333" y="60"/>
                </a:moveTo>
                <a:lnTo>
                  <a:pt x="295" y="60"/>
                </a:lnTo>
                <a:lnTo>
                  <a:pt x="245" y="50"/>
                </a:lnTo>
                <a:lnTo>
                  <a:pt x="216" y="20"/>
                </a:lnTo>
                <a:lnTo>
                  <a:pt x="177" y="10"/>
                </a:lnTo>
                <a:lnTo>
                  <a:pt x="127" y="0"/>
                </a:lnTo>
                <a:lnTo>
                  <a:pt x="98" y="0"/>
                </a:lnTo>
                <a:lnTo>
                  <a:pt x="68" y="4"/>
                </a:lnTo>
                <a:lnTo>
                  <a:pt x="63" y="44"/>
                </a:lnTo>
                <a:lnTo>
                  <a:pt x="34" y="74"/>
                </a:lnTo>
                <a:lnTo>
                  <a:pt x="24" y="104"/>
                </a:lnTo>
                <a:lnTo>
                  <a:pt x="14" y="144"/>
                </a:lnTo>
                <a:lnTo>
                  <a:pt x="4" y="164"/>
                </a:lnTo>
                <a:lnTo>
                  <a:pt x="4" y="194"/>
                </a:lnTo>
                <a:lnTo>
                  <a:pt x="0" y="225"/>
                </a:lnTo>
                <a:lnTo>
                  <a:pt x="0" y="255"/>
                </a:lnTo>
                <a:lnTo>
                  <a:pt x="0" y="275"/>
                </a:lnTo>
                <a:lnTo>
                  <a:pt x="14" y="315"/>
                </a:lnTo>
                <a:lnTo>
                  <a:pt x="29" y="325"/>
                </a:lnTo>
                <a:lnTo>
                  <a:pt x="63" y="330"/>
                </a:lnTo>
                <a:lnTo>
                  <a:pt x="83" y="330"/>
                </a:lnTo>
                <a:lnTo>
                  <a:pt x="122" y="330"/>
                </a:lnTo>
                <a:lnTo>
                  <a:pt x="161" y="325"/>
                </a:lnTo>
                <a:lnTo>
                  <a:pt x="181" y="285"/>
                </a:lnTo>
                <a:lnTo>
                  <a:pt x="221" y="255"/>
                </a:lnTo>
                <a:lnTo>
                  <a:pt x="236" y="245"/>
                </a:lnTo>
                <a:lnTo>
                  <a:pt x="250" y="235"/>
                </a:lnTo>
                <a:lnTo>
                  <a:pt x="280" y="225"/>
                </a:lnTo>
                <a:lnTo>
                  <a:pt x="309" y="214"/>
                </a:lnTo>
                <a:lnTo>
                  <a:pt x="339" y="204"/>
                </a:lnTo>
                <a:lnTo>
                  <a:pt x="354" y="190"/>
                </a:lnTo>
                <a:lnTo>
                  <a:pt x="358" y="174"/>
                </a:lnTo>
                <a:lnTo>
                  <a:pt x="364" y="160"/>
                </a:lnTo>
                <a:lnTo>
                  <a:pt x="364" y="144"/>
                </a:lnTo>
                <a:lnTo>
                  <a:pt x="358" y="130"/>
                </a:lnTo>
                <a:lnTo>
                  <a:pt x="354" y="114"/>
                </a:lnTo>
                <a:lnTo>
                  <a:pt x="348" y="100"/>
                </a:lnTo>
                <a:lnTo>
                  <a:pt x="348" y="84"/>
                </a:lnTo>
                <a:lnTo>
                  <a:pt x="333" y="60"/>
                </a:lnTo>
                <a:lnTo>
                  <a:pt x="333" y="60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4678200"/>
            <a:ext cx="324000" cy="371520"/>
          </a:xfrm>
          <a:custGeom>
            <a:avLst/>
            <a:gdLst/>
            <a:ahLst/>
            <a:rect l="l" t="t" r="r" b="b"/>
            <a:pathLst>
              <a:path w="204" h="234">
                <a:moveTo>
                  <a:pt x="17" y="221"/>
                </a:moveTo>
                <a:lnTo>
                  <a:pt x="0" y="181"/>
                </a:lnTo>
                <a:lnTo>
                  <a:pt x="8" y="90"/>
                </a:lnTo>
                <a:lnTo>
                  <a:pt x="8" y="30"/>
                </a:lnTo>
                <a:lnTo>
                  <a:pt x="15" y="0"/>
                </a:lnTo>
                <a:lnTo>
                  <a:pt x="45" y="0"/>
                </a:lnTo>
                <a:lnTo>
                  <a:pt x="121" y="0"/>
                </a:lnTo>
                <a:lnTo>
                  <a:pt x="166" y="0"/>
                </a:lnTo>
                <a:lnTo>
                  <a:pt x="188" y="8"/>
                </a:lnTo>
                <a:lnTo>
                  <a:pt x="203" y="60"/>
                </a:lnTo>
                <a:lnTo>
                  <a:pt x="203" y="90"/>
                </a:lnTo>
                <a:lnTo>
                  <a:pt x="203" y="120"/>
                </a:lnTo>
                <a:lnTo>
                  <a:pt x="203" y="150"/>
                </a:lnTo>
                <a:lnTo>
                  <a:pt x="203" y="173"/>
                </a:lnTo>
                <a:lnTo>
                  <a:pt x="173" y="173"/>
                </a:lnTo>
                <a:lnTo>
                  <a:pt x="151" y="143"/>
                </a:lnTo>
                <a:lnTo>
                  <a:pt x="121" y="143"/>
                </a:lnTo>
                <a:lnTo>
                  <a:pt x="60" y="135"/>
                </a:lnTo>
                <a:lnTo>
                  <a:pt x="60" y="165"/>
                </a:lnTo>
                <a:lnTo>
                  <a:pt x="60" y="181"/>
                </a:lnTo>
                <a:lnTo>
                  <a:pt x="60" y="211"/>
                </a:lnTo>
                <a:lnTo>
                  <a:pt x="60" y="233"/>
                </a:lnTo>
                <a:lnTo>
                  <a:pt x="17" y="221"/>
                </a:lnTo>
                <a:lnTo>
                  <a:pt x="17" y="221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67640" y="3713040"/>
            <a:ext cx="130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46720" y="4191120"/>
            <a:ext cx="18032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92800" y="3713040"/>
            <a:ext cx="17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25840" y="5338800"/>
            <a:ext cx="444600" cy="596880"/>
          </a:xfrm>
          <a:prstGeom prst="star5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25840" y="6176880"/>
            <a:ext cx="368280" cy="520920"/>
          </a:xfrm>
          <a:prstGeom prst="cube">
            <a:avLst>
              <a:gd name="adj" fmla="val 24995"/>
            </a:avLst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92680" y="5264280"/>
            <a:ext cx="1358640" cy="15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623440" y="4267080"/>
            <a:ext cx="279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915400" y="4280040"/>
            <a:ext cx="0" cy="1803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397120" y="6095880"/>
            <a:ext cx="35305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53840" y="5619600"/>
            <a:ext cx="17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3041280" y="5327640"/>
            <a:ext cx="13842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813040" y="533412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88560" y="5237280"/>
            <a:ext cx="10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2736360" y="6165360"/>
            <a:ext cx="1613160" cy="2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66320" y="59990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 transformações morfológ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íp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omparação da imagem original com outra menor denominada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o estrutur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06680" y="4121280"/>
            <a:ext cx="227304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146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290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576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096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06680" y="43434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6680" y="464832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6680" y="495288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06680" y="52578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6680" y="556272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92760" y="3562200"/>
            <a:ext cx="116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16160" y="46544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21080" y="43498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21080" y="495936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25640" y="4654440"/>
            <a:ext cx="29232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25640" y="526428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11240" y="49593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16160" y="52642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59360" y="4197240"/>
            <a:ext cx="9018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57800" y="41972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62720" y="41972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59360" y="44956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59360" y="47242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64280" y="4502160"/>
            <a:ext cx="291960" cy="216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07280" y="624852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02840" y="604512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939200" y="3408480"/>
            <a:ext cx="342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lementos estruturantes B</a:t>
            </a:r>
            <a:r>
              <a:rPr b="0" lang="pt-BR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93080" y="45021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93080" y="4197240"/>
            <a:ext cx="2919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88160" y="45021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97640" y="4502160"/>
            <a:ext cx="292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93080" y="480708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93080" y="450216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58920" y="5208480"/>
            <a:ext cx="1132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-con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916320" y="5207040"/>
            <a:ext cx="1132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con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492880" y="4654440"/>
            <a:ext cx="9014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394320" y="4654440"/>
            <a:ext cx="8510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43200" y="5950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41920" y="6227640"/>
            <a:ext cx="154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perações morfólogicas bás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bre conjuntos e funções:  </a:t>
            </a: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rosão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ila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latação: união de todos os pontos da imagem X, tal que o elemento estruturante 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intercepta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073160" y="4197240"/>
            <a:ext cx="227340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8108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9092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9548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73160" y="44197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73160" y="47242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73160" y="50292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73160" y="53341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73160" y="56386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59240" y="3637080"/>
            <a:ext cx="116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82640" y="47307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87560" y="44258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87560" y="50356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92480" y="473076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92480" y="53402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78080" y="50356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8240" y="6558120"/>
            <a:ext cx="292320" cy="21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8240" y="61023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04560" y="6000840"/>
            <a:ext cx="64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82640" y="5340240"/>
            <a:ext cx="29232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11040" y="6458040"/>
            <a:ext cx="72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97240" y="4730760"/>
            <a:ext cx="292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97240" y="4425840"/>
            <a:ext cx="2923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92680" y="47307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02160" y="47307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7240" y="5035680"/>
            <a:ext cx="292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97240" y="4730760"/>
            <a:ext cx="29232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09040" y="3743280"/>
            <a:ext cx="52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97440" y="4121280"/>
            <a:ext cx="227340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0102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152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01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8487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008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97440" y="43434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797440" y="46483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7440" y="4952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7440" y="52578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7440" y="55627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407280" y="46544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11840" y="434988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11840" y="49593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16760" y="46544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6760" y="52642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02360" y="495936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07280" y="52642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47480" y="348444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dil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797440" y="4959360"/>
            <a:ext cx="29232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02360" y="4654440"/>
            <a:ext cx="291960" cy="292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7280" y="434988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711840" y="4121280"/>
            <a:ext cx="29232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16760" y="434988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321680" y="4654440"/>
            <a:ext cx="291960" cy="292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16760" y="495936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21680" y="526428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6760" y="5568840"/>
            <a:ext cx="291960" cy="292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711840" y="5264280"/>
            <a:ext cx="29232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407280" y="5568840"/>
            <a:ext cx="291960" cy="292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02360" y="526428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07280" y="495936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11840" y="4654440"/>
            <a:ext cx="292320" cy="292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 de dilata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373040" y="4344840"/>
            <a:ext cx="2283120" cy="4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5054760" y="3198960"/>
            <a:ext cx="3903480" cy="10602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609480" y="3174840"/>
            <a:ext cx="4071960" cy="10922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02360" y="1682640"/>
            <a:ext cx="9018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00800" y="1682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05720" y="1682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102360" y="19810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102360" y="22096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407280" y="1987560"/>
            <a:ext cx="291960" cy="216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36960" y="150804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18720" y="1076400"/>
            <a:ext cx="52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71160" y="439884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dil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859040" y="5602320"/>
                <a:ext cx="5532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ÎÂ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ÇX</m:t>
                        </m:r>
                        <m:r>
                          <m:rPr>
                            <m:lit/>
                            <m:nor/>
                          </m:rPr>
                          <m:t xml:space="preserve">¹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ro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junto dos pontos de X, tal qu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eja totalmente incluído em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73160" y="4197240"/>
            <a:ext cx="227340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7160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8600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9092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9548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2408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41972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73160" y="44197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73160" y="47242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73160" y="50292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73160" y="53341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73160" y="56386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59240" y="3637080"/>
            <a:ext cx="116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682640" y="47307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87560" y="44258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987560" y="50356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92480" y="473076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92480" y="5340240"/>
            <a:ext cx="29196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8080" y="503568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8240" y="61023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04560" y="6000840"/>
            <a:ext cx="64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82640" y="5340240"/>
            <a:ext cx="29232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97240" y="4730760"/>
            <a:ext cx="292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97240" y="4425840"/>
            <a:ext cx="2923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92680" y="47307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02160" y="47307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7240" y="5035680"/>
            <a:ext cx="292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97240" y="4730760"/>
            <a:ext cx="29232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09040" y="3743280"/>
            <a:ext cx="52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97440" y="4121280"/>
            <a:ext cx="227340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057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1028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52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201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4872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400800" y="41212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97440" y="43434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97440" y="46483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797440" y="4952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97440" y="52578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97440" y="55627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50000" y="3484440"/>
            <a:ext cx="215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ero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7560" y="4730760"/>
            <a:ext cx="29196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97040" y="4730760"/>
            <a:ext cx="29232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11840" y="4654440"/>
            <a:ext cx="292320" cy="292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8240" y="6558120"/>
            <a:ext cx="292320" cy="21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11040" y="6458040"/>
            <a:ext cx="72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 de eros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962000" y="5175360"/>
                <a:ext cx="560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ÎÂ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Ì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4978440" y="2589120"/>
            <a:ext cx="3903480" cy="10605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609480" y="2565360"/>
            <a:ext cx="4071960" cy="109224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6102360" y="1454040"/>
            <a:ext cx="9018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400800" y="14540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14540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02360" y="17524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02360" y="19810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07280" y="1758960"/>
            <a:ext cx="2919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18720" y="847800"/>
            <a:ext cx="52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66920" y="3805200"/>
            <a:ext cx="22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74040" y="3865680"/>
            <a:ext cx="215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ero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 o caso de funçõ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magens em nívei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cin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0920" y="1677600"/>
            <a:ext cx="209556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lat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24480" y="324648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3184560" y="1676520"/>
                <a:ext cx="423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Î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4" name=""/>
          <p:cNvSpPr/>
          <p:nvPr/>
        </p:nvSpPr>
        <p:spPr>
          <a:xfrm>
            <a:off x="669960" y="232740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ro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3125880" y="2362320"/>
                <a:ext cx="41860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Î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955880" y="11271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007480" y="42735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07480" y="3968640"/>
            <a:ext cx="2919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702560" y="427356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12040" y="4273560"/>
            <a:ext cx="292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007480" y="4578480"/>
            <a:ext cx="291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007480" y="4273560"/>
            <a:ext cx="291960" cy="2919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918920" y="3286080"/>
            <a:ext cx="52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308240" y="4116240"/>
                <a:ext cx="17348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5423040" y="3354480"/>
                <a:ext cx="1734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5495760" y="5106960"/>
                <a:ext cx="15796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1301760" y="4044960"/>
            <a:ext cx="173988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6560" y="3282840"/>
            <a:ext cx="173988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16560" y="5035680"/>
            <a:ext cx="1739880" cy="158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054240" y="3955680"/>
            <a:ext cx="2197080" cy="1003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54240" y="4959360"/>
            <a:ext cx="2273400" cy="977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754440" y="4084560"/>
                <a:ext cx="665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830760" y="5532480"/>
                <a:ext cx="6649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1890000" y="35622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amento de baixo n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lasses de opera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ões pontu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ões glob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ões de vizinhanç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ções lineares 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ransformada de Fourier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    conv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ções não-lineares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morfologia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ões híbr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274680" y="1969920"/>
            <a:ext cx="2641680" cy="351972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3322800" y="1969920"/>
            <a:ext cx="2641320" cy="35197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3"/>
          <a:stretch/>
        </p:blipFill>
        <p:spPr>
          <a:xfrm>
            <a:off x="6294600" y="1893960"/>
            <a:ext cx="2641320" cy="35193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513720" y="5618160"/>
            <a:ext cx="219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97160" y="5618160"/>
            <a:ext cx="128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a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99720" y="5541840"/>
            <a:ext cx="97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o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ertura e fechamento morf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6880" y="1601280"/>
            <a:ext cx="610236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ções de erosão e dilat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3546360" y="2435400"/>
                <a:ext cx="28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o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3481560" y="3578400"/>
                <a:ext cx="29016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o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595080" y="2432160"/>
            <a:ext cx="2315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abertura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2120" y="3575160"/>
            <a:ext cx="2706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fecha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5920" y="4583160"/>
            <a:ext cx="213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21160" y="5192640"/>
            <a:ext cx="6513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 operações duais, crescentes e idempo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21160" y="5726160"/>
            <a:ext cx="792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 a abertura é anti-extensiva e o fechamento, exten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309600" y="3048120"/>
            <a:ext cx="2585880" cy="238104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3352680" y="3044880"/>
            <a:ext cx="2514600" cy="23842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3"/>
          <a:stretch/>
        </p:blipFill>
        <p:spPr>
          <a:xfrm>
            <a:off x="6210360" y="3048120"/>
            <a:ext cx="2628720" cy="23810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6864480" y="1987560"/>
            <a:ext cx="901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162920" y="19875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19875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64480" y="2286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64480" y="25146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169040" y="22924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080840" y="1380960"/>
            <a:ext cx="52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97480" y="554364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69640" y="5543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688080" y="5541840"/>
            <a:ext cx="160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h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os morfológ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8240" y="1641600"/>
            <a:ext cx="617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o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sencialmen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-linea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22600" y="2373480"/>
            <a:ext cx="3831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qualquer trans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4560840" y="2503440"/>
                <a:ext cx="392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"/>
          <p:cNvSpPr/>
          <p:nvPr/>
        </p:nvSpPr>
        <p:spPr>
          <a:xfrm>
            <a:off x="5016960" y="2371680"/>
            <a:ext cx="378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escente e idempo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1049400" y="3246480"/>
                <a:ext cx="5840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&lt;= 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 drarrow  y</m:t>
                    </m:r>
                    <m:r>
                      <m:rPr>
                        <m:lit/>
                        <m:nor/>
                      </m:rPr>
                      <m:t xml:space="preserve"> \( f \)   &lt;=  y</m:t>
                    </m:r>
                    <m:r>
                      <m:rPr>
                        <m:lit/>
                        <m:nor/>
                      </m:rPr>
                      <m:t xml:space="preserve"> \( g \) 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1123920" y="4008600"/>
                <a:ext cx="537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\( f \)  = y</m:t>
                    </m:r>
                    <m:r>
                      <m:rPr>
                        <m:lit/>
                        <m:nor/>
                      </m:rPr>
                      <m:t xml:space="preserve"> \(  y</m:t>
                    </m:r>
                    <m:r>
                      <m:rPr>
                        <m:lit/>
                        <m:nor/>
                      </m:rPr>
                      <m:t xml:space="preserve"> \( f \)  \)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1" name=""/>
          <p:cNvSpPr/>
          <p:nvPr/>
        </p:nvSpPr>
        <p:spPr>
          <a:xfrm>
            <a:off x="974160" y="4886280"/>
            <a:ext cx="1767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66240" y="5543640"/>
            <a:ext cx="606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rosão e dilataçã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ã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ão filtros morf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64800" y="6000840"/>
            <a:ext cx="739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ertur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ch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ão os filtros morfológic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551400" cy="35514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475080" cy="3581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1124280" y="5618160"/>
            <a:ext cx="253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 com ruí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89560" y="5618160"/>
            <a:ext cx="286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gem por a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ros exemplos de operações element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36680" y="1488960"/>
            <a:ext cx="415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diente morfológic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718160" y="1523880"/>
                <a:ext cx="366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79360" y="242244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1189080" y="2732040"/>
            <a:ext cx="2641680" cy="351936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4846680" y="2655720"/>
            <a:ext cx="2641680" cy="35197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2192760" y="630396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41840" y="6303960"/>
            <a:ext cx="132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péu mexicano clar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739800" y="1752480"/>
            <a:ext cx="3081240" cy="410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130720" y="566640"/>
                <a:ext cx="3529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4998960" y="1741320"/>
            <a:ext cx="3078360" cy="41007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1506960" y="599904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165720" y="5999040"/>
            <a:ext cx="75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péu mexicano escur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739800" y="1752480"/>
            <a:ext cx="3081240" cy="410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5114880" y="566640"/>
                <a:ext cx="35337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5" name=""/>
          <p:cNvSpPr/>
          <p:nvPr/>
        </p:nvSpPr>
        <p:spPr>
          <a:xfrm>
            <a:off x="1506960" y="599904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66440" y="5967360"/>
            <a:ext cx="75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4854600" y="1752480"/>
            <a:ext cx="309096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5199120" y="2959200"/>
            <a:ext cx="3564000" cy="22431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641760" cy="22924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1352160" y="5618160"/>
            <a:ext cx="219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72240" y="5619600"/>
            <a:ext cx="214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af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ções geodésicas e reconstr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2084400" y="2800440"/>
            <a:ext cx="4335480" cy="268596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4044960" y="4578480"/>
            <a:ext cx="1282680" cy="6728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340240" y="4260600"/>
            <a:ext cx="444600" cy="10033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243760" y="51609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26920" y="1366920"/>
            <a:ext cx="383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rica geodés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istograma 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ão global que fornece a freqüência de ocorrência dos níveis de cinza de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á informações sobre a distribuição dos níveis de cinza        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inâmi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im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ões: filtragem, segmentação, reconhecimento de padrões e image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8098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latação geodé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846000" y="2090880"/>
                <a:ext cx="4106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Ç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586080" y="1336680"/>
            <a:ext cx="613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latação de Y em X de tamanho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92480" y="46544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37808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82640" y="3740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8756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0688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9248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7040" y="3740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0196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07316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11440" y="3740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7808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82640" y="3968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756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0688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597040" y="3968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90196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7316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11440" y="3968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7808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82640" y="4197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98756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0688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9248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97040" y="4197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90196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7316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11440" y="4197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37808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82640" y="4425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756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20688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9248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597040" y="4425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0196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7316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511440" y="4425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7808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82640" y="46544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8756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688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97040" y="46544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90196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7316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11440" y="46544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37808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82640" y="4883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8756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0688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9248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97040" y="4883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0196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7316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11440" y="4883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7808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82640" y="5111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8756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20688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9248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597040" y="5111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0196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07316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11440" y="5111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7808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82640" y="5340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98756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0688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97040" y="5340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90196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07316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11440" y="5340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7808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682640" y="5568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8756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0688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9248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597040" y="5568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90196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07316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11440" y="5568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87560" y="46544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7560" y="4425840"/>
            <a:ext cx="29196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92480" y="44258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87560" y="48830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82640" y="51116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682640" y="46544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682640" y="44258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82640" y="41972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87560" y="4197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378080" y="46544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292480" y="4197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7040" y="41972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597040" y="44258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97040" y="46544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901960" y="44258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92480" y="48830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97040" y="48830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987560" y="5340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682640" y="39686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987560" y="39686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2480" y="39686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987560" y="4425840"/>
            <a:ext cx="291960" cy="216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71960" y="59990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1289160" y="3422160"/>
            <a:ext cx="774720" cy="115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204920" y="31035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7280" y="45784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49288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797440" y="3664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10236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32168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728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11840" y="3664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1676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796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26240" y="3664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9288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97440" y="3892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10236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2168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11840" y="3892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01676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18796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6240" y="3892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49288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7440" y="4121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0236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32168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0728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11840" y="4121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1676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8796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626240" y="4121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49288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97440" y="4349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10236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2168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40728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11840" y="4349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01676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8796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626240" y="4349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49288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797440" y="45784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10236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32168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711840" y="45784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676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8796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6240" y="45784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9288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797440" y="4807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10236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32168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0728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711840" y="4807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01676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18796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626240" y="4807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49288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97440" y="5035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10236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32168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40728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711840" y="5035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01676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8796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626240" y="5035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49288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797440" y="5264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0236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32168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11840" y="5264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01676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18796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626240" y="5264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9288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797440" y="5492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10236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32168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40728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11840" y="5492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01676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8796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26240" y="5492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102360" y="45784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102360" y="43498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407280" y="43498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02360" y="48070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7440" y="50356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97440" y="48070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97440" y="45784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97440" y="43498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797440" y="41212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02360" y="41212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492880" y="45784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407280" y="41212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11840" y="41212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11840" y="43498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711840" y="45784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016760" y="43498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7280" y="48070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711840" y="48070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02360" y="52642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797440" y="38926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02360" y="38926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407280" y="38926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102360" y="43498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02360" y="45784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407280" y="45784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407280" y="43498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07280" y="41212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02360" y="41212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97440" y="41212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797440" y="43498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97440" y="45784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35280" y="5035680"/>
            <a:ext cx="6336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6102360"/>
            <a:ext cx="36828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5851440" y="5824440"/>
                <a:ext cx="1373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5" name=""/>
          <p:cNvSpPr/>
          <p:nvPr/>
        </p:nvSpPr>
        <p:spPr>
          <a:xfrm>
            <a:off x="3206880" y="5340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206880" y="55688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511440" y="53402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11440" y="55688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26240" y="52642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321680" y="52642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21680" y="54928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26240" y="54928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82640" y="48830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latação de Y em X de tamanh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07280" y="45784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49288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97440" y="3664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0236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32168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40728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711840" y="3664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676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187960" y="3664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626240" y="3664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9288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7440" y="3892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0236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2168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11840" y="3892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01676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87960" y="3892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26240" y="3892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9288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97440" y="4121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10236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32168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40728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11840" y="4121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1676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7960" y="4121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26240" y="4121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49288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797440" y="4349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0236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32168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40728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11840" y="4349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1676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187960" y="4349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626240" y="4349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49288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797440" y="45784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10236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32168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711840" y="45784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01676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187960" y="45784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626240" y="45784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49288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797440" y="4807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0236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32168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0728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711840" y="4807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01676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187960" y="48070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26240" y="48070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49288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97440" y="5035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0236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2168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40728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711840" y="5035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01676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187960" y="50356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6240" y="50356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49288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797440" y="5264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32168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11840" y="5264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01676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187960" y="52642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626240" y="52642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9288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97440" y="5492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10236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32168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0728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711840" y="5492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01676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87960" y="5492880"/>
            <a:ext cx="2919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26240" y="5492880"/>
            <a:ext cx="29232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102360" y="45784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02360" y="43498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407280" y="43498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102360" y="48070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797440" y="50356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97440" y="48070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97440" y="45784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97440" y="43498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797440" y="41212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02360" y="41212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92880" y="45784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407280" y="41212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711840" y="41212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711840" y="43498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711840" y="45784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016760" y="43498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407280" y="48070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1840" y="48070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02360" y="52642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797440" y="3892680"/>
            <a:ext cx="29232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02360" y="38926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07280" y="3892680"/>
            <a:ext cx="291960" cy="21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02360" y="43498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02360" y="45784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07280" y="45784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07280" y="43498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407280" y="41212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02360" y="41212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97440" y="41212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7440" y="43498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97440" y="45784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7" name=""/>
              <p:cNvSpPr txBox="1"/>
              <p:nvPr/>
            </p:nvSpPr>
            <p:spPr>
              <a:xfrm>
                <a:off x="5832360" y="5824440"/>
                <a:ext cx="1403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8" name=""/>
              <p:cNvSpPr txBox="1"/>
              <p:nvPr/>
            </p:nvSpPr>
            <p:spPr>
              <a:xfrm>
                <a:off x="974880" y="1523880"/>
                <a:ext cx="535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9" name=""/>
          <p:cNvSpPr/>
          <p:nvPr/>
        </p:nvSpPr>
        <p:spPr>
          <a:xfrm>
            <a:off x="2749680" y="2292480"/>
            <a:ext cx="633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25640" y="23623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425840" y="2368440"/>
            <a:ext cx="637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502160" y="2355480"/>
            <a:ext cx="6336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578480" y="23623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178680" y="2279160"/>
            <a:ext cx="6336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870720" y="2417760"/>
            <a:ext cx="108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ve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797440" y="48070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102360" y="48070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407280" y="48070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711840" y="48070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711840" y="45784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711840" y="43498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016760" y="43498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711840" y="41212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407280" y="38926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2360" y="38926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97440" y="38926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7440" y="5035680"/>
            <a:ext cx="29232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102360" y="52642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492880" y="4578480"/>
            <a:ext cx="291960" cy="215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92480" y="46544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37808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82640" y="3740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8756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0688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9248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597040" y="3740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0196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073160" y="3740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1440" y="3740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37808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82640" y="3968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8756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20688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597040" y="3968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90196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073160" y="3968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511440" y="3968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7808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682640" y="4197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8756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20688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29248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97040" y="4197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0196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073160" y="4197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511440" y="4197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37808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82640" y="4425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8756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20688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9248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597040" y="4425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0196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73160" y="4425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511440" y="4425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37808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682640" y="46544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8756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0688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597040" y="46544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73160" y="46544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511440" y="46544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7808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682640" y="4883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756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0688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29248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597040" y="4883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0196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73160" y="4883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11440" y="48830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37808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82640" y="5111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98756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20688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9248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97040" y="5111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90196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073160" y="51116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511440" y="51116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37808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82640" y="5340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8756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688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597040" y="5340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0196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073160" y="53402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11440" y="53402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37808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682640" y="5568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8756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0688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9248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597040" y="5568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90196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073160" y="55688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11440" y="556884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87560" y="46544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87560" y="4425840"/>
            <a:ext cx="29196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292480" y="44258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87560" y="48830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682640" y="51116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682640" y="46544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82640" y="44258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682640" y="41972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87560" y="4197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378080" y="46544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292480" y="4197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97040" y="41972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597040" y="44258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597040" y="46544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901960" y="44258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292480" y="48830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97040" y="48830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987560" y="5340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682640" y="39686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87560" y="39686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92480" y="39686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7560" y="4425840"/>
            <a:ext cx="291960" cy="2160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271960" y="59990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 flipV="1">
            <a:off x="1289160" y="3422160"/>
            <a:ext cx="774720" cy="115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204920" y="31035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835280" y="5035680"/>
            <a:ext cx="6336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11240" y="6102360"/>
            <a:ext cx="36828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6880" y="53402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206880" y="5568840"/>
            <a:ext cx="29196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511440" y="53402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511440" y="55688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82640" y="4883040"/>
            <a:ext cx="292320" cy="216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573280" y="5999040"/>
            <a:ext cx="138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ásc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506600" y="3103560"/>
            <a:ext cx="153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ca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321680" y="52642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626240" y="52642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626240" y="5492880"/>
            <a:ext cx="29232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321680" y="5492880"/>
            <a:ext cx="291960" cy="215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6254640" y="3193560"/>
            <a:ext cx="21600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483240" y="32004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41080" y="299736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mplo de aplicaça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23920" y="1351080"/>
            <a:ext cx="84661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iminaçao de partículas parcialmente incluídas na            im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76320" y="3886200"/>
            <a:ext cx="2819160" cy="203508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2"/>
          <a:stretch/>
        </p:blipFill>
        <p:spPr>
          <a:xfrm>
            <a:off x="3048120" y="3938760"/>
            <a:ext cx="2890800" cy="19285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3"/>
          <a:stretch/>
        </p:blipFill>
        <p:spPr>
          <a:xfrm>
            <a:off x="6046920" y="3933720"/>
            <a:ext cx="3019320" cy="19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133720" y="2325600"/>
                <a:ext cx="5087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X</m:t>
                    </m:r>
                    <m:sSub>
                      <m:e/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¥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¶</m:t>
                    </m:r>
                    <m:r>
                      <m:t xml:space="preserve">å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8" name=""/>
          <p:cNvSpPr/>
          <p:nvPr/>
        </p:nvSpPr>
        <p:spPr>
          <a:xfrm flipV="1">
            <a:off x="1225440" y="3422520"/>
            <a:ext cx="29232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30360" y="3429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1828800" y="3300480"/>
                <a:ext cx="917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¶</m:t>
                    </m:r>
                    <m:r>
                      <m:t xml:space="preserve">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1" name=""/>
          <p:cNvSpPr/>
          <p:nvPr/>
        </p:nvSpPr>
        <p:spPr>
          <a:xfrm>
            <a:off x="1128960" y="59230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57600" y="5830920"/>
                <a:ext cx="1828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¥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¶</m:t>
                    </m:r>
                    <m:r>
                      <m:t xml:space="preserve">å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7543800" y="5875200"/>
                <a:ext cx="4525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nstrução em níveis de cin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" descr=""/>
          <p:cNvPicPr/>
          <p:nvPr/>
        </p:nvPicPr>
        <p:blipFill>
          <a:blip r:embed="rId1"/>
          <a:stretch/>
        </p:blipFill>
        <p:spPr>
          <a:xfrm>
            <a:off x="801720" y="3352680"/>
            <a:ext cx="3693960" cy="2414880"/>
          </a:xfrm>
          <a:prstGeom prst="rect">
            <a:avLst/>
          </a:prstGeom>
          <a:ln w="0">
            <a:noFill/>
          </a:ln>
        </p:spPr>
      </p:pic>
      <p:sp>
        <p:nvSpPr>
          <p:cNvPr id="1508" name=""/>
          <p:cNvSpPr/>
          <p:nvPr/>
        </p:nvSpPr>
        <p:spPr>
          <a:xfrm flipH="1">
            <a:off x="1434960" y="4038480"/>
            <a:ext cx="787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2"/>
          <a:stretch/>
        </p:blipFill>
        <p:spPr>
          <a:xfrm>
            <a:off x="5210280" y="3352680"/>
            <a:ext cx="3479760" cy="236232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/>
          <p:nvPr/>
        </p:nvSpPr>
        <p:spPr>
          <a:xfrm>
            <a:off x="1454040" y="6102360"/>
            <a:ext cx="7495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758960" y="6330960"/>
            <a:ext cx="139680" cy="139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286000" y="41212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371600" y="4044960"/>
            <a:ext cx="0" cy="227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4510080" y="355140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825480" y="1530360"/>
                <a:ext cx="42912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843120" y="2254320"/>
                <a:ext cx="5151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nstrução d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0" name="" descr=""/>
          <p:cNvPicPr/>
          <p:nvPr/>
        </p:nvPicPr>
        <p:blipFill>
          <a:blip r:embed="rId1"/>
          <a:stretch/>
        </p:blipFill>
        <p:spPr>
          <a:xfrm>
            <a:off x="849240" y="2541600"/>
            <a:ext cx="3419640" cy="2563920"/>
          </a:xfrm>
          <a:prstGeom prst="rect">
            <a:avLst/>
          </a:prstGeom>
          <a:ln w="0">
            <a:noFill/>
          </a:ln>
        </p:spPr>
      </p:pic>
      <p:pic>
        <p:nvPicPr>
          <p:cNvPr id="1521" name="" descr=""/>
          <p:cNvPicPr/>
          <p:nvPr/>
        </p:nvPicPr>
        <p:blipFill>
          <a:blip r:embed="rId2"/>
          <a:stretch/>
        </p:blipFill>
        <p:spPr>
          <a:xfrm>
            <a:off x="5029200" y="2563920"/>
            <a:ext cx="3505320" cy="2522520"/>
          </a:xfrm>
          <a:prstGeom prst="rect">
            <a:avLst/>
          </a:prstGeom>
          <a:ln w="0">
            <a:noFill/>
          </a:ln>
        </p:spPr>
      </p:pic>
      <p:sp>
        <p:nvSpPr>
          <p:cNvPr id="1522" name=""/>
          <p:cNvSpPr/>
          <p:nvPr/>
        </p:nvSpPr>
        <p:spPr>
          <a:xfrm flipV="1">
            <a:off x="1987560" y="243216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16160" y="2279160"/>
            <a:ext cx="5205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650320" y="2036880"/>
            <a:ext cx="133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368440" y="4730760"/>
            <a:ext cx="36828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749680" y="53341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83840" y="50864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ás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20680" y="5086440"/>
            <a:ext cx="234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onstruçao 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queleto por zona de influ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895840" cy="289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380880" y="2286000"/>
                <a:ext cx="8761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4" name=""/>
          <p:cNvSpPr/>
          <p:nvPr/>
        </p:nvSpPr>
        <p:spPr>
          <a:xfrm>
            <a:off x="437760" y="1413000"/>
            <a:ext cx="35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a de influê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15520" y="3013200"/>
            <a:ext cx="302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leto SKI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3672000" y="3124080"/>
                <a:ext cx="371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IZ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ção morf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0880" y="1762200"/>
            <a:ext cx="8279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ada na definição d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nha Divisora de Águas -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uma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2147760" y="3753000"/>
            <a:ext cx="4838760" cy="193356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2978280" y="5035680"/>
            <a:ext cx="113004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114800" y="49593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4108320" y="5111640"/>
            <a:ext cx="927360" cy="120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4107960" y="4883040"/>
            <a:ext cx="191772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03920" y="6273720"/>
            <a:ext cx="207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nimo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090760" y="261612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2521080" y="2965320"/>
            <a:ext cx="280656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3511440" y="2965320"/>
            <a:ext cx="181620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4654440" y="2964960"/>
            <a:ext cx="67320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 flipV="1">
            <a:off x="5327640" y="2965320"/>
            <a:ext cx="24120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5327640" y="2965320"/>
            <a:ext cx="115560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lculo da LD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8360" y="1306440"/>
            <a:ext cx="702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partir de limiarizações sucessivas da imag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1760" y="1938240"/>
                <a:ext cx="5008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ÎÂ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i=0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8" name=""/>
          <p:cNvSpPr/>
          <p:nvPr/>
        </p:nvSpPr>
        <p:spPr>
          <a:xfrm>
            <a:off x="443880" y="2754360"/>
            <a:ext cx="4576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conjunto Z das LDAs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1301760" y="3448080"/>
                <a:ext cx="4451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IZ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/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j=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512720" y="4002120"/>
                <a:ext cx="1230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j</m:t>
                        </m:r>
                      </m:lim>
                    </m:limLow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1" name=""/>
          <p:cNvSpPr/>
          <p:nvPr/>
        </p:nvSpPr>
        <p:spPr>
          <a:xfrm>
            <a:off x="975960" y="5008680"/>
            <a:ext cx="58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3    3    3    1    0    1    2    2    2 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282840" y="5410080"/>
            <a:ext cx="292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026040" y="5410080"/>
            <a:ext cx="292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984400" y="5715000"/>
            <a:ext cx="96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727600" y="5715000"/>
            <a:ext cx="96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978280" y="60199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984400" y="6095880"/>
            <a:ext cx="1879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41800" y="6095880"/>
            <a:ext cx="1650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73160" y="6019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73160" y="6324480"/>
            <a:ext cx="570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41800" y="6400800"/>
            <a:ext cx="1650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98600" y="6400800"/>
            <a:ext cx="2565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079640" y="6400800"/>
            <a:ext cx="1041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978280" y="5638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721480" y="5638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209680" y="6483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16160" y="67057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952880" y="6483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606440" y="638172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 de LD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5257800" y="2536920"/>
            <a:ext cx="3711600" cy="371160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2"/>
          <a:stretch/>
        </p:blipFill>
        <p:spPr>
          <a:xfrm>
            <a:off x="2743200" y="329724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585" name="" descr=""/>
          <p:cNvPicPr/>
          <p:nvPr/>
        </p:nvPicPr>
        <p:blipFill>
          <a:blip r:embed="rId3"/>
          <a:stretch/>
        </p:blipFill>
        <p:spPr>
          <a:xfrm>
            <a:off x="250920" y="3298680"/>
            <a:ext cx="2187360" cy="2187720"/>
          </a:xfrm>
          <a:prstGeom prst="rect">
            <a:avLst/>
          </a:prstGeom>
          <a:ln w="0">
            <a:noFill/>
          </a:ln>
        </p:spPr>
      </p:pic>
      <p:sp>
        <p:nvSpPr>
          <p:cNvPr id="1586" name=""/>
          <p:cNvSpPr/>
          <p:nvPr/>
        </p:nvSpPr>
        <p:spPr>
          <a:xfrm>
            <a:off x="821160" y="546588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107160" y="546588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616080" y="62276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óximos passos para a seg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32360" y="1488960"/>
            <a:ext cx="7376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marcadores das regiões de inte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708120" y="2689200"/>
            <a:ext cx="3101760" cy="3102120"/>
          </a:xfrm>
          <a:prstGeom prst="rect">
            <a:avLst/>
          </a:prstGeom>
          <a:ln w="0">
            <a:noFill/>
          </a:ln>
        </p:spPr>
      </p:pic>
      <p:pic>
        <p:nvPicPr>
          <p:cNvPr id="1594" name="" descr=""/>
          <p:cNvPicPr/>
          <p:nvPr/>
        </p:nvPicPr>
        <p:blipFill>
          <a:blip r:embed="rId2"/>
          <a:stretch/>
        </p:blipFill>
        <p:spPr>
          <a:xfrm>
            <a:off x="4724280" y="2689200"/>
            <a:ext cx="3094200" cy="309420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1047240" y="5770440"/>
            <a:ext cx="219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781880" y="5923080"/>
            <a:ext cx="328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adores definidos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542920" y="6227640"/>
            <a:ext cx="169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miar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lgoritm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[f(x,y)] = 0 {zera contadores de níveis de cinza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ar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da valor f(x,y)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fa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[f(x,y)] = h[f(x,y)]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Fim-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ição dos marcadores na imagem gradie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89080" y="1380960"/>
            <a:ext cx="6269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finir uma imag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seguinte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1697040" y="2133720"/>
                <a:ext cx="4211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¥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se  x</m:t>
                              </m:r>
                              <m:r>
                                <m:t xml:space="preserve">ÏM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       se  x</m:t>
                              </m:r>
                              <m:r>
                                <m:t xml:space="preserve">Î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M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2209680" y="3538440"/>
            <a:ext cx="4068720" cy="297180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 flipV="1">
            <a:off x="6102360" y="3346560"/>
            <a:ext cx="5205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35880" y="33526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223040" y="302904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993360" y="333216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nstrução dual d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1735200" y="2971800"/>
            <a:ext cx="5122800" cy="342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2" name=""/>
              <p:cNvSpPr txBox="1"/>
              <p:nvPr/>
            </p:nvSpPr>
            <p:spPr>
              <a:xfrm>
                <a:off x="1219320" y="1371600"/>
                <a:ext cx="2819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¥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3" name=""/>
          <p:cNvSpPr/>
          <p:nvPr/>
        </p:nvSpPr>
        <p:spPr>
          <a:xfrm flipV="1">
            <a:off x="3048120" y="2793960"/>
            <a:ext cx="0" cy="889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5105520" y="2793600"/>
            <a:ext cx="0" cy="66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3054240" y="2432160"/>
            <a:ext cx="2578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5111640" y="2432160"/>
            <a:ext cx="5209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01320" y="2112840"/>
            <a:ext cx="147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a 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1" name="" descr=""/>
          <p:cNvPicPr/>
          <p:nvPr/>
        </p:nvPicPr>
        <p:blipFill>
          <a:blip r:embed="rId1"/>
          <a:stretch/>
        </p:blipFill>
        <p:spPr>
          <a:xfrm>
            <a:off x="936720" y="2460600"/>
            <a:ext cx="3101760" cy="310212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2"/>
          <a:stretch/>
        </p:blipFill>
        <p:spPr>
          <a:xfrm>
            <a:off x="5029200" y="2535120"/>
            <a:ext cx="3027240" cy="3027600"/>
          </a:xfrm>
          <a:prstGeom prst="rect">
            <a:avLst/>
          </a:prstGeom>
          <a:ln w="0">
            <a:noFill/>
          </a:ln>
        </p:spPr>
      </p:pic>
      <p:sp>
        <p:nvSpPr>
          <p:cNvPr id="1623" name=""/>
          <p:cNvSpPr/>
          <p:nvPr/>
        </p:nvSpPr>
        <p:spPr>
          <a:xfrm>
            <a:off x="2116440" y="5618160"/>
            <a:ext cx="113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926680" y="554184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8" name="" descr=""/>
          <p:cNvPicPr/>
          <p:nvPr/>
        </p:nvPicPr>
        <p:blipFill>
          <a:blip r:embed="rId1"/>
          <a:stretch/>
        </p:blipFill>
        <p:spPr>
          <a:xfrm>
            <a:off x="3305160" y="3755880"/>
            <a:ext cx="2865600" cy="252108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2"/>
          <a:stretch/>
        </p:blipFill>
        <p:spPr>
          <a:xfrm>
            <a:off x="1143000" y="40176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3"/>
          <a:stretch/>
        </p:blipFill>
        <p:spPr>
          <a:xfrm>
            <a:off x="5638680" y="325440"/>
            <a:ext cx="2874960" cy="28749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/>
          <p:nvPr/>
        </p:nvSpPr>
        <p:spPr>
          <a:xfrm>
            <a:off x="1735560" y="310356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897720" y="630396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68360" y="317988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560680" cy="2560680"/>
          </a:xfrm>
          <a:prstGeom prst="rect">
            <a:avLst/>
          </a:prstGeom>
          <a:ln w="0">
            <a:noFill/>
          </a:ln>
        </p:spPr>
      </p:pic>
      <p:pic>
        <p:nvPicPr>
          <p:cNvPr id="1638" name="" descr=""/>
          <p:cNvPicPr/>
          <p:nvPr/>
        </p:nvPicPr>
        <p:blipFill>
          <a:blip r:embed="rId2"/>
          <a:stretch/>
        </p:blipFill>
        <p:spPr>
          <a:xfrm>
            <a:off x="2666880" y="858960"/>
            <a:ext cx="1913040" cy="1579320"/>
          </a:xfrm>
          <a:prstGeom prst="rect">
            <a:avLst/>
          </a:prstGeom>
          <a:ln w="0">
            <a:noFill/>
          </a:ln>
        </p:spPr>
      </p:pic>
      <p:pic>
        <p:nvPicPr>
          <p:cNvPr id="1639" name="" descr=""/>
          <p:cNvPicPr/>
          <p:nvPr/>
        </p:nvPicPr>
        <p:blipFill>
          <a:blip r:embed="rId3"/>
          <a:stretch/>
        </p:blipFill>
        <p:spPr>
          <a:xfrm>
            <a:off x="5029200" y="838080"/>
            <a:ext cx="1817640" cy="1600200"/>
          </a:xfrm>
          <a:prstGeom prst="rect">
            <a:avLst/>
          </a:prstGeom>
          <a:ln w="0">
            <a:noFill/>
          </a:ln>
        </p:spPr>
      </p:pic>
      <p:pic>
        <p:nvPicPr>
          <p:cNvPr id="1640" name="" descr=""/>
          <p:cNvPicPr/>
          <p:nvPr/>
        </p:nvPicPr>
        <p:blipFill>
          <a:blip r:embed="rId4"/>
          <a:stretch/>
        </p:blipFill>
        <p:spPr>
          <a:xfrm>
            <a:off x="7115040" y="860400"/>
            <a:ext cx="1792440" cy="1577880"/>
          </a:xfrm>
          <a:prstGeom prst="rect">
            <a:avLst/>
          </a:prstGeom>
          <a:ln w="0">
            <a:noFill/>
          </a:ln>
        </p:spPr>
      </p:pic>
      <p:pic>
        <p:nvPicPr>
          <p:cNvPr id="1641" name="" descr=""/>
          <p:cNvPicPr/>
          <p:nvPr/>
        </p:nvPicPr>
        <p:blipFill>
          <a:blip r:embed="rId5"/>
          <a:stretch/>
        </p:blipFill>
        <p:spPr>
          <a:xfrm>
            <a:off x="304920" y="838080"/>
            <a:ext cx="1852560" cy="160020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3104280" y="5846760"/>
            <a:ext cx="286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m segmentad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733920" y="4191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48"/>
                </a:move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92880" y="457200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DI é uma área multidisciplin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ras sub-áreas (sub-problema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quisis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dificação / compr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stau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strução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rquiteturas específicas, lingu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tragem e segmentação de imagens de ra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" descr=""/>
          <p:cNvPicPr/>
          <p:nvPr/>
        </p:nvPicPr>
        <p:blipFill>
          <a:blip r:embed="rId1"/>
          <a:stretch/>
        </p:blipFill>
        <p:spPr>
          <a:xfrm>
            <a:off x="463680" y="1911240"/>
            <a:ext cx="3956040" cy="3880080"/>
          </a:xfrm>
          <a:prstGeom prst="rect">
            <a:avLst/>
          </a:prstGeom>
          <a:ln w="0">
            <a:noFill/>
          </a:ln>
        </p:spPr>
      </p:pic>
      <p:pic>
        <p:nvPicPr>
          <p:cNvPr id="1653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88440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egmentação multiresol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7" name="" descr=""/>
          <p:cNvPicPr/>
          <p:nvPr/>
        </p:nvPicPr>
        <p:blipFill>
          <a:blip r:embed="rId1"/>
          <a:stretch/>
        </p:blipFill>
        <p:spPr>
          <a:xfrm>
            <a:off x="1282680" y="2314440"/>
            <a:ext cx="3365640" cy="172404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2"/>
          <a:stretch/>
        </p:blipFill>
        <p:spPr>
          <a:xfrm>
            <a:off x="1282680" y="4600440"/>
            <a:ext cx="3365640" cy="134316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3"/>
          <a:stretch/>
        </p:blipFill>
        <p:spPr>
          <a:xfrm>
            <a:off x="5981760" y="2057400"/>
            <a:ext cx="2628720" cy="2286000"/>
          </a:xfrm>
          <a:prstGeom prst="rect">
            <a:avLst/>
          </a:prstGeom>
          <a:ln w="0">
            <a:noFill/>
          </a:ln>
        </p:spPr>
      </p:pic>
      <p:pic>
        <p:nvPicPr>
          <p:cNvPr id="1660" name="" descr=""/>
          <p:cNvPicPr/>
          <p:nvPr/>
        </p:nvPicPr>
        <p:blipFill>
          <a:blip r:embed="rId4"/>
          <a:stretch/>
        </p:blipFill>
        <p:spPr>
          <a:xfrm>
            <a:off x="5943600" y="4648320"/>
            <a:ext cx="26668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b18d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mplos de diferentes dinâmica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23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8862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40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6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5600" y="3886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540160"/>
            <a:ext cx="2590920" cy="1346040"/>
          </a:xfrm>
          <a:custGeom>
            <a:avLst/>
            <a:gdLst/>
            <a:ahLst/>
            <a:rect l="l" t="t" r="r" b="b"/>
            <a:pathLst>
              <a:path w="1632" h="848">
                <a:moveTo>
                  <a:pt x="0" y="848"/>
                </a:moveTo>
                <a:cubicBezTo>
                  <a:pt x="60" y="456"/>
                  <a:pt x="120" y="64"/>
                  <a:pt x="192" y="32"/>
                </a:cubicBezTo>
                <a:cubicBezTo>
                  <a:pt x="264" y="0"/>
                  <a:pt x="192" y="520"/>
                  <a:pt x="432" y="656"/>
                </a:cubicBezTo>
                <a:cubicBezTo>
                  <a:pt x="672" y="792"/>
                  <a:pt x="1432" y="816"/>
                  <a:pt x="1632" y="8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11720" y="3809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1720" y="22860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1720" y="2374920"/>
            <a:ext cx="2667240" cy="1434960"/>
          </a:xfrm>
          <a:custGeom>
            <a:avLst/>
            <a:gdLst/>
            <a:ahLst/>
            <a:rect l="l" t="t" r="r" b="b"/>
            <a:pathLst>
              <a:path w="1680" h="904">
                <a:moveTo>
                  <a:pt x="0" y="904"/>
                </a:moveTo>
                <a:cubicBezTo>
                  <a:pt x="344" y="856"/>
                  <a:pt x="688" y="808"/>
                  <a:pt x="912" y="664"/>
                </a:cubicBezTo>
                <a:cubicBezTo>
                  <a:pt x="1136" y="520"/>
                  <a:pt x="1216" y="0"/>
                  <a:pt x="1344" y="40"/>
                </a:cubicBezTo>
                <a:cubicBezTo>
                  <a:pt x="1472" y="80"/>
                  <a:pt x="1576" y="492"/>
                  <a:pt x="1680" y="9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68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75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99520" y="3733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0360" y="48006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 e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68920" y="4800600"/>
            <a:ext cx="184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m cl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4190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559640" y="4190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419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59436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13360" y="5943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623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4686480"/>
            <a:ext cx="2667240" cy="1257120"/>
          </a:xfrm>
          <a:custGeom>
            <a:avLst/>
            <a:gdLst/>
            <a:ahLst/>
            <a:rect l="l" t="t" r="r" b="b"/>
            <a:pathLst>
              <a:path w="1680" h="792">
                <a:moveTo>
                  <a:pt x="0" y="792"/>
                </a:moveTo>
                <a:cubicBezTo>
                  <a:pt x="36" y="732"/>
                  <a:pt x="72" y="672"/>
                  <a:pt x="96" y="600"/>
                </a:cubicBezTo>
                <a:cubicBezTo>
                  <a:pt x="120" y="528"/>
                  <a:pt x="120" y="456"/>
                  <a:pt x="144" y="360"/>
                </a:cubicBezTo>
                <a:cubicBezTo>
                  <a:pt x="168" y="264"/>
                  <a:pt x="208" y="48"/>
                  <a:pt x="240" y="24"/>
                </a:cubicBezTo>
                <a:cubicBezTo>
                  <a:pt x="272" y="0"/>
                  <a:pt x="288" y="176"/>
                  <a:pt x="336" y="216"/>
                </a:cubicBezTo>
                <a:cubicBezTo>
                  <a:pt x="384" y="256"/>
                  <a:pt x="496" y="280"/>
                  <a:pt x="528" y="264"/>
                </a:cubicBezTo>
                <a:cubicBezTo>
                  <a:pt x="560" y="248"/>
                  <a:pt x="480" y="144"/>
                  <a:pt x="528" y="120"/>
                </a:cubicBezTo>
                <a:cubicBezTo>
                  <a:pt x="576" y="96"/>
                  <a:pt x="768" y="88"/>
                  <a:pt x="816" y="120"/>
                </a:cubicBezTo>
                <a:cubicBezTo>
                  <a:pt x="864" y="152"/>
                  <a:pt x="784" y="280"/>
                  <a:pt x="816" y="312"/>
                </a:cubicBezTo>
                <a:cubicBezTo>
                  <a:pt x="848" y="344"/>
                  <a:pt x="976" y="344"/>
                  <a:pt x="1008" y="312"/>
                </a:cubicBezTo>
                <a:cubicBezTo>
                  <a:pt x="1040" y="280"/>
                  <a:pt x="960" y="128"/>
                  <a:pt x="1008" y="120"/>
                </a:cubicBezTo>
                <a:cubicBezTo>
                  <a:pt x="1056" y="112"/>
                  <a:pt x="1248" y="200"/>
                  <a:pt x="1296" y="264"/>
                </a:cubicBezTo>
                <a:cubicBezTo>
                  <a:pt x="1344" y="328"/>
                  <a:pt x="1272" y="432"/>
                  <a:pt x="1296" y="504"/>
                </a:cubicBezTo>
                <a:cubicBezTo>
                  <a:pt x="1320" y="576"/>
                  <a:pt x="1376" y="648"/>
                  <a:pt x="1440" y="696"/>
                </a:cubicBezTo>
                <a:cubicBezTo>
                  <a:pt x="1504" y="744"/>
                  <a:pt x="1640" y="776"/>
                  <a:pt x="1680" y="7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1400" y="586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3T08:47:50Z</dcterms:created>
  <dc:creator>Neucimar Jeronimo Leite</dc:creator>
  <dc:description/>
  <dc:language>en-US</dc:language>
  <cp:lastModifiedBy>cpg</cp:lastModifiedBy>
  <cp:lastPrinted>31144-12-01T03:46:26Z</cp:lastPrinted>
  <dcterms:modified xsi:type="dcterms:W3CDTF">2001-10-26T10:46:18Z</dcterms:modified>
  <cp:revision>33</cp:revision>
  <dc:subject/>
  <dc:title>Introdução ao Processamento e Análise de Imagens</dc:title>
</cp:coreProperties>
</file>