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5AB-4E89-4402-9A69-31EAA4EB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FDA-9809-4DE9-94A6-03B0D900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763-EC0B-4AA7-A9F7-95C9CA62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21F-BC60-4D5B-B3B6-C8454FCA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BFB-41E7-4B2F-A78B-72AB1709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08F-65DA-429E-93D0-543AD9A9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9DC-8C72-44CF-823B-6F16683F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6F7-C1F9-4902-9361-74C32BE9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E03-8C66-4E67-881E-56F6C73F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840-E951-4DDA-9E75-544AD3E2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035-D036-4818-844D-0FC6E9CC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465-9B69-4450-B60D-CD467637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6864-CA3C-49BE-B283-84B740140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447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emó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762120" y="790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828800" y="330120"/>
            <a:ext cx="2634840" cy="1302120"/>
            <a:chOff x="1828800" y="330120"/>
            <a:chExt cx="2634840" cy="1302120"/>
          </a:xfrm>
        </p:grpSpPr>
        <p:sp>
          <p:nvSpPr>
            <p:cNvPr id="44" name=""/>
            <p:cNvSpPr/>
            <p:nvPr/>
          </p:nvSpPr>
          <p:spPr>
            <a:xfrm>
              <a:off x="2895480" y="708120"/>
              <a:ext cx="609840" cy="57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19400" y="838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501640" y="790920"/>
              <a:ext cx="7596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09680" y="1121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2209680" y="62604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904400" y="62604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828800" y="8737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hipSel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00400" y="46044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200400" y="128592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023640" y="33012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031560" y="138600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W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05320" y="95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733560" y="912960"/>
              <a:ext cx="7596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504600" y="70812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853800" y="93384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723920" y="595440"/>
            <a:ext cx="1676520" cy="359280"/>
            <a:chOff x="4723920" y="595440"/>
            <a:chExt cx="1676520" cy="359280"/>
          </a:xfrm>
        </p:grpSpPr>
        <p:sp>
          <p:nvSpPr>
            <p:cNvPr id="60" name=""/>
            <p:cNvSpPr/>
            <p:nvPr/>
          </p:nvSpPr>
          <p:spPr>
            <a:xfrm flipH="1">
              <a:off x="4723560" y="70848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2   palavras de m bi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755600" y="59544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 flipH="1">
            <a:off x="608760" y="231156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rg. int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885480" y="222876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etade do endereço seleciona uma linha, a outra metade, colu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450800" y="1816200"/>
            <a:ext cx="1641240" cy="1402920"/>
            <a:chOff x="1450800" y="1816200"/>
            <a:chExt cx="1641240" cy="1402920"/>
          </a:xfrm>
        </p:grpSpPr>
        <p:grpSp>
          <p:nvGrpSpPr>
            <p:cNvPr id="65" name=""/>
            <p:cNvGrpSpPr/>
            <p:nvPr/>
          </p:nvGrpSpPr>
          <p:grpSpPr>
            <a:xfrm>
              <a:off x="2254320" y="1816200"/>
              <a:ext cx="837720" cy="411120"/>
              <a:chOff x="2254320" y="1816200"/>
              <a:chExt cx="837720" cy="41112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2254320" y="1898640"/>
                <a:ext cx="762120" cy="328680"/>
                <a:chOff x="2254320" y="1898640"/>
                <a:chExt cx="762120" cy="328680"/>
              </a:xfrm>
            </p:grpSpPr>
            <p:sp>
              <p:nvSpPr>
                <p:cNvPr id="67" name=""/>
                <p:cNvSpPr/>
                <p:nvPr/>
              </p:nvSpPr>
              <p:spPr>
                <a:xfrm flipV="1">
                  <a:off x="2254320" y="2062440"/>
                  <a:ext cx="762120" cy="164520"/>
                </a:xfrm>
                <a:custGeom>
                  <a:avLst/>
                  <a:gdLst>
                    <a:gd name="textAreaLeft" fmla="*/ 163080 w 762120"/>
                    <a:gd name="textAreaRight" fmla="*/ 599040 w 762120"/>
                    <a:gd name="textAreaTop" fmla="*/ 35280 h 164520"/>
                    <a:gd name="textAreaBottom" fmla="*/ 129240 h 16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425" y="21600"/>
                      </a:lnTo>
                      <a:lnTo>
                        <a:pt x="5175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2635200" y="189864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621160" y="1946520"/>
                  <a:ext cx="42840" cy="82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 flipH="1">
                <a:off x="2482200" y="181620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n/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450800" y="2311560"/>
              <a:ext cx="609840" cy="824760"/>
              <a:chOff x="1450800" y="2311560"/>
              <a:chExt cx="609840" cy="8247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1752480" y="2311560"/>
                <a:ext cx="304200" cy="824760"/>
                <a:chOff x="1752480" y="2311560"/>
                <a:chExt cx="304200" cy="824760"/>
              </a:xfrm>
            </p:grpSpPr>
            <p:sp>
              <p:nvSpPr>
                <p:cNvPr id="73" name=""/>
                <p:cNvSpPr/>
                <p:nvPr/>
              </p:nvSpPr>
              <p:spPr>
                <a:xfrm flipV="1" rot="16200000">
                  <a:off x="1568160" y="2647440"/>
                  <a:ext cx="824760" cy="152280"/>
                </a:xfrm>
                <a:custGeom>
                  <a:avLst/>
                  <a:gdLst>
                    <a:gd name="textAreaLeft" fmla="*/ 176400 w 824760"/>
                    <a:gd name="textAreaRight" fmla="*/ 648360 w 824760"/>
                    <a:gd name="textAreaTop" fmla="*/ 32400 h 152280"/>
                    <a:gd name="textAreaBottom" fmla="*/ 11988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425" y="21600"/>
                      </a:lnTo>
                      <a:lnTo>
                        <a:pt x="5175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752480" y="2724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1796760" y="2693160"/>
                  <a:ext cx="763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 flipH="1">
                <a:off x="1450800" y="2484360"/>
                <a:ext cx="609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n/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057400" y="2476440"/>
              <a:ext cx="990720" cy="577440"/>
              <a:chOff x="2057400" y="2476440"/>
              <a:chExt cx="990720" cy="577440"/>
            </a:xfrm>
          </p:grpSpPr>
          <p:sp>
            <p:nvSpPr>
              <p:cNvPr id="78" name=""/>
              <p:cNvSpPr/>
              <p:nvPr/>
            </p:nvSpPr>
            <p:spPr>
              <a:xfrm>
                <a:off x="2057400" y="247644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57400" y="2558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057400" y="26416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057400" y="272376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057400" y="280656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57400" y="2889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57400" y="297144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57400" y="3053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361960" y="2228760"/>
              <a:ext cx="533160" cy="990360"/>
              <a:chOff x="2361960" y="2228760"/>
              <a:chExt cx="533160" cy="990360"/>
            </a:xfrm>
          </p:grpSpPr>
          <p:sp>
            <p:nvSpPr>
              <p:cNvPr id="87" name=""/>
              <p:cNvSpPr/>
              <p:nvPr/>
            </p:nvSpPr>
            <p:spPr>
              <a:xfrm>
                <a:off x="2895120" y="22287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819160" y="22287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742840" y="22287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66880" y="22287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590560" y="22287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514240" y="22287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38280" y="22287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361960" y="22287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 flipH="1">
            <a:off x="304200" y="3797280"/>
            <a:ext cx="60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ndereçamento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exemplo: barr. end. 32 bits, mem. total 64 MB, palavra de 32 bits, chips de 8 M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1920" y="4292640"/>
            <a:ext cx="6782400" cy="2185560"/>
            <a:chOff x="151920" y="4292640"/>
            <a:chExt cx="6782400" cy="2185560"/>
          </a:xfrm>
        </p:grpSpPr>
        <p:sp>
          <p:nvSpPr>
            <p:cNvPr id="97" name=""/>
            <p:cNvSpPr/>
            <p:nvPr/>
          </p:nvSpPr>
          <p:spPr>
            <a:xfrm flipH="1">
              <a:off x="2346480" y="615204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76520" y="610848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483920" y="4869720"/>
              <a:ext cx="801720" cy="1237680"/>
              <a:chOff x="1483920" y="4869720"/>
              <a:chExt cx="801720" cy="1237680"/>
            </a:xfrm>
          </p:grpSpPr>
          <p:sp>
            <p:nvSpPr>
              <p:cNvPr id="100" name=""/>
              <p:cNvSpPr/>
              <p:nvPr/>
            </p:nvSpPr>
            <p:spPr>
              <a:xfrm>
                <a:off x="1600200" y="5283000"/>
                <a:ext cx="380880" cy="329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1752480" y="4869720"/>
                <a:ext cx="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28720" y="503532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1523160" y="495252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1752480" y="561240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728720" y="569916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1483560" y="559584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0800000">
                <a:off x="1752480" y="5613480"/>
                <a:ext cx="45648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980720" y="4869720"/>
              <a:ext cx="801720" cy="1237680"/>
              <a:chOff x="1980720" y="4869720"/>
              <a:chExt cx="801720" cy="1237680"/>
            </a:xfrm>
          </p:grpSpPr>
          <p:sp>
            <p:nvSpPr>
              <p:cNvPr id="109" name=""/>
              <p:cNvSpPr/>
              <p:nvPr/>
            </p:nvSpPr>
            <p:spPr>
              <a:xfrm>
                <a:off x="2097000" y="5283000"/>
                <a:ext cx="380880" cy="329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249280" y="4869720"/>
                <a:ext cx="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25520" y="503532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019960" y="495252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249280" y="561240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25520" y="569916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1980360" y="559584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0800000">
                <a:off x="2249280" y="5613480"/>
                <a:ext cx="45648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437920" y="4869720"/>
              <a:ext cx="801720" cy="1237680"/>
              <a:chOff x="2437920" y="4869720"/>
              <a:chExt cx="801720" cy="123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2554200" y="5283000"/>
                <a:ext cx="380880" cy="329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2706480" y="4869720"/>
                <a:ext cx="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82720" y="503532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477160" y="495252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2706480" y="561240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82720" y="569916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437560" y="559584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0800000">
                <a:off x="2706480" y="5613480"/>
                <a:ext cx="45648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895120" y="4869720"/>
              <a:ext cx="801720" cy="1237680"/>
              <a:chOff x="2895120" y="4869720"/>
              <a:chExt cx="801720" cy="1237680"/>
            </a:xfrm>
          </p:grpSpPr>
          <p:sp>
            <p:nvSpPr>
              <p:cNvPr id="127" name=""/>
              <p:cNvSpPr/>
              <p:nvPr/>
            </p:nvSpPr>
            <p:spPr>
              <a:xfrm>
                <a:off x="3011400" y="5283000"/>
                <a:ext cx="380880" cy="329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163680" y="4869720"/>
                <a:ext cx="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39920" y="503532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934360" y="495252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163680" y="561240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39920" y="569916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894760" y="559584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0800000">
                <a:off x="3163680" y="5613480"/>
                <a:ext cx="45648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590920" y="61084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54200" y="6239160"/>
              <a:ext cx="7632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47920" y="643896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778840" y="619128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03560" y="6396120"/>
              <a:ext cx="7632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913680" y="619128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35240" y="487872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351960" y="463104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76680" y="4835880"/>
              <a:ext cx="7632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51560" y="429264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71600" y="5200560"/>
              <a:ext cx="2209680" cy="49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45403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067400" y="4539600"/>
              <a:ext cx="608040" cy="329400"/>
              <a:chOff x="1067400" y="4539600"/>
              <a:chExt cx="608040" cy="329400"/>
            </a:xfrm>
          </p:grpSpPr>
          <p:sp>
            <p:nvSpPr>
              <p:cNvPr id="148" name=""/>
              <p:cNvSpPr/>
              <p:nvPr/>
            </p:nvSpPr>
            <p:spPr>
              <a:xfrm flipH="1" flipV="1">
                <a:off x="1371600" y="4539240"/>
                <a:ext cx="303840" cy="32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067400" y="4540320"/>
                <a:ext cx="303840" cy="328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H="1">
              <a:off x="1447200" y="429264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dd[31..0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32800" y="470520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dd[22..0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900680" y="615204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30720" y="61084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4038120" y="4869720"/>
              <a:ext cx="801720" cy="1237680"/>
              <a:chOff x="4038120" y="4869720"/>
              <a:chExt cx="801720" cy="1237680"/>
            </a:xfrm>
          </p:grpSpPr>
          <p:sp>
            <p:nvSpPr>
              <p:cNvPr id="155" name=""/>
              <p:cNvSpPr/>
              <p:nvPr/>
            </p:nvSpPr>
            <p:spPr>
              <a:xfrm>
                <a:off x="4154400" y="5283000"/>
                <a:ext cx="380880" cy="329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4306680" y="4869720"/>
                <a:ext cx="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82920" y="503532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4077360" y="495252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4306680" y="561240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82920" y="5699160"/>
                <a:ext cx="7632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4037760" y="559584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0800000">
                <a:off x="4306680" y="5613480"/>
                <a:ext cx="45648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535640" y="4869720"/>
              <a:ext cx="801000" cy="1237680"/>
              <a:chOff x="4535640" y="4869720"/>
              <a:chExt cx="801000" cy="1237680"/>
            </a:xfrm>
          </p:grpSpPr>
          <p:sp>
            <p:nvSpPr>
              <p:cNvPr id="164" name=""/>
              <p:cNvSpPr/>
              <p:nvPr/>
            </p:nvSpPr>
            <p:spPr>
              <a:xfrm>
                <a:off x="4651200" y="5283000"/>
                <a:ext cx="380520" cy="329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803480" y="4869720"/>
                <a:ext cx="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779720" y="5035320"/>
                <a:ext cx="7596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4574880" y="495252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803480" y="561240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79720" y="5699160"/>
                <a:ext cx="7596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4535640" y="559584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0800000">
                <a:off x="4803840" y="5613480"/>
                <a:ext cx="45576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4992840" y="4869720"/>
              <a:ext cx="801000" cy="1237680"/>
              <a:chOff x="4992840" y="4869720"/>
              <a:chExt cx="801000" cy="1237680"/>
            </a:xfrm>
          </p:grpSpPr>
          <p:sp>
            <p:nvSpPr>
              <p:cNvPr id="173" name=""/>
              <p:cNvSpPr/>
              <p:nvPr/>
            </p:nvSpPr>
            <p:spPr>
              <a:xfrm>
                <a:off x="5108400" y="5283000"/>
                <a:ext cx="380520" cy="329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5260680" y="4869720"/>
                <a:ext cx="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236920" y="5035320"/>
                <a:ext cx="7596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5032080" y="495252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5260680" y="561240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36920" y="5699160"/>
                <a:ext cx="7596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4992840" y="559584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0800000">
                <a:off x="5261040" y="5613480"/>
                <a:ext cx="45576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5450040" y="4869720"/>
              <a:ext cx="801000" cy="1237680"/>
              <a:chOff x="5450040" y="4869720"/>
              <a:chExt cx="801000" cy="1237680"/>
            </a:xfrm>
          </p:grpSpPr>
          <p:sp>
            <p:nvSpPr>
              <p:cNvPr id="182" name=""/>
              <p:cNvSpPr/>
              <p:nvPr/>
            </p:nvSpPr>
            <p:spPr>
              <a:xfrm>
                <a:off x="5565600" y="5283000"/>
                <a:ext cx="380520" cy="329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5717880" y="4869720"/>
                <a:ext cx="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94120" y="5035320"/>
                <a:ext cx="7596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5489280" y="495252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717880" y="561240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94120" y="5699160"/>
                <a:ext cx="7596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5450040" y="559584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0800000">
                <a:off x="5718240" y="5613480"/>
                <a:ext cx="45576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5145120" y="61084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08400" y="6239160"/>
              <a:ext cx="7632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52280" y="520056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hipSelect = A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25800" y="5200560"/>
              <a:ext cx="2210040" cy="49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14400" y="5448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019920" y="511776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hipSelect = ~A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172200" y="5531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H="1">
            <a:off x="304920" y="701676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lassific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676520" y="7016760"/>
            <a:ext cx="4572000" cy="825120"/>
            <a:chOff x="1676520" y="7016760"/>
            <a:chExt cx="4572000" cy="825120"/>
          </a:xfrm>
        </p:grpSpPr>
        <p:sp>
          <p:nvSpPr>
            <p:cNvPr id="199" name=""/>
            <p:cNvSpPr/>
            <p:nvPr/>
          </p:nvSpPr>
          <p:spPr>
            <a:xfrm>
              <a:off x="1676520" y="7016760"/>
              <a:ext cx="4572000" cy="41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Volátil: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erde o valor sem alimentação; ex: RAM, DRAM, S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76520" y="7429680"/>
              <a:ext cx="457200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Não Volátil: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ão perde o valor sem alimentação; ex: ROM, EPROM, FLA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990720" y="8007480"/>
            <a:ext cx="4572000" cy="825120"/>
            <a:chOff x="990720" y="8007480"/>
            <a:chExt cx="4572000" cy="825120"/>
          </a:xfrm>
        </p:grpSpPr>
        <p:sp>
          <p:nvSpPr>
            <p:cNvPr id="202" name=""/>
            <p:cNvSpPr/>
            <p:nvPr/>
          </p:nvSpPr>
          <p:spPr>
            <a:xfrm>
              <a:off x="990720" y="8007480"/>
              <a:ext cx="4572000" cy="41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Estática (SRAM):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élula é como um latch (sem perdas)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(pequena densidade&gt; 6 transistor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90720" y="8420040"/>
              <a:ext cx="4572000" cy="41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Dinâmica (DRAM):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élula baseia-se em cargas armazenadas em capacitores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erda de carga exige recarga (refresh) (grande densidade: 3 a 4 transistor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219320" y="9080640"/>
            <a:ext cx="4114800" cy="412200"/>
            <a:chOff x="1219320" y="9080640"/>
            <a:chExt cx="4114800" cy="412200"/>
          </a:xfrm>
        </p:grpSpPr>
        <p:sp>
          <p:nvSpPr>
            <p:cNvPr id="205" name=""/>
            <p:cNvSpPr/>
            <p:nvPr/>
          </p:nvSpPr>
          <p:spPr>
            <a:xfrm>
              <a:off x="1219320" y="9080640"/>
              <a:ext cx="205740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Leitura somente: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OM, EPR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76720" y="9080640"/>
              <a:ext cx="205740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Leitura / Escrita: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User</cp:lastModifiedBy>
  <cp:lastPrinted>2001-06-07T00:17:16Z</cp:lastPrinted>
  <dcterms:modified xsi:type="dcterms:W3CDTF">2001-06-07T00:24:20Z</dcterms:modified>
  <cp:revision>11</cp:revision>
  <dc:subject/>
  <dc:title>Slide sem título </dc:title>
</cp:coreProperties>
</file>