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31640" y="4851000"/>
            <a:ext cx="4648320" cy="482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>
            <a:noAutofit/>
          </a:bodyPr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"/>
              <a:tabLst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oard work:  Binary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31640" y="4851000"/>
            <a:ext cx="4648320" cy="482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>
            <a:noAutofit/>
          </a:bodyPr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"/>
              <a:tabLst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oard work:  Binary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17880" y="6289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480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39640" y="652464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3-</a:t>
            </a:r>
            <a:fld id="{F52F309D-0E80-4A85-B9C4-E8BD3E080D6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412240" y="657072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hapter 3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structions: Language of the Mach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ur First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n we figure out the cod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78000" y="2006640"/>
            <a:ext cx="263052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wap(int v[], int k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{ int te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temp = v[k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v[k] = v[k+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v[k+1] = te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47800" y="3309840"/>
            <a:ext cx="414360" cy="314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606840" y="3021120"/>
            <a:ext cx="263052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muli $2, $5,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add $2, $4, $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lw $15, 0($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lw $16, 4($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w $16, 0($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w $15, 4($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jr $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 far we’ve learne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loading words but addressing byt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arithmetic on registers onl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stru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aning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$s1, $s2, $s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$s2 + $s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$s1, $s2, $s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$s2 – $s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s1, 100($s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Memory[$s2+100]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s1, 100($s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ory[$s2+100] = $s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14720" y="1329480"/>
            <a:ext cx="8008920" cy="473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s, like registers and words of data, are also 32 bits l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0, $s1, $s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ers have numbers,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t0=8, $s1=17, $s2=18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 Format (TIPO R)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00000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10001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1001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0100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0000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100000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d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ham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unct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Can you guess what the field names stand fo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s: source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t: target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d: destination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op + funct: definem a instru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5360" y="312840"/>
            <a:ext cx="281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achine Language (3.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301760" y="3130560"/>
            <a:ext cx="5626080" cy="291960"/>
            <a:chOff x="1301760" y="3130560"/>
            <a:chExt cx="5626080" cy="291960"/>
          </a:xfrm>
        </p:grpSpPr>
        <p:sp>
          <p:nvSpPr>
            <p:cNvPr id="128" name=""/>
            <p:cNvSpPr/>
            <p:nvPr/>
          </p:nvSpPr>
          <p:spPr>
            <a:xfrm>
              <a:off x="1301760" y="3130560"/>
              <a:ext cx="5626080" cy="29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86000" y="31464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31464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62520" y="31464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76920" y="31464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31464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301760" y="3664080"/>
            <a:ext cx="5626080" cy="291960"/>
            <a:chOff x="1301760" y="3664080"/>
            <a:chExt cx="5626080" cy="291960"/>
          </a:xfrm>
        </p:grpSpPr>
        <p:sp>
          <p:nvSpPr>
            <p:cNvPr id="135" name=""/>
            <p:cNvSpPr/>
            <p:nvPr/>
          </p:nvSpPr>
          <p:spPr>
            <a:xfrm>
              <a:off x="1301760" y="3664080"/>
              <a:ext cx="5626080" cy="29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6000" y="367992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8120" y="367992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367992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367992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91320" y="367992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sider the load-word and store-word instruction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would the regularity principle have us d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ew principle:  Good design demands a comprom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roduce a new type of instruction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-type for data transfer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ther format was R-type for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0, 32($s2)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35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1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9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32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op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16 bit number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ere's the compromis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5360" y="312840"/>
            <a:ext cx="281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8640" y="4489560"/>
            <a:ext cx="10144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13120" y="4489560"/>
            <a:ext cx="101412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29040" y="4489560"/>
            <a:ext cx="10144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43520" y="4489560"/>
            <a:ext cx="30430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98640" y="3887640"/>
            <a:ext cx="6087960" cy="338400"/>
            <a:chOff x="998640" y="3887640"/>
            <a:chExt cx="6087960" cy="338400"/>
          </a:xfrm>
        </p:grpSpPr>
        <p:sp>
          <p:nvSpPr>
            <p:cNvPr id="148" name=""/>
            <p:cNvSpPr/>
            <p:nvPr/>
          </p:nvSpPr>
          <p:spPr>
            <a:xfrm>
              <a:off x="998640" y="388764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13120" y="3887640"/>
              <a:ext cx="101412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29040" y="388764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43520" y="3887640"/>
              <a:ext cx="30430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achine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tos de instrução já vis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2205000"/>
          <a:ext cx="7918560" cy="31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5000"/>
                    <a:ext cx="791856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(pag 119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31200" y="1245960"/>
            <a:ext cx="8175960" cy="261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[300] = h + A[300];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0, 1200($t1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0, $s2, $t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w $t0, 1200($t1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3429000"/>
          <a:ext cx="8475480" cy="255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429000"/>
                    <a:ext cx="847548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ções vistas até agor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44440" y="1673280"/>
          <a:ext cx="8667720" cy="364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40" y="1673280"/>
                    <a:ext cx="8667720" cy="36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s are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grams are stored in memory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to be read or written just like data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etch &amp; Execute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s are fetched and put into a special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its in the register "control" the subsequent 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etch the “next” instruction and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165320" y="2617920"/>
            <a:ext cx="2579760" cy="2214360"/>
            <a:chOff x="1165320" y="2617920"/>
            <a:chExt cx="2579760" cy="2214360"/>
          </a:xfrm>
        </p:grpSpPr>
        <p:sp>
          <p:nvSpPr>
            <p:cNvPr id="165" name=""/>
            <p:cNvSpPr/>
            <p:nvPr/>
          </p:nvSpPr>
          <p:spPr>
            <a:xfrm>
              <a:off x="2367000" y="2617920"/>
              <a:ext cx="0" cy="221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65320" y="3284640"/>
              <a:ext cx="15271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98840" y="2827440"/>
              <a:ext cx="1014480" cy="157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17840" y="3284640"/>
              <a:ext cx="12272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H="1">
            <a:off x="3816000" y="3181320"/>
            <a:ext cx="1050840" cy="41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35680" y="2933640"/>
            <a:ext cx="435924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emory for data, program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ompilers, edito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ored Program Concep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cision making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ter the control flow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.e., change the "next" instruction to be executed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conditional branch instructions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ne $t0, $t1, Label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t0, $t1, Label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rol (3.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ample (pag 123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06440" y="1320840"/>
            <a:ext cx="8025480" cy="452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ssumir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 g h i j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0 -&gt; $s4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f (i = = j) goto L1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f = g + h;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1:          f = f - i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s3, $s4, Label    # goto label if i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j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s0, $s1, $s2      # faz a soma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abel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ub $s0, $s0, s$3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 se não há label explícito no código C?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f (i != j) f = g + h;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f = f - i;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ssembler cria label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of the Mach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primitive than higher level languag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no sophisticated control 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restricti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MIPS Arithmetic Instruction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be working with the MIPS instruction set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to other architectures developed since the 1980'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by NEC, Nintendo, Silicon Graphics, Son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sign goals:  maximize performance and minimize cost,  reduce design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unconditional branch instructions: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j  lab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 (i!=j)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s4, $s5, Lab1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h=i+j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s3, $s4, $s5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j Lab2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h=i-j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ab1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ub $s3, $s4, $s5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ab2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Can you build a simple for loop?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or (i=0; i &lt; n; i = i + 1)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i &lt;- 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abel: corpo do for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i = i + 1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teste (usando beq ou bne)-&gt; lab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 fa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stru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aning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$s1,$s2,$s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$s2 + $s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$s1,$s2,$s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$s2 – $s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s1,100($s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Memory[$s2+100]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s1,100($s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ory[$s2+100] = $s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ne $s4,$s5,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t instr. is at Label if $s4 ° $s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q $s4,$s5,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t instr. is at Label if $s4 = $s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 Labe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t instr. is at Labe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66720" y="4589640"/>
            <a:ext cx="6445440" cy="1379520"/>
            <a:chOff x="666720" y="4589640"/>
            <a:chExt cx="6445440" cy="1379520"/>
          </a:xfrm>
        </p:grpSpPr>
        <p:grpSp>
          <p:nvGrpSpPr>
            <p:cNvPr id="183" name=""/>
            <p:cNvGrpSpPr/>
            <p:nvPr/>
          </p:nvGrpSpPr>
          <p:grpSpPr>
            <a:xfrm>
              <a:off x="1023840" y="5033880"/>
              <a:ext cx="6088320" cy="338400"/>
              <a:chOff x="1023840" y="5033880"/>
              <a:chExt cx="6088320" cy="338400"/>
            </a:xfrm>
          </p:grpSpPr>
          <p:sp>
            <p:nvSpPr>
              <p:cNvPr id="184" name=""/>
              <p:cNvSpPr/>
              <p:nvPr/>
            </p:nvSpPr>
            <p:spPr>
              <a:xfrm>
                <a:off x="1023840" y="5033880"/>
                <a:ext cx="1014480" cy="33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038320" y="5033880"/>
                <a:ext cx="1014480" cy="33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052800" y="5033880"/>
                <a:ext cx="1014480" cy="33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067280" y="5033880"/>
                <a:ext cx="3044880" cy="33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1023840" y="4632480"/>
              <a:ext cx="6088320" cy="338040"/>
              <a:chOff x="1023840" y="4632480"/>
              <a:chExt cx="6088320" cy="338040"/>
            </a:xfrm>
          </p:grpSpPr>
          <p:sp>
            <p:nvSpPr>
              <p:cNvPr id="189" name=""/>
              <p:cNvSpPr/>
              <p:nvPr/>
            </p:nvSpPr>
            <p:spPr>
              <a:xfrm>
                <a:off x="102384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03832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5280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6728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8320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09768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023840" y="5435640"/>
              <a:ext cx="6088320" cy="338040"/>
              <a:chOff x="1023840" y="5435640"/>
              <a:chExt cx="6088320" cy="338040"/>
            </a:xfrm>
          </p:grpSpPr>
          <p:sp>
            <p:nvSpPr>
              <p:cNvPr id="196" name=""/>
              <p:cNvSpPr/>
              <p:nvPr/>
            </p:nvSpPr>
            <p:spPr>
              <a:xfrm>
                <a:off x="1023840" y="543564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038320" y="5435640"/>
                <a:ext cx="507384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666720" y="4589640"/>
              <a:ext cx="6413400" cy="1379520"/>
              <a:chOff x="666720" y="4589640"/>
              <a:chExt cx="6413400" cy="1379520"/>
            </a:xfrm>
          </p:grpSpPr>
          <p:sp>
            <p:nvSpPr>
              <p:cNvPr id="199" name=""/>
              <p:cNvSpPr/>
              <p:nvPr/>
            </p:nvSpPr>
            <p:spPr>
              <a:xfrm>
                <a:off x="692280" y="4589640"/>
                <a:ext cx="63878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marL="112680">
                  <a:lnSpc>
                    <a:spcPts val="2699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1521000"/>
                    <a:tab algn="l" pos="2540160"/>
                    <a:tab algn="l" pos="3557520"/>
                    <a:tab algn="l" pos="4638600"/>
                    <a:tab algn="l" pos="559440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op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rs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rt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rd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shamt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fun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66720" y="4952880"/>
                <a:ext cx="5875200" cy="95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marL="112680">
                  <a:lnSpc>
                    <a:spcPts val="2699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1521000"/>
                    <a:tab algn="l" pos="2540160"/>
                    <a:tab algn="l" pos="3557520"/>
                    <a:tab algn="l" pos="4638600"/>
                    <a:tab algn="l" pos="559440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op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rs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rt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16 bit address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66720" y="5354640"/>
                <a:ext cx="486108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marL="112680">
                  <a:lnSpc>
                    <a:spcPts val="2699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1521000"/>
                    <a:tab algn="l" pos="2540160"/>
                    <a:tab algn="l" pos="3557520"/>
                    <a:tab algn="l" pos="4638600"/>
                    <a:tab algn="l" pos="559440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op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26 bit addre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592200" y="4640400"/>
            <a:ext cx="39996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 (i == j)       f = g + h ; else f = g - h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s3  $s4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$s0  $s1 $s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ne $s3, $s4, Els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goto Else if i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j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s0, $s1, $s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 = g + 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j Ex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lse: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0, $s1, $s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 = g - 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xit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..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5360" y="312840"/>
            <a:ext cx="195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rol Flow (if then el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rol Flow (sl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lt (set-on-less-than):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  $s1 &lt; $s2 then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$t0 = 1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slt $t0, $s1, $s2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$t0 = 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n use this instruction to build  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lt $s1, $s2, 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"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can now build general control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e that the assembler needs a register to do this,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there are policy of use conventions for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icy of Use Conven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76400" y="2448000"/>
          <a:ext cx="6672240" cy="297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448000"/>
                    <a:ext cx="6672240" cy="29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124360" y="5675400"/>
            <a:ext cx="60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1 = $at: reservado para o assemb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26-27 = $k0-$k1: reservados para o sistema 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o do $ze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Zero é um  valor út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usto em hardware é (quase) nul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Útil, por exemplo, para implement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$s1, $s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 $s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ear $s1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#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$s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lt $s1, $s2, Label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# branch on less th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 loop com array (pag 12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78720" y="1293120"/>
            <a:ext cx="838656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op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 = g + A[i];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(g           h        i         j       A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 = i + j;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($s1     $s2    $s3   $s4   $s5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f (i != h) goto Loop;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op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t1, $s3, $zer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i $t1, $t1, 4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 * 4  (instrução adian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t1, $t1, $s5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 * 4 + A (posição do element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w $t0, 0($t1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$t0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A[i]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s1, $s1, $t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g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g + A[i]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s3, $s3, $s4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i = i + j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ne $s3, $s2, Loop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goto Loop if i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 while loop (pag 127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78360" y="1293120"/>
            <a:ext cx="861516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op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ile (save[i] = = k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(i           j        k        save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 = i + j;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($s3    $s4   $s5       $s6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op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t1, $s3, $zer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i $t1, $t1, 4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 * 4  (instrução adian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t1, $t1, $s6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 * 4 + s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w $t0, 0($t1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$t0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save[i]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ne $t0, $s5, Exi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goto Exit  if save[i]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s3, $s3, $s4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i = i + j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j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it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ver exercício 3.9 para otimização, reduzindo para uma instrução de desvio por cicl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ase / switch e jr (pag 129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11840" y="1021680"/>
            <a:ext cx="8548200" cy="46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witch (k) {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 (f          g        h        i         j       k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se 0: f=i+j; break;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 ($s0    $s1     $s2    $s3   $s4   $s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se 1: f=g+h; break;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 ($t2 contém o valor 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se 2: f=g-h; break;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 ($t4 contém base de JumpTable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se 3: f=i-j; break;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testar primeiro se k dentro de 0-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add $t1, $s5, $zero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 $t1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multi $t1, $t1, 4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 $t1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i * 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add $t1, $t1, $t4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$t1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k * 4 + JumpT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lw $t0, 0($t1)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$t0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endereço a ser saltado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jr $t0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salta para o endereç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L0: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add $s0, $s3, $s4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f = i + j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j Exit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break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L1: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add $s0, $s1, $s2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f = g + 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j Exit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break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90680" y="5638680"/>
            <a:ext cx="197244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fs aninhado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m é melh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mada de procedi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53520" y="1267920"/>
            <a:ext cx="8131320" cy="317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io: passar parâmetros, executar (salvar contexto), retornar, (recuperar context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ção SIMPLES do MIPS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jal endereç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ia para endereç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alva “automaticamente” endereço da próxima instrução em $ra ($3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que acontece com jal aninhado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ção: pilh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: implementada na memória, com $sp ($2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r exemplos pag 134 - 13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876920"/>
            <a:ext cx="2743200" cy="105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ush $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ddi  $sp, $sp, -4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w    $ra, 0($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76920" y="4876920"/>
            <a:ext cx="2743200" cy="105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p $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lw    $ra, 0($sp)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ddi  $sp, $sp,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3.2 MIPS arithme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l instructions have 3 ope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perand order is fixed (destination first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code: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 = B + C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s0, $s1, $s2 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(associated with variables by compil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mada de procedi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ext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dereço de retor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es tipo $sn (devem ser salvos, não podem ser alterado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alvamento do contex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lo “caller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lo “calle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rgumentos passados entre o chamador e o cham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ar os registradores $a0 = $a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mporários não precisam ser sal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5360" y="312840"/>
            <a:ext cx="1590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mall constants are used quite frequently (50% of operands)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= A + 5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 = B + 1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= C - 18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tions?  Why no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ut 'typical constants' in memory and load them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 hard-wired registers (like $zero) for constants like one.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Instructions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i $29, $29, 4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lti $8, $18, 1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ndi $29, $29, 6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ri $29, $29, 4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ow do we make this work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25360" y="312840"/>
            <a:ext cx="4259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'd like to be able to load a 32 bit constant into a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use two instructions, new "load upper immediate" instruction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ui $t0, 1010101010101010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must get the lower order bits right, i.e.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i $t0, $t0, 1010101010101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784520" y="4819680"/>
            <a:ext cx="4084560" cy="325440"/>
            <a:chOff x="1784520" y="4819680"/>
            <a:chExt cx="4084560" cy="325440"/>
          </a:xfrm>
        </p:grpSpPr>
        <p:sp>
          <p:nvSpPr>
            <p:cNvPr id="233" name=""/>
            <p:cNvSpPr/>
            <p:nvPr/>
          </p:nvSpPr>
          <p:spPr>
            <a:xfrm>
              <a:off x="1784520" y="4819680"/>
              <a:ext cx="2041200" cy="3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27520" y="4819680"/>
              <a:ext cx="2041560" cy="3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941480" y="4802040"/>
            <a:ext cx="2630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10101010101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70440" y="4802040"/>
            <a:ext cx="203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0000000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784520" y="5208480"/>
            <a:ext cx="4084560" cy="325440"/>
            <a:chOff x="1784520" y="5208480"/>
            <a:chExt cx="4084560" cy="325440"/>
          </a:xfrm>
        </p:grpSpPr>
        <p:sp>
          <p:nvSpPr>
            <p:cNvPr id="238" name=""/>
            <p:cNvSpPr/>
            <p:nvPr/>
          </p:nvSpPr>
          <p:spPr>
            <a:xfrm>
              <a:off x="1784520" y="5208480"/>
              <a:ext cx="2041200" cy="3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27520" y="5208480"/>
              <a:ext cx="2041560" cy="3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941480" y="5191200"/>
            <a:ext cx="2630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0000000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70440" y="5191200"/>
            <a:ext cx="203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10101010101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84520" y="5805360"/>
            <a:ext cx="4216320" cy="538200"/>
            <a:chOff x="1784520" y="5805360"/>
            <a:chExt cx="4216320" cy="538200"/>
          </a:xfrm>
        </p:grpSpPr>
        <p:grpSp>
          <p:nvGrpSpPr>
            <p:cNvPr id="243" name=""/>
            <p:cNvGrpSpPr/>
            <p:nvPr/>
          </p:nvGrpSpPr>
          <p:grpSpPr>
            <a:xfrm>
              <a:off x="1784520" y="5899320"/>
              <a:ext cx="4084560" cy="325440"/>
              <a:chOff x="1784520" y="5899320"/>
              <a:chExt cx="4084560" cy="325440"/>
            </a:xfrm>
          </p:grpSpPr>
          <p:sp>
            <p:nvSpPr>
              <p:cNvPr id="244" name=""/>
              <p:cNvSpPr/>
              <p:nvPr/>
            </p:nvSpPr>
            <p:spPr>
              <a:xfrm>
                <a:off x="1784520" y="5899320"/>
                <a:ext cx="2041200" cy="325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27520" y="5899320"/>
                <a:ext cx="2041560" cy="325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1941480" y="5805360"/>
              <a:ext cx="26305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010101010101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70440" y="5805360"/>
              <a:ext cx="20304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010101010101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149480" y="5754600"/>
            <a:ext cx="49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1640" y="5429160"/>
            <a:ext cx="11397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870120" y="2290680"/>
            <a:ext cx="8573760" cy="1079640"/>
            <a:chOff x="870120" y="2290680"/>
            <a:chExt cx="8573760" cy="1079640"/>
          </a:xfrm>
        </p:grpSpPr>
        <p:grpSp>
          <p:nvGrpSpPr>
            <p:cNvPr id="251" name=""/>
            <p:cNvGrpSpPr/>
            <p:nvPr/>
          </p:nvGrpSpPr>
          <p:grpSpPr>
            <a:xfrm>
              <a:off x="870120" y="2847960"/>
              <a:ext cx="4084560" cy="326880"/>
              <a:chOff x="870120" y="2847960"/>
              <a:chExt cx="4084560" cy="326880"/>
            </a:xfrm>
          </p:grpSpPr>
          <p:sp>
            <p:nvSpPr>
              <p:cNvPr id="252" name=""/>
              <p:cNvSpPr/>
              <p:nvPr/>
            </p:nvSpPr>
            <p:spPr>
              <a:xfrm>
                <a:off x="870120" y="2847960"/>
                <a:ext cx="2041200" cy="32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13120" y="2847960"/>
                <a:ext cx="2041560" cy="32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 flipH="1">
              <a:off x="2088720" y="2550960"/>
              <a:ext cx="98604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27080" y="2830680"/>
              <a:ext cx="263052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010101010101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56040" y="2830680"/>
              <a:ext cx="20304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00000000000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707000" y="2602080"/>
              <a:ext cx="985680" cy="23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11840" y="2290680"/>
              <a:ext cx="36320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filled with ze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How about larger constant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5360" y="312840"/>
            <a:ext cx="6338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ssembly provides convenient symbolic repres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ch easier than writing down numb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.g., destination fir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chine language is the underlying re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.g., destination is no longer fir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ssembly can provide 'pseudoinstructions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.g., “move $t0, $t1” exists only in Assembl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ould be implemented using “add $t0,$t1,$zero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en considering performance you should count real instruction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ssembly Language vs. Machine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5360" y="312840"/>
            <a:ext cx="1941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hings we are not going to cover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nkers, loaders, memory layout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tacks, frames, recursion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nipulating strings and pointer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rupts and exception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ystem calls and conven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me of these we'll talk about l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e've focused on architectural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sics of MIPS assembly language and machine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e’ll build a processor to execute these instructions.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25360" y="312840"/>
            <a:ext cx="2643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e instructions all 32 bits w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structured, no unnecessary bagg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three  instruction forma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y on compiler to achieve performan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what are  the compiler's goal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 compiler where we c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346040" y="2976480"/>
            <a:ext cx="6088320" cy="338400"/>
            <a:chOff x="1346040" y="2976480"/>
            <a:chExt cx="6088320" cy="338400"/>
          </a:xfrm>
        </p:grpSpPr>
        <p:sp>
          <p:nvSpPr>
            <p:cNvPr id="269" name=""/>
            <p:cNvSpPr/>
            <p:nvPr/>
          </p:nvSpPr>
          <p:spPr>
            <a:xfrm>
              <a:off x="1346040" y="297648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60520" y="297648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76440" y="297648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90920" y="2976480"/>
              <a:ext cx="304344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346040" y="2575080"/>
            <a:ext cx="6088320" cy="339480"/>
            <a:chOff x="1346040" y="2575080"/>
            <a:chExt cx="6088320" cy="339480"/>
          </a:xfrm>
        </p:grpSpPr>
        <p:sp>
          <p:nvSpPr>
            <p:cNvPr id="274" name=""/>
            <p:cNvSpPr/>
            <p:nvPr/>
          </p:nvSpPr>
          <p:spPr>
            <a:xfrm>
              <a:off x="134604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6052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644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9092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0540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1988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14480" y="2532240"/>
            <a:ext cx="63882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d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ham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un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88920" y="2895480"/>
            <a:ext cx="58755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16 bit addres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346040" y="3378240"/>
            <a:ext cx="6088320" cy="338040"/>
            <a:chOff x="1346040" y="3378240"/>
            <a:chExt cx="6088320" cy="338040"/>
          </a:xfrm>
        </p:grpSpPr>
        <p:sp>
          <p:nvSpPr>
            <p:cNvPr id="283" name=""/>
            <p:cNvSpPr/>
            <p:nvPr/>
          </p:nvSpPr>
          <p:spPr>
            <a:xfrm>
              <a:off x="1346040" y="3378240"/>
              <a:ext cx="10144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60520" y="3378240"/>
              <a:ext cx="507384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988920" y="3297240"/>
            <a:ext cx="4861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26 bi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4400" y="2583000"/>
            <a:ext cx="39996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verview of M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25360" y="312840"/>
            <a:ext cx="5135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ne $t4,$t5,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ext instruction is at Label if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$t4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$t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t4,$t5,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ext instruction is at Label if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t4 = $t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j 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ext instruction is at Label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rmat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resses are not 32 bits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How do we handle this with load and store instruct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297080" y="3465360"/>
            <a:ext cx="6086520" cy="338400"/>
            <a:chOff x="1297080" y="3465360"/>
            <a:chExt cx="6086520" cy="338400"/>
          </a:xfrm>
        </p:grpSpPr>
        <p:sp>
          <p:nvSpPr>
            <p:cNvPr id="291" name=""/>
            <p:cNvSpPr/>
            <p:nvPr/>
          </p:nvSpPr>
          <p:spPr>
            <a:xfrm>
              <a:off x="1297080" y="346536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11560" y="3465360"/>
              <a:ext cx="101412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25680" y="346536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40160" y="3465360"/>
              <a:ext cx="304344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939960" y="3384720"/>
            <a:ext cx="587376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16 bit addres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297080" y="3867120"/>
            <a:ext cx="6086520" cy="338040"/>
            <a:chOff x="1297080" y="3867120"/>
            <a:chExt cx="6086520" cy="338040"/>
          </a:xfrm>
        </p:grpSpPr>
        <p:sp>
          <p:nvSpPr>
            <p:cNvPr id="297" name=""/>
            <p:cNvSpPr/>
            <p:nvPr/>
          </p:nvSpPr>
          <p:spPr>
            <a:xfrm>
              <a:off x="1297080" y="3867120"/>
              <a:ext cx="10144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11560" y="3867120"/>
              <a:ext cx="507204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39960" y="3786120"/>
            <a:ext cx="48592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26 bi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01800" y="3497400"/>
            <a:ext cx="401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14320" y="1479600"/>
            <a:ext cx="75153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ddresses in Branches and Jum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25360" y="312840"/>
            <a:ext cx="3457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ne $t4,$t5,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ext instruction is at Label if $t4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$t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t4,$t5,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ext instruction is at Label if $t4 = $t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rmats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uld specify a register (like lw and sw) and add it to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 Instruction Address Register (PC = program coun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ost branches are local (principle of loca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Jump instructions just use high order bits of P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ress boundaries of 256 MB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09640" y="2963880"/>
            <a:ext cx="10144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24120" y="2963880"/>
            <a:ext cx="10144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38600" y="2963880"/>
            <a:ext cx="10144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53080" y="2963880"/>
            <a:ext cx="30448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52520" y="2882880"/>
            <a:ext cx="58752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16 bit addres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4360" y="2997360"/>
            <a:ext cx="40176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ddresses in Bran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o summariz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219320" y="1038240"/>
          <a:ext cx="6377040" cy="134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38240"/>
                    <a:ext cx="637704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228680" y="2476440"/>
          <a:ext cx="6396120" cy="4056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8680" y="2476440"/>
                    <a:ext cx="6396120" cy="40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833480" y="1014480"/>
            <a:ext cx="5502240" cy="51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PS arithme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ign Principle:  simplicity favors regularity.    Wh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f course this complicates some things...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 = B + C + D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 = F - A;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0, $s1, $s2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s0, $t0, $s3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ub $s4, $s5, $s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perands must be registers, only 32 registers provi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ign Principle:  smaller is faster.      Wh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25360" y="312840"/>
            <a:ext cx="3695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ign alternativ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vide more powerful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oal is to reduce number of instructions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nger is a slower cycle time and/or a higher CP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metimes referred to as “RISC vs. CISC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irtually all new instruction sets since 1982 have been RIS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X:  minimize code size, make assembly language easy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instructions from 1 to 54 bytes long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e’ll look at PowerPC and 80x86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lternative Archite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 exemplo comple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ostrar transparência do s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ilustrar estrutura ge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ão será cobr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rray e point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ão será cobr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werPC (Motorola, Apple, IB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2 registradores de 32 bits, instruções de 32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dexed addr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1,$a0+$s3  #$t1=Memory[$a0+$s3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do we have to do in MIPS?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pdate addr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pdate a register as part of load (for marching through array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lwu $t0,4($s3) #$t0=Memory[$s3+4];$s3=$s3+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do we have to do in MIP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ther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ad multiple/store multi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special counter register  “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c Loop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”  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decrement counter, if not 0 goto loop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x8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78:  The Intel 8086 is announced (16 bit architectur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0:  The 8087 floating point coprocessor is ad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2:  The 80286 increases address space to 24 bits, +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5:  The 80386 extends to 32 bits, new addressing m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9-1995:  The 80486, Pentium, Pentium Pro add a few  instru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ostly designed for higher performan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7:  MMX is added</a:t>
            </a:r>
            <a:br>
              <a:rPr sz="1800"/>
            </a:b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This history illustrates the impact of the “golden handcuffs” of compatibilit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adding new features as someone might add clothing to a packed bag”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an architecture that is difficult to explain and impossible to love”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 dominant architecture:  80x8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your textbook for a more detailed descri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from 1 to 17 bytes l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perand must act as both a source and dest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perand can come from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addressing mod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“base or scaled index with 8 or 32 bit displacem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ing grac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st frequently used instructions are not too difficult to bui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s avoid the portions of the architecture that are slow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at the 80x86 lacks in style is made up in quantity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aking it beautiful from the right perspectiv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61800" y="1200240"/>
            <a:ext cx="8114760" cy="33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: instruções mais poderosas aumentam desempenh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X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: salva endereço de retorno, nº de parâmetros, quaisquer registros modificados e valor antigo do S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ção para apagar lista duplamente liga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360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instruções mais freqüentes: 80% das ocorrênc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instruções mais freqüentes: 90% das ocorrênc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 instruções mais freqüentes: 95% das ocorrênc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instruções mais freqüentes: 99% das ocorrênc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52280" y="4416480"/>
          <a:ext cx="8763120" cy="251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416480"/>
                    <a:ext cx="8763120" cy="25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25360" y="312840"/>
            <a:ext cx="1390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 complexity is only one vari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wer instruction count vs. higher CPI / lower clock r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ign Principl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mplicity favors regularity (facilidade de projet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maller is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ood design demands comprom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ke the common case fast (RIS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 set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very important abstraction indeed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áquinas de 0, 1, 2 e 3 endereç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48040" y="1162440"/>
            <a:ext cx="8571600" cy="49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X = A * B + C * C    onde X, A, B, C são endereços de posições de  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666880" y="1600200"/>
            <a:ext cx="2514600" cy="2209680"/>
            <a:chOff x="2666880" y="1600200"/>
            <a:chExt cx="2514600" cy="2209680"/>
          </a:xfrm>
        </p:grpSpPr>
        <p:sp>
          <p:nvSpPr>
            <p:cNvPr id="339" name=""/>
            <p:cNvSpPr/>
            <p:nvPr/>
          </p:nvSpPr>
          <p:spPr>
            <a:xfrm>
              <a:off x="2666880" y="1600200"/>
              <a:ext cx="2514600" cy="2209680"/>
            </a:xfrm>
            <a:prstGeom prst="roundRect">
              <a:avLst>
                <a:gd name="adj" fmla="val 16667"/>
              </a:avLst>
            </a:prstGeom>
            <a:solidFill>
              <a:srgbClr val="cefe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48120" y="2165400"/>
              <a:ext cx="1600200" cy="115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OVE T,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IPLY T,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OVE X,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IPLY X,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ADD X,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85960" y="3321000"/>
              <a:ext cx="24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1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END1 op EN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51000" y="1761840"/>
              <a:ext cx="168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Dois endereç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28600" y="2362320"/>
            <a:ext cx="1905120" cy="2514600"/>
            <a:chOff x="228600" y="2362320"/>
            <a:chExt cx="1905120" cy="2514600"/>
          </a:xfrm>
        </p:grpSpPr>
        <p:sp>
          <p:nvSpPr>
            <p:cNvPr id="344" name=""/>
            <p:cNvSpPr/>
            <p:nvPr/>
          </p:nvSpPr>
          <p:spPr>
            <a:xfrm>
              <a:off x="228600" y="2362320"/>
              <a:ext cx="1905120" cy="2514600"/>
            </a:xfrm>
            <a:custGeom>
              <a:avLst/>
              <a:gdLst>
                <a:gd name="textAreaLeft" fmla="*/ 92880 w 1905120"/>
                <a:gd name="textAreaRight" fmla="*/ 1812240 w 1905120"/>
                <a:gd name="textAreaTop" fmla="*/ 92880 h 2514600"/>
                <a:gd name="textAreaBottom" fmla="*/ 2421720 h 2514600"/>
              </a:gdLst>
              <a:ahLst/>
              <a:rect l="textAreaLeft" t="textAreaTop" r="textAreaRight" b="textAreaBottom"/>
              <a:pathLst>
                <a:path w="21600" h="28509">
                  <a:moveTo>
                    <a:pt x="3600" y="0"/>
                  </a:moveTo>
                  <a:arcTo wR="3600" hR="3600" stAng="16200000" swAng="-5400000"/>
                  <a:lnTo>
                    <a:pt x="0" y="24909"/>
                  </a:lnTo>
                  <a:arcTo wR="3600" hR="3600" stAng="10800000" swAng="-5400000"/>
                  <a:lnTo>
                    <a:pt x="18000" y="28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efb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0000" y="2743560"/>
              <a:ext cx="1247400" cy="15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LOAD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IPLY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STORE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LOAD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IPLY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ADD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STORE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0080" y="236232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Um endereç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4000" y="4419720"/>
              <a:ext cx="178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C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AC op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772240" y="1676520"/>
            <a:ext cx="2514600" cy="1828800"/>
            <a:chOff x="5772240" y="1676520"/>
            <a:chExt cx="2514600" cy="1828800"/>
          </a:xfrm>
        </p:grpSpPr>
        <p:sp>
          <p:nvSpPr>
            <p:cNvPr id="349" name=""/>
            <p:cNvSpPr/>
            <p:nvPr/>
          </p:nvSpPr>
          <p:spPr>
            <a:xfrm>
              <a:off x="5772240" y="1676520"/>
              <a:ext cx="2514600" cy="1828800"/>
            </a:xfrm>
            <a:prstGeom prst="roundRect">
              <a:avLst>
                <a:gd name="adj" fmla="val 16667"/>
              </a:avLst>
            </a:prstGeom>
            <a:solidFill>
              <a:srgbClr val="ffe6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53120" y="2209680"/>
              <a:ext cx="1905120" cy="733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IPLY T, A, B MULTIPLY X, C,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ADD X, X,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67640" y="3048120"/>
              <a:ext cx="24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1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END2 op END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62480" y="1828800"/>
              <a:ext cx="167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Três endereç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715000" y="3657600"/>
            <a:ext cx="2514600" cy="2590920"/>
            <a:chOff x="5715000" y="3657600"/>
            <a:chExt cx="2514600" cy="2590920"/>
          </a:xfrm>
        </p:grpSpPr>
        <p:sp>
          <p:nvSpPr>
            <p:cNvPr id="354" name=""/>
            <p:cNvSpPr/>
            <p:nvPr/>
          </p:nvSpPr>
          <p:spPr>
            <a:xfrm>
              <a:off x="5715000" y="3657600"/>
              <a:ext cx="2514600" cy="2590920"/>
            </a:xfrm>
            <a:custGeom>
              <a:avLst/>
              <a:gdLst>
                <a:gd name="textAreaLeft" fmla="*/ 122760 w 2514600"/>
                <a:gd name="textAreaRight" fmla="*/ 2391840 w 2514600"/>
                <a:gd name="textAreaTop" fmla="*/ 122760 h 2590920"/>
                <a:gd name="textAreaBottom" fmla="*/ 2468160 h 2590920"/>
              </a:gdLst>
              <a:ahLst/>
              <a:rect l="textAreaLeft" t="textAreaTop" r="textAreaRight" b="textAreaBottom"/>
              <a:pathLst>
                <a:path w="21600" h="22255">
                  <a:moveTo>
                    <a:pt x="3600" y="0"/>
                  </a:moveTo>
                  <a:arcTo wR="3600" hR="3600" stAng="16200000" swAng="-5400000"/>
                  <a:lnTo>
                    <a:pt x="0" y="18655"/>
                  </a:lnTo>
                  <a:arcTo wR="3600" hR="3600" stAng="10800000" swAng="-5400000"/>
                  <a:lnTo>
                    <a:pt x="18000" y="222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cfed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5880" y="4038480"/>
              <a:ext cx="1905120" cy="179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push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push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push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push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a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pop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93440" y="5867280"/>
              <a:ext cx="161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os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tos op 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00560" y="3657600"/>
              <a:ext cx="168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Zero endereç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66880" y="4038480"/>
            <a:ext cx="2514600" cy="2362320"/>
            <a:chOff x="2666880" y="4038480"/>
            <a:chExt cx="2514600" cy="2362320"/>
          </a:xfrm>
        </p:grpSpPr>
        <p:sp>
          <p:nvSpPr>
            <p:cNvPr id="359" name=""/>
            <p:cNvSpPr/>
            <p:nvPr/>
          </p:nvSpPr>
          <p:spPr>
            <a:xfrm>
              <a:off x="2666880" y="4038480"/>
              <a:ext cx="2514600" cy="2362320"/>
            </a:xfrm>
            <a:prstGeom prst="roundRect">
              <a:avLst>
                <a:gd name="adj" fmla="val 16667"/>
              </a:avLst>
            </a:prstGeom>
            <a:solidFill>
              <a:srgbClr val="feda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8120" y="4419720"/>
              <a:ext cx="1904760" cy="15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load R1,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load R2,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load R3,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 R1, R1, 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 R3, R3, 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add R1, R1, 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store R1,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63680" y="6019920"/>
              <a:ext cx="157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1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R2 op R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76720" y="403848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Load-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áquinas de 0, 1, 2 e 3 endereç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al é o melho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manho do código fo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manho do código obje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mpo de execu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mplicidade e desempenho do hardware para suportar arquitetu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gisters vs. Memory (3.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365120" y="3014640"/>
            <a:ext cx="4383360" cy="2343240"/>
            <a:chOff x="1365120" y="3014640"/>
            <a:chExt cx="4383360" cy="2343240"/>
          </a:xfrm>
        </p:grpSpPr>
        <p:sp>
          <p:nvSpPr>
            <p:cNvPr id="55" name=""/>
            <p:cNvSpPr/>
            <p:nvPr/>
          </p:nvSpPr>
          <p:spPr>
            <a:xfrm>
              <a:off x="2817720" y="3024360"/>
              <a:ext cx="0" cy="221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84720" y="3024360"/>
              <a:ext cx="0" cy="221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65120" y="3014640"/>
              <a:ext cx="4383360" cy="22431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16040" y="4819680"/>
              <a:ext cx="15271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72160" y="4819680"/>
              <a:ext cx="6760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1680" y="3121200"/>
              <a:ext cx="1239840" cy="788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71680" y="4022640"/>
              <a:ext cx="1239840" cy="79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03880" y="3121200"/>
              <a:ext cx="1239840" cy="788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03880" y="4022640"/>
              <a:ext cx="1239840" cy="79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560" y="3233880"/>
              <a:ext cx="1014480" cy="157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03360" y="3240000"/>
              <a:ext cx="1227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03360" y="4141800"/>
              <a:ext cx="1227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68560" y="3691080"/>
              <a:ext cx="12272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33760" y="3240000"/>
              <a:ext cx="1227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33760" y="4141800"/>
              <a:ext cx="1227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rithmetic instructions operands must be registers,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only 32 registers provided (32 bi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iler associates variables with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about programs with lots of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ory Organ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ed as a large, single-dimension array, with an addr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emory address is an index into the 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Byte addressing" means that the index points to a byte of memo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4360" y="3165480"/>
            <a:ext cx="1127160" cy="237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49740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383688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417528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451332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485136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519120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552924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52520" y="3171960"/>
            <a:ext cx="501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52520" y="3510000"/>
            <a:ext cx="501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52520" y="3849840"/>
            <a:ext cx="5018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52520" y="4187880"/>
            <a:ext cx="501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52520" y="452592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52520" y="486396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52520" y="5203800"/>
            <a:ext cx="5018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52520" y="554184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90560" y="3197160"/>
            <a:ext cx="1278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90560" y="3535200"/>
            <a:ext cx="1278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90560" y="3873600"/>
            <a:ext cx="1278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90560" y="4213080"/>
            <a:ext cx="1278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0560" y="4551480"/>
            <a:ext cx="127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0560" y="4889520"/>
            <a:ext cx="1278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90560" y="5227560"/>
            <a:ext cx="1278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ory Organ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s are nice, but most data items use larger "words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MIPS, a word is 32 bits or 4 bytes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tes with byte addresses from 0 to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ords with byte addresses 0, 4, 8, ...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s are align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e., what are the  least 2 significant bits of a word addres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09720" y="2263680"/>
            <a:ext cx="1127160" cy="135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5560" y="259560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5560" y="293364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5560" y="327168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5560" y="361152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77880" y="226836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7880" y="260820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77880" y="294624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65200" y="3284640"/>
            <a:ext cx="501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65200" y="3622680"/>
            <a:ext cx="501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16280" y="2293920"/>
            <a:ext cx="12776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32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16280" y="2633760"/>
            <a:ext cx="12776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32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16280" y="2971800"/>
            <a:ext cx="12776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32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16280" y="3309840"/>
            <a:ext cx="12776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32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08600" y="2708280"/>
            <a:ext cx="36064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ers hold 32 bits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ad and store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[8] = h + A[8];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0, 32($s3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0, $s2, $t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w $t0, 32($s3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tore word has destination l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member arithmetic operands are registers, not memory!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isto é chamado de arquitetura “load-store”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com array (pag. 11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17600" y="1332000"/>
            <a:ext cx="8003160" cy="480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ja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g = h + A[i];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nde A é um array de 100 palavras com base apontada por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s3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e o compilador associa as variáveis g, h e i com os registrador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g: $s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: $s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: $s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tes de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 necessário calcular o endereço do elemento (A+4*i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(multiply) $t1, $s4, (valor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1, $s3, $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gora é possível ler o endereço apontado por $t1 e executar a so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0, 0($t1)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#temp $t0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s1, $s2, $t0,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# g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 + A[i]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7T20:06:46Z</dcterms:created>
  <dc:creator>Tod Amon</dc:creator>
  <dc:description/>
  <dc:language>en-US</dc:language>
  <cp:lastModifiedBy>User</cp:lastModifiedBy>
  <cp:lastPrinted>1997-08-28T16:06:06Z</cp:lastPrinted>
  <dcterms:modified xsi:type="dcterms:W3CDTF">2002-04-02T23:55:28Z</dcterms:modified>
  <cp:revision>50</cp:revision>
  <dc:subject/>
  <dc:title>Lectures for 2nd Edition</dc:title>
</cp:coreProperties>
</file>