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62680" y="6477120"/>
            <a:ext cx="1658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7b-</a:t>
            </a:r>
            <a:fld id="{868951C5-30EB-4BE0-ACCA-E9C782D7DA4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ev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s de Memóri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e 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 Virtu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B, Virtual memory and Cache (pag 59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6" name=""/>
          <p:cNvGrpSpPr/>
          <p:nvPr/>
        </p:nvGrpSpPr>
        <p:grpSpPr>
          <a:xfrm>
            <a:off x="38160" y="2548080"/>
            <a:ext cx="9105480" cy="2396520"/>
            <a:chOff x="38160" y="2548080"/>
            <a:chExt cx="9105480" cy="2396520"/>
          </a:xfrm>
        </p:grpSpPr>
        <p:sp>
          <p:nvSpPr>
            <p:cNvPr id="2047" name=""/>
            <p:cNvSpPr/>
            <p:nvPr/>
          </p:nvSpPr>
          <p:spPr>
            <a:xfrm>
              <a:off x="38160" y="2734560"/>
              <a:ext cx="9105480" cy="441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48" name=""/>
            <p:cNvGraphicFramePr/>
            <p:nvPr/>
          </p:nvGraphicFramePr>
          <p:xfrm>
            <a:off x="38160" y="2548080"/>
            <a:ext cx="9105480" cy="23965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0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160" y="2548080"/>
                      <a:ext cx="9105480" cy="239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ction with Virtual Memor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 txBox="1"/>
          <p:nvPr/>
        </p:nvSpPr>
        <p:spPr>
          <a:xfrm>
            <a:off x="488160" y="1478880"/>
            <a:ext cx="8014680" cy="46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at least two m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ng system proces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rnel, supervisor, execu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state that user process can read but not write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ge table and TL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instructions that are only available in supervisor m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s whereby the CPU can go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e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pervi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  and vice 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to supervisor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call exce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or to user 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turn from exception (RF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: page tables (operating system´s address spa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ndling Page Faults and TLB mi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 txBox="1"/>
          <p:nvPr/>
        </p:nvSpPr>
        <p:spPr>
          <a:xfrm>
            <a:off x="417600" y="1332000"/>
            <a:ext cx="8003160" cy="480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miss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ftware or hardw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ge is present in memory, and we need only create the missing TLB ent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ge is not present in memory, and we need to transfer control to the operating system to deal with a page faul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ception mechani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saves the entire state the active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C = virtual address of the faulting pag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must complete three step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 up the page table entry using the virtual address and find the location of referenced page on di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se a physical page to replace; if the chosen page i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t must be written out to disk before we can bring a new virtual page into this physical p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a read to bring the referenced page from disk into the chosen physical p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22860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04920" y="1066680"/>
            <a:ext cx="8381880" cy="68580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can a Block Be Plac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7" name=""/>
          <p:cNvGrpSpPr/>
          <p:nvPr/>
        </p:nvGrpSpPr>
        <p:grpSpPr>
          <a:xfrm>
            <a:off x="1752480" y="2133720"/>
            <a:ext cx="5644800" cy="1287000"/>
            <a:chOff x="1752480" y="2133720"/>
            <a:chExt cx="5644800" cy="1287000"/>
          </a:xfrm>
        </p:grpSpPr>
        <p:sp>
          <p:nvSpPr>
            <p:cNvPr id="2058" name=""/>
            <p:cNvSpPr/>
            <p:nvPr/>
          </p:nvSpPr>
          <p:spPr>
            <a:xfrm>
              <a:off x="1890000" y="214920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me 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569040" y="2149200"/>
              <a:ext cx="103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s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821920" y="2149200"/>
              <a:ext cx="88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lock per s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752480" y="213372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752480" y="213372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752480" y="2133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752480" y="213372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752480" y="213372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752480" y="2133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758600" y="2133720"/>
              <a:ext cx="12855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758600" y="2133720"/>
              <a:ext cx="12855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044520" y="213372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044520" y="213372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044520" y="2133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051000" y="2133720"/>
              <a:ext cx="21078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051000" y="2133720"/>
              <a:ext cx="21078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158800" y="213372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158800" y="213372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158800" y="2133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165640" y="2133720"/>
              <a:ext cx="22255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165640" y="2133720"/>
              <a:ext cx="2225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391160" y="213372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391160" y="2133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391160" y="213372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391160" y="2133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752480" y="214272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752480" y="214272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044520" y="214272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044520" y="214272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158800" y="214272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158800" y="214272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391160" y="214272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887120" y="2405880"/>
              <a:ext cx="99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rect mapp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173760" y="2405880"/>
              <a:ext cx="180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blocks in 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231240" y="2405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752480" y="2392200"/>
              <a:ext cx="61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752480" y="239220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752480" y="239220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758600" y="2392200"/>
              <a:ext cx="128556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758600" y="2392200"/>
              <a:ext cx="12855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044520" y="2392200"/>
              <a:ext cx="64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044520" y="239220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044520" y="239220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051000" y="2392200"/>
              <a:ext cx="210780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051000" y="2392200"/>
              <a:ext cx="21078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158800" y="2392200"/>
              <a:ext cx="64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158800" y="239220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158800" y="239220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165640" y="2392200"/>
              <a:ext cx="22255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165640" y="2392200"/>
              <a:ext cx="2225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7391160" y="239220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391160" y="239220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752480" y="239940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752480" y="239940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044520" y="239940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044520" y="239940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158800" y="239940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158800" y="239940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391160" y="239940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871280" y="2664720"/>
              <a:ext cx="102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t associat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173760" y="2664720"/>
              <a:ext cx="180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blocks in 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179880" y="2882880"/>
              <a:ext cx="18450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672360" y="2912040"/>
              <a:ext cx="84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v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272560" y="2664720"/>
              <a:ext cx="19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vity (typically  2 – 8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752480" y="264888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752480" y="264888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752480" y="264888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758600" y="2648880"/>
              <a:ext cx="12855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758600" y="2648880"/>
              <a:ext cx="12855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044520" y="264888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044520" y="264888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044520" y="264888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051000" y="2648880"/>
              <a:ext cx="21078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051000" y="2648880"/>
              <a:ext cx="21078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158800" y="264888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158800" y="264888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158800" y="264888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165640" y="2648880"/>
              <a:ext cx="22255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165640" y="2648880"/>
              <a:ext cx="2225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391160" y="264888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391160" y="264888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1752480" y="2657880"/>
              <a:ext cx="612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752480" y="2657880"/>
              <a:ext cx="144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044520" y="2657880"/>
              <a:ext cx="648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044520" y="2657880"/>
              <a:ext cx="144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158800" y="2657880"/>
              <a:ext cx="648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158800" y="2657880"/>
              <a:ext cx="144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391160" y="2657880"/>
              <a:ext cx="144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823760" y="3168720"/>
              <a:ext cx="1121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ully associat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4059360" y="3168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255280" y="3168720"/>
              <a:ext cx="198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block in the 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1752480" y="3155040"/>
              <a:ext cx="61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752480" y="315504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752480" y="315504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758600" y="3155040"/>
              <a:ext cx="128556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758600" y="3155040"/>
              <a:ext cx="12855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044520" y="3155040"/>
              <a:ext cx="64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044520" y="315504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044520" y="315504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051000" y="3155040"/>
              <a:ext cx="210780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051000" y="3155040"/>
              <a:ext cx="21078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158800" y="3155040"/>
              <a:ext cx="64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158800" y="315504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158800" y="315504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165640" y="3155040"/>
              <a:ext cx="22255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165640" y="3155040"/>
              <a:ext cx="2225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391160" y="315504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391160" y="315504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752480" y="316224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752480" y="316224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752480" y="341172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752480" y="341172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752480" y="3411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752480" y="341172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752480" y="341172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752480" y="3411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758600" y="3411720"/>
              <a:ext cx="12855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758600" y="3411720"/>
              <a:ext cx="128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044520" y="316224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044520" y="316224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044520" y="341172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044520" y="341172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044520" y="3411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051000" y="3411720"/>
              <a:ext cx="21078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051000" y="3411720"/>
              <a:ext cx="2107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158800" y="316224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158800" y="316224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158800" y="341172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158800" y="341172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158800" y="3411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165640" y="3411720"/>
              <a:ext cx="22255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165640" y="3411720"/>
              <a:ext cx="2225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7391160" y="316224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391160" y="341172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391160" y="3411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391160" y="341172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391160" y="3411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95" name=""/>
          <p:cNvGraphicFramePr/>
          <p:nvPr/>
        </p:nvGraphicFramePr>
        <p:xfrm>
          <a:off x="1523880" y="4076640"/>
          <a:ext cx="6167520" cy="156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076640"/>
                    <a:ext cx="616752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 rate vs set associa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8" name=""/>
          <p:cNvGrpSpPr/>
          <p:nvPr/>
        </p:nvGrpSpPr>
        <p:grpSpPr>
          <a:xfrm>
            <a:off x="961920" y="738360"/>
            <a:ext cx="7201440" cy="6018480"/>
            <a:chOff x="961920" y="738360"/>
            <a:chExt cx="7201440" cy="6018480"/>
          </a:xfrm>
        </p:grpSpPr>
        <p:sp>
          <p:nvSpPr>
            <p:cNvPr id="2199" name=""/>
            <p:cNvSpPr/>
            <p:nvPr/>
          </p:nvSpPr>
          <p:spPr>
            <a:xfrm>
              <a:off x="1706760" y="5500800"/>
              <a:ext cx="6066000" cy="11880"/>
            </a:xfrm>
            <a:custGeom>
              <a:avLst/>
              <a:gdLst/>
              <a:ahLst/>
              <a:rect l="l" t="t" r="r" b="b"/>
              <a:pathLst>
                <a:path w="2491" h="5">
                  <a:moveTo>
                    <a:pt x="2491" y="0"/>
                  </a:moveTo>
                  <a:lnTo>
                    <a:pt x="2491" y="5"/>
                  </a:lnTo>
                  <a:lnTo>
                    <a:pt x="0" y="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398600" y="53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485360" y="53956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398600" y="4483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485360" y="448344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98600" y="3544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485360" y="35442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398600" y="2602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485360" y="260244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305000" y="167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389960" y="167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475640" y="16729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305000" y="73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389960" y="73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475640" y="73836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V="1">
              <a:off x="1706760" y="864360"/>
              <a:ext cx="2520" cy="4647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706760" y="4583520"/>
              <a:ext cx="8532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706760" y="3648600"/>
              <a:ext cx="8532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706760" y="2719440"/>
              <a:ext cx="8532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706760" y="1789560"/>
              <a:ext cx="85320" cy="2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365160" y="6152760"/>
              <a:ext cx="106920" cy="8496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0"/>
                  </a:moveTo>
                  <a:lnTo>
                    <a:pt x="44" y="0"/>
                  </a:lnTo>
                  <a:lnTo>
                    <a:pt x="44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178760" y="6644520"/>
              <a:ext cx="106920" cy="5076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0"/>
                  </a:moveTo>
                  <a:lnTo>
                    <a:pt x="44" y="0"/>
                  </a:lnTo>
                  <a:lnTo>
                    <a:pt x="44" y="21"/>
                  </a:lnTo>
                  <a:lnTo>
                    <a:pt x="2" y="2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12800" y="5186520"/>
              <a:ext cx="106920" cy="561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2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251960" y="5186520"/>
              <a:ext cx="101880" cy="561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992920" y="5186520"/>
              <a:ext cx="101880" cy="561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646400" y="5186520"/>
              <a:ext cx="104040" cy="561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0"/>
                  </a:moveTo>
                  <a:lnTo>
                    <a:pt x="43" y="2"/>
                  </a:lnTo>
                  <a:lnTo>
                    <a:pt x="43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173720" y="6405840"/>
              <a:ext cx="109800" cy="561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0"/>
                  </a:moveTo>
                  <a:lnTo>
                    <a:pt x="45" y="0"/>
                  </a:lnTo>
                  <a:lnTo>
                    <a:pt x="45" y="23"/>
                  </a:lnTo>
                  <a:lnTo>
                    <a:pt x="2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360120" y="5914440"/>
              <a:ext cx="106920" cy="8496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0"/>
                  </a:moveTo>
                  <a:lnTo>
                    <a:pt x="44" y="0"/>
                  </a:lnTo>
                  <a:lnTo>
                    <a:pt x="44" y="35"/>
                  </a:lnTo>
                  <a:lnTo>
                    <a:pt x="2" y="3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482960" y="5554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585200" y="5554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61796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70544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796160" y="5554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838640" y="5554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889040" y="5554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800064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086320" y="555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766480" y="5554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86080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94360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035040" y="5554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085080" y="5554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135840" y="5554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24924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337440" y="555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043880" y="5554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133880" y="5554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24764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336920" y="5554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387680" y="5554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49928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581720" y="555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296440" y="55540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41992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51028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90920" y="5554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643840" y="5554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75724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845800" y="555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168680" y="6157800"/>
              <a:ext cx="126720" cy="8496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5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488680" y="4867560"/>
              <a:ext cx="126360" cy="8532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5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7168680" y="5923800"/>
              <a:ext cx="121680" cy="8532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5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498400" y="4546440"/>
              <a:ext cx="121320" cy="82440"/>
            </a:xfrm>
            <a:custGeom>
              <a:avLst/>
              <a:gdLst/>
              <a:ahLst/>
              <a:rect l="l" t="t" r="r" b="b"/>
              <a:pathLst>
                <a:path w="50" h="34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4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236840" y="4855680"/>
              <a:ext cx="121680" cy="874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6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963760" y="4851000"/>
              <a:ext cx="121320" cy="8712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7"/>
                  </a:moveTo>
                  <a:lnTo>
                    <a:pt x="25" y="0"/>
                  </a:lnTo>
                  <a:lnTo>
                    <a:pt x="0" y="19"/>
                  </a:lnTo>
                  <a:lnTo>
                    <a:pt x="25" y="36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670520" y="4855680"/>
              <a:ext cx="121320" cy="82440"/>
            </a:xfrm>
            <a:custGeom>
              <a:avLst/>
              <a:gdLst/>
              <a:ahLst/>
              <a:rect l="l" t="t" r="r" b="b"/>
              <a:pathLst>
                <a:path w="50" h="34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4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370200" y="6644520"/>
              <a:ext cx="84960" cy="6048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5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1"/>
                  </a:lnTo>
                  <a:lnTo>
                    <a:pt x="35" y="10"/>
                  </a:lnTo>
                  <a:lnTo>
                    <a:pt x="33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517840" y="3938400"/>
              <a:ext cx="82800" cy="604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7" y="23"/>
                  </a:moveTo>
                  <a:lnTo>
                    <a:pt x="21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8" y="21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2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256280" y="4247280"/>
              <a:ext cx="85320" cy="6048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7" y="25"/>
                  </a:moveTo>
                  <a:lnTo>
                    <a:pt x="19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1"/>
                  </a:lnTo>
                  <a:lnTo>
                    <a:pt x="35" y="10"/>
                  </a:lnTo>
                  <a:lnTo>
                    <a:pt x="33" y="8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987880" y="4242600"/>
              <a:ext cx="87120" cy="604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6" y="25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2" y="21"/>
                  </a:lnTo>
                  <a:lnTo>
                    <a:pt x="34" y="19"/>
                  </a:lnTo>
                  <a:lnTo>
                    <a:pt x="34" y="17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679880" y="4556520"/>
              <a:ext cx="82800" cy="604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5" y="23"/>
                  </a:moveTo>
                  <a:lnTo>
                    <a:pt x="19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1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4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370200" y="6405840"/>
              <a:ext cx="84960" cy="6120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517840" y="3317400"/>
              <a:ext cx="82800" cy="612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5" y="23"/>
                  </a:moveTo>
                  <a:lnTo>
                    <a:pt x="19" y="23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4" y="11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251960" y="3629160"/>
              <a:ext cx="90000" cy="6048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17" y="24"/>
                  </a:moveTo>
                  <a:lnTo>
                    <a:pt x="21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29" y="22"/>
                  </a:lnTo>
                  <a:lnTo>
                    <a:pt x="31" y="22"/>
                  </a:lnTo>
                  <a:lnTo>
                    <a:pt x="33" y="20"/>
                  </a:lnTo>
                  <a:lnTo>
                    <a:pt x="35" y="18"/>
                  </a:lnTo>
                  <a:lnTo>
                    <a:pt x="35" y="16"/>
                  </a:lnTo>
                  <a:lnTo>
                    <a:pt x="37" y="14"/>
                  </a:lnTo>
                  <a:lnTo>
                    <a:pt x="37" y="12"/>
                  </a:lnTo>
                  <a:lnTo>
                    <a:pt x="37" y="10"/>
                  </a:lnTo>
                  <a:lnTo>
                    <a:pt x="35" y="8"/>
                  </a:lnTo>
                  <a:lnTo>
                    <a:pt x="35" y="6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24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987880" y="3938400"/>
              <a:ext cx="87120" cy="604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6" y="16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7675560" y="4242600"/>
              <a:ext cx="87120" cy="604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7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19"/>
                  </a:lnTo>
                  <a:lnTo>
                    <a:pt x="34" y="17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547680" y="586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633000" y="586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679080" y="586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782760" y="586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884280" y="586836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547680" y="610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633000" y="6101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679080" y="6101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782760" y="6101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884280" y="61016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6547680" y="633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6633000" y="6335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679080" y="633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782760" y="633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6884280" y="633564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6547680" y="6568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6633000" y="6568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6679080" y="656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82760" y="656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 rot="16200000">
              <a:off x="1001520" y="3324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rot="16200000">
              <a:off x="1047960" y="3252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 rot="16200000">
              <a:off x="1026720" y="3195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 rot="16200000">
              <a:off x="1026720" y="3116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rot="16200000">
              <a:off x="1043280" y="3060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rot="16200000">
              <a:off x="1039680" y="3003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rot="16200000">
              <a:off x="1022040" y="293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rot="16200000">
              <a:off x="1043280" y="2878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rot="16200000">
              <a:off x="1010160" y="280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757760" y="5824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59640" y="582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937400" y="582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013360" y="582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104440" y="582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181840" y="5824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215680" y="582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298840" y="5824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344920" y="5824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379120" y="582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459400" y="5824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490000" y="5824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532840" y="582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706760" y="860040"/>
              <a:ext cx="8532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7360920" y="58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450920" y="58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7535160" y="5873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577640" y="5873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7684920" y="5873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787520" y="587304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360920" y="6106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450920" y="6106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535160" y="6106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577640" y="61066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684920" y="61066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787520" y="61066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360920" y="6339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450920" y="6339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7535160" y="6339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577640" y="6339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684920" y="6339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787520" y="633996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360920" y="65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450920" y="65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7534800" y="65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624080" y="6573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665120" y="6573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767360" y="6573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706760" y="4583520"/>
              <a:ext cx="609012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1706760" y="3648600"/>
              <a:ext cx="606600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1706760" y="2719440"/>
              <a:ext cx="606600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1706760" y="1784520"/>
              <a:ext cx="606600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1706760" y="860040"/>
              <a:ext cx="606600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H="1">
              <a:off x="2559240" y="5205960"/>
              <a:ext cx="173808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4297680" y="5205960"/>
              <a:ext cx="1726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>
              <a:off x="6024240" y="5205960"/>
              <a:ext cx="168732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 flipH="1" flipV="1">
              <a:off x="2559240" y="4587840"/>
              <a:ext cx="1738080" cy="3088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 flipH="1">
              <a:off x="4297680" y="4892400"/>
              <a:ext cx="172656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6024240" y="4892400"/>
              <a:ext cx="168732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H="1" flipV="1">
              <a:off x="2559240" y="3967560"/>
              <a:ext cx="1738080" cy="30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4297680" y="4271760"/>
              <a:ext cx="1726560" cy="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H="1" flipV="1">
              <a:off x="6024240" y="4274280"/>
              <a:ext cx="168732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H="1" flipV="1">
              <a:off x="2559240" y="3344400"/>
              <a:ext cx="1738080" cy="3088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 flipV="1">
              <a:off x="4297680" y="3658680"/>
              <a:ext cx="1726560" cy="30384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 flipV="1">
              <a:off x="6024240" y="3962520"/>
              <a:ext cx="1687320" cy="3088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H="1" flipV="1">
              <a:off x="2559240" y="2414880"/>
              <a:ext cx="1738080" cy="62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H="1" flipV="1">
              <a:off x="4297680" y="3037680"/>
              <a:ext cx="1726560" cy="61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 flipV="1">
              <a:off x="6024240" y="3653640"/>
              <a:ext cx="168732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H="1" flipV="1">
              <a:off x="2559240" y="1485360"/>
              <a:ext cx="1738080" cy="6177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H="1" flipV="1">
              <a:off x="4297680" y="2108520"/>
              <a:ext cx="1726560" cy="3016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H="1" flipV="1">
              <a:off x="6024240" y="2410200"/>
              <a:ext cx="1687320" cy="3088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493720" y="2354040"/>
              <a:ext cx="131400" cy="1216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231800" y="2977200"/>
              <a:ext cx="131400" cy="1216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958720" y="3592800"/>
              <a:ext cx="131400" cy="11628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646400" y="3902040"/>
              <a:ext cx="131400" cy="12132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2" y="5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493720" y="1424520"/>
              <a:ext cx="131400" cy="11628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231800" y="2047680"/>
              <a:ext cx="131400" cy="11628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958720" y="2349000"/>
              <a:ext cx="131400" cy="1216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646400" y="2662920"/>
              <a:ext cx="131400" cy="11664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2" y="4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968080" y="5162400"/>
              <a:ext cx="126720" cy="896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50" y="18"/>
                  </a:moveTo>
                  <a:lnTo>
                    <a:pt x="27" y="0"/>
                  </a:lnTo>
                  <a:lnTo>
                    <a:pt x="0" y="18"/>
                  </a:lnTo>
                  <a:lnTo>
                    <a:pt x="27" y="37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7651440" y="5162400"/>
              <a:ext cx="126360" cy="896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50" y="18"/>
                  </a:moveTo>
                  <a:lnTo>
                    <a:pt x="27" y="0"/>
                  </a:lnTo>
                  <a:lnTo>
                    <a:pt x="0" y="18"/>
                  </a:lnTo>
                  <a:lnTo>
                    <a:pt x="27" y="37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236840" y="5162400"/>
              <a:ext cx="121680" cy="896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7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>
              <a:off x="2559240" y="5186520"/>
              <a:ext cx="1738080" cy="46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4297680" y="5181840"/>
              <a:ext cx="1726560" cy="97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6024240" y="5181840"/>
              <a:ext cx="1687320" cy="46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 flipV="1">
              <a:off x="2559240" y="4897080"/>
              <a:ext cx="1738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4297680" y="5205960"/>
              <a:ext cx="1726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>
              <a:off x="6024240" y="5205960"/>
              <a:ext cx="168732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512800" y="5152320"/>
              <a:ext cx="101880" cy="561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0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251960" y="5152320"/>
              <a:ext cx="106920" cy="561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992920" y="5152320"/>
              <a:ext cx="106920" cy="561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641360" y="5152320"/>
              <a:ext cx="109080" cy="561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0"/>
                  </a:moveTo>
                  <a:lnTo>
                    <a:pt x="45" y="0"/>
                  </a:lnTo>
                  <a:lnTo>
                    <a:pt x="45" y="23"/>
                  </a:lnTo>
                  <a:lnTo>
                    <a:pt x="2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559240" y="5434920"/>
              <a:ext cx="2160" cy="7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293360" y="5434920"/>
              <a:ext cx="4320" cy="7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029280" y="5434920"/>
              <a:ext cx="4680" cy="7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7772760" y="5434920"/>
              <a:ext cx="4680" cy="7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22860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304920" y="1066680"/>
            <a:ext cx="8381880" cy="541044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Is a Block Foun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.:  In virtual memory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associativy is beneficial, since misses are very expen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associativity allows software to use sophisticated replacement schemes that are designed to reduce the miss r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ull map can be easily indexed with no extra hardware and no searching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rge page size means the page table size overhead is relatively smal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2" name=""/>
          <p:cNvGraphicFramePr/>
          <p:nvPr/>
        </p:nvGraphicFramePr>
        <p:xfrm>
          <a:off x="1255680" y="1762200"/>
          <a:ext cx="6634080" cy="136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1762200"/>
                    <a:ext cx="663408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22860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04920" y="1066680"/>
            <a:ext cx="8381880" cy="541044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 Block Should Be Replaced on a Cache Mi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dom :  candidate blocks are randomly selected, possibly using some hardware assist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st Recently Used (LRU): The block replaced is the one that has been unused for the longest tim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22860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80880" y="990720"/>
            <a:ext cx="8382240" cy="563868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Happens on a Wri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-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es are simpler and cheaper because they never require a            block to be written back to the lower lev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easier to implement than write-back, although to be practical                in a high-speed system, a write-through cache will need to use a          write buff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-back (copy-b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s words can be written by the processor at the rate that the cache, rather than the memory, can accept th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writes within a block require only one write to the lower level in the hierarch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blocks are written back, the system can make effective use of a high bandwidth transfer, since the entire block is writt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rn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149760" y="8359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complicated memory system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2" name="" descr=""/>
          <p:cNvPicPr/>
          <p:nvPr/>
        </p:nvPicPr>
        <p:blipFill>
          <a:blip r:embed="rId1"/>
          <a:stretch/>
        </p:blipFill>
        <p:spPr>
          <a:xfrm>
            <a:off x="3124080" y="3244680"/>
            <a:ext cx="2743200" cy="161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03" name=""/>
          <p:cNvGraphicFramePr/>
          <p:nvPr/>
        </p:nvGraphicFramePr>
        <p:xfrm>
          <a:off x="990720" y="1219320"/>
          <a:ext cx="7118280" cy="198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19320"/>
                    <a:ext cx="7118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5" name=""/>
          <p:cNvGraphicFramePr/>
          <p:nvPr/>
        </p:nvGraphicFramePr>
        <p:xfrm>
          <a:off x="1295280" y="4952880"/>
          <a:ext cx="6645240" cy="1401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4952880"/>
                    <a:ext cx="664524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225360" y="312840"/>
            <a:ext cx="195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 speeds continue to increase very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much faster than either DRAM or disk access ti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challenge:  dealing with this growing dispar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nd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ous SRAMs (provide a burst of dat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esign DRAM chips to provide higher bandwidth or process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ucture code to increase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prefetching (make cache visible to ISA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3000" y="1337400"/>
            <a:ext cx="7992360" cy="494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memory can act as a cache for the secondary storage (disk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llusion of having more physical memory (programa independente da configuração do hardwar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relocati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ion (address spac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17840" y="1841400"/>
            <a:ext cx="4110840" cy="3076200"/>
            <a:chOff x="2517840" y="1841400"/>
            <a:chExt cx="4110840" cy="3076200"/>
          </a:xfrm>
        </p:grpSpPr>
        <p:sp>
          <p:nvSpPr>
            <p:cNvPr id="46" name=""/>
            <p:cNvSpPr/>
            <p:nvPr/>
          </p:nvSpPr>
          <p:spPr>
            <a:xfrm>
              <a:off x="2517840" y="2073600"/>
              <a:ext cx="123336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7840" y="2486160"/>
              <a:ext cx="123336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17840" y="2896920"/>
              <a:ext cx="1233360" cy="20376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7840" y="3307680"/>
              <a:ext cx="123336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  <a:lnTo>
                    <a:pt x="574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17840" y="3307680"/>
              <a:ext cx="123336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17840" y="3718080"/>
              <a:ext cx="123336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  <a:lnTo>
                    <a:pt x="574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17840" y="3718080"/>
              <a:ext cx="123336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7840" y="4128480"/>
              <a:ext cx="1233360" cy="20664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61600" y="4128480"/>
              <a:ext cx="1233360" cy="789120"/>
            </a:xfrm>
            <a:custGeom>
              <a:avLst/>
              <a:gdLst/>
              <a:ahLst/>
              <a:rect l="l" t="t" r="r" b="b"/>
              <a:pathLst>
                <a:path w="574" h="367">
                  <a:moveTo>
                    <a:pt x="574" y="81"/>
                  </a:moveTo>
                  <a:lnTo>
                    <a:pt x="570" y="69"/>
                  </a:lnTo>
                  <a:lnTo>
                    <a:pt x="561" y="56"/>
                  </a:lnTo>
                  <a:lnTo>
                    <a:pt x="544" y="44"/>
                  </a:lnTo>
                  <a:lnTo>
                    <a:pt x="519" y="35"/>
                  </a:lnTo>
                  <a:lnTo>
                    <a:pt x="490" y="25"/>
                  </a:lnTo>
                  <a:lnTo>
                    <a:pt x="457" y="16"/>
                  </a:lnTo>
                  <a:lnTo>
                    <a:pt x="419" y="10"/>
                  </a:lnTo>
                  <a:lnTo>
                    <a:pt x="379" y="4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41" y="2"/>
                  </a:lnTo>
                  <a:lnTo>
                    <a:pt x="197" y="4"/>
                  </a:lnTo>
                  <a:lnTo>
                    <a:pt x="155" y="10"/>
                  </a:lnTo>
                  <a:lnTo>
                    <a:pt x="119" y="16"/>
                  </a:lnTo>
                  <a:lnTo>
                    <a:pt x="84" y="25"/>
                  </a:lnTo>
                  <a:lnTo>
                    <a:pt x="56" y="35"/>
                  </a:lnTo>
                  <a:lnTo>
                    <a:pt x="33" y="44"/>
                  </a:lnTo>
                  <a:lnTo>
                    <a:pt x="15" y="56"/>
                  </a:lnTo>
                  <a:lnTo>
                    <a:pt x="4" y="69"/>
                  </a:lnTo>
                  <a:lnTo>
                    <a:pt x="0" y="83"/>
                  </a:lnTo>
                  <a:lnTo>
                    <a:pt x="0" y="287"/>
                  </a:lnTo>
                  <a:lnTo>
                    <a:pt x="4" y="300"/>
                  </a:lnTo>
                  <a:lnTo>
                    <a:pt x="15" y="312"/>
                  </a:lnTo>
                  <a:lnTo>
                    <a:pt x="33" y="323"/>
                  </a:lnTo>
                  <a:lnTo>
                    <a:pt x="56" y="335"/>
                  </a:lnTo>
                  <a:lnTo>
                    <a:pt x="84" y="344"/>
                  </a:lnTo>
                  <a:lnTo>
                    <a:pt x="119" y="352"/>
                  </a:lnTo>
                  <a:lnTo>
                    <a:pt x="155" y="360"/>
                  </a:lnTo>
                  <a:lnTo>
                    <a:pt x="197" y="364"/>
                  </a:lnTo>
                  <a:lnTo>
                    <a:pt x="241" y="367"/>
                  </a:lnTo>
                  <a:lnTo>
                    <a:pt x="287" y="367"/>
                  </a:lnTo>
                  <a:lnTo>
                    <a:pt x="335" y="367"/>
                  </a:lnTo>
                  <a:lnTo>
                    <a:pt x="379" y="364"/>
                  </a:lnTo>
                  <a:lnTo>
                    <a:pt x="419" y="360"/>
                  </a:lnTo>
                  <a:lnTo>
                    <a:pt x="457" y="352"/>
                  </a:lnTo>
                  <a:lnTo>
                    <a:pt x="490" y="344"/>
                  </a:lnTo>
                  <a:lnTo>
                    <a:pt x="519" y="335"/>
                  </a:lnTo>
                  <a:lnTo>
                    <a:pt x="544" y="323"/>
                  </a:lnTo>
                  <a:lnTo>
                    <a:pt x="561" y="312"/>
                  </a:lnTo>
                  <a:lnTo>
                    <a:pt x="570" y="300"/>
                  </a:lnTo>
                  <a:lnTo>
                    <a:pt x="574" y="287"/>
                  </a:lnTo>
                  <a:lnTo>
                    <a:pt x="574" y="83"/>
                  </a:lnTo>
                  <a:lnTo>
                    <a:pt x="574" y="83"/>
                  </a:lnTo>
                  <a:lnTo>
                    <a:pt x="574" y="8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61600" y="4128480"/>
              <a:ext cx="1233360" cy="789120"/>
            </a:xfrm>
            <a:custGeom>
              <a:avLst/>
              <a:gdLst/>
              <a:ahLst/>
              <a:rect l="l" t="t" r="r" b="b"/>
              <a:pathLst>
                <a:path w="574" h="367">
                  <a:moveTo>
                    <a:pt x="574" y="81"/>
                  </a:moveTo>
                  <a:lnTo>
                    <a:pt x="570" y="69"/>
                  </a:lnTo>
                  <a:lnTo>
                    <a:pt x="561" y="56"/>
                  </a:lnTo>
                  <a:lnTo>
                    <a:pt x="544" y="44"/>
                  </a:lnTo>
                  <a:lnTo>
                    <a:pt x="519" y="35"/>
                  </a:lnTo>
                  <a:lnTo>
                    <a:pt x="490" y="25"/>
                  </a:lnTo>
                  <a:lnTo>
                    <a:pt x="457" y="16"/>
                  </a:lnTo>
                  <a:lnTo>
                    <a:pt x="419" y="10"/>
                  </a:lnTo>
                  <a:lnTo>
                    <a:pt x="379" y="4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41" y="2"/>
                  </a:lnTo>
                  <a:lnTo>
                    <a:pt x="197" y="4"/>
                  </a:lnTo>
                  <a:lnTo>
                    <a:pt x="155" y="10"/>
                  </a:lnTo>
                  <a:lnTo>
                    <a:pt x="119" y="16"/>
                  </a:lnTo>
                  <a:lnTo>
                    <a:pt x="84" y="25"/>
                  </a:lnTo>
                  <a:lnTo>
                    <a:pt x="56" y="35"/>
                  </a:lnTo>
                  <a:lnTo>
                    <a:pt x="33" y="44"/>
                  </a:lnTo>
                  <a:lnTo>
                    <a:pt x="15" y="56"/>
                  </a:lnTo>
                  <a:lnTo>
                    <a:pt x="4" y="69"/>
                  </a:lnTo>
                  <a:lnTo>
                    <a:pt x="0" y="83"/>
                  </a:lnTo>
                  <a:lnTo>
                    <a:pt x="0" y="287"/>
                  </a:lnTo>
                  <a:lnTo>
                    <a:pt x="4" y="300"/>
                  </a:lnTo>
                  <a:lnTo>
                    <a:pt x="15" y="312"/>
                  </a:lnTo>
                  <a:lnTo>
                    <a:pt x="33" y="323"/>
                  </a:lnTo>
                  <a:lnTo>
                    <a:pt x="56" y="335"/>
                  </a:lnTo>
                  <a:lnTo>
                    <a:pt x="84" y="344"/>
                  </a:lnTo>
                  <a:lnTo>
                    <a:pt x="119" y="352"/>
                  </a:lnTo>
                  <a:lnTo>
                    <a:pt x="155" y="360"/>
                  </a:lnTo>
                  <a:lnTo>
                    <a:pt x="197" y="364"/>
                  </a:lnTo>
                  <a:lnTo>
                    <a:pt x="241" y="367"/>
                  </a:lnTo>
                  <a:lnTo>
                    <a:pt x="287" y="367"/>
                  </a:lnTo>
                  <a:lnTo>
                    <a:pt x="335" y="367"/>
                  </a:lnTo>
                  <a:lnTo>
                    <a:pt x="379" y="364"/>
                  </a:lnTo>
                  <a:lnTo>
                    <a:pt x="419" y="360"/>
                  </a:lnTo>
                  <a:lnTo>
                    <a:pt x="457" y="352"/>
                  </a:lnTo>
                  <a:lnTo>
                    <a:pt x="490" y="344"/>
                  </a:lnTo>
                  <a:lnTo>
                    <a:pt x="519" y="335"/>
                  </a:lnTo>
                  <a:lnTo>
                    <a:pt x="544" y="323"/>
                  </a:lnTo>
                  <a:lnTo>
                    <a:pt x="561" y="312"/>
                  </a:lnTo>
                  <a:lnTo>
                    <a:pt x="570" y="300"/>
                  </a:lnTo>
                  <a:lnTo>
                    <a:pt x="574" y="287"/>
                  </a:lnTo>
                  <a:lnTo>
                    <a:pt x="574" y="83"/>
                  </a:lnTo>
                  <a:lnTo>
                    <a:pt x="574" y="8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34920" y="1841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2492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0556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7360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40200" y="184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7260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3884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16600" y="184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47560" y="184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8320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6024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3980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13960" y="1841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5824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33564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0224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7316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056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94960" y="2073600"/>
              <a:ext cx="123372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94960" y="2279880"/>
              <a:ext cx="123372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94960" y="2486160"/>
              <a:ext cx="123372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94960" y="2690280"/>
              <a:ext cx="1233720" cy="20664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94960" y="2896920"/>
              <a:ext cx="1233720" cy="20376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4960" y="3100680"/>
              <a:ext cx="1233720" cy="20664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94960" y="3307680"/>
              <a:ext cx="123372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94960" y="3513600"/>
              <a:ext cx="123372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94960" y="3718080"/>
              <a:ext cx="123372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61600" y="4302360"/>
              <a:ext cx="1233360" cy="180720"/>
            </a:xfrm>
            <a:custGeom>
              <a:avLst/>
              <a:gdLst/>
              <a:ahLst/>
              <a:rect l="l" t="t" r="r" b="b"/>
              <a:pathLst>
                <a:path w="574" h="84">
                  <a:moveTo>
                    <a:pt x="0" y="0"/>
                  </a:moveTo>
                  <a:lnTo>
                    <a:pt x="4" y="15"/>
                  </a:lnTo>
                  <a:lnTo>
                    <a:pt x="15" y="26"/>
                  </a:lnTo>
                  <a:lnTo>
                    <a:pt x="33" y="40"/>
                  </a:lnTo>
                  <a:lnTo>
                    <a:pt x="56" y="49"/>
                  </a:lnTo>
                  <a:lnTo>
                    <a:pt x="84" y="59"/>
                  </a:lnTo>
                  <a:lnTo>
                    <a:pt x="119" y="67"/>
                  </a:lnTo>
                  <a:lnTo>
                    <a:pt x="155" y="74"/>
                  </a:lnTo>
                  <a:lnTo>
                    <a:pt x="197" y="80"/>
                  </a:lnTo>
                  <a:lnTo>
                    <a:pt x="241" y="82"/>
                  </a:lnTo>
                  <a:lnTo>
                    <a:pt x="287" y="84"/>
                  </a:lnTo>
                  <a:lnTo>
                    <a:pt x="335" y="82"/>
                  </a:lnTo>
                  <a:lnTo>
                    <a:pt x="379" y="80"/>
                  </a:lnTo>
                  <a:lnTo>
                    <a:pt x="419" y="74"/>
                  </a:lnTo>
                  <a:lnTo>
                    <a:pt x="457" y="67"/>
                  </a:lnTo>
                  <a:lnTo>
                    <a:pt x="490" y="59"/>
                  </a:lnTo>
                  <a:lnTo>
                    <a:pt x="519" y="49"/>
                  </a:lnTo>
                  <a:lnTo>
                    <a:pt x="544" y="40"/>
                  </a:lnTo>
                  <a:lnTo>
                    <a:pt x="561" y="26"/>
                  </a:lnTo>
                  <a:lnTo>
                    <a:pt x="570" y="15"/>
                  </a:lnTo>
                  <a:lnTo>
                    <a:pt x="574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97920" y="4446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96200" y="44467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25000" y="4446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95200" y="4446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64680" y="4446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02480" y="44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75560" y="44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2960" y="44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33600" y="4446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77880" y="44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50960" y="4446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21520" y="4446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90280" y="44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66960" y="4446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17840" y="2279880"/>
              <a:ext cx="123336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17840" y="2690280"/>
              <a:ext cx="1233360" cy="20664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17840" y="3100680"/>
              <a:ext cx="1233360" cy="20664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17840" y="3513600"/>
              <a:ext cx="123336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7840" y="3924360"/>
              <a:ext cx="123336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17840" y="4335120"/>
              <a:ext cx="123336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  <a:lnTo>
                    <a:pt x="574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17840" y="4335120"/>
              <a:ext cx="123336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12160" y="1841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01440" y="184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30240" y="1841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75240" y="184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520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9044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67840" y="184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96280" y="184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3408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1148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8708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65200" y="1841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0948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8364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5384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2188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9748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99960" y="2140200"/>
              <a:ext cx="70560" cy="70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99960" y="2346840"/>
              <a:ext cx="70560" cy="68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4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99960" y="2550960"/>
              <a:ext cx="70560" cy="70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99960" y="2961360"/>
              <a:ext cx="70560" cy="70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99960" y="3167640"/>
              <a:ext cx="70560" cy="68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99960" y="3373920"/>
              <a:ext cx="70560" cy="69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4"/>
                  </a:lnTo>
                  <a:lnTo>
                    <a:pt x="31" y="22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99960" y="3578040"/>
              <a:ext cx="70560" cy="70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99960" y="3784680"/>
              <a:ext cx="70560" cy="68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99960" y="3989160"/>
              <a:ext cx="70560" cy="70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99960" y="4195080"/>
              <a:ext cx="70560" cy="68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99960" y="4399560"/>
              <a:ext cx="70560" cy="70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09280" y="2189880"/>
              <a:ext cx="73080" cy="730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10"/>
                  </a:moveTo>
                  <a:lnTo>
                    <a:pt x="21" y="34"/>
                  </a:lnTo>
                  <a:lnTo>
                    <a:pt x="34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93960" y="4178160"/>
              <a:ext cx="72360" cy="6624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13" y="0"/>
                  </a:moveTo>
                  <a:lnTo>
                    <a:pt x="0" y="29"/>
                  </a:lnTo>
                  <a:lnTo>
                    <a:pt x="34" y="3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8800" y="2037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8312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5620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36480" y="2037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8076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54920" y="2037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25120" y="2037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94600" y="2037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30960" y="2037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69840" y="2037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1412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9116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64600" y="2037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36600" y="2037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6324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3520" y="2037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80240" y="2037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0760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8680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28000" y="4212360"/>
              <a:ext cx="74880" cy="6840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8" y="0"/>
                  </a:moveTo>
                  <a:lnTo>
                    <a:pt x="0" y="32"/>
                  </a:lnTo>
                  <a:lnTo>
                    <a:pt x="35" y="26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0600" y="4302360"/>
              <a:ext cx="75240" cy="6912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0" y="0"/>
                  </a:moveTo>
                  <a:lnTo>
                    <a:pt x="4" y="32"/>
                  </a:lnTo>
                  <a:lnTo>
                    <a:pt x="35" y="1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134160" y="4339080"/>
              <a:ext cx="124200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3133800" y="3410280"/>
              <a:ext cx="1491480" cy="80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34160" y="3817080"/>
              <a:ext cx="1319760" cy="43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134160" y="2226240"/>
              <a:ext cx="2207160" cy="20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13600" y="2542320"/>
              <a:ext cx="68400" cy="70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" y="0"/>
                  </a:moveTo>
                  <a:lnTo>
                    <a:pt x="0" y="33"/>
                  </a:lnTo>
                  <a:lnTo>
                    <a:pt x="32" y="19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34160" y="2378880"/>
              <a:ext cx="220068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09280" y="2946240"/>
              <a:ext cx="73080" cy="684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6" y="0"/>
                  </a:moveTo>
                  <a:lnTo>
                    <a:pt x="0" y="32"/>
                  </a:lnTo>
                  <a:lnTo>
                    <a:pt x="34" y="2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34160" y="2583000"/>
              <a:ext cx="2200680" cy="40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09280" y="3126600"/>
              <a:ext cx="73080" cy="684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4" y="0"/>
                  </a:moveTo>
                  <a:lnTo>
                    <a:pt x="0" y="32"/>
                  </a:lnTo>
                  <a:lnTo>
                    <a:pt x="3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09280" y="3217320"/>
              <a:ext cx="73080" cy="6408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6" y="30"/>
                  </a:lnTo>
                  <a:lnTo>
                    <a:pt x="34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04960" y="3335400"/>
              <a:ext cx="77400" cy="622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15" y="0"/>
                  </a:moveTo>
                  <a:lnTo>
                    <a:pt x="0" y="29"/>
                  </a:lnTo>
                  <a:lnTo>
                    <a:pt x="36" y="29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34160" y="2172240"/>
              <a:ext cx="2202840" cy="120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09280" y="3561120"/>
              <a:ext cx="73080" cy="7092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6" y="0"/>
                  </a:moveTo>
                  <a:lnTo>
                    <a:pt x="0" y="33"/>
                  </a:lnTo>
                  <a:lnTo>
                    <a:pt x="34" y="2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34160" y="3199680"/>
              <a:ext cx="2200680" cy="40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09280" y="3792960"/>
              <a:ext cx="73080" cy="684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4" y="32"/>
                  </a:lnTo>
                  <a:lnTo>
                    <a:pt x="34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134160" y="3825720"/>
              <a:ext cx="2202840" cy="19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134160" y="3249000"/>
              <a:ext cx="220068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4160" y="2995560"/>
              <a:ext cx="2196360" cy="16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99960" y="2757240"/>
              <a:ext cx="70560" cy="68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34160" y="2789280"/>
              <a:ext cx="220068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13600" y="2757240"/>
              <a:ext cx="68400" cy="68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olução desempenho CPU vs M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137628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198288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257796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09888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407196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470844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478476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559260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601640" y="47941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1909800" y="47941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394000" y="47941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2940120" y="47941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3440160" y="47941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601640" y="491328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909800" y="491328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2394000" y="491328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2940120" y="491328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8" name=""/>
          <p:cNvGrpSpPr/>
          <p:nvPr/>
        </p:nvGrpSpPr>
        <p:grpSpPr>
          <a:xfrm>
            <a:off x="635040" y="914400"/>
            <a:ext cx="7668360" cy="5613840"/>
            <a:chOff x="635040" y="914400"/>
            <a:chExt cx="7668360" cy="5613840"/>
          </a:xfrm>
        </p:grpSpPr>
        <p:sp>
          <p:nvSpPr>
            <p:cNvPr id="2429" name=""/>
            <p:cNvSpPr/>
            <p:nvPr/>
          </p:nvSpPr>
          <p:spPr>
            <a:xfrm>
              <a:off x="1162800" y="5357160"/>
              <a:ext cx="6563520" cy="2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V="1">
              <a:off x="1162800" y="5244840"/>
              <a:ext cx="2520" cy="111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rot="16200000">
              <a:off x="704520" y="3744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rot="16200000">
              <a:off x="662760" y="36540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rot="16200000">
              <a:off x="683280" y="354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rot="16200000">
              <a:off x="700920" y="3479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 rot="16200000">
              <a:off x="683280" y="340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rot="16200000">
              <a:off x="687960" y="3327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rot="16200000">
              <a:off x="683280" y="324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 rot="16200000">
              <a:off x="662760" y="31334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rot="16200000">
              <a:off x="683280" y="3026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rot="16200000">
              <a:off x="683280" y="294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rot="16200000">
              <a:off x="704520" y="2876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rot="16200000">
              <a:off x="704520" y="2818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 rot="16200000">
              <a:off x="704520" y="278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rot="16200000">
              <a:off x="683280" y="272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rot="16200000">
              <a:off x="687960" y="263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 rot="16200000">
              <a:off x="704520" y="257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rot="16200000">
              <a:off x="683280" y="251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rot="16200000">
              <a:off x="700920" y="2446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987840" y="5252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9244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97848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801000" y="96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883080" y="96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973440" y="96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rot="19620000">
              <a:off x="829080" y="554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 rot="19620000">
              <a:off x="90036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rot="19620000">
              <a:off x="973440" y="545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rot="19620000">
              <a:off x="1052280" y="540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rot="19620000">
              <a:off x="1600200" y="555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rot="19620000">
              <a:off x="1675440" y="5501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rot="19620000">
              <a:off x="1744560" y="546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 rot="19620000">
              <a:off x="1824840" y="540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rot="19620000">
              <a:off x="2420640" y="554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rot="19620000">
              <a:off x="249588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rot="19620000">
              <a:off x="2564280" y="545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rot="19620000">
              <a:off x="2644560" y="540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rot="19620000">
              <a:off x="3244680" y="555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rot="19620000">
              <a:off x="331848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rot="19620000">
              <a:off x="3390120" y="545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rot="19620000">
              <a:off x="3465720" y="540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4302720" y="5875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4406760" y="5875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4491000" y="5875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581720" y="5875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rot="19620000">
              <a:off x="4065120" y="555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rot="19620000">
              <a:off x="414396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rot="19620000">
              <a:off x="4209480" y="545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rot="19620000">
              <a:off x="4289760" y="540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rot="19620000">
              <a:off x="4891320" y="555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rot="19620000">
              <a:off x="496080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 rot="19620000">
              <a:off x="5033880" y="545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 rot="19620000">
              <a:off x="5109480" y="540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rot="19620000">
              <a:off x="5695200" y="554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rot="19620000">
              <a:off x="577260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rot="19620000">
              <a:off x="5838120" y="545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rot="19620000">
              <a:off x="5913360" y="5410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rot="19620000">
              <a:off x="6532200" y="555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rot="19620000">
              <a:off x="6605640" y="5501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rot="19620000">
              <a:off x="6674400" y="545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rot="19620000">
              <a:off x="6752880" y="5408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rot="19620000">
              <a:off x="7366320" y="555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 rot="19620000">
              <a:off x="744048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rot="19620000">
              <a:off x="7510680" y="545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rot="19620000">
              <a:off x="7585920" y="540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7516080" y="5829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7630560" y="5829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7731000" y="5829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7844040" y="58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885440" y="5829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7939440" y="58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984080" y="58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066160" y="5829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8149680" y="58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8188920" y="5829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513560" y="6093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623360" y="60937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731000" y="6093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844040" y="609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885440" y="6093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938720" y="6093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8019720" y="60937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8051760" y="6093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8142120" y="6093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8252280" y="6093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7508880" y="63453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7618680" y="63453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7731000" y="6345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839000" y="63453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966000" y="5924520"/>
              <a:ext cx="483840" cy="25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966000" y="6184080"/>
              <a:ext cx="483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966000" y="6445800"/>
              <a:ext cx="483840" cy="2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1165680" y="3195720"/>
              <a:ext cx="80280" cy="2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3" name=""/>
            <p:cNvGrpSpPr/>
            <p:nvPr/>
          </p:nvGrpSpPr>
          <p:grpSpPr>
            <a:xfrm>
              <a:off x="1165680" y="914400"/>
              <a:ext cx="6562440" cy="4442400"/>
              <a:chOff x="1165680" y="914400"/>
              <a:chExt cx="6562440" cy="4442400"/>
            </a:xfrm>
          </p:grpSpPr>
          <p:sp>
            <p:nvSpPr>
              <p:cNvPr id="2524" name=""/>
              <p:cNvSpPr/>
              <p:nvPr/>
            </p:nvSpPr>
            <p:spPr>
              <a:xfrm>
                <a:off x="1165680" y="1063440"/>
                <a:ext cx="80280" cy="4293360"/>
              </a:xfrm>
              <a:custGeom>
                <a:avLst/>
                <a:gdLst/>
                <a:ahLst/>
                <a:rect l="l" t="t" r="r" b="b"/>
                <a:pathLst>
                  <a:path w="33" h="1756">
                    <a:moveTo>
                      <a:pt x="33" y="0"/>
                    </a:moveTo>
                    <a:lnTo>
                      <a:pt x="0" y="0"/>
                    </a:lnTo>
                    <a:lnTo>
                      <a:pt x="0" y="175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170360" y="914400"/>
                <a:ext cx="6401160" cy="4422960"/>
              </a:xfrm>
              <a:custGeom>
                <a:avLst/>
                <a:gdLst/>
                <a:ahLst/>
                <a:rect l="l" t="t" r="r" b="b"/>
                <a:pathLst>
                  <a:path w="2618" h="1809">
                    <a:moveTo>
                      <a:pt x="0" y="1809"/>
                    </a:moveTo>
                    <a:lnTo>
                      <a:pt x="164" y="1778"/>
                    </a:lnTo>
                    <a:lnTo>
                      <a:pt x="331" y="1728"/>
                    </a:lnTo>
                    <a:lnTo>
                      <a:pt x="486" y="1696"/>
                    </a:lnTo>
                    <a:lnTo>
                      <a:pt x="651" y="1648"/>
                    </a:lnTo>
                    <a:lnTo>
                      <a:pt x="826" y="1552"/>
                    </a:lnTo>
                    <a:lnTo>
                      <a:pt x="997" y="1488"/>
                    </a:lnTo>
                    <a:lnTo>
                      <a:pt x="1168" y="1338"/>
                    </a:lnTo>
                    <a:lnTo>
                      <a:pt x="1324" y="1200"/>
                    </a:lnTo>
                    <a:lnTo>
                      <a:pt x="1471" y="901"/>
                    </a:lnTo>
                    <a:lnTo>
                      <a:pt x="1663" y="864"/>
                    </a:lnTo>
                    <a:lnTo>
                      <a:pt x="1840" y="806"/>
                    </a:lnTo>
                    <a:lnTo>
                      <a:pt x="2009" y="718"/>
                    </a:lnTo>
                    <a:lnTo>
                      <a:pt x="2176" y="597"/>
                    </a:lnTo>
                    <a:lnTo>
                      <a:pt x="2353" y="393"/>
                    </a:lnTo>
                    <a:lnTo>
                      <a:pt x="2518" y="219"/>
                    </a:lnTo>
                    <a:lnTo>
                      <a:pt x="2618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170360" y="2880000"/>
                <a:ext cx="6555240" cy="2457360"/>
              </a:xfrm>
              <a:custGeom>
                <a:avLst/>
                <a:gdLst/>
                <a:ahLst/>
                <a:rect l="l" t="t" r="r" b="b"/>
                <a:pathLst>
                  <a:path w="2681" h="1005">
                    <a:moveTo>
                      <a:pt x="0" y="1005"/>
                    </a:moveTo>
                    <a:lnTo>
                      <a:pt x="160" y="984"/>
                    </a:lnTo>
                    <a:lnTo>
                      <a:pt x="166" y="990"/>
                    </a:lnTo>
                    <a:lnTo>
                      <a:pt x="240" y="988"/>
                    </a:lnTo>
                    <a:lnTo>
                      <a:pt x="331" y="968"/>
                    </a:lnTo>
                    <a:lnTo>
                      <a:pt x="490" y="934"/>
                    </a:lnTo>
                    <a:lnTo>
                      <a:pt x="669" y="913"/>
                    </a:lnTo>
                    <a:lnTo>
                      <a:pt x="832" y="892"/>
                    </a:lnTo>
                    <a:lnTo>
                      <a:pt x="997" y="844"/>
                    </a:lnTo>
                    <a:lnTo>
                      <a:pt x="1162" y="780"/>
                    </a:lnTo>
                    <a:lnTo>
                      <a:pt x="1333" y="694"/>
                    </a:lnTo>
                    <a:lnTo>
                      <a:pt x="1504" y="604"/>
                    </a:lnTo>
                    <a:lnTo>
                      <a:pt x="1669" y="496"/>
                    </a:lnTo>
                    <a:lnTo>
                      <a:pt x="1825" y="406"/>
                    </a:lnTo>
                    <a:lnTo>
                      <a:pt x="1990" y="225"/>
                    </a:lnTo>
                    <a:lnTo>
                      <a:pt x="2176" y="102"/>
                    </a:lnTo>
                    <a:lnTo>
                      <a:pt x="2349" y="77"/>
                    </a:lnTo>
                    <a:lnTo>
                      <a:pt x="2503" y="39"/>
                    </a:lnTo>
                    <a:lnTo>
                      <a:pt x="268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180080" y="4383720"/>
                <a:ext cx="6514200" cy="958680"/>
              </a:xfrm>
              <a:custGeom>
                <a:avLst/>
                <a:gdLst/>
                <a:ahLst/>
                <a:rect l="l" t="t" r="r" b="b"/>
                <a:pathLst>
                  <a:path w="2664" h="392">
                    <a:moveTo>
                      <a:pt x="0" y="392"/>
                    </a:moveTo>
                    <a:lnTo>
                      <a:pt x="162" y="375"/>
                    </a:lnTo>
                    <a:lnTo>
                      <a:pt x="306" y="373"/>
                    </a:lnTo>
                    <a:lnTo>
                      <a:pt x="498" y="342"/>
                    </a:lnTo>
                    <a:lnTo>
                      <a:pt x="665" y="336"/>
                    </a:lnTo>
                    <a:lnTo>
                      <a:pt x="828" y="319"/>
                    </a:lnTo>
                    <a:lnTo>
                      <a:pt x="999" y="313"/>
                    </a:lnTo>
                    <a:lnTo>
                      <a:pt x="1154" y="309"/>
                    </a:lnTo>
                    <a:lnTo>
                      <a:pt x="1323" y="298"/>
                    </a:lnTo>
                    <a:lnTo>
                      <a:pt x="1500" y="244"/>
                    </a:lnTo>
                    <a:lnTo>
                      <a:pt x="1656" y="223"/>
                    </a:lnTo>
                    <a:lnTo>
                      <a:pt x="1821" y="208"/>
                    </a:lnTo>
                    <a:lnTo>
                      <a:pt x="2007" y="186"/>
                    </a:lnTo>
                    <a:lnTo>
                      <a:pt x="2166" y="144"/>
                    </a:lnTo>
                    <a:lnTo>
                      <a:pt x="2337" y="100"/>
                    </a:lnTo>
                    <a:lnTo>
                      <a:pt x="2502" y="52"/>
                    </a:lnTo>
                    <a:lnTo>
                      <a:pt x="2664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165680" y="3195360"/>
                <a:ext cx="656028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165680" y="1063440"/>
                <a:ext cx="656028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57644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98468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2392560" y="5276520"/>
                <a:ext cx="468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280620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214440" y="5276520"/>
                <a:ext cx="252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623040" y="5276520"/>
                <a:ext cx="432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403632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4444200" y="5276520"/>
                <a:ext cx="252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4853160" y="5276520"/>
                <a:ext cx="432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26608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674320" y="5276520"/>
                <a:ext cx="468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608796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649584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6904080" y="5276520"/>
                <a:ext cx="468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731772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772596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s:  virtual memory blo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s:  the data is not in memory, retrieve it from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ge miss penalty, thus pages should be fairly large (e.g., 4K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ing page faults is important (LRU is worth the pri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andle the faults in software instead of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write-through is too expensive so we use write-back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914400" y="3352680"/>
            <a:ext cx="5473080" cy="2908440"/>
            <a:chOff x="914400" y="3352680"/>
            <a:chExt cx="5473080" cy="2908440"/>
          </a:xfrm>
        </p:grpSpPr>
        <p:grpSp>
          <p:nvGrpSpPr>
            <p:cNvPr id="180" name=""/>
            <p:cNvGrpSpPr/>
            <p:nvPr/>
          </p:nvGrpSpPr>
          <p:grpSpPr>
            <a:xfrm>
              <a:off x="914400" y="3352680"/>
              <a:ext cx="5473080" cy="2908080"/>
              <a:chOff x="914400" y="3352680"/>
              <a:chExt cx="5473080" cy="2908080"/>
            </a:xfrm>
          </p:grpSpPr>
          <p:sp>
            <p:nvSpPr>
              <p:cNvPr id="181" name=""/>
              <p:cNvSpPr/>
              <p:nvPr/>
            </p:nvSpPr>
            <p:spPr>
              <a:xfrm>
                <a:off x="2052720" y="4743720"/>
                <a:ext cx="1141560" cy="342720"/>
              </a:xfrm>
              <a:custGeom>
                <a:avLst/>
                <a:gdLst/>
                <a:ahLst/>
                <a:rect l="l" t="t" r="r" b="b"/>
                <a:pathLst>
                  <a:path w="479" h="144">
                    <a:moveTo>
                      <a:pt x="406" y="144"/>
                    </a:moveTo>
                    <a:lnTo>
                      <a:pt x="420" y="144"/>
                    </a:lnTo>
                    <a:lnTo>
                      <a:pt x="431" y="140"/>
                    </a:lnTo>
                    <a:lnTo>
                      <a:pt x="441" y="136"/>
                    </a:lnTo>
                    <a:lnTo>
                      <a:pt x="450" y="130"/>
                    </a:lnTo>
                    <a:lnTo>
                      <a:pt x="458" y="123"/>
                    </a:lnTo>
                    <a:lnTo>
                      <a:pt x="466" y="115"/>
                    </a:lnTo>
                    <a:lnTo>
                      <a:pt x="471" y="105"/>
                    </a:lnTo>
                    <a:lnTo>
                      <a:pt x="475" y="96"/>
                    </a:lnTo>
                    <a:lnTo>
                      <a:pt x="479" y="84"/>
                    </a:lnTo>
                    <a:lnTo>
                      <a:pt x="479" y="73"/>
                    </a:lnTo>
                    <a:lnTo>
                      <a:pt x="479" y="62"/>
                    </a:lnTo>
                    <a:lnTo>
                      <a:pt x="475" y="50"/>
                    </a:lnTo>
                    <a:lnTo>
                      <a:pt x="471" y="39"/>
                    </a:lnTo>
                    <a:lnTo>
                      <a:pt x="466" y="31"/>
                    </a:lnTo>
                    <a:lnTo>
                      <a:pt x="458" y="21"/>
                    </a:lnTo>
                    <a:lnTo>
                      <a:pt x="450" y="14"/>
                    </a:lnTo>
                    <a:lnTo>
                      <a:pt x="441" y="8"/>
                    </a:lnTo>
                    <a:lnTo>
                      <a:pt x="431" y="4"/>
                    </a:lnTo>
                    <a:lnTo>
                      <a:pt x="420" y="2"/>
                    </a:lnTo>
                    <a:lnTo>
                      <a:pt x="408" y="0"/>
                    </a:lnTo>
                    <a:lnTo>
                      <a:pt x="73" y="0"/>
                    </a:lnTo>
                    <a:lnTo>
                      <a:pt x="62" y="2"/>
                    </a:lnTo>
                    <a:lnTo>
                      <a:pt x="50" y="4"/>
                    </a:lnTo>
                    <a:lnTo>
                      <a:pt x="41" y="8"/>
                    </a:lnTo>
                    <a:lnTo>
                      <a:pt x="31" y="14"/>
                    </a:lnTo>
                    <a:lnTo>
                      <a:pt x="21" y="21"/>
                    </a:lnTo>
                    <a:lnTo>
                      <a:pt x="16" y="31"/>
                    </a:lnTo>
                    <a:lnTo>
                      <a:pt x="10" y="39"/>
                    </a:lnTo>
                    <a:lnTo>
                      <a:pt x="4" y="50"/>
                    </a:lnTo>
                    <a:lnTo>
                      <a:pt x="2" y="62"/>
                    </a:lnTo>
                    <a:lnTo>
                      <a:pt x="0" y="73"/>
                    </a:lnTo>
                    <a:lnTo>
                      <a:pt x="2" y="84"/>
                    </a:lnTo>
                    <a:lnTo>
                      <a:pt x="4" y="96"/>
                    </a:lnTo>
                    <a:lnTo>
                      <a:pt x="10" y="105"/>
                    </a:lnTo>
                    <a:lnTo>
                      <a:pt x="16" y="115"/>
                    </a:lnTo>
                    <a:lnTo>
                      <a:pt x="21" y="123"/>
                    </a:lnTo>
                    <a:lnTo>
                      <a:pt x="31" y="130"/>
                    </a:lnTo>
                    <a:lnTo>
                      <a:pt x="41" y="136"/>
                    </a:lnTo>
                    <a:lnTo>
                      <a:pt x="50" y="140"/>
                    </a:lnTo>
                    <a:lnTo>
                      <a:pt x="62" y="144"/>
                    </a:lnTo>
                    <a:lnTo>
                      <a:pt x="73" y="144"/>
                    </a:lnTo>
                    <a:lnTo>
                      <a:pt x="408" y="144"/>
                    </a:lnTo>
                    <a:lnTo>
                      <a:pt x="408" y="144"/>
                    </a:lnTo>
                    <a:lnTo>
                      <a:pt x="406" y="1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52720" y="4743720"/>
                <a:ext cx="1141560" cy="342720"/>
              </a:xfrm>
              <a:custGeom>
                <a:avLst/>
                <a:gdLst/>
                <a:ahLst/>
                <a:rect l="l" t="t" r="r" b="b"/>
                <a:pathLst>
                  <a:path w="479" h="144">
                    <a:moveTo>
                      <a:pt x="406" y="144"/>
                    </a:moveTo>
                    <a:lnTo>
                      <a:pt x="420" y="144"/>
                    </a:lnTo>
                    <a:lnTo>
                      <a:pt x="431" y="140"/>
                    </a:lnTo>
                    <a:lnTo>
                      <a:pt x="441" y="136"/>
                    </a:lnTo>
                    <a:lnTo>
                      <a:pt x="450" y="130"/>
                    </a:lnTo>
                    <a:lnTo>
                      <a:pt x="458" y="123"/>
                    </a:lnTo>
                    <a:lnTo>
                      <a:pt x="466" y="115"/>
                    </a:lnTo>
                    <a:lnTo>
                      <a:pt x="471" y="105"/>
                    </a:lnTo>
                    <a:lnTo>
                      <a:pt x="475" y="96"/>
                    </a:lnTo>
                    <a:lnTo>
                      <a:pt x="479" y="84"/>
                    </a:lnTo>
                    <a:lnTo>
                      <a:pt x="479" y="73"/>
                    </a:lnTo>
                    <a:lnTo>
                      <a:pt x="479" y="62"/>
                    </a:lnTo>
                    <a:lnTo>
                      <a:pt x="475" y="50"/>
                    </a:lnTo>
                    <a:lnTo>
                      <a:pt x="471" y="39"/>
                    </a:lnTo>
                    <a:lnTo>
                      <a:pt x="466" y="31"/>
                    </a:lnTo>
                    <a:lnTo>
                      <a:pt x="458" y="21"/>
                    </a:lnTo>
                    <a:lnTo>
                      <a:pt x="450" y="14"/>
                    </a:lnTo>
                    <a:lnTo>
                      <a:pt x="441" y="8"/>
                    </a:lnTo>
                    <a:lnTo>
                      <a:pt x="431" y="4"/>
                    </a:lnTo>
                    <a:lnTo>
                      <a:pt x="420" y="2"/>
                    </a:lnTo>
                    <a:lnTo>
                      <a:pt x="408" y="0"/>
                    </a:lnTo>
                    <a:lnTo>
                      <a:pt x="73" y="0"/>
                    </a:lnTo>
                    <a:lnTo>
                      <a:pt x="62" y="2"/>
                    </a:lnTo>
                    <a:lnTo>
                      <a:pt x="50" y="4"/>
                    </a:lnTo>
                    <a:lnTo>
                      <a:pt x="41" y="8"/>
                    </a:lnTo>
                    <a:lnTo>
                      <a:pt x="31" y="14"/>
                    </a:lnTo>
                    <a:lnTo>
                      <a:pt x="21" y="21"/>
                    </a:lnTo>
                    <a:lnTo>
                      <a:pt x="16" y="31"/>
                    </a:lnTo>
                    <a:lnTo>
                      <a:pt x="10" y="39"/>
                    </a:lnTo>
                    <a:lnTo>
                      <a:pt x="4" y="50"/>
                    </a:lnTo>
                    <a:lnTo>
                      <a:pt x="2" y="62"/>
                    </a:lnTo>
                    <a:lnTo>
                      <a:pt x="0" y="73"/>
                    </a:lnTo>
                    <a:lnTo>
                      <a:pt x="2" y="84"/>
                    </a:lnTo>
                    <a:lnTo>
                      <a:pt x="4" y="96"/>
                    </a:lnTo>
                    <a:lnTo>
                      <a:pt x="10" y="105"/>
                    </a:lnTo>
                    <a:lnTo>
                      <a:pt x="16" y="115"/>
                    </a:lnTo>
                    <a:lnTo>
                      <a:pt x="21" y="123"/>
                    </a:lnTo>
                    <a:lnTo>
                      <a:pt x="31" y="130"/>
                    </a:lnTo>
                    <a:lnTo>
                      <a:pt x="41" y="136"/>
                    </a:lnTo>
                    <a:lnTo>
                      <a:pt x="50" y="140"/>
                    </a:lnTo>
                    <a:lnTo>
                      <a:pt x="62" y="144"/>
                    </a:lnTo>
                    <a:lnTo>
                      <a:pt x="73" y="144"/>
                    </a:lnTo>
                    <a:lnTo>
                      <a:pt x="408" y="144"/>
                    </a:lnTo>
                    <a:lnTo>
                      <a:pt x="408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4532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93208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97132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06060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10020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18228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2265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589000" y="374796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686560" y="3747960"/>
                <a:ext cx="2628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5" y="11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93600" y="374796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6" y="11"/>
                    </a:moveTo>
                    <a:lnTo>
                      <a:pt x="8" y="13"/>
                    </a:lnTo>
                    <a:lnTo>
                      <a:pt x="10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4335840" y="3893040"/>
                <a:ext cx="2160" cy="45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914400" y="3893400"/>
                <a:ext cx="5473080" cy="454680"/>
              </a:xfrm>
              <a:custGeom>
                <a:avLst/>
                <a:gdLst/>
                <a:ahLst/>
                <a:rect l="l" t="t" r="r" b="b"/>
                <a:pathLst>
                  <a:path w="2297" h="191">
                    <a:moveTo>
                      <a:pt x="0" y="189"/>
                    </a:moveTo>
                    <a:lnTo>
                      <a:pt x="0" y="0"/>
                    </a:lnTo>
                    <a:lnTo>
                      <a:pt x="2297" y="0"/>
                    </a:lnTo>
                    <a:lnTo>
                      <a:pt x="2297" y="191"/>
                    </a:lnTo>
                    <a:lnTo>
                      <a:pt x="0" y="191"/>
                    </a:lnTo>
                    <a:lnTo>
                      <a:pt x="0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8912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47480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5940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9900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68468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7396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8135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89564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9395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0884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9452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57768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6219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0548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9224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83184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91500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00212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413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295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95004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353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1852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595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4524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32840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737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45584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4296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58220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653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5248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9208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7992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307840" y="3747960"/>
                <a:ext cx="2628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5" y="11"/>
                    </a:moveTo>
                    <a:lnTo>
                      <a:pt x="5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403600" y="3747960"/>
                <a:ext cx="2592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4" y="11"/>
                    </a:moveTo>
                    <a:lnTo>
                      <a:pt x="6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209920" y="3747960"/>
                <a:ext cx="2844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570040" y="3747960"/>
                <a:ext cx="31320" cy="306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5" y="11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65440" y="3747960"/>
                <a:ext cx="2592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76800" y="3747960"/>
                <a:ext cx="2844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286720" y="3747960"/>
                <a:ext cx="2844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381760" y="3747960"/>
                <a:ext cx="2844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190960" y="3747960"/>
                <a:ext cx="2628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6" y="11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856240" y="3747960"/>
                <a:ext cx="2808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53440" y="3747960"/>
                <a:ext cx="2628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3" y="11"/>
                    </a:moveTo>
                    <a:lnTo>
                      <a:pt x="5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760480" y="3747960"/>
                <a:ext cx="2844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139560" y="3747960"/>
                <a:ext cx="31320" cy="306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234960" y="3747960"/>
                <a:ext cx="2844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0" y="3747960"/>
                <a:ext cx="2592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4" y="11"/>
                    </a:moveTo>
                    <a:lnTo>
                      <a:pt x="6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83480" y="4031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08284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852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25168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33880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37804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46732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50800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48320" y="4031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62572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0780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51200" y="4031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57400" y="4031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91600" y="4031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14092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8160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26728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350440" y="4031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38644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42568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51388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59488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68308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6516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80440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89260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974680" y="40316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10392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18960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272400" y="4031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49280" y="3352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48640" y="3352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285000" y="335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34680" y="335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76800" y="335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62120" y="335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546360" y="3352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577680" y="335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621960" y="335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705480" y="335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791160" y="335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72880" y="335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921840" y="335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011120" y="33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87440" y="33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4532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93208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97132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06060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10020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18228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2265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89000" y="5341680"/>
                <a:ext cx="33480" cy="313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686560" y="5341680"/>
                <a:ext cx="2628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5" y="11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93600" y="5341680"/>
                <a:ext cx="33480" cy="313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6" y="11"/>
                    </a:moveTo>
                    <a:lnTo>
                      <a:pt x="8" y="13"/>
                    </a:lnTo>
                    <a:lnTo>
                      <a:pt x="10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4335840" y="5486760"/>
                <a:ext cx="2160" cy="45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69080" y="5487120"/>
                <a:ext cx="5018040" cy="454680"/>
              </a:xfrm>
              <a:custGeom>
                <a:avLst/>
                <a:gdLst/>
                <a:ahLst/>
                <a:rect l="l" t="t" r="r" b="b"/>
                <a:pathLst>
                  <a:path w="2106" h="191">
                    <a:moveTo>
                      <a:pt x="0" y="189"/>
                    </a:moveTo>
                    <a:lnTo>
                      <a:pt x="0" y="0"/>
                    </a:lnTo>
                    <a:lnTo>
                      <a:pt x="2106" y="0"/>
                    </a:lnTo>
                    <a:lnTo>
                      <a:pt x="2106" y="191"/>
                    </a:lnTo>
                    <a:lnTo>
                      <a:pt x="0" y="191"/>
                    </a:lnTo>
                    <a:lnTo>
                      <a:pt x="0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8912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7480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5940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9900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8468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7396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8135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9564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9395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0884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9452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7768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6219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70548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79224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83184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91500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00212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0413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295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40328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49184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7356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61568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7013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78380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3024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91124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307840" y="5341680"/>
                <a:ext cx="2628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5" y="11"/>
                    </a:moveTo>
                    <a:lnTo>
                      <a:pt x="5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403600" y="5341680"/>
                <a:ext cx="2592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4" y="11"/>
                    </a:moveTo>
                    <a:lnTo>
                      <a:pt x="6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09920" y="5341680"/>
                <a:ext cx="2844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70040" y="534168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5" y="11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665440" y="5341680"/>
                <a:ext cx="2592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476800" y="5341680"/>
                <a:ext cx="2844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286720" y="5341680"/>
                <a:ext cx="2844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381760" y="5341680"/>
                <a:ext cx="2844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190960" y="5341680"/>
                <a:ext cx="2628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6" y="11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856240" y="5341680"/>
                <a:ext cx="2808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53440" y="5341680"/>
                <a:ext cx="2628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3" y="11"/>
                    </a:moveTo>
                    <a:lnTo>
                      <a:pt x="5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760480" y="5341680"/>
                <a:ext cx="2844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139560" y="534168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234960" y="5341680"/>
                <a:ext cx="2844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049200" y="5341680"/>
                <a:ext cx="2592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4" y="11"/>
                    </a:moveTo>
                    <a:lnTo>
                      <a:pt x="6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83480" y="56232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8284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1685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5168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38800" y="5623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7804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467320" y="5623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508000" y="5623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548320" y="5623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6257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07800" y="5623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121840" y="56232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2255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310120" y="5623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386440" y="5623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459880" y="5623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495880" y="5623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57364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655360" y="5623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688840" y="5623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7331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8141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023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833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070080" y="5623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11364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19896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280680" y="56232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40884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4909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577320" y="56232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318120" y="6077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418200" y="6077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503880" y="6077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577680" y="6077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654000" y="60778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691800" y="6077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3762720" y="6078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52000" y="6078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2960" y="6078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22200" y="6078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10760" y="6078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91760" y="6078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80680" y="6078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31080" y="6078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16760" y="6078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90560" y="6078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86600" y="5397120"/>
              <a:ext cx="78840" cy="759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1" y="0"/>
                  </a:moveTo>
                  <a:lnTo>
                    <a:pt x="0" y="2"/>
                  </a:lnTo>
                  <a:lnTo>
                    <a:pt x="16" y="3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55040" y="48276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350440" y="4827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400840" y="48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80760" y="48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69680" y="4827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40960" y="4827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78760" y="48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60840" y="4827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05840" y="4827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38240" y="48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23920" y="48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24760" y="5397120"/>
              <a:ext cx="73800" cy="759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2"/>
                  </a:lnTo>
                  <a:lnTo>
                    <a:pt x="16" y="3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63280" y="4344120"/>
              <a:ext cx="2160" cy="10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86600" y="4658400"/>
              <a:ext cx="78840" cy="781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0"/>
                  </a:moveTo>
                  <a:lnTo>
                    <a:pt x="0" y="0"/>
                  </a:lnTo>
                  <a:lnTo>
                    <a:pt x="16" y="3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25120" y="4344120"/>
              <a:ext cx="216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25120" y="5086800"/>
              <a:ext cx="2160" cy="3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7010280" y="3882960"/>
            <a:ext cx="21337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 bits: 4 K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PN: 20 bits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1M p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 G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10280" y="5410080"/>
            <a:ext cx="2133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PN: 18  bits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256 K p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 G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523880" y="1085760"/>
            <a:ext cx="6095520" cy="4587120"/>
            <a:chOff x="1523880" y="1085760"/>
            <a:chExt cx="6095520" cy="4587120"/>
          </a:xfrm>
        </p:grpSpPr>
        <p:grpSp>
          <p:nvGrpSpPr>
            <p:cNvPr id="412" name=""/>
            <p:cNvGrpSpPr/>
            <p:nvPr/>
          </p:nvGrpSpPr>
          <p:grpSpPr>
            <a:xfrm>
              <a:off x="1523880" y="1085760"/>
              <a:ext cx="6095520" cy="4587120"/>
              <a:chOff x="1523880" y="1085760"/>
              <a:chExt cx="6095520" cy="4587120"/>
            </a:xfrm>
          </p:grpSpPr>
          <p:sp>
            <p:nvSpPr>
              <p:cNvPr id="413" name=""/>
              <p:cNvSpPr/>
              <p:nvPr/>
            </p:nvSpPr>
            <p:spPr>
              <a:xfrm>
                <a:off x="2739240" y="246240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739240" y="246240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580120" y="246240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580120" y="246240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739240" y="289260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  <a:lnTo>
                      <a:pt x="688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739240" y="289260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580120" y="289260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80120" y="289260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39240" y="332136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739240" y="332136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580120" y="332136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580120" y="332136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739240" y="375156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  <a:lnTo>
                      <a:pt x="688" y="9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739240" y="375156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580120" y="375156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580120" y="375156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739240" y="417996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739240" y="417996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580120" y="417996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580120" y="417996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739240" y="460836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739240" y="460836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580120" y="460836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580120" y="460836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739240" y="2246760"/>
                <a:ext cx="1547280" cy="21528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739240" y="2246760"/>
                <a:ext cx="1547280" cy="21528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80120" y="2246760"/>
                <a:ext cx="159120" cy="21528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80120" y="2246760"/>
                <a:ext cx="159120" cy="21528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739240" y="267768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739240" y="267768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80120" y="267768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580120" y="267768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39240" y="3105720"/>
                <a:ext cx="1547280" cy="21528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739240" y="3105720"/>
                <a:ext cx="1547280" cy="21528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80120" y="3105720"/>
                <a:ext cx="159120" cy="21528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80120" y="3105720"/>
                <a:ext cx="159120" cy="21528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739240" y="353628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739240" y="353628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580120" y="353628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80120" y="353628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739240" y="3964320"/>
                <a:ext cx="1547280" cy="21528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739240" y="3964320"/>
                <a:ext cx="1547280" cy="21528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80120" y="3964320"/>
                <a:ext cx="159120" cy="21528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580120" y="3964320"/>
                <a:ext cx="159120" cy="21528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739240" y="439524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  <a:lnTo>
                      <a:pt x="688" y="9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739240" y="439524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580120" y="439524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580120" y="439524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475240" y="4236120"/>
                <a:ext cx="2128320" cy="1436760"/>
              </a:xfrm>
              <a:custGeom>
                <a:avLst/>
                <a:gdLst/>
                <a:ahLst/>
                <a:rect l="l" t="t" r="r" b="b"/>
                <a:pathLst>
                  <a:path w="949" h="641">
                    <a:moveTo>
                      <a:pt x="947" y="80"/>
                    </a:moveTo>
                    <a:lnTo>
                      <a:pt x="941" y="69"/>
                    </a:lnTo>
                    <a:lnTo>
                      <a:pt x="924" y="55"/>
                    </a:lnTo>
                    <a:lnTo>
                      <a:pt x="895" y="44"/>
                    </a:lnTo>
                    <a:lnTo>
                      <a:pt x="857" y="34"/>
                    </a:lnTo>
                    <a:lnTo>
                      <a:pt x="809" y="25"/>
                    </a:lnTo>
                    <a:lnTo>
                      <a:pt x="753" y="15"/>
                    </a:lnTo>
                    <a:lnTo>
                      <a:pt x="692" y="9"/>
                    </a:lnTo>
                    <a:lnTo>
                      <a:pt x="623" y="4"/>
                    </a:lnTo>
                    <a:lnTo>
                      <a:pt x="550" y="2"/>
                    </a:lnTo>
                    <a:lnTo>
                      <a:pt x="473" y="0"/>
                    </a:lnTo>
                    <a:lnTo>
                      <a:pt x="397" y="2"/>
                    </a:lnTo>
                    <a:lnTo>
                      <a:pt x="324" y="4"/>
                    </a:lnTo>
                    <a:lnTo>
                      <a:pt x="255" y="9"/>
                    </a:lnTo>
                    <a:lnTo>
                      <a:pt x="194" y="15"/>
                    </a:lnTo>
                    <a:lnTo>
                      <a:pt x="138" y="25"/>
                    </a:lnTo>
                    <a:lnTo>
                      <a:pt x="90" y="34"/>
                    </a:lnTo>
                    <a:lnTo>
                      <a:pt x="52" y="44"/>
                    </a:lnTo>
                    <a:lnTo>
                      <a:pt x="23" y="55"/>
                    </a:lnTo>
                    <a:lnTo>
                      <a:pt x="6" y="69"/>
                    </a:lnTo>
                    <a:lnTo>
                      <a:pt x="0" y="82"/>
                    </a:lnTo>
                    <a:lnTo>
                      <a:pt x="0" y="561"/>
                    </a:lnTo>
                    <a:lnTo>
                      <a:pt x="6" y="574"/>
                    </a:lnTo>
                    <a:lnTo>
                      <a:pt x="23" y="586"/>
                    </a:lnTo>
                    <a:lnTo>
                      <a:pt x="52" y="597"/>
                    </a:lnTo>
                    <a:lnTo>
                      <a:pt x="90" y="609"/>
                    </a:lnTo>
                    <a:lnTo>
                      <a:pt x="138" y="618"/>
                    </a:lnTo>
                    <a:lnTo>
                      <a:pt x="194" y="626"/>
                    </a:lnTo>
                    <a:lnTo>
                      <a:pt x="255" y="634"/>
                    </a:lnTo>
                    <a:lnTo>
                      <a:pt x="324" y="637"/>
                    </a:lnTo>
                    <a:lnTo>
                      <a:pt x="397" y="641"/>
                    </a:lnTo>
                    <a:lnTo>
                      <a:pt x="473" y="641"/>
                    </a:lnTo>
                    <a:lnTo>
                      <a:pt x="550" y="641"/>
                    </a:lnTo>
                    <a:lnTo>
                      <a:pt x="623" y="637"/>
                    </a:lnTo>
                    <a:lnTo>
                      <a:pt x="692" y="634"/>
                    </a:lnTo>
                    <a:lnTo>
                      <a:pt x="753" y="626"/>
                    </a:lnTo>
                    <a:lnTo>
                      <a:pt x="809" y="618"/>
                    </a:lnTo>
                    <a:lnTo>
                      <a:pt x="857" y="609"/>
                    </a:lnTo>
                    <a:lnTo>
                      <a:pt x="895" y="597"/>
                    </a:lnTo>
                    <a:lnTo>
                      <a:pt x="924" y="586"/>
                    </a:lnTo>
                    <a:lnTo>
                      <a:pt x="941" y="574"/>
                    </a:lnTo>
                    <a:lnTo>
                      <a:pt x="949" y="561"/>
                    </a:lnTo>
                    <a:lnTo>
                      <a:pt x="949" y="82"/>
                    </a:lnTo>
                    <a:lnTo>
                      <a:pt x="949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135840" y="1549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229440" y="154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313680" y="154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383160" y="154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454800" y="15498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483960" y="154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558120" y="154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636960" y="15498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670080" y="15498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707880" y="15498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829560" y="154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906240" y="15498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026840" y="154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108200" y="1549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154640" y="154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717520" y="1789920"/>
                <a:ext cx="1901880" cy="212760"/>
              </a:xfrm>
              <a:custGeom>
                <a:avLst/>
                <a:gdLst/>
                <a:ahLst/>
                <a:rect l="l" t="t" r="r" b="b"/>
                <a:pathLst>
                  <a:path w="848" h="95">
                    <a:moveTo>
                      <a:pt x="848" y="95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48" y="95"/>
                    </a:lnTo>
                    <a:lnTo>
                      <a:pt x="848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717520" y="2002680"/>
                <a:ext cx="1901880" cy="214920"/>
              </a:xfrm>
              <a:custGeom>
                <a:avLst/>
                <a:gdLst/>
                <a:ahLst/>
                <a:rect l="l" t="t" r="r" b="b"/>
                <a:pathLst>
                  <a:path w="848" h="96">
                    <a:moveTo>
                      <a:pt x="848" y="96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8" y="96"/>
                    </a:lnTo>
                    <a:lnTo>
                      <a:pt x="84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717520" y="2217960"/>
                <a:ext cx="1901880" cy="214920"/>
              </a:xfrm>
              <a:custGeom>
                <a:avLst/>
                <a:gdLst/>
                <a:ahLst/>
                <a:rect l="l" t="t" r="r" b="b"/>
                <a:pathLst>
                  <a:path w="848" h="96">
                    <a:moveTo>
                      <a:pt x="848" y="96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8" y="96"/>
                    </a:lnTo>
                    <a:lnTo>
                      <a:pt x="84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717520" y="2432880"/>
                <a:ext cx="1901880" cy="212760"/>
              </a:xfrm>
              <a:custGeom>
                <a:avLst/>
                <a:gdLst/>
                <a:ahLst/>
                <a:rect l="l" t="t" r="r" b="b"/>
                <a:pathLst>
                  <a:path w="848" h="95">
                    <a:moveTo>
                      <a:pt x="848" y="95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48" y="95"/>
                    </a:lnTo>
                    <a:lnTo>
                      <a:pt x="848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717520" y="2646000"/>
                <a:ext cx="1901880" cy="215280"/>
              </a:xfrm>
              <a:custGeom>
                <a:avLst/>
                <a:gdLst/>
                <a:ahLst/>
                <a:rect l="l" t="t" r="r" b="b"/>
                <a:pathLst>
                  <a:path w="848" h="96">
                    <a:moveTo>
                      <a:pt x="848" y="96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8" y="96"/>
                    </a:lnTo>
                    <a:lnTo>
                      <a:pt x="84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717520" y="2861640"/>
                <a:ext cx="1901880" cy="214920"/>
              </a:xfrm>
              <a:custGeom>
                <a:avLst/>
                <a:gdLst/>
                <a:ahLst/>
                <a:rect l="l" t="t" r="r" b="b"/>
                <a:pathLst>
                  <a:path w="848" h="96">
                    <a:moveTo>
                      <a:pt x="848" y="96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8" y="96"/>
                    </a:lnTo>
                    <a:lnTo>
                      <a:pt x="84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717520" y="3076560"/>
                <a:ext cx="1901880" cy="214920"/>
              </a:xfrm>
              <a:custGeom>
                <a:avLst/>
                <a:gdLst/>
                <a:ahLst/>
                <a:rect l="l" t="t" r="r" b="b"/>
                <a:pathLst>
                  <a:path w="848" h="96">
                    <a:moveTo>
                      <a:pt x="848" y="96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8" y="96"/>
                    </a:lnTo>
                    <a:lnTo>
                      <a:pt x="84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717520" y="3291840"/>
                <a:ext cx="1901880" cy="212760"/>
              </a:xfrm>
              <a:custGeom>
                <a:avLst/>
                <a:gdLst/>
                <a:ahLst/>
                <a:rect l="l" t="t" r="r" b="b"/>
                <a:pathLst>
                  <a:path w="848" h="95">
                    <a:moveTo>
                      <a:pt x="848" y="95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48" y="95"/>
                    </a:lnTo>
                    <a:lnTo>
                      <a:pt x="848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717520" y="3504960"/>
                <a:ext cx="1901880" cy="215280"/>
              </a:xfrm>
              <a:custGeom>
                <a:avLst/>
                <a:gdLst/>
                <a:ahLst/>
                <a:rect l="l" t="t" r="r" b="b"/>
                <a:pathLst>
                  <a:path w="848" h="96">
                    <a:moveTo>
                      <a:pt x="848" y="96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8" y="96"/>
                    </a:lnTo>
                    <a:lnTo>
                      <a:pt x="84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616720" y="4695480"/>
                <a:ext cx="1904040" cy="212760"/>
              </a:xfrm>
              <a:custGeom>
                <a:avLst/>
                <a:gdLst/>
                <a:ahLst/>
                <a:rect l="l" t="t" r="r" b="b"/>
                <a:pathLst>
                  <a:path w="849" h="95">
                    <a:moveTo>
                      <a:pt x="849" y="94"/>
                    </a:moveTo>
                    <a:lnTo>
                      <a:pt x="849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49" y="95"/>
                    </a:lnTo>
                    <a:lnTo>
                      <a:pt x="849" y="95"/>
                    </a:lnTo>
                    <a:lnTo>
                      <a:pt x="849" y="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616720" y="4695480"/>
                <a:ext cx="1904040" cy="212760"/>
              </a:xfrm>
              <a:custGeom>
                <a:avLst/>
                <a:gdLst/>
                <a:ahLst/>
                <a:rect l="l" t="t" r="r" b="b"/>
                <a:pathLst>
                  <a:path w="849" h="95">
                    <a:moveTo>
                      <a:pt x="849" y="94"/>
                    </a:moveTo>
                    <a:lnTo>
                      <a:pt x="849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49" y="95"/>
                    </a:lnTo>
                    <a:lnTo>
                      <a:pt x="849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616720" y="4977720"/>
                <a:ext cx="1904040" cy="215280"/>
              </a:xfrm>
              <a:custGeom>
                <a:avLst/>
                <a:gdLst/>
                <a:ahLst/>
                <a:rect l="l" t="t" r="r" b="b"/>
                <a:pathLst>
                  <a:path w="849" h="96">
                    <a:moveTo>
                      <a:pt x="849" y="96"/>
                    </a:moveTo>
                    <a:lnTo>
                      <a:pt x="849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9" y="96"/>
                    </a:lnTo>
                    <a:lnTo>
                      <a:pt x="849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616720" y="4977720"/>
                <a:ext cx="1904040" cy="215280"/>
              </a:xfrm>
              <a:custGeom>
                <a:avLst/>
                <a:gdLst/>
                <a:ahLst/>
                <a:rect l="l" t="t" r="r" b="b"/>
                <a:pathLst>
                  <a:path w="849" h="96">
                    <a:moveTo>
                      <a:pt x="849" y="96"/>
                    </a:moveTo>
                    <a:lnTo>
                      <a:pt x="849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9" y="96"/>
                    </a:lnTo>
                    <a:lnTo>
                      <a:pt x="849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616720" y="5265000"/>
                <a:ext cx="1904040" cy="214920"/>
              </a:xfrm>
              <a:custGeom>
                <a:avLst/>
                <a:gdLst/>
                <a:ahLst/>
                <a:rect l="l" t="t" r="r" b="b"/>
                <a:pathLst>
                  <a:path w="849" h="96">
                    <a:moveTo>
                      <a:pt x="849" y="94"/>
                    </a:moveTo>
                    <a:lnTo>
                      <a:pt x="849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9" y="96"/>
                    </a:lnTo>
                    <a:lnTo>
                      <a:pt x="849" y="96"/>
                    </a:lnTo>
                    <a:lnTo>
                      <a:pt x="849" y="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616720" y="5265000"/>
                <a:ext cx="1904040" cy="214920"/>
              </a:xfrm>
              <a:custGeom>
                <a:avLst/>
                <a:gdLst/>
                <a:ahLst/>
                <a:rect l="l" t="t" r="r" b="b"/>
                <a:pathLst>
                  <a:path w="849" h="96">
                    <a:moveTo>
                      <a:pt x="849" y="94"/>
                    </a:moveTo>
                    <a:lnTo>
                      <a:pt x="849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9" y="96"/>
                    </a:lnTo>
                    <a:lnTo>
                      <a:pt x="849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70560" y="4415400"/>
                <a:ext cx="2132640" cy="190080"/>
              </a:xfrm>
              <a:custGeom>
                <a:avLst/>
                <a:gdLst/>
                <a:ahLst/>
                <a:rect l="l" t="t" r="r" b="b"/>
                <a:pathLst>
                  <a:path w="951" h="85">
                    <a:moveTo>
                      <a:pt x="0" y="0"/>
                    </a:moveTo>
                    <a:lnTo>
                      <a:pt x="8" y="16"/>
                    </a:lnTo>
                    <a:lnTo>
                      <a:pt x="25" y="27"/>
                    </a:lnTo>
                    <a:lnTo>
                      <a:pt x="54" y="40"/>
                    </a:lnTo>
                    <a:lnTo>
                      <a:pt x="92" y="50"/>
                    </a:lnTo>
                    <a:lnTo>
                      <a:pt x="140" y="60"/>
                    </a:lnTo>
                    <a:lnTo>
                      <a:pt x="196" y="67"/>
                    </a:lnTo>
                    <a:lnTo>
                      <a:pt x="257" y="75"/>
                    </a:lnTo>
                    <a:lnTo>
                      <a:pt x="326" y="81"/>
                    </a:lnTo>
                    <a:lnTo>
                      <a:pt x="399" y="83"/>
                    </a:lnTo>
                    <a:lnTo>
                      <a:pt x="475" y="85"/>
                    </a:lnTo>
                    <a:lnTo>
                      <a:pt x="552" y="83"/>
                    </a:lnTo>
                    <a:lnTo>
                      <a:pt x="625" y="81"/>
                    </a:lnTo>
                    <a:lnTo>
                      <a:pt x="694" y="75"/>
                    </a:lnTo>
                    <a:lnTo>
                      <a:pt x="755" y="67"/>
                    </a:lnTo>
                    <a:lnTo>
                      <a:pt x="811" y="60"/>
                    </a:lnTo>
                    <a:lnTo>
                      <a:pt x="859" y="50"/>
                    </a:lnTo>
                    <a:lnTo>
                      <a:pt x="897" y="40"/>
                    </a:lnTo>
                    <a:lnTo>
                      <a:pt x="926" y="27"/>
                    </a:lnTo>
                    <a:lnTo>
                      <a:pt x="943" y="16"/>
                    </a:lnTo>
                    <a:lnTo>
                      <a:pt x="951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154560" y="4005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257520" y="4005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291360" y="40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365520" y="40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432480" y="4005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472800" y="40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544440" y="4005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585120" y="4005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666480" y="4005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711840" y="4005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792480" y="4005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872040" y="4005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739240" y="203400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514240" y="17985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608560" y="1798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687400" y="1798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720880" y="1798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751480" y="1798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580120" y="203400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616840" y="226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616840" y="2484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616840" y="270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616840" y="2914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616840" y="312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616840" y="334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616840" y="3558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616840" y="3771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616840" y="3987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616840" y="42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616840" y="441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616840" y="463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37760" y="14335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232080" y="1433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310560" y="1433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391200" y="1433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470040" y="1433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512520" y="1433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549960" y="1433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626280" y="1433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710160" y="14335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739320" y="1433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371760" y="232128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371760" y="2536200"/>
                <a:ext cx="71640" cy="6732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19" y="30"/>
                    </a:lnTo>
                    <a:lnTo>
                      <a:pt x="21" y="30"/>
                    </a:lnTo>
                    <a:lnTo>
                      <a:pt x="23" y="28"/>
                    </a:lnTo>
                    <a:lnTo>
                      <a:pt x="24" y="28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5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371760" y="274932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371760" y="2964960"/>
                <a:ext cx="71640" cy="691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371760" y="317988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371760" y="3395160"/>
                <a:ext cx="71640" cy="669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19" y="30"/>
                    </a:lnTo>
                    <a:lnTo>
                      <a:pt x="21" y="30"/>
                    </a:lnTo>
                    <a:lnTo>
                      <a:pt x="23" y="28"/>
                    </a:lnTo>
                    <a:lnTo>
                      <a:pt x="24" y="28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5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371760" y="360792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371760" y="382320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71760" y="4038840"/>
                <a:ext cx="71640" cy="669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19" y="30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371760" y="4253760"/>
                <a:ext cx="71640" cy="669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19" y="30"/>
                    </a:lnTo>
                    <a:lnTo>
                      <a:pt x="21" y="30"/>
                    </a:lnTo>
                    <a:lnTo>
                      <a:pt x="23" y="28"/>
                    </a:lnTo>
                    <a:lnTo>
                      <a:pt x="24" y="28"/>
                    </a:lnTo>
                    <a:lnTo>
                      <a:pt x="26" y="26"/>
                    </a:lnTo>
                    <a:lnTo>
                      <a:pt x="28" y="24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5"/>
                    </a:lnTo>
                    <a:lnTo>
                      <a:pt x="26" y="3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371760" y="446688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371760" y="468180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523880" y="1495800"/>
                <a:ext cx="858960" cy="214920"/>
              </a:xfrm>
              <a:custGeom>
                <a:avLst/>
                <a:gdLst/>
                <a:ahLst/>
                <a:rect l="l" t="t" r="r" b="b"/>
                <a:pathLst>
                  <a:path w="383" h="96">
                    <a:moveTo>
                      <a:pt x="383" y="96"/>
                    </a:moveTo>
                    <a:lnTo>
                      <a:pt x="383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383" y="96"/>
                    </a:lnTo>
                    <a:lnTo>
                      <a:pt x="383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578960" y="10857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674000" y="10857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707840" y="1085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754280" y="10857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792440" y="108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875240" y="108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951920" y="10857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987560" y="10857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024640" y="108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101680" y="108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184840" y="108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261160" y="108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344680" y="108576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716120" y="12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792440" y="12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875960" y="1256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91160" y="12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072160" y="12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149920" y="1256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951920" y="1711080"/>
                <a:ext cx="562680" cy="1717560"/>
              </a:xfrm>
              <a:custGeom>
                <a:avLst/>
                <a:gdLst/>
                <a:ahLst/>
                <a:rect l="l" t="t" r="r" b="b"/>
                <a:pathLst>
                  <a:path w="251" h="766">
                    <a:moveTo>
                      <a:pt x="0" y="0"/>
                    </a:moveTo>
                    <a:lnTo>
                      <a:pt x="0" y="766"/>
                    </a:lnTo>
                    <a:lnTo>
                      <a:pt x="251" y="76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25720" y="1801080"/>
                <a:ext cx="78120" cy="78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0" y="12"/>
                    </a:moveTo>
                    <a:lnTo>
                      <a:pt x="23" y="35"/>
                    </a:lnTo>
                    <a:lnTo>
                      <a:pt x="35" y="0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535720" y="4626000"/>
                <a:ext cx="78480" cy="6948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15" y="0"/>
                    </a:moveTo>
                    <a:lnTo>
                      <a:pt x="0" y="29"/>
                    </a:lnTo>
                    <a:lnTo>
                      <a:pt x="35" y="31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962800" y="16214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5604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138120" y="1621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212280" y="1621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279600" y="1621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315240" y="1621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38148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465720" y="1621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494520" y="1621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53268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61440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69648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77424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855600" y="1621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89268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972960" y="1621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019760" y="1621440"/>
                <a:ext cx="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67200" y="178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151800" y="1789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180600" y="178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254400" y="178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322080" y="1789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66000" y="178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441960" y="178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526200" y="178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602880" y="1789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648600" y="178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729960" y="178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804120" y="178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495160" y="339048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2" y="32"/>
                    </a:lnTo>
                    <a:lnTo>
                      <a:pt x="32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405240" y="3213360"/>
                <a:ext cx="2168280" cy="145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540400" y="5217840"/>
                <a:ext cx="74160" cy="741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2" y="0"/>
                    </a:moveTo>
                    <a:lnTo>
                      <a:pt x="0" y="33"/>
                    </a:lnTo>
                    <a:lnTo>
                      <a:pt x="33" y="2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405240" y="4502880"/>
                <a:ext cx="2134800" cy="75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531400" y="4921920"/>
                <a:ext cx="83160" cy="6948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10" y="0"/>
                    </a:moveTo>
                    <a:lnTo>
                      <a:pt x="0" y="31"/>
                    </a:lnTo>
                    <a:lnTo>
                      <a:pt x="37" y="25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405240" y="3857040"/>
                <a:ext cx="2152440" cy="110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3405240" y="1840680"/>
                <a:ext cx="2260440" cy="223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25720" y="2020680"/>
                <a:ext cx="78120" cy="759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13"/>
                    </a:moveTo>
                    <a:lnTo>
                      <a:pt x="25" y="34"/>
                    </a:lnTo>
                    <a:lnTo>
                      <a:pt x="35" y="0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3405240" y="2058480"/>
                <a:ext cx="2262600" cy="265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625720" y="2195640"/>
                <a:ext cx="78120" cy="6948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0" y="0"/>
                    </a:moveTo>
                    <a:lnTo>
                      <a:pt x="4" y="31"/>
                    </a:lnTo>
                    <a:lnTo>
                      <a:pt x="3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3405240" y="2226600"/>
                <a:ext cx="2246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621400" y="2432880"/>
                <a:ext cx="82800" cy="6732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0" y="0"/>
                    </a:moveTo>
                    <a:lnTo>
                      <a:pt x="14" y="30"/>
                    </a:lnTo>
                    <a:lnTo>
                      <a:pt x="37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3405240" y="2458080"/>
                <a:ext cx="2251440" cy="9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621400" y="2659680"/>
                <a:ext cx="82800" cy="6912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0" y="4"/>
                    </a:moveTo>
                    <a:lnTo>
                      <a:pt x="20" y="31"/>
                    </a:lnTo>
                    <a:lnTo>
                      <a:pt x="3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3405240" y="2686680"/>
                <a:ext cx="2255760" cy="160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5626080" y="2805480"/>
              <a:ext cx="78120" cy="741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6" y="0"/>
                  </a:moveTo>
                  <a:lnTo>
                    <a:pt x="0" y="33"/>
                  </a:lnTo>
                  <a:lnTo>
                    <a:pt x="35" y="2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405600" y="2354760"/>
              <a:ext cx="2242800" cy="49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26080" y="3029400"/>
              <a:ext cx="78120" cy="7164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4" y="0"/>
                  </a:moveTo>
                  <a:lnTo>
                    <a:pt x="0" y="32"/>
                  </a:lnTo>
                  <a:lnTo>
                    <a:pt x="35" y="2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05600" y="2785320"/>
              <a:ext cx="2242800" cy="28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626080" y="3245040"/>
              <a:ext cx="78120" cy="7164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4" y="0"/>
                  </a:moveTo>
                  <a:lnTo>
                    <a:pt x="0" y="32"/>
                  </a:lnTo>
                  <a:lnTo>
                    <a:pt x="35" y="2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405600" y="2998440"/>
              <a:ext cx="2246760" cy="28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626080" y="3471480"/>
              <a:ext cx="78120" cy="741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2" y="33"/>
                  </a:lnTo>
                  <a:lnTo>
                    <a:pt x="35" y="15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3405600" y="3509640"/>
              <a:ext cx="224280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2760840" y="1198440"/>
            <a:ext cx="5925960" cy="5315400"/>
            <a:chOff x="2760840" y="1198440"/>
            <a:chExt cx="5925960" cy="5315400"/>
          </a:xfrm>
        </p:grpSpPr>
        <p:grpSp>
          <p:nvGrpSpPr>
            <p:cNvPr id="624" name=""/>
            <p:cNvGrpSpPr/>
            <p:nvPr/>
          </p:nvGrpSpPr>
          <p:grpSpPr>
            <a:xfrm>
              <a:off x="2760840" y="1198440"/>
              <a:ext cx="5925960" cy="5315400"/>
              <a:chOff x="2760840" y="1198440"/>
              <a:chExt cx="5925960" cy="5315400"/>
            </a:xfrm>
          </p:grpSpPr>
          <p:sp>
            <p:nvSpPr>
              <p:cNvPr id="625" name=""/>
              <p:cNvSpPr/>
              <p:nvPr/>
            </p:nvSpPr>
            <p:spPr>
              <a:xfrm flipV="1">
                <a:off x="6910560" y="2053800"/>
                <a:ext cx="1440" cy="392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49520" y="2050920"/>
                <a:ext cx="5237280" cy="411120"/>
              </a:xfrm>
              <a:custGeom>
                <a:avLst/>
                <a:gdLst/>
                <a:ahLst/>
                <a:rect l="l" t="t" r="r" b="b"/>
                <a:pathLst>
                  <a:path w="3299" h="259">
                    <a:moveTo>
                      <a:pt x="0" y="259"/>
                    </a:moveTo>
                    <a:lnTo>
                      <a:pt x="0" y="0"/>
                    </a:lnTo>
                    <a:lnTo>
                      <a:pt x="3299" y="0"/>
                    </a:lnTo>
                    <a:lnTo>
                      <a:pt x="3299" y="259"/>
                    </a:lnTo>
                    <a:lnTo>
                      <a:pt x="0" y="259"/>
                    </a:lnTo>
                    <a:lnTo>
                      <a:pt x="0" y="25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487640" y="21780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57332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64136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71300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78176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81920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88652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92144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957800" y="2178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01756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9100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874760" y="21780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957560" y="2178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984920" y="2178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02884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06340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3000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203440" y="2178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22900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26320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33484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40612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7452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54652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57928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64768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719680" y="21780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82372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89212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964120" y="2178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620680" y="15843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711400" y="15843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742000" y="15843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783040" y="1584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820480" y="1584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892120" y="1584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968800" y="15843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998680" y="1584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031800" y="1584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106320" y="1584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179400" y="1584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254640" y="15843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295320" y="1584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372000" y="158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435360" y="158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6910560" y="5838840"/>
                <a:ext cx="1440" cy="3952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00360" y="5838840"/>
                <a:ext cx="5078520" cy="395280"/>
              </a:xfrm>
              <a:custGeom>
                <a:avLst/>
                <a:gdLst/>
                <a:ahLst/>
                <a:rect l="l" t="t" r="r" b="b"/>
                <a:pathLst>
                  <a:path w="3199" h="249">
                    <a:moveTo>
                      <a:pt x="0" y="249"/>
                    </a:moveTo>
                    <a:lnTo>
                      <a:pt x="0" y="0"/>
                    </a:lnTo>
                    <a:lnTo>
                      <a:pt x="3199" y="0"/>
                    </a:lnTo>
                    <a:lnTo>
                      <a:pt x="3199" y="249"/>
                    </a:lnTo>
                    <a:lnTo>
                      <a:pt x="0" y="249"/>
                    </a:lnTo>
                    <a:lnTo>
                      <a:pt x="0" y="24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487640" y="5962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57332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64136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71300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781760" y="596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81920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886520" y="596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921440" y="596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957800" y="596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01756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091000" y="596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022360" y="5962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10768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176440" y="596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240160" y="596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300280" y="5962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30520" y="596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9028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462280" y="5962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89280" y="596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52672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9512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66640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73336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05000" y="596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83956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91120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979960" y="59626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8400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5240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224760" y="596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658840" y="63309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741280" y="633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10040" y="633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873400" y="633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938560" y="63309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963760" y="633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028560" y="633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520" y="63309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25760" y="6330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160320" y="633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226920" y="633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300000" y="633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372360" y="6330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412680" y="633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481440" y="633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544800" y="633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591160" y="5762520"/>
                <a:ext cx="65160" cy="6840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41" y="0"/>
                    </a:moveTo>
                    <a:lnTo>
                      <a:pt x="0" y="0"/>
                    </a:lnTo>
                    <a:lnTo>
                      <a:pt x="22" y="43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82120" y="5762520"/>
                <a:ext cx="63360" cy="6840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40" y="0"/>
                    </a:moveTo>
                    <a:lnTo>
                      <a:pt x="0" y="0"/>
                    </a:lnTo>
                    <a:lnTo>
                      <a:pt x="21" y="4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12000" y="2457360"/>
                <a:ext cx="3240" cy="33210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653000" y="3660840"/>
                <a:ext cx="63360" cy="66600"/>
              </a:xfrm>
              <a:custGeom>
                <a:avLst/>
                <a:gdLst/>
                <a:ahLst/>
                <a:rect l="l" t="t" r="r" b="b"/>
                <a:pathLst>
                  <a:path w="40" h="42">
                    <a:moveTo>
                      <a:pt x="40" y="0"/>
                    </a:moveTo>
                    <a:lnTo>
                      <a:pt x="0" y="0"/>
                    </a:lnTo>
                    <a:lnTo>
                      <a:pt x="19" y="42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683240" y="2457360"/>
                <a:ext cx="1440" cy="12225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43440" y="2944800"/>
                <a:ext cx="3484440" cy="195120"/>
              </a:xfrm>
              <a:custGeom>
                <a:avLst/>
                <a:gdLst/>
                <a:ahLst/>
                <a:rect l="l" t="t" r="r" b="b"/>
                <a:pathLst>
                  <a:path w="2195" h="123">
                    <a:moveTo>
                      <a:pt x="2192" y="123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3"/>
                    </a:lnTo>
                    <a:lnTo>
                      <a:pt x="2195" y="123"/>
                    </a:lnTo>
                    <a:lnTo>
                      <a:pt x="2195" y="12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140360" y="2940120"/>
                <a:ext cx="2880" cy="199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022360" y="2759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10768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176440" y="2759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240160" y="2759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300280" y="2759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330520" y="2759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39028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462280" y="2759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489280" y="2759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52672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59512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66640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73336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05000" y="2759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3956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91120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979960" y="2759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08400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15240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224760" y="2759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898440" y="2759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98052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052520" y="2759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079520" y="2759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10940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943440" y="3139920"/>
                <a:ext cx="3484440" cy="200160"/>
              </a:xfrm>
              <a:custGeom>
                <a:avLst/>
                <a:gdLst/>
                <a:ahLst/>
                <a:rect l="l" t="t" r="r" b="b"/>
                <a:pathLst>
                  <a:path w="2195" h="126">
                    <a:moveTo>
                      <a:pt x="2192" y="124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2195" y="126"/>
                    </a:lnTo>
                    <a:lnTo>
                      <a:pt x="2195" y="12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140360" y="313992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943440" y="3340080"/>
                <a:ext cx="3484440" cy="195120"/>
              </a:xfrm>
              <a:custGeom>
                <a:avLst/>
                <a:gdLst/>
                <a:ahLst/>
                <a:rect l="l" t="t" r="r" b="b"/>
                <a:pathLst>
                  <a:path w="2195" h="123">
                    <a:moveTo>
                      <a:pt x="2192" y="123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3"/>
                    </a:lnTo>
                    <a:lnTo>
                      <a:pt x="2195" y="123"/>
                    </a:lnTo>
                    <a:lnTo>
                      <a:pt x="2195" y="12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140360" y="3336840"/>
                <a:ext cx="2880" cy="198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943440" y="3535200"/>
                <a:ext cx="3484440" cy="200160"/>
              </a:xfrm>
              <a:custGeom>
                <a:avLst/>
                <a:gdLst/>
                <a:ahLst/>
                <a:rect l="l" t="t" r="r" b="b"/>
                <a:pathLst>
                  <a:path w="2195" h="126">
                    <a:moveTo>
                      <a:pt x="2192" y="124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2195" y="126"/>
                    </a:lnTo>
                    <a:lnTo>
                      <a:pt x="2195" y="12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140360" y="353520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943440" y="3735360"/>
                <a:ext cx="3484440" cy="196920"/>
              </a:xfrm>
              <a:custGeom>
                <a:avLst/>
                <a:gdLst/>
                <a:ahLst/>
                <a:rect l="l" t="t" r="r" b="b"/>
                <a:pathLst>
                  <a:path w="2195" h="124">
                    <a:moveTo>
                      <a:pt x="2192" y="124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4"/>
                    </a:lnTo>
                    <a:lnTo>
                      <a:pt x="2195" y="124"/>
                    </a:lnTo>
                    <a:lnTo>
                      <a:pt x="2195" y="124"/>
                    </a:lnTo>
                    <a:lnTo>
                      <a:pt x="2192" y="12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943440" y="3735360"/>
                <a:ext cx="3484440" cy="196920"/>
              </a:xfrm>
              <a:custGeom>
                <a:avLst/>
                <a:gdLst/>
                <a:ahLst/>
                <a:rect l="l" t="t" r="r" b="b"/>
                <a:pathLst>
                  <a:path w="2195" h="124">
                    <a:moveTo>
                      <a:pt x="2192" y="124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4"/>
                    </a:lnTo>
                    <a:lnTo>
                      <a:pt x="2195" y="124"/>
                    </a:lnTo>
                    <a:lnTo>
                      <a:pt x="2195" y="12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140360" y="373212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43440" y="3932280"/>
                <a:ext cx="3484440" cy="198360"/>
              </a:xfrm>
              <a:custGeom>
                <a:avLst/>
                <a:gdLst/>
                <a:ahLst/>
                <a:rect l="l" t="t" r="r" b="b"/>
                <a:pathLst>
                  <a:path w="2195" h="125">
                    <a:moveTo>
                      <a:pt x="2192" y="123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2195" y="125"/>
                    </a:lnTo>
                    <a:lnTo>
                      <a:pt x="2195" y="125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140360" y="3932280"/>
                <a:ext cx="2880" cy="198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943440" y="4130640"/>
                <a:ext cx="3484440" cy="196920"/>
              </a:xfrm>
              <a:custGeom>
                <a:avLst/>
                <a:gdLst/>
                <a:ahLst/>
                <a:rect l="l" t="t" r="r" b="b"/>
                <a:pathLst>
                  <a:path w="2195" h="124">
                    <a:moveTo>
                      <a:pt x="2192" y="124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4"/>
                    </a:lnTo>
                    <a:lnTo>
                      <a:pt x="2195" y="124"/>
                    </a:lnTo>
                    <a:lnTo>
                      <a:pt x="2195" y="12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140360" y="412740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943440" y="4327560"/>
                <a:ext cx="3484440" cy="200160"/>
              </a:xfrm>
              <a:custGeom>
                <a:avLst/>
                <a:gdLst/>
                <a:ahLst/>
                <a:rect l="l" t="t" r="r" b="b"/>
                <a:pathLst>
                  <a:path w="2195" h="126">
                    <a:moveTo>
                      <a:pt x="2192" y="123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2195" y="126"/>
                    </a:lnTo>
                    <a:lnTo>
                      <a:pt x="2195" y="12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140360" y="432756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943440" y="4527720"/>
                <a:ext cx="3484440" cy="195120"/>
              </a:xfrm>
              <a:custGeom>
                <a:avLst/>
                <a:gdLst/>
                <a:ahLst/>
                <a:rect l="l" t="t" r="r" b="b"/>
                <a:pathLst>
                  <a:path w="2195" h="123">
                    <a:moveTo>
                      <a:pt x="2192" y="123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3"/>
                    </a:lnTo>
                    <a:lnTo>
                      <a:pt x="2195" y="123"/>
                    </a:lnTo>
                    <a:lnTo>
                      <a:pt x="2195" y="12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140360" y="452268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943440" y="4722840"/>
                <a:ext cx="3484440" cy="200160"/>
              </a:xfrm>
              <a:custGeom>
                <a:avLst/>
                <a:gdLst/>
                <a:ahLst/>
                <a:rect l="l" t="t" r="r" b="b"/>
                <a:pathLst>
                  <a:path w="2195" h="126">
                    <a:moveTo>
                      <a:pt x="2192" y="124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2195" y="126"/>
                    </a:lnTo>
                    <a:lnTo>
                      <a:pt x="2195" y="12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140360" y="472284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621400" y="3833640"/>
                <a:ext cx="4680" cy="1940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591160" y="380052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19" y="40"/>
                    </a:moveTo>
                    <a:lnTo>
                      <a:pt x="24" y="42"/>
                    </a:lnTo>
                    <a:lnTo>
                      <a:pt x="29" y="40"/>
                    </a:lnTo>
                    <a:lnTo>
                      <a:pt x="31" y="40"/>
                    </a:lnTo>
                    <a:lnTo>
                      <a:pt x="33" y="37"/>
                    </a:lnTo>
                    <a:lnTo>
                      <a:pt x="36" y="35"/>
                    </a:lnTo>
                    <a:lnTo>
                      <a:pt x="38" y="33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1" y="21"/>
                    </a:lnTo>
                    <a:lnTo>
                      <a:pt x="41" y="18"/>
                    </a:lnTo>
                    <a:lnTo>
                      <a:pt x="41" y="14"/>
                    </a:lnTo>
                    <a:lnTo>
                      <a:pt x="41" y="11"/>
                    </a:lnTo>
                    <a:lnTo>
                      <a:pt x="38" y="9"/>
                    </a:lnTo>
                    <a:lnTo>
                      <a:pt x="36" y="7"/>
                    </a:lnTo>
                    <a:lnTo>
                      <a:pt x="33" y="4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3" y="30"/>
                    </a:lnTo>
                    <a:lnTo>
                      <a:pt x="5" y="33"/>
                    </a:lnTo>
                    <a:lnTo>
                      <a:pt x="7" y="35"/>
                    </a:lnTo>
                    <a:lnTo>
                      <a:pt x="10" y="37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7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03560" y="5051520"/>
                <a:ext cx="68400" cy="66600"/>
              </a:xfrm>
              <a:custGeom>
                <a:avLst/>
                <a:gdLst/>
                <a:ahLst/>
                <a:rect l="l" t="t" r="r" b="b"/>
                <a:pathLst>
                  <a:path w="43" h="42">
                    <a:moveTo>
                      <a:pt x="43" y="0"/>
                    </a:moveTo>
                    <a:lnTo>
                      <a:pt x="0" y="2"/>
                    </a:lnTo>
                    <a:lnTo>
                      <a:pt x="22" y="4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038480" y="3833640"/>
                <a:ext cx="1800" cy="1231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008600" y="3800520"/>
                <a:ext cx="63360" cy="66600"/>
              </a:xfrm>
              <a:custGeom>
                <a:avLst/>
                <a:gdLst/>
                <a:ahLst/>
                <a:rect l="l" t="t" r="r" b="b"/>
                <a:pathLst>
                  <a:path w="40" h="42">
                    <a:moveTo>
                      <a:pt x="19" y="40"/>
                    </a:moveTo>
                    <a:lnTo>
                      <a:pt x="24" y="42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33" y="37"/>
                    </a:lnTo>
                    <a:lnTo>
                      <a:pt x="35" y="35"/>
                    </a:lnTo>
                    <a:lnTo>
                      <a:pt x="38" y="33"/>
                    </a:lnTo>
                    <a:lnTo>
                      <a:pt x="38" y="30"/>
                    </a:lnTo>
                    <a:lnTo>
                      <a:pt x="40" y="28"/>
                    </a:lnTo>
                    <a:lnTo>
                      <a:pt x="40" y="26"/>
                    </a:lnTo>
                    <a:lnTo>
                      <a:pt x="40" y="21"/>
                    </a:lnTo>
                    <a:lnTo>
                      <a:pt x="40" y="18"/>
                    </a:lnTo>
                    <a:lnTo>
                      <a:pt x="40" y="14"/>
                    </a:lnTo>
                    <a:lnTo>
                      <a:pt x="38" y="11"/>
                    </a:lnTo>
                    <a:lnTo>
                      <a:pt x="38" y="9"/>
                    </a:lnTo>
                    <a:lnTo>
                      <a:pt x="35" y="7"/>
                    </a:lnTo>
                    <a:lnTo>
                      <a:pt x="33" y="4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5" y="35"/>
                    </a:lnTo>
                    <a:lnTo>
                      <a:pt x="7" y="37"/>
                    </a:lnTo>
                    <a:lnTo>
                      <a:pt x="9" y="40"/>
                    </a:lnTo>
                    <a:lnTo>
                      <a:pt x="14" y="40"/>
                    </a:lnTo>
                    <a:lnTo>
                      <a:pt x="16" y="42"/>
                    </a:lnTo>
                    <a:lnTo>
                      <a:pt x="19" y="42"/>
                    </a:lnTo>
                    <a:lnTo>
                      <a:pt x="19" y="42"/>
                    </a:lnTo>
                    <a:lnTo>
                      <a:pt x="1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55104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8596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61908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65364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72564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75876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79188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86460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93156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0320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03776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10940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17744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24908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31604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354200" y="5167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381200" y="5167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44456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47912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54572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61772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53000" y="516744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55032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19440" y="5318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66012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731760" y="5318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79656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86460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936600" y="5318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970080" y="5318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003200" y="5318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02984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101840" y="5318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137120" y="5318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24116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313160" y="5318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41396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486320" y="5318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527360" y="5318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760840" y="1198440"/>
                <a:ext cx="5227560" cy="249480"/>
              </a:xfrm>
              <a:custGeom>
                <a:avLst/>
                <a:gdLst/>
                <a:ahLst/>
                <a:rect l="l" t="t" r="r" b="b"/>
                <a:pathLst>
                  <a:path w="3293" h="157">
                    <a:moveTo>
                      <a:pt x="3293" y="155"/>
                    </a:moveTo>
                    <a:lnTo>
                      <a:pt x="3293" y="0"/>
                    </a:lnTo>
                    <a:lnTo>
                      <a:pt x="0" y="0"/>
                    </a:lnTo>
                    <a:lnTo>
                      <a:pt x="0" y="157"/>
                    </a:lnTo>
                    <a:lnTo>
                      <a:pt x="3293" y="157"/>
                    </a:lnTo>
                    <a:lnTo>
                      <a:pt x="3293" y="157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871520" y="12445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953960" y="1244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022000" y="1244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093640" y="1244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160600" y="1244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198760" y="1244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233320" y="1244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299920" y="1244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5371920" y="12445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398200" y="124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470200" y="124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1244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545800" y="124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617440" y="124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686200" y="12445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716080" y="1244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775120" y="124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809320" y="124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881680" y="1244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65680" y="2909880"/>
              <a:ext cx="63360" cy="6840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0" y="0"/>
                  </a:moveTo>
                  <a:lnTo>
                    <a:pt x="0" y="43"/>
                  </a:lnTo>
                  <a:lnTo>
                    <a:pt x="4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917800" y="1455840"/>
              <a:ext cx="965160" cy="1488960"/>
            </a:xfrm>
            <a:custGeom>
              <a:avLst/>
              <a:gdLst/>
              <a:ahLst/>
              <a:rect l="l" t="t" r="r" b="b"/>
              <a:pathLst>
                <a:path w="608" h="938">
                  <a:moveTo>
                    <a:pt x="608" y="935"/>
                  </a:moveTo>
                  <a:lnTo>
                    <a:pt x="0" y="938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212640" y="4010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294720" y="40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366360" y="40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34400" y="40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506400" y="4010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39880" y="4010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574080" y="40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645720" y="40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714480" y="40100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744000" y="40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595760" y="2589120"/>
              <a:ext cx="173160" cy="103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745880" y="249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822200" y="249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729560" y="2589120"/>
              <a:ext cx="168120" cy="103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879680" y="2495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946280" y="2495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538960" y="5062680"/>
              <a:ext cx="169560" cy="10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688720" y="4967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757120" y="4967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5672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5283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59712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302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6804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360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0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415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8757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94740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0161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0492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0870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1536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22712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26060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2933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36500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43340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0512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1030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17472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434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12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1440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3856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576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49260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5253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59700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6686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7035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395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8079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8799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148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508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239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09092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290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16184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2334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022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34040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731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4451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4800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51752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5848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1730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2418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2785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31312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3800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4182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45280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5197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55792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5906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60756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6792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75588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79224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82968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9060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7800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01616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05684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12812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9192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16356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24024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27660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3144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39036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46236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50376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412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61284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68772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2588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76368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8382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91488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95124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98904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06032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12908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16256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000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684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34040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37352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40808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48008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51320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54776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61976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1684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23716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27532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30808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37684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41500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44776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51652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55468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58744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6720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7512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4" y="14"/>
                  </a:moveTo>
                  <a:lnTo>
                    <a:pt x="7" y="17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59252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90212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79880" y="1911240"/>
              <a:ext cx="2412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8" y="14"/>
                  </a:moveTo>
                  <a:lnTo>
                    <a:pt x="10" y="17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82292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13864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5" y="14"/>
                  </a:moveTo>
                  <a:lnTo>
                    <a:pt x="7" y="17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214960" y="191124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059440" y="1911240"/>
              <a:ext cx="2376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5" y="14"/>
                  </a:moveTo>
                  <a:lnTo>
                    <a:pt x="7" y="17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369040" y="19112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5" y="14"/>
                  </a:moveTo>
                  <a:lnTo>
                    <a:pt x="7" y="17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45000" y="191124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7" y="14"/>
                  </a:moveTo>
                  <a:lnTo>
                    <a:pt x="9" y="17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2894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7" y="17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5990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678640" y="19112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519880" y="1911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4"/>
                  </a:moveTo>
                  <a:lnTo>
                    <a:pt x="10" y="17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829480" y="19112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086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749920" y="191124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763040" y="19112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84224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6834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10" y="17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9930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072640" y="19112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913880" y="1911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376880" y="56959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8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456080" y="56959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299120" y="569592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7" y="14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606920" y="569592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686480" y="56959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527720" y="569592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8" y="14"/>
                  </a:move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845240" y="56959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5" y="14"/>
                  </a:moveTo>
                  <a:lnTo>
                    <a:pt x="7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92444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5" y="14"/>
                  </a:moveTo>
                  <a:lnTo>
                    <a:pt x="7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76568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07528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15448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4" y="14"/>
                  </a:moveTo>
                  <a:lnTo>
                    <a:pt x="7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99572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305320" y="569592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7" y="14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8488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26120" y="569592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7" y="14"/>
                  </a:move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743960" y="56959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664400" y="569592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045640" y="56959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5" y="14"/>
                  </a:moveTo>
                  <a:lnTo>
                    <a:pt x="7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96608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886880" y="56959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535720" y="569592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7" y="14"/>
                  </a:moveTo>
                  <a:lnTo>
                    <a:pt x="9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5940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5" y="14"/>
                  </a:moveTo>
                  <a:lnTo>
                    <a:pt x="7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81328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89284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734080" y="56959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651640" y="56959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438840" y="3197160"/>
            <a:ext cx="21308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ma PT por process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stado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ítica de substituição e tamanho da P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397800" y="1312560"/>
            <a:ext cx="8042760" cy="430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page fault (bit válido= 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a operacional executa a carga da pági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minimizar page faults, política de substituição mais usada: LRU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manho da PT (p/ end 32 bits, pag de 4KB, 4B / linha da P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úmero de linhas: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manho da PT = 4 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PT por programa ativo !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reduzir área dedicada para PT: registradores de limite superior e inferio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também são pagin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B: translation lookaside buff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205240" y="383076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457200" y="1066680"/>
            <a:ext cx="6683040" cy="5406120"/>
            <a:chOff x="457200" y="1066680"/>
            <a:chExt cx="6683040" cy="5406120"/>
          </a:xfrm>
        </p:grpSpPr>
        <p:grpSp>
          <p:nvGrpSpPr>
            <p:cNvPr id="1021" name=""/>
            <p:cNvGrpSpPr/>
            <p:nvPr/>
          </p:nvGrpSpPr>
          <p:grpSpPr>
            <a:xfrm>
              <a:off x="457200" y="1066680"/>
              <a:ext cx="4955400" cy="5406120"/>
              <a:chOff x="457200" y="1066680"/>
              <a:chExt cx="4955400" cy="5406120"/>
            </a:xfrm>
          </p:grpSpPr>
          <p:sp>
            <p:nvSpPr>
              <p:cNvPr id="1022" name=""/>
              <p:cNvSpPr/>
              <p:nvPr/>
            </p:nvSpPr>
            <p:spPr>
              <a:xfrm>
                <a:off x="3082320" y="2593800"/>
                <a:ext cx="1164600" cy="207360"/>
              </a:xfrm>
              <a:custGeom>
                <a:avLst/>
                <a:gdLst/>
                <a:ahLst/>
                <a:rect l="l" t="t" r="r" b="b"/>
                <a:pathLst>
                  <a:path w="533" h="95">
                    <a:moveTo>
                      <a:pt x="533" y="93"/>
                    </a:moveTo>
                    <a:lnTo>
                      <a:pt x="533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533" y="95"/>
                    </a:lnTo>
                    <a:lnTo>
                      <a:pt x="533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759680" y="196452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4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759680" y="238428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4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759680" y="280152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4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934640" y="1964520"/>
                <a:ext cx="1147320" cy="209880"/>
              </a:xfrm>
              <a:custGeom>
                <a:avLst/>
                <a:gdLst/>
                <a:ahLst/>
                <a:rect l="l" t="t" r="r" b="b"/>
                <a:pathLst>
                  <a:path w="525" h="96">
                    <a:moveTo>
                      <a:pt x="525" y="94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25" y="96"/>
                    </a:lnTo>
                    <a:lnTo>
                      <a:pt x="525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934640" y="2384280"/>
                <a:ext cx="1147320" cy="209520"/>
              </a:xfrm>
              <a:custGeom>
                <a:avLst/>
                <a:gdLst/>
                <a:ahLst/>
                <a:rect l="l" t="t" r="r" b="b"/>
                <a:pathLst>
                  <a:path w="525" h="96">
                    <a:moveTo>
                      <a:pt x="525" y="94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25" y="96"/>
                    </a:lnTo>
                    <a:lnTo>
                      <a:pt x="525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934640" y="2801520"/>
                <a:ext cx="1147320" cy="209880"/>
              </a:xfrm>
              <a:custGeom>
                <a:avLst/>
                <a:gdLst/>
                <a:ahLst/>
                <a:rect l="l" t="t" r="r" b="b"/>
                <a:pathLst>
                  <a:path w="525" h="96">
                    <a:moveTo>
                      <a:pt x="525" y="94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25" y="96"/>
                    </a:lnTo>
                    <a:lnTo>
                      <a:pt x="525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939320" y="4171680"/>
                <a:ext cx="1160280" cy="21204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531" y="97"/>
                    </a:lnTo>
                    <a:lnTo>
                      <a:pt x="531" y="97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939320" y="4171680"/>
                <a:ext cx="1160280" cy="21204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531" y="97"/>
                    </a:lnTo>
                    <a:lnTo>
                      <a:pt x="531" y="9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759680" y="416736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759680" y="416736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939320" y="458892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939320" y="458892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59680" y="458496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59680" y="458496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939320" y="500436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939320" y="500436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759680" y="500436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759680" y="500436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939320" y="542592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939320" y="542592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759680" y="542412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759680" y="542412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939320" y="584568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939320" y="584568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759680" y="584136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759680" y="584136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939320" y="6265440"/>
                <a:ext cx="1160280" cy="207360"/>
              </a:xfrm>
              <a:custGeom>
                <a:avLst/>
                <a:gdLst/>
                <a:ahLst/>
                <a:rect l="l" t="t" r="r" b="b"/>
                <a:pathLst>
                  <a:path w="531" h="95">
                    <a:moveTo>
                      <a:pt x="531" y="93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531" y="95"/>
                    </a:lnTo>
                    <a:lnTo>
                      <a:pt x="531" y="95"/>
                    </a:lnTo>
                    <a:lnTo>
                      <a:pt x="531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939320" y="6265440"/>
                <a:ext cx="1160280" cy="207360"/>
              </a:xfrm>
              <a:custGeom>
                <a:avLst/>
                <a:gdLst/>
                <a:ahLst/>
                <a:rect l="l" t="t" r="r" b="b"/>
                <a:pathLst>
                  <a:path w="531" h="95">
                    <a:moveTo>
                      <a:pt x="531" y="93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531" y="95"/>
                    </a:lnTo>
                    <a:lnTo>
                      <a:pt x="531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759680" y="626112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759680" y="626112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31960" y="3874320"/>
                <a:ext cx="80640" cy="6588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18" y="0"/>
                    </a:moveTo>
                    <a:lnTo>
                      <a:pt x="0" y="27"/>
                    </a:lnTo>
                    <a:lnTo>
                      <a:pt x="37" y="3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31960" y="3874320"/>
                <a:ext cx="80640" cy="6588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18" y="0"/>
                    </a:moveTo>
                    <a:lnTo>
                      <a:pt x="0" y="27"/>
                    </a:lnTo>
                    <a:lnTo>
                      <a:pt x="37" y="30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31960" y="3254040"/>
                <a:ext cx="80640" cy="6768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14" y="0"/>
                    </a:moveTo>
                    <a:lnTo>
                      <a:pt x="0" y="31"/>
                    </a:lnTo>
                    <a:lnTo>
                      <a:pt x="37" y="29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31960" y="3254040"/>
                <a:ext cx="80640" cy="6768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14" y="0"/>
                    </a:moveTo>
                    <a:lnTo>
                      <a:pt x="0" y="31"/>
                    </a:lnTo>
                    <a:lnTo>
                      <a:pt x="37" y="29"/>
                    </a:lnTo>
                    <a:lnTo>
                      <a:pt x="14" y="2"/>
                    </a:lnTo>
                    <a:lnTo>
                      <a:pt x="14" y="2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31960" y="2832120"/>
                <a:ext cx="80640" cy="6516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16" y="0"/>
                    </a:moveTo>
                    <a:lnTo>
                      <a:pt x="0" y="29"/>
                    </a:lnTo>
                    <a:lnTo>
                      <a:pt x="37" y="3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331960" y="2832120"/>
                <a:ext cx="80640" cy="6516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16" y="0"/>
                    </a:moveTo>
                    <a:lnTo>
                      <a:pt x="0" y="29"/>
                    </a:lnTo>
                    <a:lnTo>
                      <a:pt x="37" y="30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40240" y="224208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40240" y="224208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7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082320" y="2593800"/>
                <a:ext cx="1164600" cy="207360"/>
              </a:xfrm>
              <a:custGeom>
                <a:avLst/>
                <a:gdLst/>
                <a:ahLst/>
                <a:rect l="l" t="t" r="r" b="b"/>
                <a:pathLst>
                  <a:path w="533" h="95">
                    <a:moveTo>
                      <a:pt x="533" y="93"/>
                    </a:moveTo>
                    <a:lnTo>
                      <a:pt x="533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533" y="95"/>
                    </a:lnTo>
                    <a:lnTo>
                      <a:pt x="533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643920" y="2270880"/>
                <a:ext cx="1717920" cy="17280"/>
              </a:xfrm>
              <a:custGeom>
                <a:avLst/>
                <a:gdLst/>
                <a:ahLst/>
                <a:rect l="l" t="t" r="r" b="b"/>
                <a:pathLst>
                  <a:path w="786" h="8">
                    <a:moveTo>
                      <a:pt x="0" y="8"/>
                    </a:moveTo>
                    <a:lnTo>
                      <a:pt x="786" y="8"/>
                    </a:lnTo>
                    <a:lnTo>
                      <a:pt x="786" y="0"/>
                    </a:lnTo>
                    <a:lnTo>
                      <a:pt x="2" y="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643920" y="2270880"/>
                <a:ext cx="1717920" cy="17280"/>
              </a:xfrm>
              <a:custGeom>
                <a:avLst/>
                <a:gdLst/>
                <a:ahLst/>
                <a:rect l="l" t="t" r="r" b="b"/>
                <a:pathLst>
                  <a:path w="786" h="8">
                    <a:moveTo>
                      <a:pt x="0" y="8"/>
                    </a:moveTo>
                    <a:lnTo>
                      <a:pt x="786" y="8"/>
                    </a:lnTo>
                    <a:lnTo>
                      <a:pt x="786" y="0"/>
                    </a:lnTo>
                    <a:lnTo>
                      <a:pt x="2" y="0"/>
                    </a:lnTo>
                    <a:lnTo>
                      <a:pt x="2" y="8"/>
                    </a:lnTo>
                    <a:lnTo>
                      <a:pt x="2" y="8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657240" y="1855440"/>
                <a:ext cx="1713600" cy="1026720"/>
              </a:xfrm>
              <a:custGeom>
                <a:avLst/>
                <a:gdLst/>
                <a:ahLst/>
                <a:rect l="l" t="t" r="r" b="b"/>
                <a:pathLst>
                  <a:path w="784" h="470">
                    <a:moveTo>
                      <a:pt x="0" y="8"/>
                    </a:moveTo>
                    <a:lnTo>
                      <a:pt x="780" y="470"/>
                    </a:lnTo>
                    <a:lnTo>
                      <a:pt x="784" y="462"/>
                    </a:lnTo>
                    <a:lnTo>
                      <a:pt x="6" y="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657240" y="1855440"/>
                <a:ext cx="1713600" cy="1026720"/>
              </a:xfrm>
              <a:custGeom>
                <a:avLst/>
                <a:gdLst/>
                <a:ahLst/>
                <a:rect l="l" t="t" r="r" b="b"/>
                <a:pathLst>
                  <a:path w="784" h="470">
                    <a:moveTo>
                      <a:pt x="0" y="8"/>
                    </a:moveTo>
                    <a:lnTo>
                      <a:pt x="780" y="470"/>
                    </a:lnTo>
                    <a:lnTo>
                      <a:pt x="784" y="462"/>
                    </a:lnTo>
                    <a:lnTo>
                      <a:pt x="6" y="0"/>
                    </a:lnTo>
                    <a:lnTo>
                      <a:pt x="2" y="8"/>
                    </a:lnTo>
                    <a:lnTo>
                      <a:pt x="2" y="8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643920" y="2484720"/>
                <a:ext cx="1726920" cy="823320"/>
              </a:xfrm>
              <a:custGeom>
                <a:avLst/>
                <a:gdLst/>
                <a:ahLst/>
                <a:rect l="l" t="t" r="r" b="b"/>
                <a:pathLst>
                  <a:path w="790" h="377">
                    <a:moveTo>
                      <a:pt x="0" y="6"/>
                    </a:moveTo>
                    <a:lnTo>
                      <a:pt x="788" y="377"/>
                    </a:lnTo>
                    <a:lnTo>
                      <a:pt x="790" y="370"/>
                    </a:lnTo>
                    <a:lnTo>
                      <a:pt x="4" y="0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643920" y="2484720"/>
                <a:ext cx="1726920" cy="823320"/>
              </a:xfrm>
              <a:custGeom>
                <a:avLst/>
                <a:gdLst/>
                <a:ahLst/>
                <a:rect l="l" t="t" r="r" b="b"/>
                <a:pathLst>
                  <a:path w="790" h="377">
                    <a:moveTo>
                      <a:pt x="0" y="6"/>
                    </a:moveTo>
                    <a:lnTo>
                      <a:pt x="788" y="377"/>
                    </a:lnTo>
                    <a:lnTo>
                      <a:pt x="790" y="370"/>
                    </a:lnTo>
                    <a:lnTo>
                      <a:pt x="4" y="0"/>
                    </a:lnTo>
                    <a:lnTo>
                      <a:pt x="2" y="6"/>
                    </a:lnTo>
                    <a:lnTo>
                      <a:pt x="2" y="6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643920" y="2897640"/>
                <a:ext cx="1731240" cy="1022760"/>
              </a:xfrm>
              <a:custGeom>
                <a:avLst/>
                <a:gdLst/>
                <a:ahLst/>
                <a:rect l="l" t="t" r="r" b="b"/>
                <a:pathLst>
                  <a:path w="792" h="468">
                    <a:moveTo>
                      <a:pt x="0" y="6"/>
                    </a:moveTo>
                    <a:lnTo>
                      <a:pt x="786" y="468"/>
                    </a:lnTo>
                    <a:lnTo>
                      <a:pt x="792" y="462"/>
                    </a:lnTo>
                    <a:lnTo>
                      <a:pt x="6" y="0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643920" y="2897640"/>
                <a:ext cx="1731240" cy="1022760"/>
              </a:xfrm>
              <a:custGeom>
                <a:avLst/>
                <a:gdLst/>
                <a:ahLst/>
                <a:rect l="l" t="t" r="r" b="b"/>
                <a:pathLst>
                  <a:path w="792" h="468">
                    <a:moveTo>
                      <a:pt x="0" y="6"/>
                    </a:moveTo>
                    <a:lnTo>
                      <a:pt x="786" y="468"/>
                    </a:lnTo>
                    <a:lnTo>
                      <a:pt x="792" y="462"/>
                    </a:lnTo>
                    <a:lnTo>
                      <a:pt x="6" y="0"/>
                    </a:lnTo>
                    <a:lnTo>
                      <a:pt x="2" y="6"/>
                    </a:lnTo>
                    <a:lnTo>
                      <a:pt x="2" y="6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939320" y="396216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939320" y="396216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759680" y="395784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759680" y="395784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939320" y="4377600"/>
                <a:ext cx="1160280" cy="2113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531" y="95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531" y="97"/>
                    </a:lnTo>
                    <a:lnTo>
                      <a:pt x="531" y="97"/>
                    </a:lnTo>
                    <a:lnTo>
                      <a:pt x="531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939320" y="4377600"/>
                <a:ext cx="1160280" cy="2113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531" y="95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531" y="97"/>
                    </a:lnTo>
                    <a:lnTo>
                      <a:pt x="531" y="9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759680" y="437760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759680" y="437760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939320" y="479916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4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lnTo>
                      <a:pt x="531" y="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939320" y="479916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4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759680" y="479484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759680" y="479484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939320" y="5214600"/>
                <a:ext cx="1160280" cy="2113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531" y="97"/>
                    </a:lnTo>
                    <a:lnTo>
                      <a:pt x="531" y="97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939320" y="5214600"/>
                <a:ext cx="1160280" cy="2113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531" y="97"/>
                    </a:lnTo>
                    <a:lnTo>
                      <a:pt x="531" y="9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759680" y="521460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759680" y="521460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939320" y="563616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939320" y="563616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759680" y="563184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759680" y="563184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939320" y="6050880"/>
                <a:ext cx="1160280" cy="214560"/>
              </a:xfrm>
              <a:custGeom>
                <a:avLst/>
                <a:gdLst/>
                <a:ahLst/>
                <a:rect l="l" t="t" r="r" b="b"/>
                <a:pathLst>
                  <a:path w="531" h="98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531" y="98"/>
                    </a:lnTo>
                    <a:lnTo>
                      <a:pt x="531" y="98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939320" y="6050880"/>
                <a:ext cx="1160280" cy="214560"/>
              </a:xfrm>
              <a:custGeom>
                <a:avLst/>
                <a:gdLst/>
                <a:ahLst/>
                <a:rect l="l" t="t" r="r" b="b"/>
                <a:pathLst>
                  <a:path w="531" h="98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531" y="98"/>
                    </a:lnTo>
                    <a:lnTo>
                      <a:pt x="531" y="9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759680" y="605088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759680" y="605088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39320" y="375192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696320" y="35730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791000" y="3573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866240" y="3573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897560" y="3573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928880" y="3573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759680" y="3751920"/>
                <a:ext cx="174960" cy="205560"/>
              </a:xfrm>
              <a:custGeom>
                <a:avLst/>
                <a:gdLst/>
                <a:ahLst/>
                <a:rect l="l" t="t" r="r" b="b"/>
                <a:pathLst>
                  <a:path w="80" h="94">
                    <a:moveTo>
                      <a:pt x="80" y="94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4"/>
                    </a:lnTo>
                    <a:lnTo>
                      <a:pt x="80" y="94"/>
                    </a:lnTo>
                    <a:lnTo>
                      <a:pt x="80" y="9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805400" y="397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805400" y="4188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805400" y="439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805400" y="4606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805400" y="4816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805400" y="5025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805400" y="523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805400" y="544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805400" y="5653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805400" y="5863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805400" y="607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05400" y="6283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061720" y="32169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153160" y="321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230200" y="321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7240" y="321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387160" y="3216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423520" y="3216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462040" y="321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541960" y="321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617920" y="32169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651040" y="321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474640" y="4029480"/>
                <a:ext cx="72360" cy="702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0"/>
                    </a:moveTo>
                    <a:lnTo>
                      <a:pt x="20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474640" y="4237200"/>
                <a:ext cx="72360" cy="720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2"/>
                    </a:lnTo>
                    <a:lnTo>
                      <a:pt x="33" y="20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474640" y="4447440"/>
                <a:ext cx="72360" cy="71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474640" y="4656960"/>
                <a:ext cx="72360" cy="720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474640" y="486648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0"/>
                    </a:moveTo>
                    <a:lnTo>
                      <a:pt x="20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474640" y="507672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0"/>
                    </a:moveTo>
                    <a:lnTo>
                      <a:pt x="20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474640" y="5284440"/>
                <a:ext cx="72360" cy="71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474640" y="5493960"/>
                <a:ext cx="72360" cy="71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474640" y="570348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1"/>
                    </a:moveTo>
                    <a:lnTo>
                      <a:pt x="20" y="32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474640" y="591372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0"/>
                    </a:moveTo>
                    <a:lnTo>
                      <a:pt x="20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474640" y="6121440"/>
                <a:ext cx="72360" cy="71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2"/>
                    </a:lnTo>
                    <a:lnTo>
                      <a:pt x="33" y="20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474640" y="6330960"/>
                <a:ext cx="72360" cy="71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759680" y="175680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3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759680" y="217476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4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759680" y="259380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3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3240720" y="11952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336120" y="1195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414600" y="1195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484440" y="1195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551400" y="1195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584880" y="1195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651120" y="1195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731040" y="1195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760920" y="1195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801960" y="1195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876480" y="1195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957120" y="1195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031640" y="1195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113720" y="1195200"/>
                <a:ext cx="36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413160" y="136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492720" y="136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568320" y="136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647880" y="1363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694320" y="136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770640" y="1363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840480" y="1363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082320" y="1547280"/>
                <a:ext cx="1164600" cy="209520"/>
              </a:xfrm>
              <a:custGeom>
                <a:avLst/>
                <a:gdLst/>
                <a:ahLst/>
                <a:rect l="l" t="t" r="r" b="b"/>
                <a:pathLst>
                  <a:path w="533" h="96">
                    <a:moveTo>
                      <a:pt x="533" y="94"/>
                    </a:moveTo>
                    <a:lnTo>
                      <a:pt x="533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3" y="96"/>
                    </a:lnTo>
                    <a:lnTo>
                      <a:pt x="533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690920" y="13266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783800" y="132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859760" y="13266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892520" y="13266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920960" y="132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759680" y="154728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4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953440" y="1066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034800" y="1066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116160" y="1066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805400" y="177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805400" y="1986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805400" y="2196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805400" y="2405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805400" y="261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805400" y="282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934640" y="1756800"/>
                <a:ext cx="1147320" cy="207360"/>
              </a:xfrm>
              <a:custGeom>
                <a:avLst/>
                <a:gdLst/>
                <a:ahLst/>
                <a:rect l="l" t="t" r="r" b="b"/>
                <a:pathLst>
                  <a:path w="525" h="95">
                    <a:moveTo>
                      <a:pt x="525" y="93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525" y="95"/>
                    </a:lnTo>
                    <a:lnTo>
                      <a:pt x="525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934640" y="2174760"/>
                <a:ext cx="1147320" cy="209520"/>
              </a:xfrm>
              <a:custGeom>
                <a:avLst/>
                <a:gdLst/>
                <a:ahLst/>
                <a:rect l="l" t="t" r="r" b="b"/>
                <a:pathLst>
                  <a:path w="525" h="96">
                    <a:moveTo>
                      <a:pt x="525" y="94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25" y="96"/>
                    </a:lnTo>
                    <a:lnTo>
                      <a:pt x="525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934640" y="2593800"/>
                <a:ext cx="1147320" cy="207360"/>
              </a:xfrm>
              <a:custGeom>
                <a:avLst/>
                <a:gdLst/>
                <a:ahLst/>
                <a:rect l="l" t="t" r="r" b="b"/>
                <a:pathLst>
                  <a:path w="525" h="95">
                    <a:moveTo>
                      <a:pt x="525" y="93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525" y="95"/>
                    </a:lnTo>
                    <a:lnTo>
                      <a:pt x="525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382840" y="13266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466360" y="132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546640" y="132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934640" y="1547280"/>
                <a:ext cx="1147320" cy="209520"/>
              </a:xfrm>
              <a:custGeom>
                <a:avLst/>
                <a:gdLst/>
                <a:ahLst/>
                <a:rect l="l" t="t" r="r" b="b"/>
                <a:pathLst>
                  <a:path w="525" h="96">
                    <a:moveTo>
                      <a:pt x="525" y="94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25" y="96"/>
                    </a:lnTo>
                    <a:lnTo>
                      <a:pt x="525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57200" y="1542600"/>
                <a:ext cx="1206360" cy="209880"/>
              </a:xfrm>
              <a:custGeom>
                <a:avLst/>
                <a:gdLst/>
                <a:ahLst/>
                <a:rect l="l" t="t" r="r" b="b"/>
                <a:pathLst>
                  <a:path w="552" h="96">
                    <a:moveTo>
                      <a:pt x="550" y="96"/>
                    </a:moveTo>
                    <a:lnTo>
                      <a:pt x="552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52" y="96"/>
                    </a:lnTo>
                    <a:lnTo>
                      <a:pt x="552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03800" y="11451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95240" y="11451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828360" y="11451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874440" y="11451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910080" y="1145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991080" y="1145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065960" y="11451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100880" y="11451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138680" y="1145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211760" y="1145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292400" y="1145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366920" y="1145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449360" y="1145160"/>
                <a:ext cx="36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837000" y="1308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910080" y="1308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992520" y="13089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104480" y="1308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184400" y="1308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261080" y="1308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147680" y="1752840"/>
                <a:ext cx="548640" cy="3356280"/>
              </a:xfrm>
              <a:custGeom>
                <a:avLst/>
                <a:gdLst/>
                <a:ahLst/>
                <a:rect l="l" t="t" r="r" b="b"/>
                <a:pathLst>
                  <a:path w="251" h="1536">
                    <a:moveTo>
                      <a:pt x="0" y="0"/>
                    </a:moveTo>
                    <a:lnTo>
                      <a:pt x="0" y="1536"/>
                    </a:lnTo>
                    <a:lnTo>
                      <a:pt x="251" y="153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340240" y="2297160"/>
                <a:ext cx="72360" cy="7812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0" y="17"/>
                    </a:moveTo>
                    <a:lnTo>
                      <a:pt x="27" y="36"/>
                    </a:lnTo>
                    <a:lnTo>
                      <a:pt x="33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344560" y="2508480"/>
                <a:ext cx="67680" cy="7668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0" y="18"/>
                    </a:moveTo>
                    <a:lnTo>
                      <a:pt x="27" y="35"/>
                    </a:lnTo>
                    <a:lnTo>
                      <a:pt x="31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331960" y="2701080"/>
                <a:ext cx="80640" cy="6768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0" y="0"/>
                    </a:moveTo>
                    <a:lnTo>
                      <a:pt x="16" y="31"/>
                    </a:lnTo>
                    <a:lnTo>
                      <a:pt x="37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331960" y="2914920"/>
                <a:ext cx="80640" cy="72000"/>
              </a:xfrm>
              <a:custGeom>
                <a:avLst/>
                <a:gdLst/>
                <a:ahLst/>
                <a:rect l="l" t="t" r="r" b="b"/>
                <a:pathLst>
                  <a:path w="37" h="33">
                    <a:moveTo>
                      <a:pt x="0" y="4"/>
                    </a:moveTo>
                    <a:lnTo>
                      <a:pt x="20" y="33"/>
                    </a:lnTo>
                    <a:lnTo>
                      <a:pt x="3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335920" y="3129480"/>
                <a:ext cx="76680" cy="7812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3"/>
                    </a:moveTo>
                    <a:lnTo>
                      <a:pt x="25" y="36"/>
                    </a:lnTo>
                    <a:lnTo>
                      <a:pt x="35" y="0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331960" y="3334680"/>
                <a:ext cx="80640" cy="6516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0" y="4"/>
                    </a:moveTo>
                    <a:lnTo>
                      <a:pt x="20" y="30"/>
                    </a:lnTo>
                    <a:lnTo>
                      <a:pt x="37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331960" y="3518640"/>
                <a:ext cx="80640" cy="6732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0" y="0"/>
                    </a:moveTo>
                    <a:lnTo>
                      <a:pt x="8" y="31"/>
                    </a:lnTo>
                    <a:lnTo>
                      <a:pt x="37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331960" y="3728160"/>
                <a:ext cx="80640" cy="6516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0" y="0"/>
                    </a:moveTo>
                    <a:lnTo>
                      <a:pt x="8" y="30"/>
                    </a:lnTo>
                    <a:lnTo>
                      <a:pt x="37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331960" y="3957840"/>
                <a:ext cx="80640" cy="63360"/>
              </a:xfrm>
              <a:custGeom>
                <a:avLst/>
                <a:gdLst/>
                <a:ahLst/>
                <a:rect l="l" t="t" r="r" b="b"/>
                <a:pathLst>
                  <a:path w="37" h="29">
                    <a:moveTo>
                      <a:pt x="0" y="0"/>
                    </a:moveTo>
                    <a:lnTo>
                      <a:pt x="16" y="29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101680" y="3407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194560" y="3407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273400" y="3407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345400" y="3407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413440" y="3407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445840" y="3407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513520" y="3407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592000" y="3407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620080" y="3407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658600" y="3407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2" name=""/>
            <p:cNvSpPr/>
            <p:nvPr/>
          </p:nvSpPr>
          <p:spPr>
            <a:xfrm>
              <a:off x="2740320" y="340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17000" y="340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896920" y="340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044800" y="3573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124720" y="3573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171160" y="3573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208960" y="3573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288520" y="3573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319840" y="3573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389680" y="3573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461680" y="3573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497680" y="3573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571840" y="3573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652840" y="3573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728080" y="3573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778840" y="3573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855160" y="3573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925000" y="3573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677240" y="2242080"/>
              <a:ext cx="7236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150200" y="2274840"/>
              <a:ext cx="5443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677240" y="5077080"/>
              <a:ext cx="7236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624840" y="1826640"/>
              <a:ext cx="72360" cy="676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624840" y="1826640"/>
              <a:ext cx="72360" cy="676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624840" y="2246400"/>
              <a:ext cx="72360" cy="65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30"/>
                  </a:moveTo>
                  <a:lnTo>
                    <a:pt x="20" y="30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624840" y="2246400"/>
              <a:ext cx="72360" cy="65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30"/>
                  </a:moveTo>
                  <a:lnTo>
                    <a:pt x="20" y="30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8" y="30"/>
                  </a:lnTo>
                  <a:lnTo>
                    <a:pt x="18" y="30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624840" y="2454120"/>
              <a:ext cx="72360" cy="676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624840" y="2454120"/>
              <a:ext cx="72360" cy="676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624840" y="2873880"/>
              <a:ext cx="72360" cy="67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624840" y="2873880"/>
              <a:ext cx="72360" cy="67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34840" y="3042000"/>
              <a:ext cx="80640" cy="6588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6" y="0"/>
                  </a:moveTo>
                  <a:lnTo>
                    <a:pt x="0" y="28"/>
                  </a:lnTo>
                  <a:lnTo>
                    <a:pt x="37" y="3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334840" y="3042000"/>
              <a:ext cx="80640" cy="6588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6" y="0"/>
                  </a:moveTo>
                  <a:lnTo>
                    <a:pt x="0" y="28"/>
                  </a:lnTo>
                  <a:lnTo>
                    <a:pt x="37" y="3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642120" y="2060640"/>
              <a:ext cx="1731600" cy="1031760"/>
            </a:xfrm>
            <a:custGeom>
              <a:avLst/>
              <a:gdLst/>
              <a:ahLst/>
              <a:rect l="l" t="t" r="r" b="b"/>
              <a:pathLst>
                <a:path w="792" h="472">
                  <a:moveTo>
                    <a:pt x="0" y="6"/>
                  </a:moveTo>
                  <a:lnTo>
                    <a:pt x="788" y="472"/>
                  </a:lnTo>
                  <a:lnTo>
                    <a:pt x="792" y="464"/>
                  </a:lnTo>
                  <a:lnTo>
                    <a:pt x="6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642120" y="2060640"/>
              <a:ext cx="1731600" cy="1031760"/>
            </a:xfrm>
            <a:custGeom>
              <a:avLst/>
              <a:gdLst/>
              <a:ahLst/>
              <a:rect l="l" t="t" r="r" b="b"/>
              <a:pathLst>
                <a:path w="792" h="472">
                  <a:moveTo>
                    <a:pt x="0" y="6"/>
                  </a:moveTo>
                  <a:lnTo>
                    <a:pt x="788" y="472"/>
                  </a:lnTo>
                  <a:lnTo>
                    <a:pt x="792" y="464"/>
                  </a:lnTo>
                  <a:lnTo>
                    <a:pt x="6" y="0"/>
                  </a:lnTo>
                  <a:lnTo>
                    <a:pt x="2" y="6"/>
                  </a:lnTo>
                  <a:lnTo>
                    <a:pt x="2" y="6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624840" y="2036880"/>
              <a:ext cx="72360" cy="67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624840" y="2036880"/>
              <a:ext cx="72360" cy="67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2523240" y="2338200"/>
              <a:ext cx="2861280" cy="340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2531880" y="2543760"/>
              <a:ext cx="2861640" cy="38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2523240" y="2727000"/>
              <a:ext cx="2845800" cy="13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2523240" y="2945520"/>
              <a:ext cx="2850480" cy="17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2531880" y="3170520"/>
              <a:ext cx="2848320" cy="27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2523240" y="3362760"/>
              <a:ext cx="2850480" cy="175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2523240" y="3546720"/>
              <a:ext cx="2841480" cy="72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2512440" y="3756240"/>
              <a:ext cx="2856960" cy="72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523240" y="3983760"/>
              <a:ext cx="284148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084840" y="1756800"/>
              <a:ext cx="1164960" cy="207360"/>
            </a:xfrm>
            <a:custGeom>
              <a:avLst/>
              <a:gdLst/>
              <a:ahLst/>
              <a:rect l="l" t="t" r="r" b="b"/>
              <a:pathLst>
                <a:path w="533" h="95">
                  <a:moveTo>
                    <a:pt x="533" y="93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33" y="95"/>
                  </a:lnTo>
                  <a:lnTo>
                    <a:pt x="533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084840" y="1964520"/>
              <a:ext cx="1164960" cy="209880"/>
            </a:xfrm>
            <a:custGeom>
              <a:avLst/>
              <a:gdLst/>
              <a:ahLst/>
              <a:rect l="l" t="t" r="r" b="b"/>
              <a:pathLst>
                <a:path w="533" h="96">
                  <a:moveTo>
                    <a:pt x="533" y="94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3" y="96"/>
                  </a:lnTo>
                  <a:lnTo>
                    <a:pt x="533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084840" y="2384280"/>
              <a:ext cx="1164960" cy="209520"/>
            </a:xfrm>
            <a:custGeom>
              <a:avLst/>
              <a:gdLst/>
              <a:ahLst/>
              <a:rect l="l" t="t" r="r" b="b"/>
              <a:pathLst>
                <a:path w="533" h="96">
                  <a:moveTo>
                    <a:pt x="533" y="94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3" y="96"/>
                  </a:lnTo>
                  <a:lnTo>
                    <a:pt x="533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084840" y="2801520"/>
              <a:ext cx="1164960" cy="209880"/>
            </a:xfrm>
            <a:custGeom>
              <a:avLst/>
              <a:gdLst/>
              <a:ahLst/>
              <a:rect l="l" t="t" r="r" b="b"/>
              <a:pathLst>
                <a:path w="533" h="96">
                  <a:moveTo>
                    <a:pt x="533" y="94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3" y="96"/>
                  </a:lnTo>
                  <a:lnTo>
                    <a:pt x="533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084840" y="2174760"/>
              <a:ext cx="1164960" cy="209520"/>
            </a:xfrm>
            <a:custGeom>
              <a:avLst/>
              <a:gdLst/>
              <a:ahLst/>
              <a:rect l="l" t="t" r="r" b="b"/>
              <a:pathLst>
                <a:path w="533" h="96">
                  <a:moveTo>
                    <a:pt x="533" y="94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3" y="96"/>
                  </a:lnTo>
                  <a:lnTo>
                    <a:pt x="533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063400" y="4665960"/>
              <a:ext cx="2074680" cy="1402920"/>
            </a:xfrm>
            <a:custGeom>
              <a:avLst/>
              <a:gdLst/>
              <a:ahLst/>
              <a:rect l="l" t="t" r="r" b="b"/>
              <a:pathLst>
                <a:path w="949" h="642">
                  <a:moveTo>
                    <a:pt x="949" y="80"/>
                  </a:moveTo>
                  <a:lnTo>
                    <a:pt x="943" y="67"/>
                  </a:lnTo>
                  <a:lnTo>
                    <a:pt x="926" y="55"/>
                  </a:lnTo>
                  <a:lnTo>
                    <a:pt x="897" y="44"/>
                  </a:lnTo>
                  <a:lnTo>
                    <a:pt x="858" y="32"/>
                  </a:lnTo>
                  <a:lnTo>
                    <a:pt x="811" y="23"/>
                  </a:lnTo>
                  <a:lnTo>
                    <a:pt x="755" y="15"/>
                  </a:lnTo>
                  <a:lnTo>
                    <a:pt x="694" y="7"/>
                  </a:lnTo>
                  <a:lnTo>
                    <a:pt x="625" y="4"/>
                  </a:lnTo>
                  <a:lnTo>
                    <a:pt x="552" y="0"/>
                  </a:lnTo>
                  <a:lnTo>
                    <a:pt x="475" y="0"/>
                  </a:lnTo>
                  <a:lnTo>
                    <a:pt x="398" y="0"/>
                  </a:lnTo>
                  <a:lnTo>
                    <a:pt x="326" y="4"/>
                  </a:lnTo>
                  <a:lnTo>
                    <a:pt x="257" y="7"/>
                  </a:lnTo>
                  <a:lnTo>
                    <a:pt x="195" y="15"/>
                  </a:lnTo>
                  <a:lnTo>
                    <a:pt x="140" y="23"/>
                  </a:lnTo>
                  <a:lnTo>
                    <a:pt x="92" y="32"/>
                  </a:lnTo>
                  <a:lnTo>
                    <a:pt x="53" y="44"/>
                  </a:lnTo>
                  <a:lnTo>
                    <a:pt x="25" y="55"/>
                  </a:lnTo>
                  <a:lnTo>
                    <a:pt x="7" y="67"/>
                  </a:lnTo>
                  <a:lnTo>
                    <a:pt x="0" y="80"/>
                  </a:lnTo>
                  <a:lnTo>
                    <a:pt x="0" y="559"/>
                  </a:lnTo>
                  <a:lnTo>
                    <a:pt x="7" y="573"/>
                  </a:lnTo>
                  <a:lnTo>
                    <a:pt x="25" y="586"/>
                  </a:lnTo>
                  <a:lnTo>
                    <a:pt x="53" y="597"/>
                  </a:lnTo>
                  <a:lnTo>
                    <a:pt x="92" y="609"/>
                  </a:lnTo>
                  <a:lnTo>
                    <a:pt x="140" y="619"/>
                  </a:lnTo>
                  <a:lnTo>
                    <a:pt x="195" y="626"/>
                  </a:lnTo>
                  <a:lnTo>
                    <a:pt x="257" y="632"/>
                  </a:lnTo>
                  <a:lnTo>
                    <a:pt x="326" y="638"/>
                  </a:lnTo>
                  <a:lnTo>
                    <a:pt x="398" y="640"/>
                  </a:lnTo>
                  <a:lnTo>
                    <a:pt x="475" y="642"/>
                  </a:lnTo>
                  <a:lnTo>
                    <a:pt x="552" y="640"/>
                  </a:lnTo>
                  <a:lnTo>
                    <a:pt x="625" y="638"/>
                  </a:lnTo>
                  <a:lnTo>
                    <a:pt x="694" y="632"/>
                  </a:lnTo>
                  <a:lnTo>
                    <a:pt x="755" y="626"/>
                  </a:lnTo>
                  <a:lnTo>
                    <a:pt x="811" y="619"/>
                  </a:lnTo>
                  <a:lnTo>
                    <a:pt x="858" y="609"/>
                  </a:lnTo>
                  <a:lnTo>
                    <a:pt x="897" y="597"/>
                  </a:lnTo>
                  <a:lnTo>
                    <a:pt x="926" y="586"/>
                  </a:lnTo>
                  <a:lnTo>
                    <a:pt x="943" y="573"/>
                  </a:lnTo>
                  <a:lnTo>
                    <a:pt x="949" y="559"/>
                  </a:lnTo>
                  <a:lnTo>
                    <a:pt x="949" y="80"/>
                  </a:lnTo>
                  <a:lnTo>
                    <a:pt x="949" y="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832000" y="2041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926680" y="204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000120" y="2041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073200" y="2041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142680" y="2041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173640" y="2041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242400" y="204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320520" y="2041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352560" y="2041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390360" y="2041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507000" y="204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585120" y="2041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699240" y="204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781320" y="204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827400" y="2041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424120" y="2274840"/>
              <a:ext cx="1716120" cy="209880"/>
            </a:xfrm>
            <a:custGeom>
              <a:avLst/>
              <a:gdLst/>
              <a:ahLst/>
              <a:rect l="l" t="t" r="r" b="b"/>
              <a:pathLst>
                <a:path w="785" h="96">
                  <a:moveTo>
                    <a:pt x="785" y="96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85" y="96"/>
                  </a:lnTo>
                  <a:lnTo>
                    <a:pt x="78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424120" y="2485080"/>
              <a:ext cx="1716120" cy="209520"/>
            </a:xfrm>
            <a:custGeom>
              <a:avLst/>
              <a:gdLst/>
              <a:ahLst/>
              <a:rect l="l" t="t" r="r" b="b"/>
              <a:pathLst>
                <a:path w="785" h="96">
                  <a:moveTo>
                    <a:pt x="785" y="94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85" y="96"/>
                  </a:lnTo>
                  <a:lnTo>
                    <a:pt x="78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424120" y="2694600"/>
              <a:ext cx="1716120" cy="203040"/>
            </a:xfrm>
            <a:custGeom>
              <a:avLst/>
              <a:gdLst/>
              <a:ahLst/>
              <a:rect l="l" t="t" r="r" b="b"/>
              <a:pathLst>
                <a:path w="785" h="93">
                  <a:moveTo>
                    <a:pt x="785" y="93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785" y="93"/>
                  </a:lnTo>
                  <a:lnTo>
                    <a:pt x="785" y="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424120" y="2897640"/>
              <a:ext cx="1716120" cy="209880"/>
            </a:xfrm>
            <a:custGeom>
              <a:avLst/>
              <a:gdLst/>
              <a:ahLst/>
              <a:rect l="l" t="t" r="r" b="b"/>
              <a:pathLst>
                <a:path w="785" h="96">
                  <a:moveTo>
                    <a:pt x="785" y="94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85" y="96"/>
                  </a:lnTo>
                  <a:lnTo>
                    <a:pt x="78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424120" y="3107880"/>
              <a:ext cx="1716120" cy="204840"/>
            </a:xfrm>
            <a:custGeom>
              <a:avLst/>
              <a:gdLst/>
              <a:ahLst/>
              <a:rect l="l" t="t" r="r" b="b"/>
              <a:pathLst>
                <a:path w="785" h="94">
                  <a:moveTo>
                    <a:pt x="785" y="94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785" y="94"/>
                  </a:lnTo>
                  <a:lnTo>
                    <a:pt x="785" y="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424120" y="3313080"/>
              <a:ext cx="1716120" cy="209520"/>
            </a:xfrm>
            <a:custGeom>
              <a:avLst/>
              <a:gdLst/>
              <a:ahLst/>
              <a:rect l="l" t="t" r="r" b="b"/>
              <a:pathLst>
                <a:path w="785" h="96">
                  <a:moveTo>
                    <a:pt x="785" y="94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85" y="96"/>
                  </a:lnTo>
                  <a:lnTo>
                    <a:pt x="78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424120" y="3522600"/>
              <a:ext cx="1716120" cy="205560"/>
            </a:xfrm>
            <a:custGeom>
              <a:avLst/>
              <a:gdLst/>
              <a:ahLst/>
              <a:rect l="l" t="t" r="r" b="b"/>
              <a:pathLst>
                <a:path w="785" h="94">
                  <a:moveTo>
                    <a:pt x="785" y="94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785" y="94"/>
                  </a:lnTo>
                  <a:lnTo>
                    <a:pt x="785" y="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424120" y="3728520"/>
              <a:ext cx="1716120" cy="209520"/>
            </a:xfrm>
            <a:custGeom>
              <a:avLst/>
              <a:gdLst/>
              <a:ahLst/>
              <a:rect l="l" t="t" r="r" b="b"/>
              <a:pathLst>
                <a:path w="785" h="96">
                  <a:moveTo>
                    <a:pt x="785" y="96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85" y="96"/>
                  </a:lnTo>
                  <a:lnTo>
                    <a:pt x="78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424120" y="3938040"/>
              <a:ext cx="1716120" cy="207360"/>
            </a:xfrm>
            <a:custGeom>
              <a:avLst/>
              <a:gdLst/>
              <a:ahLst/>
              <a:rect l="l" t="t" r="r" b="b"/>
              <a:pathLst>
                <a:path w="785" h="95">
                  <a:moveTo>
                    <a:pt x="785" y="93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785" y="95"/>
                  </a:lnTo>
                  <a:lnTo>
                    <a:pt x="785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205240" y="5109480"/>
              <a:ext cx="1855800" cy="209520"/>
            </a:xfrm>
            <a:custGeom>
              <a:avLst/>
              <a:gdLst/>
              <a:ahLst/>
              <a:rect l="l" t="t" r="r" b="b"/>
              <a:pathLst>
                <a:path w="849" h="96">
                  <a:moveTo>
                    <a:pt x="847" y="96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9" y="96"/>
                  </a:lnTo>
                  <a:lnTo>
                    <a:pt x="849" y="96"/>
                  </a:lnTo>
                  <a:lnTo>
                    <a:pt x="847" y="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205240" y="5109480"/>
              <a:ext cx="1855800" cy="209520"/>
            </a:xfrm>
            <a:custGeom>
              <a:avLst/>
              <a:gdLst/>
              <a:ahLst/>
              <a:rect l="l" t="t" r="r" b="b"/>
              <a:pathLst>
                <a:path w="849" h="96">
                  <a:moveTo>
                    <a:pt x="847" y="96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9" y="96"/>
                  </a:lnTo>
                  <a:lnTo>
                    <a:pt x="84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205240" y="5389200"/>
              <a:ext cx="1855800" cy="209880"/>
            </a:xfrm>
            <a:custGeom>
              <a:avLst/>
              <a:gdLst/>
              <a:ahLst/>
              <a:rect l="l" t="t" r="r" b="b"/>
              <a:pathLst>
                <a:path w="849" h="96">
                  <a:moveTo>
                    <a:pt x="847" y="94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9" y="96"/>
                  </a:lnTo>
                  <a:lnTo>
                    <a:pt x="849" y="96"/>
                  </a:lnTo>
                  <a:lnTo>
                    <a:pt x="847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205240" y="5389200"/>
              <a:ext cx="1855800" cy="209880"/>
            </a:xfrm>
            <a:custGeom>
              <a:avLst/>
              <a:gdLst/>
              <a:ahLst/>
              <a:rect l="l" t="t" r="r" b="b"/>
              <a:pathLst>
                <a:path w="849" h="96">
                  <a:moveTo>
                    <a:pt x="847" y="94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9" y="96"/>
                  </a:lnTo>
                  <a:lnTo>
                    <a:pt x="84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205240" y="5666760"/>
              <a:ext cx="1855800" cy="207360"/>
            </a:xfrm>
            <a:custGeom>
              <a:avLst/>
              <a:gdLst/>
              <a:ahLst/>
              <a:rect l="l" t="t" r="r" b="b"/>
              <a:pathLst>
                <a:path w="849" h="95">
                  <a:moveTo>
                    <a:pt x="847" y="95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49" y="95"/>
                  </a:lnTo>
                  <a:lnTo>
                    <a:pt x="849" y="95"/>
                  </a:lnTo>
                  <a:lnTo>
                    <a:pt x="847" y="9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205240" y="5666760"/>
              <a:ext cx="1855800" cy="207360"/>
            </a:xfrm>
            <a:custGeom>
              <a:avLst/>
              <a:gdLst/>
              <a:ahLst/>
              <a:rect l="l" t="t" r="r" b="b"/>
              <a:pathLst>
                <a:path w="849" h="95">
                  <a:moveTo>
                    <a:pt x="847" y="95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49" y="95"/>
                  </a:lnTo>
                  <a:lnTo>
                    <a:pt x="849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63400" y="4840560"/>
              <a:ext cx="2074680" cy="181080"/>
            </a:xfrm>
            <a:custGeom>
              <a:avLst/>
              <a:gdLst/>
              <a:ahLst/>
              <a:rect l="l" t="t" r="r" b="b"/>
              <a:pathLst>
                <a:path w="949" h="83">
                  <a:moveTo>
                    <a:pt x="0" y="0"/>
                  </a:moveTo>
                  <a:lnTo>
                    <a:pt x="7" y="14"/>
                  </a:lnTo>
                  <a:lnTo>
                    <a:pt x="25" y="27"/>
                  </a:lnTo>
                  <a:lnTo>
                    <a:pt x="53" y="39"/>
                  </a:lnTo>
                  <a:lnTo>
                    <a:pt x="92" y="50"/>
                  </a:lnTo>
                  <a:lnTo>
                    <a:pt x="140" y="60"/>
                  </a:lnTo>
                  <a:lnTo>
                    <a:pt x="195" y="67"/>
                  </a:lnTo>
                  <a:lnTo>
                    <a:pt x="257" y="75"/>
                  </a:lnTo>
                  <a:lnTo>
                    <a:pt x="326" y="79"/>
                  </a:lnTo>
                  <a:lnTo>
                    <a:pt x="398" y="83"/>
                  </a:lnTo>
                  <a:lnTo>
                    <a:pt x="475" y="83"/>
                  </a:lnTo>
                  <a:lnTo>
                    <a:pt x="552" y="83"/>
                  </a:lnTo>
                  <a:lnTo>
                    <a:pt x="625" y="79"/>
                  </a:lnTo>
                  <a:lnTo>
                    <a:pt x="694" y="75"/>
                  </a:lnTo>
                  <a:lnTo>
                    <a:pt x="755" y="67"/>
                  </a:lnTo>
                  <a:lnTo>
                    <a:pt x="811" y="60"/>
                  </a:lnTo>
                  <a:lnTo>
                    <a:pt x="858" y="50"/>
                  </a:lnTo>
                  <a:lnTo>
                    <a:pt x="897" y="39"/>
                  </a:lnTo>
                  <a:lnTo>
                    <a:pt x="926" y="27"/>
                  </a:lnTo>
                  <a:lnTo>
                    <a:pt x="943" y="14"/>
                  </a:lnTo>
                  <a:lnTo>
                    <a:pt x="94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681520" y="4436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82320" y="44366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813280" y="443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83120" y="443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955480" y="443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992200" y="443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063480" y="443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101280" y="44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178320" y="4436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228360" y="44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02520" y="44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383520" y="44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128920" y="5059080"/>
              <a:ext cx="72360" cy="702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4" y="0"/>
                  </a:moveTo>
                  <a:lnTo>
                    <a:pt x="0" y="32"/>
                  </a:lnTo>
                  <a:lnTo>
                    <a:pt x="33" y="2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27120" y="5649480"/>
              <a:ext cx="74160" cy="67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0" y="0"/>
                  </a:moveTo>
                  <a:lnTo>
                    <a:pt x="7" y="31"/>
                  </a:lnTo>
                  <a:lnTo>
                    <a:pt x="34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127120" y="5352120"/>
              <a:ext cx="74160" cy="720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3" y="33"/>
                  </a:lnTo>
                  <a:lnTo>
                    <a:pt x="34" y="15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512440" y="4899960"/>
              <a:ext cx="268884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2523240" y="5677200"/>
              <a:ext cx="2636280" cy="47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2512440" y="5384520"/>
              <a:ext cx="2688840" cy="14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1" name=""/>
          <p:cNvSpPr/>
          <p:nvPr/>
        </p:nvSpPr>
        <p:spPr>
          <a:xfrm>
            <a:off x="6248520" y="0"/>
            <a:ext cx="2720880" cy="17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pical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TLB size: 32 - 4,096 e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Block size: 1 - 2 page tabl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Hit time: 0.5 - 1 clock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Miss penalty: 10 - 30 clock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 rate: 0.01% - 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direto ou fully associ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B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cach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 3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3108240" y="294804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984320" y="317484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1837080" y="152280"/>
            <a:ext cx="6848640" cy="6425640"/>
            <a:chOff x="1837080" y="152280"/>
            <a:chExt cx="6848640" cy="6425640"/>
          </a:xfrm>
        </p:grpSpPr>
        <p:grpSp>
          <p:nvGrpSpPr>
            <p:cNvPr id="1326" name=""/>
            <p:cNvGrpSpPr/>
            <p:nvPr/>
          </p:nvGrpSpPr>
          <p:grpSpPr>
            <a:xfrm>
              <a:off x="1837080" y="152280"/>
              <a:ext cx="6848640" cy="6425640"/>
              <a:chOff x="1837080" y="152280"/>
              <a:chExt cx="6848640" cy="6425640"/>
            </a:xfrm>
          </p:grpSpPr>
          <p:sp>
            <p:nvSpPr>
              <p:cNvPr id="1327" name=""/>
              <p:cNvSpPr/>
              <p:nvPr/>
            </p:nvSpPr>
            <p:spPr>
              <a:xfrm>
                <a:off x="2803320" y="4716000"/>
                <a:ext cx="5879160" cy="1232640"/>
              </a:xfrm>
              <a:custGeom>
                <a:avLst/>
                <a:gdLst/>
                <a:ahLst/>
                <a:rect l="l" t="t" r="r" b="b"/>
                <a:pathLst>
                  <a:path w="2972" h="623">
                    <a:moveTo>
                      <a:pt x="2972" y="623"/>
                    </a:moveTo>
                    <a:lnTo>
                      <a:pt x="2972" y="0"/>
                    </a:lnTo>
                    <a:lnTo>
                      <a:pt x="0" y="0"/>
                    </a:lnTo>
                    <a:lnTo>
                      <a:pt x="0" y="623"/>
                    </a:lnTo>
                    <a:lnTo>
                      <a:pt x="2972" y="623"/>
                    </a:lnTo>
                    <a:lnTo>
                      <a:pt x="2972" y="62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736720" y="4537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819880" y="4537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894040" y="45378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919600" y="45378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2946240" y="4537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823920" y="452952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3900600" y="452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971880" y="452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683400" y="4533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77412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84756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88176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807280" y="5416560"/>
                <a:ext cx="5878440" cy="173880"/>
              </a:xfrm>
              <a:custGeom>
                <a:avLst/>
                <a:gdLst/>
                <a:ahLst/>
                <a:rect l="l" t="t" r="r" b="b"/>
                <a:pathLst>
                  <a:path w="2972" h="88">
                    <a:moveTo>
                      <a:pt x="2970" y="86"/>
                    </a:moveTo>
                    <a:lnTo>
                      <a:pt x="297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970" y="88"/>
                    </a:lnTo>
                    <a:lnTo>
                      <a:pt x="2970" y="88"/>
                    </a:lnTo>
                    <a:lnTo>
                      <a:pt x="2970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807280" y="5416560"/>
                <a:ext cx="5878440" cy="173880"/>
              </a:xfrm>
              <a:custGeom>
                <a:avLst/>
                <a:gdLst/>
                <a:ahLst/>
                <a:rect l="l" t="t" r="r" b="b"/>
                <a:pathLst>
                  <a:path w="2972" h="88">
                    <a:moveTo>
                      <a:pt x="2970" y="86"/>
                    </a:moveTo>
                    <a:lnTo>
                      <a:pt x="297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970" y="88"/>
                    </a:lnTo>
                    <a:lnTo>
                      <a:pt x="2970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2802960" y="4892040"/>
                <a:ext cx="587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2802960" y="5065920"/>
                <a:ext cx="587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2802960" y="5240160"/>
                <a:ext cx="587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2862720" y="5586480"/>
                <a:ext cx="5819760" cy="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>
                <a:off x="2802960" y="5760720"/>
                <a:ext cx="5879160" cy="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947680" y="4723560"/>
                <a:ext cx="1440" cy="122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910040" y="4719600"/>
                <a:ext cx="2160" cy="122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5652000" y="601200"/>
                <a:ext cx="1440" cy="22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3270240" y="601200"/>
                <a:ext cx="3900600" cy="231480"/>
              </a:xfrm>
              <a:custGeom>
                <a:avLst/>
                <a:gdLst/>
                <a:ahLst/>
                <a:rect l="l" t="t" r="r" b="b"/>
                <a:pathLst>
                  <a:path w="1972" h="117">
                    <a:moveTo>
                      <a:pt x="0" y="117"/>
                    </a:moveTo>
                    <a:lnTo>
                      <a:pt x="0" y="0"/>
                    </a:lnTo>
                    <a:lnTo>
                      <a:pt x="1972" y="0"/>
                    </a:lnTo>
                    <a:lnTo>
                      <a:pt x="1972" y="117"/>
                    </a:lnTo>
                    <a:lnTo>
                      <a:pt x="0" y="117"/>
                    </a:lnTo>
                    <a:lnTo>
                      <a:pt x="0" y="1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998320" y="638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08040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1516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2200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29172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3280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39972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43500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468120" y="638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3184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0168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062840" y="32173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148880" y="321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219800" y="321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288200" y="321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360920" y="3217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393320" y="321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466760" y="3217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501320" y="3217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535160" y="3217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599600" y="321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669800" y="3217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150440" y="638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235400" y="638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260600" y="638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30236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33584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40892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480200" y="638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50720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5406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61484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68216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75524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82184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8592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9294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002920" y="6386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1022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17572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244120" y="638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916880" y="1522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002920" y="152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028840" y="152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070240" y="152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102280" y="15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175720" y="15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247720" y="152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276160" y="152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309280" y="15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382360" y="15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448600" y="15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522400" y="152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564160" y="15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632200" y="152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696640" y="152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985000" y="13215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07284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142680" y="132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204960" y="132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266520" y="1321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296400" y="132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36156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429960" y="1321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456960" y="132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49296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56316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63444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70284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774480" y="132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81084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88176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951240" y="1321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05492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12512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198560" y="1321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592360" y="13215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67552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748600" y="1321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775240" y="1321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80656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750040" y="1501560"/>
                <a:ext cx="5032080" cy="173880"/>
              </a:xfrm>
              <a:custGeom>
                <a:avLst/>
                <a:gdLst/>
                <a:ahLst/>
                <a:rect l="l" t="t" r="r" b="b"/>
                <a:pathLst>
                  <a:path w="2544" h="88">
                    <a:moveTo>
                      <a:pt x="2542" y="88"/>
                    </a:moveTo>
                    <a:lnTo>
                      <a:pt x="2544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544" y="88"/>
                    </a:lnTo>
                    <a:lnTo>
                      <a:pt x="2544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2754000" y="1675800"/>
                <a:ext cx="5028120" cy="176040"/>
              </a:xfrm>
              <a:custGeom>
                <a:avLst/>
                <a:gdLst/>
                <a:ahLst/>
                <a:rect l="l" t="t" r="r" b="b"/>
                <a:pathLst>
                  <a:path w="2542" h="89">
                    <a:moveTo>
                      <a:pt x="2540" y="89"/>
                    </a:moveTo>
                    <a:lnTo>
                      <a:pt x="2542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542" y="89"/>
                    </a:lnTo>
                    <a:lnTo>
                      <a:pt x="2542" y="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754000" y="1852200"/>
                <a:ext cx="5028120" cy="173880"/>
              </a:xfrm>
              <a:custGeom>
                <a:avLst/>
                <a:gdLst/>
                <a:ahLst/>
                <a:rect l="l" t="t" r="r" b="b"/>
                <a:pathLst>
                  <a:path w="2542" h="88">
                    <a:moveTo>
                      <a:pt x="2540" y="88"/>
                    </a:moveTo>
                    <a:lnTo>
                      <a:pt x="254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542" y="88"/>
                    </a:lnTo>
                    <a:lnTo>
                      <a:pt x="2542" y="88"/>
                    </a:lnTo>
                    <a:lnTo>
                      <a:pt x="2540" y="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754000" y="1852200"/>
                <a:ext cx="5028120" cy="173880"/>
              </a:xfrm>
              <a:custGeom>
                <a:avLst/>
                <a:gdLst/>
                <a:ahLst/>
                <a:rect l="l" t="t" r="r" b="b"/>
                <a:pathLst>
                  <a:path w="2542" h="88">
                    <a:moveTo>
                      <a:pt x="2540" y="88"/>
                    </a:moveTo>
                    <a:lnTo>
                      <a:pt x="254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542" y="88"/>
                    </a:lnTo>
                    <a:lnTo>
                      <a:pt x="254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750040" y="2026440"/>
                <a:ext cx="5032080" cy="173880"/>
              </a:xfrm>
              <a:custGeom>
                <a:avLst/>
                <a:gdLst/>
                <a:ahLst/>
                <a:rect l="l" t="t" r="r" b="b"/>
                <a:pathLst>
                  <a:path w="2544" h="88">
                    <a:moveTo>
                      <a:pt x="2542" y="88"/>
                    </a:moveTo>
                    <a:lnTo>
                      <a:pt x="2544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544" y="88"/>
                    </a:lnTo>
                    <a:lnTo>
                      <a:pt x="2544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750040" y="2200320"/>
                <a:ext cx="5032080" cy="175680"/>
              </a:xfrm>
              <a:custGeom>
                <a:avLst/>
                <a:gdLst/>
                <a:ahLst/>
                <a:rect l="l" t="t" r="r" b="b"/>
                <a:pathLst>
                  <a:path w="2544" h="89">
                    <a:moveTo>
                      <a:pt x="2542" y="89"/>
                    </a:moveTo>
                    <a:lnTo>
                      <a:pt x="2544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544" y="89"/>
                    </a:lnTo>
                    <a:lnTo>
                      <a:pt x="2544" y="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754000" y="2376360"/>
                <a:ext cx="5028120" cy="173880"/>
              </a:xfrm>
              <a:custGeom>
                <a:avLst/>
                <a:gdLst/>
                <a:ahLst/>
                <a:rect l="l" t="t" r="r" b="b"/>
                <a:pathLst>
                  <a:path w="2542" h="88">
                    <a:moveTo>
                      <a:pt x="2540" y="88"/>
                    </a:moveTo>
                    <a:lnTo>
                      <a:pt x="254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542" y="88"/>
                    </a:lnTo>
                    <a:lnTo>
                      <a:pt x="254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404680" y="1501560"/>
                <a:ext cx="3960" cy="10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791080" y="1907280"/>
                <a:ext cx="57240" cy="6120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13" y="29"/>
                    </a:moveTo>
                    <a:lnTo>
                      <a:pt x="17" y="31"/>
                    </a:lnTo>
                    <a:lnTo>
                      <a:pt x="19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3"/>
                    </a:lnTo>
                    <a:lnTo>
                      <a:pt x="29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9" y="12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635160" y="947520"/>
                <a:ext cx="15192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823440" y="842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897600" y="842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963960" y="842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032360" y="842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563880" y="1907280"/>
                <a:ext cx="57240" cy="6120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13" y="29"/>
                    </a:moveTo>
                    <a:lnTo>
                      <a:pt x="17" y="31"/>
                    </a:lnTo>
                    <a:lnTo>
                      <a:pt x="19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3"/>
                    </a:lnTo>
                    <a:lnTo>
                      <a:pt x="29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9" y="12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514560" y="2675160"/>
                <a:ext cx="15192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645600" y="258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710760" y="258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889440" y="6023880"/>
                <a:ext cx="57240" cy="6120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29" y="0"/>
                    </a:moveTo>
                    <a:lnTo>
                      <a:pt x="0" y="2"/>
                    </a:lnTo>
                    <a:lnTo>
                      <a:pt x="15" y="31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583880" y="3846960"/>
                <a:ext cx="15588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719960" y="3746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788000" y="3746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848640" y="3839040"/>
                <a:ext cx="15588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983640" y="3737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053840" y="3737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848680" y="546192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3889440" y="54536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787440" y="5461920"/>
                <a:ext cx="57240" cy="5904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14" y="29"/>
                    </a:moveTo>
                    <a:lnTo>
                      <a:pt x="17" y="30"/>
                    </a:lnTo>
                    <a:lnTo>
                      <a:pt x="19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29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745680" y="3488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836400" y="348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909840" y="3488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6972840" y="348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041240" y="348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112880" y="3488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148880" y="3488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174440" y="348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245720" y="348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313760" y="348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389000" y="3488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734200" y="5461920"/>
                <a:ext cx="60840" cy="5904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0"/>
                    </a:moveTo>
                    <a:lnTo>
                      <a:pt x="2" y="30"/>
                    </a:lnTo>
                    <a:lnTo>
                      <a:pt x="31" y="1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664720" y="3710160"/>
                <a:ext cx="4262760" cy="1781280"/>
              </a:xfrm>
              <a:custGeom>
                <a:avLst/>
                <a:gdLst/>
                <a:ahLst/>
                <a:rect l="l" t="t" r="r" b="b"/>
                <a:pathLst>
                  <a:path w="2155" h="900">
                    <a:moveTo>
                      <a:pt x="2153" y="0"/>
                    </a:moveTo>
                    <a:lnTo>
                      <a:pt x="2155" y="328"/>
                    </a:lnTo>
                    <a:lnTo>
                      <a:pt x="0" y="328"/>
                    </a:lnTo>
                    <a:lnTo>
                      <a:pt x="0" y="900"/>
                    </a:lnTo>
                    <a:lnTo>
                      <a:pt x="39" y="90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556000" y="6350400"/>
                <a:ext cx="276480" cy="227520"/>
              </a:xfrm>
              <a:custGeom>
                <a:avLst/>
                <a:gdLst/>
                <a:ahLst/>
                <a:rect l="l" t="t" r="r" b="b"/>
                <a:pathLst>
                  <a:path w="140" h="115">
                    <a:moveTo>
                      <a:pt x="55" y="0"/>
                    </a:moveTo>
                    <a:lnTo>
                      <a:pt x="48" y="0"/>
                    </a:lnTo>
                    <a:lnTo>
                      <a:pt x="38" y="4"/>
                    </a:lnTo>
                    <a:lnTo>
                      <a:pt x="31" y="6"/>
                    </a:lnTo>
                    <a:lnTo>
                      <a:pt x="23" y="12"/>
                    </a:lnTo>
                    <a:lnTo>
                      <a:pt x="17" y="17"/>
                    </a:lnTo>
                    <a:lnTo>
                      <a:pt x="11" y="23"/>
                    </a:lnTo>
                    <a:lnTo>
                      <a:pt x="7" y="31"/>
                    </a:lnTo>
                    <a:lnTo>
                      <a:pt x="4" y="40"/>
                    </a:lnTo>
                    <a:lnTo>
                      <a:pt x="2" y="48"/>
                    </a:lnTo>
                    <a:lnTo>
                      <a:pt x="0" y="58"/>
                    </a:lnTo>
                    <a:lnTo>
                      <a:pt x="2" y="67"/>
                    </a:lnTo>
                    <a:lnTo>
                      <a:pt x="4" y="77"/>
                    </a:lnTo>
                    <a:lnTo>
                      <a:pt x="7" y="85"/>
                    </a:lnTo>
                    <a:lnTo>
                      <a:pt x="11" y="92"/>
                    </a:lnTo>
                    <a:lnTo>
                      <a:pt x="17" y="98"/>
                    </a:lnTo>
                    <a:lnTo>
                      <a:pt x="23" y="104"/>
                    </a:lnTo>
                    <a:lnTo>
                      <a:pt x="31" y="110"/>
                    </a:lnTo>
                    <a:lnTo>
                      <a:pt x="38" y="113"/>
                    </a:lnTo>
                    <a:lnTo>
                      <a:pt x="48" y="115"/>
                    </a:lnTo>
                    <a:lnTo>
                      <a:pt x="57" y="115"/>
                    </a:lnTo>
                    <a:lnTo>
                      <a:pt x="140" y="115"/>
                    </a:lnTo>
                    <a:lnTo>
                      <a:pt x="140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790080" y="6103080"/>
                <a:ext cx="261000" cy="262800"/>
              </a:xfrm>
              <a:custGeom>
                <a:avLst/>
                <a:gdLst/>
                <a:ahLst/>
                <a:rect l="l" t="t" r="r" b="b"/>
                <a:pathLst>
                  <a:path w="132" h="133">
                    <a:moveTo>
                      <a:pt x="65" y="131"/>
                    </a:moveTo>
                    <a:lnTo>
                      <a:pt x="77" y="131"/>
                    </a:lnTo>
                    <a:lnTo>
                      <a:pt x="86" y="129"/>
                    </a:lnTo>
                    <a:lnTo>
                      <a:pt x="96" y="125"/>
                    </a:lnTo>
                    <a:lnTo>
                      <a:pt x="104" y="119"/>
                    </a:lnTo>
                    <a:lnTo>
                      <a:pt x="111" y="112"/>
                    </a:lnTo>
                    <a:lnTo>
                      <a:pt x="119" y="104"/>
                    </a:lnTo>
                    <a:lnTo>
                      <a:pt x="125" y="96"/>
                    </a:lnTo>
                    <a:lnTo>
                      <a:pt x="129" y="87"/>
                    </a:lnTo>
                    <a:lnTo>
                      <a:pt x="131" y="77"/>
                    </a:lnTo>
                    <a:lnTo>
                      <a:pt x="132" y="66"/>
                    </a:lnTo>
                    <a:lnTo>
                      <a:pt x="131" y="56"/>
                    </a:lnTo>
                    <a:lnTo>
                      <a:pt x="129" y="44"/>
                    </a:lnTo>
                    <a:lnTo>
                      <a:pt x="125" y="35"/>
                    </a:lnTo>
                    <a:lnTo>
                      <a:pt x="119" y="27"/>
                    </a:lnTo>
                    <a:lnTo>
                      <a:pt x="111" y="19"/>
                    </a:lnTo>
                    <a:lnTo>
                      <a:pt x="104" y="12"/>
                    </a:lnTo>
                    <a:lnTo>
                      <a:pt x="96" y="6"/>
                    </a:lnTo>
                    <a:lnTo>
                      <a:pt x="86" y="2"/>
                    </a:lnTo>
                    <a:lnTo>
                      <a:pt x="77" y="0"/>
                    </a:lnTo>
                    <a:lnTo>
                      <a:pt x="65" y="0"/>
                    </a:lnTo>
                    <a:lnTo>
                      <a:pt x="54" y="0"/>
                    </a:lnTo>
                    <a:lnTo>
                      <a:pt x="44" y="2"/>
                    </a:lnTo>
                    <a:lnTo>
                      <a:pt x="34" y="6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1" y="27"/>
                    </a:lnTo>
                    <a:lnTo>
                      <a:pt x="6" y="35"/>
                    </a:lnTo>
                    <a:lnTo>
                      <a:pt x="2" y="44"/>
                    </a:lnTo>
                    <a:lnTo>
                      <a:pt x="0" y="56"/>
                    </a:lnTo>
                    <a:lnTo>
                      <a:pt x="0" y="66"/>
                    </a:lnTo>
                    <a:lnTo>
                      <a:pt x="0" y="77"/>
                    </a:lnTo>
                    <a:lnTo>
                      <a:pt x="2" y="87"/>
                    </a:lnTo>
                    <a:lnTo>
                      <a:pt x="6" y="96"/>
                    </a:lnTo>
                    <a:lnTo>
                      <a:pt x="11" y="104"/>
                    </a:lnTo>
                    <a:lnTo>
                      <a:pt x="19" y="112"/>
                    </a:lnTo>
                    <a:lnTo>
                      <a:pt x="27" y="119"/>
                    </a:lnTo>
                    <a:lnTo>
                      <a:pt x="34" y="125"/>
                    </a:lnTo>
                    <a:lnTo>
                      <a:pt x="44" y="129"/>
                    </a:lnTo>
                    <a:lnTo>
                      <a:pt x="54" y="131"/>
                    </a:lnTo>
                    <a:lnTo>
                      <a:pt x="65" y="133"/>
                    </a:lnTo>
                    <a:lnTo>
                      <a:pt x="65" y="13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915000" y="5479920"/>
                <a:ext cx="3960" cy="559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881160" y="6213960"/>
                <a:ext cx="75240" cy="3708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0"/>
                    </a:moveTo>
                    <a:lnTo>
                      <a:pt x="38" y="0"/>
                    </a:lnTo>
                    <a:lnTo>
                      <a:pt x="38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15"/>
                    </a:moveTo>
                    <a:lnTo>
                      <a:pt x="38" y="15"/>
                    </a:lnTo>
                    <a:lnTo>
                      <a:pt x="38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832840" y="5487480"/>
                <a:ext cx="41400" cy="904680"/>
              </a:xfrm>
              <a:custGeom>
                <a:avLst/>
                <a:gdLst/>
                <a:ahLst/>
                <a:rect l="l" t="t" r="r" b="b"/>
                <a:pathLst>
                  <a:path w="21" h="457">
                    <a:moveTo>
                      <a:pt x="21" y="0"/>
                    </a:moveTo>
                    <a:lnTo>
                      <a:pt x="21" y="457"/>
                    </a:lnTo>
                    <a:lnTo>
                      <a:pt x="0" y="4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832840" y="6362280"/>
                <a:ext cx="1085760" cy="177840"/>
              </a:xfrm>
              <a:custGeom>
                <a:avLst/>
                <a:gdLst/>
                <a:ahLst/>
                <a:rect l="l" t="t" r="r" b="b"/>
                <a:pathLst>
                  <a:path w="549" h="90">
                    <a:moveTo>
                      <a:pt x="547" y="0"/>
                    </a:moveTo>
                    <a:lnTo>
                      <a:pt x="549" y="90"/>
                    </a:lnTo>
                    <a:lnTo>
                      <a:pt x="0" y="9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721320" y="619416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0"/>
                    </a:moveTo>
                    <a:lnTo>
                      <a:pt x="0" y="29"/>
                    </a:lnTo>
                    <a:lnTo>
                      <a:pt x="29" y="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544120" y="3710160"/>
                <a:ext cx="2120400" cy="2523240"/>
              </a:xfrm>
              <a:custGeom>
                <a:avLst/>
                <a:gdLst/>
                <a:ahLst/>
                <a:rect l="l" t="t" r="r" b="b"/>
                <a:pathLst>
                  <a:path w="1072" h="1275">
                    <a:moveTo>
                      <a:pt x="1070" y="0"/>
                    </a:moveTo>
                    <a:lnTo>
                      <a:pt x="1072" y="201"/>
                    </a:lnTo>
                    <a:lnTo>
                      <a:pt x="0" y="201"/>
                    </a:lnTo>
                    <a:lnTo>
                      <a:pt x="0" y="1275"/>
                    </a:lnTo>
                    <a:lnTo>
                      <a:pt x="609" y="1271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815160" y="5491440"/>
                <a:ext cx="1440" cy="78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738120" y="6053400"/>
                <a:ext cx="15192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868800" y="5954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941880" y="5954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2085120" y="52362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2174760" y="523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2247480" y="5236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308320" y="523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378520" y="523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783120" y="6267600"/>
                <a:ext cx="61200" cy="60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29" y="0"/>
                    </a:moveTo>
                    <a:lnTo>
                      <a:pt x="0" y="2"/>
                    </a:lnTo>
                    <a:lnTo>
                      <a:pt x="16" y="3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683400" y="6338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774120" y="6338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847560" y="6338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881760" y="6338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387880" y="6437520"/>
                <a:ext cx="61200" cy="57240"/>
              </a:xfrm>
              <a:custGeom>
                <a:avLst/>
                <a:gdLst/>
                <a:ahLst/>
                <a:rect l="l" t="t" r="r" b="b"/>
                <a:pathLst>
                  <a:path w="31" h="29">
                    <a:moveTo>
                      <a:pt x="29" y="27"/>
                    </a:moveTo>
                    <a:lnTo>
                      <a:pt x="31" y="0"/>
                    </a:lnTo>
                    <a:lnTo>
                      <a:pt x="0" y="14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29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>
                <a:off x="2432880" y="6465240"/>
                <a:ext cx="122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837080" y="638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927440" y="638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999440" y="6384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061000" y="638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134080" y="638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200680" y="638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239200" y="638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308320" y="6384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34600" y="638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8075160" y="370656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999920" y="3843000"/>
                <a:ext cx="15228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8131320" y="3742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8049240" y="404100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0"/>
                    </a:moveTo>
                    <a:lnTo>
                      <a:pt x="0" y="0"/>
                    </a:lnTo>
                    <a:lnTo>
                      <a:pt x="13" y="28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457960" y="3090960"/>
                <a:ext cx="57240" cy="5544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0"/>
                    </a:moveTo>
                    <a:lnTo>
                      <a:pt x="0" y="0"/>
                    </a:lnTo>
                    <a:lnTo>
                      <a:pt x="13" y="2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715800" y="833040"/>
                <a:ext cx="1343520" cy="2275560"/>
              </a:xfrm>
              <a:custGeom>
                <a:avLst/>
                <a:gdLst/>
                <a:ahLst/>
                <a:rect l="l" t="t" r="r" b="b"/>
                <a:pathLst>
                  <a:path w="679" h="1150">
                    <a:moveTo>
                      <a:pt x="349" y="1150"/>
                    </a:moveTo>
                    <a:lnTo>
                      <a:pt x="351" y="1029"/>
                    </a:lnTo>
                    <a:lnTo>
                      <a:pt x="678" y="1029"/>
                    </a:lnTo>
                    <a:lnTo>
                      <a:pt x="679" y="140"/>
                    </a:lnTo>
                    <a:lnTo>
                      <a:pt x="0" y="14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380720" y="3090960"/>
                <a:ext cx="57240" cy="5544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0"/>
                    </a:moveTo>
                    <a:lnTo>
                      <a:pt x="0" y="0"/>
                    </a:lnTo>
                    <a:lnTo>
                      <a:pt x="15" y="2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483520" y="1939320"/>
                <a:ext cx="1109520" cy="1169280"/>
              </a:xfrm>
              <a:custGeom>
                <a:avLst/>
                <a:gdLst/>
                <a:ahLst/>
                <a:rect l="l" t="t" r="r" b="b"/>
                <a:pathLst>
                  <a:path w="561" h="591">
                    <a:moveTo>
                      <a:pt x="0" y="591"/>
                    </a:moveTo>
                    <a:lnTo>
                      <a:pt x="2" y="489"/>
                    </a:lnTo>
                    <a:lnTo>
                      <a:pt x="561" y="489"/>
                    </a:lnTo>
                    <a:lnTo>
                      <a:pt x="55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8276040" y="3443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8358840" y="3443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8425080" y="3443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8458200" y="3443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8532000" y="3443040"/>
                <a:ext cx="36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8237880" y="3567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8306640" y="3567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8342280" y="3567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8379720" y="3567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8437680" y="3567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8511120" y="3567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897280" y="1321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988720" y="1321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7" name=""/>
            <p:cNvSpPr/>
            <p:nvPr/>
          </p:nvSpPr>
          <p:spPr>
            <a:xfrm>
              <a:off x="3018960" y="1321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060720" y="1321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093480" y="1321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281120" y="1333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354920" y="1333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428000" y="1333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782520" y="957240"/>
              <a:ext cx="152280" cy="8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522520" y="1907280"/>
              <a:ext cx="55440" cy="6120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9"/>
                  </a:moveTo>
                  <a:lnTo>
                    <a:pt x="28" y="0"/>
                  </a:lnTo>
                  <a:lnTo>
                    <a:pt x="0" y="16"/>
                  </a:lnTo>
                  <a:lnTo>
                    <a:pt x="28" y="31"/>
                  </a:lnTo>
                  <a:lnTo>
                    <a:pt x="28" y="31"/>
                  </a:lnTo>
                  <a:lnTo>
                    <a:pt x="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638160" y="2432160"/>
              <a:ext cx="57240" cy="6084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29"/>
                  </a:moveTo>
                  <a:lnTo>
                    <a:pt x="29" y="0"/>
                  </a:lnTo>
                  <a:lnTo>
                    <a:pt x="0" y="16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638160" y="2257920"/>
              <a:ext cx="57240" cy="572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7"/>
                  </a:moveTo>
                  <a:lnTo>
                    <a:pt x="29" y="0"/>
                  </a:lnTo>
                  <a:lnTo>
                    <a:pt x="0" y="13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638160" y="2083680"/>
              <a:ext cx="57240" cy="568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lnTo>
                    <a:pt x="29" y="0"/>
                  </a:lnTo>
                  <a:lnTo>
                    <a:pt x="0" y="15"/>
                  </a:lnTo>
                  <a:lnTo>
                    <a:pt x="29" y="2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638160" y="1903320"/>
              <a:ext cx="57240" cy="6120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29"/>
                  </a:moveTo>
                  <a:lnTo>
                    <a:pt x="29" y="0"/>
                  </a:lnTo>
                  <a:lnTo>
                    <a:pt x="0" y="16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638160" y="1733400"/>
              <a:ext cx="57240" cy="6120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29"/>
                  </a:moveTo>
                  <a:lnTo>
                    <a:pt x="29" y="0"/>
                  </a:lnTo>
                  <a:lnTo>
                    <a:pt x="0" y="15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638160" y="1563120"/>
              <a:ext cx="57240" cy="550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9" y="28"/>
                  </a:moveTo>
                  <a:lnTo>
                    <a:pt x="29" y="0"/>
                  </a:lnTo>
                  <a:lnTo>
                    <a:pt x="0" y="15"/>
                  </a:lnTo>
                  <a:lnTo>
                    <a:pt x="29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2573640" y="1939320"/>
              <a:ext cx="255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099160" y="18622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74760" y="186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246400" y="18622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329560" y="1862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365560" y="186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436840" y="18622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465280" y="1862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822200" y="32176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90788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979520" y="3217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044320" y="3217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103720" y="32176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134680" y="3217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19444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267880" y="32176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293800" y="3217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32800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39928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47236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54076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614200" y="3217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64732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71680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788440" y="32176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89464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96124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035040" y="32176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673880" y="3488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75812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830120" y="348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895280" y="348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955400" y="3488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987440" y="348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04720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119560" y="3488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147640" y="3488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18400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25204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32512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392440" y="3488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43276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507280" y="348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568120" y="348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632200" y="3488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666760" y="3488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70384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77116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283120" y="15649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360880" y="1564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429640" y="1564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699720" y="829080"/>
              <a:ext cx="165960" cy="1634400"/>
            </a:xfrm>
            <a:custGeom>
              <a:avLst/>
              <a:gdLst/>
              <a:ahLst/>
              <a:rect l="l" t="t" r="r" b="b"/>
              <a:pathLst>
                <a:path w="84" h="826">
                  <a:moveTo>
                    <a:pt x="84" y="0"/>
                  </a:moveTo>
                  <a:lnTo>
                    <a:pt x="84" y="826"/>
                  </a:lnTo>
                  <a:lnTo>
                    <a:pt x="0" y="826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497760" y="1523880"/>
              <a:ext cx="132480" cy="13392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35" y="68"/>
                  </a:moveTo>
                  <a:lnTo>
                    <a:pt x="40" y="68"/>
                  </a:lnTo>
                  <a:lnTo>
                    <a:pt x="44" y="66"/>
                  </a:lnTo>
                  <a:lnTo>
                    <a:pt x="50" y="64"/>
                  </a:lnTo>
                  <a:lnTo>
                    <a:pt x="54" y="62"/>
                  </a:lnTo>
                  <a:lnTo>
                    <a:pt x="58" y="58"/>
                  </a:lnTo>
                  <a:lnTo>
                    <a:pt x="62" y="54"/>
                  </a:lnTo>
                  <a:lnTo>
                    <a:pt x="63" y="50"/>
                  </a:lnTo>
                  <a:lnTo>
                    <a:pt x="67" y="45"/>
                  </a:lnTo>
                  <a:lnTo>
                    <a:pt x="67" y="39"/>
                  </a:lnTo>
                  <a:lnTo>
                    <a:pt x="67" y="35"/>
                  </a:lnTo>
                  <a:lnTo>
                    <a:pt x="67" y="29"/>
                  </a:lnTo>
                  <a:lnTo>
                    <a:pt x="67" y="23"/>
                  </a:lnTo>
                  <a:lnTo>
                    <a:pt x="63" y="20"/>
                  </a:lnTo>
                  <a:lnTo>
                    <a:pt x="62" y="14"/>
                  </a:lnTo>
                  <a:lnTo>
                    <a:pt x="58" y="10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2" y="10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39"/>
                  </a:lnTo>
                  <a:lnTo>
                    <a:pt x="2" y="45"/>
                  </a:lnTo>
                  <a:lnTo>
                    <a:pt x="4" y="50"/>
                  </a:lnTo>
                  <a:lnTo>
                    <a:pt x="8" y="54"/>
                  </a:lnTo>
                  <a:lnTo>
                    <a:pt x="12" y="58"/>
                  </a:lnTo>
                  <a:lnTo>
                    <a:pt x="15" y="62"/>
                  </a:lnTo>
                  <a:lnTo>
                    <a:pt x="19" y="64"/>
                  </a:lnTo>
                  <a:lnTo>
                    <a:pt x="23" y="66"/>
                  </a:lnTo>
                  <a:lnTo>
                    <a:pt x="29" y="68"/>
                  </a:lnTo>
                  <a:lnTo>
                    <a:pt x="35" y="68"/>
                  </a:lnTo>
                  <a:lnTo>
                    <a:pt x="35" y="6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497760" y="1695600"/>
              <a:ext cx="132480" cy="13284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35" y="67"/>
                  </a:moveTo>
                  <a:lnTo>
                    <a:pt x="40" y="67"/>
                  </a:lnTo>
                  <a:lnTo>
                    <a:pt x="44" y="65"/>
                  </a:lnTo>
                  <a:lnTo>
                    <a:pt x="50" y="63"/>
                  </a:lnTo>
                  <a:lnTo>
                    <a:pt x="54" y="61"/>
                  </a:lnTo>
                  <a:lnTo>
                    <a:pt x="58" y="57"/>
                  </a:lnTo>
                  <a:lnTo>
                    <a:pt x="62" y="54"/>
                  </a:lnTo>
                  <a:lnTo>
                    <a:pt x="63" y="48"/>
                  </a:lnTo>
                  <a:lnTo>
                    <a:pt x="67" y="44"/>
                  </a:lnTo>
                  <a:lnTo>
                    <a:pt x="67" y="38"/>
                  </a:lnTo>
                  <a:lnTo>
                    <a:pt x="67" y="32"/>
                  </a:lnTo>
                  <a:lnTo>
                    <a:pt x="67" y="29"/>
                  </a:lnTo>
                  <a:lnTo>
                    <a:pt x="67" y="23"/>
                  </a:lnTo>
                  <a:lnTo>
                    <a:pt x="63" y="17"/>
                  </a:lnTo>
                  <a:lnTo>
                    <a:pt x="62" y="13"/>
                  </a:lnTo>
                  <a:lnTo>
                    <a:pt x="58" y="9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2" y="57"/>
                  </a:lnTo>
                  <a:lnTo>
                    <a:pt x="15" y="61"/>
                  </a:lnTo>
                  <a:lnTo>
                    <a:pt x="19" y="63"/>
                  </a:lnTo>
                  <a:lnTo>
                    <a:pt x="23" y="65"/>
                  </a:lnTo>
                  <a:lnTo>
                    <a:pt x="29" y="67"/>
                  </a:lnTo>
                  <a:lnTo>
                    <a:pt x="35" y="67"/>
                  </a:lnTo>
                  <a:lnTo>
                    <a:pt x="35" y="6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497760" y="1866240"/>
              <a:ext cx="132480" cy="13212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35" y="66"/>
                  </a:moveTo>
                  <a:lnTo>
                    <a:pt x="40" y="67"/>
                  </a:lnTo>
                  <a:lnTo>
                    <a:pt x="44" y="66"/>
                  </a:lnTo>
                  <a:lnTo>
                    <a:pt x="50" y="64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2" y="54"/>
                  </a:lnTo>
                  <a:lnTo>
                    <a:pt x="63" y="48"/>
                  </a:lnTo>
                  <a:lnTo>
                    <a:pt x="67" y="44"/>
                  </a:lnTo>
                  <a:lnTo>
                    <a:pt x="67" y="39"/>
                  </a:lnTo>
                  <a:lnTo>
                    <a:pt x="67" y="33"/>
                  </a:lnTo>
                  <a:lnTo>
                    <a:pt x="67" y="29"/>
                  </a:lnTo>
                  <a:lnTo>
                    <a:pt x="67" y="23"/>
                  </a:lnTo>
                  <a:lnTo>
                    <a:pt x="63" y="18"/>
                  </a:lnTo>
                  <a:lnTo>
                    <a:pt x="62" y="14"/>
                  </a:lnTo>
                  <a:lnTo>
                    <a:pt x="58" y="10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2" y="10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2" y="58"/>
                  </a:lnTo>
                  <a:lnTo>
                    <a:pt x="15" y="60"/>
                  </a:lnTo>
                  <a:lnTo>
                    <a:pt x="19" y="64"/>
                  </a:lnTo>
                  <a:lnTo>
                    <a:pt x="23" y="66"/>
                  </a:lnTo>
                  <a:lnTo>
                    <a:pt x="29" y="67"/>
                  </a:lnTo>
                  <a:lnTo>
                    <a:pt x="35" y="67"/>
                  </a:lnTo>
                  <a:lnTo>
                    <a:pt x="35" y="6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497760" y="2046240"/>
              <a:ext cx="132480" cy="13212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35" y="65"/>
                  </a:moveTo>
                  <a:lnTo>
                    <a:pt x="40" y="67"/>
                  </a:lnTo>
                  <a:lnTo>
                    <a:pt x="44" y="65"/>
                  </a:lnTo>
                  <a:lnTo>
                    <a:pt x="50" y="63"/>
                  </a:lnTo>
                  <a:lnTo>
                    <a:pt x="54" y="61"/>
                  </a:lnTo>
                  <a:lnTo>
                    <a:pt x="58" y="57"/>
                  </a:lnTo>
                  <a:lnTo>
                    <a:pt x="62" y="53"/>
                  </a:lnTo>
                  <a:lnTo>
                    <a:pt x="63" y="48"/>
                  </a:lnTo>
                  <a:lnTo>
                    <a:pt x="67" y="44"/>
                  </a:lnTo>
                  <a:lnTo>
                    <a:pt x="67" y="38"/>
                  </a:lnTo>
                  <a:lnTo>
                    <a:pt x="67" y="32"/>
                  </a:lnTo>
                  <a:lnTo>
                    <a:pt x="67" y="28"/>
                  </a:lnTo>
                  <a:lnTo>
                    <a:pt x="67" y="23"/>
                  </a:lnTo>
                  <a:lnTo>
                    <a:pt x="63" y="17"/>
                  </a:lnTo>
                  <a:lnTo>
                    <a:pt x="62" y="13"/>
                  </a:lnTo>
                  <a:lnTo>
                    <a:pt x="58" y="9"/>
                  </a:lnTo>
                  <a:lnTo>
                    <a:pt x="54" y="5"/>
                  </a:lnTo>
                  <a:lnTo>
                    <a:pt x="50" y="3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1"/>
                  </a:lnTo>
                  <a:lnTo>
                    <a:pt x="19" y="3"/>
                  </a:lnTo>
                  <a:lnTo>
                    <a:pt x="15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8" y="53"/>
                  </a:lnTo>
                  <a:lnTo>
                    <a:pt x="12" y="57"/>
                  </a:lnTo>
                  <a:lnTo>
                    <a:pt x="15" y="61"/>
                  </a:lnTo>
                  <a:lnTo>
                    <a:pt x="19" y="63"/>
                  </a:lnTo>
                  <a:lnTo>
                    <a:pt x="23" y="65"/>
                  </a:lnTo>
                  <a:lnTo>
                    <a:pt x="29" y="67"/>
                  </a:lnTo>
                  <a:lnTo>
                    <a:pt x="35" y="67"/>
                  </a:lnTo>
                  <a:lnTo>
                    <a:pt x="35" y="6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497760" y="2220120"/>
              <a:ext cx="132480" cy="13212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35" y="65"/>
                  </a:moveTo>
                  <a:lnTo>
                    <a:pt x="40" y="67"/>
                  </a:lnTo>
                  <a:lnTo>
                    <a:pt x="44" y="65"/>
                  </a:lnTo>
                  <a:lnTo>
                    <a:pt x="50" y="63"/>
                  </a:lnTo>
                  <a:lnTo>
                    <a:pt x="54" y="61"/>
                  </a:lnTo>
                  <a:lnTo>
                    <a:pt x="58" y="57"/>
                  </a:lnTo>
                  <a:lnTo>
                    <a:pt x="62" y="54"/>
                  </a:lnTo>
                  <a:lnTo>
                    <a:pt x="63" y="48"/>
                  </a:lnTo>
                  <a:lnTo>
                    <a:pt x="67" y="44"/>
                  </a:lnTo>
                  <a:lnTo>
                    <a:pt x="67" y="38"/>
                  </a:lnTo>
                  <a:lnTo>
                    <a:pt x="67" y="32"/>
                  </a:lnTo>
                  <a:lnTo>
                    <a:pt x="67" y="29"/>
                  </a:lnTo>
                  <a:lnTo>
                    <a:pt x="67" y="23"/>
                  </a:lnTo>
                  <a:lnTo>
                    <a:pt x="63" y="17"/>
                  </a:lnTo>
                  <a:lnTo>
                    <a:pt x="62" y="13"/>
                  </a:lnTo>
                  <a:lnTo>
                    <a:pt x="58" y="9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2" y="57"/>
                  </a:lnTo>
                  <a:lnTo>
                    <a:pt x="15" y="61"/>
                  </a:lnTo>
                  <a:lnTo>
                    <a:pt x="19" y="63"/>
                  </a:lnTo>
                  <a:lnTo>
                    <a:pt x="23" y="65"/>
                  </a:lnTo>
                  <a:lnTo>
                    <a:pt x="29" y="67"/>
                  </a:lnTo>
                  <a:lnTo>
                    <a:pt x="35" y="67"/>
                  </a:lnTo>
                  <a:lnTo>
                    <a:pt x="35" y="6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497760" y="2394360"/>
              <a:ext cx="132480" cy="13212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35" y="65"/>
                  </a:moveTo>
                  <a:lnTo>
                    <a:pt x="40" y="67"/>
                  </a:lnTo>
                  <a:lnTo>
                    <a:pt x="44" y="65"/>
                  </a:lnTo>
                  <a:lnTo>
                    <a:pt x="50" y="64"/>
                  </a:lnTo>
                  <a:lnTo>
                    <a:pt x="54" y="62"/>
                  </a:lnTo>
                  <a:lnTo>
                    <a:pt x="58" y="58"/>
                  </a:lnTo>
                  <a:lnTo>
                    <a:pt x="62" y="54"/>
                  </a:lnTo>
                  <a:lnTo>
                    <a:pt x="63" y="48"/>
                  </a:lnTo>
                  <a:lnTo>
                    <a:pt x="67" y="44"/>
                  </a:lnTo>
                  <a:lnTo>
                    <a:pt x="67" y="39"/>
                  </a:lnTo>
                  <a:lnTo>
                    <a:pt x="67" y="33"/>
                  </a:lnTo>
                  <a:lnTo>
                    <a:pt x="67" y="29"/>
                  </a:lnTo>
                  <a:lnTo>
                    <a:pt x="67" y="23"/>
                  </a:lnTo>
                  <a:lnTo>
                    <a:pt x="63" y="17"/>
                  </a:lnTo>
                  <a:lnTo>
                    <a:pt x="62" y="14"/>
                  </a:lnTo>
                  <a:lnTo>
                    <a:pt x="58" y="10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2" y="10"/>
                  </a:lnTo>
                  <a:lnTo>
                    <a:pt x="8" y="14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2" y="58"/>
                  </a:lnTo>
                  <a:lnTo>
                    <a:pt x="15" y="62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9" y="67"/>
                  </a:lnTo>
                  <a:lnTo>
                    <a:pt x="35" y="67"/>
                  </a:lnTo>
                  <a:lnTo>
                    <a:pt x="35" y="6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>
              <a:off x="3699360" y="2283480"/>
              <a:ext cx="161640" cy="3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3699360" y="2109600"/>
              <a:ext cx="161640" cy="3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3699360" y="1935360"/>
              <a:ext cx="1616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3699360" y="1762920"/>
              <a:ext cx="161640" cy="2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3699360" y="1588680"/>
              <a:ext cx="161640" cy="2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750040" y="1501560"/>
              <a:ext cx="140400" cy="1048680"/>
            </a:xfrm>
            <a:custGeom>
              <a:avLst/>
              <a:gdLst/>
              <a:ahLst/>
              <a:rect l="l" t="t" r="r" b="b"/>
              <a:pathLst>
                <a:path w="71" h="530">
                  <a:moveTo>
                    <a:pt x="69" y="530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530"/>
                  </a:lnTo>
                  <a:lnTo>
                    <a:pt x="71" y="530"/>
                  </a:lnTo>
                  <a:lnTo>
                    <a:pt x="71" y="53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890440" y="1501560"/>
              <a:ext cx="140400" cy="1048680"/>
            </a:xfrm>
            <a:custGeom>
              <a:avLst/>
              <a:gdLst/>
              <a:ahLst/>
              <a:rect l="l" t="t" r="r" b="b"/>
              <a:pathLst>
                <a:path w="71" h="530">
                  <a:moveTo>
                    <a:pt x="71" y="530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530"/>
                  </a:lnTo>
                  <a:lnTo>
                    <a:pt x="71" y="530"/>
                  </a:lnTo>
                  <a:lnTo>
                    <a:pt x="71" y="53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962480" y="3431520"/>
              <a:ext cx="207360" cy="271080"/>
            </a:xfrm>
            <a:custGeom>
              <a:avLst/>
              <a:gdLst/>
              <a:ahLst/>
              <a:rect l="l" t="t" r="r" b="b"/>
              <a:pathLst>
                <a:path w="105" h="137">
                  <a:moveTo>
                    <a:pt x="103" y="13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37"/>
                  </a:lnTo>
                  <a:lnTo>
                    <a:pt x="105" y="137"/>
                  </a:lnTo>
                  <a:lnTo>
                    <a:pt x="105" y="1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221520" y="3427560"/>
              <a:ext cx="1736640" cy="275040"/>
            </a:xfrm>
            <a:custGeom>
              <a:avLst/>
              <a:gdLst/>
              <a:ahLst/>
              <a:rect l="l" t="t" r="r" b="b"/>
              <a:pathLst>
                <a:path w="878" h="139">
                  <a:moveTo>
                    <a:pt x="878" y="139"/>
                  </a:moveTo>
                  <a:lnTo>
                    <a:pt x="878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878" y="139"/>
                  </a:lnTo>
                  <a:lnTo>
                    <a:pt x="878" y="1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269240" y="3427560"/>
              <a:ext cx="1951920" cy="275040"/>
            </a:xfrm>
            <a:custGeom>
              <a:avLst/>
              <a:gdLst/>
              <a:ahLst/>
              <a:rect l="l" t="t" r="r" b="b"/>
              <a:pathLst>
                <a:path w="987" h="139">
                  <a:moveTo>
                    <a:pt x="987" y="139"/>
                  </a:moveTo>
                  <a:lnTo>
                    <a:pt x="987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987" y="139"/>
                  </a:lnTo>
                  <a:lnTo>
                    <a:pt x="987" y="1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593400" y="3154320"/>
              <a:ext cx="1572480" cy="273240"/>
            </a:xfrm>
            <a:custGeom>
              <a:avLst/>
              <a:gdLst/>
              <a:ahLst/>
              <a:rect l="l" t="t" r="r" b="b"/>
              <a:pathLst>
                <a:path w="795" h="138">
                  <a:moveTo>
                    <a:pt x="795" y="137"/>
                  </a:moveTo>
                  <a:lnTo>
                    <a:pt x="795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795" y="138"/>
                  </a:lnTo>
                  <a:lnTo>
                    <a:pt x="795" y="13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269240" y="3154320"/>
              <a:ext cx="2323800" cy="273240"/>
            </a:xfrm>
            <a:custGeom>
              <a:avLst/>
              <a:gdLst/>
              <a:ahLst/>
              <a:rect l="l" t="t" r="r" b="b"/>
              <a:pathLst>
                <a:path w="1175" h="138">
                  <a:moveTo>
                    <a:pt x="1175" y="138"/>
                  </a:moveTo>
                  <a:lnTo>
                    <a:pt x="1175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175" y="138"/>
                  </a:lnTo>
                  <a:lnTo>
                    <a:pt x="1175" y="13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913000" y="3367800"/>
              <a:ext cx="1072080" cy="120600"/>
            </a:xfrm>
            <a:custGeom>
              <a:avLst/>
              <a:gdLst/>
              <a:ahLst/>
              <a:rect l="l" t="t" r="r" b="b"/>
              <a:pathLst>
                <a:path w="542" h="61">
                  <a:moveTo>
                    <a:pt x="542" y="61"/>
                  </a:moveTo>
                  <a:lnTo>
                    <a:pt x="542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42" y="61"/>
                  </a:lnTo>
                  <a:lnTo>
                    <a:pt x="542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992920" y="334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080760" y="33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147720" y="334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212880" y="334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274440" y="3348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304680" y="334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369840" y="33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436800" y="3348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465240" y="33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500880" y="33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571080" y="33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642360" y="33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711480" y="3348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753240" y="33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824160" y="334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90400" y="334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3105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3807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45240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48552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5578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6255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615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7324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80124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0943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1310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19732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27112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0460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37480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44644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4802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5515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62212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65560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72652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9528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8323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9025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9745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0076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0807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1473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833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2553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2902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78420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8284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8979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93432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0077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0408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11288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1517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22448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984480" y="468360"/>
              <a:ext cx="25560" cy="219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06332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904920" y="468360"/>
              <a:ext cx="25920" cy="219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5" y="11"/>
                  </a:move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215960" y="468360"/>
              <a:ext cx="25560" cy="219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29480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40720" y="468360"/>
              <a:ext cx="2196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3" y="11"/>
                  </a:moveTo>
                  <a:lnTo>
                    <a:pt x="5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45500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53456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376160" y="468360"/>
              <a:ext cx="2196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11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435360" y="468360"/>
              <a:ext cx="25560" cy="219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5" y="11"/>
                  </a:move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279120" y="468360"/>
              <a:ext cx="2196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11"/>
                  </a:moveTo>
                  <a:lnTo>
                    <a:pt x="6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59340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690240" y="468360"/>
              <a:ext cx="2196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11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514560" y="468360"/>
              <a:ext cx="2124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68648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76604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607640" y="468360"/>
              <a:ext cx="2124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843080" y="468360"/>
              <a:ext cx="2124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535560" y="2439720"/>
              <a:ext cx="57240" cy="4140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0"/>
                  </a:moveTo>
                  <a:lnTo>
                    <a:pt x="29" y="2"/>
                  </a:lnTo>
                  <a:lnTo>
                    <a:pt x="29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0" y="16"/>
                  </a:moveTo>
                  <a:lnTo>
                    <a:pt x="29" y="16"/>
                  </a:lnTo>
                  <a:lnTo>
                    <a:pt x="29" y="21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35560" y="2269800"/>
              <a:ext cx="57240" cy="3744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0"/>
                  </a:moveTo>
                  <a:lnTo>
                    <a:pt x="29" y="0"/>
                  </a:lnTo>
                  <a:lnTo>
                    <a:pt x="29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15"/>
                  </a:moveTo>
                  <a:lnTo>
                    <a:pt x="29" y="15"/>
                  </a:lnTo>
                  <a:lnTo>
                    <a:pt x="29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35560" y="2091600"/>
              <a:ext cx="57240" cy="3744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0"/>
                  </a:moveTo>
                  <a:lnTo>
                    <a:pt x="29" y="0"/>
                  </a:lnTo>
                  <a:lnTo>
                    <a:pt x="29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15"/>
                  </a:moveTo>
                  <a:lnTo>
                    <a:pt x="29" y="15"/>
                  </a:lnTo>
                  <a:lnTo>
                    <a:pt x="29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535560" y="1911600"/>
              <a:ext cx="57240" cy="4140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0"/>
                  </a:moveTo>
                  <a:lnTo>
                    <a:pt x="29" y="2"/>
                  </a:lnTo>
                  <a:lnTo>
                    <a:pt x="29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0" y="16"/>
                  </a:moveTo>
                  <a:lnTo>
                    <a:pt x="29" y="16"/>
                  </a:lnTo>
                  <a:lnTo>
                    <a:pt x="29" y="21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535560" y="1745280"/>
              <a:ext cx="57240" cy="370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0"/>
                  </a:moveTo>
                  <a:lnTo>
                    <a:pt x="29" y="0"/>
                  </a:lnTo>
                  <a:lnTo>
                    <a:pt x="29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13"/>
                  </a:moveTo>
                  <a:lnTo>
                    <a:pt x="29" y="13"/>
                  </a:lnTo>
                  <a:lnTo>
                    <a:pt x="29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535560" y="1573200"/>
              <a:ext cx="57240" cy="3924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0" y="0"/>
                  </a:moveTo>
                  <a:lnTo>
                    <a:pt x="29" y="0"/>
                  </a:lnTo>
                  <a:lnTo>
                    <a:pt x="29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16"/>
                  </a:moveTo>
                  <a:lnTo>
                    <a:pt x="29" y="16"/>
                  </a:lnTo>
                  <a:lnTo>
                    <a:pt x="29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2" name=""/>
          <p:cNvSpPr/>
          <p:nvPr/>
        </p:nvSpPr>
        <p:spPr>
          <a:xfrm>
            <a:off x="286920" y="1596960"/>
            <a:ext cx="1524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peamento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lly associati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79800" y="4038480"/>
            <a:ext cx="14976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peamento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reto</a:t>
            </a:r>
            <a:br>
              <a:rPr sz="1500"/>
            </a:b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ior caso: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 miss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LB, PT, cach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Bs and caches (DEC 310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5" name=""/>
          <p:cNvGrpSpPr/>
          <p:nvPr/>
        </p:nvGrpSpPr>
        <p:grpSpPr>
          <a:xfrm>
            <a:off x="884160" y="1085760"/>
            <a:ext cx="7365960" cy="5326560"/>
            <a:chOff x="884160" y="1085760"/>
            <a:chExt cx="7365960" cy="5326560"/>
          </a:xfrm>
        </p:grpSpPr>
        <p:grpSp>
          <p:nvGrpSpPr>
            <p:cNvPr id="1696" name=""/>
            <p:cNvGrpSpPr/>
            <p:nvPr/>
          </p:nvGrpSpPr>
          <p:grpSpPr>
            <a:xfrm>
              <a:off x="884160" y="1673280"/>
              <a:ext cx="7365960" cy="4739040"/>
              <a:chOff x="884160" y="1673280"/>
              <a:chExt cx="7365960" cy="4739040"/>
            </a:xfrm>
          </p:grpSpPr>
          <p:sp>
            <p:nvSpPr>
              <p:cNvPr id="1697" name=""/>
              <p:cNvSpPr/>
              <p:nvPr/>
            </p:nvSpPr>
            <p:spPr>
              <a:xfrm>
                <a:off x="5002200" y="4695840"/>
                <a:ext cx="2340000" cy="333360"/>
              </a:xfrm>
              <a:custGeom>
                <a:avLst/>
                <a:gdLst/>
                <a:ahLst/>
                <a:rect l="l" t="t" r="r" b="b"/>
                <a:pathLst>
                  <a:path w="1474" h="210">
                    <a:moveTo>
                      <a:pt x="1474" y="210"/>
                    </a:moveTo>
                    <a:lnTo>
                      <a:pt x="1474" y="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101480" y="2836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195080" y="2836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276440" y="2836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168640" y="300672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2" y="43"/>
                    </a:moveTo>
                    <a:lnTo>
                      <a:pt x="45" y="0"/>
                    </a:lnTo>
                    <a:lnTo>
                      <a:pt x="0" y="21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42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222640" y="3040200"/>
                <a:ext cx="2498760" cy="336240"/>
              </a:xfrm>
              <a:custGeom>
                <a:avLst/>
                <a:gdLst/>
                <a:ahLst/>
                <a:rect l="l" t="t" r="r" b="b"/>
                <a:pathLst>
                  <a:path w="1574" h="212">
                    <a:moveTo>
                      <a:pt x="1574" y="212"/>
                    </a:moveTo>
                    <a:lnTo>
                      <a:pt x="1574" y="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4362480" y="5961240"/>
                <a:ext cx="68400" cy="71280"/>
              </a:xfrm>
              <a:custGeom>
                <a:avLst/>
                <a:gdLst/>
                <a:ahLst/>
                <a:rect l="l" t="t" r="r" b="b"/>
                <a:pathLst>
                  <a:path w="43" h="45">
                    <a:moveTo>
                      <a:pt x="43" y="0"/>
                    </a:moveTo>
                    <a:lnTo>
                      <a:pt x="0" y="0"/>
                    </a:lnTo>
                    <a:lnTo>
                      <a:pt x="22" y="45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232000" y="5641920"/>
                <a:ext cx="2165400" cy="336600"/>
              </a:xfrm>
              <a:custGeom>
                <a:avLst/>
                <a:gdLst/>
                <a:ahLst/>
                <a:rect l="l" t="t" r="r" b="b"/>
                <a:pathLst>
                  <a:path w="1364" h="212">
                    <a:moveTo>
                      <a:pt x="1364" y="212"/>
                    </a:moveTo>
                    <a:lnTo>
                      <a:pt x="1364" y="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08480" y="4194000"/>
                <a:ext cx="7128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45" y="0"/>
                    </a:moveTo>
                    <a:lnTo>
                      <a:pt x="0" y="3"/>
                    </a:lnTo>
                    <a:lnTo>
                      <a:pt x="24" y="46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961240" y="4194000"/>
                <a:ext cx="68040" cy="73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43" y="0"/>
                    </a:moveTo>
                    <a:lnTo>
                      <a:pt x="0" y="3"/>
                    </a:lnTo>
                    <a:lnTo>
                      <a:pt x="21" y="46"/>
                    </a:lnTo>
                    <a:lnTo>
                      <a:pt x="43" y="3"/>
                    </a:lnTo>
                    <a:lnTo>
                      <a:pt x="43" y="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446640" y="3878280"/>
                <a:ext cx="2547720" cy="33336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4081320" y="3440160"/>
                <a:ext cx="1278000" cy="873000"/>
              </a:xfrm>
              <a:custGeom>
                <a:avLst/>
                <a:gdLst/>
                <a:ahLst/>
                <a:rect l="l" t="t" r="r" b="b"/>
                <a:pathLst>
                  <a:path w="805" h="550">
                    <a:moveTo>
                      <a:pt x="403" y="0"/>
                    </a:moveTo>
                    <a:lnTo>
                      <a:pt x="0" y="276"/>
                    </a:lnTo>
                    <a:lnTo>
                      <a:pt x="403" y="550"/>
                    </a:lnTo>
                    <a:lnTo>
                      <a:pt x="805" y="276"/>
                    </a:lnTo>
                    <a:lnTo>
                      <a:pt x="403" y="0"/>
                    </a:lnTo>
                    <a:lnTo>
                      <a:pt x="403" y="0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4081320" y="3440160"/>
                <a:ext cx="1278000" cy="873000"/>
              </a:xfrm>
              <a:custGeom>
                <a:avLst/>
                <a:gdLst/>
                <a:ahLst/>
                <a:rect l="l" t="t" r="r" b="b"/>
                <a:pathLst>
                  <a:path w="805" h="550">
                    <a:moveTo>
                      <a:pt x="403" y="0"/>
                    </a:moveTo>
                    <a:lnTo>
                      <a:pt x="0" y="276"/>
                    </a:lnTo>
                    <a:lnTo>
                      <a:pt x="403" y="550"/>
                    </a:lnTo>
                    <a:lnTo>
                      <a:pt x="805" y="276"/>
                    </a:lnTo>
                    <a:lnTo>
                      <a:pt x="403" y="0"/>
                    </a:lnTo>
                    <a:lnTo>
                      <a:pt x="40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803680" y="4275000"/>
                <a:ext cx="1282680" cy="532080"/>
              </a:xfrm>
              <a:custGeom>
                <a:avLst/>
                <a:gdLst/>
                <a:ahLst/>
                <a:rect l="l" t="t" r="r" b="b"/>
                <a:pathLst>
                  <a:path w="808" h="335">
                    <a:moveTo>
                      <a:pt x="0" y="335"/>
                    </a:moveTo>
                    <a:lnTo>
                      <a:pt x="2" y="0"/>
                    </a:lnTo>
                    <a:lnTo>
                      <a:pt x="808" y="0"/>
                    </a:lnTo>
                    <a:lnTo>
                      <a:pt x="808" y="335"/>
                    </a:lnTo>
                    <a:lnTo>
                      <a:pt x="2" y="335"/>
                    </a:lnTo>
                    <a:lnTo>
                      <a:pt x="2" y="33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803680" y="4275000"/>
                <a:ext cx="1282680" cy="532080"/>
              </a:xfrm>
              <a:custGeom>
                <a:avLst/>
                <a:gdLst/>
                <a:ahLst/>
                <a:rect l="l" t="t" r="r" b="b"/>
                <a:pathLst>
                  <a:path w="808" h="335">
                    <a:moveTo>
                      <a:pt x="0" y="335"/>
                    </a:moveTo>
                    <a:lnTo>
                      <a:pt x="2" y="0"/>
                    </a:lnTo>
                    <a:lnTo>
                      <a:pt x="808" y="0"/>
                    </a:lnTo>
                    <a:lnTo>
                      <a:pt x="808" y="335"/>
                    </a:lnTo>
                    <a:lnTo>
                      <a:pt x="2" y="335"/>
                    </a:lnTo>
                    <a:lnTo>
                      <a:pt x="2" y="33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6438960" y="5113440"/>
                <a:ext cx="1811160" cy="877680"/>
              </a:xfrm>
              <a:custGeom>
                <a:avLst/>
                <a:gdLst/>
                <a:ahLst/>
                <a:rect l="l" t="t" r="r" b="b"/>
                <a:pathLst>
                  <a:path w="1141" h="553">
                    <a:moveTo>
                      <a:pt x="1141" y="550"/>
                    </a:moveTo>
                    <a:lnTo>
                      <a:pt x="1141" y="0"/>
                    </a:lnTo>
                    <a:lnTo>
                      <a:pt x="0" y="0"/>
                    </a:lnTo>
                    <a:lnTo>
                      <a:pt x="0" y="553"/>
                    </a:lnTo>
                    <a:lnTo>
                      <a:pt x="1141" y="553"/>
                    </a:lnTo>
                    <a:lnTo>
                      <a:pt x="1141" y="553"/>
                    </a:lnTo>
                    <a:lnTo>
                      <a:pt x="1141" y="550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6438960" y="5113440"/>
                <a:ext cx="1811160" cy="877680"/>
              </a:xfrm>
              <a:custGeom>
                <a:avLst/>
                <a:gdLst/>
                <a:ahLst/>
                <a:rect l="l" t="t" r="r" b="b"/>
                <a:pathLst>
                  <a:path w="1141" h="553">
                    <a:moveTo>
                      <a:pt x="1141" y="550"/>
                    </a:moveTo>
                    <a:lnTo>
                      <a:pt x="1141" y="0"/>
                    </a:lnTo>
                    <a:lnTo>
                      <a:pt x="0" y="0"/>
                    </a:lnTo>
                    <a:lnTo>
                      <a:pt x="0" y="553"/>
                    </a:lnTo>
                    <a:lnTo>
                      <a:pt x="1141" y="553"/>
                    </a:lnTo>
                    <a:lnTo>
                      <a:pt x="1141" y="55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806560" y="5207040"/>
                <a:ext cx="1274760" cy="873000"/>
              </a:xfrm>
              <a:custGeom>
                <a:avLst/>
                <a:gdLst/>
                <a:ahLst/>
                <a:rect l="l" t="t" r="r" b="b"/>
                <a:pathLst>
                  <a:path w="803" h="550">
                    <a:moveTo>
                      <a:pt x="400" y="0"/>
                    </a:moveTo>
                    <a:lnTo>
                      <a:pt x="0" y="274"/>
                    </a:lnTo>
                    <a:lnTo>
                      <a:pt x="403" y="550"/>
                    </a:lnTo>
                    <a:lnTo>
                      <a:pt x="803" y="274"/>
                    </a:lnTo>
                    <a:lnTo>
                      <a:pt x="403" y="0"/>
                    </a:lnTo>
                    <a:lnTo>
                      <a:pt x="403" y="0"/>
                    </a:lnTo>
                    <a:lnTo>
                      <a:pt x="400" y="0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806560" y="5207040"/>
                <a:ext cx="1274760" cy="873000"/>
              </a:xfrm>
              <a:custGeom>
                <a:avLst/>
                <a:gdLst/>
                <a:ahLst/>
                <a:rect l="l" t="t" r="r" b="b"/>
                <a:pathLst>
                  <a:path w="803" h="550">
                    <a:moveTo>
                      <a:pt x="400" y="0"/>
                    </a:moveTo>
                    <a:lnTo>
                      <a:pt x="0" y="274"/>
                    </a:lnTo>
                    <a:lnTo>
                      <a:pt x="403" y="550"/>
                    </a:lnTo>
                    <a:lnTo>
                      <a:pt x="803" y="274"/>
                    </a:lnTo>
                    <a:lnTo>
                      <a:pt x="403" y="0"/>
                    </a:lnTo>
                    <a:lnTo>
                      <a:pt x="40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884160" y="5376960"/>
                <a:ext cx="1284480" cy="533160"/>
              </a:xfrm>
              <a:custGeom>
                <a:avLst/>
                <a:gdLst/>
                <a:ahLst/>
                <a:rect l="l" t="t" r="r" b="b"/>
                <a:pathLst>
                  <a:path w="809" h="336">
                    <a:moveTo>
                      <a:pt x="0" y="333"/>
                    </a:moveTo>
                    <a:lnTo>
                      <a:pt x="3" y="0"/>
                    </a:lnTo>
                    <a:lnTo>
                      <a:pt x="809" y="0"/>
                    </a:lnTo>
                    <a:lnTo>
                      <a:pt x="809" y="336"/>
                    </a:lnTo>
                    <a:lnTo>
                      <a:pt x="3" y="336"/>
                    </a:lnTo>
                    <a:lnTo>
                      <a:pt x="3" y="336"/>
                    </a:lnTo>
                    <a:lnTo>
                      <a:pt x="0" y="333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884160" y="5376960"/>
                <a:ext cx="1284480" cy="533160"/>
              </a:xfrm>
              <a:custGeom>
                <a:avLst/>
                <a:gdLst/>
                <a:ahLst/>
                <a:rect l="l" t="t" r="r" b="b"/>
                <a:pathLst>
                  <a:path w="809" h="336">
                    <a:moveTo>
                      <a:pt x="0" y="333"/>
                    </a:moveTo>
                    <a:lnTo>
                      <a:pt x="3" y="0"/>
                    </a:lnTo>
                    <a:lnTo>
                      <a:pt x="809" y="0"/>
                    </a:lnTo>
                    <a:lnTo>
                      <a:pt x="809" y="336"/>
                    </a:lnTo>
                    <a:lnTo>
                      <a:pt x="3" y="336"/>
                    </a:lnTo>
                    <a:lnTo>
                      <a:pt x="3" y="336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86480" y="3359160"/>
                <a:ext cx="68040" cy="73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43" y="0"/>
                    </a:moveTo>
                    <a:lnTo>
                      <a:pt x="0" y="0"/>
                    </a:lnTo>
                    <a:lnTo>
                      <a:pt x="22" y="46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806560" y="2606760"/>
                <a:ext cx="1274760" cy="871560"/>
              </a:xfrm>
              <a:custGeom>
                <a:avLst/>
                <a:gdLst/>
                <a:ahLst/>
                <a:rect l="l" t="t" r="r" b="b"/>
                <a:pathLst>
                  <a:path w="803" h="549">
                    <a:moveTo>
                      <a:pt x="400" y="0"/>
                    </a:moveTo>
                    <a:lnTo>
                      <a:pt x="0" y="273"/>
                    </a:lnTo>
                    <a:lnTo>
                      <a:pt x="403" y="549"/>
                    </a:lnTo>
                    <a:lnTo>
                      <a:pt x="803" y="273"/>
                    </a:lnTo>
                    <a:lnTo>
                      <a:pt x="403" y="0"/>
                    </a:lnTo>
                    <a:lnTo>
                      <a:pt x="403" y="0"/>
                    </a:lnTo>
                    <a:lnTo>
                      <a:pt x="400" y="0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806560" y="2606760"/>
                <a:ext cx="1274760" cy="871560"/>
              </a:xfrm>
              <a:custGeom>
                <a:avLst/>
                <a:gdLst/>
                <a:ahLst/>
                <a:rect l="l" t="t" r="r" b="b"/>
                <a:pathLst>
                  <a:path w="803" h="549">
                    <a:moveTo>
                      <a:pt x="400" y="0"/>
                    </a:moveTo>
                    <a:lnTo>
                      <a:pt x="0" y="273"/>
                    </a:lnTo>
                    <a:lnTo>
                      <a:pt x="403" y="549"/>
                    </a:lnTo>
                    <a:lnTo>
                      <a:pt x="803" y="273"/>
                    </a:lnTo>
                    <a:lnTo>
                      <a:pt x="403" y="0"/>
                    </a:lnTo>
                    <a:lnTo>
                      <a:pt x="40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408480" y="25257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0"/>
                    </a:moveTo>
                    <a:lnTo>
                      <a:pt x="0" y="0"/>
                    </a:lnTo>
                    <a:lnTo>
                      <a:pt x="24" y="45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V="1">
                <a:off x="3441600" y="2206800"/>
                <a:ext cx="5040" cy="334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803680" y="1673280"/>
                <a:ext cx="1282680" cy="533520"/>
              </a:xfrm>
              <a:custGeom>
                <a:avLst/>
                <a:gdLst/>
                <a:ahLst/>
                <a:rect l="l" t="t" r="r" b="b"/>
                <a:pathLst>
                  <a:path w="808" h="336">
                    <a:moveTo>
                      <a:pt x="0" y="333"/>
                    </a:moveTo>
                    <a:lnTo>
                      <a:pt x="2" y="0"/>
                    </a:lnTo>
                    <a:lnTo>
                      <a:pt x="808" y="0"/>
                    </a:lnTo>
                    <a:lnTo>
                      <a:pt x="808" y="336"/>
                    </a:lnTo>
                    <a:lnTo>
                      <a:pt x="2" y="336"/>
                    </a:lnTo>
                    <a:lnTo>
                      <a:pt x="2" y="336"/>
                    </a:lnTo>
                    <a:lnTo>
                      <a:pt x="0" y="333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803680" y="1673280"/>
                <a:ext cx="1282680" cy="533520"/>
              </a:xfrm>
              <a:custGeom>
                <a:avLst/>
                <a:gdLst/>
                <a:ahLst/>
                <a:rect l="l" t="t" r="r" b="b"/>
                <a:pathLst>
                  <a:path w="808" h="336">
                    <a:moveTo>
                      <a:pt x="0" y="333"/>
                    </a:moveTo>
                    <a:lnTo>
                      <a:pt x="2" y="0"/>
                    </a:lnTo>
                    <a:lnTo>
                      <a:pt x="808" y="0"/>
                    </a:lnTo>
                    <a:lnTo>
                      <a:pt x="808" y="336"/>
                    </a:lnTo>
                    <a:lnTo>
                      <a:pt x="2" y="336"/>
                    </a:lnTo>
                    <a:lnTo>
                      <a:pt x="2" y="336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4017600" y="6059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4118760" y="605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4195440" y="60595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4230360" y="60595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4260600" y="6059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331520" y="605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410000" y="6059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455720" y="6059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498200" y="605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4574520" y="605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655880" y="6059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695120" y="605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772160" y="605952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055760" y="622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093200" y="622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169880" y="622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212720" y="622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250520" y="622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328280" y="622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409640" y="622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447800" y="622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48960" y="62294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42920" y="622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722680" y="450540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0"/>
                    </a:moveTo>
                    <a:lnTo>
                      <a:pt x="2" y="45"/>
                    </a:lnTo>
                    <a:lnTo>
                      <a:pt x="45" y="2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523880" y="4543560"/>
                <a:ext cx="1219320" cy="833400"/>
              </a:xfrm>
              <a:custGeom>
                <a:avLst/>
                <a:gdLst/>
                <a:ahLst/>
                <a:rect l="l" t="t" r="r" b="b"/>
                <a:pathLst>
                  <a:path w="768" h="525">
                    <a:moveTo>
                      <a:pt x="0" y="525"/>
                    </a:moveTo>
                    <a:lnTo>
                      <a:pt x="3" y="0"/>
                    </a:lnTo>
                    <a:lnTo>
                      <a:pt x="768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408480" y="5126040"/>
                <a:ext cx="7128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45" y="0"/>
                    </a:moveTo>
                    <a:lnTo>
                      <a:pt x="0" y="0"/>
                    </a:lnTo>
                    <a:lnTo>
                      <a:pt x="24" y="46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41600" y="4807080"/>
                <a:ext cx="5040" cy="3571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176560" y="56070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43" y="43"/>
                    </a:moveTo>
                    <a:lnTo>
                      <a:pt x="46" y="0"/>
                    </a:lnTo>
                    <a:lnTo>
                      <a:pt x="0" y="2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519800" y="379404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656240" y="3794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703400" y="3794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733640" y="3794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771080" y="3794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852080" y="3794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955960" y="43736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041640" y="4373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087360" y="4373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160440" y="4373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198600" y="4373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23604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317400" y="4373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357720" y="4373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40272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48372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56004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641400" y="4373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68064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75696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838320" y="4373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87576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957480" y="437364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096720" y="4543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39920" y="4543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185280" y="454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262320" y="4543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382560" y="4543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420720" y="454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91640" y="454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569760" y="454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641040" y="454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722040" y="454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6659640" y="521640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6796080" y="5216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6843240" y="5216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87204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691416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99264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03008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11108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18776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23024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30692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345080" y="5216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37964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45632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49844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57512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614720" y="5216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68600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767360" y="5216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83504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91604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99272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8035920" y="521640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61284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68880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76980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84612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692748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696528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04664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08624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12404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20468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28136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31952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36200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43832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51968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55928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59708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67808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75404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83540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87320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95420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803232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070840" y="538164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55776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59520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67620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75288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679068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87132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694980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99228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06896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10640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18740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26372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34508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738468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42248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750312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758484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762228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69860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77960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858080" y="5551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90344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984800" y="55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8057880" y="55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8126280" y="555156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6737040" y="5718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76512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84648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688428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696564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00524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04304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12404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20072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238520" y="5718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342200" y="57182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387920" y="5718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42284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46028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54200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57944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65576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73712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77672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81452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896240" y="57182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114360" y="5556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321552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292200" y="5556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36456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44088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522240" y="5556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56004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641400" y="5556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3671640" y="5556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370908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007640" y="5556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1060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5556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5964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34064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417320" y="5556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460520" y="5556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574280" y="5556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1609200" y="555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77600" y="555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749240" y="555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788840" y="555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860120" y="555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97920" y="555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979280" y="5556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009520" y="5556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191040" y="29559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275640" y="2955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357000" y="2955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450960" y="2955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488400" y="2955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569760" y="2955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600000" y="2955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637800" y="2955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87720" y="18525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172680" y="1852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253680" y="185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347640" y="1852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385440" y="1852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466800" y="1852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534840" y="1852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607560" y="1852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688920" y="1852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757320" y="1852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408480" y="1592280"/>
              <a:ext cx="71280" cy="7308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5" y="0"/>
                  </a:moveTo>
                  <a:lnTo>
                    <a:pt x="0" y="0"/>
                  </a:lnTo>
                  <a:lnTo>
                    <a:pt x="24" y="46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V="1">
              <a:off x="3441600" y="1273320"/>
              <a:ext cx="5040" cy="33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977560" y="1085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071520" y="1085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00320" y="1085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47840" y="1085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89960" y="108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66280" y="108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347640" y="1085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377880" y="1085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415320" y="108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496320" y="108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572640" y="108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654360" y="1085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701160" y="108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782520" y="1085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850920" y="1085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498680" y="28749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583640" y="2874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664640" y="2874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758600" y="2874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797120" y="28749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915920" y="2874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945800" y="287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018880" y="287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090880" y="287496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485000" y="304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566360" y="3040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634760" y="3040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707480" y="304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783440" y="304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864800" y="3040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902960" y="3040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937520" y="304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013840" y="304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307280" y="503244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0"/>
                  </a:moveTo>
                  <a:lnTo>
                    <a:pt x="0" y="0"/>
                  </a:lnTo>
                  <a:lnTo>
                    <a:pt x="24" y="46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614320" y="2836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716920" y="283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101480" y="5437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195080" y="543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276440" y="543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614320" y="5437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716920" y="543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376240" y="3670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469840" y="367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551200" y="3670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889080" y="3670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991680" y="367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359320" y="4262400"/>
              <a:ext cx="1274760" cy="873000"/>
            </a:xfrm>
            <a:custGeom>
              <a:avLst/>
              <a:gdLst/>
              <a:ahLst/>
              <a:rect l="l" t="t" r="r" b="b"/>
              <a:pathLst>
                <a:path w="803" h="550">
                  <a:moveTo>
                    <a:pt x="400" y="0"/>
                  </a:moveTo>
                  <a:lnTo>
                    <a:pt x="0" y="276"/>
                  </a:lnTo>
                  <a:lnTo>
                    <a:pt x="400" y="550"/>
                  </a:lnTo>
                  <a:lnTo>
                    <a:pt x="803" y="276"/>
                  </a:lnTo>
                  <a:lnTo>
                    <a:pt x="400" y="0"/>
                  </a:lnTo>
                  <a:lnTo>
                    <a:pt x="400" y="0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359320" y="4262400"/>
              <a:ext cx="1274760" cy="873000"/>
            </a:xfrm>
            <a:custGeom>
              <a:avLst/>
              <a:gdLst/>
              <a:ahLst/>
              <a:rect l="l" t="t" r="r" b="b"/>
              <a:pathLst>
                <a:path w="803" h="550">
                  <a:moveTo>
                    <a:pt x="400" y="0"/>
                  </a:moveTo>
                  <a:lnTo>
                    <a:pt x="0" y="276"/>
                  </a:lnTo>
                  <a:lnTo>
                    <a:pt x="400" y="550"/>
                  </a:lnTo>
                  <a:lnTo>
                    <a:pt x="803" y="276"/>
                  </a:lnTo>
                  <a:lnTo>
                    <a:pt x="400" y="0"/>
                  </a:lnTo>
                  <a:lnTo>
                    <a:pt x="40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594400" y="45640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730840" y="4564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776560" y="4564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806800" y="4564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844240" y="456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925960" y="4564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964840" y="456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046560" y="456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114600" y="456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185520" y="456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264000" y="456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335280" y="456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408720" y="45640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776200" y="473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857560" y="4735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887800" y="4735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930640" y="4735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968080" y="473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045840" y="473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126840" y="473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635960" y="48974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709680" y="4525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807960" y="452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884640" y="452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964040" y="5014800"/>
              <a:ext cx="71640" cy="7308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5" y="0"/>
                  </a:moveTo>
                  <a:lnTo>
                    <a:pt x="0" y="0"/>
                  </a:lnTo>
                  <a:lnTo>
                    <a:pt x="24" y="46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4997520" y="4695840"/>
              <a:ext cx="4680" cy="3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128920" y="4535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231520" y="453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498920" y="511020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630680" y="5110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681080" y="5110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711320" y="5110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74912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830480" y="5110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86972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951440" y="5110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99680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073480" y="5110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11236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194080" y="5110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265360" y="5110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303520" y="5110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33304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41404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492880" y="511020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695120" y="528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771800" y="5280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844520" y="5280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915800" y="528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991760" y="528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073480" y="5280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113080" y="52801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141160" y="528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222160" y="528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4784040" y="3100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87764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959000" y="310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027400" y="310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100120" y="31003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128920" y="310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20128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277960" y="31003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312880" y="3100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351040" y="3100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38884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46984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54580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627520" y="3100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67432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756040" y="310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824080" y="310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4" name=""/>
          <p:cNvSpPr/>
          <p:nvPr/>
        </p:nvSpPr>
        <p:spPr>
          <a:xfrm>
            <a:off x="6075360" y="1139760"/>
            <a:ext cx="2911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esta máquina não há write h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rite throug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inha de uma palav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rite buff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48:44Z</dcterms:created>
  <dc:creator>Tod Amon</dc:creator>
  <dc:description/>
  <dc:language>en-US</dc:language>
  <cp:lastModifiedBy>Mario Côrtes</cp:lastModifiedBy>
  <cp:lastPrinted>2001-05-26T17:39:16Z</cp:lastPrinted>
  <dcterms:modified xsi:type="dcterms:W3CDTF">2002-05-22T10:42:15Z</dcterms:modified>
  <cp:revision>71</cp:revision>
  <dc:subject/>
  <dc:title>Chapter Seven</dc:title>
</cp:coreProperties>
</file>