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7E7F3BD4-DB37-433A-9AD4-86462A2ADB4E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12:34:26Z</dcterms:modified>
  <cp:revision>13</cp:revision>
  <dc:subject/>
  <dc:title>Chapter Six</dc:title>
</cp:coreProperties>
</file>