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39640" y="652464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0-</a:t>
            </a:r>
            <a:fld id="{E4089F68-E9A1-4CB5-B141-12FE7DE91FE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2240" y="657072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11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ão de Conceitos de Circuitos Lógicos e Estruturas para Arquitetura de Computado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: comunic. entre elemento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4600" y="2267640"/>
            <a:ext cx="6786720" cy="3980520"/>
            <a:chOff x="534600" y="2267640"/>
            <a:chExt cx="6786720" cy="3980520"/>
          </a:xfrm>
        </p:grpSpPr>
        <p:sp>
          <p:nvSpPr>
            <p:cNvPr id="266" name=""/>
            <p:cNvSpPr/>
            <p:nvPr/>
          </p:nvSpPr>
          <p:spPr>
            <a:xfrm>
              <a:off x="534600" y="2267640"/>
              <a:ext cx="2445120" cy="39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antagens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mplement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implic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usto (HW &amp; proje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scal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xpansi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solamento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(desacoplamen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LSI (regularid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55760" y="2892600"/>
              <a:ext cx="2365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svantagens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alta de paralelism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11280" y="1066680"/>
            <a:ext cx="7313400" cy="1219320"/>
            <a:chOff x="611280" y="1066680"/>
            <a:chExt cx="7313400" cy="1219320"/>
          </a:xfrm>
        </p:grpSpPr>
        <p:sp>
          <p:nvSpPr>
            <p:cNvPr id="269" name=""/>
            <p:cNvSpPr/>
            <p:nvPr/>
          </p:nvSpPr>
          <p:spPr>
            <a:xfrm>
              <a:off x="611280" y="1066680"/>
              <a:ext cx="26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) barramento si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124080" y="1371600"/>
              <a:ext cx="4800600" cy="914400"/>
              <a:chOff x="3124080" y="1371600"/>
              <a:chExt cx="4800600" cy="914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124080" y="2286000"/>
                <a:ext cx="4800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7672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1972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868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5800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81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83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7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10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4674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3244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1055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9625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4497120" y="4343400"/>
            <a:ext cx="4184280" cy="1829520"/>
            <a:chOff x="4497120" y="4343400"/>
            <a:chExt cx="4184280" cy="1829520"/>
          </a:xfrm>
        </p:grpSpPr>
        <p:sp>
          <p:nvSpPr>
            <p:cNvPr id="285" name=""/>
            <p:cNvSpPr/>
            <p:nvPr/>
          </p:nvSpPr>
          <p:spPr>
            <a:xfrm>
              <a:off x="4497120" y="4343400"/>
              <a:ext cx="34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) variante: barramento dup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181480" y="4876920"/>
              <a:ext cx="2819520" cy="841320"/>
              <a:chOff x="5181480" y="4876920"/>
              <a:chExt cx="2819520" cy="841320"/>
            </a:xfrm>
          </p:grpSpPr>
          <p:sp>
            <p:nvSpPr>
              <p:cNvPr id="287" name=""/>
              <p:cNvSpPr/>
              <p:nvPr/>
            </p:nvSpPr>
            <p:spPr>
              <a:xfrm>
                <a:off x="5181480" y="571824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7040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4180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5784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7388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4968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7680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9284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6424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73244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06104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34500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67360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181480" y="4876920"/>
                <a:ext cx="2819520" cy="312480"/>
                <a:chOff x="5181480" y="4876920"/>
                <a:chExt cx="2819520" cy="312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181480" y="4876920"/>
                  <a:ext cx="28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500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768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7928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646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77328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70610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634536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56736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>
              <a:off x="4634280" y="5804640"/>
              <a:ext cx="404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s transações simultâneas por cic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58920" y="1273680"/>
            <a:ext cx="8120520" cy="33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unicação unidade x barramen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eitura (bar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unidad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rita (unidade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bar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e qual unidade escreve no barramen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 multiplex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s de implementação de escrit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D-OR (convenc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ired AND ou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-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popular: 3-St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52480" y="4876200"/>
            <a:ext cx="1943280" cy="914760"/>
            <a:chOff x="1752480" y="4876200"/>
            <a:chExt cx="1943280" cy="914760"/>
          </a:xfrm>
        </p:grpSpPr>
        <p:grpSp>
          <p:nvGrpSpPr>
            <p:cNvPr id="314" name=""/>
            <p:cNvGrpSpPr/>
            <p:nvPr/>
          </p:nvGrpSpPr>
          <p:grpSpPr>
            <a:xfrm>
              <a:off x="2286000" y="4952880"/>
              <a:ext cx="914400" cy="838080"/>
              <a:chOff x="2286000" y="4952880"/>
              <a:chExt cx="914400" cy="83808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2743200" y="4952880"/>
                <a:ext cx="0" cy="39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286000" y="5446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 rot="16200000">
                <a:off x="2371320" y="5152320"/>
                <a:ext cx="705600" cy="57132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821320" y="4876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5271480"/>
              <a:ext cx="4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720" y="52570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014000" y="4875840"/>
            <a:ext cx="3870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N = 1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=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N = 0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= Z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(Z = alta impedânci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sligad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114800"/>
            <a:ext cx="838188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9040" y="419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51400" y="52570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s mod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19320" y="4799520"/>
            <a:ext cx="4114800" cy="839160"/>
            <a:chOff x="1219320" y="4799520"/>
            <a:chExt cx="4114800" cy="839160"/>
          </a:xfrm>
        </p:grpSpPr>
        <p:grpSp>
          <p:nvGrpSpPr>
            <p:cNvPr id="327" name=""/>
            <p:cNvGrpSpPr/>
            <p:nvPr/>
          </p:nvGrpSpPr>
          <p:grpSpPr>
            <a:xfrm>
              <a:off x="1604160" y="4799520"/>
              <a:ext cx="1520280" cy="839160"/>
              <a:chOff x="1604160" y="4799520"/>
              <a:chExt cx="1520280" cy="839160"/>
            </a:xfrm>
          </p:grpSpPr>
          <p:sp>
            <p:nvSpPr>
              <p:cNvPr id="328" name=""/>
              <p:cNvSpPr/>
              <p:nvPr/>
            </p:nvSpPr>
            <p:spPr>
              <a:xfrm>
                <a:off x="2438640" y="50292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2000520" y="5200560"/>
                <a:ext cx="30456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828800" y="5105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04160" y="47995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219320" y="5638680"/>
              <a:ext cx="411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429720" y="4799520"/>
              <a:ext cx="1520280" cy="839160"/>
              <a:chOff x="3429720" y="4799520"/>
              <a:chExt cx="1520280" cy="839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264200" y="50292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3826080" y="5200560"/>
                <a:ext cx="30456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54360" y="5105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429720" y="47995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04920" y="990720"/>
            <a:ext cx="8381880" cy="2971800"/>
            <a:chOff x="304920" y="990720"/>
            <a:chExt cx="8381880" cy="2971800"/>
          </a:xfrm>
        </p:grpSpPr>
        <p:grpSp>
          <p:nvGrpSpPr>
            <p:cNvPr id="339" name=""/>
            <p:cNvGrpSpPr/>
            <p:nvPr/>
          </p:nvGrpSpPr>
          <p:grpSpPr>
            <a:xfrm>
              <a:off x="304920" y="990720"/>
              <a:ext cx="8381880" cy="2971800"/>
              <a:chOff x="304920" y="990720"/>
              <a:chExt cx="8381880" cy="2971800"/>
            </a:xfrm>
          </p:grpSpPr>
          <p:sp>
            <p:nvSpPr>
              <p:cNvPr id="340" name=""/>
              <p:cNvSpPr/>
              <p:nvPr/>
            </p:nvSpPr>
            <p:spPr>
              <a:xfrm>
                <a:off x="304920" y="990720"/>
                <a:ext cx="8381880" cy="29718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920" y="990720"/>
                <a:ext cx="8381880" cy="29718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60120" y="1066320"/>
                <a:ext cx="94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scri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838080" y="1219320"/>
                <a:ext cx="1981440" cy="2133720"/>
                <a:chOff x="838080" y="1219320"/>
                <a:chExt cx="1981440" cy="2133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438280" y="228600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19320" y="2590920"/>
                  <a:ext cx="996840" cy="685800"/>
                </a:xfrm>
                <a:custGeom>
                  <a:avLst/>
                  <a:gdLst/>
                  <a:ahLst/>
                  <a:rect l="l" t="t" r="r" b="b"/>
                  <a:pathLst>
                    <a:path w="1060" h="424">
                      <a:moveTo>
                        <a:pt x="0" y="424"/>
                      </a:moveTo>
                      <a:lnTo>
                        <a:pt x="724" y="424"/>
                      </a:lnTo>
                      <a:lnTo>
                        <a:pt x="724" y="0"/>
                      </a:lnTo>
                      <a:lnTo>
                        <a:pt x="106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219320" y="1294920"/>
                  <a:ext cx="996840" cy="685800"/>
                </a:xfrm>
                <a:custGeom>
                  <a:avLst/>
                  <a:gdLst/>
                  <a:ahLst/>
                  <a:rect l="l" t="t" r="r" b="b"/>
                  <a:pathLst>
                    <a:path w="1060" h="424">
                      <a:moveTo>
                        <a:pt x="0" y="424"/>
                      </a:moveTo>
                      <a:lnTo>
                        <a:pt x="724" y="424"/>
                      </a:lnTo>
                      <a:lnTo>
                        <a:pt x="724" y="0"/>
                      </a:lnTo>
                      <a:lnTo>
                        <a:pt x="106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38080" y="121932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1720" y="1812960"/>
                  <a:ext cx="1144440" cy="397080"/>
                </a:xfrm>
                <a:custGeom>
                  <a:avLst/>
                  <a:gdLst/>
                  <a:ahLst/>
                  <a:rect l="l" t="t" r="r" b="b"/>
                  <a:pathLst>
                    <a:path w="721" h="250">
                      <a:moveTo>
                        <a:pt x="0" y="0"/>
                      </a:moveTo>
                      <a:lnTo>
                        <a:pt x="395" y="0"/>
                      </a:lnTo>
                      <a:lnTo>
                        <a:pt x="395" y="248"/>
                      </a:lnTo>
                      <a:lnTo>
                        <a:pt x="721" y="2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066680" y="2422800"/>
                  <a:ext cx="1144800" cy="396720"/>
                </a:xfrm>
                <a:custGeom>
                  <a:avLst/>
                  <a:gdLst/>
                  <a:ahLst/>
                  <a:rect l="l" t="t" r="r" b="b"/>
                  <a:pathLst>
                    <a:path w="721" h="250">
                      <a:moveTo>
                        <a:pt x="0" y="0"/>
                      </a:moveTo>
                      <a:lnTo>
                        <a:pt x="395" y="0"/>
                      </a:lnTo>
                      <a:lnTo>
                        <a:pt x="395" y="248"/>
                      </a:lnTo>
                      <a:lnTo>
                        <a:pt x="721" y="2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38080" y="167652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38080" y="266724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38080" y="312444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1600200" y="2133720"/>
                  <a:ext cx="1447920" cy="380880"/>
                </a:xfrm>
                <a:custGeom>
                  <a:avLst/>
                  <a:gdLst>
                    <a:gd name="textAreaLeft" fmla="*/ 318240 w 1447920"/>
                    <a:gd name="textAreaRight" fmla="*/ 1129680 w 144792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538920" y="3504600"/>
                <a:ext cx="356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UX convencional (não modula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00600" y="259092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876920" y="1676520"/>
                <a:ext cx="894960" cy="948960"/>
                <a:chOff x="4876920" y="1676520"/>
                <a:chExt cx="894960" cy="9489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1973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51451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49528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452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8769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876920" y="1676520"/>
                <a:ext cx="894960" cy="948960"/>
                <a:chOff x="4876920" y="1676520"/>
                <a:chExt cx="894960" cy="948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1973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1451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49528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2452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8769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5562720" y="1676520"/>
                <a:ext cx="894960" cy="948960"/>
                <a:chOff x="5562720" y="1676520"/>
                <a:chExt cx="894960" cy="9489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8831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58309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56386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9310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5627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400800" y="1676520"/>
                <a:ext cx="894960" cy="948960"/>
                <a:chOff x="6400800" y="1676520"/>
                <a:chExt cx="894960" cy="9489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72120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666900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47676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76908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0080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7238880" y="1676520"/>
                <a:ext cx="894960" cy="948960"/>
                <a:chOff x="7238880" y="1676520"/>
                <a:chExt cx="894960" cy="9489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755928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750708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31484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60716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23888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898880" y="3352320"/>
                <a:ext cx="307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penas um EN ativo por ve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819520" y="121932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 modular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447920" y="1744920"/>
            <a:ext cx="6095880" cy="1150560"/>
            <a:chOff x="1447920" y="1744920"/>
            <a:chExt cx="6095880" cy="1150560"/>
          </a:xfrm>
        </p:grpSpPr>
        <p:grpSp>
          <p:nvGrpSpPr>
            <p:cNvPr id="390" name=""/>
            <p:cNvGrpSpPr/>
            <p:nvPr/>
          </p:nvGrpSpPr>
          <p:grpSpPr>
            <a:xfrm>
              <a:off x="5791320" y="2209680"/>
              <a:ext cx="1459440" cy="685440"/>
              <a:chOff x="5791320" y="2209680"/>
              <a:chExt cx="1459440" cy="685440"/>
            </a:xfrm>
          </p:grpSpPr>
          <p:sp>
            <p:nvSpPr>
              <p:cNvPr id="391" name=""/>
              <p:cNvSpPr/>
              <p:nvPr/>
            </p:nvSpPr>
            <p:spPr>
              <a:xfrm>
                <a:off x="5791320" y="2209680"/>
                <a:ext cx="762120" cy="68544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00960" y="2552040"/>
                <a:ext cx="22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6356520" y="2373480"/>
                <a:ext cx="392040" cy="33300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74680" y="25462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2B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048120" y="2209680"/>
              <a:ext cx="1459440" cy="685440"/>
              <a:chOff x="3048120" y="2209680"/>
              <a:chExt cx="1459440" cy="685440"/>
            </a:xfrm>
          </p:grpSpPr>
          <p:sp>
            <p:nvSpPr>
              <p:cNvPr id="396" name=""/>
              <p:cNvSpPr/>
              <p:nvPr/>
            </p:nvSpPr>
            <p:spPr>
              <a:xfrm>
                <a:off x="3048120" y="2209680"/>
                <a:ext cx="762120" cy="68544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57760" y="2552040"/>
                <a:ext cx="22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3613320" y="2373480"/>
                <a:ext cx="392040" cy="33300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31480" y="25462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2B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832760" y="1744920"/>
              <a:ext cx="1519560" cy="1149840"/>
              <a:chOff x="1832760" y="1744920"/>
              <a:chExt cx="1519560" cy="1149840"/>
            </a:xfrm>
          </p:grpSpPr>
          <p:sp>
            <p:nvSpPr>
              <p:cNvPr id="401" name=""/>
              <p:cNvSpPr/>
              <p:nvPr/>
            </p:nvSpPr>
            <p:spPr>
              <a:xfrm>
                <a:off x="2666880" y="2009520"/>
                <a:ext cx="685440" cy="553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200000">
                <a:off x="2159640" y="2387880"/>
                <a:ext cx="442440" cy="5713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57040" y="21204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32760" y="17449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447920" y="2895480"/>
              <a:ext cx="609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4651920" y="1768680"/>
              <a:ext cx="1520280" cy="1125720"/>
              <a:chOff x="4651920" y="1768680"/>
              <a:chExt cx="1520280" cy="112572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031120"/>
                <a:ext cx="685800" cy="53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200000">
                <a:off x="4984920" y="2392920"/>
                <a:ext cx="43128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76560" y="2139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51920" y="17686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1221120" y="3309840"/>
            <a:ext cx="528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tura e escrita mod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sibilidade e desacopl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ularid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encial para VLSI, geometria e disposi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físicas são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rcuitos seqüênci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es &amp; FlipFl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est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04920" y="3581280"/>
            <a:ext cx="830556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066680"/>
            <a:ext cx="8305920" cy="2057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ementos de armazenamento: L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600" y="15231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S-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0" y="1294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560" y="25138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5280" y="40377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Tipo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06600" y="236160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2920" y="1523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8002440" y="4266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03960" y="388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16920" y="4571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82880" y="3656880"/>
            <a:ext cx="1876320" cy="1676880"/>
            <a:chOff x="1982880" y="3656880"/>
            <a:chExt cx="1876320" cy="1676880"/>
          </a:xfrm>
        </p:grpSpPr>
        <p:grpSp>
          <p:nvGrpSpPr>
            <p:cNvPr id="429" name=""/>
            <p:cNvGrpSpPr/>
            <p:nvPr/>
          </p:nvGrpSpPr>
          <p:grpSpPr>
            <a:xfrm>
              <a:off x="1982880" y="3656880"/>
              <a:ext cx="1876320" cy="1676880"/>
              <a:chOff x="1982880" y="3656880"/>
              <a:chExt cx="1876320" cy="167688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279520" y="3962160"/>
                <a:ext cx="1295280" cy="1371600"/>
                <a:chOff x="2279520" y="3962160"/>
                <a:chExt cx="1295280" cy="13716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965320" y="4647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815920" y="396216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79520" y="44956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355840" y="4647960"/>
                  <a:ext cx="838080" cy="685800"/>
                </a:xfrm>
                <a:custGeom>
                  <a:avLst/>
                  <a:gdLst/>
                  <a:ahLst/>
                  <a:rect l="l" t="t" r="r" b="b"/>
                  <a:pathLst>
                    <a:path w="528" h="576">
                      <a:moveTo>
                        <a:pt x="240" y="192"/>
                      </a:moveTo>
                      <a:lnTo>
                        <a:pt x="0" y="192"/>
                      </a:lnTo>
                      <a:lnTo>
                        <a:pt x="0" y="576"/>
                      </a:lnTo>
                      <a:lnTo>
                        <a:pt x="528" y="576"/>
                      </a:lnTo>
                      <a:lnTo>
                        <a:pt x="52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6200000">
                  <a:off x="2355480" y="4495320"/>
                  <a:ext cx="990720" cy="381240"/>
                </a:xfrm>
                <a:custGeom>
                  <a:avLst/>
                  <a:gdLst>
                    <a:gd name="textAreaLeft" fmla="*/ 217800 w 990720"/>
                    <a:gd name="textAreaRight" fmla="*/ 772920 w 990720"/>
                    <a:gd name="textAreaTop" fmla="*/ 83880 h 381240"/>
                    <a:gd name="textAreaBottom" fmla="*/ 297360 h 38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500280" y="4342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05680" y="36568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82880" y="4114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1982880" y="3656880"/>
              <a:ext cx="1876320" cy="1676880"/>
              <a:chOff x="1982880" y="3656880"/>
              <a:chExt cx="1876320" cy="167688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279520" y="3962160"/>
                <a:ext cx="1295280" cy="1371600"/>
                <a:chOff x="2279520" y="3962160"/>
                <a:chExt cx="1295280" cy="13716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965320" y="4647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815920" y="396216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279520" y="44956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355840" y="4647960"/>
                  <a:ext cx="838080" cy="685800"/>
                </a:xfrm>
                <a:custGeom>
                  <a:avLst/>
                  <a:gdLst/>
                  <a:ahLst/>
                  <a:rect l="l" t="t" r="r" b="b"/>
                  <a:pathLst>
                    <a:path w="528" h="576">
                      <a:moveTo>
                        <a:pt x="240" y="192"/>
                      </a:moveTo>
                      <a:lnTo>
                        <a:pt x="0" y="192"/>
                      </a:lnTo>
                      <a:lnTo>
                        <a:pt x="0" y="576"/>
                      </a:lnTo>
                      <a:lnTo>
                        <a:pt x="528" y="576"/>
                      </a:lnTo>
                      <a:lnTo>
                        <a:pt x="52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2355480" y="4495320"/>
                  <a:ext cx="990720" cy="381240"/>
                </a:xfrm>
                <a:custGeom>
                  <a:avLst/>
                  <a:gdLst>
                    <a:gd name="textAreaLeft" fmla="*/ 217800 w 990720"/>
                    <a:gd name="textAreaRight" fmla="*/ 772920 w 990720"/>
                    <a:gd name="textAreaTop" fmla="*/ 83880 h 381240"/>
                    <a:gd name="textAreaBottom" fmla="*/ 297360 h 38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3500280" y="4342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05680" y="36568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82880" y="4114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2592720" y="4723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2720" y="4342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04920" y="3581280"/>
            <a:ext cx="830556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066680"/>
            <a:ext cx="830592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ementos de armazenamento: Flip-Fl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2080" y="152316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6600" y="40377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 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438280" y="1447920"/>
            <a:ext cx="1523880" cy="865800"/>
            <a:chOff x="2438280" y="1447920"/>
            <a:chExt cx="1523880" cy="865800"/>
          </a:xfrm>
        </p:grpSpPr>
        <p:sp>
          <p:nvSpPr>
            <p:cNvPr id="457" name=""/>
            <p:cNvSpPr/>
            <p:nvPr/>
          </p:nvSpPr>
          <p:spPr>
            <a:xfrm>
              <a:off x="2438280" y="167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8280" y="2059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41400" y="1447920"/>
              <a:ext cx="839880" cy="8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11520" y="15256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92160" y="20066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8440" y="15256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91760" y="19065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42840" y="1982880"/>
              <a:ext cx="131760" cy="15228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590920" y="4191120"/>
            <a:ext cx="1523880" cy="914400"/>
            <a:chOff x="2590920" y="4191120"/>
            <a:chExt cx="1523880" cy="914400"/>
          </a:xfrm>
        </p:grpSpPr>
        <p:sp>
          <p:nvSpPr>
            <p:cNvPr id="466" name=""/>
            <p:cNvSpPr/>
            <p:nvPr/>
          </p:nvSpPr>
          <p:spPr>
            <a:xfrm flipV="1">
              <a:off x="2590920" y="4875480"/>
              <a:ext cx="152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44211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590920" y="4648320"/>
              <a:ext cx="83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94040" y="4191120"/>
              <a:ext cx="9154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63080" y="4268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72880" y="45100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06400" y="42688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29720" y="46497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5480" y="4572000"/>
              <a:ext cx="131400" cy="15264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96920" y="4724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15920" y="175212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ão 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nsível à bor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20520" y="3733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49960" y="3505320"/>
          <a:ext cx="3794040" cy="26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3505320"/>
                    <a:ext cx="37940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28600" y="914400"/>
            <a:ext cx="868680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atch (transparente) versus Flip-Flop (bord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962520" y="990720"/>
            <a:ext cx="533160" cy="838080"/>
            <a:chOff x="3962520" y="990720"/>
            <a:chExt cx="533160" cy="838080"/>
          </a:xfrm>
        </p:grpSpPr>
        <p:sp>
          <p:nvSpPr>
            <p:cNvPr id="483" name=""/>
            <p:cNvSpPr/>
            <p:nvPr/>
          </p:nvSpPr>
          <p:spPr>
            <a:xfrm>
              <a:off x="3962520" y="99072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62520" y="12232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625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495680" y="1004400"/>
            <a:ext cx="609480" cy="838440"/>
            <a:chOff x="4495680" y="1004400"/>
            <a:chExt cx="609480" cy="838440"/>
          </a:xfrm>
        </p:grpSpPr>
        <p:sp>
          <p:nvSpPr>
            <p:cNvPr id="488" name=""/>
            <p:cNvSpPr/>
            <p:nvPr/>
          </p:nvSpPr>
          <p:spPr>
            <a:xfrm flipV="1">
              <a:off x="4495680" y="1004040"/>
              <a:ext cx="6094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95680" y="1610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105160" y="12373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495680" y="12373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105520" y="990720"/>
            <a:ext cx="609480" cy="838080"/>
            <a:chOff x="5105520" y="990720"/>
            <a:chExt cx="609480" cy="838080"/>
          </a:xfrm>
        </p:grpSpPr>
        <p:sp>
          <p:nvSpPr>
            <p:cNvPr id="493" name=""/>
            <p:cNvSpPr/>
            <p:nvPr/>
          </p:nvSpPr>
          <p:spPr>
            <a:xfrm>
              <a:off x="51055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0552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150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055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971800" y="990720"/>
            <a:ext cx="990360" cy="838080"/>
            <a:chOff x="2971800" y="990720"/>
            <a:chExt cx="990360" cy="838080"/>
          </a:xfrm>
        </p:grpSpPr>
        <p:sp>
          <p:nvSpPr>
            <p:cNvPr id="498" name=""/>
            <p:cNvSpPr/>
            <p:nvPr/>
          </p:nvSpPr>
          <p:spPr>
            <a:xfrm flipV="1">
              <a:off x="2971800" y="990720"/>
              <a:ext cx="99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1800" y="15958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96216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9718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15000" y="990720"/>
            <a:ext cx="380880" cy="838080"/>
            <a:chOff x="5715000" y="990720"/>
            <a:chExt cx="380880" cy="838080"/>
          </a:xfrm>
        </p:grpSpPr>
        <p:sp>
          <p:nvSpPr>
            <p:cNvPr id="503" name=""/>
            <p:cNvSpPr/>
            <p:nvPr/>
          </p:nvSpPr>
          <p:spPr>
            <a:xfrm flipV="1">
              <a:off x="5715000" y="99072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15000" y="1595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0958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57150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362320" y="990720"/>
            <a:ext cx="609480" cy="838080"/>
            <a:chOff x="2362320" y="990720"/>
            <a:chExt cx="609480" cy="838080"/>
          </a:xfrm>
        </p:grpSpPr>
        <p:sp>
          <p:nvSpPr>
            <p:cNvPr id="508" name=""/>
            <p:cNvSpPr/>
            <p:nvPr/>
          </p:nvSpPr>
          <p:spPr>
            <a:xfrm>
              <a:off x="23623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62320" y="12240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971800" y="12240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990720"/>
            <a:ext cx="609480" cy="838080"/>
            <a:chOff x="7315200" y="990720"/>
            <a:chExt cx="609480" cy="838080"/>
          </a:xfrm>
        </p:grpSpPr>
        <p:sp>
          <p:nvSpPr>
            <p:cNvPr id="512" name=""/>
            <p:cNvSpPr/>
            <p:nvPr/>
          </p:nvSpPr>
          <p:spPr>
            <a:xfrm>
              <a:off x="731520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520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46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924680" y="990720"/>
            <a:ext cx="609840" cy="838080"/>
            <a:chOff x="7924680" y="990720"/>
            <a:chExt cx="609840" cy="838080"/>
          </a:xfrm>
        </p:grpSpPr>
        <p:sp>
          <p:nvSpPr>
            <p:cNvPr id="517" name=""/>
            <p:cNvSpPr/>
            <p:nvPr/>
          </p:nvSpPr>
          <p:spPr>
            <a:xfrm flipV="1">
              <a:off x="7924680" y="9907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24680" y="15955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24680" y="12240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705720" y="990720"/>
            <a:ext cx="609480" cy="838080"/>
            <a:chOff x="6705720" y="990720"/>
            <a:chExt cx="609480" cy="838080"/>
          </a:xfrm>
        </p:grpSpPr>
        <p:sp>
          <p:nvSpPr>
            <p:cNvPr id="521" name=""/>
            <p:cNvSpPr/>
            <p:nvPr/>
          </p:nvSpPr>
          <p:spPr>
            <a:xfrm flipV="1">
              <a:off x="67057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05720" y="15958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152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7057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095880" y="990720"/>
            <a:ext cx="609480" cy="838080"/>
            <a:chOff x="6095880" y="990720"/>
            <a:chExt cx="609480" cy="838080"/>
          </a:xfrm>
        </p:grpSpPr>
        <p:sp>
          <p:nvSpPr>
            <p:cNvPr id="526" name=""/>
            <p:cNvSpPr/>
            <p:nvPr/>
          </p:nvSpPr>
          <p:spPr>
            <a:xfrm>
              <a:off x="609588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36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958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30400" y="10659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6920" y="1065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54640" y="2056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581280" y="1662120"/>
            <a:ext cx="1295640" cy="838080"/>
            <a:chOff x="3581280" y="1662120"/>
            <a:chExt cx="1295640" cy="838080"/>
          </a:xfrm>
        </p:grpSpPr>
        <p:sp>
          <p:nvSpPr>
            <p:cNvPr id="534" name=""/>
            <p:cNvSpPr/>
            <p:nvPr/>
          </p:nvSpPr>
          <p:spPr>
            <a:xfrm>
              <a:off x="3581280" y="1662120"/>
              <a:ext cx="12956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81280" y="18946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769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8128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876920" y="1676520"/>
            <a:ext cx="1599480" cy="838080"/>
            <a:chOff x="4876920" y="1676520"/>
            <a:chExt cx="1599480" cy="838080"/>
          </a:xfrm>
        </p:grpSpPr>
        <p:sp>
          <p:nvSpPr>
            <p:cNvPr id="539" name=""/>
            <p:cNvSpPr/>
            <p:nvPr/>
          </p:nvSpPr>
          <p:spPr>
            <a:xfrm flipV="1">
              <a:off x="4876920" y="1676520"/>
              <a:ext cx="159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76920" y="2281680"/>
              <a:ext cx="159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6476400" y="1909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876920" y="1909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6477120" y="1662120"/>
            <a:ext cx="1218600" cy="838080"/>
            <a:chOff x="6477120" y="1662120"/>
            <a:chExt cx="1218600" cy="838080"/>
          </a:xfrm>
        </p:grpSpPr>
        <p:sp>
          <p:nvSpPr>
            <p:cNvPr id="544" name=""/>
            <p:cNvSpPr/>
            <p:nvPr/>
          </p:nvSpPr>
          <p:spPr>
            <a:xfrm>
              <a:off x="6477120" y="16621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77120" y="18946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957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771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 flipV="1">
            <a:off x="3581280" y="18954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362320" y="1662120"/>
            <a:ext cx="1218600" cy="838080"/>
            <a:chOff x="2362320" y="1662120"/>
            <a:chExt cx="1218600" cy="838080"/>
          </a:xfrm>
        </p:grpSpPr>
        <p:sp>
          <p:nvSpPr>
            <p:cNvPr id="550" name=""/>
            <p:cNvSpPr/>
            <p:nvPr/>
          </p:nvSpPr>
          <p:spPr>
            <a:xfrm flipV="1">
              <a:off x="2362320" y="16621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22665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580920" y="1895400"/>
              <a:ext cx="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696080" y="1662120"/>
            <a:ext cx="609840" cy="838080"/>
            <a:chOff x="7696080" y="1662120"/>
            <a:chExt cx="609840" cy="838080"/>
          </a:xfrm>
        </p:grpSpPr>
        <p:sp>
          <p:nvSpPr>
            <p:cNvPr id="554" name=""/>
            <p:cNvSpPr/>
            <p:nvPr/>
          </p:nvSpPr>
          <p:spPr>
            <a:xfrm flipV="1">
              <a:off x="7696080" y="16621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96080" y="22669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696080" y="18954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962520" y="2514600"/>
            <a:ext cx="533160" cy="838080"/>
            <a:chOff x="3962520" y="2514600"/>
            <a:chExt cx="533160" cy="838080"/>
          </a:xfrm>
        </p:grpSpPr>
        <p:sp>
          <p:nvSpPr>
            <p:cNvPr id="558" name=""/>
            <p:cNvSpPr/>
            <p:nvPr/>
          </p:nvSpPr>
          <p:spPr>
            <a:xfrm>
              <a:off x="3962520" y="251460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2520" y="2747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25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495680" y="2529000"/>
            <a:ext cx="1980360" cy="838080"/>
            <a:chOff x="4495680" y="2529000"/>
            <a:chExt cx="1980360" cy="838080"/>
          </a:xfrm>
        </p:grpSpPr>
        <p:sp>
          <p:nvSpPr>
            <p:cNvPr id="563" name=""/>
            <p:cNvSpPr/>
            <p:nvPr/>
          </p:nvSpPr>
          <p:spPr>
            <a:xfrm flipV="1">
              <a:off x="4495680" y="2529000"/>
              <a:ext cx="198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95680" y="3134160"/>
              <a:ext cx="19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476040" y="27615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4495680" y="27615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581280" y="2514600"/>
            <a:ext cx="381240" cy="838080"/>
            <a:chOff x="3581280" y="2514600"/>
            <a:chExt cx="381240" cy="838080"/>
          </a:xfrm>
        </p:grpSpPr>
        <p:sp>
          <p:nvSpPr>
            <p:cNvPr id="568" name=""/>
            <p:cNvSpPr/>
            <p:nvPr/>
          </p:nvSpPr>
          <p:spPr>
            <a:xfrm flipV="1">
              <a:off x="3581280" y="2514600"/>
              <a:ext cx="3812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81280" y="31197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9625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362320" y="2514600"/>
            <a:ext cx="1218600" cy="838080"/>
            <a:chOff x="2362320" y="2514600"/>
            <a:chExt cx="1218600" cy="838080"/>
          </a:xfrm>
        </p:grpSpPr>
        <p:sp>
          <p:nvSpPr>
            <p:cNvPr id="573" name=""/>
            <p:cNvSpPr/>
            <p:nvPr/>
          </p:nvSpPr>
          <p:spPr>
            <a:xfrm>
              <a:off x="2362320" y="251460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62320" y="27478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80920" y="27478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705720" y="2514600"/>
            <a:ext cx="609480" cy="838080"/>
            <a:chOff x="6705720" y="2514600"/>
            <a:chExt cx="609480" cy="838080"/>
          </a:xfrm>
        </p:grpSpPr>
        <p:sp>
          <p:nvSpPr>
            <p:cNvPr id="577" name=""/>
            <p:cNvSpPr/>
            <p:nvPr/>
          </p:nvSpPr>
          <p:spPr>
            <a:xfrm flipV="1">
              <a:off x="6705720" y="251460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31197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1520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7057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477120" y="2514600"/>
            <a:ext cx="228600" cy="838080"/>
            <a:chOff x="6477120" y="2514600"/>
            <a:chExt cx="228600" cy="838080"/>
          </a:xfrm>
        </p:grpSpPr>
        <p:sp>
          <p:nvSpPr>
            <p:cNvPr id="582" name=""/>
            <p:cNvSpPr/>
            <p:nvPr/>
          </p:nvSpPr>
          <p:spPr>
            <a:xfrm>
              <a:off x="6477120" y="2514600"/>
              <a:ext cx="22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7120" y="274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57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771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1828800" y="2585520"/>
            <a:ext cx="73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315200" y="2514600"/>
            <a:ext cx="1066320" cy="838080"/>
            <a:chOff x="7315200" y="2514600"/>
            <a:chExt cx="1066320" cy="838080"/>
          </a:xfrm>
        </p:grpSpPr>
        <p:sp>
          <p:nvSpPr>
            <p:cNvPr id="588" name=""/>
            <p:cNvSpPr/>
            <p:nvPr/>
          </p:nvSpPr>
          <p:spPr>
            <a:xfrm>
              <a:off x="7315200" y="2514600"/>
              <a:ext cx="10663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15200" y="2747880"/>
              <a:ext cx="106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15200" y="27478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581280" y="990720"/>
            <a:ext cx="4114800" cy="2552760"/>
            <a:chOff x="3581280" y="990720"/>
            <a:chExt cx="4114800" cy="2552760"/>
          </a:xfrm>
        </p:grpSpPr>
        <p:sp>
          <p:nvSpPr>
            <p:cNvPr id="592" name=""/>
            <p:cNvSpPr/>
            <p:nvPr/>
          </p:nvSpPr>
          <p:spPr>
            <a:xfrm>
              <a:off x="358128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7692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608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28600" y="3886200"/>
            <a:ext cx="868680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962520" y="3962520"/>
            <a:ext cx="533160" cy="838080"/>
            <a:chOff x="3962520" y="3962520"/>
            <a:chExt cx="533160" cy="838080"/>
          </a:xfrm>
        </p:grpSpPr>
        <p:sp>
          <p:nvSpPr>
            <p:cNvPr id="598" name=""/>
            <p:cNvSpPr/>
            <p:nvPr/>
          </p:nvSpPr>
          <p:spPr>
            <a:xfrm>
              <a:off x="3962520" y="396252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41950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56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625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495680" y="3976200"/>
            <a:ext cx="609480" cy="838440"/>
            <a:chOff x="4495680" y="3976200"/>
            <a:chExt cx="609480" cy="838440"/>
          </a:xfrm>
        </p:grpSpPr>
        <p:sp>
          <p:nvSpPr>
            <p:cNvPr id="603" name=""/>
            <p:cNvSpPr/>
            <p:nvPr/>
          </p:nvSpPr>
          <p:spPr>
            <a:xfrm flipV="1">
              <a:off x="4495680" y="3975840"/>
              <a:ext cx="6094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95680" y="4582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105160" y="42091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495680" y="42091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105520" y="3962520"/>
            <a:ext cx="609480" cy="838080"/>
            <a:chOff x="5105520" y="3962520"/>
            <a:chExt cx="609480" cy="838080"/>
          </a:xfrm>
        </p:grpSpPr>
        <p:sp>
          <p:nvSpPr>
            <p:cNvPr id="608" name=""/>
            <p:cNvSpPr/>
            <p:nvPr/>
          </p:nvSpPr>
          <p:spPr>
            <a:xfrm>
              <a:off x="51055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0552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150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055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971800" y="3962520"/>
            <a:ext cx="990360" cy="838080"/>
            <a:chOff x="2971800" y="3962520"/>
            <a:chExt cx="990360" cy="838080"/>
          </a:xfrm>
        </p:grpSpPr>
        <p:sp>
          <p:nvSpPr>
            <p:cNvPr id="613" name=""/>
            <p:cNvSpPr/>
            <p:nvPr/>
          </p:nvSpPr>
          <p:spPr>
            <a:xfrm flipV="1">
              <a:off x="2971800" y="3962520"/>
              <a:ext cx="99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71800" y="45676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396216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9718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715000" y="3962520"/>
            <a:ext cx="380880" cy="838080"/>
            <a:chOff x="5715000" y="3962520"/>
            <a:chExt cx="380880" cy="838080"/>
          </a:xfrm>
        </p:grpSpPr>
        <p:sp>
          <p:nvSpPr>
            <p:cNvPr id="618" name=""/>
            <p:cNvSpPr/>
            <p:nvPr/>
          </p:nvSpPr>
          <p:spPr>
            <a:xfrm flipV="1">
              <a:off x="5715000" y="396252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15000" y="45676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0958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7150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362320" y="3962520"/>
            <a:ext cx="609480" cy="838080"/>
            <a:chOff x="2362320" y="3962520"/>
            <a:chExt cx="609480" cy="838080"/>
          </a:xfrm>
        </p:grpSpPr>
        <p:sp>
          <p:nvSpPr>
            <p:cNvPr id="623" name=""/>
            <p:cNvSpPr/>
            <p:nvPr/>
          </p:nvSpPr>
          <p:spPr>
            <a:xfrm>
              <a:off x="23623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62320" y="41958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71800" y="41958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315200" y="3962520"/>
            <a:ext cx="609480" cy="838080"/>
            <a:chOff x="7315200" y="3962520"/>
            <a:chExt cx="609480" cy="838080"/>
          </a:xfrm>
        </p:grpSpPr>
        <p:sp>
          <p:nvSpPr>
            <p:cNvPr id="627" name=""/>
            <p:cNvSpPr/>
            <p:nvPr/>
          </p:nvSpPr>
          <p:spPr>
            <a:xfrm>
              <a:off x="731520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1520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246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152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7924680" y="3962520"/>
            <a:ext cx="609840" cy="838080"/>
            <a:chOff x="7924680" y="3962520"/>
            <a:chExt cx="609840" cy="838080"/>
          </a:xfrm>
        </p:grpSpPr>
        <p:sp>
          <p:nvSpPr>
            <p:cNvPr id="632" name=""/>
            <p:cNvSpPr/>
            <p:nvPr/>
          </p:nvSpPr>
          <p:spPr>
            <a:xfrm flipV="1">
              <a:off x="7924680" y="39625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24680" y="45673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924680" y="41958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705720" y="3962520"/>
            <a:ext cx="609480" cy="838080"/>
            <a:chOff x="6705720" y="3962520"/>
            <a:chExt cx="609480" cy="838080"/>
          </a:xfrm>
        </p:grpSpPr>
        <p:sp>
          <p:nvSpPr>
            <p:cNvPr id="636" name=""/>
            <p:cNvSpPr/>
            <p:nvPr/>
          </p:nvSpPr>
          <p:spPr>
            <a:xfrm flipV="1">
              <a:off x="67057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05720" y="45676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3152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7057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095880" y="3962520"/>
            <a:ext cx="609480" cy="838080"/>
            <a:chOff x="6095880" y="3962520"/>
            <a:chExt cx="609480" cy="838080"/>
          </a:xfrm>
        </p:grpSpPr>
        <p:sp>
          <p:nvSpPr>
            <p:cNvPr id="641" name=""/>
            <p:cNvSpPr/>
            <p:nvPr/>
          </p:nvSpPr>
          <p:spPr>
            <a:xfrm>
              <a:off x="609588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588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536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58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8440" y="40377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06920" y="4037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741680" y="502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581280" y="4633920"/>
            <a:ext cx="1295640" cy="838080"/>
            <a:chOff x="3581280" y="4633920"/>
            <a:chExt cx="1295640" cy="838080"/>
          </a:xfrm>
        </p:grpSpPr>
        <p:sp>
          <p:nvSpPr>
            <p:cNvPr id="649" name=""/>
            <p:cNvSpPr/>
            <p:nvPr/>
          </p:nvSpPr>
          <p:spPr>
            <a:xfrm>
              <a:off x="3581280" y="4633920"/>
              <a:ext cx="12956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48664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69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8128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876920" y="4648320"/>
            <a:ext cx="1599480" cy="838080"/>
            <a:chOff x="4876920" y="4648320"/>
            <a:chExt cx="1599480" cy="838080"/>
          </a:xfrm>
        </p:grpSpPr>
        <p:sp>
          <p:nvSpPr>
            <p:cNvPr id="654" name=""/>
            <p:cNvSpPr/>
            <p:nvPr/>
          </p:nvSpPr>
          <p:spPr>
            <a:xfrm flipV="1">
              <a:off x="4876920" y="4648320"/>
              <a:ext cx="159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76920" y="5253480"/>
              <a:ext cx="159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476400" y="48808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876920" y="48808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477120" y="4633920"/>
            <a:ext cx="1218600" cy="838080"/>
            <a:chOff x="6477120" y="4633920"/>
            <a:chExt cx="1218600" cy="838080"/>
          </a:xfrm>
        </p:grpSpPr>
        <p:sp>
          <p:nvSpPr>
            <p:cNvPr id="659" name=""/>
            <p:cNvSpPr/>
            <p:nvPr/>
          </p:nvSpPr>
          <p:spPr>
            <a:xfrm>
              <a:off x="6477120" y="46339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77120" y="48664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57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771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flipV="1">
            <a:off x="3581280" y="48672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362320" y="4633920"/>
            <a:ext cx="1218600" cy="838080"/>
            <a:chOff x="2362320" y="4633920"/>
            <a:chExt cx="1218600" cy="838080"/>
          </a:xfrm>
        </p:grpSpPr>
        <p:sp>
          <p:nvSpPr>
            <p:cNvPr id="665" name=""/>
            <p:cNvSpPr/>
            <p:nvPr/>
          </p:nvSpPr>
          <p:spPr>
            <a:xfrm flipV="1">
              <a:off x="2362320" y="46339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52383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580920" y="4867200"/>
              <a:ext cx="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7696080" y="4633920"/>
            <a:ext cx="609840" cy="838080"/>
            <a:chOff x="7696080" y="4633920"/>
            <a:chExt cx="609840" cy="838080"/>
          </a:xfrm>
        </p:grpSpPr>
        <p:sp>
          <p:nvSpPr>
            <p:cNvPr id="669" name=""/>
            <p:cNvSpPr/>
            <p:nvPr/>
          </p:nvSpPr>
          <p:spPr>
            <a:xfrm flipV="1">
              <a:off x="7696080" y="46339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96080" y="52387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696080" y="48672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581280" y="5500800"/>
            <a:ext cx="2894400" cy="838080"/>
            <a:chOff x="3581280" y="5500800"/>
            <a:chExt cx="2894400" cy="838080"/>
          </a:xfrm>
        </p:grpSpPr>
        <p:sp>
          <p:nvSpPr>
            <p:cNvPr id="673" name=""/>
            <p:cNvSpPr/>
            <p:nvPr/>
          </p:nvSpPr>
          <p:spPr>
            <a:xfrm flipV="1">
              <a:off x="3581280" y="5500800"/>
              <a:ext cx="28944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81280" y="6105960"/>
              <a:ext cx="289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6475680" y="57333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581280" y="57333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362320" y="5486400"/>
            <a:ext cx="1218600" cy="838080"/>
            <a:chOff x="2362320" y="5486400"/>
            <a:chExt cx="1218600" cy="838080"/>
          </a:xfrm>
        </p:grpSpPr>
        <p:sp>
          <p:nvSpPr>
            <p:cNvPr id="678" name=""/>
            <p:cNvSpPr/>
            <p:nvPr/>
          </p:nvSpPr>
          <p:spPr>
            <a:xfrm>
              <a:off x="2362320" y="548640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62320" y="57196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80920" y="57196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676520" y="5481360"/>
            <a:ext cx="73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6477120" y="5486400"/>
            <a:ext cx="1903680" cy="838080"/>
            <a:chOff x="6477120" y="5486400"/>
            <a:chExt cx="1903680" cy="838080"/>
          </a:xfrm>
        </p:grpSpPr>
        <p:sp>
          <p:nvSpPr>
            <p:cNvPr id="683" name=""/>
            <p:cNvSpPr/>
            <p:nvPr/>
          </p:nvSpPr>
          <p:spPr>
            <a:xfrm>
              <a:off x="6477120" y="5486400"/>
              <a:ext cx="19036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77120" y="5719680"/>
              <a:ext cx="190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77120" y="57196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581280" y="3962520"/>
            <a:ext cx="4114800" cy="2552760"/>
            <a:chOff x="3581280" y="3962520"/>
            <a:chExt cx="4114800" cy="2552760"/>
          </a:xfrm>
        </p:grpSpPr>
        <p:sp>
          <p:nvSpPr>
            <p:cNvPr id="687" name=""/>
            <p:cNvSpPr/>
            <p:nvPr/>
          </p:nvSpPr>
          <p:spPr>
            <a:xfrm>
              <a:off x="358128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7692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7712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9608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 flipV="1">
            <a:off x="358128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47712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08560" y="199512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pa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21680" y="198072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pa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radores: conjunto de latches ou 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4800" y="175176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 de carga paral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659400" y="1371600"/>
            <a:ext cx="5027400" cy="1129680"/>
            <a:chOff x="3659400" y="1371600"/>
            <a:chExt cx="5027400" cy="1129680"/>
          </a:xfrm>
        </p:grpSpPr>
        <p:sp>
          <p:nvSpPr>
            <p:cNvPr id="698" name=""/>
            <p:cNvSpPr/>
            <p:nvPr/>
          </p:nvSpPr>
          <p:spPr>
            <a:xfrm>
              <a:off x="4114800" y="1905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14800" y="213372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lnTo>
                    <a:pt x="0" y="0"/>
                  </a:lnTo>
                  <a:lnTo>
                    <a:pt x="2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95680" y="1752480"/>
              <a:ext cx="41911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95680" y="1752480"/>
              <a:ext cx="41911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528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8640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1992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530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8660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2012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532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2428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578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485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580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915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8487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8188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64680" y="15231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59400" y="2133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879840" y="304740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ga de registrador:                     Latch (LD) OK                   FF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776880" y="4266360"/>
            <a:ext cx="2118600" cy="1511280"/>
            <a:chOff x="776880" y="4266360"/>
            <a:chExt cx="2118600" cy="1511280"/>
          </a:xfrm>
        </p:grpSpPr>
        <p:grpSp>
          <p:nvGrpSpPr>
            <p:cNvPr id="721" name=""/>
            <p:cNvGrpSpPr/>
            <p:nvPr/>
          </p:nvGrpSpPr>
          <p:grpSpPr>
            <a:xfrm>
              <a:off x="1371600" y="4267080"/>
              <a:ext cx="1523880" cy="865800"/>
              <a:chOff x="1371600" y="4267080"/>
              <a:chExt cx="1523880" cy="865800"/>
            </a:xfrm>
          </p:grpSpPr>
          <p:sp>
            <p:nvSpPr>
              <p:cNvPr id="722" name=""/>
              <p:cNvSpPr/>
              <p:nvPr/>
            </p:nvSpPr>
            <p:spPr>
              <a:xfrm>
                <a:off x="1371600" y="44971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371600" y="48783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74720" y="4267080"/>
                <a:ext cx="839880" cy="83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44840" y="43448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725480" y="482580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201760" y="43448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125080" y="472572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~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76160" y="48020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916200" y="4266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6880" y="47235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25680" y="540936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rrad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964320" y="3962520"/>
            <a:ext cx="3330360" cy="1677240"/>
            <a:chOff x="3964320" y="3962520"/>
            <a:chExt cx="3330360" cy="1677240"/>
          </a:xfrm>
        </p:grpSpPr>
        <p:sp>
          <p:nvSpPr>
            <p:cNvPr id="734" name=""/>
            <p:cNvSpPr/>
            <p:nvPr/>
          </p:nvSpPr>
          <p:spPr>
            <a:xfrm>
              <a:off x="4336920" y="3962520"/>
              <a:ext cx="2444760" cy="685800"/>
            </a:xfrm>
            <a:custGeom>
              <a:avLst/>
              <a:gdLst/>
              <a:ahLst/>
              <a:rect l="l" t="t" r="r" b="b"/>
              <a:pathLst>
                <a:path w="1540" h="432">
                  <a:moveTo>
                    <a:pt x="311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1540" y="0"/>
                  </a:lnTo>
                  <a:lnTo>
                    <a:pt x="1540" y="4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6760" y="4648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35760" y="4419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79736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60960" y="4800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 rot="5400000">
              <a:off x="4336920" y="4419720"/>
              <a:ext cx="990720" cy="38088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86760" y="52714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964320" y="4661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5410080" y="4419720"/>
              <a:ext cx="1523880" cy="865800"/>
              <a:chOff x="5410080" y="4419720"/>
              <a:chExt cx="1523880" cy="865800"/>
            </a:xfrm>
          </p:grpSpPr>
          <p:sp>
            <p:nvSpPr>
              <p:cNvPr id="743" name=""/>
              <p:cNvSpPr/>
              <p:nvPr/>
            </p:nvSpPr>
            <p:spPr>
              <a:xfrm>
                <a:off x="5410080" y="46497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10080" y="50310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713200" y="4419720"/>
                <a:ext cx="839880" cy="83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83320" y="4497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63960" y="497844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40240" y="44974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163560" y="487836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~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14640" y="495468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1" name=""/>
          <p:cNvSpPr/>
          <p:nvPr/>
        </p:nvSpPr>
        <p:spPr>
          <a:xfrm>
            <a:off x="4574520" y="563796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ERTO (74LS37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ador de deslocamen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068120" y="1792440"/>
            <a:ext cx="6437160" cy="1135440"/>
            <a:chOff x="1068120" y="1792440"/>
            <a:chExt cx="6437160" cy="1135440"/>
          </a:xfrm>
        </p:grpSpPr>
        <p:sp>
          <p:nvSpPr>
            <p:cNvPr id="754" name=""/>
            <p:cNvSpPr/>
            <p:nvPr/>
          </p:nvSpPr>
          <p:spPr>
            <a:xfrm>
              <a:off x="1752480" y="274320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133720" y="1792440"/>
              <a:ext cx="1143000" cy="950760"/>
              <a:chOff x="2133720" y="1792440"/>
              <a:chExt cx="1143000" cy="950760"/>
            </a:xfrm>
          </p:grpSpPr>
          <p:sp>
            <p:nvSpPr>
              <p:cNvPr id="756" name=""/>
              <p:cNvSpPr/>
              <p:nvPr/>
            </p:nvSpPr>
            <p:spPr>
              <a:xfrm>
                <a:off x="213372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13372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6052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33856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0648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36232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3372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3200400" y="1792440"/>
              <a:ext cx="1143000" cy="950760"/>
              <a:chOff x="3200400" y="1792440"/>
              <a:chExt cx="1143000" cy="950760"/>
            </a:xfrm>
          </p:grpSpPr>
          <p:sp>
            <p:nvSpPr>
              <p:cNvPr id="764" name=""/>
              <p:cNvSpPr/>
              <p:nvPr/>
            </p:nvSpPr>
            <p:spPr>
              <a:xfrm>
                <a:off x="320040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0040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720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0524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77316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900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0040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267080" y="1792440"/>
              <a:ext cx="1143000" cy="950760"/>
              <a:chOff x="4267080" y="1792440"/>
              <a:chExt cx="1143000" cy="950760"/>
            </a:xfrm>
          </p:grpSpPr>
          <p:sp>
            <p:nvSpPr>
              <p:cNvPr id="772" name=""/>
              <p:cNvSpPr/>
              <p:nvPr/>
            </p:nvSpPr>
            <p:spPr>
              <a:xfrm>
                <a:off x="426708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26708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49388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7192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83984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49568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6708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5334120" y="1792440"/>
              <a:ext cx="1143000" cy="950760"/>
              <a:chOff x="5334120" y="1792440"/>
              <a:chExt cx="1143000" cy="950760"/>
            </a:xfrm>
          </p:grpSpPr>
          <p:sp>
            <p:nvSpPr>
              <p:cNvPr id="780" name=""/>
              <p:cNvSpPr/>
              <p:nvPr/>
            </p:nvSpPr>
            <p:spPr>
              <a:xfrm>
                <a:off x="533412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33412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56092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53896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0688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6272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33412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1676520" y="1981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8520" y="1981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68120" y="18284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85720" y="1828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72520" y="259056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751040" y="380916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ou Flip-Flop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20880" y="4723920"/>
            <a:ext cx="69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s têm registradores de deslocamento (esquerda, direita, a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ão séri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l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s combinaciona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adores / subtra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s 3-state e conexão ponto-a-po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s sequencia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es &amp; FlipFl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estad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adores: exemplo toggle cou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43000" y="3733920"/>
            <a:ext cx="3048120" cy="160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480" y="2895480"/>
            <a:ext cx="390600" cy="1371600"/>
          </a:xfrm>
          <a:custGeom>
            <a:avLst/>
            <a:gdLst/>
            <a:ahLst/>
            <a:rect l="l" t="t" r="r" b="b"/>
            <a:pathLst>
              <a:path w="246" h="864">
                <a:moveTo>
                  <a:pt x="246" y="0"/>
                </a:moveTo>
                <a:cubicBezTo>
                  <a:pt x="211" y="42"/>
                  <a:pt x="70" y="152"/>
                  <a:pt x="35" y="250"/>
                </a:cubicBezTo>
                <a:cubicBezTo>
                  <a:pt x="0" y="348"/>
                  <a:pt x="0" y="483"/>
                  <a:pt x="35" y="585"/>
                </a:cubicBezTo>
                <a:cubicBezTo>
                  <a:pt x="70" y="687"/>
                  <a:pt x="202" y="806"/>
                  <a:pt x="246" y="86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219320" y="3733560"/>
            <a:ext cx="2971800" cy="1404000"/>
            <a:chOff x="1219320" y="3733560"/>
            <a:chExt cx="2971800" cy="1404000"/>
          </a:xfrm>
        </p:grpSpPr>
        <p:sp>
          <p:nvSpPr>
            <p:cNvPr id="798" name=""/>
            <p:cNvSpPr/>
            <p:nvPr/>
          </p:nvSpPr>
          <p:spPr>
            <a:xfrm>
              <a:off x="1676520" y="4146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76520" y="445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03680" y="3962160"/>
              <a:ext cx="630000" cy="67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81000" y="4024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70160" y="403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05120" y="4389480"/>
              <a:ext cx="98280" cy="12168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6520" y="445608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219320" y="41511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03600" y="4723920"/>
              <a:ext cx="4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743200" y="4138200"/>
              <a:ext cx="0" cy="73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89040" y="3805200"/>
              <a:ext cx="1536840" cy="309240"/>
            </a:xfrm>
            <a:custGeom>
              <a:avLst/>
              <a:gdLst/>
              <a:ahLst/>
              <a:rect l="l" t="t" r="r" b="b"/>
              <a:pathLst>
                <a:path w="968" h="195">
                  <a:moveTo>
                    <a:pt x="7" y="195"/>
                  </a:moveTo>
                  <a:lnTo>
                    <a:pt x="0" y="3"/>
                  </a:lnTo>
                  <a:lnTo>
                    <a:pt x="754" y="0"/>
                  </a:lnTo>
                  <a:lnTo>
                    <a:pt x="754" y="103"/>
                  </a:lnTo>
                  <a:lnTo>
                    <a:pt x="968" y="10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24440" y="40384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29000" y="373356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6720" y="48002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971800" y="3886200"/>
              <a:ext cx="304920" cy="304200"/>
            </a:xfrm>
            <a:prstGeom prst="flowChartDelay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320040" y="1523880"/>
            <a:ext cx="6780960" cy="1905120"/>
            <a:chOff x="320040" y="1523880"/>
            <a:chExt cx="6780960" cy="1905120"/>
          </a:xfrm>
        </p:grpSpPr>
        <p:sp>
          <p:nvSpPr>
            <p:cNvPr id="814" name=""/>
            <p:cNvSpPr/>
            <p:nvPr/>
          </p:nvSpPr>
          <p:spPr>
            <a:xfrm>
              <a:off x="976320" y="2550960"/>
              <a:ext cx="61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360" y="2398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17845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00000" y="1789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357200" y="1600200"/>
              <a:ext cx="1121040" cy="1573200"/>
              <a:chOff x="1357200" y="1600200"/>
              <a:chExt cx="1121040" cy="1573200"/>
            </a:xfrm>
          </p:grpSpPr>
          <p:sp>
            <p:nvSpPr>
              <p:cNvPr id="819" name=""/>
              <p:cNvSpPr/>
              <p:nvPr/>
            </p:nvSpPr>
            <p:spPr>
              <a:xfrm>
                <a:off x="1357200" y="20890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8436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56240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84500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85800" y="202716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35720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057400" y="280260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5408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242424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271600" y="1600200"/>
              <a:ext cx="1890720" cy="1671480"/>
              <a:chOff x="2271600" y="1600200"/>
              <a:chExt cx="1890720" cy="1671480"/>
            </a:xfrm>
          </p:grpSpPr>
          <p:sp>
            <p:nvSpPr>
              <p:cNvPr id="829" name=""/>
              <p:cNvSpPr/>
              <p:nvPr/>
            </p:nvSpPr>
            <p:spPr>
              <a:xfrm>
                <a:off x="272880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2880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95560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93364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21624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5740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72880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1600" y="1789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41480" y="290088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2532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379548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3567240" y="17892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024440" y="1600200"/>
              <a:ext cx="1433520" cy="1649160"/>
              <a:chOff x="4024440" y="1600200"/>
              <a:chExt cx="1433520" cy="1649160"/>
            </a:xfrm>
          </p:grpSpPr>
          <p:sp>
            <p:nvSpPr>
              <p:cNvPr id="842" name=""/>
              <p:cNvSpPr/>
              <p:nvPr/>
            </p:nvSpPr>
            <p:spPr>
              <a:xfrm>
                <a:off x="402444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02444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25124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22928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1188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25304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02444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037120" y="287856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62096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509112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876920" y="1600200"/>
              <a:ext cx="1890720" cy="1671480"/>
              <a:chOff x="4876920" y="1600200"/>
              <a:chExt cx="1890720" cy="1671480"/>
            </a:xfrm>
          </p:grpSpPr>
          <p:sp>
            <p:nvSpPr>
              <p:cNvPr id="853" name=""/>
              <p:cNvSpPr/>
              <p:nvPr/>
            </p:nvSpPr>
            <p:spPr>
              <a:xfrm>
                <a:off x="533412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3412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56092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53896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2156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56272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33412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76920" y="1789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346800" y="290088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3064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640080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320040" y="15775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66680" y="1523880"/>
              <a:ext cx="1524240" cy="19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336280" y="4038480"/>
            <a:ext cx="260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oriz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rem.  / Decr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ício registrad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062080" y="1523520"/>
            <a:ext cx="454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ar um registrador de desloc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querda / direita com carga paral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ar os sinais de c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447560" y="3276720"/>
            <a:ext cx="6019920" cy="1143000"/>
            <a:chOff x="1447560" y="3276720"/>
            <a:chExt cx="6019920" cy="1143000"/>
          </a:xfrm>
        </p:grpSpPr>
        <p:sp>
          <p:nvSpPr>
            <p:cNvPr id="870" name=""/>
            <p:cNvSpPr/>
            <p:nvPr/>
          </p:nvSpPr>
          <p:spPr>
            <a:xfrm>
              <a:off x="19810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623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479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526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339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195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42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055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11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58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771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627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8191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4475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1907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5623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9339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343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572000" y="1905120"/>
            <a:ext cx="4191120" cy="3962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8600" y="1905120"/>
            <a:ext cx="4038480" cy="396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04760" y="114228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 Sequencial Síncrono Gené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306720" y="2437560"/>
            <a:ext cx="3828600" cy="1600920"/>
            <a:chOff x="306720" y="2437560"/>
            <a:chExt cx="3828600" cy="1600920"/>
          </a:xfrm>
        </p:grpSpPr>
        <p:sp>
          <p:nvSpPr>
            <p:cNvPr id="893" name=""/>
            <p:cNvSpPr/>
            <p:nvPr/>
          </p:nvSpPr>
          <p:spPr>
            <a:xfrm>
              <a:off x="1051200" y="2590920"/>
              <a:ext cx="609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2196000" y="2682360"/>
              <a:ext cx="427680" cy="975240"/>
              <a:chOff x="2196000" y="2682360"/>
              <a:chExt cx="427680" cy="975240"/>
            </a:xfrm>
          </p:grpSpPr>
          <p:sp>
            <p:nvSpPr>
              <p:cNvPr id="895" name=""/>
              <p:cNvSpPr/>
              <p:nvPr/>
            </p:nvSpPr>
            <p:spPr>
              <a:xfrm>
                <a:off x="2270160" y="2971800"/>
                <a:ext cx="22860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75200" y="3048120"/>
                <a:ext cx="22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270160" y="312408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270160" y="32004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70160" y="32767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70160" y="35053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70160" y="358128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196000" y="268236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660680" y="3200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9876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55960" y="2867040"/>
              <a:ext cx="4572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4000" y="3200400"/>
              <a:ext cx="2057400" cy="83808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0"/>
                  </a:moveTo>
                  <a:lnTo>
                    <a:pt x="1488" y="720"/>
                  </a:lnTo>
                  <a:lnTo>
                    <a:pt x="0" y="720"/>
                  </a:ln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83720" y="2766600"/>
              <a:ext cx="36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5440" y="272376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13160" y="32004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768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6720" y="2437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02320" y="2818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894560" y="2513880"/>
            <a:ext cx="2941200" cy="1600920"/>
            <a:chOff x="4894560" y="2513880"/>
            <a:chExt cx="2941200" cy="1600920"/>
          </a:xfrm>
        </p:grpSpPr>
        <p:sp>
          <p:nvSpPr>
            <p:cNvPr id="914" name=""/>
            <p:cNvSpPr/>
            <p:nvPr/>
          </p:nvSpPr>
          <p:spPr>
            <a:xfrm>
              <a:off x="5638680" y="2666880"/>
              <a:ext cx="609840" cy="10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6783480" y="2958840"/>
              <a:ext cx="427680" cy="974520"/>
              <a:chOff x="6783480" y="2958840"/>
              <a:chExt cx="427680" cy="974520"/>
            </a:xfrm>
          </p:grpSpPr>
          <p:sp>
            <p:nvSpPr>
              <p:cNvPr id="916" name=""/>
              <p:cNvSpPr/>
              <p:nvPr/>
            </p:nvSpPr>
            <p:spPr>
              <a:xfrm>
                <a:off x="6857640" y="3247920"/>
                <a:ext cx="228600" cy="68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62680" y="3324240"/>
                <a:ext cx="22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857640" y="34002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857640" y="34765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57640" y="355284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57640" y="378144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57640" y="38574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783480" y="295884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6248520" y="3476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5520" y="3476520"/>
              <a:ext cx="2400120" cy="638280"/>
            </a:xfrm>
            <a:custGeom>
              <a:avLst/>
              <a:gdLst/>
              <a:ahLst/>
              <a:rect l="l" t="t" r="r" b="b"/>
              <a:pathLst>
                <a:path w="1512" h="493">
                  <a:moveTo>
                    <a:pt x="1248" y="13"/>
                  </a:moveTo>
                  <a:lnTo>
                    <a:pt x="1512" y="13"/>
                  </a:lnTo>
                  <a:lnTo>
                    <a:pt x="1512" y="493"/>
                  </a:lnTo>
                  <a:lnTo>
                    <a:pt x="0" y="493"/>
                  </a:lnTo>
                  <a:lnTo>
                    <a:pt x="0" y="0"/>
                  </a:lnTo>
                  <a:lnTo>
                    <a:pt x="33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171560" y="3090600"/>
              <a:ext cx="36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63280" y="304776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48520" y="29242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552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94560" y="2513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02760" y="265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1296000" y="20566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41640" y="2056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917640" y="480024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ída Y muda apen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transição do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84720" y="4663800"/>
            <a:ext cx="26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 Y pode mudar 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quer instante, 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ção da entrada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3197160" y="993600"/>
          <a:ext cx="6122880" cy="40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7160" y="993600"/>
                    <a:ext cx="612288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íntese de uma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09480" y="1343160"/>
            <a:ext cx="2241360" cy="2847240"/>
            <a:chOff x="609480" y="1343160"/>
            <a:chExt cx="2241360" cy="2847240"/>
          </a:xfrm>
        </p:grpSpPr>
        <p:sp>
          <p:nvSpPr>
            <p:cNvPr id="940" name=""/>
            <p:cNvSpPr/>
            <p:nvPr/>
          </p:nvSpPr>
          <p:spPr>
            <a:xfrm>
              <a:off x="1504440" y="1739880"/>
              <a:ext cx="435960" cy="43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5240" y="2549520"/>
              <a:ext cx="435600" cy="435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04440" y="3359160"/>
              <a:ext cx="435960" cy="43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9480" y="2549520"/>
              <a:ext cx="435960" cy="435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79280" y="192672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858600" y="192672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858600" y="298548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17000" y="2985480"/>
              <a:ext cx="685080" cy="68508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480" y="0"/>
                  </a:moveTo>
                  <a:cubicBezTo>
                    <a:pt x="449" y="48"/>
                    <a:pt x="375" y="206"/>
                    <a:pt x="295" y="286"/>
                  </a:cubicBezTo>
                  <a:cubicBezTo>
                    <a:pt x="215" y="366"/>
                    <a:pt x="61" y="440"/>
                    <a:pt x="0" y="4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543320" y="1343160"/>
              <a:ext cx="373320" cy="446040"/>
            </a:xfrm>
            <a:custGeom>
              <a:avLst/>
              <a:gdLst/>
              <a:ahLst/>
              <a:rect l="l" t="t" r="r" b="b"/>
              <a:pathLst>
                <a:path w="549" h="703">
                  <a:moveTo>
                    <a:pt x="75" y="703"/>
                  </a:moveTo>
                  <a:cubicBezTo>
                    <a:pt x="63" y="644"/>
                    <a:pt x="0" y="450"/>
                    <a:pt x="1" y="352"/>
                  </a:cubicBezTo>
                  <a:cubicBezTo>
                    <a:pt x="2" y="254"/>
                    <a:pt x="36" y="171"/>
                    <a:pt x="81" y="112"/>
                  </a:cubicBezTo>
                  <a:cubicBezTo>
                    <a:pt x="126" y="53"/>
                    <a:pt x="208" y="0"/>
                    <a:pt x="273" y="0"/>
                  </a:cubicBezTo>
                  <a:cubicBezTo>
                    <a:pt x="338" y="0"/>
                    <a:pt x="424" y="51"/>
                    <a:pt x="469" y="111"/>
                  </a:cubicBezTo>
                  <a:cubicBezTo>
                    <a:pt x="514" y="171"/>
                    <a:pt x="541" y="266"/>
                    <a:pt x="545" y="363"/>
                  </a:cubicBezTo>
                  <a:cubicBezTo>
                    <a:pt x="549" y="460"/>
                    <a:pt x="506" y="625"/>
                    <a:pt x="495" y="6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520280" y="3744000"/>
              <a:ext cx="373320" cy="446040"/>
            </a:xfrm>
            <a:custGeom>
              <a:avLst/>
              <a:gdLst/>
              <a:ahLst/>
              <a:rect l="l" t="t" r="r" b="b"/>
              <a:pathLst>
                <a:path w="549" h="703">
                  <a:moveTo>
                    <a:pt x="75" y="703"/>
                  </a:moveTo>
                  <a:cubicBezTo>
                    <a:pt x="63" y="644"/>
                    <a:pt x="0" y="450"/>
                    <a:pt x="1" y="352"/>
                  </a:cubicBezTo>
                  <a:cubicBezTo>
                    <a:pt x="2" y="254"/>
                    <a:pt x="36" y="171"/>
                    <a:pt x="81" y="112"/>
                  </a:cubicBezTo>
                  <a:cubicBezTo>
                    <a:pt x="126" y="53"/>
                    <a:pt x="208" y="0"/>
                    <a:pt x="273" y="0"/>
                  </a:cubicBezTo>
                  <a:cubicBezTo>
                    <a:pt x="338" y="0"/>
                    <a:pt x="424" y="51"/>
                    <a:pt x="469" y="111"/>
                  </a:cubicBezTo>
                  <a:cubicBezTo>
                    <a:pt x="514" y="171"/>
                    <a:pt x="541" y="266"/>
                    <a:pt x="545" y="363"/>
                  </a:cubicBezTo>
                  <a:cubicBezTo>
                    <a:pt x="549" y="460"/>
                    <a:pt x="506" y="625"/>
                    <a:pt x="495" y="6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45440" y="2549520"/>
              <a:ext cx="1369800" cy="124200"/>
            </a:xfrm>
            <a:custGeom>
              <a:avLst/>
              <a:gdLst/>
              <a:ahLst/>
              <a:rect l="l" t="t" r="r" b="b"/>
              <a:pathLst>
                <a:path w="1392" h="112">
                  <a:moveTo>
                    <a:pt x="0" y="112"/>
                  </a:moveTo>
                  <a:cubicBezTo>
                    <a:pt x="164" y="72"/>
                    <a:pt x="328" y="32"/>
                    <a:pt x="480" y="16"/>
                  </a:cubicBezTo>
                  <a:cubicBezTo>
                    <a:pt x="632" y="0"/>
                    <a:pt x="760" y="0"/>
                    <a:pt x="912" y="16"/>
                  </a:cubicBezTo>
                  <a:cubicBezTo>
                    <a:pt x="1064" y="32"/>
                    <a:pt x="1312" y="96"/>
                    <a:pt x="1392" y="11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78480" y="47998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rama de Transição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02360" y="251388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12200" y="15678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or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760" y="1447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aly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 /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31840" y="472356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ela de Transição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6" name=""/>
          <p:cNvGraphicFramePr/>
          <p:nvPr/>
        </p:nvGraphicFramePr>
        <p:xfrm>
          <a:off x="-461880" y="530280"/>
          <a:ext cx="6122880" cy="40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530280"/>
                    <a:ext cx="612288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íntese de uma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40560" y="1572840"/>
            <a:ext cx="2673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dificação dos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00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4077720"/>
            <a:ext cx="5289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ações booleanas dos circuitos combin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   = f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X)       (em maq. de Moore, só 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tetizar os C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mentos de memória podem ser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FF-D ou FF-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licações de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4184640" y="1517760"/>
            <a:ext cx="4654440" cy="3816360"/>
            <a:chOff x="4184640" y="1517760"/>
            <a:chExt cx="4654440" cy="3816360"/>
          </a:xfrm>
        </p:grpSpPr>
        <p:sp>
          <p:nvSpPr>
            <p:cNvPr id="963" name=""/>
            <p:cNvSpPr/>
            <p:nvPr/>
          </p:nvSpPr>
          <p:spPr>
            <a:xfrm>
              <a:off x="5943600" y="1898640"/>
              <a:ext cx="144792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r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00600" y="38800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0552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850280" y="445860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9588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6292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9" name=""/>
            <p:cNvCxnSpPr>
              <a:stCxn id="963" idx="2"/>
              <a:endCxn id="970" idx="0"/>
            </p:cNvCxnSpPr>
            <p:nvPr/>
          </p:nvCxnSpPr>
          <p:spPr>
            <a:xfrm>
              <a:off x="6667200" y="24321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1" name=""/>
            <p:cNvSpPr/>
            <p:nvPr/>
          </p:nvSpPr>
          <p:spPr>
            <a:xfrm>
              <a:off x="6629400" y="304164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7200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3868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8168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72000" y="5327640"/>
              <a:ext cx="41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184640" y="1517760"/>
              <a:ext cx="2449440" cy="3816360"/>
            </a:xfrm>
            <a:custGeom>
              <a:avLst/>
              <a:gdLst/>
              <a:ahLst/>
              <a:rect l="l" t="t" r="r" b="b"/>
              <a:pathLst>
                <a:path w="1543" h="2644">
                  <a:moveTo>
                    <a:pt x="240" y="2644"/>
                  </a:moveTo>
                  <a:cubicBezTo>
                    <a:pt x="160" y="2644"/>
                    <a:pt x="80" y="2644"/>
                    <a:pt x="0" y="2644"/>
                  </a:cubicBezTo>
                  <a:lnTo>
                    <a:pt x="0" y="0"/>
                  </a:lnTo>
                  <a:lnTo>
                    <a:pt x="1540" y="0"/>
                  </a:lnTo>
                  <a:lnTo>
                    <a:pt x="1543" y="2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0552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9588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6292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43600" y="2889360"/>
              <a:ext cx="144792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odifica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nstr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175320" y="268272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e de seqüência de 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nidade de controle de C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qüência de açõe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flux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dire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luxogram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maq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10080" y="2971800"/>
            <a:ext cx="228600" cy="12193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1219320"/>
              <a:gd name="textAreaBottom" fmla="*/ 1204560 h 1219320"/>
            </a:gdLst>
            <a:ahLst/>
            <a:rect l="textAreaLeft" t="textAreaTop" r="textAreaRight" b="textAreaBottom"/>
            <a:pathLst>
              <a:path w="21600" h="115064">
                <a:moveTo>
                  <a:pt x="4767" y="0"/>
                </a:moveTo>
                <a:arcTo wR="4767" hR="4767" stAng="16200000" swAng="-5400000"/>
                <a:lnTo>
                  <a:pt x="0" y="110297"/>
                </a:lnTo>
                <a:arcTo wR="4767" hR="4767" stAng="10800000" swAng="-5400000"/>
                <a:lnTo>
                  <a:pt x="16833" y="115064"/>
                </a:lnTo>
                <a:arcTo wR="4767" hR="4767" stAng="5400000" swAng="-5400000"/>
                <a:lnTo>
                  <a:pt x="21600" y="4767"/>
                </a:lnTo>
                <a:arcTo wR="4767" hR="4767" stAng="0" swAng="-5400000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3273480"/>
            <a:ext cx="687240" cy="23004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340160" y="2585880"/>
          <a:ext cx="3756240" cy="22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0160" y="2585880"/>
                    <a:ext cx="375624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rcuitos Combinacion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09680"/>
          <a:ext cx="3701880" cy="359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09680"/>
                    <a:ext cx="370188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447920" y="1752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ela Ver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 de Karna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495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 y em função d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binaçõe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3124080"/>
          <a:ext cx="2394000" cy="20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239400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791320" y="16002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0" y="0"/>
                </a:moveTo>
                <a:lnTo>
                  <a:pt x="432" y="0"/>
                </a:lnTo>
                <a:lnTo>
                  <a:pt x="432" y="336"/>
                </a:lnTo>
                <a:lnTo>
                  <a:pt x="576" y="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362320"/>
            <a:ext cx="914400" cy="68580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lnTo>
                  <a:pt x="480" y="432"/>
                </a:lnTo>
                <a:lnTo>
                  <a:pt x="480" y="0"/>
                </a:lnTo>
                <a:lnTo>
                  <a:pt x="528" y="13"/>
                </a:lnTo>
                <a:lnTo>
                  <a:pt x="576" y="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0574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lnTo>
                  <a:pt x="192" y="0"/>
                </a:lnTo>
                <a:lnTo>
                  <a:pt x="192" y="96"/>
                </a:lnTo>
                <a:lnTo>
                  <a:pt x="72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228600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144"/>
                </a:moveTo>
                <a:lnTo>
                  <a:pt x="192" y="144"/>
                </a:lnTo>
                <a:lnTo>
                  <a:pt x="192" y="0"/>
                </a:lnTo>
                <a:lnTo>
                  <a:pt x="7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114800" y="1219320"/>
            <a:ext cx="3813120" cy="2860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553080" y="1905120"/>
            <a:ext cx="1003320" cy="752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7600" y="27432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2096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371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4038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057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3809880"/>
            <a:ext cx="2743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teamento de si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erência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leção de 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arr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7200" y="990720"/>
            <a:ext cx="2057400" cy="1752480"/>
            <a:chOff x="457200" y="990720"/>
            <a:chExt cx="2057400" cy="1752480"/>
          </a:xfrm>
        </p:grpSpPr>
        <p:grpSp>
          <p:nvGrpSpPr>
            <p:cNvPr id="74" name=""/>
            <p:cNvGrpSpPr/>
            <p:nvPr/>
          </p:nvGrpSpPr>
          <p:grpSpPr>
            <a:xfrm>
              <a:off x="1447920" y="1752480"/>
              <a:ext cx="1066680" cy="368280"/>
              <a:chOff x="1447920" y="1752480"/>
              <a:chExt cx="106668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1447920" y="205704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81440" y="17524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38080" y="1676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" y="1371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1981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6765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8080" y="2228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19242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514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2209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002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79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5400000">
              <a:off x="876240" y="1866960"/>
              <a:ext cx="1295280" cy="457200"/>
            </a:xfrm>
            <a:custGeom>
              <a:avLst/>
              <a:gdLst>
                <a:gd name="textAreaLeft" fmla="*/ 280440 w 1295280"/>
                <a:gd name="textAreaRight" fmla="*/ 1014840 w 1295280"/>
                <a:gd name="textAreaTop" fmla="*/ 99000 h 457200"/>
                <a:gd name="textAreaBottom" fmla="*/ 3582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329" y="21600"/>
                  </a:lnTo>
                  <a:lnTo>
                    <a:pt x="5271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3000" y="9907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1600" y="9907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23920" y="1514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23920" y="1781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2057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3920" y="23144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madores / UL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320" y="1143000"/>
            <a:ext cx="4266720" cy="1593000"/>
            <a:chOff x="76320" y="1143000"/>
            <a:chExt cx="4266720" cy="1593000"/>
          </a:xfrm>
        </p:grpSpPr>
        <p:grpSp>
          <p:nvGrpSpPr>
            <p:cNvPr id="96" name=""/>
            <p:cNvGrpSpPr/>
            <p:nvPr/>
          </p:nvGrpSpPr>
          <p:grpSpPr>
            <a:xfrm>
              <a:off x="228240" y="1143000"/>
              <a:ext cx="4114800" cy="1593000"/>
              <a:chOff x="228240" y="1143000"/>
              <a:chExt cx="4114800" cy="1593000"/>
            </a:xfrm>
          </p:grpSpPr>
          <p:cxnSp>
            <p:nvCxnSpPr>
              <p:cNvPr id="97" name=""/>
              <p:cNvCxnSpPr>
                <a:stCxn id="98" idx="1"/>
                <a:endCxn id="99" idx="3"/>
              </p:cNvCxnSpPr>
              <p:nvPr/>
            </p:nvCxnSpPr>
            <p:spPr>
              <a:xfrm flipH="1">
                <a:off x="2926800" y="1923840"/>
                <a:ext cx="269640" cy="57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0" name=""/>
              <p:cNvCxnSpPr>
                <a:stCxn id="99" idx="1"/>
                <a:endCxn id="101" idx="3"/>
              </p:cNvCxnSpPr>
              <p:nvPr/>
            </p:nvCxnSpPr>
            <p:spPr>
              <a:xfrm flipH="1">
                <a:off x="2049480" y="1928520"/>
                <a:ext cx="337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2" name=""/>
              <p:cNvCxnSpPr>
                <a:stCxn id="103" idx="1"/>
                <a:endCxn id="104" idx="3"/>
              </p:cNvCxnSpPr>
              <p:nvPr/>
            </p:nvCxnSpPr>
            <p:spPr>
              <a:xfrm flipH="1">
                <a:off x="1171800" y="1904040"/>
                <a:ext cx="338040" cy="24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05" name=""/>
              <p:cNvGrpSpPr/>
              <p:nvPr/>
            </p:nvGrpSpPr>
            <p:grpSpPr>
              <a:xfrm>
                <a:off x="3129120" y="1143000"/>
                <a:ext cx="802080" cy="1586880"/>
                <a:chOff x="3129120" y="1143000"/>
                <a:chExt cx="802080" cy="158688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3129120" y="1143000"/>
                  <a:ext cx="802080" cy="1586880"/>
                  <a:chOff x="3129120" y="1143000"/>
                  <a:chExt cx="802080" cy="15868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196080" y="1679760"/>
                    <a:ext cx="535680" cy="48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330000" y="14360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597840" y="14360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463920" y="21668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129120" y="1143000"/>
                    <a:ext cx="46872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304800" y="2324160"/>
                    <a:ext cx="46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463920" y="1164240"/>
                    <a:ext cx="46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3197880" y="1755000"/>
                  <a:ext cx="538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319480" y="1143000"/>
                <a:ext cx="808920" cy="1592640"/>
                <a:chOff x="2319480" y="1143000"/>
                <a:chExt cx="808920" cy="1592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386440" y="1683360"/>
                  <a:ext cx="539640" cy="49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52180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79108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5644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19480" y="1143000"/>
                  <a:ext cx="471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97680" y="2329920"/>
                  <a:ext cx="470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56440" y="11646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86440" y="1755000"/>
                  <a:ext cx="53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442520" y="1143000"/>
                <a:ext cx="808920" cy="1592640"/>
                <a:chOff x="1442520" y="1143000"/>
                <a:chExt cx="808920" cy="1592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509840" y="1683360"/>
                  <a:ext cx="539280" cy="49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64484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1448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77948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442520" y="11430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19640" y="2329920"/>
                  <a:ext cx="471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779480" y="11646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11280" y="1755000"/>
                  <a:ext cx="536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65560" y="1143000"/>
                <a:ext cx="807480" cy="1593000"/>
                <a:chOff x="565560" y="1143000"/>
                <a:chExt cx="807480" cy="1593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32880" y="1683720"/>
                  <a:ext cx="539280" cy="490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67520" y="143820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37520" y="143820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0288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65560" y="11430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42680" y="233028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903960" y="1164600"/>
                  <a:ext cx="469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2880" y="1744560"/>
                  <a:ext cx="539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7" name=""/>
              <p:cNvCxnSpPr>
                <a:stCxn id="136" idx="1"/>
              </p:cNvCxnSpPr>
              <p:nvPr/>
            </p:nvCxnSpPr>
            <p:spPr>
              <a:xfrm rot="10800000">
                <a:off x="227880" y="1889640"/>
                <a:ext cx="405360" cy="3240"/>
              </a:xfrm>
              <a:prstGeom prst="bentConnector3">
                <a:avLst>
                  <a:gd name="adj1" fmla="val 4995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8" name=""/>
              <p:cNvGrpSpPr/>
              <p:nvPr/>
            </p:nvGrpSpPr>
            <p:grpSpPr>
              <a:xfrm>
                <a:off x="4140360" y="2001240"/>
                <a:ext cx="202680" cy="153360"/>
                <a:chOff x="4140360" y="2001240"/>
                <a:chExt cx="202680" cy="153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140720" y="2093400"/>
                  <a:ext cx="20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14036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17384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420768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424152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4241880" y="200124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45" name=""/>
              <p:cNvCxnSpPr>
                <a:stCxn id="144" idx="0"/>
                <a:endCxn id="113" idx="3"/>
              </p:cNvCxnSpPr>
              <p:nvPr/>
            </p:nvCxnSpPr>
            <p:spPr>
              <a:xfrm flipV="1" rot="16200000">
                <a:off x="3939840" y="1699200"/>
                <a:ext cx="97560" cy="50616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6" name=""/>
            <p:cNvSpPr/>
            <p:nvPr/>
          </p:nvSpPr>
          <p:spPr>
            <a:xfrm>
              <a:off x="3886200" y="157176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154332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5480" y="157644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3000" y="152892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320" y="1495440"/>
              <a:ext cx="382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914400"/>
            <a:ext cx="3962520" cy="1981080"/>
            <a:chOff x="4800600" y="914400"/>
            <a:chExt cx="3962520" cy="1981080"/>
          </a:xfrm>
        </p:grpSpPr>
        <p:sp>
          <p:nvSpPr>
            <p:cNvPr id="152" name=""/>
            <p:cNvSpPr/>
            <p:nvPr/>
          </p:nvSpPr>
          <p:spPr>
            <a:xfrm>
              <a:off x="5105520" y="91440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to conve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1676520"/>
              <a:ext cx="2667240" cy="121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91520" y="13716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295280"/>
              <a:ext cx="304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3b3 a2b2 ... a0b0   c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s3 s2 s1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485680" y="1709640"/>
              <a:ext cx="304920" cy="114300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205740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6 lin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7733160" y="1485720"/>
              <a:ext cx="304920" cy="83844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6200000">
              <a:off x="6495840" y="1276200"/>
              <a:ext cx="304920" cy="125712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2760 h 1257120"/>
                <a:gd name="textAreaBottom" fmla="*/ 1224360 h 12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2133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 entr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21337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 saí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4920" y="2971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bordagem bit-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1000" y="3184560"/>
          <a:ext cx="3701880" cy="359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3184560"/>
                    <a:ext cx="370188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581280" y="3657600"/>
            <a:ext cx="51055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ar por mapa de Karnaugh 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 se 2 ou mais 1´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 se Nº ímpar de 1´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m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422960" cy="3318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8954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3276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070000" cy="1552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1320" y="30481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505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3276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ício ALU de 4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84320" y="1828800"/>
          <a:ext cx="625968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4320" y="1828800"/>
                    <a:ext cx="62596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609480" y="1371600"/>
            <a:ext cx="2590920" cy="3263760"/>
            <a:chOff x="609480" y="1371600"/>
            <a:chExt cx="2590920" cy="3263760"/>
          </a:xfrm>
        </p:grpSpPr>
        <p:sp>
          <p:nvSpPr>
            <p:cNvPr id="181" name=""/>
            <p:cNvSpPr/>
            <p:nvPr/>
          </p:nvSpPr>
          <p:spPr>
            <a:xfrm>
              <a:off x="1600200" y="2362320"/>
              <a:ext cx="14479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endCxn id="181" idx="1"/>
            </p:cNvCxnSpPr>
            <p:nvPr/>
          </p:nvCxnSpPr>
          <p:spPr>
            <a:xfrm>
              <a:off x="914040" y="3047760"/>
              <a:ext cx="686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2133720" y="1752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880" y="1752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90920" y="37339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37339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2666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3720" y="1371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1371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4191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200" y="4267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198108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05400" y="175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3480" y="1766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396252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3088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90920" y="198108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568760" cy="342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6840" y="1295280"/>
            <a:ext cx="2438640" cy="1320120"/>
            <a:chOff x="456840" y="1295280"/>
            <a:chExt cx="2438640" cy="1320120"/>
          </a:xfrm>
        </p:grpSpPr>
        <p:sp>
          <p:nvSpPr>
            <p:cNvPr id="201" name=""/>
            <p:cNvSpPr/>
            <p:nvPr/>
          </p:nvSpPr>
          <p:spPr>
            <a:xfrm flipH="1">
              <a:off x="685800" y="205740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85800" y="17524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56480" y="1371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523520" y="1523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1960" y="1371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523520" y="1828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1960" y="167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523520" y="2076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1960" y="192384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523520" y="2361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2209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 rot="16200000">
              <a:off x="799920" y="1714320"/>
              <a:ext cx="1295280" cy="457200"/>
            </a:xfrm>
            <a:custGeom>
              <a:avLst/>
              <a:gdLst>
                <a:gd name="textAreaLeft" fmla="*/ 280440 w 1295280"/>
                <a:gd name="textAreaRight" fmla="*/ 1014840 w 1295280"/>
                <a:gd name="textAreaTop" fmla="*/ 99000 h 457200"/>
                <a:gd name="textAreaBottom" fmla="*/ 3582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329" y="21600"/>
                  </a:lnTo>
                  <a:lnTo>
                    <a:pt x="5271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56480" y="17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2884320" y="990720"/>
          <a:ext cx="6259680" cy="257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84320" y="990720"/>
                    <a:ext cx="625968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514600" y="48909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4281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1240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3733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 de utiliz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257800" y="4495680"/>
            <a:ext cx="2743200" cy="1371240"/>
            <a:chOff x="5257800" y="4495680"/>
            <a:chExt cx="2743200" cy="1371240"/>
          </a:xfrm>
        </p:grpSpPr>
        <p:grpSp>
          <p:nvGrpSpPr>
            <p:cNvPr id="224" name=""/>
            <p:cNvGrpSpPr/>
            <p:nvPr/>
          </p:nvGrpSpPr>
          <p:grpSpPr>
            <a:xfrm>
              <a:off x="5410440" y="4800240"/>
              <a:ext cx="863640" cy="1066680"/>
              <a:chOff x="5410440" y="4800240"/>
              <a:chExt cx="863640" cy="106668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576540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596880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612108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91804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75280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556236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5410080" y="5156280"/>
                <a:ext cx="863640" cy="304560"/>
              </a:xfrm>
              <a:custGeom>
                <a:avLst/>
                <a:gdLst>
                  <a:gd name="textAreaLeft" fmla="*/ 186840 w 863640"/>
                  <a:gd name="textAreaRight" fmla="*/ 676800 w 863640"/>
                  <a:gd name="textAreaTop" fmla="*/ 65880 h 304560"/>
                  <a:gd name="textAreaBottom" fmla="*/ 238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29" y="21600"/>
                    </a:lnTo>
                    <a:lnTo>
                      <a:pt x="527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706080" y="4800240"/>
              <a:ext cx="863640" cy="1066680"/>
              <a:chOff x="6706080" y="4800240"/>
              <a:chExt cx="863640" cy="106668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706104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726444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1672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21368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704844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85800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6705720" y="5156280"/>
                <a:ext cx="863640" cy="304560"/>
              </a:xfrm>
              <a:custGeom>
                <a:avLst/>
                <a:gdLst>
                  <a:gd name="textAreaLeft" fmla="*/ 186840 w 863640"/>
                  <a:gd name="textAreaRight" fmla="*/ 676800 w 863640"/>
                  <a:gd name="textAreaTop" fmla="*/ 65880 h 304560"/>
                  <a:gd name="textAreaBottom" fmla="*/ 238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29" y="21600"/>
                    </a:lnTo>
                    <a:lnTo>
                      <a:pt x="527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5257800" y="4495680"/>
              <a:ext cx="1371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P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9400" y="4495680"/>
              <a:ext cx="1371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: comunic. entre ele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120" y="106668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ponto a p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382840" y="916200"/>
            <a:ext cx="5433480" cy="2053440"/>
            <a:chOff x="2382840" y="916200"/>
            <a:chExt cx="5433480" cy="2053440"/>
          </a:xfrm>
        </p:grpSpPr>
        <p:sp>
          <p:nvSpPr>
            <p:cNvPr id="245" name=""/>
            <p:cNvSpPr/>
            <p:nvPr/>
          </p:nvSpPr>
          <p:spPr>
            <a:xfrm>
              <a:off x="4711680" y="1219320"/>
              <a:ext cx="7761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776840" y="1672560"/>
              <a:ext cx="155232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2680" y="1736640"/>
              <a:ext cx="776520" cy="32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11680" y="2319480"/>
              <a:ext cx="7761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05520" y="1736640"/>
              <a:ext cx="776160" cy="32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4640" y="1284120"/>
              <a:ext cx="219672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3870360" y="1799280"/>
              <a:ext cx="155160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546360" y="1284120"/>
              <a:ext cx="219960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454640" y="1542600"/>
              <a:ext cx="2196720" cy="103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8320" y="1413000"/>
              <a:ext cx="1809360" cy="6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483000" y="1605600"/>
              <a:ext cx="2456640" cy="10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676680" y="1477800"/>
              <a:ext cx="193896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708800" y="916200"/>
              <a:ext cx="727920" cy="2053440"/>
              <a:chOff x="4708800" y="916200"/>
              <a:chExt cx="727920" cy="2053440"/>
            </a:xfrm>
          </p:grpSpPr>
          <p:sp>
            <p:nvSpPr>
              <p:cNvPr id="258" name=""/>
              <p:cNvSpPr/>
              <p:nvPr/>
            </p:nvSpPr>
            <p:spPr>
              <a:xfrm rot="705000">
                <a:off x="4844160" y="1573200"/>
                <a:ext cx="3866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 rot="705000">
                <a:off x="4914360" y="941040"/>
                <a:ext cx="3866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 flipH="1">
              <a:off x="4194000" y="1801800"/>
              <a:ext cx="362232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382840" y="1864080"/>
              <a:ext cx="362232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22200" y="3421800"/>
            <a:ext cx="23655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cação diret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entre ele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lel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7040" y="3188520"/>
            <a:ext cx="18932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lex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ala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3-14T21:34:35Z</dcterms:modified>
  <cp:revision>85</cp:revision>
  <dc:subject/>
  <dc:title>Lectures for 2nd Edition</dc:title>
</cp:coreProperties>
</file>