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546-539A-4C54-8ACC-043FE3B3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778-7188-4D43-8049-3012AE3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C5D-B39F-4FC8-8CD9-FB276A1B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939-1D13-4DAE-A78E-6CE666E9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6A0-5B7A-418E-85EA-B48CE37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21D-A7EA-4F4B-BC47-18A59E6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00D-8AD0-49CD-A55A-8194E14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287-FB23-49C5-9543-D099C1E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A0F-9C5B-49B2-8F69-CA02C767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033-07AE-4BD5-8790-8A7F8B17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E2C-6902-4488-A8A9-3B60AEE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B8F-1031-434F-93D9-18D8E4C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46D-9B48-442A-BD7F-9E1914C5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00200" y="304920"/>
          <a:ext cx="5343480" cy="58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920"/>
                    <a:ext cx="5343480" cy="58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17840" y="1079640"/>
          <a:ext cx="4371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4371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1079640"/>
          <a:ext cx="382896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38289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17840" y="1079640"/>
          <a:ext cx="383688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383688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517840" y="1079640"/>
          <a:ext cx="627696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079640"/>
                    <a:ext cx="627696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04:18:13Z</dcterms:created>
  <dc:creator>Luciano Antonio Digiampietri</dc:creator>
  <dc:description/>
  <dc:language>en-US</dc:language>
  <cp:lastModifiedBy>Luciano Antonio Digiampietri</cp:lastModifiedBy>
  <dcterms:modified xsi:type="dcterms:W3CDTF">2002-05-01T04:18:37Z</dcterms:modified>
  <cp:revision>1</cp:revision>
  <dc:subject/>
  <dc:title>Apresentação do PowerPoint</dc:title>
</cp:coreProperties>
</file>