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a-</a:t>
            </a:r>
            <a:fld id="{B8E3C6F2-79C7-409A-8279-764C2172005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”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eamento de endereç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ta: como fazer a consistência de dad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ição: qual bloco descartar da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24120" y="1828800"/>
            <a:ext cx="489600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1120" y="251136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8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3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2880" y="463248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ória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2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216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16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16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16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16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16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16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2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6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65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8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16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16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16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68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68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268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16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216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64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39920" y="31240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9920" y="28195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9920" y="24382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21398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9920" y="18288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9920" y="15238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9920" y="12193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9920" y="9144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004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97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54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992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99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080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9920" y="34290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399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9760" y="1219320"/>
            <a:ext cx="304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804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80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152388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904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6904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628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66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62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76600" y="1828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160" y="60958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160" y="57913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54100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160" y="51116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160" y="48006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2160" y="44956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2160" y="41911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2160" y="38862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9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0656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83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16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16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16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268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68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68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2160" y="64008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16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64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992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2024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5992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2024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408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440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57913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54100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51116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48006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44956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41911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8862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705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2092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2092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092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64008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16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848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8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848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5232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1264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8160" y="5105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8480" y="51055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00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enchimento da cache a cada mi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791320" y="3733920"/>
          <a:ext cx="3973320" cy="371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733920"/>
                    <a:ext cx="39733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01800" y="955800"/>
            <a:ext cx="5008680" cy="5444280"/>
            <a:chOff x="3601800" y="955800"/>
            <a:chExt cx="5008680" cy="5444280"/>
          </a:xfrm>
        </p:grpSpPr>
        <p:sp>
          <p:nvSpPr>
            <p:cNvPr id="380" name=""/>
            <p:cNvSpPr/>
            <p:nvPr/>
          </p:nvSpPr>
          <p:spPr>
            <a:xfrm>
              <a:off x="5365800" y="2824200"/>
              <a:ext cx="1994040" cy="2093040"/>
            </a:xfrm>
            <a:custGeom>
              <a:avLst/>
              <a:gdLst/>
              <a:ahLst/>
              <a:rect l="l" t="t" r="r" b="b"/>
              <a:pathLst>
                <a:path w="916" h="961">
                  <a:moveTo>
                    <a:pt x="916" y="960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1"/>
                  </a:lnTo>
                  <a:lnTo>
                    <a:pt x="916" y="961"/>
                  </a:lnTo>
                  <a:lnTo>
                    <a:pt x="916" y="9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5440" y="3033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65440" y="3240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365440" y="34495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5440" y="36583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65440" y="386712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65440" y="4076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365440" y="4283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365440" y="44924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365440" y="470160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8840" y="2837520"/>
              <a:ext cx="4320" cy="20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9480" y="2828520"/>
              <a:ext cx="2160" cy="20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80280" y="1375920"/>
              <a:ext cx="432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946560" y="1375920"/>
              <a:ext cx="180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440" y="1371600"/>
              <a:ext cx="1948680" cy="287280"/>
            </a:xfrm>
            <a:custGeom>
              <a:avLst/>
              <a:gdLst/>
              <a:ahLst/>
              <a:rect l="l" t="t" r="r" b="b"/>
              <a:pathLst>
                <a:path w="895" h="132">
                  <a:moveTo>
                    <a:pt x="0" y="130"/>
                  </a:moveTo>
                  <a:lnTo>
                    <a:pt x="2" y="0"/>
                  </a:lnTo>
                  <a:lnTo>
                    <a:pt x="895" y="0"/>
                  </a:lnTo>
                  <a:lnTo>
                    <a:pt x="895" y="132"/>
                  </a:lnTo>
                  <a:lnTo>
                    <a:pt x="2" y="132"/>
                  </a:lnTo>
                  <a:lnTo>
                    <a:pt x="2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5800" y="955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6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7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1168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566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373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024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7484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120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572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89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074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84080" y="955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45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65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03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13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0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728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752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5460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13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16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76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81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01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8760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74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9344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01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4032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220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75120" y="1800360"/>
              <a:ext cx="17856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3316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732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71800" y="1798200"/>
              <a:ext cx="1825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86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824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99840" y="1388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67520" y="1388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22600" y="138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0320" y="138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09720" y="13888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780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684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5312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2640" y="150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04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208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3280" y="26150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4608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84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65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7640" y="2615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74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67120" y="2615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6684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4604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82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1720" y="372996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58920" y="3729960"/>
              <a:ext cx="7200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2760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432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446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87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9400" y="261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9280" y="28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49280" y="305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9280" y="325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2292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988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736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536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292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988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7736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536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2292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988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7736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536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78080" y="353196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65560" y="353196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1320" y="353196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2552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228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38040" y="1243080"/>
              <a:ext cx="2412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032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3120" y="1243080"/>
              <a:ext cx="30600" cy="280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356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78080" y="395028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65560" y="395028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91320" y="395028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8080" y="4159080"/>
              <a:ext cx="2592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5560" y="4159080"/>
              <a:ext cx="2556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1320" y="415908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99680" y="1861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212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060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131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368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84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96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62280" y="213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2640" y="3721680"/>
              <a:ext cx="6984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11640" y="1652400"/>
              <a:ext cx="2446920" cy="21060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1124" y="0"/>
                  </a:moveTo>
                  <a:lnTo>
                    <a:pt x="1124" y="312"/>
                  </a:lnTo>
                  <a:lnTo>
                    <a:pt x="0" y="312"/>
                  </a:lnTo>
                  <a:lnTo>
                    <a:pt x="0" y="967"/>
                  </a:lnTo>
                  <a:lnTo>
                    <a:pt x="503" y="9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180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2240" y="17809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342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3156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2248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2184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06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3956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3080" y="5945040"/>
              <a:ext cx="274320" cy="324360"/>
            </a:xfrm>
            <a:custGeom>
              <a:avLst/>
              <a:gdLst/>
              <a:ahLst/>
              <a:rect l="l" t="t" r="r" b="b"/>
              <a:pathLst>
                <a:path w="126" h="149">
                  <a:moveTo>
                    <a:pt x="0" y="88"/>
                  </a:moveTo>
                  <a:lnTo>
                    <a:pt x="2" y="99"/>
                  </a:lnTo>
                  <a:lnTo>
                    <a:pt x="4" y="109"/>
                  </a:lnTo>
                  <a:lnTo>
                    <a:pt x="8" y="117"/>
                  </a:lnTo>
                  <a:lnTo>
                    <a:pt x="13" y="124"/>
                  </a:lnTo>
                  <a:lnTo>
                    <a:pt x="19" y="132"/>
                  </a:lnTo>
                  <a:lnTo>
                    <a:pt x="27" y="138"/>
                  </a:lnTo>
                  <a:lnTo>
                    <a:pt x="34" y="143"/>
                  </a:lnTo>
                  <a:lnTo>
                    <a:pt x="44" y="147"/>
                  </a:lnTo>
                  <a:lnTo>
                    <a:pt x="53" y="149"/>
                  </a:lnTo>
                  <a:lnTo>
                    <a:pt x="63" y="149"/>
                  </a:lnTo>
                  <a:lnTo>
                    <a:pt x="75" y="149"/>
                  </a:lnTo>
                  <a:lnTo>
                    <a:pt x="84" y="147"/>
                  </a:lnTo>
                  <a:lnTo>
                    <a:pt x="92" y="143"/>
                  </a:lnTo>
                  <a:lnTo>
                    <a:pt x="101" y="138"/>
                  </a:lnTo>
                  <a:lnTo>
                    <a:pt x="107" y="132"/>
                  </a:lnTo>
                  <a:lnTo>
                    <a:pt x="115" y="124"/>
                  </a:lnTo>
                  <a:lnTo>
                    <a:pt x="119" y="117"/>
                  </a:lnTo>
                  <a:lnTo>
                    <a:pt x="122" y="109"/>
                  </a:lnTo>
                  <a:lnTo>
                    <a:pt x="126" y="99"/>
                  </a:lnTo>
                  <a:lnTo>
                    <a:pt x="126" y="90"/>
                  </a:lnTo>
                  <a:lnTo>
                    <a:pt x="126" y="0"/>
                  </a:lnTo>
                  <a:lnTo>
                    <a:pt x="2" y="0"/>
                  </a:lnTo>
                  <a:lnTo>
                    <a:pt x="2" y="90"/>
                  </a:lnTo>
                  <a:lnTo>
                    <a:pt x="2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420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58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0160" y="3758400"/>
              <a:ext cx="8640" cy="21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3160" y="5681880"/>
              <a:ext cx="311400" cy="25848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142" y="0"/>
                  </a:moveTo>
                  <a:lnTo>
                    <a:pt x="143" y="59"/>
                  </a:lnTo>
                  <a:lnTo>
                    <a:pt x="0" y="59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89280" y="2040120"/>
              <a:ext cx="1830600" cy="4359960"/>
            </a:xfrm>
            <a:custGeom>
              <a:avLst/>
              <a:gdLst/>
              <a:ahLst/>
              <a:rect l="l" t="t" r="r" b="b"/>
              <a:pathLst>
                <a:path w="841" h="2002">
                  <a:moveTo>
                    <a:pt x="841" y="1942"/>
                  </a:moveTo>
                  <a:lnTo>
                    <a:pt x="841" y="2002"/>
                  </a:lnTo>
                  <a:lnTo>
                    <a:pt x="0" y="200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7320" y="5490360"/>
              <a:ext cx="72000" cy="694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15360" y="1652400"/>
              <a:ext cx="1913760" cy="3870000"/>
            </a:xfrm>
            <a:custGeom>
              <a:avLst/>
              <a:gdLst/>
              <a:ahLst/>
              <a:rect l="l" t="t" r="r" b="b"/>
              <a:pathLst>
                <a:path w="879" h="1777">
                  <a:moveTo>
                    <a:pt x="877" y="0"/>
                  </a:moveTo>
                  <a:lnTo>
                    <a:pt x="879" y="191"/>
                  </a:lnTo>
                  <a:lnTo>
                    <a:pt x="0" y="191"/>
                  </a:lnTo>
                  <a:lnTo>
                    <a:pt x="0" y="1777"/>
                  </a:lnTo>
                  <a:lnTo>
                    <a:pt x="756" y="17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92040" y="2026800"/>
              <a:ext cx="1776240" cy="3299760"/>
            </a:xfrm>
            <a:custGeom>
              <a:avLst/>
              <a:gdLst/>
              <a:ahLst/>
              <a:rect l="l" t="t" r="r" b="b"/>
              <a:pathLst>
                <a:path w="816" h="1515">
                  <a:moveTo>
                    <a:pt x="0" y="801"/>
                  </a:moveTo>
                  <a:lnTo>
                    <a:pt x="2" y="1515"/>
                  </a:lnTo>
                  <a:lnTo>
                    <a:pt x="816" y="1515"/>
                  </a:lnTo>
                  <a:lnTo>
                    <a:pt x="816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4560" y="5052240"/>
              <a:ext cx="17856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629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67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2280" y="5368320"/>
              <a:ext cx="307080" cy="3135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70" y="142"/>
                  </a:moveTo>
                  <a:lnTo>
                    <a:pt x="82" y="142"/>
                  </a:lnTo>
                  <a:lnTo>
                    <a:pt x="93" y="140"/>
                  </a:lnTo>
                  <a:lnTo>
                    <a:pt x="103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28" y="113"/>
                  </a:lnTo>
                  <a:lnTo>
                    <a:pt x="134" y="106"/>
                  </a:lnTo>
                  <a:lnTo>
                    <a:pt x="139" y="94"/>
                  </a:lnTo>
                  <a:lnTo>
                    <a:pt x="141" y="83"/>
                  </a:lnTo>
                  <a:lnTo>
                    <a:pt x="141" y="71"/>
                  </a:lnTo>
                  <a:lnTo>
                    <a:pt x="141" y="60"/>
                  </a:lnTo>
                  <a:lnTo>
                    <a:pt x="139" y="50"/>
                  </a:lnTo>
                  <a:lnTo>
                    <a:pt x="134" y="39"/>
                  </a:lnTo>
                  <a:lnTo>
                    <a:pt x="128" y="31"/>
                  </a:lnTo>
                  <a:lnTo>
                    <a:pt x="122" y="21"/>
                  </a:lnTo>
                  <a:lnTo>
                    <a:pt x="113" y="14"/>
                  </a:lnTo>
                  <a:lnTo>
                    <a:pt x="103" y="8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0" y="0"/>
                  </a:lnTo>
                  <a:lnTo>
                    <a:pt x="59" y="2"/>
                  </a:lnTo>
                  <a:lnTo>
                    <a:pt x="49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9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3" y="94"/>
                  </a:lnTo>
                  <a:lnTo>
                    <a:pt x="7" y="106"/>
                  </a:lnTo>
                  <a:lnTo>
                    <a:pt x="13" y="113"/>
                  </a:lnTo>
                  <a:lnTo>
                    <a:pt x="21" y="123"/>
                  </a:lnTo>
                  <a:lnTo>
                    <a:pt x="28" y="129"/>
                  </a:lnTo>
                  <a:lnTo>
                    <a:pt x="38" y="134"/>
                  </a:lnTo>
                  <a:lnTo>
                    <a:pt x="49" y="140"/>
                  </a:lnTo>
                  <a:lnTo>
                    <a:pt x="59" y="142"/>
                  </a:lnTo>
                  <a:lnTo>
                    <a:pt x="70" y="144"/>
                  </a:lnTo>
                  <a:lnTo>
                    <a:pt x="7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0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4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915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70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070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834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5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1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86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63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01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36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0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863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9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3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74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912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304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672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42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1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2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7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75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760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48840" y="5507640"/>
              <a:ext cx="93600" cy="4536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lnTo>
                    <a:pt x="43" y="0"/>
                  </a:lnTo>
                  <a:lnTo>
                    <a:pt x="43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15"/>
                  </a:moveTo>
                  <a:lnTo>
                    <a:pt x="43" y="15"/>
                  </a:lnTo>
                  <a:lnTo>
                    <a:pt x="43" y="21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57840" y="5280840"/>
              <a:ext cx="67320" cy="72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57840" y="3729960"/>
              <a:ext cx="67320" cy="69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98800" y="5047560"/>
              <a:ext cx="18504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2400" y="3767040"/>
              <a:ext cx="2160" cy="1535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04920" y="2201760"/>
            <a:ext cx="297180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yte offset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ó para acesso a by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argura da cache:v+tag+dado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 de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linh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índice de n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inha da cache: 1+(30-n)+32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                       v    tag    d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amanho da cache=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(63-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de dados com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78720" y="1293120"/>
            <a:ext cx="571968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emory = cache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emory = cache de instruçõ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quitetu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Harvar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 Harvard modificad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? semelhante ao st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congela 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m já entrou prosse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ir “bolhas” nos estágios segu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r pelo h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anto instrução não é lida, manter endereço original (PC-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483160" y="1901880"/>
            <a:ext cx="2976480" cy="841320"/>
            <a:chOff x="5483160" y="1901880"/>
            <a:chExt cx="2976480" cy="841320"/>
          </a:xfrm>
        </p:grpSpPr>
        <p:sp>
          <p:nvSpPr>
            <p:cNvPr id="567" name=""/>
            <p:cNvSpPr/>
            <p:nvPr/>
          </p:nvSpPr>
          <p:spPr>
            <a:xfrm>
              <a:off x="548316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22860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9608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7" idx="3"/>
              <a:endCxn id="568" idx="1"/>
            </p:cNvCxnSpPr>
            <p:nvPr/>
          </p:nvCxnSpPr>
          <p:spPr>
            <a:xfrm>
              <a:off x="6246360" y="2513160"/>
              <a:ext cx="3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1" name=""/>
            <p:cNvCxnSpPr>
              <a:stCxn id="568" idx="3"/>
              <a:endCxn id="569" idx="1"/>
            </p:cNvCxnSpPr>
            <p:nvPr/>
          </p:nvCxnSpPr>
          <p:spPr>
            <a:xfrm flipV="1">
              <a:off x="7316640" y="2512800"/>
              <a:ext cx="380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6614280" y="1901880"/>
              <a:ext cx="861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637240" y="3198960"/>
            <a:ext cx="2593800" cy="2135160"/>
            <a:chOff x="5637240" y="3198960"/>
            <a:chExt cx="2593800" cy="2135160"/>
          </a:xfrm>
        </p:grpSpPr>
        <p:sp>
          <p:nvSpPr>
            <p:cNvPr id="574" name=""/>
            <p:cNvSpPr/>
            <p:nvPr/>
          </p:nvSpPr>
          <p:spPr>
            <a:xfrm>
              <a:off x="563724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0000" y="3583080"/>
              <a:ext cx="763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748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08040" y="3198960"/>
              <a:ext cx="184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 modifica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9920" y="4876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5" idx="1"/>
              <a:endCxn id="574" idx="0"/>
            </p:cNvCxnSpPr>
            <p:nvPr/>
          </p:nvCxnSpPr>
          <p:spPr>
            <a:xfrm flipV="1" rot="10800000">
              <a:off x="6019200" y="3811320"/>
              <a:ext cx="46080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0" name=""/>
            <p:cNvCxnSpPr>
              <a:stCxn id="575" idx="3"/>
              <a:endCxn id="576" idx="0"/>
            </p:cNvCxnSpPr>
            <p:nvPr/>
          </p:nvCxnSpPr>
          <p:spPr>
            <a:xfrm>
              <a:off x="7243920" y="3811680"/>
              <a:ext cx="60696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617220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ches in the DECStation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99200" y="1900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97560" y="3414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403360" y="1108080"/>
            <a:ext cx="4330440" cy="5292360"/>
            <a:chOff x="2403360" y="1108080"/>
            <a:chExt cx="4330440" cy="5292360"/>
          </a:xfrm>
        </p:grpSpPr>
        <p:sp>
          <p:nvSpPr>
            <p:cNvPr id="587" name=""/>
            <p:cNvSpPr/>
            <p:nvPr/>
          </p:nvSpPr>
          <p:spPr>
            <a:xfrm>
              <a:off x="4067640" y="1532880"/>
              <a:ext cx="2478240" cy="251640"/>
            </a:xfrm>
            <a:custGeom>
              <a:avLst/>
              <a:gdLst/>
              <a:ahLst/>
              <a:rect l="l" t="t" r="r" b="b"/>
              <a:pathLst>
                <a:path w="1190" h="121">
                  <a:moveTo>
                    <a:pt x="0" y="119"/>
                  </a:moveTo>
                  <a:lnTo>
                    <a:pt x="1" y="0"/>
                  </a:lnTo>
                  <a:lnTo>
                    <a:pt x="1190" y="0"/>
                  </a:lnTo>
                  <a:lnTo>
                    <a:pt x="1190" y="121"/>
                  </a:lnTo>
                  <a:lnTo>
                    <a:pt x="1" y="121"/>
                  </a:lnTo>
                  <a:lnTo>
                    <a:pt x="1" y="1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81920" y="1108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940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53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916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630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386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60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18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093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504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180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932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66360" y="110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320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9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66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24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66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544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216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5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97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060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712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29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378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69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418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46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19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5440" y="533628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07280" y="1924560"/>
              <a:ext cx="17460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6316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300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240" y="1924560"/>
              <a:ext cx="17064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356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058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42200" y="18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29680" y="182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98800" y="182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35880" y="18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756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532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1096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45160" y="198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392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9024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4200" y="2970360"/>
              <a:ext cx="1916280" cy="2003400"/>
            </a:xfrm>
            <a:custGeom>
              <a:avLst/>
              <a:gdLst/>
              <a:ahLst/>
              <a:rect l="l" t="t" r="r" b="b"/>
              <a:pathLst>
                <a:path w="920" h="962">
                  <a:moveTo>
                    <a:pt x="918" y="960"/>
                  </a:moveTo>
                  <a:lnTo>
                    <a:pt x="920" y="0"/>
                  </a:lnTo>
                  <a:lnTo>
                    <a:pt x="0" y="0"/>
                  </a:lnTo>
                  <a:lnTo>
                    <a:pt x="0" y="962"/>
                  </a:lnTo>
                  <a:lnTo>
                    <a:pt x="920" y="962"/>
                  </a:lnTo>
                  <a:lnTo>
                    <a:pt x="920" y="9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9440" y="2772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80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396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6312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48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86320" y="2772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75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3160" y="2772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9748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3080" y="277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1016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  <a:lnTo>
                    <a:pt x="916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5080" y="3832200"/>
              <a:ext cx="6840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5440" y="383220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07200" y="383220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95000" y="383220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95200" y="1780920"/>
              <a:ext cx="2851560" cy="2089080"/>
            </a:xfrm>
            <a:custGeom>
              <a:avLst/>
              <a:gdLst/>
              <a:ahLst/>
              <a:rect l="l" t="t" r="r" b="b"/>
              <a:pathLst>
                <a:path w="1369" h="1003">
                  <a:moveTo>
                    <a:pt x="1369" y="0"/>
                  </a:moveTo>
                  <a:lnTo>
                    <a:pt x="1369" y="313"/>
                  </a:lnTo>
                  <a:lnTo>
                    <a:pt x="0" y="313"/>
                  </a:lnTo>
                  <a:lnTo>
                    <a:pt x="0" y="1003"/>
                  </a:lnTo>
                  <a:lnTo>
                    <a:pt x="100" y="10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0336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8760" y="2155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3008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632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1424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8624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332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65560" y="5961240"/>
              <a:ext cx="264240" cy="3164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90"/>
                  </a:moveTo>
                  <a:lnTo>
                    <a:pt x="2" y="102"/>
                  </a:lnTo>
                  <a:lnTo>
                    <a:pt x="4" y="110"/>
                  </a:lnTo>
                  <a:lnTo>
                    <a:pt x="8" y="119"/>
                  </a:lnTo>
                  <a:lnTo>
                    <a:pt x="14" y="127"/>
                  </a:lnTo>
                  <a:lnTo>
                    <a:pt x="20" y="134"/>
                  </a:lnTo>
                  <a:lnTo>
                    <a:pt x="27" y="140"/>
                  </a:lnTo>
                  <a:lnTo>
                    <a:pt x="35" y="146"/>
                  </a:lnTo>
                  <a:lnTo>
                    <a:pt x="45" y="150"/>
                  </a:lnTo>
                  <a:lnTo>
                    <a:pt x="54" y="152"/>
                  </a:lnTo>
                  <a:lnTo>
                    <a:pt x="64" y="152"/>
                  </a:lnTo>
                  <a:lnTo>
                    <a:pt x="73" y="152"/>
                  </a:lnTo>
                  <a:lnTo>
                    <a:pt x="83" y="150"/>
                  </a:lnTo>
                  <a:lnTo>
                    <a:pt x="93" y="146"/>
                  </a:lnTo>
                  <a:lnTo>
                    <a:pt x="100" y="140"/>
                  </a:lnTo>
                  <a:lnTo>
                    <a:pt x="108" y="134"/>
                  </a:lnTo>
                  <a:lnTo>
                    <a:pt x="116" y="127"/>
                  </a:lnTo>
                  <a:lnTo>
                    <a:pt x="120" y="119"/>
                  </a:lnTo>
                  <a:lnTo>
                    <a:pt x="123" y="110"/>
                  </a:lnTo>
                  <a:lnTo>
                    <a:pt x="125" y="102"/>
                  </a:lnTo>
                  <a:lnTo>
                    <a:pt x="127" y="90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4480" y="5413320"/>
              <a:ext cx="299880" cy="2998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71" y="144"/>
                  </a:moveTo>
                  <a:lnTo>
                    <a:pt x="83" y="144"/>
                  </a:lnTo>
                  <a:lnTo>
                    <a:pt x="94" y="140"/>
                  </a:lnTo>
                  <a:lnTo>
                    <a:pt x="104" y="136"/>
                  </a:lnTo>
                  <a:lnTo>
                    <a:pt x="113" y="131"/>
                  </a:lnTo>
                  <a:lnTo>
                    <a:pt x="123" y="123"/>
                  </a:lnTo>
                  <a:lnTo>
                    <a:pt x="129" y="115"/>
                  </a:lnTo>
                  <a:lnTo>
                    <a:pt x="136" y="106"/>
                  </a:lnTo>
                  <a:lnTo>
                    <a:pt x="140" y="94"/>
                  </a:lnTo>
                  <a:lnTo>
                    <a:pt x="142" y="84"/>
                  </a:lnTo>
                  <a:lnTo>
                    <a:pt x="144" y="73"/>
                  </a:lnTo>
                  <a:lnTo>
                    <a:pt x="142" y="59"/>
                  </a:lnTo>
                  <a:lnTo>
                    <a:pt x="140" y="50"/>
                  </a:lnTo>
                  <a:lnTo>
                    <a:pt x="136" y="38"/>
                  </a:lnTo>
                  <a:lnTo>
                    <a:pt x="129" y="29"/>
                  </a:lnTo>
                  <a:lnTo>
                    <a:pt x="123" y="21"/>
                  </a:lnTo>
                  <a:lnTo>
                    <a:pt x="113" y="13"/>
                  </a:lnTo>
                  <a:lnTo>
                    <a:pt x="104" y="8"/>
                  </a:lnTo>
                  <a:lnTo>
                    <a:pt x="94" y="4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4"/>
                  </a:lnTo>
                  <a:lnTo>
                    <a:pt x="39" y="8"/>
                  </a:lnTo>
                  <a:lnTo>
                    <a:pt x="29" y="13"/>
                  </a:lnTo>
                  <a:lnTo>
                    <a:pt x="21" y="21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4" y="50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4" y="94"/>
                  </a:lnTo>
                  <a:lnTo>
                    <a:pt x="8" y="106"/>
                  </a:lnTo>
                  <a:lnTo>
                    <a:pt x="14" y="115"/>
                  </a:lnTo>
                  <a:lnTo>
                    <a:pt x="21" y="123"/>
                  </a:lnTo>
                  <a:lnTo>
                    <a:pt x="29" y="131"/>
                  </a:lnTo>
                  <a:lnTo>
                    <a:pt x="39" y="136"/>
                  </a:lnTo>
                  <a:lnTo>
                    <a:pt x="48" y="140"/>
                  </a:lnTo>
                  <a:lnTo>
                    <a:pt x="60" y="144"/>
                  </a:lnTo>
                  <a:lnTo>
                    <a:pt x="71" y="144"/>
                  </a:lnTo>
                  <a:lnTo>
                    <a:pt x="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99280" y="5109120"/>
              <a:ext cx="17460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97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500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86760" y="3866040"/>
              <a:ext cx="1800" cy="148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38520" y="5540400"/>
              <a:ext cx="87840" cy="457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42" y="16"/>
                  </a:lnTo>
                  <a:lnTo>
                    <a:pt x="42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22080" y="3866040"/>
              <a:ext cx="396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65720" y="5713200"/>
              <a:ext cx="216720" cy="24768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104" y="0"/>
                  </a:moveTo>
                  <a:lnTo>
                    <a:pt x="104" y="50"/>
                  </a:lnTo>
                  <a:lnTo>
                    <a:pt x="0" y="52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1200" y="2405880"/>
              <a:ext cx="903960" cy="3994560"/>
            </a:xfrm>
            <a:custGeom>
              <a:avLst/>
              <a:gdLst/>
              <a:ahLst/>
              <a:rect l="l" t="t" r="r" b="b"/>
              <a:pathLst>
                <a:path w="434" h="1918">
                  <a:moveTo>
                    <a:pt x="434" y="1859"/>
                  </a:moveTo>
                  <a:lnTo>
                    <a:pt x="434" y="1918"/>
                  </a:lnTo>
                  <a:lnTo>
                    <a:pt x="2" y="19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55280" y="5529960"/>
              <a:ext cx="70560" cy="66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2840" y="1780920"/>
              <a:ext cx="1939320" cy="3780000"/>
            </a:xfrm>
            <a:custGeom>
              <a:avLst/>
              <a:gdLst/>
              <a:ahLst/>
              <a:rect l="l" t="t" r="r" b="b"/>
              <a:pathLst>
                <a:path w="931" h="1815">
                  <a:moveTo>
                    <a:pt x="929" y="0"/>
                  </a:moveTo>
                  <a:lnTo>
                    <a:pt x="931" y="194"/>
                  </a:lnTo>
                  <a:lnTo>
                    <a:pt x="0" y="194"/>
                  </a:lnTo>
                  <a:lnTo>
                    <a:pt x="0" y="1815"/>
                  </a:lnTo>
                  <a:lnTo>
                    <a:pt x="344" y="181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8160" y="2405880"/>
              <a:ext cx="1629000" cy="3155040"/>
            </a:xfrm>
            <a:custGeom>
              <a:avLst/>
              <a:gdLst/>
              <a:ahLst/>
              <a:rect l="l" t="t" r="r" b="b"/>
              <a:pathLst>
                <a:path w="782" h="1515">
                  <a:moveTo>
                    <a:pt x="0" y="701"/>
                  </a:moveTo>
                  <a:lnTo>
                    <a:pt x="2" y="1515"/>
                  </a:lnTo>
                  <a:lnTo>
                    <a:pt x="782" y="1515"/>
                  </a:lnTo>
                  <a:lnTo>
                    <a:pt x="7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55000" y="5109120"/>
              <a:ext cx="17064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0584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21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2280" y="1532880"/>
              <a:ext cx="180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67320" y="1532880"/>
              <a:ext cx="216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752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55080" y="2970360"/>
              <a:ext cx="68400" cy="622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33" y="30"/>
                  </a:lnTo>
                  <a:lnTo>
                    <a:pt x="17" y="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9400" y="4897080"/>
              <a:ext cx="64080" cy="72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0"/>
                  </a:moveTo>
                  <a:lnTo>
                    <a:pt x="0" y="2"/>
                  </a:lnTo>
                  <a:lnTo>
                    <a:pt x="15" y="35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90720" y="3013920"/>
              <a:ext cx="1800" cy="19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4544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356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8440" y="3807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544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2356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8800" y="396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33720" y="3963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77280" y="3963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0572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83120" y="396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90960" y="2667960"/>
              <a:ext cx="64080" cy="64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lnTo>
                    <a:pt x="31" y="0"/>
                  </a:lnTo>
                  <a:lnTo>
                    <a:pt x="0" y="16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38360" y="23367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1"/>
                  </a:moveTo>
                  <a:lnTo>
                    <a:pt x="33" y="33"/>
                  </a:lnTo>
                  <a:lnTo>
                    <a:pt x="18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5560" y="233676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1"/>
                  </a:moveTo>
                  <a:lnTo>
                    <a:pt x="32" y="33"/>
                  </a:lnTo>
                  <a:lnTo>
                    <a:pt x="17" y="0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2604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5560" y="2667960"/>
              <a:ext cx="62280" cy="64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31"/>
                  </a:moveTo>
                  <a:lnTo>
                    <a:pt x="30" y="0"/>
                  </a:lnTo>
                  <a:lnTo>
                    <a:pt x="0" y="16"/>
                  </a:lnTo>
                  <a:lnTo>
                    <a:pt x="30" y="31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11720" y="2697480"/>
              <a:ext cx="5227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26240" y="2697480"/>
              <a:ext cx="11080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768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996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2520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62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392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77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0340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232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18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064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44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260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99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208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273840" y="31658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73840" y="33656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273840" y="35658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273840" y="37656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273840" y="39654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273840" y="416592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273840" y="43657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73840" y="45655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273840" y="4765680"/>
              <a:ext cx="191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6520" y="2976480"/>
              <a:ext cx="1800" cy="20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78000" y="2972160"/>
              <a:ext cx="3960" cy="20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766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47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24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31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333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110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46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82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87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51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85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9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9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66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2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963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70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428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78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548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268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63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326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884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23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936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3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9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6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03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38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709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4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786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359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714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84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71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9648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712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443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785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80280" y="1397520"/>
              <a:ext cx="2232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344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96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43000" y="1397520"/>
              <a:ext cx="2880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6324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856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080" y="1397520"/>
              <a:ext cx="2916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dade espacial: aumentando o tamanho do blo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99400" y="944640"/>
            <a:ext cx="7806240" cy="5342400"/>
            <a:chOff x="599400" y="944640"/>
            <a:chExt cx="7806240" cy="5342400"/>
          </a:xfrm>
        </p:grpSpPr>
        <p:grpSp>
          <p:nvGrpSpPr>
            <p:cNvPr id="782" name=""/>
            <p:cNvGrpSpPr/>
            <p:nvPr/>
          </p:nvGrpSpPr>
          <p:grpSpPr>
            <a:xfrm>
              <a:off x="599400" y="944640"/>
              <a:ext cx="7806240" cy="5342400"/>
              <a:chOff x="599400" y="944640"/>
              <a:chExt cx="7806240" cy="534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2828520" y="94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24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5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8880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374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1660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89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6564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2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51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258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021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84960" y="944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9008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210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9016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8160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22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040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356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7816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177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9552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7868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4924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830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252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576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364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1996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88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4960" y="51440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8080" y="19411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9"/>
                    </a:moveTo>
                    <a:lnTo>
                      <a:pt x="30" y="31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9796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41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584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80304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93048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125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70120" y="1648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0560" y="164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40760" y="164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683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62800" y="164844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2764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080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5148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87840" y="1828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6200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336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50200" y="2801160"/>
                <a:ext cx="6109560" cy="1990440"/>
              </a:xfrm>
              <a:custGeom>
                <a:avLst/>
                <a:gdLst/>
                <a:ahLst/>
                <a:rect l="l" t="t" r="r" b="b"/>
                <a:pathLst>
                  <a:path w="2865" h="933">
                    <a:moveTo>
                      <a:pt x="2863" y="931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33"/>
                    </a:lnTo>
                    <a:lnTo>
                      <a:pt x="2865" y="933"/>
                    </a:lnTo>
                    <a:lnTo>
                      <a:pt x="2865" y="9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2320" y="256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506600" y="2568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59768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7652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84000" y="256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8840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65800" y="256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0648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  <a:lnTo>
                      <a:pt x="2863" y="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97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4" y="30"/>
                    </a:moveTo>
                    <a:lnTo>
                      <a:pt x="19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29" y="24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614960" y="36522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592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7136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2" y="32"/>
                    </a:lnTo>
                    <a:lnTo>
                      <a:pt x="31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62640" y="1621080"/>
                <a:ext cx="2910600" cy="2076120"/>
              </a:xfrm>
              <a:custGeom>
                <a:avLst/>
                <a:gdLst/>
                <a:ahLst/>
                <a:rect l="l" t="t" r="r" b="b"/>
                <a:pathLst>
                  <a:path w="1365" h="973">
                    <a:moveTo>
                      <a:pt x="1365" y="0"/>
                    </a:moveTo>
                    <a:lnTo>
                      <a:pt x="1365" y="304"/>
                    </a:lnTo>
                    <a:lnTo>
                      <a:pt x="0" y="304"/>
                    </a:lnTo>
                    <a:lnTo>
                      <a:pt x="0" y="973"/>
                    </a:lnTo>
                    <a:lnTo>
                      <a:pt x="63" y="97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940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880" y="1734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04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210880" y="194112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9"/>
                    </a:moveTo>
                    <a:lnTo>
                      <a:pt x="31" y="31"/>
                    </a:lnTo>
                    <a:lnTo>
                      <a:pt x="16" y="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09604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990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8756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196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13840" y="5779800"/>
                <a:ext cx="253800" cy="311040"/>
              </a:xfrm>
              <a:custGeom>
                <a:avLst/>
                <a:gdLst/>
                <a:ahLst/>
                <a:rect l="l" t="t" r="r" b="b"/>
                <a:pathLst>
                  <a:path w="119" h="146">
                    <a:moveTo>
                      <a:pt x="0" y="86"/>
                    </a:moveTo>
                    <a:lnTo>
                      <a:pt x="2" y="97"/>
                    </a:lnTo>
                    <a:lnTo>
                      <a:pt x="4" y="105"/>
                    </a:lnTo>
                    <a:lnTo>
                      <a:pt x="8" y="114"/>
                    </a:lnTo>
                    <a:lnTo>
                      <a:pt x="13" y="122"/>
                    </a:lnTo>
                    <a:lnTo>
                      <a:pt x="19" y="129"/>
                    </a:lnTo>
                    <a:lnTo>
                      <a:pt x="25" y="135"/>
                    </a:lnTo>
                    <a:lnTo>
                      <a:pt x="33" y="139"/>
                    </a:lnTo>
                    <a:lnTo>
                      <a:pt x="41" y="143"/>
                    </a:lnTo>
                    <a:lnTo>
                      <a:pt x="51" y="146"/>
                    </a:lnTo>
                    <a:lnTo>
                      <a:pt x="62" y="146"/>
                    </a:lnTo>
                    <a:lnTo>
                      <a:pt x="70" y="146"/>
                    </a:lnTo>
                    <a:lnTo>
                      <a:pt x="80" y="143"/>
                    </a:lnTo>
                    <a:lnTo>
                      <a:pt x="88" y="139"/>
                    </a:lnTo>
                    <a:lnTo>
                      <a:pt x="96" y="135"/>
                    </a:lnTo>
                    <a:lnTo>
                      <a:pt x="103" y="129"/>
                    </a:lnTo>
                    <a:lnTo>
                      <a:pt x="109" y="122"/>
                    </a:lnTo>
                    <a:lnTo>
                      <a:pt x="113" y="114"/>
                    </a:lnTo>
                    <a:lnTo>
                      <a:pt x="117" y="105"/>
                    </a:lnTo>
                    <a:lnTo>
                      <a:pt x="119" y="97"/>
                    </a:lnTo>
                    <a:lnTo>
                      <a:pt x="119" y="86"/>
                    </a:lnTo>
                    <a:lnTo>
                      <a:pt x="119" y="0"/>
                    </a:lnTo>
                    <a:lnTo>
                      <a:pt x="2" y="0"/>
                    </a:lnTo>
                    <a:lnTo>
                      <a:pt x="2" y="86"/>
                    </a:lnTo>
                    <a:lnTo>
                      <a:pt x="2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02280" y="5220360"/>
                <a:ext cx="287640" cy="29628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68" y="139"/>
                    </a:moveTo>
                    <a:lnTo>
                      <a:pt x="80" y="139"/>
                    </a:lnTo>
                    <a:lnTo>
                      <a:pt x="90" y="137"/>
                    </a:lnTo>
                    <a:lnTo>
                      <a:pt x="98" y="133"/>
                    </a:lnTo>
                    <a:lnTo>
                      <a:pt x="109" y="127"/>
                    </a:lnTo>
                    <a:lnTo>
                      <a:pt x="117" y="120"/>
                    </a:lnTo>
                    <a:lnTo>
                      <a:pt x="123" y="112"/>
                    </a:lnTo>
                    <a:lnTo>
                      <a:pt x="129" y="103"/>
                    </a:lnTo>
                    <a:lnTo>
                      <a:pt x="133" y="93"/>
                    </a:lnTo>
                    <a:lnTo>
                      <a:pt x="135" y="82"/>
                    </a:lnTo>
                    <a:lnTo>
                      <a:pt x="135" y="70"/>
                    </a:lnTo>
                    <a:lnTo>
                      <a:pt x="135" y="59"/>
                    </a:lnTo>
                    <a:lnTo>
                      <a:pt x="133" y="49"/>
                    </a:lnTo>
                    <a:lnTo>
                      <a:pt x="129" y="38"/>
                    </a:lnTo>
                    <a:lnTo>
                      <a:pt x="123" y="30"/>
                    </a:lnTo>
                    <a:lnTo>
                      <a:pt x="117" y="21"/>
                    </a:lnTo>
                    <a:lnTo>
                      <a:pt x="109" y="15"/>
                    </a:lnTo>
                    <a:lnTo>
                      <a:pt x="98" y="8"/>
                    </a:lnTo>
                    <a:lnTo>
                      <a:pt x="90" y="4"/>
                    </a:lnTo>
                    <a:lnTo>
                      <a:pt x="80" y="2"/>
                    </a:lnTo>
                    <a:lnTo>
                      <a:pt x="68" y="0"/>
                    </a:lnTo>
                    <a:lnTo>
                      <a:pt x="57" y="2"/>
                    </a:lnTo>
                    <a:lnTo>
                      <a:pt x="47" y="4"/>
                    </a:lnTo>
                    <a:lnTo>
                      <a:pt x="37" y="8"/>
                    </a:lnTo>
                    <a:lnTo>
                      <a:pt x="29" y="15"/>
                    </a:lnTo>
                    <a:lnTo>
                      <a:pt x="21" y="21"/>
                    </a:lnTo>
                    <a:lnTo>
                      <a:pt x="15" y="30"/>
                    </a:lnTo>
                    <a:lnTo>
                      <a:pt x="8" y="38"/>
                    </a:lnTo>
                    <a:lnTo>
                      <a:pt x="4" y="49"/>
                    </a:lnTo>
                    <a:lnTo>
                      <a:pt x="2" y="59"/>
                    </a:lnTo>
                    <a:lnTo>
                      <a:pt x="0" y="70"/>
                    </a:lnTo>
                    <a:lnTo>
                      <a:pt x="2" y="82"/>
                    </a:lnTo>
                    <a:lnTo>
                      <a:pt x="4" y="93"/>
                    </a:lnTo>
                    <a:lnTo>
                      <a:pt x="8" y="103"/>
                    </a:lnTo>
                    <a:lnTo>
                      <a:pt x="15" y="112"/>
                    </a:lnTo>
                    <a:lnTo>
                      <a:pt x="21" y="120"/>
                    </a:lnTo>
                    <a:lnTo>
                      <a:pt x="29" y="127"/>
                    </a:lnTo>
                    <a:lnTo>
                      <a:pt x="37" y="133"/>
                    </a:lnTo>
                    <a:lnTo>
                      <a:pt x="47" y="137"/>
                    </a:lnTo>
                    <a:lnTo>
                      <a:pt x="57" y="139"/>
                    </a:lnTo>
                    <a:lnTo>
                      <a:pt x="68" y="139"/>
                    </a:lnTo>
                    <a:lnTo>
                      <a:pt x="68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64200" y="4917600"/>
                <a:ext cx="166320" cy="10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0532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8956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647360" y="3684240"/>
                <a:ext cx="1800" cy="147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27240" y="3692880"/>
                <a:ext cx="6120" cy="20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297440" y="5517000"/>
                <a:ext cx="349920" cy="24768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164" y="0"/>
                    </a:moveTo>
                    <a:lnTo>
                      <a:pt x="164" y="59"/>
                    </a:lnTo>
                    <a:lnTo>
                      <a:pt x="0" y="59"/>
                    </a:lnTo>
                    <a:lnTo>
                      <a:pt x="0" y="1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920" y="1994400"/>
                <a:ext cx="541440" cy="4292640"/>
              </a:xfrm>
              <a:custGeom>
                <a:avLst/>
                <a:gdLst/>
                <a:ahLst/>
                <a:rect l="l" t="t" r="r" b="b"/>
                <a:pathLst>
                  <a:path w="254" h="2012">
                    <a:moveTo>
                      <a:pt x="254" y="1920"/>
                    </a:moveTo>
                    <a:lnTo>
                      <a:pt x="254" y="2012"/>
                    </a:lnTo>
                    <a:lnTo>
                      <a:pt x="0" y="20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27400" y="533808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" y="32"/>
                    </a:lnTo>
                    <a:lnTo>
                      <a:pt x="31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49600" y="1621080"/>
                <a:ext cx="2539440" cy="3753360"/>
              </a:xfrm>
              <a:custGeom>
                <a:avLst/>
                <a:gdLst/>
                <a:ahLst/>
                <a:rect l="l" t="t" r="r" b="b"/>
                <a:pathLst>
                  <a:path w="1191" h="1759">
                    <a:moveTo>
                      <a:pt x="1191" y="0"/>
                    </a:moveTo>
                    <a:lnTo>
                      <a:pt x="1191" y="188"/>
                    </a:lnTo>
                    <a:lnTo>
                      <a:pt x="0" y="188"/>
                    </a:lnTo>
                    <a:lnTo>
                      <a:pt x="0" y="1759"/>
                    </a:lnTo>
                    <a:lnTo>
                      <a:pt x="282" y="1759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17560" y="3692880"/>
                <a:ext cx="1588320" cy="1828440"/>
              </a:xfrm>
              <a:custGeom>
                <a:avLst/>
                <a:gdLst/>
                <a:ahLst/>
                <a:rect l="l" t="t" r="r" b="b"/>
                <a:pathLst>
                  <a:path w="745" h="857">
                    <a:moveTo>
                      <a:pt x="0" y="0"/>
                    </a:moveTo>
                    <a:lnTo>
                      <a:pt x="0" y="792"/>
                    </a:lnTo>
                    <a:lnTo>
                      <a:pt x="745" y="792"/>
                    </a:lnTo>
                    <a:lnTo>
                      <a:pt x="745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91720" y="1981440"/>
                <a:ext cx="3753000" cy="4297320"/>
              </a:xfrm>
              <a:custGeom>
                <a:avLst/>
                <a:gdLst/>
                <a:ahLst/>
                <a:rect l="l" t="t" r="r" b="b"/>
                <a:pathLst>
                  <a:path w="1760" h="2014">
                    <a:moveTo>
                      <a:pt x="1760" y="0"/>
                    </a:moveTo>
                    <a:lnTo>
                      <a:pt x="1760" y="2014"/>
                    </a:lnTo>
                    <a:lnTo>
                      <a:pt x="0" y="2014"/>
                    </a:lnTo>
                    <a:lnTo>
                      <a:pt x="0" y="18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40520" y="4932720"/>
                <a:ext cx="16416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884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655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64440" y="2497680"/>
                <a:ext cx="66240" cy="72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0"/>
                    </a:moveTo>
                    <a:lnTo>
                      <a:pt x="0" y="34"/>
                    </a:lnTo>
                    <a:lnTo>
                      <a:pt x="31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34280" y="280116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29"/>
                    </a:moveTo>
                    <a:lnTo>
                      <a:pt x="31" y="32"/>
                    </a:lnTo>
                    <a:lnTo>
                      <a:pt x="16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334280" y="4721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0"/>
                    </a:lnTo>
                    <a:lnTo>
                      <a:pt x="16" y="31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364160" y="2845800"/>
                <a:ext cx="4320" cy="189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18520" y="3622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98440" y="3622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94560" y="362232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418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9736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1600" y="3797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9400" y="3797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66920" y="3797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97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80320" y="3797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35000" y="25045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8" y="29"/>
                    </a:moveTo>
                    <a:lnTo>
                      <a:pt x="30" y="0"/>
                    </a:lnTo>
                    <a:lnTo>
                      <a:pt x="0" y="14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96040" y="2497680"/>
                <a:ext cx="63720" cy="723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0"/>
                    </a:moveTo>
                    <a:lnTo>
                      <a:pt x="0" y="34"/>
                    </a:lnTo>
                    <a:lnTo>
                      <a:pt x="30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380600" y="250452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29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27400" y="2534040"/>
                <a:ext cx="4456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90800" y="2534040"/>
                <a:ext cx="5222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1876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5008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807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6232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0244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391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769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15332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14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56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912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62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1548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514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885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310640" y="1621080"/>
                <a:ext cx="3603960" cy="4113720"/>
              </a:xfrm>
              <a:custGeom>
                <a:avLst/>
                <a:gdLst/>
                <a:ahLst/>
                <a:rect l="l" t="t" r="r" b="b"/>
                <a:pathLst>
                  <a:path w="1690" h="1928">
                    <a:moveTo>
                      <a:pt x="310" y="1926"/>
                    </a:moveTo>
                    <a:lnTo>
                      <a:pt x="1690" y="1928"/>
                    </a:lnTo>
                    <a:lnTo>
                      <a:pt x="1690" y="304"/>
                    </a:lnTo>
                    <a:lnTo>
                      <a:pt x="0" y="304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14000" y="5581440"/>
                <a:ext cx="957240" cy="300240"/>
              </a:xfrm>
              <a:custGeom>
                <a:avLst/>
                <a:gdLst/>
                <a:ahLst/>
                <a:rect l="l" t="t" r="r" b="b"/>
                <a:pathLst>
                  <a:path w="449" h="141">
                    <a:moveTo>
                      <a:pt x="67" y="139"/>
                    </a:moveTo>
                    <a:lnTo>
                      <a:pt x="57" y="139"/>
                    </a:lnTo>
                    <a:lnTo>
                      <a:pt x="47" y="137"/>
                    </a:lnTo>
                    <a:lnTo>
                      <a:pt x="36" y="133"/>
                    </a:lnTo>
                    <a:lnTo>
                      <a:pt x="28" y="127"/>
                    </a:lnTo>
                    <a:lnTo>
                      <a:pt x="20" y="120"/>
                    </a:lnTo>
                    <a:lnTo>
                      <a:pt x="12" y="112"/>
                    </a:lnTo>
                    <a:lnTo>
                      <a:pt x="8" y="103"/>
                    </a:lnTo>
                    <a:lnTo>
                      <a:pt x="4" y="9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8"/>
                    </a:lnTo>
                    <a:lnTo>
                      <a:pt x="8" y="38"/>
                    </a:lnTo>
                    <a:lnTo>
                      <a:pt x="12" y="29"/>
                    </a:lnTo>
                    <a:lnTo>
                      <a:pt x="20" y="21"/>
                    </a:lnTo>
                    <a:lnTo>
                      <a:pt x="28" y="15"/>
                    </a:lnTo>
                    <a:lnTo>
                      <a:pt x="36" y="8"/>
                    </a:lnTo>
                    <a:lnTo>
                      <a:pt x="47" y="4"/>
                    </a:lnTo>
                    <a:lnTo>
                      <a:pt x="57" y="2"/>
                    </a:lnTo>
                    <a:lnTo>
                      <a:pt x="67" y="0"/>
                    </a:lnTo>
                    <a:lnTo>
                      <a:pt x="382" y="0"/>
                    </a:lnTo>
                    <a:lnTo>
                      <a:pt x="394" y="2"/>
                    </a:lnTo>
                    <a:lnTo>
                      <a:pt x="404" y="4"/>
                    </a:lnTo>
                    <a:lnTo>
                      <a:pt x="415" y="8"/>
                    </a:lnTo>
                    <a:lnTo>
                      <a:pt x="423" y="15"/>
                    </a:lnTo>
                    <a:lnTo>
                      <a:pt x="431" y="21"/>
                    </a:lnTo>
                    <a:lnTo>
                      <a:pt x="437" y="29"/>
                    </a:lnTo>
                    <a:lnTo>
                      <a:pt x="443" y="38"/>
                    </a:lnTo>
                    <a:lnTo>
                      <a:pt x="447" y="48"/>
                    </a:lnTo>
                    <a:lnTo>
                      <a:pt x="449" y="59"/>
                    </a:lnTo>
                    <a:lnTo>
                      <a:pt x="449" y="72"/>
                    </a:lnTo>
                    <a:lnTo>
                      <a:pt x="449" y="82"/>
                    </a:lnTo>
                    <a:lnTo>
                      <a:pt x="447" y="93"/>
                    </a:lnTo>
                    <a:lnTo>
                      <a:pt x="443" y="103"/>
                    </a:lnTo>
                    <a:lnTo>
                      <a:pt x="437" y="112"/>
                    </a:lnTo>
                    <a:lnTo>
                      <a:pt x="431" y="120"/>
                    </a:lnTo>
                    <a:lnTo>
                      <a:pt x="423" y="127"/>
                    </a:lnTo>
                    <a:lnTo>
                      <a:pt x="415" y="133"/>
                    </a:lnTo>
                    <a:lnTo>
                      <a:pt x="404" y="137"/>
                    </a:lnTo>
                    <a:lnTo>
                      <a:pt x="394" y="139"/>
                    </a:lnTo>
                    <a:lnTo>
                      <a:pt x="382" y="141"/>
                    </a:lnTo>
                    <a:lnTo>
                      <a:pt x="67" y="141"/>
                    </a:lnTo>
                    <a:lnTo>
                      <a:pt x="67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2120" y="5636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78760" y="563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63000" y="5636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22560" y="3660840"/>
                <a:ext cx="63720" cy="680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4" y="30"/>
                    </a:moveTo>
                    <a:lnTo>
                      <a:pt x="18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69280" y="4932720"/>
                <a:ext cx="1699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179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993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46640" y="366084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0"/>
                    </a:moveTo>
                    <a:lnTo>
                      <a:pt x="16" y="32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8200" y="3692880"/>
                <a:ext cx="684000" cy="1828440"/>
              </a:xfrm>
              <a:custGeom>
                <a:avLst/>
                <a:gdLst/>
                <a:ahLst/>
                <a:rect l="l" t="t" r="r" b="b"/>
                <a:pathLst>
                  <a:path w="321" h="857">
                    <a:moveTo>
                      <a:pt x="321" y="0"/>
                    </a:moveTo>
                    <a:lnTo>
                      <a:pt x="321" y="699"/>
                    </a:lnTo>
                    <a:lnTo>
                      <a:pt x="0" y="699"/>
                    </a:lnTo>
                    <a:lnTo>
                      <a:pt x="0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9336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3391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212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75760" y="366084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80080" y="3692880"/>
                <a:ext cx="1827360" cy="1824120"/>
              </a:xfrm>
              <a:custGeom>
                <a:avLst/>
                <a:gdLst/>
                <a:ahLst/>
                <a:rect l="l" t="t" r="r" b="b"/>
                <a:pathLst>
                  <a:path w="857" h="855">
                    <a:moveTo>
                      <a:pt x="855" y="0"/>
                    </a:moveTo>
                    <a:lnTo>
                      <a:pt x="857" y="792"/>
                    </a:lnTo>
                    <a:lnTo>
                      <a:pt x="0" y="792"/>
                    </a:lnTo>
                    <a:lnTo>
                      <a:pt x="0" y="85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2428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718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7496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17420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6608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57960" y="55044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50200" y="550440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231800" y="1767960"/>
                <a:ext cx="16848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401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11080" y="6022800"/>
                <a:ext cx="163800" cy="10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5328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3752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60320" y="2058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157160" y="2058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931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7056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4400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19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566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36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81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190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935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096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6288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0104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798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619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3422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51240" y="18068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4160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1864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52800" y="3692880"/>
                <a:ext cx="443160" cy="1824120"/>
              </a:xfrm>
              <a:custGeom>
                <a:avLst/>
                <a:gdLst/>
                <a:ahLst/>
                <a:rect l="l" t="t" r="r" b="b"/>
                <a:pathLst>
                  <a:path w="208" h="855">
                    <a:moveTo>
                      <a:pt x="208" y="855"/>
                    </a:moveTo>
                    <a:lnTo>
                      <a:pt x="208" y="699"/>
                    </a:lnTo>
                    <a:lnTo>
                      <a:pt x="0" y="699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131040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1969560" y="2813760"/>
                <a:ext cx="360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28464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461988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5943960" y="2813760"/>
                <a:ext cx="216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1158480" y="29995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158480" y="319788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1158480" y="339624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1158480" y="359460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158480" y="379296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158480" y="399564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158480" y="419220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158480" y="439056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158480" y="45889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8040" y="5342400"/>
                <a:ext cx="9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98040" y="5387040"/>
                <a:ext cx="9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24720" y="1390680"/>
                <a:ext cx="1595160" cy="219600"/>
              </a:xfrm>
              <a:custGeom>
                <a:avLst/>
                <a:gdLst/>
                <a:ahLst/>
                <a:rect l="l" t="t" r="r" b="b"/>
                <a:pathLst>
                  <a:path w="748" h="103">
                    <a:moveTo>
                      <a:pt x="0" y="103"/>
                    </a:moveTo>
                    <a:lnTo>
                      <a:pt x="0" y="0"/>
                    </a:lnTo>
                    <a:lnTo>
                      <a:pt x="748" y="0"/>
                    </a:lnTo>
                    <a:lnTo>
                      <a:pt x="748" y="103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98640" y="1386360"/>
                <a:ext cx="18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199760" y="1386360"/>
                <a:ext cx="612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1080" y="1386360"/>
                <a:ext cx="36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6720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496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24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6304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30372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341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38076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342216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596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91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975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818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6244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01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189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3948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56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801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949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140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37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4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737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921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57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329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629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63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426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344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51160" y="1260360"/>
              <a:ext cx="29160" cy="255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86640" y="1260360"/>
              <a:ext cx="27360" cy="25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7844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94840" y="1260360"/>
              <a:ext cx="32400" cy="25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10"/>
                  </a:moveTo>
                  <a:lnTo>
                    <a:pt x="9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ém conhecida como copy-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 write-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abilidade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. paralelo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s vs. Misses (política de atualização ou escri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ura da comunicação Mem - Cache –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01600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8872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70080" y="5326200"/>
            <a:ext cx="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10600" y="5487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79000" y="548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56760" y="5487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4200" y="5487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77760" y="1357200"/>
            <a:ext cx="1423440" cy="4344120"/>
            <a:chOff x="977760" y="1357200"/>
            <a:chExt cx="1423440" cy="4344120"/>
          </a:xfrm>
        </p:grpSpPr>
        <p:sp>
          <p:nvSpPr>
            <p:cNvPr id="1023" name=""/>
            <p:cNvSpPr/>
            <p:nvPr/>
          </p:nvSpPr>
          <p:spPr>
            <a:xfrm>
              <a:off x="1055520" y="1357200"/>
              <a:ext cx="6224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6" y="14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984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38120" y="1428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2812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77760" y="1685880"/>
              <a:ext cx="7779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77760" y="186228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084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167328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55520" y="2011320"/>
              <a:ext cx="622440" cy="62064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5400" y="223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584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2520" y="2239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2020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9796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7760" y="2647800"/>
              <a:ext cx="777960" cy="1288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77760" y="313704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50840" y="275256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673280" y="275220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45240" y="2874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42440" y="287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15160" y="2874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  <a:lnTo>
                    <a:pt x="286" y="861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2716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391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1724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335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05880" y="4132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51960" y="413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494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3112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6748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04560" y="5326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122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921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7420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89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2648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0172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449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456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835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4680" y="532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5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332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04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8376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71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7420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18480" y="5487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9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26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0424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5032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25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029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5487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266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01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81400" y="5487840"/>
            <a:ext cx="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050840" y="565452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346480" y="1357200"/>
            <a:ext cx="2830320" cy="2942640"/>
            <a:chOff x="2346480" y="1357200"/>
            <a:chExt cx="2830320" cy="2942640"/>
          </a:xfrm>
        </p:grpSpPr>
        <p:sp>
          <p:nvSpPr>
            <p:cNvPr id="1085" name=""/>
            <p:cNvSpPr/>
            <p:nvPr/>
          </p:nvSpPr>
          <p:spPr>
            <a:xfrm>
              <a:off x="3452760" y="1357200"/>
              <a:ext cx="6206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3384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2120" y="1433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2572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75000" y="168588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59"/>
                  </a:moveTo>
                  <a:lnTo>
                    <a:pt x="180" y="0"/>
                  </a:lnTo>
                  <a:lnTo>
                    <a:pt x="360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5000" y="186696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52760" y="178920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073400" y="1789200"/>
              <a:ext cx="3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21080" y="2011320"/>
              <a:ext cx="2482560" cy="20808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719" y="0"/>
                  </a:moveTo>
                  <a:lnTo>
                    <a:pt x="431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46480" y="2652840"/>
              <a:ext cx="2830320" cy="126720"/>
            </a:xfrm>
            <a:custGeom>
              <a:avLst/>
              <a:gdLst/>
              <a:ahLst/>
              <a:rect l="l" t="t" r="r" b="b"/>
              <a:pathLst>
                <a:path w="1311" h="59">
                  <a:moveTo>
                    <a:pt x="0" y="57"/>
                  </a:moveTo>
                  <a:lnTo>
                    <a:pt x="656" y="0"/>
                  </a:lnTo>
                  <a:lnTo>
                    <a:pt x="1311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46480" y="3141720"/>
              <a:ext cx="2830320" cy="131760"/>
            </a:xfrm>
            <a:custGeom>
              <a:avLst/>
              <a:gdLst/>
              <a:ahLst/>
              <a:rect l="l" t="t" r="r" b="b"/>
              <a:pathLst>
                <a:path w="1311" h="61">
                  <a:moveTo>
                    <a:pt x="0" y="0"/>
                  </a:moveTo>
                  <a:lnTo>
                    <a:pt x="656" y="61"/>
                  </a:lnTo>
                  <a:lnTo>
                    <a:pt x="13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21080" y="2763720"/>
              <a:ext cx="2880" cy="3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5003640" y="2763720"/>
              <a:ext cx="324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6440" y="2879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736800" y="287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1680" y="287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  <a:lnTo>
                    <a:pt x="1150" y="286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03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948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26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4800" y="4086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0152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3068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084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851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26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7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15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0596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5276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260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60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3852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83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587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3652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11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488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1580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85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27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60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2224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780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1268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3004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03120" y="3516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52080" y="3516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31880" y="2023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460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2160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4360" y="20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92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22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0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30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08520" y="20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44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2880" y="20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21080" y="2424240"/>
              <a:ext cx="2482560" cy="20772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1150" y="9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115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733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7056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9040" y="2449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564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9340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1080" y="2238480"/>
              <a:ext cx="566640" cy="41040"/>
            </a:xfrm>
            <a:custGeom>
              <a:avLst/>
              <a:gdLst/>
              <a:ahLst/>
              <a:rect l="l" t="t" r="r" b="b"/>
              <a:pathLst>
                <a:path w="262" h="19">
                  <a:moveTo>
                    <a:pt x="0" y="19"/>
                  </a:moveTo>
                  <a:lnTo>
                    <a:pt x="132" y="0"/>
                  </a:lnTo>
                  <a:lnTo>
                    <a:pt x="262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21080" y="2363760"/>
              <a:ext cx="566640" cy="44640"/>
            </a:xfrm>
            <a:custGeom>
              <a:avLst/>
              <a:gdLst/>
              <a:ahLst/>
              <a:rect l="l" t="t" r="r" b="b"/>
              <a:pathLst>
                <a:path w="262" h="21">
                  <a:moveTo>
                    <a:pt x="0" y="0"/>
                  </a:moveTo>
                  <a:lnTo>
                    <a:pt x="132" y="21"/>
                  </a:lnTo>
                  <a:lnTo>
                    <a:pt x="26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75080" y="2273400"/>
              <a:ext cx="468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030480" y="2274480"/>
              <a:ext cx="46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3232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3232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491000" y="2273400"/>
              <a:ext cx="1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946760" y="22744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9000" y="2238480"/>
              <a:ext cx="57168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2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59000" y="2363760"/>
              <a:ext cx="57168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2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13000" y="2273400"/>
              <a:ext cx="3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6876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584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584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54520" y="2273400"/>
              <a:ext cx="1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0848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0232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9932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678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328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780880" y="1351080"/>
            <a:ext cx="2640960" cy="2940840"/>
            <a:chOff x="5780880" y="1351080"/>
            <a:chExt cx="2640960" cy="2940840"/>
          </a:xfrm>
        </p:grpSpPr>
        <p:sp>
          <p:nvSpPr>
            <p:cNvPr id="1174" name=""/>
            <p:cNvSpPr/>
            <p:nvPr/>
          </p:nvSpPr>
          <p:spPr>
            <a:xfrm>
              <a:off x="6792840" y="1351080"/>
              <a:ext cx="620640" cy="307800"/>
            </a:xfrm>
            <a:custGeom>
              <a:avLst/>
              <a:gdLst/>
              <a:ahLst/>
              <a:rect l="l" t="t" r="r" b="b"/>
              <a:pathLst>
                <a:path w="288" h="143">
                  <a:moveTo>
                    <a:pt x="288" y="143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88" y="143"/>
                  </a:lnTo>
                  <a:lnTo>
                    <a:pt x="288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7392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76880" y="1424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7156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715080" y="1676520"/>
              <a:ext cx="776160" cy="1285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15080" y="185904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92840" y="1781280"/>
              <a:ext cx="180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413480" y="1781280"/>
              <a:ext cx="3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92840" y="2003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6680" y="2232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1676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89120" y="223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6112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3420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15080" y="2644920"/>
              <a:ext cx="776160" cy="1267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7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5080" y="313200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92840" y="2743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413480" y="2747880"/>
              <a:ext cx="32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86520" y="287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77240" y="28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5720" y="2871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257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430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179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324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134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573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63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34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096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8816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587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95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9748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144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93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042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12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2804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0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58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83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4574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272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654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70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987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6580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6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5660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019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03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772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54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13204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033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00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5324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772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465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588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3592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8092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849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605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38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28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26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20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8088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5216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88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2524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637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41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77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5888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03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2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11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849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55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364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96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668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3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4180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51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04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761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478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845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590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0980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2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613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35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6864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35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176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51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803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59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2973240" y="4876920"/>
            <a:ext cx="516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ende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locks para ler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uma palavra de v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ha da cache com 4 palav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da miss penalty vs largura comuni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a palavra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4*15 + 4*1 = 65 ciclos (miss penal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65 = 0,25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s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2*15 + 2*1 = 33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33 = 0,4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ro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1*1 = 17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17 = 0,94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: multiplexador de 128 bits de largura e atra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do com uma palavra de largura mas 4 bancos de memória interleaved (intercala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o de leitura das memórias é paralelizado (ou superpost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comum:endereço bits mais signific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4*1 = 20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20 = 0,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iona bem também em escrita (4 escritas simultânea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 para caches com writ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89440" y="3809880"/>
            <a:ext cx="4281840" cy="2209680"/>
            <a:chOff x="289440" y="3809880"/>
            <a:chExt cx="4281840" cy="2209680"/>
          </a:xfrm>
        </p:grpSpPr>
        <p:grpSp>
          <p:nvGrpSpPr>
            <p:cNvPr id="47" name=""/>
            <p:cNvGrpSpPr/>
            <p:nvPr/>
          </p:nvGrpSpPr>
          <p:grpSpPr>
            <a:xfrm>
              <a:off x="2209680" y="4952880"/>
              <a:ext cx="456840" cy="1066680"/>
              <a:chOff x="2209680" y="4952880"/>
              <a:chExt cx="456840" cy="10666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2209680" y="4952880"/>
                <a:ext cx="412560" cy="380880"/>
                <a:chOff x="2209680" y="4952880"/>
                <a:chExt cx="412560" cy="380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209680" y="49528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09680" y="49528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2209680" y="51811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514240" y="51051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253960" y="5638680"/>
                <a:ext cx="412560" cy="380880"/>
                <a:chOff x="2253960" y="5638680"/>
                <a:chExt cx="412560" cy="3808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666520" y="56386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361960" y="56386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2361960" y="58669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253960" y="57909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>
              <a:off x="2590920" y="5181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1800" y="51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52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523520" y="5181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828800" y="5867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1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21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219320" y="4876560"/>
              <a:ext cx="304560" cy="304560"/>
              <a:chOff x="1219320" y="4876560"/>
              <a:chExt cx="304560" cy="30456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2388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21932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21932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1932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371600" y="41148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373356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42900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2900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37339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1600" y="44956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440" y="4887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24800" y="4876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1120" y="4876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8960" y="3809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800600" y="3857760"/>
            <a:ext cx="3622320" cy="2087280"/>
            <a:chOff x="4800600" y="3857760"/>
            <a:chExt cx="3622320" cy="2087280"/>
          </a:xfrm>
        </p:grpSpPr>
        <p:sp>
          <p:nvSpPr>
            <p:cNvPr id="84" name=""/>
            <p:cNvSpPr/>
            <p:nvPr/>
          </p:nvSpPr>
          <p:spPr>
            <a:xfrm flipH="1">
              <a:off x="4895280" y="4178160"/>
              <a:ext cx="3527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318080" y="3884760"/>
              <a:ext cx="1800" cy="20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5840" y="4132080"/>
              <a:ext cx="53640" cy="9396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17" y="59"/>
                  </a:moveTo>
                  <a:lnTo>
                    <a:pt x="19" y="59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1"/>
                  </a:lnTo>
                  <a:lnTo>
                    <a:pt x="32" y="48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4" y="25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9640" y="464184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18" y="59"/>
                  </a:moveTo>
                  <a:lnTo>
                    <a:pt x="20" y="63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8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6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62840" y="4178160"/>
              <a:ext cx="1440" cy="2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7240" y="4471920"/>
              <a:ext cx="51084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0" y="322"/>
                  </a:moveTo>
                  <a:lnTo>
                    <a:pt x="0" y="137"/>
                  </a:lnTo>
                  <a:lnTo>
                    <a:pt x="90" y="137"/>
                  </a:lnTo>
                  <a:lnTo>
                    <a:pt x="90" y="0"/>
                  </a:lnTo>
                  <a:lnTo>
                    <a:pt x="232" y="0"/>
                  </a:lnTo>
                  <a:lnTo>
                    <a:pt x="232" y="137"/>
                  </a:lnTo>
                  <a:lnTo>
                    <a:pt x="322" y="1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07240" y="5087880"/>
              <a:ext cx="144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23000" y="4983120"/>
              <a:ext cx="169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23000" y="5081400"/>
              <a:ext cx="169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280" y="5281560"/>
              <a:ext cx="84240" cy="298440"/>
            </a:xfrm>
            <a:custGeom>
              <a:avLst/>
              <a:gdLst/>
              <a:ahLst/>
              <a:rect l="l" t="t" r="r" b="b"/>
              <a:pathLst>
                <a:path w="53" h="188">
                  <a:moveTo>
                    <a:pt x="51" y="0"/>
                  </a:moveTo>
                  <a:lnTo>
                    <a:pt x="25" y="188"/>
                  </a:lnTo>
                  <a:lnTo>
                    <a:pt x="0" y="4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360" y="4861080"/>
              <a:ext cx="1000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8280" y="4390920"/>
              <a:ext cx="1448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 transis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3857760"/>
              <a:ext cx="99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ord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920" y="5622840"/>
              <a:ext cx="75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it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62360" y="6245280"/>
            <a:ext cx="413388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 arquivo: revisão de conceitos de memóri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aproximado da eficiência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6480" y="948240"/>
            <a:ext cx="59515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acesso médio = estágio mais ráp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dois níve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2 (M2+miss penal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médiode acesso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eficiência do sistema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(1-H)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H + (1-H) * r = 1/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1 / [ r + H * (1-r)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086600" y="1219320"/>
            <a:ext cx="1125720" cy="1371600"/>
            <a:chOff x="7086600" y="1219320"/>
            <a:chExt cx="1125720" cy="1371600"/>
          </a:xfrm>
        </p:grpSpPr>
        <p:sp>
          <p:nvSpPr>
            <p:cNvPr id="1291" name=""/>
            <p:cNvSpPr/>
            <p:nvPr/>
          </p:nvSpPr>
          <p:spPr>
            <a:xfrm>
              <a:off x="7086600" y="12193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86600" y="21337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786080" y="12952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786080" y="213372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3352680" y="3483000"/>
            <a:ext cx="5829480" cy="33307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1166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24000" y="4929480"/>
            <a:ext cx="83430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block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0720" y="774720"/>
            <a:ext cx="5371200" cy="3988080"/>
            <a:chOff x="990720" y="774720"/>
            <a:chExt cx="5371200" cy="3988080"/>
          </a:xfrm>
        </p:grpSpPr>
        <p:sp>
          <p:nvSpPr>
            <p:cNvPr id="1302" name=""/>
            <p:cNvSpPr/>
            <p:nvPr/>
          </p:nvSpPr>
          <p:spPr>
            <a:xfrm>
              <a:off x="1875600" y="1007640"/>
              <a:ext cx="4372560" cy="1219320"/>
            </a:xfrm>
            <a:custGeom>
              <a:avLst/>
              <a:gdLst/>
              <a:ahLst/>
              <a:rect l="l" t="t" r="r" b="b"/>
              <a:pathLst>
                <a:path w="1971" h="549">
                  <a:moveTo>
                    <a:pt x="0" y="0"/>
                  </a:moveTo>
                  <a:lnTo>
                    <a:pt x="657" y="448"/>
                  </a:lnTo>
                  <a:lnTo>
                    <a:pt x="1314" y="549"/>
                  </a:lnTo>
                  <a:lnTo>
                    <a:pt x="1971" y="30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75600" y="2687400"/>
              <a:ext cx="4372560" cy="412920"/>
            </a:xfrm>
            <a:custGeom>
              <a:avLst/>
              <a:gdLst/>
              <a:ahLst/>
              <a:rect l="l" t="t" r="r" b="b"/>
              <a:pathLst>
                <a:path w="1971" h="186">
                  <a:moveTo>
                    <a:pt x="0" y="0"/>
                  </a:moveTo>
                  <a:lnTo>
                    <a:pt x="657" y="149"/>
                  </a:lnTo>
                  <a:lnTo>
                    <a:pt x="1314" y="186"/>
                  </a:lnTo>
                  <a:lnTo>
                    <a:pt x="1971" y="1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75600" y="3249360"/>
              <a:ext cx="4372560" cy="130680"/>
            </a:xfrm>
            <a:custGeom>
              <a:avLst/>
              <a:gdLst/>
              <a:ahLst/>
              <a:rect l="l" t="t" r="r" b="b"/>
              <a:pathLst>
                <a:path w="1971" h="59">
                  <a:moveTo>
                    <a:pt x="0" y="0"/>
                  </a:moveTo>
                  <a:lnTo>
                    <a:pt x="657" y="49"/>
                  </a:lnTo>
                  <a:lnTo>
                    <a:pt x="1314" y="57"/>
                  </a:lnTo>
                  <a:lnTo>
                    <a:pt x="1971" y="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83720" y="3315960"/>
              <a:ext cx="126000" cy="1288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725720" y="3311280"/>
              <a:ext cx="128520" cy="1288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8" y="29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68440" y="3295800"/>
              <a:ext cx="128520" cy="1224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6" y="26"/>
                  </a:moveTo>
                  <a:lnTo>
                    <a:pt x="29" y="0"/>
                  </a:lnTo>
                  <a:lnTo>
                    <a:pt x="0" y="26"/>
                  </a:lnTo>
                  <a:lnTo>
                    <a:pt x="29" y="5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3184920"/>
              <a:ext cx="128520" cy="126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7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18000" y="4595400"/>
              <a:ext cx="124200" cy="1242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7" y="56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01360" y="2994120"/>
              <a:ext cx="88200" cy="88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5" y="40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48400" y="30578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3" y="40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31680" y="41954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39"/>
                  </a:moveTo>
                  <a:lnTo>
                    <a:pt x="23" y="40"/>
                  </a:lnTo>
                  <a:lnTo>
                    <a:pt x="27" y="39"/>
                  </a:lnTo>
                  <a:lnTo>
                    <a:pt x="29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90760" y="29714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33120" y="26449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38"/>
                  </a:moveTo>
                  <a:lnTo>
                    <a:pt x="23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06040" y="1636560"/>
              <a:ext cx="88200" cy="910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8" y="41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48400" y="2184840"/>
              <a:ext cx="88200" cy="864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8" y="39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27000" y="3780360"/>
              <a:ext cx="88200" cy="838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38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33120" y="9655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90760" y="19562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61640" y="372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41560" y="372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720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7944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68720" y="37270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61640" y="3939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41560" y="3939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7720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7944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68720" y="39398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6164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4156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16800" y="4151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6180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5684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52960" y="41511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6164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156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16800" y="436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76180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5684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952960" y="43668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16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4156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1680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01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3740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3244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18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93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758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664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20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24520" y="7747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664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20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424520" y="1099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664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20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24520" y="141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664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20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4520" y="17366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664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20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4520" y="2058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664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20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520" y="23785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664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20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4520" y="2696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53240" y="301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31000" y="3016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53240" y="333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31000" y="3336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1018440" y="2254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16200000">
              <a:off x="1064880" y="2187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16200000">
              <a:off x="1043640" y="213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6200000">
              <a:off x="1050120" y="206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16200000">
              <a:off x="1068480" y="200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1064880" y="196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1038960" y="189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1066680" y="184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1047240" y="177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5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80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4324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2316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280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4680" y="3711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122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4284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1916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915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6316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03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740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0428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52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5404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9616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4188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17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9020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280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079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7740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842120" y="234252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40320" y="3995280"/>
              <a:ext cx="68760" cy="68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3" y="31"/>
                  </a:moveTo>
                  <a:lnTo>
                    <a:pt x="17" y="31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875600" y="2376360"/>
              <a:ext cx="2914560" cy="565920"/>
            </a:xfrm>
            <a:custGeom>
              <a:avLst/>
              <a:gdLst/>
              <a:ahLst/>
              <a:rect l="l" t="t" r="r" b="b"/>
              <a:pathLst>
                <a:path w="1314" h="255">
                  <a:moveTo>
                    <a:pt x="0" y="0"/>
                  </a:moveTo>
                  <a:lnTo>
                    <a:pt x="657" y="178"/>
                  </a:lnTo>
                  <a:lnTo>
                    <a:pt x="1314" y="2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875600" y="3078000"/>
              <a:ext cx="4372560" cy="217440"/>
            </a:xfrm>
            <a:custGeom>
              <a:avLst/>
              <a:gdLst/>
              <a:ahLst/>
              <a:rect l="l" t="t" r="r" b="b"/>
              <a:pathLst>
                <a:path w="1971" h="98">
                  <a:moveTo>
                    <a:pt x="1971" y="98"/>
                  </a:moveTo>
                  <a:lnTo>
                    <a:pt x="1314" y="98"/>
                  </a:lnTo>
                  <a:lnTo>
                    <a:pt x="657" y="7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99760" y="273816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57040" y="2909520"/>
              <a:ext cx="70920" cy="662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12520" y="2878200"/>
              <a:ext cx="68760" cy="73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824480" y="3027240"/>
              <a:ext cx="10152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22680" y="439092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1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82120" y="319356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3940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5"/>
                  </a:lnTo>
                  <a:lnTo>
                    <a:pt x="23" y="46"/>
                  </a:lnTo>
                  <a:lnTo>
                    <a:pt x="46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9704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611000" y="117468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611000" y="181620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1611000" y="245412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11000" y="309564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016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33288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1360" y="854640"/>
              <a:ext cx="4636800" cy="2558880"/>
            </a:xfrm>
            <a:custGeom>
              <a:avLst/>
              <a:gdLst/>
              <a:ahLst/>
              <a:rect l="l" t="t" r="r" b="b"/>
              <a:pathLst>
                <a:path w="2090" h="1152">
                  <a:moveTo>
                    <a:pt x="2090" y="1120"/>
                  </a:moveTo>
                  <a:lnTo>
                    <a:pt x="2090" y="1152"/>
                  </a:lnTo>
                  <a:lnTo>
                    <a:pt x="0" y="11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75600" y="3342600"/>
              <a:ext cx="180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09200" y="8524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9200" y="1496520"/>
              <a:ext cx="46386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09200" y="21340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609200" y="2772000"/>
              <a:ext cx="4638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790160" y="2911320"/>
              <a:ext cx="145764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1066680" y="5272200"/>
          <a:ext cx="7037640" cy="14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72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"/>
          <p:cNvSpPr/>
          <p:nvPr/>
        </p:nvSpPr>
        <p:spPr>
          <a:xfrm>
            <a:off x="304920" y="38098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2440" y="342576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" y="4114800"/>
            <a:ext cx="19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s local. espa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238160" y="3733920"/>
            <a:ext cx="1295640" cy="228600"/>
          </a:xfrm>
          <a:prstGeom prst="leftArrow">
            <a:avLst>
              <a:gd name="adj1" fmla="val 50000"/>
              <a:gd name="adj2" fmla="val 14169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392600" y="333684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388620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ragmentação in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nos blo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l cycles = RD + WR stall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 stall cycles = # of RD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penal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 stall cycles = # of WR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penalty (mais complicado do que ist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pag 565 - 5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420120" y="1334520"/>
            <a:ext cx="799812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instruction miss ratio = 2%; data cache miss rate = 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2 (sem stalls de mem); miss penalty = 4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misses cycles = I * 2% * 40 = 0.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endo que lw+sw= 3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iss cycles = I * 36% * 4% * 40 = 0.5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de stalls de mem = 0.8 I + 0.58 I = 1.3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total = 2 + 1.38 = 3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de velocidades com ou sem mem stalls = rel de CP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8 / 2 = 1.69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elhorássemos a arquitetura (CPI) sem afetar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= 2.38 / 1 = 2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ito negativo da memória aumenta (Lei de Amdh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exemplo da pag 567: aumento do clock tem efeito semelh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428400" y="1471680"/>
            <a:ext cx="8181360" cy="3600000"/>
            <a:chOff x="428400" y="1471680"/>
            <a:chExt cx="8181360" cy="3600000"/>
          </a:xfrm>
        </p:grpSpPr>
        <p:grpSp>
          <p:nvGrpSpPr>
            <p:cNvPr id="1448" name=""/>
            <p:cNvGrpSpPr/>
            <p:nvPr/>
          </p:nvGrpSpPr>
          <p:grpSpPr>
            <a:xfrm>
              <a:off x="428400" y="1471680"/>
              <a:ext cx="8181360" cy="3599640"/>
              <a:chOff x="428400" y="1471680"/>
              <a:chExt cx="8181360" cy="3599640"/>
            </a:xfrm>
          </p:grpSpPr>
          <p:sp>
            <p:nvSpPr>
              <p:cNvPr id="1449" name=""/>
              <p:cNvSpPr/>
              <p:nvPr/>
            </p:nvSpPr>
            <p:spPr>
              <a:xfrm>
                <a:off x="43650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6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6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44720" y="2112480"/>
                <a:ext cx="183960" cy="1444320"/>
              </a:xfrm>
              <a:custGeom>
                <a:avLst/>
                <a:gdLst/>
                <a:ahLst/>
                <a:rect l="l" t="t" r="r" b="b"/>
                <a:pathLst>
                  <a:path w="98" h="768">
                    <a:moveTo>
                      <a:pt x="95" y="765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8" y="768"/>
                    </a:lnTo>
                    <a:lnTo>
                      <a:pt x="98" y="768"/>
                    </a:lnTo>
                    <a:lnTo>
                      <a:pt x="95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314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2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2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612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649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612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208880" y="3989880"/>
                <a:ext cx="1444320" cy="722520"/>
              </a:xfrm>
              <a:custGeom>
                <a:avLst/>
                <a:gdLst/>
                <a:ahLst/>
                <a:rect l="l" t="t" r="r" b="b"/>
                <a:pathLst>
                  <a:path w="768" h="384">
                    <a:moveTo>
                      <a:pt x="765" y="381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8" y="384"/>
                    </a:lnTo>
                    <a:lnTo>
                      <a:pt x="768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2648160" y="3989880"/>
                <a:ext cx="540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692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906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04200" y="3984120"/>
                <a:ext cx="75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2564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74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56852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3820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034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624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79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9835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208880" y="2112480"/>
                <a:ext cx="1444320" cy="144432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765" y="765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8" y="768"/>
                    </a:lnTo>
                    <a:lnTo>
                      <a:pt x="768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648160" y="2112120"/>
                <a:ext cx="540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4692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2906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04200" y="2107080"/>
                <a:ext cx="75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2564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7474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6852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820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034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6060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8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072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60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2840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6200" y="1836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50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596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812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956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948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3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169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9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779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612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3912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18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041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7628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004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059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1504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7912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766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670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181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312200" y="1471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51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92920" y="1471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5552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6660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7629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8158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66600" y="147168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028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1344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2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3536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570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39416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985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9416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1864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6250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460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2678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0893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028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7242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545360" y="3984120"/>
                <a:ext cx="18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36500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806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396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8563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966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1864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250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60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678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0893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028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242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45360" y="2107080"/>
                <a:ext cx="18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00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806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3672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753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88404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9369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948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05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0916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8674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20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307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6648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295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7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524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79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831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79296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5596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53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40640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4517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261680" y="14716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388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4920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500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6011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7059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0420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9028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0072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105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1454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552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067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528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4453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720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38368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2720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636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86022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4236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4472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06616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00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0148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229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34184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15752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7168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3424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4260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636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86022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4236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4472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06616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8800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0148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229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4184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5752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61968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828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616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141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296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5524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666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6980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3424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310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1440" y="4717800"/>
                <a:ext cx="10296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7220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91720" y="1471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13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4167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46388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50276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021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53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566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552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593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1579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19792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3077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35920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4052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497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10576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5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1525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284320" y="4717800"/>
                <a:ext cx="9936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33148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46504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51544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40720" y="4717800"/>
                <a:ext cx="9972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364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56216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60932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832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2860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98920" y="4717800"/>
                <a:ext cx="10332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24968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4220280" y="4718160"/>
              <a:ext cx="99720" cy="993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3" y="53"/>
                  </a:lnTo>
                  <a:lnTo>
                    <a:pt x="28" y="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73200" y="4798800"/>
              <a:ext cx="144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490760" y="1050840"/>
            <a:ext cx="6148440" cy="4968720"/>
            <a:chOff x="1490760" y="1050840"/>
            <a:chExt cx="6148440" cy="4968720"/>
          </a:xfrm>
        </p:grpSpPr>
        <p:grpSp>
          <p:nvGrpSpPr>
            <p:cNvPr id="1654" name=""/>
            <p:cNvGrpSpPr/>
            <p:nvPr/>
          </p:nvGrpSpPr>
          <p:grpSpPr>
            <a:xfrm>
              <a:off x="1490760" y="1491840"/>
              <a:ext cx="6148440" cy="4527720"/>
              <a:chOff x="1490760" y="1491840"/>
              <a:chExt cx="6148440" cy="4527720"/>
            </a:xfrm>
          </p:grpSpPr>
          <p:sp>
            <p:nvSpPr>
              <p:cNvPr id="1655" name=""/>
              <p:cNvSpPr/>
              <p:nvPr/>
            </p:nvSpPr>
            <p:spPr>
              <a:xfrm>
                <a:off x="1490760" y="5778360"/>
                <a:ext cx="6148440" cy="241200"/>
              </a:xfrm>
              <a:custGeom>
                <a:avLst/>
                <a:gdLst/>
                <a:ahLst/>
                <a:rect l="l" t="t" r="r" b="b"/>
                <a:pathLst>
                  <a:path w="3873" h="152">
                    <a:moveTo>
                      <a:pt x="3873" y="152"/>
                    </a:moveTo>
                    <a:lnTo>
                      <a:pt x="387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3873" y="152"/>
                    </a:lnTo>
                    <a:lnTo>
                      <a:pt x="3873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251840" y="5773320"/>
                <a:ext cx="28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6736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8324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9912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71500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088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4676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6264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781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940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113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272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4312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25900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87488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5681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658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362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9177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020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0977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1409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3364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426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4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859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7885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7100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09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10788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95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72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545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557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6392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677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8761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9618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04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228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254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4060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46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447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300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81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9896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093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1742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21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4129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498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810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784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04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9428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8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1812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6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349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5311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6337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111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49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9480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040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161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2993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4019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47936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517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211560" y="5265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066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3364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418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96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53952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592440" y="5265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950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7774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8505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8887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9585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392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791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173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99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2728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426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36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985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5284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44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494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792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7523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8297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87296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04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9586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0367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07168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1015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1742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2142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2952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3650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4381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159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93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23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701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02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774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84460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92560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20920" y="44845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90868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245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14188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7577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7364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98952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0504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9832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388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6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4824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7508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28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71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0698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56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50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48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190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011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39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84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25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00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8472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287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3697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07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60664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692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7747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95296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0555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1365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7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220920" y="47257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90868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45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14188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577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7364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8952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60504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793680" y="3971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8548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9618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4424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9176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45040" y="3971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2523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2828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02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4409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5144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591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314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674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7523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82544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985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759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04972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079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16168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20200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2315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30496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832120" y="4238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314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009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896560" y="45147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96560" y="4760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0920" y="1731600"/>
                <a:ext cx="768600" cy="243000"/>
              </a:xfrm>
              <a:custGeom>
                <a:avLst/>
                <a:gdLst/>
                <a:ahLst/>
                <a:rect l="l" t="t" r="r" b="b"/>
                <a:pathLst>
                  <a:path w="484" h="153">
                    <a:moveTo>
                      <a:pt x="484" y="153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484" y="153"/>
                    </a:lnTo>
                    <a:lnTo>
                      <a:pt x="484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05040" y="1731600"/>
                <a:ext cx="1800" cy="243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98320" y="14918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38868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6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48240" y="14918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7508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828240" y="1491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871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20920" y="3431880"/>
                <a:ext cx="768600" cy="241200"/>
              </a:xfrm>
              <a:custGeom>
                <a:avLst/>
                <a:gdLst/>
                <a:ahLst/>
                <a:rect l="l" t="t" r="r" b="b"/>
                <a:pathLst>
                  <a:path w="484" h="152">
                    <a:moveTo>
                      <a:pt x="484" y="152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484" y="152"/>
                    </a:lnTo>
                    <a:lnTo>
                      <a:pt x="484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3605040" y="343188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50680" y="1050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3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44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21760" y="1050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720" y="1050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823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647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3280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600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458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264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6644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0460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870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554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299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109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88116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157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9916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3668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665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396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18120" y="105084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91888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96640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43080" y="1218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7764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25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02920" y="121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27564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1560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4120" y="1218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74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557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63492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17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9368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612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66960" y="1491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66680" y="14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896560" y="14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7432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04740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96560" y="176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96560" y="346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220920" y="1974600"/>
              <a:ext cx="768600" cy="244440"/>
            </a:xfrm>
            <a:custGeom>
              <a:avLst/>
              <a:gdLst/>
              <a:ahLst/>
              <a:rect l="l" t="t" r="r" b="b"/>
              <a:pathLst>
                <a:path w="484" h="154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4"/>
                  </a:lnTo>
                  <a:lnTo>
                    <a:pt x="484" y="154"/>
                  </a:lnTo>
                  <a:lnTo>
                    <a:pt x="484" y="15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605040" y="1974600"/>
              <a:ext cx="1800" cy="244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96560" y="2009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20920" y="2219040"/>
              <a:ext cx="768600" cy="243000"/>
            </a:xfrm>
            <a:custGeom>
              <a:avLst/>
              <a:gdLst/>
              <a:ahLst/>
              <a:rect l="l" t="t" r="r" b="b"/>
              <a:pathLst>
                <a:path w="484" h="153">
                  <a:moveTo>
                    <a:pt x="484" y="153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4" y="153"/>
                  </a:lnTo>
                  <a:lnTo>
                    <a:pt x="484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05040" y="2215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96560" y="22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220920" y="24620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05040" y="24620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96560" y="2496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20920" y="27032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05040" y="2703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96560" y="2738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220920" y="2944440"/>
              <a:ext cx="768600" cy="246240"/>
            </a:xfrm>
            <a:custGeom>
              <a:avLst/>
              <a:gdLst/>
              <a:ahLst/>
              <a:rect l="l" t="t" r="r" b="b"/>
              <a:pathLst>
                <a:path w="484" h="155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4" y="155"/>
                  </a:lnTo>
                  <a:lnTo>
                    <a:pt x="484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05040" y="294444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6560" y="297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220920" y="319068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05040" y="3186000"/>
              <a:ext cx="1800" cy="245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6560" y="322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25880" y="2404800"/>
              <a:ext cx="766800" cy="246240"/>
            </a:xfrm>
            <a:custGeom>
              <a:avLst/>
              <a:gdLst/>
              <a:ahLst/>
              <a:rect l="l" t="t" r="r" b="b"/>
              <a:pathLst>
                <a:path w="483" h="155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3" y="155"/>
                  </a:lnTo>
                  <a:lnTo>
                    <a:pt x="483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310360" y="24048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0652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93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35320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558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378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764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43000" y="1896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3552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3812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5880" y="1896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07204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746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2570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2512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697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381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206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5876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983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6793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74920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82228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472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7348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0080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858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2900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588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2319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41760" y="216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350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1240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01520" y="24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25880" y="26510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10360" y="26460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601520" y="268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925880" y="28922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10360" y="2892240"/>
              <a:ext cx="144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601520" y="2927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25880" y="3133440"/>
              <a:ext cx="766800" cy="243000"/>
            </a:xfrm>
            <a:custGeom>
              <a:avLst/>
              <a:gdLst/>
              <a:ahLst/>
              <a:rect l="l" t="t" r="r" b="b"/>
              <a:pathLst>
                <a:path w="483" h="153">
                  <a:moveTo>
                    <a:pt x="483" y="153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3" y="153"/>
                  </a:lnTo>
                  <a:lnTo>
                    <a:pt x="483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310360" y="3133440"/>
              <a:ext cx="144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1520" y="3168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92680" y="2404800"/>
              <a:ext cx="773280" cy="246240"/>
            </a:xfrm>
            <a:custGeom>
              <a:avLst/>
              <a:gdLst/>
              <a:ahLst/>
              <a:rect l="l" t="t" r="r" b="b"/>
              <a:pathLst>
                <a:path w="487" h="155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7" y="155"/>
                  </a:lnTo>
                  <a:lnTo>
                    <a:pt x="487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76800" y="2404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476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8604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4288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2144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2240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046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4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692680" y="26510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76800" y="26460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692680" y="28922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076800" y="2892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92680" y="3133440"/>
              <a:ext cx="773280" cy="243000"/>
            </a:xfrm>
            <a:custGeom>
              <a:avLst/>
              <a:gdLst/>
              <a:ahLst/>
              <a:rect l="l" t="t" r="r" b="b"/>
              <a:pathLst>
                <a:path w="487" h="153">
                  <a:moveTo>
                    <a:pt x="484" y="153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7" y="153"/>
                  </a:lnTo>
                  <a:lnTo>
                    <a:pt x="487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76800" y="3133440"/>
              <a:ext cx="180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279440" y="934920"/>
            <a:ext cx="6568200" cy="5679360"/>
            <a:chOff x="1279440" y="934920"/>
            <a:chExt cx="6568200" cy="5679360"/>
          </a:xfrm>
        </p:grpSpPr>
        <p:grpSp>
          <p:nvGrpSpPr>
            <p:cNvPr id="1982" name=""/>
            <p:cNvGrpSpPr/>
            <p:nvPr/>
          </p:nvGrpSpPr>
          <p:grpSpPr>
            <a:xfrm>
              <a:off x="1279440" y="934920"/>
              <a:ext cx="6568200" cy="5469840"/>
              <a:chOff x="1279440" y="934920"/>
              <a:chExt cx="6568200" cy="5469840"/>
            </a:xfrm>
          </p:grpSpPr>
          <p:sp>
            <p:nvSpPr>
              <p:cNvPr id="1983" name=""/>
              <p:cNvSpPr/>
              <p:nvPr/>
            </p:nvSpPr>
            <p:spPr>
              <a:xfrm flipV="1">
                <a:off x="5014800" y="1355400"/>
                <a:ext cx="2160" cy="2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4278960" y="1352160"/>
                <a:ext cx="2160" cy="21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40920" y="1347480"/>
                <a:ext cx="2228040" cy="222120"/>
              </a:xfrm>
              <a:custGeom>
                <a:avLst/>
                <a:gdLst/>
                <a:ahLst/>
                <a:rect l="l" t="t" r="r" b="b"/>
                <a:pathLst>
                  <a:path w="1042" h="104">
                    <a:moveTo>
                      <a:pt x="0" y="102"/>
                    </a:moveTo>
                    <a:lnTo>
                      <a:pt x="2" y="0"/>
                    </a:lnTo>
                    <a:lnTo>
                      <a:pt x="1042" y="0"/>
                    </a:lnTo>
                    <a:lnTo>
                      <a:pt x="1042" y="104"/>
                    </a:lnTo>
                    <a:lnTo>
                      <a:pt x="2" y="104"/>
                    </a:lnTo>
                    <a:lnTo>
                      <a:pt x="2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899160" y="9349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8916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06800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142160" y="934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9148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663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347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44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77680" y="1721880"/>
                <a:ext cx="1645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792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77856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574160" y="1717920"/>
                <a:ext cx="16236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716000" y="161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200680" y="253728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2356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48724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5704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463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00680" y="272556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200680" y="291384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  <a:lnTo>
                      <a:pt x="558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200680" y="32904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200680" y="3478680"/>
                <a:ext cx="1193400" cy="186120"/>
              </a:xfrm>
              <a:custGeom>
                <a:avLst/>
                <a:gdLst/>
                <a:ahLst/>
                <a:rect l="l" t="t" r="r" b="b"/>
                <a:pathLst>
                  <a:path w="558" h="87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8" y="87"/>
                    </a:lnTo>
                    <a:lnTo>
                      <a:pt x="558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200680" y="36648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25396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544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765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16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910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869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941840" y="2344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4240" y="2545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94240" y="27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94240" y="292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1180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881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8637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180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881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8637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1180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881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8637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093760" y="3164040"/>
                <a:ext cx="6588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46560" y="1569960"/>
                <a:ext cx="3112920" cy="1626120"/>
              </a:xfrm>
              <a:custGeom>
                <a:avLst/>
                <a:gdLst/>
                <a:ahLst/>
                <a:rect l="l" t="t" r="r" b="b"/>
                <a:pathLst>
                  <a:path w="1456" h="760">
                    <a:moveTo>
                      <a:pt x="1454" y="0"/>
                    </a:moveTo>
                    <a:lnTo>
                      <a:pt x="1456" y="291"/>
                    </a:lnTo>
                    <a:lnTo>
                      <a:pt x="0" y="291"/>
                    </a:lnTo>
                    <a:lnTo>
                      <a:pt x="0" y="760"/>
                    </a:lnTo>
                    <a:lnTo>
                      <a:pt x="266" y="76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23704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8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5" y="128"/>
                    </a:lnTo>
                    <a:lnTo>
                      <a:pt x="33" y="132"/>
                    </a:lnTo>
                    <a:lnTo>
                      <a:pt x="41" y="136"/>
                    </a:lnTo>
                    <a:lnTo>
                      <a:pt x="50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100" y="122"/>
                    </a:lnTo>
                    <a:lnTo>
                      <a:pt x="106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3396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8" y="129"/>
                    </a:lnTo>
                    <a:lnTo>
                      <a:pt x="98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21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3" y="77"/>
                    </a:lnTo>
                    <a:lnTo>
                      <a:pt x="133" y="65"/>
                    </a:lnTo>
                    <a:lnTo>
                      <a:pt x="133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21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8" y="8"/>
                    </a:lnTo>
                    <a:lnTo>
                      <a:pt x="88" y="2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37" y="8"/>
                    </a:lnTo>
                    <a:lnTo>
                      <a:pt x="27" y="12"/>
                    </a:lnTo>
                    <a:lnTo>
                      <a:pt x="20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20" y="111"/>
                    </a:lnTo>
                    <a:lnTo>
                      <a:pt x="27" y="119"/>
                    </a:lnTo>
                    <a:lnTo>
                      <a:pt x="37" y="125"/>
                    </a:lnTo>
                    <a:lnTo>
                      <a:pt x="46" y="129"/>
                    </a:lnTo>
                    <a:lnTo>
                      <a:pt x="56" y="130"/>
                    </a:lnTo>
                    <a:lnTo>
                      <a:pt x="67" y="132"/>
                    </a:lnTo>
                    <a:lnTo>
                      <a:pt x="67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572920" y="3191760"/>
                <a:ext cx="36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32240" y="4394160"/>
                <a:ext cx="87480" cy="4068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0"/>
                    </a:moveTo>
                    <a:lnTo>
                      <a:pt x="41" y="0"/>
                    </a:lnTo>
                    <a:lnTo>
                      <a:pt x="4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2" y="15"/>
                    </a:moveTo>
                    <a:lnTo>
                      <a:pt x="41" y="15"/>
                    </a:lnTo>
                    <a:lnTo>
                      <a:pt x="41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282040" y="3191760"/>
                <a:ext cx="180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36556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311120" y="1574280"/>
                <a:ext cx="2347920" cy="2838960"/>
              </a:xfrm>
              <a:custGeom>
                <a:avLst/>
                <a:gdLst/>
                <a:ahLst/>
                <a:rect l="l" t="t" r="r" b="b"/>
                <a:pathLst>
                  <a:path w="1098" h="1327">
                    <a:moveTo>
                      <a:pt x="1096" y="0"/>
                    </a:moveTo>
                    <a:lnTo>
                      <a:pt x="1098" y="182"/>
                    </a:lnTo>
                    <a:lnTo>
                      <a:pt x="0" y="180"/>
                    </a:lnTo>
                    <a:lnTo>
                      <a:pt x="0" y="1327"/>
                    </a:lnTo>
                    <a:lnTo>
                      <a:pt x="504" y="13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8640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760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9736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4920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844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54240" y="3164040"/>
                <a:ext cx="5940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087080" y="4201560"/>
                <a:ext cx="59400" cy="60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38240" y="253728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7856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02912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1086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860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38240" y="272556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38240" y="291384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  <a:lnTo>
                      <a:pt x="557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38240" y="32904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38240" y="3478680"/>
                <a:ext cx="1195200" cy="186120"/>
              </a:xfrm>
              <a:custGeom>
                <a:avLst/>
                <a:gdLst/>
                <a:ahLst/>
                <a:rect l="l" t="t" r="r" b="b"/>
                <a:pathLst>
                  <a:path w="559" h="87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9" y="87"/>
                    </a:lnTo>
                    <a:lnTo>
                      <a:pt x="559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738240" y="36648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791520" y="316404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08276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77892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3" y="128"/>
                    </a:lnTo>
                    <a:lnTo>
                      <a:pt x="30" y="132"/>
                    </a:lnTo>
                    <a:lnTo>
                      <a:pt x="40" y="136"/>
                    </a:lnTo>
                    <a:lnTo>
                      <a:pt x="48" y="137"/>
                    </a:lnTo>
                    <a:lnTo>
                      <a:pt x="57" y="137"/>
                    </a:lnTo>
                    <a:lnTo>
                      <a:pt x="67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3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975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6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3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3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6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114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073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82356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91320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2396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4132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5122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5889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6242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5252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49400" y="4201560"/>
                <a:ext cx="63720" cy="601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216040" y="253728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488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000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843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58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16040" y="272556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216040" y="291384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  <a:lnTo>
                      <a:pt x="556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16040" y="32904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216040" y="3478680"/>
                <a:ext cx="1188720" cy="186120"/>
              </a:xfrm>
              <a:custGeom>
                <a:avLst/>
                <a:gdLst/>
                <a:ahLst/>
                <a:rect l="l" t="t" r="r" b="b"/>
                <a:pathLst>
                  <a:path w="556" h="87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6" y="87"/>
                    </a:lnTo>
                    <a:lnTo>
                      <a:pt x="556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216040" y="36648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26500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494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24988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5" y="128"/>
                    </a:lnTo>
                    <a:lnTo>
                      <a:pt x="32" y="132"/>
                    </a:lnTo>
                    <a:lnTo>
                      <a:pt x="40" y="136"/>
                    </a:lnTo>
                    <a:lnTo>
                      <a:pt x="50" y="137"/>
                    </a:lnTo>
                    <a:lnTo>
                      <a:pt x="59" y="137"/>
                    </a:lnTo>
                    <a:lnTo>
                      <a:pt x="69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9" y="122"/>
                    </a:lnTo>
                    <a:lnTo>
                      <a:pt x="105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2" y="82"/>
                    </a:lnTo>
                    <a:lnTo>
                      <a:pt x="2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42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4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1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81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40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294880" y="3191760"/>
                <a:ext cx="432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55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88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4426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60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8922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59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367600" y="4381560"/>
                <a:ext cx="6624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0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744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8888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864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6024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99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688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990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46320" y="253728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9024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9418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026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1002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46320" y="272556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46320" y="291384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  <a:lnTo>
                      <a:pt x="562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46320" y="32904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46320" y="3478680"/>
                <a:ext cx="1201320" cy="186120"/>
              </a:xfrm>
              <a:custGeom>
                <a:avLst/>
                <a:gdLst/>
                <a:ahLst/>
                <a:rect l="l" t="t" r="r" b="b"/>
                <a:pathLst>
                  <a:path w="562" h="87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62" y="87"/>
                    </a:lnTo>
                    <a:lnTo>
                      <a:pt x="562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46320" y="36648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70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990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8268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0" y="92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3" y="128"/>
                    </a:lnTo>
                    <a:lnTo>
                      <a:pt x="31" y="132"/>
                    </a:lnTo>
                    <a:lnTo>
                      <a:pt x="41" y="136"/>
                    </a:lnTo>
                    <a:lnTo>
                      <a:pt x="48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4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87960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7" y="129"/>
                    </a:lnTo>
                    <a:lnTo>
                      <a:pt x="96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1" y="77"/>
                    </a:lnTo>
                    <a:lnTo>
                      <a:pt x="133" y="65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6" y="8"/>
                    </a:lnTo>
                    <a:lnTo>
                      <a:pt x="87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5" y="125"/>
                    </a:lnTo>
                    <a:lnTo>
                      <a:pt x="44" y="129"/>
                    </a:lnTo>
                    <a:lnTo>
                      <a:pt x="56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018200" y="3191760"/>
                <a:ext cx="216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978240" y="4394160"/>
                <a:ext cx="8316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39" y="0"/>
                    </a:lnTo>
                    <a:lnTo>
                      <a:pt x="3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9" y="15"/>
                    </a:lnTo>
                    <a:lnTo>
                      <a:pt x="39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73164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11200" y="438156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3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24104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5692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9628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37192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1516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32996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275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50348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5441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51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081600" y="3191760"/>
                <a:ext cx="2876040" cy="2554200"/>
              </a:xfrm>
              <a:custGeom>
                <a:avLst/>
                <a:gdLst/>
                <a:ahLst/>
                <a:rect l="l" t="t" r="r" b="b"/>
                <a:pathLst>
                  <a:path w="1345" h="1194">
                    <a:moveTo>
                      <a:pt x="0" y="0"/>
                    </a:moveTo>
                    <a:lnTo>
                      <a:pt x="0" y="1002"/>
                    </a:lnTo>
                    <a:lnTo>
                      <a:pt x="1345" y="1002"/>
                    </a:lnTo>
                    <a:lnTo>
                      <a:pt x="1345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557240" y="3191760"/>
                <a:ext cx="1671840" cy="2554200"/>
              </a:xfrm>
              <a:custGeom>
                <a:avLst/>
                <a:gdLst/>
                <a:ahLst/>
                <a:rect l="l" t="t" r="r" b="b"/>
                <a:pathLst>
                  <a:path w="782" h="1194">
                    <a:moveTo>
                      <a:pt x="0" y="0"/>
                    </a:moveTo>
                    <a:lnTo>
                      <a:pt x="0" y="916"/>
                    </a:lnTo>
                    <a:lnTo>
                      <a:pt x="782" y="916"/>
                    </a:lnTo>
                    <a:lnTo>
                      <a:pt x="782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096960" y="3191760"/>
                <a:ext cx="4320" cy="2554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64080" y="3191760"/>
                <a:ext cx="1180080" cy="2554200"/>
              </a:xfrm>
              <a:custGeom>
                <a:avLst/>
                <a:gdLst/>
                <a:ahLst/>
                <a:rect l="l" t="t" r="r" b="b"/>
                <a:pathLst>
                  <a:path w="552" h="1194">
                    <a:moveTo>
                      <a:pt x="552" y="0"/>
                    </a:moveTo>
                    <a:lnTo>
                      <a:pt x="552" y="1085"/>
                    </a:lnTo>
                    <a:lnTo>
                      <a:pt x="0" y="1085"/>
                    </a:lnTo>
                    <a:lnTo>
                      <a:pt x="0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461000" y="3987360"/>
                <a:ext cx="1645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6032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824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37200" y="3987360"/>
                <a:ext cx="164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7904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15788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311120" y="4041360"/>
                <a:ext cx="5499720" cy="371880"/>
              </a:xfrm>
              <a:custGeom>
                <a:avLst/>
                <a:gdLst/>
                <a:ahLst/>
                <a:rect l="l" t="t" r="r" b="b"/>
                <a:pathLst>
                  <a:path w="2572" h="174">
                    <a:moveTo>
                      <a:pt x="2572" y="174"/>
                    </a:moveTo>
                    <a:lnTo>
                      <a:pt x="2441" y="174"/>
                    </a:lnTo>
                    <a:lnTo>
                      <a:pt x="2441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24800" y="4041360"/>
                <a:ext cx="459360" cy="371880"/>
              </a:xfrm>
              <a:custGeom>
                <a:avLst/>
                <a:gdLst/>
                <a:ahLst/>
                <a:rect l="l" t="t" r="r" b="b"/>
                <a:pathLst>
                  <a:path w="215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15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897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417120" y="4041360"/>
                <a:ext cx="509040" cy="371880"/>
              </a:xfrm>
              <a:custGeom>
                <a:avLst/>
                <a:gdLst/>
                <a:ahLst/>
                <a:rect l="l" t="t" r="r" b="b"/>
                <a:pathLst>
                  <a:path w="238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38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38976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279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06640" y="5778360"/>
                <a:ext cx="250200" cy="344160"/>
              </a:xfrm>
              <a:custGeom>
                <a:avLst/>
                <a:gdLst/>
                <a:ahLst/>
                <a:rect l="l" t="t" r="r" b="b"/>
                <a:pathLst>
                  <a:path w="117" h="161">
                    <a:moveTo>
                      <a:pt x="56" y="16"/>
                    </a:moveTo>
                    <a:lnTo>
                      <a:pt x="50" y="16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3" y="14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8" y="4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2" y="56"/>
                    </a:lnTo>
                    <a:lnTo>
                      <a:pt x="2" y="69"/>
                    </a:lnTo>
                    <a:lnTo>
                      <a:pt x="2" y="81"/>
                    </a:lnTo>
                    <a:lnTo>
                      <a:pt x="2" y="90"/>
                    </a:lnTo>
                    <a:lnTo>
                      <a:pt x="4" y="96"/>
                    </a:lnTo>
                    <a:lnTo>
                      <a:pt x="8" y="108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4"/>
                    </a:lnTo>
                    <a:lnTo>
                      <a:pt x="31" y="142"/>
                    </a:lnTo>
                    <a:lnTo>
                      <a:pt x="37" y="148"/>
                    </a:lnTo>
                    <a:lnTo>
                      <a:pt x="42" y="152"/>
                    </a:lnTo>
                    <a:lnTo>
                      <a:pt x="48" y="155"/>
                    </a:lnTo>
                    <a:lnTo>
                      <a:pt x="54" y="159"/>
                    </a:lnTo>
                    <a:lnTo>
                      <a:pt x="58" y="161"/>
                    </a:lnTo>
                    <a:lnTo>
                      <a:pt x="63" y="159"/>
                    </a:lnTo>
                    <a:lnTo>
                      <a:pt x="69" y="155"/>
                    </a:lnTo>
                    <a:lnTo>
                      <a:pt x="75" y="152"/>
                    </a:lnTo>
                    <a:lnTo>
                      <a:pt x="81" y="148"/>
                    </a:lnTo>
                    <a:lnTo>
                      <a:pt x="86" y="142"/>
                    </a:lnTo>
                    <a:lnTo>
                      <a:pt x="94" y="134"/>
                    </a:lnTo>
                    <a:lnTo>
                      <a:pt x="100" y="127"/>
                    </a:lnTo>
                    <a:lnTo>
                      <a:pt x="106" y="117"/>
                    </a:lnTo>
                    <a:lnTo>
                      <a:pt x="109" y="108"/>
                    </a:lnTo>
                    <a:lnTo>
                      <a:pt x="113" y="96"/>
                    </a:lnTo>
                    <a:lnTo>
                      <a:pt x="115" y="90"/>
                    </a:lnTo>
                    <a:lnTo>
                      <a:pt x="115" y="81"/>
                    </a:lnTo>
                    <a:lnTo>
                      <a:pt x="115" y="69"/>
                    </a:lnTo>
                    <a:lnTo>
                      <a:pt x="115" y="56"/>
                    </a:lnTo>
                    <a:lnTo>
                      <a:pt x="117" y="42"/>
                    </a:lnTo>
                    <a:lnTo>
                      <a:pt x="115" y="31"/>
                    </a:lnTo>
                    <a:lnTo>
                      <a:pt x="115" y="1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9" y="4"/>
                    </a:lnTo>
                    <a:lnTo>
                      <a:pt x="104" y="8"/>
                    </a:lnTo>
                    <a:lnTo>
                      <a:pt x="98" y="10"/>
                    </a:lnTo>
                    <a:lnTo>
                      <a:pt x="92" y="12"/>
                    </a:lnTo>
                    <a:lnTo>
                      <a:pt x="88" y="14"/>
                    </a:lnTo>
                    <a:lnTo>
                      <a:pt x="83" y="14"/>
                    </a:lnTo>
                    <a:lnTo>
                      <a:pt x="77" y="16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58" y="17"/>
                    </a:lnTo>
                    <a:lnTo>
                      <a:pt x="58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22120" y="5746320"/>
                <a:ext cx="1252800" cy="376200"/>
              </a:xfrm>
              <a:custGeom>
                <a:avLst/>
                <a:gdLst/>
                <a:ahLst/>
                <a:rect l="l" t="t" r="r" b="b"/>
                <a:pathLst>
                  <a:path w="586" h="176">
                    <a:moveTo>
                      <a:pt x="88" y="174"/>
                    </a:moveTo>
                    <a:lnTo>
                      <a:pt x="75" y="174"/>
                    </a:lnTo>
                    <a:lnTo>
                      <a:pt x="59" y="170"/>
                    </a:lnTo>
                    <a:lnTo>
                      <a:pt x="48" y="167"/>
                    </a:lnTo>
                    <a:lnTo>
                      <a:pt x="36" y="159"/>
                    </a:lnTo>
                    <a:lnTo>
                      <a:pt x="27" y="149"/>
                    </a:lnTo>
                    <a:lnTo>
                      <a:pt x="17" y="140"/>
                    </a:lnTo>
                    <a:lnTo>
                      <a:pt x="10" y="128"/>
                    </a:lnTo>
                    <a:lnTo>
                      <a:pt x="4" y="115"/>
                    </a:lnTo>
                    <a:lnTo>
                      <a:pt x="2" y="101"/>
                    </a:lnTo>
                    <a:lnTo>
                      <a:pt x="0" y="88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10" y="48"/>
                    </a:lnTo>
                    <a:lnTo>
                      <a:pt x="17" y="36"/>
                    </a:lnTo>
                    <a:lnTo>
                      <a:pt x="27" y="25"/>
                    </a:lnTo>
                    <a:lnTo>
                      <a:pt x="36" y="17"/>
                    </a:lnTo>
                    <a:lnTo>
                      <a:pt x="48" y="10"/>
                    </a:lnTo>
                    <a:lnTo>
                      <a:pt x="59" y="4"/>
                    </a:lnTo>
                    <a:lnTo>
                      <a:pt x="75" y="2"/>
                    </a:lnTo>
                    <a:lnTo>
                      <a:pt x="88" y="0"/>
                    </a:lnTo>
                    <a:lnTo>
                      <a:pt x="498" y="0"/>
                    </a:lnTo>
                    <a:lnTo>
                      <a:pt x="514" y="2"/>
                    </a:lnTo>
                    <a:lnTo>
                      <a:pt x="527" y="4"/>
                    </a:lnTo>
                    <a:lnTo>
                      <a:pt x="538" y="10"/>
                    </a:lnTo>
                    <a:lnTo>
                      <a:pt x="550" y="17"/>
                    </a:lnTo>
                    <a:lnTo>
                      <a:pt x="561" y="25"/>
                    </a:lnTo>
                    <a:lnTo>
                      <a:pt x="569" y="36"/>
                    </a:lnTo>
                    <a:lnTo>
                      <a:pt x="577" y="48"/>
                    </a:lnTo>
                    <a:lnTo>
                      <a:pt x="583" y="59"/>
                    </a:lnTo>
                    <a:lnTo>
                      <a:pt x="584" y="73"/>
                    </a:lnTo>
                    <a:lnTo>
                      <a:pt x="586" y="88"/>
                    </a:lnTo>
                    <a:lnTo>
                      <a:pt x="584" y="101"/>
                    </a:lnTo>
                    <a:lnTo>
                      <a:pt x="583" y="115"/>
                    </a:lnTo>
                    <a:lnTo>
                      <a:pt x="577" y="128"/>
                    </a:lnTo>
                    <a:lnTo>
                      <a:pt x="569" y="140"/>
                    </a:lnTo>
                    <a:lnTo>
                      <a:pt x="561" y="149"/>
                    </a:lnTo>
                    <a:lnTo>
                      <a:pt x="550" y="159"/>
                    </a:lnTo>
                    <a:lnTo>
                      <a:pt x="538" y="167"/>
                    </a:lnTo>
                    <a:lnTo>
                      <a:pt x="527" y="170"/>
                    </a:lnTo>
                    <a:lnTo>
                      <a:pt x="514" y="174"/>
                    </a:lnTo>
                    <a:lnTo>
                      <a:pt x="498" y="176"/>
                    </a:lnTo>
                    <a:lnTo>
                      <a:pt x="88" y="176"/>
                    </a:lnTo>
                    <a:lnTo>
                      <a:pt x="88" y="1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150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9744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507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881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97096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28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1009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37280" y="584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17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266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5940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950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42492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0340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52968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609960" y="5849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726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5360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62880" y="5085360"/>
                <a:ext cx="1409040" cy="72720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659" y="0"/>
                    </a:moveTo>
                    <a:lnTo>
                      <a:pt x="659" y="60"/>
                    </a:lnTo>
                    <a:lnTo>
                      <a:pt x="0" y="6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896280" y="5093640"/>
                <a:ext cx="216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024800" y="5085360"/>
                <a:ext cx="2781720" cy="710280"/>
              </a:xfrm>
              <a:custGeom>
                <a:avLst/>
                <a:gdLst/>
                <a:ahLst/>
                <a:rect l="l" t="t" r="r" b="b"/>
                <a:pathLst>
                  <a:path w="1301" h="332">
                    <a:moveTo>
                      <a:pt x="1301" y="0"/>
                    </a:moveTo>
                    <a:lnTo>
                      <a:pt x="1301" y="89"/>
                    </a:lnTo>
                    <a:lnTo>
                      <a:pt x="0" y="89"/>
                    </a:lnTo>
                    <a:lnTo>
                      <a:pt x="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361240" y="5085360"/>
                <a:ext cx="1475280" cy="710280"/>
              </a:xfrm>
              <a:custGeom>
                <a:avLst/>
                <a:gdLst/>
                <a:ahLst/>
                <a:rect l="l" t="t" r="r" b="b"/>
                <a:pathLst>
                  <a:path w="690" h="332">
                    <a:moveTo>
                      <a:pt x="0" y="0"/>
                    </a:moveTo>
                    <a:lnTo>
                      <a:pt x="2" y="177"/>
                    </a:lnTo>
                    <a:lnTo>
                      <a:pt x="690" y="177"/>
                    </a:lnTo>
                    <a:lnTo>
                      <a:pt x="69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024800" y="5401800"/>
                <a:ext cx="1618560" cy="438480"/>
              </a:xfrm>
              <a:custGeom>
                <a:avLst/>
                <a:gdLst/>
                <a:ahLst/>
                <a:rect l="l" t="t" r="r" b="b"/>
                <a:pathLst>
                  <a:path w="757" h="205">
                    <a:moveTo>
                      <a:pt x="757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94920" y="53697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62880" y="5464080"/>
                <a:ext cx="1659240" cy="438480"/>
              </a:xfrm>
              <a:custGeom>
                <a:avLst/>
                <a:gdLst/>
                <a:ahLst/>
                <a:rect l="l" t="t" r="r" b="b"/>
                <a:pathLst>
                  <a:path w="776" h="205">
                    <a:moveTo>
                      <a:pt x="776" y="205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0840" y="542988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896280" y="5524200"/>
                <a:ext cx="1725840" cy="438480"/>
              </a:xfrm>
              <a:custGeom>
                <a:avLst/>
                <a:gdLst/>
                <a:ahLst/>
                <a:rect l="l" t="t" r="r" b="b"/>
                <a:pathLst>
                  <a:path w="807" h="205">
                    <a:moveTo>
                      <a:pt x="807" y="205"/>
                    </a:moveTo>
                    <a:lnTo>
                      <a:pt x="499" y="205"/>
                    </a:lnTo>
                    <a:lnTo>
                      <a:pt x="49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68920" y="54961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836880" y="5590080"/>
                <a:ext cx="1806480" cy="438480"/>
              </a:xfrm>
              <a:custGeom>
                <a:avLst/>
                <a:gdLst/>
                <a:ahLst/>
                <a:rect l="l" t="t" r="r" b="b"/>
                <a:pathLst>
                  <a:path w="845" h="205">
                    <a:moveTo>
                      <a:pt x="845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802320" y="5558040"/>
                <a:ext cx="66240" cy="619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00600" y="63410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0"/>
                    </a:moveTo>
                    <a:lnTo>
                      <a:pt x="0" y="0"/>
                    </a:lnTo>
                    <a:lnTo>
                      <a:pt x="14" y="3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3930840" y="61232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4696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45960" y="643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51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217200" y="6341400"/>
              <a:ext cx="65880" cy="63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9" y="0"/>
                  </a:moveTo>
                  <a:lnTo>
                    <a:pt x="0" y="0"/>
                  </a:lnTo>
                  <a:lnTo>
                    <a:pt x="15" y="3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248880" y="6123240"/>
              <a:ext cx="1800" cy="22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0488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20244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827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1800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0310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91292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93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319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31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00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75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90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657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55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558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350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452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116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588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4724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73256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61920" y="1234080"/>
              <a:ext cx="27360" cy="23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5212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39960" y="1234080"/>
              <a:ext cx="2304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6680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347840" y="1035000"/>
            <a:ext cx="6445440" cy="5410440"/>
            <a:chOff x="1347840" y="1035000"/>
            <a:chExt cx="6445440" cy="5410440"/>
          </a:xfrm>
        </p:grpSpPr>
        <p:sp>
          <p:nvSpPr>
            <p:cNvPr id="2217" name=""/>
            <p:cNvSpPr/>
            <p:nvPr/>
          </p:nvSpPr>
          <p:spPr>
            <a:xfrm>
              <a:off x="2005920" y="5311800"/>
              <a:ext cx="5436000" cy="12600"/>
            </a:xfrm>
            <a:custGeom>
              <a:avLst/>
              <a:gdLst/>
              <a:ahLst/>
              <a:rect l="l" t="t" r="r" b="b"/>
              <a:pathLst>
                <a:path w="2485" h="6">
                  <a:moveTo>
                    <a:pt x="2485" y="0"/>
                  </a:moveTo>
                  <a:lnTo>
                    <a:pt x="2485" y="6"/>
                  </a:lnTo>
                  <a:lnTo>
                    <a:pt x="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23680" y="5219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04320" y="521928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23680" y="4402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04320" y="4402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23680" y="3558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04320" y="3558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23680" y="271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04320" y="2710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4088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1864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95320" y="18741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64088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864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95320" y="10350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005920" y="1148760"/>
              <a:ext cx="1800" cy="4176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005920" y="4488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05920" y="3648600"/>
              <a:ext cx="741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5920" y="2814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05920" y="197892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180120" y="5898600"/>
              <a:ext cx="96120" cy="74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0"/>
                  </a:moveTo>
                  <a:lnTo>
                    <a:pt x="44" y="0"/>
                  </a:lnTo>
                  <a:lnTo>
                    <a:pt x="44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08400" y="6339240"/>
              <a:ext cx="96120" cy="453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25920" y="502920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8544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4532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32888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04080" y="612468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175800" y="5684040"/>
              <a:ext cx="96120" cy="766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82000" y="5361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74520" y="5361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3026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83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60640" y="536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988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463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456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2236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4372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27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0176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820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2776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749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742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534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09716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8104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80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92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40676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064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58280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31520" y="5361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42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21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972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447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448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0232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900120" y="5902920"/>
              <a:ext cx="113400" cy="7452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06120" y="4743720"/>
              <a:ext cx="111600" cy="766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17"/>
                  </a:moveTo>
                  <a:lnTo>
                    <a:pt x="24" y="0"/>
                  </a:lnTo>
                  <a:lnTo>
                    <a:pt x="0" y="17"/>
                  </a:lnTo>
                  <a:lnTo>
                    <a:pt x="24" y="35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900120" y="569268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712600" y="4454640"/>
              <a:ext cx="109440" cy="766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72840" y="4730760"/>
              <a:ext cx="109080" cy="80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819040" y="4728960"/>
              <a:ext cx="109440" cy="78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48680" y="473076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84800" y="633924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30240" y="3909240"/>
              <a:ext cx="76320" cy="550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90120" y="418536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841000" y="4183560"/>
              <a:ext cx="78840" cy="5184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56960" y="4463640"/>
              <a:ext cx="7668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6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84800" y="612468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30240" y="3350520"/>
              <a:ext cx="7632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85440" y="3633480"/>
              <a:ext cx="78840" cy="543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3"/>
                  </a:moveTo>
                  <a:lnTo>
                    <a:pt x="21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41000" y="3909240"/>
              <a:ext cx="78840" cy="55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352640" y="4183560"/>
              <a:ext cx="81360" cy="518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18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44640" y="5642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418080" y="564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602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520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45960" y="5642280"/>
              <a:ext cx="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44640" y="585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18080" y="5852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602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5520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45960" y="58528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344640" y="606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18080" y="606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602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5520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45960" y="6063120"/>
              <a:ext cx="3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344640" y="627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18080" y="627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02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520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6200000">
              <a:off x="1377000" y="33573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6200000">
              <a:off x="1420200" y="3283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6200000">
              <a:off x="1400400" y="3235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6200000">
              <a:off x="1400400" y="3163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6200000">
              <a:off x="1415880" y="3112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6200000">
              <a:off x="1411920" y="3074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6200000">
              <a:off x="1396800" y="3004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200000">
              <a:off x="1415880" y="2952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6200000">
              <a:off x="1392480" y="2891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38680" y="5604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83012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90248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96836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486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11956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4872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2288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6572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9596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6688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39532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338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005920" y="114408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292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15284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227360" y="5646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6516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36164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453440" y="5646600"/>
              <a:ext cx="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7292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15284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227360" y="5857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26516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36164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53440" y="585720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7292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15284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227360" y="606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26516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6164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453440" y="60674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07292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5284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808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305480" y="6277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34400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43796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05920" y="4488120"/>
              <a:ext cx="5456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05920" y="364860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005920" y="2814120"/>
              <a:ext cx="54360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005920" y="197496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005920" y="1144080"/>
              <a:ext cx="543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767680" y="5046480"/>
              <a:ext cx="15595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flipV="1">
              <a:off x="2767680" y="4492080"/>
              <a:ext cx="1559520" cy="2779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326840" y="4766040"/>
              <a:ext cx="15462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73400" y="4766040"/>
              <a:ext cx="15138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2767680" y="393516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4326840" y="4207320"/>
              <a:ext cx="154620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 flipV="1">
              <a:off x="5873400" y="4211280"/>
              <a:ext cx="1513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2767680" y="3376800"/>
              <a:ext cx="1559520" cy="275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 flipV="1">
              <a:off x="4326840" y="36572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5873400" y="39304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 flipV="1">
              <a:off x="2767680" y="2541960"/>
              <a:ext cx="1559520" cy="5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flipV="1">
              <a:off x="4326840" y="3098880"/>
              <a:ext cx="1546200" cy="55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5873400" y="3652920"/>
              <a:ext cx="15138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 flipV="1">
              <a:off x="2767680" y="1704960"/>
              <a:ext cx="1559520" cy="554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flipV="1">
              <a:off x="4326840" y="22640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flipV="1">
              <a:off x="5873400" y="25372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10440" y="248724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68160" y="3044160"/>
              <a:ext cx="11772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814720" y="3598200"/>
              <a:ext cx="11844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28880" y="387648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710440" y="1652400"/>
              <a:ext cx="115920" cy="1033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0" y="0"/>
                  </a:moveTo>
                  <a:lnTo>
                    <a:pt x="53" y="0"/>
                  </a:lnTo>
                  <a:lnTo>
                    <a:pt x="53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68160" y="2208960"/>
              <a:ext cx="11772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814720" y="2483280"/>
              <a:ext cx="11844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28880" y="2763360"/>
              <a:ext cx="115920" cy="1051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0" y="0"/>
                  </a:moveTo>
                  <a:lnTo>
                    <a:pt x="53" y="0"/>
                  </a:lnTo>
                  <a:lnTo>
                    <a:pt x="53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23720" y="5009040"/>
              <a:ext cx="113400" cy="788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33200" y="5009040"/>
              <a:ext cx="111600" cy="788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72840" y="5009040"/>
              <a:ext cx="109080" cy="788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2767680" y="5029200"/>
              <a:ext cx="15595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4326840" y="5026680"/>
              <a:ext cx="1546200" cy="6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73400" y="5026680"/>
              <a:ext cx="151380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flipV="1">
              <a:off x="2767680" y="476964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25920" y="5000040"/>
              <a:ext cx="91440" cy="504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8544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4532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2420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67680" y="5252760"/>
              <a:ext cx="180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228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80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42280" y="5252760"/>
              <a:ext cx="216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tem descarta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atori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seção 7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425880" y="1340640"/>
            <a:ext cx="7986600" cy="50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(pag 576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2nd level cache with 20ns access time and miss rate to 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só L1) = 200ns/período = 10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só L1)= CPIbase + clocks perdidos = 1 + 5% * 100 = 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L2)= 20ns/período = 1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L1 e L2)= 1 + stalls L1 + stalls L2 = 1 + 5% * 10 + 2% * 100 = 3.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nho do sistema em velocidade com L2 = 6.0 / 3.5 = 1.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78560" y="2022480"/>
            <a:ext cx="63864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67440" y="1066680"/>
            <a:ext cx="156708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$/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447920"/>
            <a:ext cx="2819520" cy="4876560"/>
            <a:chOff x="2057400" y="1447920"/>
            <a:chExt cx="2819520" cy="4876560"/>
          </a:xfrm>
        </p:grpSpPr>
        <p:sp>
          <p:nvSpPr>
            <p:cNvPr id="108" name=""/>
            <p:cNvSpPr/>
            <p:nvPr/>
          </p:nvSpPr>
          <p:spPr>
            <a:xfrm>
              <a:off x="2666880" y="1447920"/>
              <a:ext cx="1524240" cy="68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514600"/>
              <a:ext cx="121896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429000"/>
              <a:ext cx="182880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876920"/>
              <a:ext cx="2819520" cy="1447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38080" y="1066680"/>
            <a:ext cx="1371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1185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0" y="1981080"/>
            <a:ext cx="463680" cy="761760"/>
            <a:chOff x="2286000" y="1981080"/>
            <a:chExt cx="463680" cy="761760"/>
          </a:xfrm>
        </p:grpSpPr>
        <p:sp>
          <p:nvSpPr>
            <p:cNvPr id="115" name=""/>
            <p:cNvSpPr/>
            <p:nvPr/>
          </p:nvSpPr>
          <p:spPr>
            <a:xfrm>
              <a:off x="2286000" y="198108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01560" y="220644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63680" cy="761760"/>
            <a:chOff x="2133720" y="2743200"/>
            <a:chExt cx="463680" cy="761760"/>
          </a:xfrm>
        </p:grpSpPr>
        <p:sp>
          <p:nvSpPr>
            <p:cNvPr id="118" name=""/>
            <p:cNvSpPr/>
            <p:nvPr/>
          </p:nvSpPr>
          <p:spPr>
            <a:xfrm>
              <a:off x="2133720" y="274320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9280" y="296856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191120"/>
            <a:ext cx="463680" cy="761760"/>
            <a:chOff x="1828800" y="4191120"/>
            <a:chExt cx="463680" cy="761760"/>
          </a:xfrm>
        </p:grpSpPr>
        <p:sp>
          <p:nvSpPr>
            <p:cNvPr id="121" name=""/>
            <p:cNvSpPr/>
            <p:nvPr/>
          </p:nvSpPr>
          <p:spPr>
            <a:xfrm>
              <a:off x="1828800" y="419112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4360" y="441648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1219320" y="20570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13372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6748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(custo e velocida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do sistema ($/bit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s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sto do nível mais barato (d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do sistem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locidade do mais rápido (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, assumindo disco 40 GB e memória de 256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r o custo médio por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17800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in the upper level (hit ratio - hi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not in the upper level (miss ratio - miss penalt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5400" y="1292400"/>
            <a:ext cx="7571880" cy="2062080"/>
            <a:chOff x="275400" y="1292400"/>
            <a:chExt cx="7571880" cy="2062080"/>
          </a:xfrm>
        </p:grpSpPr>
        <p:sp>
          <p:nvSpPr>
            <p:cNvPr id="133" name=""/>
            <p:cNvSpPr/>
            <p:nvPr/>
          </p:nvSpPr>
          <p:spPr>
            <a:xfrm flipV="1">
              <a:off x="1800000" y="13716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0000" y="32004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400" y="1292400"/>
              <a:ext cx="1512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4840" y="3032280"/>
              <a:ext cx="71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160" y="3657600"/>
            <a:ext cx="8157960" cy="2211480"/>
            <a:chOff x="380160" y="3657600"/>
            <a:chExt cx="8157960" cy="2211480"/>
          </a:xfrm>
        </p:grpSpPr>
        <p:sp>
          <p:nvSpPr>
            <p:cNvPr id="138" name=""/>
            <p:cNvSpPr/>
            <p:nvPr/>
          </p:nvSpPr>
          <p:spPr>
            <a:xfrm flipV="1">
              <a:off x="1784520" y="373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4520" y="55656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160" y="3657600"/>
              <a:ext cx="1392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reqüência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esso em </a:t>
              </a: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5546880"/>
              <a:ext cx="245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 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90920" y="2590920"/>
            <a:ext cx="838080" cy="380880"/>
            <a:chOff x="2590920" y="2590920"/>
            <a:chExt cx="838080" cy="380880"/>
          </a:xfrm>
        </p:grpSpPr>
        <p:sp>
          <p:nvSpPr>
            <p:cNvPr id="143" name=""/>
            <p:cNvSpPr/>
            <p:nvPr/>
          </p:nvSpPr>
          <p:spPr>
            <a:xfrm>
              <a:off x="2590920" y="2895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70280" y="2971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996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96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932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81280" y="1828800"/>
            <a:ext cx="838440" cy="380880"/>
            <a:chOff x="3581280" y="1828800"/>
            <a:chExt cx="838440" cy="380880"/>
          </a:xfrm>
        </p:grpSpPr>
        <p:sp>
          <p:nvSpPr>
            <p:cNvPr id="150" name=""/>
            <p:cNvSpPr/>
            <p:nvPr/>
          </p:nvSpPr>
          <p:spPr>
            <a:xfrm>
              <a:off x="3581280" y="2133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096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0640" y="22096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032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000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004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95680" y="2362320"/>
            <a:ext cx="838440" cy="380880"/>
            <a:chOff x="4495680" y="2362320"/>
            <a:chExt cx="838440" cy="380880"/>
          </a:xfrm>
        </p:grpSpPr>
        <p:sp>
          <p:nvSpPr>
            <p:cNvPr id="157" name=""/>
            <p:cNvSpPr/>
            <p:nvPr/>
          </p:nvSpPr>
          <p:spPr>
            <a:xfrm>
              <a:off x="44956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53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750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47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44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2362320"/>
            <a:ext cx="838440" cy="380880"/>
            <a:chOff x="5410080" y="2362320"/>
            <a:chExt cx="838440" cy="380880"/>
          </a:xfrm>
        </p:grpSpPr>
        <p:sp>
          <p:nvSpPr>
            <p:cNvPr id="164" name=""/>
            <p:cNvSpPr/>
            <p:nvPr/>
          </p:nvSpPr>
          <p:spPr>
            <a:xfrm>
              <a:off x="54100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97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94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291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88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088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43200" y="4491000"/>
            <a:ext cx="228600" cy="1071720"/>
          </a:xfrm>
          <a:custGeom>
            <a:avLst/>
            <a:gdLst/>
            <a:ahLst/>
            <a:rect l="l" t="t" r="r" b="b"/>
            <a:pathLst>
              <a:path w="192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579"/>
                </a:lnTo>
                <a:lnTo>
                  <a:pt x="192" y="579"/>
                </a:lnTo>
                <a:lnTo>
                  <a:pt x="192" y="6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952880"/>
            <a:ext cx="228600" cy="609840"/>
          </a:xfrm>
          <a:custGeom>
            <a:avLst/>
            <a:gdLst/>
            <a:ahLst/>
            <a:rect l="l" t="t" r="r" b="b"/>
            <a:pathLst>
              <a:path w="144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6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533520" cy="38124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lnTo>
                  <a:pt x="0" y="240"/>
                </a:lnTo>
                <a:lnTo>
                  <a:pt x="48" y="240"/>
                </a:lnTo>
                <a:lnTo>
                  <a:pt x="48" y="0"/>
                </a:lnTo>
                <a:lnTo>
                  <a:pt x="141" y="0"/>
                </a:lnTo>
                <a:lnTo>
                  <a:pt x="144" y="336"/>
                </a:lnTo>
                <a:lnTo>
                  <a:pt x="192" y="336"/>
                </a:lnTo>
                <a:lnTo>
                  <a:pt x="192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00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81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5605200"/>
            <a:ext cx="381240" cy="75960"/>
            <a:chOff x="2666880" y="5605200"/>
            <a:chExt cx="381240" cy="75960"/>
          </a:xfrm>
        </p:grpSpPr>
        <p:sp>
          <p:nvSpPr>
            <p:cNvPr id="176" name=""/>
            <p:cNvSpPr/>
            <p:nvPr/>
          </p:nvSpPr>
          <p:spPr>
            <a:xfrm>
              <a:off x="2666880" y="56386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6688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481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33920" y="5605200"/>
            <a:ext cx="380880" cy="75960"/>
            <a:chOff x="3733920" y="5605200"/>
            <a:chExt cx="380880" cy="75960"/>
          </a:xfrm>
        </p:grpSpPr>
        <p:sp>
          <p:nvSpPr>
            <p:cNvPr id="180" name=""/>
            <p:cNvSpPr/>
            <p:nvPr/>
          </p:nvSpPr>
          <p:spPr>
            <a:xfrm>
              <a:off x="3733920" y="5638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1480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5605200"/>
            <a:ext cx="556920" cy="109080"/>
            <a:chOff x="4776840" y="5605200"/>
            <a:chExt cx="556920" cy="109080"/>
          </a:xfrm>
        </p:grpSpPr>
        <p:sp>
          <p:nvSpPr>
            <p:cNvPr id="184" name=""/>
            <p:cNvSpPr/>
            <p:nvPr/>
          </p:nvSpPr>
          <p:spPr>
            <a:xfrm>
              <a:off x="4776840" y="5653080"/>
              <a:ext cx="55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7684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33376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189400" y="160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920" y="4343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ão em dois n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1143000"/>
            <a:ext cx="1828800" cy="856080"/>
            <a:chOff x="3657600" y="1143000"/>
            <a:chExt cx="1828800" cy="856080"/>
          </a:xfrm>
        </p:grpSpPr>
        <p:sp>
          <p:nvSpPr>
            <p:cNvPr id="191" name=""/>
            <p:cNvSpPr/>
            <p:nvPr/>
          </p:nvSpPr>
          <p:spPr>
            <a:xfrm>
              <a:off x="3657600" y="114300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0520" y="1295280"/>
              <a:ext cx="160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2743200" cy="1218960"/>
            <a:chOff x="3200400" y="2514600"/>
            <a:chExt cx="2743200" cy="121896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274320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86200" y="2514600"/>
              <a:ext cx="609480" cy="1218960"/>
              <a:chOff x="3886200" y="2514600"/>
              <a:chExt cx="609480" cy="12189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8620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9112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200" y="281916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86200" y="3124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6200" y="34290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6200" y="2514600"/>
                <a:ext cx="304920" cy="3045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2514600" y="4419720"/>
            <a:ext cx="4038480" cy="1828800"/>
            <a:chOff x="2514600" y="4419720"/>
            <a:chExt cx="4038480" cy="1828800"/>
          </a:xfrm>
        </p:grpSpPr>
        <p:sp>
          <p:nvSpPr>
            <p:cNvPr id="204" name=""/>
            <p:cNvSpPr/>
            <p:nvPr/>
          </p:nvSpPr>
          <p:spPr>
            <a:xfrm>
              <a:off x="2514600" y="4419720"/>
              <a:ext cx="403848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90760" y="4419720"/>
              <a:ext cx="609840" cy="1828800"/>
              <a:chOff x="4190760" y="4419720"/>
              <a:chExt cx="609840" cy="1828800"/>
            </a:xfrm>
          </p:grpSpPr>
          <p:sp>
            <p:nvSpPr>
              <p:cNvPr id="206" name=""/>
              <p:cNvSpPr/>
              <p:nvPr/>
            </p:nvSpPr>
            <p:spPr>
              <a:xfrm>
                <a:off x="419076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060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0760" y="47246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90760" y="50295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0760" y="5334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0760" y="56390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90760" y="59439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90760" y="6248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0516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4724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02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5334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563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594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160" y="62485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5334120"/>
              <a:ext cx="304560" cy="304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81600" y="39067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dados (blo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3880" y="2133720"/>
            <a:ext cx="2227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idade tempor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ardar os mais us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7560" y="3886200"/>
            <a:ext cx="335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ocalidade espac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nsf. em blocos em vez de palavr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F0704" descr=""/>
          <p:cNvPicPr/>
          <p:nvPr/>
        </p:nvPicPr>
        <p:blipFill>
          <a:blip r:embed="rId1"/>
          <a:stretch/>
        </p:blipFill>
        <p:spPr>
          <a:xfrm>
            <a:off x="2057400" y="191124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8680" y="1063800"/>
            <a:ext cx="22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erência à posição X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CPqD CPqD</cp:lastModifiedBy>
  <cp:lastPrinted>2001-05-26T17:39:16Z</cp:lastPrinted>
  <dcterms:modified xsi:type="dcterms:W3CDTF">2002-05-21T21:35:48Z</dcterms:modified>
  <cp:revision>57</cp:revision>
  <dc:subject/>
  <dc:title>Chapter Seven</dc:title>
</cp:coreProperties>
</file>