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36200" y="655308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8-</a:t>
            </a:r>
            <a:fld id="{24842560-18AB-4B7D-AF80-B126425D4952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96440" y="3910680"/>
            <a:ext cx="6351120" cy="63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15440" y="1798560"/>
            <a:ext cx="5908680" cy="2722680"/>
            <a:chOff x="415440" y="1798560"/>
            <a:chExt cx="5908680" cy="2722680"/>
          </a:xfrm>
        </p:grpSpPr>
        <p:sp>
          <p:nvSpPr>
            <p:cNvPr id="427" name=""/>
            <p:cNvSpPr/>
            <p:nvPr/>
          </p:nvSpPr>
          <p:spPr>
            <a:xfrm>
              <a:off x="1730880" y="3652560"/>
              <a:ext cx="334728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76520" y="3624480"/>
              <a:ext cx="7128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24040" y="3481560"/>
              <a:ext cx="3354120" cy="18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2640" y="3914640"/>
              <a:ext cx="207360" cy="468720"/>
            </a:xfrm>
            <a:custGeom>
              <a:avLst/>
              <a:gdLst/>
              <a:ahLst/>
              <a:rect l="l" t="t" r="r" b="b"/>
              <a:pathLst>
                <a:path w="96" h="217">
                  <a:moveTo>
                    <a:pt x="0" y="217"/>
                  </a:moveTo>
                  <a:lnTo>
                    <a:pt x="15" y="217"/>
                  </a:lnTo>
                  <a:lnTo>
                    <a:pt x="31" y="215"/>
                  </a:lnTo>
                  <a:lnTo>
                    <a:pt x="44" y="215"/>
                  </a:lnTo>
                  <a:lnTo>
                    <a:pt x="58" y="211"/>
                  </a:lnTo>
                  <a:lnTo>
                    <a:pt x="69" y="209"/>
                  </a:lnTo>
                  <a:lnTo>
                    <a:pt x="79" y="208"/>
                  </a:lnTo>
                  <a:lnTo>
                    <a:pt x="86" y="204"/>
                  </a:lnTo>
                  <a:lnTo>
                    <a:pt x="92" y="200"/>
                  </a:lnTo>
                  <a:lnTo>
                    <a:pt x="94" y="196"/>
                  </a:lnTo>
                  <a:lnTo>
                    <a:pt x="96" y="192"/>
                  </a:lnTo>
                  <a:lnTo>
                    <a:pt x="96" y="25"/>
                  </a:lnTo>
                  <a:lnTo>
                    <a:pt x="94" y="21"/>
                  </a:lnTo>
                  <a:lnTo>
                    <a:pt x="92" y="17"/>
                  </a:lnTo>
                  <a:lnTo>
                    <a:pt x="86" y="14"/>
                  </a:lnTo>
                  <a:lnTo>
                    <a:pt x="79" y="12"/>
                  </a:lnTo>
                  <a:lnTo>
                    <a:pt x="69" y="8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5280" y="2481840"/>
              <a:ext cx="41472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95280" y="2432160"/>
              <a:ext cx="414720" cy="46944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5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2" y="203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5"/>
                  </a:lnTo>
                  <a:lnTo>
                    <a:pt x="52" y="3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4" y="5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30880" y="2170440"/>
              <a:ext cx="334728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76520" y="1967040"/>
              <a:ext cx="7128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30880" y="1999440"/>
              <a:ext cx="3347280" cy="18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76520" y="2135880"/>
              <a:ext cx="7128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3"/>
                  </a:moveTo>
                  <a:lnTo>
                    <a:pt x="33" y="0"/>
                  </a:lnTo>
                  <a:lnTo>
                    <a:pt x="0" y="18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2640" y="1932480"/>
              <a:ext cx="1247400" cy="478080"/>
            </a:xfrm>
            <a:custGeom>
              <a:avLst/>
              <a:gdLst/>
              <a:ahLst/>
              <a:rect l="l" t="t" r="r" b="b"/>
              <a:pathLst>
                <a:path w="577" h="221">
                  <a:moveTo>
                    <a:pt x="575" y="219"/>
                  </a:moveTo>
                  <a:lnTo>
                    <a:pt x="577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7" y="221"/>
                  </a:lnTo>
                  <a:lnTo>
                    <a:pt x="577" y="221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2640" y="1932480"/>
              <a:ext cx="1247400" cy="478080"/>
            </a:xfrm>
            <a:custGeom>
              <a:avLst/>
              <a:gdLst/>
              <a:ahLst/>
              <a:rect l="l" t="t" r="r" b="b"/>
              <a:pathLst>
                <a:path w="577" h="221">
                  <a:moveTo>
                    <a:pt x="575" y="219"/>
                  </a:moveTo>
                  <a:lnTo>
                    <a:pt x="577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7" y="221"/>
                  </a:lnTo>
                  <a:lnTo>
                    <a:pt x="577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3160" y="2090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72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93600" y="2090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116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8656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228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78520" y="1932480"/>
              <a:ext cx="1245600" cy="47808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78520" y="1932480"/>
              <a:ext cx="1245600" cy="47808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7840" y="2090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8820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342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1384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152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5892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3020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9752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7600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541600" y="2174400"/>
              <a:ext cx="216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7400" y="2135880"/>
              <a:ext cx="6660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3"/>
                  </a:moveTo>
                  <a:lnTo>
                    <a:pt x="18" y="33"/>
                  </a:lnTo>
                  <a:lnTo>
                    <a:pt x="22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1320" y="2135880"/>
              <a:ext cx="7092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34240" y="2481840"/>
              <a:ext cx="41508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1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0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3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34240" y="2432160"/>
              <a:ext cx="415080" cy="46944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5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3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0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1" y="203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5"/>
                  </a:lnTo>
                  <a:lnTo>
                    <a:pt x="52" y="3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3" y="5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89440" y="17985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844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6836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41800" y="1798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79960" y="1798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3072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0524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38360" y="1798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616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352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808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188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91440" y="1798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65040" y="224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6404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37120" y="224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8068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53040" y="224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94440" y="2243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5760" y="2243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5384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3376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07200" y="2243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120" y="2767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00480" y="27673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3468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9948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7076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42920" y="3421080"/>
              <a:ext cx="627120" cy="47376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42920" y="3421080"/>
              <a:ext cx="627120" cy="47376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640" y="3416400"/>
              <a:ext cx="624600" cy="478080"/>
            </a:xfrm>
            <a:custGeom>
              <a:avLst/>
              <a:gdLst/>
              <a:ahLst/>
              <a:rect l="l" t="t" r="r" b="b"/>
              <a:pathLst>
                <a:path w="289" h="221">
                  <a:moveTo>
                    <a:pt x="287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9" y="221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640" y="3416400"/>
              <a:ext cx="624600" cy="478080"/>
            </a:xfrm>
            <a:custGeom>
              <a:avLst/>
              <a:gdLst/>
              <a:ahLst/>
              <a:rect l="l" t="t" r="r" b="b"/>
              <a:pathLst>
                <a:path w="289" h="221">
                  <a:moveTo>
                    <a:pt x="287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9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78520" y="3421080"/>
              <a:ext cx="1245600" cy="47376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78520" y="3421080"/>
              <a:ext cx="1245600" cy="47376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97840" y="3572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820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342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1384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152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892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3020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9752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7600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41600" y="3656520"/>
              <a:ext cx="216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07400" y="3624480"/>
              <a:ext cx="66600" cy="644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6" y="30"/>
                  </a:moveTo>
                  <a:lnTo>
                    <a:pt x="18" y="30"/>
                  </a:lnTo>
                  <a:lnTo>
                    <a:pt x="22" y="30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81320" y="3624480"/>
              <a:ext cx="7092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4240" y="3968280"/>
              <a:ext cx="415080" cy="493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9" y="14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0" y="23"/>
                  </a:lnTo>
                  <a:lnTo>
                    <a:pt x="96" y="23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3" y="19"/>
                  </a:lnTo>
                  <a:lnTo>
                    <a:pt x="165" y="17"/>
                  </a:lnTo>
                  <a:lnTo>
                    <a:pt x="175" y="14"/>
                  </a:lnTo>
                  <a:lnTo>
                    <a:pt x="182" y="12"/>
                  </a:lnTo>
                  <a:lnTo>
                    <a:pt x="188" y="8"/>
                  </a:lnTo>
                  <a:lnTo>
                    <a:pt x="190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34240" y="3914640"/>
              <a:ext cx="415080" cy="4687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09"/>
                  </a:lnTo>
                  <a:lnTo>
                    <a:pt x="153" y="211"/>
                  </a:lnTo>
                  <a:lnTo>
                    <a:pt x="140" y="215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0" y="217"/>
                  </a:lnTo>
                  <a:lnTo>
                    <a:pt x="65" y="215"/>
                  </a:lnTo>
                  <a:lnTo>
                    <a:pt x="52" y="215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8"/>
                  </a:lnTo>
                  <a:lnTo>
                    <a:pt x="11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4"/>
                  </a:lnTo>
                  <a:lnTo>
                    <a:pt x="19" y="12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0" y="2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3" y="6"/>
                  </a:lnTo>
                  <a:lnTo>
                    <a:pt x="165" y="8"/>
                  </a:lnTo>
                  <a:lnTo>
                    <a:pt x="175" y="12"/>
                  </a:lnTo>
                  <a:lnTo>
                    <a:pt x="182" y="14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89440" y="3282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8844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6836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41800" y="328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79960" y="32824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3072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0524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38360" y="328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7616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352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3808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1188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1440" y="3282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65040" y="3726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6404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37120" y="3726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8068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53040" y="3726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94440" y="37260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25760" y="37260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384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3376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07200" y="3726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01120" y="4254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0480" y="42541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3468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9948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7076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440" y="287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7440" y="287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440" y="4353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440" y="4353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3160" y="35726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172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93600" y="35726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116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8656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3228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81320" y="3689280"/>
              <a:ext cx="7092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3"/>
                  </a:moveTo>
                  <a:lnTo>
                    <a:pt x="0" y="33"/>
                  </a:lnTo>
                  <a:lnTo>
                    <a:pt x="16" y="0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116240" y="3751560"/>
              <a:ext cx="1800" cy="216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95280" y="3968280"/>
              <a:ext cx="414720" cy="493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9" y="14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3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4"/>
                  </a:lnTo>
                  <a:lnTo>
                    <a:pt x="182" y="12"/>
                  </a:lnTo>
                  <a:lnTo>
                    <a:pt x="188" y="8"/>
                  </a:lnTo>
                  <a:lnTo>
                    <a:pt x="190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95280" y="3914640"/>
              <a:ext cx="414720" cy="4687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5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5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8"/>
                  </a:lnTo>
                  <a:lnTo>
                    <a:pt x="12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4"/>
                  </a:lnTo>
                  <a:lnTo>
                    <a:pt x="19" y="12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2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2"/>
                  </a:lnTo>
                  <a:lnTo>
                    <a:pt x="182" y="14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6520" y="3448800"/>
              <a:ext cx="71280" cy="71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1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6640" y="1967040"/>
              <a:ext cx="66960" cy="644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5" y="30"/>
                  </a:moveTo>
                  <a:lnTo>
                    <a:pt x="17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284360" y="1999440"/>
              <a:ext cx="4320" cy="47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6640" y="3448800"/>
              <a:ext cx="66960" cy="712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2320" y="3896640"/>
              <a:ext cx="71280" cy="71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33" y="0"/>
                  </a:lnTo>
                  <a:lnTo>
                    <a:pt x="17" y="3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289040" y="3481200"/>
              <a:ext cx="2160" cy="423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111920" y="2174760"/>
              <a:ext cx="432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84440" y="1905120"/>
            <a:ext cx="173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c. inicia escrit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WR + endereç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38520" y="3200400"/>
            <a:ext cx="152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dos do dis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a memó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913680" y="1195560"/>
            <a:ext cx="4337640" cy="5043240"/>
            <a:chOff x="913680" y="1195560"/>
            <a:chExt cx="4337640" cy="5043240"/>
          </a:xfrm>
        </p:grpSpPr>
        <p:grpSp>
          <p:nvGrpSpPr>
            <p:cNvPr id="562" name=""/>
            <p:cNvGrpSpPr/>
            <p:nvPr/>
          </p:nvGrpSpPr>
          <p:grpSpPr>
            <a:xfrm>
              <a:off x="914040" y="1195560"/>
              <a:ext cx="4337280" cy="4510080"/>
              <a:chOff x="914040" y="1195560"/>
              <a:chExt cx="4337280" cy="4510080"/>
            </a:xfrm>
          </p:grpSpPr>
          <p:sp>
            <p:nvSpPr>
              <p:cNvPr id="563" name=""/>
              <p:cNvSpPr/>
              <p:nvPr/>
            </p:nvSpPr>
            <p:spPr>
              <a:xfrm>
                <a:off x="2419200" y="4334040"/>
                <a:ext cx="225360" cy="1371600"/>
              </a:xfrm>
              <a:custGeom>
                <a:avLst/>
                <a:gdLst/>
                <a:ahLst/>
                <a:rect l="l" t="t" r="r" b="b"/>
                <a:pathLst>
                  <a:path w="142" h="864">
                    <a:moveTo>
                      <a:pt x="142" y="864"/>
                    </a:moveTo>
                    <a:lnTo>
                      <a:pt x="0" y="8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254400" y="5172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5"/>
                    </a:lnTo>
                    <a:lnTo>
                      <a:pt x="29" y="17"/>
                    </a:lnTo>
                    <a:lnTo>
                      <a:pt x="41" y="19"/>
                    </a:lnTo>
                    <a:lnTo>
                      <a:pt x="54" y="21"/>
                    </a:lnTo>
                    <a:lnTo>
                      <a:pt x="68" y="23"/>
                    </a:lnTo>
                    <a:lnTo>
                      <a:pt x="83" y="23"/>
                    </a:lnTo>
                    <a:lnTo>
                      <a:pt x="98" y="25"/>
                    </a:lnTo>
                    <a:lnTo>
                      <a:pt x="114" y="23"/>
                    </a:lnTo>
                    <a:lnTo>
                      <a:pt x="129" y="23"/>
                    </a:lnTo>
                    <a:lnTo>
                      <a:pt x="143" y="21"/>
                    </a:lnTo>
                    <a:lnTo>
                      <a:pt x="154" y="19"/>
                    </a:lnTo>
                    <a:lnTo>
                      <a:pt x="166" y="17"/>
                    </a:lnTo>
                    <a:lnTo>
                      <a:pt x="175" y="15"/>
                    </a:lnTo>
                    <a:lnTo>
                      <a:pt x="183" y="12"/>
                    </a:lnTo>
                    <a:lnTo>
                      <a:pt x="189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57280" y="5135400"/>
                <a:ext cx="304920" cy="34164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7" y="200"/>
                    </a:lnTo>
                    <a:lnTo>
                      <a:pt x="181" y="202"/>
                    </a:lnTo>
                    <a:lnTo>
                      <a:pt x="173" y="206"/>
                    </a:lnTo>
                    <a:lnTo>
                      <a:pt x="164" y="207"/>
                    </a:lnTo>
                    <a:lnTo>
                      <a:pt x="152" y="211"/>
                    </a:lnTo>
                    <a:lnTo>
                      <a:pt x="141" y="213"/>
                    </a:lnTo>
                    <a:lnTo>
                      <a:pt x="127" y="215"/>
                    </a:lnTo>
                    <a:lnTo>
                      <a:pt x="112" y="215"/>
                    </a:lnTo>
                    <a:lnTo>
                      <a:pt x="96" y="215"/>
                    </a:lnTo>
                    <a:lnTo>
                      <a:pt x="81" y="215"/>
                    </a:lnTo>
                    <a:lnTo>
                      <a:pt x="66" y="215"/>
                    </a:lnTo>
                    <a:lnTo>
                      <a:pt x="52" y="213"/>
                    </a:lnTo>
                    <a:lnTo>
                      <a:pt x="39" y="211"/>
                    </a:lnTo>
                    <a:lnTo>
                      <a:pt x="27" y="207"/>
                    </a:lnTo>
                    <a:lnTo>
                      <a:pt x="18" y="206"/>
                    </a:lnTo>
                    <a:lnTo>
                      <a:pt x="10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4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7" y="6"/>
                    </a:lnTo>
                    <a:lnTo>
                      <a:pt x="39" y="4"/>
                    </a:lnTo>
                    <a:lnTo>
                      <a:pt x="52" y="2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41" y="2"/>
                    </a:lnTo>
                    <a:lnTo>
                      <a:pt x="152" y="4"/>
                    </a:lnTo>
                    <a:lnTo>
                      <a:pt x="164" y="6"/>
                    </a:lnTo>
                    <a:lnTo>
                      <a:pt x="173" y="10"/>
                    </a:lnTo>
                    <a:lnTo>
                      <a:pt x="181" y="12"/>
                    </a:lnTo>
                    <a:lnTo>
                      <a:pt x="187" y="15"/>
                    </a:lnTo>
                    <a:lnTo>
                      <a:pt x="190" y="19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34920" y="1392120"/>
                <a:ext cx="2502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176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208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205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05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53800" y="13334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2508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5856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1220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476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1840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7096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2352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7752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369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369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18080" y="13334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0340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757760" y="13334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4308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9996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93488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23986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373120" y="1366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0" y="33"/>
                    </a:lnTo>
                    <a:lnTo>
                      <a:pt x="22" y="33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465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2460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0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3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92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1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8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1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57240" y="11955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2528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8216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3148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8404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38400" y="1195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6180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1724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17592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29920" y="1195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6016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31596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7284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91404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6804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7702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558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321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032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064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33130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893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1604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636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852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5552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85400" y="198288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6496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99196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4740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0428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57560" y="1982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17736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2992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8536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834920" y="2558880"/>
                <a:ext cx="250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205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205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53800" y="2496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2508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5856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1220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6476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1840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7096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2352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7752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369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369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18080" y="2496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0340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57760" y="2496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4308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89996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3488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81200" y="2360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64744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68092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3924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8856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4580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800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4732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0456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3804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71880" y="23605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15720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13000" y="23605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9688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5556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8868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38000" y="2360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6824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52224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58056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14040" y="37591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68040" y="37591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0844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060720" y="25351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3130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4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3163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9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8191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8191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984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0650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233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7628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156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714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0283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0841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1410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1698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2238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844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60720" y="324000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130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4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163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9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2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844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60720" y="3657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7"/>
                    </a:lnTo>
                    <a:lnTo>
                      <a:pt x="28" y="27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9988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975120" y="25351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2274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4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2307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10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10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7335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8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8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335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8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8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9128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9794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377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9068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8300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858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9427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985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554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842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382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988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75120" y="324000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274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4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2307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10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10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2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9988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975120" y="3657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8" y="27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936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82212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8491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9290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857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430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9808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792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0772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347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146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713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286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8368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1700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44520" y="25351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16" y="31"/>
                    </a:moveTo>
                    <a:lnTo>
                      <a:pt x="20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986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3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019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1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9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1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047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0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0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047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0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0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0840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506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2089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26044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0012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0570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1139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1697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2266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2554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094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1700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44520" y="3240000"/>
                <a:ext cx="52560" cy="4788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3986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3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019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1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9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1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700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44520" y="365760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9648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9918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203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002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9551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0142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06784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834920" y="4334040"/>
                <a:ext cx="2502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20520" y="4160880"/>
                <a:ext cx="914400" cy="349200"/>
              </a:xfrm>
              <a:custGeom>
                <a:avLst/>
                <a:gdLst/>
                <a:ahLst/>
                <a:rect l="l" t="t" r="r" b="b"/>
                <a:pathLst>
                  <a:path w="576" h="220">
                    <a:moveTo>
                      <a:pt x="576" y="218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576" y="220"/>
                    </a:lnTo>
                    <a:lnTo>
                      <a:pt x="576" y="220"/>
                    </a:lnTo>
                    <a:lnTo>
                      <a:pt x="576" y="2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20520" y="4160880"/>
                <a:ext cx="914400" cy="349200"/>
              </a:xfrm>
              <a:custGeom>
                <a:avLst/>
                <a:gdLst/>
                <a:ahLst/>
                <a:rect l="l" t="t" r="r" b="b"/>
                <a:pathLst>
                  <a:path w="576" h="220">
                    <a:moveTo>
                      <a:pt x="576" y="218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576" y="220"/>
                    </a:lnTo>
                    <a:lnTo>
                      <a:pt x="576" y="2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153800" y="4272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2508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5856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1220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6476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1840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096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2352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7752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36920" y="4160880"/>
              <a:ext cx="914400" cy="349200"/>
            </a:xfrm>
            <a:custGeom>
              <a:avLst/>
              <a:gdLst/>
              <a:ahLst/>
              <a:rect l="l" t="t" r="r" b="b"/>
              <a:pathLst>
                <a:path w="576" h="220">
                  <a:moveTo>
                    <a:pt x="576" y="218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6" y="220"/>
                  </a:lnTo>
                  <a:lnTo>
                    <a:pt x="576" y="220"/>
                  </a:lnTo>
                  <a:lnTo>
                    <a:pt x="576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36920" y="4160880"/>
              <a:ext cx="914400" cy="349200"/>
            </a:xfrm>
            <a:custGeom>
              <a:avLst/>
              <a:gdLst/>
              <a:ahLst/>
              <a:rect l="l" t="t" r="r" b="b"/>
              <a:pathLst>
                <a:path w="576" h="220">
                  <a:moveTo>
                    <a:pt x="576" y="218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6" y="220"/>
                  </a:lnTo>
                  <a:lnTo>
                    <a:pt x="576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18080" y="42721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0340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57760" y="42721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4308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9996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488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81200" y="41385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744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68092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3924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8856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4580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9800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4732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0456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3804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71880" y="4138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5720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13000" y="4138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9688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556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8868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38000" y="413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6824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2224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056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13680" y="6067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64800" y="6067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51000" y="448632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40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8" y="175"/>
                  </a:lnTo>
                  <a:lnTo>
                    <a:pt x="309" y="165"/>
                  </a:lnTo>
                  <a:lnTo>
                    <a:pt x="319" y="154"/>
                  </a:lnTo>
                  <a:lnTo>
                    <a:pt x="327" y="140"/>
                  </a:lnTo>
                  <a:lnTo>
                    <a:pt x="333" y="127"/>
                  </a:lnTo>
                  <a:lnTo>
                    <a:pt x="336" y="113"/>
                  </a:lnTo>
                  <a:lnTo>
                    <a:pt x="336" y="96"/>
                  </a:lnTo>
                  <a:lnTo>
                    <a:pt x="336" y="81"/>
                  </a:lnTo>
                  <a:lnTo>
                    <a:pt x="333" y="67"/>
                  </a:lnTo>
                  <a:lnTo>
                    <a:pt x="327" y="52"/>
                  </a:lnTo>
                  <a:lnTo>
                    <a:pt x="319" y="40"/>
                  </a:lnTo>
                  <a:lnTo>
                    <a:pt x="309" y="29"/>
                  </a:lnTo>
                  <a:lnTo>
                    <a:pt x="298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8" y="6"/>
                  </a:lnTo>
                  <a:lnTo>
                    <a:pt x="52" y="12"/>
                  </a:lnTo>
                  <a:lnTo>
                    <a:pt x="41" y="19"/>
                  </a:lnTo>
                  <a:lnTo>
                    <a:pt x="29" y="29"/>
                  </a:lnTo>
                  <a:lnTo>
                    <a:pt x="20" y="40"/>
                  </a:lnTo>
                  <a:lnTo>
                    <a:pt x="12" y="52"/>
                  </a:lnTo>
                  <a:lnTo>
                    <a:pt x="6" y="67"/>
                  </a:lnTo>
                  <a:lnTo>
                    <a:pt x="2" y="81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6" y="127"/>
                  </a:lnTo>
                  <a:lnTo>
                    <a:pt x="12" y="140"/>
                  </a:lnTo>
                  <a:lnTo>
                    <a:pt x="20" y="154"/>
                  </a:lnTo>
                  <a:lnTo>
                    <a:pt x="29" y="165"/>
                  </a:lnTo>
                  <a:lnTo>
                    <a:pt x="41" y="175"/>
                  </a:lnTo>
                  <a:lnTo>
                    <a:pt x="52" y="182"/>
                  </a:lnTo>
                  <a:lnTo>
                    <a:pt x="68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51000" y="448632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40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8" y="175"/>
                  </a:lnTo>
                  <a:lnTo>
                    <a:pt x="309" y="165"/>
                  </a:lnTo>
                  <a:lnTo>
                    <a:pt x="319" y="154"/>
                  </a:lnTo>
                  <a:lnTo>
                    <a:pt x="327" y="140"/>
                  </a:lnTo>
                  <a:lnTo>
                    <a:pt x="333" y="127"/>
                  </a:lnTo>
                  <a:lnTo>
                    <a:pt x="336" y="113"/>
                  </a:lnTo>
                  <a:lnTo>
                    <a:pt x="336" y="96"/>
                  </a:lnTo>
                  <a:lnTo>
                    <a:pt x="336" y="81"/>
                  </a:lnTo>
                  <a:lnTo>
                    <a:pt x="333" y="67"/>
                  </a:lnTo>
                  <a:lnTo>
                    <a:pt x="327" y="52"/>
                  </a:lnTo>
                  <a:lnTo>
                    <a:pt x="319" y="40"/>
                  </a:lnTo>
                  <a:lnTo>
                    <a:pt x="309" y="29"/>
                  </a:lnTo>
                  <a:lnTo>
                    <a:pt x="298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8" y="6"/>
                  </a:lnTo>
                  <a:lnTo>
                    <a:pt x="52" y="12"/>
                  </a:lnTo>
                  <a:lnTo>
                    <a:pt x="41" y="19"/>
                  </a:lnTo>
                  <a:lnTo>
                    <a:pt x="29" y="29"/>
                  </a:lnTo>
                  <a:lnTo>
                    <a:pt x="20" y="40"/>
                  </a:lnTo>
                  <a:lnTo>
                    <a:pt x="12" y="52"/>
                  </a:lnTo>
                  <a:lnTo>
                    <a:pt x="6" y="67"/>
                  </a:lnTo>
                  <a:lnTo>
                    <a:pt x="2" y="81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6" y="127"/>
                  </a:lnTo>
                  <a:lnTo>
                    <a:pt x="12" y="140"/>
                  </a:lnTo>
                  <a:lnTo>
                    <a:pt x="20" y="154"/>
                  </a:lnTo>
                  <a:lnTo>
                    <a:pt x="29" y="165"/>
                  </a:lnTo>
                  <a:lnTo>
                    <a:pt x="41" y="175"/>
                  </a:lnTo>
                  <a:lnTo>
                    <a:pt x="52" y="182"/>
                  </a:lnTo>
                  <a:lnTo>
                    <a:pt x="68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31720" y="45194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56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5200" y="451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8120" y="45194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4892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0292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160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560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474280" y="4638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128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60320" y="4638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15960" y="494352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58680" y="51656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2528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83600" y="5165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34360" y="5165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840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43080" y="5165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632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2048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7592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34960" y="5165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07720" y="528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66400" y="528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0040" y="528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47800" y="479124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2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7800" y="479124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2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28520" y="4824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95120" y="48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52000" y="482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01680" y="4824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284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9972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552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1240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68200" y="4943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9844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53880" y="49435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3406680" y="4943160"/>
              <a:ext cx="3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11600" y="517212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5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5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3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14480" y="5135400"/>
              <a:ext cx="304920" cy="3416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1" y="190"/>
                  </a:moveTo>
                  <a:lnTo>
                    <a:pt x="191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7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7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5"/>
                  </a:lnTo>
                  <a:lnTo>
                    <a:pt x="191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865320" y="49431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78080" y="4943520"/>
              <a:ext cx="68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82920" y="49197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40120" y="49197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876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2044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47440" y="478800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2700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54000" y="478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11240" y="478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66320" y="4788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54400" y="593424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6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2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57280" y="5897520"/>
              <a:ext cx="304920" cy="34128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0" y="190"/>
                  </a:moveTo>
                  <a:lnTo>
                    <a:pt x="190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8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8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6"/>
                  </a:lnTo>
                  <a:lnTo>
                    <a:pt x="190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647800" y="55530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3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3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647800" y="55530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3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3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28520" y="5586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95120" y="55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52000" y="5586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01680" y="55864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4284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9972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5552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1240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68200" y="5705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9844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53880" y="57056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3406680" y="5705280"/>
              <a:ext cx="3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11600" y="593424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6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3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14480" y="5897520"/>
              <a:ext cx="304920" cy="34128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1" y="190"/>
                  </a:moveTo>
                  <a:lnTo>
                    <a:pt x="191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8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8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6"/>
                  </a:lnTo>
                  <a:lnTo>
                    <a:pt x="191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865320" y="570528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78080" y="5705640"/>
              <a:ext cx="68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82920" y="568152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1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40120" y="568152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8264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1432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40960" y="55562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2052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47520" y="555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06200" y="555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60200" y="555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92200" y="49197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6473520" y="2664000"/>
            <a:ext cx="2379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spectos de importân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aixo cus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gargal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mprom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uns tipos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mente específ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veloc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ramentos d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itos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tem interface direta com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pla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barramento padrão para permitir a interconexão de vários tipos de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síncr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nais (dados e controle) são sincronizados por um reló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pode ser feito por uma das unidades (bus ma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da item é transferido em time slot predefinido e conhecido pelas par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simplific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uca flexibil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locidade limitada pelo dispositivo mais l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normalmente usado na comunicação CPU-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de comunicação síncr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09480" y="2697120"/>
            <a:ext cx="3505320" cy="2333880"/>
            <a:chOff x="609480" y="2697120"/>
            <a:chExt cx="3505320" cy="2333880"/>
          </a:xfrm>
        </p:grpSpPr>
        <p:sp>
          <p:nvSpPr>
            <p:cNvPr id="893" name=""/>
            <p:cNvSpPr/>
            <p:nvPr/>
          </p:nvSpPr>
          <p:spPr>
            <a:xfrm>
              <a:off x="609480" y="2925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9480" y="345924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9480" y="45259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480" y="39927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1981080" y="3001680"/>
              <a:ext cx="609840" cy="228960"/>
              <a:chOff x="1981080" y="3001680"/>
              <a:chExt cx="609840" cy="228960"/>
            </a:xfrm>
          </p:grpSpPr>
          <p:sp>
            <p:nvSpPr>
              <p:cNvPr id="898" name=""/>
              <p:cNvSpPr/>
              <p:nvPr/>
            </p:nvSpPr>
            <p:spPr>
              <a:xfrm>
                <a:off x="1981080" y="3230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228600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86000" y="3002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9092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2590920" y="3001680"/>
              <a:ext cx="609480" cy="228960"/>
              <a:chOff x="2590920" y="3001680"/>
              <a:chExt cx="609480" cy="228960"/>
            </a:xfrm>
          </p:grpSpPr>
          <p:sp>
            <p:nvSpPr>
              <p:cNvPr id="903" name=""/>
              <p:cNvSpPr/>
              <p:nvPr/>
            </p:nvSpPr>
            <p:spPr>
              <a:xfrm>
                <a:off x="2590920" y="3230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289548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895480" y="3002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0040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3200400" y="3001680"/>
              <a:ext cx="609480" cy="228960"/>
              <a:chOff x="3200400" y="3001680"/>
              <a:chExt cx="609480" cy="228960"/>
            </a:xfrm>
          </p:grpSpPr>
          <p:sp>
            <p:nvSpPr>
              <p:cNvPr id="908" name=""/>
              <p:cNvSpPr/>
              <p:nvPr/>
            </p:nvSpPr>
            <p:spPr>
              <a:xfrm>
                <a:off x="3200400" y="3230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350496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504960" y="3002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0988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28600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9548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09880" y="32306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895480" y="4601880"/>
              <a:ext cx="609480" cy="152640"/>
              <a:chOff x="2895480" y="4601880"/>
              <a:chExt cx="609480" cy="15264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2895480" y="4601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95480" y="46022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4960" y="4602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057400" y="4754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05320" y="4754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828800" y="4221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2362320" y="4068720"/>
              <a:ext cx="457200" cy="152640"/>
              <a:chOff x="2362320" y="4068720"/>
              <a:chExt cx="457200" cy="152640"/>
            </a:xfrm>
          </p:grpSpPr>
          <p:sp>
            <p:nvSpPr>
              <p:cNvPr id="924" name=""/>
              <p:cNvSpPr/>
              <p:nvPr/>
            </p:nvSpPr>
            <p:spPr>
              <a:xfrm flipV="1">
                <a:off x="236232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362320" y="4068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81952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819520" y="4221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28800" y="3687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2362320" y="3535200"/>
              <a:ext cx="457200" cy="152640"/>
              <a:chOff x="2362320" y="3535200"/>
              <a:chExt cx="457200" cy="152640"/>
            </a:xfrm>
          </p:grpSpPr>
          <p:sp>
            <p:nvSpPr>
              <p:cNvPr id="930" name=""/>
              <p:cNvSpPr/>
              <p:nvPr/>
            </p:nvSpPr>
            <p:spPr>
              <a:xfrm flipV="1">
                <a:off x="2362320" y="3535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362320" y="353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19520" y="35355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2819520" y="3687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2971800" y="4068720"/>
              <a:ext cx="457200" cy="152640"/>
              <a:chOff x="2971800" y="4068720"/>
              <a:chExt cx="457200" cy="152640"/>
            </a:xfrm>
          </p:grpSpPr>
          <p:sp>
            <p:nvSpPr>
              <p:cNvPr id="935" name=""/>
              <p:cNvSpPr/>
              <p:nvPr/>
            </p:nvSpPr>
            <p:spPr>
              <a:xfrm flipV="1">
                <a:off x="297180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71800" y="4068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42900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2095560" y="3603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57400" y="41688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09960" y="4016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3200" y="41688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695680" y="399276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66880" y="47545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66880" y="4525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609480" y="1752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ster requisita 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76920" y="1828800"/>
            <a:ext cx="3504960" cy="3278520"/>
            <a:chOff x="4876920" y="1828800"/>
            <a:chExt cx="3504960" cy="3278520"/>
          </a:xfrm>
        </p:grpSpPr>
        <p:sp>
          <p:nvSpPr>
            <p:cNvPr id="947" name=""/>
            <p:cNvSpPr/>
            <p:nvPr/>
          </p:nvSpPr>
          <p:spPr>
            <a:xfrm>
              <a:off x="4876920" y="30020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76920" y="35352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76920" y="46022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76920" y="40687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6248520" y="3077640"/>
              <a:ext cx="609480" cy="228960"/>
              <a:chOff x="6248520" y="3077640"/>
              <a:chExt cx="609480" cy="228960"/>
            </a:xfrm>
          </p:grpSpPr>
          <p:sp>
            <p:nvSpPr>
              <p:cNvPr id="952" name=""/>
              <p:cNvSpPr/>
              <p:nvPr/>
            </p:nvSpPr>
            <p:spPr>
              <a:xfrm>
                <a:off x="6248520" y="330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55308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553080" y="3078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85800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6858000" y="3077640"/>
              <a:ext cx="609480" cy="228960"/>
              <a:chOff x="6858000" y="3077640"/>
              <a:chExt cx="609480" cy="228960"/>
            </a:xfrm>
          </p:grpSpPr>
          <p:sp>
            <p:nvSpPr>
              <p:cNvPr id="957" name=""/>
              <p:cNvSpPr/>
              <p:nvPr/>
            </p:nvSpPr>
            <p:spPr>
              <a:xfrm>
                <a:off x="6858000" y="330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716256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162560" y="3078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6748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7467480" y="3077640"/>
              <a:ext cx="609840" cy="228960"/>
              <a:chOff x="7467480" y="3077640"/>
              <a:chExt cx="609840" cy="228960"/>
            </a:xfrm>
          </p:grpSpPr>
          <p:sp>
            <p:nvSpPr>
              <p:cNvPr id="962" name=""/>
              <p:cNvSpPr/>
              <p:nvPr/>
            </p:nvSpPr>
            <p:spPr>
              <a:xfrm>
                <a:off x="7467480" y="33066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777240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772400" y="30780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07732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655308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6292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7240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77320" y="3306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7162920" y="4677840"/>
              <a:ext cx="609480" cy="152640"/>
              <a:chOff x="7162920" y="4677840"/>
              <a:chExt cx="609480" cy="152640"/>
            </a:xfrm>
          </p:grpSpPr>
          <p:sp>
            <p:nvSpPr>
              <p:cNvPr id="971" name=""/>
              <p:cNvSpPr/>
              <p:nvPr/>
            </p:nvSpPr>
            <p:spPr>
              <a:xfrm flipV="1">
                <a:off x="7162920" y="4677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62920" y="46782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772400" y="4678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6324480" y="48308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72400" y="4830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95880" y="4297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6629400" y="4144680"/>
              <a:ext cx="457200" cy="152640"/>
              <a:chOff x="6629400" y="4144680"/>
              <a:chExt cx="457200" cy="152640"/>
            </a:xfrm>
          </p:grpSpPr>
          <p:sp>
            <p:nvSpPr>
              <p:cNvPr id="978" name=""/>
              <p:cNvSpPr/>
              <p:nvPr/>
            </p:nvSpPr>
            <p:spPr>
              <a:xfrm flipV="1">
                <a:off x="6629400" y="4144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29400" y="414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086600" y="4145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086600" y="4297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95880" y="3763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6629400" y="3611160"/>
              <a:ext cx="457200" cy="152640"/>
              <a:chOff x="6629400" y="3611160"/>
              <a:chExt cx="457200" cy="152640"/>
            </a:xfrm>
          </p:grpSpPr>
          <p:sp>
            <p:nvSpPr>
              <p:cNvPr id="984" name=""/>
              <p:cNvSpPr/>
              <p:nvPr/>
            </p:nvSpPr>
            <p:spPr>
              <a:xfrm flipV="1">
                <a:off x="6629400" y="36111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29400" y="3611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86600" y="3611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7086600" y="376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7238880" y="4144680"/>
              <a:ext cx="457200" cy="152640"/>
              <a:chOff x="7238880" y="4144680"/>
              <a:chExt cx="457200" cy="152640"/>
            </a:xfrm>
          </p:grpSpPr>
          <p:sp>
            <p:nvSpPr>
              <p:cNvPr id="989" name=""/>
              <p:cNvSpPr/>
              <p:nvPr/>
            </p:nvSpPr>
            <p:spPr>
              <a:xfrm flipV="1">
                <a:off x="7238880" y="4144680"/>
                <a:ext cx="0" cy="152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38880" y="4145040"/>
                <a:ext cx="457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96080" y="4145040"/>
                <a:ext cx="0" cy="152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6362640" y="3679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24480" y="424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77040" y="40924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10280" y="424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62760" y="40687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4320" y="483084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34320" y="460224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76920" y="18288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ster requisita escr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666880" y="5257800"/>
            <a:ext cx="40388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rdas do cloc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limitam o tim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inem o instante para a amostr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 Assíncrono: I/O - M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200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- memória percebe ReadReq, lê endereço no barr. de dados e ativa Ack para indicar que já l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- I/O percebe Ack ativo e baixa ReadReq e libera o barr. de d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- memória vê ReadReq baixo e baixa o 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- memória coloca o dado lido no barr. de dados e ativa o DataR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- I/O percebe DataRdy, lê o dado do barr. de dados e ativa Ack para indicar que já l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6- memória vê Ack ativo, baixa o DataRdy e libera o barr. de d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7- I/O vê DataRdy baixo e baixa o sinal Ack, completando o cicl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486400" y="5638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191120" y="3657600"/>
            <a:ext cx="44956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ão tem problemas de clock sk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plexidade do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rmalmente usado em barr. de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3759120" y="1828800"/>
            <a:ext cx="4927680" cy="1631880"/>
            <a:chOff x="3759120" y="1828800"/>
            <a:chExt cx="4927680" cy="1631880"/>
          </a:xfrm>
        </p:grpSpPr>
        <p:sp>
          <p:nvSpPr>
            <p:cNvPr id="1006" name=""/>
            <p:cNvSpPr/>
            <p:nvPr/>
          </p:nvSpPr>
          <p:spPr>
            <a:xfrm>
              <a:off x="3759120" y="1828800"/>
              <a:ext cx="492768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7" name="" descr=""/>
            <p:cNvPicPr/>
            <p:nvPr/>
          </p:nvPicPr>
          <p:blipFill>
            <a:blip r:embed="rId1"/>
            <a:stretch/>
          </p:blipFill>
          <p:spPr>
            <a:xfrm>
              <a:off x="3759120" y="1828800"/>
              <a:ext cx="492768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"/>
            <a:stretch/>
          </p:blipFill>
          <p:spPr>
            <a:xfrm>
              <a:off x="3759120" y="3252960"/>
              <a:ext cx="492768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3759120" y="1828800"/>
              <a:ext cx="4927680" cy="1631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97560" y="22399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78640" y="2239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72000" y="1828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Example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handshaking protocol - read data in memory and receive it in an I/O device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look at some examples from the tex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erformance Analysis of Synchronous vs. Asynchronous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erformance Analysis of Two Bus Schem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910880" y="1359000"/>
            <a:ext cx="5327640" cy="1754640"/>
            <a:chOff x="1910880" y="1359000"/>
            <a:chExt cx="5327640" cy="1754640"/>
          </a:xfrm>
        </p:grpSpPr>
        <p:sp>
          <p:nvSpPr>
            <p:cNvPr id="1016" name=""/>
            <p:cNvSpPr/>
            <p:nvPr/>
          </p:nvSpPr>
          <p:spPr>
            <a:xfrm>
              <a:off x="5447520" y="2446560"/>
              <a:ext cx="1782720" cy="196560"/>
            </a:xfrm>
            <a:custGeom>
              <a:avLst/>
              <a:gdLst/>
              <a:ahLst/>
              <a:rect l="l" t="t" r="r" b="b"/>
              <a:pathLst>
                <a:path w="860" h="95">
                  <a:moveTo>
                    <a:pt x="860" y="95"/>
                  </a:moveTo>
                  <a:lnTo>
                    <a:pt x="527" y="95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65160" y="1952280"/>
              <a:ext cx="1189440" cy="97200"/>
            </a:xfrm>
            <a:custGeom>
              <a:avLst/>
              <a:gdLst/>
              <a:ahLst/>
              <a:rect l="l" t="t" r="r" b="b"/>
              <a:pathLst>
                <a:path w="574" h="47">
                  <a:moveTo>
                    <a:pt x="574" y="0"/>
                  </a:moveTo>
                  <a:lnTo>
                    <a:pt x="528" y="47"/>
                  </a:lnTo>
                  <a:lnTo>
                    <a:pt x="47" y="4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70760" y="2840400"/>
              <a:ext cx="4659840" cy="199440"/>
            </a:xfrm>
            <a:custGeom>
              <a:avLst/>
              <a:gdLst/>
              <a:ahLst/>
              <a:rect l="l" t="t" r="r" b="b"/>
              <a:pathLst>
                <a:path w="2248" h="96">
                  <a:moveTo>
                    <a:pt x="2248" y="96"/>
                  </a:moveTo>
                  <a:lnTo>
                    <a:pt x="1676" y="96"/>
                  </a:lnTo>
                  <a:lnTo>
                    <a:pt x="1676" y="0"/>
                  </a:lnTo>
                  <a:lnTo>
                    <a:pt x="1101" y="0"/>
                  </a:lnTo>
                  <a:lnTo>
                    <a:pt x="1101" y="96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0840" y="2961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4552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20400" y="2961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5568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32360" y="2961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2668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98320" y="2961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28400" y="25646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18040" y="256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83560" y="256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000" y="1873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254680" y="187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32080" y="1873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65920" y="187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959280" y="1852560"/>
              <a:ext cx="3279240" cy="99720"/>
            </a:xfrm>
            <a:custGeom>
              <a:avLst/>
              <a:gdLst/>
              <a:ahLst/>
              <a:rect l="l" t="t" r="r" b="b"/>
              <a:pathLst>
                <a:path w="1582" h="48">
                  <a:moveTo>
                    <a:pt x="0" y="48"/>
                  </a:moveTo>
                  <a:lnTo>
                    <a:pt x="433" y="48"/>
                  </a:lnTo>
                  <a:lnTo>
                    <a:pt x="481" y="0"/>
                  </a:lnTo>
                  <a:lnTo>
                    <a:pt x="960" y="0"/>
                  </a:lnTo>
                  <a:lnTo>
                    <a:pt x="1007" y="48"/>
                  </a:lnTo>
                  <a:lnTo>
                    <a:pt x="1582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4360" y="1952280"/>
              <a:ext cx="19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52800" y="1952280"/>
              <a:ext cx="1187280" cy="97200"/>
            </a:xfrm>
            <a:custGeom>
              <a:avLst/>
              <a:gdLst/>
              <a:ahLst/>
              <a:rect l="l" t="t" r="r" b="b"/>
              <a:pathLst>
                <a:path w="573" h="47">
                  <a:moveTo>
                    <a:pt x="573" y="0"/>
                  </a:moveTo>
                  <a:lnTo>
                    <a:pt x="527" y="47"/>
                  </a:lnTo>
                  <a:lnTo>
                    <a:pt x="48" y="4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10880" y="1477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00628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08080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15316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28760" y="1477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2344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9832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66440" y="1359000"/>
              <a:ext cx="4667760" cy="196920"/>
            </a:xfrm>
            <a:custGeom>
              <a:avLst/>
              <a:gdLst/>
              <a:ahLst/>
              <a:rect l="l" t="t" r="r" b="b"/>
              <a:pathLst>
                <a:path w="2252" h="95">
                  <a:moveTo>
                    <a:pt x="0" y="95"/>
                  </a:moveTo>
                  <a:lnTo>
                    <a:pt x="96" y="95"/>
                  </a:lnTo>
                  <a:lnTo>
                    <a:pt x="96" y="0"/>
                  </a:lnTo>
                  <a:lnTo>
                    <a:pt x="622" y="0"/>
                  </a:lnTo>
                  <a:lnTo>
                    <a:pt x="622" y="95"/>
                  </a:lnTo>
                  <a:lnTo>
                    <a:pt x="2252" y="9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04720" y="2359080"/>
              <a:ext cx="64080" cy="745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9" y="0"/>
                  </a:moveTo>
                  <a:lnTo>
                    <a:pt x="0" y="11"/>
                  </a:lnTo>
                  <a:lnTo>
                    <a:pt x="27" y="36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28600" y="1908720"/>
              <a:ext cx="70200" cy="705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1"/>
                  </a:moveTo>
                  <a:lnTo>
                    <a:pt x="23" y="34"/>
                  </a:lnTo>
                  <a:lnTo>
                    <a:pt x="34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06520" y="2359080"/>
              <a:ext cx="64080" cy="745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0"/>
                  </a:moveTo>
                  <a:lnTo>
                    <a:pt x="0" y="10"/>
                  </a:lnTo>
                  <a:lnTo>
                    <a:pt x="23" y="36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761720" y="1958400"/>
              <a:ext cx="74160" cy="684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6"/>
                  </a:moveTo>
                  <a:lnTo>
                    <a:pt x="21" y="33"/>
                  </a:lnTo>
                  <a:lnTo>
                    <a:pt x="3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69640" y="2774160"/>
              <a:ext cx="70200" cy="601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0" y="29"/>
                  </a:lnTo>
                  <a:lnTo>
                    <a:pt x="34" y="2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4720" y="2454480"/>
              <a:ext cx="72360" cy="662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7"/>
                  </a:moveTo>
                  <a:lnTo>
                    <a:pt x="21" y="3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59160" y="1958400"/>
              <a:ext cx="72720" cy="72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12"/>
                  </a:moveTo>
                  <a:lnTo>
                    <a:pt x="25" y="35"/>
                  </a:lnTo>
                  <a:lnTo>
                    <a:pt x="35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63760" y="2761920"/>
              <a:ext cx="68400" cy="72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1" y="0"/>
                  </a:moveTo>
                  <a:lnTo>
                    <a:pt x="0" y="23"/>
                  </a:lnTo>
                  <a:lnTo>
                    <a:pt x="33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457320" y="2651760"/>
              <a:ext cx="70200" cy="705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1"/>
                  </a:moveTo>
                  <a:lnTo>
                    <a:pt x="25" y="34"/>
                  </a:lnTo>
                  <a:lnTo>
                    <a:pt x="34" y="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793320" y="1370880"/>
              <a:ext cx="62280" cy="705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0"/>
                  </a:moveTo>
                  <a:lnTo>
                    <a:pt x="30" y="34"/>
                  </a:lnTo>
                  <a:lnTo>
                    <a:pt x="28" y="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3364200" y="1944000"/>
              <a:ext cx="495000" cy="50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54960" y="1555920"/>
              <a:ext cx="186480" cy="830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158000" y="1987560"/>
              <a:ext cx="638640" cy="45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646960" y="1991880"/>
              <a:ext cx="451440" cy="45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5646960" y="2446200"/>
              <a:ext cx="354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140160" y="2691360"/>
              <a:ext cx="352440" cy="34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95200" y="149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41000" y="166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66440" y="2406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82200" y="266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65880" y="28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94120" y="2136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379760" y="206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35040" y="2122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45720" y="215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70760" y="2446560"/>
              <a:ext cx="2881080" cy="196560"/>
            </a:xfrm>
            <a:custGeom>
              <a:avLst/>
              <a:gdLst/>
              <a:ahLst/>
              <a:rect l="l" t="t" r="r" b="b"/>
              <a:pathLst>
                <a:path w="1390" h="95">
                  <a:moveTo>
                    <a:pt x="1390" y="95"/>
                  </a:moveTo>
                  <a:lnTo>
                    <a:pt x="766" y="95"/>
                  </a:lnTo>
                  <a:lnTo>
                    <a:pt x="766" y="0"/>
                  </a:lnTo>
                  <a:lnTo>
                    <a:pt x="335" y="0"/>
                  </a:lnTo>
                  <a:lnTo>
                    <a:pt x="335" y="95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4158000" y="2446560"/>
              <a:ext cx="638640" cy="36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948200" y="2485080"/>
              <a:ext cx="447480" cy="35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67680" y="1852560"/>
              <a:ext cx="1191600" cy="99720"/>
            </a:xfrm>
            <a:custGeom>
              <a:avLst/>
              <a:gdLst/>
              <a:ahLst/>
              <a:rect l="l" t="t" r="r" b="b"/>
              <a:pathLst>
                <a:path w="575" h="48">
                  <a:moveTo>
                    <a:pt x="0" y="48"/>
                  </a:moveTo>
                  <a:lnTo>
                    <a:pt x="48" y="0"/>
                  </a:lnTo>
                  <a:lnTo>
                    <a:pt x="529" y="0"/>
                  </a:lnTo>
                  <a:lnTo>
                    <a:pt x="575" y="4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62360" y="1359000"/>
              <a:ext cx="377280" cy="1027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3364560" y="1410480"/>
              <a:ext cx="468000" cy="103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SM -  Handshaking protoc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733920" y="311796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755880" y="32590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67040" y="429588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59120" y="44388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13240" y="457848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78400" y="18702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687840" y="2011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22880" y="55306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1874880" y="1111320"/>
            <a:ext cx="5384880" cy="5441400"/>
            <a:chOff x="1874880" y="1111320"/>
            <a:chExt cx="5384880" cy="5441400"/>
          </a:xfrm>
        </p:grpSpPr>
        <p:grpSp>
          <p:nvGrpSpPr>
            <p:cNvPr id="1085" name=""/>
            <p:cNvGrpSpPr/>
            <p:nvPr/>
          </p:nvGrpSpPr>
          <p:grpSpPr>
            <a:xfrm>
              <a:off x="4583160" y="1654200"/>
              <a:ext cx="2128680" cy="4745880"/>
              <a:chOff x="4583160" y="1654200"/>
              <a:chExt cx="2128680" cy="4745880"/>
            </a:xfrm>
          </p:grpSpPr>
          <p:sp>
            <p:nvSpPr>
              <p:cNvPr id="1086" name=""/>
              <p:cNvSpPr/>
              <p:nvPr/>
            </p:nvSpPr>
            <p:spPr>
              <a:xfrm>
                <a:off x="6025320" y="2852640"/>
                <a:ext cx="61200" cy="60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64520" y="167256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29240" y="235080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29200" y="1850760"/>
                <a:ext cx="568440" cy="62424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017760" y="3058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086880" y="305856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738760" y="3198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2444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88880" y="319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95080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013800" y="3198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05232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121440" y="319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153120" y="319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184800" y="3198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2692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91720" y="3198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393960" y="319824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9672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512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926320" y="3341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96016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027840" y="3341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60960" y="33415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088680" y="33415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1424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18156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45640" y="3341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308280" y="334152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7440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4280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90832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73840" y="3480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075000" y="3480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33320" y="3480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9236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57160" y="3480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99280" y="3480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30600" y="348048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60880" y="36237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044040" y="3623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099480" y="3623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64520" y="292140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529240" y="3599640"/>
                <a:ext cx="64800" cy="62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029200" y="3099600"/>
                <a:ext cx="568440" cy="62424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53760" y="2653560"/>
                <a:ext cx="32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72200" y="2681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614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244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39360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56960" y="2681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4120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106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591080" y="1763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67568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74444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80780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877280" y="1763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96188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2884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5831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65192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1492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29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84704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91544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808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0475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25320" y="4101120"/>
                <a:ext cx="61200" cy="61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53760" y="3902400"/>
                <a:ext cx="3240" cy="21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2200" y="3930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2614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244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39360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56960" y="3930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4120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106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591080" y="3012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67568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74444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80780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877280" y="3012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6188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02884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47200" y="4236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13800" y="4236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45480" y="4236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78960" y="4236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4840" y="42368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04280" y="4376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88160" y="43765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926680" y="4376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997240" y="4376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059520" y="4376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95880" y="43765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75800" y="4376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31600" y="4376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291720" y="4376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324480" y="437652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74632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1436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77360" y="4519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09040" y="4519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47200" y="45194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4404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0640" y="45194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20928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273720" y="4519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12600" y="4519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73080" y="45194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72616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8916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5720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8960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95368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99004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5232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2144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5348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21864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28524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31728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384240" y="466056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731920" y="4799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757840" y="4799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7812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5036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1372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7384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00552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0440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10632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16680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2240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291720" y="4799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32988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362280" y="479988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35600" y="49431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92488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989680" y="49431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02064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089040" y="49431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17580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239160" y="49431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564520" y="4169880"/>
                <a:ext cx="981000" cy="98136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529240" y="484848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029200" y="4348800"/>
                <a:ext cx="568440" cy="62388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025320" y="5349960"/>
                <a:ext cx="61200" cy="61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053760" y="5151600"/>
                <a:ext cx="32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172200" y="51793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253920" y="5179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310800" y="5179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876560" y="42609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53960" y="42609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015880" y="42609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017760" y="5625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086880" y="562536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711760" y="5768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9672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61880" y="57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8960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95476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21000" y="57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8292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44120" y="57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7760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4636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10440" y="57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4608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10160" y="576864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15440" y="59097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43160" y="59097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6728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36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998680" y="5909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59520" y="59097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09048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61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224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93160" y="590976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35600" y="6049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92488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89680" y="6049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02064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89040" y="6049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17580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39160" y="60490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564520" y="541908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17220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3916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30792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37092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3788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50304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57000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63336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88412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94712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1588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3349800" y="2852640"/>
              <a:ext cx="60120" cy="61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76480" y="1739880"/>
              <a:ext cx="61920" cy="64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3" y="0"/>
                  </a:moveTo>
                  <a:lnTo>
                    <a:pt x="0" y="21"/>
                  </a:lnTo>
                  <a:lnTo>
                    <a:pt x="33" y="3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87560" y="1673280"/>
              <a:ext cx="982800" cy="980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852640" y="2350800"/>
              <a:ext cx="65160" cy="633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52600" y="185076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41520" y="312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09920" y="312732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035520" y="3270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208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6360" y="32702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2126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7636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344400" y="3270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063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469320" y="32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017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5701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632760" y="32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698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92680" y="3411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016440" y="3411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0412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096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7448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3280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6592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30156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3652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3512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9992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55896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1584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682080" y="3411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2168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143160" y="3551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3172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9544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6348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427560" y="3551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51288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8092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887560" y="2921040"/>
              <a:ext cx="982800" cy="98208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852640" y="3600360"/>
              <a:ext cx="65160" cy="615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352600" y="310032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76440" y="2654280"/>
              <a:ext cx="504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495600" y="2681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578040" y="2681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33480" y="2681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349800" y="4101840"/>
              <a:ext cx="60120" cy="60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76440" y="3903480"/>
              <a:ext cx="504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95600" y="3930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8416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647160" y="3930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67956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48320" y="3930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3364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98440" y="3930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49400" y="3012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472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02400" y="3012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3480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203560" y="3012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8888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52240" y="30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41520" y="4308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09920" y="430848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19680" y="4448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10464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17484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3676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05520" y="4448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337560" y="44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836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1000" y="44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0180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69480" y="4448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9800" y="4448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9520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5892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12624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5864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22308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5800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90040" y="4591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3036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94440" y="45910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9452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2692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59388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6300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69396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233880" y="47307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264120" y="47307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287520" y="473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355560" y="473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419280" y="4730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480480" y="47307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104640" y="4873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16980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3172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287520" y="4873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5200" y="4873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94440" y="487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6480" y="487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59240" y="4873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54132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9856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87560" y="4170240"/>
              <a:ext cx="982800" cy="980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852640" y="4848120"/>
              <a:ext cx="65160" cy="63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352600" y="434952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349800" y="5351400"/>
              <a:ext cx="60120" cy="59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376440" y="5151240"/>
              <a:ext cx="50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95600" y="5180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416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647160" y="5180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67956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748320" y="5180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3364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8440" y="5180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9400" y="42606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472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02400" y="4260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3480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203560" y="42606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8888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52240" y="4260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341520" y="5769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09920" y="576900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35520" y="5910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12084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8564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5260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0948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6996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437640" y="591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75440" y="5910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07120" y="5910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41680" y="5910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2088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7956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87560" y="5419440"/>
              <a:ext cx="982800" cy="9810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067200" y="1879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14460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11920" y="187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43600" y="187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27636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4440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40956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75800" y="187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51612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580920" y="187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639600" y="187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01880" y="187956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8096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4468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12000" y="202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4440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1136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75440" y="202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50820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056040" y="2163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081240" y="2163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0464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7484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23640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29760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32964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36528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3008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49200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54780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15480" y="21636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5508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143160" y="2303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3172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9544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6348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27560" y="230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512880" y="230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580920" y="230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952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5618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6302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9396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76380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2572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9556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5892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0320" y="1763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77720" y="1763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339640" y="1763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20464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6980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33964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0620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7460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03796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10636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697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381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0148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3713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30480" y="5168880"/>
              <a:ext cx="66960" cy="42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893960" y="2998800"/>
              <a:ext cx="55440" cy="471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25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24520" y="620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0984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272120" y="620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5672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9308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2656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58240" y="6203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5040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82440" y="6203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2240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9080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5416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2256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85920" y="6203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94568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74880" y="1111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6020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25720" y="1111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1032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4524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17692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08600" y="1111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30076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34600" y="11113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37456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4116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0632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57292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42760" y="1111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9784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523960" y="1284120"/>
              <a:ext cx="489240" cy="48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24120" y="1662120"/>
              <a:ext cx="55800" cy="64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7"/>
                  </a:moveTo>
                  <a:lnTo>
                    <a:pt x="4" y="0"/>
                  </a:lnTo>
                  <a:lnTo>
                    <a:pt x="0" y="3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379680" y="1522440"/>
              <a:ext cx="1203480" cy="5030280"/>
            </a:xfrm>
            <a:custGeom>
              <a:avLst/>
              <a:gdLst/>
              <a:ahLst/>
              <a:rect l="l" t="t" r="r" b="b"/>
              <a:pathLst>
                <a:path w="647" h="2707">
                  <a:moveTo>
                    <a:pt x="144" y="87"/>
                  </a:moveTo>
                  <a:lnTo>
                    <a:pt x="156" y="71"/>
                  </a:lnTo>
                  <a:lnTo>
                    <a:pt x="169" y="58"/>
                  </a:lnTo>
                  <a:lnTo>
                    <a:pt x="183" y="44"/>
                  </a:lnTo>
                  <a:lnTo>
                    <a:pt x="194" y="33"/>
                  </a:lnTo>
                  <a:lnTo>
                    <a:pt x="208" y="23"/>
                  </a:lnTo>
                  <a:lnTo>
                    <a:pt x="221" y="14"/>
                  </a:lnTo>
                  <a:lnTo>
                    <a:pt x="234" y="8"/>
                  </a:lnTo>
                  <a:lnTo>
                    <a:pt x="248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336" y="17"/>
                  </a:lnTo>
                  <a:lnTo>
                    <a:pt x="394" y="69"/>
                  </a:lnTo>
                  <a:lnTo>
                    <a:pt x="446" y="152"/>
                  </a:lnTo>
                  <a:lnTo>
                    <a:pt x="496" y="263"/>
                  </a:lnTo>
                  <a:lnTo>
                    <a:pt x="538" y="401"/>
                  </a:lnTo>
                  <a:lnTo>
                    <a:pt x="574" y="561"/>
                  </a:lnTo>
                  <a:lnTo>
                    <a:pt x="605" y="739"/>
                  </a:lnTo>
                  <a:lnTo>
                    <a:pt x="628" y="937"/>
                  </a:lnTo>
                  <a:lnTo>
                    <a:pt x="641" y="1146"/>
                  </a:lnTo>
                  <a:lnTo>
                    <a:pt x="647" y="1369"/>
                  </a:lnTo>
                  <a:lnTo>
                    <a:pt x="638" y="1592"/>
                  </a:lnTo>
                  <a:lnTo>
                    <a:pt x="615" y="1799"/>
                  </a:lnTo>
                  <a:lnTo>
                    <a:pt x="578" y="1993"/>
                  </a:lnTo>
                  <a:lnTo>
                    <a:pt x="530" y="2168"/>
                  </a:lnTo>
                  <a:lnTo>
                    <a:pt x="474" y="2323"/>
                  </a:lnTo>
                  <a:lnTo>
                    <a:pt x="411" y="2454"/>
                  </a:lnTo>
                  <a:lnTo>
                    <a:pt x="346" y="2561"/>
                  </a:lnTo>
                  <a:lnTo>
                    <a:pt x="279" y="2642"/>
                  </a:lnTo>
                  <a:lnTo>
                    <a:pt x="211" y="2690"/>
                  </a:lnTo>
                  <a:lnTo>
                    <a:pt x="148" y="2707"/>
                  </a:lnTo>
                  <a:lnTo>
                    <a:pt x="115" y="2705"/>
                  </a:lnTo>
                  <a:lnTo>
                    <a:pt x="87" y="2700"/>
                  </a:lnTo>
                  <a:lnTo>
                    <a:pt x="64" y="2690"/>
                  </a:lnTo>
                  <a:lnTo>
                    <a:pt x="44" y="2679"/>
                  </a:lnTo>
                  <a:lnTo>
                    <a:pt x="29" y="2667"/>
                  </a:lnTo>
                  <a:lnTo>
                    <a:pt x="17" y="2654"/>
                  </a:lnTo>
                  <a:lnTo>
                    <a:pt x="10" y="2644"/>
                  </a:lnTo>
                  <a:lnTo>
                    <a:pt x="4" y="2634"/>
                  </a:lnTo>
                  <a:lnTo>
                    <a:pt x="0" y="2627"/>
                  </a:lnTo>
                  <a:lnTo>
                    <a:pt x="0" y="26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00720" y="1662120"/>
              <a:ext cx="55800" cy="64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7"/>
                  </a:moveTo>
                  <a:lnTo>
                    <a:pt x="4" y="0"/>
                  </a:lnTo>
                  <a:lnTo>
                    <a:pt x="0" y="3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056280" y="1522440"/>
              <a:ext cx="1203480" cy="5030280"/>
            </a:xfrm>
            <a:custGeom>
              <a:avLst/>
              <a:gdLst/>
              <a:ahLst/>
              <a:rect l="l" t="t" r="r" b="b"/>
              <a:pathLst>
                <a:path w="647" h="2707">
                  <a:moveTo>
                    <a:pt x="144" y="87"/>
                  </a:moveTo>
                  <a:lnTo>
                    <a:pt x="156" y="71"/>
                  </a:lnTo>
                  <a:lnTo>
                    <a:pt x="169" y="58"/>
                  </a:lnTo>
                  <a:lnTo>
                    <a:pt x="183" y="44"/>
                  </a:lnTo>
                  <a:lnTo>
                    <a:pt x="194" y="33"/>
                  </a:lnTo>
                  <a:lnTo>
                    <a:pt x="208" y="23"/>
                  </a:lnTo>
                  <a:lnTo>
                    <a:pt x="221" y="14"/>
                  </a:lnTo>
                  <a:lnTo>
                    <a:pt x="234" y="8"/>
                  </a:lnTo>
                  <a:lnTo>
                    <a:pt x="248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336" y="17"/>
                  </a:lnTo>
                  <a:lnTo>
                    <a:pt x="394" y="69"/>
                  </a:lnTo>
                  <a:lnTo>
                    <a:pt x="446" y="152"/>
                  </a:lnTo>
                  <a:lnTo>
                    <a:pt x="496" y="263"/>
                  </a:lnTo>
                  <a:lnTo>
                    <a:pt x="538" y="401"/>
                  </a:lnTo>
                  <a:lnTo>
                    <a:pt x="574" y="561"/>
                  </a:lnTo>
                  <a:lnTo>
                    <a:pt x="605" y="739"/>
                  </a:lnTo>
                  <a:lnTo>
                    <a:pt x="628" y="937"/>
                  </a:lnTo>
                  <a:lnTo>
                    <a:pt x="641" y="1146"/>
                  </a:lnTo>
                  <a:lnTo>
                    <a:pt x="647" y="1369"/>
                  </a:lnTo>
                  <a:lnTo>
                    <a:pt x="638" y="1592"/>
                  </a:lnTo>
                  <a:lnTo>
                    <a:pt x="615" y="1799"/>
                  </a:lnTo>
                  <a:lnTo>
                    <a:pt x="578" y="1993"/>
                  </a:lnTo>
                  <a:lnTo>
                    <a:pt x="530" y="2168"/>
                  </a:lnTo>
                  <a:lnTo>
                    <a:pt x="474" y="2323"/>
                  </a:lnTo>
                  <a:lnTo>
                    <a:pt x="411" y="2454"/>
                  </a:lnTo>
                  <a:lnTo>
                    <a:pt x="346" y="2561"/>
                  </a:lnTo>
                  <a:lnTo>
                    <a:pt x="279" y="2642"/>
                  </a:lnTo>
                  <a:lnTo>
                    <a:pt x="211" y="2690"/>
                  </a:lnTo>
                  <a:lnTo>
                    <a:pt x="148" y="2707"/>
                  </a:lnTo>
                  <a:lnTo>
                    <a:pt x="115" y="2705"/>
                  </a:lnTo>
                  <a:lnTo>
                    <a:pt x="87" y="2700"/>
                  </a:lnTo>
                  <a:lnTo>
                    <a:pt x="64" y="2690"/>
                  </a:lnTo>
                  <a:lnTo>
                    <a:pt x="44" y="2679"/>
                  </a:lnTo>
                  <a:lnTo>
                    <a:pt x="29" y="2667"/>
                  </a:lnTo>
                  <a:lnTo>
                    <a:pt x="17" y="2654"/>
                  </a:lnTo>
                  <a:lnTo>
                    <a:pt x="10" y="2644"/>
                  </a:lnTo>
                  <a:lnTo>
                    <a:pt x="4" y="2634"/>
                  </a:lnTo>
                  <a:lnTo>
                    <a:pt x="0" y="2627"/>
                  </a:lnTo>
                  <a:lnTo>
                    <a:pt x="0" y="26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611640" y="1371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O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479280" y="990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bitragem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é compartilha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ganhar acess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 mais simpl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 (bus ma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PU-Mem; Master-Sl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blema: sobrecarga para a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: vários bus ma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bitragem: Request - Gr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: justiça, sem deadlocks ou star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2133720" y="434340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envia s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mede o me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se OK -&gt; 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76920" y="434340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espera tempo ale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volta -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 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Arbitrag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: bus master centralizado recebe múltiplos requests e tem múltiplas linhas de Grant; desvantagens: gargalo e confiabil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: múltiplas linhas de Request; dispositivos examinam o barramento e julgam a sua própria prioridade (NuB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 c/ detecção de colisão (ex: Ethernet; CSMA /CD, carrier sense multiple access / colision detection; meio físico: cabo coaxial, par trançado, fibra óptica, rád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ing Processors and Peripher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Design affected by many factors (expandability, resilie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access latenc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roughpu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nnection between devices and the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e memory hierarch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e operating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ariety of different users (e.g., banks, supercomputers, engineers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79520" y="3841920"/>
            <a:ext cx="4501800" cy="2561760"/>
            <a:chOff x="2279520" y="3841920"/>
            <a:chExt cx="4501800" cy="2561760"/>
          </a:xfrm>
        </p:grpSpPr>
        <p:sp>
          <p:nvSpPr>
            <p:cNvPr id="47" name=""/>
            <p:cNvSpPr/>
            <p:nvPr/>
          </p:nvSpPr>
          <p:spPr>
            <a:xfrm>
              <a:off x="4028760" y="6020640"/>
              <a:ext cx="334080" cy="432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20" y="15"/>
                  </a:lnTo>
                  <a:lnTo>
                    <a:pt x="29" y="17"/>
                  </a:lnTo>
                  <a:lnTo>
                    <a:pt x="39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3" y="17"/>
                  </a:lnTo>
                  <a:lnTo>
                    <a:pt x="173" y="15"/>
                  </a:lnTo>
                  <a:lnTo>
                    <a:pt x="180" y="11"/>
                  </a:lnTo>
                  <a:lnTo>
                    <a:pt x="186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28760" y="5980320"/>
              <a:ext cx="334080" cy="37620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192" y="191"/>
                  </a:moveTo>
                  <a:lnTo>
                    <a:pt x="190" y="195"/>
                  </a:lnTo>
                  <a:lnTo>
                    <a:pt x="186" y="199"/>
                  </a:lnTo>
                  <a:lnTo>
                    <a:pt x="180" y="202"/>
                  </a:lnTo>
                  <a:lnTo>
                    <a:pt x="173" y="206"/>
                  </a:lnTo>
                  <a:lnTo>
                    <a:pt x="163" y="208"/>
                  </a:lnTo>
                  <a:lnTo>
                    <a:pt x="154" y="210"/>
                  </a:lnTo>
                  <a:lnTo>
                    <a:pt x="140" y="212"/>
                  </a:lnTo>
                  <a:lnTo>
                    <a:pt x="127" y="214"/>
                  </a:lnTo>
                  <a:lnTo>
                    <a:pt x="111" y="214"/>
                  </a:lnTo>
                  <a:lnTo>
                    <a:pt x="96" y="216"/>
                  </a:lnTo>
                  <a:lnTo>
                    <a:pt x="81" y="214"/>
                  </a:lnTo>
                  <a:lnTo>
                    <a:pt x="65" y="214"/>
                  </a:lnTo>
                  <a:lnTo>
                    <a:pt x="52" y="212"/>
                  </a:lnTo>
                  <a:lnTo>
                    <a:pt x="39" y="210"/>
                  </a:lnTo>
                  <a:lnTo>
                    <a:pt x="29" y="208"/>
                  </a:lnTo>
                  <a:lnTo>
                    <a:pt x="20" y="206"/>
                  </a:lnTo>
                  <a:lnTo>
                    <a:pt x="12" y="202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20" y="9"/>
                  </a:lnTo>
                  <a:lnTo>
                    <a:pt x="29" y="7"/>
                  </a:lnTo>
                  <a:lnTo>
                    <a:pt x="39" y="5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5"/>
                  </a:lnTo>
                  <a:lnTo>
                    <a:pt x="163" y="7"/>
                  </a:lnTo>
                  <a:lnTo>
                    <a:pt x="173" y="9"/>
                  </a:lnTo>
                  <a:lnTo>
                    <a:pt x="180" y="13"/>
                  </a:lnTo>
                  <a:lnTo>
                    <a:pt x="186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1"/>
                  </a:lnTo>
                  <a:lnTo>
                    <a:pt x="192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945600" y="4035240"/>
              <a:ext cx="144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113800" y="4035240"/>
              <a:ext cx="144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8480" y="4035240"/>
              <a:ext cx="2961360" cy="938160"/>
            </a:xfrm>
            <a:custGeom>
              <a:avLst/>
              <a:gdLst/>
              <a:ahLst/>
              <a:rect l="l" t="t" r="r" b="b"/>
              <a:pathLst>
                <a:path w="1701" h="539">
                  <a:moveTo>
                    <a:pt x="1701" y="539"/>
                  </a:moveTo>
                  <a:lnTo>
                    <a:pt x="1701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280200" y="5772600"/>
              <a:ext cx="180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778840" y="4724640"/>
              <a:ext cx="180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6352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029920" y="5222880"/>
              <a:ext cx="144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19632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02876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9696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363720" y="5222880"/>
              <a:ext cx="144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7884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58600" y="55900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1840" y="5590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12680" y="5590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39320" y="5590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8720" y="5590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85880" y="572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79120" y="57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39600" y="572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32120" y="57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4400" y="5724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30760" y="572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9520" y="5389920"/>
              <a:ext cx="999000" cy="667080"/>
            </a:xfrm>
            <a:custGeom>
              <a:avLst/>
              <a:gdLst/>
              <a:ahLst/>
              <a:rect l="l" t="t" r="r" b="b"/>
              <a:pathLst>
                <a:path w="574" h="383">
                  <a:moveTo>
                    <a:pt x="574" y="38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383"/>
                  </a:lnTo>
                  <a:lnTo>
                    <a:pt x="574" y="383"/>
                  </a:lnTo>
                  <a:lnTo>
                    <a:pt x="574" y="3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640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9628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2508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132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188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724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3508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9628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976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57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516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5396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755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3928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45560" y="5389920"/>
              <a:ext cx="1001160" cy="383040"/>
            </a:xfrm>
            <a:custGeom>
              <a:avLst/>
              <a:gdLst/>
              <a:ahLst/>
              <a:rect l="l" t="t" r="r" b="b"/>
              <a:pathLst>
                <a:path w="575" h="220">
                  <a:moveTo>
                    <a:pt x="575" y="218"/>
                  </a:moveTo>
                  <a:lnTo>
                    <a:pt x="575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5" y="220"/>
                  </a:lnTo>
                  <a:lnTo>
                    <a:pt x="575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3316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6268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9184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796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70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88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0328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6268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9544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321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9408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37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0676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3760" y="5389920"/>
              <a:ext cx="999000" cy="383040"/>
            </a:xfrm>
            <a:custGeom>
              <a:avLst/>
              <a:gdLst/>
              <a:ahLst/>
              <a:rect l="l" t="t" r="r" b="b"/>
              <a:pathLst>
                <a:path w="574" h="220">
                  <a:moveTo>
                    <a:pt x="574" y="218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4" y="220"/>
                  </a:lnTo>
                  <a:lnTo>
                    <a:pt x="574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956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124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004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78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534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070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00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3124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6364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003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608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878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01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352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80520" y="5389920"/>
              <a:ext cx="1000800" cy="383040"/>
            </a:xfrm>
            <a:custGeom>
              <a:avLst/>
              <a:gdLst/>
              <a:ahLst/>
              <a:rect l="l" t="t" r="r" b="b"/>
              <a:pathLst>
                <a:path w="575" h="220">
                  <a:moveTo>
                    <a:pt x="575" y="218"/>
                  </a:moveTo>
                  <a:lnTo>
                    <a:pt x="575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5" y="220"/>
                  </a:lnTo>
                  <a:lnTo>
                    <a:pt x="575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9960" y="6123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69880" y="61232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48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872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696480" y="5772600"/>
              <a:ext cx="180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196160" y="577260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98160" y="60800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6000" y="6080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2272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8356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620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08480" y="6080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2600" y="608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85520" y="608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43480" y="608004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6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19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6213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948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72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3320" y="6213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5480" y="6023880"/>
              <a:ext cx="834120" cy="379800"/>
            </a:xfrm>
            <a:custGeom>
              <a:avLst/>
              <a:gdLst/>
              <a:ahLst/>
              <a:rect l="l" t="t" r="r" b="b"/>
              <a:pathLst>
                <a:path w="479" h="218">
                  <a:moveTo>
                    <a:pt x="479" y="218"/>
                  </a:moveTo>
                  <a:lnTo>
                    <a:pt x="479" y="0"/>
                  </a:lnTo>
                  <a:lnTo>
                    <a:pt x="0" y="0"/>
                  </a:lnTo>
                  <a:lnTo>
                    <a:pt x="0" y="218"/>
                  </a:lnTo>
                  <a:lnTo>
                    <a:pt x="479" y="218"/>
                  </a:lnTo>
                  <a:lnTo>
                    <a:pt x="479" y="2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113800" y="577260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520" y="5947200"/>
              <a:ext cx="1000800" cy="329040"/>
            </a:xfrm>
            <a:custGeom>
              <a:avLst/>
              <a:gdLst/>
              <a:ahLst/>
              <a:rect l="l" t="t" r="r" b="b"/>
              <a:pathLst>
                <a:path w="575" h="189">
                  <a:moveTo>
                    <a:pt x="0" y="189"/>
                  </a:moveTo>
                  <a:lnTo>
                    <a:pt x="2" y="176"/>
                  </a:lnTo>
                  <a:lnTo>
                    <a:pt x="6" y="160"/>
                  </a:lnTo>
                  <a:lnTo>
                    <a:pt x="11" y="147"/>
                  </a:lnTo>
                  <a:lnTo>
                    <a:pt x="19" y="133"/>
                  </a:lnTo>
                  <a:lnTo>
                    <a:pt x="29" y="122"/>
                  </a:lnTo>
                  <a:lnTo>
                    <a:pt x="38" y="112"/>
                  </a:lnTo>
                  <a:lnTo>
                    <a:pt x="52" y="105"/>
                  </a:lnTo>
                  <a:lnTo>
                    <a:pt x="65" y="99"/>
                  </a:lnTo>
                  <a:lnTo>
                    <a:pt x="80" y="95"/>
                  </a:lnTo>
                  <a:lnTo>
                    <a:pt x="96" y="95"/>
                  </a:lnTo>
                  <a:lnTo>
                    <a:pt x="479" y="95"/>
                  </a:lnTo>
                  <a:lnTo>
                    <a:pt x="494" y="93"/>
                  </a:lnTo>
                  <a:lnTo>
                    <a:pt x="509" y="89"/>
                  </a:lnTo>
                  <a:lnTo>
                    <a:pt x="523" y="84"/>
                  </a:lnTo>
                  <a:lnTo>
                    <a:pt x="536" y="76"/>
                  </a:lnTo>
                  <a:lnTo>
                    <a:pt x="546" y="67"/>
                  </a:lnTo>
                  <a:lnTo>
                    <a:pt x="555" y="55"/>
                  </a:lnTo>
                  <a:lnTo>
                    <a:pt x="563" y="44"/>
                  </a:lnTo>
                  <a:lnTo>
                    <a:pt x="569" y="30"/>
                  </a:lnTo>
                  <a:lnTo>
                    <a:pt x="573" y="15"/>
                  </a:lnTo>
                  <a:lnTo>
                    <a:pt x="575" y="0"/>
                  </a:lnTo>
                </a:path>
              </a:pathLst>
            </a:custGeom>
            <a:noFill/>
            <a:ln w="176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0520" y="5947200"/>
              <a:ext cx="1000800" cy="329040"/>
            </a:xfrm>
            <a:custGeom>
              <a:avLst/>
              <a:gdLst/>
              <a:ahLst/>
              <a:rect l="l" t="t" r="r" b="b"/>
              <a:pathLst>
                <a:path w="575" h="189">
                  <a:moveTo>
                    <a:pt x="0" y="189"/>
                  </a:moveTo>
                  <a:lnTo>
                    <a:pt x="2" y="176"/>
                  </a:lnTo>
                  <a:lnTo>
                    <a:pt x="6" y="160"/>
                  </a:lnTo>
                  <a:lnTo>
                    <a:pt x="11" y="147"/>
                  </a:lnTo>
                  <a:lnTo>
                    <a:pt x="19" y="133"/>
                  </a:lnTo>
                  <a:lnTo>
                    <a:pt x="29" y="122"/>
                  </a:lnTo>
                  <a:lnTo>
                    <a:pt x="38" y="112"/>
                  </a:lnTo>
                  <a:lnTo>
                    <a:pt x="52" y="105"/>
                  </a:lnTo>
                  <a:lnTo>
                    <a:pt x="65" y="99"/>
                  </a:lnTo>
                  <a:lnTo>
                    <a:pt x="80" y="95"/>
                  </a:lnTo>
                  <a:lnTo>
                    <a:pt x="96" y="95"/>
                  </a:lnTo>
                  <a:lnTo>
                    <a:pt x="479" y="95"/>
                  </a:lnTo>
                  <a:lnTo>
                    <a:pt x="494" y="93"/>
                  </a:lnTo>
                  <a:lnTo>
                    <a:pt x="509" y="89"/>
                  </a:lnTo>
                  <a:lnTo>
                    <a:pt x="523" y="84"/>
                  </a:lnTo>
                  <a:lnTo>
                    <a:pt x="536" y="76"/>
                  </a:lnTo>
                  <a:lnTo>
                    <a:pt x="546" y="67"/>
                  </a:lnTo>
                  <a:lnTo>
                    <a:pt x="555" y="55"/>
                  </a:lnTo>
                  <a:lnTo>
                    <a:pt x="563" y="44"/>
                  </a:lnTo>
                  <a:lnTo>
                    <a:pt x="569" y="30"/>
                  </a:lnTo>
                  <a:lnTo>
                    <a:pt x="573" y="15"/>
                  </a:lnTo>
                  <a:lnTo>
                    <a:pt x="575" y="0"/>
                  </a:lnTo>
                </a:path>
              </a:pathLst>
            </a:custGeom>
            <a:noFill/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3280" y="604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2840" y="604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24040" y="6046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53920" y="604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37080" y="604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6840" y="60469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2840" y="6046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79520" y="4973760"/>
              <a:ext cx="4501800" cy="249120"/>
            </a:xfrm>
            <a:custGeom>
              <a:avLst/>
              <a:gdLst/>
              <a:ahLst/>
              <a:rect l="l" t="t" r="r" b="b"/>
              <a:pathLst>
                <a:path w="2586" h="143">
                  <a:moveTo>
                    <a:pt x="2586" y="143"/>
                  </a:moveTo>
                  <a:lnTo>
                    <a:pt x="2586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586" y="143"/>
                  </a:lnTo>
                  <a:lnTo>
                    <a:pt x="2586" y="143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79520" y="4973760"/>
              <a:ext cx="4501800" cy="249120"/>
            </a:xfrm>
            <a:custGeom>
              <a:avLst/>
              <a:gdLst/>
              <a:ahLst/>
              <a:rect l="l" t="t" r="r" b="b"/>
              <a:pathLst>
                <a:path w="2586" h="143">
                  <a:moveTo>
                    <a:pt x="2586" y="143"/>
                  </a:moveTo>
                  <a:lnTo>
                    <a:pt x="2586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586" y="143"/>
                  </a:lnTo>
                  <a:lnTo>
                    <a:pt x="2586" y="143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2720" y="5034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632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76440" y="5034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69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2680" y="5034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9040" y="503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22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0656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3968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69200" y="50349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5632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8584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46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08960" y="503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34400" y="3969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11080" y="3969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4780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0900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408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456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036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832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440" y="3969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9520" y="3841920"/>
              <a:ext cx="999000" cy="383040"/>
            </a:xfrm>
            <a:custGeom>
              <a:avLst/>
              <a:gdLst/>
              <a:ahLst/>
              <a:rect l="l" t="t" r="r" b="b"/>
              <a:pathLst>
                <a:path w="574" h="220">
                  <a:moveTo>
                    <a:pt x="574" y="220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4" y="220"/>
                  </a:lnTo>
                  <a:lnTo>
                    <a:pt x="574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25480" y="4534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504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7320" y="4534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2528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8468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46200" y="4474080"/>
              <a:ext cx="666720" cy="250560"/>
            </a:xfrm>
            <a:custGeom>
              <a:avLst/>
              <a:gdLst/>
              <a:ahLst/>
              <a:rect l="l" t="t" r="r" b="b"/>
              <a:pathLst>
                <a:path w="383" h="144">
                  <a:moveTo>
                    <a:pt x="383" y="144"/>
                  </a:moveTo>
                  <a:lnTo>
                    <a:pt x="38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383" y="144"/>
                  </a:lnTo>
                  <a:lnTo>
                    <a:pt x="383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778840" y="422496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85360" y="4003560"/>
              <a:ext cx="57600" cy="576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33"/>
                  </a:moveTo>
                  <a:lnTo>
                    <a:pt x="33" y="0"/>
                  </a:lnTo>
                  <a:lnTo>
                    <a:pt x="0" y="18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848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800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280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3232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95320" y="3875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2040" y="3875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804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960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188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3200" y="387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29440" y="6020640"/>
              <a:ext cx="333720" cy="432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38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0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6" y="23"/>
                  </a:lnTo>
                  <a:lnTo>
                    <a:pt x="140" y="23"/>
                  </a:lnTo>
                  <a:lnTo>
                    <a:pt x="153" y="21"/>
                  </a:lnTo>
                  <a:lnTo>
                    <a:pt x="163" y="17"/>
                  </a:lnTo>
                  <a:lnTo>
                    <a:pt x="172" y="15"/>
                  </a:lnTo>
                  <a:lnTo>
                    <a:pt x="180" y="11"/>
                  </a:lnTo>
                  <a:lnTo>
                    <a:pt x="186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29440" y="5980320"/>
              <a:ext cx="333720" cy="37620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192" y="191"/>
                  </a:moveTo>
                  <a:lnTo>
                    <a:pt x="190" y="195"/>
                  </a:lnTo>
                  <a:lnTo>
                    <a:pt x="186" y="199"/>
                  </a:lnTo>
                  <a:lnTo>
                    <a:pt x="180" y="202"/>
                  </a:lnTo>
                  <a:lnTo>
                    <a:pt x="172" y="206"/>
                  </a:lnTo>
                  <a:lnTo>
                    <a:pt x="163" y="208"/>
                  </a:lnTo>
                  <a:lnTo>
                    <a:pt x="153" y="210"/>
                  </a:lnTo>
                  <a:lnTo>
                    <a:pt x="140" y="212"/>
                  </a:lnTo>
                  <a:lnTo>
                    <a:pt x="126" y="214"/>
                  </a:lnTo>
                  <a:lnTo>
                    <a:pt x="111" y="214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5" y="214"/>
                  </a:lnTo>
                  <a:lnTo>
                    <a:pt x="52" y="212"/>
                  </a:lnTo>
                  <a:lnTo>
                    <a:pt x="38" y="210"/>
                  </a:lnTo>
                  <a:lnTo>
                    <a:pt x="29" y="208"/>
                  </a:lnTo>
                  <a:lnTo>
                    <a:pt x="19" y="206"/>
                  </a:lnTo>
                  <a:lnTo>
                    <a:pt x="12" y="202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38" y="5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6" y="2"/>
                  </a:lnTo>
                  <a:lnTo>
                    <a:pt x="140" y="4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9"/>
                  </a:lnTo>
                  <a:lnTo>
                    <a:pt x="180" y="13"/>
                  </a:lnTo>
                  <a:lnTo>
                    <a:pt x="186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1"/>
                  </a:lnTo>
                  <a:lnTo>
                    <a:pt x="192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0280" y="6123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68400" y="61232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9180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832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352680" y="3657600"/>
            <a:ext cx="4191120" cy="28954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4876920" y="2514600"/>
            <a:ext cx="37465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2514600"/>
            <a:ext cx="3746520" cy="1692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(cont.): Daisy Ch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305360" y="4048200"/>
            <a:ext cx="6533280" cy="218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ired pela posi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ansão: simples (on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abi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914400" y="1295280"/>
            <a:ext cx="7148520" cy="2184480"/>
            <a:chOff x="914400" y="1295280"/>
            <a:chExt cx="7148520" cy="2184480"/>
          </a:xfrm>
        </p:grpSpPr>
        <p:sp>
          <p:nvSpPr>
            <p:cNvPr id="1538" name=""/>
            <p:cNvSpPr/>
            <p:nvPr/>
          </p:nvSpPr>
          <p:spPr>
            <a:xfrm>
              <a:off x="914400" y="2514600"/>
              <a:ext cx="119376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17440" y="2730240"/>
              <a:ext cx="8337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rb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819520" y="1295280"/>
              <a:ext cx="96516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868840" y="1358640"/>
              <a:ext cx="927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gh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86600" y="1295280"/>
              <a:ext cx="88920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83640" y="1358640"/>
              <a:ext cx="10792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w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19720" y="1295280"/>
              <a:ext cx="88884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392720" y="1587240"/>
              <a:ext cx="927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784840" y="167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89760" y="1670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94680" y="1670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33720" y="2654280"/>
              <a:ext cx="73656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288288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448308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372132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33920" y="2654280"/>
              <a:ext cx="73656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524520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57800" y="2654280"/>
              <a:ext cx="88920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715032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48520" y="2654280"/>
              <a:ext cx="88884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6172200" y="2489040"/>
              <a:ext cx="50760" cy="2541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6248520" y="2489040"/>
              <a:ext cx="50760" cy="2541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33720" y="3340080"/>
              <a:ext cx="401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1660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49272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6172200" y="317484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6248520" y="317484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29000" y="32763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953240" y="32763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68348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620120" y="32763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48520" y="3340080"/>
              <a:ext cx="14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33720" y="2958840"/>
              <a:ext cx="4013280" cy="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6172200" y="2793600"/>
              <a:ext cx="50760" cy="25380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6248520" y="2793600"/>
              <a:ext cx="50760" cy="25380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24440" y="2895480"/>
              <a:ext cx="126720" cy="127080"/>
            </a:xfrm>
            <a:prstGeom prst="ellipse">
              <a:avLst/>
            </a:prstGeom>
            <a:solidFill>
              <a:srgbClr val="553e00"/>
            </a:solidFill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48320" y="2895480"/>
              <a:ext cx="127080" cy="127080"/>
            </a:xfrm>
            <a:prstGeom prst="ellipse">
              <a:avLst/>
            </a:prstGeom>
            <a:solidFill>
              <a:srgbClr val="553e00"/>
            </a:solidFill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48520" y="2958840"/>
              <a:ext cx="1117440" cy="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8780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1168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7892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0780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0800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3188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31520" y="2654280"/>
              <a:ext cx="835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31520" y="30351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ção entre métodos de arb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: programável (off 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ans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abilidade e deadlock: OK se control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 e ethern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flexível, expansível e confiá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6" name=""/>
          <p:cNvGraphicFramePr/>
          <p:nvPr/>
        </p:nvGraphicFramePr>
        <p:xfrm>
          <a:off x="682560" y="2206800"/>
          <a:ext cx="7726320" cy="40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206800"/>
                    <a:ext cx="772632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colha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, flexibilidade, expansão, confiabilidade, velocidade, tipo de tráfego, distância e “starvatio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is padrões de barramento (pag 67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1" name=""/>
          <p:cNvGraphicFramePr/>
          <p:nvPr/>
        </p:nvGraphicFramePr>
        <p:xfrm>
          <a:off x="330120" y="1066680"/>
          <a:ext cx="880128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066680"/>
                    <a:ext cx="880128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face E/S - Mem - CPU -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st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o usuário controla a E/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 &lt;-&gt; memória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é o papel da CPU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pel da CPU é gran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program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s de E/S normalmente usam interrupção executada no modo supervisor do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de baixo nível de E/S é complex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CP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/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med I/O: CPU inicia, controla, supervisiona e termina a comunic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mapped: acesso à memória e I/O é feito com as mesmas instruções (espaço de endereçamento define o dispositivo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/O mapped: há instruções e linhas de controle dedicadas à comunicação d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2057400" y="2590920"/>
            <a:ext cx="5532840" cy="1218600"/>
            <a:chOff x="2057400" y="2590920"/>
            <a:chExt cx="5532840" cy="1218600"/>
          </a:xfrm>
        </p:grpSpPr>
        <p:sp>
          <p:nvSpPr>
            <p:cNvPr id="1598" name=""/>
            <p:cNvSpPr/>
            <p:nvPr/>
          </p:nvSpPr>
          <p:spPr>
            <a:xfrm>
              <a:off x="2590560" y="274320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590560" y="282564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590560" y="296064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590560" y="304776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57400" y="26668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3356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0024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096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86600" y="2590920"/>
              <a:ext cx="5036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3809880" y="2743200"/>
              <a:ext cx="456840" cy="609120"/>
              <a:chOff x="3809880" y="2743200"/>
              <a:chExt cx="456840" cy="6091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8098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427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1000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2667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4857480" y="2743200"/>
              <a:ext cx="456840" cy="609120"/>
              <a:chOff x="4857480" y="2743200"/>
              <a:chExt cx="456840" cy="609120"/>
            </a:xfrm>
          </p:grpSpPr>
          <p:sp>
            <p:nvSpPr>
              <p:cNvPr id="1613" name=""/>
              <p:cNvSpPr/>
              <p:nvPr/>
            </p:nvSpPr>
            <p:spPr>
              <a:xfrm>
                <a:off x="48574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903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1476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3143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867280" y="2743200"/>
              <a:ext cx="456840" cy="609120"/>
              <a:chOff x="5867280" y="2743200"/>
              <a:chExt cx="456840" cy="609120"/>
            </a:xfrm>
          </p:grpSpPr>
          <p:sp>
            <p:nvSpPr>
              <p:cNvPr id="1618" name=""/>
              <p:cNvSpPr/>
              <p:nvPr/>
            </p:nvSpPr>
            <p:spPr>
              <a:xfrm>
                <a:off x="58672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0001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1574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3241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2" name=""/>
          <p:cNvGrpSpPr/>
          <p:nvPr/>
        </p:nvGrpSpPr>
        <p:grpSpPr>
          <a:xfrm>
            <a:off x="3733920" y="4879800"/>
            <a:ext cx="4086000" cy="1063800"/>
            <a:chOff x="3733920" y="4879800"/>
            <a:chExt cx="4086000" cy="1063800"/>
          </a:xfrm>
        </p:grpSpPr>
        <p:sp>
          <p:nvSpPr>
            <p:cNvPr id="1623" name=""/>
            <p:cNvSpPr/>
            <p:nvPr/>
          </p:nvSpPr>
          <p:spPr>
            <a:xfrm>
              <a:off x="4495680" y="5638680"/>
              <a:ext cx="190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495680" y="5867280"/>
              <a:ext cx="190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33920" y="5181480"/>
              <a:ext cx="3429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18148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40224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315200" y="4879800"/>
              <a:ext cx="504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33412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5308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33920" y="5029200"/>
              <a:ext cx="3429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88620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3848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34340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63868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5800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51560" y="54277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51200" y="568152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03200" y="541800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 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02480" y="56721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 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E/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 1: p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PU periodicamente consulta os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perdício do tempo da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tivo pode ter que ficar muito tempo aguardando o servi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 2: interrup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unicação E/S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CPU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11840" y="132660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 de E/S avisa a CPU que precisa de atenção, por meio de sinal assíncr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PU deve completar a execução da instrução antes de atender a interrupçã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ipeline: é necessário stall e tratamento de todas as instruções no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nece indicação à CPU sobre o tipo de interrupção e a identidade do disposit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ução comum: vetor de interrupção usado para decidir o endereço da rotina de tratamento da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caso de múltiplos dispositiv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orização para decidir qual pedido será at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é possível o uso de um controlador de interrup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457200" y="2514600"/>
            <a:ext cx="2286000" cy="36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de polling = 30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 polling/s = 30 * 400 ciclos/s = 12000 c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ciclos da CPU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2000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,00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EITÁ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2438280"/>
            <a:ext cx="251460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locos de 16 bits;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50 K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lings / s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0 KB /s /(2 B / polling)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 k pollings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00 ciclos /polling -&gt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 k *400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ciclos de polling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de ciclos da CPU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MAS +- OK para sistemas de baixo cu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19920" y="2438280"/>
            <a:ext cx="2590560" cy="35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co Ríg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locos de 4*32 bits; 4 MB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lings / s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 MB /s /(16 B / polling)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.25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llings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00 ciclos /polling -&gt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 de polling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de ciclos da CPU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mpo inaceitável de ocupação da CPU para p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pag 67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acto do polling para 3 dispositivos (fck = 500 MHz; ciclos p/ polling = 4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990720" y="2590920"/>
            <a:ext cx="6858000" cy="31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acessos é o mesmo de polling = 250 K /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ciclos / s = 250 k * 500 = 125* 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iclos /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% da CPU = 125 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/ 500 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to do Polling, MAS, levando em consideração que o HD não está ativo apenas 5% do tem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acto 5% * 25% = 1,25 %           (bastante razoáv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errupção só envolve a CPU se houver a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acto da interrupção sobre o Disco Rígido do exemplo anterior (com overhead da transferência de 500 ciclos, incluindo a interrupção, assumindo que o HD está ativo apenas 5% do tempo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8720" y="1293120"/>
            <a:ext cx="83865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but neglecte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The difficulties in assessing and designing I/O systems ha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relegated I/O to second class status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courses in every aspect of computing, from programming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rchitecture often ignore I/O or give it scanty coverage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textbooks leave the subject to near the end, making it easi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tudents and instructors to skip it!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LTY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we won’t be looking at I/O in much detail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e sure and read Chapter 8 in its entirety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you should probably take a networking clas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: dispositiv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ando polling ou interrupção a CPU é envolvida diretamente na transferê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 pode ser OK para pequenos blocos; CPU se ocupa de outra coisa enquanto o dispositivo está trabalhando mas a escrita/leitura envolve diretamente a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: DMA (Direct Memor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há polling e a CPU não participa da transferê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sso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- CPU informa: identidade do dispositivo, qual é a operação, endereço inicial da memória, Nº de bytes da trans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 Controlador de DMA inicia a operação. Solicita e ganha controle do barramento. Faz a transferència entre o dispositivo (endereço, RD/WR, incrementa endereço, etc) e a memó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- Controlador de DMA interrompe a CPU e avisa que a transferência está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"/>
          <p:cNvGrpSpPr/>
          <p:nvPr/>
        </p:nvGrpSpPr>
        <p:grpSpPr>
          <a:xfrm>
            <a:off x="843120" y="1627200"/>
            <a:ext cx="7834320" cy="4078800"/>
            <a:chOff x="843120" y="1627200"/>
            <a:chExt cx="7834320" cy="4078800"/>
          </a:xfrm>
        </p:grpSpPr>
        <p:sp>
          <p:nvSpPr>
            <p:cNvPr id="1656" name=""/>
            <p:cNvSpPr/>
            <p:nvPr/>
          </p:nvSpPr>
          <p:spPr>
            <a:xfrm>
              <a:off x="43102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390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2246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272120" y="4151160"/>
              <a:ext cx="8384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738600" y="4303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738600" y="4532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3738600" y="4761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738600" y="4989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595960" y="41511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MA 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595960" y="43797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MA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595960" y="48369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95960" y="46083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 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8" name=""/>
            <p:cNvCxnSpPr>
              <a:stCxn id="1656" idx="2"/>
              <a:endCxn id="1659" idx="0"/>
            </p:cNvCxnSpPr>
            <p:nvPr/>
          </p:nvCxnSpPr>
          <p:spPr>
            <a:xfrm flipV="1" rot="10800000">
              <a:off x="4690440" y="369360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9" name=""/>
            <p:cNvSpPr/>
            <p:nvPr/>
          </p:nvSpPr>
          <p:spPr>
            <a:xfrm>
              <a:off x="6253560" y="3693960"/>
              <a:ext cx="1218960" cy="8384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0"/>
                  </a:moveTo>
                  <a:lnTo>
                    <a:pt x="0" y="528"/>
                  </a:lnTo>
                  <a:lnTo>
                    <a:pt x="768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58120" y="3693960"/>
              <a:ext cx="838440" cy="6098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0"/>
                  </a:moveTo>
                  <a:lnTo>
                    <a:pt x="0" y="528"/>
                  </a:lnTo>
                  <a:lnTo>
                    <a:pt x="768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2062080" y="30081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2062080" y="27795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2062080" y="25509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43120" y="23986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n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43120" y="2627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43120" y="28558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99000" y="3389400"/>
              <a:ext cx="6094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5128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2476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3916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2952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913480" y="2970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381920" y="2975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296320" y="2970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91360" y="29703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3083040" y="277920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3235680" y="255600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5720040" y="254484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6583680" y="2759040"/>
              <a:ext cx="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135680" y="1627200"/>
              <a:ext cx="6094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4260960" y="2158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4386600" y="27457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4427640" y="216324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26360" y="217800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4218120" y="25124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119840" y="3205080"/>
              <a:ext cx="2955960" cy="22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564520" y="5398920"/>
              <a:ext cx="201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ador de 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34440" y="42451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isp. de 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ípico Controlador de DM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Operação de D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lock Transfer: seqüência de palavras; usado por discos, fitas (vel. do disp. é importante); a CPU não usa o barramento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PU executa instrução de IO; escreve em IOAR e D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ador faz DMA REQ; CPU -&gt; DMA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ador faz transferência com Inc IOAR; Decr D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 o dispositivo for lento, retorna o controle para a CPU com DMA REQ = 0; estando pronto DMA REQ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se DC =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ycle Stealing: uma (ou mais palavras transmitidas) e o controle devolvido à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MA transparente: cycle stealing sincronizado de modo a usar barramento somento nos ciclos em que a CPU não u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nção de memória deixa de ser problema sério com o uso d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, Cache e Memória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gunt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MA deve trabalhar com endereço físico ou virtu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transferir se os dados não estão em uma única págin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 os dados estão em uma única página, trabalhar com endereço fís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contrário, trabalhar com o endereço virtual; o próprio controlador deve fazer o mapeamento (pequena page table inter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os problem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sistema operacional não deve mover páginas afetadas enquanto o DMA está em ope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de acontecer incoerência de cache-memória devido a atualização da memória pelo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262160" y="3470400"/>
            <a:ext cx="6646680" cy="257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mpo por transferência:    8 KB / 4 MB/s = 2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a atividade constante do HD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1000 + 500) ciclos / transf.  =  75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 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 ms / tr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75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/s) / (50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/s) = 1,5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0,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PU é só envolvida no início e no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o atividade &lt; 100 % este percentual é ainda 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203560" y="4424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; impacto em Hard D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78360" y="1293120"/>
            <a:ext cx="86151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smo exemplo anteri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loco 16B; taxa de transferência de 4 MB / s; clock de 500 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up do DMA: overhead de 100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 do DMA 50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médio de transferência: 8 K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ividade do HD: 100% do tempo (ignorar contenção de barra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I/O System Design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344160" y="1334520"/>
            <a:ext cx="845568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U com 300 MIPS e 50K instruções (no OS) por operação de I/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mory backplane: taxa de transmissão de 100 MB/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adores SCSI-2: 20 MB/s e capacidade para 7 disc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D com taxa de 5 MB/s e atraso seek+rotational = 10 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workload de IO: leituras de 64 KB (100 K instruções de usuário / Operação de I/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contrar: máxima taxa de I/O e o número de (HD+controladores) necessár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is componentes (CPU e memory bus), qual é o gargal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op de I/O precisa de 50 K + 100K instruçõe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O rate da CPU = (Instr rate) / (Instr. / IO) = 300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/ (100+50)*10*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2000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O rate do bus = (bus bandwidth) / (bytes / IO) = 100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/64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1562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rgalo é o barrament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ora, configurar o resto do sistema para acomodar 1562 IO/s -&gt; quantos HD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I/O System Design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44160" y="1334520"/>
            <a:ext cx="845568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ta: 1562 IO/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po por IO no disco: 10 ms + 64 KB / (5 MB/s) = 10ms + 12.8ms = 22.8m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disco: 1/22.8ms = 43.9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cupar totalmente o barrament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562 /  43.9 = 36 disco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controladores SCSI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transf. / disco = 64 KB / 22.8ms = 2.74 MB 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ssível colocar 7 discos por controlador (7*2.74 &lt; 20 MB/s)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barramentos de IO e controladores SCSI =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36 discos / (7 discos / barramento) = 6 (barramentos + controlador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rande número de hipóteses simplificadoras: melhor precisão somente com simulaçã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chmarks para I/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de E/S para Supercomputado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esso a arquivos grandes em b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grande operação de leitura seguida de pequenas de escrita (confiabilidade, em caso de cras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para Processamento de Transaç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ve medir tempo de resposta e through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ações são curtas: I/O rate (acessos / s) mais importante do que data rate (bytes / 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/O rate mais conhecido: TPC-B : simula rede de AT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dida (throughput para transações dentro de faixa aceitável de tempo de resposta): TPS: transaction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para Sistemas de Arquiv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um ambiente de engenharia: 80% acessos a arq &lt; 10K; 67% de operações de leitura e 27% de escrita (6% R/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benchmark com 70 arquivos, total de 200 KB (mkdir, cp, make, ScanDir, ReadAl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diverse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ehavior (i.e., input vs. out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partner (who is at the other end?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data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96760" y="2514600"/>
          <a:ext cx="73771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2514600"/>
                    <a:ext cx="7377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Disk Dr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ccess data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seek:  position head over the proper track  (8 to 20 ms. avg.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rotational latency:  wait for desired sector (.5 / RP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ransfer:  grab the data  (one or more sectors) 2 to 15 MB/se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84520" y="1338120"/>
            <a:ext cx="38019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Disk Dr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1000" y="1293120"/>
            <a:ext cx="80820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143000"/>
            <a:ext cx="8381880" cy="4114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 = 512 bytes;   5400 rpm;   average seek time = 12 ms                 transfer rate = 5 MB/sec; controller overhead = 2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verage time to read or write a sector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65440" y="2438280"/>
            <a:ext cx="4232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disk access =   average s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rotational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transfer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controller overh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85800" y="4135320"/>
                <a:ext cx="78487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B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mmunication link (one or more wi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design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ay be bottlene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length of the b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umber of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radeoffs (buffers for higher bandwidth increases latency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support for many different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bus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processor-memory (short high speed, custom desig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ackplane (high speed, often standardized, e.g., PCI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I/O (lengthy, different devices, standardized, e.g., SCS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use a clock and a synchronous protocol, fast and sma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every device must operate at same rate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skew requires the bus to be sh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don’t use a clock and instead use handsha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2400" y="7908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78800" y="1295280"/>
            <a:ext cx="5921280" cy="4218120"/>
            <a:chOff x="478800" y="1295280"/>
            <a:chExt cx="5921280" cy="4218120"/>
          </a:xfrm>
        </p:grpSpPr>
        <p:sp>
          <p:nvSpPr>
            <p:cNvPr id="222" name=""/>
            <p:cNvSpPr/>
            <p:nvPr/>
          </p:nvSpPr>
          <p:spPr>
            <a:xfrm>
              <a:off x="4066200" y="4905720"/>
              <a:ext cx="207720" cy="465840"/>
            </a:xfrm>
            <a:custGeom>
              <a:avLst/>
              <a:gdLst/>
              <a:ahLst/>
              <a:rect l="l" t="t" r="r" b="b"/>
              <a:pathLst>
                <a:path w="96" h="215">
                  <a:moveTo>
                    <a:pt x="96" y="215"/>
                  </a:move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2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215"/>
                  </a:lnTo>
                  <a:lnTo>
                    <a:pt x="96" y="215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66200" y="495540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4"/>
                  </a:lnTo>
                  <a:lnTo>
                    <a:pt x="6" y="7"/>
                  </a:lnTo>
                  <a:lnTo>
                    <a:pt x="12" y="11"/>
                  </a:lnTo>
                  <a:lnTo>
                    <a:pt x="19" y="13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5"/>
                  </a:lnTo>
                  <a:lnTo>
                    <a:pt x="112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3"/>
                  </a:lnTo>
                  <a:lnTo>
                    <a:pt x="183" y="11"/>
                  </a:lnTo>
                  <a:lnTo>
                    <a:pt x="188" y="7"/>
                  </a:lnTo>
                  <a:lnTo>
                    <a:pt x="192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6200" y="4905720"/>
              <a:ext cx="416160" cy="4658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2" y="190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3" y="201"/>
                  </a:lnTo>
                  <a:lnTo>
                    <a:pt x="175" y="205"/>
                  </a:lnTo>
                  <a:lnTo>
                    <a:pt x="165" y="207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3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2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83" y="11"/>
                  </a:lnTo>
                  <a:lnTo>
                    <a:pt x="188" y="15"/>
                  </a:lnTo>
                  <a:lnTo>
                    <a:pt x="192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36280" y="4643280"/>
              <a:ext cx="341568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36280" y="4467960"/>
              <a:ext cx="262512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6200" y="1980000"/>
              <a:ext cx="416160" cy="540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2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3" y="11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6200" y="192996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3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2" y="203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2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3" y="13"/>
                  </a:lnTo>
                  <a:lnTo>
                    <a:pt x="188" y="17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98920" y="1668240"/>
              <a:ext cx="335304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4920" y="1464120"/>
              <a:ext cx="69120" cy="651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98920" y="1492560"/>
              <a:ext cx="3353040" cy="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44920" y="163332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31"/>
                  </a:moveTo>
                  <a:lnTo>
                    <a:pt x="32" y="0"/>
                  </a:lnTo>
                  <a:lnTo>
                    <a:pt x="0" y="18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80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80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9040" y="1587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820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0920" y="1587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720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517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9780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5196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5196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72720" y="15879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627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116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08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676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3416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580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34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05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664000" y="167256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514600" y="1509840"/>
              <a:ext cx="18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31600" y="163332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79680" y="1455840"/>
              <a:ext cx="6732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533680" y="2998440"/>
              <a:ext cx="432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01280" y="2944440"/>
              <a:ext cx="7164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533680" y="4459320"/>
              <a:ext cx="4320" cy="46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1280" y="4430880"/>
              <a:ext cx="71640" cy="69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192200" y="2989800"/>
              <a:ext cx="180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57280" y="2948760"/>
              <a:ext cx="6732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28640" y="1633320"/>
              <a:ext cx="66600" cy="71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01560" y="1980000"/>
              <a:ext cx="416160" cy="540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1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01560" y="192996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1" y="203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58560" y="1295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5792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3820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13440" y="1295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49800" y="12952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0092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508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8920" y="1295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672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7660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0864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244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2360" y="1295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34520" y="17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3388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9120" y="1741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5088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3240" y="1741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64280" y="1741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5960" y="1741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2440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0432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81000" y="1741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0960" y="226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9960" y="22662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0452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184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4132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66200" y="346428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10"/>
                  </a:lnTo>
                  <a:lnTo>
                    <a:pt x="12" y="14"/>
                  </a:lnTo>
                  <a:lnTo>
                    <a:pt x="19" y="16"/>
                  </a:lnTo>
                  <a:lnTo>
                    <a:pt x="29" y="20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5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2" y="25"/>
                  </a:lnTo>
                  <a:lnTo>
                    <a:pt x="127" y="25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20"/>
                  </a:lnTo>
                  <a:lnTo>
                    <a:pt x="175" y="16"/>
                  </a:lnTo>
                  <a:lnTo>
                    <a:pt x="183" y="14"/>
                  </a:lnTo>
                  <a:lnTo>
                    <a:pt x="188" y="10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66200" y="341460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200"/>
                  </a:lnTo>
                  <a:lnTo>
                    <a:pt x="183" y="204"/>
                  </a:lnTo>
                  <a:lnTo>
                    <a:pt x="175" y="208"/>
                  </a:lnTo>
                  <a:lnTo>
                    <a:pt x="165" y="210"/>
                  </a:lnTo>
                  <a:lnTo>
                    <a:pt x="154" y="212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2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2"/>
                  </a:lnTo>
                  <a:lnTo>
                    <a:pt x="29" y="210"/>
                  </a:lnTo>
                  <a:lnTo>
                    <a:pt x="19" y="208"/>
                  </a:lnTo>
                  <a:lnTo>
                    <a:pt x="12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9" y="10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0"/>
                  </a:lnTo>
                  <a:lnTo>
                    <a:pt x="183" y="14"/>
                  </a:lnTo>
                  <a:lnTo>
                    <a:pt x="188" y="18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32320" y="3152160"/>
              <a:ext cx="34196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32320" y="2983320"/>
              <a:ext cx="34196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61400" y="4463280"/>
              <a:ext cx="7905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800" y="2916360"/>
              <a:ext cx="623880" cy="47844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800" y="2916360"/>
              <a:ext cx="623880" cy="47844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08080" y="2920680"/>
              <a:ext cx="627840" cy="47412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08080" y="2920680"/>
              <a:ext cx="627840" cy="47412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9040" y="30722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0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0920" y="30722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7720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17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9780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51960" y="2920680"/>
              <a:ext cx="1248120" cy="47412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51960" y="2920680"/>
              <a:ext cx="1248120" cy="47412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72720" y="30722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27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116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8908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5676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3416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0580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734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505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664000" y="315648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1600" y="311976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95880" y="311976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01560" y="346428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10"/>
                  </a:lnTo>
                  <a:lnTo>
                    <a:pt x="11" y="14"/>
                  </a:lnTo>
                  <a:lnTo>
                    <a:pt x="19" y="16"/>
                  </a:lnTo>
                  <a:lnTo>
                    <a:pt x="29" y="20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5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5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20"/>
                  </a:lnTo>
                  <a:lnTo>
                    <a:pt x="175" y="16"/>
                  </a:lnTo>
                  <a:lnTo>
                    <a:pt x="182" y="14"/>
                  </a:lnTo>
                  <a:lnTo>
                    <a:pt x="188" y="10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01560" y="341460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10"/>
                  </a:lnTo>
                  <a:lnTo>
                    <a:pt x="154" y="212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2"/>
                  </a:lnTo>
                  <a:lnTo>
                    <a:pt x="29" y="210"/>
                  </a:lnTo>
                  <a:lnTo>
                    <a:pt x="19" y="208"/>
                  </a:lnTo>
                  <a:lnTo>
                    <a:pt x="11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1" y="14"/>
                  </a:lnTo>
                  <a:lnTo>
                    <a:pt x="19" y="10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0"/>
                  </a:lnTo>
                  <a:lnTo>
                    <a:pt x="182" y="14"/>
                  </a:lnTo>
                  <a:lnTo>
                    <a:pt x="188" y="18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58560" y="278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5792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820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13440" y="2781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9800" y="2781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0092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508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8920" y="2781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4672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7660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0864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8244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62360" y="2781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34520" y="3225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3388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09120" y="3225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088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3240" y="3225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64280" y="3225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95960" y="3225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2440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0432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81000" y="3225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0960" y="3750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69960" y="3750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0452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7184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4132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8080" y="4404960"/>
              <a:ext cx="627840" cy="47448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08080" y="4404960"/>
              <a:ext cx="627840" cy="47448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7800" y="4400280"/>
              <a:ext cx="623880" cy="47880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7800" y="4400280"/>
              <a:ext cx="623880" cy="47880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51960" y="4404960"/>
              <a:ext cx="1248120" cy="47448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51960" y="4404960"/>
              <a:ext cx="1248120" cy="47448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72720" y="4558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116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8908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5676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3416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0580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34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505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664000" y="4643280"/>
              <a:ext cx="180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31600" y="4608720"/>
              <a:ext cx="69120" cy="66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01560" y="495540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4"/>
                  </a:lnTo>
                  <a:lnTo>
                    <a:pt x="6" y="7"/>
                  </a:lnTo>
                  <a:lnTo>
                    <a:pt x="11" y="11"/>
                  </a:lnTo>
                  <a:lnTo>
                    <a:pt x="19" y="13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5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3"/>
                  </a:lnTo>
                  <a:lnTo>
                    <a:pt x="182" y="11"/>
                  </a:lnTo>
                  <a:lnTo>
                    <a:pt x="188" y="7"/>
                  </a:lnTo>
                  <a:lnTo>
                    <a:pt x="192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01560" y="4905720"/>
              <a:ext cx="416160" cy="4658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2" y="190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2" y="201"/>
                  </a:lnTo>
                  <a:lnTo>
                    <a:pt x="175" y="205"/>
                  </a:lnTo>
                  <a:lnTo>
                    <a:pt x="165" y="207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3"/>
                  </a:lnTo>
                  <a:lnTo>
                    <a:pt x="111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1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0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82" y="11"/>
                  </a:lnTo>
                  <a:lnTo>
                    <a:pt x="188" y="15"/>
                  </a:lnTo>
                  <a:lnTo>
                    <a:pt x="192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58560" y="4266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5792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3820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13440" y="4266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49800" y="4266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092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7508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8920" y="4266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4672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660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0864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8244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62360" y="426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34520" y="471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3388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09120" y="4717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088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23240" y="4717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4280" y="4717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95960" y="4717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2440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432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81000" y="471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70960" y="5241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69960" y="52412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0452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7184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4132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9520" y="23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1160" y="23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9520" y="3854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1160" y="3854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8800" y="5345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3960" y="5345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328640" y="315648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9040" y="4558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20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0920" y="4558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7720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517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9780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2960" y="4884120"/>
              <a:ext cx="7164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187880" y="4643280"/>
              <a:ext cx="1800" cy="25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361400" y="167256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2960" y="1464120"/>
              <a:ext cx="7164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187880" y="1496520"/>
              <a:ext cx="180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28640" y="4435200"/>
              <a:ext cx="66600" cy="691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30"/>
                  </a:moveTo>
                  <a:lnTo>
                    <a:pt x="17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28640" y="4884120"/>
              <a:ext cx="6660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361400" y="4467960"/>
              <a:ext cx="1800" cy="4334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87880" y="4639320"/>
              <a:ext cx="95976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2960" y="4608720"/>
              <a:ext cx="71640" cy="66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297560" y="1444680"/>
            <a:ext cx="1694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c. inicia leitur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RD + endereç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6280" y="2895480"/>
            <a:ext cx="924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móri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xecut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4120" y="4267080"/>
            <a:ext cx="1226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dos d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o dis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User</cp:lastModifiedBy>
  <cp:lastPrinted>2001-05-31T01:35:48Z</cp:lastPrinted>
  <dcterms:modified xsi:type="dcterms:W3CDTF">2002-06-11T22:23:41Z</dcterms:modified>
  <cp:revision>36</cp:revision>
  <dc:subject/>
  <dc:title>Chapter Seven</dc:title>
</cp:coreProperties>
</file>