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52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3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52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2280" y="838080"/>
            <a:ext cx="830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9784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25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60240" y="6477120"/>
            <a:ext cx="1545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4-</a:t>
            </a:r>
            <a:fld id="{B0EAA7C8-7757-4169-AD5B-0F33C3A28199}" type="slidenum">
              <a:rPr b="0" lang="pt-B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Four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ithmetic for Compu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502080" y="693720"/>
            <a:ext cx="2855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83680" y="1198080"/>
            <a:ext cx="827100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overflow when adding a positive and a negative numb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overflow when signs are the same for subtra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ÇÕES DE OVERFLOW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ing Overf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371600" y="2362320"/>
          <a:ext cx="5708520" cy="281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362320"/>
                    <a:ext cx="570852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830240" y="5181480"/>
            <a:ext cx="44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m hardware, comparar o “vai-um” e 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m-um” com relação ao bit de s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5360" y="312840"/>
            <a:ext cx="2855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xception (interrupt) occu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jumps to predefined address for exception (EPC — EXCEPTION PROGRAM COUN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ted address is saved for possible resum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fc0 (move from system control): copia endereço do EPC para qualquer regist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't always want to detect overflow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new MIPS instructions: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u, addiu, subu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ote: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iu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still sign-extends!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ote: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tu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tiu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for unsigned comparis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s of Overf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ções (fig 4.52 - pag 309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-698400" y="522360"/>
          <a:ext cx="10664640" cy="69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98400" y="522360"/>
                    <a:ext cx="10664640" cy="69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5360" y="312840"/>
            <a:ext cx="6789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:  Consider a logic function with three inputs:  A, B, and C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D is true if at least one input is tru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E is true if exactly two inputs are tru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F is true only if all three inputs are tru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the truth table for these three functions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the Boolean equations for these three functions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an implementation consisting of inverters, AND, and OR gates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:  Boolean Algebra &amp; G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5360" y="312840"/>
            <a:ext cx="4308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's build an ALU to support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'll just build a 1 bit ALU, and use 32 of them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e Implementation (sum-of-products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39960" y="3303720"/>
            <a:ext cx="550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39960" y="2889360"/>
            <a:ext cx="550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262160" y="2135160"/>
            <a:ext cx="3084480" cy="1673280"/>
            <a:chOff x="1262160" y="2135160"/>
            <a:chExt cx="3084480" cy="1673280"/>
          </a:xfrm>
        </p:grpSpPr>
        <p:sp>
          <p:nvSpPr>
            <p:cNvPr id="113" name=""/>
            <p:cNvSpPr/>
            <p:nvPr/>
          </p:nvSpPr>
          <p:spPr>
            <a:xfrm>
              <a:off x="1809720" y="2793960"/>
              <a:ext cx="789120" cy="101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62160" y="3463920"/>
              <a:ext cx="52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54320" y="2470320"/>
              <a:ext cx="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92480" y="2135160"/>
              <a:ext cx="205416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62160" y="3125880"/>
              <a:ext cx="52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14680" y="3238560"/>
              <a:ext cx="52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93920" y="2925720"/>
              <a:ext cx="80172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559400" y="2181240"/>
            <a:ext cx="1815840" cy="2062080"/>
            <a:chOff x="4559400" y="2181240"/>
            <a:chExt cx="1815840" cy="2062080"/>
          </a:xfrm>
        </p:grpSpPr>
        <p:sp>
          <p:nvSpPr>
            <p:cNvPr id="121" name=""/>
            <p:cNvSpPr/>
            <p:nvPr/>
          </p:nvSpPr>
          <p:spPr>
            <a:xfrm>
              <a:off x="4960800" y="2392200"/>
              <a:ext cx="0" cy="18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99200" y="2392200"/>
              <a:ext cx="0" cy="18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45080" y="2595600"/>
              <a:ext cx="131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5699160" y="2392200"/>
              <a:ext cx="38160" cy="1851120"/>
              <a:chOff x="5699160" y="2392200"/>
              <a:chExt cx="38160" cy="1851120"/>
            </a:xfrm>
          </p:grpSpPr>
          <p:sp>
            <p:nvSpPr>
              <p:cNvPr id="125" name=""/>
              <p:cNvSpPr/>
              <p:nvPr/>
            </p:nvSpPr>
            <p:spPr>
              <a:xfrm>
                <a:off x="5699160" y="2392200"/>
                <a:ext cx="0" cy="18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7320" y="2392200"/>
                <a:ext cx="0" cy="18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4559400" y="2181240"/>
              <a:ext cx="55080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84920" y="2181240"/>
              <a:ext cx="5522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1880" y="2181240"/>
              <a:ext cx="55080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24440" y="2181240"/>
              <a:ext cx="55080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566120" y="1123920"/>
            <a:ext cx="798480" cy="5086440"/>
            <a:chOff x="7566120" y="1123920"/>
            <a:chExt cx="798480" cy="5086440"/>
          </a:xfrm>
        </p:grpSpPr>
        <p:grpSp>
          <p:nvGrpSpPr>
            <p:cNvPr id="132" name=""/>
            <p:cNvGrpSpPr/>
            <p:nvPr/>
          </p:nvGrpSpPr>
          <p:grpSpPr>
            <a:xfrm>
              <a:off x="7566120" y="1123920"/>
              <a:ext cx="798480" cy="2152800"/>
              <a:chOff x="7566120" y="1123920"/>
              <a:chExt cx="798480" cy="215280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7566120" y="1123920"/>
                <a:ext cx="798480" cy="460440"/>
                <a:chOff x="7566120" y="1123920"/>
                <a:chExt cx="798480" cy="4604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7800840" y="1220760"/>
                  <a:ext cx="351000" cy="363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566120" y="146520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994520" y="1123920"/>
                  <a:ext cx="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566120" y="133992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167680" y="1378080"/>
                  <a:ext cx="19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7566120" y="1687680"/>
                <a:ext cx="798480" cy="460080"/>
                <a:chOff x="7566120" y="1687680"/>
                <a:chExt cx="798480" cy="4600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7800840" y="1784520"/>
                  <a:ext cx="351000" cy="363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566120" y="202896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994520" y="1687680"/>
                  <a:ext cx="0" cy="7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566120" y="190332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167680" y="1941480"/>
                  <a:ext cx="19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7566120" y="2252520"/>
                <a:ext cx="798480" cy="460440"/>
                <a:chOff x="7566120" y="2252520"/>
                <a:chExt cx="798480" cy="4604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7800840" y="2349360"/>
                  <a:ext cx="351000" cy="363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566120" y="259380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994520" y="2252520"/>
                  <a:ext cx="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6120" y="246852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167680" y="2505240"/>
                  <a:ext cx="19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7566120" y="2816280"/>
                <a:ext cx="798480" cy="460440"/>
                <a:chOff x="7566120" y="2816280"/>
                <a:chExt cx="798480" cy="4604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7800840" y="2913120"/>
                  <a:ext cx="351000" cy="363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566120" y="315756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994520" y="2816280"/>
                  <a:ext cx="0" cy="7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566120" y="303228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167680" y="3070080"/>
                  <a:ext cx="19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7566120" y="4057560"/>
              <a:ext cx="798480" cy="2152800"/>
              <a:chOff x="7566120" y="4057560"/>
              <a:chExt cx="798480" cy="21528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7566120" y="4057560"/>
                <a:ext cx="798480" cy="460440"/>
                <a:chOff x="7566120" y="4057560"/>
                <a:chExt cx="798480" cy="460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800840" y="4154400"/>
                  <a:ext cx="351000" cy="363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566120" y="439884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994520" y="4057560"/>
                  <a:ext cx="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566120" y="427356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8167680" y="4311720"/>
                  <a:ext cx="19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7566120" y="4621320"/>
                <a:ext cx="798480" cy="460440"/>
                <a:chOff x="7566120" y="4621320"/>
                <a:chExt cx="798480" cy="4604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7800840" y="4718160"/>
                  <a:ext cx="351000" cy="363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566120" y="496260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994520" y="4621320"/>
                  <a:ext cx="0" cy="7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566120" y="483696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167680" y="4875120"/>
                  <a:ext cx="19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7566120" y="5186520"/>
                <a:ext cx="798480" cy="460080"/>
                <a:chOff x="7566120" y="5186520"/>
                <a:chExt cx="798480" cy="4600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800840" y="5283360"/>
                  <a:ext cx="351000" cy="363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566120" y="552780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994520" y="5186520"/>
                  <a:ext cx="0" cy="7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66120" y="540216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167680" y="5438880"/>
                  <a:ext cx="19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7566120" y="5749920"/>
                <a:ext cx="798480" cy="460440"/>
                <a:chOff x="7566120" y="5749920"/>
                <a:chExt cx="798480" cy="46044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7800840" y="5846760"/>
                  <a:ext cx="351000" cy="363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566120" y="609120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994520" y="5749920"/>
                  <a:ext cx="0" cy="7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566120" y="596592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167680" y="6004080"/>
                  <a:ext cx="19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ALU (arithmetic logic uni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5360" y="312840"/>
            <a:ext cx="3645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s one of the  inputs to be the output, based on a control input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s build our ALU using a MUX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127160" y="1670040"/>
            <a:ext cx="2367000" cy="1836720"/>
            <a:chOff x="1127160" y="1670040"/>
            <a:chExt cx="2367000" cy="1836720"/>
          </a:xfrm>
        </p:grpSpPr>
        <p:sp>
          <p:nvSpPr>
            <p:cNvPr id="186" name=""/>
            <p:cNvSpPr/>
            <p:nvPr/>
          </p:nvSpPr>
          <p:spPr>
            <a:xfrm>
              <a:off x="1973160" y="2452680"/>
              <a:ext cx="338400" cy="1054080"/>
            </a:xfrm>
            <a:custGeom>
              <a:avLst/>
              <a:gdLst>
                <a:gd name="textAreaLeft" fmla="*/ 45720 w 338400"/>
                <a:gd name="textAreaRight" fmla="*/ 292680 w 338400"/>
                <a:gd name="textAreaTop" fmla="*/ 45720 h 1054080"/>
                <a:gd name="textAreaBottom" fmla="*/ 1008360 h 1054080"/>
              </a:gdLst>
              <a:ahLst/>
              <a:rect l="textAreaLeft" t="textAreaTop" r="textAreaRight" b="textAreaBottom"/>
              <a:pathLst>
                <a:path w="21600" h="67233">
                  <a:moveTo>
                    <a:pt x="10025" y="0"/>
                  </a:moveTo>
                  <a:arcTo wR="10025" hR="10025" stAng="16200000" swAng="-5400000"/>
                  <a:lnTo>
                    <a:pt x="0" y="57208"/>
                  </a:lnTo>
                  <a:arcTo wR="10025" hR="10025" stAng="10800000" swAng="-5400000"/>
                  <a:lnTo>
                    <a:pt x="11575" y="67233"/>
                  </a:lnTo>
                  <a:arcTo wR="10025" hR="10025" stAng="5400000" swAng="-5400000"/>
                  <a:lnTo>
                    <a:pt x="21600" y="10025"/>
                  </a:lnTo>
                  <a:arcTo wR="10025" hR="10025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25600" y="3124080"/>
              <a:ext cx="52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41640" y="2117880"/>
              <a:ext cx="0" cy="29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03400" y="1670040"/>
              <a:ext cx="57636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25600" y="2786040"/>
              <a:ext cx="52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40000" y="2986200"/>
              <a:ext cx="52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17800" y="2671920"/>
              <a:ext cx="57636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27160" y="2496960"/>
              <a:ext cx="57636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39760" y="2847960"/>
              <a:ext cx="57636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043000" y="2685960"/>
            <a:ext cx="5000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43000" y="3035160"/>
            <a:ext cx="5000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:  The Multiplex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43080" y="2263680"/>
            <a:ext cx="3340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note: we call this a 2-input 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even though it has 3 inpu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25360" y="312840"/>
            <a:ext cx="3821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easy to decide the “best” way to build someth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't want too many inputs to a single g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t want to have to go through too many g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our purposes, ease of comprehension is import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's look at a 1-bit ALU for addition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could we build a 1-bit ALU for add, and, and or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could we build a 32-bit ALU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Implement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91560" y="3635280"/>
            <a:ext cx="334188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Courier New"/>
              </a:rPr>
              <a:t>ou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= a b + a c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Courier New"/>
              </a:rPr>
              <a:t>in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+ b c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Courier New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um = a xor b xor c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Courier New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819440" y="3276720"/>
            <a:ext cx="1566720" cy="151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5360" y="312840"/>
            <a:ext cx="3144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ing a 32 bit AL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933560" y="2392200"/>
            <a:ext cx="1947960" cy="2100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514840" y="1440000"/>
            <a:ext cx="2252880" cy="40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5360" y="312840"/>
            <a:ext cx="4961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's complement approch:  just negate b and ad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- b  = a + (- 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negat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 a)  =  com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= com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+ 1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very clever solu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bout subtraction  (a – b) 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141720" y="3429000"/>
            <a:ext cx="2735280" cy="23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tra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8280" y="1447920"/>
            <a:ext cx="1415880" cy="1253880"/>
            <a:chOff x="458280" y="1447920"/>
            <a:chExt cx="1415880" cy="1253880"/>
          </a:xfrm>
        </p:grpSpPr>
        <p:sp>
          <p:nvSpPr>
            <p:cNvPr id="214" name=""/>
            <p:cNvSpPr/>
            <p:nvPr/>
          </p:nvSpPr>
          <p:spPr>
            <a:xfrm>
              <a:off x="1371600" y="18288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14400" y="1676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14400" y="1981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952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43000" y="1447920"/>
              <a:ext cx="304920" cy="76176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761760"/>
                <a:gd name="textAreaBottom" fmla="*/ 747000 h 761760"/>
              </a:gdLst>
              <a:ahLst/>
              <a:rect l="textAreaLeft" t="textAreaTop" r="textAreaRight" b="textAreaBottom"/>
              <a:pathLst>
                <a:path w="21600" h="53924">
                  <a:moveTo>
                    <a:pt x="3600" y="0"/>
                  </a:moveTo>
                  <a:arcTo wR="3600" hR="3600" stAng="16200000" swAng="-5400000"/>
                  <a:lnTo>
                    <a:pt x="0" y="50324"/>
                  </a:lnTo>
                  <a:arcTo wR="3600" hR="3600" stAng="10800000" swAng="-5400000"/>
                  <a:lnTo>
                    <a:pt x="18000" y="53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800"/>
              </a:b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49920" y="233352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in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7240" y="1504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280" y="184320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~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751120" y="163656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quivalente à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183280" y="1447920"/>
            <a:ext cx="1291320" cy="977760"/>
            <a:chOff x="5183280" y="1447920"/>
            <a:chExt cx="1291320" cy="977760"/>
          </a:xfrm>
        </p:grpSpPr>
        <p:grpSp>
          <p:nvGrpSpPr>
            <p:cNvPr id="224" name=""/>
            <p:cNvGrpSpPr/>
            <p:nvPr/>
          </p:nvGrpSpPr>
          <p:grpSpPr>
            <a:xfrm>
              <a:off x="5319360" y="1600200"/>
              <a:ext cx="1128960" cy="719280"/>
              <a:chOff x="5319360" y="1600200"/>
              <a:chExt cx="1128960" cy="719280"/>
            </a:xfrm>
          </p:grpSpPr>
          <p:sp>
            <p:nvSpPr>
              <p:cNvPr id="225" name=""/>
              <p:cNvSpPr/>
              <p:nvPr/>
            </p:nvSpPr>
            <p:spPr>
              <a:xfrm>
                <a:off x="5713920" y="1600200"/>
                <a:ext cx="36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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319360" y="1795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5900400" y="18622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991120" y="1795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5183280" y="14479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0360" y="205740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in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112840" y="3352680"/>
            <a:ext cx="4361760" cy="2057400"/>
            <a:chOff x="2112840" y="3352680"/>
            <a:chExt cx="4361760" cy="2057400"/>
          </a:xfrm>
        </p:grpSpPr>
        <p:sp>
          <p:nvSpPr>
            <p:cNvPr id="232" name=""/>
            <p:cNvSpPr/>
            <p:nvPr/>
          </p:nvSpPr>
          <p:spPr>
            <a:xfrm>
              <a:off x="5850360" y="335268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in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112840" y="3504960"/>
              <a:ext cx="686880" cy="1905120"/>
              <a:chOff x="2112840" y="3504960"/>
              <a:chExt cx="686880" cy="1905120"/>
            </a:xfrm>
          </p:grpSpPr>
          <p:sp>
            <p:nvSpPr>
              <p:cNvPr id="234" name=""/>
              <p:cNvSpPr/>
              <p:nvPr/>
            </p:nvSpPr>
            <p:spPr>
              <a:xfrm>
                <a:off x="2419200" y="49528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112840" y="4417920"/>
                <a:ext cx="608040" cy="608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66560" y="3504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5400000">
                <a:off x="2342520" y="3826440"/>
                <a:ext cx="36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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23960" y="3504960"/>
                <a:ext cx="0" cy="40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16040" y="4114800"/>
                <a:ext cx="0" cy="28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2571120" y="3657600"/>
                <a:ext cx="22860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3028680" y="3504960"/>
              <a:ext cx="686880" cy="1905120"/>
              <a:chOff x="3028680" y="3504960"/>
              <a:chExt cx="686880" cy="1905120"/>
            </a:xfrm>
          </p:grpSpPr>
          <p:sp>
            <p:nvSpPr>
              <p:cNvPr id="242" name=""/>
              <p:cNvSpPr/>
              <p:nvPr/>
            </p:nvSpPr>
            <p:spPr>
              <a:xfrm>
                <a:off x="3335040" y="49528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28680" y="4417920"/>
                <a:ext cx="608040" cy="608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182400" y="3504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5400000">
                <a:off x="3258360" y="3826440"/>
                <a:ext cx="36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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439800" y="3504960"/>
                <a:ext cx="0" cy="40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431880" y="4114800"/>
                <a:ext cx="0" cy="28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3486960" y="3657600"/>
                <a:ext cx="22860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3866760" y="3504960"/>
              <a:ext cx="686880" cy="1905120"/>
              <a:chOff x="3866760" y="3504960"/>
              <a:chExt cx="686880" cy="1905120"/>
            </a:xfrm>
          </p:grpSpPr>
          <p:sp>
            <p:nvSpPr>
              <p:cNvPr id="250" name=""/>
              <p:cNvSpPr/>
              <p:nvPr/>
            </p:nvSpPr>
            <p:spPr>
              <a:xfrm>
                <a:off x="4173120" y="49528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866760" y="4417920"/>
                <a:ext cx="608040" cy="608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020480" y="3504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5400000">
                <a:off x="4096440" y="3826440"/>
                <a:ext cx="36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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277880" y="3504960"/>
                <a:ext cx="0" cy="40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269960" y="4114800"/>
                <a:ext cx="0" cy="28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4325040" y="3657600"/>
                <a:ext cx="22860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4781160" y="3504960"/>
              <a:ext cx="686880" cy="1905120"/>
              <a:chOff x="4781160" y="3504960"/>
              <a:chExt cx="686880" cy="1905120"/>
            </a:xfrm>
          </p:grpSpPr>
          <p:sp>
            <p:nvSpPr>
              <p:cNvPr id="258" name=""/>
              <p:cNvSpPr/>
              <p:nvPr/>
            </p:nvSpPr>
            <p:spPr>
              <a:xfrm>
                <a:off x="5087520" y="49528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781160" y="4417920"/>
                <a:ext cx="608040" cy="608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34880" y="3504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5400000">
                <a:off x="5010840" y="3826440"/>
                <a:ext cx="36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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92280" y="3504960"/>
                <a:ext cx="0" cy="40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84360" y="4114800"/>
                <a:ext cx="0" cy="28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5239440" y="3657600"/>
                <a:ext cx="22860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2800080" y="3657600"/>
              <a:ext cx="335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2723400" y="4724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3562200" y="47242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4476600" y="47242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5391000" y="4724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71880" y="36576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3682080" y="362556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4526640" y="36320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447880" y="363204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746320" y="363204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ithme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we've bee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 (seconds, cycles, instruc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traction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Instruction Set Architectur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Assembly Language and Machine Langu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's up ahea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ing the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446120" y="3687840"/>
            <a:ext cx="3295800" cy="2595600"/>
            <a:chOff x="1446120" y="3687840"/>
            <a:chExt cx="3295800" cy="2595600"/>
          </a:xfrm>
        </p:grpSpPr>
        <p:grpSp>
          <p:nvGrpSpPr>
            <p:cNvPr id="46" name=""/>
            <p:cNvGrpSpPr/>
            <p:nvPr/>
          </p:nvGrpSpPr>
          <p:grpSpPr>
            <a:xfrm>
              <a:off x="1446120" y="3687840"/>
              <a:ext cx="3295800" cy="2595600"/>
              <a:chOff x="1446120" y="3687840"/>
              <a:chExt cx="3295800" cy="2595600"/>
            </a:xfrm>
          </p:grpSpPr>
          <p:sp>
            <p:nvSpPr>
              <p:cNvPr id="47" name=""/>
              <p:cNvSpPr/>
              <p:nvPr/>
            </p:nvSpPr>
            <p:spPr>
              <a:xfrm>
                <a:off x="2498760" y="4440240"/>
                <a:ext cx="615960" cy="1744560"/>
              </a:xfrm>
              <a:custGeom>
                <a:avLst/>
                <a:gdLst/>
                <a:ahLst/>
                <a:rect l="l" t="t" r="r" b="b"/>
                <a:pathLst>
                  <a:path w="388" h="1099">
                    <a:moveTo>
                      <a:pt x="0" y="0"/>
                    </a:moveTo>
                    <a:lnTo>
                      <a:pt x="0" y="427"/>
                    </a:lnTo>
                    <a:lnTo>
                      <a:pt x="111" y="553"/>
                    </a:lnTo>
                    <a:lnTo>
                      <a:pt x="0" y="671"/>
                    </a:lnTo>
                    <a:lnTo>
                      <a:pt x="0" y="1098"/>
                    </a:lnTo>
                    <a:lnTo>
                      <a:pt x="387" y="790"/>
                    </a:lnTo>
                    <a:lnTo>
                      <a:pt x="387" y="30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681200" y="5907240"/>
                <a:ext cx="749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147840" y="5343480"/>
                <a:ext cx="74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836800" y="4024440"/>
                <a:ext cx="0" cy="63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670040" y="4765680"/>
                <a:ext cx="74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>
                <a:off x="1870200" y="4687920"/>
                <a:ext cx="147600" cy="18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35200" y="4878360"/>
                <a:ext cx="58896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2520"/>
                    <a:tab algn="l" pos="905040"/>
                    <a:tab algn="l" pos="135720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1735200" y="5816520"/>
                <a:ext cx="588960" cy="466920"/>
                <a:chOff x="1735200" y="5816520"/>
                <a:chExt cx="588960" cy="466920"/>
              </a:xfrm>
            </p:grpSpPr>
            <p:sp>
              <p:nvSpPr>
                <p:cNvPr id="55" name=""/>
                <p:cNvSpPr/>
                <p:nvPr/>
              </p:nvSpPr>
              <p:spPr>
                <a:xfrm flipH="1">
                  <a:off x="1870200" y="5816520"/>
                  <a:ext cx="147600" cy="18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735200" y="6006960"/>
                  <a:ext cx="588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199"/>
                    </a:lnSpc>
                    <a:tabLst>
                      <a:tab algn="l" pos="0"/>
                      <a:tab algn="l" pos="452520"/>
                      <a:tab algn="l" pos="905040"/>
                      <a:tab algn="l" pos="1357200"/>
                      <a:tab algn="l" pos="1809720"/>
                      <a:tab algn="l" pos="2714760"/>
                      <a:tab algn="l" pos="3619440"/>
                      <a:tab algn="l" pos="4524480"/>
                      <a:tab algn="l" pos="5429160"/>
                      <a:tab algn="l" pos="6334200"/>
                      <a:tab algn="l" pos="7238880"/>
                      <a:tab algn="l" pos="8143920"/>
                      <a:tab algn="l" pos="9048600"/>
                      <a:tab algn="l" pos="9953640"/>
                      <a:tab algn="l" pos="108586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3313080" y="5253120"/>
                <a:ext cx="588960" cy="466560"/>
                <a:chOff x="3313080" y="5253120"/>
                <a:chExt cx="588960" cy="466560"/>
              </a:xfrm>
            </p:grpSpPr>
            <p:sp>
              <p:nvSpPr>
                <p:cNvPr id="58" name=""/>
                <p:cNvSpPr/>
                <p:nvPr/>
              </p:nvSpPr>
              <p:spPr>
                <a:xfrm flipH="1">
                  <a:off x="3448080" y="5253120"/>
                  <a:ext cx="147600" cy="18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3313080" y="5443560"/>
                  <a:ext cx="5889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199"/>
                    </a:lnSpc>
                    <a:tabLst>
                      <a:tab algn="l" pos="0"/>
                      <a:tab algn="l" pos="452520"/>
                      <a:tab algn="l" pos="905040"/>
                      <a:tab algn="l" pos="1357200"/>
                      <a:tab algn="l" pos="1809720"/>
                      <a:tab algn="l" pos="2714760"/>
                      <a:tab algn="l" pos="3619440"/>
                      <a:tab algn="l" pos="4524480"/>
                      <a:tab algn="l" pos="5429160"/>
                      <a:tab algn="l" pos="6334200"/>
                      <a:tab algn="l" pos="7238880"/>
                      <a:tab algn="l" pos="8143920"/>
                      <a:tab algn="l" pos="9048600"/>
                      <a:tab algn="l" pos="9953640"/>
                      <a:tab algn="l" pos="108586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" name=""/>
              <p:cNvSpPr/>
              <p:nvPr/>
            </p:nvSpPr>
            <p:spPr>
              <a:xfrm>
                <a:off x="2746440" y="4211640"/>
                <a:ext cx="18396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573280" y="3687840"/>
                <a:ext cx="117792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452520"/>
                    <a:tab algn="l" pos="905040"/>
                    <a:tab algn="l" pos="135720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Times New Roman"/>
                  </a:rPr>
                  <a:t>oper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951360" y="5105520"/>
                <a:ext cx="7905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452520"/>
                    <a:tab algn="l" pos="905040"/>
                    <a:tab algn="l" pos="135720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Times New Roman"/>
                  </a:rPr>
                  <a:t>resul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46120" y="4514760"/>
                <a:ext cx="50184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452520"/>
                    <a:tab algn="l" pos="905040"/>
                    <a:tab algn="l" pos="135720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446120" y="5643720"/>
                <a:ext cx="5018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452520"/>
                    <a:tab algn="l" pos="905040"/>
                    <a:tab algn="l" pos="135720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2560680" y="4876920"/>
              <a:ext cx="71424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L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25360" y="312840"/>
            <a:ext cx="4346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to support the set-on-less-than instruction (sl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:  slt is an arithmetic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a 1 if rs &lt; rt and 0 otherw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ubtraction:  (a-b) &lt; 0 implies a &lt;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to support test for equality (beq $t5, $t6, $t7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ubtraction:  (a-b) = 0 implies a =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iloring the ALU to the M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ing sl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5960" y="1018440"/>
            <a:ext cx="832644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we figure out the idea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153040" y="352440"/>
            <a:ext cx="3116160" cy="61754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22280" y="838080"/>
            <a:ext cx="4187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916200" y="2362320"/>
            <a:ext cx="3481200" cy="1511280"/>
            <a:chOff x="916200" y="2362320"/>
            <a:chExt cx="3481200" cy="1511280"/>
          </a:xfrm>
        </p:grpSpPr>
        <p:sp>
          <p:nvSpPr>
            <p:cNvPr id="283" name=""/>
            <p:cNvSpPr/>
            <p:nvPr/>
          </p:nvSpPr>
          <p:spPr>
            <a:xfrm>
              <a:off x="1295280" y="2743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95280" y="32767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76520" y="304812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47920" y="2523960"/>
              <a:ext cx="304560" cy="1057320"/>
            </a:xfrm>
            <a:custGeom>
              <a:avLst/>
              <a:gdLst/>
              <a:ahLst/>
              <a:rect l="l" t="t" r="r" b="b"/>
              <a:pathLst>
                <a:path w="192" h="666">
                  <a:moveTo>
                    <a:pt x="0" y="0"/>
                  </a:moveTo>
                  <a:lnTo>
                    <a:pt x="1" y="282"/>
                  </a:lnTo>
                  <a:lnTo>
                    <a:pt x="65" y="330"/>
                  </a:lnTo>
                  <a:lnTo>
                    <a:pt x="1" y="378"/>
                  </a:lnTo>
                  <a:lnTo>
                    <a:pt x="1" y="666"/>
                  </a:lnTo>
                  <a:lnTo>
                    <a:pt x="192" y="522"/>
                  </a:lnTo>
                  <a:lnTo>
                    <a:pt x="192" y="1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29000" y="30481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2057400" y="3276720"/>
              <a:ext cx="1600200" cy="152280"/>
              <a:chOff x="2057400" y="3276720"/>
              <a:chExt cx="1600200" cy="152280"/>
            </a:xfrm>
          </p:grpSpPr>
          <p:sp>
            <p:nvSpPr>
              <p:cNvPr id="289" name=""/>
              <p:cNvSpPr/>
              <p:nvPr/>
            </p:nvSpPr>
            <p:spPr>
              <a:xfrm>
                <a:off x="2057400" y="3276720"/>
                <a:ext cx="1600200" cy="152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52680" y="327672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2590920" y="2819520"/>
              <a:ext cx="152280" cy="4572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24320" y="2498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16200" y="23623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16200" y="3048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93080" y="33526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26960" y="2666880"/>
              <a:ext cx="127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it de si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48960" y="350532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subtr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238560" y="1514520"/>
            <a:ext cx="2682720" cy="42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for equa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ce control lines:</a:t>
            </a:r>
            <a:br>
              <a:rPr sz="1800"/>
            </a:b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 =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1 = o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10 = ad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10 = subtrac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11 = slt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96280" y="3962520"/>
            <a:ext cx="365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Times New Roman"/>
              </a:rPr>
              <a:t>Note:  zero is a 1 when the result is zero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200480" y="1292400"/>
            <a:ext cx="4259160" cy="42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884520" y="1219320"/>
            <a:ext cx="2865960" cy="2007720"/>
            <a:chOff x="884520" y="1219320"/>
            <a:chExt cx="2865960" cy="2007720"/>
          </a:xfrm>
        </p:grpSpPr>
        <p:sp>
          <p:nvSpPr>
            <p:cNvPr id="305" name=""/>
            <p:cNvSpPr/>
            <p:nvPr/>
          </p:nvSpPr>
          <p:spPr>
            <a:xfrm>
              <a:off x="1981080" y="1523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1219320" y="1676520"/>
              <a:ext cx="1675440" cy="1550520"/>
              <a:chOff x="1219320" y="1676520"/>
              <a:chExt cx="1675440" cy="1550520"/>
            </a:xfrm>
          </p:grpSpPr>
          <p:sp>
            <p:nvSpPr>
              <p:cNvPr id="307" name=""/>
              <p:cNvSpPr/>
              <p:nvPr/>
            </p:nvSpPr>
            <p:spPr>
              <a:xfrm>
                <a:off x="2113200" y="2445120"/>
                <a:ext cx="781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13200" y="2668320"/>
                <a:ext cx="781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13200" y="2221200"/>
                <a:ext cx="781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219320" y="1998000"/>
                <a:ext cx="67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219320" y="2780280"/>
                <a:ext cx="67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778040" y="1676520"/>
                <a:ext cx="446400" cy="1550520"/>
              </a:xfrm>
              <a:custGeom>
                <a:avLst/>
                <a:gdLst/>
                <a:ahLst/>
                <a:rect l="l" t="t" r="r" b="b"/>
                <a:pathLst>
                  <a:path w="192" h="666">
                    <a:moveTo>
                      <a:pt x="0" y="0"/>
                    </a:moveTo>
                    <a:lnTo>
                      <a:pt x="1" y="282"/>
                    </a:lnTo>
                    <a:lnTo>
                      <a:pt x="65" y="330"/>
                    </a:lnTo>
                    <a:lnTo>
                      <a:pt x="1" y="378"/>
                    </a:lnTo>
                    <a:lnTo>
                      <a:pt x="1" y="666"/>
                    </a:lnTo>
                    <a:lnTo>
                      <a:pt x="192" y="522"/>
                    </a:lnTo>
                    <a:lnTo>
                      <a:pt x="192" y="1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2669040" y="260496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Overf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31320" y="12193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LU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84520" y="1809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98560" y="2585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68680" y="19051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Ze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64520" y="225252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4952880" y="1600200"/>
            <a:ext cx="228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2 bits: A, B,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 bit: Zero, 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 bits: ALU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442880" y="3048120"/>
          <a:ext cx="6258240" cy="353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2880" y="3048120"/>
                    <a:ext cx="6258240" cy="35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n build an ALU to support the MIPS instruction 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idea:  use multiplexor to select the output we w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n efficiently perform subtraction using two’s comp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n replicate a 1-bit ALU to produce a 32-bit AL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points about hard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of the gates are always wo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peed of a gate is affected by the number of inputs to the g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peed of a circuit is affected by the number of gates in seri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n the “critical path” or the “deepest level of logic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primary focus:  comprehension,  however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ver changes to organization can improve performan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imilar to using better algorithms in softwar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’ll look at two examples for addition and multi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a 32-bit ALU as fast as a 1-bit ALU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raso (en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oma ou carry = 2G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estágios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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re more than one way to do additi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extremes: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ripple carry (2nG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sum-of-products (2G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you see the ripple?  How could you get rid of it?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feasible!  Wh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:  ripple carry adder is s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6705720" y="1066680"/>
            <a:ext cx="2252520" cy="40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5360" y="312840"/>
            <a:ext cx="3394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240120" indent="-24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pproach in-between our two extre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ivation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199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we didn't know the value of carry-in, what could we d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199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would we always generate a carry?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199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would we propagate the carry?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d we get rid of the rippl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  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 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3 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sible!  Wh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raso:  en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G)       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carry (2G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ry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saídas (2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ry-lookahead ad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72840" y="5715000"/>
            <a:ext cx="31953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otal: 5G independente de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25360" y="312840"/>
            <a:ext cx="7051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952800" y="2886120"/>
            <a:ext cx="4972320" cy="16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’t build a 16 bit adder this way... (too bi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uld use ripple carry of 4-bit CLA add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ter:  use the CLA principle again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 propagate (ver pag 24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 generate (ver pag 24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 exercícios 4.44, 45 e 46 (não será cobrado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principle to build bigger add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019160" y="1028880"/>
            <a:ext cx="286236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25360" y="312840"/>
            <a:ext cx="2054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complicated than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mplished via shifting and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time and more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's look at 3 versions based on gradeschool algorithm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ative numbers:  convert and multip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are better techniques, we won’t look at th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143000" y="2724120"/>
          <a:ext cx="6721560" cy="314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724120"/>
                    <a:ext cx="672156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5360" y="312840"/>
            <a:ext cx="1416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s are just bits (no inherent meaning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conventions define relationship between bits and numb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 numbers (base 2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0 0001 0010 0011 0100 0101 0110 0111 1000 1001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imal:  0...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course it gets more complicated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 are finite (overflow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ctions and real number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ative number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no MIPS subi instruction; addi can add a negative numb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 represent negative numbers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e., which bit patterns will represent which number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ication: 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6629400" y="1219320"/>
            <a:ext cx="1792440" cy="23000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990720" y="2590920"/>
            <a:ext cx="6134040" cy="31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Ve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6134040" cy="29703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6324480" y="1219320"/>
            <a:ext cx="1792440" cy="23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l Ve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4935240" cy="2971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1792080" cy="20923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600200" y="4495680"/>
            <a:ext cx="6035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MIP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ois novos registradores de uso dedicado para multiplicação: Hi e Lo (32 bits ca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lt $t1, $t2         # Hi Lo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t1 * $t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fhi $t1                #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H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flo $t1                #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oritmo de Booth (visão geral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10480" y="1196280"/>
            <a:ext cx="7970040" cy="52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déia: “acelerar” multiplicação no caso de cadeia de “1´s” no multiplicado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 1 1 1 0 * (multiplicando)  =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+    1 0 0 0 0 * (multiplicand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    0 0 0 1 0 * (multiplicand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lhando bits do multiplicador 2 a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0   na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1   soma (fi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0  subtrai (começ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1  nada  (meio da cadeia de u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ciona também para números negativ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 o curso: só os conceitos básic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goritmo de Booth estendi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rre os bits do multiplicador de 2 em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pensava-se: shift é mais rápido do que som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ra metade dos produtos parciais: metade dos cicl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ação rápida dos produtos parcia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517760" y="987480"/>
          <a:ext cx="4938480" cy="234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7760" y="987480"/>
                    <a:ext cx="493848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1143000" y="3581280"/>
            <a:ext cx="6477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449568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43000" y="5486400"/>
            <a:ext cx="6400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52480" y="3124080"/>
            <a:ext cx="0" cy="289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09880" y="3124080"/>
            <a:ext cx="0" cy="289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19920" y="3124080"/>
            <a:ext cx="0" cy="289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752840" y="3580920"/>
            <a:ext cx="606600" cy="605880"/>
            <a:chOff x="1752840" y="3580920"/>
            <a:chExt cx="606600" cy="605880"/>
          </a:xfrm>
        </p:grpSpPr>
        <p:sp>
          <p:nvSpPr>
            <p:cNvPr id="362" name=""/>
            <p:cNvSpPr/>
            <p:nvPr/>
          </p:nvSpPr>
          <p:spPr>
            <a:xfrm>
              <a:off x="1887120" y="358092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52840" y="371592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57120" y="3984840"/>
              <a:ext cx="202320" cy="20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2707200">
              <a:off x="1911240" y="3757680"/>
              <a:ext cx="367920" cy="32688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810240" y="3580920"/>
            <a:ext cx="606600" cy="605880"/>
            <a:chOff x="3810240" y="3580920"/>
            <a:chExt cx="606600" cy="605880"/>
          </a:xfrm>
        </p:grpSpPr>
        <p:sp>
          <p:nvSpPr>
            <p:cNvPr id="367" name=""/>
            <p:cNvSpPr/>
            <p:nvPr/>
          </p:nvSpPr>
          <p:spPr>
            <a:xfrm>
              <a:off x="3944520" y="358092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810240" y="371592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214520" y="3984840"/>
              <a:ext cx="202320" cy="20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2707200">
              <a:off x="3968640" y="3757680"/>
              <a:ext cx="367920" cy="32688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6005880" y="3585600"/>
            <a:ext cx="606600" cy="605880"/>
            <a:chOff x="6005880" y="3585600"/>
            <a:chExt cx="606600" cy="605880"/>
          </a:xfrm>
        </p:grpSpPr>
        <p:sp>
          <p:nvSpPr>
            <p:cNvPr id="372" name=""/>
            <p:cNvSpPr/>
            <p:nvPr/>
          </p:nvSpPr>
          <p:spPr>
            <a:xfrm>
              <a:off x="6140160" y="358560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05880" y="372060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10160" y="3989520"/>
              <a:ext cx="202320" cy="20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2707200">
              <a:off x="6164280" y="3762360"/>
              <a:ext cx="367920" cy="32688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1752840" y="4495320"/>
            <a:ext cx="606600" cy="605880"/>
            <a:chOff x="1752840" y="4495320"/>
            <a:chExt cx="606600" cy="605880"/>
          </a:xfrm>
        </p:grpSpPr>
        <p:sp>
          <p:nvSpPr>
            <p:cNvPr id="377" name=""/>
            <p:cNvSpPr/>
            <p:nvPr/>
          </p:nvSpPr>
          <p:spPr>
            <a:xfrm>
              <a:off x="1887120" y="449532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52840" y="463032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157120" y="4899240"/>
              <a:ext cx="202320" cy="20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2707200">
              <a:off x="1911240" y="4672080"/>
              <a:ext cx="367920" cy="32688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3810240" y="4495320"/>
            <a:ext cx="606600" cy="605880"/>
            <a:chOff x="3810240" y="4495320"/>
            <a:chExt cx="606600" cy="605880"/>
          </a:xfrm>
        </p:grpSpPr>
        <p:sp>
          <p:nvSpPr>
            <p:cNvPr id="382" name=""/>
            <p:cNvSpPr/>
            <p:nvPr/>
          </p:nvSpPr>
          <p:spPr>
            <a:xfrm>
              <a:off x="3944520" y="449532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10240" y="463032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14520" y="4899240"/>
              <a:ext cx="202320" cy="20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2707200">
              <a:off x="3968640" y="4672080"/>
              <a:ext cx="367920" cy="32688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6019920" y="4485600"/>
            <a:ext cx="606240" cy="605160"/>
            <a:chOff x="6019920" y="4485600"/>
            <a:chExt cx="606240" cy="605160"/>
          </a:xfrm>
        </p:grpSpPr>
        <p:sp>
          <p:nvSpPr>
            <p:cNvPr id="387" name=""/>
            <p:cNvSpPr/>
            <p:nvPr/>
          </p:nvSpPr>
          <p:spPr>
            <a:xfrm>
              <a:off x="6154560" y="448560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19920" y="462060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24200" y="4889160"/>
              <a:ext cx="201960" cy="20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2707200">
              <a:off x="6178320" y="4661640"/>
              <a:ext cx="367560" cy="32724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752840" y="5481000"/>
            <a:ext cx="606600" cy="605880"/>
            <a:chOff x="1752840" y="5481000"/>
            <a:chExt cx="606600" cy="605880"/>
          </a:xfrm>
        </p:grpSpPr>
        <p:sp>
          <p:nvSpPr>
            <p:cNvPr id="392" name=""/>
            <p:cNvSpPr/>
            <p:nvPr/>
          </p:nvSpPr>
          <p:spPr>
            <a:xfrm>
              <a:off x="1887120" y="548100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52840" y="561600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57120" y="5884920"/>
              <a:ext cx="202320" cy="20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2707200">
              <a:off x="1911240" y="5657760"/>
              <a:ext cx="367920" cy="32688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810240" y="5481000"/>
            <a:ext cx="606600" cy="605880"/>
            <a:chOff x="3810240" y="5481000"/>
            <a:chExt cx="606600" cy="605880"/>
          </a:xfrm>
        </p:grpSpPr>
        <p:sp>
          <p:nvSpPr>
            <p:cNvPr id="397" name=""/>
            <p:cNvSpPr/>
            <p:nvPr/>
          </p:nvSpPr>
          <p:spPr>
            <a:xfrm>
              <a:off x="3944520" y="548100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10240" y="561600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14520" y="5884920"/>
              <a:ext cx="202320" cy="20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2707200">
              <a:off x="3968640" y="5657760"/>
              <a:ext cx="367920" cy="32688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6019920" y="5485680"/>
            <a:ext cx="606240" cy="605160"/>
            <a:chOff x="6019920" y="5485680"/>
            <a:chExt cx="606240" cy="605160"/>
          </a:xfrm>
        </p:grpSpPr>
        <p:sp>
          <p:nvSpPr>
            <p:cNvPr id="402" name=""/>
            <p:cNvSpPr/>
            <p:nvPr/>
          </p:nvSpPr>
          <p:spPr>
            <a:xfrm>
              <a:off x="6154560" y="548568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19920" y="5620680"/>
              <a:ext cx="269640" cy="2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24200" y="5889240"/>
              <a:ext cx="201960" cy="20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2707200">
              <a:off x="6178320" y="5661720"/>
              <a:ext cx="367560" cy="327240"/>
            </a:xfrm>
            <a:prstGeom prst="flowChartDelay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836000" y="30481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93400" y="30481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7320" y="30481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45640" y="32004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45640" y="41148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45640" y="5105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438280" y="3962520"/>
            <a:ext cx="648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3962520"/>
            <a:ext cx="648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05720" y="3962520"/>
            <a:ext cx="64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05720" y="4952880"/>
            <a:ext cx="64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0" y="4952880"/>
            <a:ext cx="64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14600" y="4952880"/>
            <a:ext cx="64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5943600"/>
            <a:ext cx="64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95680" y="5943600"/>
            <a:ext cx="648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81680" y="5943600"/>
            <a:ext cx="648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ry Save Adders (soma de produtos parciai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F0456" descr=""/>
          <p:cNvPicPr/>
          <p:nvPr/>
        </p:nvPicPr>
        <p:blipFill>
          <a:blip r:embed="rId1"/>
          <a:stretch/>
        </p:blipFill>
        <p:spPr>
          <a:xfrm>
            <a:off x="1890720" y="1152360"/>
            <a:ext cx="572940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is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645200" y="1100160"/>
            <a:ext cx="56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9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29   =   3  *   Q   +   R  =   3  *  9  +  2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2461200">
            <a:off x="3200040" y="159660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ivide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2461200">
            <a:off x="3962520" y="150444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ivi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2461200">
            <a:off x="4462920" y="159948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oc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2461200">
            <a:off x="5212440" y="14598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60680" y="2779560"/>
            <a:ext cx="3327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=  011101          3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= 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600200" y="3733920"/>
            <a:ext cx="33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 1 1 1 0 1          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95800" y="3762360"/>
            <a:ext cx="1218960" cy="304920"/>
          </a:xfrm>
          <a:custGeom>
            <a:avLst/>
            <a:gdLst/>
            <a:ahLst/>
            <a:rect l="l" t="t" r="r" b="b"/>
            <a:pathLst>
              <a:path w="768" h="192">
                <a:moveTo>
                  <a:pt x="0" y="0"/>
                </a:moveTo>
                <a:lnTo>
                  <a:pt x="0" y="192"/>
                </a:lnTo>
                <a:lnTo>
                  <a:pt x="768" y="1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95320" y="4038480"/>
            <a:ext cx="33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 1                   0 1 0 0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4343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14400" y="44290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 0 1 0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362320" y="4714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5029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623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38862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 = 9     R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343400" y="4952880"/>
            <a:ext cx="3962520" cy="3682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o implementar em hardwa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a 1: divisão com restaura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57200" y="2666880"/>
          <a:ext cx="6218280" cy="31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66880"/>
                    <a:ext cx="6218280" cy="31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3" name=""/>
          <p:cNvGrpSpPr/>
          <p:nvPr/>
        </p:nvGrpSpPr>
        <p:grpSpPr>
          <a:xfrm>
            <a:off x="1676520" y="5638680"/>
            <a:ext cx="4495680" cy="457200"/>
            <a:chOff x="1676520" y="5638680"/>
            <a:chExt cx="4495680" cy="457200"/>
          </a:xfrm>
        </p:grpSpPr>
        <p:sp>
          <p:nvSpPr>
            <p:cNvPr id="444" name=""/>
            <p:cNvSpPr/>
            <p:nvPr/>
          </p:nvSpPr>
          <p:spPr>
            <a:xfrm>
              <a:off x="1676520" y="5638680"/>
              <a:ext cx="4495680" cy="4572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276720" y="5667480"/>
              <a:ext cx="2585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q</a:t>
              </a:r>
              <a:r>
                <a:rPr b="1" lang="pt-BR" sz="1800" spc="-1" strike="noStrike" baseline="-25000">
                  <a:solidFill>
                    <a:srgbClr val="0000ff"/>
                  </a:solidFill>
                  <a:latin typeface="Arial"/>
                </a:rPr>
                <a:t>4</a:t>
              </a: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q</a:t>
              </a:r>
              <a:r>
                <a:rPr b="1" lang="pt-BR" sz="1800" spc="-1" strike="noStrike" baseline="-25000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q</a:t>
              </a:r>
              <a:r>
                <a:rPr b="1" lang="pt-BR" sz="18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q</a:t>
              </a:r>
              <a:r>
                <a:rPr b="1" lang="pt-BR" sz="18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q</a:t>
              </a:r>
              <a:r>
                <a:rPr b="1" lang="pt-BR" sz="1800" spc="-1" strike="noStrike" baseline="-25000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= 01001 = 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829520" y="5667480"/>
              <a:ext cx="12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R = 11 =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1905840" y="990720"/>
            <a:ext cx="480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ardware não sabe se “vai caber ou nã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ador para guardar resto pa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rificação do sinal do resto pa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so negativo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restaur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a 2: divisão sem restaura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612720" y="3578400"/>
          <a:ext cx="7823160" cy="269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3578400"/>
                    <a:ext cx="782316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0" y="1066680"/>
          <a:ext cx="9510840" cy="2913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066680"/>
                    <a:ext cx="951084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"/>
          <p:cNvSpPr/>
          <p:nvPr/>
        </p:nvSpPr>
        <p:spPr>
          <a:xfrm>
            <a:off x="231120" y="10666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a 2: conversão do resulta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1066680" y="1371600"/>
                <a:ext cx="44560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1</m:t>
                        </m:r>
                      </m:e>
                    </m:acc>
                    <m:r>
                      <m:t xml:space="preserve">1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1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1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2433600" y="1992240"/>
            <a:ext cx="28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6   -  8   + 4  -   2   -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371600" y="3048120"/>
                <a:ext cx="55497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1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/>
                          <m:sup>
                            <m:sSub>
                              <m:e/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p>
                        </m:sSup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1828800" y="3962520"/>
                <a:ext cx="12524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1</m:t>
                        </m:r>
                      </m:e>
                    </m:acc>
                    <m:r>
                      <m:t xml:space="preserve">1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1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1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1828800" y="4419720"/>
                <a:ext cx="12254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1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2494080" y="4876920"/>
                <a:ext cx="5540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3733920" y="4038480"/>
            <a:ext cx="47242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º de somas: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º de subtrações: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otal: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S: se resto &lt; 0 deve haver correção de um divisor para que resto &gt;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5360" y="312840"/>
            <a:ext cx="3795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gn Magnitude:         One's Complement     Two's Complement</a:t>
            </a:r>
            <a:br>
              <a:rPr sz="1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 = +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 = +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 = +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1 = +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1 = +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1 = +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0 = +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0 = +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0 = +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1 = +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1 = +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1 = +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= -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= -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= -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 = -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 = -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 = -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 = -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 = -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 = -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1 = -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1 = -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1 = -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s:  balance, number of zeros, ease of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one is best?  Why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sible Represent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ação das altern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575784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dware para divisão: terceira alternati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F0441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4916520" cy="3129120"/>
          </a:xfrm>
          <a:prstGeom prst="rect">
            <a:avLst/>
          </a:prstGeom>
          <a:ln w="0">
            <a:noFill/>
          </a:ln>
        </p:spPr>
      </p:pic>
      <p:pic>
        <p:nvPicPr>
          <p:cNvPr id="466" name="F0440" descr=""/>
          <p:cNvPicPr/>
          <p:nvPr/>
        </p:nvPicPr>
        <p:blipFill>
          <a:blip r:embed="rId2"/>
          <a:stretch/>
        </p:blipFill>
        <p:spPr>
          <a:xfrm>
            <a:off x="5410080" y="1295280"/>
            <a:ext cx="3044880" cy="37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çõ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95280" y="1752480"/>
            <a:ext cx="6035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MIP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ois novos registradores de uso dedicado para multiplicação: Hi e Lo (32 bits ca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lt $t1, $t2         # Hi Lo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t1 * $t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fhi $t1                #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H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flo $t1                #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 divis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v $s2, $s3          # Lo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s3    /     $s3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                 Hi 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s3 mod $s3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vu $s2, $s3          #  idem para “unsign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nto Flutuan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31200" y="1245960"/>
            <a:ext cx="8175960" cy="261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13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presentação de números não inteir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13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umentar a capacidade de representação (maiores ou menor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rmato padroniz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13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XXXXXXXXX .....  * 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yyy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no caso geral B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yyy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13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MIPS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13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1295280" y="3733920"/>
            <a:ext cx="4343400" cy="657720"/>
            <a:chOff x="1295280" y="3733920"/>
            <a:chExt cx="4343400" cy="657720"/>
          </a:xfrm>
        </p:grpSpPr>
        <p:grpSp>
          <p:nvGrpSpPr>
            <p:cNvPr id="472" name=""/>
            <p:cNvGrpSpPr/>
            <p:nvPr/>
          </p:nvGrpSpPr>
          <p:grpSpPr>
            <a:xfrm>
              <a:off x="1295280" y="3733920"/>
              <a:ext cx="4343400" cy="304560"/>
              <a:chOff x="1295280" y="3733920"/>
              <a:chExt cx="4343400" cy="304560"/>
            </a:xfrm>
          </p:grpSpPr>
          <p:sp>
            <p:nvSpPr>
              <p:cNvPr id="473" name=""/>
              <p:cNvSpPr/>
              <p:nvPr/>
            </p:nvSpPr>
            <p:spPr>
              <a:xfrm>
                <a:off x="1295280" y="3733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600200" y="3733920"/>
                <a:ext cx="175248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ex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352680" y="3733920"/>
                <a:ext cx="228600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mantissa ou significand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2576520" y="4038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963600" y="40543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924120" y="5715000"/>
            <a:ext cx="39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inal-magnitude            (-1)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F  * 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3400" y="4495680"/>
            <a:ext cx="304920" cy="838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4648320" y="4495680"/>
            <a:ext cx="2672640" cy="916920"/>
            <a:chOff x="4648320" y="4495680"/>
            <a:chExt cx="2672640" cy="916920"/>
          </a:xfrm>
        </p:grpSpPr>
        <p:sp>
          <p:nvSpPr>
            <p:cNvPr id="481" name=""/>
            <p:cNvSpPr/>
            <p:nvPr/>
          </p:nvSpPr>
          <p:spPr>
            <a:xfrm>
              <a:off x="4648320" y="449568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exp</a:t>
              </a:r>
              <a:br>
                <a:rPr sz="1800"/>
              </a:b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800"/>
              </a:br>
              <a:r>
                <a:rPr b="1" lang="pt-B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mantis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044400" y="4495680"/>
              <a:ext cx="1276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faixa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precis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nto Flutuante e padrão IEEE 75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371600" y="4876920"/>
            <a:ext cx="4343400" cy="657720"/>
            <a:chOff x="1371600" y="4876920"/>
            <a:chExt cx="4343400" cy="657720"/>
          </a:xfrm>
        </p:grpSpPr>
        <p:grpSp>
          <p:nvGrpSpPr>
            <p:cNvPr id="485" name=""/>
            <p:cNvGrpSpPr/>
            <p:nvPr/>
          </p:nvGrpSpPr>
          <p:grpSpPr>
            <a:xfrm>
              <a:off x="1371600" y="4876920"/>
              <a:ext cx="4343400" cy="304560"/>
              <a:chOff x="1371600" y="4876920"/>
              <a:chExt cx="4343400" cy="304560"/>
            </a:xfrm>
          </p:grpSpPr>
          <p:sp>
            <p:nvSpPr>
              <p:cNvPr id="486" name=""/>
              <p:cNvSpPr/>
              <p:nvPr/>
            </p:nvSpPr>
            <p:spPr>
              <a:xfrm>
                <a:off x="1371600" y="4876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676520" y="4876920"/>
                <a:ext cx="175248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ex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429000" y="4876920"/>
                <a:ext cx="228600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mantissa ou significand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2652840" y="5181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039920" y="51973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899640" y="1292400"/>
            <a:ext cx="5479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poente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[-128 , 127]                         se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28 = 8 + 10 * 12;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128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(8 + 10 * 12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*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(10 * 12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2 * 10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verflow  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Nº &gt; 10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nderflow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Nº &lt; 10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-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DRÃO IEEE 7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200400" y="4572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XXXXXXXX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581280" y="3657600"/>
            <a:ext cx="1447920" cy="533520"/>
          </a:xfrm>
          <a:prstGeom prst="wedgeRoundRectCallout">
            <a:avLst>
              <a:gd name="adj1" fmla="val -61402"/>
              <a:gd name="adj2" fmla="val 119347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m implíc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427040" y="5599080"/>
            <a:ext cx="45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ntissa: precisão simples: 23 bits (+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ecisão dupla:     52 bits (+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drão IEEE754: b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72520" y="1186920"/>
            <a:ext cx="8293320" cy="113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º = (-1)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(1 + Mantissa)  * 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 simplificar a ordenação (sorting): BI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762120" y="2514600"/>
            <a:ext cx="4114800" cy="1054080"/>
            <a:chOff x="762120" y="2514600"/>
            <a:chExt cx="4114800" cy="1054080"/>
          </a:xfrm>
        </p:grpSpPr>
        <p:sp>
          <p:nvSpPr>
            <p:cNvPr id="498" name=""/>
            <p:cNvSpPr/>
            <p:nvPr/>
          </p:nvSpPr>
          <p:spPr>
            <a:xfrm>
              <a:off x="838440" y="2971800"/>
              <a:ext cx="3047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440" y="289548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362320" y="289548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86200" y="289548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62120" y="2514600"/>
              <a:ext cx="411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0                  127                   25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143000" y="3200400"/>
              <a:ext cx="229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exp        Bias     ex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438640" y="320040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1371600" y="32004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4952880" y="2590920"/>
            <a:ext cx="3197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padrão:  2 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(nE - 1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- 1 = 1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P =  CAMPO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-  BI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71600" y="3809880"/>
            <a:ext cx="6781680" cy="2057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mplo: representar - 0,75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= - (1/2 + 1/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0,75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= - 0,11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= -1,11 *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ntissa = 1000000 ......        (23 b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mpo expoente: - 1 + 127 = 126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= 0111 1110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133720" y="6019920"/>
            <a:ext cx="5104800" cy="304560"/>
            <a:chOff x="2133720" y="6019920"/>
            <a:chExt cx="5104800" cy="304560"/>
          </a:xfrm>
        </p:grpSpPr>
        <p:sp>
          <p:nvSpPr>
            <p:cNvPr id="509" name=""/>
            <p:cNvSpPr/>
            <p:nvPr/>
          </p:nvSpPr>
          <p:spPr>
            <a:xfrm>
              <a:off x="2133720" y="6019920"/>
              <a:ext cx="304560" cy="304560"/>
            </a:xfrm>
            <a:prstGeom prst="rect">
              <a:avLst/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438280" y="6019920"/>
              <a:ext cx="1752120" cy="304560"/>
            </a:xfrm>
            <a:prstGeom prst="rect">
              <a:avLst/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0111 1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90760" y="6019920"/>
              <a:ext cx="3047760" cy="304560"/>
            </a:xfrm>
            <a:prstGeom prst="rect">
              <a:avLst/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1000 0000 0000 0000 0000 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ela de faixas de representação do IEEE 75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-231840" y="1442880"/>
          <a:ext cx="9063000" cy="389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31840" y="1442880"/>
                    <a:ext cx="9063000" cy="38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a em ponto flutuan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F0444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405612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A para soma em ponto flutuan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F0445" descr=""/>
          <p:cNvPicPr/>
          <p:nvPr/>
        </p:nvPicPr>
        <p:blipFill>
          <a:blip r:embed="rId1"/>
          <a:stretch/>
        </p:blipFill>
        <p:spPr>
          <a:xfrm>
            <a:off x="2209680" y="961920"/>
            <a:ext cx="602136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ultiplicação em ponto flutuan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F0446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6975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5360" y="312840"/>
            <a:ext cx="852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 bit signed numbers:</a:t>
            </a:r>
            <a:br>
              <a:rPr sz="1800"/>
            </a:br>
            <a:br>
              <a:rPr sz="18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00 0000 0000 0000 0000 0000 0000 000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00 0000 0000 0000 0000 0000 0000 0001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+ 1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00 0000 0000 0000 0000 0000 0000 001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+ 2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111 1111 1111 1111 1111 1111 1111 111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+ 2,147,483,646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111 1111 1111 1111 1111 1111 1111 1111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+ 2,147,483,647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 0000 0000 0000 0000 0000 0000 000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– 2,147,483,648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 0000 0000 0000 0000 0000 0000 0001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– 2,147,483,647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 0000 0000 0000 0000 0000 0000 001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– 2,147,483,646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111 1111 1111 1111 1111 1111 1111 1101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– 3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111 1111 1111 1111 1111 1111 1111 111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– 2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111 1111 1111 1111 1111 1111 1111 1111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w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= – 1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ten</a:t>
            </a:r>
            <a:br>
              <a:rPr sz="1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427880" y="2697120"/>
            <a:ext cx="1144800" cy="389160"/>
            <a:chOff x="7427880" y="2697120"/>
            <a:chExt cx="1144800" cy="389160"/>
          </a:xfrm>
        </p:grpSpPr>
        <p:sp>
          <p:nvSpPr>
            <p:cNvPr id="75" name=""/>
            <p:cNvSpPr/>
            <p:nvPr/>
          </p:nvSpPr>
          <p:spPr>
            <a:xfrm>
              <a:off x="7709040" y="2697120"/>
              <a:ext cx="8636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i="1" lang="pt-BR" sz="1800" spc="-1" strike="noStrike">
                  <a:solidFill>
                    <a:srgbClr val="000000"/>
                  </a:solidFill>
                  <a:latin typeface="Times New Roman"/>
                </a:rPr>
                <a:t>max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427880" y="2918880"/>
              <a:ext cx="184320" cy="1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7429680" y="3249720"/>
            <a:ext cx="1029960" cy="388800"/>
            <a:chOff x="7429680" y="3249720"/>
            <a:chExt cx="1029960" cy="388800"/>
          </a:xfrm>
        </p:grpSpPr>
        <p:sp>
          <p:nvSpPr>
            <p:cNvPr id="78" name=""/>
            <p:cNvSpPr/>
            <p:nvPr/>
          </p:nvSpPr>
          <p:spPr>
            <a:xfrm>
              <a:off x="7645320" y="3249720"/>
              <a:ext cx="8143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i="1" lang="pt-BR" sz="1800" spc="-1" strike="noStrike">
                  <a:solidFill>
                    <a:srgbClr val="000000"/>
                  </a:solidFill>
                  <a:latin typeface="Times New Roman"/>
                </a:rPr>
                <a:t>min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29680" y="3333600"/>
              <a:ext cx="18396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junto de instruções do MIPS para f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422440" y="1027080"/>
            <a:ext cx="27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ig 4.47         Pag 2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ating Point Complex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 are somewhat more complicated (see tex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ddition to overflow we can have “underflow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uracy can be a big probl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EE 754 keeps two extra bits, guard and rou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 rounding m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ve divided by zero yields “infinity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ro divide by zero yields “not a number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complex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ing the standard can be trick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using the standard can be even wor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text for description of 80x86 and Pentium bug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Four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arithmetic is constrained by limited prec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 patterns have no inherent meaning but standards do ex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’s comp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EE 754 floating po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instructions determine “meaning” of  the bit patter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 and accuracy are important so there are man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ities in real machines (i.e., algorithms and implementation)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re ready to move on (and implement the processor)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may want to look back (Section 4.12 is great reading!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5360" y="312840"/>
            <a:ext cx="4533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ating a two's complement number:  invert all bits and add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:  “negate” and “invert” are quite different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ing n bit numbers into numbers with more than n bi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PS 16 bit immediate gets converted to 32 bits for arithme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y the most significant bit (the sign bit) into the other bi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0  -&gt; 0000 001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0  -&gt; 1111 1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sign extension"   (lbu  vs.  l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's Complement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as instruçõ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8880" y="1223640"/>
            <a:ext cx="8220600" cy="204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ções “unsigned”: (exemplo de aplicação, cálculo de memóri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tu $t1, $t2, $t3                  # diferença é “sem sinal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ti     e   slti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# envolve imediato, com ou sem si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mplo pag 215: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upor $s0 = FF FF FF FF e $s1 = 00 00 00 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67560" y="3352680"/>
            <a:ext cx="6622920" cy="238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l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$t0, $s0, $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o $s0 &lt; 0 e $s1 &gt; 0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s0&lt;$s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$t0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ltu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$t0, $s0, $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o $s0 e $s1 não tem sinal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s0&gt;$s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$t0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idados com extensão 16 b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1240" y="1296000"/>
            <a:ext cx="8075880" cy="388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q $s0, $s1, nn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 salta para PC + nnn se teste O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nn tem 16 bits e PC tem 32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ender de 16 para 32 bits antes daoperação aritmétic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nnn &gt;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encher com zeros à esquer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nnn &lt; 0         CUID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encher com 1´s à esquer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ific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 este motivo operação é chamada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SÃO DE SI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5360" y="312840"/>
            <a:ext cx="3394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 like in grade school  (carry/borrow 1s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11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+ 011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- 011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- 0101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's complement operations eas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raction using addition of negative number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+ 101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flow  (result too large for finite computer word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 adding two n-bit numbers does not yield an n-bit numb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+ 000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ote that overflow term is somewhat misleading,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1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t does not mean a carry “overflowed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on &amp; Subtra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7T20:06:46Z</dcterms:created>
  <dc:creator>Tod Amon</dc:creator>
  <dc:description/>
  <dc:language>en-US</dc:language>
  <cp:lastModifiedBy>User</cp:lastModifiedBy>
  <cp:lastPrinted>1997-08-28T16:06:06Z</cp:lastPrinted>
  <dcterms:modified xsi:type="dcterms:W3CDTF">2002-04-12T01:16:48Z</dcterms:modified>
  <cp:revision>61</cp:revision>
  <dc:subject/>
  <dc:title>Lectures for 2nd Edition</dc:title>
</cp:coreProperties>
</file>