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7636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1C029D0B-3D48-40BC-A0FB-30FB3040A18F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B: multicicl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225360" y="312840"/>
            <a:ext cx="71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ad registers rs and rt in case we nee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ute the branch address in case the instruction is a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TL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Reg[IR[25-21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 = Reg[IR[20-16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PC + (sign-extend(IR[15-0]) &lt;&lt; 2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 aren't setting any control lines based on the instruction typ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we are busy "decoding" it in our control logic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2:  Instruction Decode and Register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25360" y="312840"/>
            <a:ext cx="477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 is performing one of three functions, based on instruction typ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Referenc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+ sign-extend(IR[15-0]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op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anch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A==B) PC = ALUOu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3 (instruction depend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225360" y="312840"/>
            <a:ext cx="5299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s and stores access memory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DR = Memory[ALUOut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emory[ALUOut] =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 instructions finish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15-11]] = ALUOut;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he write actually takes place at the end of the cycle on the edge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4 (R-type or memory-ac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225360" y="312840"/>
            <a:ext cx="235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20-16]]= MDR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about all the other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8" name=""/>
          <p:cNvGraphicFramePr/>
          <p:nvPr/>
        </p:nvGraphicFramePr>
        <p:xfrm>
          <a:off x="88920" y="1812960"/>
          <a:ext cx="8978760" cy="319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12960"/>
                    <a:ext cx="897876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a visão, fluxogr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76320" y="933480"/>
            <a:ext cx="8991360" cy="5467320"/>
            <a:chOff x="76320" y="933480"/>
            <a:chExt cx="8991360" cy="5467320"/>
          </a:xfrm>
        </p:grpSpPr>
        <p:sp>
          <p:nvSpPr>
            <p:cNvPr id="2152" name=""/>
            <p:cNvSpPr/>
            <p:nvPr/>
          </p:nvSpPr>
          <p:spPr>
            <a:xfrm flipH="1" rot="16200000">
              <a:off x="570240" y="5524560"/>
              <a:ext cx="1371600" cy="7596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5400000">
              <a:off x="5524200" y="5067360"/>
              <a:ext cx="213372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5400000">
              <a:off x="6705000" y="5029200"/>
              <a:ext cx="221004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733920" y="1143000"/>
              <a:ext cx="1523880" cy="6858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=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66880" y="2209680"/>
              <a:ext cx="3657600" cy="8384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=Reg[IR[25:21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=Reg[IR[20:16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PC+(SignExt(IR(15:0))&lt;&lt;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52280" y="3657600"/>
              <a:ext cx="175284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 op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20" y="4495680"/>
              <a:ext cx="22860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9" name=""/>
            <p:cNvCxnSpPr>
              <a:stCxn id="2155" idx="2"/>
              <a:endCxn id="2156" idx="0"/>
            </p:cNvCxnSpPr>
            <p:nvPr/>
          </p:nvCxnSpPr>
          <p:spPr>
            <a:xfrm>
              <a:off x="4495320" y="182880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0" name=""/>
            <p:cNvCxnSpPr>
              <a:stCxn id="2156" idx="2"/>
              <a:endCxn id="2157" idx="0"/>
            </p:cNvCxnSpPr>
            <p:nvPr/>
          </p:nvCxnSpPr>
          <p:spPr>
            <a:xfrm rot="5400000">
              <a:off x="2457000" y="1619280"/>
              <a:ext cx="610200" cy="3467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1" name=""/>
            <p:cNvSpPr/>
            <p:nvPr/>
          </p:nvSpPr>
          <p:spPr>
            <a:xfrm>
              <a:off x="2133720" y="3657600"/>
              <a:ext cx="281916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+SignExt(IR(15:0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2" name=""/>
            <p:cNvCxnSpPr>
              <a:stCxn id="2156" idx="2"/>
              <a:endCxn id="2161" idx="0"/>
            </p:cNvCxnSpPr>
            <p:nvPr/>
          </p:nvCxnSpPr>
          <p:spPr>
            <a:xfrm rot="5400000">
              <a:off x="3714120" y="2876400"/>
              <a:ext cx="610200" cy="952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3" name=""/>
            <p:cNvSpPr/>
            <p:nvPr/>
          </p:nvSpPr>
          <p:spPr>
            <a:xfrm>
              <a:off x="4724280" y="4495680"/>
              <a:ext cx="167652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(ALUout)=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556000" y="4495680"/>
              <a:ext cx="198108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DR=Mem(ALUou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514600" y="5181480"/>
              <a:ext cx="20574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M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6" name=""/>
            <p:cNvCxnSpPr>
              <a:stCxn id="2164" idx="2"/>
              <a:endCxn id="2165" idx="0"/>
            </p:cNvCxnSpPr>
            <p:nvPr/>
          </p:nvCxnSpPr>
          <p:spPr>
            <a:xfrm flipH="1">
              <a:off x="3543120" y="4876920"/>
              <a:ext cx="36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7" name=""/>
            <p:cNvSpPr/>
            <p:nvPr/>
          </p:nvSpPr>
          <p:spPr>
            <a:xfrm>
              <a:off x="5562720" y="3657600"/>
              <a:ext cx="144756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A==B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238880" y="3657600"/>
              <a:ext cx="182880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[31:28]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[25:0]&lt;&lt;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9" name=""/>
            <p:cNvCxnSpPr>
              <a:stCxn id="2156" idx="2"/>
              <a:endCxn id="2167" idx="0"/>
            </p:cNvCxnSpPr>
            <p:nvPr/>
          </p:nvCxnSpPr>
          <p:spPr>
            <a:xfrm flipH="1" rot="16200000">
              <a:off x="5085360" y="2457000"/>
              <a:ext cx="610200" cy="1791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0" name=""/>
            <p:cNvCxnSpPr>
              <a:stCxn id="2156" idx="2"/>
              <a:endCxn id="2168" idx="0"/>
            </p:cNvCxnSpPr>
            <p:nvPr/>
          </p:nvCxnSpPr>
          <p:spPr>
            <a:xfrm flipH="1" rot="16200000">
              <a:off x="6019560" y="1523520"/>
              <a:ext cx="610200" cy="3658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1" name=""/>
            <p:cNvCxnSpPr>
              <a:stCxn id="2161" idx="2"/>
              <a:endCxn id="2164" idx="0"/>
            </p:cNvCxnSpPr>
            <p:nvPr/>
          </p:nvCxnSpPr>
          <p:spPr>
            <a:xfrm flipH="1" rot="16200000">
              <a:off x="3316320" y="4265280"/>
              <a:ext cx="457920" cy="360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2" name=""/>
            <p:cNvCxnSpPr>
              <a:stCxn id="2161" idx="2"/>
              <a:endCxn id="2163" idx="0"/>
            </p:cNvCxnSpPr>
            <p:nvPr/>
          </p:nvCxnSpPr>
          <p:spPr>
            <a:xfrm flipH="1" rot="16200000">
              <a:off x="4323600" y="3257280"/>
              <a:ext cx="457920" cy="20199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3" name=""/>
            <p:cNvCxnSpPr>
              <a:stCxn id="2157" idx="2"/>
              <a:endCxn id="2158" idx="0"/>
            </p:cNvCxnSpPr>
            <p:nvPr/>
          </p:nvCxnSpPr>
          <p:spPr>
            <a:xfrm flipH="1" rot="16200000">
              <a:off x="894600" y="4171680"/>
              <a:ext cx="457920" cy="1911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4" name=""/>
            <p:cNvSpPr/>
            <p:nvPr/>
          </p:nvSpPr>
          <p:spPr>
            <a:xfrm>
              <a:off x="1380960" y="933480"/>
              <a:ext cx="3114720" cy="533520"/>
            </a:xfrm>
            <a:custGeom>
              <a:avLst/>
              <a:gdLst/>
              <a:ahLst/>
              <a:rect l="l" t="t" r="r" b="b"/>
              <a:pathLst>
                <a:path w="1962" h="336">
                  <a:moveTo>
                    <a:pt x="0" y="336"/>
                  </a:moveTo>
                  <a:lnTo>
                    <a:pt x="0" y="0"/>
                  </a:lnTo>
                  <a:lnTo>
                    <a:pt x="1956" y="0"/>
                  </a:lnTo>
                  <a:lnTo>
                    <a:pt x="1962" y="13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0880" y="6248520"/>
              <a:ext cx="792504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rot="16200000">
              <a:off x="4875480" y="5486400"/>
              <a:ext cx="137160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5400000">
              <a:off x="3124080" y="5867280"/>
              <a:ext cx="685800" cy="7632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71500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334120" y="10666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400800" y="19810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572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408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7150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30592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094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1240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00400" y="49528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cycles will it take to execute this code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2, 0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3, 4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2, $t3, Label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assume no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5, $t2, $t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5, 8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s going on during the 8th cycle of execu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 what cycle does the actual addition of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2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3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kes place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4847760" y="2533680"/>
            <a:ext cx="676440" cy="2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0" name=""/>
          <p:cNvGrpSpPr/>
          <p:nvPr/>
        </p:nvGrpSpPr>
        <p:grpSpPr>
          <a:xfrm>
            <a:off x="1239840" y="5326200"/>
            <a:ext cx="6738840" cy="249120"/>
            <a:chOff x="1239840" y="5326200"/>
            <a:chExt cx="6738840" cy="249120"/>
          </a:xfrm>
        </p:grpSpPr>
        <p:grpSp>
          <p:nvGrpSpPr>
            <p:cNvPr id="2191" name=""/>
            <p:cNvGrpSpPr/>
            <p:nvPr/>
          </p:nvGrpSpPr>
          <p:grpSpPr>
            <a:xfrm>
              <a:off x="1239840" y="5326200"/>
              <a:ext cx="2230560" cy="249120"/>
              <a:chOff x="1239840" y="5326200"/>
              <a:chExt cx="2230560" cy="249120"/>
            </a:xfrm>
          </p:grpSpPr>
          <p:grpSp>
            <p:nvGrpSpPr>
              <p:cNvPr id="2192" name=""/>
              <p:cNvGrpSpPr/>
              <p:nvPr/>
            </p:nvGrpSpPr>
            <p:grpSpPr>
              <a:xfrm>
                <a:off x="1239840" y="5326200"/>
                <a:ext cx="276120" cy="249120"/>
                <a:chOff x="1239840" y="5326200"/>
                <a:chExt cx="276120" cy="249120"/>
              </a:xfrm>
            </p:grpSpPr>
            <p:sp>
              <p:nvSpPr>
                <p:cNvPr id="2193" name=""/>
                <p:cNvSpPr/>
                <p:nvPr/>
              </p:nvSpPr>
              <p:spPr>
                <a:xfrm flipV="1">
                  <a:off x="1239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25424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3780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3921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15159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1515960" y="5326200"/>
                <a:ext cx="274680" cy="249120"/>
                <a:chOff x="1515960" y="5326200"/>
                <a:chExt cx="274680" cy="249120"/>
              </a:xfrm>
            </p:grpSpPr>
            <p:sp>
              <p:nvSpPr>
                <p:cNvPr id="2199" name=""/>
                <p:cNvSpPr/>
                <p:nvPr/>
              </p:nvSpPr>
              <p:spPr>
                <a:xfrm flipV="1">
                  <a:off x="15159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15303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654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6686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17906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4" name=""/>
              <p:cNvGrpSpPr/>
              <p:nvPr/>
            </p:nvGrpSpPr>
            <p:grpSpPr>
              <a:xfrm>
                <a:off x="1790640" y="5326200"/>
                <a:ext cx="289080" cy="249120"/>
                <a:chOff x="1790640" y="5326200"/>
                <a:chExt cx="289080" cy="249120"/>
              </a:xfrm>
            </p:grpSpPr>
            <p:sp>
              <p:nvSpPr>
                <p:cNvPr id="2205" name=""/>
                <p:cNvSpPr/>
                <p:nvPr/>
              </p:nvSpPr>
              <p:spPr>
                <a:xfrm flipV="1">
                  <a:off x="17906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18050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19288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1943280" y="5562720"/>
                  <a:ext cx="12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079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0" name=""/>
              <p:cNvGrpSpPr/>
              <p:nvPr/>
            </p:nvGrpSpPr>
            <p:grpSpPr>
              <a:xfrm>
                <a:off x="2079720" y="5326200"/>
                <a:ext cx="274680" cy="249120"/>
                <a:chOff x="2079720" y="5326200"/>
                <a:chExt cx="274680" cy="249120"/>
              </a:xfrm>
            </p:grpSpPr>
            <p:sp>
              <p:nvSpPr>
                <p:cNvPr id="2211" name=""/>
                <p:cNvSpPr/>
                <p:nvPr/>
              </p:nvSpPr>
              <p:spPr>
                <a:xfrm flipV="1">
                  <a:off x="2079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20937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217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2320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2354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6" name=""/>
              <p:cNvGrpSpPr/>
              <p:nvPr/>
            </p:nvGrpSpPr>
            <p:grpSpPr>
              <a:xfrm>
                <a:off x="2354400" y="5326200"/>
                <a:ext cx="276120" cy="249120"/>
                <a:chOff x="2354400" y="5326200"/>
                <a:chExt cx="276120" cy="249120"/>
              </a:xfrm>
            </p:grpSpPr>
            <p:sp>
              <p:nvSpPr>
                <p:cNvPr id="2217" name=""/>
                <p:cNvSpPr/>
                <p:nvPr/>
              </p:nvSpPr>
              <p:spPr>
                <a:xfrm flipV="1">
                  <a:off x="2354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23684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24922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25066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26305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2" name=""/>
              <p:cNvGrpSpPr/>
              <p:nvPr/>
            </p:nvGrpSpPr>
            <p:grpSpPr>
              <a:xfrm>
                <a:off x="2630520" y="5326200"/>
                <a:ext cx="287280" cy="249120"/>
                <a:chOff x="2630520" y="5326200"/>
                <a:chExt cx="287280" cy="249120"/>
              </a:xfrm>
            </p:grpSpPr>
            <p:sp>
              <p:nvSpPr>
                <p:cNvPr id="2223" name=""/>
                <p:cNvSpPr/>
                <p:nvPr/>
              </p:nvSpPr>
              <p:spPr>
                <a:xfrm flipV="1">
                  <a:off x="26305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64492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27687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2782800" y="5562720"/>
                  <a:ext cx="1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29178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2917800" y="5326200"/>
                <a:ext cx="276120" cy="249120"/>
                <a:chOff x="2917800" y="5326200"/>
                <a:chExt cx="276120" cy="249120"/>
              </a:xfrm>
            </p:grpSpPr>
            <p:sp>
              <p:nvSpPr>
                <p:cNvPr id="2229" name=""/>
                <p:cNvSpPr/>
                <p:nvPr/>
              </p:nvSpPr>
              <p:spPr>
                <a:xfrm flipV="1">
                  <a:off x="29178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29322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3056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0700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1939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3193920" y="5326200"/>
                <a:ext cx="276480" cy="249120"/>
                <a:chOff x="3193920" y="5326200"/>
                <a:chExt cx="276480" cy="249120"/>
              </a:xfrm>
            </p:grpSpPr>
            <p:sp>
              <p:nvSpPr>
                <p:cNvPr id="2235" name=""/>
                <p:cNvSpPr/>
                <p:nvPr/>
              </p:nvSpPr>
              <p:spPr>
                <a:xfrm flipV="1">
                  <a:off x="3193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2083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3321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34656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470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0" name=""/>
            <p:cNvGrpSpPr/>
            <p:nvPr/>
          </p:nvGrpSpPr>
          <p:grpSpPr>
            <a:xfrm>
              <a:off x="3494160" y="5326200"/>
              <a:ext cx="2230200" cy="249120"/>
              <a:chOff x="3494160" y="5326200"/>
              <a:chExt cx="2230200" cy="249120"/>
            </a:xfrm>
          </p:grpSpPr>
          <p:grpSp>
            <p:nvGrpSpPr>
              <p:cNvPr id="2241" name=""/>
              <p:cNvGrpSpPr/>
              <p:nvPr/>
            </p:nvGrpSpPr>
            <p:grpSpPr>
              <a:xfrm>
                <a:off x="3494160" y="5326200"/>
                <a:ext cx="276120" cy="249120"/>
                <a:chOff x="3494160" y="5326200"/>
                <a:chExt cx="276120" cy="249120"/>
              </a:xfrm>
            </p:grpSpPr>
            <p:sp>
              <p:nvSpPr>
                <p:cNvPr id="2242" name=""/>
                <p:cNvSpPr/>
                <p:nvPr/>
              </p:nvSpPr>
              <p:spPr>
                <a:xfrm flipV="1">
                  <a:off x="3494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082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632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6464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7702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3770280" y="5326200"/>
                <a:ext cx="276120" cy="249120"/>
                <a:chOff x="3770280" y="5326200"/>
                <a:chExt cx="276120" cy="249120"/>
              </a:xfrm>
            </p:grpSpPr>
            <p:sp>
              <p:nvSpPr>
                <p:cNvPr id="2248" name=""/>
                <p:cNvSpPr/>
                <p:nvPr/>
              </p:nvSpPr>
              <p:spPr>
                <a:xfrm flipV="1">
                  <a:off x="37702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7846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9085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9225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046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4046400" y="5326200"/>
                <a:ext cx="287640" cy="249120"/>
                <a:chOff x="4046400" y="5326200"/>
                <a:chExt cx="287640" cy="249120"/>
              </a:xfrm>
            </p:grpSpPr>
            <p:sp>
              <p:nvSpPr>
                <p:cNvPr id="2254" name=""/>
                <p:cNvSpPr/>
                <p:nvPr/>
              </p:nvSpPr>
              <p:spPr>
                <a:xfrm flipV="1">
                  <a:off x="4046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0608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4183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41972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43340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4334040" y="5326200"/>
                <a:ext cx="276120" cy="249120"/>
                <a:chOff x="4334040" y="5326200"/>
                <a:chExt cx="276120" cy="249120"/>
              </a:xfrm>
            </p:grpSpPr>
            <p:sp>
              <p:nvSpPr>
                <p:cNvPr id="2260" name=""/>
                <p:cNvSpPr/>
                <p:nvPr/>
              </p:nvSpPr>
              <p:spPr>
                <a:xfrm flipV="1">
                  <a:off x="43340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3480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44719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44863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6101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4610160" y="5326200"/>
                <a:ext cx="274680" cy="249120"/>
                <a:chOff x="4610160" y="5326200"/>
                <a:chExt cx="274680" cy="249120"/>
              </a:xfrm>
            </p:grpSpPr>
            <p:sp>
              <p:nvSpPr>
                <p:cNvPr id="2266" name=""/>
                <p:cNvSpPr/>
                <p:nvPr/>
              </p:nvSpPr>
              <p:spPr>
                <a:xfrm flipV="1">
                  <a:off x="4610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462456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4746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476100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8848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4884840" y="5326200"/>
                <a:ext cx="288720" cy="249120"/>
                <a:chOff x="4884840" y="5326200"/>
                <a:chExt cx="288720" cy="249120"/>
              </a:xfrm>
            </p:grpSpPr>
            <p:sp>
              <p:nvSpPr>
                <p:cNvPr id="2272" name=""/>
                <p:cNvSpPr/>
                <p:nvPr/>
              </p:nvSpPr>
              <p:spPr>
                <a:xfrm flipV="1">
                  <a:off x="4884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8988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0227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03712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1735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5173560" y="5326200"/>
                <a:ext cx="274680" cy="249120"/>
                <a:chOff x="5173560" y="5326200"/>
                <a:chExt cx="274680" cy="249120"/>
              </a:xfrm>
            </p:grpSpPr>
            <p:sp>
              <p:nvSpPr>
                <p:cNvPr id="2278" name=""/>
                <p:cNvSpPr/>
                <p:nvPr/>
              </p:nvSpPr>
              <p:spPr>
                <a:xfrm flipV="1">
                  <a:off x="51735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1879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311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3262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4482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5448240" y="5326200"/>
                <a:ext cx="276120" cy="249120"/>
                <a:chOff x="5448240" y="5326200"/>
                <a:chExt cx="276120" cy="249120"/>
              </a:xfrm>
            </p:grpSpPr>
            <p:sp>
              <p:nvSpPr>
                <p:cNvPr id="2284" name=""/>
                <p:cNvSpPr/>
                <p:nvPr/>
              </p:nvSpPr>
              <p:spPr>
                <a:xfrm flipV="1">
                  <a:off x="54482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4626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864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60088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243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9" name=""/>
            <p:cNvGrpSpPr/>
            <p:nvPr/>
          </p:nvGrpSpPr>
          <p:grpSpPr>
            <a:xfrm>
              <a:off x="5749920" y="5326200"/>
              <a:ext cx="2228760" cy="249120"/>
              <a:chOff x="5749920" y="5326200"/>
              <a:chExt cx="2228760" cy="249120"/>
            </a:xfrm>
          </p:grpSpPr>
          <p:grpSp>
            <p:nvGrpSpPr>
              <p:cNvPr id="2290" name=""/>
              <p:cNvGrpSpPr/>
              <p:nvPr/>
            </p:nvGrpSpPr>
            <p:grpSpPr>
              <a:xfrm>
                <a:off x="5749920" y="5326200"/>
                <a:ext cx="274680" cy="249120"/>
                <a:chOff x="5749920" y="5326200"/>
                <a:chExt cx="274680" cy="249120"/>
              </a:xfrm>
            </p:grpSpPr>
            <p:sp>
              <p:nvSpPr>
                <p:cNvPr id="2291" name=""/>
                <p:cNvSpPr/>
                <p:nvPr/>
              </p:nvSpPr>
              <p:spPr>
                <a:xfrm flipV="1">
                  <a:off x="5749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76432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886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900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6024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6" name=""/>
              <p:cNvGrpSpPr/>
              <p:nvPr/>
            </p:nvGrpSpPr>
            <p:grpSpPr>
              <a:xfrm>
                <a:off x="6024600" y="5326200"/>
                <a:ext cx="276120" cy="249120"/>
                <a:chOff x="6024600" y="5326200"/>
                <a:chExt cx="276120" cy="249120"/>
              </a:xfrm>
            </p:grpSpPr>
            <p:sp>
              <p:nvSpPr>
                <p:cNvPr id="2297" name=""/>
                <p:cNvSpPr/>
                <p:nvPr/>
              </p:nvSpPr>
              <p:spPr>
                <a:xfrm flipV="1">
                  <a:off x="6024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0390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1628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61768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300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6300720" y="5326200"/>
                <a:ext cx="287280" cy="249120"/>
                <a:chOff x="6300720" y="5326200"/>
                <a:chExt cx="287280" cy="249120"/>
              </a:xfrm>
            </p:grpSpPr>
            <p:sp>
              <p:nvSpPr>
                <p:cNvPr id="2303" name=""/>
                <p:cNvSpPr/>
                <p:nvPr/>
              </p:nvSpPr>
              <p:spPr>
                <a:xfrm flipV="1">
                  <a:off x="6300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3151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4389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6453360" y="5562720"/>
                  <a:ext cx="122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6588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8" name=""/>
              <p:cNvGrpSpPr/>
              <p:nvPr/>
            </p:nvGrpSpPr>
            <p:grpSpPr>
              <a:xfrm>
                <a:off x="6588000" y="5326200"/>
                <a:ext cx="276480" cy="249120"/>
                <a:chOff x="6588000" y="5326200"/>
                <a:chExt cx="276480" cy="249120"/>
              </a:xfrm>
            </p:grpSpPr>
            <p:sp>
              <p:nvSpPr>
                <p:cNvPr id="2309" name=""/>
                <p:cNvSpPr/>
                <p:nvPr/>
              </p:nvSpPr>
              <p:spPr>
                <a:xfrm flipV="1">
                  <a:off x="6588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66024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67262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74064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68644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6864480" y="5326200"/>
                <a:ext cx="276120" cy="249120"/>
                <a:chOff x="6864480" y="5326200"/>
                <a:chExt cx="276120" cy="249120"/>
              </a:xfrm>
            </p:grpSpPr>
            <p:sp>
              <p:nvSpPr>
                <p:cNvPr id="2315" name=""/>
                <p:cNvSpPr/>
                <p:nvPr/>
              </p:nvSpPr>
              <p:spPr>
                <a:xfrm flipV="1">
                  <a:off x="68644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68785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002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016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140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0" name=""/>
              <p:cNvGrpSpPr/>
              <p:nvPr/>
            </p:nvGrpSpPr>
            <p:grpSpPr>
              <a:xfrm>
                <a:off x="7140600" y="5326200"/>
                <a:ext cx="287280" cy="249120"/>
                <a:chOff x="7140600" y="5326200"/>
                <a:chExt cx="287280" cy="249120"/>
              </a:xfrm>
            </p:grpSpPr>
            <p:sp>
              <p:nvSpPr>
                <p:cNvPr id="2321" name=""/>
                <p:cNvSpPr/>
                <p:nvPr/>
              </p:nvSpPr>
              <p:spPr>
                <a:xfrm flipV="1">
                  <a:off x="7140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71550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7277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72914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74278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7427880" y="5326200"/>
                <a:ext cx="276120" cy="249120"/>
                <a:chOff x="7427880" y="5326200"/>
                <a:chExt cx="276120" cy="249120"/>
              </a:xfrm>
            </p:grpSpPr>
            <p:sp>
              <p:nvSpPr>
                <p:cNvPr id="2327" name=""/>
                <p:cNvSpPr/>
                <p:nvPr/>
              </p:nvSpPr>
              <p:spPr>
                <a:xfrm flipV="1">
                  <a:off x="74278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74422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5661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75801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7704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2" name=""/>
              <p:cNvGrpSpPr/>
              <p:nvPr/>
            </p:nvGrpSpPr>
            <p:grpSpPr>
              <a:xfrm>
                <a:off x="7704000" y="5326200"/>
                <a:ext cx="274680" cy="249120"/>
                <a:chOff x="7704000" y="5326200"/>
                <a:chExt cx="274680" cy="249120"/>
              </a:xfrm>
            </p:grpSpPr>
            <p:sp>
              <p:nvSpPr>
                <p:cNvPr id="2333" name=""/>
                <p:cNvSpPr/>
                <p:nvPr/>
              </p:nvSpPr>
              <p:spPr>
                <a:xfrm flipV="1">
                  <a:off x="7704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7184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840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78548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79786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mple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225360" y="312840"/>
            <a:ext cx="771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 of control signals is dependent up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nstruction is being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ch step is being perform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the information we’ve acculumated to specify a finite stat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y the finite state machine graphically,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microprogramming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can be derived from specifica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ing th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abela dos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state bits will we ne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raphical Specification of F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92040" y="828720"/>
            <a:ext cx="4560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3156120" y="601560"/>
            <a:ext cx="5451480" cy="5646960"/>
            <a:chOff x="3156120" y="601560"/>
            <a:chExt cx="5451480" cy="5646960"/>
          </a:xfrm>
        </p:grpSpPr>
        <p:grpSp>
          <p:nvGrpSpPr>
            <p:cNvPr id="2347" name=""/>
            <p:cNvGrpSpPr/>
            <p:nvPr/>
          </p:nvGrpSpPr>
          <p:grpSpPr>
            <a:xfrm>
              <a:off x="3206880" y="2414520"/>
              <a:ext cx="5078880" cy="2471760"/>
              <a:chOff x="3206880" y="2414520"/>
              <a:chExt cx="5078880" cy="2471760"/>
            </a:xfrm>
          </p:grpSpPr>
          <p:sp>
            <p:nvSpPr>
              <p:cNvPr id="2348" name=""/>
              <p:cNvSpPr/>
              <p:nvPr/>
            </p:nvSpPr>
            <p:spPr>
              <a:xfrm>
                <a:off x="7749720" y="277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16680" y="277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89400" y="27748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83000" y="277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017920" y="27748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042040" y="277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068680" y="277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28080" y="27748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58484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653240" y="2897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2776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9580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4944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08480" y="289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41600" y="289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923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04816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075160" y="2897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3564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6408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2209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0224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5782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64452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03920" y="2592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77664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843240" y="2592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876360" y="2592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9274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99588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022880" y="2592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8300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1000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69040" y="2592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5448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6114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669000" y="2714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74172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810120" y="2714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842880" y="2714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8940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96096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989400" y="271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04988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07652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1352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189920" y="27147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587640" y="28321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65424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11840" y="2832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784920" y="28321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8637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92280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949800" y="28321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00704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03368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0923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147080" y="28321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568560" y="295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63552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711480" y="2954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806880" y="2954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840000" y="2954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860880" y="295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07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94656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01928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07652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1319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89920" y="295416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52104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588000" y="3073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6396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730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784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843240" y="3073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876360" y="3073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9271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98292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009920" y="3073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07040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09884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1557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349960" y="2454120"/>
                <a:ext cx="91260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5256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5922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649840" y="273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72256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90960" y="273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823720" y="273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8748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941800" y="273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970240" y="273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0368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091200" y="2735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47956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4616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605200" y="2857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67828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744880" y="2857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777640" y="2857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82912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89716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924160" y="28576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98464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01128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06672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124680" y="2857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532120" y="2975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5983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655960" y="2975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729400" y="2975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80824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874840" y="2975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936760" y="2975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963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017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5337000" y="397368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5530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562536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682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7384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811120" y="4229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86404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89068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917680" y="4229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97816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006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064200" y="4229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608440" y="4348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681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735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792400" y="4348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887800" y="434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20920" y="434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944680" y="434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97312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031080" y="4348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47380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5587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61672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7020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72868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784480" y="4470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85720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91444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9702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000480" y="4470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05772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843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272120" y="397368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50360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5871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64328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28600" y="4311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2560" y="4311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58920" y="4311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79440" y="4311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9078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96584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5460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57308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630320" y="4430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663800" y="443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7368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765320" y="443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82580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85244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206880" y="39704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42576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507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56544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651120" y="43117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723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7792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8365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89268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468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49524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551040" y="443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584160" y="4433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657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687480" y="4433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4616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77280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219480" y="241452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382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45060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508200" y="26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58092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647880" y="26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680640" y="26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733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0016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827160" y="26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88908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1572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70440" y="2692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34944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41748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3156120" y="666720"/>
              <a:ext cx="5224320" cy="5581800"/>
              <a:chOff x="3156120" y="666720"/>
              <a:chExt cx="5224320" cy="5581800"/>
            </a:xfrm>
          </p:grpSpPr>
          <p:sp>
            <p:nvSpPr>
              <p:cNvPr id="2549" name=""/>
              <p:cNvSpPr/>
              <p:nvPr/>
            </p:nvSpPr>
            <p:spPr>
              <a:xfrm>
                <a:off x="3474720" y="281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54780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614400" y="281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647520" y="281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70008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76668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793680" y="2814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85560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882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6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95640" y="28144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392280" y="2933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45852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17560" y="2933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1000" y="2933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98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72384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4080" y="2933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1276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3976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8966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438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5143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56796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627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699720" y="5533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747600" y="5533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790440" y="5533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8635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22560" y="55339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477960" y="5653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550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604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663720" y="5653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757320" y="5653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790440" y="5653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816000" y="5653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84264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00600" y="5653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36564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450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50532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590640" y="577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61728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674880" y="577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747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0304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73240" y="577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4272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98880" y="57754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675240" y="5896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156120" y="5235480"/>
                <a:ext cx="1015920" cy="101304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3240" y="1843200"/>
                <a:ext cx="1440" cy="56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>
                <a:off x="4162320" y="1544760"/>
                <a:ext cx="3332160" cy="12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30720" y="1697040"/>
                <a:ext cx="1554120" cy="7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>
                <a:off x="7146720" y="1803240"/>
                <a:ext cx="587160" cy="7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46748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792760" y="3363840"/>
                <a:ext cx="144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664080" y="3327480"/>
                <a:ext cx="1440" cy="6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638520" y="517860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664080" y="4886280"/>
                <a:ext cx="1440" cy="3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67480" y="93024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660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72740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86440" y="1192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85952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120" y="1192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58880" y="1192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011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07840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105400" y="1192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16408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19396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248680" y="1192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62768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9392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752960" y="131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82604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892640" y="131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5760" y="1314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7832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04492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071920" y="1314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12916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60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214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273880" y="1314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0520" y="1434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73676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795800" y="1434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869240" y="1434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4628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00208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029080" y="1434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09100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118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172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56884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65236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70852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792400" y="949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86512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923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977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037200" y="949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513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57964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638680" y="1069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71140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778000" y="1069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811120" y="1069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864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93064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957640" y="1069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01776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04620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103800" y="10699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6098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63832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695560" y="1189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729040" y="1189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212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829120" y="11890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8906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91768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973840" y="1189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63544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662440" y="1311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735160" y="1311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829120" y="13111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863680" y="13111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88780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914440" y="131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973840" y="13111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47956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5461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5605200" y="1430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67828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744880" y="1430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777640" y="1430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82912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89716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924160" y="1430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98464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01128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0699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124680" y="1430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522400" y="1550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58900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646600" y="155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719680" y="1550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7985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85756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884560" y="155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94180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96988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0271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083280" y="15508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619240" y="1670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5686200" y="1670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758920" y="16700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854320" y="1670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87440" y="16700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911560" y="1670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938200" y="1670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997600" y="16700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45580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522760" y="17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59872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665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719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778000" y="17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811120" y="17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8636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91768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944680" y="17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00660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3360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0904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208480" y="874800"/>
                <a:ext cx="1141560" cy="113832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338880" y="1386000"/>
                <a:ext cx="1089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89716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9238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9810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0336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060600" y="74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09372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14916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20028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228720" y="747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252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306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365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392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1916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782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5048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5574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4847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5114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3292560" y="601560"/>
              <a:ext cx="5315040" cy="5141880"/>
              <a:chOff x="3292560" y="601560"/>
              <a:chExt cx="5315040" cy="5141880"/>
            </a:xfrm>
          </p:grpSpPr>
          <p:sp>
            <p:nvSpPr>
              <p:cNvPr id="2750" name=""/>
              <p:cNvSpPr/>
              <p:nvPr/>
            </p:nvSpPr>
            <p:spPr>
              <a:xfrm>
                <a:off x="757008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6179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649640" y="666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68276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73676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789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816320" y="666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8400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89552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5312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81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035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09244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1450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20044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2576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11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340840" y="666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62768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6608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71948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773480" y="784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7986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8498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87644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3224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6572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9596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22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784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1082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157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82640" y="220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3520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093160" y="2208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7488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234280" y="22082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82640" y="232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03520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093160" y="232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748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2339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2544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311680" y="232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3401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3606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4196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703560" y="21877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70160" y="218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8032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6052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5960" y="218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670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26120" y="2187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6142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6636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721560" y="23065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80652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86052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8860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94008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6708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2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46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579640" y="23065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645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695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753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805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86080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88744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911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967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29256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775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43548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5172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5748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6075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660480" y="2135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6871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7429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7998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8556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89196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9459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9981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46400" y="21351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85440" y="22575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4380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492360" y="22575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57768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63636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69072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720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77640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803040" y="2257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8268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882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80052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8854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9434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251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8276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155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688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79980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8570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9092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9585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0158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06476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90536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9888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0450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1303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18760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2207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2704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0464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9586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108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619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1174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1696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957640" y="387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030720" y="387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06384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09048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143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197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25608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8272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33528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389640" y="3873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4749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5322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5541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61140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6384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66072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1760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766680" y="5102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86352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896640" y="510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91932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94596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00320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038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092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14900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15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088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807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3044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5708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4143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973680" y="321804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168800" y="601560"/>
                <a:ext cx="4438800" cy="514188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72932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79276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408800" y="13622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899480" y="239724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122960" y="24764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997600" y="2448000"/>
                <a:ext cx="57240" cy="4608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122720" y="273204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rot="20400000">
                <a:off x="4435200" y="2505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rot="20400000">
                <a:off x="4460760" y="24955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20400000">
                <a:off x="4492440" y="24760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rot="20400000">
                <a:off x="4565160" y="2450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rot="20400000">
                <a:off x="4617720" y="2439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rot="20400000">
                <a:off x="4644720" y="2423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rot="20400000">
                <a:off x="4700160" y="2409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20400000">
                <a:off x="4727520" y="240192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20400000">
                <a:off x="4744440" y="238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rot="20400000">
                <a:off x="4795560" y="2358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rot="20400000">
                <a:off x="4889520" y="23446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rot="20400000">
                <a:off x="4906800" y="2332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rot="20400000">
                <a:off x="4938480" y="2323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20400000">
                <a:off x="4965120" y="2304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rot="20400000">
                <a:off x="5016600" y="2292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rot="20400000">
                <a:off x="5051160" y="2280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20400000">
                <a:off x="5075280" y="2270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rot="20400000">
                <a:off x="5106960" y="22507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rot="20400000">
                <a:off x="5179320" y="22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rot="20400000">
                <a:off x="5235120" y="2214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rot="20400000">
                <a:off x="5258880" y="2198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rot="20400000">
                <a:off x="531792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20400000">
                <a:off x="5343480" y="2176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20400000">
                <a:off x="5358960" y="2160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20400000">
                <a:off x="5422320" y="2130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20400000">
                <a:off x="5516640" y="21160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20400000">
                <a:off x="5533920" y="210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9980000">
                <a:off x="6490800" y="208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9980000">
                <a:off x="6518520" y="20566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9980000">
                <a:off x="6589080" y="202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19980000">
                <a:off x="6643440" y="2010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rot="19980000">
                <a:off x="6665400" y="1988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rot="19980000">
                <a:off x="6722640" y="1971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rot="19980000">
                <a:off x="6744960" y="1945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0" name=""/>
            <p:cNvSpPr/>
            <p:nvPr/>
          </p:nvSpPr>
          <p:spPr>
            <a:xfrm rot="19980000">
              <a:off x="6810120" y="1923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19980000">
              <a:off x="6840000" y="1909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rot="19980000">
              <a:off x="6868080" y="189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rot="19980000">
              <a:off x="6911280" y="1868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rot="19980000">
              <a:off x="6960600" y="184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rot="19980000">
              <a:off x="7014960" y="18234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rot="18600000">
              <a:off x="7211880" y="22129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18600000">
              <a:off x="7228080" y="21628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rot="18600000">
              <a:off x="7281720" y="2113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rot="18600000">
              <a:off x="7323120" y="208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18600000">
              <a:off x="7333920" y="2047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rot="18600000">
              <a:off x="7380000" y="2018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rot="18600000">
              <a:off x="7401240" y="200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18600000">
              <a:off x="7402680" y="1963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rot="18600000">
              <a:off x="7445520" y="1912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rot="18600000">
              <a:off x="7490160" y="18550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rot="18600000">
              <a:off x="7550640" y="182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rot="18600000">
              <a:off x="7557840" y="1801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rot="16200000">
              <a:off x="7826400" y="223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rot="16200000">
              <a:off x="7801200" y="21769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rot="16200000">
              <a:off x="7813440" y="2112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rot="16200000">
              <a:off x="7829280" y="207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6200000">
              <a:off x="7812000" y="20246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rot="16200000">
              <a:off x="7829280" y="1986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rot="16200000">
              <a:off x="7834680" y="19627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rot="16200000">
              <a:off x="7816320" y="1923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rot="16200000">
              <a:off x="7834680" y="1892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rot="16200000">
              <a:off x="7826400" y="186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rot="2880000">
              <a:off x="4144320" y="325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rot="2880000">
              <a:off x="4159440" y="3279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rot="2880000">
              <a:off x="4179240" y="33224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rot="2880000">
              <a:off x="4234320" y="337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rot="2880000">
              <a:off x="4273920" y="3404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rot="2880000">
              <a:off x="4290120" y="34394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rot="2880000">
              <a:off x="4332600" y="346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rot="2880000">
              <a:off x="4352040" y="3485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rot="2880000">
              <a:off x="4358520" y="3520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rot="2880000">
              <a:off x="4395600" y="3584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rot="2880000">
              <a:off x="4471560" y="36223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rot="2880000">
              <a:off x="448344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rot="16200000">
              <a:off x="3562560" y="3820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rot="16200000">
              <a:off x="3537360" y="37566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rot="16200000">
              <a:off x="3549600" y="3693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rot="16200000">
              <a:off x="3565440" y="3653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6200000">
              <a:off x="3548160" y="36079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rot="16200000">
              <a:off x="3565440" y="356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rot="16200000">
              <a:off x="3570840" y="3542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6200000">
              <a:off x="3549600" y="3503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16200000">
              <a:off x="3527280" y="34232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6200000">
              <a:off x="3570840" y="337284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rot="16200000">
              <a:off x="3562560" y="3345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63852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586400" y="3921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76900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76900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70376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57164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261600" y="5214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90640" y="86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84400" y="958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8440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41916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35392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22524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35392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9048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22524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769000" y="82404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13120" y="1386000"/>
              <a:ext cx="490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151600" y="13622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47800" y="133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51440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546080" y="133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00080" y="1332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356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550360" y="349236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923240" y="3363840"/>
              <a:ext cx="644400" cy="15264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550360" y="36450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58000" y="3363840"/>
              <a:ext cx="1709640" cy="30492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eak up the instructions into steps, each step takes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lance the amount of work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ct each cycle to use only one major functional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ALU, 1 Memória, 1 Banco de Regist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 the end of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values for use in later cycles (easiest thing to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dditional “internal” regis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6280" y="3371760"/>
            <a:ext cx="8005680" cy="3219480"/>
            <a:chOff x="476280" y="3371760"/>
            <a:chExt cx="8005680" cy="3219480"/>
          </a:xfrm>
        </p:grpSpPr>
        <p:sp>
          <p:nvSpPr>
            <p:cNvPr id="47" name=""/>
            <p:cNvSpPr/>
            <p:nvPr/>
          </p:nvSpPr>
          <p:spPr>
            <a:xfrm>
              <a:off x="3306600" y="4208400"/>
              <a:ext cx="7812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0" y="0"/>
                  </a:lnTo>
                  <a:lnTo>
                    <a:pt x="49" y="23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  <a:lnTo>
                    <a:pt x="179" y="5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40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2240" y="4464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15920" y="4556160"/>
              <a:ext cx="5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0192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1920" y="5657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  <a:lnTo>
                    <a:pt x="885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8984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1584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080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680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680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396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92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956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7704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0920" y="4464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0808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9988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764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0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632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1092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724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29360" y="494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86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796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39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85320" y="4940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44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944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54160" y="4940280"/>
              <a:ext cx="1828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10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02440" y="509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5212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316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308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344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16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1640" y="560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9676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7120" y="560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528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92120" y="3773520"/>
              <a:ext cx="5276880" cy="865080"/>
            </a:xfrm>
            <a:custGeom>
              <a:avLst/>
              <a:gdLst/>
              <a:ahLst/>
              <a:rect l="l" t="t" r="r" b="b"/>
              <a:pathLst>
                <a:path w="3324" h="545">
                  <a:moveTo>
                    <a:pt x="0" y="493"/>
                  </a:moveTo>
                  <a:lnTo>
                    <a:pt x="0" y="0"/>
                  </a:lnTo>
                  <a:lnTo>
                    <a:pt x="3324" y="0"/>
                  </a:lnTo>
                  <a:lnTo>
                    <a:pt x="3324" y="54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85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9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41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601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2600" y="4071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01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397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157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57120" y="4071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859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5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5960" y="4071960"/>
              <a:ext cx="182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64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1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3960" y="424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22120" y="424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93760" y="424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19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3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443280" y="5602320"/>
              <a:ext cx="407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6080" y="531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6080" y="4400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6080" y="5772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19840" y="46465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6080" y="48578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  <a:lnTo>
                    <a:pt x="646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31800" y="5040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3692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65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09720" y="504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788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19160" y="504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23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4876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024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5800" y="52642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27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76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3720" y="5264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8640" y="526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0496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431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2760" y="5264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280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234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5800" y="4349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272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8040" y="434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4944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15800" y="480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27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76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3720" y="4807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28640" y="480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496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431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2760" y="4807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280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34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478040" y="5351400"/>
              <a:ext cx="27612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5800" y="57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227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76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3720" y="572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28640" y="572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496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31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2760" y="572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280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234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37000" y="531972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7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50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97600" y="4354560"/>
              <a:ext cx="498600" cy="1536480"/>
            </a:xfrm>
            <a:custGeom>
              <a:avLst/>
              <a:gdLst/>
              <a:ahLst/>
              <a:rect l="l" t="t" r="r" b="b"/>
              <a:pathLst>
                <a:path w="314" h="968">
                  <a:moveTo>
                    <a:pt x="0" y="0"/>
                  </a:moveTo>
                  <a:lnTo>
                    <a:pt x="0" y="392"/>
                  </a:lnTo>
                  <a:lnTo>
                    <a:pt x="101" y="484"/>
                  </a:lnTo>
                  <a:lnTo>
                    <a:pt x="0" y="576"/>
                  </a:lnTo>
                  <a:lnTo>
                    <a:pt x="0" y="968"/>
                  </a:lnTo>
                  <a:lnTo>
                    <a:pt x="314" y="671"/>
                  </a:lnTo>
                  <a:lnTo>
                    <a:pt x="314" y="2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0568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093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396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8880" y="50958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6"/>
                  </a:moveTo>
                  <a:lnTo>
                    <a:pt x="26" y="49"/>
                  </a:lnTo>
                  <a:lnTo>
                    <a:pt x="32" y="46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46" y="28"/>
                  </a:lnTo>
                  <a:lnTo>
                    <a:pt x="46" y="23"/>
                  </a:lnTo>
                  <a:lnTo>
                    <a:pt x="46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3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90520" y="3544920"/>
              <a:ext cx="7255080" cy="1577880"/>
            </a:xfrm>
            <a:custGeom>
              <a:avLst/>
              <a:gdLst/>
              <a:ahLst/>
              <a:rect l="l" t="t" r="r" b="b"/>
              <a:pathLst>
                <a:path w="4570" h="994">
                  <a:moveTo>
                    <a:pt x="4570" y="994"/>
                  </a:moveTo>
                  <a:lnTo>
                    <a:pt x="4570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8200" y="5602320"/>
              <a:ext cx="266760" cy="1440"/>
            </a:xfrm>
            <a:custGeom>
              <a:avLst/>
              <a:gdLst/>
              <a:ahLst/>
              <a:rect l="l" t="t" r="r" b="b"/>
              <a:pathLst>
                <a:path w="168" h="0">
                  <a:moveTo>
                    <a:pt x="168" y="0"/>
                  </a:moveTo>
                  <a:lnTo>
                    <a:pt x="162" y="0"/>
                  </a:lnTo>
                  <a:lnTo>
                    <a:pt x="150" y="0"/>
                  </a:lnTo>
                  <a:lnTo>
                    <a:pt x="130" y="0"/>
                  </a:lnTo>
                  <a:lnTo>
                    <a:pt x="110" y="0"/>
                  </a:lnTo>
                  <a:lnTo>
                    <a:pt x="84" y="0"/>
                  </a:lnTo>
                  <a:lnTo>
                    <a:pt x="58" y="0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5160" y="4898880"/>
              <a:ext cx="264960" cy="9144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3680" y="5580000"/>
              <a:ext cx="5332320" cy="846360"/>
            </a:xfrm>
            <a:custGeom>
              <a:avLst/>
              <a:gdLst/>
              <a:ahLst/>
              <a:rect l="l" t="t" r="r" b="b"/>
              <a:pathLst>
                <a:path w="3359" h="533">
                  <a:moveTo>
                    <a:pt x="3359" y="0"/>
                  </a:moveTo>
                  <a:lnTo>
                    <a:pt x="3359" y="533"/>
                  </a:lnTo>
                  <a:lnTo>
                    <a:pt x="0" y="533"/>
                  </a:lnTo>
                  <a:lnTo>
                    <a:pt x="0" y="75"/>
                  </a:lnTo>
                  <a:lnTo>
                    <a:pt x="98" y="7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67360" y="4437000"/>
              <a:ext cx="577800" cy="1147680"/>
            </a:xfrm>
            <a:custGeom>
              <a:avLst/>
              <a:gdLst/>
              <a:ahLst/>
              <a:rect l="l" t="t" r="r" b="b"/>
              <a:pathLst>
                <a:path w="364" h="723">
                  <a:moveTo>
                    <a:pt x="364" y="0"/>
                  </a:moveTo>
                  <a:lnTo>
                    <a:pt x="121" y="3"/>
                  </a:lnTo>
                  <a:lnTo>
                    <a:pt x="121" y="723"/>
                  </a:lnTo>
                  <a:lnTo>
                    <a:pt x="0" y="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6000" y="5049720"/>
              <a:ext cx="4089600" cy="1541520"/>
            </a:xfrm>
            <a:custGeom>
              <a:avLst/>
              <a:gdLst/>
              <a:ahLst/>
              <a:rect l="l" t="t" r="r" b="b"/>
              <a:pathLst>
                <a:path w="2576" h="971">
                  <a:moveTo>
                    <a:pt x="0" y="0"/>
                  </a:moveTo>
                  <a:lnTo>
                    <a:pt x="2" y="971"/>
                  </a:lnTo>
                  <a:lnTo>
                    <a:pt x="2576" y="971"/>
                  </a:lnTo>
                  <a:lnTo>
                    <a:pt x="2576" y="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2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816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8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4948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0560" y="5297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640" y="52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5600" y="529740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136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864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396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24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1104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19680" y="547992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800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7480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97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7600" y="565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1080" y="565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7040" y="565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55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8664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3200" y="4245120"/>
              <a:ext cx="315720" cy="841320"/>
            </a:xfrm>
            <a:custGeom>
              <a:avLst/>
              <a:gdLst/>
              <a:ahLst/>
              <a:rect l="l" t="t" r="r" b="b"/>
              <a:pathLst>
                <a:path w="199" h="530">
                  <a:moveTo>
                    <a:pt x="0" y="527"/>
                  </a:moveTo>
                  <a:lnTo>
                    <a:pt x="113" y="530"/>
                  </a:lnTo>
                  <a:lnTo>
                    <a:pt x="113" y="0"/>
                  </a:lnTo>
                  <a:lnTo>
                    <a:pt x="199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92480" y="5081760"/>
              <a:ext cx="136440" cy="502920"/>
            </a:xfrm>
            <a:custGeom>
              <a:avLst/>
              <a:gdLst/>
              <a:ahLst/>
              <a:rect l="l" t="t" r="r" b="b"/>
              <a:pathLst>
                <a:path w="86" h="317">
                  <a:moveTo>
                    <a:pt x="0" y="0"/>
                  </a:moveTo>
                  <a:lnTo>
                    <a:pt x="0" y="317"/>
                  </a:lnTo>
                  <a:lnTo>
                    <a:pt x="86" y="31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0240" y="5543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0" y="0"/>
                  </a:lnTo>
                  <a:lnTo>
                    <a:pt x="49" y="26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37000" y="486252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26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4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3720" y="4245120"/>
              <a:ext cx="271440" cy="653760"/>
            </a:xfrm>
            <a:custGeom>
              <a:avLst/>
              <a:gdLst/>
              <a:ahLst/>
              <a:rect l="l" t="t" r="r" b="b"/>
              <a:pathLst>
                <a:path w="171" h="412">
                  <a:moveTo>
                    <a:pt x="171" y="412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8200" y="4683240"/>
              <a:ext cx="262080" cy="4680"/>
            </a:xfrm>
            <a:custGeom>
              <a:avLst/>
              <a:gdLst/>
              <a:ahLst/>
              <a:rect l="l" t="t" r="r" b="b"/>
              <a:pathLst>
                <a:path w="165" h="3">
                  <a:moveTo>
                    <a:pt x="165" y="0"/>
                  </a:moveTo>
                  <a:lnTo>
                    <a:pt x="159" y="3"/>
                  </a:lnTo>
                  <a:lnTo>
                    <a:pt x="147" y="3"/>
                  </a:lnTo>
                  <a:lnTo>
                    <a:pt x="130" y="3"/>
                  </a:lnTo>
                  <a:lnTo>
                    <a:pt x="107" y="3"/>
                  </a:lnTo>
                  <a:lnTo>
                    <a:pt x="81" y="3"/>
                  </a:lnTo>
                  <a:lnTo>
                    <a:pt x="58" y="3"/>
                  </a:lnTo>
                  <a:lnTo>
                    <a:pt x="35" y="3"/>
                  </a:lnTo>
                  <a:lnTo>
                    <a:pt x="18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4880" y="4611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4600" y="5511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956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443640" y="4683240"/>
              <a:ext cx="38088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  <a:lnTo>
                    <a:pt x="375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1056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095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9884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09360" y="503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2708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08440" y="503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652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86520" y="465120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59640" y="5565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6" y="32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9" y="41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6200" y="5132520"/>
              <a:ext cx="271440" cy="4680"/>
            </a:xfrm>
            <a:custGeom>
              <a:avLst/>
              <a:gdLst/>
              <a:ahLst/>
              <a:rect l="l" t="t" r="r" b="b"/>
              <a:pathLst>
                <a:path w="171" h="3">
                  <a:moveTo>
                    <a:pt x="171" y="0"/>
                  </a:moveTo>
                  <a:lnTo>
                    <a:pt x="168" y="3"/>
                  </a:lnTo>
                  <a:lnTo>
                    <a:pt x="153" y="3"/>
                  </a:lnTo>
                  <a:lnTo>
                    <a:pt x="136" y="3"/>
                  </a:lnTo>
                  <a:lnTo>
                    <a:pt x="113" y="3"/>
                  </a:lnTo>
                  <a:lnTo>
                    <a:pt x="87" y="3"/>
                  </a:lnTo>
                  <a:lnTo>
                    <a:pt x="61" y="3"/>
                  </a:lnTo>
                  <a:lnTo>
                    <a:pt x="38" y="3"/>
                  </a:lnTo>
                  <a:lnTo>
                    <a:pt x="21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8560" y="5095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40840" y="5132520"/>
              <a:ext cx="10476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66" y="0"/>
                  </a:moveTo>
                  <a:lnTo>
                    <a:pt x="63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6120" y="504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3" y="11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7960" y="46004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3"/>
                  </a:lnTo>
                  <a:lnTo>
                    <a:pt x="26" y="4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0200" y="56214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49" y="46"/>
                  </a:lnTo>
                  <a:lnTo>
                    <a:pt x="2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5160" y="5653080"/>
              <a:ext cx="2111400" cy="493560"/>
            </a:xfrm>
            <a:custGeom>
              <a:avLst/>
              <a:gdLst/>
              <a:ahLst/>
              <a:rect l="l" t="t" r="r" b="b"/>
              <a:pathLst>
                <a:path w="1330" h="311">
                  <a:moveTo>
                    <a:pt x="1327" y="0"/>
                  </a:moveTo>
                  <a:lnTo>
                    <a:pt x="1330" y="311"/>
                  </a:lnTo>
                  <a:lnTo>
                    <a:pt x="0" y="311"/>
                  </a:lnTo>
                  <a:lnTo>
                    <a:pt x="0" y="10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33760" y="5781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40" y="43"/>
                  </a:lnTo>
                  <a:lnTo>
                    <a:pt x="43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9" y="31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9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3" y="5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17840" y="554364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50" y="32"/>
                  </a:lnTo>
                  <a:lnTo>
                    <a:pt x="50" y="29"/>
                  </a:lnTo>
                  <a:lnTo>
                    <a:pt x="50" y="26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8440" y="3544920"/>
              <a:ext cx="5040" cy="95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62080" y="44640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0"/>
                  </a:lnTo>
                  <a:lnTo>
                    <a:pt x="26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55760" y="451944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280" y="3371760"/>
              <a:ext cx="7067520" cy="1751040"/>
            </a:xfrm>
            <a:custGeom>
              <a:avLst/>
              <a:gdLst/>
              <a:ahLst/>
              <a:rect l="l" t="t" r="r" b="b"/>
              <a:pathLst>
                <a:path w="4452" h="1103">
                  <a:moveTo>
                    <a:pt x="4452" y="1103"/>
                  </a:moveTo>
                  <a:lnTo>
                    <a:pt x="4452" y="0"/>
                  </a:lnTo>
                  <a:lnTo>
                    <a:pt x="0" y="0"/>
                  </a:lnTo>
                  <a:lnTo>
                    <a:pt x="0" y="746"/>
                  </a:lnTo>
                  <a:lnTo>
                    <a:pt x="115" y="7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07440" y="509904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3" y="47"/>
                  </a:moveTo>
                  <a:lnTo>
                    <a:pt x="29" y="47"/>
                  </a:lnTo>
                  <a:lnTo>
                    <a:pt x="31" y="47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6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64280" y="4495680"/>
              <a:ext cx="284040" cy="444600"/>
            </a:xfrm>
            <a:custGeom>
              <a:avLst/>
              <a:gdLst/>
              <a:ahLst/>
              <a:rect l="l" t="t" r="r" b="b"/>
              <a:pathLst>
                <a:path w="179" h="280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179" y="280"/>
                  </a:lnTo>
                  <a:lnTo>
                    <a:pt x="179" y="2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4280" y="5369040"/>
              <a:ext cx="284040" cy="44928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3"/>
                  </a:lnTo>
                  <a:lnTo>
                    <a:pt x="179" y="283"/>
                  </a:lnTo>
                  <a:lnTo>
                    <a:pt x="179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"/>
          <p:cNvSpPr/>
          <p:nvPr/>
        </p:nvSpPr>
        <p:spPr>
          <a:xfrm>
            <a:off x="225360" y="312840"/>
            <a:ext cx="465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nite State Machine for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1" name=""/>
          <p:cNvGrpSpPr/>
          <p:nvPr/>
        </p:nvGrpSpPr>
        <p:grpSpPr>
          <a:xfrm>
            <a:off x="2066760" y="1000080"/>
            <a:ext cx="4689360" cy="5585040"/>
            <a:chOff x="2066760" y="1000080"/>
            <a:chExt cx="4689360" cy="5585040"/>
          </a:xfrm>
        </p:grpSpPr>
        <p:grpSp>
          <p:nvGrpSpPr>
            <p:cNvPr id="3032" name=""/>
            <p:cNvGrpSpPr/>
            <p:nvPr/>
          </p:nvGrpSpPr>
          <p:grpSpPr>
            <a:xfrm>
              <a:off x="2092320" y="1000080"/>
              <a:ext cx="4637880" cy="5585040"/>
              <a:chOff x="2092320" y="1000080"/>
              <a:chExt cx="4637880" cy="5585040"/>
            </a:xfrm>
          </p:grpSpPr>
          <p:sp>
            <p:nvSpPr>
              <p:cNvPr id="3033" name=""/>
              <p:cNvSpPr/>
              <p:nvPr/>
            </p:nvSpPr>
            <p:spPr>
              <a:xfrm flipH="1">
                <a:off x="5705280" y="120492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5705280" y="144144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5705280" y="163836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5705280" y="184464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5705280" y="208116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5705280" y="231768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5705280" y="255420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5705280" y="302436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5705280" y="326088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H="1">
                <a:off x="5705280" y="349740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5705280" y="373392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5705280" y="3971880"/>
                <a:ext cx="1019160" cy="32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478400" y="4265640"/>
                <a:ext cx="2251080" cy="2319480"/>
              </a:xfrm>
              <a:custGeom>
                <a:avLst/>
                <a:gdLst/>
                <a:ahLst/>
                <a:rect l="l" t="t" r="r" b="b"/>
                <a:pathLst>
                  <a:path w="1418" h="1461">
                    <a:moveTo>
                      <a:pt x="771" y="0"/>
                    </a:moveTo>
                    <a:lnTo>
                      <a:pt x="1418" y="3"/>
                    </a:lnTo>
                    <a:lnTo>
                      <a:pt x="1418" y="1461"/>
                    </a:lnTo>
                    <a:lnTo>
                      <a:pt x="0" y="1461"/>
                    </a:lnTo>
                    <a:lnTo>
                      <a:pt x="0" y="1059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810400" y="1000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909760" y="10000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020640" y="10000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58520" y="10000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207480" y="10000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239160" y="1000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282360" y="10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819760" y="1254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91912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028560" y="12542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67880" y="1254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215400" y="125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247080" y="12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28524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37488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47748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56100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416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08960" y="146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48920" y="146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934600" y="146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985720" y="14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118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93280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0134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140880" y="2349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17904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266880" y="2349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37128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45192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1040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09760" y="2585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01668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11712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19884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83800" y="2585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33348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40296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810400" y="2822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832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95440" y="2822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098760" y="28224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21396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81040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08320" y="306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95440" y="3060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0092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98120" y="3060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47800" y="306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32484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81040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08320" y="3297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95440" y="3297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10092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98120" y="3297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247800" y="329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32484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11120" y="3533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1552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9976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087240" y="35337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225120" y="3533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74080" y="3533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305760" y="3533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34428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81112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1552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9976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8436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190560" y="3770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264720" y="3770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11120" y="408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918400" y="408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16320" y="408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811120" y="427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18400" y="4275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16320" y="427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811120" y="4459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918400" y="4459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16320" y="4459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811120" y="4646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918400" y="4646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16320" y="464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54784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rot="16200000">
                <a:off x="21240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rot="16200000">
                <a:off x="21405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200000">
                <a:off x="21405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rot="16200000">
                <a:off x="24588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rot="16200000">
                <a:off x="24753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200000">
                <a:off x="24753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rot="16200000">
                <a:off x="27939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rot="16200000">
                <a:off x="28105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rot="16200000">
                <a:off x="28105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rot="16200000">
                <a:off x="31287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rot="16200000">
                <a:off x="31453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rot="16200000">
                <a:off x="31453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rot="16200000">
                <a:off x="34639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rot="16200000">
                <a:off x="34804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rot="16200000">
                <a:off x="34804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rot="16200000">
                <a:off x="37987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200000">
                <a:off x="38152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rot="16200000">
                <a:off x="38152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rot="16200000">
                <a:off x="43120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200000">
                <a:off x="43203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rot="16200000">
                <a:off x="46468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rot="16200000">
                <a:off x="46551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rot="16200000">
                <a:off x="49816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rot="16200000">
                <a:off x="49899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rot="16200000">
                <a:off x="531684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rot="16200000">
                <a:off x="532512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568760" y="5621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9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7059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79124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8297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9168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95684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0043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0900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17068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20308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2786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168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028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365720" y="5543640"/>
                <a:ext cx="1228680" cy="336600"/>
              </a:xfrm>
              <a:custGeom>
                <a:avLst/>
                <a:gdLst/>
                <a:ahLst/>
                <a:rect l="l" t="t" r="r" b="b"/>
                <a:pathLst>
                  <a:path w="774" h="212">
                    <a:moveTo>
                      <a:pt x="771" y="209"/>
                    </a:moveTo>
                    <a:lnTo>
                      <a:pt x="774" y="0"/>
                    </a:lnTo>
                    <a:lnTo>
                      <a:pt x="0" y="0"/>
                    </a:lnTo>
                    <a:lnTo>
                      <a:pt x="0" y="212"/>
                    </a:lnTo>
                    <a:lnTo>
                      <a:pt x="774" y="212"/>
                    </a:lnTo>
                    <a:lnTo>
                      <a:pt x="774" y="212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4212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51436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10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48085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77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44737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43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397368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93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6385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60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3037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26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296856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93220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263376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5970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229860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2622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478480" y="4829040"/>
                <a:ext cx="692280" cy="1197000"/>
              </a:xfrm>
              <a:custGeom>
                <a:avLst/>
                <a:gdLst/>
                <a:ahLst/>
                <a:rect l="l" t="t" r="r" b="b"/>
                <a:pathLst>
                  <a:path w="436" h="754">
                    <a:moveTo>
                      <a:pt x="0" y="687"/>
                    </a:moveTo>
                    <a:lnTo>
                      <a:pt x="3" y="754"/>
                    </a:lnTo>
                    <a:lnTo>
                      <a:pt x="436" y="754"/>
                    </a:lnTo>
                    <a:lnTo>
                      <a:pt x="436" y="0"/>
                    </a:lnTo>
                    <a:lnTo>
                      <a:pt x="143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43680" y="4641840"/>
                <a:ext cx="1209600" cy="1573200"/>
              </a:xfrm>
              <a:custGeom>
                <a:avLst/>
                <a:gdLst/>
                <a:ahLst/>
                <a:rect l="l" t="t" r="r" b="b"/>
                <a:pathLst>
                  <a:path w="762" h="991">
                    <a:moveTo>
                      <a:pt x="0" y="805"/>
                    </a:moveTo>
                    <a:lnTo>
                      <a:pt x="3" y="991"/>
                    </a:lnTo>
                    <a:lnTo>
                      <a:pt x="762" y="991"/>
                    </a:lnTo>
                    <a:lnTo>
                      <a:pt x="762" y="0"/>
                    </a:lnTo>
                    <a:lnTo>
                      <a:pt x="354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808520" y="4457880"/>
                <a:ext cx="1733400" cy="1944360"/>
              </a:xfrm>
              <a:custGeom>
                <a:avLst/>
                <a:gdLst/>
                <a:ahLst/>
                <a:rect l="l" t="t" r="r" b="b"/>
                <a:pathLst>
                  <a:path w="1092" h="1225">
                    <a:moveTo>
                      <a:pt x="0" y="921"/>
                    </a:moveTo>
                    <a:lnTo>
                      <a:pt x="3" y="1225"/>
                    </a:lnTo>
                    <a:lnTo>
                      <a:pt x="1092" y="1225"/>
                    </a:lnTo>
                    <a:lnTo>
                      <a:pt x="1092" y="0"/>
                    </a:lnTo>
                    <a:lnTo>
                      <a:pt x="565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44212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106960" y="58881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77216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80896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852520" y="2112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961960" y="21128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099840" y="2112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48800" y="21128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18048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223320" y="2112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8118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93280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0134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143040" y="1638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24564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33132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41088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8118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93280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0134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146280" y="18763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83800" y="187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332760" y="18763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363000" y="1876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40296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5545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26002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67912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75472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27946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28447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93004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30006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304524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30754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31622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32418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28212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332964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41532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500640" y="562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533040" y="562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608640" y="562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64680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728160" y="562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745080" y="5621400"/>
              <a:ext cx="1825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7673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8515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934720" y="579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00888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092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173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2594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3008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34044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3739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45636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48984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437000" y="58881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5"/>
                  </a:moveTo>
                  <a:lnTo>
                    <a:pt x="48" y="48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478480" y="1101600"/>
              <a:ext cx="152280" cy="3727440"/>
            </a:xfrm>
            <a:custGeom>
              <a:avLst/>
              <a:gdLst/>
              <a:ahLst/>
              <a:rect l="l" t="t" r="r" b="b"/>
              <a:pathLst>
                <a:path w="96" h="2348">
                  <a:moveTo>
                    <a:pt x="96" y="0"/>
                  </a:moveTo>
                  <a:lnTo>
                    <a:pt x="87" y="3"/>
                  </a:lnTo>
                  <a:lnTo>
                    <a:pt x="82" y="6"/>
                  </a:lnTo>
                  <a:lnTo>
                    <a:pt x="73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6" y="26"/>
                  </a:lnTo>
                  <a:lnTo>
                    <a:pt x="53" y="31"/>
                  </a:lnTo>
                  <a:lnTo>
                    <a:pt x="51" y="40"/>
                  </a:lnTo>
                  <a:lnTo>
                    <a:pt x="48" y="48"/>
                  </a:lnTo>
                  <a:lnTo>
                    <a:pt x="48" y="59"/>
                  </a:lnTo>
                  <a:lnTo>
                    <a:pt x="48" y="1118"/>
                  </a:lnTo>
                  <a:lnTo>
                    <a:pt x="48" y="1126"/>
                  </a:lnTo>
                  <a:lnTo>
                    <a:pt x="45" y="1138"/>
                  </a:lnTo>
                  <a:lnTo>
                    <a:pt x="42" y="1143"/>
                  </a:lnTo>
                  <a:lnTo>
                    <a:pt x="39" y="1152"/>
                  </a:lnTo>
                  <a:lnTo>
                    <a:pt x="34" y="1157"/>
                  </a:lnTo>
                  <a:lnTo>
                    <a:pt x="28" y="1163"/>
                  </a:lnTo>
                  <a:lnTo>
                    <a:pt x="22" y="1169"/>
                  </a:lnTo>
                  <a:lnTo>
                    <a:pt x="14" y="1171"/>
                  </a:lnTo>
                  <a:lnTo>
                    <a:pt x="8" y="1174"/>
                  </a:lnTo>
                  <a:lnTo>
                    <a:pt x="0" y="1174"/>
                  </a:lnTo>
                  <a:lnTo>
                    <a:pt x="8" y="1177"/>
                  </a:lnTo>
                  <a:lnTo>
                    <a:pt x="14" y="1177"/>
                  </a:lnTo>
                  <a:lnTo>
                    <a:pt x="22" y="1183"/>
                  </a:lnTo>
                  <a:lnTo>
                    <a:pt x="28" y="1185"/>
                  </a:lnTo>
                  <a:lnTo>
                    <a:pt x="34" y="1191"/>
                  </a:lnTo>
                  <a:lnTo>
                    <a:pt x="39" y="1197"/>
                  </a:lnTo>
                  <a:lnTo>
                    <a:pt x="42" y="1205"/>
                  </a:lnTo>
                  <a:lnTo>
                    <a:pt x="45" y="1214"/>
                  </a:lnTo>
                  <a:lnTo>
                    <a:pt x="48" y="1222"/>
                  </a:lnTo>
                  <a:lnTo>
                    <a:pt x="48" y="1230"/>
                  </a:lnTo>
                  <a:lnTo>
                    <a:pt x="48" y="2292"/>
                  </a:lnTo>
                  <a:lnTo>
                    <a:pt x="48" y="2300"/>
                  </a:lnTo>
                  <a:lnTo>
                    <a:pt x="51" y="2309"/>
                  </a:lnTo>
                  <a:lnTo>
                    <a:pt x="53" y="2317"/>
                  </a:lnTo>
                  <a:lnTo>
                    <a:pt x="56" y="2326"/>
                  </a:lnTo>
                  <a:lnTo>
                    <a:pt x="62" y="2331"/>
                  </a:lnTo>
                  <a:lnTo>
                    <a:pt x="67" y="2337"/>
                  </a:lnTo>
                  <a:lnTo>
                    <a:pt x="73" y="2342"/>
                  </a:lnTo>
                  <a:lnTo>
                    <a:pt x="82" y="2345"/>
                  </a:lnTo>
                  <a:lnTo>
                    <a:pt x="87" y="2348"/>
                  </a:lnTo>
                  <a:lnTo>
                    <a:pt x="96" y="23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911480" y="2989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02416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0876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1472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2354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31360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355720" y="298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330280" y="4794120"/>
              <a:ext cx="3121200" cy="155880"/>
            </a:xfrm>
            <a:custGeom>
              <a:avLst/>
              <a:gdLst/>
              <a:ahLst/>
              <a:rect l="l" t="t" r="r" b="b"/>
              <a:pathLst>
                <a:path w="1966" h="98">
                  <a:moveTo>
                    <a:pt x="1966" y="95"/>
                  </a:moveTo>
                  <a:lnTo>
                    <a:pt x="1966" y="90"/>
                  </a:lnTo>
                  <a:lnTo>
                    <a:pt x="1966" y="81"/>
                  </a:lnTo>
                  <a:lnTo>
                    <a:pt x="1963" y="76"/>
                  </a:lnTo>
                  <a:lnTo>
                    <a:pt x="1958" y="67"/>
                  </a:lnTo>
                  <a:lnTo>
                    <a:pt x="1955" y="61"/>
                  </a:lnTo>
                  <a:lnTo>
                    <a:pt x="1949" y="59"/>
                  </a:lnTo>
                  <a:lnTo>
                    <a:pt x="1941" y="53"/>
                  </a:lnTo>
                  <a:lnTo>
                    <a:pt x="1935" y="50"/>
                  </a:lnTo>
                  <a:lnTo>
                    <a:pt x="1927" y="50"/>
                  </a:lnTo>
                  <a:lnTo>
                    <a:pt x="1918" y="47"/>
                  </a:lnTo>
                  <a:lnTo>
                    <a:pt x="1032" y="47"/>
                  </a:lnTo>
                  <a:lnTo>
                    <a:pt x="1024" y="47"/>
                  </a:lnTo>
                  <a:lnTo>
                    <a:pt x="1018" y="47"/>
                  </a:lnTo>
                  <a:lnTo>
                    <a:pt x="1010" y="45"/>
                  </a:lnTo>
                  <a:lnTo>
                    <a:pt x="1004" y="39"/>
                  </a:lnTo>
                  <a:lnTo>
                    <a:pt x="998" y="33"/>
                  </a:lnTo>
                  <a:lnTo>
                    <a:pt x="993" y="28"/>
                  </a:lnTo>
                  <a:lnTo>
                    <a:pt x="990" y="22"/>
                  </a:lnTo>
                  <a:lnTo>
                    <a:pt x="987" y="16"/>
                  </a:lnTo>
                  <a:lnTo>
                    <a:pt x="984" y="8"/>
                  </a:lnTo>
                  <a:lnTo>
                    <a:pt x="984" y="0"/>
                  </a:lnTo>
                  <a:lnTo>
                    <a:pt x="984" y="8"/>
                  </a:lnTo>
                  <a:lnTo>
                    <a:pt x="981" y="16"/>
                  </a:lnTo>
                  <a:lnTo>
                    <a:pt x="979" y="22"/>
                  </a:lnTo>
                  <a:lnTo>
                    <a:pt x="976" y="28"/>
                  </a:lnTo>
                  <a:lnTo>
                    <a:pt x="970" y="33"/>
                  </a:lnTo>
                  <a:lnTo>
                    <a:pt x="965" y="39"/>
                  </a:lnTo>
                  <a:lnTo>
                    <a:pt x="959" y="45"/>
                  </a:lnTo>
                  <a:lnTo>
                    <a:pt x="950" y="47"/>
                  </a:lnTo>
                  <a:lnTo>
                    <a:pt x="945" y="47"/>
                  </a:lnTo>
                  <a:lnTo>
                    <a:pt x="936" y="47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31" y="50"/>
                  </a:lnTo>
                  <a:lnTo>
                    <a:pt x="25" y="53"/>
                  </a:lnTo>
                  <a:lnTo>
                    <a:pt x="19" y="59"/>
                  </a:lnTo>
                  <a:lnTo>
                    <a:pt x="14" y="61"/>
                  </a:lnTo>
                  <a:lnTo>
                    <a:pt x="8" y="67"/>
                  </a:lnTo>
                  <a:lnTo>
                    <a:pt x="2" y="76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493440" y="2273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5978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8136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76416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04120" y="227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516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93876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96900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0104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043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124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102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242960" y="227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71988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652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84372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3048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010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050720" y="457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H="1">
              <a:off x="5714640" y="2790720"/>
              <a:ext cx="1041480" cy="1800"/>
            </a:xfrm>
            <a:prstGeom prst="line">
              <a:avLst/>
            </a:prstGeom>
            <a:ln w="316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empenho desta máquina para o gc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647280" y="3314520"/>
            <a:ext cx="81536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0,23*5 + 0,13*4 + 0,43*4 + 0,19*3 + 0,02*3 = 4,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 do que se todas as instruções tomassem 5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ia em MIPS (supor ck = 100 MH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4 -&gt; 25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5 -&gt; 20 MI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 (fazer tudo em um ciclo) -&gt; 100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7" name=""/>
          <p:cNvGraphicFramePr/>
          <p:nvPr/>
        </p:nvGraphicFramePr>
        <p:xfrm>
          <a:off x="1523880" y="1397160"/>
          <a:ext cx="6096240" cy="1101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389520" y="889200"/>
            <a:ext cx="8317440" cy="8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I picked a horizontal or vertical line could you explain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0" name="" descr=""/>
          <p:cNvPicPr/>
          <p:nvPr/>
        </p:nvPicPr>
        <p:blipFill>
          <a:blip r:embed="rId1"/>
          <a:stretch/>
        </p:blipFill>
        <p:spPr>
          <a:xfrm>
            <a:off x="2697120" y="1352520"/>
            <a:ext cx="3764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/>
          <p:nvPr/>
        </p:nvSpPr>
        <p:spPr>
          <a:xfrm>
            <a:off x="3349800" y="842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= "Read Only Memory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s of memory locations are fixed ahead of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ROM can be used to implement a truth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the address is m-bits, we can addres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ntries in the RO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r outputs are the bits of data that the address points to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 is the "heigth", and n is the "width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1538280" y="3691080"/>
            <a:ext cx="2639880" cy="1466640"/>
            <a:chOff x="1538280" y="3691080"/>
            <a:chExt cx="2639880" cy="1466640"/>
          </a:xfrm>
        </p:grpSpPr>
        <p:sp>
          <p:nvSpPr>
            <p:cNvPr id="3295" name=""/>
            <p:cNvSpPr/>
            <p:nvPr/>
          </p:nvSpPr>
          <p:spPr>
            <a:xfrm>
              <a:off x="2425680" y="3691080"/>
              <a:ext cx="901800" cy="146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1956960" y="4262400"/>
              <a:ext cx="136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3422520" y="4262400"/>
              <a:ext cx="1368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943280" y="3948120"/>
              <a:ext cx="539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409920" y="3948120"/>
              <a:ext cx="5000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5382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3670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5319720" y="3510000"/>
            <a:ext cx="1612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0 0 0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1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1 1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1 0 0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0 0 1 1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1 0 1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5981760" y="3512880"/>
            <a:ext cx="0" cy="17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5302080" y="3530520"/>
            <a:ext cx="1549440" cy="170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in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 bits for opcode, 4 bits for state = 10 address line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.e.,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1024 different addre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out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6 datapath-control outputs, 4 state bits = 20 output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x 20 = 1K x 20 bits    (and a rather unusual size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ather wasteful, since for lots of the entries, the outputs are the sam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i.e., opcode is often igno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"/>
          <p:cNvSpPr/>
          <p:nvPr/>
        </p:nvSpPr>
        <p:spPr>
          <a:xfrm>
            <a:off x="225360" y="312840"/>
            <a:ext cx="59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eak up the table into two part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4 state bits tell you the 16 outputs,  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16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10 bits tell you the 4 next state bits,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4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Total:  4.3K  bits of R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is much smaller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share product term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only need entries that produce an active output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take into account don't c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ze is (#in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 + (#out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r this example  =  (10x17)+(20x17) = 460 PLA cell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cells usually about the size of a ROM cell (slightly bigg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vs P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R (Instruction Register) e MDR (Memory Data Register) salvam saída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A e B salvam saída d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out salva saída da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dos, exceto IR, guardam dados por um clock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controle de escrita é desnecessá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os MUXes: endereço da memória, operandos da AL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5800" y="3589200"/>
            <a:ext cx="7754760" cy="2970360"/>
            <a:chOff x="685800" y="3589200"/>
            <a:chExt cx="7754760" cy="2970360"/>
          </a:xfrm>
        </p:grpSpPr>
        <p:grpSp>
          <p:nvGrpSpPr>
            <p:cNvPr id="245" name=""/>
            <p:cNvGrpSpPr/>
            <p:nvPr/>
          </p:nvGrpSpPr>
          <p:grpSpPr>
            <a:xfrm>
              <a:off x="851040" y="3724200"/>
              <a:ext cx="5841720" cy="2809800"/>
              <a:chOff x="851040" y="3724200"/>
              <a:chExt cx="5841720" cy="280980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541320" y="5605560"/>
                <a:ext cx="730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06960" y="4335480"/>
                <a:ext cx="425520" cy="112680"/>
              </a:xfrm>
              <a:custGeom>
                <a:avLst/>
                <a:gdLst/>
                <a:ahLst/>
                <a:rect l="l" t="t" r="r" b="b"/>
                <a:pathLst>
                  <a:path w="268" h="71">
                    <a:moveTo>
                      <a:pt x="0" y="0"/>
                    </a:moveTo>
                    <a:lnTo>
                      <a:pt x="164" y="3"/>
                    </a:lnTo>
                    <a:lnTo>
                      <a:pt x="164" y="71"/>
                    </a:lnTo>
                    <a:lnTo>
                      <a:pt x="268" y="71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  <a:lnTo>
                      <a:pt x="93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91160" y="5727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56320" y="57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09960" y="572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3264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5748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62520" y="57276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77480" y="5840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0124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5488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797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49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3156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506320" y="4552920"/>
                <a:ext cx="36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5320" y="3919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64800" y="3919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28880" y="3976560"/>
                <a:ext cx="1825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468440" y="4187880"/>
                <a:ext cx="10008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548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5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3904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20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77280" y="4348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05720" y="43480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50960" y="40878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135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978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67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28480" y="45086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76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53760" y="4508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804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674000" y="4808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63280" y="4808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93880" y="4808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14040" y="480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45360" y="4808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76320" y="48085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247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79120" y="490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0720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53240" y="4040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1200" y="40402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6512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03280" y="4135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65840" y="4230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42080" y="391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42080" y="4352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11520" y="4986360"/>
                <a:ext cx="142920" cy="200160"/>
              </a:xfrm>
              <a:custGeom>
                <a:avLst/>
                <a:gdLst/>
                <a:ahLst/>
                <a:rect l="l" t="t" r="r" b="b"/>
                <a:pathLst>
                  <a:path w="90" h="126">
                    <a:moveTo>
                      <a:pt x="90" y="0"/>
                    </a:moveTo>
                    <a:lnTo>
                      <a:pt x="44" y="0"/>
                    </a:lnTo>
                    <a:lnTo>
                      <a:pt x="4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24440" y="4410000"/>
                <a:ext cx="187200" cy="14292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118" y="90"/>
                    </a:move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41320" y="4695840"/>
                <a:ext cx="2127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  <a:lnTo>
                      <a:pt x="520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80960" y="4518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504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990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53040" y="4518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7572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22520" y="45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5348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06400" y="4518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628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95200" y="45957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8412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1472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35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6296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94280" y="459576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376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232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73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32360" y="469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53600" y="4691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000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281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08104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95200" y="4881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84120" y="4881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14720" y="4881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35240" y="488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62960" y="4881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94280" y="48816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9088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4560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97080" y="4976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2336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06400" y="4270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588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3312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8136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4840" y="4270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808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1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5716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8380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3528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63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06400" y="4630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7588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3312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8136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514840" y="46306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4808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01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5716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8380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3528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3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93760" y="4014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632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154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54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02200" y="40147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376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232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736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32360" y="4114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953600" y="4114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000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281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8104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145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40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93760" y="4305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2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154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654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4305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9376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32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36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932360" y="4400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53600" y="4400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000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28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8104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145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140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281400" y="4405320"/>
                <a:ext cx="137304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281400" y="4119480"/>
                <a:ext cx="137304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26480" y="4616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84800" y="46162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4340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76880" y="4711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4120" y="4811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5320" y="449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1532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36920" y="4964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8"/>
                    </a:moveTo>
                    <a:lnTo>
                      <a:pt x="20" y="30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96320" y="52498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4640" y="52498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13240" y="534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46720" y="53452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3960" y="544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85160" y="512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85160" y="556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54400" y="5186520"/>
                <a:ext cx="127080" cy="1347480"/>
              </a:xfrm>
              <a:custGeom>
                <a:avLst/>
                <a:gdLst/>
                <a:ahLst/>
                <a:rect l="l" t="t" r="r" b="b"/>
                <a:pathLst>
                  <a:path w="80" h="849">
                    <a:moveTo>
                      <a:pt x="80" y="0"/>
                    </a:moveTo>
                    <a:lnTo>
                      <a:pt x="0" y="2"/>
                    </a:lnTo>
                    <a:lnTo>
                      <a:pt x="0" y="849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  <a:lnTo>
                      <a:pt x="15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292440" y="4911840"/>
                <a:ext cx="82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989680" y="4765680"/>
                <a:ext cx="395280" cy="32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1900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  <a:lnTo>
                      <a:pt x="112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5276880" y="5787720"/>
                <a:ext cx="6840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7132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95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5484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016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28280" y="513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5600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1540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618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87760" y="513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10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6048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93960" y="513252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3656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28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2008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726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4536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684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48200" y="57405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0120" y="5740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3064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8608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85800" y="3589200"/>
              <a:ext cx="7754760" cy="2935440"/>
              <a:chOff x="685800" y="3589200"/>
              <a:chExt cx="7754760" cy="2935440"/>
            </a:xfrm>
          </p:grpSpPr>
          <p:sp>
            <p:nvSpPr>
              <p:cNvPr id="447" name=""/>
              <p:cNvSpPr/>
              <p:nvPr/>
            </p:nvSpPr>
            <p:spPr>
              <a:xfrm>
                <a:off x="5119560" y="574056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9312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48920" y="585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6800" y="5856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234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7348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260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711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283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94240" y="5056200"/>
                <a:ext cx="981000" cy="784080"/>
              </a:xfrm>
              <a:custGeom>
                <a:avLst/>
                <a:gdLst/>
                <a:ahLst/>
                <a:rect l="l" t="t" r="r" b="b"/>
                <a:pathLst>
                  <a:path w="618" h="494">
                    <a:moveTo>
                      <a:pt x="0" y="494"/>
                    </a:moveTo>
                    <a:lnTo>
                      <a:pt x="2" y="196"/>
                    </a:lnTo>
                    <a:lnTo>
                      <a:pt x="271" y="196"/>
                    </a:lnTo>
                    <a:lnTo>
                      <a:pt x="271" y="0"/>
                    </a:lnTo>
                    <a:lnTo>
                      <a:pt x="618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24440" y="5194440"/>
                <a:ext cx="565200" cy="650880"/>
              </a:xfrm>
              <a:custGeom>
                <a:avLst/>
                <a:gdLst/>
                <a:ahLst/>
                <a:rect l="l" t="t" r="r" b="b"/>
                <a:pathLst>
                  <a:path w="356" h="410">
                    <a:moveTo>
                      <a:pt x="356" y="0"/>
                    </a:moveTo>
                    <a:lnTo>
                      <a:pt x="309" y="3"/>
                    </a:lnTo>
                    <a:lnTo>
                      <a:pt x="309" y="410"/>
                    </a:lnTo>
                    <a:lnTo>
                      <a:pt x="0" y="41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206680" y="5840280"/>
                <a:ext cx="237960" cy="50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33520" y="4756320"/>
                <a:ext cx="4711680" cy="1574640"/>
              </a:xfrm>
              <a:custGeom>
                <a:avLst/>
                <a:gdLst/>
                <a:ahLst/>
                <a:rect l="l" t="t" r="r" b="b"/>
                <a:pathLst>
                  <a:path w="2968" h="992">
                    <a:moveTo>
                      <a:pt x="2968" y="0"/>
                    </a:moveTo>
                    <a:lnTo>
                      <a:pt x="2968" y="992"/>
                    </a:lnTo>
                    <a:lnTo>
                      <a:pt x="0" y="992"/>
                    </a:lnTo>
                    <a:lnTo>
                      <a:pt x="0" y="96"/>
                    </a:lnTo>
                    <a:lnTo>
                      <a:pt x="88" y="9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flipV="1">
                <a:off x="4641840" y="5787720"/>
                <a:ext cx="6984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407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933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38320" y="3807000"/>
                <a:ext cx="5286240" cy="199800"/>
              </a:xfrm>
              <a:custGeom>
                <a:avLst/>
                <a:gdLst/>
                <a:ahLst/>
                <a:rect l="l" t="t" r="r" b="b"/>
                <a:pathLst>
                  <a:path w="3330" h="126">
                    <a:moveTo>
                      <a:pt x="3330" y="126"/>
                    </a:moveTo>
                    <a:lnTo>
                      <a:pt x="3204" y="126"/>
                    </a:lnTo>
                    <a:lnTo>
                      <a:pt x="3204" y="0"/>
                    </a:lnTo>
                    <a:lnTo>
                      <a:pt x="0" y="0"/>
                    </a:lnTo>
                    <a:lnTo>
                      <a:pt x="0" y="107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138320" y="4410000"/>
                <a:ext cx="7302240" cy="2114640"/>
              </a:xfrm>
              <a:custGeom>
                <a:avLst/>
                <a:gdLst/>
                <a:ahLst/>
                <a:rect l="l" t="t" r="r" b="b"/>
                <a:pathLst>
                  <a:path w="4600" h="1332">
                    <a:moveTo>
                      <a:pt x="4502" y="101"/>
                    </a:moveTo>
                    <a:lnTo>
                      <a:pt x="4600" y="101"/>
                    </a:lnTo>
                    <a:lnTo>
                      <a:pt x="4600" y="1332"/>
                    </a:lnTo>
                    <a:lnTo>
                      <a:pt x="0" y="1332"/>
                    </a:lnTo>
                    <a:lnTo>
                      <a:pt x="0" y="0"/>
                    </a:lnTo>
                    <a:lnTo>
                      <a:pt x="46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  <a:lnTo>
                      <a:pt x="457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3640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6052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1524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6168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90480" y="4014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210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7580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2224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49600" y="4014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726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208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9040" y="40147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3397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67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2324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475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503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025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572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3640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6052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1524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6168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390480" y="4305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10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7580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2224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49600" y="4305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726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208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59040" y="430524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397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67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2324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75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503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025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57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3640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6052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31524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6168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39048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210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7580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22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54960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57264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208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59040" y="459576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016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279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804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32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0576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572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8120" y="358920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60" h="244">
                    <a:moveTo>
                      <a:pt x="60" y="244"/>
                    </a:moveTo>
                    <a:lnTo>
                      <a:pt x="0" y="244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3948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65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201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665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98240" y="4846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256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803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267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57360" y="4846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80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3044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63920" y="4846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0788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4064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906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44680" y="4959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7720" y="4959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18840" y="4959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454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9840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9656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4840" y="4834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54960" y="48340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1176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645240" y="49291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12480" y="5024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9656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96560" y="5146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96560" y="500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27960" y="4387680"/>
                <a:ext cx="1094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706800" y="4799160"/>
                <a:ext cx="17316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52000" y="4075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615000" y="40752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892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02400" y="4170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69640" y="4265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42200" y="4486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06280" y="448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462440" y="4486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510320" y="4486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6960" y="4583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0152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54080" y="4583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9908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450920" y="4583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475040" y="4583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59600" y="4460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26920" y="4460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84520" y="4460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667560" y="4222800"/>
                <a:ext cx="2080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318440" y="4335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7928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432200" y="4335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6676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3000" y="436248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0" y="32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  <a:lnTo>
                      <a:pt x="32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359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15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691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50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06320" y="555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35840" y="555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63920" y="5557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1300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6772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18840" y="5670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5016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81480" y="56707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14568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556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56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4280" y="5783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05880" y="5783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53760" y="5783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804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3332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703600" y="4552920"/>
                <a:ext cx="264960" cy="1057320"/>
              </a:xfrm>
              <a:custGeom>
                <a:avLst/>
                <a:gdLst/>
                <a:ahLst/>
                <a:rect l="l" t="t" r="r" b="b"/>
                <a:pathLst>
                  <a:path w="167" h="666">
                    <a:moveTo>
                      <a:pt x="0" y="0"/>
                    </a:moveTo>
                    <a:lnTo>
                      <a:pt x="0" y="663"/>
                    </a:lnTo>
                    <a:lnTo>
                      <a:pt x="167" y="66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1420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38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980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445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71160" y="4729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0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582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047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132080" y="4729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15368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037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241880" y="47293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1420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4084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8980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502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233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755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2704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72000" y="4686480"/>
                <a:ext cx="522000" cy="272880"/>
              </a:xfrm>
              <a:custGeom>
                <a:avLst/>
                <a:gdLst/>
                <a:ahLst/>
                <a:rect l="l" t="t" r="r" b="b"/>
                <a:pathLst>
                  <a:path w="329" h="172">
                    <a:moveTo>
                      <a:pt x="0" y="0"/>
                    </a:moveTo>
                    <a:lnTo>
                      <a:pt x="47" y="0"/>
                    </a:lnTo>
                    <a:lnTo>
                      <a:pt x="47" y="172"/>
                    </a:lnTo>
                    <a:lnTo>
                      <a:pt x="329" y="17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46520" y="4959360"/>
                <a:ext cx="1020600" cy="885960"/>
              </a:xfrm>
              <a:custGeom>
                <a:avLst/>
                <a:gdLst/>
                <a:ahLst/>
                <a:rect l="l" t="t" r="r" b="b"/>
                <a:pathLst>
                  <a:path w="643" h="558">
                    <a:moveTo>
                      <a:pt x="0" y="0"/>
                    </a:moveTo>
                    <a:lnTo>
                      <a:pt x="0" y="558"/>
                    </a:lnTo>
                    <a:lnTo>
                      <a:pt x="643" y="558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  <a:lnTo>
                      <a:pt x="118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  <a:lnTo>
                      <a:pt x="11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45040" y="4127400"/>
                <a:ext cx="2430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916600" y="4287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99320" y="46911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62720" y="4734000"/>
                <a:ext cx="196560" cy="1440"/>
              </a:xfrm>
              <a:custGeom>
                <a:avLst/>
                <a:gdLst/>
                <a:ahLst/>
                <a:rect l="l" t="t" r="r" b="b"/>
                <a:pathLst>
                  <a:path w="124" h="0">
                    <a:moveTo>
                      <a:pt x="124" y="0"/>
                    </a:moveTo>
                    <a:lnTo>
                      <a:pt x="124" y="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562720" y="4335480"/>
                <a:ext cx="230040" cy="4680"/>
              </a:xfrm>
              <a:custGeom>
                <a:avLst/>
                <a:gdLst/>
                <a:ahLst/>
                <a:rect l="l" t="t" r="r" b="b"/>
                <a:pathLst>
                  <a:path w="145" h="3">
                    <a:moveTo>
                      <a:pt x="135" y="0"/>
                    </a:moveTo>
                    <a:lnTo>
                      <a:pt x="145" y="3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893000" y="4395960"/>
                <a:ext cx="395280" cy="317160"/>
              </a:xfrm>
              <a:custGeom>
                <a:avLst/>
                <a:gdLst/>
                <a:ahLst/>
                <a:rect l="l" t="t" r="r" b="b"/>
                <a:pathLst>
                  <a:path w="249" h="200">
                    <a:moveTo>
                      <a:pt x="247" y="197"/>
                    </a:moveTo>
                    <a:lnTo>
                      <a:pt x="249" y="0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249" y="200"/>
                    </a:lnTo>
                    <a:lnTo>
                      <a:pt x="249" y="20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959600" y="4491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2692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079840" y="4491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48960" y="4491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22456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78200" y="44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5800" y="3598920"/>
                <a:ext cx="7059600" cy="966600"/>
              </a:xfrm>
              <a:custGeom>
                <a:avLst/>
                <a:gdLst/>
                <a:ahLst/>
                <a:rect l="l" t="t" r="r" b="b"/>
                <a:pathLst>
                  <a:path w="4447" h="609">
                    <a:moveTo>
                      <a:pt x="4447" y="609"/>
                    </a:moveTo>
                    <a:lnTo>
                      <a:pt x="4447" y="0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5584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558480" y="437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74720" y="41148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173988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9532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50400" y="4114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8496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3752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504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5360" y="4560840"/>
              <a:ext cx="299880" cy="4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3560" y="39765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3560" y="393696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0" y="0"/>
                  </a:moveTo>
                  <a:lnTo>
                    <a:pt x="0" y="49"/>
                  </a:lnTo>
                  <a:lnTo>
                    <a:pt x="50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03480" y="3976560"/>
              <a:ext cx="25200" cy="180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98440" y="39369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33600" y="41878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33600" y="41544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98440" y="440532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98440" y="43657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33600" y="49086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33600" y="4869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03400" y="39369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8" y="38"/>
                  </a:lnTo>
                  <a:lnTo>
                    <a:pt x="41" y="35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6848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3800" y="4513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51280" y="560556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46240" y="5567400"/>
              <a:ext cx="7812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68680" y="45180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5"/>
                  </a:lnTo>
                  <a:lnTo>
                    <a:pt x="43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3" y="16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1" y="44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76720" y="495936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2040" y="49212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46560" y="5186520"/>
              <a:ext cx="25560" cy="288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46560" y="5151600"/>
              <a:ext cx="7308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6560" y="560556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41880" y="55720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54520" y="584028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54520" y="5805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42120" y="584028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42120" y="580536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50040" y="5199120"/>
              <a:ext cx="25200" cy="32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50040" y="51642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50040" y="50562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50040" y="5016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50040" y="491184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50040" y="48736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45360" y="47656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5360" y="47260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97560" y="4410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97560" y="39672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37480" y="418788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0"/>
                  </a:moveTo>
                  <a:lnTo>
                    <a:pt x="2" y="50"/>
                  </a:lnTo>
                  <a:lnTo>
                    <a:pt x="49" y="25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0560" y="452592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lnTo>
                    <a:pt x="0" y="47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0360" y="4768920"/>
              <a:ext cx="7956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45240" y="4300560"/>
              <a:ext cx="7920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32640" y="469584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7672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72040" y="45180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11600" y="49212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6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19480" y="6486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6"/>
                  </a:moveTo>
                  <a:lnTo>
                    <a:pt x="28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4" y="13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8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10280" y="47340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4"/>
                  </a:moveTo>
                  <a:lnTo>
                    <a:pt x="28" y="44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1" y="9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10480" y="4530600"/>
              <a:ext cx="74520" cy="74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7"/>
                  </a:moveTo>
                  <a:lnTo>
                    <a:pt x="27" y="47"/>
                  </a:lnTo>
                  <a:lnTo>
                    <a:pt x="30" y="47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8" y="38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19" y="47"/>
                  </a:lnTo>
                  <a:lnTo>
                    <a:pt x="22" y="47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54640" y="58053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6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4" y="36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84480" y="437508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3"/>
                  </a:moveTo>
                  <a:lnTo>
                    <a:pt x="28" y="46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3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41840" y="469584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41840" y="46609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49760" y="498636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49760" y="495144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49760" y="44100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49760" y="43704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9760" y="411948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49760" y="40845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multiciclo e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30320" y="1220760"/>
            <a:ext cx="8861040" cy="4402800"/>
            <a:chOff x="130320" y="1220760"/>
            <a:chExt cx="8861040" cy="4402800"/>
          </a:xfrm>
        </p:grpSpPr>
        <p:grpSp>
          <p:nvGrpSpPr>
            <p:cNvPr id="713" name=""/>
            <p:cNvGrpSpPr/>
            <p:nvPr/>
          </p:nvGrpSpPr>
          <p:grpSpPr>
            <a:xfrm>
              <a:off x="295920" y="1220760"/>
              <a:ext cx="6932160" cy="4402800"/>
              <a:chOff x="295920" y="1220760"/>
              <a:chExt cx="6932160" cy="440280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7223760" y="4575240"/>
                <a:ext cx="4320" cy="86220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860880" y="1386360"/>
                <a:ext cx="1440" cy="578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  <a:lnTo>
                      <a:pt x="110" y="3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09240" y="40420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5200" y="4042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47120" y="4042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944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112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32440" y="40420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95200" y="4173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1680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8016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1040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4244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944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2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24188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05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98120" y="548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247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884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6912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6310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4389840" y="4025160"/>
                <a:ext cx="1080" cy="14126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216040" y="1390680"/>
                <a:ext cx="2880" cy="64980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299840" y="1386720"/>
                <a:ext cx="1440" cy="12250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991240" y="1386360"/>
                <a:ext cx="1440" cy="6634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2098440" y="1386360"/>
                <a:ext cx="46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479960" y="1386360"/>
                <a:ext cx="10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901800" y="1386360"/>
                <a:ext cx="1440" cy="542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839280" y="3584160"/>
                <a:ext cx="4680" cy="185364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513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848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4204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7732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8368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76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3956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302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10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739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311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80612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964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96020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534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567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9312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1868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2467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197440" y="2697120"/>
                <a:ext cx="430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  <a:lnTo>
                      <a:pt x="133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27600" y="1965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02120" y="1965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1840" y="2033640"/>
                <a:ext cx="2512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1003680" y="2279880"/>
                <a:ext cx="1177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  <a:lnTo>
                      <a:pt x="669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8356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7860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63620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2908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90280" y="2458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829880" y="245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952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895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8518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940760" y="2641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2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085120" y="2641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11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213200" y="2987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23720" y="298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58280" y="2987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79880" y="298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11200" y="298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73840" y="2987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1284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620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338840" y="3098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7268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51760" y="2103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940320" y="2103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68680" y="221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31320" y="22165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68680" y="2323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7360" y="1965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7360" y="2463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93880" y="3195360"/>
                <a:ext cx="174960" cy="227880"/>
              </a:xfrm>
              <a:custGeom>
                <a:avLst/>
                <a:gdLst/>
                <a:ahLst/>
                <a:rect l="l" t="t" r="r" b="b"/>
                <a:pathLst>
                  <a:path w="113" h="147">
                    <a:moveTo>
                      <a:pt x="113" y="0"/>
                    </a:moveTo>
                    <a:lnTo>
                      <a:pt x="55" y="0"/>
                    </a:lnTo>
                    <a:lnTo>
                      <a:pt x="55" y="147"/>
                    </a:lnTo>
                    <a:lnTo>
                      <a:pt x="0" y="14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932640" y="2531160"/>
                <a:ext cx="215280" cy="165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139" y="107"/>
                    </a:moveTo>
                    <a:lnTo>
                      <a:pt x="0" y="107"/>
                    </a:lnTo>
                    <a:lnTo>
                      <a:pt x="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4413240" y="2863080"/>
                <a:ext cx="246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  <a:lnTo>
                      <a:pt x="610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04720" y="2650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0853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14692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10640" y="2650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23260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286240" y="2650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175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82000" y="2650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41692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89440" y="27403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93164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95468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98600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05044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8980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294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870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50360" y="28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977000" y="28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03136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06196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12136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789440" y="3072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96720" y="307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931640" y="3072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54680" y="3072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986000" y="3072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0440" y="30726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7890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100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915440" y="3179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9456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12600" y="2332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9288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55480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1852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676480" y="2332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488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40756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694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50224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5648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936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407920" y="275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483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54724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9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8920" y="27543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34132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9856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46156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9288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5552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8900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789800" y="2076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86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316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9953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05332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78980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294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7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50360" y="2183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77000" y="2183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3136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0619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12136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1620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1937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89800" y="2406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86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9316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9953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05332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78980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294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887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950360" y="2515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77000" y="2515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3136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0619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2136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1620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937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085560" y="2531160"/>
                <a:ext cx="158292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3085560" y="2199600"/>
                <a:ext cx="1582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7128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404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6632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1996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52000" y="2906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86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95028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0464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35600" y="2906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5720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20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83920" y="29066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7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0404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96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250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130320" y="1220760"/>
              <a:ext cx="8861040" cy="4402800"/>
              <a:chOff x="130320" y="1220760"/>
              <a:chExt cx="8861040" cy="4402800"/>
            </a:xfrm>
          </p:grpSpPr>
          <p:sp>
            <p:nvSpPr>
              <p:cNvPr id="915" name=""/>
              <p:cNvSpPr/>
              <p:nvPr/>
            </p:nvSpPr>
            <p:spPr>
              <a:xfrm>
                <a:off x="391032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9726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3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60600" y="2766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349880" y="2766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278240" y="2880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40880" y="288000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278240" y="298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246920" y="262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4692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64840" y="3167280"/>
                <a:ext cx="54000" cy="543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8" y="35"/>
                    </a:moveTo>
                    <a:lnTo>
                      <a:pt x="21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9" y="32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5" y="26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2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40520" y="3495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430880" y="349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358520" y="3601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422960" y="3601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358520" y="3714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327920" y="3354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327920" y="3852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086720" y="3423240"/>
                <a:ext cx="142200" cy="1763640"/>
              </a:xfrm>
              <a:custGeom>
                <a:avLst/>
                <a:gdLst/>
                <a:ahLst/>
                <a:rect l="l" t="t" r="r" b="b"/>
                <a:pathLst>
                  <a:path w="92" h="1137">
                    <a:moveTo>
                      <a:pt x="92" y="0"/>
                    </a:moveTo>
                    <a:lnTo>
                      <a:pt x="0" y="0"/>
                    </a:lnTo>
                    <a:lnTo>
                      <a:pt x="0" y="113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538680" y="3109680"/>
                <a:ext cx="111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229080" y="2939040"/>
                <a:ext cx="42120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2960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9020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618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2412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306200" y="5486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3893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0528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67800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402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8205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892560" y="548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32160" y="548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9861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766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1572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2145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782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58520" y="1220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125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510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0317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0904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1530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2563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9740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1864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34924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  <a:lnTo>
                      <a:pt x="133" y="5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flipV="1">
                <a:off x="5368680" y="4113360"/>
                <a:ext cx="8496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4920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8124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1424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19824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228480" y="335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264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3278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38112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12800" y="335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43476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498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61120" y="335808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2428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6880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325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39444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4747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5380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6508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9820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56012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141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46160" y="467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81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74480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9844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829760" y="467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851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915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9777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0079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040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09796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1832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473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68000" y="4059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46120" y="40590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6700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13072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93360" y="4059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107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68000" y="41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27400" y="4189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72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1166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789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3445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036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6010200" y="3276000"/>
                <a:ext cx="6400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508000" y="3261600"/>
                <a:ext cx="497520" cy="924120"/>
              </a:xfrm>
              <a:custGeom>
                <a:avLst/>
                <a:gdLst/>
                <a:ahLst/>
                <a:rect l="l" t="t" r="r" b="b"/>
                <a:pathLst>
                  <a:path w="321" h="596">
                    <a:moveTo>
                      <a:pt x="0" y="596"/>
                    </a:moveTo>
                    <a:lnTo>
                      <a:pt x="0" y="240"/>
                    </a:lnTo>
                    <a:lnTo>
                      <a:pt x="321" y="240"/>
                    </a:lnTo>
                    <a:lnTo>
                      <a:pt x="321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1200" y="3441960"/>
                <a:ext cx="654120" cy="753480"/>
              </a:xfrm>
              <a:custGeom>
                <a:avLst/>
                <a:gdLst/>
                <a:ahLst/>
                <a:rect l="l" t="t" r="r" b="b"/>
                <a:pathLst>
                  <a:path w="422" h="486">
                    <a:moveTo>
                      <a:pt x="0" y="483"/>
                    </a:moveTo>
                    <a:lnTo>
                      <a:pt x="298" y="486"/>
                    </a:lnTo>
                    <a:lnTo>
                      <a:pt x="298" y="0"/>
                    </a:lnTo>
                    <a:lnTo>
                      <a:pt x="422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287680" y="4191120"/>
                <a:ext cx="3085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004400" y="2934720"/>
                <a:ext cx="5364000" cy="2062800"/>
              </a:xfrm>
              <a:custGeom>
                <a:avLst/>
                <a:gdLst/>
                <a:ahLst/>
                <a:rect l="l" t="t" r="r" b="b"/>
                <a:pathLst>
                  <a:path w="3460" h="1330">
                    <a:moveTo>
                      <a:pt x="3460" y="0"/>
                    </a:moveTo>
                    <a:lnTo>
                      <a:pt x="3460" y="1330"/>
                    </a:lnTo>
                    <a:lnTo>
                      <a:pt x="0" y="1330"/>
                    </a:lnTo>
                    <a:lnTo>
                      <a:pt x="0" y="113"/>
                    </a:lnTo>
                    <a:lnTo>
                      <a:pt x="79" y="11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4645800" y="4113360"/>
                <a:ext cx="8028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191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6764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7840" y="1839240"/>
                <a:ext cx="6081480" cy="234000"/>
              </a:xfrm>
              <a:custGeom>
                <a:avLst/>
                <a:gdLst/>
                <a:ahLst/>
                <a:rect l="l" t="t" r="r" b="b"/>
                <a:pathLst>
                  <a:path w="3923" h="151">
                    <a:moveTo>
                      <a:pt x="3923" y="151"/>
                    </a:moveTo>
                    <a:lnTo>
                      <a:pt x="3761" y="151"/>
                    </a:lnTo>
                    <a:lnTo>
                      <a:pt x="3761" y="0"/>
                    </a:lnTo>
                    <a:lnTo>
                      <a:pt x="0" y="0"/>
                    </a:lnTo>
                    <a:lnTo>
                      <a:pt x="0" y="125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7840" y="2531160"/>
                <a:ext cx="8363520" cy="2655360"/>
              </a:xfrm>
              <a:custGeom>
                <a:avLst/>
                <a:gdLst/>
                <a:ahLst/>
                <a:rect l="l" t="t" r="r" b="b"/>
                <a:pathLst>
                  <a:path w="5395" h="1712">
                    <a:moveTo>
                      <a:pt x="5291" y="118"/>
                    </a:moveTo>
                    <a:lnTo>
                      <a:pt x="5395" y="118"/>
                    </a:lnTo>
                    <a:lnTo>
                      <a:pt x="5395" y="1712"/>
                    </a:lnTo>
                    <a:lnTo>
                      <a:pt x="0" y="1712"/>
                    </a:lnTo>
                    <a:lnTo>
                      <a:pt x="0" y="0"/>
                    </a:lnTo>
                    <a:lnTo>
                      <a:pt x="7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19800" y="4191120"/>
                <a:ext cx="11797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  <a:lnTo>
                      <a:pt x="53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98260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128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726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12984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161520" y="2076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975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2598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1416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344400" y="2076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3681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2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9416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082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338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975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25944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393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02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6608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8260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128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726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12984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161520" y="2406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975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98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31416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344400" y="2406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3681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2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49416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82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1338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975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25944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93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02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6608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98260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1284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0726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2984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1615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1975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2598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31416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440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36816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4297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49416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7088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022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6412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27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408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47004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0320" y="1616040"/>
                <a:ext cx="8076960" cy="1085760"/>
              </a:xfrm>
              <a:custGeom>
                <a:avLst/>
                <a:gdLst/>
                <a:ahLst/>
                <a:rect l="l" t="t" r="r" b="b"/>
                <a:pathLst>
                  <a:path w="5210" h="700">
                    <a:moveTo>
                      <a:pt x="73" y="269"/>
                    </a:moveTo>
                    <a:lnTo>
                      <a:pt x="0" y="269"/>
                    </a:lnTo>
                    <a:lnTo>
                      <a:pt x="0" y="0"/>
                    </a:lnTo>
                    <a:lnTo>
                      <a:pt x="5210" y="0"/>
                    </a:lnTo>
                    <a:lnTo>
                      <a:pt x="5210" y="70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7856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1592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7892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9332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963520" y="303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00060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06288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1724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47480" y="303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7124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3316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297240" y="303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86164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692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6028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22200" y="31579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45600" y="3157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102480" y="3157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13380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19356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4424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61240" y="30139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55920" y="3013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7924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41880" y="31269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6879240" y="3238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44240" y="287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44240" y="337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44240" y="320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6000" y="2508120"/>
              <a:ext cx="1753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35080" y="3036960"/>
              <a:ext cx="165600" cy="1073160"/>
            </a:xfrm>
            <a:custGeom>
              <a:avLst/>
              <a:gdLst/>
              <a:ahLst/>
              <a:rect l="l" t="t" r="r" b="b"/>
              <a:pathLst>
                <a:path w="107" h="692">
                  <a:moveTo>
                    <a:pt x="107" y="0"/>
                  </a:moveTo>
                  <a:lnTo>
                    <a:pt x="107" y="692"/>
                  </a:lnTo>
                  <a:lnTo>
                    <a:pt x="0" y="692"/>
                  </a:lnTo>
                </a:path>
              </a:pathLst>
            </a:custGeom>
            <a:noFill/>
            <a:ln w="36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  <a:lnTo>
                    <a:pt x="133" y="5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</a:path>
              </a:pathLst>
            </a:custGeom>
            <a:noFill/>
            <a:ln w="190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125840" y="400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97120" y="400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261200" y="4001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42200" y="40017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49880" y="4132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0640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17084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28800" y="4132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60840" y="4132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9648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59120" y="4132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11560" y="2140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06600" y="21405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829920" y="2251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92560" y="2251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29920" y="2363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98960" y="2005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98960" y="2503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718040" y="2615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89680" y="2615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51960" y="2615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32600" y="2615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28760" y="27266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6872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25960" y="2726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464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843320" y="27266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70320" y="272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94040" y="2584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70000" y="258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534080" y="25840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960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8124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4460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205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8972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32160" y="1220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861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19800" y="4186080"/>
              <a:ext cx="3317400" cy="640800"/>
            </a:xfrm>
            <a:custGeom>
              <a:avLst/>
              <a:gdLst/>
              <a:ahLst/>
              <a:rect l="l" t="t" r="r" b="b"/>
              <a:pathLst>
                <a:path w="2140" h="413">
                  <a:moveTo>
                    <a:pt x="2140" y="17"/>
                  </a:moveTo>
                  <a:lnTo>
                    <a:pt x="1935" y="17"/>
                  </a:lnTo>
                  <a:lnTo>
                    <a:pt x="1935" y="413"/>
                  </a:lnTo>
                  <a:lnTo>
                    <a:pt x="0" y="41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965640" y="2320200"/>
              <a:ext cx="227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690320" y="2439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75836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21360" y="243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5592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107920" y="2477160"/>
              <a:ext cx="54000" cy="586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385440" y="3916440"/>
              <a:ext cx="83844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21720" y="2697120"/>
              <a:ext cx="304920" cy="1218960"/>
            </a:xfrm>
            <a:custGeom>
              <a:avLst/>
              <a:gdLst/>
              <a:ahLst/>
              <a:rect l="l" t="t" r="r" b="b"/>
              <a:pathLst>
                <a:path w="197" h="786">
                  <a:moveTo>
                    <a:pt x="0" y="0"/>
                  </a:moveTo>
                  <a:lnTo>
                    <a:pt x="0" y="786"/>
                  </a:lnTo>
                  <a:lnTo>
                    <a:pt x="197" y="786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19800" y="3167280"/>
              <a:ext cx="1440" cy="1018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10200" y="2270520"/>
              <a:ext cx="213840" cy="358200"/>
            </a:xfrm>
            <a:custGeom>
              <a:avLst/>
              <a:gdLst/>
              <a:ahLst/>
              <a:rect l="l" t="t" r="r" b="b"/>
              <a:pathLst>
                <a:path w="138" h="231">
                  <a:moveTo>
                    <a:pt x="138" y="231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1"/>
                  </a:lnTo>
                  <a:lnTo>
                    <a:pt x="138" y="231"/>
                  </a:lnTo>
                  <a:lnTo>
                    <a:pt x="138" y="2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10200" y="2709360"/>
              <a:ext cx="213840" cy="36468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35" y="232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5"/>
                  </a:lnTo>
                  <a:lnTo>
                    <a:pt x="138" y="235"/>
                  </a:lnTo>
                  <a:lnTo>
                    <a:pt x="138" y="2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71760" y="2390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71760" y="2821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29080" y="2450520"/>
              <a:ext cx="484920" cy="12528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0" y="0"/>
                  </a:moveTo>
                  <a:lnTo>
                    <a:pt x="180" y="0"/>
                  </a:lnTo>
                  <a:lnTo>
                    <a:pt x="180" y="81"/>
                  </a:lnTo>
                  <a:lnTo>
                    <a:pt x="313" y="81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00240" y="2898720"/>
              <a:ext cx="260280" cy="4680"/>
            </a:xfrm>
            <a:custGeom>
              <a:avLst/>
              <a:gdLst/>
              <a:ahLst/>
              <a:rect l="l" t="t" r="r" b="b"/>
              <a:pathLst>
                <a:path w="168" h="3">
                  <a:moveTo>
                    <a:pt x="153" y="0"/>
                  </a:moveTo>
                  <a:lnTo>
                    <a:pt x="168" y="3"/>
                  </a:lnTo>
                  <a:lnTo>
                    <a:pt x="0" y="3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5560" y="2477160"/>
              <a:ext cx="264960" cy="1080"/>
            </a:xfrm>
            <a:custGeom>
              <a:avLst/>
              <a:gdLst/>
              <a:ahLst/>
              <a:rect l="l" t="t" r="r" b="b"/>
              <a:pathLst>
                <a:path w="171" h="0">
                  <a:moveTo>
                    <a:pt x="156" y="0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73240" y="2517120"/>
              <a:ext cx="461880" cy="362880"/>
            </a:xfrm>
            <a:custGeom>
              <a:avLst/>
              <a:gdLst/>
              <a:ahLst/>
              <a:rect l="l" t="t" r="r" b="b"/>
              <a:pathLst>
                <a:path w="298" h="234">
                  <a:moveTo>
                    <a:pt x="295" y="231"/>
                  </a:moveTo>
                  <a:lnTo>
                    <a:pt x="298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298" y="234"/>
                  </a:lnTo>
                  <a:lnTo>
                    <a:pt x="298" y="2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7951320" y="2697120"/>
              <a:ext cx="35496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427240" y="2624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5024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560440" y="262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641080" y="26244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7256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789040" y="2624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982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3032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10960" y="1220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128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54240" y="12207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7620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0752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197720" y="2211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368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35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95000" y="2211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34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9832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5196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4480" y="2849040"/>
              <a:ext cx="613800" cy="313200"/>
            </a:xfrm>
            <a:custGeom>
              <a:avLst/>
              <a:gdLst/>
              <a:ahLst/>
              <a:rect l="l" t="t" r="r" b="b"/>
              <a:pathLst>
                <a:path w="396" h="202">
                  <a:moveTo>
                    <a:pt x="0" y="0"/>
                  </a:moveTo>
                  <a:lnTo>
                    <a:pt x="55" y="3"/>
                  </a:lnTo>
                  <a:lnTo>
                    <a:pt x="55" y="202"/>
                  </a:lnTo>
                  <a:lnTo>
                    <a:pt x="396" y="202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7720" y="2028600"/>
              <a:ext cx="2628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72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7480" y="2028600"/>
              <a:ext cx="2808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3160" y="199296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82160" y="224424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0" y="49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82160" y="306936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0" y="52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15400" y="26568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12960" y="3875760"/>
              <a:ext cx="77040" cy="806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0" y="52"/>
                  </a:lnTo>
                  <a:lnTo>
                    <a:pt x="50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655520" y="21636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08480" y="2491200"/>
              <a:ext cx="82080" cy="759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0" y="0"/>
                  </a:moveTo>
                  <a:lnTo>
                    <a:pt x="3" y="49"/>
                  </a:lnTo>
                  <a:lnTo>
                    <a:pt x="53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55520" y="249120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17680" y="265680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3" y="52"/>
                  </a:lnTo>
                  <a:lnTo>
                    <a:pt x="52" y="26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55520" y="282276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55520" y="315468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17680" y="3122280"/>
              <a:ext cx="80280" cy="774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3" y="50"/>
                  </a:lnTo>
                  <a:lnTo>
                    <a:pt x="52" y="2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97960" y="337824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02640" y="3880800"/>
              <a:ext cx="7596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584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0" y="50"/>
                  </a:lnTo>
                  <a:lnTo>
                    <a:pt x="52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70280" y="415044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220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3" y="40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85720" y="266004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7948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7"/>
                  </a:lnTo>
                  <a:lnTo>
                    <a:pt x="43" y="44"/>
                  </a:lnTo>
                  <a:lnTo>
                    <a:pt x="46" y="41"/>
                  </a:lnTo>
                  <a:lnTo>
                    <a:pt x="49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52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7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75600" y="4158360"/>
              <a:ext cx="7560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7" y="35"/>
                  </a:lnTo>
                  <a:lnTo>
                    <a:pt x="47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8" y="47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32760" y="2911320"/>
              <a:ext cx="7596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4" y="47"/>
                  </a:lnTo>
                  <a:lnTo>
                    <a:pt x="17" y="47"/>
                  </a:lnTo>
                  <a:lnTo>
                    <a:pt x="20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88840" y="312228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3" y="50"/>
                  </a:moveTo>
                  <a:lnTo>
                    <a:pt x="26" y="50"/>
                  </a:lnTo>
                  <a:lnTo>
                    <a:pt x="31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6" y="18"/>
                  </a:lnTo>
                  <a:lnTo>
                    <a:pt x="46" y="15"/>
                  </a:lnTo>
                  <a:lnTo>
                    <a:pt x="43" y="12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20" y="50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97360" y="249372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4"/>
                  </a:lnTo>
                  <a:lnTo>
                    <a:pt x="44" y="41"/>
                  </a:lnTo>
                  <a:lnTo>
                    <a:pt x="46" y="38"/>
                  </a:lnTo>
                  <a:lnTo>
                    <a:pt x="49" y="35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5" y="47"/>
                  </a:lnTo>
                  <a:lnTo>
                    <a:pt x="17" y="50"/>
                  </a:lnTo>
                  <a:lnTo>
                    <a:pt x="20" y="50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49280" y="5146560"/>
              <a:ext cx="77040" cy="8028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9"/>
                  </a:lnTo>
                  <a:lnTo>
                    <a:pt x="41" y="46"/>
                  </a:lnTo>
                  <a:lnTo>
                    <a:pt x="44" y="43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50" y="34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3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9728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8656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4992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3704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202920" y="3848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37840" y="3848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97240" y="3848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8188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4560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108240" y="3973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3704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98240" y="39736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0160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4084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0060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63240" y="41043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085920" y="4104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42800" y="4104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7412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3388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7005240" y="2979720"/>
              <a:ext cx="187560" cy="1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229320" y="586728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lta implementar 3 possíveis fontes de carga para PC: PC+4, beq e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comple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30320" y="1143000"/>
            <a:ext cx="8860680" cy="4876560"/>
            <a:chOff x="130320" y="1143000"/>
            <a:chExt cx="8860680" cy="4876560"/>
          </a:xfrm>
        </p:grpSpPr>
        <p:grpSp>
          <p:nvGrpSpPr>
            <p:cNvPr id="1282" name=""/>
            <p:cNvGrpSpPr/>
            <p:nvPr/>
          </p:nvGrpSpPr>
          <p:grpSpPr>
            <a:xfrm>
              <a:off x="377640" y="1745640"/>
              <a:ext cx="6903720" cy="4237560"/>
              <a:chOff x="377640" y="1745640"/>
              <a:chExt cx="6903720" cy="4237560"/>
            </a:xfrm>
          </p:grpSpPr>
          <p:sp>
            <p:nvSpPr>
              <p:cNvPr id="1283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2840" y="4023720"/>
                <a:ext cx="234720" cy="1800"/>
              </a:xfrm>
              <a:custGeom>
                <a:avLst/>
                <a:gdLst/>
                <a:ahLst/>
                <a:rect l="l" t="t" r="r" b="b"/>
                <a:pathLst>
                  <a:path w="113" h="0">
                    <a:moveTo>
                      <a:pt x="104" y="0"/>
                    </a:moveTo>
                    <a:lnTo>
                      <a:pt x="113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143080" y="2304360"/>
                <a:ext cx="1632600" cy="3363120"/>
              </a:xfrm>
              <a:custGeom>
                <a:avLst/>
                <a:gdLst/>
                <a:ahLst/>
                <a:rect l="l" t="t" r="r" b="b"/>
                <a:pathLst>
                  <a:path w="785" h="1618">
                    <a:moveTo>
                      <a:pt x="0" y="1618"/>
                    </a:moveTo>
                    <a:lnTo>
                      <a:pt x="0" y="0"/>
                    </a:lnTo>
                    <a:lnTo>
                      <a:pt x="78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95440" y="1745640"/>
                <a:ext cx="3085920" cy="3899160"/>
              </a:xfrm>
              <a:custGeom>
                <a:avLst/>
                <a:gdLst/>
                <a:ahLst/>
                <a:rect l="l" t="t" r="r" b="b"/>
                <a:pathLst>
                  <a:path w="1484" h="1876">
                    <a:moveTo>
                      <a:pt x="0" y="0"/>
                    </a:moveTo>
                    <a:lnTo>
                      <a:pt x="1484" y="2"/>
                    </a:lnTo>
                    <a:lnTo>
                      <a:pt x="1484" y="1876"/>
                    </a:lnTo>
                    <a:lnTo>
                      <a:pt x="1132" y="1876"/>
                    </a:lnTo>
                    <a:lnTo>
                      <a:pt x="1132" y="181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97320" y="505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63560" y="505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316120" y="505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34060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6796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97480" y="505440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185440" y="5169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0308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5960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8876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31072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34132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47400" y="5033880"/>
                <a:ext cx="1875240" cy="637920"/>
              </a:xfrm>
              <a:custGeom>
                <a:avLst/>
                <a:gdLst/>
                <a:ahLst/>
                <a:rect l="l" t="t" r="r" b="b"/>
                <a:pathLst>
                  <a:path w="902" h="307">
                    <a:moveTo>
                      <a:pt x="902" y="0"/>
                    </a:moveTo>
                    <a:lnTo>
                      <a:pt x="902" y="307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4160" y="2451960"/>
                <a:ext cx="542520" cy="1328040"/>
              </a:xfrm>
              <a:custGeom>
                <a:avLst/>
                <a:gdLst/>
                <a:ahLst/>
                <a:rect l="l" t="t" r="r" b="b"/>
                <a:pathLst>
                  <a:path w="261" h="639">
                    <a:moveTo>
                      <a:pt x="0" y="639"/>
                    </a:moveTo>
                    <a:lnTo>
                      <a:pt x="0" y="368"/>
                    </a:lnTo>
                    <a:lnTo>
                      <a:pt x="261" y="368"/>
                    </a:lnTo>
                    <a:lnTo>
                      <a:pt x="261" y="0"/>
                    </a:lnTo>
                    <a:lnTo>
                      <a:pt x="1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915840" y="1820520"/>
                <a:ext cx="2842560" cy="1348560"/>
              </a:xfrm>
              <a:custGeom>
                <a:avLst/>
                <a:gdLst/>
                <a:ahLst/>
                <a:rect l="l" t="t" r="r" b="b"/>
                <a:pathLst>
                  <a:path w="1367" h="649">
                    <a:moveTo>
                      <a:pt x="0" y="649"/>
                    </a:moveTo>
                    <a:lnTo>
                      <a:pt x="0" y="0"/>
                    </a:lnTo>
                    <a:lnTo>
                      <a:pt x="13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2070360" y="3853080"/>
                <a:ext cx="38664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03920" y="3208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73040" y="3208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60520" y="3260520"/>
                <a:ext cx="22428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1007280" y="3485160"/>
                <a:ext cx="1040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72280" y="3329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951480" y="3329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8120" y="342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941040" y="34250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8480" y="352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60040" y="32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60040" y="364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4440" y="4296240"/>
                <a:ext cx="151560" cy="203400"/>
              </a:xfrm>
              <a:custGeom>
                <a:avLst/>
                <a:gdLst/>
                <a:ahLst/>
                <a:rect l="l" t="t" r="r" b="b"/>
                <a:pathLst>
                  <a:path w="73" h="98">
                    <a:moveTo>
                      <a:pt x="73" y="0"/>
                    </a:moveTo>
                    <a:lnTo>
                      <a:pt x="35" y="2"/>
                    </a:lnTo>
                    <a:lnTo>
                      <a:pt x="35" y="98"/>
                    </a:lnTo>
                    <a:lnTo>
                      <a:pt x="0" y="9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615480" y="3707640"/>
                <a:ext cx="191160" cy="149400"/>
              </a:xfrm>
              <a:custGeom>
                <a:avLst/>
                <a:gdLst/>
                <a:ahLst/>
                <a:rect l="l" t="t" r="r" b="b"/>
                <a:pathLst>
                  <a:path w="92" h="72">
                    <a:moveTo>
                      <a:pt x="92" y="70"/>
                    </a:moveTo>
                    <a:lnTo>
                      <a:pt x="0" y="72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4043880" y="4000680"/>
                <a:ext cx="2217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  <a:lnTo>
                      <a:pt x="40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569840" y="381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4292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9908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8040" y="381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7288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820760" y="381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4740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903920" y="381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93740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377600" y="3892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7336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50504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52556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5522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60944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37760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41360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4650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522680" y="3994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546440" y="3994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593960" y="3994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6216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67316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377600" y="4187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473360" y="4187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505040" y="4187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525560" y="4187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552200" y="418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609440" y="41875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3776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43484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490280" y="428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5180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904640" y="3562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9773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03388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0889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141880" y="35622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8474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8996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95504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56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04108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0648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904640" y="3934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773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03388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0889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41880" y="3934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8474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899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95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985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4108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0648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377600" y="33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44924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50468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56192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13760" y="330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7760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4136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4650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522680" y="340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546440" y="340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59396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6216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67316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7088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7332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377600" y="3597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44924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046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192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1376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37760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4136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4650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522680" y="369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546440" y="3699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59396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6216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67316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088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332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860200" y="3705480"/>
                <a:ext cx="1397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2860200" y="3408480"/>
                <a:ext cx="1401840" cy="3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3840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410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46824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1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43840" y="403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7588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63096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6792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706200" y="403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72636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83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839760" y="4032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38400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10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678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518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964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64896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0188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06360" y="3919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987360" y="39193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922200" y="401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979440" y="4015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922560" y="4115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95200" y="37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95200" y="423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79440" y="456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058280" y="45637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994920" y="46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050000" y="4663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995280" y="4763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966840" y="4443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966840" y="488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4920" y="4495320"/>
                <a:ext cx="64440" cy="1487880"/>
              </a:xfrm>
              <a:custGeom>
                <a:avLst/>
                <a:gdLst/>
                <a:ahLst/>
                <a:rect l="l" t="t" r="r" b="b"/>
                <a:pathLst>
                  <a:path w="31" h="716">
                    <a:moveTo>
                      <a:pt x="31" y="0"/>
                    </a:moveTo>
                    <a:lnTo>
                      <a:pt x="0" y="0"/>
                    </a:lnTo>
                    <a:lnTo>
                      <a:pt x="0" y="7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5936040" y="4223160"/>
                <a:ext cx="9144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659560" y="4075560"/>
                <a:ext cx="367560" cy="2160"/>
              </a:xfrm>
              <a:custGeom>
                <a:avLst/>
                <a:gdLst/>
                <a:ahLst/>
                <a:rect l="l" t="t" r="r" b="b"/>
                <a:pathLst>
                  <a:path w="177" h="0">
                    <a:moveTo>
                      <a:pt x="177" y="0"/>
                    </a:moveTo>
                    <a:lnTo>
                      <a:pt x="177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39560" y="416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4894200" y="5116680"/>
                <a:ext cx="705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7644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793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4544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9728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919960" y="445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954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0708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0596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088800" y="4451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07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162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215880" y="4451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256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60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01536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068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1456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19860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538160" y="5064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604400" y="506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62492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68216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738320" y="5064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485600" y="51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1007640" y="1562760"/>
              <a:ext cx="7746480" cy="4308840"/>
              <a:chOff x="1007640" y="1562760"/>
              <a:chExt cx="7746480" cy="4308840"/>
            </a:xfrm>
          </p:grpSpPr>
          <p:sp>
            <p:nvSpPr>
              <p:cNvPr id="1484" name=""/>
              <p:cNvSpPr/>
              <p:nvPr/>
            </p:nvSpPr>
            <p:spPr>
              <a:xfrm>
                <a:off x="4537800" y="518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590000" y="518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61376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6992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72500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8693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9255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5445720" y="4370760"/>
                <a:ext cx="569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016960" y="4370760"/>
                <a:ext cx="443160" cy="789840"/>
              </a:xfrm>
              <a:custGeom>
                <a:avLst/>
                <a:gdLst/>
                <a:ahLst/>
                <a:rect l="l" t="t" r="r" b="b"/>
                <a:pathLst>
                  <a:path w="213" h="380">
                    <a:moveTo>
                      <a:pt x="0" y="380"/>
                    </a:moveTo>
                    <a:lnTo>
                      <a:pt x="0" y="154"/>
                    </a:lnTo>
                    <a:lnTo>
                      <a:pt x="213" y="154"/>
                    </a:lnTo>
                    <a:lnTo>
                      <a:pt x="21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455800" y="4522680"/>
                <a:ext cx="554760" cy="646560"/>
              </a:xfrm>
              <a:custGeom>
                <a:avLst/>
                <a:gdLst/>
                <a:ahLst/>
                <a:rect l="l" t="t" r="r" b="b"/>
                <a:pathLst>
                  <a:path w="267" h="311">
                    <a:moveTo>
                      <a:pt x="267" y="0"/>
                    </a:moveTo>
                    <a:lnTo>
                      <a:pt x="212" y="0"/>
                    </a:lnTo>
                    <a:lnTo>
                      <a:pt x="212" y="311"/>
                    </a:lnTo>
                    <a:lnTo>
                      <a:pt x="0" y="3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4821120" y="5169240"/>
                <a:ext cx="2718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007640" y="4067280"/>
                <a:ext cx="4776480" cy="1804320"/>
              </a:xfrm>
              <a:custGeom>
                <a:avLst/>
                <a:gdLst/>
                <a:ahLst/>
                <a:rect l="l" t="t" r="r" b="b"/>
                <a:pathLst>
                  <a:path w="2297" h="868">
                    <a:moveTo>
                      <a:pt x="2297" y="0"/>
                    </a:moveTo>
                    <a:lnTo>
                      <a:pt x="2297" y="868"/>
                    </a:lnTo>
                    <a:lnTo>
                      <a:pt x="0" y="868"/>
                    </a:lnTo>
                    <a:lnTo>
                      <a:pt x="0" y="75"/>
                    </a:lnTo>
                    <a:lnTo>
                      <a:pt x="52" y="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4247640" y="5117040"/>
                <a:ext cx="741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2271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2789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284640" y="5169240"/>
                <a:ext cx="11062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  <a:lnTo>
                      <a:pt x="325" y="6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082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37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24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112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70640" y="3302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899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5848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034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3360" y="3302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05496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0788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166200" y="33026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206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68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998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9584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0330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0852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14064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7082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737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79324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4112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70640" y="35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99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95848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0034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033360" y="35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5496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078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16620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206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468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8998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584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0330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852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4064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7082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737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79324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4112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87064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899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5848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0034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03336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05496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10788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16620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88072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90412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96028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1860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8844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96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5938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6211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67300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2484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751480" y="415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78568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4112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890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916720" y="4152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93760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9937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47400" y="4152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66184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9316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7504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04400" y="426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24200" y="426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76400" y="426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8998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95776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734880" y="4156560"/>
                <a:ext cx="147600" cy="952200"/>
              </a:xfrm>
              <a:custGeom>
                <a:avLst/>
                <a:gdLst/>
                <a:ahLst/>
                <a:rect l="l" t="t" r="r" b="b"/>
                <a:pathLst>
                  <a:path w="71" h="458">
                    <a:moveTo>
                      <a:pt x="71" y="0"/>
                    </a:moveTo>
                    <a:lnTo>
                      <a:pt x="71" y="458"/>
                    </a:lnTo>
                    <a:lnTo>
                      <a:pt x="0" y="45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458400" y="5017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522480" y="501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78640" y="501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649560" y="5017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91800" y="513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44580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49584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48760" y="513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578640" y="513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0996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66480" y="513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6339600" y="4106880"/>
                <a:ext cx="19512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85440" y="37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50960" y="37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104960" y="378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77680" y="37864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4440" y="3884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4296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95160" y="3884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4664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8120" y="388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122600" y="388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699960" y="3759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768000" y="375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822000" y="3759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6314400" y="3516480"/>
                <a:ext cx="2163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61320" y="3628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02144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072560" y="362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892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04600" y="4746960"/>
                <a:ext cx="532080" cy="642240"/>
              </a:xfrm>
              <a:custGeom>
                <a:avLst/>
                <a:gdLst/>
                <a:ahLst/>
                <a:rect l="l" t="t" r="r" b="b"/>
                <a:pathLst>
                  <a:path w="256" h="309">
                    <a:moveTo>
                      <a:pt x="256" y="307"/>
                    </a:moveTo>
                    <a:lnTo>
                      <a:pt x="256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256" y="309"/>
                    </a:lnTo>
                    <a:lnTo>
                      <a:pt x="256" y="3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128400" y="4946760"/>
                <a:ext cx="742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68956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7308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2924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90736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964600" y="4878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998080" y="4878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047400" y="4878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76876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8249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80720" y="4994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9041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960280" y="49942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69748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72952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78568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41120" y="511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59480" y="511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912040" y="511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93760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99304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269800" y="3857400"/>
                <a:ext cx="272520" cy="1064160"/>
              </a:xfrm>
              <a:custGeom>
                <a:avLst/>
                <a:gdLst/>
                <a:ahLst/>
                <a:rect l="l" t="t" r="r" b="b"/>
                <a:pathLst>
                  <a:path w="131" h="512">
                    <a:moveTo>
                      <a:pt x="0" y="0"/>
                    </a:moveTo>
                    <a:lnTo>
                      <a:pt x="0" y="512"/>
                    </a:lnTo>
                    <a:lnTo>
                      <a:pt x="131" y="5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284640" y="4271400"/>
                <a:ext cx="3960" cy="9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464080" y="347688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2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464080" y="386784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4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580360" y="3416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533200" y="3581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53320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659560" y="3633120"/>
                <a:ext cx="415800" cy="116280"/>
              </a:xfrm>
              <a:custGeom>
                <a:avLst/>
                <a:gdLst/>
                <a:ahLst/>
                <a:rect l="l" t="t" r="r" b="b"/>
                <a:pathLst>
                  <a:path w="200" h="56">
                    <a:moveTo>
                      <a:pt x="0" y="0"/>
                    </a:moveTo>
                    <a:lnTo>
                      <a:pt x="119" y="2"/>
                    </a:lnTo>
                    <a:lnTo>
                      <a:pt x="119" y="56"/>
                    </a:lnTo>
                    <a:lnTo>
                      <a:pt x="200" y="5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77160" y="3641040"/>
                <a:ext cx="234720" cy="3960"/>
              </a:xfrm>
              <a:custGeom>
                <a:avLst/>
                <a:gdLst/>
                <a:ahLst/>
                <a:rect l="l" t="t" r="r" b="b"/>
                <a:pathLst>
                  <a:path w="113" h="2">
                    <a:moveTo>
                      <a:pt x="104" y="0"/>
                    </a:moveTo>
                    <a:lnTo>
                      <a:pt x="113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194240" y="3857400"/>
                <a:ext cx="343080" cy="1800"/>
              </a:xfrm>
              <a:custGeom>
                <a:avLst/>
                <a:gdLst/>
                <a:ahLst/>
                <a:rect l="l" t="t" r="r" b="b"/>
                <a:pathLst>
                  <a:path w="165" h="0">
                    <a:moveTo>
                      <a:pt x="155" y="0"/>
                    </a:moveTo>
                    <a:lnTo>
                      <a:pt x="165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187520" y="2283840"/>
                <a:ext cx="542520" cy="984960"/>
              </a:xfrm>
              <a:custGeom>
                <a:avLst/>
                <a:gdLst/>
                <a:ahLst/>
                <a:rect l="l" t="t" r="r" b="b"/>
                <a:pathLst>
                  <a:path w="261" h="474">
                    <a:moveTo>
                      <a:pt x="261" y="474"/>
                    </a:moveTo>
                    <a:lnTo>
                      <a:pt x="26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253760" y="2088360"/>
                <a:ext cx="1948320" cy="1118520"/>
              </a:xfrm>
              <a:custGeom>
                <a:avLst/>
                <a:gdLst/>
                <a:ahLst/>
                <a:rect l="l" t="t" r="r" b="b"/>
                <a:pathLst>
                  <a:path w="937" h="538">
                    <a:moveTo>
                      <a:pt x="937" y="538"/>
                    </a:moveTo>
                    <a:lnTo>
                      <a:pt x="937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139280" y="1568880"/>
                <a:ext cx="4614840" cy="870840"/>
              </a:xfrm>
              <a:custGeom>
                <a:avLst/>
                <a:gdLst/>
                <a:ahLst/>
                <a:rect l="l" t="t" r="r" b="b"/>
                <a:pathLst>
                  <a:path w="2219" h="419">
                    <a:moveTo>
                      <a:pt x="0" y="0"/>
                    </a:moveTo>
                    <a:lnTo>
                      <a:pt x="2219" y="2"/>
                    </a:lnTo>
                    <a:lnTo>
                      <a:pt x="2219" y="419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36040" y="1984320"/>
                <a:ext cx="2308320" cy="1288800"/>
              </a:xfrm>
              <a:custGeom>
                <a:avLst/>
                <a:gdLst/>
                <a:ahLst/>
                <a:rect l="l" t="t" r="r" b="b"/>
                <a:pathLst>
                  <a:path w="1110" h="620">
                    <a:moveTo>
                      <a:pt x="0" y="620"/>
                    </a:moveTo>
                    <a:lnTo>
                      <a:pt x="2" y="0"/>
                    </a:lnTo>
                    <a:lnTo>
                      <a:pt x="111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862280" y="2152800"/>
                <a:ext cx="1882080" cy="1120320"/>
              </a:xfrm>
              <a:custGeom>
                <a:avLst/>
                <a:gdLst/>
                <a:ahLst/>
                <a:rect l="l" t="t" r="r" b="b"/>
                <a:pathLst>
                  <a:path w="905" h="539">
                    <a:moveTo>
                      <a:pt x="0" y="539"/>
                    </a:moveTo>
                    <a:lnTo>
                      <a:pt x="0" y="0"/>
                    </a:lnTo>
                    <a:lnTo>
                      <a:pt x="9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8840" y="1562760"/>
                <a:ext cx="135360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1910160" y="1697400"/>
                <a:ext cx="1892160" cy="2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543120" y="1710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567600" y="1710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130320" y="1143000"/>
              <a:ext cx="8860680" cy="4546080"/>
              <a:chOff x="130320" y="1143000"/>
              <a:chExt cx="8860680" cy="4546080"/>
            </a:xfrm>
          </p:grpSpPr>
          <p:sp>
            <p:nvSpPr>
              <p:cNvPr id="1685" name=""/>
              <p:cNvSpPr/>
              <p:nvPr/>
            </p:nvSpPr>
            <p:spPr>
              <a:xfrm>
                <a:off x="3614760" y="17103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648600" y="17103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30696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8508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43152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02800" y="18702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5665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61980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6673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30696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38508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43152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502440" y="20322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88120" y="20322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619800" y="20322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39240" y="20322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66372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27960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516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0272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76160" y="21967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4992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550680" y="21967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61548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66372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303720" y="14274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6384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427560" y="14274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511080" y="14274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540600" y="14274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557880" y="14274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888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3600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986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74760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79836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36920" y="15836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496680" y="15836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558600" y="15836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43920" y="15836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71640" y="15836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91440" y="15836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719880" y="15836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41568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40880" y="23817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502440" y="238176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588120" y="23817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15480" y="23817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636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59400" y="2381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239360" y="16268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29984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347000" y="1626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409280" y="16268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48272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27500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330800" y="18018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82280" y="18018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44744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05040" y="18018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534920" y="18018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7848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016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362120" y="196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409640" y="19699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4744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33840" y="196992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561920" y="196992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60440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2746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3800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38696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348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498560" y="233604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543200" y="23360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21452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274640" y="144648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33836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39848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44744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94600" y="144648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525920" y="144648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57020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282920" y="2148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3473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39848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46720" y="21488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529880" y="21488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557600" y="21488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577040" y="21488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6011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494800" y="1342080"/>
                <a:ext cx="4886640" cy="2346840"/>
              </a:xfrm>
              <a:custGeom>
                <a:avLst/>
                <a:gdLst/>
                <a:ahLst/>
                <a:rect l="l" t="t" r="r" b="b"/>
                <a:pathLst>
                  <a:path w="2350" h="1129">
                    <a:moveTo>
                      <a:pt x="2258" y="1129"/>
                    </a:moveTo>
                    <a:lnTo>
                      <a:pt x="2350" y="1129"/>
                    </a:lnTo>
                    <a:lnTo>
                      <a:pt x="2350" y="0"/>
                    </a:lnTo>
                    <a:lnTo>
                      <a:pt x="61" y="0"/>
                    </a:lnTo>
                    <a:lnTo>
                      <a:pt x="61" y="54"/>
                    </a:lnTo>
                    <a:lnTo>
                      <a:pt x="0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  <a:lnTo>
                      <a:pt x="52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  <a:lnTo>
                      <a:pt x="122" y="5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854160" y="20055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91932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97116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019040" y="20055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043520" y="20055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07520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123080" y="200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846600" y="167076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9193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965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99204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0399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091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113720" y="16707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  <a:lnTo>
                      <a:pt x="138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197880" y="2670480"/>
                <a:ext cx="804240" cy="480240"/>
              </a:xfrm>
              <a:custGeom>
                <a:avLst/>
                <a:gdLst/>
                <a:ahLst/>
                <a:rect l="l" t="t" r="r" b="b"/>
                <a:pathLst>
                  <a:path w="387" h="231">
                    <a:moveTo>
                      <a:pt x="0" y="229"/>
                    </a:moveTo>
                    <a:lnTo>
                      <a:pt x="387" y="231"/>
                    </a:lnTo>
                    <a:lnTo>
                      <a:pt x="387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947760" y="232992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015080" y="232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066920" y="2329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89844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92220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97116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03992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08600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30320" y="1143000"/>
                <a:ext cx="8860680" cy="1596240"/>
              </a:xfrm>
              <a:custGeom>
                <a:avLst/>
                <a:gdLst/>
                <a:ahLst/>
                <a:rect l="l" t="t" r="r" b="b"/>
                <a:pathLst>
                  <a:path w="4261" h="768">
                    <a:moveTo>
                      <a:pt x="4163" y="768"/>
                    </a:moveTo>
                    <a:lnTo>
                      <a:pt x="4261" y="768"/>
                    </a:lnTo>
                    <a:lnTo>
                      <a:pt x="4261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47240" y="1143000"/>
                <a:ext cx="182880" cy="2121840"/>
              </a:xfrm>
              <a:custGeom>
                <a:avLst/>
                <a:gdLst/>
                <a:ahLst/>
                <a:rect l="l" t="t" r="r" b="b"/>
                <a:pathLst>
                  <a:path w="88" h="1021">
                    <a:moveTo>
                      <a:pt x="0" y="0"/>
                    </a:moveTo>
                    <a:lnTo>
                      <a:pt x="0" y="1010"/>
                    </a:lnTo>
                    <a:lnTo>
                      <a:pt x="0" y="1021"/>
                    </a:lnTo>
                    <a:lnTo>
                      <a:pt x="88" y="10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895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71728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76840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82060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45440" y="302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88072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93292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9847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007800" y="302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03300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08844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141720" y="3021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82492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85264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90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959920" y="311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99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04776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10320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9080" y="1633680"/>
                <a:ext cx="1179360" cy="1361160"/>
              </a:xfrm>
              <a:custGeom>
                <a:avLst/>
                <a:gdLst/>
                <a:ahLst/>
                <a:rect l="l" t="t" r="r" b="b"/>
                <a:pathLst>
                  <a:path w="567" h="655">
                    <a:moveTo>
                      <a:pt x="0" y="655"/>
                    </a:moveTo>
                    <a:lnTo>
                      <a:pt x="0" y="0"/>
                    </a:lnTo>
                    <a:lnTo>
                      <a:pt x="5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939680" y="1512720"/>
                <a:ext cx="278640" cy="60120"/>
              </a:xfrm>
              <a:custGeom>
                <a:avLst/>
                <a:gdLst/>
                <a:ahLst/>
                <a:rect l="l" t="t" r="r" b="b"/>
                <a:pathLst>
                  <a:path w="134" h="29">
                    <a:moveTo>
                      <a:pt x="134" y="0"/>
                    </a:moveTo>
                    <a:lnTo>
                      <a:pt x="75" y="0"/>
                    </a:lnTo>
                    <a:lnTo>
                      <a:pt x="75" y="29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2055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2350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8760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3387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366440" y="559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3988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5392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50108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530240" y="5597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54932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044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609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857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71276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7700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84668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8981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  <a:lnTo>
                      <a:pt x="111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769600" y="25956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843400" y="2595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783280" y="26834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835480" y="2683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782560" y="2772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675280" y="25041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675280" y="28825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77200" y="2552400"/>
                <a:ext cx="1097640" cy="1305000"/>
              </a:xfrm>
              <a:custGeom>
                <a:avLst/>
                <a:gdLst/>
                <a:ahLst/>
                <a:rect l="l" t="t" r="r" b="b"/>
                <a:pathLst>
                  <a:path w="528" h="628">
                    <a:moveTo>
                      <a:pt x="0" y="628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801920" y="2691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84512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892280" y="26913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6680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015760" y="26913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80192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8494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016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4880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761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0280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0712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11440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1392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1633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2152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26272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82926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3444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115840" y="2714400"/>
                <a:ext cx="459000" cy="1157400"/>
              </a:xfrm>
              <a:custGeom>
                <a:avLst/>
                <a:gdLst/>
                <a:ahLst/>
                <a:rect l="l" t="t" r="r" b="b"/>
                <a:pathLst>
                  <a:path w="221" h="557">
                    <a:moveTo>
                      <a:pt x="0" y="555"/>
                    </a:moveTo>
                    <a:lnTo>
                      <a:pt x="142" y="557"/>
                    </a:lnTo>
                    <a:lnTo>
                      <a:pt x="142" y="106"/>
                    </a:lnTo>
                    <a:lnTo>
                      <a:pt x="142" y="0"/>
                    </a:lnTo>
                    <a:lnTo>
                      <a:pt x="221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23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6008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21156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26340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88600" y="2778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32352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7572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75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56000" y="2778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347652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531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583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610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39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69684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7512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2356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790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  <a:lnTo>
                    <a:pt x="66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926400" y="2918160"/>
              <a:ext cx="1674000" cy="3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647892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4494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0664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698220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5268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056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95640" y="28242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2520" y="28242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01840" y="28242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227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461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70240" y="28242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3040" y="29286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0176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496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7448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982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2272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849280" y="2922480"/>
              <a:ext cx="1320120" cy="246960"/>
            </a:xfrm>
            <a:custGeom>
              <a:avLst/>
              <a:gdLst/>
              <a:ahLst/>
              <a:rect l="l" t="t" r="r" b="b"/>
              <a:pathLst>
                <a:path w="635" h="119">
                  <a:moveTo>
                    <a:pt x="0" y="119"/>
                  </a:moveTo>
                  <a:lnTo>
                    <a:pt x="635" y="119"/>
                  </a:lnTo>
                  <a:lnTo>
                    <a:pt x="63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14720" y="318024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70160" y="318024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34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61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71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3360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82200" y="31802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1388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617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11252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675280" y="265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894040" y="2496240"/>
              <a:ext cx="956160" cy="511200"/>
            </a:xfrm>
            <a:custGeom>
              <a:avLst/>
              <a:gdLst/>
              <a:ahLst/>
              <a:rect l="l" t="t" r="r" b="b"/>
              <a:pathLst>
                <a:path w="460" h="246">
                  <a:moveTo>
                    <a:pt x="0" y="246"/>
                  </a:moveTo>
                  <a:lnTo>
                    <a:pt x="0" y="0"/>
                  </a:lnTo>
                  <a:lnTo>
                    <a:pt x="46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285000" y="5181840"/>
              <a:ext cx="3015360" cy="577800"/>
            </a:xfrm>
            <a:custGeom>
              <a:avLst/>
              <a:gdLst/>
              <a:ahLst/>
              <a:rect l="l" t="t" r="r" b="b"/>
              <a:pathLst>
                <a:path w="1450" h="278">
                  <a:moveTo>
                    <a:pt x="0" y="0"/>
                  </a:moveTo>
                  <a:lnTo>
                    <a:pt x="2" y="278"/>
                  </a:lnTo>
                  <a:lnTo>
                    <a:pt x="1346" y="278"/>
                  </a:lnTo>
                  <a:lnTo>
                    <a:pt x="1346" y="4"/>
                  </a:lnTo>
                  <a:lnTo>
                    <a:pt x="1450" y="4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97880" y="3993120"/>
              <a:ext cx="604800" cy="278280"/>
            </a:xfrm>
            <a:custGeom>
              <a:avLst/>
              <a:gdLst/>
              <a:ahLst/>
              <a:rect l="l" t="t" r="r" b="b"/>
              <a:pathLst>
                <a:path w="291" h="134">
                  <a:moveTo>
                    <a:pt x="291" y="134"/>
                  </a:moveTo>
                  <a:lnTo>
                    <a:pt x="44" y="134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2840" y="3705840"/>
              <a:ext cx="7447320" cy="2282400"/>
            </a:xfrm>
            <a:custGeom>
              <a:avLst/>
              <a:gdLst/>
              <a:ahLst/>
              <a:rect l="l" t="t" r="r" b="b"/>
              <a:pathLst>
                <a:path w="3581" h="1098">
                  <a:moveTo>
                    <a:pt x="3512" y="78"/>
                  </a:moveTo>
                  <a:lnTo>
                    <a:pt x="3581" y="80"/>
                  </a:lnTo>
                  <a:lnTo>
                    <a:pt x="3581" y="1098"/>
                  </a:lnTo>
                  <a:lnTo>
                    <a:pt x="0" y="1098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351600" y="2907360"/>
              <a:ext cx="1800" cy="803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28640" y="2922120"/>
              <a:ext cx="3960" cy="489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85000" y="2918160"/>
              <a:ext cx="3324960" cy="1070280"/>
            </a:xfrm>
            <a:custGeom>
              <a:avLst/>
              <a:gdLst/>
              <a:ahLst/>
              <a:rect l="l" t="t" r="r" b="b"/>
              <a:pathLst>
                <a:path w="1599" h="515">
                  <a:moveTo>
                    <a:pt x="0" y="515"/>
                  </a:moveTo>
                  <a:lnTo>
                    <a:pt x="2" y="0"/>
                  </a:lnTo>
                  <a:lnTo>
                    <a:pt x="159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  <a:lnTo>
                    <a:pt x="123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119280" y="4165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22240" y="4140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02520" y="41407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0240" y="424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296400" y="42400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239520" y="43358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19280" y="4015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19280" y="446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119280" y="431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79760" y="33631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263280" y="33631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95600" y="3462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250680" y="34628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195960" y="3558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67520" y="323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167520" y="368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72840" y="2751840"/>
              <a:ext cx="5415120" cy="546840"/>
            </a:xfrm>
            <a:custGeom>
              <a:avLst/>
              <a:gdLst/>
              <a:ahLst/>
              <a:rect l="l" t="t" r="r" b="b"/>
              <a:pathLst>
                <a:path w="2604" h="263">
                  <a:moveTo>
                    <a:pt x="2604" y="263"/>
                  </a:moveTo>
                  <a:lnTo>
                    <a:pt x="2494" y="263"/>
                  </a:lnTo>
                  <a:lnTo>
                    <a:pt x="2494" y="0"/>
                  </a:lnTo>
                  <a:lnTo>
                    <a:pt x="0" y="0"/>
                  </a:lnTo>
                  <a:lnTo>
                    <a:pt x="0" y="2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  <a:lnTo>
                    <a:pt x="444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5920" y="3265200"/>
              <a:ext cx="2232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1960" y="3229920"/>
              <a:ext cx="70560" cy="68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5920" y="3705840"/>
              <a:ext cx="22320" cy="216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5920" y="367308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720" y="4223520"/>
              <a:ext cx="2232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80720" y="4192560"/>
              <a:ext cx="66240" cy="662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80720" y="3485880"/>
              <a:ext cx="223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80720" y="3450240"/>
              <a:ext cx="66240" cy="70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442960" y="385344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42960" y="382032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80000" y="385776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80000" y="382032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262760" y="3705840"/>
              <a:ext cx="2448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262760" y="3668760"/>
              <a:ext cx="6804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262760" y="4001040"/>
              <a:ext cx="2448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262760" y="396792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262760" y="4296600"/>
              <a:ext cx="2448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2760" y="4263120"/>
              <a:ext cx="6804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258440" y="3408840"/>
              <a:ext cx="2484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258440" y="3377160"/>
              <a:ext cx="7236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971160" y="26103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33" y="33"/>
                  </a:lnTo>
                  <a:lnTo>
                    <a:pt x="17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80000" y="426744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780000" y="423216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0560" y="494280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0560" y="4909320"/>
              <a:ext cx="7308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378680" y="516528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375080" y="5134320"/>
              <a:ext cx="72360" cy="680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73480" y="516528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07348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54880" y="449172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54880" y="44582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525760" y="492228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525760" y="4886640"/>
              <a:ext cx="68760" cy="70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00960" y="3265200"/>
              <a:ext cx="2484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00960" y="3229920"/>
              <a:ext cx="68760" cy="727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41880" y="322992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316320" y="288720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97320" y="288720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99840" y="33735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20640" y="36687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580200" y="36766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251520" y="39596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251520" y="42361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558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80000" y="595332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820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49200" y="404496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828400" y="31384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38440" y="289116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42280" y="382464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084880" y="383688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69440" y="37893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73244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89320" y="3789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859520" y="378936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93728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992720" y="3789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3604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51416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7140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5384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706040" y="3641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744200" y="3641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2324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70676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75860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843200" y="38059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448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965960" y="3805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99584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96640" y="41155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88080" y="41155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323360" y="41155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344240" y="4115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371960" y="4115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428120" y="41155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9736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5100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306440" y="42156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33128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189080" y="34254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510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0644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62600" y="3425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3968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5044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50336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1 b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5" name=""/>
          <p:cNvGraphicFramePr/>
          <p:nvPr/>
        </p:nvGraphicFramePr>
        <p:xfrm>
          <a:off x="-762120" y="1292400"/>
          <a:ext cx="10695240" cy="47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292400"/>
                    <a:ext cx="10695240" cy="47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2 bi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-754200" y="1293840"/>
          <a:ext cx="1072836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4200" y="1293840"/>
                    <a:ext cx="107283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Decode and Register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tion, Memory Address Computation, or Branch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Access or R-type instruction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TRUCTIONS TAKE FROM 3 - 5 CYCL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ve Execution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225360" y="312840"/>
            <a:ext cx="4046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PC to get instruction and put it in the Instruction Regis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rement the PC by 4 and put the result back in the P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be described succinctly using RTL "Register-Transfer Language"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R = Memory[PC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C = PC + 4;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we figure out the values of the control signals?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is the advantage of updating the PC n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1:  Instruction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1T17:50:18Z</dcterms:modified>
  <cp:revision>57</cp:revision>
  <dc:subject/>
  <dc:title>Chapter Five</dc:title>
</cp:coreProperties>
</file>