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b-</a:t>
            </a:r>
            <a:fld id="{16D844C1-EF59-4F75-A724-FDC2C3D1E2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e 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, Virtual memory and Cache (pag 59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38160" y="2548080"/>
            <a:ext cx="9105480" cy="2396520"/>
            <a:chOff x="38160" y="2548080"/>
            <a:chExt cx="9105480" cy="2396520"/>
          </a:xfrm>
        </p:grpSpPr>
        <p:sp>
          <p:nvSpPr>
            <p:cNvPr id="2047" name=""/>
            <p:cNvSpPr/>
            <p:nvPr/>
          </p:nvSpPr>
          <p:spPr>
            <a:xfrm>
              <a:off x="38160" y="2734560"/>
              <a:ext cx="9105480" cy="441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8" name=""/>
            <p:cNvGraphicFramePr/>
            <p:nvPr/>
          </p:nvGraphicFramePr>
          <p:xfrm>
            <a:off x="38160" y="2548080"/>
            <a:ext cx="9105480" cy="239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160" y="2548080"/>
                      <a:ext cx="9105480" cy="23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with Virtual Memo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488160" y="147888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t least two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 pro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, supervisor, execu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tate that user process can read but not write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table and TL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that are only available in supervisor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whereby the CPU can go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 and vice 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o superviso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cal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 to user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from exception (RF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: page tables (operating system´s address spa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age Faults and TLB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mis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ftware or hard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present in memory, and we need only create the missing TLB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not present in memory, and we need to transfer control to the operating system to deal with a page fa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mechan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aves the entire state the activ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C = virtual address of the faulting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complete three step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the page table entry using the virtual address and find the location of referenced page on d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se a physical page to replace; if the chosen page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t must be written out to disk before we can bring a new virtual page into this physical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 read to bring the referenced page from disk into the chosen physical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1066680"/>
            <a:ext cx="8381880" cy="685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an a Block Be Plac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1752480" y="2133720"/>
            <a:ext cx="5644800" cy="1287000"/>
            <a:chOff x="1752480" y="2133720"/>
            <a:chExt cx="5644800" cy="1287000"/>
          </a:xfrm>
        </p:grpSpPr>
        <p:sp>
          <p:nvSpPr>
            <p:cNvPr id="2058" name=""/>
            <p:cNvSpPr/>
            <p:nvPr/>
          </p:nvSpPr>
          <p:spPr>
            <a:xfrm>
              <a:off x="1890000" y="214920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me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69040" y="214920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21920" y="21492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per 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758600" y="2133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58600" y="213372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04452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452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04452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51000" y="2133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51000" y="213372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5880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15880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15880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165640" y="2133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65640" y="213372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52480" y="214272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75248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04452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452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15880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15880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39116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87120" y="24058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m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73760" y="240588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231240" y="24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752480" y="239220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75248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75248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758600" y="239220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58600" y="239220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4452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452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452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51000" y="239220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51000" y="239220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5880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5880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15880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65640" y="239220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65640" y="239220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39116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9116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752480" y="239940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75248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452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452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15880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5880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39116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871280" y="26647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173760" y="266472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179880" y="2882880"/>
              <a:ext cx="1845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672360" y="291204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72560" y="2664720"/>
              <a:ext cx="19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 (typically  2 – 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52480" y="264888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75248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5248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58600" y="264888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58600" y="264888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4452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4452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4452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51000" y="264888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51000" y="264888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15880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5880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15880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165640" y="264888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165640" y="264888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9116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9116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752480" y="265788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75248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4452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452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15880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5880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39116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23760" y="31687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059360" y="316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55280" y="3168720"/>
              <a:ext cx="198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 in the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752480" y="315504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5248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75248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58600" y="315504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758600" y="315504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4452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4452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4452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051000" y="315504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051000" y="315504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5880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5880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15880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65640" y="315504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165640" y="315504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9116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39116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2480" y="316224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5248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58600" y="3411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758600" y="3411720"/>
              <a:ext cx="128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04452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04452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04452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04452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04452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1000" y="3411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051000" y="3411720"/>
              <a:ext cx="210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5880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5880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5880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5880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5880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65640" y="3411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165640" y="3411720"/>
              <a:ext cx="222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9116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95" name=""/>
          <p:cNvGraphicFramePr/>
          <p:nvPr/>
        </p:nvGraphicFramePr>
        <p:xfrm>
          <a:off x="1523880" y="4076640"/>
          <a:ext cx="6167520" cy="156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76640"/>
                    <a:ext cx="6167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set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961920" y="738360"/>
            <a:ext cx="7201440" cy="6018480"/>
            <a:chOff x="961920" y="738360"/>
            <a:chExt cx="7201440" cy="6018480"/>
          </a:xfrm>
        </p:grpSpPr>
        <p:sp>
          <p:nvSpPr>
            <p:cNvPr id="2199" name=""/>
            <p:cNvSpPr/>
            <p:nvPr/>
          </p:nvSpPr>
          <p:spPr>
            <a:xfrm>
              <a:off x="1706760" y="5500800"/>
              <a:ext cx="6066000" cy="11880"/>
            </a:xfrm>
            <a:custGeom>
              <a:avLst/>
              <a:gdLst/>
              <a:ahLst/>
              <a:rect l="l" t="t" r="r" b="b"/>
              <a:pathLst>
                <a:path w="2491" h="5">
                  <a:moveTo>
                    <a:pt x="2491" y="0"/>
                  </a:moveTo>
                  <a:lnTo>
                    <a:pt x="2491" y="5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98600" y="53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85360" y="53956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98600" y="448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485360" y="4483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98600" y="354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85360" y="35442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98600" y="260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85360" y="2602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0500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8996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475640" y="167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30500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8996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475640" y="738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1706760" y="864360"/>
              <a:ext cx="2520" cy="46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706760" y="458352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706760" y="3648600"/>
              <a:ext cx="8532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06760" y="27194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06760" y="1789560"/>
              <a:ext cx="853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65160" y="615276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178760" y="6644520"/>
              <a:ext cx="10692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12800" y="51865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25196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9292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46400" y="5186520"/>
              <a:ext cx="104040" cy="561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43" y="2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73720" y="6405840"/>
              <a:ext cx="10980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60120" y="591444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482960" y="555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585200" y="555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1796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054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796160" y="555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8386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8890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00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863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7664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8608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436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0350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8508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135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249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3744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0438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338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47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336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3876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99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5817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296440" y="55540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1992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510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90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643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57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4580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168680" y="6157800"/>
              <a:ext cx="126720" cy="8496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88680" y="4867560"/>
              <a:ext cx="126360" cy="8532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68680" y="5923800"/>
              <a:ext cx="121680" cy="85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98400" y="454644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36840" y="4855680"/>
              <a:ext cx="121680" cy="87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63760" y="4851000"/>
              <a:ext cx="121320" cy="871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70520" y="485568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370200" y="6644520"/>
              <a:ext cx="8496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517840" y="393840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8" y="21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6280" y="4247280"/>
              <a:ext cx="8532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8788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79880" y="455652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70200" y="6405840"/>
              <a:ext cx="84960" cy="612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17840" y="3317400"/>
              <a:ext cx="82800" cy="612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51960" y="3629160"/>
              <a:ext cx="90000" cy="604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87880" y="39384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67556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547680" y="58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33000" y="586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7908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78276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884280" y="58683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547680" y="610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33000" y="610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7908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78276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884280" y="6101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47680" y="63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633000" y="63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7908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78276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884280" y="6335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47680" y="656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633000" y="656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7908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8276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16200000">
              <a:off x="1001520" y="3324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6200000">
              <a:off x="1047960" y="3252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rot="16200000">
              <a:off x="1026720" y="319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rot="16200000">
              <a:off x="1026720" y="3116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rot="16200000">
              <a:off x="1043280" y="306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rot="16200000">
              <a:off x="1039680" y="3003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rot="16200000">
              <a:off x="1022040" y="293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rot="16200000">
              <a:off x="1043280" y="287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16200000">
              <a:off x="1010160" y="280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757760" y="582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596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93740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01336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1044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8184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21568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29884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34492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37912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45940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9000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5328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6760" y="8600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36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45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35160" y="58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57764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68492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787520" y="58730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36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45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535160" y="610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57764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68492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87520" y="6106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36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45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535160" y="633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57764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68492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787520" y="6339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36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5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53480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24080" y="6573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6512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6736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706760" y="4583520"/>
              <a:ext cx="60901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706760" y="364860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706760" y="27194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706760" y="178452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706760" y="8600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559240" y="5205960"/>
              <a:ext cx="17380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 flipV="1">
              <a:off x="2559240" y="458784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4297680" y="4892400"/>
              <a:ext cx="172656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024240" y="4892400"/>
              <a:ext cx="16873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 flipV="1">
              <a:off x="2559240" y="3967560"/>
              <a:ext cx="173808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297680" y="4271760"/>
              <a:ext cx="172656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 flipV="1">
              <a:off x="6024240" y="427428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 flipV="1">
              <a:off x="2559240" y="334440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4297680" y="3658680"/>
              <a:ext cx="1726560" cy="303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flipV="1">
              <a:off x="6024240" y="396252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 flipV="1">
              <a:off x="2559240" y="2414880"/>
              <a:ext cx="1738080" cy="62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 flipV="1">
              <a:off x="4297680" y="3037680"/>
              <a:ext cx="1726560" cy="61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6024240" y="365364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559240" y="1485360"/>
              <a:ext cx="1738080" cy="61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4297680" y="2108520"/>
              <a:ext cx="1726560" cy="301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 flipV="1">
              <a:off x="6024240" y="241020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493720" y="235404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1800" y="29772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58720" y="359280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646400" y="3902040"/>
              <a:ext cx="131400" cy="121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493720" y="142452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231800" y="204768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58720" y="23490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46400" y="2662920"/>
              <a:ext cx="131400" cy="11664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68080" y="5162400"/>
              <a:ext cx="12672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651440" y="5162400"/>
              <a:ext cx="12636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36840" y="5162400"/>
              <a:ext cx="121680" cy="89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2559240" y="5186520"/>
              <a:ext cx="173808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4297680" y="5181840"/>
              <a:ext cx="1726560" cy="9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024240" y="5181840"/>
              <a:ext cx="168732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2559240" y="4897080"/>
              <a:ext cx="1738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512800" y="51523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5196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9292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641360" y="5152320"/>
              <a:ext cx="10908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559240" y="5434920"/>
              <a:ext cx="216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93360" y="5434920"/>
              <a:ext cx="432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2928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77276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a Block 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:  In virtu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y is beneficial, since misses are very exp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ity allows software to use sophisticated replacement schemes that are designed to reduce the miss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ll map can be easily indexed with no extra hardware and no search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 page size means the page table size overhead is relatively sm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2" name=""/>
          <p:cNvGraphicFramePr/>
          <p:nvPr/>
        </p:nvGraphicFramePr>
        <p:xfrm>
          <a:off x="1255680" y="1762200"/>
          <a:ext cx="6634080" cy="136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62200"/>
                    <a:ext cx="6634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 Block Should Be Replaced on a Cache Mi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:  candidate blocks are randomly selected, possibly using some hardware as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Recently Used (LRU): The block replaced is the one that has been unused for the longest tim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0880" y="990720"/>
            <a:ext cx="8382240" cy="563868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on a Wr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es are simpler and cheaper because they never require a            block to be written back to the lower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easier to implement than write-back, although to be practical                in a high-speed system, a write-through cache will need to use a          write bu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ack (copy-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 words can be written by the processor at the rate that the cache, rather than the memory, can accept th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writes within a block require only one write to the lower level in the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locks are written back, the system can make effective use of a high bandwidth transfer, since the entire block is writ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2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3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5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3000" y="1337400"/>
            <a:ext cx="7992360" cy="494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sion of having more physical memory (programa independente da configuração do hardwa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(address spa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7840" y="1841400"/>
            <a:ext cx="4110840" cy="3076200"/>
            <a:chOff x="2517840" y="1841400"/>
            <a:chExt cx="4110840" cy="3076200"/>
          </a:xfrm>
        </p:grpSpPr>
        <p:sp>
          <p:nvSpPr>
            <p:cNvPr id="46" name=""/>
            <p:cNvSpPr/>
            <p:nvPr/>
          </p:nvSpPr>
          <p:spPr>
            <a:xfrm>
              <a:off x="2517840" y="207360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7840" y="24861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7840" y="2896920"/>
              <a:ext cx="123336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7840" y="41284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  <a:lnTo>
                    <a:pt x="574" y="8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492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2492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05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3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402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72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88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166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756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83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60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98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1396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58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5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022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316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0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4960" y="207360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4960" y="22798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94960" y="248616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4960" y="26902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94960" y="2896920"/>
              <a:ext cx="123372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4960" y="31006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94960" y="33076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4960" y="351360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4960" y="37180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61600" y="4302360"/>
              <a:ext cx="1233360" cy="180720"/>
            </a:xfrm>
            <a:custGeom>
              <a:avLst/>
              <a:gdLst/>
              <a:ahLst/>
              <a:rect l="l" t="t" r="r" b="b"/>
              <a:pathLst>
                <a:path w="574" h="84">
                  <a:moveTo>
                    <a:pt x="0" y="0"/>
                  </a:moveTo>
                  <a:lnTo>
                    <a:pt x="4" y="15"/>
                  </a:lnTo>
                  <a:lnTo>
                    <a:pt x="15" y="26"/>
                  </a:lnTo>
                  <a:lnTo>
                    <a:pt x="33" y="40"/>
                  </a:lnTo>
                  <a:lnTo>
                    <a:pt x="56" y="49"/>
                  </a:lnTo>
                  <a:lnTo>
                    <a:pt x="84" y="59"/>
                  </a:lnTo>
                  <a:lnTo>
                    <a:pt x="119" y="67"/>
                  </a:lnTo>
                  <a:lnTo>
                    <a:pt x="155" y="74"/>
                  </a:lnTo>
                  <a:lnTo>
                    <a:pt x="197" y="80"/>
                  </a:lnTo>
                  <a:lnTo>
                    <a:pt x="241" y="82"/>
                  </a:lnTo>
                  <a:lnTo>
                    <a:pt x="287" y="84"/>
                  </a:lnTo>
                  <a:lnTo>
                    <a:pt x="335" y="82"/>
                  </a:lnTo>
                  <a:lnTo>
                    <a:pt x="379" y="80"/>
                  </a:lnTo>
                  <a:lnTo>
                    <a:pt x="419" y="74"/>
                  </a:lnTo>
                  <a:lnTo>
                    <a:pt x="457" y="67"/>
                  </a:lnTo>
                  <a:lnTo>
                    <a:pt x="490" y="59"/>
                  </a:lnTo>
                  <a:lnTo>
                    <a:pt x="519" y="49"/>
                  </a:lnTo>
                  <a:lnTo>
                    <a:pt x="544" y="40"/>
                  </a:lnTo>
                  <a:lnTo>
                    <a:pt x="561" y="26"/>
                  </a:lnTo>
                  <a:lnTo>
                    <a:pt x="570" y="15"/>
                  </a:lnTo>
                  <a:lnTo>
                    <a:pt x="574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7920" y="44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96200" y="4446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50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52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64680" y="444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24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755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29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33600" y="4446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778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0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152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02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66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7840" y="22798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7840" y="26902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7840" y="31006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7840" y="351360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7840" y="39243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216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14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024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524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5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04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78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628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34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1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7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520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9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83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38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18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9748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9960" y="214020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9960" y="23468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9960" y="25509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99960" y="29613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9960" y="31676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9960" y="3373920"/>
              <a:ext cx="7056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9960" y="357804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9960" y="37846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9960" y="39891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99960" y="41950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99960" y="43995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9280" y="218988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1" y="3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93960" y="4178160"/>
              <a:ext cx="72360" cy="662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13" y="0"/>
                  </a:moveTo>
                  <a:lnTo>
                    <a:pt x="0" y="29"/>
                  </a:lnTo>
                  <a:lnTo>
                    <a:pt x="34" y="3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8800" y="203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3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562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648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07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9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51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460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096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984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4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460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660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324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024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76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868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8000" y="4212360"/>
              <a:ext cx="74880" cy="684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8" y="0"/>
                  </a:moveTo>
                  <a:lnTo>
                    <a:pt x="0" y="32"/>
                  </a:lnTo>
                  <a:lnTo>
                    <a:pt x="35" y="26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0600" y="4302360"/>
              <a:ext cx="75240" cy="69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lnTo>
                    <a:pt x="4" y="32"/>
                  </a:lnTo>
                  <a:lnTo>
                    <a:pt x="35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134160" y="4339080"/>
              <a:ext cx="124200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133800" y="3410280"/>
              <a:ext cx="1491480" cy="80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3817080"/>
              <a:ext cx="1319760" cy="43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134160" y="2226240"/>
              <a:ext cx="2207160" cy="20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13600" y="2542320"/>
              <a:ext cx="68400" cy="70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0"/>
                  </a:moveTo>
                  <a:lnTo>
                    <a:pt x="0" y="33"/>
                  </a:lnTo>
                  <a:lnTo>
                    <a:pt x="32" y="19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4160" y="2378880"/>
              <a:ext cx="22006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09280" y="294624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0" y="32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4160" y="258300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9280" y="312660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0"/>
                  </a:moveTo>
                  <a:lnTo>
                    <a:pt x="0" y="32"/>
                  </a:lnTo>
                  <a:lnTo>
                    <a:pt x="3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09280" y="3217320"/>
              <a:ext cx="73080" cy="640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6" y="30"/>
                  </a:lnTo>
                  <a:lnTo>
                    <a:pt x="3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4960" y="3335400"/>
              <a:ext cx="77400" cy="622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0" y="29"/>
                  </a:lnTo>
                  <a:lnTo>
                    <a:pt x="36" y="2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4160" y="2172240"/>
              <a:ext cx="2202840" cy="12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09280" y="3561120"/>
              <a:ext cx="73080" cy="70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6" y="0"/>
                  </a:moveTo>
                  <a:lnTo>
                    <a:pt x="0" y="33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4160" y="319968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9280" y="379296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4" y="32"/>
                  </a:lnTo>
                  <a:lnTo>
                    <a:pt x="34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34160" y="3825720"/>
              <a:ext cx="2202840" cy="1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34160" y="3249000"/>
              <a:ext cx="220068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4160" y="2995560"/>
              <a:ext cx="2196360" cy="16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99960" y="27572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4160" y="2789280"/>
              <a:ext cx="220068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13600" y="2757240"/>
              <a:ext cx="68400" cy="68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ção desempenho CPU vs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3762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2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577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98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071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70844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7847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9260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60164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98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3940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94012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44016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0164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9098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3940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94012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635040" y="914400"/>
            <a:ext cx="7668360" cy="5613840"/>
            <a:chOff x="635040" y="914400"/>
            <a:chExt cx="7668360" cy="5613840"/>
          </a:xfrm>
        </p:grpSpPr>
        <p:sp>
          <p:nvSpPr>
            <p:cNvPr id="2429" name=""/>
            <p:cNvSpPr/>
            <p:nvPr/>
          </p:nvSpPr>
          <p:spPr>
            <a:xfrm>
              <a:off x="1162800" y="5357160"/>
              <a:ext cx="65635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1162800" y="5244840"/>
              <a:ext cx="2520" cy="111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704520" y="374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662760" y="3654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683280" y="354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700920" y="3479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683280" y="340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687960" y="3327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683280" y="32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662760" y="3133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683280" y="302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683280" y="29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704520" y="287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704520" y="28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704520" y="278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683280" y="272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687960" y="26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rot="16200000">
              <a:off x="704520" y="257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rot="16200000">
              <a:off x="683280" y="251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rot="16200000">
              <a:off x="700920" y="244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987840" y="525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924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784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100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8308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97344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rot="19620000">
              <a:off x="82908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rot="19620000">
              <a:off x="9003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rot="19620000">
              <a:off x="97344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rot="19620000">
              <a:off x="10522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19620000">
              <a:off x="1600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rot="19620000">
              <a:off x="16754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rot="19620000">
              <a:off x="1744560" y="546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19620000">
              <a:off x="182484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19620000">
              <a:off x="242064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rot="19620000">
              <a:off x="24958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rot="19620000">
              <a:off x="25642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rot="19620000">
              <a:off x="26445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9620000">
              <a:off x="3244680" y="555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rot="19620000">
              <a:off x="3318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9620000">
              <a:off x="3390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rot="19620000">
              <a:off x="346572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302720" y="5875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0676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9100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81720" y="5875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rot="19620000">
              <a:off x="40651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rot="19620000">
              <a:off x="41439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9620000">
              <a:off x="42094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rot="19620000">
              <a:off x="42897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rot="19620000">
              <a:off x="4891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rot="19620000">
              <a:off x="49608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rot="19620000">
              <a:off x="50338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rot="19620000">
              <a:off x="51094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rot="19620000">
              <a:off x="569520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19620000">
              <a:off x="57726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19620000">
              <a:off x="5838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19620000">
              <a:off x="5913360" y="5410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19620000">
              <a:off x="6532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9620000">
              <a:off x="66056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9620000">
              <a:off x="667440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9620000">
              <a:off x="6752880" y="540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9620000">
              <a:off x="7366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9620000">
              <a:off x="7440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9620000">
              <a:off x="75106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9620000">
              <a:off x="7585920" y="540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51608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30560" y="5829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3100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8440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88544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9394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84080" y="58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66160" y="5829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14968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18892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51356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623360" y="609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3100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844040" y="609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88544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38720" y="609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019720" y="6093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051760" y="6093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4212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25228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5088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6186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31000" y="634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839000" y="6345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66000" y="5924520"/>
              <a:ext cx="483840" cy="25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66000" y="6184080"/>
              <a:ext cx="483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66000" y="6445800"/>
              <a:ext cx="483840" cy="2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165680" y="3195720"/>
              <a:ext cx="8028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3" name=""/>
            <p:cNvGrpSpPr/>
            <p:nvPr/>
          </p:nvGrpSpPr>
          <p:grpSpPr>
            <a:xfrm>
              <a:off x="1165680" y="914400"/>
              <a:ext cx="6562440" cy="4442400"/>
              <a:chOff x="1165680" y="914400"/>
              <a:chExt cx="6562440" cy="4442400"/>
            </a:xfrm>
          </p:grpSpPr>
          <p:sp>
            <p:nvSpPr>
              <p:cNvPr id="2524" name=""/>
              <p:cNvSpPr/>
              <p:nvPr/>
            </p:nvSpPr>
            <p:spPr>
              <a:xfrm>
                <a:off x="1165680" y="1063440"/>
                <a:ext cx="80280" cy="4293360"/>
              </a:xfrm>
              <a:custGeom>
                <a:avLst/>
                <a:gdLst/>
                <a:ahLst/>
                <a:rect l="l" t="t" r="r" b="b"/>
                <a:pathLst>
                  <a:path w="33" h="1756">
                    <a:moveTo>
                      <a:pt x="33" y="0"/>
                    </a:moveTo>
                    <a:lnTo>
                      <a:pt x="0" y="0"/>
                    </a:lnTo>
                    <a:lnTo>
                      <a:pt x="0" y="175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170360" y="914400"/>
                <a:ext cx="6401160" cy="4422960"/>
              </a:xfrm>
              <a:custGeom>
                <a:avLst/>
                <a:gdLst/>
                <a:ahLst/>
                <a:rect l="l" t="t" r="r" b="b"/>
                <a:pathLst>
                  <a:path w="2618" h="1809">
                    <a:moveTo>
                      <a:pt x="0" y="1809"/>
                    </a:moveTo>
                    <a:lnTo>
                      <a:pt x="164" y="1778"/>
                    </a:lnTo>
                    <a:lnTo>
                      <a:pt x="331" y="1728"/>
                    </a:lnTo>
                    <a:lnTo>
                      <a:pt x="486" y="1696"/>
                    </a:lnTo>
                    <a:lnTo>
                      <a:pt x="651" y="1648"/>
                    </a:lnTo>
                    <a:lnTo>
                      <a:pt x="826" y="1552"/>
                    </a:lnTo>
                    <a:lnTo>
                      <a:pt x="997" y="1488"/>
                    </a:lnTo>
                    <a:lnTo>
                      <a:pt x="1168" y="1338"/>
                    </a:lnTo>
                    <a:lnTo>
                      <a:pt x="1324" y="1200"/>
                    </a:lnTo>
                    <a:lnTo>
                      <a:pt x="1471" y="901"/>
                    </a:lnTo>
                    <a:lnTo>
                      <a:pt x="1663" y="864"/>
                    </a:lnTo>
                    <a:lnTo>
                      <a:pt x="1840" y="806"/>
                    </a:lnTo>
                    <a:lnTo>
                      <a:pt x="2009" y="718"/>
                    </a:lnTo>
                    <a:lnTo>
                      <a:pt x="2176" y="597"/>
                    </a:lnTo>
                    <a:lnTo>
                      <a:pt x="2353" y="393"/>
                    </a:lnTo>
                    <a:lnTo>
                      <a:pt x="2518" y="219"/>
                    </a:lnTo>
                    <a:lnTo>
                      <a:pt x="2618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170360" y="2880000"/>
                <a:ext cx="6555240" cy="2457360"/>
              </a:xfrm>
              <a:custGeom>
                <a:avLst/>
                <a:gdLst/>
                <a:ahLst/>
                <a:rect l="l" t="t" r="r" b="b"/>
                <a:pathLst>
                  <a:path w="2681" h="1005">
                    <a:moveTo>
                      <a:pt x="0" y="1005"/>
                    </a:moveTo>
                    <a:lnTo>
                      <a:pt x="160" y="984"/>
                    </a:lnTo>
                    <a:lnTo>
                      <a:pt x="166" y="990"/>
                    </a:lnTo>
                    <a:lnTo>
                      <a:pt x="240" y="988"/>
                    </a:lnTo>
                    <a:lnTo>
                      <a:pt x="331" y="968"/>
                    </a:lnTo>
                    <a:lnTo>
                      <a:pt x="490" y="934"/>
                    </a:lnTo>
                    <a:lnTo>
                      <a:pt x="669" y="913"/>
                    </a:lnTo>
                    <a:lnTo>
                      <a:pt x="832" y="892"/>
                    </a:lnTo>
                    <a:lnTo>
                      <a:pt x="997" y="844"/>
                    </a:lnTo>
                    <a:lnTo>
                      <a:pt x="1162" y="780"/>
                    </a:lnTo>
                    <a:lnTo>
                      <a:pt x="1333" y="694"/>
                    </a:lnTo>
                    <a:lnTo>
                      <a:pt x="1504" y="604"/>
                    </a:lnTo>
                    <a:lnTo>
                      <a:pt x="1669" y="496"/>
                    </a:lnTo>
                    <a:lnTo>
                      <a:pt x="1825" y="406"/>
                    </a:lnTo>
                    <a:lnTo>
                      <a:pt x="1990" y="225"/>
                    </a:lnTo>
                    <a:lnTo>
                      <a:pt x="2176" y="102"/>
                    </a:lnTo>
                    <a:lnTo>
                      <a:pt x="2349" y="77"/>
                    </a:lnTo>
                    <a:lnTo>
                      <a:pt x="2503" y="39"/>
                    </a:lnTo>
                    <a:lnTo>
                      <a:pt x="268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180080" y="4383720"/>
                <a:ext cx="6514200" cy="958680"/>
              </a:xfrm>
              <a:custGeom>
                <a:avLst/>
                <a:gdLst/>
                <a:ahLst/>
                <a:rect l="l" t="t" r="r" b="b"/>
                <a:pathLst>
                  <a:path w="2664" h="392">
                    <a:moveTo>
                      <a:pt x="0" y="392"/>
                    </a:moveTo>
                    <a:lnTo>
                      <a:pt x="162" y="375"/>
                    </a:lnTo>
                    <a:lnTo>
                      <a:pt x="306" y="373"/>
                    </a:lnTo>
                    <a:lnTo>
                      <a:pt x="498" y="342"/>
                    </a:lnTo>
                    <a:lnTo>
                      <a:pt x="665" y="336"/>
                    </a:lnTo>
                    <a:lnTo>
                      <a:pt x="828" y="319"/>
                    </a:lnTo>
                    <a:lnTo>
                      <a:pt x="999" y="313"/>
                    </a:lnTo>
                    <a:lnTo>
                      <a:pt x="1154" y="309"/>
                    </a:lnTo>
                    <a:lnTo>
                      <a:pt x="1323" y="298"/>
                    </a:lnTo>
                    <a:lnTo>
                      <a:pt x="1500" y="244"/>
                    </a:lnTo>
                    <a:lnTo>
                      <a:pt x="1656" y="223"/>
                    </a:lnTo>
                    <a:lnTo>
                      <a:pt x="1821" y="208"/>
                    </a:lnTo>
                    <a:lnTo>
                      <a:pt x="2007" y="186"/>
                    </a:lnTo>
                    <a:lnTo>
                      <a:pt x="2166" y="144"/>
                    </a:lnTo>
                    <a:lnTo>
                      <a:pt x="2337" y="100"/>
                    </a:lnTo>
                    <a:lnTo>
                      <a:pt x="2502" y="52"/>
                    </a:lnTo>
                    <a:lnTo>
                      <a:pt x="2664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165680" y="3195360"/>
                <a:ext cx="65602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165680" y="1063440"/>
                <a:ext cx="6560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5764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9846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39256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80620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1444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62304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0363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44420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85316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660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67432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087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958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90408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3177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725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-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3352680"/>
            <a:ext cx="5473080" cy="2908440"/>
            <a:chOff x="914400" y="3352680"/>
            <a:chExt cx="5473080" cy="2908440"/>
          </a:xfrm>
        </p:grpSpPr>
        <p:grpSp>
          <p:nvGrpSpPr>
            <p:cNvPr id="180" name=""/>
            <p:cNvGrpSpPr/>
            <p:nvPr/>
          </p:nvGrpSpPr>
          <p:grpSpPr>
            <a:xfrm>
              <a:off x="914400" y="3352680"/>
              <a:ext cx="5473080" cy="2908080"/>
              <a:chOff x="914400" y="3352680"/>
              <a:chExt cx="5473080" cy="290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  <a:lnTo>
                      <a:pt x="406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45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20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71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606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00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822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26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890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865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36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335840" y="389304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4400" y="3893400"/>
                <a:ext cx="5473080" cy="454680"/>
              </a:xfrm>
              <a:custGeom>
                <a:avLst/>
                <a:gdLst/>
                <a:ahLst/>
                <a:rect l="l" t="t" r="r" b="b"/>
                <a:pathLst>
                  <a:path w="2297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297" y="0"/>
                    </a:lnTo>
                    <a:lnTo>
                      <a:pt x="2297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891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48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59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9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46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73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13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56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3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08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45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776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219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054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22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31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15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021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41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2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500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3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185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5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452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28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737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55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2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82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6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24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20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799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078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036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099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7004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6544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7680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867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817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09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6240" y="374796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534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6048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3956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349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8348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828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85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51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38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780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673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080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48320" y="4031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257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07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120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5740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916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409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81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672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5044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8644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25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13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4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830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516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044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2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74680" y="4031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039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89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724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49280" y="335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4864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8500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34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7680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6212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4636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77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219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548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911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7288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2184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112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8744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45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320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71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06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002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22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26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890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865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36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335840" y="548676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69080" y="5487120"/>
                <a:ext cx="5018040" cy="454680"/>
              </a:xfrm>
              <a:custGeom>
                <a:avLst/>
                <a:gdLst/>
                <a:ahLst/>
                <a:rect l="l" t="t" r="r" b="b"/>
                <a:pathLst>
                  <a:path w="2106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106" y="0"/>
                    </a:lnTo>
                    <a:lnTo>
                      <a:pt x="2106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91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748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594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9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84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739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13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956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3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08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45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776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219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054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922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3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15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0212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4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032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735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15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0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838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30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11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078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036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099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7004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6544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7680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867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817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909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56240" y="53416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534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6048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3956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349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492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8348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82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68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168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8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780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6732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080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483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257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07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2184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5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101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8644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5988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9588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7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5536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884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33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4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02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83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7008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1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9896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80680" y="56232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08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909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577320" y="562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18120" y="6077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18200" y="607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038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776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54000" y="607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9180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76272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2000" y="6078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2960" y="6078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220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0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1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0680" y="6078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3108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67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905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86600" y="5397120"/>
              <a:ext cx="78840" cy="759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5040" y="4827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50440" y="4827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008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80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69680" y="4827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096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840" y="482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84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382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2392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24760" y="5397120"/>
              <a:ext cx="73800" cy="759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3280" y="4344120"/>
              <a:ext cx="2160" cy="10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6600" y="4658400"/>
              <a:ext cx="78840" cy="78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25120" y="4344120"/>
              <a:ext cx="216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25120" y="5086800"/>
              <a:ext cx="216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010280" y="3882960"/>
            <a:ext cx="2133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 bits: 4 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PN: 20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1M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5410080"/>
            <a:ext cx="2133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N: 18 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256 K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23880" y="1085760"/>
            <a:ext cx="6095520" cy="4587120"/>
            <a:chOff x="1523880" y="1085760"/>
            <a:chExt cx="6095520" cy="4587120"/>
          </a:xfrm>
        </p:grpSpPr>
        <p:grpSp>
          <p:nvGrpSpPr>
            <p:cNvPr id="412" name=""/>
            <p:cNvGrpSpPr/>
            <p:nvPr/>
          </p:nvGrpSpPr>
          <p:grpSpPr>
            <a:xfrm>
              <a:off x="1523880" y="1085760"/>
              <a:ext cx="6095520" cy="4587120"/>
              <a:chOff x="1523880" y="1085760"/>
              <a:chExt cx="6095520" cy="4587120"/>
            </a:xfrm>
          </p:grpSpPr>
          <p:sp>
            <p:nvSpPr>
              <p:cNvPr id="413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75240" y="4236120"/>
                <a:ext cx="2128320" cy="1436760"/>
              </a:xfrm>
              <a:custGeom>
                <a:avLst/>
                <a:gdLst/>
                <a:ahLst/>
                <a:rect l="l" t="t" r="r" b="b"/>
                <a:pathLst>
                  <a:path w="949" h="641">
                    <a:moveTo>
                      <a:pt x="947" y="80"/>
                    </a:moveTo>
                    <a:lnTo>
                      <a:pt x="941" y="69"/>
                    </a:lnTo>
                    <a:lnTo>
                      <a:pt x="924" y="55"/>
                    </a:lnTo>
                    <a:lnTo>
                      <a:pt x="895" y="44"/>
                    </a:lnTo>
                    <a:lnTo>
                      <a:pt x="857" y="34"/>
                    </a:lnTo>
                    <a:lnTo>
                      <a:pt x="809" y="25"/>
                    </a:lnTo>
                    <a:lnTo>
                      <a:pt x="753" y="15"/>
                    </a:lnTo>
                    <a:lnTo>
                      <a:pt x="692" y="9"/>
                    </a:lnTo>
                    <a:lnTo>
                      <a:pt x="623" y="4"/>
                    </a:lnTo>
                    <a:lnTo>
                      <a:pt x="550" y="2"/>
                    </a:lnTo>
                    <a:lnTo>
                      <a:pt x="473" y="0"/>
                    </a:lnTo>
                    <a:lnTo>
                      <a:pt x="397" y="2"/>
                    </a:lnTo>
                    <a:lnTo>
                      <a:pt x="324" y="4"/>
                    </a:lnTo>
                    <a:lnTo>
                      <a:pt x="255" y="9"/>
                    </a:lnTo>
                    <a:lnTo>
                      <a:pt x="194" y="15"/>
                    </a:lnTo>
                    <a:lnTo>
                      <a:pt x="138" y="25"/>
                    </a:lnTo>
                    <a:lnTo>
                      <a:pt x="90" y="34"/>
                    </a:lnTo>
                    <a:lnTo>
                      <a:pt x="52" y="44"/>
                    </a:lnTo>
                    <a:lnTo>
                      <a:pt x="23" y="55"/>
                    </a:lnTo>
                    <a:lnTo>
                      <a:pt x="6" y="69"/>
                    </a:lnTo>
                    <a:lnTo>
                      <a:pt x="0" y="82"/>
                    </a:lnTo>
                    <a:lnTo>
                      <a:pt x="0" y="561"/>
                    </a:lnTo>
                    <a:lnTo>
                      <a:pt x="6" y="574"/>
                    </a:lnTo>
                    <a:lnTo>
                      <a:pt x="23" y="586"/>
                    </a:lnTo>
                    <a:lnTo>
                      <a:pt x="52" y="597"/>
                    </a:lnTo>
                    <a:lnTo>
                      <a:pt x="90" y="609"/>
                    </a:lnTo>
                    <a:lnTo>
                      <a:pt x="138" y="618"/>
                    </a:lnTo>
                    <a:lnTo>
                      <a:pt x="194" y="626"/>
                    </a:lnTo>
                    <a:lnTo>
                      <a:pt x="255" y="634"/>
                    </a:lnTo>
                    <a:lnTo>
                      <a:pt x="324" y="637"/>
                    </a:lnTo>
                    <a:lnTo>
                      <a:pt x="397" y="641"/>
                    </a:lnTo>
                    <a:lnTo>
                      <a:pt x="473" y="641"/>
                    </a:lnTo>
                    <a:lnTo>
                      <a:pt x="550" y="641"/>
                    </a:lnTo>
                    <a:lnTo>
                      <a:pt x="623" y="637"/>
                    </a:lnTo>
                    <a:lnTo>
                      <a:pt x="692" y="634"/>
                    </a:lnTo>
                    <a:lnTo>
                      <a:pt x="753" y="626"/>
                    </a:lnTo>
                    <a:lnTo>
                      <a:pt x="809" y="618"/>
                    </a:lnTo>
                    <a:lnTo>
                      <a:pt x="857" y="609"/>
                    </a:lnTo>
                    <a:lnTo>
                      <a:pt x="895" y="597"/>
                    </a:lnTo>
                    <a:lnTo>
                      <a:pt x="924" y="586"/>
                    </a:lnTo>
                    <a:lnTo>
                      <a:pt x="941" y="574"/>
                    </a:lnTo>
                    <a:lnTo>
                      <a:pt x="949" y="561"/>
                    </a:lnTo>
                    <a:lnTo>
                      <a:pt x="949" y="82"/>
                    </a:lnTo>
                    <a:lnTo>
                      <a:pt x="949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35840" y="1549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294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1368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831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480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839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812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3696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70080" y="1549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0788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2956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624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268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08200" y="1549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5464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7520" y="178992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17520" y="200268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17520" y="22179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17520" y="243288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7520" y="264600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7520" y="286164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17520" y="30765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17520" y="329184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17520" y="350496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4415400"/>
                <a:ext cx="2132640" cy="190080"/>
              </a:xfrm>
              <a:custGeom>
                <a:avLst/>
                <a:gdLst/>
                <a:ahLst/>
                <a:rect l="l" t="t" r="r" b="b"/>
                <a:pathLst>
                  <a:path w="951" h="85">
                    <a:moveTo>
                      <a:pt x="0" y="0"/>
                    </a:moveTo>
                    <a:lnTo>
                      <a:pt x="8" y="16"/>
                    </a:lnTo>
                    <a:lnTo>
                      <a:pt x="25" y="27"/>
                    </a:lnTo>
                    <a:lnTo>
                      <a:pt x="54" y="40"/>
                    </a:lnTo>
                    <a:lnTo>
                      <a:pt x="92" y="50"/>
                    </a:lnTo>
                    <a:lnTo>
                      <a:pt x="140" y="60"/>
                    </a:lnTo>
                    <a:lnTo>
                      <a:pt x="196" y="67"/>
                    </a:lnTo>
                    <a:lnTo>
                      <a:pt x="257" y="75"/>
                    </a:lnTo>
                    <a:lnTo>
                      <a:pt x="326" y="81"/>
                    </a:lnTo>
                    <a:lnTo>
                      <a:pt x="399" y="83"/>
                    </a:lnTo>
                    <a:lnTo>
                      <a:pt x="475" y="85"/>
                    </a:lnTo>
                    <a:lnTo>
                      <a:pt x="552" y="83"/>
                    </a:lnTo>
                    <a:lnTo>
                      <a:pt x="625" y="81"/>
                    </a:lnTo>
                    <a:lnTo>
                      <a:pt x="694" y="75"/>
                    </a:lnTo>
                    <a:lnTo>
                      <a:pt x="755" y="67"/>
                    </a:lnTo>
                    <a:lnTo>
                      <a:pt x="811" y="60"/>
                    </a:lnTo>
                    <a:lnTo>
                      <a:pt x="859" y="50"/>
                    </a:lnTo>
                    <a:lnTo>
                      <a:pt x="897" y="40"/>
                    </a:lnTo>
                    <a:lnTo>
                      <a:pt x="926" y="27"/>
                    </a:lnTo>
                    <a:lnTo>
                      <a:pt x="943" y="16"/>
                    </a:lnTo>
                    <a:lnTo>
                      <a:pt x="95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560" y="400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57520" y="4005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9136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6552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3248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7280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4444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8512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66480" y="4005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118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9248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720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39240" y="20340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240" y="1798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0856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8740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088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148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80120" y="20340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16840" y="22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16840" y="248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840" y="270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16840" y="291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16840" y="312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616840" y="334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16840" y="3558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16840" y="37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16840" y="398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16840" y="42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16840" y="441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6840" y="463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37760" y="1433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320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105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9120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7004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1252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499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262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10160" y="1433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3932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71760" y="23212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71760" y="2536200"/>
                <a:ext cx="71640" cy="673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71760" y="27493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71760" y="2964960"/>
                <a:ext cx="71640" cy="69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71760" y="3179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71760" y="33951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1760" y="36079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71760" y="38232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71760" y="403884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71760" y="42537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71760" y="4466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71760" y="46818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3880" y="1495800"/>
                <a:ext cx="858960" cy="214920"/>
              </a:xfrm>
              <a:custGeom>
                <a:avLst/>
                <a:gdLst/>
                <a:ahLst/>
                <a:rect l="l" t="t" r="r" b="b"/>
                <a:pathLst>
                  <a:path w="383" h="96">
                    <a:moveTo>
                      <a:pt x="383" y="96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383" y="96"/>
                    </a:lnTo>
                    <a:lnTo>
                      <a:pt x="38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78960" y="1085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7400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07840" y="1085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5428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924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752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92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8756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0246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168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848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6116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44680" y="10857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1612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9244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75960" y="1256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91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72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49920" y="125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51920" y="1711080"/>
                <a:ext cx="562680" cy="1717560"/>
              </a:xfrm>
              <a:custGeom>
                <a:avLst/>
                <a:gdLst/>
                <a:ahLst/>
                <a:rect l="l" t="t" r="r" b="b"/>
                <a:pathLst>
                  <a:path w="251" h="766">
                    <a:moveTo>
                      <a:pt x="0" y="0"/>
                    </a:moveTo>
                    <a:lnTo>
                      <a:pt x="0" y="766"/>
                    </a:lnTo>
                    <a:lnTo>
                      <a:pt x="251" y="7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25720" y="1801080"/>
                <a:ext cx="78120" cy="78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2"/>
                    </a:moveTo>
                    <a:lnTo>
                      <a:pt x="23" y="35"/>
                    </a:lnTo>
                    <a:lnTo>
                      <a:pt x="35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35720" y="4626000"/>
                <a:ext cx="7848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5" y="0"/>
                    </a:moveTo>
                    <a:lnTo>
                      <a:pt x="0" y="29"/>
                    </a:lnTo>
                    <a:lnTo>
                      <a:pt x="35" y="3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62800" y="1621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560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3812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21228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7960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524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381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6572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9452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3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1440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96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742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560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9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72960" y="1621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19760" y="162144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67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51800" y="1789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806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544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22080" y="178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660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4196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6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02880" y="1789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86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2996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412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95160" y="33904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05240" y="3213360"/>
                <a:ext cx="2168280" cy="145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0400" y="521784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2" y="0"/>
                    </a:moveTo>
                    <a:lnTo>
                      <a:pt x="0" y="33"/>
                    </a:lnTo>
                    <a:lnTo>
                      <a:pt x="33" y="2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5240" y="4502880"/>
                <a:ext cx="2134800" cy="75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31400" y="4921920"/>
                <a:ext cx="83160" cy="694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0" y="0"/>
                    </a:moveTo>
                    <a:lnTo>
                      <a:pt x="0" y="31"/>
                    </a:lnTo>
                    <a:lnTo>
                      <a:pt x="37" y="2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405240" y="3857040"/>
                <a:ext cx="2152440" cy="110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405240" y="1840680"/>
                <a:ext cx="2260440" cy="223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25720" y="2020680"/>
                <a:ext cx="78120" cy="759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3405240" y="2058480"/>
                <a:ext cx="2262600" cy="265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25720" y="219564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0"/>
                    </a:moveTo>
                    <a:lnTo>
                      <a:pt x="4" y="31"/>
                    </a:lnTo>
                    <a:lnTo>
                      <a:pt x="3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405240" y="2226600"/>
                <a:ext cx="2246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21400" y="2432880"/>
                <a:ext cx="82800" cy="673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14" y="30"/>
                    </a:lnTo>
                    <a:lnTo>
                      <a:pt x="37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405240" y="2458080"/>
                <a:ext cx="2251440" cy="9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621400" y="2659680"/>
                <a:ext cx="82800" cy="691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4"/>
                    </a:moveTo>
                    <a:lnTo>
                      <a:pt x="20" y="31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405240" y="2686680"/>
                <a:ext cx="2255760" cy="16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626080" y="2805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6" y="0"/>
                  </a:moveTo>
                  <a:lnTo>
                    <a:pt x="0" y="33"/>
                  </a:lnTo>
                  <a:lnTo>
                    <a:pt x="35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05600" y="2354760"/>
              <a:ext cx="2242800" cy="49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6080" y="302940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5600" y="2785320"/>
              <a:ext cx="224280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26080" y="324504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05600" y="2998440"/>
              <a:ext cx="22467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26080" y="3471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5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3405600" y="3509640"/>
              <a:ext cx="224280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60840" y="1198440"/>
            <a:ext cx="5925960" cy="5315400"/>
            <a:chOff x="2760840" y="1198440"/>
            <a:chExt cx="5925960" cy="5315400"/>
          </a:xfrm>
        </p:grpSpPr>
        <p:grpSp>
          <p:nvGrpSpPr>
            <p:cNvPr id="624" name=""/>
            <p:cNvGrpSpPr/>
            <p:nvPr/>
          </p:nvGrpSpPr>
          <p:grpSpPr>
            <a:xfrm>
              <a:off x="2760840" y="1198440"/>
              <a:ext cx="5925960" cy="5315400"/>
              <a:chOff x="2760840" y="1198440"/>
              <a:chExt cx="5925960" cy="53154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910560" y="2053800"/>
                <a:ext cx="1440" cy="39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49520" y="2050920"/>
                <a:ext cx="5237280" cy="411120"/>
              </a:xfrm>
              <a:custGeom>
                <a:avLst/>
                <a:gdLst/>
                <a:ahLst/>
                <a:rect l="l" t="t" r="r" b="b"/>
                <a:pathLst>
                  <a:path w="3299" h="259">
                    <a:moveTo>
                      <a:pt x="0" y="259"/>
                    </a:moveTo>
                    <a:lnTo>
                      <a:pt x="0" y="0"/>
                    </a:lnTo>
                    <a:lnTo>
                      <a:pt x="3299" y="0"/>
                    </a:lnTo>
                    <a:lnTo>
                      <a:pt x="3299" y="259"/>
                    </a:lnTo>
                    <a:lnTo>
                      <a:pt x="0" y="259"/>
                    </a:lnTo>
                    <a:lnTo>
                      <a:pt x="0" y="25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8764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733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413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13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8176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19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88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14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57800" y="217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175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91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7476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5756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849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288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634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0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0344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29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63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3484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06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45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4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792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476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19680" y="2178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237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92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9641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20680" y="1584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114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4200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8304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2048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921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688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9868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318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06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1794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5464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95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37200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3536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910560" y="5838840"/>
                <a:ext cx="1440" cy="395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0360" y="5838840"/>
                <a:ext cx="5078520" cy="395280"/>
              </a:xfrm>
              <a:custGeom>
                <a:avLst/>
                <a:gdLst/>
                <a:ahLst/>
                <a:rect l="l" t="t" r="r" b="b"/>
                <a:pathLst>
                  <a:path w="3199" h="249">
                    <a:moveTo>
                      <a:pt x="0" y="249"/>
                    </a:moveTo>
                    <a:lnTo>
                      <a:pt x="0" y="0"/>
                    </a:lnTo>
                    <a:lnTo>
                      <a:pt x="3199" y="0"/>
                    </a:lnTo>
                    <a:lnTo>
                      <a:pt x="3199" y="249"/>
                    </a:ln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48764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733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41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13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8176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819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8652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92144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95780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7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91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2236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076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7644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4016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00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3052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902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62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8928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7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951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66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33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05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39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11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79960" y="5962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84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52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24760" y="596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658840" y="6330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412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100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734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3856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6376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2856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52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25760" y="633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603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269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0000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372360" y="6330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126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814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448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91160" y="576252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0"/>
                    </a:moveTo>
                    <a:lnTo>
                      <a:pt x="0" y="0"/>
                    </a:lnTo>
                    <a:lnTo>
                      <a:pt x="22" y="43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82120" y="5762520"/>
                <a:ext cx="63360" cy="684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0"/>
                    </a:moveTo>
                    <a:lnTo>
                      <a:pt x="0" y="0"/>
                    </a:lnTo>
                    <a:lnTo>
                      <a:pt x="21" y="4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12000" y="2457360"/>
                <a:ext cx="3240" cy="3321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653000" y="366084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40" y="0"/>
                    </a:moveTo>
                    <a:lnTo>
                      <a:pt x="0" y="0"/>
                    </a:lnTo>
                    <a:lnTo>
                      <a:pt x="19" y="4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683240" y="2457360"/>
                <a:ext cx="1440" cy="12225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43440" y="294480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40360" y="2940120"/>
                <a:ext cx="2880" cy="19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2236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076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7644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4016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00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3052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3902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62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8928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267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951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66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333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500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395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112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79960" y="2759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840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2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2759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9844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805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52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79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09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43440" y="313992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40360" y="31399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43440" y="334008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40360" y="333684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43440" y="353520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40360" y="35352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  <a:lnTo>
                      <a:pt x="2192" y="12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40360" y="37321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43440" y="3932280"/>
                <a:ext cx="3484440" cy="198360"/>
              </a:xfrm>
              <a:custGeom>
                <a:avLst/>
                <a:gdLst/>
                <a:ahLst/>
                <a:rect l="l" t="t" r="r" b="b"/>
                <a:pathLst>
                  <a:path w="2195" h="125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2195" y="125"/>
                    </a:lnTo>
                    <a:lnTo>
                      <a:pt x="2195" y="125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40360" y="393228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3440" y="413064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40360" y="41274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43440" y="432756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40360" y="432756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43440" y="452772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40360" y="452268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943440" y="472284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40360" y="472284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21400" y="3833640"/>
                <a:ext cx="4680" cy="1940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91160" y="380052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3" y="37"/>
                    </a:lnTo>
                    <a:lnTo>
                      <a:pt x="36" y="35"/>
                    </a:lnTo>
                    <a:lnTo>
                      <a:pt x="38" y="33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7" y="35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03560" y="505152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0"/>
                    </a:moveTo>
                    <a:lnTo>
                      <a:pt x="0" y="2"/>
                    </a:lnTo>
                    <a:lnTo>
                      <a:pt x="22" y="4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38480" y="3833640"/>
                <a:ext cx="1800" cy="1231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08600" y="3800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8" y="33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0" y="18"/>
                    </a:lnTo>
                    <a:lnTo>
                      <a:pt x="40" y="14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5" y="7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40"/>
                    </a:lnTo>
                    <a:lnTo>
                      <a:pt x="14" y="40"/>
                    </a:lnTo>
                    <a:lnTo>
                      <a:pt x="16" y="42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51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59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1908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536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256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587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918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646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9315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0320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0377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094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774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490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316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354200" y="5167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381200" y="5167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445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4791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457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61772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53000" y="51674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5503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1944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01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317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965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6460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93660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7008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03200" y="5318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2984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0184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13712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2411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1316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4139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8632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73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60840" y="1198440"/>
                <a:ext cx="5227560" cy="249480"/>
              </a:xfrm>
              <a:custGeom>
                <a:avLst/>
                <a:gdLst/>
                <a:ahLst/>
                <a:rect l="l" t="t" r="r" b="b"/>
                <a:pathLst>
                  <a:path w="3293" h="157">
                    <a:moveTo>
                      <a:pt x="3293" y="155"/>
                    </a:moveTo>
                    <a:lnTo>
                      <a:pt x="3293" y="0"/>
                    </a:lnTo>
                    <a:lnTo>
                      <a:pt x="0" y="0"/>
                    </a:lnTo>
                    <a:lnTo>
                      <a:pt x="0" y="157"/>
                    </a:lnTo>
                    <a:lnTo>
                      <a:pt x="3293" y="157"/>
                    </a:lnTo>
                    <a:lnTo>
                      <a:pt x="3293" y="157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71520" y="1244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95396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2200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09364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16060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19876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2333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2999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537192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982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7020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458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1744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8620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16080" y="1244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7512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0932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816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65680" y="2909880"/>
              <a:ext cx="63360" cy="68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0" y="43"/>
                  </a:lnTo>
                  <a:lnTo>
                    <a:pt x="4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17800" y="1455840"/>
              <a:ext cx="965160" cy="1488960"/>
            </a:xfrm>
            <a:custGeom>
              <a:avLst/>
              <a:gdLst/>
              <a:ahLst/>
              <a:rect l="l" t="t" r="r" b="b"/>
              <a:pathLst>
                <a:path w="608" h="938">
                  <a:moveTo>
                    <a:pt x="608" y="935"/>
                  </a:moveTo>
                  <a:lnTo>
                    <a:pt x="0" y="93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12640" y="4010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4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6636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344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0640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3988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7408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45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14480" y="4010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440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95760" y="2589120"/>
              <a:ext cx="17316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4588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2220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9560" y="2589120"/>
              <a:ext cx="16812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796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462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38960" y="5062680"/>
              <a:ext cx="16956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887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571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56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28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30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680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36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41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47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16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49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87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3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2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0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3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365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33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51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0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74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434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1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14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85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576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92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25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97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686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03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395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07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799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148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508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23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0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29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18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334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02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40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731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45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175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84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7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41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78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131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418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4528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5197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57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90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07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79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5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92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29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6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8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6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56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281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19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63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0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766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14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903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623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03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41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12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77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2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63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38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14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51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890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603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29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625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0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04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80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132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19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37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753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3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768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15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516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5546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874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72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512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14"/>
                  </a:moveTo>
                  <a:lnTo>
                    <a:pt x="7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925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021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79880" y="191124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229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496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59440" y="1911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69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4500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89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99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78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19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2948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086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992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763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22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83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3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072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13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37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56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99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069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8648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277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14"/>
                  </a:move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452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244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656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75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44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572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05320" y="56959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848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26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4396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6440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45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660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88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357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5940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13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928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34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51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438840" y="3197160"/>
            <a:ext cx="2130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a PT por proces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a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 e tamanho da 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7800" y="1312560"/>
            <a:ext cx="8042760" cy="430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age fault (bit válido= 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operacional executa a carga da pág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inimizar page faults, política de substituição mais usada: LRU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(p/ end 32 bits, pag de 4KB, 4B / linha da P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linhas: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= 4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PT por programa ativo 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reduzir área dedicada para PT: registradores de limite superior e inferi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também são pagin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: translation lookaside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205240" y="3830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57200" y="1066680"/>
            <a:ext cx="6683040" cy="5406120"/>
            <a:chOff x="457200" y="1066680"/>
            <a:chExt cx="6683040" cy="5406120"/>
          </a:xfrm>
        </p:grpSpPr>
        <p:grpSp>
          <p:nvGrpSpPr>
            <p:cNvPr id="1021" name=""/>
            <p:cNvGrpSpPr/>
            <p:nvPr/>
          </p:nvGrpSpPr>
          <p:grpSpPr>
            <a:xfrm>
              <a:off x="457200" y="1066680"/>
              <a:ext cx="4955400" cy="5406120"/>
              <a:chOff x="457200" y="1066680"/>
              <a:chExt cx="4955400" cy="5406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59680" y="1964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59680" y="2384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59680" y="2801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34640" y="1964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34640" y="2384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934640" y="2801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  <a:lnTo>
                      <a:pt x="53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lnTo>
                      <a:pt x="531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39320" y="3751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696320" y="3573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9100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6624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9756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92888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59680" y="3751920"/>
                <a:ext cx="174960" cy="205560"/>
              </a:xfrm>
              <a:custGeom>
                <a:avLst/>
                <a:gdLst/>
                <a:ahLst/>
                <a:rect l="l" t="t" r="r" b="b"/>
                <a:pathLst>
                  <a:path w="80" h="94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80" y="94"/>
                    </a:lnTo>
                    <a:lnTo>
                      <a:pt x="8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805400" y="397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805400" y="418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05400" y="439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05400" y="4606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805400" y="4816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05400" y="5025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0540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05400" y="544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5400" y="565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05400" y="586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05400" y="60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05400" y="628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61720" y="3216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31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23020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72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38716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42352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62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5419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617920" y="3216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651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474640" y="4029480"/>
                <a:ext cx="72360" cy="702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74640" y="423720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474640" y="4447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474640" y="465696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74640" y="4866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74640" y="5076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74640" y="5284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74640" y="5493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474640" y="5703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1"/>
                    </a:moveTo>
                    <a:lnTo>
                      <a:pt x="20" y="32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474640" y="5913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474640" y="6121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474640" y="6330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759680" y="1756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59680" y="21747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59680" y="2593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240720" y="1195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336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41460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48444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55140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8488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51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3104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760920" y="1195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0196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87648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957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3164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113720" y="1195200"/>
                <a:ext cx="3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41316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4927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568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647880" y="1363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694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77064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4048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82320" y="1547280"/>
                <a:ext cx="1164600" cy="209520"/>
              </a:xfrm>
              <a:custGeom>
                <a:avLst/>
                <a:gdLst/>
                <a:ahLst/>
                <a:rect l="l" t="t" r="r" b="b"/>
                <a:pathLst>
                  <a:path w="533" h="96">
                    <a:moveTo>
                      <a:pt x="533" y="94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3" y="96"/>
                    </a:lnTo>
                    <a:lnTo>
                      <a:pt x="53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690920" y="132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78380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5976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89252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9209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59680" y="1547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440" y="1066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4800" y="1066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6160" y="1066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05400" y="177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805400" y="198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05400" y="2196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805400" y="240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805400" y="261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05400" y="282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34640" y="1756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934640" y="217476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934640" y="2593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382840" y="13266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4663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54664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34640" y="1547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7200" y="1542600"/>
                <a:ext cx="1206360" cy="209880"/>
              </a:xfrm>
              <a:custGeom>
                <a:avLst/>
                <a:gdLst/>
                <a:ahLst/>
                <a:rect l="l" t="t" r="r" b="b"/>
                <a:pathLst>
                  <a:path w="552" h="96">
                    <a:moveTo>
                      <a:pt x="550" y="96"/>
                    </a:moveTo>
                    <a:lnTo>
                      <a:pt x="552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52" y="96"/>
                    </a:lnTo>
                    <a:lnTo>
                      <a:pt x="552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3800" y="1145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9524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28360" y="1145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7444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910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91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6596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10088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1386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1176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29240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36692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449360" y="1145160"/>
                <a:ext cx="36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370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9100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992520" y="13089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044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1844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61080" y="1308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147680" y="1752840"/>
                <a:ext cx="548640" cy="3356280"/>
              </a:xfrm>
              <a:custGeom>
                <a:avLst/>
                <a:gdLst/>
                <a:ahLst/>
                <a:rect l="l" t="t" r="r" b="b"/>
                <a:pathLst>
                  <a:path w="251" h="1536">
                    <a:moveTo>
                      <a:pt x="0" y="0"/>
                    </a:moveTo>
                    <a:lnTo>
                      <a:pt x="0" y="1536"/>
                    </a:lnTo>
                    <a:lnTo>
                      <a:pt x="251" y="15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340240" y="2297160"/>
                <a:ext cx="72360" cy="7812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17"/>
                    </a:moveTo>
                    <a:lnTo>
                      <a:pt x="27" y="36"/>
                    </a:lnTo>
                    <a:lnTo>
                      <a:pt x="3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344560" y="2508480"/>
                <a:ext cx="67680" cy="766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0" y="18"/>
                    </a:moveTo>
                    <a:lnTo>
                      <a:pt x="27" y="35"/>
                    </a:lnTo>
                    <a:lnTo>
                      <a:pt x="31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31960" y="270108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16" y="31"/>
                    </a:lnTo>
                    <a:lnTo>
                      <a:pt x="37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31960" y="2914920"/>
                <a:ext cx="80640" cy="7200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0" y="4"/>
                    </a:moveTo>
                    <a:lnTo>
                      <a:pt x="20" y="33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335920" y="3129480"/>
                <a:ext cx="76680" cy="78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3"/>
                    </a:moveTo>
                    <a:lnTo>
                      <a:pt x="25" y="36"/>
                    </a:lnTo>
                    <a:lnTo>
                      <a:pt x="35" y="0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31960" y="333468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4"/>
                    </a:moveTo>
                    <a:lnTo>
                      <a:pt x="20" y="30"/>
                    </a:lnTo>
                    <a:lnTo>
                      <a:pt x="37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331960" y="3518640"/>
                <a:ext cx="80640" cy="673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8" y="31"/>
                    </a:lnTo>
                    <a:lnTo>
                      <a:pt x="3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331960" y="372816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8" y="30"/>
                    </a:lnTo>
                    <a:lnTo>
                      <a:pt x="37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331960" y="3957840"/>
                <a:ext cx="80640" cy="6336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0"/>
                    </a:moveTo>
                    <a:lnTo>
                      <a:pt x="16" y="29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01680" y="3407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9456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73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345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41344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44584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1352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9200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20080" y="3407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5860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7403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700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969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4480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12472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7116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0896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88520" y="3573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1984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8968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6168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768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71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52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2808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78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16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92500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77240" y="2242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50200" y="2274840"/>
              <a:ext cx="5443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77240" y="5077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523240" y="2338200"/>
              <a:ext cx="2861280" cy="34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531880" y="2543760"/>
              <a:ext cx="2861640" cy="38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523240" y="2727000"/>
              <a:ext cx="2845800" cy="13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2523240" y="2945520"/>
              <a:ext cx="2850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531880" y="3170520"/>
              <a:ext cx="2848320" cy="27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523240" y="3362760"/>
              <a:ext cx="2850480" cy="17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2523240" y="3546720"/>
              <a:ext cx="2841480" cy="72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512440" y="3756240"/>
              <a:ext cx="285696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523240" y="3983760"/>
              <a:ext cx="284148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84840" y="1756800"/>
              <a:ext cx="1164960" cy="20736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84840" y="1964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4840" y="238428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84840" y="2801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84840" y="217476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63400" y="4665960"/>
              <a:ext cx="2074680" cy="1402920"/>
            </a:xfrm>
            <a:custGeom>
              <a:avLst/>
              <a:gdLst/>
              <a:ahLst/>
              <a:rect l="l" t="t" r="r" b="b"/>
              <a:pathLst>
                <a:path w="949" h="642">
                  <a:moveTo>
                    <a:pt x="949" y="80"/>
                  </a:moveTo>
                  <a:lnTo>
                    <a:pt x="943" y="67"/>
                  </a:lnTo>
                  <a:lnTo>
                    <a:pt x="926" y="55"/>
                  </a:lnTo>
                  <a:lnTo>
                    <a:pt x="897" y="44"/>
                  </a:lnTo>
                  <a:lnTo>
                    <a:pt x="858" y="32"/>
                  </a:lnTo>
                  <a:lnTo>
                    <a:pt x="811" y="23"/>
                  </a:lnTo>
                  <a:lnTo>
                    <a:pt x="755" y="15"/>
                  </a:lnTo>
                  <a:lnTo>
                    <a:pt x="694" y="7"/>
                  </a:lnTo>
                  <a:lnTo>
                    <a:pt x="625" y="4"/>
                  </a:lnTo>
                  <a:lnTo>
                    <a:pt x="552" y="0"/>
                  </a:lnTo>
                  <a:lnTo>
                    <a:pt x="475" y="0"/>
                  </a:lnTo>
                  <a:lnTo>
                    <a:pt x="398" y="0"/>
                  </a:lnTo>
                  <a:lnTo>
                    <a:pt x="326" y="4"/>
                  </a:lnTo>
                  <a:lnTo>
                    <a:pt x="257" y="7"/>
                  </a:lnTo>
                  <a:lnTo>
                    <a:pt x="195" y="15"/>
                  </a:lnTo>
                  <a:lnTo>
                    <a:pt x="140" y="23"/>
                  </a:lnTo>
                  <a:lnTo>
                    <a:pt x="92" y="32"/>
                  </a:lnTo>
                  <a:lnTo>
                    <a:pt x="53" y="44"/>
                  </a:lnTo>
                  <a:lnTo>
                    <a:pt x="25" y="55"/>
                  </a:lnTo>
                  <a:lnTo>
                    <a:pt x="7" y="67"/>
                  </a:lnTo>
                  <a:lnTo>
                    <a:pt x="0" y="80"/>
                  </a:lnTo>
                  <a:lnTo>
                    <a:pt x="0" y="559"/>
                  </a:lnTo>
                  <a:lnTo>
                    <a:pt x="7" y="573"/>
                  </a:lnTo>
                  <a:lnTo>
                    <a:pt x="25" y="586"/>
                  </a:lnTo>
                  <a:lnTo>
                    <a:pt x="53" y="597"/>
                  </a:lnTo>
                  <a:lnTo>
                    <a:pt x="92" y="609"/>
                  </a:lnTo>
                  <a:lnTo>
                    <a:pt x="140" y="619"/>
                  </a:lnTo>
                  <a:lnTo>
                    <a:pt x="195" y="626"/>
                  </a:lnTo>
                  <a:lnTo>
                    <a:pt x="257" y="632"/>
                  </a:lnTo>
                  <a:lnTo>
                    <a:pt x="326" y="638"/>
                  </a:lnTo>
                  <a:lnTo>
                    <a:pt x="398" y="640"/>
                  </a:lnTo>
                  <a:lnTo>
                    <a:pt x="475" y="642"/>
                  </a:lnTo>
                  <a:lnTo>
                    <a:pt x="552" y="640"/>
                  </a:lnTo>
                  <a:lnTo>
                    <a:pt x="625" y="638"/>
                  </a:lnTo>
                  <a:lnTo>
                    <a:pt x="694" y="632"/>
                  </a:lnTo>
                  <a:lnTo>
                    <a:pt x="755" y="626"/>
                  </a:lnTo>
                  <a:lnTo>
                    <a:pt x="811" y="619"/>
                  </a:lnTo>
                  <a:lnTo>
                    <a:pt x="858" y="609"/>
                  </a:lnTo>
                  <a:lnTo>
                    <a:pt x="897" y="597"/>
                  </a:lnTo>
                  <a:lnTo>
                    <a:pt x="926" y="586"/>
                  </a:lnTo>
                  <a:lnTo>
                    <a:pt x="943" y="573"/>
                  </a:lnTo>
                  <a:lnTo>
                    <a:pt x="949" y="559"/>
                  </a:lnTo>
                  <a:lnTo>
                    <a:pt x="949" y="80"/>
                  </a:lnTo>
                  <a:lnTo>
                    <a:pt x="949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32000" y="2041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2668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0012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32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4268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7364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24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2052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52560" y="204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9036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5070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8512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9924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81320" y="204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274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24120" y="22748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24120" y="2485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24120" y="2694600"/>
              <a:ext cx="1716120" cy="203040"/>
            </a:xfrm>
            <a:custGeom>
              <a:avLst/>
              <a:gdLst/>
              <a:ahLst/>
              <a:rect l="l" t="t" r="r" b="b"/>
              <a:pathLst>
                <a:path w="785" h="93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785" y="93"/>
                  </a:lnTo>
                  <a:lnTo>
                    <a:pt x="785" y="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24120" y="28976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424120" y="3107880"/>
              <a:ext cx="1716120" cy="20484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24120" y="3313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24120" y="3522600"/>
              <a:ext cx="1716120" cy="20556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24120" y="372852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24120" y="3938040"/>
              <a:ext cx="1716120" cy="207360"/>
            </a:xfrm>
            <a:custGeom>
              <a:avLst/>
              <a:gdLst/>
              <a:ahLst/>
              <a:rect l="l" t="t" r="r" b="b"/>
              <a:pathLst>
                <a:path w="785" h="95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85" y="95"/>
                  </a:lnTo>
                  <a:lnTo>
                    <a:pt x="78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  <a:lnTo>
                    <a:pt x="847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63400" y="4840560"/>
              <a:ext cx="2074680" cy="181080"/>
            </a:xfrm>
            <a:custGeom>
              <a:avLst/>
              <a:gdLst/>
              <a:ahLst/>
              <a:rect l="l" t="t" r="r" b="b"/>
              <a:pathLst>
                <a:path w="949" h="83">
                  <a:moveTo>
                    <a:pt x="0" y="0"/>
                  </a:moveTo>
                  <a:lnTo>
                    <a:pt x="7" y="14"/>
                  </a:lnTo>
                  <a:lnTo>
                    <a:pt x="25" y="27"/>
                  </a:lnTo>
                  <a:lnTo>
                    <a:pt x="53" y="39"/>
                  </a:lnTo>
                  <a:lnTo>
                    <a:pt x="92" y="50"/>
                  </a:lnTo>
                  <a:lnTo>
                    <a:pt x="140" y="60"/>
                  </a:lnTo>
                  <a:lnTo>
                    <a:pt x="195" y="67"/>
                  </a:lnTo>
                  <a:lnTo>
                    <a:pt x="257" y="75"/>
                  </a:lnTo>
                  <a:lnTo>
                    <a:pt x="326" y="79"/>
                  </a:lnTo>
                  <a:lnTo>
                    <a:pt x="398" y="83"/>
                  </a:lnTo>
                  <a:lnTo>
                    <a:pt x="475" y="83"/>
                  </a:lnTo>
                  <a:lnTo>
                    <a:pt x="552" y="83"/>
                  </a:lnTo>
                  <a:lnTo>
                    <a:pt x="625" y="79"/>
                  </a:lnTo>
                  <a:lnTo>
                    <a:pt x="694" y="75"/>
                  </a:lnTo>
                  <a:lnTo>
                    <a:pt x="755" y="67"/>
                  </a:lnTo>
                  <a:lnTo>
                    <a:pt x="811" y="60"/>
                  </a:lnTo>
                  <a:lnTo>
                    <a:pt x="858" y="50"/>
                  </a:lnTo>
                  <a:lnTo>
                    <a:pt x="897" y="39"/>
                  </a:lnTo>
                  <a:lnTo>
                    <a:pt x="926" y="27"/>
                  </a:lnTo>
                  <a:lnTo>
                    <a:pt x="943" y="14"/>
                  </a:lnTo>
                  <a:lnTo>
                    <a:pt x="94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81520" y="443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82320" y="443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1328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8312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55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9220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63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0128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78320" y="4436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2836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02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83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28920" y="5059080"/>
              <a:ext cx="72360" cy="70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4" y="0"/>
                  </a:moveTo>
                  <a:lnTo>
                    <a:pt x="0" y="32"/>
                  </a:lnTo>
                  <a:lnTo>
                    <a:pt x="33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27120" y="5649480"/>
              <a:ext cx="74160" cy="67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0"/>
                  </a:moveTo>
                  <a:lnTo>
                    <a:pt x="7" y="31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27120" y="5352120"/>
              <a:ext cx="74160" cy="72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" y="33"/>
                  </a:lnTo>
                  <a:lnTo>
                    <a:pt x="34" y="1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2440" y="4899960"/>
              <a:ext cx="26888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523240" y="5677200"/>
              <a:ext cx="26362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512440" y="5384520"/>
              <a:ext cx="2688840" cy="14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6248520" y="0"/>
            <a:ext cx="272088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TLB size: 32 - 4,096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Block size: 1 - 2 page ta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it time: 0.5 - 1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penalty: 10 - 30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rate: 0.01% -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direto ou fully associ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ac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108240" y="29480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84320" y="3174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837080" y="152280"/>
            <a:ext cx="6848640" cy="6425640"/>
            <a:chOff x="1837080" y="152280"/>
            <a:chExt cx="6848640" cy="6425640"/>
          </a:xfrm>
        </p:grpSpPr>
        <p:grpSp>
          <p:nvGrpSpPr>
            <p:cNvPr id="1326" name=""/>
            <p:cNvGrpSpPr/>
            <p:nvPr/>
          </p:nvGrpSpPr>
          <p:grpSpPr>
            <a:xfrm>
              <a:off x="1837080" y="152280"/>
              <a:ext cx="6848640" cy="6425640"/>
              <a:chOff x="1837080" y="152280"/>
              <a:chExt cx="6848640" cy="6425640"/>
            </a:xfrm>
          </p:grpSpPr>
          <p:sp>
            <p:nvSpPr>
              <p:cNvPr id="1327" name=""/>
              <p:cNvSpPr/>
              <p:nvPr/>
            </p:nvSpPr>
            <p:spPr>
              <a:xfrm>
                <a:off x="2803320" y="4716000"/>
                <a:ext cx="5879160" cy="1232640"/>
              </a:xfrm>
              <a:custGeom>
                <a:avLst/>
                <a:gdLst/>
                <a:ahLst/>
                <a:rect l="l" t="t" r="r" b="b"/>
                <a:pathLst>
                  <a:path w="2972" h="623">
                    <a:moveTo>
                      <a:pt x="2972" y="623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623"/>
                    </a:lnTo>
                    <a:lnTo>
                      <a:pt x="2972" y="623"/>
                    </a:lnTo>
                    <a:lnTo>
                      <a:pt x="2972" y="62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36720" y="453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81988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9404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91960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94624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823920" y="45295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0060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188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683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741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8475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881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  <a:lnTo>
                      <a:pt x="2970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802960" y="489204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802960" y="506592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802960" y="524016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862720" y="5586480"/>
                <a:ext cx="58197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802960" y="5760720"/>
                <a:ext cx="58791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947680" y="4723560"/>
                <a:ext cx="1440" cy="12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10040" y="4719600"/>
                <a:ext cx="2160" cy="122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52000" y="601200"/>
                <a:ext cx="144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270240" y="601200"/>
                <a:ext cx="3900600" cy="231480"/>
              </a:xfrm>
              <a:custGeom>
                <a:avLst/>
                <a:gdLst/>
                <a:ahLst/>
                <a:rect l="l" t="t" r="r" b="b"/>
                <a:pathLst>
                  <a:path w="1972" h="117">
                    <a:moveTo>
                      <a:pt x="0" y="117"/>
                    </a:moveTo>
                    <a:lnTo>
                      <a:pt x="0" y="0"/>
                    </a:lnTo>
                    <a:lnTo>
                      <a:pt x="1972" y="0"/>
                    </a:lnTo>
                    <a:lnTo>
                      <a:pt x="1972" y="117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99832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8040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51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20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291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328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399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350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68120" y="63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31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0168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62840" y="3217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14888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2198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882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609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9332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6676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5013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35160" y="3217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996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66980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15044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2354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26060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0236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35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089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802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5072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540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614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68216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7552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2184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59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294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02920" y="638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02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1757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4412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16880" y="15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029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2884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7024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02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7572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2477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27616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309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3823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44860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52240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5641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63220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69664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8500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7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4268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0496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665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29640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61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2996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5696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929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5631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344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70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77448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10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817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951240" y="132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549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1251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198560" y="132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59236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6755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4860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7524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06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750040" y="150156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754000" y="1675800"/>
                <a:ext cx="5028120" cy="176040"/>
              </a:xfrm>
              <a:custGeom>
                <a:avLst/>
                <a:gdLst/>
                <a:ahLst/>
                <a:rect l="l" t="t" r="r" b="b"/>
                <a:pathLst>
                  <a:path w="2542" h="89">
                    <a:moveTo>
                      <a:pt x="2540" y="89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2" y="89"/>
                    </a:lnTo>
                    <a:lnTo>
                      <a:pt x="2542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  <a:lnTo>
                      <a:pt x="2540" y="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750040" y="202644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750040" y="2200320"/>
                <a:ext cx="5032080" cy="175680"/>
              </a:xfrm>
              <a:custGeom>
                <a:avLst/>
                <a:gdLst/>
                <a:ahLst/>
                <a:rect l="l" t="t" r="r" b="b"/>
                <a:pathLst>
                  <a:path w="2544" h="89">
                    <a:moveTo>
                      <a:pt x="2542" y="89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4" y="89"/>
                    </a:lnTo>
                    <a:lnTo>
                      <a:pt x="2544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754000" y="237636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04680" y="1501560"/>
                <a:ext cx="3960" cy="10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910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635160" y="94752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2344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9760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639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0323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5638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514560" y="267516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64560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71076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89440" y="60238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0"/>
                    </a:moveTo>
                    <a:lnTo>
                      <a:pt x="0" y="2"/>
                    </a:lnTo>
                    <a:lnTo>
                      <a:pt x="15" y="3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583880" y="384696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1996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8800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848640" y="383904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836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538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48680" y="546192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889440" y="54536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87440" y="5461920"/>
                <a:ext cx="57240" cy="59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4" y="29"/>
                    </a:moveTo>
                    <a:lnTo>
                      <a:pt x="17" y="30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745680" y="3488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3640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0984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9728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412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12880" y="3488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48880" y="348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744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4572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31376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38900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734200" y="5461920"/>
                <a:ext cx="60840" cy="590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0"/>
                    </a:moveTo>
                    <a:lnTo>
                      <a:pt x="2" y="30"/>
                    </a:lnTo>
                    <a:lnTo>
                      <a:pt x="31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664720" y="3710160"/>
                <a:ext cx="4262760" cy="1781280"/>
              </a:xfrm>
              <a:custGeom>
                <a:avLst/>
                <a:gdLst/>
                <a:ahLst/>
                <a:rect l="l" t="t" r="r" b="b"/>
                <a:pathLst>
                  <a:path w="2155" h="900">
                    <a:moveTo>
                      <a:pt x="2153" y="0"/>
                    </a:moveTo>
                    <a:lnTo>
                      <a:pt x="2155" y="328"/>
                    </a:lnTo>
                    <a:lnTo>
                      <a:pt x="0" y="328"/>
                    </a:lnTo>
                    <a:lnTo>
                      <a:pt x="0" y="900"/>
                    </a:lnTo>
                    <a:lnTo>
                      <a:pt x="39" y="90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56000" y="6350400"/>
                <a:ext cx="276480" cy="227520"/>
              </a:xfrm>
              <a:custGeom>
                <a:avLst/>
                <a:gdLst/>
                <a:ahLst/>
                <a:rect l="l" t="t" r="r" b="b"/>
                <a:pathLst>
                  <a:path w="140" h="115">
                    <a:moveTo>
                      <a:pt x="55" y="0"/>
                    </a:moveTo>
                    <a:lnTo>
                      <a:pt x="48" y="0"/>
                    </a:lnTo>
                    <a:lnTo>
                      <a:pt x="38" y="4"/>
                    </a:lnTo>
                    <a:lnTo>
                      <a:pt x="31" y="6"/>
                    </a:lnTo>
                    <a:lnTo>
                      <a:pt x="23" y="12"/>
                    </a:lnTo>
                    <a:lnTo>
                      <a:pt x="17" y="17"/>
                    </a:lnTo>
                    <a:lnTo>
                      <a:pt x="11" y="23"/>
                    </a:lnTo>
                    <a:lnTo>
                      <a:pt x="7" y="31"/>
                    </a:lnTo>
                    <a:lnTo>
                      <a:pt x="4" y="40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4" y="77"/>
                    </a:lnTo>
                    <a:lnTo>
                      <a:pt x="7" y="85"/>
                    </a:lnTo>
                    <a:lnTo>
                      <a:pt x="11" y="92"/>
                    </a:lnTo>
                    <a:lnTo>
                      <a:pt x="17" y="98"/>
                    </a:lnTo>
                    <a:lnTo>
                      <a:pt x="23" y="104"/>
                    </a:lnTo>
                    <a:lnTo>
                      <a:pt x="31" y="110"/>
                    </a:lnTo>
                    <a:lnTo>
                      <a:pt x="38" y="113"/>
                    </a:lnTo>
                    <a:lnTo>
                      <a:pt x="48" y="115"/>
                    </a:lnTo>
                    <a:lnTo>
                      <a:pt x="57" y="115"/>
                    </a:lnTo>
                    <a:lnTo>
                      <a:pt x="140" y="115"/>
                    </a:lnTo>
                    <a:lnTo>
                      <a:pt x="140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90080" y="6103080"/>
                <a:ext cx="261000" cy="262800"/>
              </a:xfrm>
              <a:custGeom>
                <a:avLst/>
                <a:gdLst/>
                <a:ahLst/>
                <a:rect l="l" t="t" r="r" b="b"/>
                <a:pathLst>
                  <a:path w="132" h="133">
                    <a:moveTo>
                      <a:pt x="65" y="131"/>
                    </a:moveTo>
                    <a:lnTo>
                      <a:pt x="77" y="131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4" y="119"/>
                    </a:lnTo>
                    <a:lnTo>
                      <a:pt x="111" y="112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7"/>
                    </a:lnTo>
                    <a:lnTo>
                      <a:pt x="131" y="77"/>
                    </a:lnTo>
                    <a:lnTo>
                      <a:pt x="132" y="66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1" y="19"/>
                    </a:lnTo>
                    <a:lnTo>
                      <a:pt x="104" y="12"/>
                    </a:lnTo>
                    <a:lnTo>
                      <a:pt x="96" y="6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6" y="35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0" y="77"/>
                    </a:lnTo>
                    <a:lnTo>
                      <a:pt x="2" y="87"/>
                    </a:lnTo>
                    <a:lnTo>
                      <a:pt x="6" y="96"/>
                    </a:lnTo>
                    <a:lnTo>
                      <a:pt x="11" y="104"/>
                    </a:lnTo>
                    <a:lnTo>
                      <a:pt x="19" y="112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4" y="131"/>
                    </a:lnTo>
                    <a:lnTo>
                      <a:pt x="65" y="133"/>
                    </a:lnTo>
                    <a:lnTo>
                      <a:pt x="65" y="1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915000" y="5479920"/>
                <a:ext cx="3960" cy="559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81160" y="6213960"/>
                <a:ext cx="75240" cy="370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32840" y="5487480"/>
                <a:ext cx="41400" cy="904680"/>
              </a:xfrm>
              <a:custGeom>
                <a:avLst/>
                <a:gdLst/>
                <a:ahLst/>
                <a:rect l="l" t="t" r="r" b="b"/>
                <a:pathLst>
                  <a:path w="21" h="457">
                    <a:moveTo>
                      <a:pt x="21" y="0"/>
                    </a:moveTo>
                    <a:lnTo>
                      <a:pt x="21" y="457"/>
                    </a:lnTo>
                    <a:lnTo>
                      <a:pt x="0" y="4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32840" y="6362280"/>
                <a:ext cx="1085760" cy="17784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547" y="0"/>
                    </a:moveTo>
                    <a:lnTo>
                      <a:pt x="549" y="90"/>
                    </a:lnTo>
                    <a:lnTo>
                      <a:pt x="0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721320" y="619416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0"/>
                    </a:moveTo>
                    <a:lnTo>
                      <a:pt x="0" y="29"/>
                    </a:lnTo>
                    <a:lnTo>
                      <a:pt x="29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544120" y="3710160"/>
                <a:ext cx="2120400" cy="2523240"/>
              </a:xfrm>
              <a:custGeom>
                <a:avLst/>
                <a:gdLst/>
                <a:ahLst/>
                <a:rect l="l" t="t" r="r" b="b"/>
                <a:pathLst>
                  <a:path w="1072" h="1275">
                    <a:moveTo>
                      <a:pt x="1070" y="0"/>
                    </a:moveTo>
                    <a:lnTo>
                      <a:pt x="1072" y="201"/>
                    </a:lnTo>
                    <a:lnTo>
                      <a:pt x="0" y="201"/>
                    </a:lnTo>
                    <a:lnTo>
                      <a:pt x="0" y="1275"/>
                    </a:lnTo>
                    <a:lnTo>
                      <a:pt x="609" y="127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15160" y="5491440"/>
                <a:ext cx="1440" cy="78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738120" y="6053400"/>
                <a:ext cx="1519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86880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94188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085120" y="5236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7476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247480" y="523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083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785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783120" y="626760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2"/>
                    </a:lnTo>
                    <a:lnTo>
                      <a:pt x="16" y="3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683400" y="6338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77412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847560" y="6338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88176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87880" y="6437520"/>
                <a:ext cx="61200" cy="572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29" y="27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2432880" y="6465240"/>
                <a:ext cx="122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837080" y="638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2744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99440" y="638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0610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3408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20068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2392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308320" y="638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3460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075160" y="370656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99920" y="3843000"/>
                <a:ext cx="1522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131320" y="3742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049240" y="40410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5796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15800" y="833040"/>
                <a:ext cx="1343520" cy="2275560"/>
              </a:xfrm>
              <a:custGeom>
                <a:avLst/>
                <a:gdLst/>
                <a:ahLst/>
                <a:rect l="l" t="t" r="r" b="b"/>
                <a:pathLst>
                  <a:path w="679" h="1150">
                    <a:moveTo>
                      <a:pt x="349" y="1150"/>
                    </a:moveTo>
                    <a:lnTo>
                      <a:pt x="351" y="1029"/>
                    </a:lnTo>
                    <a:lnTo>
                      <a:pt x="678" y="1029"/>
                    </a:lnTo>
                    <a:lnTo>
                      <a:pt x="679" y="140"/>
                    </a:lnTo>
                    <a:lnTo>
                      <a:pt x="0" y="14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8072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83520" y="1939320"/>
                <a:ext cx="1109520" cy="1169280"/>
              </a:xfrm>
              <a:custGeom>
                <a:avLst/>
                <a:gdLst/>
                <a:ahLst/>
                <a:rect l="l" t="t" r="r" b="b"/>
                <a:pathLst>
                  <a:path w="561" h="591">
                    <a:moveTo>
                      <a:pt x="0" y="591"/>
                    </a:moveTo>
                    <a:lnTo>
                      <a:pt x="2" y="489"/>
                    </a:lnTo>
                    <a:lnTo>
                      <a:pt x="561" y="489"/>
                    </a:lnTo>
                    <a:lnTo>
                      <a:pt x="55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276040" y="3443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358840" y="3443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425080" y="3443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45820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32000" y="344304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2378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30664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4228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379720" y="3567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4376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1112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97280" y="1321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9887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3018960" y="132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60720" y="132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93480" y="1321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81120" y="1333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35492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2800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82520" y="957240"/>
              <a:ext cx="15228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22520" y="1907280"/>
              <a:ext cx="55440" cy="61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9"/>
                  </a:moveTo>
                  <a:lnTo>
                    <a:pt x="28" y="0"/>
                  </a:lnTo>
                  <a:lnTo>
                    <a:pt x="0" y="16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638160" y="2432160"/>
              <a:ext cx="57240" cy="60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638160" y="2257920"/>
              <a:ext cx="57240" cy="572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7"/>
                  </a:moveTo>
                  <a:lnTo>
                    <a:pt x="29" y="0"/>
                  </a:lnTo>
                  <a:lnTo>
                    <a:pt x="0" y="1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38160" y="2083680"/>
              <a:ext cx="5724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38160" y="190332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638160" y="173340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38160" y="1563120"/>
              <a:ext cx="57240" cy="550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573640" y="1939320"/>
              <a:ext cx="25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99160" y="1862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747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6400" y="18622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2956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3655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36840" y="1862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6528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822200" y="3217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078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9795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443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0372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3468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944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6788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938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280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3992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4723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407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142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4732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168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88440" y="3217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946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612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35040" y="3217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73880" y="3488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58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30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95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95540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98744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472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11956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764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840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520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25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92440" y="3488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327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07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68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63220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66676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038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7711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283120" y="1564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60880" y="156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29640" y="1564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99720" y="829080"/>
              <a:ext cx="165960" cy="1634400"/>
            </a:xfrm>
            <a:custGeom>
              <a:avLst/>
              <a:gdLst/>
              <a:ahLst/>
              <a:rect l="l" t="t" r="r" b="b"/>
              <a:pathLst>
                <a:path w="84" h="826">
                  <a:moveTo>
                    <a:pt x="84" y="0"/>
                  </a:moveTo>
                  <a:lnTo>
                    <a:pt x="84" y="826"/>
                  </a:lnTo>
                  <a:lnTo>
                    <a:pt x="0" y="82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97760" y="1523880"/>
              <a:ext cx="132480" cy="1339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5" y="68"/>
                  </a:moveTo>
                  <a:lnTo>
                    <a:pt x="40" y="68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50"/>
                  </a:lnTo>
                  <a:lnTo>
                    <a:pt x="67" y="45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20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97760" y="1695600"/>
              <a:ext cx="132480" cy="1328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7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97760" y="186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6"/>
                  </a:moveTo>
                  <a:lnTo>
                    <a:pt x="40" y="67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8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0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497760" y="204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3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3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97760" y="222012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497760" y="239436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699360" y="228348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3699360" y="210960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3699360" y="1935360"/>
              <a:ext cx="1616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699360" y="176292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699360" y="158868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500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69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904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71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62480" y="3431520"/>
              <a:ext cx="207360" cy="271080"/>
            </a:xfrm>
            <a:custGeom>
              <a:avLst/>
              <a:gdLst/>
              <a:ahLst/>
              <a:rect l="l" t="t" r="r" b="b"/>
              <a:pathLst>
                <a:path w="105" h="137">
                  <a:moveTo>
                    <a:pt x="103" y="13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05" y="137"/>
                  </a:lnTo>
                  <a:lnTo>
                    <a:pt x="105" y="1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21520" y="3427560"/>
              <a:ext cx="1736640" cy="275040"/>
            </a:xfrm>
            <a:custGeom>
              <a:avLst/>
              <a:gdLst/>
              <a:ahLst/>
              <a:rect l="l" t="t" r="r" b="b"/>
              <a:pathLst>
                <a:path w="878" h="139">
                  <a:moveTo>
                    <a:pt x="878" y="139"/>
                  </a:moveTo>
                  <a:lnTo>
                    <a:pt x="87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878" y="139"/>
                  </a:lnTo>
                  <a:lnTo>
                    <a:pt x="878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69240" y="3427560"/>
              <a:ext cx="1951920" cy="275040"/>
            </a:xfrm>
            <a:custGeom>
              <a:avLst/>
              <a:gdLst/>
              <a:ahLst/>
              <a:rect l="l" t="t" r="r" b="b"/>
              <a:pathLst>
                <a:path w="987" h="139">
                  <a:moveTo>
                    <a:pt x="987" y="139"/>
                  </a:moveTo>
                  <a:lnTo>
                    <a:pt x="987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987" y="139"/>
                  </a:lnTo>
                  <a:lnTo>
                    <a:pt x="987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93400" y="3154320"/>
              <a:ext cx="1572480" cy="273240"/>
            </a:xfrm>
            <a:custGeom>
              <a:avLst/>
              <a:gdLst/>
              <a:ahLst/>
              <a:rect l="l" t="t" r="r" b="b"/>
              <a:pathLst>
                <a:path w="795" h="138">
                  <a:moveTo>
                    <a:pt x="795" y="137"/>
                  </a:moveTo>
                  <a:lnTo>
                    <a:pt x="79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795" y="138"/>
                  </a:lnTo>
                  <a:lnTo>
                    <a:pt x="79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69240" y="3154320"/>
              <a:ext cx="2323800" cy="273240"/>
            </a:xfrm>
            <a:custGeom>
              <a:avLst/>
              <a:gdLst/>
              <a:ahLst/>
              <a:rect l="l" t="t" r="r" b="b"/>
              <a:pathLst>
                <a:path w="1175" h="138">
                  <a:moveTo>
                    <a:pt x="1175" y="138"/>
                  </a:moveTo>
                  <a:lnTo>
                    <a:pt x="117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75" y="138"/>
                  </a:lnTo>
                  <a:lnTo>
                    <a:pt x="117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913000" y="3367800"/>
              <a:ext cx="1072080" cy="120600"/>
            </a:xfrm>
            <a:custGeom>
              <a:avLst/>
              <a:gdLst/>
              <a:ahLst/>
              <a:rect l="l" t="t" r="r" b="b"/>
              <a:pathLst>
                <a:path w="542" h="61">
                  <a:moveTo>
                    <a:pt x="542" y="61"/>
                  </a:moveTo>
                  <a:lnTo>
                    <a:pt x="542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42" y="61"/>
                  </a:lnTo>
                  <a:lnTo>
                    <a:pt x="54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92920" y="334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807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4772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128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7444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46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698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3680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65240" y="33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008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5710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423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11480" y="3348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532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2416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9040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10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3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524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85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57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5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6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2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8012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094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10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97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71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04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748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464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8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55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22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55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26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952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32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02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74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076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47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83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55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9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42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828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8979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934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077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40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128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51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2244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8448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332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04920" y="468360"/>
              <a:ext cx="2592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159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948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407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550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53456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37616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4353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2791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934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9024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51456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8648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76604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0764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4308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35560" y="243972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35560" y="22698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35560" y="20916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35560" y="191160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35560" y="1745280"/>
              <a:ext cx="57240" cy="370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3"/>
                  </a:moveTo>
                  <a:lnTo>
                    <a:pt x="29" y="13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35560" y="1573200"/>
              <a:ext cx="57240" cy="39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86920" y="1596960"/>
            <a:ext cx="1524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9800" y="4038480"/>
            <a:ext cx="149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reto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 caso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mi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LB, PT, cac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 (DEC 3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884160" y="1085760"/>
            <a:ext cx="7365960" cy="5326560"/>
            <a:chOff x="884160" y="1085760"/>
            <a:chExt cx="7365960" cy="5326560"/>
          </a:xfrm>
        </p:grpSpPr>
        <p:grpSp>
          <p:nvGrpSpPr>
            <p:cNvPr id="1696" name=""/>
            <p:cNvGrpSpPr/>
            <p:nvPr/>
          </p:nvGrpSpPr>
          <p:grpSpPr>
            <a:xfrm>
              <a:off x="884160" y="1673280"/>
              <a:ext cx="7365960" cy="4739040"/>
              <a:chOff x="884160" y="1673280"/>
              <a:chExt cx="7365960" cy="4739040"/>
            </a:xfrm>
          </p:grpSpPr>
          <p:sp>
            <p:nvSpPr>
              <p:cNvPr id="1697" name=""/>
              <p:cNvSpPr/>
              <p:nvPr/>
            </p:nvSpPr>
            <p:spPr>
              <a:xfrm>
                <a:off x="5002200" y="4695840"/>
                <a:ext cx="2340000" cy="333360"/>
              </a:xfrm>
              <a:custGeom>
                <a:avLst/>
                <a:gdLst/>
                <a:ahLst/>
                <a:rect l="l" t="t" r="r" b="b"/>
                <a:pathLst>
                  <a:path w="1474" h="210">
                    <a:moveTo>
                      <a:pt x="1474" y="210"/>
                    </a:moveTo>
                    <a:lnTo>
                      <a:pt x="14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01480" y="283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5080" y="283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276440" y="2836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168640" y="30067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2" y="43"/>
                    </a:moveTo>
                    <a:lnTo>
                      <a:pt x="45" y="0"/>
                    </a:lnTo>
                    <a:lnTo>
                      <a:pt x="0" y="2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222640" y="3040200"/>
                <a:ext cx="2498760" cy="336240"/>
              </a:xfrm>
              <a:custGeom>
                <a:avLst/>
                <a:gdLst/>
                <a:ahLst/>
                <a:rect l="l" t="t" r="r" b="b"/>
                <a:pathLst>
                  <a:path w="1574" h="212">
                    <a:moveTo>
                      <a:pt x="1574" y="212"/>
                    </a:moveTo>
                    <a:lnTo>
                      <a:pt x="15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362480" y="596124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43" y="0"/>
                    </a:moveTo>
                    <a:lnTo>
                      <a:pt x="0" y="0"/>
                    </a:lnTo>
                    <a:lnTo>
                      <a:pt x="22" y="4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2000" y="5641920"/>
                <a:ext cx="2165400" cy="336600"/>
              </a:xfrm>
              <a:custGeom>
                <a:avLst/>
                <a:gdLst/>
                <a:ahLst/>
                <a:rect l="l" t="t" r="r" b="b"/>
                <a:pathLst>
                  <a:path w="1364" h="212">
                    <a:moveTo>
                      <a:pt x="1364" y="212"/>
                    </a:moveTo>
                    <a:lnTo>
                      <a:pt x="136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08480" y="41940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3"/>
                    </a:lnTo>
                    <a:lnTo>
                      <a:pt x="24" y="46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961240" y="419400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3"/>
                    </a:lnTo>
                    <a:lnTo>
                      <a:pt x="21" y="46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446640" y="3878280"/>
                <a:ext cx="2547720" cy="33336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  <a:lnTo>
                      <a:pt x="1141" y="55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86480" y="335916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0"/>
                    </a:lnTo>
                    <a:lnTo>
                      <a:pt x="22" y="46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08480" y="252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0" y="0"/>
                    </a:lnTo>
                    <a:lnTo>
                      <a:pt x="24" y="45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3441600" y="2206800"/>
                <a:ext cx="5040" cy="334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017600" y="6059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11876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19544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3036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60600" y="605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331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10000" y="605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5572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49820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574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5588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6951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72160" y="605952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05576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9320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16988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21272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25052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2828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40964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4780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48960" y="6229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4292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22680" y="45054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0"/>
                    </a:moveTo>
                    <a:lnTo>
                      <a:pt x="2" y="45"/>
                    </a:lnTo>
                    <a:lnTo>
                      <a:pt x="45" y="2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523880" y="4543560"/>
                <a:ext cx="1219320" cy="833400"/>
              </a:xfrm>
              <a:custGeom>
                <a:avLst/>
                <a:gdLst/>
                <a:ahLst/>
                <a:rect l="l" t="t" r="r" b="b"/>
                <a:pathLst>
                  <a:path w="768" h="525">
                    <a:moveTo>
                      <a:pt x="0" y="525"/>
                    </a:moveTo>
                    <a:lnTo>
                      <a:pt x="3" y="0"/>
                    </a:lnTo>
                    <a:lnTo>
                      <a:pt x="768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08480" y="5126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0"/>
                    </a:lnTo>
                    <a:lnTo>
                      <a:pt x="24" y="46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41600" y="4807080"/>
                <a:ext cx="5040" cy="3571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176560" y="5607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3" y="43"/>
                    </a:moveTo>
                    <a:lnTo>
                      <a:pt x="46" y="0"/>
                    </a:lnTo>
                    <a:lnTo>
                      <a:pt x="0" y="2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519800" y="37940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656240" y="3794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703400" y="3794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733640" y="3794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71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52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5960" y="43736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04164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87360" y="4373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16044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1986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236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317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35772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02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483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60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41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806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7569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83832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8757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57480" y="4373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09672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39920" y="454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18528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62320" y="454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38256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42072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916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56976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41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722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659640" y="521640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796080" y="5216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84324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8720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91416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926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030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11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18776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2302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3069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4508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796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4563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4984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5751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61472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68600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76736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835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16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927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035920" y="52164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6128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88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769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8461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9274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9652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466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0862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12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2046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28136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3195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3620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4383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5196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5592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97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678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75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83540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873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54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323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70840" y="5381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5577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95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676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528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7906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8713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4980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9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689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06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187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637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3450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3846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4224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5031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58484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62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698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779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858080" y="555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0344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8480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05788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126280" y="55515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73704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651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4648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84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9656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052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43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124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200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238520" y="5718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34220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8792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228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460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4200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794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65576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7371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776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8145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89624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1436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1552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29220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6456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408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5222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5600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64140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6716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7090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0764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1060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59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732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60520" y="5556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57428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6092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776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74924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8884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6012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7920" y="55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97928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00952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191040" y="2955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7564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7000" y="2955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5096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4884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69760" y="2955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0000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378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87720" y="1852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7268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53680" y="185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7640" y="18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8544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6680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484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60756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889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7573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08480" y="1592280"/>
              <a:ext cx="7128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3441600" y="1273320"/>
              <a:ext cx="5040" cy="33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977560" y="1085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152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032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4784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899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6628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4764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7788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15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496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7264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65436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011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825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509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98680" y="2874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83640" y="287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64640" y="2874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58600" y="287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797120" y="2874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15920" y="2874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4580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1888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90880" y="2874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8500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663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6347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0748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834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64800" y="304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02960" y="304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3752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0138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307280" y="50324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14320" y="283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6920" y="283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01480" y="543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19508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276440" y="543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614320" y="543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71692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376240" y="3670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46984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51200" y="367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89080" y="367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9168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594400" y="45640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30840" y="456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776560" y="456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0680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8442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2596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648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04656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146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18552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640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3528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08720" y="45640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7620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857560" y="4735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8780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3064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6808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045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26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635960" y="48974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709680" y="4525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807960" y="452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84640" y="45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64040" y="50148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997520" y="4695840"/>
              <a:ext cx="4680" cy="3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128920" y="4535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31520" y="45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98920" y="5110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63068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68108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71132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491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30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697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5144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9680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073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1236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94080" y="511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6536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0352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3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14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92880" y="51102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9512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77180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84452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91580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9917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073480" y="528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113080" y="5280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41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22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784040" y="3100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8776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590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0274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10012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2892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012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7796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1288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5104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88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69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4580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627520" y="3100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67432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5604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82408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6075360" y="1139760"/>
            <a:ext cx="2911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sta máquina não há write h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throu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ha de uma palav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buff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Mario Côrtes</cp:lastModifiedBy>
  <cp:lastPrinted>2001-05-26T17:39:16Z</cp:lastPrinted>
  <dcterms:modified xsi:type="dcterms:W3CDTF">2002-05-22T10:42:15Z</dcterms:modified>
  <cp:revision>71</cp:revision>
  <dc:subject/>
  <dc:title>Chapter Seven</dc:title>
</cp:coreProperties>
</file>