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E3299EA0-9109-4304-AA1F-273ECBC8BD0B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12:34:26Z</dcterms:modified>
  <cp:revision>13</cp:revision>
  <dc:subject/>
  <dc:title>Chapter Six</dc:title>
</cp:coreProperties>
</file>