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25240" y="6477120"/>
            <a:ext cx="1658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6b-</a:t>
            </a:r>
            <a:fld id="{E5141A08-9353-4EB9-8630-E21F7C459CC7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i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57480" y="1209600"/>
            <a:ext cx="6644160" cy="4428360"/>
            <a:chOff x="1257480" y="1209600"/>
            <a:chExt cx="6644160" cy="4428360"/>
          </a:xfrm>
        </p:grpSpPr>
        <p:grpSp>
          <p:nvGrpSpPr>
            <p:cNvPr id="45" name=""/>
            <p:cNvGrpSpPr/>
            <p:nvPr/>
          </p:nvGrpSpPr>
          <p:grpSpPr>
            <a:xfrm>
              <a:off x="1320120" y="1217880"/>
              <a:ext cx="6581520" cy="4339080"/>
              <a:chOff x="1320120" y="1217880"/>
              <a:chExt cx="6581520" cy="4339080"/>
            </a:xfrm>
          </p:grpSpPr>
          <p:sp>
            <p:nvSpPr>
              <p:cNvPr id="46" name=""/>
              <p:cNvSpPr/>
              <p:nvPr/>
            </p:nvSpPr>
            <p:spPr>
              <a:xfrm flipV="1">
                <a:off x="7695360" y="3587400"/>
                <a:ext cx="1440" cy="8496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690000" y="3082320"/>
                <a:ext cx="1440" cy="11484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42720" y="1217880"/>
                <a:ext cx="4397400" cy="1888200"/>
              </a:xfrm>
              <a:custGeom>
                <a:avLst/>
                <a:gdLst/>
                <a:ahLst/>
                <a:rect l="l" t="t" r="r" b="b"/>
                <a:pathLst>
                  <a:path w="2657" h="1133">
                    <a:moveTo>
                      <a:pt x="0" y="142"/>
                    </a:moveTo>
                    <a:lnTo>
                      <a:pt x="0" y="0"/>
                    </a:lnTo>
                    <a:lnTo>
                      <a:pt x="2657" y="0"/>
                    </a:lnTo>
                    <a:lnTo>
                      <a:pt x="2657" y="1133"/>
                    </a:lnTo>
                    <a:lnTo>
                      <a:pt x="2588" y="113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69960" y="2922120"/>
                <a:ext cx="117360" cy="11844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0"/>
                    </a:moveTo>
                    <a:lnTo>
                      <a:pt x="2" y="71"/>
                    </a:lnTo>
                    <a:lnTo>
                      <a:pt x="71" y="71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955840" y="3169080"/>
                <a:ext cx="231480" cy="379800"/>
              </a:xfrm>
              <a:custGeom>
                <a:avLst/>
                <a:gdLst/>
                <a:ahLst/>
                <a:rect l="l" t="t" r="r" b="b"/>
                <a:pathLst>
                  <a:path w="140" h="228">
                    <a:moveTo>
                      <a:pt x="0" y="228"/>
                    </a:moveTo>
                    <a:lnTo>
                      <a:pt x="71" y="228"/>
                    </a:lnTo>
                    <a:lnTo>
                      <a:pt x="71" y="0"/>
                    </a:lnTo>
                    <a:lnTo>
                      <a:pt x="14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670800" y="4340520"/>
                <a:ext cx="3240" cy="17460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6670800" y="3325320"/>
                <a:ext cx="3240" cy="11484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4759200" y="5326920"/>
                <a:ext cx="1440" cy="8280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797360" y="3545640"/>
                <a:ext cx="3240" cy="8964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5023800" y="4849920"/>
                <a:ext cx="1800" cy="8676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460840" y="3560400"/>
                <a:ext cx="307800" cy="180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762160" y="3542400"/>
                <a:ext cx="37800" cy="41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66360" y="3887280"/>
                <a:ext cx="117360" cy="656280"/>
              </a:xfrm>
              <a:custGeom>
                <a:avLst/>
                <a:gdLst/>
                <a:ahLst/>
                <a:rect l="l" t="t" r="r" b="b"/>
                <a:pathLst>
                  <a:path w="71" h="394">
                    <a:moveTo>
                      <a:pt x="69" y="0"/>
                    </a:moveTo>
                    <a:lnTo>
                      <a:pt x="71" y="394"/>
                    </a:lnTo>
                    <a:lnTo>
                      <a:pt x="0" y="394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87320" y="3005640"/>
                <a:ext cx="238320" cy="201600"/>
              </a:xfrm>
              <a:custGeom>
                <a:avLst/>
                <a:gdLst/>
                <a:ahLst/>
                <a:rect l="l" t="t" r="r" b="b"/>
                <a:pathLst>
                  <a:path w="144" h="121">
                    <a:moveTo>
                      <a:pt x="85" y="119"/>
                    </a:moveTo>
                    <a:lnTo>
                      <a:pt x="96" y="119"/>
                    </a:lnTo>
                    <a:lnTo>
                      <a:pt x="104" y="117"/>
                    </a:lnTo>
                    <a:lnTo>
                      <a:pt x="113" y="113"/>
                    </a:lnTo>
                    <a:lnTo>
                      <a:pt x="121" y="107"/>
                    </a:lnTo>
                    <a:lnTo>
                      <a:pt x="127" y="102"/>
                    </a:lnTo>
                    <a:lnTo>
                      <a:pt x="132" y="96"/>
                    </a:lnTo>
                    <a:lnTo>
                      <a:pt x="138" y="88"/>
                    </a:lnTo>
                    <a:lnTo>
                      <a:pt x="142" y="79"/>
                    </a:lnTo>
                    <a:lnTo>
                      <a:pt x="144" y="69"/>
                    </a:lnTo>
                    <a:lnTo>
                      <a:pt x="144" y="60"/>
                    </a:lnTo>
                    <a:lnTo>
                      <a:pt x="144" y="50"/>
                    </a:lnTo>
                    <a:lnTo>
                      <a:pt x="142" y="40"/>
                    </a:lnTo>
                    <a:lnTo>
                      <a:pt x="138" y="33"/>
                    </a:lnTo>
                    <a:lnTo>
                      <a:pt x="132" y="25"/>
                    </a:lnTo>
                    <a:lnTo>
                      <a:pt x="127" y="17"/>
                    </a:lnTo>
                    <a:lnTo>
                      <a:pt x="121" y="12"/>
                    </a:lnTo>
                    <a:lnTo>
                      <a:pt x="113" y="6"/>
                    </a:lnTo>
                    <a:lnTo>
                      <a:pt x="104" y="2"/>
                    </a:lnTo>
                    <a:lnTo>
                      <a:pt x="96" y="0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0" y="121"/>
                    </a:lnTo>
                    <a:lnTo>
                      <a:pt x="86" y="121"/>
                    </a:lnTo>
                    <a:lnTo>
                      <a:pt x="86" y="121"/>
                    </a:lnTo>
                    <a:lnTo>
                      <a:pt x="85" y="1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187320" y="3005640"/>
                <a:ext cx="238320" cy="201600"/>
              </a:xfrm>
              <a:custGeom>
                <a:avLst/>
                <a:gdLst/>
                <a:ahLst/>
                <a:rect l="l" t="t" r="r" b="b"/>
                <a:pathLst>
                  <a:path w="144" h="121">
                    <a:moveTo>
                      <a:pt x="85" y="119"/>
                    </a:moveTo>
                    <a:lnTo>
                      <a:pt x="96" y="119"/>
                    </a:lnTo>
                    <a:lnTo>
                      <a:pt x="104" y="117"/>
                    </a:lnTo>
                    <a:lnTo>
                      <a:pt x="113" y="113"/>
                    </a:lnTo>
                    <a:lnTo>
                      <a:pt x="121" y="107"/>
                    </a:lnTo>
                    <a:lnTo>
                      <a:pt x="127" y="102"/>
                    </a:lnTo>
                    <a:lnTo>
                      <a:pt x="132" y="96"/>
                    </a:lnTo>
                    <a:lnTo>
                      <a:pt x="138" y="88"/>
                    </a:lnTo>
                    <a:lnTo>
                      <a:pt x="142" y="79"/>
                    </a:lnTo>
                    <a:lnTo>
                      <a:pt x="144" y="69"/>
                    </a:lnTo>
                    <a:lnTo>
                      <a:pt x="144" y="60"/>
                    </a:lnTo>
                    <a:lnTo>
                      <a:pt x="144" y="50"/>
                    </a:lnTo>
                    <a:lnTo>
                      <a:pt x="142" y="40"/>
                    </a:lnTo>
                    <a:lnTo>
                      <a:pt x="138" y="33"/>
                    </a:lnTo>
                    <a:lnTo>
                      <a:pt x="132" y="25"/>
                    </a:lnTo>
                    <a:lnTo>
                      <a:pt x="127" y="17"/>
                    </a:lnTo>
                    <a:lnTo>
                      <a:pt x="121" y="12"/>
                    </a:lnTo>
                    <a:lnTo>
                      <a:pt x="113" y="6"/>
                    </a:lnTo>
                    <a:lnTo>
                      <a:pt x="104" y="2"/>
                    </a:lnTo>
                    <a:lnTo>
                      <a:pt x="96" y="0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0" y="121"/>
                    </a:lnTo>
                    <a:lnTo>
                      <a:pt x="86" y="121"/>
                    </a:lnTo>
                    <a:lnTo>
                      <a:pt x="86" y="121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626720" y="488880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626720" y="523368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18400" y="374364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flipV="1">
                <a:off x="3592440" y="4496760"/>
                <a:ext cx="56160" cy="9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361520" y="3152520"/>
                <a:ext cx="170280" cy="406440"/>
              </a:xfrm>
              <a:custGeom>
                <a:avLst/>
                <a:gdLst/>
                <a:ahLst/>
                <a:rect l="l" t="t" r="r" b="b"/>
                <a:pathLst>
                  <a:path w="103" h="244">
                    <a:moveTo>
                      <a:pt x="103" y="242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244"/>
                    </a:lnTo>
                    <a:lnTo>
                      <a:pt x="103" y="244"/>
                    </a:lnTo>
                    <a:lnTo>
                      <a:pt x="103" y="244"/>
                    </a:lnTo>
                    <a:lnTo>
                      <a:pt x="103" y="2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61520" y="3152520"/>
                <a:ext cx="170280" cy="406440"/>
              </a:xfrm>
              <a:custGeom>
                <a:avLst/>
                <a:gdLst/>
                <a:ahLst/>
                <a:rect l="l" t="t" r="r" b="b"/>
                <a:pathLst>
                  <a:path w="103" h="244">
                    <a:moveTo>
                      <a:pt x="103" y="242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244"/>
                    </a:lnTo>
                    <a:lnTo>
                      <a:pt x="103" y="244"/>
                    </a:lnTo>
                    <a:lnTo>
                      <a:pt x="103" y="2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87080" y="33192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34240" y="3319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713960" y="3197520"/>
                <a:ext cx="858600" cy="899640"/>
              </a:xfrm>
              <a:custGeom>
                <a:avLst/>
                <a:gdLst/>
                <a:ahLst/>
                <a:rect l="l" t="t" r="r" b="b"/>
                <a:pathLst>
                  <a:path w="519" h="540">
                    <a:moveTo>
                      <a:pt x="517" y="540"/>
                    </a:moveTo>
                    <a:lnTo>
                      <a:pt x="519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9" y="540"/>
                    </a:lnTo>
                    <a:lnTo>
                      <a:pt x="519" y="540"/>
                    </a:lnTo>
                    <a:lnTo>
                      <a:pt x="517" y="5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713960" y="3197520"/>
                <a:ext cx="858600" cy="899640"/>
              </a:xfrm>
              <a:custGeom>
                <a:avLst/>
                <a:gdLst/>
                <a:ahLst/>
                <a:rect l="l" t="t" r="r" b="b"/>
                <a:pathLst>
                  <a:path w="519" h="540">
                    <a:moveTo>
                      <a:pt x="517" y="540"/>
                    </a:moveTo>
                    <a:lnTo>
                      <a:pt x="519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9" y="540"/>
                    </a:lnTo>
                    <a:lnTo>
                      <a:pt x="519" y="5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56600" y="3562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0360" y="3562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021040" y="3562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059560" y="3562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082240" y="3562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08160" y="3562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146680" y="3562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185200" y="3562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206080" y="3562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223720" y="3562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65480" y="3562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06520" y="356220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08800" y="36504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71800" y="3650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11760" y="36504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77640" y="3650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217960" y="36504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43520" y="36504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757880" y="3322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09720" y="332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851120" y="332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891800" y="3322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15920" y="332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56600" y="332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994400" y="332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200000">
                <a:off x="2925000" y="3525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200000">
                <a:off x="2911320" y="3494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200000">
                <a:off x="2913480" y="34560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00000">
                <a:off x="2925000" y="3426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200000">
                <a:off x="2922840" y="34027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200000">
                <a:off x="2911320" y="3366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6200000">
                <a:off x="2913480" y="3327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6200000">
                <a:off x="2925000" y="3297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6200000">
                <a:off x="2927880" y="328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6200000">
                <a:off x="2911320" y="3246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6200000">
                <a:off x="2911320" y="320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245640" y="3440520"/>
                <a:ext cx="855000" cy="899640"/>
              </a:xfrm>
              <a:custGeom>
                <a:avLst/>
                <a:gdLst/>
                <a:ahLst/>
                <a:rect l="l" t="t" r="r" b="b"/>
                <a:pathLst>
                  <a:path w="517" h="540">
                    <a:moveTo>
                      <a:pt x="515" y="540"/>
                    </a:moveTo>
                    <a:lnTo>
                      <a:pt x="517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7" y="540"/>
                    </a:lnTo>
                    <a:lnTo>
                      <a:pt x="517" y="540"/>
                    </a:lnTo>
                    <a:lnTo>
                      <a:pt x="515" y="5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45640" y="3440520"/>
                <a:ext cx="855000" cy="899640"/>
              </a:xfrm>
              <a:custGeom>
                <a:avLst/>
                <a:gdLst/>
                <a:ahLst/>
                <a:rect l="l" t="t" r="r" b="b"/>
                <a:pathLst>
                  <a:path w="517" h="540">
                    <a:moveTo>
                      <a:pt x="515" y="540"/>
                    </a:moveTo>
                    <a:lnTo>
                      <a:pt x="517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7" y="540"/>
                    </a:lnTo>
                    <a:lnTo>
                      <a:pt x="517" y="5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18400" y="328392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218400" y="397404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99840" y="2310840"/>
                <a:ext cx="319320" cy="1049400"/>
              </a:xfrm>
              <a:custGeom>
                <a:avLst/>
                <a:gdLst/>
                <a:ahLst/>
                <a:rect l="l" t="t" r="r" b="b"/>
                <a:pathLst>
                  <a:path w="193" h="630">
                    <a:moveTo>
                      <a:pt x="193" y="0"/>
                    </a:moveTo>
                    <a:lnTo>
                      <a:pt x="0" y="2"/>
                    </a:lnTo>
                    <a:lnTo>
                      <a:pt x="0" y="63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83240" y="3685680"/>
                <a:ext cx="41040" cy="38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83240" y="403056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944600" y="385884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4872960" y="3877200"/>
                <a:ext cx="82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44600" y="339912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577640" y="3727080"/>
                <a:ext cx="41400" cy="38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577640" y="4071960"/>
                <a:ext cx="41400" cy="38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1000" y="41587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80160" y="4240800"/>
                <a:ext cx="286200" cy="609480"/>
              </a:xfrm>
              <a:custGeom>
                <a:avLst/>
                <a:gdLst/>
                <a:ahLst/>
                <a:rect l="l" t="t" r="r" b="b"/>
                <a:pathLst>
                  <a:path w="173" h="366">
                    <a:moveTo>
                      <a:pt x="87" y="366"/>
                    </a:moveTo>
                    <a:lnTo>
                      <a:pt x="102" y="364"/>
                    </a:lnTo>
                    <a:lnTo>
                      <a:pt x="115" y="357"/>
                    </a:lnTo>
                    <a:lnTo>
                      <a:pt x="127" y="345"/>
                    </a:lnTo>
                    <a:lnTo>
                      <a:pt x="138" y="332"/>
                    </a:lnTo>
                    <a:lnTo>
                      <a:pt x="148" y="313"/>
                    </a:lnTo>
                    <a:lnTo>
                      <a:pt x="157" y="292"/>
                    </a:lnTo>
                    <a:lnTo>
                      <a:pt x="163" y="267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2"/>
                    </a:lnTo>
                    <a:lnTo>
                      <a:pt x="173" y="154"/>
                    </a:lnTo>
                    <a:lnTo>
                      <a:pt x="169" y="125"/>
                    </a:lnTo>
                    <a:lnTo>
                      <a:pt x="163" y="98"/>
                    </a:lnTo>
                    <a:lnTo>
                      <a:pt x="157" y="75"/>
                    </a:lnTo>
                    <a:lnTo>
                      <a:pt x="148" y="54"/>
                    </a:lnTo>
                    <a:lnTo>
                      <a:pt x="138" y="35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2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7" y="35"/>
                    </a:lnTo>
                    <a:lnTo>
                      <a:pt x="27" y="54"/>
                    </a:lnTo>
                    <a:lnTo>
                      <a:pt x="17" y="75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4"/>
                    </a:lnTo>
                    <a:lnTo>
                      <a:pt x="0" y="182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7"/>
                    </a:lnTo>
                    <a:lnTo>
                      <a:pt x="17" y="292"/>
                    </a:lnTo>
                    <a:lnTo>
                      <a:pt x="27" y="313"/>
                    </a:lnTo>
                    <a:lnTo>
                      <a:pt x="37" y="332"/>
                    </a:lnTo>
                    <a:lnTo>
                      <a:pt x="48" y="345"/>
                    </a:lnTo>
                    <a:lnTo>
                      <a:pt x="60" y="357"/>
                    </a:lnTo>
                    <a:lnTo>
                      <a:pt x="73" y="364"/>
                    </a:lnTo>
                    <a:lnTo>
                      <a:pt x="87" y="366"/>
                    </a:lnTo>
                    <a:lnTo>
                      <a:pt x="87" y="3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80160" y="4240800"/>
                <a:ext cx="286200" cy="609480"/>
              </a:xfrm>
              <a:custGeom>
                <a:avLst/>
                <a:gdLst/>
                <a:ahLst/>
                <a:rect l="l" t="t" r="r" b="b"/>
                <a:pathLst>
                  <a:path w="173" h="366">
                    <a:moveTo>
                      <a:pt x="87" y="366"/>
                    </a:moveTo>
                    <a:lnTo>
                      <a:pt x="102" y="364"/>
                    </a:lnTo>
                    <a:lnTo>
                      <a:pt x="115" y="357"/>
                    </a:lnTo>
                    <a:lnTo>
                      <a:pt x="127" y="345"/>
                    </a:lnTo>
                    <a:lnTo>
                      <a:pt x="138" y="332"/>
                    </a:lnTo>
                    <a:lnTo>
                      <a:pt x="148" y="313"/>
                    </a:lnTo>
                    <a:lnTo>
                      <a:pt x="157" y="292"/>
                    </a:lnTo>
                    <a:lnTo>
                      <a:pt x="163" y="267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2"/>
                    </a:lnTo>
                    <a:lnTo>
                      <a:pt x="173" y="154"/>
                    </a:lnTo>
                    <a:lnTo>
                      <a:pt x="169" y="125"/>
                    </a:lnTo>
                    <a:lnTo>
                      <a:pt x="163" y="98"/>
                    </a:lnTo>
                    <a:lnTo>
                      <a:pt x="157" y="75"/>
                    </a:lnTo>
                    <a:lnTo>
                      <a:pt x="148" y="54"/>
                    </a:lnTo>
                    <a:lnTo>
                      <a:pt x="138" y="35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2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7" y="35"/>
                    </a:lnTo>
                    <a:lnTo>
                      <a:pt x="27" y="54"/>
                    </a:lnTo>
                    <a:lnTo>
                      <a:pt x="17" y="75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4"/>
                    </a:lnTo>
                    <a:lnTo>
                      <a:pt x="0" y="182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7"/>
                    </a:lnTo>
                    <a:lnTo>
                      <a:pt x="17" y="292"/>
                    </a:lnTo>
                    <a:lnTo>
                      <a:pt x="27" y="313"/>
                    </a:lnTo>
                    <a:lnTo>
                      <a:pt x="37" y="332"/>
                    </a:lnTo>
                    <a:lnTo>
                      <a:pt x="48" y="345"/>
                    </a:lnTo>
                    <a:lnTo>
                      <a:pt x="60" y="357"/>
                    </a:lnTo>
                    <a:lnTo>
                      <a:pt x="73" y="364"/>
                    </a:lnTo>
                    <a:lnTo>
                      <a:pt x="87" y="366"/>
                    </a:lnTo>
                    <a:lnTo>
                      <a:pt x="87" y="366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80240" y="4695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01480" y="469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43600" y="4695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0680" y="4695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99040" y="46951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327120" y="469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67800" y="4695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406320" y="4695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25760" y="46951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444480" y="469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86240" y="469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28000" y="469512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180240" y="4783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01480" y="47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244680" y="47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85720" y="47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41160" y="47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82200" y="47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22880" y="4783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42760" y="4543560"/>
                <a:ext cx="4089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17520" y="34923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80520" y="3492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21560" y="34923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84560" y="3492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04720" y="3492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46120" y="34923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03000" y="3492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44400" y="3492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29120" y="49636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72680" y="496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007600" y="4963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55480" y="4963680"/>
                <a:ext cx="7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09840" y="496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31440" y="2827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84360" y="2827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108120" y="2827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149520" y="2827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190200" y="2827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29080" y="2827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39680" y="54349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87560" y="5434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25720" y="5434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60280" y="54349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07440" y="54349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843080" y="5434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96200" y="3457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41200" y="3457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75760" y="34574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26160" y="3457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67920" y="3457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89160" y="3457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80040" y="33404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1"/>
                    </a:moveTo>
                    <a:lnTo>
                      <a:pt x="14" y="21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907640" y="2290680"/>
                <a:ext cx="37800" cy="41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95240" y="2747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4442400" y="2542680"/>
                <a:ext cx="384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5204160" y="2772720"/>
                <a:ext cx="574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58920" y="275400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30000" y="3357360"/>
                <a:ext cx="155520" cy="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672560" y="3337200"/>
                <a:ext cx="37800" cy="41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320120" y="333720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06560" y="4525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751200" y="4240800"/>
                <a:ext cx="284760" cy="609480"/>
              </a:xfrm>
              <a:custGeom>
                <a:avLst/>
                <a:gdLst/>
                <a:ahLst/>
                <a:rect l="l" t="t" r="r" b="b"/>
                <a:pathLst>
                  <a:path w="172" h="366">
                    <a:moveTo>
                      <a:pt x="86" y="366"/>
                    </a:moveTo>
                    <a:lnTo>
                      <a:pt x="99" y="364"/>
                    </a:lnTo>
                    <a:lnTo>
                      <a:pt x="113" y="357"/>
                    </a:lnTo>
                    <a:lnTo>
                      <a:pt x="126" y="345"/>
                    </a:lnTo>
                    <a:lnTo>
                      <a:pt x="138" y="332"/>
                    </a:lnTo>
                    <a:lnTo>
                      <a:pt x="147" y="313"/>
                    </a:lnTo>
                    <a:lnTo>
                      <a:pt x="155" y="292"/>
                    </a:lnTo>
                    <a:lnTo>
                      <a:pt x="163" y="267"/>
                    </a:lnTo>
                    <a:lnTo>
                      <a:pt x="168" y="242"/>
                    </a:lnTo>
                    <a:lnTo>
                      <a:pt x="172" y="213"/>
                    </a:lnTo>
                    <a:lnTo>
                      <a:pt x="172" y="182"/>
                    </a:lnTo>
                    <a:lnTo>
                      <a:pt x="172" y="154"/>
                    </a:lnTo>
                    <a:lnTo>
                      <a:pt x="168" y="125"/>
                    </a:lnTo>
                    <a:lnTo>
                      <a:pt x="163" y="98"/>
                    </a:lnTo>
                    <a:lnTo>
                      <a:pt x="155" y="75"/>
                    </a:lnTo>
                    <a:lnTo>
                      <a:pt x="147" y="54"/>
                    </a:lnTo>
                    <a:lnTo>
                      <a:pt x="138" y="35"/>
                    </a:lnTo>
                    <a:lnTo>
                      <a:pt x="126" y="20"/>
                    </a:lnTo>
                    <a:lnTo>
                      <a:pt x="113" y="8"/>
                    </a:lnTo>
                    <a:lnTo>
                      <a:pt x="99" y="2"/>
                    </a:lnTo>
                    <a:lnTo>
                      <a:pt x="86" y="0"/>
                    </a:lnTo>
                    <a:lnTo>
                      <a:pt x="73" y="2"/>
                    </a:lnTo>
                    <a:lnTo>
                      <a:pt x="59" y="8"/>
                    </a:lnTo>
                    <a:lnTo>
                      <a:pt x="46" y="20"/>
                    </a:lnTo>
                    <a:lnTo>
                      <a:pt x="36" y="35"/>
                    </a:lnTo>
                    <a:lnTo>
                      <a:pt x="25" y="54"/>
                    </a:lnTo>
                    <a:lnTo>
                      <a:pt x="17" y="75"/>
                    </a:lnTo>
                    <a:lnTo>
                      <a:pt x="9" y="98"/>
                    </a:lnTo>
                    <a:lnTo>
                      <a:pt x="4" y="125"/>
                    </a:lnTo>
                    <a:lnTo>
                      <a:pt x="2" y="154"/>
                    </a:lnTo>
                    <a:lnTo>
                      <a:pt x="0" y="182"/>
                    </a:lnTo>
                    <a:lnTo>
                      <a:pt x="2" y="213"/>
                    </a:lnTo>
                    <a:lnTo>
                      <a:pt x="4" y="242"/>
                    </a:lnTo>
                    <a:lnTo>
                      <a:pt x="9" y="267"/>
                    </a:lnTo>
                    <a:lnTo>
                      <a:pt x="17" y="292"/>
                    </a:lnTo>
                    <a:lnTo>
                      <a:pt x="25" y="313"/>
                    </a:lnTo>
                    <a:lnTo>
                      <a:pt x="36" y="332"/>
                    </a:lnTo>
                    <a:lnTo>
                      <a:pt x="46" y="345"/>
                    </a:lnTo>
                    <a:lnTo>
                      <a:pt x="59" y="357"/>
                    </a:lnTo>
                    <a:lnTo>
                      <a:pt x="73" y="364"/>
                    </a:lnTo>
                    <a:lnTo>
                      <a:pt x="86" y="366"/>
                    </a:lnTo>
                    <a:lnTo>
                      <a:pt x="86" y="3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51200" y="4240800"/>
                <a:ext cx="284760" cy="609480"/>
              </a:xfrm>
              <a:custGeom>
                <a:avLst/>
                <a:gdLst/>
                <a:ahLst/>
                <a:rect l="l" t="t" r="r" b="b"/>
                <a:pathLst>
                  <a:path w="172" h="366">
                    <a:moveTo>
                      <a:pt x="86" y="366"/>
                    </a:moveTo>
                    <a:lnTo>
                      <a:pt x="99" y="364"/>
                    </a:lnTo>
                    <a:lnTo>
                      <a:pt x="113" y="357"/>
                    </a:lnTo>
                    <a:lnTo>
                      <a:pt x="126" y="345"/>
                    </a:lnTo>
                    <a:lnTo>
                      <a:pt x="138" y="332"/>
                    </a:lnTo>
                    <a:lnTo>
                      <a:pt x="147" y="313"/>
                    </a:lnTo>
                    <a:lnTo>
                      <a:pt x="155" y="292"/>
                    </a:lnTo>
                    <a:lnTo>
                      <a:pt x="163" y="267"/>
                    </a:lnTo>
                    <a:lnTo>
                      <a:pt x="168" y="242"/>
                    </a:lnTo>
                    <a:lnTo>
                      <a:pt x="172" y="213"/>
                    </a:lnTo>
                    <a:lnTo>
                      <a:pt x="172" y="182"/>
                    </a:lnTo>
                    <a:lnTo>
                      <a:pt x="172" y="154"/>
                    </a:lnTo>
                    <a:lnTo>
                      <a:pt x="168" y="125"/>
                    </a:lnTo>
                    <a:lnTo>
                      <a:pt x="163" y="98"/>
                    </a:lnTo>
                    <a:lnTo>
                      <a:pt x="155" y="75"/>
                    </a:lnTo>
                    <a:lnTo>
                      <a:pt x="147" y="54"/>
                    </a:lnTo>
                    <a:lnTo>
                      <a:pt x="138" y="35"/>
                    </a:lnTo>
                    <a:lnTo>
                      <a:pt x="126" y="20"/>
                    </a:lnTo>
                    <a:lnTo>
                      <a:pt x="113" y="8"/>
                    </a:lnTo>
                    <a:lnTo>
                      <a:pt x="99" y="2"/>
                    </a:lnTo>
                    <a:lnTo>
                      <a:pt x="86" y="0"/>
                    </a:lnTo>
                    <a:lnTo>
                      <a:pt x="73" y="2"/>
                    </a:lnTo>
                    <a:lnTo>
                      <a:pt x="59" y="8"/>
                    </a:lnTo>
                    <a:lnTo>
                      <a:pt x="46" y="20"/>
                    </a:lnTo>
                    <a:lnTo>
                      <a:pt x="36" y="35"/>
                    </a:lnTo>
                    <a:lnTo>
                      <a:pt x="25" y="54"/>
                    </a:lnTo>
                    <a:lnTo>
                      <a:pt x="17" y="75"/>
                    </a:lnTo>
                    <a:lnTo>
                      <a:pt x="9" y="98"/>
                    </a:lnTo>
                    <a:lnTo>
                      <a:pt x="4" y="125"/>
                    </a:lnTo>
                    <a:lnTo>
                      <a:pt x="2" y="154"/>
                    </a:lnTo>
                    <a:lnTo>
                      <a:pt x="0" y="182"/>
                    </a:lnTo>
                    <a:lnTo>
                      <a:pt x="2" y="213"/>
                    </a:lnTo>
                    <a:lnTo>
                      <a:pt x="4" y="242"/>
                    </a:lnTo>
                    <a:lnTo>
                      <a:pt x="9" y="267"/>
                    </a:lnTo>
                    <a:lnTo>
                      <a:pt x="17" y="292"/>
                    </a:lnTo>
                    <a:lnTo>
                      <a:pt x="25" y="313"/>
                    </a:lnTo>
                    <a:lnTo>
                      <a:pt x="36" y="332"/>
                    </a:lnTo>
                    <a:lnTo>
                      <a:pt x="46" y="345"/>
                    </a:lnTo>
                    <a:lnTo>
                      <a:pt x="59" y="357"/>
                    </a:lnTo>
                    <a:lnTo>
                      <a:pt x="73" y="364"/>
                    </a:lnTo>
                    <a:lnTo>
                      <a:pt x="86" y="366"/>
                    </a:lnTo>
                    <a:lnTo>
                      <a:pt x="86" y="3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58960" y="4402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92080" y="4402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flipV="1">
                <a:off x="4093920" y="4496760"/>
                <a:ext cx="52560" cy="9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80600" y="44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15520" y="44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71240" y="4313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92120" y="4313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32440" y="4313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70600" y="4313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92200" y="4313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16320" y="4313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56640" y="4313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94800" y="4313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16400" y="4313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33680" y="4313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74720" y="4313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21160" y="431388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17124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19212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23316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27492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3396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7464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27240" y="252432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824000" y="2970720"/>
                <a:ext cx="37800" cy="41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22640" y="3675600"/>
                <a:ext cx="142200" cy="486000"/>
              </a:xfrm>
              <a:custGeom>
                <a:avLst/>
                <a:gdLst/>
                <a:ahLst/>
                <a:rect l="l" t="t" r="r" b="b"/>
                <a:pathLst>
                  <a:path w="86" h="292">
                    <a:moveTo>
                      <a:pt x="0" y="43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7" y="2"/>
                    </a:lnTo>
                    <a:lnTo>
                      <a:pt x="63" y="4"/>
                    </a:lnTo>
                    <a:lnTo>
                      <a:pt x="69" y="8"/>
                    </a:lnTo>
                    <a:lnTo>
                      <a:pt x="75" y="12"/>
                    </a:lnTo>
                    <a:lnTo>
                      <a:pt x="78" y="18"/>
                    </a:lnTo>
                    <a:lnTo>
                      <a:pt x="82" y="23"/>
                    </a:lnTo>
                    <a:lnTo>
                      <a:pt x="84" y="29"/>
                    </a:lnTo>
                    <a:lnTo>
                      <a:pt x="86" y="35"/>
                    </a:lnTo>
                    <a:lnTo>
                      <a:pt x="86" y="43"/>
                    </a:lnTo>
                    <a:lnTo>
                      <a:pt x="86" y="249"/>
                    </a:lnTo>
                    <a:lnTo>
                      <a:pt x="86" y="257"/>
                    </a:lnTo>
                    <a:lnTo>
                      <a:pt x="84" y="263"/>
                    </a:lnTo>
                    <a:lnTo>
                      <a:pt x="82" y="269"/>
                    </a:lnTo>
                    <a:lnTo>
                      <a:pt x="78" y="274"/>
                    </a:lnTo>
                    <a:lnTo>
                      <a:pt x="75" y="280"/>
                    </a:lnTo>
                    <a:lnTo>
                      <a:pt x="69" y="284"/>
                    </a:lnTo>
                    <a:lnTo>
                      <a:pt x="63" y="288"/>
                    </a:lnTo>
                    <a:lnTo>
                      <a:pt x="57" y="290"/>
                    </a:lnTo>
                    <a:lnTo>
                      <a:pt x="50" y="292"/>
                    </a:lnTo>
                    <a:lnTo>
                      <a:pt x="44" y="292"/>
                    </a:lnTo>
                    <a:lnTo>
                      <a:pt x="36" y="292"/>
                    </a:lnTo>
                    <a:lnTo>
                      <a:pt x="30" y="290"/>
                    </a:lnTo>
                    <a:lnTo>
                      <a:pt x="25" y="288"/>
                    </a:lnTo>
                    <a:lnTo>
                      <a:pt x="19" y="284"/>
                    </a:lnTo>
                    <a:lnTo>
                      <a:pt x="13" y="280"/>
                    </a:lnTo>
                    <a:lnTo>
                      <a:pt x="9" y="274"/>
                    </a:lnTo>
                    <a:lnTo>
                      <a:pt x="6" y="269"/>
                    </a:lnTo>
                    <a:lnTo>
                      <a:pt x="4" y="263"/>
                    </a:lnTo>
                    <a:lnTo>
                      <a:pt x="2" y="257"/>
                    </a:lnTo>
                    <a:lnTo>
                      <a:pt x="0" y="249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622640" y="3675600"/>
                <a:ext cx="142200" cy="486000"/>
              </a:xfrm>
              <a:custGeom>
                <a:avLst/>
                <a:gdLst/>
                <a:ahLst/>
                <a:rect l="l" t="t" r="r" b="b"/>
                <a:pathLst>
                  <a:path w="86" h="292">
                    <a:moveTo>
                      <a:pt x="0" y="43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7" y="2"/>
                    </a:lnTo>
                    <a:lnTo>
                      <a:pt x="63" y="4"/>
                    </a:lnTo>
                    <a:lnTo>
                      <a:pt x="69" y="8"/>
                    </a:lnTo>
                    <a:lnTo>
                      <a:pt x="75" y="12"/>
                    </a:lnTo>
                    <a:lnTo>
                      <a:pt x="78" y="18"/>
                    </a:lnTo>
                    <a:lnTo>
                      <a:pt x="82" y="23"/>
                    </a:lnTo>
                    <a:lnTo>
                      <a:pt x="84" y="29"/>
                    </a:lnTo>
                    <a:lnTo>
                      <a:pt x="86" y="35"/>
                    </a:lnTo>
                    <a:lnTo>
                      <a:pt x="86" y="43"/>
                    </a:lnTo>
                    <a:lnTo>
                      <a:pt x="86" y="249"/>
                    </a:lnTo>
                    <a:lnTo>
                      <a:pt x="86" y="257"/>
                    </a:lnTo>
                    <a:lnTo>
                      <a:pt x="84" y="263"/>
                    </a:lnTo>
                    <a:lnTo>
                      <a:pt x="82" y="269"/>
                    </a:lnTo>
                    <a:lnTo>
                      <a:pt x="78" y="274"/>
                    </a:lnTo>
                    <a:lnTo>
                      <a:pt x="75" y="280"/>
                    </a:lnTo>
                    <a:lnTo>
                      <a:pt x="69" y="284"/>
                    </a:lnTo>
                    <a:lnTo>
                      <a:pt x="63" y="288"/>
                    </a:lnTo>
                    <a:lnTo>
                      <a:pt x="57" y="290"/>
                    </a:lnTo>
                    <a:lnTo>
                      <a:pt x="50" y="292"/>
                    </a:lnTo>
                    <a:lnTo>
                      <a:pt x="44" y="292"/>
                    </a:lnTo>
                    <a:lnTo>
                      <a:pt x="36" y="292"/>
                    </a:lnTo>
                    <a:lnTo>
                      <a:pt x="30" y="290"/>
                    </a:lnTo>
                    <a:lnTo>
                      <a:pt x="25" y="288"/>
                    </a:lnTo>
                    <a:lnTo>
                      <a:pt x="19" y="284"/>
                    </a:lnTo>
                    <a:lnTo>
                      <a:pt x="13" y="280"/>
                    </a:lnTo>
                    <a:lnTo>
                      <a:pt x="9" y="274"/>
                    </a:lnTo>
                    <a:lnTo>
                      <a:pt x="6" y="269"/>
                    </a:lnTo>
                    <a:lnTo>
                      <a:pt x="4" y="263"/>
                    </a:lnTo>
                    <a:lnTo>
                      <a:pt x="2" y="257"/>
                    </a:lnTo>
                    <a:lnTo>
                      <a:pt x="0" y="249"/>
                    </a:lnTo>
                    <a:lnTo>
                      <a:pt x="0" y="43"/>
                    </a:lnTo>
                    <a:lnTo>
                      <a:pt x="0" y="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650720" y="405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27880" y="3635640"/>
                <a:ext cx="142200" cy="488160"/>
              </a:xfrm>
              <a:custGeom>
                <a:avLst/>
                <a:gdLst/>
                <a:ahLst/>
                <a:rect l="l" t="t" r="r" b="b"/>
                <a:pathLst>
                  <a:path w="86" h="293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10" y="17"/>
                    </a:lnTo>
                    <a:lnTo>
                      <a:pt x="14" y="13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1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5" y="13"/>
                    </a:lnTo>
                    <a:lnTo>
                      <a:pt x="79" y="17"/>
                    </a:lnTo>
                    <a:lnTo>
                      <a:pt x="83" y="22"/>
                    </a:lnTo>
                    <a:lnTo>
                      <a:pt x="85" y="28"/>
                    </a:lnTo>
                    <a:lnTo>
                      <a:pt x="86" y="36"/>
                    </a:lnTo>
                    <a:lnTo>
                      <a:pt x="86" y="42"/>
                    </a:lnTo>
                    <a:lnTo>
                      <a:pt x="86" y="249"/>
                    </a:lnTo>
                    <a:lnTo>
                      <a:pt x="86" y="256"/>
                    </a:lnTo>
                    <a:lnTo>
                      <a:pt x="85" y="262"/>
                    </a:lnTo>
                    <a:lnTo>
                      <a:pt x="83" y="270"/>
                    </a:lnTo>
                    <a:lnTo>
                      <a:pt x="79" y="273"/>
                    </a:lnTo>
                    <a:lnTo>
                      <a:pt x="75" y="279"/>
                    </a:lnTo>
                    <a:lnTo>
                      <a:pt x="69" y="283"/>
                    </a:lnTo>
                    <a:lnTo>
                      <a:pt x="63" y="287"/>
                    </a:lnTo>
                    <a:lnTo>
                      <a:pt x="58" y="291"/>
                    </a:lnTo>
                    <a:lnTo>
                      <a:pt x="52" y="291"/>
                    </a:lnTo>
                    <a:lnTo>
                      <a:pt x="44" y="293"/>
                    </a:lnTo>
                    <a:lnTo>
                      <a:pt x="37" y="291"/>
                    </a:lnTo>
                    <a:lnTo>
                      <a:pt x="31" y="291"/>
                    </a:lnTo>
                    <a:lnTo>
                      <a:pt x="25" y="287"/>
                    </a:lnTo>
                    <a:lnTo>
                      <a:pt x="19" y="283"/>
                    </a:lnTo>
                    <a:lnTo>
                      <a:pt x="14" y="279"/>
                    </a:lnTo>
                    <a:lnTo>
                      <a:pt x="10" y="273"/>
                    </a:lnTo>
                    <a:lnTo>
                      <a:pt x="6" y="270"/>
                    </a:lnTo>
                    <a:lnTo>
                      <a:pt x="4" y="262"/>
                    </a:lnTo>
                    <a:lnTo>
                      <a:pt x="2" y="256"/>
                    </a:lnTo>
                    <a:lnTo>
                      <a:pt x="2" y="249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727880" y="3635640"/>
                <a:ext cx="142200" cy="488160"/>
              </a:xfrm>
              <a:custGeom>
                <a:avLst/>
                <a:gdLst/>
                <a:ahLst/>
                <a:rect l="l" t="t" r="r" b="b"/>
                <a:pathLst>
                  <a:path w="86" h="293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10" y="17"/>
                    </a:lnTo>
                    <a:lnTo>
                      <a:pt x="14" y="13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1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5" y="13"/>
                    </a:lnTo>
                    <a:lnTo>
                      <a:pt x="79" y="17"/>
                    </a:lnTo>
                    <a:lnTo>
                      <a:pt x="83" y="22"/>
                    </a:lnTo>
                    <a:lnTo>
                      <a:pt x="85" y="28"/>
                    </a:lnTo>
                    <a:lnTo>
                      <a:pt x="86" y="36"/>
                    </a:lnTo>
                    <a:lnTo>
                      <a:pt x="86" y="42"/>
                    </a:lnTo>
                    <a:lnTo>
                      <a:pt x="86" y="249"/>
                    </a:lnTo>
                    <a:lnTo>
                      <a:pt x="86" y="256"/>
                    </a:lnTo>
                    <a:lnTo>
                      <a:pt x="85" y="262"/>
                    </a:lnTo>
                    <a:lnTo>
                      <a:pt x="83" y="270"/>
                    </a:lnTo>
                    <a:lnTo>
                      <a:pt x="79" y="273"/>
                    </a:lnTo>
                    <a:lnTo>
                      <a:pt x="75" y="279"/>
                    </a:lnTo>
                    <a:lnTo>
                      <a:pt x="69" y="283"/>
                    </a:lnTo>
                    <a:lnTo>
                      <a:pt x="63" y="287"/>
                    </a:lnTo>
                    <a:lnTo>
                      <a:pt x="58" y="291"/>
                    </a:lnTo>
                    <a:lnTo>
                      <a:pt x="52" y="291"/>
                    </a:lnTo>
                    <a:lnTo>
                      <a:pt x="44" y="293"/>
                    </a:lnTo>
                    <a:lnTo>
                      <a:pt x="37" y="291"/>
                    </a:lnTo>
                    <a:lnTo>
                      <a:pt x="31" y="291"/>
                    </a:lnTo>
                    <a:lnTo>
                      <a:pt x="25" y="287"/>
                    </a:lnTo>
                    <a:lnTo>
                      <a:pt x="19" y="283"/>
                    </a:lnTo>
                    <a:lnTo>
                      <a:pt x="14" y="279"/>
                    </a:lnTo>
                    <a:lnTo>
                      <a:pt x="10" y="273"/>
                    </a:lnTo>
                    <a:lnTo>
                      <a:pt x="6" y="270"/>
                    </a:lnTo>
                    <a:lnTo>
                      <a:pt x="4" y="262"/>
                    </a:lnTo>
                    <a:lnTo>
                      <a:pt x="2" y="256"/>
                    </a:lnTo>
                    <a:lnTo>
                      <a:pt x="2" y="249"/>
                    </a:lnTo>
                    <a:lnTo>
                      <a:pt x="2" y="42"/>
                    </a:lnTo>
                    <a:lnTo>
                      <a:pt x="2" y="4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755600" y="3664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218400" y="35139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261600" y="3197520"/>
                <a:ext cx="857160" cy="899640"/>
              </a:xfrm>
              <a:custGeom>
                <a:avLst/>
                <a:gdLst/>
                <a:ahLst/>
                <a:rect l="l" t="t" r="r" b="b"/>
                <a:pathLst>
                  <a:path w="518" h="540">
                    <a:moveTo>
                      <a:pt x="518" y="540"/>
                    </a:moveTo>
                    <a:lnTo>
                      <a:pt x="518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8" y="540"/>
                    </a:lnTo>
                    <a:lnTo>
                      <a:pt x="518" y="5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261600" y="3197520"/>
                <a:ext cx="857160" cy="899640"/>
              </a:xfrm>
              <a:custGeom>
                <a:avLst/>
                <a:gdLst/>
                <a:ahLst/>
                <a:rect l="l" t="t" r="r" b="b"/>
                <a:pathLst>
                  <a:path w="518" h="540">
                    <a:moveTo>
                      <a:pt x="518" y="540"/>
                    </a:moveTo>
                    <a:lnTo>
                      <a:pt x="518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8" y="540"/>
                    </a:lnTo>
                    <a:lnTo>
                      <a:pt x="518" y="5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527640" y="36054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82720" y="3605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24120" y="3605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64080" y="36054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83880" y="36054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22400" y="3605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41480" y="3605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785400" y="36054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810240" y="36054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294720" y="368208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68520" y="36820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90840" y="36820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09560" y="3682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30440" y="3682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471480" y="3682080"/>
                <a:ext cx="36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95440" y="3758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8840" y="375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365280" y="375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405960" y="3758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419640" y="3758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458520" y="3758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483000" y="375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523680" y="3758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294720" y="39121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368520" y="39121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390840" y="39121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409560" y="3912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569680" y="2364120"/>
              <a:ext cx="5280840" cy="3273840"/>
              <a:chOff x="2569680" y="2364120"/>
              <a:chExt cx="5280840" cy="3273840"/>
            </a:xfrm>
          </p:grpSpPr>
          <p:sp>
            <p:nvSpPr>
              <p:cNvPr id="247" name=""/>
              <p:cNvSpPr/>
              <p:nvPr/>
            </p:nvSpPr>
            <p:spPr>
              <a:xfrm>
                <a:off x="3426840" y="3910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71480" y="3910320"/>
                <a:ext cx="36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95440" y="3988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335760" y="3988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78600" y="3988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398400" y="3988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916080" y="3339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969720" y="3339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011120" y="3339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55760" y="3339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97160" y="333900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868200" y="3413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12840" y="3413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954240" y="3413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976200" y="3413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016880" y="3413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039200" y="3413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16080" y="3625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969720" y="3625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011120" y="3625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55760" y="3625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097160" y="362520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868200" y="370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912840" y="370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54240" y="3701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976200" y="370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16880" y="3701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39200" y="370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95800" y="32238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350520" y="3223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92280" y="3223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433320" y="3223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78320" y="322380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95440" y="33001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18840" y="3300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63480" y="3300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05600" y="33001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19280" y="3300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58160" y="3300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80840" y="3300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523680" y="33001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546720" y="3300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69040" y="3300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95800" y="3453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350520" y="345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392280" y="345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33320" y="345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78320" y="345384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95440" y="3530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18840" y="353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63480" y="353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05600" y="35305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19280" y="3530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58160" y="3530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80840" y="353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23680" y="3530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546720" y="3530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569040" y="353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125520" y="3918600"/>
                <a:ext cx="4725000" cy="1719360"/>
              </a:xfrm>
              <a:custGeom>
                <a:avLst/>
                <a:gdLst/>
                <a:ahLst/>
                <a:rect l="l" t="t" r="r" b="b"/>
                <a:pathLst>
                  <a:path w="2855" h="1032">
                    <a:moveTo>
                      <a:pt x="63" y="44"/>
                    </a:moveTo>
                    <a:lnTo>
                      <a:pt x="0" y="44"/>
                    </a:lnTo>
                    <a:lnTo>
                      <a:pt x="0" y="1032"/>
                    </a:lnTo>
                    <a:lnTo>
                      <a:pt x="2855" y="1032"/>
                    </a:lnTo>
                    <a:lnTo>
                      <a:pt x="2855" y="0"/>
                    </a:lnTo>
                    <a:lnTo>
                      <a:pt x="280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07800" y="4543560"/>
                <a:ext cx="7084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816360" y="44416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63880" y="44416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883680" y="444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925080" y="444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6120" y="444168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72800" y="453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13480" y="4531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51280" y="4531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875040" y="453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16080" y="453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957480" y="453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4616280" y="4050360"/>
                <a:ext cx="86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035960" y="4543560"/>
                <a:ext cx="221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66760" y="37587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830120" y="375876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79000" y="3835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23640" y="383544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78280" y="3910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5240" y="4008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275520" y="409680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45720" y="4096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70920" y="40968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387120" y="409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409440" y="409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450480" y="409680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76240" y="422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319440" y="422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60480" y="422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81360" y="422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898680" y="36673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952320" y="366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993360" y="366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034760" y="366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079400" y="366732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20640" y="379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62040" y="379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002360" y="3791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026120" y="379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659720" y="38001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724880" y="380016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71600" y="3876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713360" y="387684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671240" y="3953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638480" y="3705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11400" y="3531960"/>
                <a:ext cx="221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246200" y="3685320"/>
                <a:ext cx="41040" cy="38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4445640" y="3705480"/>
                <a:ext cx="256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118040" y="3705480"/>
                <a:ext cx="137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963320" y="44686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007600" y="4468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45400" y="4468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093280" y="446868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916520" y="4548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952520" y="4548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987800" y="4548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24880" y="4548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45400" y="4548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63400" y="4548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100840" y="45482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835160" y="452520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91240" y="362880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91240" y="35136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09000" y="3685320"/>
                <a:ext cx="41040" cy="38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5" y="12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024960" y="372672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561840" y="29905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608280" y="299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646440" y="299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680280" y="29905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44000" y="2990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65600" y="29905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781800" y="2990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798720" y="299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04480" y="45352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568200" y="45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608880" y="45352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675120" y="45352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726960" y="45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768360" y="45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09760" y="45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687040" y="2364120"/>
                <a:ext cx="15192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0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  <a:lnTo>
                      <a:pt x="90" y="1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687040" y="2364120"/>
                <a:ext cx="15192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0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80240" y="5023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01120" y="502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242160" y="5023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80320" y="5023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99040" y="5023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325320" y="502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367440" y="5023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405960" y="5023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426480" y="50234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444480" y="502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485880" y="502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29080" y="5023440"/>
                <a:ext cx="36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80240" y="5113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201120" y="511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242520" y="511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284280" y="511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340800" y="511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382200" y="511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423240" y="5113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991240" y="45252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8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91240" y="488844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8" y="21"/>
                    </a:lnTo>
                    <a:lnTo>
                      <a:pt x="20" y="19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613400" y="3190320"/>
                <a:ext cx="2880" cy="135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4753440" y="2990520"/>
                <a:ext cx="759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598640" y="40302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9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290840" y="2364120"/>
                <a:ext cx="15192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2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290840" y="2364120"/>
                <a:ext cx="15192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2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598640" y="45252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9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>
                <a:off x="4720320" y="4496760"/>
                <a:ext cx="57960" cy="9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28600" y="4398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4445640" y="5253480"/>
                <a:ext cx="198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445640" y="4908600"/>
                <a:ext cx="198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836080" y="3647160"/>
                <a:ext cx="174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643840" y="362880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569680" y="3647160"/>
                <a:ext cx="82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246200" y="339876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442400" y="3417120"/>
                <a:ext cx="5130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4118040" y="3417120"/>
                <a:ext cx="1371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246200" y="452520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246200" y="488844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07800" y="4908600"/>
                <a:ext cx="12495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246200" y="523332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806800" y="2364120"/>
                <a:ext cx="15228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0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  <a:lnTo>
                      <a:pt x="90" y="1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806800" y="2364120"/>
                <a:ext cx="15228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0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273080" y="2364120"/>
                <a:ext cx="15228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2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273080" y="2364120"/>
                <a:ext cx="15228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2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249440" y="252432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762160" y="506196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813560" y="5079960"/>
                <a:ext cx="957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762160" y="37267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5464080" y="3746880"/>
                <a:ext cx="307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762160" y="41583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5959080" y="4177080"/>
                <a:ext cx="2512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27360" y="3705480"/>
                <a:ext cx="1241280" cy="471240"/>
              </a:xfrm>
              <a:custGeom>
                <a:avLst/>
                <a:gdLst/>
                <a:ahLst/>
                <a:rect l="l" t="t" r="r" b="b"/>
                <a:pathLst>
                  <a:path w="750" h="283">
                    <a:moveTo>
                      <a:pt x="750" y="283"/>
                    </a:moveTo>
                    <a:lnTo>
                      <a:pt x="0" y="28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228440" y="37267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7425000" y="3746880"/>
                <a:ext cx="1702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7100280" y="3746880"/>
                <a:ext cx="1342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228440" y="4407120"/>
                <a:ext cx="37800" cy="41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425360" y="4090320"/>
                <a:ext cx="170280" cy="338040"/>
              </a:xfrm>
              <a:custGeom>
                <a:avLst/>
                <a:gdLst/>
                <a:ahLst/>
                <a:rect l="l" t="t" r="r" b="b"/>
                <a:pathLst>
                  <a:path w="103" h="203">
                    <a:moveTo>
                      <a:pt x="103" y="0"/>
                    </a:moveTo>
                    <a:lnTo>
                      <a:pt x="52" y="0"/>
                    </a:lnTo>
                    <a:lnTo>
                      <a:pt x="52" y="203"/>
                    </a:lnTo>
                    <a:lnTo>
                      <a:pt x="0" y="20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45120" y="3746880"/>
                <a:ext cx="1189800" cy="681480"/>
              </a:xfrm>
              <a:custGeom>
                <a:avLst/>
                <a:gdLst/>
                <a:ahLst/>
                <a:rect l="l" t="t" r="r" b="b"/>
                <a:pathLst>
                  <a:path w="719" h="409">
                    <a:moveTo>
                      <a:pt x="719" y="408"/>
                    </a:moveTo>
                    <a:lnTo>
                      <a:pt x="0" y="409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7228800" y="5062320"/>
              <a:ext cx="37800" cy="38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56200" y="5080320"/>
              <a:ext cx="1285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7912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99280" y="223776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428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6588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91440" y="22377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27104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90840" y="22377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34736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6608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756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3840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78916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452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58640" y="22377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2056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72760" y="22377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89920" y="22377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5436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04400" y="22377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36884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87200" y="223776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46028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44200" y="2524320"/>
              <a:ext cx="38160" cy="38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839320" y="2542680"/>
              <a:ext cx="1418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2294640" y="2542680"/>
              <a:ext cx="353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95120" y="1496160"/>
              <a:ext cx="38160" cy="38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95120" y="1896120"/>
              <a:ext cx="38160" cy="38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72720" y="1516320"/>
              <a:ext cx="513000" cy="1026000"/>
            </a:xfrm>
            <a:custGeom>
              <a:avLst/>
              <a:gdLst/>
              <a:ahLst/>
              <a:rect l="l" t="t" r="r" b="b"/>
              <a:pathLst>
                <a:path w="310" h="616">
                  <a:moveTo>
                    <a:pt x="76" y="0"/>
                  </a:moveTo>
                  <a:lnTo>
                    <a:pt x="0" y="0"/>
                  </a:lnTo>
                  <a:lnTo>
                    <a:pt x="0" y="354"/>
                  </a:lnTo>
                  <a:lnTo>
                    <a:pt x="310" y="354"/>
                  </a:lnTo>
                  <a:lnTo>
                    <a:pt x="310" y="6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57480" y="1371240"/>
              <a:ext cx="1087200" cy="1989360"/>
            </a:xfrm>
            <a:custGeom>
              <a:avLst/>
              <a:gdLst/>
              <a:ahLst/>
              <a:rect l="l" t="t" r="r" b="b"/>
              <a:pathLst>
                <a:path w="657" h="1194">
                  <a:moveTo>
                    <a:pt x="40" y="1194"/>
                  </a:moveTo>
                  <a:lnTo>
                    <a:pt x="0" y="1194"/>
                  </a:lnTo>
                  <a:lnTo>
                    <a:pt x="0" y="0"/>
                  </a:lnTo>
                  <a:lnTo>
                    <a:pt x="657" y="0"/>
                  </a:lnTo>
                  <a:lnTo>
                    <a:pt x="657" y="209"/>
                  </a:lnTo>
                  <a:lnTo>
                    <a:pt x="586" y="21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25640" y="1304640"/>
              <a:ext cx="4500000" cy="1467720"/>
            </a:xfrm>
            <a:custGeom>
              <a:avLst/>
              <a:gdLst/>
              <a:ahLst/>
              <a:rect l="l" t="t" r="r" b="b"/>
              <a:pathLst>
                <a:path w="2719" h="881">
                  <a:moveTo>
                    <a:pt x="2435" y="881"/>
                  </a:moveTo>
                  <a:lnTo>
                    <a:pt x="2719" y="881"/>
                  </a:lnTo>
                  <a:lnTo>
                    <a:pt x="2719" y="0"/>
                  </a:lnTo>
                  <a:lnTo>
                    <a:pt x="330" y="0"/>
                  </a:lnTo>
                  <a:lnTo>
                    <a:pt x="330" y="429"/>
                  </a:lnTo>
                  <a:lnTo>
                    <a:pt x="0" y="429"/>
                  </a:lnTo>
                  <a:lnTo>
                    <a:pt x="0" y="366"/>
                  </a:lnTo>
                  <a:lnTo>
                    <a:pt x="44" y="36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68080" y="2524320"/>
              <a:ext cx="37800" cy="38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9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25720" y="3762360"/>
              <a:ext cx="4586040" cy="1791000"/>
            </a:xfrm>
            <a:custGeom>
              <a:avLst/>
              <a:gdLst/>
              <a:ahLst/>
              <a:rect l="l" t="t" r="r" b="b"/>
              <a:pathLst>
                <a:path w="2771" h="1075">
                  <a:moveTo>
                    <a:pt x="2719" y="791"/>
                  </a:moveTo>
                  <a:lnTo>
                    <a:pt x="2771" y="791"/>
                  </a:lnTo>
                  <a:lnTo>
                    <a:pt x="2771" y="1075"/>
                  </a:lnTo>
                  <a:lnTo>
                    <a:pt x="0" y="1075"/>
                  </a:lnTo>
                  <a:lnTo>
                    <a:pt x="0" y="0"/>
                  </a:lnTo>
                  <a:lnTo>
                    <a:pt x="186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04840" y="3229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68560" y="322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09240" y="3229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74760" y="322920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44960" y="3229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68360" y="32292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86360" y="3229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06880" y="322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01000" y="3727080"/>
              <a:ext cx="37800" cy="417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78040" y="3702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28440" y="370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68040" y="370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409440" y="3702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37160" y="370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77480" y="3702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15640" y="3702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959080" y="3747240"/>
              <a:ext cx="244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584760" y="38592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639120" y="385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79440" y="3859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02120" y="385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45320" y="3859200"/>
              <a:ext cx="36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29680" y="39470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95920" y="394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634800" y="39470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98880" y="394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739920" y="3947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764400" y="39470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11760" y="3302640"/>
              <a:ext cx="1246320" cy="1951200"/>
            </a:xfrm>
            <a:custGeom>
              <a:avLst/>
              <a:gdLst/>
              <a:ahLst/>
              <a:rect l="l" t="t" r="r" b="b"/>
              <a:pathLst>
                <a:path w="753" h="1171">
                  <a:moveTo>
                    <a:pt x="753" y="1171"/>
                  </a:moveTo>
                  <a:lnTo>
                    <a:pt x="0" y="1171"/>
                  </a:lnTo>
                  <a:lnTo>
                    <a:pt x="0" y="0"/>
                  </a:lnTo>
                  <a:lnTo>
                    <a:pt x="13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577560" y="1209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30840" y="12096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682680" y="1209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33440" y="12096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58280" y="1209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28280" y="351396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78680" y="351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318640" y="3513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43120" y="351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70080" y="2415960"/>
              <a:ext cx="496440" cy="701280"/>
            </a:xfrm>
            <a:custGeom>
              <a:avLst/>
              <a:gdLst/>
              <a:ahLst/>
              <a:rect l="l" t="t" r="r" b="b"/>
              <a:pathLst>
                <a:path w="300" h="421">
                  <a:moveTo>
                    <a:pt x="0" y="0"/>
                  </a:moveTo>
                  <a:lnTo>
                    <a:pt x="0" y="170"/>
                  </a:lnTo>
                  <a:lnTo>
                    <a:pt x="62" y="210"/>
                  </a:lnTo>
                  <a:lnTo>
                    <a:pt x="0" y="251"/>
                  </a:lnTo>
                  <a:lnTo>
                    <a:pt x="0" y="421"/>
                  </a:lnTo>
                  <a:lnTo>
                    <a:pt x="300" y="285"/>
                  </a:lnTo>
                  <a:lnTo>
                    <a:pt x="300" y="1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70080" y="2415960"/>
              <a:ext cx="496440" cy="701280"/>
            </a:xfrm>
            <a:custGeom>
              <a:avLst/>
              <a:gdLst/>
              <a:ahLst/>
              <a:rect l="l" t="t" r="r" b="b"/>
              <a:pathLst>
                <a:path w="300" h="421">
                  <a:moveTo>
                    <a:pt x="0" y="0"/>
                  </a:moveTo>
                  <a:lnTo>
                    <a:pt x="0" y="170"/>
                  </a:lnTo>
                  <a:lnTo>
                    <a:pt x="62" y="210"/>
                  </a:lnTo>
                  <a:lnTo>
                    <a:pt x="0" y="251"/>
                  </a:lnTo>
                  <a:lnTo>
                    <a:pt x="0" y="421"/>
                  </a:lnTo>
                  <a:lnTo>
                    <a:pt x="300" y="285"/>
                  </a:lnTo>
                  <a:lnTo>
                    <a:pt x="300" y="13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86360" y="3312360"/>
              <a:ext cx="494640" cy="701640"/>
            </a:xfrm>
            <a:custGeom>
              <a:avLst/>
              <a:gdLst/>
              <a:ahLst/>
              <a:rect l="l" t="t" r="r" b="b"/>
              <a:pathLst>
                <a:path w="299" h="421">
                  <a:moveTo>
                    <a:pt x="0" y="0"/>
                  </a:moveTo>
                  <a:lnTo>
                    <a:pt x="0" y="171"/>
                  </a:lnTo>
                  <a:lnTo>
                    <a:pt x="61" y="211"/>
                  </a:lnTo>
                  <a:lnTo>
                    <a:pt x="0" y="251"/>
                  </a:lnTo>
                  <a:lnTo>
                    <a:pt x="0" y="421"/>
                  </a:lnTo>
                  <a:lnTo>
                    <a:pt x="299" y="285"/>
                  </a:lnTo>
                  <a:lnTo>
                    <a:pt x="299" y="1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86360" y="3312360"/>
              <a:ext cx="494640" cy="701640"/>
            </a:xfrm>
            <a:custGeom>
              <a:avLst/>
              <a:gdLst/>
              <a:ahLst/>
              <a:rect l="l" t="t" r="r" b="b"/>
              <a:pathLst>
                <a:path w="299" h="421">
                  <a:moveTo>
                    <a:pt x="0" y="0"/>
                  </a:moveTo>
                  <a:lnTo>
                    <a:pt x="0" y="171"/>
                  </a:lnTo>
                  <a:lnTo>
                    <a:pt x="61" y="211"/>
                  </a:lnTo>
                  <a:lnTo>
                    <a:pt x="0" y="251"/>
                  </a:lnTo>
                  <a:lnTo>
                    <a:pt x="0" y="421"/>
                  </a:lnTo>
                  <a:lnTo>
                    <a:pt x="299" y="285"/>
                  </a:lnTo>
                  <a:lnTo>
                    <a:pt x="299" y="1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78800" y="27259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24520" y="2725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59080" y="2725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01280" y="26841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246280" y="2684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84080" y="2684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18640" y="2684160"/>
              <a:ext cx="36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46200" y="27644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69960" y="2764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03800" y="2764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40520" y="2764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274720" y="27644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89840" y="2764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99280" y="2786040"/>
              <a:ext cx="248400" cy="396360"/>
            </a:xfrm>
            <a:custGeom>
              <a:avLst/>
              <a:gdLst/>
              <a:ahLst/>
              <a:rect l="l" t="t" r="r" b="b"/>
              <a:pathLst>
                <a:path w="150" h="238">
                  <a:moveTo>
                    <a:pt x="73" y="236"/>
                  </a:moveTo>
                  <a:lnTo>
                    <a:pt x="86" y="236"/>
                  </a:lnTo>
                  <a:lnTo>
                    <a:pt x="98" y="232"/>
                  </a:lnTo>
                  <a:lnTo>
                    <a:pt x="109" y="224"/>
                  </a:lnTo>
                  <a:lnTo>
                    <a:pt x="119" y="215"/>
                  </a:lnTo>
                  <a:lnTo>
                    <a:pt x="129" y="203"/>
                  </a:lnTo>
                  <a:lnTo>
                    <a:pt x="134" y="188"/>
                  </a:lnTo>
                  <a:lnTo>
                    <a:pt x="142" y="172"/>
                  </a:lnTo>
                  <a:lnTo>
                    <a:pt x="146" y="155"/>
                  </a:lnTo>
                  <a:lnTo>
                    <a:pt x="150" y="138"/>
                  </a:lnTo>
                  <a:lnTo>
                    <a:pt x="150" y="119"/>
                  </a:lnTo>
                  <a:lnTo>
                    <a:pt x="150" y="100"/>
                  </a:lnTo>
                  <a:lnTo>
                    <a:pt x="146" y="80"/>
                  </a:lnTo>
                  <a:lnTo>
                    <a:pt x="142" y="63"/>
                  </a:lnTo>
                  <a:lnTo>
                    <a:pt x="134" y="48"/>
                  </a:lnTo>
                  <a:lnTo>
                    <a:pt x="129" y="34"/>
                  </a:lnTo>
                  <a:lnTo>
                    <a:pt x="119" y="23"/>
                  </a:lnTo>
                  <a:lnTo>
                    <a:pt x="109" y="13"/>
                  </a:lnTo>
                  <a:lnTo>
                    <a:pt x="98" y="6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2" y="0"/>
                  </a:lnTo>
                  <a:lnTo>
                    <a:pt x="50" y="6"/>
                  </a:lnTo>
                  <a:lnTo>
                    <a:pt x="40" y="13"/>
                  </a:lnTo>
                  <a:lnTo>
                    <a:pt x="31" y="23"/>
                  </a:lnTo>
                  <a:lnTo>
                    <a:pt x="21" y="34"/>
                  </a:lnTo>
                  <a:lnTo>
                    <a:pt x="14" y="48"/>
                  </a:lnTo>
                  <a:lnTo>
                    <a:pt x="8" y="63"/>
                  </a:lnTo>
                  <a:lnTo>
                    <a:pt x="4" y="80"/>
                  </a:lnTo>
                  <a:lnTo>
                    <a:pt x="0" y="100"/>
                  </a:lnTo>
                  <a:lnTo>
                    <a:pt x="0" y="119"/>
                  </a:lnTo>
                  <a:lnTo>
                    <a:pt x="0" y="138"/>
                  </a:lnTo>
                  <a:lnTo>
                    <a:pt x="4" y="155"/>
                  </a:lnTo>
                  <a:lnTo>
                    <a:pt x="8" y="172"/>
                  </a:lnTo>
                  <a:lnTo>
                    <a:pt x="14" y="188"/>
                  </a:lnTo>
                  <a:lnTo>
                    <a:pt x="21" y="203"/>
                  </a:lnTo>
                  <a:lnTo>
                    <a:pt x="31" y="215"/>
                  </a:lnTo>
                  <a:lnTo>
                    <a:pt x="40" y="224"/>
                  </a:lnTo>
                  <a:lnTo>
                    <a:pt x="50" y="232"/>
                  </a:lnTo>
                  <a:lnTo>
                    <a:pt x="62" y="236"/>
                  </a:lnTo>
                  <a:lnTo>
                    <a:pt x="75" y="238"/>
                  </a:lnTo>
                  <a:lnTo>
                    <a:pt x="75" y="238"/>
                  </a:lnTo>
                  <a:lnTo>
                    <a:pt x="73" y="2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499280" y="2786040"/>
              <a:ext cx="248400" cy="396360"/>
            </a:xfrm>
            <a:custGeom>
              <a:avLst/>
              <a:gdLst/>
              <a:ahLst/>
              <a:rect l="l" t="t" r="r" b="b"/>
              <a:pathLst>
                <a:path w="150" h="238">
                  <a:moveTo>
                    <a:pt x="73" y="236"/>
                  </a:moveTo>
                  <a:lnTo>
                    <a:pt x="86" y="236"/>
                  </a:lnTo>
                  <a:lnTo>
                    <a:pt x="98" y="232"/>
                  </a:lnTo>
                  <a:lnTo>
                    <a:pt x="109" y="224"/>
                  </a:lnTo>
                  <a:lnTo>
                    <a:pt x="119" y="215"/>
                  </a:lnTo>
                  <a:lnTo>
                    <a:pt x="129" y="203"/>
                  </a:lnTo>
                  <a:lnTo>
                    <a:pt x="134" y="188"/>
                  </a:lnTo>
                  <a:lnTo>
                    <a:pt x="142" y="172"/>
                  </a:lnTo>
                  <a:lnTo>
                    <a:pt x="146" y="155"/>
                  </a:lnTo>
                  <a:lnTo>
                    <a:pt x="150" y="138"/>
                  </a:lnTo>
                  <a:lnTo>
                    <a:pt x="150" y="119"/>
                  </a:lnTo>
                  <a:lnTo>
                    <a:pt x="150" y="100"/>
                  </a:lnTo>
                  <a:lnTo>
                    <a:pt x="146" y="80"/>
                  </a:lnTo>
                  <a:lnTo>
                    <a:pt x="142" y="63"/>
                  </a:lnTo>
                  <a:lnTo>
                    <a:pt x="134" y="48"/>
                  </a:lnTo>
                  <a:lnTo>
                    <a:pt x="129" y="34"/>
                  </a:lnTo>
                  <a:lnTo>
                    <a:pt x="119" y="23"/>
                  </a:lnTo>
                  <a:lnTo>
                    <a:pt x="109" y="13"/>
                  </a:lnTo>
                  <a:lnTo>
                    <a:pt x="98" y="6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2" y="0"/>
                  </a:lnTo>
                  <a:lnTo>
                    <a:pt x="50" y="6"/>
                  </a:lnTo>
                  <a:lnTo>
                    <a:pt x="40" y="13"/>
                  </a:lnTo>
                  <a:lnTo>
                    <a:pt x="31" y="23"/>
                  </a:lnTo>
                  <a:lnTo>
                    <a:pt x="21" y="34"/>
                  </a:lnTo>
                  <a:lnTo>
                    <a:pt x="14" y="48"/>
                  </a:lnTo>
                  <a:lnTo>
                    <a:pt x="8" y="63"/>
                  </a:lnTo>
                  <a:lnTo>
                    <a:pt x="4" y="80"/>
                  </a:lnTo>
                  <a:lnTo>
                    <a:pt x="0" y="100"/>
                  </a:lnTo>
                  <a:lnTo>
                    <a:pt x="0" y="119"/>
                  </a:lnTo>
                  <a:lnTo>
                    <a:pt x="0" y="138"/>
                  </a:lnTo>
                  <a:lnTo>
                    <a:pt x="4" y="155"/>
                  </a:lnTo>
                  <a:lnTo>
                    <a:pt x="8" y="172"/>
                  </a:lnTo>
                  <a:lnTo>
                    <a:pt x="14" y="188"/>
                  </a:lnTo>
                  <a:lnTo>
                    <a:pt x="21" y="203"/>
                  </a:lnTo>
                  <a:lnTo>
                    <a:pt x="31" y="215"/>
                  </a:lnTo>
                  <a:lnTo>
                    <a:pt x="40" y="224"/>
                  </a:lnTo>
                  <a:lnTo>
                    <a:pt x="50" y="232"/>
                  </a:lnTo>
                  <a:lnTo>
                    <a:pt x="62" y="236"/>
                  </a:lnTo>
                  <a:lnTo>
                    <a:pt x="75" y="238"/>
                  </a:lnTo>
                  <a:lnTo>
                    <a:pt x="75" y="2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59760" y="29041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03320" y="2904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38960" y="2904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55880" y="2904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74240" y="2904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91520" y="2904120"/>
              <a:ext cx="36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50400" y="2994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63720" y="2994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601520" y="2994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20240" y="2994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36080" y="2994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56240" y="2994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01360" y="3625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48520" y="362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84880" y="36255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34560" y="3625560"/>
              <a:ext cx="36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52040" y="3705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75080" y="370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12520" y="3705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43120" y="370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80560" y="3705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395680" y="3705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22800" y="36108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66720" y="3610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204520" y="36108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94520" y="351396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37000" y="351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74440" y="3513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98200" y="351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949040" y="2210760"/>
              <a:ext cx="345960" cy="686520"/>
            </a:xfrm>
            <a:custGeom>
              <a:avLst/>
              <a:gdLst/>
              <a:ahLst/>
              <a:rect l="l" t="t" r="r" b="b"/>
              <a:pathLst>
                <a:path w="209" h="412">
                  <a:moveTo>
                    <a:pt x="0" y="0"/>
                  </a:moveTo>
                  <a:lnTo>
                    <a:pt x="0" y="167"/>
                  </a:lnTo>
                  <a:lnTo>
                    <a:pt x="67" y="207"/>
                  </a:lnTo>
                  <a:lnTo>
                    <a:pt x="0" y="245"/>
                  </a:lnTo>
                  <a:lnTo>
                    <a:pt x="0" y="412"/>
                  </a:lnTo>
                  <a:lnTo>
                    <a:pt x="209" y="286"/>
                  </a:lnTo>
                  <a:lnTo>
                    <a:pt x="209" y="12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73960" y="2510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25800" y="251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67200" y="251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40120" y="1454400"/>
              <a:ext cx="183240" cy="533520"/>
            </a:xfrm>
            <a:custGeom>
              <a:avLst/>
              <a:gdLst/>
              <a:ahLst/>
              <a:rect l="l" t="t" r="r" b="b"/>
              <a:pathLst>
                <a:path w="111" h="320">
                  <a:moveTo>
                    <a:pt x="0" y="48"/>
                  </a:moveTo>
                  <a:lnTo>
                    <a:pt x="2" y="40"/>
                  </a:lnTo>
                  <a:lnTo>
                    <a:pt x="4" y="33"/>
                  </a:lnTo>
                  <a:lnTo>
                    <a:pt x="8" y="27"/>
                  </a:lnTo>
                  <a:lnTo>
                    <a:pt x="12" y="21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31" y="6"/>
                  </a:lnTo>
                  <a:lnTo>
                    <a:pt x="39" y="4"/>
                  </a:lnTo>
                  <a:lnTo>
                    <a:pt x="48" y="2"/>
                  </a:lnTo>
                  <a:lnTo>
                    <a:pt x="56" y="0"/>
                  </a:lnTo>
                  <a:lnTo>
                    <a:pt x="65" y="2"/>
                  </a:lnTo>
                  <a:lnTo>
                    <a:pt x="73" y="4"/>
                  </a:lnTo>
                  <a:lnTo>
                    <a:pt x="83" y="6"/>
                  </a:lnTo>
                  <a:lnTo>
                    <a:pt x="88" y="10"/>
                  </a:lnTo>
                  <a:lnTo>
                    <a:pt x="96" y="16"/>
                  </a:lnTo>
                  <a:lnTo>
                    <a:pt x="102" y="21"/>
                  </a:lnTo>
                  <a:lnTo>
                    <a:pt x="106" y="27"/>
                  </a:lnTo>
                  <a:lnTo>
                    <a:pt x="110" y="33"/>
                  </a:lnTo>
                  <a:lnTo>
                    <a:pt x="111" y="40"/>
                  </a:lnTo>
                  <a:lnTo>
                    <a:pt x="111" y="48"/>
                  </a:lnTo>
                  <a:lnTo>
                    <a:pt x="111" y="274"/>
                  </a:lnTo>
                  <a:lnTo>
                    <a:pt x="111" y="282"/>
                  </a:lnTo>
                  <a:lnTo>
                    <a:pt x="110" y="289"/>
                  </a:lnTo>
                  <a:lnTo>
                    <a:pt x="106" y="295"/>
                  </a:lnTo>
                  <a:lnTo>
                    <a:pt x="102" y="301"/>
                  </a:lnTo>
                  <a:lnTo>
                    <a:pt x="96" y="307"/>
                  </a:lnTo>
                  <a:lnTo>
                    <a:pt x="88" y="312"/>
                  </a:lnTo>
                  <a:lnTo>
                    <a:pt x="83" y="316"/>
                  </a:lnTo>
                  <a:lnTo>
                    <a:pt x="73" y="318"/>
                  </a:lnTo>
                  <a:lnTo>
                    <a:pt x="65" y="320"/>
                  </a:lnTo>
                  <a:lnTo>
                    <a:pt x="56" y="320"/>
                  </a:lnTo>
                  <a:lnTo>
                    <a:pt x="48" y="320"/>
                  </a:lnTo>
                  <a:lnTo>
                    <a:pt x="39" y="318"/>
                  </a:lnTo>
                  <a:lnTo>
                    <a:pt x="31" y="316"/>
                  </a:lnTo>
                  <a:lnTo>
                    <a:pt x="23" y="312"/>
                  </a:lnTo>
                  <a:lnTo>
                    <a:pt x="17" y="307"/>
                  </a:lnTo>
                  <a:lnTo>
                    <a:pt x="12" y="301"/>
                  </a:lnTo>
                  <a:lnTo>
                    <a:pt x="8" y="295"/>
                  </a:lnTo>
                  <a:lnTo>
                    <a:pt x="4" y="289"/>
                  </a:lnTo>
                  <a:lnTo>
                    <a:pt x="2" y="282"/>
                  </a:lnTo>
                  <a:lnTo>
                    <a:pt x="0" y="274"/>
                  </a:lnTo>
                  <a:lnTo>
                    <a:pt x="0" y="48"/>
                  </a:lnTo>
                  <a:lnTo>
                    <a:pt x="0" y="4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81160" y="1481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81160" y="1872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97360" y="15926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57840" y="1592640"/>
              <a:ext cx="36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09600" y="1679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51000" y="1679400"/>
              <a:ext cx="36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08880" y="1767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64880" y="4815360"/>
              <a:ext cx="183600" cy="533160"/>
            </a:xfrm>
            <a:custGeom>
              <a:avLst/>
              <a:gdLst/>
              <a:ahLst/>
              <a:rect l="l" t="t" r="r" b="b"/>
              <a:pathLst>
                <a:path w="111" h="320">
                  <a:moveTo>
                    <a:pt x="0" y="48"/>
                  </a:moveTo>
                  <a:lnTo>
                    <a:pt x="2" y="40"/>
                  </a:lnTo>
                  <a:lnTo>
                    <a:pt x="4" y="33"/>
                  </a:lnTo>
                  <a:lnTo>
                    <a:pt x="8" y="27"/>
                  </a:lnTo>
                  <a:lnTo>
                    <a:pt x="11" y="19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31" y="6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55" y="0"/>
                  </a:lnTo>
                  <a:lnTo>
                    <a:pt x="65" y="2"/>
                  </a:lnTo>
                  <a:lnTo>
                    <a:pt x="73" y="4"/>
                  </a:lnTo>
                  <a:lnTo>
                    <a:pt x="82" y="6"/>
                  </a:lnTo>
                  <a:lnTo>
                    <a:pt x="88" y="10"/>
                  </a:lnTo>
                  <a:lnTo>
                    <a:pt x="96" y="16"/>
                  </a:lnTo>
                  <a:lnTo>
                    <a:pt x="101" y="19"/>
                  </a:lnTo>
                  <a:lnTo>
                    <a:pt x="105" y="27"/>
                  </a:lnTo>
                  <a:lnTo>
                    <a:pt x="109" y="33"/>
                  </a:lnTo>
                  <a:lnTo>
                    <a:pt x="111" y="40"/>
                  </a:lnTo>
                  <a:lnTo>
                    <a:pt x="111" y="48"/>
                  </a:lnTo>
                  <a:lnTo>
                    <a:pt x="111" y="274"/>
                  </a:lnTo>
                  <a:lnTo>
                    <a:pt x="111" y="282"/>
                  </a:lnTo>
                  <a:lnTo>
                    <a:pt x="109" y="289"/>
                  </a:lnTo>
                  <a:lnTo>
                    <a:pt x="105" y="295"/>
                  </a:lnTo>
                  <a:lnTo>
                    <a:pt x="101" y="301"/>
                  </a:lnTo>
                  <a:lnTo>
                    <a:pt x="96" y="307"/>
                  </a:lnTo>
                  <a:lnTo>
                    <a:pt x="88" y="312"/>
                  </a:lnTo>
                  <a:lnTo>
                    <a:pt x="82" y="316"/>
                  </a:lnTo>
                  <a:lnTo>
                    <a:pt x="73" y="318"/>
                  </a:lnTo>
                  <a:lnTo>
                    <a:pt x="65" y="320"/>
                  </a:lnTo>
                  <a:lnTo>
                    <a:pt x="55" y="320"/>
                  </a:lnTo>
                  <a:lnTo>
                    <a:pt x="48" y="320"/>
                  </a:lnTo>
                  <a:lnTo>
                    <a:pt x="38" y="318"/>
                  </a:lnTo>
                  <a:lnTo>
                    <a:pt x="31" y="316"/>
                  </a:lnTo>
                  <a:lnTo>
                    <a:pt x="23" y="312"/>
                  </a:lnTo>
                  <a:lnTo>
                    <a:pt x="17" y="307"/>
                  </a:lnTo>
                  <a:lnTo>
                    <a:pt x="11" y="301"/>
                  </a:lnTo>
                  <a:lnTo>
                    <a:pt x="8" y="295"/>
                  </a:lnTo>
                  <a:lnTo>
                    <a:pt x="4" y="289"/>
                  </a:lnTo>
                  <a:lnTo>
                    <a:pt x="2" y="282"/>
                  </a:lnTo>
                  <a:lnTo>
                    <a:pt x="0" y="274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64880" y="4815360"/>
              <a:ext cx="183600" cy="533160"/>
            </a:xfrm>
            <a:custGeom>
              <a:avLst/>
              <a:gdLst/>
              <a:ahLst/>
              <a:rect l="l" t="t" r="r" b="b"/>
              <a:pathLst>
                <a:path w="111" h="320">
                  <a:moveTo>
                    <a:pt x="0" y="48"/>
                  </a:moveTo>
                  <a:lnTo>
                    <a:pt x="2" y="40"/>
                  </a:lnTo>
                  <a:lnTo>
                    <a:pt x="4" y="33"/>
                  </a:lnTo>
                  <a:lnTo>
                    <a:pt x="8" y="27"/>
                  </a:lnTo>
                  <a:lnTo>
                    <a:pt x="11" y="19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31" y="6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55" y="0"/>
                  </a:lnTo>
                  <a:lnTo>
                    <a:pt x="65" y="2"/>
                  </a:lnTo>
                  <a:lnTo>
                    <a:pt x="73" y="4"/>
                  </a:lnTo>
                  <a:lnTo>
                    <a:pt x="82" y="6"/>
                  </a:lnTo>
                  <a:lnTo>
                    <a:pt x="88" y="10"/>
                  </a:lnTo>
                  <a:lnTo>
                    <a:pt x="96" y="16"/>
                  </a:lnTo>
                  <a:lnTo>
                    <a:pt x="101" y="19"/>
                  </a:lnTo>
                  <a:lnTo>
                    <a:pt x="105" y="27"/>
                  </a:lnTo>
                  <a:lnTo>
                    <a:pt x="109" y="33"/>
                  </a:lnTo>
                  <a:lnTo>
                    <a:pt x="111" y="40"/>
                  </a:lnTo>
                  <a:lnTo>
                    <a:pt x="111" y="48"/>
                  </a:lnTo>
                  <a:lnTo>
                    <a:pt x="111" y="274"/>
                  </a:lnTo>
                  <a:lnTo>
                    <a:pt x="111" y="282"/>
                  </a:lnTo>
                  <a:lnTo>
                    <a:pt x="109" y="289"/>
                  </a:lnTo>
                  <a:lnTo>
                    <a:pt x="105" y="295"/>
                  </a:lnTo>
                  <a:lnTo>
                    <a:pt x="101" y="301"/>
                  </a:lnTo>
                  <a:lnTo>
                    <a:pt x="96" y="307"/>
                  </a:lnTo>
                  <a:lnTo>
                    <a:pt x="88" y="312"/>
                  </a:lnTo>
                  <a:lnTo>
                    <a:pt x="82" y="316"/>
                  </a:lnTo>
                  <a:lnTo>
                    <a:pt x="73" y="318"/>
                  </a:lnTo>
                  <a:lnTo>
                    <a:pt x="65" y="320"/>
                  </a:lnTo>
                  <a:lnTo>
                    <a:pt x="55" y="320"/>
                  </a:lnTo>
                  <a:lnTo>
                    <a:pt x="48" y="320"/>
                  </a:lnTo>
                  <a:lnTo>
                    <a:pt x="38" y="318"/>
                  </a:lnTo>
                  <a:lnTo>
                    <a:pt x="31" y="316"/>
                  </a:lnTo>
                  <a:lnTo>
                    <a:pt x="23" y="312"/>
                  </a:lnTo>
                  <a:lnTo>
                    <a:pt x="17" y="307"/>
                  </a:lnTo>
                  <a:lnTo>
                    <a:pt x="11" y="301"/>
                  </a:lnTo>
                  <a:lnTo>
                    <a:pt x="8" y="295"/>
                  </a:lnTo>
                  <a:lnTo>
                    <a:pt x="4" y="289"/>
                  </a:lnTo>
                  <a:lnTo>
                    <a:pt x="2" y="282"/>
                  </a:lnTo>
                  <a:lnTo>
                    <a:pt x="0" y="274"/>
                  </a:lnTo>
                  <a:lnTo>
                    <a:pt x="0" y="48"/>
                  </a:lnTo>
                  <a:lnTo>
                    <a:pt x="0" y="4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03040" y="4857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06640" y="5218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20680" y="49536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785840" y="4953600"/>
              <a:ext cx="36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734720" y="5033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76120" y="5033880"/>
              <a:ext cx="360" cy="1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734000" y="5113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04400" y="2764440"/>
              <a:ext cx="37800" cy="39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0" y="24"/>
                  </a:lnTo>
                  <a:lnTo>
                    <a:pt x="23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1776240" y="2782440"/>
              <a:ext cx="13428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798840" y="5791320"/>
            <a:ext cx="730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po function para controle da ALU (E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nais de controle: os mesmos do capítulo 5, ciclo ún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e registradores de pipeline escritos em todos ciclos: não é necessário 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25360" y="312840"/>
            <a:ext cx="1352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5 stages.  What needs to be controlled in each stag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Fetch and PC Incr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Decode / Register Fe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B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would control be handled in an automobile plan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ancy control center telling everyone what to d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we use a finite state machin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 control signals along just like the data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454040" y="1800360"/>
          <a:ext cx="6248520" cy="164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1800360"/>
                    <a:ext cx="624852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9" name="" descr=""/>
          <p:cNvPicPr/>
          <p:nvPr/>
        </p:nvPicPr>
        <p:blipFill>
          <a:blip r:embed="rId3"/>
          <a:stretch/>
        </p:blipFill>
        <p:spPr>
          <a:xfrm>
            <a:off x="2392200" y="4095720"/>
            <a:ext cx="4373640" cy="21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path with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447840" y="912960"/>
            <a:ext cx="8238600" cy="5587560"/>
            <a:chOff x="447840" y="912960"/>
            <a:chExt cx="8238600" cy="5587560"/>
          </a:xfrm>
        </p:grpSpPr>
        <p:sp>
          <p:nvSpPr>
            <p:cNvPr id="603" name=""/>
            <p:cNvSpPr/>
            <p:nvPr/>
          </p:nvSpPr>
          <p:spPr>
            <a:xfrm>
              <a:off x="8155080" y="2382120"/>
              <a:ext cx="334080" cy="1712880"/>
            </a:xfrm>
            <a:custGeom>
              <a:avLst/>
              <a:gdLst/>
              <a:ahLst/>
              <a:rect l="l" t="t" r="r" b="b"/>
              <a:pathLst>
                <a:path w="166" h="851">
                  <a:moveTo>
                    <a:pt x="166" y="851"/>
                  </a:moveTo>
                  <a:lnTo>
                    <a:pt x="166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88760" y="1259280"/>
              <a:ext cx="4808880" cy="2246040"/>
            </a:xfrm>
            <a:custGeom>
              <a:avLst/>
              <a:gdLst/>
              <a:ahLst/>
              <a:rect l="l" t="t" r="r" b="b"/>
              <a:pathLst>
                <a:path w="2388" h="1116">
                  <a:moveTo>
                    <a:pt x="2315" y="485"/>
                  </a:moveTo>
                  <a:lnTo>
                    <a:pt x="2388" y="485"/>
                  </a:lnTo>
                  <a:lnTo>
                    <a:pt x="2388" y="0"/>
                  </a:lnTo>
                  <a:lnTo>
                    <a:pt x="0" y="0"/>
                  </a:lnTo>
                  <a:lnTo>
                    <a:pt x="0" y="1116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550880" y="1047600"/>
              <a:ext cx="5497920" cy="2341080"/>
            </a:xfrm>
            <a:custGeom>
              <a:avLst/>
              <a:gdLst/>
              <a:ahLst/>
              <a:rect l="l" t="t" r="r" b="b"/>
              <a:pathLst>
                <a:path w="2730" h="1163">
                  <a:moveTo>
                    <a:pt x="0" y="159"/>
                  </a:moveTo>
                  <a:lnTo>
                    <a:pt x="2" y="0"/>
                  </a:lnTo>
                  <a:lnTo>
                    <a:pt x="2730" y="0"/>
                  </a:lnTo>
                  <a:lnTo>
                    <a:pt x="2730" y="1163"/>
                  </a:lnTo>
                  <a:lnTo>
                    <a:pt x="2659" y="1163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320520" y="2189160"/>
              <a:ext cx="285840" cy="1122840"/>
            </a:xfrm>
            <a:custGeom>
              <a:avLst/>
              <a:gdLst/>
              <a:ahLst/>
              <a:rect l="l" t="t" r="r" b="b"/>
              <a:pathLst>
                <a:path w="142" h="558">
                  <a:moveTo>
                    <a:pt x="0" y="0"/>
                  </a:moveTo>
                  <a:lnTo>
                    <a:pt x="71" y="0"/>
                  </a:lnTo>
                  <a:lnTo>
                    <a:pt x="71" y="558"/>
                  </a:lnTo>
                  <a:lnTo>
                    <a:pt x="142" y="558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20520" y="3468960"/>
              <a:ext cx="285840" cy="470880"/>
            </a:xfrm>
            <a:custGeom>
              <a:avLst/>
              <a:gdLst/>
              <a:ahLst/>
              <a:rect l="l" t="t" r="r" b="b"/>
              <a:pathLst>
                <a:path w="142" h="234">
                  <a:moveTo>
                    <a:pt x="0" y="234"/>
                  </a:moveTo>
                  <a:lnTo>
                    <a:pt x="71" y="234"/>
                  </a:lnTo>
                  <a:lnTo>
                    <a:pt x="71" y="0"/>
                  </a:lnTo>
                  <a:lnTo>
                    <a:pt x="142" y="0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20520" y="2309760"/>
              <a:ext cx="1501920" cy="2935080"/>
            </a:xfrm>
            <a:custGeom>
              <a:avLst/>
              <a:gdLst/>
              <a:ahLst/>
              <a:rect l="l" t="t" r="r" b="b"/>
              <a:pathLst>
                <a:path w="746" h="1458">
                  <a:moveTo>
                    <a:pt x="443" y="1299"/>
                  </a:moveTo>
                  <a:lnTo>
                    <a:pt x="443" y="1458"/>
                  </a:lnTo>
                  <a:lnTo>
                    <a:pt x="746" y="1458"/>
                  </a:lnTo>
                  <a:lnTo>
                    <a:pt x="746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20520" y="2428920"/>
              <a:ext cx="891720" cy="1376640"/>
            </a:xfrm>
            <a:custGeom>
              <a:avLst/>
              <a:gdLst/>
              <a:ahLst/>
              <a:rect l="l" t="t" r="r" b="b"/>
              <a:pathLst>
                <a:path w="443" h="684">
                  <a:moveTo>
                    <a:pt x="443" y="684"/>
                  </a:moveTo>
                  <a:lnTo>
                    <a:pt x="443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27280" y="2189160"/>
              <a:ext cx="1451520" cy="4096440"/>
            </a:xfrm>
            <a:custGeom>
              <a:avLst/>
              <a:gdLst/>
              <a:ahLst/>
              <a:rect l="l" t="t" r="r" b="b"/>
              <a:pathLst>
                <a:path w="721" h="2035">
                  <a:moveTo>
                    <a:pt x="0" y="0"/>
                  </a:moveTo>
                  <a:lnTo>
                    <a:pt x="721" y="0"/>
                  </a:lnTo>
                  <a:lnTo>
                    <a:pt x="721" y="2035"/>
                  </a:lnTo>
                  <a:lnTo>
                    <a:pt x="188" y="2035"/>
                  </a:lnTo>
                  <a:lnTo>
                    <a:pt x="188" y="1964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427280" y="2424600"/>
              <a:ext cx="1240200" cy="1623960"/>
            </a:xfrm>
            <a:custGeom>
              <a:avLst/>
              <a:gdLst/>
              <a:ahLst/>
              <a:rect l="l" t="t" r="r" b="b"/>
              <a:pathLst>
                <a:path w="616" h="807">
                  <a:moveTo>
                    <a:pt x="0" y="0"/>
                  </a:moveTo>
                  <a:lnTo>
                    <a:pt x="616" y="2"/>
                  </a:lnTo>
                  <a:lnTo>
                    <a:pt x="616" y="540"/>
                  </a:lnTo>
                  <a:lnTo>
                    <a:pt x="223" y="540"/>
                  </a:lnTo>
                  <a:lnTo>
                    <a:pt x="223" y="807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27280" y="2309760"/>
              <a:ext cx="1344960" cy="3423960"/>
            </a:xfrm>
            <a:custGeom>
              <a:avLst/>
              <a:gdLst/>
              <a:ahLst/>
              <a:rect l="l" t="t" r="r" b="b"/>
              <a:pathLst>
                <a:path w="668" h="1701">
                  <a:moveTo>
                    <a:pt x="0" y="0"/>
                  </a:moveTo>
                  <a:lnTo>
                    <a:pt x="668" y="0"/>
                  </a:lnTo>
                  <a:lnTo>
                    <a:pt x="668" y="1701"/>
                  </a:lnTo>
                  <a:lnTo>
                    <a:pt x="361" y="1701"/>
                  </a:lnTo>
                  <a:lnTo>
                    <a:pt x="361" y="1613"/>
                  </a:lnTo>
                </a:path>
              </a:pathLst>
            </a:custGeom>
            <a:noFill/>
            <a:ln w="158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02040" y="3940200"/>
              <a:ext cx="382680" cy="2160"/>
            </a:xfrm>
            <a:prstGeom prst="line">
              <a:avLst/>
            </a:prstGeom>
            <a:ln w="648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72480" y="3918240"/>
              <a:ext cx="5004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3792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3792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31240" y="4361040"/>
              <a:ext cx="143280" cy="816840"/>
            </a:xfrm>
            <a:custGeom>
              <a:avLst/>
              <a:gdLst/>
              <a:ahLst/>
              <a:rect l="l" t="t" r="r" b="b"/>
              <a:pathLst>
                <a:path w="71" h="406">
                  <a:moveTo>
                    <a:pt x="71" y="0"/>
                  </a:moveTo>
                  <a:lnTo>
                    <a:pt x="71" y="406"/>
                  </a:lnTo>
                  <a:lnTo>
                    <a:pt x="0" y="406"/>
                  </a:lnTo>
                </a:path>
              </a:pathLst>
            </a:custGeom>
            <a:noFill/>
            <a:ln w="158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06360" y="3265920"/>
              <a:ext cx="299880" cy="249480"/>
            </a:xfrm>
            <a:custGeom>
              <a:avLst/>
              <a:gdLst/>
              <a:ahLst/>
              <a:rect l="l" t="t" r="r" b="b"/>
              <a:pathLst>
                <a:path w="149" h="124">
                  <a:moveTo>
                    <a:pt x="88" y="122"/>
                  </a:moveTo>
                  <a:lnTo>
                    <a:pt x="98" y="122"/>
                  </a:lnTo>
                  <a:lnTo>
                    <a:pt x="107" y="120"/>
                  </a:lnTo>
                  <a:lnTo>
                    <a:pt x="117" y="117"/>
                  </a:lnTo>
                  <a:lnTo>
                    <a:pt x="124" y="111"/>
                  </a:lnTo>
                  <a:lnTo>
                    <a:pt x="132" y="105"/>
                  </a:lnTo>
                  <a:lnTo>
                    <a:pt x="138" y="97"/>
                  </a:lnTo>
                  <a:lnTo>
                    <a:pt x="142" y="90"/>
                  </a:lnTo>
                  <a:lnTo>
                    <a:pt x="146" y="82"/>
                  </a:lnTo>
                  <a:lnTo>
                    <a:pt x="147" y="73"/>
                  </a:lnTo>
                  <a:lnTo>
                    <a:pt x="149" y="61"/>
                  </a:lnTo>
                  <a:lnTo>
                    <a:pt x="147" y="52"/>
                  </a:lnTo>
                  <a:lnTo>
                    <a:pt x="146" y="42"/>
                  </a:lnTo>
                  <a:lnTo>
                    <a:pt x="142" y="32"/>
                  </a:lnTo>
                  <a:lnTo>
                    <a:pt x="138" y="25"/>
                  </a:lnTo>
                  <a:lnTo>
                    <a:pt x="132" y="17"/>
                  </a:lnTo>
                  <a:lnTo>
                    <a:pt x="124" y="11"/>
                  </a:lnTo>
                  <a:lnTo>
                    <a:pt x="117" y="7"/>
                  </a:lnTo>
                  <a:lnTo>
                    <a:pt x="107" y="4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88" y="124"/>
                  </a:lnTo>
                  <a:lnTo>
                    <a:pt x="88" y="124"/>
                  </a:lnTo>
                  <a:lnTo>
                    <a:pt x="88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06360" y="3265920"/>
              <a:ext cx="299880" cy="249480"/>
            </a:xfrm>
            <a:custGeom>
              <a:avLst/>
              <a:gdLst/>
              <a:ahLst/>
              <a:rect l="l" t="t" r="r" b="b"/>
              <a:pathLst>
                <a:path w="149" h="124">
                  <a:moveTo>
                    <a:pt x="88" y="122"/>
                  </a:moveTo>
                  <a:lnTo>
                    <a:pt x="98" y="122"/>
                  </a:lnTo>
                  <a:lnTo>
                    <a:pt x="107" y="120"/>
                  </a:lnTo>
                  <a:lnTo>
                    <a:pt x="117" y="117"/>
                  </a:lnTo>
                  <a:lnTo>
                    <a:pt x="124" y="111"/>
                  </a:lnTo>
                  <a:lnTo>
                    <a:pt x="132" y="105"/>
                  </a:lnTo>
                  <a:lnTo>
                    <a:pt x="138" y="97"/>
                  </a:lnTo>
                  <a:lnTo>
                    <a:pt x="142" y="90"/>
                  </a:lnTo>
                  <a:lnTo>
                    <a:pt x="146" y="82"/>
                  </a:lnTo>
                  <a:lnTo>
                    <a:pt x="147" y="73"/>
                  </a:lnTo>
                  <a:lnTo>
                    <a:pt x="149" y="61"/>
                  </a:lnTo>
                  <a:lnTo>
                    <a:pt x="147" y="52"/>
                  </a:lnTo>
                  <a:lnTo>
                    <a:pt x="146" y="42"/>
                  </a:lnTo>
                  <a:lnTo>
                    <a:pt x="142" y="32"/>
                  </a:lnTo>
                  <a:lnTo>
                    <a:pt x="138" y="25"/>
                  </a:lnTo>
                  <a:lnTo>
                    <a:pt x="132" y="17"/>
                  </a:lnTo>
                  <a:lnTo>
                    <a:pt x="124" y="11"/>
                  </a:lnTo>
                  <a:lnTo>
                    <a:pt x="117" y="7"/>
                  </a:lnTo>
                  <a:lnTo>
                    <a:pt x="107" y="4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88" y="124"/>
                  </a:lnTo>
                  <a:lnTo>
                    <a:pt x="88" y="124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58760" y="5603040"/>
              <a:ext cx="4608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58760" y="6031800"/>
              <a:ext cx="4608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94760" y="417996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3365640" y="5113440"/>
              <a:ext cx="7020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0760" y="3458880"/>
              <a:ext cx="177120" cy="497520"/>
            </a:xfrm>
            <a:custGeom>
              <a:avLst/>
              <a:gdLst/>
              <a:ahLst/>
              <a:rect l="l" t="t" r="r" b="b"/>
              <a:pathLst>
                <a:path w="88" h="247">
                  <a:moveTo>
                    <a:pt x="88" y="247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47"/>
                  </a:lnTo>
                  <a:lnTo>
                    <a:pt x="88" y="247"/>
                  </a:lnTo>
                  <a:lnTo>
                    <a:pt x="88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90760" y="3458880"/>
              <a:ext cx="177120" cy="497520"/>
            </a:xfrm>
            <a:custGeom>
              <a:avLst/>
              <a:gdLst/>
              <a:ahLst/>
              <a:rect l="l" t="t" r="r" b="b"/>
              <a:pathLst>
                <a:path w="88" h="247">
                  <a:moveTo>
                    <a:pt x="88" y="247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47"/>
                  </a:lnTo>
                  <a:lnTo>
                    <a:pt x="88" y="247"/>
                  </a:lnTo>
                  <a:lnTo>
                    <a:pt x="88" y="24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6680" y="36486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2920" y="36486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017720" y="3505680"/>
              <a:ext cx="1073160" cy="1116720"/>
            </a:xfrm>
            <a:custGeom>
              <a:avLst/>
              <a:gdLst/>
              <a:ahLst/>
              <a:rect l="l" t="t" r="r" b="b"/>
              <a:pathLst>
                <a:path w="533" h="555">
                  <a:moveTo>
                    <a:pt x="531" y="553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555"/>
                  </a:lnTo>
                  <a:lnTo>
                    <a:pt x="533" y="555"/>
                  </a:lnTo>
                  <a:lnTo>
                    <a:pt x="533" y="555"/>
                  </a:lnTo>
                  <a:lnTo>
                    <a:pt x="531" y="5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17720" y="3505680"/>
              <a:ext cx="1073160" cy="1116720"/>
            </a:xfrm>
            <a:custGeom>
              <a:avLst/>
              <a:gdLst/>
              <a:ahLst/>
              <a:rect l="l" t="t" r="r" b="b"/>
              <a:pathLst>
                <a:path w="533" h="555">
                  <a:moveTo>
                    <a:pt x="531" y="553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555"/>
                  </a:lnTo>
                  <a:lnTo>
                    <a:pt x="533" y="555"/>
                  </a:lnTo>
                  <a:lnTo>
                    <a:pt x="533" y="5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323720" y="3948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45680" y="394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399320" y="39484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46480" y="3948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74560" y="39484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04440" y="394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58080" y="39484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09560" y="3948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631520" y="39484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54560" y="394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8920" y="394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58960" y="394848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85640" y="40611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61240" y="4061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517400" y="40611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596600" y="4061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47360" y="4061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82280" y="4061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6200000">
              <a:off x="2521800" y="3913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2508120" y="3877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6200000">
              <a:off x="2508840" y="3824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6200000">
              <a:off x="2523960" y="3791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6200000">
              <a:off x="2518920" y="3765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16200000">
              <a:off x="2508120" y="3722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6200000">
              <a:off x="2511000" y="36694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2523960" y="3634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2525040" y="36014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6200000">
              <a:off x="2505960" y="3573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6200000">
              <a:off x="2508120" y="3519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674760" y="3805560"/>
              <a:ext cx="1073160" cy="1119240"/>
            </a:xfrm>
            <a:custGeom>
              <a:avLst/>
              <a:gdLst/>
              <a:ahLst/>
              <a:rect l="l" t="t" r="r" b="b"/>
              <a:pathLst>
                <a:path w="533" h="556">
                  <a:moveTo>
                    <a:pt x="533" y="556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556"/>
                  </a:lnTo>
                  <a:lnTo>
                    <a:pt x="533" y="556"/>
                  </a:lnTo>
                  <a:lnTo>
                    <a:pt x="533" y="5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674760" y="3805560"/>
              <a:ext cx="1073160" cy="1119240"/>
            </a:xfrm>
            <a:custGeom>
              <a:avLst/>
              <a:gdLst/>
              <a:ahLst/>
              <a:rect l="l" t="t" r="r" b="b"/>
              <a:pathLst>
                <a:path w="533" h="556">
                  <a:moveTo>
                    <a:pt x="533" y="556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556"/>
                  </a:lnTo>
                  <a:lnTo>
                    <a:pt x="533" y="556"/>
                  </a:lnTo>
                  <a:lnTo>
                    <a:pt x="533" y="5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94760" y="360828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894760" y="446544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74800" y="2404440"/>
              <a:ext cx="483120" cy="1299960"/>
            </a:xfrm>
            <a:custGeom>
              <a:avLst/>
              <a:gdLst/>
              <a:ahLst/>
              <a:rect l="l" t="t" r="r" b="b"/>
              <a:pathLst>
                <a:path w="240" h="646">
                  <a:moveTo>
                    <a:pt x="240" y="0"/>
                  </a:moveTo>
                  <a:lnTo>
                    <a:pt x="0" y="2"/>
                  </a:lnTo>
                  <a:lnTo>
                    <a:pt x="0" y="64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1184760" y="2976120"/>
              <a:ext cx="17280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396080" y="2213280"/>
              <a:ext cx="313920" cy="959760"/>
            </a:xfrm>
            <a:custGeom>
              <a:avLst/>
              <a:gdLst/>
              <a:ahLst/>
              <a:rect l="l" t="t" r="r" b="b"/>
              <a:pathLst>
                <a:path w="156" h="477">
                  <a:moveTo>
                    <a:pt x="0" y="0"/>
                  </a:moveTo>
                  <a:lnTo>
                    <a:pt x="0" y="193"/>
                  </a:lnTo>
                  <a:lnTo>
                    <a:pt x="50" y="239"/>
                  </a:lnTo>
                  <a:lnTo>
                    <a:pt x="0" y="285"/>
                  </a:lnTo>
                  <a:lnTo>
                    <a:pt x="0" y="477"/>
                  </a:lnTo>
                  <a:lnTo>
                    <a:pt x="156" y="331"/>
                  </a:lnTo>
                  <a:lnTo>
                    <a:pt x="156" y="145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21000" y="26377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580040" y="2637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634400" y="2637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29320" y="410940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29320" y="4538160"/>
              <a:ext cx="5004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0" y="23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53320" y="4322880"/>
              <a:ext cx="4608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4964760" y="4348800"/>
              <a:ext cx="1044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053320" y="3751200"/>
              <a:ext cx="4608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344080" y="4159800"/>
              <a:ext cx="5040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344080" y="4588560"/>
              <a:ext cx="5040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620400" y="469692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76640" y="4795560"/>
              <a:ext cx="354240" cy="760680"/>
            </a:xfrm>
            <a:custGeom>
              <a:avLst/>
              <a:gdLst/>
              <a:ahLst/>
              <a:rect l="l" t="t" r="r" b="b"/>
              <a:pathLst>
                <a:path w="176" h="378">
                  <a:moveTo>
                    <a:pt x="88" y="376"/>
                  </a:moveTo>
                  <a:lnTo>
                    <a:pt x="103" y="376"/>
                  </a:lnTo>
                  <a:lnTo>
                    <a:pt x="117" y="368"/>
                  </a:lnTo>
                  <a:lnTo>
                    <a:pt x="128" y="357"/>
                  </a:lnTo>
                  <a:lnTo>
                    <a:pt x="140" y="342"/>
                  </a:lnTo>
                  <a:lnTo>
                    <a:pt x="151" y="322"/>
                  </a:lnTo>
                  <a:lnTo>
                    <a:pt x="159" y="301"/>
                  </a:lnTo>
                  <a:lnTo>
                    <a:pt x="166" y="276"/>
                  </a:lnTo>
                  <a:lnTo>
                    <a:pt x="172" y="250"/>
                  </a:lnTo>
                  <a:lnTo>
                    <a:pt x="176" y="219"/>
                  </a:lnTo>
                  <a:lnTo>
                    <a:pt x="176" y="190"/>
                  </a:lnTo>
                  <a:lnTo>
                    <a:pt x="176" y="160"/>
                  </a:lnTo>
                  <a:lnTo>
                    <a:pt x="172" y="129"/>
                  </a:lnTo>
                  <a:lnTo>
                    <a:pt x="166" y="102"/>
                  </a:lnTo>
                  <a:lnTo>
                    <a:pt x="159" y="79"/>
                  </a:lnTo>
                  <a:lnTo>
                    <a:pt x="151" y="56"/>
                  </a:lnTo>
                  <a:lnTo>
                    <a:pt x="140" y="37"/>
                  </a:lnTo>
                  <a:lnTo>
                    <a:pt x="128" y="22"/>
                  </a:lnTo>
                  <a:lnTo>
                    <a:pt x="117" y="10"/>
                  </a:lnTo>
                  <a:lnTo>
                    <a:pt x="103" y="4"/>
                  </a:lnTo>
                  <a:lnTo>
                    <a:pt x="88" y="0"/>
                  </a:lnTo>
                  <a:lnTo>
                    <a:pt x="73" y="4"/>
                  </a:lnTo>
                  <a:lnTo>
                    <a:pt x="59" y="10"/>
                  </a:lnTo>
                  <a:lnTo>
                    <a:pt x="48" y="22"/>
                  </a:lnTo>
                  <a:lnTo>
                    <a:pt x="36" y="37"/>
                  </a:lnTo>
                  <a:lnTo>
                    <a:pt x="25" y="56"/>
                  </a:lnTo>
                  <a:lnTo>
                    <a:pt x="17" y="79"/>
                  </a:lnTo>
                  <a:lnTo>
                    <a:pt x="9" y="102"/>
                  </a:lnTo>
                  <a:lnTo>
                    <a:pt x="3" y="129"/>
                  </a:lnTo>
                  <a:lnTo>
                    <a:pt x="0" y="160"/>
                  </a:lnTo>
                  <a:lnTo>
                    <a:pt x="0" y="190"/>
                  </a:lnTo>
                  <a:lnTo>
                    <a:pt x="0" y="221"/>
                  </a:lnTo>
                  <a:lnTo>
                    <a:pt x="3" y="250"/>
                  </a:lnTo>
                  <a:lnTo>
                    <a:pt x="9" y="276"/>
                  </a:lnTo>
                  <a:lnTo>
                    <a:pt x="17" y="301"/>
                  </a:lnTo>
                  <a:lnTo>
                    <a:pt x="25" y="322"/>
                  </a:lnTo>
                  <a:lnTo>
                    <a:pt x="36" y="342"/>
                  </a:lnTo>
                  <a:lnTo>
                    <a:pt x="48" y="357"/>
                  </a:lnTo>
                  <a:lnTo>
                    <a:pt x="59" y="368"/>
                  </a:lnTo>
                  <a:lnTo>
                    <a:pt x="74" y="376"/>
                  </a:lnTo>
                  <a:lnTo>
                    <a:pt x="88" y="378"/>
                  </a:lnTo>
                  <a:lnTo>
                    <a:pt x="88" y="378"/>
                  </a:lnTo>
                  <a:lnTo>
                    <a:pt x="88" y="3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976640" y="4795560"/>
              <a:ext cx="354240" cy="760680"/>
            </a:xfrm>
            <a:custGeom>
              <a:avLst/>
              <a:gdLst/>
              <a:ahLst/>
              <a:rect l="l" t="t" r="r" b="b"/>
              <a:pathLst>
                <a:path w="176" h="378">
                  <a:moveTo>
                    <a:pt x="88" y="376"/>
                  </a:moveTo>
                  <a:lnTo>
                    <a:pt x="103" y="376"/>
                  </a:lnTo>
                  <a:lnTo>
                    <a:pt x="117" y="368"/>
                  </a:lnTo>
                  <a:lnTo>
                    <a:pt x="128" y="357"/>
                  </a:lnTo>
                  <a:lnTo>
                    <a:pt x="140" y="342"/>
                  </a:lnTo>
                  <a:lnTo>
                    <a:pt x="151" y="322"/>
                  </a:lnTo>
                  <a:lnTo>
                    <a:pt x="159" y="301"/>
                  </a:lnTo>
                  <a:lnTo>
                    <a:pt x="166" y="276"/>
                  </a:lnTo>
                  <a:lnTo>
                    <a:pt x="172" y="250"/>
                  </a:lnTo>
                  <a:lnTo>
                    <a:pt x="176" y="219"/>
                  </a:lnTo>
                  <a:lnTo>
                    <a:pt x="176" y="190"/>
                  </a:lnTo>
                  <a:lnTo>
                    <a:pt x="176" y="160"/>
                  </a:lnTo>
                  <a:lnTo>
                    <a:pt x="172" y="129"/>
                  </a:lnTo>
                  <a:lnTo>
                    <a:pt x="166" y="102"/>
                  </a:lnTo>
                  <a:lnTo>
                    <a:pt x="159" y="79"/>
                  </a:lnTo>
                  <a:lnTo>
                    <a:pt x="151" y="56"/>
                  </a:lnTo>
                  <a:lnTo>
                    <a:pt x="140" y="37"/>
                  </a:lnTo>
                  <a:lnTo>
                    <a:pt x="128" y="22"/>
                  </a:lnTo>
                  <a:lnTo>
                    <a:pt x="117" y="10"/>
                  </a:lnTo>
                  <a:lnTo>
                    <a:pt x="103" y="4"/>
                  </a:lnTo>
                  <a:lnTo>
                    <a:pt x="88" y="0"/>
                  </a:lnTo>
                  <a:lnTo>
                    <a:pt x="73" y="4"/>
                  </a:lnTo>
                  <a:lnTo>
                    <a:pt x="59" y="10"/>
                  </a:lnTo>
                  <a:lnTo>
                    <a:pt x="48" y="22"/>
                  </a:lnTo>
                  <a:lnTo>
                    <a:pt x="36" y="37"/>
                  </a:lnTo>
                  <a:lnTo>
                    <a:pt x="25" y="56"/>
                  </a:lnTo>
                  <a:lnTo>
                    <a:pt x="17" y="79"/>
                  </a:lnTo>
                  <a:lnTo>
                    <a:pt x="9" y="102"/>
                  </a:lnTo>
                  <a:lnTo>
                    <a:pt x="3" y="129"/>
                  </a:lnTo>
                  <a:lnTo>
                    <a:pt x="0" y="160"/>
                  </a:lnTo>
                  <a:lnTo>
                    <a:pt x="0" y="190"/>
                  </a:lnTo>
                  <a:lnTo>
                    <a:pt x="0" y="221"/>
                  </a:lnTo>
                  <a:lnTo>
                    <a:pt x="3" y="250"/>
                  </a:lnTo>
                  <a:lnTo>
                    <a:pt x="9" y="276"/>
                  </a:lnTo>
                  <a:lnTo>
                    <a:pt x="17" y="301"/>
                  </a:lnTo>
                  <a:lnTo>
                    <a:pt x="25" y="322"/>
                  </a:lnTo>
                  <a:lnTo>
                    <a:pt x="36" y="342"/>
                  </a:lnTo>
                  <a:lnTo>
                    <a:pt x="48" y="357"/>
                  </a:lnTo>
                  <a:lnTo>
                    <a:pt x="59" y="368"/>
                  </a:lnTo>
                  <a:lnTo>
                    <a:pt x="74" y="376"/>
                  </a:lnTo>
                  <a:lnTo>
                    <a:pt x="88" y="378"/>
                  </a:lnTo>
                  <a:lnTo>
                    <a:pt x="88" y="378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47960" y="5395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76040" y="539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27880" y="5395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75040" y="5395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003120" y="53953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33000" y="539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86640" y="5395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32720" y="5395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60080" y="53953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180240" y="539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234600" y="539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89320" y="53953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47960" y="5490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76040" y="5490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28600" y="5490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78640" y="5490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053160" y="5490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07520" y="5490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58280" y="5490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27280" y="5173920"/>
              <a:ext cx="50904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6200000">
              <a:off x="8371800" y="38966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16200000">
              <a:off x="8382600" y="3836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6200000">
              <a:off x="8369280" y="376128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6200000">
              <a:off x="8402760" y="3715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6200000">
              <a:off x="8382600" y="3676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6200000">
              <a:off x="8377560" y="36144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6200000">
              <a:off x="8386920" y="355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16200000">
              <a:off x="8386920" y="3499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00200" y="5594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261760" y="5594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314680" y="5594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85600" y="55947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456880" y="5594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509520" y="31028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71800" y="3102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605280" y="310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55320" y="310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09680" y="310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57200" y="310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51720" y="6146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17240" y="6146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72680" y="6146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27040" y="6146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094720" y="6146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142240" y="6146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19360" y="33768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80560" y="337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436000" y="3376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04400" y="33768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66320" y="3376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599800" y="3376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52120" y="3682800"/>
              <a:ext cx="4644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41720" y="238212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341720" y="2953800"/>
              <a:ext cx="50040" cy="482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86840" y="2921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4427280" y="2690280"/>
              <a:ext cx="46080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34880" y="2496960"/>
              <a:ext cx="594000" cy="961920"/>
            </a:xfrm>
            <a:custGeom>
              <a:avLst/>
              <a:gdLst/>
              <a:ahLst/>
              <a:rect l="l" t="t" r="r" b="b"/>
              <a:pathLst>
                <a:path w="295" h="478">
                  <a:moveTo>
                    <a:pt x="0" y="0"/>
                  </a:moveTo>
                  <a:lnTo>
                    <a:pt x="0" y="194"/>
                  </a:lnTo>
                  <a:lnTo>
                    <a:pt x="48" y="240"/>
                  </a:lnTo>
                  <a:lnTo>
                    <a:pt x="0" y="284"/>
                  </a:lnTo>
                  <a:lnTo>
                    <a:pt x="0" y="478"/>
                  </a:lnTo>
                  <a:lnTo>
                    <a:pt x="295" y="332"/>
                  </a:lnTo>
                  <a:lnTo>
                    <a:pt x="295" y="14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34880" y="2496960"/>
              <a:ext cx="594000" cy="961920"/>
            </a:xfrm>
            <a:custGeom>
              <a:avLst/>
              <a:gdLst/>
              <a:ahLst/>
              <a:rect l="l" t="t" r="r" b="b"/>
              <a:pathLst>
                <a:path w="295" h="478">
                  <a:moveTo>
                    <a:pt x="0" y="0"/>
                  </a:moveTo>
                  <a:lnTo>
                    <a:pt x="0" y="194"/>
                  </a:lnTo>
                  <a:lnTo>
                    <a:pt x="48" y="240"/>
                  </a:lnTo>
                  <a:lnTo>
                    <a:pt x="0" y="284"/>
                  </a:lnTo>
                  <a:lnTo>
                    <a:pt x="0" y="478"/>
                  </a:lnTo>
                  <a:lnTo>
                    <a:pt x="295" y="332"/>
                  </a:lnTo>
                  <a:lnTo>
                    <a:pt x="295" y="14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528880" y="2976120"/>
              <a:ext cx="5673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72480" y="2953800"/>
              <a:ext cx="50040" cy="482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" y="24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7880" y="3704760"/>
              <a:ext cx="2152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965160" y="3682800"/>
              <a:ext cx="48240" cy="5004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lnTo>
                    <a:pt x="0" y="25"/>
                  </a:lnTo>
                  <a:lnTo>
                    <a:pt x="24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6400" y="368280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04960" y="515232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563280" y="4795560"/>
              <a:ext cx="354240" cy="760680"/>
            </a:xfrm>
            <a:custGeom>
              <a:avLst/>
              <a:gdLst/>
              <a:ahLst/>
              <a:rect l="l" t="t" r="r" b="b"/>
              <a:pathLst>
                <a:path w="176" h="378">
                  <a:moveTo>
                    <a:pt x="88" y="376"/>
                  </a:moveTo>
                  <a:lnTo>
                    <a:pt x="103" y="376"/>
                  </a:lnTo>
                  <a:lnTo>
                    <a:pt x="117" y="368"/>
                  </a:lnTo>
                  <a:lnTo>
                    <a:pt x="128" y="357"/>
                  </a:lnTo>
                  <a:lnTo>
                    <a:pt x="142" y="342"/>
                  </a:lnTo>
                  <a:lnTo>
                    <a:pt x="151" y="322"/>
                  </a:lnTo>
                  <a:lnTo>
                    <a:pt x="161" y="301"/>
                  </a:lnTo>
                  <a:lnTo>
                    <a:pt x="167" y="276"/>
                  </a:lnTo>
                  <a:lnTo>
                    <a:pt x="172" y="250"/>
                  </a:lnTo>
                  <a:lnTo>
                    <a:pt x="176" y="221"/>
                  </a:lnTo>
                  <a:lnTo>
                    <a:pt x="176" y="190"/>
                  </a:lnTo>
                  <a:lnTo>
                    <a:pt x="176" y="160"/>
                  </a:lnTo>
                  <a:lnTo>
                    <a:pt x="172" y="129"/>
                  </a:lnTo>
                  <a:lnTo>
                    <a:pt x="167" y="102"/>
                  </a:lnTo>
                  <a:lnTo>
                    <a:pt x="161" y="79"/>
                  </a:lnTo>
                  <a:lnTo>
                    <a:pt x="151" y="56"/>
                  </a:lnTo>
                  <a:lnTo>
                    <a:pt x="142" y="37"/>
                  </a:lnTo>
                  <a:lnTo>
                    <a:pt x="128" y="22"/>
                  </a:lnTo>
                  <a:lnTo>
                    <a:pt x="117" y="10"/>
                  </a:lnTo>
                  <a:lnTo>
                    <a:pt x="103" y="4"/>
                  </a:lnTo>
                  <a:lnTo>
                    <a:pt x="88" y="0"/>
                  </a:lnTo>
                  <a:lnTo>
                    <a:pt x="75" y="4"/>
                  </a:lnTo>
                  <a:lnTo>
                    <a:pt x="61" y="10"/>
                  </a:lnTo>
                  <a:lnTo>
                    <a:pt x="48" y="22"/>
                  </a:lnTo>
                  <a:lnTo>
                    <a:pt x="36" y="37"/>
                  </a:lnTo>
                  <a:lnTo>
                    <a:pt x="27" y="56"/>
                  </a:lnTo>
                  <a:lnTo>
                    <a:pt x="17" y="79"/>
                  </a:lnTo>
                  <a:lnTo>
                    <a:pt x="9" y="102"/>
                  </a:lnTo>
                  <a:lnTo>
                    <a:pt x="4" y="131"/>
                  </a:lnTo>
                  <a:lnTo>
                    <a:pt x="2" y="160"/>
                  </a:lnTo>
                  <a:lnTo>
                    <a:pt x="0" y="190"/>
                  </a:lnTo>
                  <a:lnTo>
                    <a:pt x="2" y="221"/>
                  </a:lnTo>
                  <a:lnTo>
                    <a:pt x="4" y="250"/>
                  </a:lnTo>
                  <a:lnTo>
                    <a:pt x="9" y="276"/>
                  </a:lnTo>
                  <a:lnTo>
                    <a:pt x="17" y="301"/>
                  </a:lnTo>
                  <a:lnTo>
                    <a:pt x="27" y="322"/>
                  </a:lnTo>
                  <a:lnTo>
                    <a:pt x="36" y="342"/>
                  </a:lnTo>
                  <a:lnTo>
                    <a:pt x="48" y="357"/>
                  </a:lnTo>
                  <a:lnTo>
                    <a:pt x="61" y="368"/>
                  </a:lnTo>
                  <a:lnTo>
                    <a:pt x="75" y="376"/>
                  </a:lnTo>
                  <a:lnTo>
                    <a:pt x="88" y="378"/>
                  </a:lnTo>
                  <a:lnTo>
                    <a:pt x="88" y="378"/>
                  </a:lnTo>
                  <a:lnTo>
                    <a:pt x="88" y="3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63280" y="4795560"/>
              <a:ext cx="354240" cy="760680"/>
            </a:xfrm>
            <a:custGeom>
              <a:avLst/>
              <a:gdLst/>
              <a:ahLst/>
              <a:rect l="l" t="t" r="r" b="b"/>
              <a:pathLst>
                <a:path w="176" h="378">
                  <a:moveTo>
                    <a:pt x="88" y="376"/>
                  </a:moveTo>
                  <a:lnTo>
                    <a:pt x="103" y="376"/>
                  </a:lnTo>
                  <a:lnTo>
                    <a:pt x="117" y="368"/>
                  </a:lnTo>
                  <a:lnTo>
                    <a:pt x="128" y="357"/>
                  </a:lnTo>
                  <a:lnTo>
                    <a:pt x="142" y="342"/>
                  </a:lnTo>
                  <a:lnTo>
                    <a:pt x="151" y="322"/>
                  </a:lnTo>
                  <a:lnTo>
                    <a:pt x="161" y="301"/>
                  </a:lnTo>
                  <a:lnTo>
                    <a:pt x="167" y="276"/>
                  </a:lnTo>
                  <a:lnTo>
                    <a:pt x="172" y="250"/>
                  </a:lnTo>
                  <a:lnTo>
                    <a:pt x="176" y="221"/>
                  </a:lnTo>
                  <a:lnTo>
                    <a:pt x="176" y="190"/>
                  </a:lnTo>
                  <a:lnTo>
                    <a:pt x="176" y="160"/>
                  </a:lnTo>
                  <a:lnTo>
                    <a:pt x="172" y="129"/>
                  </a:lnTo>
                  <a:lnTo>
                    <a:pt x="167" y="102"/>
                  </a:lnTo>
                  <a:lnTo>
                    <a:pt x="161" y="79"/>
                  </a:lnTo>
                  <a:lnTo>
                    <a:pt x="151" y="56"/>
                  </a:lnTo>
                  <a:lnTo>
                    <a:pt x="142" y="37"/>
                  </a:lnTo>
                  <a:lnTo>
                    <a:pt x="128" y="22"/>
                  </a:lnTo>
                  <a:lnTo>
                    <a:pt x="117" y="10"/>
                  </a:lnTo>
                  <a:lnTo>
                    <a:pt x="103" y="4"/>
                  </a:lnTo>
                  <a:lnTo>
                    <a:pt x="88" y="0"/>
                  </a:lnTo>
                  <a:lnTo>
                    <a:pt x="75" y="4"/>
                  </a:lnTo>
                  <a:lnTo>
                    <a:pt x="61" y="10"/>
                  </a:lnTo>
                  <a:lnTo>
                    <a:pt x="48" y="22"/>
                  </a:lnTo>
                  <a:lnTo>
                    <a:pt x="36" y="37"/>
                  </a:lnTo>
                  <a:lnTo>
                    <a:pt x="27" y="56"/>
                  </a:lnTo>
                  <a:lnTo>
                    <a:pt x="17" y="79"/>
                  </a:lnTo>
                  <a:lnTo>
                    <a:pt x="9" y="102"/>
                  </a:lnTo>
                  <a:lnTo>
                    <a:pt x="4" y="131"/>
                  </a:lnTo>
                  <a:lnTo>
                    <a:pt x="2" y="160"/>
                  </a:lnTo>
                  <a:lnTo>
                    <a:pt x="0" y="190"/>
                  </a:lnTo>
                  <a:lnTo>
                    <a:pt x="2" y="221"/>
                  </a:lnTo>
                  <a:lnTo>
                    <a:pt x="4" y="250"/>
                  </a:lnTo>
                  <a:lnTo>
                    <a:pt x="9" y="276"/>
                  </a:lnTo>
                  <a:lnTo>
                    <a:pt x="17" y="301"/>
                  </a:lnTo>
                  <a:lnTo>
                    <a:pt x="27" y="322"/>
                  </a:lnTo>
                  <a:lnTo>
                    <a:pt x="36" y="342"/>
                  </a:lnTo>
                  <a:lnTo>
                    <a:pt x="48" y="357"/>
                  </a:lnTo>
                  <a:lnTo>
                    <a:pt x="61" y="368"/>
                  </a:lnTo>
                  <a:lnTo>
                    <a:pt x="75" y="376"/>
                  </a:lnTo>
                  <a:lnTo>
                    <a:pt x="88" y="378"/>
                  </a:lnTo>
                  <a:lnTo>
                    <a:pt x="88" y="3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342600" y="4989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93360" y="4989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3992040" y="5113440"/>
              <a:ext cx="6840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7560" y="4989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16880" y="4989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47960" y="4942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6040" y="494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27880" y="4942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975040" y="4942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03120" y="4942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33000" y="494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086640" y="4942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32720" y="4942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60080" y="49428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83120" y="494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34600" y="494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89320" y="494280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47960" y="5039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6040" y="5039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928600" y="5039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81880" y="5039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53160" y="5039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107880" y="5039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880520" y="266796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80520" y="323748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400600" y="4099320"/>
              <a:ext cx="178920" cy="601560"/>
            </a:xfrm>
            <a:custGeom>
              <a:avLst/>
              <a:gdLst/>
              <a:ahLst/>
              <a:rect l="l" t="t" r="r" b="b"/>
              <a:pathLst>
                <a:path w="89" h="299">
                  <a:moveTo>
                    <a:pt x="0" y="42"/>
                  </a:moveTo>
                  <a:lnTo>
                    <a:pt x="0" y="36"/>
                  </a:lnTo>
                  <a:lnTo>
                    <a:pt x="2" y="28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4" y="11"/>
                  </a:lnTo>
                  <a:lnTo>
                    <a:pt x="18" y="7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2"/>
                  </a:lnTo>
                  <a:lnTo>
                    <a:pt x="66" y="3"/>
                  </a:lnTo>
                  <a:lnTo>
                    <a:pt x="71" y="7"/>
                  </a:lnTo>
                  <a:lnTo>
                    <a:pt x="75" y="11"/>
                  </a:lnTo>
                  <a:lnTo>
                    <a:pt x="81" y="17"/>
                  </a:lnTo>
                  <a:lnTo>
                    <a:pt x="83" y="23"/>
                  </a:lnTo>
                  <a:lnTo>
                    <a:pt x="87" y="28"/>
                  </a:lnTo>
                  <a:lnTo>
                    <a:pt x="89" y="36"/>
                  </a:lnTo>
                  <a:lnTo>
                    <a:pt x="89" y="44"/>
                  </a:lnTo>
                  <a:lnTo>
                    <a:pt x="89" y="255"/>
                  </a:lnTo>
                  <a:lnTo>
                    <a:pt x="89" y="262"/>
                  </a:lnTo>
                  <a:lnTo>
                    <a:pt x="87" y="270"/>
                  </a:lnTo>
                  <a:lnTo>
                    <a:pt x="83" y="276"/>
                  </a:lnTo>
                  <a:lnTo>
                    <a:pt x="81" y="281"/>
                  </a:lnTo>
                  <a:lnTo>
                    <a:pt x="75" y="287"/>
                  </a:lnTo>
                  <a:lnTo>
                    <a:pt x="71" y="291"/>
                  </a:lnTo>
                  <a:lnTo>
                    <a:pt x="66" y="295"/>
                  </a:lnTo>
                  <a:lnTo>
                    <a:pt x="58" y="297"/>
                  </a:lnTo>
                  <a:lnTo>
                    <a:pt x="52" y="299"/>
                  </a:lnTo>
                  <a:lnTo>
                    <a:pt x="44" y="299"/>
                  </a:lnTo>
                  <a:lnTo>
                    <a:pt x="37" y="299"/>
                  </a:lnTo>
                  <a:lnTo>
                    <a:pt x="31" y="297"/>
                  </a:lnTo>
                  <a:lnTo>
                    <a:pt x="23" y="295"/>
                  </a:lnTo>
                  <a:lnTo>
                    <a:pt x="18" y="291"/>
                  </a:lnTo>
                  <a:lnTo>
                    <a:pt x="14" y="287"/>
                  </a:lnTo>
                  <a:lnTo>
                    <a:pt x="8" y="281"/>
                  </a:lnTo>
                  <a:lnTo>
                    <a:pt x="6" y="276"/>
                  </a:lnTo>
                  <a:lnTo>
                    <a:pt x="2" y="270"/>
                  </a:lnTo>
                  <a:lnTo>
                    <a:pt x="0" y="262"/>
                  </a:lnTo>
                  <a:lnTo>
                    <a:pt x="0" y="255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400600" y="4099320"/>
              <a:ext cx="178920" cy="601560"/>
            </a:xfrm>
            <a:custGeom>
              <a:avLst/>
              <a:gdLst/>
              <a:ahLst/>
              <a:rect l="l" t="t" r="r" b="b"/>
              <a:pathLst>
                <a:path w="89" h="299">
                  <a:moveTo>
                    <a:pt x="0" y="42"/>
                  </a:moveTo>
                  <a:lnTo>
                    <a:pt x="0" y="36"/>
                  </a:lnTo>
                  <a:lnTo>
                    <a:pt x="2" y="28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4" y="11"/>
                  </a:lnTo>
                  <a:lnTo>
                    <a:pt x="18" y="7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2"/>
                  </a:lnTo>
                  <a:lnTo>
                    <a:pt x="66" y="3"/>
                  </a:lnTo>
                  <a:lnTo>
                    <a:pt x="71" y="7"/>
                  </a:lnTo>
                  <a:lnTo>
                    <a:pt x="75" y="11"/>
                  </a:lnTo>
                  <a:lnTo>
                    <a:pt x="81" y="17"/>
                  </a:lnTo>
                  <a:lnTo>
                    <a:pt x="83" y="23"/>
                  </a:lnTo>
                  <a:lnTo>
                    <a:pt x="87" y="28"/>
                  </a:lnTo>
                  <a:lnTo>
                    <a:pt x="89" y="36"/>
                  </a:lnTo>
                  <a:lnTo>
                    <a:pt x="89" y="44"/>
                  </a:lnTo>
                  <a:lnTo>
                    <a:pt x="89" y="255"/>
                  </a:lnTo>
                  <a:lnTo>
                    <a:pt x="89" y="262"/>
                  </a:lnTo>
                  <a:lnTo>
                    <a:pt x="87" y="270"/>
                  </a:lnTo>
                  <a:lnTo>
                    <a:pt x="83" y="276"/>
                  </a:lnTo>
                  <a:lnTo>
                    <a:pt x="81" y="281"/>
                  </a:lnTo>
                  <a:lnTo>
                    <a:pt x="75" y="287"/>
                  </a:lnTo>
                  <a:lnTo>
                    <a:pt x="71" y="291"/>
                  </a:lnTo>
                  <a:lnTo>
                    <a:pt x="66" y="295"/>
                  </a:lnTo>
                  <a:lnTo>
                    <a:pt x="58" y="297"/>
                  </a:lnTo>
                  <a:lnTo>
                    <a:pt x="52" y="299"/>
                  </a:lnTo>
                  <a:lnTo>
                    <a:pt x="44" y="299"/>
                  </a:lnTo>
                  <a:lnTo>
                    <a:pt x="37" y="299"/>
                  </a:lnTo>
                  <a:lnTo>
                    <a:pt x="31" y="297"/>
                  </a:lnTo>
                  <a:lnTo>
                    <a:pt x="23" y="295"/>
                  </a:lnTo>
                  <a:lnTo>
                    <a:pt x="18" y="291"/>
                  </a:lnTo>
                  <a:lnTo>
                    <a:pt x="14" y="287"/>
                  </a:lnTo>
                  <a:lnTo>
                    <a:pt x="8" y="281"/>
                  </a:lnTo>
                  <a:lnTo>
                    <a:pt x="6" y="276"/>
                  </a:lnTo>
                  <a:lnTo>
                    <a:pt x="2" y="270"/>
                  </a:lnTo>
                  <a:lnTo>
                    <a:pt x="0" y="262"/>
                  </a:lnTo>
                  <a:lnTo>
                    <a:pt x="0" y="255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436240" y="4558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783680" y="4048920"/>
              <a:ext cx="181080" cy="601920"/>
            </a:xfrm>
            <a:custGeom>
              <a:avLst/>
              <a:gdLst/>
              <a:ahLst/>
              <a:rect l="l" t="t" r="r" b="b"/>
              <a:pathLst>
                <a:path w="90" h="299">
                  <a:moveTo>
                    <a:pt x="0" y="42"/>
                  </a:moveTo>
                  <a:lnTo>
                    <a:pt x="2" y="36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9" y="17"/>
                  </a:lnTo>
                  <a:lnTo>
                    <a:pt x="13" y="11"/>
                  </a:lnTo>
                  <a:lnTo>
                    <a:pt x="19" y="7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7"/>
                  </a:lnTo>
                  <a:lnTo>
                    <a:pt x="76" y="11"/>
                  </a:lnTo>
                  <a:lnTo>
                    <a:pt x="80" y="17"/>
                  </a:lnTo>
                  <a:lnTo>
                    <a:pt x="84" y="23"/>
                  </a:lnTo>
                  <a:lnTo>
                    <a:pt x="88" y="28"/>
                  </a:lnTo>
                  <a:lnTo>
                    <a:pt x="90" y="36"/>
                  </a:lnTo>
                  <a:lnTo>
                    <a:pt x="90" y="44"/>
                  </a:lnTo>
                  <a:lnTo>
                    <a:pt x="90" y="255"/>
                  </a:lnTo>
                  <a:lnTo>
                    <a:pt x="90" y="262"/>
                  </a:lnTo>
                  <a:lnTo>
                    <a:pt x="88" y="270"/>
                  </a:lnTo>
                  <a:lnTo>
                    <a:pt x="84" y="276"/>
                  </a:lnTo>
                  <a:lnTo>
                    <a:pt x="80" y="281"/>
                  </a:lnTo>
                  <a:lnTo>
                    <a:pt x="76" y="287"/>
                  </a:lnTo>
                  <a:lnTo>
                    <a:pt x="71" y="291"/>
                  </a:lnTo>
                  <a:lnTo>
                    <a:pt x="65" y="295"/>
                  </a:lnTo>
                  <a:lnTo>
                    <a:pt x="59" y="297"/>
                  </a:lnTo>
                  <a:lnTo>
                    <a:pt x="53" y="299"/>
                  </a:lnTo>
                  <a:lnTo>
                    <a:pt x="46" y="299"/>
                  </a:lnTo>
                  <a:lnTo>
                    <a:pt x="38" y="299"/>
                  </a:lnTo>
                  <a:lnTo>
                    <a:pt x="32" y="297"/>
                  </a:lnTo>
                  <a:lnTo>
                    <a:pt x="25" y="295"/>
                  </a:lnTo>
                  <a:lnTo>
                    <a:pt x="19" y="291"/>
                  </a:lnTo>
                  <a:lnTo>
                    <a:pt x="15" y="287"/>
                  </a:lnTo>
                  <a:lnTo>
                    <a:pt x="9" y="281"/>
                  </a:lnTo>
                  <a:lnTo>
                    <a:pt x="6" y="276"/>
                  </a:lnTo>
                  <a:lnTo>
                    <a:pt x="4" y="270"/>
                  </a:lnTo>
                  <a:lnTo>
                    <a:pt x="2" y="262"/>
                  </a:lnTo>
                  <a:lnTo>
                    <a:pt x="2" y="255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783680" y="4048920"/>
              <a:ext cx="181080" cy="601920"/>
            </a:xfrm>
            <a:custGeom>
              <a:avLst/>
              <a:gdLst/>
              <a:ahLst/>
              <a:rect l="l" t="t" r="r" b="b"/>
              <a:pathLst>
                <a:path w="90" h="299">
                  <a:moveTo>
                    <a:pt x="0" y="42"/>
                  </a:moveTo>
                  <a:lnTo>
                    <a:pt x="2" y="36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9" y="17"/>
                  </a:lnTo>
                  <a:lnTo>
                    <a:pt x="13" y="11"/>
                  </a:lnTo>
                  <a:lnTo>
                    <a:pt x="19" y="7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7"/>
                  </a:lnTo>
                  <a:lnTo>
                    <a:pt x="76" y="11"/>
                  </a:lnTo>
                  <a:lnTo>
                    <a:pt x="80" y="17"/>
                  </a:lnTo>
                  <a:lnTo>
                    <a:pt x="84" y="23"/>
                  </a:lnTo>
                  <a:lnTo>
                    <a:pt x="88" y="28"/>
                  </a:lnTo>
                  <a:lnTo>
                    <a:pt x="90" y="36"/>
                  </a:lnTo>
                  <a:lnTo>
                    <a:pt x="90" y="44"/>
                  </a:lnTo>
                  <a:lnTo>
                    <a:pt x="90" y="255"/>
                  </a:lnTo>
                  <a:lnTo>
                    <a:pt x="90" y="262"/>
                  </a:lnTo>
                  <a:lnTo>
                    <a:pt x="88" y="270"/>
                  </a:lnTo>
                  <a:lnTo>
                    <a:pt x="84" y="276"/>
                  </a:lnTo>
                  <a:lnTo>
                    <a:pt x="80" y="281"/>
                  </a:lnTo>
                  <a:lnTo>
                    <a:pt x="76" y="287"/>
                  </a:lnTo>
                  <a:lnTo>
                    <a:pt x="71" y="291"/>
                  </a:lnTo>
                  <a:lnTo>
                    <a:pt x="65" y="295"/>
                  </a:lnTo>
                  <a:lnTo>
                    <a:pt x="59" y="297"/>
                  </a:lnTo>
                  <a:lnTo>
                    <a:pt x="53" y="299"/>
                  </a:lnTo>
                  <a:lnTo>
                    <a:pt x="46" y="299"/>
                  </a:lnTo>
                  <a:lnTo>
                    <a:pt x="38" y="299"/>
                  </a:lnTo>
                  <a:lnTo>
                    <a:pt x="32" y="297"/>
                  </a:lnTo>
                  <a:lnTo>
                    <a:pt x="25" y="295"/>
                  </a:lnTo>
                  <a:lnTo>
                    <a:pt x="19" y="291"/>
                  </a:lnTo>
                  <a:lnTo>
                    <a:pt x="15" y="287"/>
                  </a:lnTo>
                  <a:lnTo>
                    <a:pt x="9" y="281"/>
                  </a:lnTo>
                  <a:lnTo>
                    <a:pt x="6" y="276"/>
                  </a:lnTo>
                  <a:lnTo>
                    <a:pt x="4" y="270"/>
                  </a:lnTo>
                  <a:lnTo>
                    <a:pt x="2" y="262"/>
                  </a:lnTo>
                  <a:lnTo>
                    <a:pt x="2" y="255"/>
                  </a:lnTo>
                  <a:lnTo>
                    <a:pt x="2" y="44"/>
                  </a:lnTo>
                  <a:lnTo>
                    <a:pt x="2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20760" y="407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713120" y="5536440"/>
              <a:ext cx="181080" cy="605520"/>
            </a:xfrm>
            <a:custGeom>
              <a:avLst/>
              <a:gdLst/>
              <a:ahLst/>
              <a:rect l="l" t="t" r="r" b="b"/>
              <a:pathLst>
                <a:path w="90" h="301">
                  <a:moveTo>
                    <a:pt x="0" y="44"/>
                  </a:moveTo>
                  <a:lnTo>
                    <a:pt x="2" y="39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4"/>
                  </a:lnTo>
                  <a:lnTo>
                    <a:pt x="81" y="20"/>
                  </a:lnTo>
                  <a:lnTo>
                    <a:pt x="85" y="25"/>
                  </a:lnTo>
                  <a:lnTo>
                    <a:pt x="87" y="31"/>
                  </a:lnTo>
                  <a:lnTo>
                    <a:pt x="88" y="39"/>
                  </a:lnTo>
                  <a:lnTo>
                    <a:pt x="90" y="44"/>
                  </a:lnTo>
                  <a:lnTo>
                    <a:pt x="90" y="257"/>
                  </a:lnTo>
                  <a:lnTo>
                    <a:pt x="88" y="265"/>
                  </a:lnTo>
                  <a:lnTo>
                    <a:pt x="87" y="271"/>
                  </a:lnTo>
                  <a:lnTo>
                    <a:pt x="85" y="278"/>
                  </a:lnTo>
                  <a:lnTo>
                    <a:pt x="81" y="284"/>
                  </a:lnTo>
                  <a:lnTo>
                    <a:pt x="77" y="290"/>
                  </a:lnTo>
                  <a:lnTo>
                    <a:pt x="71" y="294"/>
                  </a:lnTo>
                  <a:lnTo>
                    <a:pt x="65" y="297"/>
                  </a:lnTo>
                  <a:lnTo>
                    <a:pt x="60" y="299"/>
                  </a:lnTo>
                  <a:lnTo>
                    <a:pt x="52" y="301"/>
                  </a:lnTo>
                  <a:lnTo>
                    <a:pt x="44" y="301"/>
                  </a:lnTo>
                  <a:lnTo>
                    <a:pt x="39" y="301"/>
                  </a:lnTo>
                  <a:lnTo>
                    <a:pt x="31" y="299"/>
                  </a:lnTo>
                  <a:lnTo>
                    <a:pt x="25" y="297"/>
                  </a:lnTo>
                  <a:lnTo>
                    <a:pt x="19" y="294"/>
                  </a:lnTo>
                  <a:lnTo>
                    <a:pt x="14" y="290"/>
                  </a:lnTo>
                  <a:lnTo>
                    <a:pt x="10" y="284"/>
                  </a:lnTo>
                  <a:lnTo>
                    <a:pt x="6" y="278"/>
                  </a:lnTo>
                  <a:lnTo>
                    <a:pt x="4" y="271"/>
                  </a:lnTo>
                  <a:lnTo>
                    <a:pt x="2" y="265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713120" y="5536440"/>
              <a:ext cx="181080" cy="605520"/>
            </a:xfrm>
            <a:custGeom>
              <a:avLst/>
              <a:gdLst/>
              <a:ahLst/>
              <a:rect l="l" t="t" r="r" b="b"/>
              <a:pathLst>
                <a:path w="90" h="301">
                  <a:moveTo>
                    <a:pt x="0" y="44"/>
                  </a:moveTo>
                  <a:lnTo>
                    <a:pt x="2" y="39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4"/>
                  </a:lnTo>
                  <a:lnTo>
                    <a:pt x="81" y="20"/>
                  </a:lnTo>
                  <a:lnTo>
                    <a:pt x="85" y="25"/>
                  </a:lnTo>
                  <a:lnTo>
                    <a:pt x="87" y="31"/>
                  </a:lnTo>
                  <a:lnTo>
                    <a:pt x="88" y="39"/>
                  </a:lnTo>
                  <a:lnTo>
                    <a:pt x="90" y="44"/>
                  </a:lnTo>
                  <a:lnTo>
                    <a:pt x="90" y="257"/>
                  </a:lnTo>
                  <a:lnTo>
                    <a:pt x="88" y="265"/>
                  </a:lnTo>
                  <a:lnTo>
                    <a:pt x="87" y="271"/>
                  </a:lnTo>
                  <a:lnTo>
                    <a:pt x="85" y="278"/>
                  </a:lnTo>
                  <a:lnTo>
                    <a:pt x="81" y="284"/>
                  </a:lnTo>
                  <a:lnTo>
                    <a:pt x="77" y="290"/>
                  </a:lnTo>
                  <a:lnTo>
                    <a:pt x="71" y="294"/>
                  </a:lnTo>
                  <a:lnTo>
                    <a:pt x="65" y="297"/>
                  </a:lnTo>
                  <a:lnTo>
                    <a:pt x="60" y="299"/>
                  </a:lnTo>
                  <a:lnTo>
                    <a:pt x="52" y="301"/>
                  </a:lnTo>
                  <a:lnTo>
                    <a:pt x="44" y="301"/>
                  </a:lnTo>
                  <a:lnTo>
                    <a:pt x="39" y="301"/>
                  </a:lnTo>
                  <a:lnTo>
                    <a:pt x="31" y="299"/>
                  </a:lnTo>
                  <a:lnTo>
                    <a:pt x="25" y="297"/>
                  </a:lnTo>
                  <a:lnTo>
                    <a:pt x="19" y="294"/>
                  </a:lnTo>
                  <a:lnTo>
                    <a:pt x="14" y="290"/>
                  </a:lnTo>
                  <a:lnTo>
                    <a:pt x="10" y="284"/>
                  </a:lnTo>
                  <a:lnTo>
                    <a:pt x="6" y="278"/>
                  </a:lnTo>
                  <a:lnTo>
                    <a:pt x="4" y="271"/>
                  </a:lnTo>
                  <a:lnTo>
                    <a:pt x="2" y="265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58840" y="56876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42000" y="568764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774320" y="5784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29760" y="5784480"/>
              <a:ext cx="3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774320" y="5880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749120" y="5568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49120" y="5995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67240" y="196128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52960" y="2921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18480" y="2921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69960" y="2921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35200" y="28717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96760" y="2871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48960" y="2871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504760" y="28717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254560" y="2967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284080" y="2967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39520" y="2967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385600" y="2967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439960" y="29678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62280" y="2967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94760" y="389412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953080" y="3505680"/>
              <a:ext cx="1068840" cy="1116720"/>
            </a:xfrm>
            <a:custGeom>
              <a:avLst/>
              <a:gdLst/>
              <a:ahLst/>
              <a:rect l="l" t="t" r="r" b="b"/>
              <a:pathLst>
                <a:path w="531" h="555">
                  <a:moveTo>
                    <a:pt x="531" y="553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555"/>
                  </a:lnTo>
                  <a:lnTo>
                    <a:pt x="531" y="555"/>
                  </a:lnTo>
                  <a:lnTo>
                    <a:pt x="531" y="555"/>
                  </a:lnTo>
                  <a:lnTo>
                    <a:pt x="531" y="5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953080" y="3505680"/>
              <a:ext cx="1068840" cy="1116720"/>
            </a:xfrm>
            <a:custGeom>
              <a:avLst/>
              <a:gdLst/>
              <a:ahLst/>
              <a:rect l="l" t="t" r="r" b="b"/>
              <a:pathLst>
                <a:path w="531" h="555">
                  <a:moveTo>
                    <a:pt x="531" y="553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555"/>
                  </a:lnTo>
                  <a:lnTo>
                    <a:pt x="531" y="555"/>
                  </a:lnTo>
                  <a:lnTo>
                    <a:pt x="531" y="5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280680" y="4006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348360" y="400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402720" y="400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458160" y="40068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477600" y="4006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523320" y="4006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50680" y="400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605040" y="4006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634200" y="4006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989800" y="4103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083400" y="4103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14000" y="4103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32720" y="4103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60080" y="4103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214800" y="410328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90520" y="4195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20040" y="4195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75480" y="4195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129840" y="41958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50360" y="4195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00760" y="4195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26320" y="4195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77080" y="4195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989800" y="43869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083400" y="4386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114000" y="43869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132720" y="4386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160080" y="4386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14800" y="438696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989800" y="447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45240" y="447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99600" y="4479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25160" y="447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768480" y="36745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35800" y="3674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87280" y="3674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940560" y="3674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996360" y="36745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708720" y="3767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763080" y="3767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815640" y="3767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40480" y="3767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895200" y="3767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20400" y="3767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68480" y="4028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35800" y="4028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87280" y="4028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40560" y="4028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996360" y="402876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70872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6308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15640" y="4125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84048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895200" y="4125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92040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990520" y="35316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61440" y="353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113640" y="353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162960" y="353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18760" y="353160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90520" y="36241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20040" y="3624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075480" y="3624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29840" y="36241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50360" y="36241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200760" y="3624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226320" y="3624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77080" y="36241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306240" y="3624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34320" y="3624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990520" y="38174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61440" y="3817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13640" y="3817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62960" y="3817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18760" y="381744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90520" y="3909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020040" y="3909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75480" y="3909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29840" y="39099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50360" y="3909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00760" y="3909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26320" y="3909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277080" y="3909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06240" y="3909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34320" y="3909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79560" y="4399560"/>
              <a:ext cx="5906880" cy="2100960"/>
            </a:xfrm>
            <a:custGeom>
              <a:avLst/>
              <a:gdLst/>
              <a:ahLst/>
              <a:rect l="l" t="t" r="r" b="b"/>
              <a:pathLst>
                <a:path w="2933" h="1044">
                  <a:moveTo>
                    <a:pt x="67" y="44"/>
                  </a:moveTo>
                  <a:lnTo>
                    <a:pt x="0" y="46"/>
                  </a:lnTo>
                  <a:lnTo>
                    <a:pt x="0" y="1044"/>
                  </a:lnTo>
                  <a:lnTo>
                    <a:pt x="2933" y="1044"/>
                  </a:lnTo>
                  <a:lnTo>
                    <a:pt x="2933" y="0"/>
                  </a:lnTo>
                  <a:lnTo>
                    <a:pt x="288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2640240" y="3632400"/>
              <a:ext cx="27396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636640" y="5173920"/>
              <a:ext cx="87984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647880" y="50677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709080" y="50677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727800" y="5067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82520" y="5067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836880" y="50677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59316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42480" y="5178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93960" y="51782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2168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76956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2464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4644360" y="4562280"/>
              <a:ext cx="106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917520" y="5173920"/>
              <a:ext cx="2775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833720" y="41958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910400" y="419580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847760" y="4292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898160" y="429264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847040" y="4386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820760" y="4507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03720" y="3582000"/>
              <a:ext cx="597960" cy="960120"/>
            </a:xfrm>
            <a:custGeom>
              <a:avLst/>
              <a:gdLst/>
              <a:ahLst/>
              <a:rect l="l" t="t" r="r" b="b"/>
              <a:pathLst>
                <a:path w="297" h="477">
                  <a:moveTo>
                    <a:pt x="0" y="0"/>
                  </a:moveTo>
                  <a:lnTo>
                    <a:pt x="2" y="193"/>
                  </a:lnTo>
                  <a:lnTo>
                    <a:pt x="50" y="239"/>
                  </a:lnTo>
                  <a:lnTo>
                    <a:pt x="2" y="285"/>
                  </a:lnTo>
                  <a:lnTo>
                    <a:pt x="2" y="477"/>
                  </a:lnTo>
                  <a:lnTo>
                    <a:pt x="297" y="331"/>
                  </a:lnTo>
                  <a:lnTo>
                    <a:pt x="297" y="14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03720" y="3582000"/>
              <a:ext cx="597960" cy="960120"/>
            </a:xfrm>
            <a:custGeom>
              <a:avLst/>
              <a:gdLst/>
              <a:ahLst/>
              <a:rect l="l" t="t" r="r" b="b"/>
              <a:pathLst>
                <a:path w="297" h="477">
                  <a:moveTo>
                    <a:pt x="0" y="0"/>
                  </a:moveTo>
                  <a:lnTo>
                    <a:pt x="2" y="193"/>
                  </a:lnTo>
                  <a:lnTo>
                    <a:pt x="50" y="239"/>
                  </a:lnTo>
                  <a:lnTo>
                    <a:pt x="2" y="285"/>
                  </a:lnTo>
                  <a:lnTo>
                    <a:pt x="2" y="477"/>
                  </a:lnTo>
                  <a:lnTo>
                    <a:pt x="297" y="331"/>
                  </a:lnTo>
                  <a:lnTo>
                    <a:pt x="297" y="147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500080" y="40327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566680" y="4032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617080" y="40327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85840" y="4032720"/>
              <a:ext cx="36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427720" y="41295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56880" y="4129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512320" y="4129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558760" y="4129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613120" y="41295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637240" y="4129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478120" y="38818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36440" y="3881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590800" y="3881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619960" y="3881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715800" y="461484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805080" y="4614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836760" y="46148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858720" y="4614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886800" y="4614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938280" y="4614840"/>
              <a:ext cx="3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715800" y="4711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771240" y="4711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821280" y="4711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49720" y="4711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494120" y="40831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558560" y="4083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612920" y="4083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666200" y="4083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722000" y="40831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519320" y="4175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574400" y="4175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623720" y="4175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51080" y="4175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446680" y="42465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525160" y="4246560"/>
              <a:ext cx="3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461800" y="434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517600" y="4340880"/>
              <a:ext cx="36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462160" y="443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436240" y="4129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636640" y="3918240"/>
              <a:ext cx="27792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185360" y="4109400"/>
              <a:ext cx="4644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4426920" y="4133880"/>
              <a:ext cx="32364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4022280" y="4133880"/>
              <a:ext cx="16920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497840" y="3030480"/>
              <a:ext cx="293760" cy="470880"/>
            </a:xfrm>
            <a:custGeom>
              <a:avLst/>
              <a:gdLst/>
              <a:ahLst/>
              <a:rect l="l" t="t" r="r" b="b"/>
              <a:pathLst>
                <a:path w="146" h="234">
                  <a:moveTo>
                    <a:pt x="71" y="232"/>
                  </a:moveTo>
                  <a:lnTo>
                    <a:pt x="84" y="232"/>
                  </a:lnTo>
                  <a:lnTo>
                    <a:pt x="96" y="226"/>
                  </a:lnTo>
                  <a:lnTo>
                    <a:pt x="105" y="220"/>
                  </a:lnTo>
                  <a:lnTo>
                    <a:pt x="115" y="211"/>
                  </a:lnTo>
                  <a:lnTo>
                    <a:pt x="125" y="199"/>
                  </a:lnTo>
                  <a:lnTo>
                    <a:pt x="132" y="186"/>
                  </a:lnTo>
                  <a:lnTo>
                    <a:pt x="138" y="170"/>
                  </a:lnTo>
                  <a:lnTo>
                    <a:pt x="142" y="153"/>
                  </a:lnTo>
                  <a:lnTo>
                    <a:pt x="144" y="136"/>
                  </a:lnTo>
                  <a:lnTo>
                    <a:pt x="146" y="117"/>
                  </a:lnTo>
                  <a:lnTo>
                    <a:pt x="144" y="98"/>
                  </a:lnTo>
                  <a:lnTo>
                    <a:pt x="142" y="78"/>
                  </a:lnTo>
                  <a:lnTo>
                    <a:pt x="138" y="63"/>
                  </a:lnTo>
                  <a:lnTo>
                    <a:pt x="132" y="48"/>
                  </a:lnTo>
                  <a:lnTo>
                    <a:pt x="125" y="34"/>
                  </a:lnTo>
                  <a:lnTo>
                    <a:pt x="115" y="23"/>
                  </a:lnTo>
                  <a:lnTo>
                    <a:pt x="105" y="13"/>
                  </a:lnTo>
                  <a:lnTo>
                    <a:pt x="96" y="6"/>
                  </a:lnTo>
                  <a:lnTo>
                    <a:pt x="84" y="2"/>
                  </a:lnTo>
                  <a:lnTo>
                    <a:pt x="73" y="0"/>
                  </a:lnTo>
                  <a:lnTo>
                    <a:pt x="61" y="2"/>
                  </a:lnTo>
                  <a:lnTo>
                    <a:pt x="50" y="6"/>
                  </a:lnTo>
                  <a:lnTo>
                    <a:pt x="38" y="13"/>
                  </a:lnTo>
                  <a:lnTo>
                    <a:pt x="29" y="23"/>
                  </a:lnTo>
                  <a:lnTo>
                    <a:pt x="21" y="34"/>
                  </a:lnTo>
                  <a:lnTo>
                    <a:pt x="13" y="48"/>
                  </a:lnTo>
                  <a:lnTo>
                    <a:pt x="8" y="63"/>
                  </a:lnTo>
                  <a:lnTo>
                    <a:pt x="4" y="78"/>
                  </a:lnTo>
                  <a:lnTo>
                    <a:pt x="0" y="98"/>
                  </a:lnTo>
                  <a:lnTo>
                    <a:pt x="0" y="117"/>
                  </a:lnTo>
                  <a:lnTo>
                    <a:pt x="0" y="136"/>
                  </a:lnTo>
                  <a:lnTo>
                    <a:pt x="4" y="153"/>
                  </a:lnTo>
                  <a:lnTo>
                    <a:pt x="8" y="170"/>
                  </a:lnTo>
                  <a:lnTo>
                    <a:pt x="13" y="186"/>
                  </a:lnTo>
                  <a:lnTo>
                    <a:pt x="21" y="199"/>
                  </a:lnTo>
                  <a:lnTo>
                    <a:pt x="29" y="211"/>
                  </a:lnTo>
                  <a:lnTo>
                    <a:pt x="38" y="220"/>
                  </a:lnTo>
                  <a:lnTo>
                    <a:pt x="50" y="226"/>
                  </a:lnTo>
                  <a:lnTo>
                    <a:pt x="61" y="232"/>
                  </a:lnTo>
                  <a:lnTo>
                    <a:pt x="73" y="234"/>
                  </a:lnTo>
                  <a:lnTo>
                    <a:pt x="73" y="234"/>
                  </a:lnTo>
                  <a:lnTo>
                    <a:pt x="71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497840" y="3030480"/>
              <a:ext cx="293760" cy="470880"/>
            </a:xfrm>
            <a:custGeom>
              <a:avLst/>
              <a:gdLst/>
              <a:ahLst/>
              <a:rect l="l" t="t" r="r" b="b"/>
              <a:pathLst>
                <a:path w="146" h="234">
                  <a:moveTo>
                    <a:pt x="71" y="232"/>
                  </a:moveTo>
                  <a:lnTo>
                    <a:pt x="84" y="232"/>
                  </a:lnTo>
                  <a:lnTo>
                    <a:pt x="96" y="226"/>
                  </a:lnTo>
                  <a:lnTo>
                    <a:pt x="105" y="220"/>
                  </a:lnTo>
                  <a:lnTo>
                    <a:pt x="115" y="211"/>
                  </a:lnTo>
                  <a:lnTo>
                    <a:pt x="125" y="199"/>
                  </a:lnTo>
                  <a:lnTo>
                    <a:pt x="132" y="186"/>
                  </a:lnTo>
                  <a:lnTo>
                    <a:pt x="138" y="170"/>
                  </a:lnTo>
                  <a:lnTo>
                    <a:pt x="142" y="153"/>
                  </a:lnTo>
                  <a:lnTo>
                    <a:pt x="144" y="136"/>
                  </a:lnTo>
                  <a:lnTo>
                    <a:pt x="146" y="117"/>
                  </a:lnTo>
                  <a:lnTo>
                    <a:pt x="144" y="98"/>
                  </a:lnTo>
                  <a:lnTo>
                    <a:pt x="142" y="78"/>
                  </a:lnTo>
                  <a:lnTo>
                    <a:pt x="138" y="63"/>
                  </a:lnTo>
                  <a:lnTo>
                    <a:pt x="132" y="48"/>
                  </a:lnTo>
                  <a:lnTo>
                    <a:pt x="125" y="34"/>
                  </a:lnTo>
                  <a:lnTo>
                    <a:pt x="115" y="23"/>
                  </a:lnTo>
                  <a:lnTo>
                    <a:pt x="105" y="13"/>
                  </a:lnTo>
                  <a:lnTo>
                    <a:pt x="96" y="6"/>
                  </a:lnTo>
                  <a:lnTo>
                    <a:pt x="84" y="2"/>
                  </a:lnTo>
                  <a:lnTo>
                    <a:pt x="73" y="0"/>
                  </a:lnTo>
                  <a:lnTo>
                    <a:pt x="61" y="2"/>
                  </a:lnTo>
                  <a:lnTo>
                    <a:pt x="50" y="6"/>
                  </a:lnTo>
                  <a:lnTo>
                    <a:pt x="38" y="13"/>
                  </a:lnTo>
                  <a:lnTo>
                    <a:pt x="29" y="23"/>
                  </a:lnTo>
                  <a:lnTo>
                    <a:pt x="21" y="34"/>
                  </a:lnTo>
                  <a:lnTo>
                    <a:pt x="13" y="48"/>
                  </a:lnTo>
                  <a:lnTo>
                    <a:pt x="8" y="63"/>
                  </a:lnTo>
                  <a:lnTo>
                    <a:pt x="4" y="78"/>
                  </a:lnTo>
                  <a:lnTo>
                    <a:pt x="0" y="98"/>
                  </a:lnTo>
                  <a:lnTo>
                    <a:pt x="0" y="117"/>
                  </a:lnTo>
                  <a:lnTo>
                    <a:pt x="0" y="136"/>
                  </a:lnTo>
                  <a:lnTo>
                    <a:pt x="4" y="153"/>
                  </a:lnTo>
                  <a:lnTo>
                    <a:pt x="8" y="170"/>
                  </a:lnTo>
                  <a:lnTo>
                    <a:pt x="13" y="186"/>
                  </a:lnTo>
                  <a:lnTo>
                    <a:pt x="21" y="199"/>
                  </a:lnTo>
                  <a:lnTo>
                    <a:pt x="29" y="211"/>
                  </a:lnTo>
                  <a:lnTo>
                    <a:pt x="38" y="220"/>
                  </a:lnTo>
                  <a:lnTo>
                    <a:pt x="50" y="226"/>
                  </a:lnTo>
                  <a:lnTo>
                    <a:pt x="61" y="232"/>
                  </a:lnTo>
                  <a:lnTo>
                    <a:pt x="73" y="234"/>
                  </a:lnTo>
                  <a:lnTo>
                    <a:pt x="73" y="23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065200" y="50677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29640" y="5067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0040" y="50677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50600" y="50677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003280" y="5178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04900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10264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56640" y="51782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180040" y="51782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21532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264640" y="51782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922280" y="5152320"/>
              <a:ext cx="4644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612520" y="4041000"/>
              <a:ext cx="5040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2" y="23"/>
                  </a:moveTo>
                  <a:lnTo>
                    <a:pt x="16" y="23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612520" y="3611880"/>
              <a:ext cx="50400" cy="4644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2" y="23"/>
                  </a:moveTo>
                  <a:lnTo>
                    <a:pt x="16" y="23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612520" y="3898080"/>
              <a:ext cx="5040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2" y="23"/>
                  </a:moveTo>
                  <a:lnTo>
                    <a:pt x="16" y="23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513680" y="4113360"/>
              <a:ext cx="46440" cy="464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1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543920" y="31532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605840" y="3153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658400" y="31532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677480" y="31532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704840" y="31532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733280" y="315324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26640" y="32659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47520" y="3265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602240" y="3265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628160" y="3265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655160" y="3265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682880" y="3265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04760" y="4163760"/>
              <a:ext cx="4608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23"/>
                  </a:moveTo>
                  <a:lnTo>
                    <a:pt x="14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16200000">
              <a:off x="3376440" y="33123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16200000">
              <a:off x="3381840" y="3257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16200000">
              <a:off x="3385800" y="3200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6200000">
              <a:off x="3363480" y="31240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16200000">
              <a:off x="3398760" y="30693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16200000">
              <a:off x="3403080" y="30430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16200000">
              <a:off x="3401640" y="30196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6200000">
              <a:off x="3381840" y="2980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59400" y="51098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338240" y="510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394400" y="51098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470000" y="5109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539480" y="510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593840" y="510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644240" y="510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621600" y="1572840"/>
              <a:ext cx="392760" cy="831600"/>
            </a:xfrm>
            <a:custGeom>
              <a:avLst/>
              <a:gdLst/>
              <a:ahLst/>
              <a:rect l="l" t="t" r="r" b="b"/>
              <a:pathLst>
                <a:path w="195" h="413">
                  <a:moveTo>
                    <a:pt x="97" y="413"/>
                  </a:moveTo>
                  <a:lnTo>
                    <a:pt x="113" y="412"/>
                  </a:lnTo>
                  <a:lnTo>
                    <a:pt x="128" y="404"/>
                  </a:lnTo>
                  <a:lnTo>
                    <a:pt x="142" y="390"/>
                  </a:lnTo>
                  <a:lnTo>
                    <a:pt x="155" y="373"/>
                  </a:lnTo>
                  <a:lnTo>
                    <a:pt x="166" y="352"/>
                  </a:lnTo>
                  <a:lnTo>
                    <a:pt x="176" y="329"/>
                  </a:lnTo>
                  <a:lnTo>
                    <a:pt x="184" y="302"/>
                  </a:lnTo>
                  <a:lnTo>
                    <a:pt x="189" y="272"/>
                  </a:lnTo>
                  <a:lnTo>
                    <a:pt x="193" y="241"/>
                  </a:lnTo>
                  <a:lnTo>
                    <a:pt x="195" y="207"/>
                  </a:lnTo>
                  <a:lnTo>
                    <a:pt x="193" y="172"/>
                  </a:lnTo>
                  <a:lnTo>
                    <a:pt x="189" y="141"/>
                  </a:lnTo>
                  <a:lnTo>
                    <a:pt x="184" y="111"/>
                  </a:lnTo>
                  <a:lnTo>
                    <a:pt x="176" y="84"/>
                  </a:lnTo>
                  <a:lnTo>
                    <a:pt x="166" y="61"/>
                  </a:lnTo>
                  <a:lnTo>
                    <a:pt x="155" y="40"/>
                  </a:lnTo>
                  <a:lnTo>
                    <a:pt x="142" y="23"/>
                  </a:lnTo>
                  <a:lnTo>
                    <a:pt x="128" y="9"/>
                  </a:lnTo>
                  <a:lnTo>
                    <a:pt x="113" y="1"/>
                  </a:lnTo>
                  <a:lnTo>
                    <a:pt x="97" y="0"/>
                  </a:lnTo>
                  <a:lnTo>
                    <a:pt x="82" y="1"/>
                  </a:lnTo>
                  <a:lnTo>
                    <a:pt x="67" y="9"/>
                  </a:lnTo>
                  <a:lnTo>
                    <a:pt x="53" y="23"/>
                  </a:lnTo>
                  <a:lnTo>
                    <a:pt x="40" y="40"/>
                  </a:lnTo>
                  <a:lnTo>
                    <a:pt x="28" y="61"/>
                  </a:lnTo>
                  <a:lnTo>
                    <a:pt x="19" y="84"/>
                  </a:lnTo>
                  <a:lnTo>
                    <a:pt x="11" y="111"/>
                  </a:lnTo>
                  <a:lnTo>
                    <a:pt x="5" y="141"/>
                  </a:lnTo>
                  <a:lnTo>
                    <a:pt x="2" y="172"/>
                  </a:lnTo>
                  <a:lnTo>
                    <a:pt x="0" y="207"/>
                  </a:lnTo>
                  <a:lnTo>
                    <a:pt x="2" y="241"/>
                  </a:lnTo>
                  <a:lnTo>
                    <a:pt x="5" y="272"/>
                  </a:lnTo>
                  <a:lnTo>
                    <a:pt x="11" y="302"/>
                  </a:lnTo>
                  <a:lnTo>
                    <a:pt x="19" y="329"/>
                  </a:lnTo>
                  <a:lnTo>
                    <a:pt x="28" y="352"/>
                  </a:lnTo>
                  <a:lnTo>
                    <a:pt x="40" y="373"/>
                  </a:lnTo>
                  <a:lnTo>
                    <a:pt x="53" y="390"/>
                  </a:lnTo>
                  <a:lnTo>
                    <a:pt x="67" y="404"/>
                  </a:lnTo>
                  <a:lnTo>
                    <a:pt x="82" y="412"/>
                  </a:lnTo>
                  <a:lnTo>
                    <a:pt x="97" y="413"/>
                  </a:lnTo>
                  <a:lnTo>
                    <a:pt x="97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21600" y="1572840"/>
              <a:ext cx="392760" cy="831600"/>
            </a:xfrm>
            <a:custGeom>
              <a:avLst/>
              <a:gdLst/>
              <a:ahLst/>
              <a:rect l="l" t="t" r="r" b="b"/>
              <a:pathLst>
                <a:path w="195" h="413">
                  <a:moveTo>
                    <a:pt x="97" y="413"/>
                  </a:moveTo>
                  <a:lnTo>
                    <a:pt x="113" y="412"/>
                  </a:lnTo>
                  <a:lnTo>
                    <a:pt x="128" y="404"/>
                  </a:lnTo>
                  <a:lnTo>
                    <a:pt x="142" y="390"/>
                  </a:lnTo>
                  <a:lnTo>
                    <a:pt x="155" y="373"/>
                  </a:lnTo>
                  <a:lnTo>
                    <a:pt x="166" y="352"/>
                  </a:lnTo>
                  <a:lnTo>
                    <a:pt x="176" y="329"/>
                  </a:lnTo>
                  <a:lnTo>
                    <a:pt x="184" y="302"/>
                  </a:lnTo>
                  <a:lnTo>
                    <a:pt x="189" y="272"/>
                  </a:lnTo>
                  <a:lnTo>
                    <a:pt x="193" y="241"/>
                  </a:lnTo>
                  <a:lnTo>
                    <a:pt x="195" y="207"/>
                  </a:lnTo>
                  <a:lnTo>
                    <a:pt x="193" y="172"/>
                  </a:lnTo>
                  <a:lnTo>
                    <a:pt x="189" y="141"/>
                  </a:lnTo>
                  <a:lnTo>
                    <a:pt x="184" y="111"/>
                  </a:lnTo>
                  <a:lnTo>
                    <a:pt x="176" y="84"/>
                  </a:lnTo>
                  <a:lnTo>
                    <a:pt x="166" y="61"/>
                  </a:lnTo>
                  <a:lnTo>
                    <a:pt x="155" y="40"/>
                  </a:lnTo>
                  <a:lnTo>
                    <a:pt x="142" y="23"/>
                  </a:lnTo>
                  <a:lnTo>
                    <a:pt x="128" y="9"/>
                  </a:lnTo>
                  <a:lnTo>
                    <a:pt x="113" y="1"/>
                  </a:lnTo>
                  <a:lnTo>
                    <a:pt x="97" y="0"/>
                  </a:lnTo>
                  <a:lnTo>
                    <a:pt x="82" y="1"/>
                  </a:lnTo>
                  <a:lnTo>
                    <a:pt x="67" y="9"/>
                  </a:lnTo>
                  <a:lnTo>
                    <a:pt x="53" y="23"/>
                  </a:lnTo>
                  <a:lnTo>
                    <a:pt x="40" y="40"/>
                  </a:lnTo>
                  <a:lnTo>
                    <a:pt x="28" y="61"/>
                  </a:lnTo>
                  <a:lnTo>
                    <a:pt x="19" y="84"/>
                  </a:lnTo>
                  <a:lnTo>
                    <a:pt x="11" y="111"/>
                  </a:lnTo>
                  <a:lnTo>
                    <a:pt x="5" y="141"/>
                  </a:lnTo>
                  <a:lnTo>
                    <a:pt x="2" y="172"/>
                  </a:lnTo>
                  <a:lnTo>
                    <a:pt x="0" y="207"/>
                  </a:lnTo>
                  <a:lnTo>
                    <a:pt x="2" y="241"/>
                  </a:lnTo>
                  <a:lnTo>
                    <a:pt x="5" y="272"/>
                  </a:lnTo>
                  <a:lnTo>
                    <a:pt x="11" y="302"/>
                  </a:lnTo>
                  <a:lnTo>
                    <a:pt x="19" y="329"/>
                  </a:lnTo>
                  <a:lnTo>
                    <a:pt x="28" y="352"/>
                  </a:lnTo>
                  <a:lnTo>
                    <a:pt x="40" y="373"/>
                  </a:lnTo>
                  <a:lnTo>
                    <a:pt x="53" y="390"/>
                  </a:lnTo>
                  <a:lnTo>
                    <a:pt x="67" y="404"/>
                  </a:lnTo>
                  <a:lnTo>
                    <a:pt x="82" y="412"/>
                  </a:lnTo>
                  <a:lnTo>
                    <a:pt x="97" y="413"/>
                  </a:lnTo>
                  <a:lnTo>
                    <a:pt x="97" y="413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59400" y="1931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727800" y="1931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82520" y="1931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836880" y="1931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862800" y="19310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94840" y="1931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45600" y="19310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25040" y="40068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88760" y="400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343120" y="4006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23380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2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  <a:lnTo>
                    <a:pt x="92" y="1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23380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2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47960" y="5822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76040" y="582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27880" y="5822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75040" y="5822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003120" y="5822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033000" y="582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086640" y="5822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132720" y="5822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160080" y="5822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180240" y="582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234600" y="582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89320" y="582228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47960" y="5919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76040" y="5919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8600" y="5919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78640" y="5919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053160" y="5919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107520" y="5919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158280" y="5919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612520" y="5152320"/>
              <a:ext cx="5040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612520" y="5603040"/>
              <a:ext cx="5040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2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640760" y="3497400"/>
              <a:ext cx="3960" cy="1676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4791600" y="3261960"/>
              <a:ext cx="9612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20600" y="4538160"/>
              <a:ext cx="4608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3792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23792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20600" y="5152320"/>
              <a:ext cx="4608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0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4775040" y="5113440"/>
              <a:ext cx="7236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782600" y="4989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4427280" y="6053760"/>
              <a:ext cx="2556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4427280" y="5625000"/>
              <a:ext cx="2556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419200" y="4059000"/>
              <a:ext cx="21708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77640" y="4037040"/>
              <a:ext cx="48240" cy="5004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lnTo>
                    <a:pt x="1" y="25"/>
                  </a:lnTo>
                  <a:lnTo>
                    <a:pt x="24" y="1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086920" y="4059000"/>
              <a:ext cx="1047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185360" y="3751200"/>
              <a:ext cx="4644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4426920" y="3778920"/>
              <a:ext cx="6418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4022280" y="3778920"/>
              <a:ext cx="1692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185360" y="5152320"/>
              <a:ext cx="4644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185360" y="5603040"/>
              <a:ext cx="4644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636640" y="5625000"/>
              <a:ext cx="15627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185360" y="6031800"/>
              <a:ext cx="4644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636640" y="1989720"/>
              <a:ext cx="1558440" cy="4064040"/>
            </a:xfrm>
            <a:custGeom>
              <a:avLst/>
              <a:gdLst/>
              <a:ahLst/>
              <a:rect l="l" t="t" r="r" b="b"/>
              <a:pathLst>
                <a:path w="774" h="2019">
                  <a:moveTo>
                    <a:pt x="774" y="2019"/>
                  </a:moveTo>
                  <a:lnTo>
                    <a:pt x="2" y="2019"/>
                  </a:lnTo>
                  <a:lnTo>
                    <a:pt x="0" y="0"/>
                  </a:lnTo>
                  <a:lnTo>
                    <a:pt x="466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280760" y="22510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342320" y="22510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237920" y="182664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37920" y="182664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291920" y="19310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237920" y="150660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37920" y="150660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61680" y="16113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354200" y="16113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85360" y="2281680"/>
              <a:ext cx="4644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942000" y="2309760"/>
              <a:ext cx="253440" cy="21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185360" y="1961280"/>
              <a:ext cx="46440" cy="504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14360" y="1985400"/>
              <a:ext cx="180720" cy="39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185360" y="1641240"/>
              <a:ext cx="46440" cy="504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942000" y="1665360"/>
              <a:ext cx="253440" cy="21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13080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13080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13080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13080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84800" y="225108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130800" y="182664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130800" y="182664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152760" y="193104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243480" y="1931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72480" y="2166840"/>
              <a:ext cx="50040" cy="4644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427280" y="1989720"/>
              <a:ext cx="1661400" cy="199440"/>
            </a:xfrm>
            <a:custGeom>
              <a:avLst/>
              <a:gdLst/>
              <a:ahLst/>
              <a:rect l="l" t="t" r="r" b="b"/>
              <a:pathLst>
                <a:path w="825" h="99">
                  <a:moveTo>
                    <a:pt x="825" y="99"/>
                  </a:moveTo>
                  <a:lnTo>
                    <a:pt x="748" y="99"/>
                  </a:lnTo>
                  <a:lnTo>
                    <a:pt x="748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72480" y="184248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427280" y="1665360"/>
              <a:ext cx="1661400" cy="203400"/>
            </a:xfrm>
            <a:custGeom>
              <a:avLst/>
              <a:gdLst/>
              <a:ahLst/>
              <a:rect l="l" t="t" r="r" b="b"/>
              <a:pathLst>
                <a:path w="825" h="101">
                  <a:moveTo>
                    <a:pt x="825" y="101"/>
                  </a:moveTo>
                  <a:lnTo>
                    <a:pt x="775" y="101"/>
                  </a:lnTo>
                  <a:lnTo>
                    <a:pt x="775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96536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2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  <a:lnTo>
                    <a:pt x="92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96536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2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96536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96536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987320" y="22510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075880" y="22510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185360" y="2667960"/>
              <a:ext cx="46440" cy="504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072480" y="581436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890600" y="5838840"/>
              <a:ext cx="119808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72480" y="415980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6320160" y="4183920"/>
              <a:ext cx="1083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702040" y="4183920"/>
              <a:ext cx="38664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72480" y="469692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6320160" y="4719240"/>
              <a:ext cx="31572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536000" y="4137480"/>
              <a:ext cx="1548360" cy="586080"/>
            </a:xfrm>
            <a:custGeom>
              <a:avLst/>
              <a:gdLst/>
              <a:ahLst/>
              <a:rect l="l" t="t" r="r" b="b"/>
              <a:pathLst>
                <a:path w="769" h="291">
                  <a:moveTo>
                    <a:pt x="769" y="289"/>
                  </a:moveTo>
                  <a:lnTo>
                    <a:pt x="0" y="291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907400" y="2166840"/>
              <a:ext cx="50040" cy="4644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20520" y="1989720"/>
              <a:ext cx="1602720" cy="199440"/>
            </a:xfrm>
            <a:custGeom>
              <a:avLst/>
              <a:gdLst/>
              <a:ahLst/>
              <a:rect l="l" t="t" r="r" b="b"/>
              <a:pathLst>
                <a:path w="796" h="99">
                  <a:moveTo>
                    <a:pt x="796" y="99"/>
                  </a:moveTo>
                  <a:lnTo>
                    <a:pt x="746" y="99"/>
                  </a:lnTo>
                  <a:lnTo>
                    <a:pt x="746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907400" y="415980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8154720" y="4183920"/>
              <a:ext cx="21132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7747920" y="4183920"/>
              <a:ext cx="16704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907400" y="500508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155080" y="4612680"/>
              <a:ext cx="211320" cy="418320"/>
            </a:xfrm>
            <a:custGeom>
              <a:avLst/>
              <a:gdLst/>
              <a:ahLst/>
              <a:rect l="l" t="t" r="r" b="b"/>
              <a:pathLst>
                <a:path w="105" h="208">
                  <a:moveTo>
                    <a:pt x="105" y="0"/>
                  </a:moveTo>
                  <a:lnTo>
                    <a:pt x="51" y="0"/>
                  </a:lnTo>
                  <a:lnTo>
                    <a:pt x="51" y="208"/>
                  </a:lnTo>
                  <a:lnTo>
                    <a:pt x="0" y="20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428880" y="4187880"/>
              <a:ext cx="1486080" cy="843120"/>
            </a:xfrm>
            <a:custGeom>
              <a:avLst/>
              <a:gdLst/>
              <a:ahLst/>
              <a:rect l="l" t="t" r="r" b="b"/>
              <a:pathLst>
                <a:path w="738" h="419">
                  <a:moveTo>
                    <a:pt x="738" y="417"/>
                  </a:moveTo>
                  <a:lnTo>
                    <a:pt x="0" y="419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907400" y="581436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320520" y="5838840"/>
              <a:ext cx="160272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223720" y="2309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249280" y="23097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308320" y="2309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34240" y="2309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358720" y="2309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559160" y="9129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619280" y="9129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689840" y="9129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752120" y="912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782000" y="912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211280" y="13456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237560" y="1345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303080" y="13456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330080" y="13456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396680" y="13456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42240" y="16653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104520" y="16653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168960" y="1665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197040" y="1665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273720" y="16653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338160" y="1665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860600" y="19854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937280" y="19854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003520" y="19854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080200" y="1985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108280" y="198540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197200" y="19854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177640" y="2667960"/>
              <a:ext cx="48240" cy="504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lnTo>
                    <a:pt x="1" y="25"/>
                  </a:lnTo>
                  <a:lnTo>
                    <a:pt x="24" y="1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2423520" y="2690280"/>
              <a:ext cx="177192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710000" y="2690280"/>
              <a:ext cx="47700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07960" y="1434240"/>
              <a:ext cx="46440" cy="464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407960" y="1860840"/>
              <a:ext cx="4644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462320" y="1368000"/>
              <a:ext cx="181080" cy="605520"/>
            </a:xfrm>
            <a:custGeom>
              <a:avLst/>
              <a:gdLst/>
              <a:ahLst/>
              <a:rect l="l" t="t" r="r" b="b"/>
              <a:pathLst>
                <a:path w="90" h="301">
                  <a:moveTo>
                    <a:pt x="0" y="44"/>
                  </a:moveTo>
                  <a:lnTo>
                    <a:pt x="2" y="38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8" y="2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3"/>
                  </a:lnTo>
                  <a:lnTo>
                    <a:pt x="80" y="19"/>
                  </a:lnTo>
                  <a:lnTo>
                    <a:pt x="84" y="25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90" y="44"/>
                  </a:lnTo>
                  <a:lnTo>
                    <a:pt x="90" y="257"/>
                  </a:lnTo>
                  <a:lnTo>
                    <a:pt x="88" y="264"/>
                  </a:lnTo>
                  <a:lnTo>
                    <a:pt x="86" y="270"/>
                  </a:lnTo>
                  <a:lnTo>
                    <a:pt x="84" y="278"/>
                  </a:lnTo>
                  <a:lnTo>
                    <a:pt x="80" y="284"/>
                  </a:lnTo>
                  <a:lnTo>
                    <a:pt x="77" y="287"/>
                  </a:lnTo>
                  <a:lnTo>
                    <a:pt x="71" y="293"/>
                  </a:lnTo>
                  <a:lnTo>
                    <a:pt x="65" y="295"/>
                  </a:lnTo>
                  <a:lnTo>
                    <a:pt x="59" y="299"/>
                  </a:lnTo>
                  <a:lnTo>
                    <a:pt x="52" y="301"/>
                  </a:lnTo>
                  <a:lnTo>
                    <a:pt x="46" y="301"/>
                  </a:lnTo>
                  <a:lnTo>
                    <a:pt x="38" y="301"/>
                  </a:lnTo>
                  <a:lnTo>
                    <a:pt x="31" y="299"/>
                  </a:lnTo>
                  <a:lnTo>
                    <a:pt x="25" y="295"/>
                  </a:lnTo>
                  <a:lnTo>
                    <a:pt x="19" y="293"/>
                  </a:lnTo>
                  <a:lnTo>
                    <a:pt x="13" y="287"/>
                  </a:lnTo>
                  <a:lnTo>
                    <a:pt x="9" y="284"/>
                  </a:lnTo>
                  <a:lnTo>
                    <a:pt x="6" y="278"/>
                  </a:lnTo>
                  <a:lnTo>
                    <a:pt x="4" y="270"/>
                  </a:lnTo>
                  <a:lnTo>
                    <a:pt x="2" y="264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462320" y="1368000"/>
              <a:ext cx="181080" cy="605520"/>
            </a:xfrm>
            <a:custGeom>
              <a:avLst/>
              <a:gdLst/>
              <a:ahLst/>
              <a:rect l="l" t="t" r="r" b="b"/>
              <a:pathLst>
                <a:path w="90" h="301">
                  <a:moveTo>
                    <a:pt x="0" y="44"/>
                  </a:moveTo>
                  <a:lnTo>
                    <a:pt x="2" y="38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8" y="2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3"/>
                  </a:lnTo>
                  <a:lnTo>
                    <a:pt x="80" y="19"/>
                  </a:lnTo>
                  <a:lnTo>
                    <a:pt x="84" y="25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90" y="44"/>
                  </a:lnTo>
                  <a:lnTo>
                    <a:pt x="90" y="257"/>
                  </a:lnTo>
                  <a:lnTo>
                    <a:pt x="88" y="264"/>
                  </a:lnTo>
                  <a:lnTo>
                    <a:pt x="86" y="270"/>
                  </a:lnTo>
                  <a:lnTo>
                    <a:pt x="84" y="278"/>
                  </a:lnTo>
                  <a:lnTo>
                    <a:pt x="80" y="284"/>
                  </a:lnTo>
                  <a:lnTo>
                    <a:pt x="77" y="287"/>
                  </a:lnTo>
                  <a:lnTo>
                    <a:pt x="71" y="293"/>
                  </a:lnTo>
                  <a:lnTo>
                    <a:pt x="65" y="295"/>
                  </a:lnTo>
                  <a:lnTo>
                    <a:pt x="59" y="299"/>
                  </a:lnTo>
                  <a:lnTo>
                    <a:pt x="52" y="301"/>
                  </a:lnTo>
                  <a:lnTo>
                    <a:pt x="46" y="301"/>
                  </a:lnTo>
                  <a:lnTo>
                    <a:pt x="38" y="301"/>
                  </a:lnTo>
                  <a:lnTo>
                    <a:pt x="31" y="299"/>
                  </a:lnTo>
                  <a:lnTo>
                    <a:pt x="25" y="295"/>
                  </a:lnTo>
                  <a:lnTo>
                    <a:pt x="19" y="293"/>
                  </a:lnTo>
                  <a:lnTo>
                    <a:pt x="13" y="287"/>
                  </a:lnTo>
                  <a:lnTo>
                    <a:pt x="9" y="284"/>
                  </a:lnTo>
                  <a:lnTo>
                    <a:pt x="6" y="278"/>
                  </a:lnTo>
                  <a:lnTo>
                    <a:pt x="4" y="270"/>
                  </a:lnTo>
                  <a:lnTo>
                    <a:pt x="2" y="264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509480" y="151848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589400" y="151848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524600" y="161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577520" y="16153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524960" y="1707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496160" y="1397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496160" y="182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215000" y="1456560"/>
              <a:ext cx="640080" cy="1237680"/>
            </a:xfrm>
            <a:custGeom>
              <a:avLst/>
              <a:gdLst/>
              <a:ahLst/>
              <a:rect l="l" t="t" r="r" b="b"/>
              <a:pathLst>
                <a:path w="318" h="615">
                  <a:moveTo>
                    <a:pt x="108" y="0"/>
                  </a:moveTo>
                  <a:lnTo>
                    <a:pt x="0" y="0"/>
                  </a:lnTo>
                  <a:lnTo>
                    <a:pt x="0" y="345"/>
                  </a:lnTo>
                  <a:lnTo>
                    <a:pt x="318" y="345"/>
                  </a:lnTo>
                  <a:lnTo>
                    <a:pt x="318" y="61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47840" y="1299600"/>
              <a:ext cx="1301040" cy="2405160"/>
            </a:xfrm>
            <a:custGeom>
              <a:avLst/>
              <a:gdLst/>
              <a:ahLst/>
              <a:rect l="l" t="t" r="r" b="b"/>
              <a:pathLst>
                <a:path w="646" h="1195">
                  <a:moveTo>
                    <a:pt x="53" y="1195"/>
                  </a:moveTo>
                  <a:lnTo>
                    <a:pt x="0" y="1195"/>
                  </a:lnTo>
                  <a:lnTo>
                    <a:pt x="0" y="0"/>
                  </a:lnTo>
                  <a:lnTo>
                    <a:pt x="646" y="0"/>
                  </a:lnTo>
                  <a:lnTo>
                    <a:pt x="646" y="185"/>
                  </a:lnTo>
                  <a:lnTo>
                    <a:pt x="592" y="18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319400" y="1156680"/>
              <a:ext cx="5586480" cy="1823400"/>
            </a:xfrm>
            <a:custGeom>
              <a:avLst/>
              <a:gdLst/>
              <a:ahLst/>
              <a:rect l="l" t="t" r="r" b="b"/>
              <a:pathLst>
                <a:path w="2774" h="906">
                  <a:moveTo>
                    <a:pt x="2483" y="904"/>
                  </a:moveTo>
                  <a:lnTo>
                    <a:pt x="2774" y="906"/>
                  </a:lnTo>
                  <a:lnTo>
                    <a:pt x="2774" y="0"/>
                  </a:lnTo>
                  <a:lnTo>
                    <a:pt x="320" y="0"/>
                  </a:lnTo>
                  <a:lnTo>
                    <a:pt x="320" y="442"/>
                  </a:lnTo>
                  <a:lnTo>
                    <a:pt x="0" y="442"/>
                  </a:lnTo>
                  <a:lnTo>
                    <a:pt x="0" y="362"/>
                  </a:lnTo>
                  <a:lnTo>
                    <a:pt x="56" y="36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833120" y="2667960"/>
              <a:ext cx="46080" cy="504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1" y="23"/>
                  </a:moveTo>
                  <a:lnTo>
                    <a:pt x="13" y="25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531880" y="4205880"/>
              <a:ext cx="5729400" cy="2188080"/>
            </a:xfrm>
            <a:custGeom>
              <a:avLst/>
              <a:gdLst/>
              <a:ahLst/>
              <a:rect l="l" t="t" r="r" b="b"/>
              <a:pathLst>
                <a:path w="2845" h="1087">
                  <a:moveTo>
                    <a:pt x="2792" y="811"/>
                  </a:moveTo>
                  <a:lnTo>
                    <a:pt x="2845" y="813"/>
                  </a:lnTo>
                  <a:lnTo>
                    <a:pt x="2845" y="1087"/>
                  </a:lnTo>
                  <a:lnTo>
                    <a:pt x="0" y="1087"/>
                  </a:ln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16200000">
              <a:off x="7094520" y="36086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rot="16200000">
              <a:off x="7109640" y="3547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rot="16200000">
              <a:off x="7094520" y="34758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6200000">
              <a:off x="7087320" y="33879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6200000">
              <a:off x="7118640" y="3330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rot="16200000">
              <a:off x="7128720" y="33102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16200000">
              <a:off x="7125480" y="3287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16200000">
              <a:off x="7109640" y="325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624360" y="4163760"/>
              <a:ext cx="5004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720840" y="41256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78708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3676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891840" y="4125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92208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975720" y="4125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022160" y="4125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324120" y="4183920"/>
              <a:ext cx="3081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131600" y="42566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200000" y="425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54360" y="4256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276320" y="425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31040" y="4256640"/>
              <a:ext cx="3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065000" y="436932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41680" y="4369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196040" y="436932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271640" y="4369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327080" y="43693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358400" y="4369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067760" y="3644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128960" y="364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183680" y="364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238760" y="3644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272240" y="364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326600" y="364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373760" y="364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19810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ag. 47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3365640" y="88920"/>
            <a:ext cx="4986720" cy="6678720"/>
            <a:chOff x="3365640" y="88920"/>
            <a:chExt cx="4986720" cy="6678720"/>
          </a:xfrm>
        </p:grpSpPr>
        <p:grpSp>
          <p:nvGrpSpPr>
            <p:cNvPr id="1192" name=""/>
            <p:cNvGrpSpPr/>
            <p:nvPr/>
          </p:nvGrpSpPr>
          <p:grpSpPr>
            <a:xfrm>
              <a:off x="3413160" y="264960"/>
              <a:ext cx="4586400" cy="2952720"/>
              <a:chOff x="3413160" y="264960"/>
              <a:chExt cx="4586400" cy="2952720"/>
            </a:xfrm>
          </p:grpSpPr>
          <p:sp>
            <p:nvSpPr>
              <p:cNvPr id="1193" name=""/>
              <p:cNvSpPr/>
              <p:nvPr/>
            </p:nvSpPr>
            <p:spPr>
              <a:xfrm>
                <a:off x="7653240" y="88272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653240" y="88272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763040" y="1014480"/>
                <a:ext cx="188640" cy="958680"/>
              </a:xfrm>
              <a:custGeom>
                <a:avLst/>
                <a:gdLst/>
                <a:ahLst/>
                <a:rect l="l" t="t" r="r" b="b"/>
                <a:pathLst>
                  <a:path w="119" h="604">
                    <a:moveTo>
                      <a:pt x="117" y="604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2616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2616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626160" y="703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626160" y="703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983040" y="264960"/>
                <a:ext cx="3159000" cy="1314720"/>
              </a:xfrm>
              <a:custGeom>
                <a:avLst/>
                <a:gdLst/>
                <a:ahLst/>
                <a:rect l="l" t="t" r="r" b="b"/>
                <a:pathLst>
                  <a:path w="1990" h="828">
                    <a:moveTo>
                      <a:pt x="0" y="113"/>
                    </a:moveTo>
                    <a:lnTo>
                      <a:pt x="2" y="0"/>
                    </a:lnTo>
                    <a:lnTo>
                      <a:pt x="1990" y="0"/>
                    </a:lnTo>
                    <a:lnTo>
                      <a:pt x="1990" y="828"/>
                    </a:lnTo>
                    <a:lnTo>
                      <a:pt x="1940" y="82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735600" y="905040"/>
                <a:ext cx="160560" cy="630000"/>
              </a:xfrm>
              <a:custGeom>
                <a:avLst/>
                <a:gdLst/>
                <a:ahLst/>
                <a:rect l="l" t="t" r="r" b="b"/>
                <a:pathLst>
                  <a:path w="101" h="397">
                    <a:moveTo>
                      <a:pt x="0" y="0"/>
                    </a:moveTo>
                    <a:lnTo>
                      <a:pt x="50" y="0"/>
                    </a:lnTo>
                    <a:lnTo>
                      <a:pt x="50" y="397"/>
                    </a:lnTo>
                    <a:lnTo>
                      <a:pt x="101" y="39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735600" y="1622520"/>
                <a:ext cx="160560" cy="264960"/>
              </a:xfrm>
              <a:custGeom>
                <a:avLst/>
                <a:gdLst/>
                <a:ahLst/>
                <a:rect l="l" t="t" r="r" b="b"/>
                <a:pathLst>
                  <a:path w="101" h="167">
                    <a:moveTo>
                      <a:pt x="0" y="167"/>
                    </a:moveTo>
                    <a:lnTo>
                      <a:pt x="50" y="167"/>
                    </a:lnTo>
                    <a:lnTo>
                      <a:pt x="50" y="0"/>
                    </a:lnTo>
                    <a:lnTo>
                      <a:pt x="101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735600" y="971640"/>
                <a:ext cx="838440" cy="1649160"/>
              </a:xfrm>
              <a:custGeom>
                <a:avLst/>
                <a:gdLst/>
                <a:ahLst/>
                <a:rect l="l" t="t" r="r" b="b"/>
                <a:pathLst>
                  <a:path w="528" h="1039">
                    <a:moveTo>
                      <a:pt x="314" y="924"/>
                    </a:moveTo>
                    <a:lnTo>
                      <a:pt x="314" y="1039"/>
                    </a:lnTo>
                    <a:lnTo>
                      <a:pt x="528" y="1039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735600" y="1039680"/>
                <a:ext cx="498600" cy="771480"/>
              </a:xfrm>
              <a:custGeom>
                <a:avLst/>
                <a:gdLst/>
                <a:ahLst/>
                <a:rect l="l" t="t" r="r" b="b"/>
                <a:pathLst>
                  <a:path w="314" h="486">
                    <a:moveTo>
                      <a:pt x="314" y="486"/>
                    </a:moveTo>
                    <a:lnTo>
                      <a:pt x="31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735600" y="793800"/>
                <a:ext cx="895680" cy="111240"/>
              </a:xfrm>
              <a:custGeom>
                <a:avLst/>
                <a:gdLst/>
                <a:ahLst/>
                <a:rect l="l" t="t" r="r" b="b"/>
                <a:pathLst>
                  <a:path w="564" h="70">
                    <a:moveTo>
                      <a:pt x="564" y="70"/>
                    </a:moveTo>
                    <a:lnTo>
                      <a:pt x="528" y="70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386400" y="1887480"/>
                <a:ext cx="214560" cy="1800"/>
              </a:xfrm>
              <a:prstGeom prst="line">
                <a:avLst/>
              </a:prstGeom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181560" y="2120760"/>
                <a:ext cx="81000" cy="460440"/>
              </a:xfrm>
              <a:custGeom>
                <a:avLst/>
                <a:gdLst/>
                <a:ahLst/>
                <a:rect l="l" t="t" r="r" b="b"/>
                <a:pathLst>
                  <a:path w="51" h="290">
                    <a:moveTo>
                      <a:pt x="51" y="0"/>
                    </a:moveTo>
                    <a:lnTo>
                      <a:pt x="51" y="290"/>
                    </a:lnTo>
                    <a:lnTo>
                      <a:pt x="0" y="29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56740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56740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567400" y="703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567400" y="703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567400" y="523800"/>
                <a:ext cx="109440" cy="17964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567400" y="523800"/>
                <a:ext cx="109440" cy="17964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068800" y="387360"/>
                <a:ext cx="2773440" cy="1257120"/>
              </a:xfrm>
              <a:custGeom>
                <a:avLst/>
                <a:gdLst/>
                <a:ahLst/>
                <a:rect l="l" t="t" r="r" b="b"/>
                <a:pathLst>
                  <a:path w="1747" h="792">
                    <a:moveTo>
                      <a:pt x="1695" y="342"/>
                    </a:moveTo>
                    <a:lnTo>
                      <a:pt x="1747" y="344"/>
                    </a:lnTo>
                    <a:lnTo>
                      <a:pt x="1747" y="0"/>
                    </a:lnTo>
                    <a:lnTo>
                      <a:pt x="0" y="0"/>
                    </a:lnTo>
                    <a:lnTo>
                      <a:pt x="0" y="79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673600" y="905040"/>
                <a:ext cx="816120" cy="2296800"/>
              </a:xfrm>
              <a:custGeom>
                <a:avLst/>
                <a:gdLst/>
                <a:ahLst/>
                <a:rect l="l" t="t" r="r" b="b"/>
                <a:pathLst>
                  <a:path w="514" h="1447">
                    <a:moveTo>
                      <a:pt x="0" y="0"/>
                    </a:moveTo>
                    <a:lnTo>
                      <a:pt x="514" y="0"/>
                    </a:lnTo>
                    <a:lnTo>
                      <a:pt x="514" y="1447"/>
                    </a:lnTo>
                    <a:lnTo>
                      <a:pt x="135" y="1447"/>
                    </a:lnTo>
                    <a:lnTo>
                      <a:pt x="135" y="139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673600" y="1039680"/>
                <a:ext cx="693720" cy="908280"/>
              </a:xfrm>
              <a:custGeom>
                <a:avLst/>
                <a:gdLst/>
                <a:ahLst/>
                <a:rect l="l" t="t" r="r" b="b"/>
                <a:pathLst>
                  <a:path w="437" h="572">
                    <a:moveTo>
                      <a:pt x="0" y="0"/>
                    </a:moveTo>
                    <a:lnTo>
                      <a:pt x="437" y="0"/>
                    </a:lnTo>
                    <a:lnTo>
                      <a:pt x="437" y="383"/>
                    </a:lnTo>
                    <a:lnTo>
                      <a:pt x="159" y="383"/>
                    </a:lnTo>
                    <a:lnTo>
                      <a:pt x="159" y="57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673600" y="971640"/>
                <a:ext cx="754200" cy="1920960"/>
              </a:xfrm>
              <a:custGeom>
                <a:avLst/>
                <a:gdLst/>
                <a:ahLst/>
                <a:rect l="l" t="t" r="r" b="b"/>
                <a:pathLst>
                  <a:path w="475" h="1210">
                    <a:moveTo>
                      <a:pt x="0" y="0"/>
                    </a:moveTo>
                    <a:lnTo>
                      <a:pt x="475" y="0"/>
                    </a:lnTo>
                    <a:lnTo>
                      <a:pt x="475" y="1210"/>
                    </a:lnTo>
                    <a:lnTo>
                      <a:pt x="258" y="1210"/>
                    </a:lnTo>
                    <a:lnTo>
                      <a:pt x="258" y="1147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321160" y="971640"/>
                <a:ext cx="223920" cy="14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362560" y="790560"/>
                <a:ext cx="182520" cy="32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321160" y="611280"/>
                <a:ext cx="223920" cy="32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676840" y="793800"/>
                <a:ext cx="927000" cy="111240"/>
              </a:xfrm>
              <a:custGeom>
                <a:avLst/>
                <a:gdLst/>
                <a:ahLst/>
                <a:rect l="l" t="t" r="r" b="b"/>
                <a:pathLst>
                  <a:path w="584" h="70">
                    <a:moveTo>
                      <a:pt x="584" y="70"/>
                    </a:moveTo>
                    <a:lnTo>
                      <a:pt x="530" y="70"/>
                    </a:lnTo>
                    <a:lnTo>
                      <a:pt x="53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676840" y="614520"/>
                <a:ext cx="927000" cy="110880"/>
              </a:xfrm>
              <a:custGeom>
                <a:avLst/>
                <a:gdLst/>
                <a:ahLst/>
                <a:rect l="l" t="t" r="r" b="b"/>
                <a:pathLst>
                  <a:path w="584" h="70">
                    <a:moveTo>
                      <a:pt x="584" y="70"/>
                    </a:moveTo>
                    <a:lnTo>
                      <a:pt x="548" y="70"/>
                    </a:lnTo>
                    <a:lnTo>
                      <a:pt x="54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597720" y="187488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896160" y="1509840"/>
                <a:ext cx="166680" cy="13788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8" y="79"/>
                    </a:lnTo>
                    <a:lnTo>
                      <a:pt x="92" y="75"/>
                    </a:lnTo>
                    <a:lnTo>
                      <a:pt x="96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2"/>
                    </a:lnTo>
                    <a:lnTo>
                      <a:pt x="96" y="18"/>
                    </a:lnTo>
                    <a:lnTo>
                      <a:pt x="92" y="12"/>
                    </a:lnTo>
                    <a:lnTo>
                      <a:pt x="88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2" y="87"/>
                    </a:lnTo>
                    <a:lnTo>
                      <a:pt x="62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896160" y="1509840"/>
                <a:ext cx="166680" cy="13788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8" y="79"/>
                    </a:lnTo>
                    <a:lnTo>
                      <a:pt x="92" y="75"/>
                    </a:lnTo>
                    <a:lnTo>
                      <a:pt x="96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2"/>
                    </a:lnTo>
                    <a:lnTo>
                      <a:pt x="96" y="18"/>
                    </a:lnTo>
                    <a:lnTo>
                      <a:pt x="92" y="12"/>
                    </a:lnTo>
                    <a:lnTo>
                      <a:pt x="88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2" y="87"/>
                    </a:lnTo>
                    <a:lnTo>
                      <a:pt x="62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803920" y="2819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803920" y="3059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776840" y="20224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444840" y="1616040"/>
                <a:ext cx="100080" cy="28116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63" y="1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3" y="177"/>
                    </a:lnTo>
                    <a:lnTo>
                      <a:pt x="63" y="177"/>
                    </a:lnTo>
                    <a:lnTo>
                      <a:pt x="63" y="17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444840" y="1616040"/>
                <a:ext cx="100080" cy="28116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63" y="1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3" y="177"/>
                    </a:lnTo>
                    <a:lnTo>
                      <a:pt x="63" y="17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68604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68604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86280" y="1644480"/>
                <a:ext cx="301680" cy="62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86280" y="1644480"/>
                <a:ext cx="301680" cy="623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855600" y="1893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871440" y="189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00240" y="1893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925440" y="1893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941280" y="1893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957480" y="189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989160" y="1893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014360" y="1893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030560" y="1893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039920" y="189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073040" y="189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102200" y="1893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890520" y="1962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935160" y="196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963240" y="1962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08240" y="196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36320" y="1962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057200" y="196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934320" y="1811160"/>
                <a:ext cx="601560" cy="627120"/>
              </a:xfrm>
              <a:custGeom>
                <a:avLst/>
                <a:gdLst/>
                <a:ahLst/>
                <a:rect l="l" t="t" r="r" b="b"/>
                <a:pathLst>
                  <a:path w="379" h="395">
                    <a:moveTo>
                      <a:pt x="377" y="395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379" y="395"/>
                    </a:lnTo>
                    <a:lnTo>
                      <a:pt x="379" y="395"/>
                    </a:lnTo>
                    <a:lnTo>
                      <a:pt x="377" y="3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934320" y="1811160"/>
                <a:ext cx="601560" cy="627120"/>
              </a:xfrm>
              <a:custGeom>
                <a:avLst/>
                <a:gdLst/>
                <a:ahLst/>
                <a:rect l="l" t="t" r="r" b="b"/>
                <a:pathLst>
                  <a:path w="379" h="395">
                    <a:moveTo>
                      <a:pt x="377" y="395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379" y="395"/>
                    </a:lnTo>
                    <a:lnTo>
                      <a:pt x="37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776840" y="17017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776840" y="21812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605040" y="1027080"/>
                <a:ext cx="270000" cy="728640"/>
              </a:xfrm>
              <a:custGeom>
                <a:avLst/>
                <a:gdLst/>
                <a:ahLst/>
                <a:rect l="l" t="t" r="r" b="b"/>
                <a:pathLst>
                  <a:path w="170" h="459">
                    <a:moveTo>
                      <a:pt x="170" y="0"/>
                    </a:moveTo>
                    <a:lnTo>
                      <a:pt x="0" y="0"/>
                    </a:lnTo>
                    <a:lnTo>
                      <a:pt x="0" y="45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3777840" y="1346040"/>
                <a:ext cx="96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897360" y="91764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6" y="169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897360" y="91764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6" y="169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842080" y="198288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2" y="17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842080" y="22208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024600" y="210168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5977080" y="2114640"/>
                <a:ext cx="568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024600" y="178128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869240" y="20098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869240" y="22496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902280" y="23097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979960" y="2367000"/>
                <a:ext cx="201600" cy="425520"/>
              </a:xfrm>
              <a:custGeom>
                <a:avLst/>
                <a:gdLst/>
                <a:ahLst/>
                <a:rect l="l" t="t" r="r" b="b"/>
                <a:pathLst>
                  <a:path w="127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5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28"/>
                    </a:lnTo>
                    <a:lnTo>
                      <a:pt x="115" y="214"/>
                    </a:lnTo>
                    <a:lnTo>
                      <a:pt x="119" y="196"/>
                    </a:lnTo>
                    <a:lnTo>
                      <a:pt x="123" y="178"/>
                    </a:lnTo>
                    <a:lnTo>
                      <a:pt x="127" y="156"/>
                    </a:lnTo>
                    <a:lnTo>
                      <a:pt x="127" y="135"/>
                    </a:lnTo>
                    <a:lnTo>
                      <a:pt x="127" y="113"/>
                    </a:lnTo>
                    <a:lnTo>
                      <a:pt x="123" y="93"/>
                    </a:lnTo>
                    <a:lnTo>
                      <a:pt x="119" y="73"/>
                    </a:lnTo>
                    <a:lnTo>
                      <a:pt x="115" y="55"/>
                    </a:lnTo>
                    <a:lnTo>
                      <a:pt x="109" y="41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5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4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20" y="41"/>
                    </a:lnTo>
                    <a:lnTo>
                      <a:pt x="12" y="55"/>
                    </a:lnTo>
                    <a:lnTo>
                      <a:pt x="8" y="73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5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8" y="196"/>
                    </a:lnTo>
                    <a:lnTo>
                      <a:pt x="12" y="214"/>
                    </a:lnTo>
                    <a:lnTo>
                      <a:pt x="20" y="228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4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  <a:lnTo>
                      <a:pt x="63" y="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979960" y="2367000"/>
                <a:ext cx="201600" cy="425520"/>
              </a:xfrm>
              <a:custGeom>
                <a:avLst/>
                <a:gdLst/>
                <a:ahLst/>
                <a:rect l="l" t="t" r="r" b="b"/>
                <a:pathLst>
                  <a:path w="127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5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28"/>
                    </a:lnTo>
                    <a:lnTo>
                      <a:pt x="115" y="214"/>
                    </a:lnTo>
                    <a:lnTo>
                      <a:pt x="119" y="196"/>
                    </a:lnTo>
                    <a:lnTo>
                      <a:pt x="123" y="178"/>
                    </a:lnTo>
                    <a:lnTo>
                      <a:pt x="127" y="156"/>
                    </a:lnTo>
                    <a:lnTo>
                      <a:pt x="127" y="135"/>
                    </a:lnTo>
                    <a:lnTo>
                      <a:pt x="127" y="113"/>
                    </a:lnTo>
                    <a:lnTo>
                      <a:pt x="123" y="93"/>
                    </a:lnTo>
                    <a:lnTo>
                      <a:pt x="119" y="73"/>
                    </a:lnTo>
                    <a:lnTo>
                      <a:pt x="115" y="55"/>
                    </a:lnTo>
                    <a:lnTo>
                      <a:pt x="109" y="41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5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4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20" y="41"/>
                    </a:lnTo>
                    <a:lnTo>
                      <a:pt x="12" y="55"/>
                    </a:lnTo>
                    <a:lnTo>
                      <a:pt x="8" y="73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5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8" y="196"/>
                    </a:lnTo>
                    <a:lnTo>
                      <a:pt x="12" y="214"/>
                    </a:lnTo>
                    <a:lnTo>
                      <a:pt x="20" y="228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4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4750920" y="2703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763880" y="2703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795560" y="2703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820760" y="2703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836600" y="2703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854240" y="2703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882680" y="2703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911120" y="2703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4924440" y="2703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936680" y="2703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965480" y="2703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997520" y="2703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750920" y="2757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4763880" y="275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4795560" y="275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824000" y="275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863600" y="275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895640" y="275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923720" y="2757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673600" y="2577960"/>
                <a:ext cx="28764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16200000">
                <a:off x="7885800" y="1850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6200000">
                <a:off x="7896600" y="1816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16200000">
                <a:off x="7885800" y="1778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16200000">
                <a:off x="7907400" y="1754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16200000">
                <a:off x="7896600" y="173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16200000">
                <a:off x="7890480" y="1691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rot="16200000">
                <a:off x="7896600" y="1659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rot="16200000">
                <a:off x="7896600" y="1630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108840" y="28195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143400" y="281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172200" y="2819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209640" y="281952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251400" y="281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840360" y="1420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876360" y="1420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89256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92424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953040" y="1420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97824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13360" y="3125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951160" y="312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979600" y="312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008760" y="3125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46560" y="3125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76440" y="3125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175440" y="1571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210000" y="157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238800" y="1571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278400" y="1571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312960" y="1571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32040" y="1571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592440" y="17431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868560" y="1014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868560" y="133344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723840" y="13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5676840" y="1185840"/>
                <a:ext cx="2556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958000" y="1077840"/>
                <a:ext cx="333360" cy="538200"/>
              </a:xfrm>
              <a:custGeom>
                <a:avLst/>
                <a:gdLst/>
                <a:ahLst/>
                <a:rect l="l" t="t" r="r" b="b"/>
                <a:pathLst>
                  <a:path w="210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69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958000" y="1077840"/>
                <a:ext cx="333360" cy="538200"/>
              </a:xfrm>
              <a:custGeom>
                <a:avLst/>
                <a:gdLst/>
                <a:ahLst/>
                <a:rect l="l" t="t" r="r" b="b"/>
                <a:pathLst>
                  <a:path w="210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69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>
                <a:off x="6291360" y="1346040"/>
                <a:ext cx="3189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597720" y="13334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544920" y="1755720"/>
                <a:ext cx="122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654360" y="17398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413160" y="17398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119560" y="25653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151600" y="236700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2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1" y="254"/>
                    </a:lnTo>
                    <a:lnTo>
                      <a:pt x="101" y="242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3" y="178"/>
                    </a:lnTo>
                    <a:lnTo>
                      <a:pt x="125" y="156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3" y="93"/>
                    </a:lnTo>
                    <a:lnTo>
                      <a:pt x="119" y="73"/>
                    </a:lnTo>
                    <a:lnTo>
                      <a:pt x="113" y="55"/>
                    </a:lnTo>
                    <a:lnTo>
                      <a:pt x="107" y="41"/>
                    </a:lnTo>
                    <a:lnTo>
                      <a:pt x="101" y="26"/>
                    </a:lnTo>
                    <a:lnTo>
                      <a:pt x="91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18" y="41"/>
                    </a:lnTo>
                    <a:lnTo>
                      <a:pt x="12" y="55"/>
                    </a:lnTo>
                    <a:lnTo>
                      <a:pt x="6" y="73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6"/>
                    </a:lnTo>
                    <a:lnTo>
                      <a:pt x="2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8" y="228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151600" y="236700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2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1" y="254"/>
                    </a:lnTo>
                    <a:lnTo>
                      <a:pt x="101" y="242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3" y="178"/>
                    </a:lnTo>
                    <a:lnTo>
                      <a:pt x="125" y="156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3" y="93"/>
                    </a:lnTo>
                    <a:lnTo>
                      <a:pt x="119" y="73"/>
                    </a:lnTo>
                    <a:lnTo>
                      <a:pt x="113" y="55"/>
                    </a:lnTo>
                    <a:lnTo>
                      <a:pt x="107" y="41"/>
                    </a:lnTo>
                    <a:lnTo>
                      <a:pt x="101" y="26"/>
                    </a:lnTo>
                    <a:lnTo>
                      <a:pt x="91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18" y="41"/>
                    </a:lnTo>
                    <a:lnTo>
                      <a:pt x="12" y="55"/>
                    </a:lnTo>
                    <a:lnTo>
                      <a:pt x="6" y="73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6"/>
                    </a:lnTo>
                    <a:lnTo>
                      <a:pt x="2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8" y="228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750920" y="2451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766760" y="245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795560" y="2451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820760" y="2451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836600" y="2451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854240" y="245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885920" y="2451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911120" y="2451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927680" y="2451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36680" y="245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68360" y="245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997520" y="24512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750920" y="2505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766760" y="250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795560" y="250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824000" y="250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866840" y="250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895280" y="2505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925960" y="117324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925960" y="14940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897680" y="1973160"/>
                <a:ext cx="101880" cy="33984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3"/>
                    </a:moveTo>
                    <a:lnTo>
                      <a:pt x="2" y="27"/>
                    </a:lnTo>
                    <a:lnTo>
                      <a:pt x="4" y="23"/>
                    </a:lnTo>
                    <a:lnTo>
                      <a:pt x="6" y="18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8" y="4"/>
                    </a:lnTo>
                    <a:lnTo>
                      <a:pt x="52" y="6"/>
                    </a:lnTo>
                    <a:lnTo>
                      <a:pt x="54" y="10"/>
                    </a:lnTo>
                    <a:lnTo>
                      <a:pt x="58" y="14"/>
                    </a:lnTo>
                    <a:lnTo>
                      <a:pt x="60" y="18"/>
                    </a:lnTo>
                    <a:lnTo>
                      <a:pt x="62" y="23"/>
                    </a:lnTo>
                    <a:lnTo>
                      <a:pt x="64" y="27"/>
                    </a:lnTo>
                    <a:lnTo>
                      <a:pt x="64" y="33"/>
                    </a:lnTo>
                    <a:lnTo>
                      <a:pt x="64" y="184"/>
                    </a:lnTo>
                    <a:lnTo>
                      <a:pt x="64" y="188"/>
                    </a:lnTo>
                    <a:lnTo>
                      <a:pt x="62" y="194"/>
                    </a:lnTo>
                    <a:lnTo>
                      <a:pt x="60" y="198"/>
                    </a:lnTo>
                    <a:lnTo>
                      <a:pt x="58" y="202"/>
                    </a:lnTo>
                    <a:lnTo>
                      <a:pt x="54" y="206"/>
                    </a:lnTo>
                    <a:lnTo>
                      <a:pt x="52" y="208"/>
                    </a:lnTo>
                    <a:lnTo>
                      <a:pt x="48" y="212"/>
                    </a:lnTo>
                    <a:lnTo>
                      <a:pt x="42" y="214"/>
                    </a:lnTo>
                    <a:lnTo>
                      <a:pt x="38" y="214"/>
                    </a:lnTo>
                    <a:lnTo>
                      <a:pt x="32" y="214"/>
                    </a:lnTo>
                    <a:lnTo>
                      <a:pt x="28" y="214"/>
                    </a:lnTo>
                    <a:lnTo>
                      <a:pt x="24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8" y="202"/>
                    </a:lnTo>
                    <a:lnTo>
                      <a:pt x="6" y="198"/>
                    </a:lnTo>
                    <a:lnTo>
                      <a:pt x="4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897680" y="1973160"/>
                <a:ext cx="101880" cy="33984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3"/>
                    </a:moveTo>
                    <a:lnTo>
                      <a:pt x="2" y="27"/>
                    </a:lnTo>
                    <a:lnTo>
                      <a:pt x="4" y="23"/>
                    </a:lnTo>
                    <a:lnTo>
                      <a:pt x="6" y="18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8" y="4"/>
                    </a:lnTo>
                    <a:lnTo>
                      <a:pt x="52" y="6"/>
                    </a:lnTo>
                    <a:lnTo>
                      <a:pt x="54" y="10"/>
                    </a:lnTo>
                    <a:lnTo>
                      <a:pt x="58" y="14"/>
                    </a:lnTo>
                    <a:lnTo>
                      <a:pt x="60" y="18"/>
                    </a:lnTo>
                    <a:lnTo>
                      <a:pt x="62" y="23"/>
                    </a:lnTo>
                    <a:lnTo>
                      <a:pt x="64" y="27"/>
                    </a:lnTo>
                    <a:lnTo>
                      <a:pt x="64" y="33"/>
                    </a:lnTo>
                    <a:lnTo>
                      <a:pt x="64" y="184"/>
                    </a:lnTo>
                    <a:lnTo>
                      <a:pt x="64" y="188"/>
                    </a:lnTo>
                    <a:lnTo>
                      <a:pt x="62" y="194"/>
                    </a:lnTo>
                    <a:lnTo>
                      <a:pt x="60" y="198"/>
                    </a:lnTo>
                    <a:lnTo>
                      <a:pt x="58" y="202"/>
                    </a:lnTo>
                    <a:lnTo>
                      <a:pt x="54" y="206"/>
                    </a:lnTo>
                    <a:lnTo>
                      <a:pt x="52" y="208"/>
                    </a:lnTo>
                    <a:lnTo>
                      <a:pt x="48" y="212"/>
                    </a:lnTo>
                    <a:lnTo>
                      <a:pt x="42" y="214"/>
                    </a:lnTo>
                    <a:lnTo>
                      <a:pt x="38" y="214"/>
                    </a:lnTo>
                    <a:lnTo>
                      <a:pt x="32" y="214"/>
                    </a:lnTo>
                    <a:lnTo>
                      <a:pt x="28" y="214"/>
                    </a:lnTo>
                    <a:lnTo>
                      <a:pt x="24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8" y="202"/>
                    </a:lnTo>
                    <a:lnTo>
                      <a:pt x="6" y="198"/>
                    </a:lnTo>
                    <a:lnTo>
                      <a:pt x="4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3"/>
                    </a:lnTo>
                    <a:lnTo>
                      <a:pt x="2" y="33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875200" y="1947960"/>
                <a:ext cx="9864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6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875200" y="1947960"/>
                <a:ext cx="9864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6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89392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835600" y="2782800"/>
                <a:ext cx="100080" cy="33984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1"/>
                    </a:moveTo>
                    <a:lnTo>
                      <a:pt x="0" y="27"/>
                    </a:lnTo>
                    <a:lnTo>
                      <a:pt x="2" y="23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2"/>
                    </a:lnTo>
                    <a:lnTo>
                      <a:pt x="59" y="16"/>
                    </a:lnTo>
                    <a:lnTo>
                      <a:pt x="61" y="23"/>
                    </a:lnTo>
                    <a:lnTo>
                      <a:pt x="63" y="27"/>
                    </a:lnTo>
                    <a:lnTo>
                      <a:pt x="63" y="33"/>
                    </a:lnTo>
                    <a:lnTo>
                      <a:pt x="63" y="182"/>
                    </a:lnTo>
                    <a:lnTo>
                      <a:pt x="63" y="188"/>
                    </a:lnTo>
                    <a:lnTo>
                      <a:pt x="61" y="192"/>
                    </a:lnTo>
                    <a:lnTo>
                      <a:pt x="59" y="198"/>
                    </a:lnTo>
                    <a:lnTo>
                      <a:pt x="57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1" y="212"/>
                    </a:lnTo>
                    <a:lnTo>
                      <a:pt x="37" y="214"/>
                    </a:lnTo>
                    <a:lnTo>
                      <a:pt x="33" y="214"/>
                    </a:lnTo>
                    <a:lnTo>
                      <a:pt x="27" y="214"/>
                    </a:lnTo>
                    <a:lnTo>
                      <a:pt x="23" y="212"/>
                    </a:lnTo>
                    <a:lnTo>
                      <a:pt x="17" y="210"/>
                    </a:lnTo>
                    <a:lnTo>
                      <a:pt x="13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835600" y="2782800"/>
                <a:ext cx="100080" cy="33984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1"/>
                    </a:moveTo>
                    <a:lnTo>
                      <a:pt x="0" y="27"/>
                    </a:lnTo>
                    <a:lnTo>
                      <a:pt x="2" y="23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2"/>
                    </a:lnTo>
                    <a:lnTo>
                      <a:pt x="59" y="16"/>
                    </a:lnTo>
                    <a:lnTo>
                      <a:pt x="61" y="23"/>
                    </a:lnTo>
                    <a:lnTo>
                      <a:pt x="63" y="27"/>
                    </a:lnTo>
                    <a:lnTo>
                      <a:pt x="63" y="33"/>
                    </a:lnTo>
                    <a:lnTo>
                      <a:pt x="63" y="182"/>
                    </a:lnTo>
                    <a:lnTo>
                      <a:pt x="63" y="188"/>
                    </a:lnTo>
                    <a:lnTo>
                      <a:pt x="61" y="192"/>
                    </a:lnTo>
                    <a:lnTo>
                      <a:pt x="59" y="198"/>
                    </a:lnTo>
                    <a:lnTo>
                      <a:pt x="57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1" y="212"/>
                    </a:lnTo>
                    <a:lnTo>
                      <a:pt x="37" y="214"/>
                    </a:lnTo>
                    <a:lnTo>
                      <a:pt x="33" y="214"/>
                    </a:lnTo>
                    <a:lnTo>
                      <a:pt x="27" y="214"/>
                    </a:lnTo>
                    <a:lnTo>
                      <a:pt x="23" y="212"/>
                    </a:lnTo>
                    <a:lnTo>
                      <a:pt x="17" y="210"/>
                    </a:lnTo>
                    <a:lnTo>
                      <a:pt x="13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861880" y="2870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907240" y="2870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871960" y="292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900760" y="2921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871960" y="2976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856120" y="2803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856120" y="304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113440" y="77616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024600" y="1317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060600" y="13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089400" y="13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181560" y="1289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216480" y="1289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248160" y="1289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278400" y="12891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136920" y="1343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156000" y="1343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184440" y="1343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210000" y="1343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242040" y="1343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251040" y="1343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776840" y="1862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08520" y="1644480"/>
                <a:ext cx="598680" cy="623880"/>
              </a:xfrm>
              <a:custGeom>
                <a:avLst/>
                <a:gdLst/>
                <a:ahLst/>
                <a:rect l="l" t="t" r="r" b="b"/>
                <a:pathLst>
                  <a:path w="377" h="393">
                    <a:moveTo>
                      <a:pt x="377" y="393"/>
                    </a:moveTo>
                    <a:lnTo>
                      <a:pt x="377" y="0"/>
                    </a:lnTo>
                    <a:lnTo>
                      <a:pt x="0" y="0"/>
                    </a:lnTo>
                    <a:lnTo>
                      <a:pt x="0" y="393"/>
                    </a:lnTo>
                    <a:lnTo>
                      <a:pt x="377" y="393"/>
                    </a:lnTo>
                    <a:lnTo>
                      <a:pt x="377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808520" y="1644480"/>
                <a:ext cx="598680" cy="623880"/>
              </a:xfrm>
              <a:custGeom>
                <a:avLst/>
                <a:gdLst/>
                <a:ahLst/>
                <a:rect l="l" t="t" r="r" b="b"/>
                <a:pathLst>
                  <a:path w="377" h="393">
                    <a:moveTo>
                      <a:pt x="377" y="393"/>
                    </a:moveTo>
                    <a:lnTo>
                      <a:pt x="377" y="0"/>
                    </a:lnTo>
                    <a:lnTo>
                      <a:pt x="0" y="0"/>
                    </a:lnTo>
                    <a:lnTo>
                      <a:pt x="0" y="393"/>
                    </a:lnTo>
                    <a:lnTo>
                      <a:pt x="377" y="393"/>
                    </a:lnTo>
                    <a:lnTo>
                      <a:pt x="377" y="393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994280" y="1925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032080" y="19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062320" y="19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091120" y="1925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103360" y="1925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4578480" y="558720"/>
              <a:ext cx="3483000" cy="2762280"/>
              <a:chOff x="4578480" y="558720"/>
              <a:chExt cx="3483000" cy="2762280"/>
            </a:xfrm>
          </p:grpSpPr>
          <p:sp>
            <p:nvSpPr>
              <p:cNvPr id="1394" name=""/>
              <p:cNvSpPr/>
              <p:nvPr/>
            </p:nvSpPr>
            <p:spPr>
              <a:xfrm>
                <a:off x="5128560" y="1925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144760" y="19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173200" y="1925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192280" y="1925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830480" y="19782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882680" y="1978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898880" y="1978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911120" y="1978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924080" y="1978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956120" y="19782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830120" y="203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84632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87980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908600" y="2031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920840" y="2031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946040" y="203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96224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990680" y="203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830480" y="21366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882680" y="2136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898880" y="2136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911120" y="2136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924080" y="2136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956120" y="2136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83048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86072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888800" y="2192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90500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264280" y="1736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302080" y="1736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333760" y="1736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362200" y="1736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391000" y="1736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23044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26392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292000" y="1792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30820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336640" y="1792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34960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64280" y="19382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302080" y="193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333760" y="193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362200" y="193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391000" y="19382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2304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26392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29200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0820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3664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4960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830840" y="16574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870080" y="1657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898520" y="1657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927320" y="1657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959360" y="16574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830120" y="17114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846320" y="1711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879800" y="1711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908600" y="17114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920840" y="17114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946040" y="1711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962240" y="1711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990680" y="17114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006520" y="1711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022360" y="1711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830840" y="1817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87008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89852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92732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959360" y="1817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830120" y="1871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846320" y="1871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879800" y="1871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908600" y="1871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920840" y="1871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946040" y="1871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962240" y="1871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990680" y="1871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006520" y="1871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022360" y="1871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713120" y="2143080"/>
                <a:ext cx="3348360" cy="1177920"/>
              </a:xfrm>
              <a:custGeom>
                <a:avLst/>
                <a:gdLst/>
                <a:ahLst/>
                <a:rect l="l" t="t" r="r" b="b"/>
                <a:pathLst>
                  <a:path w="2109" h="742">
                    <a:moveTo>
                      <a:pt x="46" y="32"/>
                    </a:moveTo>
                    <a:lnTo>
                      <a:pt x="0" y="32"/>
                    </a:lnTo>
                    <a:lnTo>
                      <a:pt x="0" y="742"/>
                    </a:lnTo>
                    <a:lnTo>
                      <a:pt x="2109" y="742"/>
                    </a:lnTo>
                    <a:lnTo>
                      <a:pt x="2109" y="0"/>
                    </a:lnTo>
                    <a:lnTo>
                      <a:pt x="207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H="1">
                <a:off x="4591080" y="1714680"/>
                <a:ext cx="1951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591080" y="2577960"/>
                <a:ext cx="5349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195880" y="2517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230800" y="2517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243040" y="2517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273280" y="2517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305320" y="2517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16708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195520" y="2585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223960" y="2585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23692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26716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29884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5794200" y="2236680"/>
                <a:ext cx="619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349960" y="2577960"/>
                <a:ext cx="1951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900040" y="2031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945040" y="2031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909760" y="2085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938920" y="2085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909760" y="2139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893920" y="220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053040" y="168588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7" y="171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053040" y="168588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7" y="171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278400" y="1941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313320" y="194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342120" y="1941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380280" y="1941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235200" y="1994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25140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281280" y="1994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31008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338880" y="1994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35112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265080" y="185580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297120" y="1855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325560" y="1855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345000" y="1855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591080" y="1874880"/>
                <a:ext cx="1951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538960" y="198288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0" y="17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5676840" y="1995480"/>
                <a:ext cx="1792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>
                <a:off x="5407200" y="1995480"/>
                <a:ext cx="1346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715000" y="1374840"/>
                <a:ext cx="163440" cy="266760"/>
              </a:xfrm>
              <a:custGeom>
                <a:avLst/>
                <a:gdLst/>
                <a:ahLst/>
                <a:rect l="l" t="t" r="r" b="b"/>
                <a:pathLst>
                  <a:path w="103" h="168">
                    <a:moveTo>
                      <a:pt x="50" y="166"/>
                    </a:moveTo>
                    <a:lnTo>
                      <a:pt x="60" y="166"/>
                    </a:lnTo>
                    <a:lnTo>
                      <a:pt x="68" y="164"/>
                    </a:lnTo>
                    <a:lnTo>
                      <a:pt x="74" y="158"/>
                    </a:lnTo>
                    <a:lnTo>
                      <a:pt x="82" y="152"/>
                    </a:lnTo>
                    <a:lnTo>
                      <a:pt x="89" y="144"/>
                    </a:lnTo>
                    <a:lnTo>
                      <a:pt x="93" y="133"/>
                    </a:lnTo>
                    <a:lnTo>
                      <a:pt x="97" y="121"/>
                    </a:lnTo>
                    <a:lnTo>
                      <a:pt x="101" y="109"/>
                    </a:lnTo>
                    <a:lnTo>
                      <a:pt x="103" y="97"/>
                    </a:lnTo>
                    <a:lnTo>
                      <a:pt x="103" y="85"/>
                    </a:lnTo>
                    <a:lnTo>
                      <a:pt x="103" y="71"/>
                    </a:lnTo>
                    <a:lnTo>
                      <a:pt x="101" y="59"/>
                    </a:lnTo>
                    <a:lnTo>
                      <a:pt x="97" y="47"/>
                    </a:lnTo>
                    <a:lnTo>
                      <a:pt x="93" y="35"/>
                    </a:lnTo>
                    <a:lnTo>
                      <a:pt x="89" y="25"/>
                    </a:lnTo>
                    <a:lnTo>
                      <a:pt x="82" y="17"/>
                    </a:lnTo>
                    <a:lnTo>
                      <a:pt x="74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0" y="0"/>
                    </a:lnTo>
                    <a:lnTo>
                      <a:pt x="42" y="2"/>
                    </a:lnTo>
                    <a:lnTo>
                      <a:pt x="34" y="6"/>
                    </a:lnTo>
                    <a:lnTo>
                      <a:pt x="28" y="10"/>
                    </a:lnTo>
                    <a:lnTo>
                      <a:pt x="20" y="17"/>
                    </a:lnTo>
                    <a:lnTo>
                      <a:pt x="14" y="25"/>
                    </a:lnTo>
                    <a:lnTo>
                      <a:pt x="10" y="35"/>
                    </a:lnTo>
                    <a:lnTo>
                      <a:pt x="4" y="47"/>
                    </a:lnTo>
                    <a:lnTo>
                      <a:pt x="2" y="59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0" y="97"/>
                    </a:lnTo>
                    <a:lnTo>
                      <a:pt x="2" y="109"/>
                    </a:lnTo>
                    <a:lnTo>
                      <a:pt x="4" y="121"/>
                    </a:lnTo>
                    <a:lnTo>
                      <a:pt x="10" y="133"/>
                    </a:lnTo>
                    <a:lnTo>
                      <a:pt x="14" y="144"/>
                    </a:lnTo>
                    <a:lnTo>
                      <a:pt x="20" y="152"/>
                    </a:lnTo>
                    <a:lnTo>
                      <a:pt x="28" y="158"/>
                    </a:lnTo>
                    <a:lnTo>
                      <a:pt x="34" y="164"/>
                    </a:lnTo>
                    <a:lnTo>
                      <a:pt x="42" y="166"/>
                    </a:lnTo>
                    <a:lnTo>
                      <a:pt x="50" y="168"/>
                    </a:lnTo>
                    <a:lnTo>
                      <a:pt x="50" y="168"/>
                    </a:lnTo>
                    <a:lnTo>
                      <a:pt x="50" y="1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715000" y="1374840"/>
                <a:ext cx="163440" cy="266760"/>
              </a:xfrm>
              <a:custGeom>
                <a:avLst/>
                <a:gdLst/>
                <a:ahLst/>
                <a:rect l="l" t="t" r="r" b="b"/>
                <a:pathLst>
                  <a:path w="103" h="168">
                    <a:moveTo>
                      <a:pt x="50" y="166"/>
                    </a:moveTo>
                    <a:lnTo>
                      <a:pt x="60" y="166"/>
                    </a:lnTo>
                    <a:lnTo>
                      <a:pt x="68" y="164"/>
                    </a:lnTo>
                    <a:lnTo>
                      <a:pt x="74" y="158"/>
                    </a:lnTo>
                    <a:lnTo>
                      <a:pt x="82" y="152"/>
                    </a:lnTo>
                    <a:lnTo>
                      <a:pt x="89" y="144"/>
                    </a:lnTo>
                    <a:lnTo>
                      <a:pt x="93" y="133"/>
                    </a:lnTo>
                    <a:lnTo>
                      <a:pt x="97" y="121"/>
                    </a:lnTo>
                    <a:lnTo>
                      <a:pt x="101" y="109"/>
                    </a:lnTo>
                    <a:lnTo>
                      <a:pt x="103" y="97"/>
                    </a:lnTo>
                    <a:lnTo>
                      <a:pt x="103" y="85"/>
                    </a:lnTo>
                    <a:lnTo>
                      <a:pt x="103" y="71"/>
                    </a:lnTo>
                    <a:lnTo>
                      <a:pt x="101" y="59"/>
                    </a:lnTo>
                    <a:lnTo>
                      <a:pt x="97" y="47"/>
                    </a:lnTo>
                    <a:lnTo>
                      <a:pt x="93" y="35"/>
                    </a:lnTo>
                    <a:lnTo>
                      <a:pt x="89" y="25"/>
                    </a:lnTo>
                    <a:lnTo>
                      <a:pt x="82" y="17"/>
                    </a:lnTo>
                    <a:lnTo>
                      <a:pt x="74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0" y="0"/>
                    </a:lnTo>
                    <a:lnTo>
                      <a:pt x="42" y="2"/>
                    </a:lnTo>
                    <a:lnTo>
                      <a:pt x="34" y="6"/>
                    </a:lnTo>
                    <a:lnTo>
                      <a:pt x="28" y="10"/>
                    </a:lnTo>
                    <a:lnTo>
                      <a:pt x="20" y="17"/>
                    </a:lnTo>
                    <a:lnTo>
                      <a:pt x="14" y="25"/>
                    </a:lnTo>
                    <a:lnTo>
                      <a:pt x="10" y="35"/>
                    </a:lnTo>
                    <a:lnTo>
                      <a:pt x="4" y="47"/>
                    </a:lnTo>
                    <a:lnTo>
                      <a:pt x="2" y="59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0" y="97"/>
                    </a:lnTo>
                    <a:lnTo>
                      <a:pt x="2" y="109"/>
                    </a:lnTo>
                    <a:lnTo>
                      <a:pt x="4" y="121"/>
                    </a:lnTo>
                    <a:lnTo>
                      <a:pt x="10" y="133"/>
                    </a:lnTo>
                    <a:lnTo>
                      <a:pt x="14" y="144"/>
                    </a:lnTo>
                    <a:lnTo>
                      <a:pt x="20" y="152"/>
                    </a:lnTo>
                    <a:lnTo>
                      <a:pt x="28" y="158"/>
                    </a:lnTo>
                    <a:lnTo>
                      <a:pt x="34" y="164"/>
                    </a:lnTo>
                    <a:lnTo>
                      <a:pt x="42" y="166"/>
                    </a:lnTo>
                    <a:lnTo>
                      <a:pt x="50" y="168"/>
                    </a:lnTo>
                    <a:lnTo>
                      <a:pt x="50" y="16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031080" y="2517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067080" y="2517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099120" y="2517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137280" y="2517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995800" y="2585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02100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05268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082560" y="2585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098760" y="2585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11460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143760" y="2585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951520" y="25653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578480" y="19414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578480" y="17017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578480" y="1862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721480" y="19828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8" y="17"/>
                    </a:moveTo>
                    <a:lnTo>
                      <a:pt x="10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740560" y="1446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775120" y="144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803920" y="1446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816160" y="144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828760" y="144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845320" y="1446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730840" y="1512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743080" y="151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771520" y="1512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787360" y="1512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799960" y="1512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816160" y="151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780240" y="20131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rot="16200000">
                <a:off x="5009040" y="15264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16200000">
                <a:off x="5015160" y="1492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16200000">
                <a:off x="5015160" y="14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16200000">
                <a:off x="5000760" y="1418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16200000">
                <a:off x="5023440" y="1390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16200000">
                <a:off x="5028120" y="13784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rot="16200000">
                <a:off x="5025960" y="1364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16200000">
                <a:off x="5015160" y="133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260480" y="2543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305480" y="254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333560" y="2543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378560" y="2543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416360" y="254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445160" y="254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478280" y="254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145120" y="558720"/>
                <a:ext cx="217440" cy="468360"/>
              </a:xfrm>
              <a:custGeom>
                <a:avLst/>
                <a:gdLst/>
                <a:ahLst/>
                <a:rect l="l" t="t" r="r" b="b"/>
                <a:pathLst>
                  <a:path w="137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9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29" y="216"/>
                    </a:lnTo>
                    <a:lnTo>
                      <a:pt x="135" y="194"/>
                    </a:lnTo>
                    <a:lnTo>
                      <a:pt x="137" y="172"/>
                    </a:lnTo>
                    <a:lnTo>
                      <a:pt x="137" y="148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29" y="81"/>
                    </a:lnTo>
                    <a:lnTo>
                      <a:pt x="125" y="61"/>
                    </a:lnTo>
                    <a:lnTo>
                      <a:pt x="117" y="43"/>
                    </a:lnTo>
                    <a:lnTo>
                      <a:pt x="109" y="29"/>
                    </a:lnTo>
                    <a:lnTo>
                      <a:pt x="101" y="17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6" y="17"/>
                    </a:lnTo>
                    <a:lnTo>
                      <a:pt x="28" y="29"/>
                    </a:lnTo>
                    <a:lnTo>
                      <a:pt x="20" y="43"/>
                    </a:lnTo>
                    <a:lnTo>
                      <a:pt x="12" y="61"/>
                    </a:lnTo>
                    <a:lnTo>
                      <a:pt x="6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8"/>
                    </a:lnTo>
                    <a:lnTo>
                      <a:pt x="0" y="172"/>
                    </a:lnTo>
                    <a:lnTo>
                      <a:pt x="2" y="194"/>
                    </a:lnTo>
                    <a:lnTo>
                      <a:pt x="6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8" y="266"/>
                    </a:lnTo>
                    <a:lnTo>
                      <a:pt x="36" y="279"/>
                    </a:lnTo>
                    <a:lnTo>
                      <a:pt x="46" y="287"/>
                    </a:lnTo>
                    <a:lnTo>
                      <a:pt x="56" y="293"/>
                    </a:lnTo>
                    <a:lnTo>
                      <a:pt x="69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145120" y="558720"/>
                <a:ext cx="217440" cy="468360"/>
              </a:xfrm>
              <a:custGeom>
                <a:avLst/>
                <a:gdLst/>
                <a:ahLst/>
                <a:rect l="l" t="t" r="r" b="b"/>
                <a:pathLst>
                  <a:path w="137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9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29" y="216"/>
                    </a:lnTo>
                    <a:lnTo>
                      <a:pt x="135" y="194"/>
                    </a:lnTo>
                    <a:lnTo>
                      <a:pt x="137" y="172"/>
                    </a:lnTo>
                    <a:lnTo>
                      <a:pt x="137" y="148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29" y="81"/>
                    </a:lnTo>
                    <a:lnTo>
                      <a:pt x="125" y="61"/>
                    </a:lnTo>
                    <a:lnTo>
                      <a:pt x="117" y="43"/>
                    </a:lnTo>
                    <a:lnTo>
                      <a:pt x="109" y="29"/>
                    </a:lnTo>
                    <a:lnTo>
                      <a:pt x="101" y="17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6" y="17"/>
                    </a:lnTo>
                    <a:lnTo>
                      <a:pt x="28" y="29"/>
                    </a:lnTo>
                    <a:lnTo>
                      <a:pt x="20" y="43"/>
                    </a:lnTo>
                    <a:lnTo>
                      <a:pt x="12" y="61"/>
                    </a:lnTo>
                    <a:lnTo>
                      <a:pt x="6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8"/>
                    </a:lnTo>
                    <a:lnTo>
                      <a:pt x="0" y="172"/>
                    </a:lnTo>
                    <a:lnTo>
                      <a:pt x="2" y="194"/>
                    </a:lnTo>
                    <a:lnTo>
                      <a:pt x="6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8" y="266"/>
                    </a:lnTo>
                    <a:lnTo>
                      <a:pt x="36" y="279"/>
                    </a:lnTo>
                    <a:lnTo>
                      <a:pt x="46" y="287"/>
                    </a:lnTo>
                    <a:lnTo>
                      <a:pt x="56" y="293"/>
                    </a:lnTo>
                    <a:lnTo>
                      <a:pt x="69" y="295"/>
                    </a:lnTo>
                    <a:lnTo>
                      <a:pt x="69" y="29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164200" y="762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20200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23368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263560" y="762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279400" y="762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529560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5324400" y="762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121440" y="1925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159240" y="19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188040" y="1925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4750920" y="2943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763880" y="294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795560" y="2943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820760" y="2943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836600" y="2943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854240" y="294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882680" y="2943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911120" y="2943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924440" y="2943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936680" y="294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965480" y="294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997520" y="29433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750920" y="2998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763880" y="299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795560" y="299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824000" y="299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863600" y="299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895640" y="299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923720" y="2998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578480" y="2565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3365640" y="88920"/>
              <a:ext cx="4986720" cy="3311640"/>
              <a:chOff x="3365640" y="88920"/>
              <a:chExt cx="4986720" cy="3311640"/>
            </a:xfrm>
          </p:grpSpPr>
          <p:sp>
            <p:nvSpPr>
              <p:cNvPr id="1595" name=""/>
              <p:cNvSpPr/>
              <p:nvPr/>
            </p:nvSpPr>
            <p:spPr>
              <a:xfrm>
                <a:off x="4578480" y="2819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794200" y="1638360"/>
                <a:ext cx="1800" cy="9396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5878440" y="1506600"/>
                <a:ext cx="540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781600" y="222408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781600" y="25653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5676840" y="3071880"/>
                <a:ext cx="1396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5676840" y="2832120"/>
                <a:ext cx="1396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470480" y="1954080"/>
                <a:ext cx="1206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335480" y="1941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284720" y="1954080"/>
                <a:ext cx="57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538960" y="178128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H="1">
                <a:off x="5676840" y="1793880"/>
                <a:ext cx="3542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flipH="1">
                <a:off x="5407200" y="1793880"/>
                <a:ext cx="1346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538960" y="25653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538960" y="28195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591080" y="2832120"/>
                <a:ext cx="9572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538960" y="30592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591080" y="793800"/>
                <a:ext cx="954000" cy="2278080"/>
              </a:xfrm>
              <a:custGeom>
                <a:avLst/>
                <a:gdLst/>
                <a:ahLst/>
                <a:rect l="l" t="t" r="r" b="b"/>
                <a:pathLst>
                  <a:path w="601" h="1435">
                    <a:moveTo>
                      <a:pt x="601" y="1435"/>
                    </a:moveTo>
                    <a:lnTo>
                      <a:pt x="0" y="1435"/>
                    </a:lnTo>
                    <a:lnTo>
                      <a:pt x="0" y="0"/>
                    </a:lnTo>
                    <a:lnTo>
                      <a:pt x="333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592600" y="939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627520" y="939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598360" y="762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582880" y="582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630760" y="582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538960" y="95868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538960" y="77616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538960" y="59832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658920" y="939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641640" y="7621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691320" y="762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597720" y="89208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6597720" y="7095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670520" y="9399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18400" y="939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538960" y="117324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597720" y="29368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935680" y="2949480"/>
                <a:ext cx="6681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597720" y="201312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>
                <a:off x="6389280" y="2025720"/>
                <a:ext cx="2142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597720" y="23097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H="1">
                <a:off x="6735600" y="2322360"/>
                <a:ext cx="1764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737320" y="1995480"/>
                <a:ext cx="863640" cy="330120"/>
              </a:xfrm>
              <a:custGeom>
                <a:avLst/>
                <a:gdLst/>
                <a:ahLst/>
                <a:rect l="l" t="t" r="r" b="b"/>
                <a:pathLst>
                  <a:path w="544" h="208">
                    <a:moveTo>
                      <a:pt x="544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624800" y="89208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621560" y="20098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H="1">
                <a:off x="7763040" y="2025720"/>
                <a:ext cx="1188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H="1">
                <a:off x="7535880" y="2025720"/>
                <a:ext cx="921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621560" y="24861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763040" y="2262240"/>
                <a:ext cx="118800" cy="236520"/>
              </a:xfrm>
              <a:custGeom>
                <a:avLst/>
                <a:gdLst/>
                <a:ahLst/>
                <a:rect l="l" t="t" r="r" b="b"/>
                <a:pathLst>
                  <a:path w="75" h="149">
                    <a:moveTo>
                      <a:pt x="75" y="0"/>
                    </a:moveTo>
                    <a:lnTo>
                      <a:pt x="36" y="2"/>
                    </a:lnTo>
                    <a:lnTo>
                      <a:pt x="36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796080" y="2025720"/>
                <a:ext cx="831960" cy="473040"/>
              </a:xfrm>
              <a:custGeom>
                <a:avLst/>
                <a:gdLst/>
                <a:ahLst/>
                <a:rect l="l" t="t" r="r" b="b"/>
                <a:pathLst>
                  <a:path w="524" h="298">
                    <a:moveTo>
                      <a:pt x="524" y="298"/>
                    </a:moveTo>
                    <a:lnTo>
                      <a:pt x="0" y="29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621560" y="29368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735600" y="2949480"/>
                <a:ext cx="8956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4335480" y="11732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H="1">
                <a:off x="4473720" y="1185840"/>
                <a:ext cx="10713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H="1">
                <a:off x="4073040" y="1185840"/>
                <a:ext cx="265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903840" y="479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903840" y="719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794040" y="492120"/>
                <a:ext cx="362160" cy="693720"/>
              </a:xfrm>
              <a:custGeom>
                <a:avLst/>
                <a:gdLst/>
                <a:ahLst/>
                <a:rect l="l" t="t" r="r" b="b"/>
                <a:pathLst>
                  <a:path w="228" h="437">
                    <a:moveTo>
                      <a:pt x="77" y="0"/>
                    </a:moveTo>
                    <a:lnTo>
                      <a:pt x="0" y="2"/>
                    </a:lnTo>
                    <a:lnTo>
                      <a:pt x="0" y="248"/>
                    </a:lnTo>
                    <a:lnTo>
                      <a:pt x="228" y="248"/>
                    </a:lnTo>
                    <a:lnTo>
                      <a:pt x="228" y="43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365640" y="406440"/>
                <a:ext cx="730080" cy="1349280"/>
              </a:xfrm>
              <a:custGeom>
                <a:avLst/>
                <a:gdLst/>
                <a:ahLst/>
                <a:rect l="l" t="t" r="r" b="b"/>
                <a:pathLst>
                  <a:path w="460" h="850">
                    <a:moveTo>
                      <a:pt x="38" y="850"/>
                    </a:moveTo>
                    <a:lnTo>
                      <a:pt x="0" y="850"/>
                    </a:lnTo>
                    <a:lnTo>
                      <a:pt x="0" y="0"/>
                    </a:lnTo>
                    <a:lnTo>
                      <a:pt x="460" y="0"/>
                    </a:lnTo>
                    <a:lnTo>
                      <a:pt x="460" y="131"/>
                    </a:lnTo>
                    <a:lnTo>
                      <a:pt x="421" y="1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855960" y="325440"/>
                <a:ext cx="3206880" cy="1020600"/>
              </a:xfrm>
              <a:custGeom>
                <a:avLst/>
                <a:gdLst/>
                <a:ahLst/>
                <a:rect l="l" t="t" r="r" b="b"/>
                <a:pathLst>
                  <a:path w="2020" h="643">
                    <a:moveTo>
                      <a:pt x="1812" y="643"/>
                    </a:moveTo>
                    <a:lnTo>
                      <a:pt x="2020" y="643"/>
                    </a:lnTo>
                    <a:lnTo>
                      <a:pt x="2020" y="0"/>
                    </a:lnTo>
                    <a:lnTo>
                      <a:pt x="225" y="0"/>
                    </a:lnTo>
                    <a:lnTo>
                      <a:pt x="225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38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140360" y="11732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533840" y="2035080"/>
                <a:ext cx="3286080" cy="1228680"/>
              </a:xfrm>
              <a:custGeom>
                <a:avLst/>
                <a:gdLst/>
                <a:ahLst/>
                <a:rect l="l" t="t" r="r" b="b"/>
                <a:pathLst>
                  <a:path w="2070" h="774">
                    <a:moveTo>
                      <a:pt x="2032" y="576"/>
                    </a:moveTo>
                    <a:lnTo>
                      <a:pt x="2070" y="578"/>
                    </a:lnTo>
                    <a:lnTo>
                      <a:pt x="2070" y="774"/>
                    </a:lnTo>
                    <a:lnTo>
                      <a:pt x="0" y="774"/>
                    </a:lnTo>
                    <a:lnTo>
                      <a:pt x="0" y="0"/>
                    </a:lnTo>
                    <a:lnTo>
                      <a:pt x="159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4417920" y="88920"/>
                <a:ext cx="1800" cy="97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4417920" y="3122640"/>
                <a:ext cx="180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rot="16200000">
                <a:off x="4532400" y="1869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rot="16200000">
                <a:off x="4521600" y="184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rot="16200000">
                <a:off x="4523760" y="1816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rot="16200000">
                <a:off x="4532400" y="1796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rot="16200000">
                <a:off x="4529880" y="1780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16200000">
                <a:off x="4521600" y="1753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rot="16200000">
                <a:off x="4523760" y="1725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rot="16200000">
                <a:off x="4532400" y="1708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rot="16200000">
                <a:off x="4534560" y="1694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rot="16200000">
                <a:off x="4521600" y="1668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rot="16200000">
                <a:off x="4521600" y="1640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361040" y="434880"/>
                <a:ext cx="11556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36032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4372920" y="4348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440460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4204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43700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621400" y="88920"/>
                <a:ext cx="1440" cy="43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V="1">
                <a:off x="5621400" y="312264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56416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681960" y="88920"/>
                <a:ext cx="1440" cy="61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6681960" y="312264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62292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657864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61356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64776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6654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7104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7446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7709040" y="88920"/>
                <a:ext cx="1440" cy="79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7709040" y="312264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55408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56740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6048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6214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65776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4427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470480" y="100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536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19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5874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414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6936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719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77000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8016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85424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908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95900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64660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70852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7715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7970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8226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8748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9256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9544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00516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0368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08940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1434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19416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706440" y="100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78348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6846480" y="100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9242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9494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9750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025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0812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106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15752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1895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24032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295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34688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733880" y="1000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81992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884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9099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9354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986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80370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80640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11800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81468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820080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8256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830736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65000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59564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64064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67664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72092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733880" y="434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7850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901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415680" y="1000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74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4999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525840" y="100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548160" y="100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6140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6399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6921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74292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7936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8188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8476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900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95064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9826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0334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08564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38128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41296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44176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538128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41296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381280" y="90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5412960" y="90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5441760" y="90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5471640" y="90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70204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73048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75928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57020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573048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702040" y="90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730480" y="90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702040" y="8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702040" y="9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76080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78924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760800" y="90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760800" y="8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760800" y="9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784640" y="863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3444840" y="444600"/>
              <a:ext cx="4545720" cy="6140160"/>
              <a:chOff x="3444840" y="444600"/>
              <a:chExt cx="4545720" cy="6140160"/>
            </a:xfrm>
          </p:grpSpPr>
          <p:sp>
            <p:nvSpPr>
              <p:cNvPr id="1796" name=""/>
              <p:cNvSpPr/>
              <p:nvPr/>
            </p:nvSpPr>
            <p:spPr>
              <a:xfrm>
                <a:off x="7784640" y="94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417920" y="1062000"/>
                <a:ext cx="55800" cy="2060640"/>
              </a:xfrm>
              <a:custGeom>
                <a:avLst/>
                <a:gdLst/>
                <a:ahLst/>
                <a:rect l="l" t="t" r="r" b="b"/>
                <a:pathLst>
                  <a:path w="35" h="1298">
                    <a:moveTo>
                      <a:pt x="0" y="1296"/>
                    </a:moveTo>
                    <a:lnTo>
                      <a:pt x="35" y="1298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2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417920" y="1062000"/>
                <a:ext cx="55800" cy="2060640"/>
              </a:xfrm>
              <a:custGeom>
                <a:avLst/>
                <a:gdLst/>
                <a:ahLst/>
                <a:rect l="l" t="t" r="r" b="b"/>
                <a:pathLst>
                  <a:path w="35" h="1298">
                    <a:moveTo>
                      <a:pt x="0" y="1296"/>
                    </a:moveTo>
                    <a:lnTo>
                      <a:pt x="35" y="1298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367160" y="1062000"/>
                <a:ext cx="50760" cy="2060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367160" y="1062000"/>
                <a:ext cx="50760" cy="20606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567400" y="1062000"/>
                <a:ext cx="10944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  <a:lnTo>
                      <a:pt x="67" y="12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567400" y="1062000"/>
                <a:ext cx="10944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626160" y="1062000"/>
                <a:ext cx="10944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  <a:lnTo>
                      <a:pt x="67" y="12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626160" y="1062000"/>
                <a:ext cx="10944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935520" y="444600"/>
                <a:ext cx="9828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3"/>
                    </a:lnTo>
                    <a:lnTo>
                      <a:pt x="62" y="187"/>
                    </a:lnTo>
                    <a:lnTo>
                      <a:pt x="60" y="193"/>
                    </a:lnTo>
                    <a:lnTo>
                      <a:pt x="58" y="197"/>
                    </a:lnTo>
                    <a:lnTo>
                      <a:pt x="56" y="201"/>
                    </a:lnTo>
                    <a:lnTo>
                      <a:pt x="54" y="205"/>
                    </a:lnTo>
                    <a:lnTo>
                      <a:pt x="50" y="207"/>
                    </a:lnTo>
                    <a:lnTo>
                      <a:pt x="46" y="211"/>
                    </a:lnTo>
                    <a:lnTo>
                      <a:pt x="42" y="213"/>
                    </a:lnTo>
                    <a:lnTo>
                      <a:pt x="36" y="213"/>
                    </a:lnTo>
                    <a:lnTo>
                      <a:pt x="32" y="213"/>
                    </a:lnTo>
                    <a:lnTo>
                      <a:pt x="26" y="213"/>
                    </a:lnTo>
                    <a:lnTo>
                      <a:pt x="22" y="213"/>
                    </a:lnTo>
                    <a:lnTo>
                      <a:pt x="16" y="211"/>
                    </a:lnTo>
                    <a:lnTo>
                      <a:pt x="12" y="207"/>
                    </a:lnTo>
                    <a:lnTo>
                      <a:pt x="10" y="205"/>
                    </a:lnTo>
                    <a:lnTo>
                      <a:pt x="6" y="201"/>
                    </a:lnTo>
                    <a:lnTo>
                      <a:pt x="4" y="197"/>
                    </a:lnTo>
                    <a:lnTo>
                      <a:pt x="2" y="193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3935520" y="444600"/>
                <a:ext cx="9828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3"/>
                    </a:lnTo>
                    <a:lnTo>
                      <a:pt x="62" y="187"/>
                    </a:lnTo>
                    <a:lnTo>
                      <a:pt x="60" y="193"/>
                    </a:lnTo>
                    <a:lnTo>
                      <a:pt x="58" y="197"/>
                    </a:lnTo>
                    <a:lnTo>
                      <a:pt x="56" y="201"/>
                    </a:lnTo>
                    <a:lnTo>
                      <a:pt x="54" y="205"/>
                    </a:lnTo>
                    <a:lnTo>
                      <a:pt x="50" y="207"/>
                    </a:lnTo>
                    <a:lnTo>
                      <a:pt x="46" y="211"/>
                    </a:lnTo>
                    <a:lnTo>
                      <a:pt x="42" y="213"/>
                    </a:lnTo>
                    <a:lnTo>
                      <a:pt x="36" y="213"/>
                    </a:lnTo>
                    <a:lnTo>
                      <a:pt x="32" y="213"/>
                    </a:lnTo>
                    <a:lnTo>
                      <a:pt x="26" y="213"/>
                    </a:lnTo>
                    <a:lnTo>
                      <a:pt x="22" y="213"/>
                    </a:lnTo>
                    <a:lnTo>
                      <a:pt x="16" y="211"/>
                    </a:lnTo>
                    <a:lnTo>
                      <a:pt x="12" y="207"/>
                    </a:lnTo>
                    <a:lnTo>
                      <a:pt x="10" y="205"/>
                    </a:lnTo>
                    <a:lnTo>
                      <a:pt x="6" y="201"/>
                    </a:lnTo>
                    <a:lnTo>
                      <a:pt x="4" y="197"/>
                    </a:lnTo>
                    <a:lnTo>
                      <a:pt x="2" y="193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3960360" y="530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005360" y="530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970080" y="58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998880" y="585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970080" y="636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954240" y="463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954240" y="703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963960" y="1158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001760" y="115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030200" y="115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462480" y="1724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497400" y="1724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919640" y="2233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902280" y="20131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>
                <a:off x="6735600" y="2025720"/>
                <a:ext cx="1828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176960" y="2066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214760" y="2066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243200" y="2066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260840" y="2066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289640" y="20667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138440" y="2133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183080" y="213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211520" y="2133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257600" y="213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286040" y="2133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305480" y="2133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956280" y="1994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9908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02288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051320" y="1994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06896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100640" y="1994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125840" y="1994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955920" y="22683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006680" y="2268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023240" y="2268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035120" y="2268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051320" y="2268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081920" y="22683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955920" y="231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984720" y="231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016040" y="231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7029000" y="231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7391520" y="1968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42932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45920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48800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520040" y="1968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40700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43544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465320" y="2022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48152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925760" y="2060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970760" y="2060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935480" y="211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964640" y="2114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935480" y="2166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9196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653240" y="1062000"/>
                <a:ext cx="10980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  <a:lnTo>
                      <a:pt x="67" y="12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653240" y="1062000"/>
                <a:ext cx="10980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621400" y="3890880"/>
                <a:ext cx="5544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621400" y="3890880"/>
                <a:ext cx="5544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567400" y="3887640"/>
                <a:ext cx="54000" cy="18288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5567400" y="3887640"/>
                <a:ext cx="54000" cy="18288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5582880" y="39481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5630760" y="3948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5621400" y="4070520"/>
                <a:ext cx="55440" cy="17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5621400" y="4070520"/>
                <a:ext cx="55440" cy="17928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5567400" y="406728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5567400" y="406728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621400" y="4249800"/>
                <a:ext cx="5544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621400" y="4249800"/>
                <a:ext cx="55440" cy="17784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567400" y="4249800"/>
                <a:ext cx="54000" cy="1778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567400" y="4249800"/>
                <a:ext cx="54000" cy="1778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592600" y="4309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627520" y="4309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598360" y="4127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653240" y="4249800"/>
                <a:ext cx="109800" cy="177840"/>
              </a:xfrm>
              <a:custGeom>
                <a:avLst/>
                <a:gdLst/>
                <a:ahLst/>
                <a:rect l="l" t="t" r="r" b="b"/>
                <a:pathLst>
                  <a:path w="69" h="112">
                    <a:moveTo>
                      <a:pt x="67" y="112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69" y="112"/>
                    </a:lnTo>
                    <a:lnTo>
                      <a:pt x="69" y="112"/>
                    </a:lnTo>
                    <a:lnTo>
                      <a:pt x="6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653240" y="4249800"/>
                <a:ext cx="109800" cy="177840"/>
              </a:xfrm>
              <a:custGeom>
                <a:avLst/>
                <a:gdLst/>
                <a:ahLst/>
                <a:rect l="l" t="t" r="r" b="b"/>
                <a:pathLst>
                  <a:path w="69" h="112">
                    <a:moveTo>
                      <a:pt x="67" y="112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69" y="112"/>
                    </a:lnTo>
                    <a:lnTo>
                      <a:pt x="69" y="11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763040" y="4379760"/>
                <a:ext cx="188640" cy="960480"/>
              </a:xfrm>
              <a:custGeom>
                <a:avLst/>
                <a:gdLst/>
                <a:ahLst/>
                <a:rect l="l" t="t" r="r" b="b"/>
                <a:pathLst>
                  <a:path w="119" h="605">
                    <a:moveTo>
                      <a:pt x="117" y="605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626160" y="4249800"/>
                <a:ext cx="109440" cy="177840"/>
              </a:xfrm>
              <a:custGeom>
                <a:avLst/>
                <a:gdLst/>
                <a:ahLst/>
                <a:rect l="l" t="t" r="r" b="b"/>
                <a:pathLst>
                  <a:path w="69" h="112">
                    <a:moveTo>
                      <a:pt x="67" y="112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69" y="112"/>
                    </a:lnTo>
                    <a:lnTo>
                      <a:pt x="69" y="112"/>
                    </a:lnTo>
                    <a:lnTo>
                      <a:pt x="6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626160" y="4249800"/>
                <a:ext cx="109440" cy="177840"/>
              </a:xfrm>
              <a:custGeom>
                <a:avLst/>
                <a:gdLst/>
                <a:ahLst/>
                <a:rect l="l" t="t" r="r" b="b"/>
                <a:pathLst>
                  <a:path w="69" h="112">
                    <a:moveTo>
                      <a:pt x="67" y="112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69" y="112"/>
                    </a:lnTo>
                    <a:lnTo>
                      <a:pt x="69" y="11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626160" y="40705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626160" y="40705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983040" y="3632040"/>
                <a:ext cx="3159000" cy="1314720"/>
              </a:xfrm>
              <a:custGeom>
                <a:avLst/>
                <a:gdLst/>
                <a:ahLst/>
                <a:rect l="l" t="t" r="r" b="b"/>
                <a:pathLst>
                  <a:path w="1990" h="828">
                    <a:moveTo>
                      <a:pt x="0" y="112"/>
                    </a:moveTo>
                    <a:lnTo>
                      <a:pt x="2" y="0"/>
                    </a:lnTo>
                    <a:lnTo>
                      <a:pt x="1990" y="0"/>
                    </a:lnTo>
                    <a:lnTo>
                      <a:pt x="1990" y="828"/>
                    </a:lnTo>
                    <a:lnTo>
                      <a:pt x="1940" y="82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735600" y="4272120"/>
                <a:ext cx="160560" cy="630000"/>
              </a:xfrm>
              <a:custGeom>
                <a:avLst/>
                <a:gdLst/>
                <a:ahLst/>
                <a:rect l="l" t="t" r="r" b="b"/>
                <a:pathLst>
                  <a:path w="101" h="397">
                    <a:moveTo>
                      <a:pt x="0" y="0"/>
                    </a:moveTo>
                    <a:lnTo>
                      <a:pt x="50" y="0"/>
                    </a:lnTo>
                    <a:lnTo>
                      <a:pt x="50" y="397"/>
                    </a:lnTo>
                    <a:lnTo>
                      <a:pt x="101" y="39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735600" y="4987800"/>
                <a:ext cx="160560" cy="266760"/>
              </a:xfrm>
              <a:custGeom>
                <a:avLst/>
                <a:gdLst/>
                <a:ahLst/>
                <a:rect l="l" t="t" r="r" b="b"/>
                <a:pathLst>
                  <a:path w="101" h="168">
                    <a:moveTo>
                      <a:pt x="0" y="168"/>
                    </a:moveTo>
                    <a:lnTo>
                      <a:pt x="50" y="168"/>
                    </a:lnTo>
                    <a:lnTo>
                      <a:pt x="50" y="0"/>
                    </a:lnTo>
                    <a:lnTo>
                      <a:pt x="101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735600" y="4338720"/>
                <a:ext cx="838440" cy="1647720"/>
              </a:xfrm>
              <a:custGeom>
                <a:avLst/>
                <a:gdLst/>
                <a:ahLst/>
                <a:rect l="l" t="t" r="r" b="b"/>
                <a:pathLst>
                  <a:path w="528" h="1038">
                    <a:moveTo>
                      <a:pt x="314" y="923"/>
                    </a:moveTo>
                    <a:lnTo>
                      <a:pt x="314" y="1038"/>
                    </a:lnTo>
                    <a:lnTo>
                      <a:pt x="528" y="1038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735600" y="4405320"/>
                <a:ext cx="498600" cy="771480"/>
              </a:xfrm>
              <a:custGeom>
                <a:avLst/>
                <a:gdLst/>
                <a:ahLst/>
                <a:rect l="l" t="t" r="r" b="b"/>
                <a:pathLst>
                  <a:path w="314" h="486">
                    <a:moveTo>
                      <a:pt x="314" y="486"/>
                    </a:moveTo>
                    <a:lnTo>
                      <a:pt x="31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735600" y="4159080"/>
                <a:ext cx="895680" cy="113040"/>
              </a:xfrm>
              <a:custGeom>
                <a:avLst/>
                <a:gdLst/>
                <a:ahLst/>
                <a:rect l="l" t="t" r="r" b="b"/>
                <a:pathLst>
                  <a:path w="564" h="71">
                    <a:moveTo>
                      <a:pt x="564" y="71"/>
                    </a:moveTo>
                    <a:lnTo>
                      <a:pt x="528" y="71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386400" y="5254560"/>
                <a:ext cx="214560" cy="1800"/>
              </a:xfrm>
              <a:prstGeom prst="line">
                <a:avLst/>
              </a:prstGeom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181560" y="5487840"/>
                <a:ext cx="81000" cy="460440"/>
              </a:xfrm>
              <a:custGeom>
                <a:avLst/>
                <a:gdLst/>
                <a:ahLst/>
                <a:rect l="l" t="t" r="r" b="b"/>
                <a:pathLst>
                  <a:path w="51" h="290">
                    <a:moveTo>
                      <a:pt x="51" y="0"/>
                    </a:moveTo>
                    <a:lnTo>
                      <a:pt x="51" y="290"/>
                    </a:lnTo>
                    <a:lnTo>
                      <a:pt x="0" y="29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068800" y="3753000"/>
                <a:ext cx="2773440" cy="1257120"/>
              </a:xfrm>
              <a:custGeom>
                <a:avLst/>
                <a:gdLst/>
                <a:ahLst/>
                <a:rect l="l" t="t" r="r" b="b"/>
                <a:pathLst>
                  <a:path w="1747" h="792">
                    <a:moveTo>
                      <a:pt x="1695" y="343"/>
                    </a:moveTo>
                    <a:lnTo>
                      <a:pt x="1747" y="345"/>
                    </a:lnTo>
                    <a:lnTo>
                      <a:pt x="1747" y="0"/>
                    </a:lnTo>
                    <a:lnTo>
                      <a:pt x="0" y="0"/>
                    </a:lnTo>
                    <a:lnTo>
                      <a:pt x="0" y="79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673600" y="4272120"/>
                <a:ext cx="816120" cy="2296800"/>
              </a:xfrm>
              <a:custGeom>
                <a:avLst/>
                <a:gdLst/>
                <a:ahLst/>
                <a:rect l="l" t="t" r="r" b="b"/>
                <a:pathLst>
                  <a:path w="514" h="1447">
                    <a:moveTo>
                      <a:pt x="0" y="0"/>
                    </a:moveTo>
                    <a:lnTo>
                      <a:pt x="514" y="0"/>
                    </a:lnTo>
                    <a:lnTo>
                      <a:pt x="514" y="1447"/>
                    </a:lnTo>
                    <a:lnTo>
                      <a:pt x="135" y="1447"/>
                    </a:lnTo>
                    <a:lnTo>
                      <a:pt x="135" y="139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673600" y="4405320"/>
                <a:ext cx="693720" cy="909720"/>
              </a:xfrm>
              <a:custGeom>
                <a:avLst/>
                <a:gdLst/>
                <a:ahLst/>
                <a:rect l="l" t="t" r="r" b="b"/>
                <a:pathLst>
                  <a:path w="437" h="573">
                    <a:moveTo>
                      <a:pt x="0" y="0"/>
                    </a:moveTo>
                    <a:lnTo>
                      <a:pt x="437" y="0"/>
                    </a:lnTo>
                    <a:lnTo>
                      <a:pt x="437" y="383"/>
                    </a:lnTo>
                    <a:lnTo>
                      <a:pt x="159" y="383"/>
                    </a:lnTo>
                    <a:lnTo>
                      <a:pt x="159" y="57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5673600" y="4338720"/>
                <a:ext cx="754200" cy="1919160"/>
              </a:xfrm>
              <a:custGeom>
                <a:avLst/>
                <a:gdLst/>
                <a:ahLst/>
                <a:rect l="l" t="t" r="r" b="b"/>
                <a:pathLst>
                  <a:path w="475" h="1209">
                    <a:moveTo>
                      <a:pt x="0" y="0"/>
                    </a:moveTo>
                    <a:lnTo>
                      <a:pt x="475" y="0"/>
                    </a:lnTo>
                    <a:lnTo>
                      <a:pt x="475" y="1209"/>
                    </a:lnTo>
                    <a:lnTo>
                      <a:pt x="258" y="1209"/>
                    </a:lnTo>
                    <a:lnTo>
                      <a:pt x="258" y="1147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321160" y="4338720"/>
                <a:ext cx="22392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362560" y="4159080"/>
                <a:ext cx="182520" cy="18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321160" y="3976560"/>
                <a:ext cx="22392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76840" y="4159080"/>
                <a:ext cx="927000" cy="113040"/>
              </a:xfrm>
              <a:custGeom>
                <a:avLst/>
                <a:gdLst/>
                <a:ahLst/>
                <a:rect l="l" t="t" r="r" b="b"/>
                <a:pathLst>
                  <a:path w="584" h="71">
                    <a:moveTo>
                      <a:pt x="584" y="71"/>
                    </a:moveTo>
                    <a:lnTo>
                      <a:pt x="530" y="71"/>
                    </a:lnTo>
                    <a:lnTo>
                      <a:pt x="53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676840" y="3979800"/>
                <a:ext cx="927000" cy="112680"/>
              </a:xfrm>
              <a:custGeom>
                <a:avLst/>
                <a:gdLst/>
                <a:ahLst/>
                <a:rect l="l" t="t" r="r" b="b"/>
                <a:pathLst>
                  <a:path w="584" h="71">
                    <a:moveTo>
                      <a:pt x="584" y="71"/>
                    </a:moveTo>
                    <a:lnTo>
                      <a:pt x="548" y="71"/>
                    </a:lnTo>
                    <a:lnTo>
                      <a:pt x="54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6597720" y="524016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0" y="17"/>
                    </a:lnTo>
                    <a:lnTo>
                      <a:pt x="1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896160" y="4876920"/>
                <a:ext cx="166680" cy="136440"/>
              </a:xfrm>
              <a:custGeom>
                <a:avLst/>
                <a:gdLst/>
                <a:ahLst/>
                <a:rect l="l" t="t" r="r" b="b"/>
                <a:pathLst>
                  <a:path w="105" h="86">
                    <a:moveTo>
                      <a:pt x="62" y="86"/>
                    </a:moveTo>
                    <a:lnTo>
                      <a:pt x="70" y="86"/>
                    </a:lnTo>
                    <a:lnTo>
                      <a:pt x="76" y="84"/>
                    </a:lnTo>
                    <a:lnTo>
                      <a:pt x="82" y="82"/>
                    </a:lnTo>
                    <a:lnTo>
                      <a:pt x="88" y="78"/>
                    </a:lnTo>
                    <a:lnTo>
                      <a:pt x="92" y="74"/>
                    </a:lnTo>
                    <a:lnTo>
                      <a:pt x="96" y="68"/>
                    </a:lnTo>
                    <a:lnTo>
                      <a:pt x="101" y="64"/>
                    </a:lnTo>
                    <a:lnTo>
                      <a:pt x="103" y="58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6" y="18"/>
                    </a:lnTo>
                    <a:lnTo>
                      <a:pt x="92" y="12"/>
                    </a:lnTo>
                    <a:lnTo>
                      <a:pt x="88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62" y="86"/>
                    </a:lnTo>
                    <a:lnTo>
                      <a:pt x="62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896160" y="4876920"/>
                <a:ext cx="166680" cy="136440"/>
              </a:xfrm>
              <a:custGeom>
                <a:avLst/>
                <a:gdLst/>
                <a:ahLst/>
                <a:rect l="l" t="t" r="r" b="b"/>
                <a:pathLst>
                  <a:path w="105" h="86">
                    <a:moveTo>
                      <a:pt x="62" y="86"/>
                    </a:moveTo>
                    <a:lnTo>
                      <a:pt x="70" y="86"/>
                    </a:lnTo>
                    <a:lnTo>
                      <a:pt x="76" y="84"/>
                    </a:lnTo>
                    <a:lnTo>
                      <a:pt x="82" y="82"/>
                    </a:lnTo>
                    <a:lnTo>
                      <a:pt x="88" y="78"/>
                    </a:lnTo>
                    <a:lnTo>
                      <a:pt x="92" y="74"/>
                    </a:lnTo>
                    <a:lnTo>
                      <a:pt x="96" y="68"/>
                    </a:lnTo>
                    <a:lnTo>
                      <a:pt x="101" y="64"/>
                    </a:lnTo>
                    <a:lnTo>
                      <a:pt x="103" y="58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6" y="18"/>
                    </a:lnTo>
                    <a:lnTo>
                      <a:pt x="92" y="12"/>
                    </a:lnTo>
                    <a:lnTo>
                      <a:pt x="88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62" y="86"/>
                    </a:lnTo>
                    <a:lnTo>
                      <a:pt x="62" y="86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803920" y="6184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5803920" y="64245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776840" y="53881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444840" y="4981680"/>
                <a:ext cx="100080" cy="282600"/>
              </a:xfrm>
              <a:custGeom>
                <a:avLst/>
                <a:gdLst/>
                <a:ahLst/>
                <a:rect l="l" t="t" r="r" b="b"/>
                <a:pathLst>
                  <a:path w="63" h="178">
                    <a:moveTo>
                      <a:pt x="63" y="17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3" y="178"/>
                    </a:lnTo>
                    <a:lnTo>
                      <a:pt x="63" y="178"/>
                    </a:lnTo>
                    <a:lnTo>
                      <a:pt x="63" y="1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444840" y="4981680"/>
                <a:ext cx="100080" cy="282600"/>
              </a:xfrm>
              <a:custGeom>
                <a:avLst/>
                <a:gdLst/>
                <a:ahLst/>
                <a:rect l="l" t="t" r="r" b="b"/>
                <a:pathLst>
                  <a:path w="63" h="178">
                    <a:moveTo>
                      <a:pt x="63" y="17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3" y="178"/>
                    </a:lnTo>
                    <a:lnTo>
                      <a:pt x="63" y="17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686040" y="500688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686040" y="500688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3986280" y="5010120"/>
                <a:ext cx="301680" cy="62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986280" y="5010120"/>
                <a:ext cx="301680" cy="623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3855600" y="5261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871440" y="526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3900240" y="5261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925440" y="5261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3941280" y="5261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957480" y="526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3989160" y="5261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014360" y="5261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030560" y="5261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039920" y="526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073040" y="526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102200" y="5261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3890520" y="5327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935160" y="532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963240" y="5327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008240" y="532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036320" y="5327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057200" y="5327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934320" y="5180040"/>
                <a:ext cx="601560" cy="623880"/>
              </a:xfrm>
              <a:custGeom>
                <a:avLst/>
                <a:gdLst/>
                <a:ahLst/>
                <a:rect l="l" t="t" r="r" b="b"/>
                <a:pathLst>
                  <a:path w="379" h="393">
                    <a:moveTo>
                      <a:pt x="377" y="393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3"/>
                    </a:lnTo>
                    <a:lnTo>
                      <a:pt x="379" y="393"/>
                    </a:lnTo>
                    <a:lnTo>
                      <a:pt x="379" y="393"/>
                    </a:lnTo>
                    <a:lnTo>
                      <a:pt x="377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934320" y="5180040"/>
                <a:ext cx="601560" cy="623880"/>
              </a:xfrm>
              <a:custGeom>
                <a:avLst/>
                <a:gdLst/>
                <a:ahLst/>
                <a:rect l="l" t="t" r="r" b="b"/>
                <a:pathLst>
                  <a:path w="379" h="393">
                    <a:moveTo>
                      <a:pt x="377" y="393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3"/>
                    </a:lnTo>
                    <a:lnTo>
                      <a:pt x="379" y="393"/>
                    </a:lnTo>
                    <a:lnTo>
                      <a:pt x="379" y="393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776840" y="5068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776840" y="55483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605040" y="439272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0" h="460">
                    <a:moveTo>
                      <a:pt x="170" y="0"/>
                    </a:moveTo>
                    <a:lnTo>
                      <a:pt x="0" y="2"/>
                    </a:lnTo>
                    <a:lnTo>
                      <a:pt x="0" y="4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H="1">
                <a:off x="3777840" y="4713120"/>
                <a:ext cx="96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3897360" y="4284720"/>
                <a:ext cx="176040" cy="536400"/>
              </a:xfrm>
              <a:custGeom>
                <a:avLst/>
                <a:gdLst/>
                <a:ahLst/>
                <a:rect l="l" t="t" r="r" b="b"/>
                <a:pathLst>
                  <a:path w="111" h="338">
                    <a:moveTo>
                      <a:pt x="0" y="0"/>
                    </a:moveTo>
                    <a:lnTo>
                      <a:pt x="2" y="137"/>
                    </a:lnTo>
                    <a:lnTo>
                      <a:pt x="36" y="171"/>
                    </a:lnTo>
                    <a:lnTo>
                      <a:pt x="2" y="203"/>
                    </a:lnTo>
                    <a:lnTo>
                      <a:pt x="2" y="338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3897360" y="4284720"/>
                <a:ext cx="176040" cy="536400"/>
              </a:xfrm>
              <a:custGeom>
                <a:avLst/>
                <a:gdLst/>
                <a:ahLst/>
                <a:rect l="l" t="t" r="r" b="b"/>
                <a:pathLst>
                  <a:path w="111" h="338">
                    <a:moveTo>
                      <a:pt x="0" y="0"/>
                    </a:moveTo>
                    <a:lnTo>
                      <a:pt x="2" y="137"/>
                    </a:lnTo>
                    <a:lnTo>
                      <a:pt x="36" y="171"/>
                    </a:lnTo>
                    <a:lnTo>
                      <a:pt x="2" y="203"/>
                    </a:lnTo>
                    <a:lnTo>
                      <a:pt x="2" y="338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842080" y="534996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2" y="16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842080" y="55864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024600" y="54687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H="1">
                <a:off x="5977080" y="5481720"/>
                <a:ext cx="568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024600" y="51483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869240" y="53784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869240" y="56149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902280" y="56768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979960" y="5734080"/>
                <a:ext cx="201600" cy="425520"/>
              </a:xfrm>
              <a:custGeom>
                <a:avLst/>
                <a:gdLst/>
                <a:ahLst/>
                <a:rect l="l" t="t" r="r" b="b"/>
                <a:pathLst>
                  <a:path w="127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5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30"/>
                    </a:lnTo>
                    <a:lnTo>
                      <a:pt x="115" y="214"/>
                    </a:lnTo>
                    <a:lnTo>
                      <a:pt x="119" y="195"/>
                    </a:lnTo>
                    <a:lnTo>
                      <a:pt x="123" y="177"/>
                    </a:lnTo>
                    <a:lnTo>
                      <a:pt x="127" y="155"/>
                    </a:lnTo>
                    <a:lnTo>
                      <a:pt x="127" y="135"/>
                    </a:lnTo>
                    <a:lnTo>
                      <a:pt x="127" y="113"/>
                    </a:lnTo>
                    <a:lnTo>
                      <a:pt x="123" y="93"/>
                    </a:lnTo>
                    <a:lnTo>
                      <a:pt x="119" y="72"/>
                    </a:lnTo>
                    <a:lnTo>
                      <a:pt x="115" y="54"/>
                    </a:lnTo>
                    <a:lnTo>
                      <a:pt x="109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5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4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20" y="40"/>
                    </a:lnTo>
                    <a:lnTo>
                      <a:pt x="12" y="54"/>
                    </a:lnTo>
                    <a:lnTo>
                      <a:pt x="8" y="72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5"/>
                    </a:lnTo>
                    <a:lnTo>
                      <a:pt x="2" y="155"/>
                    </a:lnTo>
                    <a:lnTo>
                      <a:pt x="4" y="177"/>
                    </a:lnTo>
                    <a:lnTo>
                      <a:pt x="8" y="195"/>
                    </a:lnTo>
                    <a:lnTo>
                      <a:pt x="12" y="214"/>
                    </a:lnTo>
                    <a:lnTo>
                      <a:pt x="20" y="230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4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  <a:lnTo>
                      <a:pt x="63" y="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979960" y="5734080"/>
                <a:ext cx="201600" cy="425520"/>
              </a:xfrm>
              <a:custGeom>
                <a:avLst/>
                <a:gdLst/>
                <a:ahLst/>
                <a:rect l="l" t="t" r="r" b="b"/>
                <a:pathLst>
                  <a:path w="127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5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30"/>
                    </a:lnTo>
                    <a:lnTo>
                      <a:pt x="115" y="214"/>
                    </a:lnTo>
                    <a:lnTo>
                      <a:pt x="119" y="195"/>
                    </a:lnTo>
                    <a:lnTo>
                      <a:pt x="123" y="177"/>
                    </a:lnTo>
                    <a:lnTo>
                      <a:pt x="127" y="155"/>
                    </a:lnTo>
                    <a:lnTo>
                      <a:pt x="127" y="135"/>
                    </a:lnTo>
                    <a:lnTo>
                      <a:pt x="127" y="113"/>
                    </a:lnTo>
                    <a:lnTo>
                      <a:pt x="123" y="93"/>
                    </a:lnTo>
                    <a:lnTo>
                      <a:pt x="119" y="72"/>
                    </a:lnTo>
                    <a:lnTo>
                      <a:pt x="115" y="54"/>
                    </a:lnTo>
                    <a:lnTo>
                      <a:pt x="109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5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4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20" y="40"/>
                    </a:lnTo>
                    <a:lnTo>
                      <a:pt x="12" y="54"/>
                    </a:lnTo>
                    <a:lnTo>
                      <a:pt x="8" y="72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5"/>
                    </a:lnTo>
                    <a:lnTo>
                      <a:pt x="2" y="155"/>
                    </a:lnTo>
                    <a:lnTo>
                      <a:pt x="4" y="177"/>
                    </a:lnTo>
                    <a:lnTo>
                      <a:pt x="8" y="195"/>
                    </a:lnTo>
                    <a:lnTo>
                      <a:pt x="12" y="214"/>
                    </a:lnTo>
                    <a:lnTo>
                      <a:pt x="20" y="230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4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673600" y="5945040"/>
                <a:ext cx="2876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rot="16200000">
                <a:off x="7885800" y="52174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rot="16200000">
                <a:off x="7896600" y="5183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rot="16200000">
                <a:off x="7885800" y="5142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rot="16200000">
                <a:off x="7907400" y="5120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rot="16200000">
                <a:off x="7896600" y="5096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rot="16200000">
                <a:off x="7890480" y="50583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rot="16200000">
                <a:off x="7896600" y="502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rot="16200000">
                <a:off x="7896600" y="499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108840" y="61848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143400" y="618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172200" y="61848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209640" y="618480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251400" y="618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840360" y="4786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6876360" y="4786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6892560" y="4786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924240" y="4786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6953040" y="4786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6978240" y="4786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913360" y="6492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951160" y="6492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979600" y="6492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6008760" y="6492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6046560" y="6492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076440" y="6492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6175440" y="4937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6210000" y="4937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6238800" y="4937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278400" y="4937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6312960" y="4937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6332040" y="4937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592440" y="511020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868560" y="437976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868560" y="47005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723840" y="468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H="1">
                <a:off x="5676840" y="4552920"/>
                <a:ext cx="2556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958000" y="4444920"/>
                <a:ext cx="333360" cy="536760"/>
              </a:xfrm>
              <a:custGeom>
                <a:avLst/>
                <a:gdLst/>
                <a:ahLst/>
                <a:rect l="l" t="t" r="r" b="b"/>
                <a:pathLst>
                  <a:path w="210" h="338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3"/>
                    </a:lnTo>
                    <a:lnTo>
                      <a:pt x="0" y="338"/>
                    </a:lnTo>
                    <a:lnTo>
                      <a:pt x="210" y="235"/>
                    </a:lnTo>
                    <a:lnTo>
                      <a:pt x="210" y="10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958000" y="4444920"/>
                <a:ext cx="333360" cy="536760"/>
              </a:xfrm>
              <a:custGeom>
                <a:avLst/>
                <a:gdLst/>
                <a:ahLst/>
                <a:rect l="l" t="t" r="r" b="b"/>
                <a:pathLst>
                  <a:path w="210" h="338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3"/>
                    </a:lnTo>
                    <a:lnTo>
                      <a:pt x="0" y="338"/>
                    </a:lnTo>
                    <a:lnTo>
                      <a:pt x="210" y="235"/>
                    </a:lnTo>
                    <a:lnTo>
                      <a:pt x="210" y="10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H="1">
                <a:off x="6291360" y="4713120"/>
                <a:ext cx="3189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3365640" y="3456000"/>
              <a:ext cx="4695840" cy="3311640"/>
              <a:chOff x="3365640" y="3456000"/>
              <a:chExt cx="4695840" cy="3311640"/>
            </a:xfrm>
          </p:grpSpPr>
          <p:sp>
            <p:nvSpPr>
              <p:cNvPr id="1997" name=""/>
              <p:cNvSpPr/>
              <p:nvPr/>
            </p:nvSpPr>
            <p:spPr>
              <a:xfrm>
                <a:off x="6597720" y="470052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544920" y="5122800"/>
                <a:ext cx="122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654360" y="51069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413160" y="5106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119560" y="5932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151600" y="573408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2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1" y="254"/>
                    </a:lnTo>
                    <a:lnTo>
                      <a:pt x="101" y="242"/>
                    </a:lnTo>
                    <a:lnTo>
                      <a:pt x="107" y="230"/>
                    </a:lnTo>
                    <a:lnTo>
                      <a:pt x="113" y="214"/>
                    </a:lnTo>
                    <a:lnTo>
                      <a:pt x="119" y="195"/>
                    </a:lnTo>
                    <a:lnTo>
                      <a:pt x="123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3" y="93"/>
                    </a:lnTo>
                    <a:lnTo>
                      <a:pt x="119" y="72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101" y="26"/>
                    </a:lnTo>
                    <a:lnTo>
                      <a:pt x="91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5"/>
                    </a:lnTo>
                    <a:lnTo>
                      <a:pt x="12" y="214"/>
                    </a:lnTo>
                    <a:lnTo>
                      <a:pt x="18" y="230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151600" y="573408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2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1" y="254"/>
                    </a:lnTo>
                    <a:lnTo>
                      <a:pt x="101" y="242"/>
                    </a:lnTo>
                    <a:lnTo>
                      <a:pt x="107" y="230"/>
                    </a:lnTo>
                    <a:lnTo>
                      <a:pt x="113" y="214"/>
                    </a:lnTo>
                    <a:lnTo>
                      <a:pt x="119" y="195"/>
                    </a:lnTo>
                    <a:lnTo>
                      <a:pt x="123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3" y="93"/>
                    </a:lnTo>
                    <a:lnTo>
                      <a:pt x="119" y="72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101" y="26"/>
                    </a:lnTo>
                    <a:lnTo>
                      <a:pt x="91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5"/>
                    </a:lnTo>
                    <a:lnTo>
                      <a:pt x="12" y="214"/>
                    </a:lnTo>
                    <a:lnTo>
                      <a:pt x="18" y="230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925960" y="45403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925960" y="48610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897680" y="5343480"/>
                <a:ext cx="101880" cy="336600"/>
              </a:xfrm>
              <a:custGeom>
                <a:avLst/>
                <a:gdLst/>
                <a:ahLst/>
                <a:rect l="l" t="t" r="r" b="b"/>
                <a:pathLst>
                  <a:path w="64" h="212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4" y="185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2" y="206"/>
                    </a:lnTo>
                    <a:lnTo>
                      <a:pt x="48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2"/>
                    </a:lnTo>
                    <a:lnTo>
                      <a:pt x="28" y="212"/>
                    </a:lnTo>
                    <a:lnTo>
                      <a:pt x="24" y="212"/>
                    </a:lnTo>
                    <a:lnTo>
                      <a:pt x="18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6" y="195"/>
                    </a:lnTo>
                    <a:lnTo>
                      <a:pt x="4" y="191"/>
                    </a:lnTo>
                    <a:lnTo>
                      <a:pt x="2" y="185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897680" y="5343480"/>
                <a:ext cx="101880" cy="336600"/>
              </a:xfrm>
              <a:custGeom>
                <a:avLst/>
                <a:gdLst/>
                <a:ahLst/>
                <a:rect l="l" t="t" r="r" b="b"/>
                <a:pathLst>
                  <a:path w="64" h="212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4" y="185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2" y="206"/>
                    </a:lnTo>
                    <a:lnTo>
                      <a:pt x="48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2"/>
                    </a:lnTo>
                    <a:lnTo>
                      <a:pt x="28" y="212"/>
                    </a:lnTo>
                    <a:lnTo>
                      <a:pt x="24" y="212"/>
                    </a:lnTo>
                    <a:lnTo>
                      <a:pt x="18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6" y="195"/>
                    </a:lnTo>
                    <a:lnTo>
                      <a:pt x="4" y="191"/>
                    </a:lnTo>
                    <a:lnTo>
                      <a:pt x="2" y="185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875200" y="5315040"/>
                <a:ext cx="9864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1"/>
                    </a:lnTo>
                    <a:lnTo>
                      <a:pt x="62" y="187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7"/>
                    </a:lnTo>
                    <a:lnTo>
                      <a:pt x="46" y="209"/>
                    </a:lnTo>
                    <a:lnTo>
                      <a:pt x="42" y="211"/>
                    </a:lnTo>
                    <a:lnTo>
                      <a:pt x="36" y="211"/>
                    </a:lnTo>
                    <a:lnTo>
                      <a:pt x="32" y="213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8" y="209"/>
                    </a:lnTo>
                    <a:lnTo>
                      <a:pt x="14" y="207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7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875200" y="5315040"/>
                <a:ext cx="9864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1"/>
                    </a:lnTo>
                    <a:lnTo>
                      <a:pt x="62" y="187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7"/>
                    </a:lnTo>
                    <a:lnTo>
                      <a:pt x="46" y="209"/>
                    </a:lnTo>
                    <a:lnTo>
                      <a:pt x="42" y="211"/>
                    </a:lnTo>
                    <a:lnTo>
                      <a:pt x="36" y="211"/>
                    </a:lnTo>
                    <a:lnTo>
                      <a:pt x="32" y="213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8" y="209"/>
                    </a:lnTo>
                    <a:lnTo>
                      <a:pt x="14" y="207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7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893920" y="533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835600" y="6149880"/>
                <a:ext cx="100080" cy="33984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2"/>
                    </a:lnTo>
                    <a:lnTo>
                      <a:pt x="59" y="16"/>
                    </a:lnTo>
                    <a:lnTo>
                      <a:pt x="61" y="22"/>
                    </a:lnTo>
                    <a:lnTo>
                      <a:pt x="63" y="26"/>
                    </a:lnTo>
                    <a:lnTo>
                      <a:pt x="63" y="32"/>
                    </a:lnTo>
                    <a:lnTo>
                      <a:pt x="63" y="181"/>
                    </a:lnTo>
                    <a:lnTo>
                      <a:pt x="63" y="187"/>
                    </a:lnTo>
                    <a:lnTo>
                      <a:pt x="61" y="191"/>
                    </a:lnTo>
                    <a:lnTo>
                      <a:pt x="59" y="197"/>
                    </a:lnTo>
                    <a:lnTo>
                      <a:pt x="57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1" y="212"/>
                    </a:lnTo>
                    <a:lnTo>
                      <a:pt x="37" y="214"/>
                    </a:lnTo>
                    <a:lnTo>
                      <a:pt x="33" y="214"/>
                    </a:lnTo>
                    <a:lnTo>
                      <a:pt x="27" y="214"/>
                    </a:lnTo>
                    <a:lnTo>
                      <a:pt x="23" y="212"/>
                    </a:lnTo>
                    <a:lnTo>
                      <a:pt x="17" y="210"/>
                    </a:lnTo>
                    <a:lnTo>
                      <a:pt x="13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7"/>
                    </a:lnTo>
                    <a:lnTo>
                      <a:pt x="2" y="191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835600" y="6149880"/>
                <a:ext cx="100080" cy="33984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2"/>
                    </a:lnTo>
                    <a:lnTo>
                      <a:pt x="59" y="16"/>
                    </a:lnTo>
                    <a:lnTo>
                      <a:pt x="61" y="22"/>
                    </a:lnTo>
                    <a:lnTo>
                      <a:pt x="63" y="26"/>
                    </a:lnTo>
                    <a:lnTo>
                      <a:pt x="63" y="32"/>
                    </a:lnTo>
                    <a:lnTo>
                      <a:pt x="63" y="181"/>
                    </a:lnTo>
                    <a:lnTo>
                      <a:pt x="63" y="187"/>
                    </a:lnTo>
                    <a:lnTo>
                      <a:pt x="61" y="191"/>
                    </a:lnTo>
                    <a:lnTo>
                      <a:pt x="59" y="197"/>
                    </a:lnTo>
                    <a:lnTo>
                      <a:pt x="57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1" y="212"/>
                    </a:lnTo>
                    <a:lnTo>
                      <a:pt x="37" y="214"/>
                    </a:lnTo>
                    <a:lnTo>
                      <a:pt x="33" y="214"/>
                    </a:lnTo>
                    <a:lnTo>
                      <a:pt x="27" y="214"/>
                    </a:lnTo>
                    <a:lnTo>
                      <a:pt x="23" y="212"/>
                    </a:lnTo>
                    <a:lnTo>
                      <a:pt x="17" y="210"/>
                    </a:lnTo>
                    <a:lnTo>
                      <a:pt x="13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7"/>
                    </a:lnTo>
                    <a:lnTo>
                      <a:pt x="2" y="191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861880" y="6237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907240" y="62373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71960" y="628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900760" y="6288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871960" y="6342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856120" y="6168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5856120" y="6408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113440" y="41432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024600" y="4684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060600" y="468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6089400" y="468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6181560" y="4659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216480" y="465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6248160" y="465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6278400" y="46594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6136920" y="4710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6156000" y="471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6184440" y="4710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6210000" y="471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6242040" y="4710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6251040" y="4710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4776840" y="522756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4808520" y="5006880"/>
                <a:ext cx="30168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4808520" y="5006880"/>
                <a:ext cx="30168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106960" y="5010120"/>
                <a:ext cx="300240" cy="623880"/>
              </a:xfrm>
              <a:custGeom>
                <a:avLst/>
                <a:gdLst/>
                <a:ahLst/>
                <a:rect l="l" t="t" r="r" b="b"/>
                <a:pathLst>
                  <a:path w="189" h="393">
                    <a:moveTo>
                      <a:pt x="0" y="393"/>
                    </a:moveTo>
                    <a:lnTo>
                      <a:pt x="189" y="393"/>
                    </a:lnTo>
                    <a:lnTo>
                      <a:pt x="189" y="0"/>
                    </a:lnTo>
                    <a:lnTo>
                      <a:pt x="2" y="0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106960" y="5010120"/>
                <a:ext cx="300240" cy="623880"/>
              </a:xfrm>
              <a:custGeom>
                <a:avLst/>
                <a:gdLst/>
                <a:ahLst/>
                <a:rect l="l" t="t" r="r" b="b"/>
                <a:pathLst>
                  <a:path w="189" h="393">
                    <a:moveTo>
                      <a:pt x="0" y="393"/>
                    </a:moveTo>
                    <a:lnTo>
                      <a:pt x="189" y="393"/>
                    </a:lnTo>
                    <a:lnTo>
                      <a:pt x="189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4830480" y="53467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4882680" y="5346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4898880" y="5346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4911120" y="5346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4924080" y="5346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4956120" y="5346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830120" y="5397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4846320" y="53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879800" y="53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908600" y="5397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4920840" y="5397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946040" y="5397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4962240" y="53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4990680" y="5397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4830480" y="55069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4882680" y="5506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4898880" y="5506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911120" y="5506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4924080" y="550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4956120" y="5506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830480" y="555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4860720" y="555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4888800" y="5557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905000" y="555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4713120" y="5510160"/>
                <a:ext cx="3348360" cy="1177920"/>
              </a:xfrm>
              <a:custGeom>
                <a:avLst/>
                <a:gdLst/>
                <a:ahLst/>
                <a:rect l="l" t="t" r="r" b="b"/>
                <a:pathLst>
                  <a:path w="2109" h="742">
                    <a:moveTo>
                      <a:pt x="46" y="32"/>
                    </a:moveTo>
                    <a:lnTo>
                      <a:pt x="0" y="34"/>
                    </a:lnTo>
                    <a:lnTo>
                      <a:pt x="0" y="742"/>
                    </a:lnTo>
                    <a:lnTo>
                      <a:pt x="2109" y="742"/>
                    </a:lnTo>
                    <a:lnTo>
                      <a:pt x="2109" y="0"/>
                    </a:lnTo>
                    <a:lnTo>
                      <a:pt x="207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H="1">
                <a:off x="4591080" y="5081760"/>
                <a:ext cx="19512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H="1">
                <a:off x="5794200" y="5602320"/>
                <a:ext cx="619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349960" y="5945040"/>
                <a:ext cx="1951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900040" y="53974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945040" y="5397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909760" y="5452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938920" y="5452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909760" y="5506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893920" y="557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053040" y="5052960"/>
                <a:ext cx="336600" cy="539640"/>
              </a:xfrm>
              <a:custGeom>
                <a:avLst/>
                <a:gdLst/>
                <a:ahLst/>
                <a:rect l="l" t="t" r="r" b="b"/>
                <a:pathLst>
                  <a:path w="212" h="340">
                    <a:moveTo>
                      <a:pt x="0" y="0"/>
                    </a:moveTo>
                    <a:lnTo>
                      <a:pt x="0" y="139"/>
                    </a:lnTo>
                    <a:lnTo>
                      <a:pt x="37" y="171"/>
                    </a:lnTo>
                    <a:lnTo>
                      <a:pt x="0" y="203"/>
                    </a:lnTo>
                    <a:lnTo>
                      <a:pt x="0" y="340"/>
                    </a:lnTo>
                    <a:lnTo>
                      <a:pt x="212" y="235"/>
                    </a:lnTo>
                    <a:lnTo>
                      <a:pt x="212" y="10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053040" y="5052960"/>
                <a:ext cx="336600" cy="539640"/>
              </a:xfrm>
              <a:custGeom>
                <a:avLst/>
                <a:gdLst/>
                <a:ahLst/>
                <a:rect l="l" t="t" r="r" b="b"/>
                <a:pathLst>
                  <a:path w="212" h="340">
                    <a:moveTo>
                      <a:pt x="0" y="0"/>
                    </a:moveTo>
                    <a:lnTo>
                      <a:pt x="0" y="139"/>
                    </a:lnTo>
                    <a:lnTo>
                      <a:pt x="37" y="171"/>
                    </a:lnTo>
                    <a:lnTo>
                      <a:pt x="0" y="203"/>
                    </a:lnTo>
                    <a:lnTo>
                      <a:pt x="0" y="340"/>
                    </a:lnTo>
                    <a:lnTo>
                      <a:pt x="212" y="235"/>
                    </a:lnTo>
                    <a:lnTo>
                      <a:pt x="212" y="10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78400" y="53085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313320" y="5308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342120" y="5308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380280" y="53085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6235200" y="5359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25140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281280" y="5359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631008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6338880" y="5359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351120" y="5359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265080" y="522612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6297120" y="522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325560" y="5226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6345000" y="522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4591080" y="5240160"/>
                <a:ext cx="1951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538960" y="534996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H="1">
                <a:off x="5676840" y="5362560"/>
                <a:ext cx="1792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H="1">
                <a:off x="5407200" y="5362560"/>
                <a:ext cx="134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715000" y="4745160"/>
                <a:ext cx="163440" cy="261720"/>
              </a:xfrm>
              <a:custGeom>
                <a:avLst/>
                <a:gdLst/>
                <a:ahLst/>
                <a:rect l="l" t="t" r="r" b="b"/>
                <a:pathLst>
                  <a:path w="103" h="165">
                    <a:moveTo>
                      <a:pt x="50" y="163"/>
                    </a:moveTo>
                    <a:lnTo>
                      <a:pt x="60" y="163"/>
                    </a:lnTo>
                    <a:lnTo>
                      <a:pt x="68" y="161"/>
                    </a:lnTo>
                    <a:lnTo>
                      <a:pt x="74" y="155"/>
                    </a:lnTo>
                    <a:lnTo>
                      <a:pt x="82" y="149"/>
                    </a:lnTo>
                    <a:lnTo>
                      <a:pt x="89" y="141"/>
                    </a:lnTo>
                    <a:lnTo>
                      <a:pt x="93" y="131"/>
                    </a:lnTo>
                    <a:lnTo>
                      <a:pt x="97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3" y="83"/>
                    </a:lnTo>
                    <a:lnTo>
                      <a:pt x="103" y="69"/>
                    </a:lnTo>
                    <a:lnTo>
                      <a:pt x="101" y="56"/>
                    </a:lnTo>
                    <a:lnTo>
                      <a:pt x="97" y="44"/>
                    </a:lnTo>
                    <a:lnTo>
                      <a:pt x="93" y="32"/>
                    </a:lnTo>
                    <a:lnTo>
                      <a:pt x="89" y="24"/>
                    </a:lnTo>
                    <a:lnTo>
                      <a:pt x="82" y="14"/>
                    </a:lnTo>
                    <a:lnTo>
                      <a:pt x="74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4" y="4"/>
                    </a:lnTo>
                    <a:lnTo>
                      <a:pt x="28" y="8"/>
                    </a:lnTo>
                    <a:lnTo>
                      <a:pt x="20" y="14"/>
                    </a:lnTo>
                    <a:lnTo>
                      <a:pt x="14" y="24"/>
                    </a:lnTo>
                    <a:lnTo>
                      <a:pt x="10" y="32"/>
                    </a:lnTo>
                    <a:lnTo>
                      <a:pt x="4" y="44"/>
                    </a:lnTo>
                    <a:lnTo>
                      <a:pt x="2" y="56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4" y="119"/>
                    </a:lnTo>
                    <a:lnTo>
                      <a:pt x="10" y="131"/>
                    </a:lnTo>
                    <a:lnTo>
                      <a:pt x="14" y="141"/>
                    </a:lnTo>
                    <a:lnTo>
                      <a:pt x="20" y="149"/>
                    </a:lnTo>
                    <a:lnTo>
                      <a:pt x="28" y="155"/>
                    </a:lnTo>
                    <a:lnTo>
                      <a:pt x="34" y="161"/>
                    </a:lnTo>
                    <a:lnTo>
                      <a:pt x="42" y="163"/>
                    </a:lnTo>
                    <a:lnTo>
                      <a:pt x="50" y="165"/>
                    </a:lnTo>
                    <a:lnTo>
                      <a:pt x="50" y="165"/>
                    </a:lnTo>
                    <a:lnTo>
                      <a:pt x="50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715000" y="4745160"/>
                <a:ext cx="163440" cy="261720"/>
              </a:xfrm>
              <a:custGeom>
                <a:avLst/>
                <a:gdLst/>
                <a:ahLst/>
                <a:rect l="l" t="t" r="r" b="b"/>
                <a:pathLst>
                  <a:path w="103" h="165">
                    <a:moveTo>
                      <a:pt x="50" y="163"/>
                    </a:moveTo>
                    <a:lnTo>
                      <a:pt x="60" y="163"/>
                    </a:lnTo>
                    <a:lnTo>
                      <a:pt x="68" y="161"/>
                    </a:lnTo>
                    <a:lnTo>
                      <a:pt x="74" y="155"/>
                    </a:lnTo>
                    <a:lnTo>
                      <a:pt x="82" y="149"/>
                    </a:lnTo>
                    <a:lnTo>
                      <a:pt x="89" y="141"/>
                    </a:lnTo>
                    <a:lnTo>
                      <a:pt x="93" y="131"/>
                    </a:lnTo>
                    <a:lnTo>
                      <a:pt x="97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3" y="83"/>
                    </a:lnTo>
                    <a:lnTo>
                      <a:pt x="103" y="69"/>
                    </a:lnTo>
                    <a:lnTo>
                      <a:pt x="101" y="56"/>
                    </a:lnTo>
                    <a:lnTo>
                      <a:pt x="97" y="44"/>
                    </a:lnTo>
                    <a:lnTo>
                      <a:pt x="93" y="32"/>
                    </a:lnTo>
                    <a:lnTo>
                      <a:pt x="89" y="24"/>
                    </a:lnTo>
                    <a:lnTo>
                      <a:pt x="82" y="14"/>
                    </a:lnTo>
                    <a:lnTo>
                      <a:pt x="74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4" y="4"/>
                    </a:lnTo>
                    <a:lnTo>
                      <a:pt x="28" y="8"/>
                    </a:lnTo>
                    <a:lnTo>
                      <a:pt x="20" y="14"/>
                    </a:lnTo>
                    <a:lnTo>
                      <a:pt x="14" y="24"/>
                    </a:lnTo>
                    <a:lnTo>
                      <a:pt x="10" y="32"/>
                    </a:lnTo>
                    <a:lnTo>
                      <a:pt x="4" y="44"/>
                    </a:lnTo>
                    <a:lnTo>
                      <a:pt x="2" y="56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4" y="119"/>
                    </a:lnTo>
                    <a:lnTo>
                      <a:pt x="10" y="131"/>
                    </a:lnTo>
                    <a:lnTo>
                      <a:pt x="14" y="141"/>
                    </a:lnTo>
                    <a:lnTo>
                      <a:pt x="20" y="149"/>
                    </a:lnTo>
                    <a:lnTo>
                      <a:pt x="28" y="155"/>
                    </a:lnTo>
                    <a:lnTo>
                      <a:pt x="34" y="161"/>
                    </a:lnTo>
                    <a:lnTo>
                      <a:pt x="42" y="163"/>
                    </a:lnTo>
                    <a:lnTo>
                      <a:pt x="50" y="165"/>
                    </a:lnTo>
                    <a:lnTo>
                      <a:pt x="50" y="16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031080" y="5888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067080" y="5888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099120" y="58881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137280" y="58881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995800" y="59515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02100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605268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6082560" y="5951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098760" y="59515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11460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143760" y="5951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951520" y="593244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578480" y="53085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4578480" y="5068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4578480" y="522756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721480" y="53499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740560" y="4813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775120" y="4813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803920" y="4813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816160" y="4813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828760" y="4813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845320" y="48132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730840" y="48798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743080" y="487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771520" y="487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787360" y="487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799960" y="487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816160" y="487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780240" y="53784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rot="16200000">
                <a:off x="5009040" y="48916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16200000">
                <a:off x="5015160" y="4860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rot="16200000">
                <a:off x="5015160" y="482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16200000">
                <a:off x="5000760" y="4785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rot="16200000">
                <a:off x="5023440" y="4755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rot="16200000">
                <a:off x="5028120" y="4744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rot="16200000">
                <a:off x="5025960" y="4729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rot="16200000">
                <a:off x="5015160" y="4705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5145120" y="3925800"/>
                <a:ext cx="217440" cy="466920"/>
              </a:xfrm>
              <a:custGeom>
                <a:avLst/>
                <a:gdLst/>
                <a:ahLst/>
                <a:rect l="l" t="t" r="r" b="b"/>
                <a:pathLst>
                  <a:path w="137" h="294">
                    <a:moveTo>
                      <a:pt x="69" y="294"/>
                    </a:moveTo>
                    <a:lnTo>
                      <a:pt x="81" y="292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29" y="216"/>
                    </a:lnTo>
                    <a:lnTo>
                      <a:pt x="135" y="193"/>
                    </a:lnTo>
                    <a:lnTo>
                      <a:pt x="137" y="171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29" y="81"/>
                    </a:lnTo>
                    <a:lnTo>
                      <a:pt x="125" y="60"/>
                    </a:lnTo>
                    <a:lnTo>
                      <a:pt x="117" y="44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6" y="16"/>
                    </a:lnTo>
                    <a:lnTo>
                      <a:pt x="28" y="28"/>
                    </a:lnTo>
                    <a:lnTo>
                      <a:pt x="20" y="44"/>
                    </a:lnTo>
                    <a:lnTo>
                      <a:pt x="12" y="60"/>
                    </a:lnTo>
                    <a:lnTo>
                      <a:pt x="6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1"/>
                    </a:lnTo>
                    <a:lnTo>
                      <a:pt x="2" y="193"/>
                    </a:lnTo>
                    <a:lnTo>
                      <a:pt x="6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8" y="266"/>
                    </a:lnTo>
                    <a:lnTo>
                      <a:pt x="36" y="278"/>
                    </a:lnTo>
                    <a:lnTo>
                      <a:pt x="46" y="286"/>
                    </a:lnTo>
                    <a:lnTo>
                      <a:pt x="56" y="292"/>
                    </a:lnTo>
                    <a:lnTo>
                      <a:pt x="69" y="294"/>
                    </a:lnTo>
                    <a:lnTo>
                      <a:pt x="69" y="294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145120" y="3925800"/>
                <a:ext cx="217440" cy="466920"/>
              </a:xfrm>
              <a:custGeom>
                <a:avLst/>
                <a:gdLst/>
                <a:ahLst/>
                <a:rect l="l" t="t" r="r" b="b"/>
                <a:pathLst>
                  <a:path w="137" h="294">
                    <a:moveTo>
                      <a:pt x="69" y="294"/>
                    </a:moveTo>
                    <a:lnTo>
                      <a:pt x="81" y="292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29" y="216"/>
                    </a:lnTo>
                    <a:lnTo>
                      <a:pt x="135" y="193"/>
                    </a:lnTo>
                    <a:lnTo>
                      <a:pt x="137" y="171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29" y="81"/>
                    </a:lnTo>
                    <a:lnTo>
                      <a:pt x="125" y="60"/>
                    </a:lnTo>
                    <a:lnTo>
                      <a:pt x="117" y="44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6" y="16"/>
                    </a:lnTo>
                    <a:lnTo>
                      <a:pt x="28" y="28"/>
                    </a:lnTo>
                    <a:lnTo>
                      <a:pt x="20" y="44"/>
                    </a:lnTo>
                    <a:lnTo>
                      <a:pt x="12" y="60"/>
                    </a:lnTo>
                    <a:lnTo>
                      <a:pt x="6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1"/>
                    </a:lnTo>
                    <a:lnTo>
                      <a:pt x="2" y="193"/>
                    </a:lnTo>
                    <a:lnTo>
                      <a:pt x="6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8" y="266"/>
                    </a:lnTo>
                    <a:lnTo>
                      <a:pt x="36" y="278"/>
                    </a:lnTo>
                    <a:lnTo>
                      <a:pt x="46" y="286"/>
                    </a:lnTo>
                    <a:lnTo>
                      <a:pt x="56" y="292"/>
                    </a:lnTo>
                    <a:lnTo>
                      <a:pt x="69" y="294"/>
                    </a:lnTo>
                    <a:lnTo>
                      <a:pt x="69" y="29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6121440" y="5292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15924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188040" y="5292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794200" y="5003640"/>
                <a:ext cx="1800" cy="9446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H="1">
                <a:off x="5878440" y="4873680"/>
                <a:ext cx="540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781600" y="55897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781600" y="5932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H="1">
                <a:off x="5676840" y="6437160"/>
                <a:ext cx="1396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H="1">
                <a:off x="5676840" y="6197760"/>
                <a:ext cx="13968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4470480" y="5321160"/>
                <a:ext cx="1206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4335480" y="53085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284720" y="5321160"/>
                <a:ext cx="57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5538960" y="51483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H="1">
                <a:off x="5676840" y="5160960"/>
                <a:ext cx="3542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H="1">
                <a:off x="5407200" y="5160960"/>
                <a:ext cx="1346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538960" y="59324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538960" y="618480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538960" y="64245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538960" y="432576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538960" y="41432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538960" y="39639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658920" y="43099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6641640" y="4127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691320" y="4127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6597720" y="42591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597720" y="407988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670520" y="43099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718400" y="4309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5538960" y="45403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597720" y="63039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935680" y="6319800"/>
                <a:ext cx="6681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597720" y="537840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H="1">
                <a:off x="6735240" y="5391000"/>
                <a:ext cx="5724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H="1">
                <a:off x="6389280" y="5391000"/>
                <a:ext cx="2142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597720" y="56768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H="1">
                <a:off x="6735600" y="5689440"/>
                <a:ext cx="1764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5737320" y="5362560"/>
                <a:ext cx="863640" cy="330120"/>
              </a:xfrm>
              <a:custGeom>
                <a:avLst/>
                <a:gdLst/>
                <a:ahLst/>
                <a:rect l="l" t="t" r="r" b="b"/>
                <a:pathLst>
                  <a:path w="544" h="208">
                    <a:moveTo>
                      <a:pt x="544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624800" y="42591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621560" y="53784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H="1">
                <a:off x="7763040" y="5391000"/>
                <a:ext cx="1188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H="1">
                <a:off x="7535880" y="5391000"/>
                <a:ext cx="921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621560" y="585144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2" y="17"/>
                    </a:lnTo>
                    <a:lnTo>
                      <a:pt x="18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7763040" y="5627520"/>
                <a:ext cx="118800" cy="238320"/>
              </a:xfrm>
              <a:custGeom>
                <a:avLst/>
                <a:gdLst/>
                <a:ahLst/>
                <a:rect l="l" t="t" r="r" b="b"/>
                <a:pathLst>
                  <a:path w="75" h="150">
                    <a:moveTo>
                      <a:pt x="75" y="0"/>
                    </a:moveTo>
                    <a:lnTo>
                      <a:pt x="36" y="2"/>
                    </a:lnTo>
                    <a:lnTo>
                      <a:pt x="36" y="150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6796080" y="5391000"/>
                <a:ext cx="831960" cy="474840"/>
              </a:xfrm>
              <a:custGeom>
                <a:avLst/>
                <a:gdLst/>
                <a:ahLst/>
                <a:rect l="l" t="t" r="r" b="b"/>
                <a:pathLst>
                  <a:path w="524" h="299">
                    <a:moveTo>
                      <a:pt x="524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7621560" y="6303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735600" y="6319800"/>
                <a:ext cx="8956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335480" y="45403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H="1">
                <a:off x="4473720" y="4552920"/>
                <a:ext cx="1071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>
                <a:off x="4073040" y="4552920"/>
                <a:ext cx="265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903840" y="38466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903840" y="4086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794040" y="3862440"/>
                <a:ext cx="362160" cy="693720"/>
              </a:xfrm>
              <a:custGeom>
                <a:avLst/>
                <a:gdLst/>
                <a:ahLst/>
                <a:rect l="l" t="t" r="r" b="b"/>
                <a:pathLst>
                  <a:path w="228" h="437">
                    <a:moveTo>
                      <a:pt x="77" y="0"/>
                    </a:moveTo>
                    <a:lnTo>
                      <a:pt x="0" y="0"/>
                    </a:lnTo>
                    <a:lnTo>
                      <a:pt x="0" y="246"/>
                    </a:lnTo>
                    <a:lnTo>
                      <a:pt x="228" y="246"/>
                    </a:lnTo>
                    <a:lnTo>
                      <a:pt x="228" y="43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365640" y="3772080"/>
                <a:ext cx="730080" cy="1350720"/>
              </a:xfrm>
              <a:custGeom>
                <a:avLst/>
                <a:gdLst/>
                <a:ahLst/>
                <a:rect l="l" t="t" r="r" b="b"/>
                <a:pathLst>
                  <a:path w="460" h="851">
                    <a:moveTo>
                      <a:pt x="38" y="851"/>
                    </a:moveTo>
                    <a:lnTo>
                      <a:pt x="0" y="851"/>
                    </a:lnTo>
                    <a:lnTo>
                      <a:pt x="0" y="0"/>
                    </a:lnTo>
                    <a:lnTo>
                      <a:pt x="460" y="0"/>
                    </a:lnTo>
                    <a:lnTo>
                      <a:pt x="460" y="131"/>
                    </a:lnTo>
                    <a:lnTo>
                      <a:pt x="421" y="1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855960" y="3692520"/>
                <a:ext cx="3206880" cy="1023840"/>
              </a:xfrm>
              <a:custGeom>
                <a:avLst/>
                <a:gdLst/>
                <a:ahLst/>
                <a:rect l="l" t="t" r="r" b="b"/>
                <a:pathLst>
                  <a:path w="2020" h="645">
                    <a:moveTo>
                      <a:pt x="1812" y="643"/>
                    </a:moveTo>
                    <a:lnTo>
                      <a:pt x="2020" y="645"/>
                    </a:lnTo>
                    <a:lnTo>
                      <a:pt x="2020" y="0"/>
                    </a:lnTo>
                    <a:lnTo>
                      <a:pt x="225" y="0"/>
                    </a:lnTo>
                    <a:lnTo>
                      <a:pt x="225" y="314"/>
                    </a:lnTo>
                    <a:lnTo>
                      <a:pt x="0" y="314"/>
                    </a:lnTo>
                    <a:lnTo>
                      <a:pt x="0" y="258"/>
                    </a:lnTo>
                    <a:lnTo>
                      <a:pt x="38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140360" y="45403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533840" y="5403960"/>
                <a:ext cx="3286080" cy="1225440"/>
              </a:xfrm>
              <a:custGeom>
                <a:avLst/>
                <a:gdLst/>
                <a:ahLst/>
                <a:rect l="l" t="t" r="r" b="b"/>
                <a:pathLst>
                  <a:path w="2070" h="772">
                    <a:moveTo>
                      <a:pt x="2032" y="577"/>
                    </a:moveTo>
                    <a:lnTo>
                      <a:pt x="2070" y="577"/>
                    </a:lnTo>
                    <a:lnTo>
                      <a:pt x="2070" y="772"/>
                    </a:lnTo>
                    <a:lnTo>
                      <a:pt x="0" y="772"/>
                    </a:lnTo>
                    <a:lnTo>
                      <a:pt x="0" y="0"/>
                    </a:lnTo>
                    <a:lnTo>
                      <a:pt x="159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417920" y="3456000"/>
                <a:ext cx="1800" cy="97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V="1">
                <a:off x="4417920" y="6489720"/>
                <a:ext cx="180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16200000">
                <a:off x="4530600" y="5236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rot="16200000">
                <a:off x="4519800" y="520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rot="16200000">
                <a:off x="4521960" y="5183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rot="16200000">
                <a:off x="4530600" y="5164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rot="16200000">
                <a:off x="4528080" y="5146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7" name=""/>
            <p:cNvGrpSpPr/>
            <p:nvPr/>
          </p:nvGrpSpPr>
          <p:grpSpPr>
            <a:xfrm>
              <a:off x="3390120" y="3456000"/>
              <a:ext cx="4962240" cy="3311640"/>
              <a:chOff x="3390120" y="3456000"/>
              <a:chExt cx="4962240" cy="3311640"/>
            </a:xfrm>
          </p:grpSpPr>
          <p:sp>
            <p:nvSpPr>
              <p:cNvPr id="2198" name=""/>
              <p:cNvSpPr/>
              <p:nvPr/>
            </p:nvSpPr>
            <p:spPr>
              <a:xfrm rot="16200000">
                <a:off x="4519800" y="511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rot="16200000">
                <a:off x="4521960" y="5092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rot="16200000">
                <a:off x="4530600" y="5076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rot="16200000">
                <a:off x="4532760" y="5061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rot="16200000">
                <a:off x="4519800" y="503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rot="16200000">
                <a:off x="4519800" y="500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4361040" y="380052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436032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4372920" y="380196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40460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442044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437000" y="3801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621400" y="3456000"/>
                <a:ext cx="1440" cy="43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5621400" y="648972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564160" y="380052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681960" y="3456000"/>
                <a:ext cx="1440" cy="61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6681960" y="648972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622920" y="380052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57864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61356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64776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665400" y="3801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71040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744600" y="3801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7709040" y="3456000"/>
                <a:ext cx="1440" cy="79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7709040" y="648972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55408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567400" y="3801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60484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562140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65776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4427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470480" y="34653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5363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45619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4587840" y="3465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610160" y="34653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67784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7034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47541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480492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8603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8855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491148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49622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012640" y="3465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04468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0972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147640" y="3465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5646600" y="3465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708520" y="3465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57715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579708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58226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8748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92560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9544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6005160" y="3465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0368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08940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1434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19416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706440" y="3465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783480" y="3465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846480" y="3465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92424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94944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9750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0257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08120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1067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157520" y="3465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1895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24032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2957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34688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733880" y="34653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819920" y="3465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8843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9099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93548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9862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803700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80640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8118000" y="3465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81468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20080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82562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830736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650000" y="380052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595640" y="3801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64064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676640" y="3801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72092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733880" y="38019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78500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33901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415680" y="346536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34743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34999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3525480" y="3465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5730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36237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36759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370188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37526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8066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385848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388404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9096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9603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40111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40395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406692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411768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538128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541296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544176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381280" y="390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5412960" y="390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381280" y="427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5412960" y="427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5441760" y="427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5471640" y="427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570204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573048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575928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702040" y="390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730480" y="390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5702040" y="427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5730480" y="427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702040" y="4208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5702040" y="4341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76080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78924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760800" y="427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760800" y="4208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760800" y="4341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784640" y="423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784640" y="4309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621400" y="4427640"/>
                <a:ext cx="55440" cy="206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621400" y="4427640"/>
                <a:ext cx="55440" cy="206208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5567400" y="4427640"/>
                <a:ext cx="54000" cy="206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5567400" y="4427640"/>
                <a:ext cx="54000" cy="206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626160" y="4427640"/>
                <a:ext cx="10944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  <a:lnTo>
                      <a:pt x="67" y="12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626160" y="4427640"/>
                <a:ext cx="10944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3935520" y="3813120"/>
                <a:ext cx="98280" cy="336600"/>
              </a:xfrm>
              <a:custGeom>
                <a:avLst/>
                <a:gdLst/>
                <a:ahLst/>
                <a:rect l="l" t="t" r="r" b="b"/>
                <a:pathLst>
                  <a:path w="62" h="212">
                    <a:moveTo>
                      <a:pt x="0" y="31"/>
                    </a:moveTo>
                    <a:lnTo>
                      <a:pt x="0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3"/>
                    </a:lnTo>
                    <a:lnTo>
                      <a:pt x="58" y="17"/>
                    </a:lnTo>
                    <a:lnTo>
                      <a:pt x="60" y="21"/>
                    </a:lnTo>
                    <a:lnTo>
                      <a:pt x="62" y="27"/>
                    </a:lnTo>
                    <a:lnTo>
                      <a:pt x="62" y="31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0" y="192"/>
                    </a:lnTo>
                    <a:lnTo>
                      <a:pt x="58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6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2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6" y="210"/>
                    </a:lnTo>
                    <a:lnTo>
                      <a:pt x="12" y="206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3935520" y="3813120"/>
                <a:ext cx="98280" cy="336600"/>
              </a:xfrm>
              <a:custGeom>
                <a:avLst/>
                <a:gdLst/>
                <a:ahLst/>
                <a:rect l="l" t="t" r="r" b="b"/>
                <a:pathLst>
                  <a:path w="62" h="212">
                    <a:moveTo>
                      <a:pt x="0" y="31"/>
                    </a:moveTo>
                    <a:lnTo>
                      <a:pt x="0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3"/>
                    </a:lnTo>
                    <a:lnTo>
                      <a:pt x="58" y="17"/>
                    </a:lnTo>
                    <a:lnTo>
                      <a:pt x="60" y="21"/>
                    </a:lnTo>
                    <a:lnTo>
                      <a:pt x="62" y="27"/>
                    </a:lnTo>
                    <a:lnTo>
                      <a:pt x="62" y="31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0" y="192"/>
                    </a:lnTo>
                    <a:lnTo>
                      <a:pt x="58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6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2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6" y="210"/>
                    </a:lnTo>
                    <a:lnTo>
                      <a:pt x="12" y="206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3960360" y="3897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4005360" y="38973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3970080" y="395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3998880" y="39513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970080" y="4003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954240" y="3830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3954240" y="4070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963960" y="4524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001760" y="4524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030200" y="4524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3462480" y="5091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497400" y="5091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919640" y="5599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955920" y="56358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006680" y="5635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023240" y="56358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035120" y="5635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051320" y="5635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081920" y="56358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6955920" y="56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6984720" y="56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016040" y="5689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029000" y="56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391520" y="5334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429320" y="533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459200" y="533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488000" y="533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520040" y="53341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407000" y="538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435440" y="538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465320" y="5388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481520" y="538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925760" y="5427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970760" y="5427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935480" y="548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964640" y="548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935480" y="5532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91964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653240" y="4427640"/>
                <a:ext cx="10980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  <a:lnTo>
                      <a:pt x="67" y="12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653240" y="4427640"/>
                <a:ext cx="10980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4616280" y="4083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4629240" y="4083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4367160" y="442764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5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  <a:lnTo>
                      <a:pt x="65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4367160" y="442764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5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164200" y="41274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20200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23368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263560" y="4127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279400" y="4127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29560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324400" y="4127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4994280" y="5292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3727440" y="1510560"/>
              <a:ext cx="3794400" cy="4945680"/>
              <a:chOff x="3727440" y="1510560"/>
              <a:chExt cx="3794400" cy="4945680"/>
            </a:xfrm>
          </p:grpSpPr>
          <p:sp>
            <p:nvSpPr>
              <p:cNvPr id="2399" name=""/>
              <p:cNvSpPr/>
              <p:nvPr/>
            </p:nvSpPr>
            <p:spPr>
              <a:xfrm>
                <a:off x="503208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06232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091120" y="5292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103360" y="5292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128560" y="5292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14476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173200" y="5292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192280" y="5292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264280" y="5106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02080" y="5106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3760" y="5106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62200" y="5106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91000" y="5106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230440" y="515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263920" y="515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292000" y="5157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308200" y="515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336640" y="5157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349600" y="515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264280" y="5305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302080" y="530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333760" y="530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362200" y="530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391000" y="5305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23044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26392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292000" y="5359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30820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336640" y="5359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34960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4830840" y="5027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4870080" y="502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4898520" y="502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4927320" y="502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4959360" y="50277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4830120" y="50785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4846320" y="5078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4879800" y="5078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4908600" y="5078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4920840" y="50785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4946040" y="5078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4962240" y="5078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990680" y="50785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5006520" y="5078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022360" y="5078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4830840" y="5186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4870080" y="5186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4898520" y="5186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4927320" y="5186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959360" y="51865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4830120" y="5238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846320" y="5238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879800" y="5238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4908600" y="5238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4920840" y="5238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4946040" y="5238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4962240" y="5238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4990680" y="5238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5006520" y="5238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022360" y="5238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591080" y="4159080"/>
                <a:ext cx="954000" cy="2278080"/>
              </a:xfrm>
              <a:custGeom>
                <a:avLst/>
                <a:gdLst/>
                <a:ahLst/>
                <a:rect l="l" t="t" r="r" b="b"/>
                <a:pathLst>
                  <a:path w="601" h="1435">
                    <a:moveTo>
                      <a:pt x="601" y="1435"/>
                    </a:moveTo>
                    <a:lnTo>
                      <a:pt x="0" y="1435"/>
                    </a:lnTo>
                    <a:lnTo>
                      <a:pt x="0" y="0"/>
                    </a:lnTo>
                    <a:lnTo>
                      <a:pt x="33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4610160" y="63644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60980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64148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460980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464148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4610160" y="51674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4609800" y="5008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4591080" y="5945040"/>
                <a:ext cx="534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4591080" y="6197760"/>
                <a:ext cx="957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4750920" y="6070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4763880" y="607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4795560" y="6070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4820760" y="6070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4836600" y="6070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4854240" y="607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4882680" y="6070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4911120" y="6070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924440" y="6070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4936680" y="607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4965480" y="607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4997520" y="60706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4750920" y="6124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476388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479556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482400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486360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489564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4923720" y="6124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4750920" y="5818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4766760" y="581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4795560" y="5818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4820760" y="5818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4836600" y="5818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4854240" y="581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4885920" y="5818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4911120" y="5818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4927680" y="5818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936680" y="581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4968360" y="581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4997520" y="58183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750920" y="5872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476676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479556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82400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486684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895280" y="5872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5195880" y="5888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5230800" y="5888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5243040" y="5888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5273280" y="5888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5305320" y="58881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516708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5195520" y="59515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5223960" y="5951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523692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26716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29884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4750920" y="6310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4763880" y="6310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4795560" y="63104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4820760" y="6310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4836600" y="63104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4854240" y="6310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4882680" y="63104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4911120" y="6310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4924440" y="63104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4936680" y="6310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4965480" y="6310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4997520" y="63104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4750920" y="6364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4763880" y="636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4795560" y="636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4824000" y="636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4863600" y="636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4895640" y="636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4923720" y="6364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4578480" y="59324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4578480" y="6184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44176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47488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444640" y="528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475240" y="5289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444640" y="508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474880" y="508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44176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7488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462640" y="63644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rot="16200000">
                <a:off x="7171200" y="1686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rot="16200000">
                <a:off x="7182000" y="1656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rot="16200000">
                <a:off x="7171200" y="1613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rot="16200000">
                <a:off x="7167600" y="15660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rot="16200000">
                <a:off x="7190280" y="1540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rot="16200000">
                <a:off x="7194960" y="1524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rot="16200000">
                <a:off x="7192800" y="1510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rot="16200000">
                <a:off x="7182000" y="148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7260480" y="5910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7305480" y="591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7333560" y="5910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378560" y="5910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416360" y="591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445160" y="591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478280" y="591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rot="16200000">
                <a:off x="7171200" y="5057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rot="16200000">
                <a:off x="7182000" y="5023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rot="16200000">
                <a:off x="7171200" y="4980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rot="16200000">
                <a:off x="7167600" y="49345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rot="16200000">
                <a:off x="7190280" y="49064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rot="16200000">
                <a:off x="7194960" y="4891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rot="16200000">
                <a:off x="7192800" y="4880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rot="16200000">
                <a:off x="7182000" y="4853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902280" y="53751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>
                <a:off x="6735600" y="5388120"/>
                <a:ext cx="1828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176960" y="5430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7214760" y="543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7243200" y="5430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7260840" y="543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7289640" y="54309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7138440" y="5497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7183080" y="5497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7211520" y="5497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7257600" y="5497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286040" y="5497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7305480" y="5497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956280" y="5356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99084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702288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7051320" y="5356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706896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100640" y="5356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7125840" y="5356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727440" y="5094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762000" y="509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790440" y="509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822120" y="5094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838320" y="509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868200" y="5094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897000" y="5094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727440" y="1727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762000" y="172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9" name=""/>
            <p:cNvSpPr/>
            <p:nvPr/>
          </p:nvSpPr>
          <p:spPr>
            <a:xfrm>
              <a:off x="3790440" y="1727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822120" y="17272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3838320" y="1727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868200" y="17272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897000" y="17272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727440" y="64166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803760" y="64166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825360" y="6416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3887280" y="64166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938400" y="64166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992040" y="64166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020840" y="6416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727440" y="30430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803760" y="304308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825360" y="3043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3887280" y="30430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938400" y="30430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992040" y="30430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020840" y="3043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8" name=""/>
          <p:cNvSpPr/>
          <p:nvPr/>
        </p:nvSpPr>
        <p:spPr>
          <a:xfrm>
            <a:off x="442080" y="2541600"/>
            <a:ext cx="196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lw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0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20($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1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2, $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2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4, $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3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6, 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4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8, $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19810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ag. 47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0" name=""/>
          <p:cNvGrpSpPr/>
          <p:nvPr/>
        </p:nvGrpSpPr>
        <p:grpSpPr>
          <a:xfrm>
            <a:off x="3365640" y="88920"/>
            <a:ext cx="4988160" cy="6681240"/>
            <a:chOff x="3365640" y="88920"/>
            <a:chExt cx="4988160" cy="6681240"/>
          </a:xfrm>
        </p:grpSpPr>
        <p:grpSp>
          <p:nvGrpSpPr>
            <p:cNvPr id="2621" name=""/>
            <p:cNvGrpSpPr/>
            <p:nvPr/>
          </p:nvGrpSpPr>
          <p:grpSpPr>
            <a:xfrm>
              <a:off x="3416400" y="264960"/>
              <a:ext cx="4584600" cy="6307200"/>
              <a:chOff x="3416400" y="264960"/>
              <a:chExt cx="4584600" cy="6307200"/>
            </a:xfrm>
          </p:grpSpPr>
          <p:sp>
            <p:nvSpPr>
              <p:cNvPr id="2622" name=""/>
              <p:cNvSpPr/>
              <p:nvPr/>
            </p:nvSpPr>
            <p:spPr>
              <a:xfrm>
                <a:off x="7710480" y="4251240"/>
                <a:ext cx="5400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710480" y="4251240"/>
                <a:ext cx="54000" cy="17964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655040" y="4251240"/>
                <a:ext cx="5544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655040" y="4251240"/>
                <a:ext cx="5544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737400" y="4273560"/>
                <a:ext cx="158760" cy="630360"/>
              </a:xfrm>
              <a:custGeom>
                <a:avLst/>
                <a:gdLst/>
                <a:ahLst/>
                <a:rect l="l" t="t" r="r" b="b"/>
                <a:pathLst>
                  <a:path w="100" h="397">
                    <a:moveTo>
                      <a:pt x="0" y="0"/>
                    </a:moveTo>
                    <a:lnTo>
                      <a:pt x="50" y="0"/>
                    </a:lnTo>
                    <a:lnTo>
                      <a:pt x="50" y="397"/>
                    </a:lnTo>
                    <a:lnTo>
                      <a:pt x="100" y="39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737400" y="4408560"/>
                <a:ext cx="498600" cy="771480"/>
              </a:xfrm>
              <a:custGeom>
                <a:avLst/>
                <a:gdLst/>
                <a:ahLst/>
                <a:rect l="l" t="t" r="r" b="b"/>
                <a:pathLst>
                  <a:path w="314" h="486">
                    <a:moveTo>
                      <a:pt x="314" y="486"/>
                    </a:moveTo>
                    <a:lnTo>
                      <a:pt x="31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5676840" y="4408560"/>
                <a:ext cx="692280" cy="907920"/>
              </a:xfrm>
              <a:custGeom>
                <a:avLst/>
                <a:gdLst/>
                <a:ahLst/>
                <a:rect l="l" t="t" r="r" b="b"/>
                <a:pathLst>
                  <a:path w="436" h="572">
                    <a:moveTo>
                      <a:pt x="0" y="0"/>
                    </a:moveTo>
                    <a:lnTo>
                      <a:pt x="436" y="0"/>
                    </a:lnTo>
                    <a:lnTo>
                      <a:pt x="436" y="383"/>
                    </a:lnTo>
                    <a:lnTo>
                      <a:pt x="157" y="383"/>
                    </a:lnTo>
                    <a:lnTo>
                      <a:pt x="157" y="572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5676840" y="4273560"/>
                <a:ext cx="812880" cy="2298600"/>
              </a:xfrm>
              <a:custGeom>
                <a:avLst/>
                <a:gdLst/>
                <a:ahLst/>
                <a:rect l="l" t="t" r="r" b="b"/>
                <a:pathLst>
                  <a:path w="512" h="1448">
                    <a:moveTo>
                      <a:pt x="0" y="0"/>
                    </a:moveTo>
                    <a:lnTo>
                      <a:pt x="512" y="0"/>
                    </a:lnTo>
                    <a:lnTo>
                      <a:pt x="512" y="1448"/>
                    </a:lnTo>
                    <a:lnTo>
                      <a:pt x="133" y="1448"/>
                    </a:lnTo>
                    <a:lnTo>
                      <a:pt x="133" y="139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5676840" y="4340160"/>
                <a:ext cx="752400" cy="1920960"/>
              </a:xfrm>
              <a:custGeom>
                <a:avLst/>
                <a:gdLst/>
                <a:ahLst/>
                <a:rect l="l" t="t" r="r" b="b"/>
                <a:pathLst>
                  <a:path w="474" h="1210">
                    <a:moveTo>
                      <a:pt x="0" y="0"/>
                    </a:moveTo>
                    <a:lnTo>
                      <a:pt x="474" y="0"/>
                    </a:lnTo>
                    <a:lnTo>
                      <a:pt x="474" y="1210"/>
                    </a:lnTo>
                    <a:lnTo>
                      <a:pt x="256" y="1210"/>
                    </a:lnTo>
                    <a:lnTo>
                      <a:pt x="256" y="1148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5676840" y="4160880"/>
                <a:ext cx="928800" cy="112680"/>
              </a:xfrm>
              <a:custGeom>
                <a:avLst/>
                <a:gdLst/>
                <a:ahLst/>
                <a:rect l="l" t="t" r="r" b="b"/>
                <a:pathLst>
                  <a:path w="585" h="71">
                    <a:moveTo>
                      <a:pt x="585" y="71"/>
                    </a:moveTo>
                    <a:lnTo>
                      <a:pt x="530" y="71"/>
                    </a:lnTo>
                    <a:lnTo>
                      <a:pt x="53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5676840" y="3981600"/>
                <a:ext cx="928800" cy="112680"/>
              </a:xfrm>
              <a:custGeom>
                <a:avLst/>
                <a:gdLst/>
                <a:ahLst/>
                <a:rect l="l" t="t" r="r" b="b"/>
                <a:pathLst>
                  <a:path w="585" h="71">
                    <a:moveTo>
                      <a:pt x="585" y="71"/>
                    </a:moveTo>
                    <a:lnTo>
                      <a:pt x="551" y="71"/>
                    </a:lnTo>
                    <a:lnTo>
                      <a:pt x="55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81960" y="703440"/>
                <a:ext cx="55440" cy="17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681960" y="703440"/>
                <a:ext cx="55440" cy="17928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6630840" y="700200"/>
                <a:ext cx="51120" cy="182520"/>
              </a:xfrm>
              <a:custGeom>
                <a:avLst/>
                <a:gdLst/>
                <a:ahLst/>
                <a:rect l="l" t="t" r="r" b="b"/>
                <a:pathLst>
                  <a:path w="32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2" y="11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630840" y="700200"/>
                <a:ext cx="51120" cy="182520"/>
              </a:xfrm>
              <a:custGeom>
                <a:avLst/>
                <a:gdLst/>
                <a:ahLst/>
                <a:rect l="l" t="t" r="r" b="b"/>
                <a:pathLst>
                  <a:path w="32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2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5676840" y="905040"/>
                <a:ext cx="812880" cy="2298600"/>
              </a:xfrm>
              <a:custGeom>
                <a:avLst/>
                <a:gdLst/>
                <a:ahLst/>
                <a:rect l="l" t="t" r="r" b="b"/>
                <a:pathLst>
                  <a:path w="512" h="1448">
                    <a:moveTo>
                      <a:pt x="0" y="0"/>
                    </a:moveTo>
                    <a:lnTo>
                      <a:pt x="512" y="0"/>
                    </a:lnTo>
                    <a:lnTo>
                      <a:pt x="512" y="1448"/>
                    </a:lnTo>
                    <a:lnTo>
                      <a:pt x="133" y="1448"/>
                    </a:lnTo>
                    <a:lnTo>
                      <a:pt x="133" y="139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5676840" y="1039680"/>
                <a:ext cx="692280" cy="909720"/>
              </a:xfrm>
              <a:custGeom>
                <a:avLst/>
                <a:gdLst/>
                <a:ahLst/>
                <a:rect l="l" t="t" r="r" b="b"/>
                <a:pathLst>
                  <a:path w="436" h="573">
                    <a:moveTo>
                      <a:pt x="0" y="0"/>
                    </a:moveTo>
                    <a:lnTo>
                      <a:pt x="436" y="0"/>
                    </a:lnTo>
                    <a:lnTo>
                      <a:pt x="436" y="383"/>
                    </a:lnTo>
                    <a:lnTo>
                      <a:pt x="157" y="383"/>
                    </a:lnTo>
                    <a:lnTo>
                      <a:pt x="157" y="57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5676840" y="973080"/>
                <a:ext cx="752400" cy="1920960"/>
              </a:xfrm>
              <a:custGeom>
                <a:avLst/>
                <a:gdLst/>
                <a:ahLst/>
                <a:rect l="l" t="t" r="r" b="b"/>
                <a:pathLst>
                  <a:path w="474" h="1210">
                    <a:moveTo>
                      <a:pt x="0" y="0"/>
                    </a:moveTo>
                    <a:lnTo>
                      <a:pt x="474" y="0"/>
                    </a:lnTo>
                    <a:lnTo>
                      <a:pt x="474" y="1210"/>
                    </a:lnTo>
                    <a:lnTo>
                      <a:pt x="256" y="1210"/>
                    </a:lnTo>
                    <a:lnTo>
                      <a:pt x="256" y="1147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5324400" y="973080"/>
                <a:ext cx="223920" cy="18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5362560" y="790560"/>
                <a:ext cx="18576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5324400" y="611280"/>
                <a:ext cx="22392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5676840" y="793800"/>
                <a:ext cx="928800" cy="111240"/>
              </a:xfrm>
              <a:custGeom>
                <a:avLst/>
                <a:gdLst/>
                <a:ahLst/>
                <a:rect l="l" t="t" r="r" b="b"/>
                <a:pathLst>
                  <a:path w="585" h="70">
                    <a:moveTo>
                      <a:pt x="585" y="70"/>
                    </a:moveTo>
                    <a:lnTo>
                      <a:pt x="530" y="70"/>
                    </a:lnTo>
                    <a:lnTo>
                      <a:pt x="53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5676840" y="614520"/>
                <a:ext cx="928800" cy="110880"/>
              </a:xfrm>
              <a:custGeom>
                <a:avLst/>
                <a:gdLst/>
                <a:ahLst/>
                <a:rect l="l" t="t" r="r" b="b"/>
                <a:pathLst>
                  <a:path w="585" h="70">
                    <a:moveTo>
                      <a:pt x="585" y="70"/>
                    </a:moveTo>
                    <a:lnTo>
                      <a:pt x="551" y="70"/>
                    </a:lnTo>
                    <a:lnTo>
                      <a:pt x="55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H="1">
                <a:off x="5799240" y="2236680"/>
                <a:ext cx="5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65504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65504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764480" y="1014480"/>
                <a:ext cx="189000" cy="960480"/>
              </a:xfrm>
              <a:custGeom>
                <a:avLst/>
                <a:gdLst/>
                <a:ahLst/>
                <a:rect l="l" t="t" r="r" b="b"/>
                <a:pathLst>
                  <a:path w="119" h="605">
                    <a:moveTo>
                      <a:pt x="117" y="605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6681960" y="882720"/>
                <a:ext cx="55440" cy="17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6681960" y="882720"/>
                <a:ext cx="55440" cy="17928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630840" y="882720"/>
                <a:ext cx="5112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6630840" y="882720"/>
                <a:ext cx="5112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3983040" y="264960"/>
                <a:ext cx="3160800" cy="1316160"/>
              </a:xfrm>
              <a:custGeom>
                <a:avLst/>
                <a:gdLst/>
                <a:ahLst/>
                <a:rect l="l" t="t" r="r" b="b"/>
                <a:pathLst>
                  <a:path w="1991" h="829">
                    <a:moveTo>
                      <a:pt x="0" y="113"/>
                    </a:moveTo>
                    <a:lnTo>
                      <a:pt x="2" y="0"/>
                    </a:lnTo>
                    <a:lnTo>
                      <a:pt x="1991" y="0"/>
                    </a:lnTo>
                    <a:lnTo>
                      <a:pt x="1991" y="829"/>
                    </a:lnTo>
                    <a:lnTo>
                      <a:pt x="1940" y="829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6737400" y="905040"/>
                <a:ext cx="158760" cy="631800"/>
              </a:xfrm>
              <a:custGeom>
                <a:avLst/>
                <a:gdLst/>
                <a:ahLst/>
                <a:rect l="l" t="t" r="r" b="b"/>
                <a:pathLst>
                  <a:path w="100" h="398">
                    <a:moveTo>
                      <a:pt x="0" y="0"/>
                    </a:moveTo>
                    <a:lnTo>
                      <a:pt x="50" y="0"/>
                    </a:lnTo>
                    <a:lnTo>
                      <a:pt x="50" y="398"/>
                    </a:lnTo>
                    <a:lnTo>
                      <a:pt x="100" y="39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737400" y="1622520"/>
                <a:ext cx="158760" cy="264960"/>
              </a:xfrm>
              <a:custGeom>
                <a:avLst/>
                <a:gdLst/>
                <a:ahLst/>
                <a:rect l="l" t="t" r="r" b="b"/>
                <a:pathLst>
                  <a:path w="100" h="167">
                    <a:moveTo>
                      <a:pt x="0" y="167"/>
                    </a:moveTo>
                    <a:lnTo>
                      <a:pt x="50" y="167"/>
                    </a:lnTo>
                    <a:lnTo>
                      <a:pt x="50" y="0"/>
                    </a:lnTo>
                    <a:lnTo>
                      <a:pt x="10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737400" y="973080"/>
                <a:ext cx="838080" cy="1647720"/>
              </a:xfrm>
              <a:custGeom>
                <a:avLst/>
                <a:gdLst/>
                <a:ahLst/>
                <a:rect l="l" t="t" r="r" b="b"/>
                <a:pathLst>
                  <a:path w="528" h="1038">
                    <a:moveTo>
                      <a:pt x="314" y="923"/>
                    </a:moveTo>
                    <a:lnTo>
                      <a:pt x="314" y="1038"/>
                    </a:lnTo>
                    <a:lnTo>
                      <a:pt x="528" y="1038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737400" y="1039680"/>
                <a:ext cx="498600" cy="771480"/>
              </a:xfrm>
              <a:custGeom>
                <a:avLst/>
                <a:gdLst/>
                <a:ahLst/>
                <a:rect l="l" t="t" r="r" b="b"/>
                <a:pathLst>
                  <a:path w="314" h="486">
                    <a:moveTo>
                      <a:pt x="314" y="486"/>
                    </a:moveTo>
                    <a:lnTo>
                      <a:pt x="31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737400" y="793800"/>
                <a:ext cx="895320" cy="111240"/>
              </a:xfrm>
              <a:custGeom>
                <a:avLst/>
                <a:gdLst/>
                <a:ahLst/>
                <a:rect l="l" t="t" r="r" b="b"/>
                <a:pathLst>
                  <a:path w="564" h="70">
                    <a:moveTo>
                      <a:pt x="564" y="70"/>
                    </a:moveTo>
                    <a:lnTo>
                      <a:pt x="528" y="70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6183360" y="2122560"/>
                <a:ext cx="79200" cy="460440"/>
              </a:xfrm>
              <a:custGeom>
                <a:avLst/>
                <a:gdLst/>
                <a:ahLst/>
                <a:rect l="l" t="t" r="r" b="b"/>
                <a:pathLst>
                  <a:path w="50" h="290">
                    <a:moveTo>
                      <a:pt x="50" y="0"/>
                    </a:moveTo>
                    <a:lnTo>
                      <a:pt x="50" y="290"/>
                    </a:lnTo>
                    <a:lnTo>
                      <a:pt x="0" y="29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5570640" y="882720"/>
                <a:ext cx="10620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5570640" y="882720"/>
                <a:ext cx="10620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5570640" y="703440"/>
                <a:ext cx="10620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5570640" y="703440"/>
                <a:ext cx="10620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5570640" y="523800"/>
                <a:ext cx="10620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1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lnTo>
                      <a:pt x="67" y="11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5570640" y="523800"/>
                <a:ext cx="10620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1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5068800" y="387360"/>
                <a:ext cx="2774880" cy="1257120"/>
              </a:xfrm>
              <a:custGeom>
                <a:avLst/>
                <a:gdLst/>
                <a:ahLst/>
                <a:rect l="l" t="t" r="r" b="b"/>
                <a:pathLst>
                  <a:path w="1748" h="792">
                    <a:moveTo>
                      <a:pt x="1696" y="342"/>
                    </a:moveTo>
                    <a:lnTo>
                      <a:pt x="1748" y="344"/>
                    </a:lnTo>
                    <a:lnTo>
                      <a:pt x="1748" y="0"/>
                    </a:lnTo>
                    <a:lnTo>
                      <a:pt x="0" y="0"/>
                    </a:lnTo>
                    <a:lnTo>
                      <a:pt x="0" y="79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6896160" y="1509840"/>
                <a:ext cx="166680" cy="13788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71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9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1"/>
                    </a:lnTo>
                    <a:lnTo>
                      <a:pt x="105" y="45"/>
                    </a:lnTo>
                    <a:lnTo>
                      <a:pt x="105" y="37"/>
                    </a:lnTo>
                    <a:lnTo>
                      <a:pt x="103" y="31"/>
                    </a:lnTo>
                    <a:lnTo>
                      <a:pt x="101" y="23"/>
                    </a:lnTo>
                    <a:lnTo>
                      <a:pt x="97" y="19"/>
                    </a:lnTo>
                    <a:lnTo>
                      <a:pt x="93" y="13"/>
                    </a:lnTo>
                    <a:lnTo>
                      <a:pt x="89" y="9"/>
                    </a:lnTo>
                    <a:lnTo>
                      <a:pt x="83" y="5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896160" y="1509840"/>
                <a:ext cx="166680" cy="13788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71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9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1"/>
                    </a:lnTo>
                    <a:lnTo>
                      <a:pt x="105" y="45"/>
                    </a:lnTo>
                    <a:lnTo>
                      <a:pt x="105" y="37"/>
                    </a:lnTo>
                    <a:lnTo>
                      <a:pt x="103" y="31"/>
                    </a:lnTo>
                    <a:lnTo>
                      <a:pt x="101" y="23"/>
                    </a:lnTo>
                    <a:lnTo>
                      <a:pt x="97" y="19"/>
                    </a:lnTo>
                    <a:lnTo>
                      <a:pt x="93" y="13"/>
                    </a:lnTo>
                    <a:lnTo>
                      <a:pt x="89" y="9"/>
                    </a:lnTo>
                    <a:lnTo>
                      <a:pt x="83" y="5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5805360" y="28195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5805360" y="3060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4776840" y="20224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3444840" y="1616040"/>
                <a:ext cx="100080" cy="282600"/>
              </a:xfrm>
              <a:custGeom>
                <a:avLst/>
                <a:gdLst/>
                <a:ahLst/>
                <a:rect l="l" t="t" r="r" b="b"/>
                <a:pathLst>
                  <a:path w="63" h="178">
                    <a:moveTo>
                      <a:pt x="63" y="17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3" y="178"/>
                    </a:lnTo>
                    <a:lnTo>
                      <a:pt x="63" y="178"/>
                    </a:lnTo>
                    <a:lnTo>
                      <a:pt x="63" y="1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3444840" y="1616040"/>
                <a:ext cx="100080" cy="282600"/>
              </a:xfrm>
              <a:custGeom>
                <a:avLst/>
                <a:gdLst/>
                <a:ahLst/>
                <a:rect l="l" t="t" r="r" b="b"/>
                <a:pathLst>
                  <a:path w="63" h="178">
                    <a:moveTo>
                      <a:pt x="63" y="17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3" y="178"/>
                    </a:lnTo>
                    <a:lnTo>
                      <a:pt x="63" y="17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368604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368604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3986280" y="1644480"/>
                <a:ext cx="301680" cy="62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3986280" y="1644480"/>
                <a:ext cx="301680" cy="623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3855600" y="1895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3871440" y="189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3900240" y="1895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3925440" y="1895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3941280" y="1895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3957480" y="189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3989160" y="1895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4014360" y="1895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4032360" y="1895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4041360" y="189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4073040" y="189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4102200" y="18954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3890520" y="1962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3935160" y="196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3963240" y="1962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4008240" y="196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4038120" y="1962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4057200" y="196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3708360" y="1722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374292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377460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3803040" y="1722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381924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3852360" y="1722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3877920" y="1722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6935760" y="1811160"/>
                <a:ext cx="601560" cy="627120"/>
              </a:xfrm>
              <a:custGeom>
                <a:avLst/>
                <a:gdLst/>
                <a:ahLst/>
                <a:rect l="l" t="t" r="r" b="b"/>
                <a:pathLst>
                  <a:path w="379" h="395">
                    <a:moveTo>
                      <a:pt x="377" y="395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379" y="395"/>
                    </a:lnTo>
                    <a:lnTo>
                      <a:pt x="379" y="395"/>
                    </a:lnTo>
                    <a:lnTo>
                      <a:pt x="377" y="3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6935760" y="1811160"/>
                <a:ext cx="601560" cy="627120"/>
              </a:xfrm>
              <a:custGeom>
                <a:avLst/>
                <a:gdLst/>
                <a:ahLst/>
                <a:rect l="l" t="t" r="r" b="b"/>
                <a:pathLst>
                  <a:path w="379" h="395">
                    <a:moveTo>
                      <a:pt x="377" y="395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379" y="395"/>
                    </a:lnTo>
                    <a:lnTo>
                      <a:pt x="37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4776840" y="170172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4776840" y="218268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3605040" y="1027080"/>
                <a:ext cx="273240" cy="730440"/>
              </a:xfrm>
              <a:custGeom>
                <a:avLst/>
                <a:gdLst/>
                <a:ahLst/>
                <a:rect l="l" t="t" r="r" b="b"/>
                <a:pathLst>
                  <a:path w="172" h="460">
                    <a:moveTo>
                      <a:pt x="172" y="0"/>
                    </a:moveTo>
                    <a:lnTo>
                      <a:pt x="0" y="0"/>
                    </a:lnTo>
                    <a:lnTo>
                      <a:pt x="0" y="4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 flipH="1">
                <a:off x="3778200" y="1347840"/>
                <a:ext cx="100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3897360" y="91764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8"/>
                    </a:lnTo>
                    <a:lnTo>
                      <a:pt x="36" y="170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3897360" y="91764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8"/>
                    </a:lnTo>
                    <a:lnTo>
                      <a:pt x="36" y="170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5843520" y="198432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5843520" y="22208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6026040" y="21034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5978160" y="2116080"/>
                <a:ext cx="57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026040" y="1782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69240" y="20098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869240" y="224964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6902280" y="23115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985000" y="236844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0" y="268"/>
                    </a:moveTo>
                    <a:lnTo>
                      <a:pt x="72" y="266"/>
                    </a:lnTo>
                    <a:lnTo>
                      <a:pt x="82" y="262"/>
                    </a:lnTo>
                    <a:lnTo>
                      <a:pt x="90" y="254"/>
                    </a:lnTo>
                    <a:lnTo>
                      <a:pt x="98" y="242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1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1" y="93"/>
                    </a:lnTo>
                    <a:lnTo>
                      <a:pt x="119" y="73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98" y="26"/>
                    </a:lnTo>
                    <a:lnTo>
                      <a:pt x="90" y="16"/>
                    </a:lnTo>
                    <a:lnTo>
                      <a:pt x="82" y="8"/>
                    </a:lnTo>
                    <a:lnTo>
                      <a:pt x="72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2" y="16"/>
                    </a:lnTo>
                    <a:lnTo>
                      <a:pt x="24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3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8" y="228"/>
                    </a:lnTo>
                    <a:lnTo>
                      <a:pt x="24" y="242"/>
                    </a:lnTo>
                    <a:lnTo>
                      <a:pt x="32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  <a:lnTo>
                      <a:pt x="60" y="26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5985000" y="236844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0" y="268"/>
                    </a:moveTo>
                    <a:lnTo>
                      <a:pt x="72" y="266"/>
                    </a:lnTo>
                    <a:lnTo>
                      <a:pt x="82" y="262"/>
                    </a:lnTo>
                    <a:lnTo>
                      <a:pt x="90" y="254"/>
                    </a:lnTo>
                    <a:lnTo>
                      <a:pt x="98" y="242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1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1" y="93"/>
                    </a:lnTo>
                    <a:lnTo>
                      <a:pt x="119" y="73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98" y="26"/>
                    </a:lnTo>
                    <a:lnTo>
                      <a:pt x="90" y="16"/>
                    </a:lnTo>
                    <a:lnTo>
                      <a:pt x="82" y="8"/>
                    </a:lnTo>
                    <a:lnTo>
                      <a:pt x="72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2" y="16"/>
                    </a:lnTo>
                    <a:lnTo>
                      <a:pt x="24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3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8" y="228"/>
                    </a:lnTo>
                    <a:lnTo>
                      <a:pt x="24" y="242"/>
                    </a:lnTo>
                    <a:lnTo>
                      <a:pt x="32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750920" y="2705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4766760" y="270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4795560" y="2705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4822200" y="2705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4838040" y="2705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4854240" y="270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4885920" y="2705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4911120" y="2705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4927680" y="2705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4936680" y="270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4965480" y="270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4998960" y="2705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4750920" y="2759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76676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79556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482580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86684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89564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923720" y="2759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rot="16200000">
                <a:off x="7887240" y="1852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 rot="16200000">
                <a:off x="7898040" y="1816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rot="16200000">
                <a:off x="7887240" y="1778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 rot="16200000">
                <a:off x="7908840" y="1754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rot="16200000">
                <a:off x="7898040" y="173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rot="16200000">
                <a:off x="7891920" y="1693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 rot="16200000">
                <a:off x="7898040" y="166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rot="16200000">
                <a:off x="7898040" y="1630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6842160" y="1420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6876360" y="1420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689256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692604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6954480" y="1420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698004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6176880" y="1571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6211440" y="157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6240600" y="1571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6278400" y="1571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6312960" y="1571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6332040" y="1571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3592440" y="17445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3868560" y="1014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868560" y="133524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3723840" y="131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5676840" y="1187280"/>
                <a:ext cx="2556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5959440" y="1077840"/>
                <a:ext cx="331920" cy="53820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0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09" y="236"/>
                    </a:lnTo>
                    <a:lnTo>
                      <a:pt x="209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5959440" y="1077840"/>
                <a:ext cx="331920" cy="53820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0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09" y="236"/>
                    </a:lnTo>
                    <a:lnTo>
                      <a:pt x="209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>
                <a:off x="6291360" y="1347840"/>
                <a:ext cx="3204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6599160" y="133524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3544920" y="1757520"/>
                <a:ext cx="122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3654360" y="174132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3416400" y="174132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750920" y="245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766760" y="245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795560" y="2452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4822200" y="245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838040" y="2452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4854240" y="245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4885920" y="2452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911120" y="245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4927680" y="2452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4936680" y="245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4968360" y="245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4998960" y="24526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4750920" y="250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476676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479556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482580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486684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4895280" y="250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929200" y="117468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929200" y="1494000"/>
                <a:ext cx="2556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7902720" y="197496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3"/>
                    </a:lnTo>
                    <a:lnTo>
                      <a:pt x="62" y="187"/>
                    </a:lnTo>
                    <a:lnTo>
                      <a:pt x="60" y="194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0" y="214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6" y="212"/>
                    </a:lnTo>
                    <a:lnTo>
                      <a:pt x="12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7902720" y="197496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3"/>
                    </a:lnTo>
                    <a:lnTo>
                      <a:pt x="62" y="187"/>
                    </a:lnTo>
                    <a:lnTo>
                      <a:pt x="60" y="194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0" y="214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6" y="212"/>
                    </a:lnTo>
                    <a:lnTo>
                      <a:pt x="12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875200" y="194940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3" y="26"/>
                    </a:lnTo>
                    <a:lnTo>
                      <a:pt x="65" y="30"/>
                    </a:lnTo>
                    <a:lnTo>
                      <a:pt x="65" y="181"/>
                    </a:lnTo>
                    <a:lnTo>
                      <a:pt x="63" y="185"/>
                    </a:lnTo>
                    <a:lnTo>
                      <a:pt x="63" y="191"/>
                    </a:lnTo>
                    <a:lnTo>
                      <a:pt x="61" y="195"/>
                    </a:lnTo>
                    <a:lnTo>
                      <a:pt x="59" y="199"/>
                    </a:lnTo>
                    <a:lnTo>
                      <a:pt x="55" y="203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875200" y="194940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3" y="26"/>
                    </a:lnTo>
                    <a:lnTo>
                      <a:pt x="65" y="30"/>
                    </a:lnTo>
                    <a:lnTo>
                      <a:pt x="65" y="181"/>
                    </a:lnTo>
                    <a:lnTo>
                      <a:pt x="63" y="185"/>
                    </a:lnTo>
                    <a:lnTo>
                      <a:pt x="63" y="191"/>
                    </a:lnTo>
                    <a:lnTo>
                      <a:pt x="61" y="195"/>
                    </a:lnTo>
                    <a:lnTo>
                      <a:pt x="59" y="199"/>
                    </a:lnTo>
                    <a:lnTo>
                      <a:pt x="55" y="203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9392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837400" y="278460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2"/>
                    </a:lnTo>
                    <a:lnTo>
                      <a:pt x="62" y="188"/>
                    </a:lnTo>
                    <a:lnTo>
                      <a:pt x="60" y="192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2"/>
                    </a:lnTo>
                    <a:lnTo>
                      <a:pt x="16" y="210"/>
                    </a:lnTo>
                    <a:lnTo>
                      <a:pt x="12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837400" y="278460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2"/>
                    </a:lnTo>
                    <a:lnTo>
                      <a:pt x="62" y="188"/>
                    </a:lnTo>
                    <a:lnTo>
                      <a:pt x="60" y="192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2"/>
                    </a:lnTo>
                    <a:lnTo>
                      <a:pt x="16" y="210"/>
                    </a:lnTo>
                    <a:lnTo>
                      <a:pt x="12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856120" y="304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113440" y="777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026040" y="1319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060600" y="131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092640" y="131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183360" y="1290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217920" y="129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249600" y="129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278400" y="1290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136920" y="1344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157440" y="1344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186240" y="1344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211440" y="1344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243480" y="1344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6252480" y="1344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4776840" y="18622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106960" y="1644480"/>
                <a:ext cx="304920" cy="623880"/>
              </a:xfrm>
              <a:custGeom>
                <a:avLst/>
                <a:gdLst/>
                <a:ahLst/>
                <a:rect l="l" t="t" r="r" b="b"/>
                <a:pathLst>
                  <a:path w="192" h="393">
                    <a:moveTo>
                      <a:pt x="0" y="393"/>
                    </a:moveTo>
                    <a:lnTo>
                      <a:pt x="192" y="393"/>
                    </a:lnTo>
                    <a:lnTo>
                      <a:pt x="192" y="0"/>
                    </a:lnTo>
                    <a:lnTo>
                      <a:pt x="2" y="0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106960" y="1644480"/>
                <a:ext cx="304920" cy="623880"/>
              </a:xfrm>
              <a:custGeom>
                <a:avLst/>
                <a:gdLst/>
                <a:ahLst/>
                <a:rect l="l" t="t" r="r" b="b"/>
                <a:pathLst>
                  <a:path w="192" h="393">
                    <a:moveTo>
                      <a:pt x="0" y="393"/>
                    </a:moveTo>
                    <a:lnTo>
                      <a:pt x="192" y="393"/>
                    </a:lnTo>
                    <a:lnTo>
                      <a:pt x="192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80996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7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480996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7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4995720" y="1927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03352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506232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2" name=""/>
            <p:cNvGrpSpPr/>
            <p:nvPr/>
          </p:nvGrpSpPr>
          <p:grpSpPr>
            <a:xfrm>
              <a:off x="4284720" y="560520"/>
              <a:ext cx="3776760" cy="2762280"/>
              <a:chOff x="4284720" y="560520"/>
              <a:chExt cx="3776760" cy="2762280"/>
            </a:xfrm>
          </p:grpSpPr>
          <p:sp>
            <p:nvSpPr>
              <p:cNvPr id="2823" name=""/>
              <p:cNvSpPr/>
              <p:nvPr/>
            </p:nvSpPr>
            <p:spPr>
              <a:xfrm>
                <a:off x="5091120" y="1927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103360" y="1927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5128560" y="1927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514476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5173200" y="1927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5194080" y="1927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831920" y="19782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4882680" y="1978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898880" y="1978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911120" y="1978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927320" y="1978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956120" y="19782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831920" y="203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485100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87980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908600" y="2031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920840" y="2031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4946040" y="203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96224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990680" y="203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831920" y="2138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4882680" y="2138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4898880" y="2138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911120" y="2138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927320" y="2138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956120" y="21384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483192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486072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888800" y="2192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90500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5267160" y="17384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304960" y="1738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5333760" y="1738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5362200" y="1738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5392800" y="17384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23512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26392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5292000" y="1792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530820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5336640" y="1792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535284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267160" y="1940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304960" y="1940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333760" y="1940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5362200" y="1940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5392800" y="19400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523512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26392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529200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530820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533664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53528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4832280" y="1658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487008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489852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493056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4959360" y="1658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4831920" y="1712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4851000" y="1712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4879800" y="1712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4908600" y="1712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4920840" y="1712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4946040" y="1712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4962240" y="1712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990680" y="1712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011200" y="1712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024160" y="1712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832280" y="1817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487008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489852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493056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4959360" y="1817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831920" y="1873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851000" y="187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879800" y="187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908600" y="1873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920840" y="1873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946040" y="1873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962240" y="187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990680" y="1873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5011200" y="1873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024160" y="187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713120" y="2144880"/>
                <a:ext cx="3348360" cy="1177920"/>
              </a:xfrm>
              <a:custGeom>
                <a:avLst/>
                <a:gdLst/>
                <a:ahLst/>
                <a:rect l="l" t="t" r="r" b="b"/>
                <a:pathLst>
                  <a:path w="2109" h="742">
                    <a:moveTo>
                      <a:pt x="46" y="32"/>
                    </a:moveTo>
                    <a:lnTo>
                      <a:pt x="0" y="32"/>
                    </a:lnTo>
                    <a:lnTo>
                      <a:pt x="0" y="742"/>
                    </a:lnTo>
                    <a:lnTo>
                      <a:pt x="2109" y="742"/>
                    </a:lnTo>
                    <a:lnTo>
                      <a:pt x="2109" y="0"/>
                    </a:lnTo>
                    <a:lnTo>
                      <a:pt x="207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6054840" y="168588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2" y="138"/>
                    </a:lnTo>
                    <a:lnTo>
                      <a:pt x="36" y="172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6054840" y="168588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2" y="138"/>
                    </a:lnTo>
                    <a:lnTo>
                      <a:pt x="36" y="172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6278400" y="1943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6313320" y="194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6342120" y="1943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6381720" y="19432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236640" y="1994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2528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281280" y="1994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31008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338880" y="1994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35256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5538960" y="198432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H="1">
                <a:off x="5676840" y="1996920"/>
                <a:ext cx="1792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H="1">
                <a:off x="5411520" y="1996920"/>
                <a:ext cx="12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5715000" y="1376280"/>
                <a:ext cx="163440" cy="265320"/>
              </a:xfrm>
              <a:custGeom>
                <a:avLst/>
                <a:gdLst/>
                <a:ahLst/>
                <a:rect l="l" t="t" r="r" b="b"/>
                <a:pathLst>
                  <a:path w="103" h="167">
                    <a:moveTo>
                      <a:pt x="51" y="165"/>
                    </a:moveTo>
                    <a:lnTo>
                      <a:pt x="61" y="165"/>
                    </a:lnTo>
                    <a:lnTo>
                      <a:pt x="69" y="163"/>
                    </a:lnTo>
                    <a:lnTo>
                      <a:pt x="75" y="157"/>
                    </a:lnTo>
                    <a:lnTo>
                      <a:pt x="83" y="151"/>
                    </a:lnTo>
                    <a:lnTo>
                      <a:pt x="89" y="143"/>
                    </a:lnTo>
                    <a:lnTo>
                      <a:pt x="93" y="133"/>
                    </a:lnTo>
                    <a:lnTo>
                      <a:pt x="97" y="121"/>
                    </a:lnTo>
                    <a:lnTo>
                      <a:pt x="101" y="109"/>
                    </a:lnTo>
                    <a:lnTo>
                      <a:pt x="103" y="97"/>
                    </a:lnTo>
                    <a:lnTo>
                      <a:pt x="103" y="84"/>
                    </a:lnTo>
                    <a:lnTo>
                      <a:pt x="103" y="70"/>
                    </a:lnTo>
                    <a:lnTo>
                      <a:pt x="101" y="58"/>
                    </a:lnTo>
                    <a:lnTo>
                      <a:pt x="97" y="46"/>
                    </a:lnTo>
                    <a:lnTo>
                      <a:pt x="93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5" y="10"/>
                    </a:lnTo>
                    <a:lnTo>
                      <a:pt x="69" y="6"/>
                    </a:lnTo>
                    <a:lnTo>
                      <a:pt x="61" y="2"/>
                    </a:lnTo>
                    <a:lnTo>
                      <a:pt x="51" y="0"/>
                    </a:lnTo>
                    <a:lnTo>
                      <a:pt x="43" y="2"/>
                    </a:lnTo>
                    <a:lnTo>
                      <a:pt x="35" y="6"/>
                    </a:lnTo>
                    <a:lnTo>
                      <a:pt x="28" y="10"/>
                    </a:lnTo>
                    <a:lnTo>
                      <a:pt x="20" y="16"/>
                    </a:lnTo>
                    <a:lnTo>
                      <a:pt x="14" y="24"/>
                    </a:lnTo>
                    <a:lnTo>
                      <a:pt x="10" y="34"/>
                    </a:lnTo>
                    <a:lnTo>
                      <a:pt x="6" y="46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0" y="97"/>
                    </a:lnTo>
                    <a:lnTo>
                      <a:pt x="2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4" y="143"/>
                    </a:lnTo>
                    <a:lnTo>
                      <a:pt x="20" y="151"/>
                    </a:lnTo>
                    <a:lnTo>
                      <a:pt x="28" y="157"/>
                    </a:lnTo>
                    <a:lnTo>
                      <a:pt x="35" y="163"/>
                    </a:lnTo>
                    <a:lnTo>
                      <a:pt x="43" y="165"/>
                    </a:lnTo>
                    <a:lnTo>
                      <a:pt x="51" y="167"/>
                    </a:lnTo>
                    <a:lnTo>
                      <a:pt x="51" y="167"/>
                    </a:lnTo>
                    <a:lnTo>
                      <a:pt x="51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715000" y="1376280"/>
                <a:ext cx="163440" cy="265320"/>
              </a:xfrm>
              <a:custGeom>
                <a:avLst/>
                <a:gdLst/>
                <a:ahLst/>
                <a:rect l="l" t="t" r="r" b="b"/>
                <a:pathLst>
                  <a:path w="103" h="167">
                    <a:moveTo>
                      <a:pt x="51" y="165"/>
                    </a:moveTo>
                    <a:lnTo>
                      <a:pt x="61" y="165"/>
                    </a:lnTo>
                    <a:lnTo>
                      <a:pt x="69" y="163"/>
                    </a:lnTo>
                    <a:lnTo>
                      <a:pt x="75" y="157"/>
                    </a:lnTo>
                    <a:lnTo>
                      <a:pt x="83" y="151"/>
                    </a:lnTo>
                    <a:lnTo>
                      <a:pt x="89" y="143"/>
                    </a:lnTo>
                    <a:lnTo>
                      <a:pt x="93" y="133"/>
                    </a:lnTo>
                    <a:lnTo>
                      <a:pt x="97" y="121"/>
                    </a:lnTo>
                    <a:lnTo>
                      <a:pt x="101" y="109"/>
                    </a:lnTo>
                    <a:lnTo>
                      <a:pt x="103" y="97"/>
                    </a:lnTo>
                    <a:lnTo>
                      <a:pt x="103" y="84"/>
                    </a:lnTo>
                    <a:lnTo>
                      <a:pt x="103" y="70"/>
                    </a:lnTo>
                    <a:lnTo>
                      <a:pt x="101" y="58"/>
                    </a:lnTo>
                    <a:lnTo>
                      <a:pt x="97" y="46"/>
                    </a:lnTo>
                    <a:lnTo>
                      <a:pt x="93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5" y="10"/>
                    </a:lnTo>
                    <a:lnTo>
                      <a:pt x="69" y="6"/>
                    </a:lnTo>
                    <a:lnTo>
                      <a:pt x="61" y="2"/>
                    </a:lnTo>
                    <a:lnTo>
                      <a:pt x="51" y="0"/>
                    </a:lnTo>
                    <a:lnTo>
                      <a:pt x="43" y="2"/>
                    </a:lnTo>
                    <a:lnTo>
                      <a:pt x="35" y="6"/>
                    </a:lnTo>
                    <a:lnTo>
                      <a:pt x="28" y="10"/>
                    </a:lnTo>
                    <a:lnTo>
                      <a:pt x="20" y="16"/>
                    </a:lnTo>
                    <a:lnTo>
                      <a:pt x="14" y="24"/>
                    </a:lnTo>
                    <a:lnTo>
                      <a:pt x="10" y="34"/>
                    </a:lnTo>
                    <a:lnTo>
                      <a:pt x="6" y="46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0" y="97"/>
                    </a:lnTo>
                    <a:lnTo>
                      <a:pt x="2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4" y="143"/>
                    </a:lnTo>
                    <a:lnTo>
                      <a:pt x="20" y="151"/>
                    </a:lnTo>
                    <a:lnTo>
                      <a:pt x="28" y="157"/>
                    </a:lnTo>
                    <a:lnTo>
                      <a:pt x="35" y="163"/>
                    </a:lnTo>
                    <a:lnTo>
                      <a:pt x="43" y="165"/>
                    </a:lnTo>
                    <a:lnTo>
                      <a:pt x="51" y="167"/>
                    </a:lnTo>
                    <a:lnTo>
                      <a:pt x="51" y="167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951520" y="25671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721480" y="1984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740560" y="1446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76560" y="144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5805360" y="1446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5817600" y="144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830200" y="144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5846760" y="1446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5730840" y="1514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743080" y="1514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5772960" y="1514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89160" y="1514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801760" y="1514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5817960" y="1514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781680" y="20131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rot="16200000">
                <a:off x="5010840" y="15264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rot="16200000">
                <a:off x="5016960" y="149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rot="16200000">
                <a:off x="5016960" y="146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rot="16200000">
                <a:off x="5002560" y="1418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rot="16200000">
                <a:off x="5025240" y="1390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rot="16200000">
                <a:off x="5029920" y="13784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rot="16200000">
                <a:off x="5027760" y="1364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rot="16200000">
                <a:off x="5016960" y="133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7260480" y="2544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305480" y="25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335360" y="2544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380360" y="2544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7418160" y="25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7446600" y="25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478280" y="25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145120" y="560520"/>
                <a:ext cx="217440" cy="466560"/>
              </a:xfrm>
              <a:custGeom>
                <a:avLst/>
                <a:gdLst/>
                <a:ahLst/>
                <a:rect l="l" t="t" r="r" b="b"/>
                <a:pathLst>
                  <a:path w="137" h="294">
                    <a:moveTo>
                      <a:pt x="69" y="294"/>
                    </a:moveTo>
                    <a:lnTo>
                      <a:pt x="81" y="292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3"/>
                    </a:lnTo>
                    <a:lnTo>
                      <a:pt x="131" y="215"/>
                    </a:lnTo>
                    <a:lnTo>
                      <a:pt x="135" y="193"/>
                    </a:lnTo>
                    <a:lnTo>
                      <a:pt x="137" y="171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0"/>
                    </a:lnTo>
                    <a:lnTo>
                      <a:pt x="131" y="80"/>
                    </a:lnTo>
                    <a:lnTo>
                      <a:pt x="125" y="60"/>
                    </a:lnTo>
                    <a:lnTo>
                      <a:pt x="117" y="42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7" y="2"/>
                    </a:lnTo>
                    <a:lnTo>
                      <a:pt x="47" y="8"/>
                    </a:lnTo>
                    <a:lnTo>
                      <a:pt x="37" y="16"/>
                    </a:lnTo>
                    <a:lnTo>
                      <a:pt x="29" y="28"/>
                    </a:lnTo>
                    <a:lnTo>
                      <a:pt x="20" y="42"/>
                    </a:lnTo>
                    <a:lnTo>
                      <a:pt x="12" y="60"/>
                    </a:lnTo>
                    <a:lnTo>
                      <a:pt x="8" y="80"/>
                    </a:lnTo>
                    <a:lnTo>
                      <a:pt x="2" y="100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1"/>
                    </a:lnTo>
                    <a:lnTo>
                      <a:pt x="2" y="193"/>
                    </a:lnTo>
                    <a:lnTo>
                      <a:pt x="8" y="215"/>
                    </a:lnTo>
                    <a:lnTo>
                      <a:pt x="12" y="233"/>
                    </a:lnTo>
                    <a:lnTo>
                      <a:pt x="20" y="252"/>
                    </a:lnTo>
                    <a:lnTo>
                      <a:pt x="29" y="266"/>
                    </a:lnTo>
                    <a:lnTo>
                      <a:pt x="37" y="278"/>
                    </a:lnTo>
                    <a:lnTo>
                      <a:pt x="47" y="286"/>
                    </a:lnTo>
                    <a:lnTo>
                      <a:pt x="57" y="292"/>
                    </a:lnTo>
                    <a:lnTo>
                      <a:pt x="69" y="294"/>
                    </a:lnTo>
                    <a:lnTo>
                      <a:pt x="69" y="294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145120" y="560520"/>
                <a:ext cx="217440" cy="466560"/>
              </a:xfrm>
              <a:custGeom>
                <a:avLst/>
                <a:gdLst/>
                <a:ahLst/>
                <a:rect l="l" t="t" r="r" b="b"/>
                <a:pathLst>
                  <a:path w="137" h="294">
                    <a:moveTo>
                      <a:pt x="69" y="294"/>
                    </a:moveTo>
                    <a:lnTo>
                      <a:pt x="81" y="292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3"/>
                    </a:lnTo>
                    <a:lnTo>
                      <a:pt x="131" y="215"/>
                    </a:lnTo>
                    <a:lnTo>
                      <a:pt x="135" y="193"/>
                    </a:lnTo>
                    <a:lnTo>
                      <a:pt x="137" y="171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0"/>
                    </a:lnTo>
                    <a:lnTo>
                      <a:pt x="131" y="80"/>
                    </a:lnTo>
                    <a:lnTo>
                      <a:pt x="125" y="60"/>
                    </a:lnTo>
                    <a:lnTo>
                      <a:pt x="117" y="42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7" y="2"/>
                    </a:lnTo>
                    <a:lnTo>
                      <a:pt x="47" y="8"/>
                    </a:lnTo>
                    <a:lnTo>
                      <a:pt x="37" y="16"/>
                    </a:lnTo>
                    <a:lnTo>
                      <a:pt x="29" y="28"/>
                    </a:lnTo>
                    <a:lnTo>
                      <a:pt x="20" y="42"/>
                    </a:lnTo>
                    <a:lnTo>
                      <a:pt x="12" y="60"/>
                    </a:lnTo>
                    <a:lnTo>
                      <a:pt x="8" y="80"/>
                    </a:lnTo>
                    <a:lnTo>
                      <a:pt x="2" y="100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1"/>
                    </a:lnTo>
                    <a:lnTo>
                      <a:pt x="2" y="193"/>
                    </a:lnTo>
                    <a:lnTo>
                      <a:pt x="8" y="215"/>
                    </a:lnTo>
                    <a:lnTo>
                      <a:pt x="12" y="233"/>
                    </a:lnTo>
                    <a:lnTo>
                      <a:pt x="20" y="252"/>
                    </a:lnTo>
                    <a:lnTo>
                      <a:pt x="29" y="266"/>
                    </a:lnTo>
                    <a:lnTo>
                      <a:pt x="37" y="278"/>
                    </a:lnTo>
                    <a:lnTo>
                      <a:pt x="47" y="286"/>
                    </a:lnTo>
                    <a:lnTo>
                      <a:pt x="57" y="292"/>
                    </a:lnTo>
                    <a:lnTo>
                      <a:pt x="69" y="294"/>
                    </a:lnTo>
                    <a:lnTo>
                      <a:pt x="69" y="29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167440" y="762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20668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23512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263560" y="762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279400" y="762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29560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327640" y="762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6124680" y="1927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16068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189840" y="1927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4750920" y="2944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4766760" y="294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4795560" y="2944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4822200" y="2944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4838040" y="2944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4854240" y="294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4885920" y="2944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4911120" y="2944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4927680" y="29448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4936680" y="294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4965480" y="294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4998960" y="29448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4750920" y="3000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76676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479556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482580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486684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489564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4923720" y="3000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4578480" y="281952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796000" y="1638360"/>
                <a:ext cx="1440" cy="5983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H="1">
                <a:off x="5878440" y="1506600"/>
                <a:ext cx="540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H="1">
                <a:off x="5676480" y="3073320"/>
                <a:ext cx="1414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flipH="1">
                <a:off x="5676480" y="2832120"/>
                <a:ext cx="141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4335480" y="1943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4284720" y="1955880"/>
                <a:ext cx="57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538960" y="17827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H="1">
                <a:off x="5411520" y="1795320"/>
                <a:ext cx="129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538960" y="28195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4591080" y="2832120"/>
                <a:ext cx="957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538960" y="30607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59440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62932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600160" y="762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584320" y="582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635800" y="582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5538960" y="9604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5538960" y="777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538960" y="5983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599160" y="89208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599160" y="7095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7670520" y="941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71984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538960" y="11746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599160" y="29383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935680" y="2951280"/>
                <a:ext cx="6699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599160" y="20131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H="1">
                <a:off x="6737040" y="2025720"/>
                <a:ext cx="572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6599160" y="23115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H="1">
                <a:off x="6737040" y="2324160"/>
                <a:ext cx="1746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737320" y="1996920"/>
                <a:ext cx="865080" cy="330480"/>
              </a:xfrm>
              <a:custGeom>
                <a:avLst/>
                <a:gdLst/>
                <a:ahLst/>
                <a:rect l="l" t="t" r="r" b="b"/>
                <a:pathLst>
                  <a:path w="545" h="208">
                    <a:moveTo>
                      <a:pt x="545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626240" y="8920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626240" y="20098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H="1">
                <a:off x="7764480" y="2025720"/>
                <a:ext cx="1173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>
                <a:off x="7537320" y="2025720"/>
                <a:ext cx="921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626240" y="24876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764480" y="2262240"/>
                <a:ext cx="117360" cy="237960"/>
              </a:xfrm>
              <a:custGeom>
                <a:avLst/>
                <a:gdLst/>
                <a:ahLst/>
                <a:rect l="l" t="t" r="r" b="b"/>
                <a:pathLst>
                  <a:path w="74" h="150">
                    <a:moveTo>
                      <a:pt x="74" y="0"/>
                    </a:moveTo>
                    <a:lnTo>
                      <a:pt x="36" y="2"/>
                    </a:lnTo>
                    <a:lnTo>
                      <a:pt x="36" y="150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797520" y="2025720"/>
                <a:ext cx="831960" cy="474480"/>
              </a:xfrm>
              <a:custGeom>
                <a:avLst/>
                <a:gdLst/>
                <a:ahLst/>
                <a:rect l="l" t="t" r="r" b="b"/>
                <a:pathLst>
                  <a:path w="524" h="299">
                    <a:moveTo>
                      <a:pt x="524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3" name=""/>
            <p:cNvGrpSpPr/>
            <p:nvPr/>
          </p:nvGrpSpPr>
          <p:grpSpPr>
            <a:xfrm>
              <a:off x="3365640" y="88920"/>
              <a:ext cx="4988160" cy="3313080"/>
              <a:chOff x="3365640" y="88920"/>
              <a:chExt cx="4988160" cy="3313080"/>
            </a:xfrm>
          </p:grpSpPr>
          <p:sp>
            <p:nvSpPr>
              <p:cNvPr id="3024" name=""/>
              <p:cNvSpPr/>
              <p:nvPr/>
            </p:nvSpPr>
            <p:spPr>
              <a:xfrm>
                <a:off x="7626240" y="29383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737400" y="2951280"/>
                <a:ext cx="89532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335480" y="11746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H="1">
                <a:off x="4473720" y="1187280"/>
                <a:ext cx="1071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H="1">
                <a:off x="4073400" y="1187280"/>
                <a:ext cx="268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903840" y="479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3903840" y="71928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794040" y="492120"/>
                <a:ext cx="362160" cy="695160"/>
              </a:xfrm>
              <a:custGeom>
                <a:avLst/>
                <a:gdLst/>
                <a:ahLst/>
                <a:rect l="l" t="t" r="r" b="b"/>
                <a:pathLst>
                  <a:path w="228" h="438">
                    <a:moveTo>
                      <a:pt x="77" y="0"/>
                    </a:moveTo>
                    <a:lnTo>
                      <a:pt x="0" y="2"/>
                    </a:lnTo>
                    <a:lnTo>
                      <a:pt x="0" y="248"/>
                    </a:lnTo>
                    <a:lnTo>
                      <a:pt x="228" y="248"/>
                    </a:lnTo>
                    <a:lnTo>
                      <a:pt x="228" y="4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365640" y="406440"/>
                <a:ext cx="730080" cy="1351080"/>
              </a:xfrm>
              <a:custGeom>
                <a:avLst/>
                <a:gdLst/>
                <a:ahLst/>
                <a:rect l="l" t="t" r="r" b="b"/>
                <a:pathLst>
                  <a:path w="460" h="851">
                    <a:moveTo>
                      <a:pt x="38" y="851"/>
                    </a:moveTo>
                    <a:lnTo>
                      <a:pt x="0" y="851"/>
                    </a:lnTo>
                    <a:lnTo>
                      <a:pt x="0" y="0"/>
                    </a:lnTo>
                    <a:lnTo>
                      <a:pt x="460" y="0"/>
                    </a:lnTo>
                    <a:lnTo>
                      <a:pt x="460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3855960" y="325440"/>
                <a:ext cx="3206880" cy="1022400"/>
              </a:xfrm>
              <a:custGeom>
                <a:avLst/>
                <a:gdLst/>
                <a:ahLst/>
                <a:rect l="l" t="t" r="r" b="b"/>
                <a:pathLst>
                  <a:path w="2020" h="644">
                    <a:moveTo>
                      <a:pt x="1813" y="644"/>
                    </a:moveTo>
                    <a:lnTo>
                      <a:pt x="2020" y="644"/>
                    </a:lnTo>
                    <a:lnTo>
                      <a:pt x="2020" y="0"/>
                    </a:lnTo>
                    <a:lnTo>
                      <a:pt x="227" y="0"/>
                    </a:lnTo>
                    <a:lnTo>
                      <a:pt x="227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40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143240" y="117468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6" y="16"/>
                    </a:moveTo>
                    <a:lnTo>
                      <a:pt x="8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533840" y="2035080"/>
                <a:ext cx="3287880" cy="1230480"/>
              </a:xfrm>
              <a:custGeom>
                <a:avLst/>
                <a:gdLst/>
                <a:ahLst/>
                <a:rect l="l" t="t" r="r" b="b"/>
                <a:pathLst>
                  <a:path w="2071" h="775">
                    <a:moveTo>
                      <a:pt x="2033" y="577"/>
                    </a:moveTo>
                    <a:lnTo>
                      <a:pt x="2071" y="579"/>
                    </a:lnTo>
                    <a:lnTo>
                      <a:pt x="2071" y="775"/>
                    </a:lnTo>
                    <a:lnTo>
                      <a:pt x="0" y="775"/>
                    </a:lnTo>
                    <a:lnTo>
                      <a:pt x="0" y="0"/>
                    </a:lnTo>
                    <a:lnTo>
                      <a:pt x="16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419720" y="88920"/>
                <a:ext cx="1440" cy="97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419720" y="312408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rot="16200000">
                <a:off x="4535640" y="1870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rot="16200000">
                <a:off x="4524840" y="184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rot="16200000">
                <a:off x="4527000" y="1816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rot="16200000">
                <a:off x="4535640" y="1796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rot="16200000">
                <a:off x="4533120" y="1780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rot="16200000">
                <a:off x="4524840" y="1753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rot="16200000">
                <a:off x="4527000" y="1727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rot="16200000">
                <a:off x="4535640" y="1710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rot="16200000">
                <a:off x="4537800" y="1695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rot="16200000">
                <a:off x="4524840" y="1670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rot="16200000">
                <a:off x="4524840" y="1641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361040" y="434880"/>
                <a:ext cx="118800" cy="5724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3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436032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372920" y="4348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4078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4222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43880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622840" y="88920"/>
                <a:ext cx="1800" cy="43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5622840" y="3124080"/>
                <a:ext cx="180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56416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681960" y="88920"/>
                <a:ext cx="1440" cy="61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 flipV="1">
                <a:off x="6681960" y="312408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62472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58008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6150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664956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66654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7104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67464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710480" y="88920"/>
                <a:ext cx="1440" cy="79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V="1">
                <a:off x="7710480" y="312408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55408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56740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60628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62284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65776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44445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4470480" y="100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4536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45619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4590720" y="100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46368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46875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47412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4766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481932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48700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49204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49460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49716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0274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0778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103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12892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51796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64840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71176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7729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7985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824440" y="100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846760" y="100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9130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9385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90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604152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60922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1207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61462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1732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1984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2240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2492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706440" y="100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678492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6847920" y="100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9256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9512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9768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0308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0812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106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15896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1910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24212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295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34832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735680" y="1000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82172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884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911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9372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9880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80416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8067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811944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81514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820260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8256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830880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65180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59708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64208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67664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72272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7735680" y="434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77868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33901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3415680" y="1000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3474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34999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5254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3576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3630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36824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37080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3758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380952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8649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8905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9160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39668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40172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0442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0701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41241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538272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541476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544320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38272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541476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538272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41476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44320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47164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57020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573048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575928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57020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573048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570204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573048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5702040" y="8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5702040" y="9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7622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7910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76224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762240" y="8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6762240" y="9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789680" y="863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789680" y="94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5570640" y="1062000"/>
                <a:ext cx="10620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  <a:lnTo>
                      <a:pt x="67" y="129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5570640" y="1062000"/>
                <a:ext cx="10620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3935520" y="444600"/>
                <a:ext cx="100080" cy="33948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3" y="26"/>
                    </a:lnTo>
                    <a:lnTo>
                      <a:pt x="63" y="32"/>
                    </a:lnTo>
                    <a:lnTo>
                      <a:pt x="63" y="183"/>
                    </a:lnTo>
                    <a:lnTo>
                      <a:pt x="63" y="187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6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2" y="214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3935520" y="444600"/>
                <a:ext cx="100080" cy="33948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3" y="26"/>
                    </a:lnTo>
                    <a:lnTo>
                      <a:pt x="63" y="32"/>
                    </a:lnTo>
                    <a:lnTo>
                      <a:pt x="63" y="183"/>
                    </a:lnTo>
                    <a:lnTo>
                      <a:pt x="63" y="187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6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2" y="214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3960360" y="531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4005360" y="53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970080" y="58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998880" y="585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970080" y="636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3954240" y="463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3954240" y="70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3967200" y="1158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001760" y="115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4032000" y="115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3462480" y="1725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3497400" y="1725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7921440" y="223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957720" y="22701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008120" y="2270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027920" y="2270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036920" y="2270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052760" y="227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081920" y="22701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6957720" y="23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6989400" y="23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017840" y="2320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030800" y="23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392960" y="1968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43076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45920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748800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521480" y="1968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40844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743724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7465320" y="2022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48152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4" name=""/>
            <p:cNvGrpSpPr/>
            <p:nvPr/>
          </p:nvGrpSpPr>
          <p:grpSpPr>
            <a:xfrm>
              <a:off x="3416400" y="1062000"/>
              <a:ext cx="4645080" cy="5629320"/>
              <a:chOff x="3416400" y="1062000"/>
              <a:chExt cx="4645080" cy="5629320"/>
            </a:xfrm>
          </p:grpSpPr>
          <p:sp>
            <p:nvSpPr>
              <p:cNvPr id="3225" name=""/>
              <p:cNvSpPr/>
              <p:nvPr/>
            </p:nvSpPr>
            <p:spPr>
              <a:xfrm>
                <a:off x="7927560" y="2062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972560" y="2062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937280" y="211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966080" y="2116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937280" y="2166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9214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655040" y="1062000"/>
                <a:ext cx="10944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7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  <a:lnTo>
                      <a:pt x="67" y="1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655040" y="1062000"/>
                <a:ext cx="10944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7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5622840" y="38926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0" y="111"/>
                    </a:moveTo>
                    <a:lnTo>
                      <a:pt x="34" y="113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5622840" y="38926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0" y="111"/>
                    </a:moveTo>
                    <a:lnTo>
                      <a:pt x="34" y="113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5570640" y="3889440"/>
                <a:ext cx="52200" cy="182520"/>
              </a:xfrm>
              <a:custGeom>
                <a:avLst/>
                <a:gdLst/>
                <a:ahLst/>
                <a:rect l="l" t="t" r="r" b="b"/>
                <a:pathLst>
                  <a:path w="33" h="115">
                    <a:moveTo>
                      <a:pt x="33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3" y="11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5570640" y="3889440"/>
                <a:ext cx="52200" cy="182520"/>
              </a:xfrm>
              <a:custGeom>
                <a:avLst/>
                <a:gdLst/>
                <a:ahLst/>
                <a:rect l="l" t="t" r="r" b="b"/>
                <a:pathLst>
                  <a:path w="33" h="115">
                    <a:moveTo>
                      <a:pt x="33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3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5584320" y="39495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5635800" y="39495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5622840" y="4071960"/>
                <a:ext cx="5400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5622840" y="4071960"/>
                <a:ext cx="5400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5570640" y="4068720"/>
                <a:ext cx="52200" cy="182520"/>
              </a:xfrm>
              <a:custGeom>
                <a:avLst/>
                <a:gdLst/>
                <a:ahLst/>
                <a:rect l="l" t="t" r="r" b="b"/>
                <a:pathLst>
                  <a:path w="33" h="115">
                    <a:moveTo>
                      <a:pt x="33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3" y="11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5570640" y="4068720"/>
                <a:ext cx="52200" cy="182520"/>
              </a:xfrm>
              <a:custGeom>
                <a:avLst/>
                <a:gdLst/>
                <a:ahLst/>
                <a:rect l="l" t="t" r="r" b="b"/>
                <a:pathLst>
                  <a:path w="33" h="115">
                    <a:moveTo>
                      <a:pt x="33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3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5622840" y="4251240"/>
                <a:ext cx="5400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5622840" y="4251240"/>
                <a:ext cx="5400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5570640" y="4251240"/>
                <a:ext cx="5220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5570640" y="4251240"/>
                <a:ext cx="5220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5594400" y="4311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5629320" y="4311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5600160" y="41292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7764480" y="4383000"/>
                <a:ext cx="189000" cy="960480"/>
              </a:xfrm>
              <a:custGeom>
                <a:avLst/>
                <a:gdLst/>
                <a:ahLst/>
                <a:rect l="l" t="t" r="r" b="b"/>
                <a:pathLst>
                  <a:path w="119" h="605">
                    <a:moveTo>
                      <a:pt x="117" y="605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6630840" y="4251240"/>
                <a:ext cx="10656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5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lnTo>
                      <a:pt x="65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6630840" y="4251240"/>
                <a:ext cx="10656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5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6630840" y="4071960"/>
                <a:ext cx="10656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5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lnTo>
                      <a:pt x="65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6630840" y="4071960"/>
                <a:ext cx="10656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5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3983040" y="3633840"/>
                <a:ext cx="3160800" cy="1314360"/>
              </a:xfrm>
              <a:custGeom>
                <a:avLst/>
                <a:gdLst/>
                <a:ahLst/>
                <a:rect l="l" t="t" r="r" b="b"/>
                <a:pathLst>
                  <a:path w="1991" h="828">
                    <a:moveTo>
                      <a:pt x="0" y="113"/>
                    </a:moveTo>
                    <a:lnTo>
                      <a:pt x="2" y="0"/>
                    </a:lnTo>
                    <a:lnTo>
                      <a:pt x="1991" y="0"/>
                    </a:lnTo>
                    <a:lnTo>
                      <a:pt x="1991" y="828"/>
                    </a:lnTo>
                    <a:lnTo>
                      <a:pt x="1940" y="82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6737400" y="4991040"/>
                <a:ext cx="158760" cy="265320"/>
              </a:xfrm>
              <a:custGeom>
                <a:avLst/>
                <a:gdLst/>
                <a:ahLst/>
                <a:rect l="l" t="t" r="r" b="b"/>
                <a:pathLst>
                  <a:path w="100" h="167">
                    <a:moveTo>
                      <a:pt x="0" y="167"/>
                    </a:moveTo>
                    <a:lnTo>
                      <a:pt x="50" y="167"/>
                    </a:lnTo>
                    <a:lnTo>
                      <a:pt x="50" y="0"/>
                    </a:lnTo>
                    <a:lnTo>
                      <a:pt x="10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6737400" y="4340160"/>
                <a:ext cx="838080" cy="1649520"/>
              </a:xfrm>
              <a:custGeom>
                <a:avLst/>
                <a:gdLst/>
                <a:ahLst/>
                <a:rect l="l" t="t" r="r" b="b"/>
                <a:pathLst>
                  <a:path w="528" h="1039">
                    <a:moveTo>
                      <a:pt x="314" y="924"/>
                    </a:moveTo>
                    <a:lnTo>
                      <a:pt x="314" y="1039"/>
                    </a:lnTo>
                    <a:lnTo>
                      <a:pt x="528" y="1039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6737400" y="4160880"/>
                <a:ext cx="895320" cy="112680"/>
              </a:xfrm>
              <a:custGeom>
                <a:avLst/>
                <a:gdLst/>
                <a:ahLst/>
                <a:rect l="l" t="t" r="r" b="b"/>
                <a:pathLst>
                  <a:path w="564" h="71">
                    <a:moveTo>
                      <a:pt x="564" y="71"/>
                    </a:moveTo>
                    <a:lnTo>
                      <a:pt x="528" y="71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6183360" y="5489640"/>
                <a:ext cx="79200" cy="461880"/>
              </a:xfrm>
              <a:custGeom>
                <a:avLst/>
                <a:gdLst/>
                <a:ahLst/>
                <a:rect l="l" t="t" r="r" b="b"/>
                <a:pathLst>
                  <a:path w="50" h="291">
                    <a:moveTo>
                      <a:pt x="50" y="0"/>
                    </a:moveTo>
                    <a:lnTo>
                      <a:pt x="50" y="291"/>
                    </a:lnTo>
                    <a:lnTo>
                      <a:pt x="0" y="291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068800" y="3754440"/>
                <a:ext cx="2774880" cy="1258920"/>
              </a:xfrm>
              <a:custGeom>
                <a:avLst/>
                <a:gdLst/>
                <a:ahLst/>
                <a:rect l="l" t="t" r="r" b="b"/>
                <a:pathLst>
                  <a:path w="1748" h="793">
                    <a:moveTo>
                      <a:pt x="1696" y="343"/>
                    </a:moveTo>
                    <a:lnTo>
                      <a:pt x="1748" y="345"/>
                    </a:lnTo>
                    <a:lnTo>
                      <a:pt x="1748" y="0"/>
                    </a:lnTo>
                    <a:lnTo>
                      <a:pt x="0" y="0"/>
                    </a:lnTo>
                    <a:lnTo>
                      <a:pt x="0" y="79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324400" y="4340160"/>
                <a:ext cx="223920" cy="18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362560" y="4160880"/>
                <a:ext cx="18576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324400" y="3978360"/>
                <a:ext cx="22392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896160" y="487836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71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9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9"/>
                    </a:lnTo>
                    <a:lnTo>
                      <a:pt x="105" y="51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9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896160" y="487836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71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9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9"/>
                    </a:lnTo>
                    <a:lnTo>
                      <a:pt x="105" y="51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9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805360" y="618804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805360" y="64278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4776840" y="539100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3444840" y="4984920"/>
                <a:ext cx="100080" cy="28080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63" y="1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3" y="177"/>
                    </a:lnTo>
                    <a:lnTo>
                      <a:pt x="63" y="177"/>
                    </a:lnTo>
                    <a:lnTo>
                      <a:pt x="63" y="17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3444840" y="4984920"/>
                <a:ext cx="100080" cy="28080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63" y="1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3" y="177"/>
                    </a:lnTo>
                    <a:lnTo>
                      <a:pt x="63" y="17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3686040" y="501012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3686040" y="501012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3986280" y="5013360"/>
                <a:ext cx="301680" cy="62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3986280" y="5013360"/>
                <a:ext cx="301680" cy="623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3855600" y="5262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3871440" y="526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3900240" y="5262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3925440" y="5262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3941280" y="5262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3957480" y="526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3989160" y="5262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4014360" y="5262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4032360" y="5262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4041360" y="526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073040" y="526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4102200" y="5262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3890520" y="5330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3935160" y="533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3963240" y="5330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4008240" y="533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4038120" y="5330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4057200" y="5330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3708360" y="50925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3742920" y="509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3774600" y="509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3803040" y="5092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3819240" y="509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3852360" y="5092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3877920" y="5092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6935760" y="518004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6935760" y="518004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7236000" y="5183280"/>
                <a:ext cx="301320" cy="62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7236000" y="5183280"/>
                <a:ext cx="301320" cy="623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4776840" y="507060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4776840" y="55515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3605040" y="4395960"/>
                <a:ext cx="273240" cy="728640"/>
              </a:xfrm>
              <a:custGeom>
                <a:avLst/>
                <a:gdLst/>
                <a:ahLst/>
                <a:rect l="l" t="t" r="r" b="b"/>
                <a:pathLst>
                  <a:path w="172" h="459">
                    <a:moveTo>
                      <a:pt x="172" y="0"/>
                    </a:moveTo>
                    <a:lnTo>
                      <a:pt x="0" y="2"/>
                    </a:lnTo>
                    <a:lnTo>
                      <a:pt x="0" y="45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H="1">
                <a:off x="3778200" y="4714920"/>
                <a:ext cx="1000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3897360" y="428616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6" y="171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3897360" y="428616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6" y="171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843520" y="535320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843520" y="5589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6026040" y="54705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 flipH="1">
                <a:off x="5978160" y="5483160"/>
                <a:ext cx="57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6026040" y="51516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6902280" y="537840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2" y="16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7869240" y="538164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0" y="16"/>
                    </a:lnTo>
                    <a:lnTo>
                      <a:pt x="19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869240" y="56181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6902280" y="567864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5985000" y="573732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0" y="268"/>
                    </a:moveTo>
                    <a:lnTo>
                      <a:pt x="72" y="266"/>
                    </a:lnTo>
                    <a:lnTo>
                      <a:pt x="82" y="262"/>
                    </a:lnTo>
                    <a:lnTo>
                      <a:pt x="90" y="254"/>
                    </a:lnTo>
                    <a:lnTo>
                      <a:pt x="98" y="242"/>
                    </a:lnTo>
                    <a:lnTo>
                      <a:pt x="107" y="229"/>
                    </a:lnTo>
                    <a:lnTo>
                      <a:pt x="113" y="213"/>
                    </a:lnTo>
                    <a:lnTo>
                      <a:pt x="119" y="195"/>
                    </a:lnTo>
                    <a:lnTo>
                      <a:pt x="121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1" y="92"/>
                    </a:lnTo>
                    <a:lnTo>
                      <a:pt x="119" y="72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98" y="26"/>
                    </a:lnTo>
                    <a:lnTo>
                      <a:pt x="90" y="16"/>
                    </a:lnTo>
                    <a:lnTo>
                      <a:pt x="82" y="8"/>
                    </a:lnTo>
                    <a:lnTo>
                      <a:pt x="72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2" y="16"/>
                    </a:lnTo>
                    <a:lnTo>
                      <a:pt x="24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2" y="92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5"/>
                    </a:lnTo>
                    <a:lnTo>
                      <a:pt x="12" y="213"/>
                    </a:lnTo>
                    <a:lnTo>
                      <a:pt x="18" y="229"/>
                    </a:lnTo>
                    <a:lnTo>
                      <a:pt x="24" y="242"/>
                    </a:lnTo>
                    <a:lnTo>
                      <a:pt x="32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  <a:lnTo>
                      <a:pt x="60" y="26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985000" y="573732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0" y="268"/>
                    </a:moveTo>
                    <a:lnTo>
                      <a:pt x="72" y="266"/>
                    </a:lnTo>
                    <a:lnTo>
                      <a:pt x="82" y="262"/>
                    </a:lnTo>
                    <a:lnTo>
                      <a:pt x="90" y="254"/>
                    </a:lnTo>
                    <a:lnTo>
                      <a:pt x="98" y="242"/>
                    </a:lnTo>
                    <a:lnTo>
                      <a:pt x="107" y="229"/>
                    </a:lnTo>
                    <a:lnTo>
                      <a:pt x="113" y="213"/>
                    </a:lnTo>
                    <a:lnTo>
                      <a:pt x="119" y="195"/>
                    </a:lnTo>
                    <a:lnTo>
                      <a:pt x="121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1" y="92"/>
                    </a:lnTo>
                    <a:lnTo>
                      <a:pt x="119" y="72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98" y="26"/>
                    </a:lnTo>
                    <a:lnTo>
                      <a:pt x="90" y="16"/>
                    </a:lnTo>
                    <a:lnTo>
                      <a:pt x="82" y="8"/>
                    </a:lnTo>
                    <a:lnTo>
                      <a:pt x="72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2" y="16"/>
                    </a:lnTo>
                    <a:lnTo>
                      <a:pt x="24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2" y="92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5"/>
                    </a:lnTo>
                    <a:lnTo>
                      <a:pt x="12" y="213"/>
                    </a:lnTo>
                    <a:lnTo>
                      <a:pt x="18" y="229"/>
                    </a:lnTo>
                    <a:lnTo>
                      <a:pt x="24" y="242"/>
                    </a:lnTo>
                    <a:lnTo>
                      <a:pt x="32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676840" y="5948280"/>
                <a:ext cx="285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 rot="16200000">
                <a:off x="7887240" y="5219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 rot="16200000">
                <a:off x="7898040" y="5185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 rot="16200000">
                <a:off x="7887240" y="5146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 rot="16200000">
                <a:off x="7908840" y="5123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 rot="16200000">
                <a:off x="7898040" y="509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 rot="16200000">
                <a:off x="7891920" y="50601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rot="16200000">
                <a:off x="7898040" y="502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 rot="16200000">
                <a:off x="7898040" y="499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6108840" y="6188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143400" y="618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173640" y="6188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211080" y="618804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6252840" y="618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6842160" y="47894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6876360" y="47894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6892560" y="47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6926040" y="47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6954480" y="47894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6980040" y="47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5913360" y="6496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5951160" y="6496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5981400" y="6496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6010200" y="6496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6048000" y="6496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6076440" y="6496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6176880" y="4940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6211440" y="4940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6240600" y="4940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6278400" y="4940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6312960" y="4940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6332040" y="4940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3592440" y="51116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868560" y="438300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868560" y="47023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723840" y="468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H="1">
                <a:off x="5676840" y="4554360"/>
                <a:ext cx="2556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5959440" y="4446720"/>
                <a:ext cx="331920" cy="53820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09" y="236"/>
                    </a:lnTo>
                    <a:lnTo>
                      <a:pt x="209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5959440" y="4446720"/>
                <a:ext cx="331920" cy="53820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09" y="236"/>
                    </a:lnTo>
                    <a:lnTo>
                      <a:pt x="209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 flipH="1">
                <a:off x="6291360" y="4714920"/>
                <a:ext cx="3204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599160" y="47023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3544920" y="5124600"/>
                <a:ext cx="122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3654360" y="510840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416400" y="510840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929200" y="454176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929200" y="48625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902720" y="5346720"/>
                <a:ext cx="98280" cy="334800"/>
              </a:xfrm>
              <a:custGeom>
                <a:avLst/>
                <a:gdLst/>
                <a:ahLst/>
                <a:rect l="l" t="t" r="r" b="b"/>
                <a:pathLst>
                  <a:path w="62" h="211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1"/>
                    </a:lnTo>
                    <a:lnTo>
                      <a:pt x="62" y="185"/>
                    </a:lnTo>
                    <a:lnTo>
                      <a:pt x="60" y="191"/>
                    </a:lnTo>
                    <a:lnTo>
                      <a:pt x="58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5"/>
                    </a:lnTo>
                    <a:lnTo>
                      <a:pt x="46" y="209"/>
                    </a:lnTo>
                    <a:lnTo>
                      <a:pt x="40" y="211"/>
                    </a:lnTo>
                    <a:lnTo>
                      <a:pt x="36" y="211"/>
                    </a:lnTo>
                    <a:lnTo>
                      <a:pt x="32" y="211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6" y="209"/>
                    </a:lnTo>
                    <a:lnTo>
                      <a:pt x="12" y="205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902720" y="5346720"/>
                <a:ext cx="98280" cy="334800"/>
              </a:xfrm>
              <a:custGeom>
                <a:avLst/>
                <a:gdLst/>
                <a:ahLst/>
                <a:rect l="l" t="t" r="r" b="b"/>
                <a:pathLst>
                  <a:path w="62" h="211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1"/>
                    </a:lnTo>
                    <a:lnTo>
                      <a:pt x="62" y="185"/>
                    </a:lnTo>
                    <a:lnTo>
                      <a:pt x="60" y="191"/>
                    </a:lnTo>
                    <a:lnTo>
                      <a:pt x="58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5"/>
                    </a:lnTo>
                    <a:lnTo>
                      <a:pt x="46" y="209"/>
                    </a:lnTo>
                    <a:lnTo>
                      <a:pt x="40" y="211"/>
                    </a:lnTo>
                    <a:lnTo>
                      <a:pt x="36" y="211"/>
                    </a:lnTo>
                    <a:lnTo>
                      <a:pt x="32" y="211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6" y="209"/>
                    </a:lnTo>
                    <a:lnTo>
                      <a:pt x="12" y="205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875200" y="531648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1"/>
                    </a:moveTo>
                    <a:lnTo>
                      <a:pt x="2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7"/>
                    </a:lnTo>
                    <a:lnTo>
                      <a:pt x="63" y="21"/>
                    </a:lnTo>
                    <a:lnTo>
                      <a:pt x="63" y="27"/>
                    </a:lnTo>
                    <a:lnTo>
                      <a:pt x="65" y="31"/>
                    </a:lnTo>
                    <a:lnTo>
                      <a:pt x="65" y="182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8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875200" y="531648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1"/>
                    </a:moveTo>
                    <a:lnTo>
                      <a:pt x="2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7"/>
                    </a:lnTo>
                    <a:lnTo>
                      <a:pt x="63" y="21"/>
                    </a:lnTo>
                    <a:lnTo>
                      <a:pt x="63" y="27"/>
                    </a:lnTo>
                    <a:lnTo>
                      <a:pt x="65" y="31"/>
                    </a:lnTo>
                    <a:lnTo>
                      <a:pt x="65" y="182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8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893920" y="533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5837400" y="6153120"/>
                <a:ext cx="98280" cy="33984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1"/>
                    </a:lnTo>
                    <a:lnTo>
                      <a:pt x="62" y="187"/>
                    </a:lnTo>
                    <a:lnTo>
                      <a:pt x="60" y="191"/>
                    </a:lnTo>
                    <a:lnTo>
                      <a:pt x="58" y="197"/>
                    </a:lnTo>
                    <a:lnTo>
                      <a:pt x="56" y="201"/>
                    </a:lnTo>
                    <a:lnTo>
                      <a:pt x="54" y="203"/>
                    </a:lnTo>
                    <a:lnTo>
                      <a:pt x="50" y="207"/>
                    </a:lnTo>
                    <a:lnTo>
                      <a:pt x="46" y="209"/>
                    </a:lnTo>
                    <a:lnTo>
                      <a:pt x="42" y="212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2"/>
                    </a:lnTo>
                    <a:lnTo>
                      <a:pt x="16" y="209"/>
                    </a:lnTo>
                    <a:lnTo>
                      <a:pt x="12" y="207"/>
                    </a:lnTo>
                    <a:lnTo>
                      <a:pt x="10" y="203"/>
                    </a:lnTo>
                    <a:lnTo>
                      <a:pt x="6" y="201"/>
                    </a:lnTo>
                    <a:lnTo>
                      <a:pt x="4" y="197"/>
                    </a:lnTo>
                    <a:lnTo>
                      <a:pt x="2" y="191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5837400" y="6153120"/>
                <a:ext cx="98280" cy="33984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1"/>
                    </a:lnTo>
                    <a:lnTo>
                      <a:pt x="62" y="187"/>
                    </a:lnTo>
                    <a:lnTo>
                      <a:pt x="60" y="191"/>
                    </a:lnTo>
                    <a:lnTo>
                      <a:pt x="58" y="197"/>
                    </a:lnTo>
                    <a:lnTo>
                      <a:pt x="56" y="201"/>
                    </a:lnTo>
                    <a:lnTo>
                      <a:pt x="54" y="203"/>
                    </a:lnTo>
                    <a:lnTo>
                      <a:pt x="50" y="207"/>
                    </a:lnTo>
                    <a:lnTo>
                      <a:pt x="46" y="209"/>
                    </a:lnTo>
                    <a:lnTo>
                      <a:pt x="42" y="212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2"/>
                    </a:lnTo>
                    <a:lnTo>
                      <a:pt x="16" y="209"/>
                    </a:lnTo>
                    <a:lnTo>
                      <a:pt x="12" y="207"/>
                    </a:lnTo>
                    <a:lnTo>
                      <a:pt x="10" y="203"/>
                    </a:lnTo>
                    <a:lnTo>
                      <a:pt x="6" y="201"/>
                    </a:lnTo>
                    <a:lnTo>
                      <a:pt x="4" y="197"/>
                    </a:lnTo>
                    <a:lnTo>
                      <a:pt x="2" y="191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5856120" y="61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5856120" y="6411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5113440" y="41450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6026040" y="4686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6060600" y="468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6092640" y="468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6183360" y="4660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217920" y="466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249600" y="466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6278400" y="4660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6136920" y="4711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6157440" y="4711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6186240" y="4711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6211440" y="4711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6243480" y="4711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6252480" y="4711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4776840" y="523080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4809960" y="501012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7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4809960" y="501012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7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5106960" y="5013360"/>
                <a:ext cx="304920" cy="623880"/>
              </a:xfrm>
              <a:custGeom>
                <a:avLst/>
                <a:gdLst/>
                <a:ahLst/>
                <a:rect l="l" t="t" r="r" b="b"/>
                <a:pathLst>
                  <a:path w="192" h="393">
                    <a:moveTo>
                      <a:pt x="0" y="393"/>
                    </a:moveTo>
                    <a:lnTo>
                      <a:pt x="192" y="393"/>
                    </a:lnTo>
                    <a:lnTo>
                      <a:pt x="192" y="0"/>
                    </a:lnTo>
                    <a:lnTo>
                      <a:pt x="2" y="0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5106960" y="5013360"/>
                <a:ext cx="304920" cy="623880"/>
              </a:xfrm>
              <a:custGeom>
                <a:avLst/>
                <a:gdLst/>
                <a:ahLst/>
                <a:rect l="l" t="t" r="r" b="b"/>
                <a:pathLst>
                  <a:path w="192" h="393">
                    <a:moveTo>
                      <a:pt x="0" y="393"/>
                    </a:moveTo>
                    <a:lnTo>
                      <a:pt x="192" y="393"/>
                    </a:lnTo>
                    <a:lnTo>
                      <a:pt x="192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831920" y="53499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4882680" y="5349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4898880" y="5349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4911120" y="5349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4927320" y="534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956120" y="5349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831920" y="5400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85100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87980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908600" y="5400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920840" y="5400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946040" y="5400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96224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4990680" y="5400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4831920" y="55101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4882680" y="5510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4898880" y="5510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4911120" y="5510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4927320" y="551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4956120" y="55101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4831920" y="556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4860720" y="556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4888800" y="5560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4905000" y="556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4713120" y="5511960"/>
                <a:ext cx="3348360" cy="1179360"/>
              </a:xfrm>
              <a:custGeom>
                <a:avLst/>
                <a:gdLst/>
                <a:ahLst/>
                <a:rect l="l" t="t" r="r" b="b"/>
                <a:pathLst>
                  <a:path w="2109" h="743">
                    <a:moveTo>
                      <a:pt x="46" y="33"/>
                    </a:moveTo>
                    <a:lnTo>
                      <a:pt x="0" y="35"/>
                    </a:lnTo>
                    <a:lnTo>
                      <a:pt x="0" y="743"/>
                    </a:lnTo>
                    <a:lnTo>
                      <a:pt x="2109" y="743"/>
                    </a:lnTo>
                    <a:lnTo>
                      <a:pt x="2109" y="0"/>
                    </a:lnTo>
                    <a:lnTo>
                      <a:pt x="207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 flipH="1">
                <a:off x="4593960" y="5083200"/>
                <a:ext cx="1918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 flipH="1">
                <a:off x="5799240" y="5605560"/>
                <a:ext cx="568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893920" y="557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6054840" y="5054760"/>
                <a:ext cx="336600" cy="541080"/>
              </a:xfrm>
              <a:custGeom>
                <a:avLst/>
                <a:gdLst/>
                <a:ahLst/>
                <a:rect l="l" t="t" r="r" b="b"/>
                <a:pathLst>
                  <a:path w="212" h="341">
                    <a:moveTo>
                      <a:pt x="0" y="0"/>
                    </a:moveTo>
                    <a:lnTo>
                      <a:pt x="2" y="139"/>
                    </a:lnTo>
                    <a:lnTo>
                      <a:pt x="36" y="171"/>
                    </a:lnTo>
                    <a:lnTo>
                      <a:pt x="2" y="204"/>
                    </a:lnTo>
                    <a:lnTo>
                      <a:pt x="2" y="341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6054840" y="5054760"/>
                <a:ext cx="336600" cy="541080"/>
              </a:xfrm>
              <a:custGeom>
                <a:avLst/>
                <a:gdLst/>
                <a:ahLst/>
                <a:rect l="l" t="t" r="r" b="b"/>
                <a:pathLst>
                  <a:path w="212" h="341">
                    <a:moveTo>
                      <a:pt x="0" y="0"/>
                    </a:moveTo>
                    <a:lnTo>
                      <a:pt x="2" y="139"/>
                    </a:lnTo>
                    <a:lnTo>
                      <a:pt x="36" y="171"/>
                    </a:lnTo>
                    <a:lnTo>
                      <a:pt x="2" y="204"/>
                    </a:lnTo>
                    <a:lnTo>
                      <a:pt x="2" y="341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5" name=""/>
            <p:cNvGrpSpPr/>
            <p:nvPr/>
          </p:nvGrpSpPr>
          <p:grpSpPr>
            <a:xfrm>
              <a:off x="3365640" y="3457440"/>
              <a:ext cx="4615200" cy="3312720"/>
              <a:chOff x="3365640" y="3457440"/>
              <a:chExt cx="4615200" cy="3312720"/>
            </a:xfrm>
          </p:grpSpPr>
          <p:sp>
            <p:nvSpPr>
              <p:cNvPr id="3426" name=""/>
              <p:cNvSpPr/>
              <p:nvPr/>
            </p:nvSpPr>
            <p:spPr>
              <a:xfrm>
                <a:off x="6278400" y="53118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6313320" y="531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342120" y="53118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6381720" y="53118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236640" y="5362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625284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281280" y="5362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631008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338880" y="53625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6352560" y="5362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 flipH="1">
                <a:off x="6797520" y="5394240"/>
                <a:ext cx="114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4591080" y="5243400"/>
                <a:ext cx="198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538960" y="535320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 flipH="1">
                <a:off x="5411520" y="5365800"/>
                <a:ext cx="12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715000" y="4746600"/>
                <a:ext cx="163440" cy="263520"/>
              </a:xfrm>
              <a:custGeom>
                <a:avLst/>
                <a:gdLst/>
                <a:ahLst/>
                <a:rect l="l" t="t" r="r" b="b"/>
                <a:pathLst>
                  <a:path w="103" h="166">
                    <a:moveTo>
                      <a:pt x="51" y="164"/>
                    </a:moveTo>
                    <a:lnTo>
                      <a:pt x="61" y="164"/>
                    </a:lnTo>
                    <a:lnTo>
                      <a:pt x="69" y="162"/>
                    </a:lnTo>
                    <a:lnTo>
                      <a:pt x="75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3" y="131"/>
                    </a:lnTo>
                    <a:lnTo>
                      <a:pt x="97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3" y="83"/>
                    </a:lnTo>
                    <a:lnTo>
                      <a:pt x="103" y="69"/>
                    </a:lnTo>
                    <a:lnTo>
                      <a:pt x="101" y="57"/>
                    </a:lnTo>
                    <a:lnTo>
                      <a:pt x="97" y="45"/>
                    </a:lnTo>
                    <a:lnTo>
                      <a:pt x="93" y="33"/>
                    </a:lnTo>
                    <a:lnTo>
                      <a:pt x="89" y="25"/>
                    </a:lnTo>
                    <a:lnTo>
                      <a:pt x="83" y="15"/>
                    </a:lnTo>
                    <a:lnTo>
                      <a:pt x="75" y="8"/>
                    </a:lnTo>
                    <a:lnTo>
                      <a:pt x="69" y="4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5" y="4"/>
                    </a:lnTo>
                    <a:lnTo>
                      <a:pt x="28" y="8"/>
                    </a:lnTo>
                    <a:lnTo>
                      <a:pt x="20" y="15"/>
                    </a:lnTo>
                    <a:lnTo>
                      <a:pt x="14" y="25"/>
                    </a:lnTo>
                    <a:lnTo>
                      <a:pt x="10" y="33"/>
                    </a:lnTo>
                    <a:lnTo>
                      <a:pt x="6" y="45"/>
                    </a:lnTo>
                    <a:lnTo>
                      <a:pt x="2" y="57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6" y="119"/>
                    </a:lnTo>
                    <a:lnTo>
                      <a:pt x="10" y="131"/>
                    </a:lnTo>
                    <a:lnTo>
                      <a:pt x="14" y="142"/>
                    </a:lnTo>
                    <a:lnTo>
                      <a:pt x="20" y="150"/>
                    </a:lnTo>
                    <a:lnTo>
                      <a:pt x="28" y="156"/>
                    </a:lnTo>
                    <a:lnTo>
                      <a:pt x="35" y="162"/>
                    </a:lnTo>
                    <a:lnTo>
                      <a:pt x="43" y="164"/>
                    </a:lnTo>
                    <a:lnTo>
                      <a:pt x="51" y="166"/>
                    </a:lnTo>
                    <a:lnTo>
                      <a:pt x="51" y="166"/>
                    </a:lnTo>
                    <a:lnTo>
                      <a:pt x="5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715000" y="4746600"/>
                <a:ext cx="163440" cy="263520"/>
              </a:xfrm>
              <a:custGeom>
                <a:avLst/>
                <a:gdLst/>
                <a:ahLst/>
                <a:rect l="l" t="t" r="r" b="b"/>
                <a:pathLst>
                  <a:path w="103" h="166">
                    <a:moveTo>
                      <a:pt x="51" y="164"/>
                    </a:moveTo>
                    <a:lnTo>
                      <a:pt x="61" y="164"/>
                    </a:lnTo>
                    <a:lnTo>
                      <a:pt x="69" y="162"/>
                    </a:lnTo>
                    <a:lnTo>
                      <a:pt x="75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3" y="131"/>
                    </a:lnTo>
                    <a:lnTo>
                      <a:pt x="97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3" y="83"/>
                    </a:lnTo>
                    <a:lnTo>
                      <a:pt x="103" y="69"/>
                    </a:lnTo>
                    <a:lnTo>
                      <a:pt x="101" y="57"/>
                    </a:lnTo>
                    <a:lnTo>
                      <a:pt x="97" y="45"/>
                    </a:lnTo>
                    <a:lnTo>
                      <a:pt x="93" y="33"/>
                    </a:lnTo>
                    <a:lnTo>
                      <a:pt x="89" y="25"/>
                    </a:lnTo>
                    <a:lnTo>
                      <a:pt x="83" y="15"/>
                    </a:lnTo>
                    <a:lnTo>
                      <a:pt x="75" y="8"/>
                    </a:lnTo>
                    <a:lnTo>
                      <a:pt x="69" y="4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5" y="4"/>
                    </a:lnTo>
                    <a:lnTo>
                      <a:pt x="28" y="8"/>
                    </a:lnTo>
                    <a:lnTo>
                      <a:pt x="20" y="15"/>
                    </a:lnTo>
                    <a:lnTo>
                      <a:pt x="14" y="25"/>
                    </a:lnTo>
                    <a:lnTo>
                      <a:pt x="10" y="33"/>
                    </a:lnTo>
                    <a:lnTo>
                      <a:pt x="6" y="45"/>
                    </a:lnTo>
                    <a:lnTo>
                      <a:pt x="2" y="57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6" y="119"/>
                    </a:lnTo>
                    <a:lnTo>
                      <a:pt x="10" y="131"/>
                    </a:lnTo>
                    <a:lnTo>
                      <a:pt x="14" y="142"/>
                    </a:lnTo>
                    <a:lnTo>
                      <a:pt x="20" y="150"/>
                    </a:lnTo>
                    <a:lnTo>
                      <a:pt x="28" y="156"/>
                    </a:lnTo>
                    <a:lnTo>
                      <a:pt x="35" y="162"/>
                    </a:lnTo>
                    <a:lnTo>
                      <a:pt x="43" y="164"/>
                    </a:lnTo>
                    <a:lnTo>
                      <a:pt x="51" y="166"/>
                    </a:lnTo>
                    <a:lnTo>
                      <a:pt x="51" y="16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032520" y="5891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067080" y="58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099120" y="5891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6137280" y="5891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997240" y="5954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6025680" y="5954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6054480" y="5954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6082560" y="5954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6098760" y="5954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114600" y="5954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143760" y="59547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951520" y="59356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578480" y="5310360"/>
                <a:ext cx="29880" cy="29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8" y="16"/>
                    </a:moveTo>
                    <a:lnTo>
                      <a:pt x="10" y="19"/>
                    </a:lnTo>
                    <a:lnTo>
                      <a:pt x="12" y="19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578480" y="507060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578480" y="523080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740560" y="4815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776560" y="481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805360" y="48150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817600" y="4815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830200" y="4815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846760" y="48150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730840" y="4881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5743080" y="4881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5772960" y="4881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789160" y="4881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801760" y="4881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5817960" y="4881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 rot="16200000">
                <a:off x="5010840" y="48949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 rot="16200000">
                <a:off x="5016960" y="4861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 rot="16200000">
                <a:off x="5016960" y="482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 rot="16200000">
                <a:off x="5002560" y="47869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 rot="16200000">
                <a:off x="5025240" y="4758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 rot="16200000">
                <a:off x="5029920" y="4747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 rot="16200000">
                <a:off x="5027760" y="4732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 rot="16200000">
                <a:off x="5016960" y="4709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145120" y="3927600"/>
                <a:ext cx="217440" cy="468360"/>
              </a:xfrm>
              <a:custGeom>
                <a:avLst/>
                <a:gdLst/>
                <a:ahLst/>
                <a:rect l="l" t="t" r="r" b="b"/>
                <a:pathLst>
                  <a:path w="137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31" y="216"/>
                    </a:lnTo>
                    <a:lnTo>
                      <a:pt x="135" y="194"/>
                    </a:lnTo>
                    <a:lnTo>
                      <a:pt x="137" y="172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31" y="81"/>
                    </a:lnTo>
                    <a:lnTo>
                      <a:pt x="125" y="61"/>
                    </a:lnTo>
                    <a:lnTo>
                      <a:pt x="117" y="44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7" y="2"/>
                    </a:lnTo>
                    <a:lnTo>
                      <a:pt x="47" y="8"/>
                    </a:lnTo>
                    <a:lnTo>
                      <a:pt x="37" y="16"/>
                    </a:lnTo>
                    <a:lnTo>
                      <a:pt x="29" y="28"/>
                    </a:lnTo>
                    <a:lnTo>
                      <a:pt x="20" y="44"/>
                    </a:lnTo>
                    <a:lnTo>
                      <a:pt x="12" y="61"/>
                    </a:lnTo>
                    <a:lnTo>
                      <a:pt x="8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2"/>
                    </a:lnTo>
                    <a:lnTo>
                      <a:pt x="2" y="194"/>
                    </a:lnTo>
                    <a:lnTo>
                      <a:pt x="8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9" y="266"/>
                    </a:lnTo>
                    <a:lnTo>
                      <a:pt x="37" y="278"/>
                    </a:lnTo>
                    <a:lnTo>
                      <a:pt x="47" y="287"/>
                    </a:lnTo>
                    <a:lnTo>
                      <a:pt x="57" y="293"/>
                    </a:lnTo>
                    <a:lnTo>
                      <a:pt x="69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145120" y="3927600"/>
                <a:ext cx="217440" cy="468360"/>
              </a:xfrm>
              <a:custGeom>
                <a:avLst/>
                <a:gdLst/>
                <a:ahLst/>
                <a:rect l="l" t="t" r="r" b="b"/>
                <a:pathLst>
                  <a:path w="137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31" y="216"/>
                    </a:lnTo>
                    <a:lnTo>
                      <a:pt x="135" y="194"/>
                    </a:lnTo>
                    <a:lnTo>
                      <a:pt x="137" y="172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31" y="81"/>
                    </a:lnTo>
                    <a:lnTo>
                      <a:pt x="125" y="61"/>
                    </a:lnTo>
                    <a:lnTo>
                      <a:pt x="117" y="44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7" y="2"/>
                    </a:lnTo>
                    <a:lnTo>
                      <a:pt x="47" y="8"/>
                    </a:lnTo>
                    <a:lnTo>
                      <a:pt x="37" y="16"/>
                    </a:lnTo>
                    <a:lnTo>
                      <a:pt x="29" y="28"/>
                    </a:lnTo>
                    <a:lnTo>
                      <a:pt x="20" y="44"/>
                    </a:lnTo>
                    <a:lnTo>
                      <a:pt x="12" y="61"/>
                    </a:lnTo>
                    <a:lnTo>
                      <a:pt x="8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2"/>
                    </a:lnTo>
                    <a:lnTo>
                      <a:pt x="2" y="194"/>
                    </a:lnTo>
                    <a:lnTo>
                      <a:pt x="8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9" y="266"/>
                    </a:lnTo>
                    <a:lnTo>
                      <a:pt x="37" y="278"/>
                    </a:lnTo>
                    <a:lnTo>
                      <a:pt x="47" y="287"/>
                    </a:lnTo>
                    <a:lnTo>
                      <a:pt x="57" y="293"/>
                    </a:lnTo>
                    <a:lnTo>
                      <a:pt x="69" y="295"/>
                    </a:lnTo>
                    <a:lnTo>
                      <a:pt x="69" y="29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796000" y="5006880"/>
                <a:ext cx="1440" cy="9446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 flipH="1">
                <a:off x="5878440" y="4875120"/>
                <a:ext cx="540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783400" y="55926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783400" y="59356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 flipH="1">
                <a:off x="5676480" y="6440400"/>
                <a:ext cx="1414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 flipH="1">
                <a:off x="5676480" y="6200640"/>
                <a:ext cx="1414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4473720" y="5322960"/>
                <a:ext cx="117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4335480" y="531036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4284720" y="5322960"/>
                <a:ext cx="57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538960" y="515160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 flipH="1">
                <a:off x="5676480" y="5164200"/>
                <a:ext cx="3589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 flipH="1">
                <a:off x="5411520" y="5164200"/>
                <a:ext cx="129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5538960" y="61880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5538960" y="642780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538960" y="43275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538960" y="41450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538960" y="39654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6658920" y="4311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6643440" y="41292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6694560" y="4129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6599160" y="42609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6599160" y="408132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538960" y="45417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6599160" y="630720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935680" y="6323040"/>
                <a:ext cx="66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6599160" y="53816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 flipH="1">
                <a:off x="6737040" y="5394240"/>
                <a:ext cx="57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 flipH="1">
                <a:off x="6391080" y="5394240"/>
                <a:ext cx="214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6599160" y="567864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 flipH="1">
                <a:off x="6737040" y="5691240"/>
                <a:ext cx="1746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5737320" y="5365800"/>
                <a:ext cx="865080" cy="328680"/>
              </a:xfrm>
              <a:custGeom>
                <a:avLst/>
                <a:gdLst/>
                <a:ahLst/>
                <a:rect l="l" t="t" r="r" b="b"/>
                <a:pathLst>
                  <a:path w="545" h="207">
                    <a:moveTo>
                      <a:pt x="545" y="205"/>
                    </a:moveTo>
                    <a:lnTo>
                      <a:pt x="0" y="20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7626240" y="42609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7626240" y="53816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 flipH="1">
                <a:off x="7764480" y="5394240"/>
                <a:ext cx="1173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7626240" y="58546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7764480" y="5630760"/>
                <a:ext cx="117360" cy="236520"/>
              </a:xfrm>
              <a:custGeom>
                <a:avLst/>
                <a:gdLst/>
                <a:ahLst/>
                <a:rect l="l" t="t" r="r" b="b"/>
                <a:pathLst>
                  <a:path w="74" h="149">
                    <a:moveTo>
                      <a:pt x="74" y="0"/>
                    </a:moveTo>
                    <a:lnTo>
                      <a:pt x="36" y="2"/>
                    </a:lnTo>
                    <a:lnTo>
                      <a:pt x="36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6797520" y="5394240"/>
                <a:ext cx="831960" cy="473040"/>
              </a:xfrm>
              <a:custGeom>
                <a:avLst/>
                <a:gdLst/>
                <a:ahLst/>
                <a:rect l="l" t="t" r="r" b="b"/>
                <a:pathLst>
                  <a:path w="524" h="298">
                    <a:moveTo>
                      <a:pt x="524" y="298"/>
                    </a:moveTo>
                    <a:lnTo>
                      <a:pt x="0" y="29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7626240" y="630720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6737400" y="6323040"/>
                <a:ext cx="895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4335480" y="45417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 flipH="1">
                <a:off x="4473720" y="4554360"/>
                <a:ext cx="1071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 flipH="1">
                <a:off x="4073400" y="4554360"/>
                <a:ext cx="268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3903840" y="38480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3903840" y="40878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3794040" y="3863880"/>
                <a:ext cx="362160" cy="693720"/>
              </a:xfrm>
              <a:custGeom>
                <a:avLst/>
                <a:gdLst/>
                <a:ahLst/>
                <a:rect l="l" t="t" r="r" b="b"/>
                <a:pathLst>
                  <a:path w="228" h="437">
                    <a:moveTo>
                      <a:pt x="77" y="0"/>
                    </a:moveTo>
                    <a:lnTo>
                      <a:pt x="0" y="0"/>
                    </a:lnTo>
                    <a:lnTo>
                      <a:pt x="0" y="246"/>
                    </a:lnTo>
                    <a:lnTo>
                      <a:pt x="228" y="246"/>
                    </a:lnTo>
                    <a:lnTo>
                      <a:pt x="228" y="43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3365640" y="3773520"/>
                <a:ext cx="730080" cy="1351080"/>
              </a:xfrm>
              <a:custGeom>
                <a:avLst/>
                <a:gdLst/>
                <a:ahLst/>
                <a:rect l="l" t="t" r="r" b="b"/>
                <a:pathLst>
                  <a:path w="460" h="851">
                    <a:moveTo>
                      <a:pt x="38" y="851"/>
                    </a:moveTo>
                    <a:lnTo>
                      <a:pt x="0" y="851"/>
                    </a:lnTo>
                    <a:lnTo>
                      <a:pt x="0" y="0"/>
                    </a:lnTo>
                    <a:lnTo>
                      <a:pt x="460" y="0"/>
                    </a:lnTo>
                    <a:lnTo>
                      <a:pt x="460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3855960" y="3693960"/>
                <a:ext cx="3206880" cy="1024200"/>
              </a:xfrm>
              <a:custGeom>
                <a:avLst/>
                <a:gdLst/>
                <a:ahLst/>
                <a:rect l="l" t="t" r="r" b="b"/>
                <a:pathLst>
                  <a:path w="2020" h="645">
                    <a:moveTo>
                      <a:pt x="1813" y="643"/>
                    </a:moveTo>
                    <a:lnTo>
                      <a:pt x="2020" y="645"/>
                    </a:lnTo>
                    <a:lnTo>
                      <a:pt x="2020" y="0"/>
                    </a:lnTo>
                    <a:lnTo>
                      <a:pt x="227" y="0"/>
                    </a:lnTo>
                    <a:lnTo>
                      <a:pt x="227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40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4143240" y="454176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6" y="16"/>
                    </a:moveTo>
                    <a:lnTo>
                      <a:pt x="8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4533840" y="5407200"/>
                <a:ext cx="3287880" cy="1225440"/>
              </a:xfrm>
              <a:custGeom>
                <a:avLst/>
                <a:gdLst/>
                <a:ahLst/>
                <a:rect l="l" t="t" r="r" b="b"/>
                <a:pathLst>
                  <a:path w="2071" h="772">
                    <a:moveTo>
                      <a:pt x="2033" y="577"/>
                    </a:moveTo>
                    <a:lnTo>
                      <a:pt x="2071" y="577"/>
                    </a:lnTo>
                    <a:lnTo>
                      <a:pt x="2071" y="772"/>
                    </a:lnTo>
                    <a:lnTo>
                      <a:pt x="0" y="772"/>
                    </a:lnTo>
                    <a:lnTo>
                      <a:pt x="0" y="0"/>
                    </a:lnTo>
                    <a:lnTo>
                      <a:pt x="16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4419720" y="3457440"/>
                <a:ext cx="1440" cy="97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 flipV="1">
                <a:off x="4419720" y="6492600"/>
                <a:ext cx="1440" cy="27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 rot="16200000">
                <a:off x="4533840" y="5237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 rot="16200000">
                <a:off x="4523040" y="521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 rot="16200000">
                <a:off x="4525200" y="5184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 rot="16200000">
                <a:off x="4533840" y="5167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 rot="16200000">
                <a:off x="4531320" y="5149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 rot="16200000">
                <a:off x="4523040" y="512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 rot="16200000">
                <a:off x="4525200" y="5095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 rot="16200000">
                <a:off x="4533840" y="5077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 rot="16200000">
                <a:off x="4536000" y="5063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 rot="16200000">
                <a:off x="4523040" y="5037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 rot="16200000">
                <a:off x="4523040" y="500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4361040" y="3801960"/>
                <a:ext cx="118800" cy="58680"/>
              </a:xfrm>
              <a:custGeom>
                <a:avLst/>
                <a:gdLst/>
                <a:ahLst/>
                <a:rect l="l" t="t" r="r" b="b"/>
                <a:pathLst>
                  <a:path w="75" h="37">
                    <a:moveTo>
                      <a:pt x="73" y="0"/>
                    </a:moveTo>
                    <a:lnTo>
                      <a:pt x="75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36032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4372920" y="380376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440784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442224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4438800" y="3803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5622840" y="3457440"/>
                <a:ext cx="1800" cy="435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 flipV="1">
                <a:off x="5622840" y="6492600"/>
                <a:ext cx="1800" cy="27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564160" y="380196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6681960" y="3457440"/>
                <a:ext cx="1440" cy="61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 flipV="1">
                <a:off x="6681960" y="6492600"/>
                <a:ext cx="1440" cy="27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6624720" y="380196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658008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661500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664956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6665400" y="38037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671040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746400" y="38037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7710480" y="3457440"/>
                <a:ext cx="1440" cy="79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 flipV="1">
                <a:off x="7710480" y="6492600"/>
                <a:ext cx="1440" cy="27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555408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5567400" y="3803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560628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562284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565776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44445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4470480" y="34671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45363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45619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459072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46432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46940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47444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477000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482580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487656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49269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49525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49780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50302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508428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510948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513540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518760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5648400" y="3467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5711760" y="3467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57729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57985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5824080" y="3467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587196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592272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9749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60004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60512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61052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61574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1826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620820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623340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62589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62841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63097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6706440" y="34671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6784920" y="3467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6847920" y="34671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692568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69512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6977160" y="3467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6999120" y="34671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70653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709092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71434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71942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724788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72734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72986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73256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735120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737640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74019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7735680" y="34671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7821720" y="3467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78843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79113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79372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6" name=""/>
            <p:cNvGrpSpPr/>
            <p:nvPr/>
          </p:nvGrpSpPr>
          <p:grpSpPr>
            <a:xfrm>
              <a:off x="3390120" y="3467160"/>
              <a:ext cx="4963680" cy="3025800"/>
              <a:chOff x="3390120" y="3467160"/>
              <a:chExt cx="4963680" cy="3025800"/>
            </a:xfrm>
          </p:grpSpPr>
          <p:sp>
            <p:nvSpPr>
              <p:cNvPr id="3627" name=""/>
              <p:cNvSpPr/>
              <p:nvPr/>
            </p:nvSpPr>
            <p:spPr>
              <a:xfrm>
                <a:off x="79880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804168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80672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8119440" y="3467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81514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8202600" y="34671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82562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8308800" y="34671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7651800" y="380196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7597080" y="38037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764208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7676640" y="38037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772272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7735680" y="38037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778680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33901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3415680" y="346716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34743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34999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35254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3576240" y="3467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36079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36334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36856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37396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37904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38156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384300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389376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394740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39729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399852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40510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538272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541476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544320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5382720" y="391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5414760" y="391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5382720" y="427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5414760" y="427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5443200" y="427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5471640" y="427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570204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573048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75928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5702040" y="391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730480" y="391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5702040" y="4276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5730480" y="4276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5702040" y="421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5702040" y="43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676224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679104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6762240" y="4276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6762240" y="421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6762240" y="43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789680" y="423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7789680" y="431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5622840" y="4430880"/>
                <a:ext cx="54000" cy="206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5622840" y="4430880"/>
                <a:ext cx="54000" cy="206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5570640" y="4430880"/>
                <a:ext cx="52200" cy="206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5570640" y="4430880"/>
                <a:ext cx="52200" cy="206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6630840" y="443088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5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  <a:lnTo>
                      <a:pt x="65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6630840" y="443088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5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3935520" y="3816360"/>
                <a:ext cx="100080" cy="334800"/>
              </a:xfrm>
              <a:custGeom>
                <a:avLst/>
                <a:gdLst/>
                <a:ahLst/>
                <a:rect l="l" t="t" r="r" b="b"/>
                <a:pathLst>
                  <a:path w="63" h="211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3" y="26"/>
                    </a:lnTo>
                    <a:lnTo>
                      <a:pt x="63" y="30"/>
                    </a:lnTo>
                    <a:lnTo>
                      <a:pt x="63" y="181"/>
                    </a:lnTo>
                    <a:lnTo>
                      <a:pt x="63" y="185"/>
                    </a:lnTo>
                    <a:lnTo>
                      <a:pt x="63" y="191"/>
                    </a:lnTo>
                    <a:lnTo>
                      <a:pt x="61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5"/>
                    </a:lnTo>
                    <a:lnTo>
                      <a:pt x="46" y="209"/>
                    </a:lnTo>
                    <a:lnTo>
                      <a:pt x="42" y="211"/>
                    </a:lnTo>
                    <a:lnTo>
                      <a:pt x="36" y="211"/>
                    </a:lnTo>
                    <a:lnTo>
                      <a:pt x="32" y="211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8" y="209"/>
                    </a:lnTo>
                    <a:lnTo>
                      <a:pt x="14" y="205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3935520" y="3816360"/>
                <a:ext cx="100080" cy="334800"/>
              </a:xfrm>
              <a:custGeom>
                <a:avLst/>
                <a:gdLst/>
                <a:ahLst/>
                <a:rect l="l" t="t" r="r" b="b"/>
                <a:pathLst>
                  <a:path w="63" h="211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3" y="26"/>
                    </a:lnTo>
                    <a:lnTo>
                      <a:pt x="63" y="30"/>
                    </a:lnTo>
                    <a:lnTo>
                      <a:pt x="63" y="181"/>
                    </a:lnTo>
                    <a:lnTo>
                      <a:pt x="63" y="185"/>
                    </a:lnTo>
                    <a:lnTo>
                      <a:pt x="63" y="191"/>
                    </a:lnTo>
                    <a:lnTo>
                      <a:pt x="61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5"/>
                    </a:lnTo>
                    <a:lnTo>
                      <a:pt x="46" y="209"/>
                    </a:lnTo>
                    <a:lnTo>
                      <a:pt x="42" y="211"/>
                    </a:lnTo>
                    <a:lnTo>
                      <a:pt x="36" y="211"/>
                    </a:lnTo>
                    <a:lnTo>
                      <a:pt x="32" y="211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8" y="209"/>
                    </a:lnTo>
                    <a:lnTo>
                      <a:pt x="14" y="205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3960360" y="3898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4005360" y="38988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3970080" y="3954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3998880" y="39546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3970080" y="4005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3954240" y="383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3954240" y="4071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3967200" y="4527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4001760" y="452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032000" y="452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3462480" y="50925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3497400" y="5092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7921440" y="560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6957720" y="56372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7008120" y="5637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7027920" y="5637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7036920" y="5637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7052760" y="563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7081920" y="56372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6957720" y="56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989400" y="56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7017840" y="569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7030800" y="56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7927560" y="54291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7972560" y="54291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7937280" y="5484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7966080" y="54849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7937280" y="5535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792144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7710480" y="4430880"/>
                <a:ext cx="54000" cy="206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7710480" y="4430880"/>
                <a:ext cx="54000" cy="206208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7655040" y="4430880"/>
                <a:ext cx="55440" cy="206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7655040" y="4430880"/>
                <a:ext cx="55440" cy="206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620960" y="408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649400" y="408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678200" y="408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367160" y="443088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367160" y="443088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5167440" y="4129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5206680" y="41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235120" y="41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263560" y="4129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279400" y="4129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5295600" y="41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5327640" y="4129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4995720" y="5295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033520" y="529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5062320" y="529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5091120" y="5295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5103360" y="5295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128560" y="529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144760" y="529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173200" y="5295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194080" y="5295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267160" y="5110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304960" y="511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5333760" y="511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362200" y="511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5392800" y="51102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5235120" y="516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5263920" y="516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5292000" y="5160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5308200" y="516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5336640" y="5160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5352840" y="516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5267160" y="5308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5304960" y="5308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5333760" y="5308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5362200" y="5308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5392800" y="53085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523512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526392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5292000" y="5362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530820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5336640" y="5362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535284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832280" y="5029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4870080" y="50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4898520" y="50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4930560" y="50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4959360" y="50292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4831920" y="5079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4851000" y="507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4879800" y="507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4908600" y="5079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4920840" y="5079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4946040" y="5079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4962240" y="507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4990680" y="5079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5011200" y="5079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5024160" y="507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4832280" y="51894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4870080" y="5189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4898520" y="5189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4930560" y="5189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4959360" y="51894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4831920" y="5240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4851000" y="524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879800" y="524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4908600" y="5240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920840" y="5240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946040" y="5240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962240" y="524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990680" y="5240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5011200" y="5240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5024160" y="524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4594320" y="4160880"/>
                <a:ext cx="950760" cy="2279520"/>
              </a:xfrm>
              <a:custGeom>
                <a:avLst/>
                <a:gdLst/>
                <a:ahLst/>
                <a:rect l="l" t="t" r="r" b="b"/>
                <a:pathLst>
                  <a:path w="599" h="1436">
                    <a:moveTo>
                      <a:pt x="599" y="1436"/>
                    </a:moveTo>
                    <a:lnTo>
                      <a:pt x="0" y="1436"/>
                    </a:lnTo>
                    <a:lnTo>
                      <a:pt x="0" y="0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461124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464328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4611600" y="6127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4611600" y="5875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4611240" y="517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4611240" y="501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4591080" y="6200640"/>
                <a:ext cx="957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4750920" y="6073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4766760" y="6073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4795560" y="6073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4822200" y="6073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4838040" y="6073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4854240" y="6073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4885920" y="6073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4911120" y="6073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4927680" y="6073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4936680" y="6073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4965480" y="6073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4998960" y="60739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4750920" y="6127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4766760" y="612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4795560" y="612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4825800" y="612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4866840" y="612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4895640" y="612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4923720" y="6127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4750920" y="5819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7" name=""/>
            <p:cNvGrpSpPr/>
            <p:nvPr/>
          </p:nvGrpSpPr>
          <p:grpSpPr>
            <a:xfrm>
              <a:off x="4367160" y="717480"/>
              <a:ext cx="3262320" cy="5741640"/>
              <a:chOff x="4367160" y="717480"/>
              <a:chExt cx="3262320" cy="5741640"/>
            </a:xfrm>
          </p:grpSpPr>
          <p:sp>
            <p:nvSpPr>
              <p:cNvPr id="3828" name=""/>
              <p:cNvSpPr/>
              <p:nvPr/>
            </p:nvSpPr>
            <p:spPr>
              <a:xfrm>
                <a:off x="4766760" y="581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4795560" y="5819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4822200" y="5819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4838040" y="5819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4854240" y="581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4885920" y="5819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4911120" y="5819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4927680" y="58197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4936680" y="581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4968360" y="581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4998960" y="58197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4750920" y="5875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4766760" y="587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4795560" y="587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4825800" y="587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4866840" y="587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4895280" y="5875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4750920" y="6313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4766760" y="6313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4795560" y="6313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4822200" y="6313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4838040" y="6313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854240" y="6313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885920" y="6313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4911120" y="6313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927680" y="6313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936680" y="6313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965480" y="6313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998960" y="6313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750920" y="6367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76676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79556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82580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86684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89564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923720" y="6367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578480" y="618804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5462640" y="5875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544644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547488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544644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547488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5462640" y="6127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544644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547488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 rot="16200000">
                <a:off x="7173000" y="1689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 rot="16200000">
                <a:off x="7183800" y="1657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rot="16200000">
                <a:off x="7173000" y="1613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 rot="16200000">
                <a:off x="7169400" y="15660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 rot="16200000">
                <a:off x="7192080" y="1540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 rot="16200000">
                <a:off x="7196760" y="1526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 rot="16200000">
                <a:off x="7194600" y="151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 rot="16200000">
                <a:off x="7183800" y="148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7260480" y="5913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7305480" y="591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7335360" y="5913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7380360" y="59133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7418160" y="591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7446600" y="591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7478280" y="591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 rot="16200000">
                <a:off x="7173000" y="5058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rot="16200000">
                <a:off x="7183800" y="502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 rot="16200000">
                <a:off x="7173000" y="4983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 rot="16200000">
                <a:off x="7169400" y="49377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 rot="16200000">
                <a:off x="7192080" y="4910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 rot="16200000">
                <a:off x="7196760" y="4893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 rot="16200000">
                <a:off x="7194600" y="4882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 rot="16200000">
                <a:off x="7183800" y="485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4620960" y="717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4646160" y="71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674960" y="71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61124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64328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611600" y="2759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611600" y="250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611240" y="180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611240" y="1641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5462640" y="250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5446440" y="1924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5474880" y="1924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544644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547488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5462640" y="2759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544644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547488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569556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572436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569556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572436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569556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572436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 flipH="1">
                <a:off x="4593960" y="1716120"/>
                <a:ext cx="191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4591080" y="1874880"/>
                <a:ext cx="198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4473720" y="1955880"/>
                <a:ext cx="117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4578480" y="194328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4578480" y="170172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4578480" y="186228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4594320" y="793800"/>
                <a:ext cx="950760" cy="2279520"/>
              </a:xfrm>
              <a:custGeom>
                <a:avLst/>
                <a:gdLst/>
                <a:ahLst/>
                <a:rect l="l" t="t" r="r" b="b"/>
                <a:pathLst>
                  <a:path w="599" h="1436">
                    <a:moveTo>
                      <a:pt x="599" y="1436"/>
                    </a:moveTo>
                    <a:lnTo>
                      <a:pt x="0" y="1436"/>
                    </a:lnTo>
                    <a:lnTo>
                      <a:pt x="0" y="0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4367160" y="106200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  <a:lnTo>
                      <a:pt x="67" y="129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4367160" y="106200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 flipH="1">
                <a:off x="5676480" y="1795320"/>
                <a:ext cx="3589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 flipH="1">
                <a:off x="6391080" y="2025720"/>
                <a:ext cx="214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5796000" y="2233440"/>
                <a:ext cx="1440" cy="34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5783400" y="22240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5676840" y="2579760"/>
                <a:ext cx="11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5796000" y="2579760"/>
                <a:ext cx="1666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5783400" y="25671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5861880" y="2871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5907240" y="287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5871960" y="29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5900760" y="2922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5871960" y="2976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5856120" y="2805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5900040" y="2031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5945040" y="2031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5909760" y="208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5938920" y="2087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5909760" y="2141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5893920" y="220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6108840" y="2820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6143400" y="282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6173640" y="2820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6211080" y="282096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6252840" y="282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5913360" y="3127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5951160" y="312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5981400" y="312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6010200" y="3127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6048000" y="3127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6076440" y="3127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6032520" y="2519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6067080" y="2519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6099120" y="2519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6137280" y="2519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5997240" y="2585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602568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605448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6082560" y="2585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6098760" y="2585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611460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6143760" y="2585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6681960" y="1062000"/>
                <a:ext cx="55440" cy="2062080"/>
              </a:xfrm>
              <a:custGeom>
                <a:avLst/>
                <a:gdLst/>
                <a:ahLst/>
                <a:rect l="l" t="t" r="r" b="b"/>
                <a:pathLst>
                  <a:path w="35" h="1299">
                    <a:moveTo>
                      <a:pt x="0" y="1297"/>
                    </a:moveTo>
                    <a:lnTo>
                      <a:pt x="35" y="129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6681960" y="1062000"/>
                <a:ext cx="55440" cy="2062080"/>
              </a:xfrm>
              <a:custGeom>
                <a:avLst/>
                <a:gdLst/>
                <a:ahLst/>
                <a:rect l="l" t="t" r="r" b="b"/>
                <a:pathLst>
                  <a:path w="35" h="1299">
                    <a:moveTo>
                      <a:pt x="0" y="1297"/>
                    </a:moveTo>
                    <a:lnTo>
                      <a:pt x="35" y="1299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6630840" y="1062000"/>
                <a:ext cx="51120" cy="206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6630840" y="1062000"/>
                <a:ext cx="51120" cy="206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6658920" y="941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6643440" y="7621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6694560" y="762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569556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572724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569556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572724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569556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572724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5861880" y="6238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5907240" y="62388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5871960" y="629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5900760" y="62913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5871960" y="6345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5900040" y="5400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5945040" y="5400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5909760" y="5454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5938920" y="5454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5909760" y="5510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6124680" y="5295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6160680" y="529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6189840" y="5295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 flipH="1">
                <a:off x="5676840" y="5365800"/>
                <a:ext cx="1792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5721480" y="535320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6958080" y="5356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699264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02432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052760" y="5356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706896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7100640" y="5356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127640" y="5356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7392960" y="5337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7430760" y="533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7459200" y="533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7488000" y="533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7521480" y="53370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7408440" y="5391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7437240" y="5391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7465320" y="5391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7481520" y="5391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7178760" y="5445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7216560" y="544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7244640" y="5445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7260840" y="544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7289640" y="54450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7139880" y="5513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7184520" y="5513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7212960" y="5513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7257600" y="5513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7289280" y="5513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7305480" y="5513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6781680" y="53816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6756120" y="624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787800" y="624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 flipH="1">
                <a:off x="7537320" y="5394240"/>
                <a:ext cx="92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8" name=""/>
            <p:cNvSpPr/>
            <p:nvPr/>
          </p:nvSpPr>
          <p:spPr>
            <a:xfrm>
              <a:off x="7670520" y="4311720"/>
              <a:ext cx="72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7719840" y="43117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6384960" y="1887480"/>
              <a:ext cx="214200" cy="3240"/>
            </a:xfrm>
            <a:prstGeom prst="line">
              <a:avLst/>
            </a:prstGeom>
            <a:ln w="648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6595920" y="1874880"/>
              <a:ext cx="2556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0"/>
                  </a:moveTo>
                  <a:lnTo>
                    <a:pt x="0" y="19"/>
                  </a:lnTo>
                  <a:lnTo>
                    <a:pt x="16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6258600" y="186048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Z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6294240" y="186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6322320" y="18604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6338520" y="186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6384960" y="5262480"/>
              <a:ext cx="214200" cy="3240"/>
            </a:xfrm>
            <a:prstGeom prst="line">
              <a:avLst/>
            </a:prstGeom>
            <a:ln w="648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6595920" y="524988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0"/>
                  </a:moveTo>
                  <a:lnTo>
                    <a:pt x="0" y="18"/>
                  </a:lnTo>
                  <a:lnTo>
                    <a:pt x="16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6258600" y="523404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Z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6294240" y="5234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6322320" y="523404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6338520" y="5234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5119560" y="2563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4578480" y="2563920"/>
              <a:ext cx="2988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8" y="16"/>
                  </a:move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151600" y="2365200"/>
              <a:ext cx="198360" cy="425520"/>
            </a:xfrm>
            <a:custGeom>
              <a:avLst/>
              <a:gdLst/>
              <a:ahLst/>
              <a:rect l="l" t="t" r="r" b="b"/>
              <a:pathLst>
                <a:path w="125" h="268">
                  <a:moveTo>
                    <a:pt x="63" y="266"/>
                  </a:moveTo>
                  <a:lnTo>
                    <a:pt x="73" y="266"/>
                  </a:lnTo>
                  <a:lnTo>
                    <a:pt x="83" y="260"/>
                  </a:lnTo>
                  <a:lnTo>
                    <a:pt x="91" y="252"/>
                  </a:lnTo>
                  <a:lnTo>
                    <a:pt x="101" y="242"/>
                  </a:lnTo>
                  <a:lnTo>
                    <a:pt x="107" y="228"/>
                  </a:lnTo>
                  <a:lnTo>
                    <a:pt x="113" y="214"/>
                  </a:lnTo>
                  <a:lnTo>
                    <a:pt x="119" y="196"/>
                  </a:lnTo>
                  <a:lnTo>
                    <a:pt x="123" y="175"/>
                  </a:lnTo>
                  <a:lnTo>
                    <a:pt x="125" y="155"/>
                  </a:lnTo>
                  <a:lnTo>
                    <a:pt x="125" y="133"/>
                  </a:lnTo>
                  <a:lnTo>
                    <a:pt x="125" y="113"/>
                  </a:lnTo>
                  <a:lnTo>
                    <a:pt x="123" y="91"/>
                  </a:lnTo>
                  <a:lnTo>
                    <a:pt x="119" y="73"/>
                  </a:lnTo>
                  <a:lnTo>
                    <a:pt x="113" y="54"/>
                  </a:lnTo>
                  <a:lnTo>
                    <a:pt x="107" y="38"/>
                  </a:lnTo>
                  <a:lnTo>
                    <a:pt x="101" y="26"/>
                  </a:lnTo>
                  <a:lnTo>
                    <a:pt x="91" y="14"/>
                  </a:lnTo>
                  <a:lnTo>
                    <a:pt x="83" y="6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6"/>
                  </a:lnTo>
                  <a:lnTo>
                    <a:pt x="35" y="14"/>
                  </a:lnTo>
                  <a:lnTo>
                    <a:pt x="27" y="26"/>
                  </a:lnTo>
                  <a:lnTo>
                    <a:pt x="18" y="38"/>
                  </a:lnTo>
                  <a:lnTo>
                    <a:pt x="12" y="54"/>
                  </a:lnTo>
                  <a:lnTo>
                    <a:pt x="6" y="73"/>
                  </a:lnTo>
                  <a:lnTo>
                    <a:pt x="2" y="91"/>
                  </a:lnTo>
                  <a:lnTo>
                    <a:pt x="0" y="113"/>
                  </a:lnTo>
                  <a:lnTo>
                    <a:pt x="0" y="133"/>
                  </a:lnTo>
                  <a:lnTo>
                    <a:pt x="0" y="155"/>
                  </a:lnTo>
                  <a:lnTo>
                    <a:pt x="2" y="175"/>
                  </a:lnTo>
                  <a:lnTo>
                    <a:pt x="6" y="196"/>
                  </a:lnTo>
                  <a:lnTo>
                    <a:pt x="12" y="214"/>
                  </a:lnTo>
                  <a:lnTo>
                    <a:pt x="18" y="228"/>
                  </a:lnTo>
                  <a:lnTo>
                    <a:pt x="27" y="242"/>
                  </a:lnTo>
                  <a:lnTo>
                    <a:pt x="35" y="252"/>
                  </a:lnTo>
                  <a:lnTo>
                    <a:pt x="43" y="260"/>
                  </a:lnTo>
                  <a:lnTo>
                    <a:pt x="53" y="266"/>
                  </a:lnTo>
                  <a:lnTo>
                    <a:pt x="63" y="268"/>
                  </a:lnTo>
                  <a:lnTo>
                    <a:pt x="63" y="268"/>
                  </a:lnTo>
                  <a:lnTo>
                    <a:pt x="63" y="2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151600" y="2365200"/>
              <a:ext cx="198360" cy="425520"/>
            </a:xfrm>
            <a:custGeom>
              <a:avLst/>
              <a:gdLst/>
              <a:ahLst/>
              <a:rect l="l" t="t" r="r" b="b"/>
              <a:pathLst>
                <a:path w="125" h="268">
                  <a:moveTo>
                    <a:pt x="63" y="266"/>
                  </a:moveTo>
                  <a:lnTo>
                    <a:pt x="73" y="266"/>
                  </a:lnTo>
                  <a:lnTo>
                    <a:pt x="83" y="260"/>
                  </a:lnTo>
                  <a:lnTo>
                    <a:pt x="91" y="252"/>
                  </a:lnTo>
                  <a:lnTo>
                    <a:pt x="101" y="242"/>
                  </a:lnTo>
                  <a:lnTo>
                    <a:pt x="107" y="228"/>
                  </a:lnTo>
                  <a:lnTo>
                    <a:pt x="113" y="214"/>
                  </a:lnTo>
                  <a:lnTo>
                    <a:pt x="119" y="196"/>
                  </a:lnTo>
                  <a:lnTo>
                    <a:pt x="123" y="175"/>
                  </a:lnTo>
                  <a:lnTo>
                    <a:pt x="125" y="155"/>
                  </a:lnTo>
                  <a:lnTo>
                    <a:pt x="125" y="133"/>
                  </a:lnTo>
                  <a:lnTo>
                    <a:pt x="125" y="113"/>
                  </a:lnTo>
                  <a:lnTo>
                    <a:pt x="123" y="91"/>
                  </a:lnTo>
                  <a:lnTo>
                    <a:pt x="119" y="73"/>
                  </a:lnTo>
                  <a:lnTo>
                    <a:pt x="113" y="54"/>
                  </a:lnTo>
                  <a:lnTo>
                    <a:pt x="107" y="38"/>
                  </a:lnTo>
                  <a:lnTo>
                    <a:pt x="101" y="26"/>
                  </a:lnTo>
                  <a:lnTo>
                    <a:pt x="91" y="14"/>
                  </a:lnTo>
                  <a:lnTo>
                    <a:pt x="83" y="6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6"/>
                  </a:lnTo>
                  <a:lnTo>
                    <a:pt x="35" y="14"/>
                  </a:lnTo>
                  <a:lnTo>
                    <a:pt x="27" y="26"/>
                  </a:lnTo>
                  <a:lnTo>
                    <a:pt x="18" y="38"/>
                  </a:lnTo>
                  <a:lnTo>
                    <a:pt x="12" y="54"/>
                  </a:lnTo>
                  <a:lnTo>
                    <a:pt x="6" y="73"/>
                  </a:lnTo>
                  <a:lnTo>
                    <a:pt x="2" y="91"/>
                  </a:lnTo>
                  <a:lnTo>
                    <a:pt x="0" y="113"/>
                  </a:lnTo>
                  <a:lnTo>
                    <a:pt x="0" y="133"/>
                  </a:lnTo>
                  <a:lnTo>
                    <a:pt x="0" y="155"/>
                  </a:lnTo>
                  <a:lnTo>
                    <a:pt x="2" y="175"/>
                  </a:lnTo>
                  <a:lnTo>
                    <a:pt x="6" y="196"/>
                  </a:lnTo>
                  <a:lnTo>
                    <a:pt x="12" y="214"/>
                  </a:lnTo>
                  <a:lnTo>
                    <a:pt x="18" y="228"/>
                  </a:lnTo>
                  <a:lnTo>
                    <a:pt x="27" y="242"/>
                  </a:lnTo>
                  <a:lnTo>
                    <a:pt x="35" y="252"/>
                  </a:lnTo>
                  <a:lnTo>
                    <a:pt x="43" y="260"/>
                  </a:lnTo>
                  <a:lnTo>
                    <a:pt x="53" y="266"/>
                  </a:lnTo>
                  <a:lnTo>
                    <a:pt x="63" y="268"/>
                  </a:lnTo>
                  <a:lnTo>
                    <a:pt x="63" y="268"/>
                  </a:lnTo>
                </a:path>
              </a:pathLst>
            </a:custGeom>
            <a:noFill/>
            <a:ln w="648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4591080" y="2576520"/>
              <a:ext cx="5349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5197320" y="2516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5232240" y="25160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5244840" y="2516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273280" y="2516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5305320" y="251604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5167080" y="258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5196960" y="25830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5225400" y="25830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5238360" y="258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5267160" y="258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5298840" y="258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5349960" y="2576520"/>
              <a:ext cx="1951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5538960" y="256392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0"/>
                  </a:moveTo>
                  <a:lnTo>
                    <a:pt x="0" y="18"/>
                  </a:lnTo>
                  <a:lnTo>
                    <a:pt x="1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5119560" y="593244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4578480" y="5932440"/>
              <a:ext cx="2988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8" y="16"/>
                  </a:move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5151600" y="5734080"/>
              <a:ext cx="198360" cy="425520"/>
            </a:xfrm>
            <a:custGeom>
              <a:avLst/>
              <a:gdLst/>
              <a:ahLst/>
              <a:rect l="l" t="t" r="r" b="b"/>
              <a:pathLst>
                <a:path w="125" h="268">
                  <a:moveTo>
                    <a:pt x="63" y="266"/>
                  </a:moveTo>
                  <a:lnTo>
                    <a:pt x="73" y="266"/>
                  </a:lnTo>
                  <a:lnTo>
                    <a:pt x="83" y="262"/>
                  </a:lnTo>
                  <a:lnTo>
                    <a:pt x="91" y="252"/>
                  </a:lnTo>
                  <a:lnTo>
                    <a:pt x="101" y="242"/>
                  </a:lnTo>
                  <a:lnTo>
                    <a:pt x="107" y="227"/>
                  </a:lnTo>
                  <a:lnTo>
                    <a:pt x="113" y="213"/>
                  </a:lnTo>
                  <a:lnTo>
                    <a:pt x="119" y="195"/>
                  </a:lnTo>
                  <a:lnTo>
                    <a:pt x="123" y="175"/>
                  </a:lnTo>
                  <a:lnTo>
                    <a:pt x="125" y="155"/>
                  </a:lnTo>
                  <a:lnTo>
                    <a:pt x="125" y="133"/>
                  </a:lnTo>
                  <a:lnTo>
                    <a:pt x="125" y="112"/>
                  </a:lnTo>
                  <a:lnTo>
                    <a:pt x="123" y="92"/>
                  </a:lnTo>
                  <a:lnTo>
                    <a:pt x="119" y="72"/>
                  </a:lnTo>
                  <a:lnTo>
                    <a:pt x="113" y="54"/>
                  </a:lnTo>
                  <a:lnTo>
                    <a:pt x="107" y="40"/>
                  </a:lnTo>
                  <a:lnTo>
                    <a:pt x="101" y="26"/>
                  </a:lnTo>
                  <a:lnTo>
                    <a:pt x="91" y="14"/>
                  </a:lnTo>
                  <a:lnTo>
                    <a:pt x="83" y="6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6"/>
                  </a:lnTo>
                  <a:lnTo>
                    <a:pt x="35" y="14"/>
                  </a:lnTo>
                  <a:lnTo>
                    <a:pt x="27" y="26"/>
                  </a:lnTo>
                  <a:lnTo>
                    <a:pt x="18" y="40"/>
                  </a:lnTo>
                  <a:lnTo>
                    <a:pt x="12" y="54"/>
                  </a:lnTo>
                  <a:lnTo>
                    <a:pt x="6" y="72"/>
                  </a:lnTo>
                  <a:lnTo>
                    <a:pt x="2" y="92"/>
                  </a:lnTo>
                  <a:lnTo>
                    <a:pt x="0" y="112"/>
                  </a:lnTo>
                  <a:lnTo>
                    <a:pt x="0" y="133"/>
                  </a:lnTo>
                  <a:lnTo>
                    <a:pt x="0" y="155"/>
                  </a:lnTo>
                  <a:lnTo>
                    <a:pt x="2" y="175"/>
                  </a:lnTo>
                  <a:lnTo>
                    <a:pt x="6" y="195"/>
                  </a:lnTo>
                  <a:lnTo>
                    <a:pt x="12" y="213"/>
                  </a:lnTo>
                  <a:lnTo>
                    <a:pt x="18" y="227"/>
                  </a:lnTo>
                  <a:lnTo>
                    <a:pt x="27" y="242"/>
                  </a:lnTo>
                  <a:lnTo>
                    <a:pt x="35" y="252"/>
                  </a:lnTo>
                  <a:lnTo>
                    <a:pt x="43" y="262"/>
                  </a:lnTo>
                  <a:lnTo>
                    <a:pt x="53" y="266"/>
                  </a:lnTo>
                  <a:lnTo>
                    <a:pt x="63" y="268"/>
                  </a:lnTo>
                  <a:lnTo>
                    <a:pt x="63" y="268"/>
                  </a:lnTo>
                  <a:lnTo>
                    <a:pt x="63" y="2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5151600" y="5734080"/>
              <a:ext cx="198360" cy="425520"/>
            </a:xfrm>
            <a:custGeom>
              <a:avLst/>
              <a:gdLst/>
              <a:ahLst/>
              <a:rect l="l" t="t" r="r" b="b"/>
              <a:pathLst>
                <a:path w="125" h="268">
                  <a:moveTo>
                    <a:pt x="63" y="266"/>
                  </a:moveTo>
                  <a:lnTo>
                    <a:pt x="73" y="266"/>
                  </a:lnTo>
                  <a:lnTo>
                    <a:pt x="83" y="262"/>
                  </a:lnTo>
                  <a:lnTo>
                    <a:pt x="91" y="252"/>
                  </a:lnTo>
                  <a:lnTo>
                    <a:pt x="101" y="242"/>
                  </a:lnTo>
                  <a:lnTo>
                    <a:pt x="107" y="227"/>
                  </a:lnTo>
                  <a:lnTo>
                    <a:pt x="113" y="213"/>
                  </a:lnTo>
                  <a:lnTo>
                    <a:pt x="119" y="195"/>
                  </a:lnTo>
                  <a:lnTo>
                    <a:pt x="123" y="175"/>
                  </a:lnTo>
                  <a:lnTo>
                    <a:pt x="125" y="155"/>
                  </a:lnTo>
                  <a:lnTo>
                    <a:pt x="125" y="133"/>
                  </a:lnTo>
                  <a:lnTo>
                    <a:pt x="125" y="112"/>
                  </a:lnTo>
                  <a:lnTo>
                    <a:pt x="123" y="92"/>
                  </a:lnTo>
                  <a:lnTo>
                    <a:pt x="119" y="72"/>
                  </a:lnTo>
                  <a:lnTo>
                    <a:pt x="113" y="54"/>
                  </a:lnTo>
                  <a:lnTo>
                    <a:pt x="107" y="40"/>
                  </a:lnTo>
                  <a:lnTo>
                    <a:pt x="101" y="26"/>
                  </a:lnTo>
                  <a:lnTo>
                    <a:pt x="91" y="14"/>
                  </a:lnTo>
                  <a:lnTo>
                    <a:pt x="83" y="6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6"/>
                  </a:lnTo>
                  <a:lnTo>
                    <a:pt x="35" y="14"/>
                  </a:lnTo>
                  <a:lnTo>
                    <a:pt x="27" y="26"/>
                  </a:lnTo>
                  <a:lnTo>
                    <a:pt x="18" y="40"/>
                  </a:lnTo>
                  <a:lnTo>
                    <a:pt x="12" y="54"/>
                  </a:lnTo>
                  <a:lnTo>
                    <a:pt x="6" y="72"/>
                  </a:lnTo>
                  <a:lnTo>
                    <a:pt x="2" y="92"/>
                  </a:lnTo>
                  <a:lnTo>
                    <a:pt x="0" y="112"/>
                  </a:lnTo>
                  <a:lnTo>
                    <a:pt x="0" y="133"/>
                  </a:lnTo>
                  <a:lnTo>
                    <a:pt x="0" y="155"/>
                  </a:lnTo>
                  <a:lnTo>
                    <a:pt x="2" y="175"/>
                  </a:lnTo>
                  <a:lnTo>
                    <a:pt x="6" y="195"/>
                  </a:lnTo>
                  <a:lnTo>
                    <a:pt x="12" y="213"/>
                  </a:lnTo>
                  <a:lnTo>
                    <a:pt x="18" y="227"/>
                  </a:lnTo>
                  <a:lnTo>
                    <a:pt x="27" y="242"/>
                  </a:lnTo>
                  <a:lnTo>
                    <a:pt x="35" y="252"/>
                  </a:lnTo>
                  <a:lnTo>
                    <a:pt x="43" y="262"/>
                  </a:lnTo>
                  <a:lnTo>
                    <a:pt x="53" y="266"/>
                  </a:lnTo>
                  <a:lnTo>
                    <a:pt x="63" y="268"/>
                  </a:lnTo>
                  <a:lnTo>
                    <a:pt x="63" y="268"/>
                  </a:lnTo>
                </a:path>
              </a:pathLst>
            </a:custGeom>
            <a:noFill/>
            <a:ln w="648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591080" y="5945040"/>
              <a:ext cx="534960" cy="180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5197320" y="58849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5232240" y="588492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5244840" y="5884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5273280" y="5884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305320" y="588492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5167080" y="5951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196960" y="59515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5225400" y="59515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238360" y="5951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5267160" y="5951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298840" y="5951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5349960" y="5945040"/>
              <a:ext cx="195120" cy="180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538960" y="59324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0"/>
                  </a:moveTo>
                  <a:lnTo>
                    <a:pt x="0" y="18"/>
                  </a:lnTo>
                  <a:lnTo>
                    <a:pt x="1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6905520" y="20098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2" y="18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H="1">
              <a:off x="6791040" y="2022480"/>
              <a:ext cx="12708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7182000" y="2065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7219440" y="2065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7247880" y="20653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7264080" y="2065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7292880" y="206532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7143120" y="21319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7187760" y="2131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7216200" y="21319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7260840" y="2131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7289280" y="213192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7310160" y="21319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6961320" y="19908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6995880" y="1990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7024320" y="1990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056000" y="19908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7071840" y="1990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7103880" y="19908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7130520" y="19908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809880" y="30495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3887640" y="30495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3909600" y="3049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3970080" y="3049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4020840" y="3049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4075920" y="30495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4105080" y="3049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3809880" y="64245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3887640" y="64245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3909600" y="6424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3970080" y="6424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4020840" y="6424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4075920" y="64245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4105080" y="6424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2" name=""/>
          <p:cNvSpPr/>
          <p:nvPr/>
        </p:nvSpPr>
        <p:spPr>
          <a:xfrm>
            <a:off x="442080" y="2541600"/>
            <a:ext cx="196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lw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0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20($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1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2, $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and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2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4, $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or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3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6, 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4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8, $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19810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ag. 47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4" name=""/>
          <p:cNvGrpSpPr/>
          <p:nvPr/>
        </p:nvGrpSpPr>
        <p:grpSpPr>
          <a:xfrm>
            <a:off x="3359160" y="88920"/>
            <a:ext cx="5088600" cy="6692760"/>
            <a:chOff x="3359160" y="88920"/>
            <a:chExt cx="5088600" cy="6692760"/>
          </a:xfrm>
        </p:grpSpPr>
        <p:grpSp>
          <p:nvGrpSpPr>
            <p:cNvPr id="4115" name=""/>
            <p:cNvGrpSpPr/>
            <p:nvPr/>
          </p:nvGrpSpPr>
          <p:grpSpPr>
            <a:xfrm>
              <a:off x="3406680" y="264960"/>
              <a:ext cx="4595760" cy="6318360"/>
              <a:chOff x="3406680" y="264960"/>
              <a:chExt cx="4595760" cy="6318360"/>
            </a:xfrm>
          </p:grpSpPr>
          <p:sp>
            <p:nvSpPr>
              <p:cNvPr id="4116" name=""/>
              <p:cNvSpPr/>
              <p:nvPr/>
            </p:nvSpPr>
            <p:spPr>
              <a:xfrm>
                <a:off x="7763040" y="4389480"/>
                <a:ext cx="188640" cy="961920"/>
              </a:xfrm>
              <a:custGeom>
                <a:avLst/>
                <a:gdLst/>
                <a:ahLst/>
                <a:rect l="l" t="t" r="r" b="b"/>
                <a:pathLst>
                  <a:path w="119" h="606">
                    <a:moveTo>
                      <a:pt x="119" y="606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6735600" y="4348080"/>
                <a:ext cx="839880" cy="1650960"/>
              </a:xfrm>
              <a:custGeom>
                <a:avLst/>
                <a:gdLst/>
                <a:ahLst/>
                <a:rect l="l" t="t" r="r" b="b"/>
                <a:pathLst>
                  <a:path w="529" h="1040">
                    <a:moveTo>
                      <a:pt x="313" y="925"/>
                    </a:moveTo>
                    <a:lnTo>
                      <a:pt x="315" y="1040"/>
                    </a:lnTo>
                    <a:lnTo>
                      <a:pt x="529" y="1040"/>
                    </a:lnTo>
                    <a:lnTo>
                      <a:pt x="52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6732720" y="906480"/>
                <a:ext cx="163440" cy="631800"/>
              </a:xfrm>
              <a:custGeom>
                <a:avLst/>
                <a:gdLst/>
                <a:ahLst/>
                <a:rect l="l" t="t" r="r" b="b"/>
                <a:pathLst>
                  <a:path w="103" h="398">
                    <a:moveTo>
                      <a:pt x="0" y="0"/>
                    </a:moveTo>
                    <a:lnTo>
                      <a:pt x="53" y="0"/>
                    </a:lnTo>
                    <a:lnTo>
                      <a:pt x="53" y="398"/>
                    </a:lnTo>
                    <a:lnTo>
                      <a:pt x="103" y="39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6735600" y="974880"/>
                <a:ext cx="839880" cy="1650960"/>
              </a:xfrm>
              <a:custGeom>
                <a:avLst/>
                <a:gdLst/>
                <a:ahLst/>
                <a:rect l="l" t="t" r="r" b="b"/>
                <a:pathLst>
                  <a:path w="529" h="1040">
                    <a:moveTo>
                      <a:pt x="313" y="925"/>
                    </a:moveTo>
                    <a:lnTo>
                      <a:pt x="315" y="1040"/>
                    </a:lnTo>
                    <a:lnTo>
                      <a:pt x="529" y="1040"/>
                    </a:lnTo>
                    <a:lnTo>
                      <a:pt x="52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6735600" y="1041480"/>
                <a:ext cx="500400" cy="772920"/>
              </a:xfrm>
              <a:custGeom>
                <a:avLst/>
                <a:gdLst/>
                <a:ahLst/>
                <a:rect l="l" t="t" r="r" b="b"/>
                <a:pathLst>
                  <a:path w="315" h="487">
                    <a:moveTo>
                      <a:pt x="313" y="487"/>
                    </a:moveTo>
                    <a:lnTo>
                      <a:pt x="31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7707240" y="425772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7707240" y="425772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7656480" y="425772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7656480" y="425772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6732720" y="4280040"/>
                <a:ext cx="163440" cy="631800"/>
              </a:xfrm>
              <a:custGeom>
                <a:avLst/>
                <a:gdLst/>
                <a:ahLst/>
                <a:rect l="l" t="t" r="r" b="b"/>
                <a:pathLst>
                  <a:path w="103" h="398">
                    <a:moveTo>
                      <a:pt x="0" y="0"/>
                    </a:moveTo>
                    <a:lnTo>
                      <a:pt x="53" y="0"/>
                    </a:lnTo>
                    <a:lnTo>
                      <a:pt x="53" y="398"/>
                    </a:lnTo>
                    <a:lnTo>
                      <a:pt x="103" y="39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6735600" y="4414680"/>
                <a:ext cx="500400" cy="773280"/>
              </a:xfrm>
              <a:custGeom>
                <a:avLst/>
                <a:gdLst/>
                <a:ahLst/>
                <a:rect l="l" t="t" r="r" b="b"/>
                <a:pathLst>
                  <a:path w="315" h="487">
                    <a:moveTo>
                      <a:pt x="313" y="487"/>
                    </a:moveTo>
                    <a:lnTo>
                      <a:pt x="31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5670720" y="4414680"/>
                <a:ext cx="696600" cy="911520"/>
              </a:xfrm>
              <a:custGeom>
                <a:avLst/>
                <a:gdLst/>
                <a:ahLst/>
                <a:rect l="l" t="t" r="r" b="b"/>
                <a:pathLst>
                  <a:path w="439" h="574">
                    <a:moveTo>
                      <a:pt x="0" y="0"/>
                    </a:moveTo>
                    <a:lnTo>
                      <a:pt x="439" y="0"/>
                    </a:lnTo>
                    <a:lnTo>
                      <a:pt x="439" y="384"/>
                    </a:lnTo>
                    <a:lnTo>
                      <a:pt x="160" y="384"/>
                    </a:lnTo>
                    <a:lnTo>
                      <a:pt x="160" y="57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5670720" y="4280040"/>
                <a:ext cx="819000" cy="2303280"/>
              </a:xfrm>
              <a:custGeom>
                <a:avLst/>
                <a:gdLst/>
                <a:ahLst/>
                <a:rect l="l" t="t" r="r" b="b"/>
                <a:pathLst>
                  <a:path w="516" h="1451">
                    <a:moveTo>
                      <a:pt x="0" y="0"/>
                    </a:moveTo>
                    <a:lnTo>
                      <a:pt x="516" y="0"/>
                    </a:lnTo>
                    <a:lnTo>
                      <a:pt x="516" y="1451"/>
                    </a:lnTo>
                    <a:lnTo>
                      <a:pt x="134" y="1451"/>
                    </a:lnTo>
                    <a:lnTo>
                      <a:pt x="134" y="140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5670720" y="4348080"/>
                <a:ext cx="757080" cy="1924200"/>
              </a:xfrm>
              <a:custGeom>
                <a:avLst/>
                <a:gdLst/>
                <a:ahLst/>
                <a:rect l="l" t="t" r="r" b="b"/>
                <a:pathLst>
                  <a:path w="477" h="1212">
                    <a:moveTo>
                      <a:pt x="0" y="0"/>
                    </a:moveTo>
                    <a:lnTo>
                      <a:pt x="477" y="0"/>
                    </a:lnTo>
                    <a:lnTo>
                      <a:pt x="477" y="1212"/>
                    </a:lnTo>
                    <a:lnTo>
                      <a:pt x="259" y="1212"/>
                    </a:lnTo>
                    <a:lnTo>
                      <a:pt x="259" y="1149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5675400" y="4168800"/>
                <a:ext cx="928440" cy="111240"/>
              </a:xfrm>
              <a:custGeom>
                <a:avLst/>
                <a:gdLst/>
                <a:ahLst/>
                <a:rect l="l" t="t" r="r" b="b"/>
                <a:pathLst>
                  <a:path w="585" h="70">
                    <a:moveTo>
                      <a:pt x="585" y="70"/>
                    </a:moveTo>
                    <a:lnTo>
                      <a:pt x="531" y="70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5675400" y="3987720"/>
                <a:ext cx="928440" cy="112680"/>
              </a:xfrm>
              <a:custGeom>
                <a:avLst/>
                <a:gdLst/>
                <a:ahLst/>
                <a:rect l="l" t="t" r="r" b="b"/>
                <a:pathLst>
                  <a:path w="585" h="71">
                    <a:moveTo>
                      <a:pt x="585" y="71"/>
                    </a:moveTo>
                    <a:lnTo>
                      <a:pt x="549" y="71"/>
                    </a:lnTo>
                    <a:lnTo>
                      <a:pt x="54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6681960" y="704880"/>
                <a:ext cx="5364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6681960" y="704880"/>
                <a:ext cx="5364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6626160" y="701640"/>
                <a:ext cx="55800" cy="182520"/>
              </a:xfrm>
              <a:custGeom>
                <a:avLst/>
                <a:gdLst/>
                <a:ahLst/>
                <a:rect l="l" t="t" r="r" b="b"/>
                <a:pathLst>
                  <a:path w="35" h="115">
                    <a:moveTo>
                      <a:pt x="35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5" y="11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6626160" y="701640"/>
                <a:ext cx="55800" cy="182520"/>
              </a:xfrm>
              <a:custGeom>
                <a:avLst/>
                <a:gdLst/>
                <a:ahLst/>
                <a:rect l="l" t="t" r="r" b="b"/>
                <a:pathLst>
                  <a:path w="35" h="115">
                    <a:moveTo>
                      <a:pt x="35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5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5670720" y="906480"/>
                <a:ext cx="819000" cy="2303280"/>
              </a:xfrm>
              <a:custGeom>
                <a:avLst/>
                <a:gdLst/>
                <a:ahLst/>
                <a:rect l="l" t="t" r="r" b="b"/>
                <a:pathLst>
                  <a:path w="516" h="1451">
                    <a:moveTo>
                      <a:pt x="0" y="0"/>
                    </a:moveTo>
                    <a:lnTo>
                      <a:pt x="516" y="0"/>
                    </a:lnTo>
                    <a:lnTo>
                      <a:pt x="516" y="1451"/>
                    </a:lnTo>
                    <a:lnTo>
                      <a:pt x="134" y="1451"/>
                    </a:lnTo>
                    <a:lnTo>
                      <a:pt x="134" y="140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5670720" y="1041480"/>
                <a:ext cx="696600" cy="911160"/>
              </a:xfrm>
              <a:custGeom>
                <a:avLst/>
                <a:gdLst/>
                <a:ahLst/>
                <a:rect l="l" t="t" r="r" b="b"/>
                <a:pathLst>
                  <a:path w="439" h="574">
                    <a:moveTo>
                      <a:pt x="0" y="0"/>
                    </a:moveTo>
                    <a:lnTo>
                      <a:pt x="439" y="0"/>
                    </a:lnTo>
                    <a:lnTo>
                      <a:pt x="439" y="384"/>
                    </a:lnTo>
                    <a:lnTo>
                      <a:pt x="160" y="384"/>
                    </a:lnTo>
                    <a:lnTo>
                      <a:pt x="160" y="57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5670720" y="974880"/>
                <a:ext cx="757080" cy="1923840"/>
              </a:xfrm>
              <a:custGeom>
                <a:avLst/>
                <a:gdLst/>
                <a:ahLst/>
                <a:rect l="l" t="t" r="r" b="b"/>
                <a:pathLst>
                  <a:path w="477" h="1212">
                    <a:moveTo>
                      <a:pt x="0" y="0"/>
                    </a:moveTo>
                    <a:lnTo>
                      <a:pt x="477" y="0"/>
                    </a:lnTo>
                    <a:lnTo>
                      <a:pt x="477" y="1212"/>
                    </a:lnTo>
                    <a:lnTo>
                      <a:pt x="259" y="1212"/>
                    </a:lnTo>
                    <a:lnTo>
                      <a:pt x="259" y="1149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5318280" y="974880"/>
                <a:ext cx="22536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5361120" y="790560"/>
                <a:ext cx="18252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5318280" y="611280"/>
                <a:ext cx="22536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5675400" y="793800"/>
                <a:ext cx="928440" cy="112680"/>
              </a:xfrm>
              <a:custGeom>
                <a:avLst/>
                <a:gdLst/>
                <a:ahLst/>
                <a:rect l="l" t="t" r="r" b="b"/>
                <a:pathLst>
                  <a:path w="585" h="71">
                    <a:moveTo>
                      <a:pt x="585" y="71"/>
                    </a:moveTo>
                    <a:lnTo>
                      <a:pt x="531" y="71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5675400" y="614520"/>
                <a:ext cx="928440" cy="112680"/>
              </a:xfrm>
              <a:custGeom>
                <a:avLst/>
                <a:gdLst/>
                <a:ahLst/>
                <a:rect l="l" t="t" r="r" b="b"/>
                <a:pathLst>
                  <a:path w="585" h="71">
                    <a:moveTo>
                      <a:pt x="585" y="71"/>
                    </a:moveTo>
                    <a:lnTo>
                      <a:pt x="549" y="71"/>
                    </a:lnTo>
                    <a:lnTo>
                      <a:pt x="54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 flipH="1">
                <a:off x="5792760" y="2241720"/>
                <a:ext cx="619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7656480" y="884160"/>
                <a:ext cx="10656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7656480" y="884160"/>
                <a:ext cx="10656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7763040" y="1015920"/>
                <a:ext cx="188640" cy="962280"/>
              </a:xfrm>
              <a:custGeom>
                <a:avLst/>
                <a:gdLst/>
                <a:ahLst/>
                <a:rect l="l" t="t" r="r" b="b"/>
                <a:pathLst>
                  <a:path w="119" h="606">
                    <a:moveTo>
                      <a:pt x="119" y="606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6681960" y="884160"/>
                <a:ext cx="5364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6681960" y="884160"/>
                <a:ext cx="5364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6626160" y="884160"/>
                <a:ext cx="5580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6626160" y="884160"/>
                <a:ext cx="5580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3978360" y="264960"/>
                <a:ext cx="3165480" cy="1317600"/>
              </a:xfrm>
              <a:custGeom>
                <a:avLst/>
                <a:gdLst/>
                <a:ahLst/>
                <a:rect l="l" t="t" r="r" b="b"/>
                <a:pathLst>
                  <a:path w="1994" h="830">
                    <a:moveTo>
                      <a:pt x="0" y="113"/>
                    </a:moveTo>
                    <a:lnTo>
                      <a:pt x="2" y="0"/>
                    </a:lnTo>
                    <a:lnTo>
                      <a:pt x="1994" y="0"/>
                    </a:lnTo>
                    <a:lnTo>
                      <a:pt x="1994" y="830"/>
                    </a:lnTo>
                    <a:lnTo>
                      <a:pt x="1943" y="83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6732720" y="1625760"/>
                <a:ext cx="163440" cy="264960"/>
              </a:xfrm>
              <a:custGeom>
                <a:avLst/>
                <a:gdLst/>
                <a:ahLst/>
                <a:rect l="l" t="t" r="r" b="b"/>
                <a:pathLst>
                  <a:path w="103" h="167">
                    <a:moveTo>
                      <a:pt x="0" y="167"/>
                    </a:moveTo>
                    <a:lnTo>
                      <a:pt x="53" y="167"/>
                    </a:lnTo>
                    <a:lnTo>
                      <a:pt x="53" y="0"/>
                    </a:lnTo>
                    <a:lnTo>
                      <a:pt x="103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6735600" y="793800"/>
                <a:ext cx="898560" cy="112680"/>
              </a:xfrm>
              <a:custGeom>
                <a:avLst/>
                <a:gdLst/>
                <a:ahLst/>
                <a:rect l="l" t="t" r="r" b="b"/>
                <a:pathLst>
                  <a:path w="566" h="71">
                    <a:moveTo>
                      <a:pt x="566" y="71"/>
                    </a:moveTo>
                    <a:lnTo>
                      <a:pt x="529" y="71"/>
                    </a:lnTo>
                    <a:lnTo>
                      <a:pt x="52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6181560" y="2125800"/>
                <a:ext cx="79560" cy="461880"/>
              </a:xfrm>
              <a:custGeom>
                <a:avLst/>
                <a:gdLst/>
                <a:ahLst/>
                <a:rect l="l" t="t" r="r" b="b"/>
                <a:pathLst>
                  <a:path w="50" h="291">
                    <a:moveTo>
                      <a:pt x="48" y="0"/>
                    </a:moveTo>
                    <a:lnTo>
                      <a:pt x="50" y="291"/>
                    </a:lnTo>
                    <a:lnTo>
                      <a:pt x="0" y="291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5565600" y="884160"/>
                <a:ext cx="109800" cy="17964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6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5565600" y="884160"/>
                <a:ext cx="109800" cy="17964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5565600" y="70488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6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5565600" y="70488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5565600" y="52560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6" y="11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5565600" y="52560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5065560" y="387360"/>
                <a:ext cx="2776680" cy="1260360"/>
              </a:xfrm>
              <a:custGeom>
                <a:avLst/>
                <a:gdLst/>
                <a:ahLst/>
                <a:rect l="l" t="t" r="r" b="b"/>
                <a:pathLst>
                  <a:path w="1749" h="794">
                    <a:moveTo>
                      <a:pt x="1699" y="343"/>
                    </a:moveTo>
                    <a:lnTo>
                      <a:pt x="1749" y="345"/>
                    </a:lnTo>
                    <a:lnTo>
                      <a:pt x="1749" y="0"/>
                    </a:lnTo>
                    <a:lnTo>
                      <a:pt x="0" y="0"/>
                    </a:lnTo>
                    <a:lnTo>
                      <a:pt x="0" y="79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6896160" y="151272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69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2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7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6896160" y="151272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69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2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7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5802480" y="282420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5802480" y="306540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4773600" y="20257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3440160" y="1619280"/>
                <a:ext cx="98280" cy="280800"/>
              </a:xfrm>
              <a:custGeom>
                <a:avLst/>
                <a:gdLst/>
                <a:ahLst/>
                <a:rect l="l" t="t" r="r" b="b"/>
                <a:pathLst>
                  <a:path w="62" h="177">
                    <a:moveTo>
                      <a:pt x="62" y="175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2" y="177"/>
                    </a:lnTo>
                    <a:lnTo>
                      <a:pt x="62" y="177"/>
                    </a:lnTo>
                    <a:lnTo>
                      <a:pt x="62" y="17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3440160" y="1619280"/>
                <a:ext cx="98280" cy="280800"/>
              </a:xfrm>
              <a:custGeom>
                <a:avLst/>
                <a:gdLst/>
                <a:ahLst/>
                <a:rect l="l" t="t" r="r" b="b"/>
                <a:pathLst>
                  <a:path w="62" h="177">
                    <a:moveTo>
                      <a:pt x="62" y="175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2" y="177"/>
                    </a:lnTo>
                    <a:lnTo>
                      <a:pt x="62" y="17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3679920" y="1644480"/>
                <a:ext cx="301680" cy="62892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3679920" y="1644480"/>
                <a:ext cx="301680" cy="62892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3978360" y="1647720"/>
                <a:ext cx="301680" cy="62568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3978360" y="1647720"/>
                <a:ext cx="301680" cy="62568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3849120" y="1898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3862080" y="1898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3893760" y="1898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3920400" y="1898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3936600" y="1898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3952440" y="1898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3981240" y="1898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4009320" y="1898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4022640" y="1898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4035240" y="1898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4063680" y="1898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4097160" y="1898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3884040" y="19652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393048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3958560" y="19652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400320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4031640" y="1965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4051080" y="1965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3701880" y="1725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373680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376668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3798360" y="1725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381456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3843000" y="1725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3871440" y="1725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6934320" y="1814400"/>
                <a:ext cx="603000" cy="628920"/>
              </a:xfrm>
              <a:custGeom>
                <a:avLst/>
                <a:gdLst/>
                <a:ahLst/>
                <a:rect l="l" t="t" r="r" b="b"/>
                <a:pathLst>
                  <a:path w="380" h="396">
                    <a:moveTo>
                      <a:pt x="378" y="396"/>
                    </a:moveTo>
                    <a:lnTo>
                      <a:pt x="380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80" y="396"/>
                    </a:lnTo>
                    <a:lnTo>
                      <a:pt x="380" y="396"/>
                    </a:lnTo>
                    <a:lnTo>
                      <a:pt x="37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6934320" y="1814400"/>
                <a:ext cx="603000" cy="628920"/>
              </a:xfrm>
              <a:custGeom>
                <a:avLst/>
                <a:gdLst/>
                <a:ahLst/>
                <a:rect l="l" t="t" r="r" b="b"/>
                <a:pathLst>
                  <a:path w="380" h="396">
                    <a:moveTo>
                      <a:pt x="378" y="396"/>
                    </a:moveTo>
                    <a:lnTo>
                      <a:pt x="380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80" y="396"/>
                    </a:lnTo>
                    <a:lnTo>
                      <a:pt x="380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4773600" y="1704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4773600" y="21859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3600360" y="1028880"/>
                <a:ext cx="268200" cy="731520"/>
              </a:xfrm>
              <a:custGeom>
                <a:avLst/>
                <a:gdLst/>
                <a:ahLst/>
                <a:rect l="l" t="t" r="r" b="b"/>
                <a:pathLst>
                  <a:path w="169" h="461">
                    <a:moveTo>
                      <a:pt x="169" y="0"/>
                    </a:moveTo>
                    <a:lnTo>
                      <a:pt x="0" y="0"/>
                    </a:lnTo>
                    <a:lnTo>
                      <a:pt x="0" y="46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 flipH="1">
                <a:off x="3773520" y="1349280"/>
                <a:ext cx="95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3890880" y="919080"/>
                <a:ext cx="176400" cy="540000"/>
              </a:xfrm>
              <a:custGeom>
                <a:avLst/>
                <a:gdLst/>
                <a:ahLst/>
                <a:rect l="l" t="t" r="r" b="b"/>
                <a:pathLst>
                  <a:path w="111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7" y="170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111" y="237"/>
                    </a:lnTo>
                    <a:lnTo>
                      <a:pt x="111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3890880" y="919080"/>
                <a:ext cx="176400" cy="540000"/>
              </a:xfrm>
              <a:custGeom>
                <a:avLst/>
                <a:gdLst/>
                <a:ahLst/>
                <a:rect l="l" t="t" r="r" b="b"/>
                <a:pathLst>
                  <a:path w="111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7" y="170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111" y="237"/>
                    </a:lnTo>
                    <a:lnTo>
                      <a:pt x="111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5842080" y="1987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5842080" y="222408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6024600" y="21067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 flipH="1">
                <a:off x="5974920" y="2119320"/>
                <a:ext cx="58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6024600" y="17859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7870680" y="20131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7870680" y="22543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6902280" y="2314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978520" y="237168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10" y="229"/>
                    </a:lnTo>
                    <a:lnTo>
                      <a:pt x="116" y="215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10" y="41"/>
                    </a:lnTo>
                    <a:lnTo>
                      <a:pt x="101" y="27"/>
                    </a:lnTo>
                    <a:lnTo>
                      <a:pt x="93" y="17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3" y="2"/>
                    </a:lnTo>
                    <a:lnTo>
                      <a:pt x="45" y="8"/>
                    </a:lnTo>
                    <a:lnTo>
                      <a:pt x="35" y="17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6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9" y="196"/>
                    </a:lnTo>
                    <a:lnTo>
                      <a:pt x="13" y="215"/>
                    </a:lnTo>
                    <a:lnTo>
                      <a:pt x="19" y="229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3" y="267"/>
                    </a:lnTo>
                    <a:lnTo>
                      <a:pt x="65" y="269"/>
                    </a:lnTo>
                    <a:lnTo>
                      <a:pt x="65" y="269"/>
                    </a:lnTo>
                    <a:lnTo>
                      <a:pt x="63" y="269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978520" y="237168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10" y="229"/>
                    </a:lnTo>
                    <a:lnTo>
                      <a:pt x="116" y="215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10" y="41"/>
                    </a:lnTo>
                    <a:lnTo>
                      <a:pt x="101" y="27"/>
                    </a:lnTo>
                    <a:lnTo>
                      <a:pt x="93" y="17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3" y="2"/>
                    </a:lnTo>
                    <a:lnTo>
                      <a:pt x="45" y="8"/>
                    </a:lnTo>
                    <a:lnTo>
                      <a:pt x="35" y="17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6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9" y="196"/>
                    </a:lnTo>
                    <a:lnTo>
                      <a:pt x="13" y="215"/>
                    </a:lnTo>
                    <a:lnTo>
                      <a:pt x="19" y="229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3" y="267"/>
                    </a:lnTo>
                    <a:lnTo>
                      <a:pt x="65" y="269"/>
                    </a:lnTo>
                    <a:lnTo>
                      <a:pt x="65" y="26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4747680" y="2709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4760640" y="27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4792320" y="2709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4817520" y="2709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4830120" y="2709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4849560" y="27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4879440" y="2709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4907880" y="2709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4921200" y="2709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4933440" y="27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4962240" y="27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4991040" y="2709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4747680" y="2763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4760640" y="276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4792320" y="276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4820760" y="276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858920" y="276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4892400" y="276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4920480" y="2763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6842160" y="1424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6876360" y="1424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6892560" y="14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6921000" y="14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6954480" y="1424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6980040" y="14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6172200" y="1574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6210000" y="157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6238800" y="1574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6276960" y="1574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6312960" y="1574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6329160" y="1574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3586320" y="1746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17"/>
                    </a:moveTo>
                    <a:lnTo>
                      <a:pt x="11" y="17"/>
                    </a:lnTo>
                    <a:lnTo>
                      <a:pt x="11" y="17"/>
                    </a:lnTo>
                    <a:lnTo>
                      <a:pt x="13" y="17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3859200" y="10159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3859200" y="13366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371772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 flipH="1">
                <a:off x="5675400" y="1189080"/>
                <a:ext cx="2556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5956200" y="1079640"/>
                <a:ext cx="333360" cy="53964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5" y="170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5956200" y="1079640"/>
                <a:ext cx="333360" cy="53964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5" y="170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 flipH="1">
                <a:off x="6289200" y="1349280"/>
                <a:ext cx="3207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6594480" y="13366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3538440" y="1760400"/>
                <a:ext cx="122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3648240" y="17431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1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3406680" y="174312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4747680" y="2455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4760640" y="2455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4792320" y="2455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4817520" y="2455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4833360" y="2455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4849560" y="2455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4879440" y="2455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4907880" y="2455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4921200" y="2455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4933440" y="2455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4962240" y="2455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4994280" y="2455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4747680" y="2511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4760640" y="251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792320" y="251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4820760" y="251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4858920" y="251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4892040" y="2511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5924520" y="11764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5924520" y="14968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7899480" y="1978200"/>
                <a:ext cx="10296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2"/>
                    </a:moveTo>
                    <a:lnTo>
                      <a:pt x="2" y="26"/>
                    </a:lnTo>
                    <a:lnTo>
                      <a:pt x="4" y="22"/>
                    </a:lnTo>
                    <a:lnTo>
                      <a:pt x="4" y="18"/>
                    </a:lnTo>
                    <a:lnTo>
                      <a:pt x="9" y="14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3" y="0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4"/>
                    </a:lnTo>
                    <a:lnTo>
                      <a:pt x="65" y="188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6"/>
                    </a:lnTo>
                    <a:lnTo>
                      <a:pt x="51" y="208"/>
                    </a:lnTo>
                    <a:lnTo>
                      <a:pt x="47" y="212"/>
                    </a:lnTo>
                    <a:lnTo>
                      <a:pt x="43" y="214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4"/>
                    </a:lnTo>
                    <a:lnTo>
                      <a:pt x="19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9" y="202"/>
                    </a:lnTo>
                    <a:lnTo>
                      <a:pt x="4" y="198"/>
                    </a:lnTo>
                    <a:lnTo>
                      <a:pt x="4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7899480" y="1978200"/>
                <a:ext cx="10296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2"/>
                    </a:moveTo>
                    <a:lnTo>
                      <a:pt x="2" y="26"/>
                    </a:lnTo>
                    <a:lnTo>
                      <a:pt x="4" y="22"/>
                    </a:lnTo>
                    <a:lnTo>
                      <a:pt x="4" y="18"/>
                    </a:lnTo>
                    <a:lnTo>
                      <a:pt x="9" y="14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3" y="0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4"/>
                    </a:lnTo>
                    <a:lnTo>
                      <a:pt x="65" y="188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6"/>
                    </a:lnTo>
                    <a:lnTo>
                      <a:pt x="51" y="208"/>
                    </a:lnTo>
                    <a:lnTo>
                      <a:pt x="47" y="212"/>
                    </a:lnTo>
                    <a:lnTo>
                      <a:pt x="43" y="214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4"/>
                    </a:lnTo>
                    <a:lnTo>
                      <a:pt x="19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9" y="202"/>
                    </a:lnTo>
                    <a:lnTo>
                      <a:pt x="4" y="198"/>
                    </a:lnTo>
                    <a:lnTo>
                      <a:pt x="4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2"/>
                    </a:lnTo>
                    <a:lnTo>
                      <a:pt x="2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5873760" y="1952640"/>
                <a:ext cx="98280" cy="33984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5873760" y="1952640"/>
                <a:ext cx="98280" cy="33984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589248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5830920" y="278928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5" y="22"/>
                    </a:lnTo>
                    <a:lnTo>
                      <a:pt x="7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9" y="4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2"/>
                    </a:lnTo>
                    <a:lnTo>
                      <a:pt x="65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3" y="208"/>
                    </a:lnTo>
                    <a:lnTo>
                      <a:pt x="49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7" y="198"/>
                    </a:lnTo>
                    <a:lnTo>
                      <a:pt x="5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5830920" y="278928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5" y="22"/>
                    </a:lnTo>
                    <a:lnTo>
                      <a:pt x="7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9" y="4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2"/>
                    </a:lnTo>
                    <a:lnTo>
                      <a:pt x="65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3" y="208"/>
                    </a:lnTo>
                    <a:lnTo>
                      <a:pt x="49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7" y="198"/>
                    </a:lnTo>
                    <a:lnTo>
                      <a:pt x="5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2"/>
                    </a:lnTo>
                    <a:lnTo>
                      <a:pt x="3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5854320" y="3049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5110200" y="77796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6024600" y="1320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605916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608760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6181560" y="1292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6216480" y="12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6244920" y="12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6276960" y="12924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6135120" y="1346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6156000" y="134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6184440" y="1346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6210000" y="134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6238800" y="1346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6251040" y="1346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4773600" y="18651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5103720" y="1647720"/>
                <a:ext cx="301680" cy="625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5103720" y="1647720"/>
                <a:ext cx="301680" cy="6256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4805280" y="1644480"/>
                <a:ext cx="298440" cy="628920"/>
              </a:xfrm>
              <a:custGeom>
                <a:avLst/>
                <a:gdLst/>
                <a:ahLst/>
                <a:rect l="l" t="t" r="r" b="b"/>
                <a:pathLst>
                  <a:path w="188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88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4805280" y="1644480"/>
                <a:ext cx="298440" cy="628920"/>
              </a:xfrm>
              <a:custGeom>
                <a:avLst/>
                <a:gdLst/>
                <a:ahLst/>
                <a:rect l="l" t="t" r="r" b="b"/>
                <a:pathLst>
                  <a:path w="188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88" y="39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4987800" y="1930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5028840" y="193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5059080" y="193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5087880" y="1930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5100120" y="1930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125320" y="1930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5141520" y="193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5169960" y="1930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5189040" y="1930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6" name=""/>
            <p:cNvGrpSpPr/>
            <p:nvPr/>
          </p:nvGrpSpPr>
          <p:grpSpPr>
            <a:xfrm>
              <a:off x="3359160" y="88920"/>
              <a:ext cx="4524480" cy="3319560"/>
              <a:chOff x="3359160" y="88920"/>
              <a:chExt cx="4524480" cy="3319560"/>
            </a:xfrm>
          </p:grpSpPr>
          <p:sp>
            <p:nvSpPr>
              <p:cNvPr id="4317" name=""/>
              <p:cNvSpPr/>
              <p:nvPr/>
            </p:nvSpPr>
            <p:spPr>
              <a:xfrm>
                <a:off x="4827240" y="19810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4876200" y="1981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4896000" y="1981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4907880" y="1981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4920840" y="1981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4952880" y="1981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4827240" y="2036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4843080" y="2036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4876560" y="2036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4905360" y="2036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4914720" y="2036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4942800" y="2036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4955760" y="2036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4987440" y="2036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4827240" y="21416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4876200" y="2141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4896000" y="2141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4907880" y="2141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920840" y="2141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952880" y="21416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4827240" y="219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4855680" y="219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4885560" y="2197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4901760" y="219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5261040" y="1741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5298840" y="17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5330520" y="17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5360760" y="17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5389560" y="1741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5229000" y="179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5260680" y="179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5289120" y="1795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5302080" y="179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5333400" y="1795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5346360" y="179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5261040" y="1943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5298840" y="194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5330520" y="194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5360760" y="194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5389560" y="19432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522900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526068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5289120" y="1996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530208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5333400" y="1996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534636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4827600" y="16606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4865400" y="166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4895640" y="166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4924080" y="166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4956120" y="16606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4827240" y="1716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4843080" y="171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4876560" y="171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4905360" y="1716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4914720" y="1716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4942800" y="171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4955760" y="171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4987440" y="1716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5003280" y="171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5019480" y="171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4827600" y="1820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4865400" y="182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4895640" y="182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4924080" y="182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4956120" y="1820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4827240" y="1876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4843080" y="18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4876560" y="18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4905360" y="1876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4914720" y="1876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4942800" y="1876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4955760" y="18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4987440" y="1876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5003280" y="1876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5019480" y="18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6053040" y="1689120"/>
                <a:ext cx="333360" cy="538200"/>
              </a:xfrm>
              <a:custGeom>
                <a:avLst/>
                <a:gdLst/>
                <a:ahLst/>
                <a:rect l="l" t="t" r="r" b="b"/>
                <a:pathLst>
                  <a:path w="210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6" y="172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6053040" y="1689120"/>
                <a:ext cx="333360" cy="538200"/>
              </a:xfrm>
              <a:custGeom>
                <a:avLst/>
                <a:gdLst/>
                <a:ahLst/>
                <a:rect l="l" t="t" r="r" b="b"/>
                <a:pathLst>
                  <a:path w="210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6" y="172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6273720" y="1946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6313320" y="1946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342120" y="19461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6380280" y="19461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6231960" y="1996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625140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6279840" y="1996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630828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6338880" y="1996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6351120" y="1996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5533920" y="198756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5792760" y="1641600"/>
                <a:ext cx="1440" cy="6001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 flipH="1">
                <a:off x="5675400" y="2000160"/>
                <a:ext cx="179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 flipH="1">
                <a:off x="5405040" y="2000160"/>
                <a:ext cx="135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5710320" y="1378080"/>
                <a:ext cx="166680" cy="266400"/>
              </a:xfrm>
              <a:custGeom>
                <a:avLst/>
                <a:gdLst/>
                <a:ahLst/>
                <a:rect l="l" t="t" r="r" b="b"/>
                <a:pathLst>
                  <a:path w="105" h="168">
                    <a:moveTo>
                      <a:pt x="52" y="166"/>
                    </a:moveTo>
                    <a:lnTo>
                      <a:pt x="60" y="166"/>
                    </a:lnTo>
                    <a:lnTo>
                      <a:pt x="68" y="164"/>
                    </a:lnTo>
                    <a:lnTo>
                      <a:pt x="76" y="158"/>
                    </a:lnTo>
                    <a:lnTo>
                      <a:pt x="83" y="152"/>
                    </a:lnTo>
                    <a:lnTo>
                      <a:pt x="89" y="144"/>
                    </a:lnTo>
                    <a:lnTo>
                      <a:pt x="95" y="133"/>
                    </a:lnTo>
                    <a:lnTo>
                      <a:pt x="99" y="121"/>
                    </a:lnTo>
                    <a:lnTo>
                      <a:pt x="103" y="109"/>
                    </a:lnTo>
                    <a:lnTo>
                      <a:pt x="105" y="97"/>
                    </a:lnTo>
                    <a:lnTo>
                      <a:pt x="105" y="85"/>
                    </a:lnTo>
                    <a:lnTo>
                      <a:pt x="105" y="71"/>
                    </a:lnTo>
                    <a:lnTo>
                      <a:pt x="103" y="59"/>
                    </a:lnTo>
                    <a:lnTo>
                      <a:pt x="99" y="47"/>
                    </a:lnTo>
                    <a:lnTo>
                      <a:pt x="95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6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6" y="6"/>
                    </a:lnTo>
                    <a:lnTo>
                      <a:pt x="28" y="10"/>
                    </a:lnTo>
                    <a:lnTo>
                      <a:pt x="22" y="16"/>
                    </a:lnTo>
                    <a:lnTo>
                      <a:pt x="16" y="24"/>
                    </a:lnTo>
                    <a:lnTo>
                      <a:pt x="10" y="34"/>
                    </a:lnTo>
                    <a:lnTo>
                      <a:pt x="6" y="47"/>
                    </a:lnTo>
                    <a:lnTo>
                      <a:pt x="4" y="59"/>
                    </a:lnTo>
                    <a:lnTo>
                      <a:pt x="2" y="71"/>
                    </a:lnTo>
                    <a:lnTo>
                      <a:pt x="0" y="85"/>
                    </a:lnTo>
                    <a:lnTo>
                      <a:pt x="2" y="97"/>
                    </a:lnTo>
                    <a:lnTo>
                      <a:pt x="4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6" y="144"/>
                    </a:lnTo>
                    <a:lnTo>
                      <a:pt x="22" y="152"/>
                    </a:lnTo>
                    <a:lnTo>
                      <a:pt x="28" y="158"/>
                    </a:lnTo>
                    <a:lnTo>
                      <a:pt x="36" y="164"/>
                    </a:lnTo>
                    <a:lnTo>
                      <a:pt x="44" y="166"/>
                    </a:lnTo>
                    <a:lnTo>
                      <a:pt x="52" y="168"/>
                    </a:lnTo>
                    <a:lnTo>
                      <a:pt x="52" y="168"/>
                    </a:lnTo>
                    <a:lnTo>
                      <a:pt x="52" y="1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5710320" y="1378080"/>
                <a:ext cx="166680" cy="266400"/>
              </a:xfrm>
              <a:custGeom>
                <a:avLst/>
                <a:gdLst/>
                <a:ahLst/>
                <a:rect l="l" t="t" r="r" b="b"/>
                <a:pathLst>
                  <a:path w="105" h="168">
                    <a:moveTo>
                      <a:pt x="52" y="166"/>
                    </a:moveTo>
                    <a:lnTo>
                      <a:pt x="60" y="166"/>
                    </a:lnTo>
                    <a:lnTo>
                      <a:pt x="68" y="164"/>
                    </a:lnTo>
                    <a:lnTo>
                      <a:pt x="76" y="158"/>
                    </a:lnTo>
                    <a:lnTo>
                      <a:pt x="83" y="152"/>
                    </a:lnTo>
                    <a:lnTo>
                      <a:pt x="89" y="144"/>
                    </a:lnTo>
                    <a:lnTo>
                      <a:pt x="95" y="133"/>
                    </a:lnTo>
                    <a:lnTo>
                      <a:pt x="99" y="121"/>
                    </a:lnTo>
                    <a:lnTo>
                      <a:pt x="103" y="109"/>
                    </a:lnTo>
                    <a:lnTo>
                      <a:pt x="105" y="97"/>
                    </a:lnTo>
                    <a:lnTo>
                      <a:pt x="105" y="85"/>
                    </a:lnTo>
                    <a:lnTo>
                      <a:pt x="105" y="71"/>
                    </a:lnTo>
                    <a:lnTo>
                      <a:pt x="103" y="59"/>
                    </a:lnTo>
                    <a:lnTo>
                      <a:pt x="99" y="47"/>
                    </a:lnTo>
                    <a:lnTo>
                      <a:pt x="95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6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6" y="6"/>
                    </a:lnTo>
                    <a:lnTo>
                      <a:pt x="28" y="10"/>
                    </a:lnTo>
                    <a:lnTo>
                      <a:pt x="22" y="16"/>
                    </a:lnTo>
                    <a:lnTo>
                      <a:pt x="16" y="24"/>
                    </a:lnTo>
                    <a:lnTo>
                      <a:pt x="10" y="34"/>
                    </a:lnTo>
                    <a:lnTo>
                      <a:pt x="6" y="47"/>
                    </a:lnTo>
                    <a:lnTo>
                      <a:pt x="4" y="59"/>
                    </a:lnTo>
                    <a:lnTo>
                      <a:pt x="2" y="71"/>
                    </a:lnTo>
                    <a:lnTo>
                      <a:pt x="0" y="85"/>
                    </a:lnTo>
                    <a:lnTo>
                      <a:pt x="2" y="97"/>
                    </a:lnTo>
                    <a:lnTo>
                      <a:pt x="4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6" y="144"/>
                    </a:lnTo>
                    <a:lnTo>
                      <a:pt x="22" y="152"/>
                    </a:lnTo>
                    <a:lnTo>
                      <a:pt x="28" y="158"/>
                    </a:lnTo>
                    <a:lnTo>
                      <a:pt x="36" y="164"/>
                    </a:lnTo>
                    <a:lnTo>
                      <a:pt x="44" y="166"/>
                    </a:lnTo>
                    <a:lnTo>
                      <a:pt x="52" y="168"/>
                    </a:lnTo>
                    <a:lnTo>
                      <a:pt x="52" y="16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5950080" y="25718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5735520" y="1449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5773320" y="144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5802480" y="1449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5811120" y="144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5826960" y="144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5845320" y="14493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5729400" y="1515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5741640" y="151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577008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578268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579852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5814720" y="151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 rot="16200000">
                <a:off x="5005800" y="1529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 rot="16200000">
                <a:off x="5011920" y="1496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 rot="16200000">
                <a:off x="5011920" y="146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 rot="16200000">
                <a:off x="4997520" y="14198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 rot="16200000">
                <a:off x="5020200" y="1393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 rot="16200000">
                <a:off x="5024880" y="1381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 rot="16200000">
                <a:off x="5022720" y="1365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 rot="16200000">
                <a:off x="5011920" y="133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7260480" y="25495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7306920" y="254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7335360" y="25495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7380360" y="2549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7418160" y="254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7448040" y="254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7476840" y="254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138640" y="560520"/>
                <a:ext cx="22248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3" y="287"/>
                    </a:lnTo>
                    <a:lnTo>
                      <a:pt x="103" y="279"/>
                    </a:lnTo>
                    <a:lnTo>
                      <a:pt x="111" y="267"/>
                    </a:lnTo>
                    <a:lnTo>
                      <a:pt x="119" y="253"/>
                    </a:lnTo>
                    <a:lnTo>
                      <a:pt x="127" y="234"/>
                    </a:lnTo>
                    <a:lnTo>
                      <a:pt x="131" y="216"/>
                    </a:lnTo>
                    <a:lnTo>
                      <a:pt x="136" y="194"/>
                    </a:lnTo>
                    <a:lnTo>
                      <a:pt x="140" y="172"/>
                    </a:lnTo>
                    <a:lnTo>
                      <a:pt x="140" y="147"/>
                    </a:lnTo>
                    <a:lnTo>
                      <a:pt x="140" y="123"/>
                    </a:lnTo>
                    <a:lnTo>
                      <a:pt x="136" y="101"/>
                    </a:lnTo>
                    <a:lnTo>
                      <a:pt x="131" y="81"/>
                    </a:lnTo>
                    <a:lnTo>
                      <a:pt x="127" y="61"/>
                    </a:lnTo>
                    <a:lnTo>
                      <a:pt x="119" y="42"/>
                    </a:lnTo>
                    <a:lnTo>
                      <a:pt x="111" y="28"/>
                    </a:lnTo>
                    <a:lnTo>
                      <a:pt x="103" y="16"/>
                    </a:lnTo>
                    <a:lnTo>
                      <a:pt x="93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30" y="28"/>
                    </a:lnTo>
                    <a:lnTo>
                      <a:pt x="20" y="42"/>
                    </a:lnTo>
                    <a:lnTo>
                      <a:pt x="14" y="61"/>
                    </a:lnTo>
                    <a:lnTo>
                      <a:pt x="8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8" y="216"/>
                    </a:lnTo>
                    <a:lnTo>
                      <a:pt x="14" y="234"/>
                    </a:lnTo>
                    <a:lnTo>
                      <a:pt x="20" y="253"/>
                    </a:lnTo>
                    <a:lnTo>
                      <a:pt x="30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5138640" y="560520"/>
                <a:ext cx="22248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3" y="287"/>
                    </a:lnTo>
                    <a:lnTo>
                      <a:pt x="103" y="279"/>
                    </a:lnTo>
                    <a:lnTo>
                      <a:pt x="111" y="267"/>
                    </a:lnTo>
                    <a:lnTo>
                      <a:pt x="119" y="253"/>
                    </a:lnTo>
                    <a:lnTo>
                      <a:pt x="127" y="234"/>
                    </a:lnTo>
                    <a:lnTo>
                      <a:pt x="131" y="216"/>
                    </a:lnTo>
                    <a:lnTo>
                      <a:pt x="136" y="194"/>
                    </a:lnTo>
                    <a:lnTo>
                      <a:pt x="140" y="172"/>
                    </a:lnTo>
                    <a:lnTo>
                      <a:pt x="140" y="147"/>
                    </a:lnTo>
                    <a:lnTo>
                      <a:pt x="140" y="123"/>
                    </a:lnTo>
                    <a:lnTo>
                      <a:pt x="136" y="101"/>
                    </a:lnTo>
                    <a:lnTo>
                      <a:pt x="131" y="81"/>
                    </a:lnTo>
                    <a:lnTo>
                      <a:pt x="127" y="61"/>
                    </a:lnTo>
                    <a:lnTo>
                      <a:pt x="119" y="42"/>
                    </a:lnTo>
                    <a:lnTo>
                      <a:pt x="111" y="28"/>
                    </a:lnTo>
                    <a:lnTo>
                      <a:pt x="103" y="16"/>
                    </a:lnTo>
                    <a:lnTo>
                      <a:pt x="93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30" y="28"/>
                    </a:lnTo>
                    <a:lnTo>
                      <a:pt x="20" y="42"/>
                    </a:lnTo>
                    <a:lnTo>
                      <a:pt x="14" y="61"/>
                    </a:lnTo>
                    <a:lnTo>
                      <a:pt x="8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8" y="216"/>
                    </a:lnTo>
                    <a:lnTo>
                      <a:pt x="14" y="234"/>
                    </a:lnTo>
                    <a:lnTo>
                      <a:pt x="20" y="253"/>
                    </a:lnTo>
                    <a:lnTo>
                      <a:pt x="30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5160960" y="763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200200" y="76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232240" y="76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5260320" y="763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5273280" y="763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5292360" y="76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5321160" y="7635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6119640" y="19303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6156000" y="193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6188040" y="1930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4747680" y="294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4760640" y="294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4792320" y="2949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4817520" y="294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4830120" y="2949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4849560" y="294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4879440" y="2949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4907880" y="294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4921200" y="2949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4933440" y="294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4962240" y="294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4991040" y="2949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4747680" y="3005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476064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479232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482076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485892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489240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4920480" y="3005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4575240" y="282420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 flipH="1">
                <a:off x="5877000" y="1509840"/>
                <a:ext cx="540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 flipH="1">
                <a:off x="5675400" y="3078000"/>
                <a:ext cx="139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 flipH="1">
                <a:off x="5675400" y="2836800"/>
                <a:ext cx="1396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4330800" y="19461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4280040" y="1959120"/>
                <a:ext cx="5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5533920" y="17859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 flipH="1">
                <a:off x="5405040" y="1798560"/>
                <a:ext cx="1350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5533920" y="28242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4587840" y="2836800"/>
                <a:ext cx="955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5533920" y="306540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5587920" y="942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5626080" y="942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5596920" y="763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5581440" y="582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5629320" y="582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5537160" y="96192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5537160" y="77796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5537160" y="5983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6597720" y="89388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6597720" y="7113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5537160" y="1176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6594480" y="2943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5931000" y="2955960"/>
                <a:ext cx="672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6594480" y="20160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6594480" y="23144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 flipH="1">
                <a:off x="6735600" y="2327400"/>
                <a:ext cx="17640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5732640" y="2000160"/>
                <a:ext cx="868320" cy="330120"/>
              </a:xfrm>
              <a:custGeom>
                <a:avLst/>
                <a:gdLst/>
                <a:ahLst/>
                <a:rect l="l" t="t" r="r" b="b"/>
                <a:pathLst>
                  <a:path w="547" h="208">
                    <a:moveTo>
                      <a:pt x="547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7624800" y="8938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7624800" y="20131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 flipH="1">
                <a:off x="7762680" y="2028960"/>
                <a:ext cx="120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 flipH="1">
                <a:off x="7536960" y="2028960"/>
                <a:ext cx="939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7624800" y="24908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7763040" y="2266920"/>
                <a:ext cx="120600" cy="236520"/>
              </a:xfrm>
              <a:custGeom>
                <a:avLst/>
                <a:gdLst/>
                <a:ahLst/>
                <a:rect l="l" t="t" r="r" b="b"/>
                <a:pathLst>
                  <a:path w="76" h="149">
                    <a:moveTo>
                      <a:pt x="76" y="0"/>
                    </a:moveTo>
                    <a:lnTo>
                      <a:pt x="38" y="2"/>
                    </a:lnTo>
                    <a:lnTo>
                      <a:pt x="38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7624800" y="2943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6732720" y="2955960"/>
                <a:ext cx="90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4330800" y="11764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 flipH="1">
                <a:off x="4468680" y="1189080"/>
                <a:ext cx="1074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 flipH="1">
                <a:off x="4066920" y="1189080"/>
                <a:ext cx="266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3897360" y="48096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3897360" y="72072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3789360" y="493560"/>
                <a:ext cx="361800" cy="695520"/>
              </a:xfrm>
              <a:custGeom>
                <a:avLst/>
                <a:gdLst/>
                <a:ahLst/>
                <a:rect l="l" t="t" r="r" b="b"/>
                <a:pathLst>
                  <a:path w="228" h="438">
                    <a:moveTo>
                      <a:pt x="76" y="0"/>
                    </a:moveTo>
                    <a:lnTo>
                      <a:pt x="0" y="2"/>
                    </a:lnTo>
                    <a:lnTo>
                      <a:pt x="0" y="248"/>
                    </a:lnTo>
                    <a:lnTo>
                      <a:pt x="228" y="248"/>
                    </a:lnTo>
                    <a:lnTo>
                      <a:pt x="228" y="4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3359160" y="406440"/>
                <a:ext cx="731880" cy="1353960"/>
              </a:xfrm>
              <a:custGeom>
                <a:avLst/>
                <a:gdLst/>
                <a:ahLst/>
                <a:rect l="l" t="t" r="r" b="b"/>
                <a:pathLst>
                  <a:path w="461" h="853">
                    <a:moveTo>
                      <a:pt x="36" y="853"/>
                    </a:moveTo>
                    <a:lnTo>
                      <a:pt x="0" y="853"/>
                    </a:lnTo>
                    <a:lnTo>
                      <a:pt x="0" y="0"/>
                    </a:lnTo>
                    <a:lnTo>
                      <a:pt x="461" y="0"/>
                    </a:lnTo>
                    <a:lnTo>
                      <a:pt x="461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3849840" y="326880"/>
                <a:ext cx="3213000" cy="1022400"/>
              </a:xfrm>
              <a:custGeom>
                <a:avLst/>
                <a:gdLst/>
                <a:ahLst/>
                <a:rect l="l" t="t" r="r" b="b"/>
                <a:pathLst>
                  <a:path w="2024" h="644">
                    <a:moveTo>
                      <a:pt x="1816" y="644"/>
                    </a:moveTo>
                    <a:lnTo>
                      <a:pt x="2024" y="644"/>
                    </a:lnTo>
                    <a:lnTo>
                      <a:pt x="2024" y="0"/>
                    </a:lnTo>
                    <a:lnTo>
                      <a:pt x="226" y="0"/>
                    </a:lnTo>
                    <a:lnTo>
                      <a:pt x="226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38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4135320" y="11764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4414680" y="88920"/>
                <a:ext cx="1800" cy="97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 flipV="1">
                <a:off x="4414680" y="3129120"/>
                <a:ext cx="180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7" name=""/>
            <p:cNvGrpSpPr/>
            <p:nvPr/>
          </p:nvGrpSpPr>
          <p:grpSpPr>
            <a:xfrm>
              <a:off x="3384000" y="88920"/>
              <a:ext cx="5001840" cy="3319560"/>
              <a:chOff x="3384000" y="88920"/>
              <a:chExt cx="5001840" cy="3319560"/>
            </a:xfrm>
          </p:grpSpPr>
          <p:sp>
            <p:nvSpPr>
              <p:cNvPr id="4518" name=""/>
              <p:cNvSpPr/>
              <p:nvPr/>
            </p:nvSpPr>
            <p:spPr>
              <a:xfrm rot="16200000">
                <a:off x="4529160" y="1873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 rot="16200000">
                <a:off x="4518360" y="1846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 rot="16200000">
                <a:off x="4520520" y="1818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 rot="16200000">
                <a:off x="4529160" y="1799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 rot="16200000">
                <a:off x="4526640" y="1783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 rot="16200000">
                <a:off x="4518360" y="175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 rot="16200000">
                <a:off x="4520520" y="1729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 rot="16200000">
                <a:off x="4529160" y="1713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 rot="16200000">
                <a:off x="4531320" y="1699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 rot="16200000">
                <a:off x="4518360" y="16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 rot="16200000">
                <a:off x="4518360" y="1643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4356000" y="43488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435240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4367880" y="4366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440136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441756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4433760" y="4366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5619600" y="88920"/>
                <a:ext cx="1800" cy="436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 flipV="1">
                <a:off x="5619600" y="3129120"/>
                <a:ext cx="180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5562720" y="43488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6681960" y="88920"/>
                <a:ext cx="1440" cy="615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 flipV="1">
                <a:off x="6681960" y="3129120"/>
                <a:ext cx="14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6622920" y="43488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657864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661356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664956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6665400" y="4366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670716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6744600" y="4366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7707240" y="88920"/>
                <a:ext cx="3240" cy="795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 flipV="1">
                <a:off x="7707240" y="3129120"/>
                <a:ext cx="32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554940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5565600" y="4366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560340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561960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565452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4439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4465800" y="98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4531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4558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45842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4638240" y="98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4666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46922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47480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47988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4849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4876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49017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49525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5006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5033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50590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51098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564516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570708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57700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57952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58212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58734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59241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59778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60051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60559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61066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61588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6184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62096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6238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62636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6289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6316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6706440" y="98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678348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6847920" y="98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69242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6949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6976800" y="98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70243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70750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71272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71528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72036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72576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73098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73353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73605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7386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74113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74383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74638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7735680" y="982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782316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78861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79131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7939080" y="982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7958160" y="98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80240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80499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81054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81561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82069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82339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8259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8284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83098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8335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83638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7653240" y="43488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7598880" y="4366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764388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7678080" y="4366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772272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7735680" y="4366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778824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3840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3409200" y="982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34682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3493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35190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35701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36223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36759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37018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37540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38048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38556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38808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39096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39621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40125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4038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40636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41158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53798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540828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543996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53798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540828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537984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540828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543996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546876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569736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57290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575748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569736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57290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5697360" y="91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5729040" y="91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5697360" y="843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5697360" y="97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675756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67892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6757560" y="91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6757560" y="843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6757560" y="97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5565600" y="1063800"/>
                <a:ext cx="10980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6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  <a:lnTo>
                      <a:pt x="66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5565600" y="1063800"/>
                <a:ext cx="10980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6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3930480" y="444600"/>
                <a:ext cx="9864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3"/>
                    </a:moveTo>
                    <a:lnTo>
                      <a:pt x="0" y="27"/>
                    </a:lnTo>
                    <a:lnTo>
                      <a:pt x="2" y="23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8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3"/>
                    </a:lnTo>
                    <a:lnTo>
                      <a:pt x="62" y="27"/>
                    </a:lnTo>
                    <a:lnTo>
                      <a:pt x="62" y="33"/>
                    </a:lnTo>
                    <a:lnTo>
                      <a:pt x="62" y="184"/>
                    </a:lnTo>
                    <a:lnTo>
                      <a:pt x="62" y="188"/>
                    </a:lnTo>
                    <a:lnTo>
                      <a:pt x="60" y="194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2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0" y="214"/>
                    </a:lnTo>
                    <a:lnTo>
                      <a:pt x="36" y="214"/>
                    </a:lnTo>
                    <a:lnTo>
                      <a:pt x="30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6" y="212"/>
                    </a:lnTo>
                    <a:lnTo>
                      <a:pt x="12" y="208"/>
                    </a:lnTo>
                    <a:lnTo>
                      <a:pt x="8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8"/>
                    </a:lnTo>
                    <a:lnTo>
                      <a:pt x="0" y="184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3930480" y="444600"/>
                <a:ext cx="9864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3"/>
                    </a:moveTo>
                    <a:lnTo>
                      <a:pt x="0" y="27"/>
                    </a:lnTo>
                    <a:lnTo>
                      <a:pt x="2" y="23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8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3"/>
                    </a:lnTo>
                    <a:lnTo>
                      <a:pt x="62" y="27"/>
                    </a:lnTo>
                    <a:lnTo>
                      <a:pt x="62" y="33"/>
                    </a:lnTo>
                    <a:lnTo>
                      <a:pt x="62" y="184"/>
                    </a:lnTo>
                    <a:lnTo>
                      <a:pt x="62" y="188"/>
                    </a:lnTo>
                    <a:lnTo>
                      <a:pt x="60" y="194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2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0" y="214"/>
                    </a:lnTo>
                    <a:lnTo>
                      <a:pt x="36" y="214"/>
                    </a:lnTo>
                    <a:lnTo>
                      <a:pt x="30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6" y="212"/>
                    </a:lnTo>
                    <a:lnTo>
                      <a:pt x="12" y="208"/>
                    </a:lnTo>
                    <a:lnTo>
                      <a:pt x="8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8"/>
                    </a:lnTo>
                    <a:lnTo>
                      <a:pt x="0" y="184"/>
                    </a:ln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3955320" y="531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4000680" y="53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3965400" y="58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3994200" y="585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3965040" y="638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3949200" y="465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3949200" y="70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3959280" y="1160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3993840" y="116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4025520" y="116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3456000" y="1728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3490920" y="1728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7922880" y="223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6957720" y="2273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7008120" y="2273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7024680" y="2273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7036920" y="2273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7052760" y="2273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7081920" y="22734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6957720" y="23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6986160" y="23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7017840" y="2324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7030800" y="23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7392960" y="1971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7432200" y="197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7461000" y="197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7489440" y="197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7518240" y="197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7408440" y="202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7438680" y="202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7467120" y="202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7482960" y="202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7929000" y="20653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7970760" y="2065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7935480" y="211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7967520" y="2119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7935480" y="2170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792288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7656480" y="1063800"/>
                <a:ext cx="106560" cy="2065320"/>
              </a:xfrm>
              <a:custGeom>
                <a:avLst/>
                <a:gdLst/>
                <a:ahLst/>
                <a:rect l="l" t="t" r="r" b="b"/>
                <a:pathLst>
                  <a:path w="67" h="1301">
                    <a:moveTo>
                      <a:pt x="67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7" y="1301"/>
                    </a:lnTo>
                    <a:lnTo>
                      <a:pt x="67" y="1301"/>
                    </a:lnTo>
                    <a:lnTo>
                      <a:pt x="67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8" name=""/>
            <p:cNvGrpSpPr/>
            <p:nvPr/>
          </p:nvGrpSpPr>
          <p:grpSpPr>
            <a:xfrm>
              <a:off x="3406680" y="1063800"/>
              <a:ext cx="4595760" cy="5535000"/>
              <a:chOff x="3406680" y="1063800"/>
              <a:chExt cx="4595760" cy="5535000"/>
            </a:xfrm>
          </p:grpSpPr>
          <p:sp>
            <p:nvSpPr>
              <p:cNvPr id="4719" name=""/>
              <p:cNvSpPr/>
              <p:nvPr/>
            </p:nvSpPr>
            <p:spPr>
              <a:xfrm>
                <a:off x="7656480" y="1063800"/>
                <a:ext cx="106560" cy="2065320"/>
              </a:xfrm>
              <a:custGeom>
                <a:avLst/>
                <a:gdLst/>
                <a:ahLst/>
                <a:rect l="l" t="t" r="r" b="b"/>
                <a:pathLst>
                  <a:path w="67" h="1301">
                    <a:moveTo>
                      <a:pt x="67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7" y="1301"/>
                    </a:lnTo>
                    <a:lnTo>
                      <a:pt x="67" y="130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5619600" y="3898800"/>
                <a:ext cx="5580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5619600" y="3898800"/>
                <a:ext cx="5580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5565600" y="3895560"/>
                <a:ext cx="54000" cy="18288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5565600" y="3895560"/>
                <a:ext cx="54000" cy="18288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5581440" y="3957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5629320" y="3957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5619600" y="4078440"/>
                <a:ext cx="5580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5619600" y="4078440"/>
                <a:ext cx="5580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5565600" y="407520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5565600" y="407520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5619600" y="4257720"/>
                <a:ext cx="5580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5619600" y="4257720"/>
                <a:ext cx="5580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5565600" y="4257720"/>
                <a:ext cx="5400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5565600" y="4257720"/>
                <a:ext cx="5400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5587920" y="4319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5626080" y="4319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5596920" y="4137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6626160" y="4257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6626160" y="4257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6626160" y="4078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6626160" y="4078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3978360" y="3638520"/>
                <a:ext cx="3165480" cy="1319400"/>
              </a:xfrm>
              <a:custGeom>
                <a:avLst/>
                <a:gdLst/>
                <a:ahLst/>
                <a:rect l="l" t="t" r="r" b="b"/>
                <a:pathLst>
                  <a:path w="1994" h="831">
                    <a:moveTo>
                      <a:pt x="0" y="113"/>
                    </a:moveTo>
                    <a:lnTo>
                      <a:pt x="2" y="0"/>
                    </a:lnTo>
                    <a:lnTo>
                      <a:pt x="1994" y="0"/>
                    </a:lnTo>
                    <a:lnTo>
                      <a:pt x="1994" y="831"/>
                    </a:lnTo>
                    <a:lnTo>
                      <a:pt x="1943" y="831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6732720" y="4998960"/>
                <a:ext cx="163440" cy="265320"/>
              </a:xfrm>
              <a:custGeom>
                <a:avLst/>
                <a:gdLst/>
                <a:ahLst/>
                <a:rect l="l" t="t" r="r" b="b"/>
                <a:pathLst>
                  <a:path w="103" h="167">
                    <a:moveTo>
                      <a:pt x="0" y="167"/>
                    </a:moveTo>
                    <a:lnTo>
                      <a:pt x="53" y="167"/>
                    </a:lnTo>
                    <a:lnTo>
                      <a:pt x="53" y="0"/>
                    </a:lnTo>
                    <a:lnTo>
                      <a:pt x="103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6735600" y="4168800"/>
                <a:ext cx="898560" cy="111240"/>
              </a:xfrm>
              <a:custGeom>
                <a:avLst/>
                <a:gdLst/>
                <a:ahLst/>
                <a:rect l="l" t="t" r="r" b="b"/>
                <a:pathLst>
                  <a:path w="566" h="70">
                    <a:moveTo>
                      <a:pt x="566" y="70"/>
                    </a:moveTo>
                    <a:lnTo>
                      <a:pt x="529" y="70"/>
                    </a:lnTo>
                    <a:lnTo>
                      <a:pt x="52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6181560" y="5499000"/>
                <a:ext cx="79560" cy="462240"/>
              </a:xfrm>
              <a:custGeom>
                <a:avLst/>
                <a:gdLst/>
                <a:ahLst/>
                <a:rect l="l" t="t" r="r" b="b"/>
                <a:pathLst>
                  <a:path w="50" h="291">
                    <a:moveTo>
                      <a:pt x="48" y="0"/>
                    </a:moveTo>
                    <a:lnTo>
                      <a:pt x="50" y="291"/>
                    </a:lnTo>
                    <a:lnTo>
                      <a:pt x="0" y="291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5065560" y="3760920"/>
                <a:ext cx="2776680" cy="1260360"/>
              </a:xfrm>
              <a:custGeom>
                <a:avLst/>
                <a:gdLst/>
                <a:ahLst/>
                <a:rect l="l" t="t" r="r" b="b"/>
                <a:pathLst>
                  <a:path w="1749" h="794">
                    <a:moveTo>
                      <a:pt x="1699" y="343"/>
                    </a:moveTo>
                    <a:lnTo>
                      <a:pt x="1749" y="346"/>
                    </a:lnTo>
                    <a:lnTo>
                      <a:pt x="1749" y="0"/>
                    </a:lnTo>
                    <a:lnTo>
                      <a:pt x="0" y="0"/>
                    </a:lnTo>
                    <a:lnTo>
                      <a:pt x="0" y="79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5318280" y="4348080"/>
                <a:ext cx="225360" cy="18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5361120" y="4168800"/>
                <a:ext cx="18252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5318280" y="3984480"/>
                <a:ext cx="22536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6896160" y="488628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69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9"/>
                    </a:lnTo>
                    <a:lnTo>
                      <a:pt x="105" y="51"/>
                    </a:lnTo>
                    <a:lnTo>
                      <a:pt x="105" y="45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7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6896160" y="488628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69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9"/>
                    </a:lnTo>
                    <a:lnTo>
                      <a:pt x="105" y="51"/>
                    </a:lnTo>
                    <a:lnTo>
                      <a:pt x="105" y="45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7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5802480" y="619776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5802480" y="64389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4773600" y="53989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3440160" y="4992840"/>
                <a:ext cx="98280" cy="282600"/>
              </a:xfrm>
              <a:custGeom>
                <a:avLst/>
                <a:gdLst/>
                <a:ahLst/>
                <a:rect l="l" t="t" r="r" b="b"/>
                <a:pathLst>
                  <a:path w="62" h="178">
                    <a:moveTo>
                      <a:pt x="62" y="176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2" y="178"/>
                    </a:lnTo>
                    <a:lnTo>
                      <a:pt x="62" y="178"/>
                    </a:lnTo>
                    <a:lnTo>
                      <a:pt x="62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3440160" y="4992840"/>
                <a:ext cx="98280" cy="282600"/>
              </a:xfrm>
              <a:custGeom>
                <a:avLst/>
                <a:gdLst/>
                <a:ahLst/>
                <a:rect l="l" t="t" r="r" b="b"/>
                <a:pathLst>
                  <a:path w="62" h="178">
                    <a:moveTo>
                      <a:pt x="62" y="176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2" y="178"/>
                    </a:lnTo>
                    <a:lnTo>
                      <a:pt x="62" y="17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3679920" y="5018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3679920" y="5018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3978360" y="5021280"/>
                <a:ext cx="301680" cy="62532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3978360" y="5021280"/>
                <a:ext cx="301680" cy="62532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3849120" y="5272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3862080" y="52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3893760" y="5272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3920400" y="5272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3936600" y="5272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3952440" y="52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3981240" y="5272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4009320" y="5272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4022640" y="5272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4035240" y="52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4063680" y="52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4097160" y="52722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3884040" y="5338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3930480" y="533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3958560" y="5338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4003200" y="533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4031640" y="5338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4051080" y="5338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3701880" y="5102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3736800" y="51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3766680" y="51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3798360" y="5102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3814560" y="51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3843000" y="5102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3871440" y="5102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6934320" y="518796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6934320" y="518796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7232760" y="5191200"/>
                <a:ext cx="304560" cy="625320"/>
              </a:xfrm>
              <a:custGeom>
                <a:avLst/>
                <a:gdLst/>
                <a:ahLst/>
                <a:rect l="l" t="t" r="r" b="b"/>
                <a:pathLst>
                  <a:path w="192" h="394">
                    <a:moveTo>
                      <a:pt x="0" y="394"/>
                    </a:moveTo>
                    <a:lnTo>
                      <a:pt x="192" y="394"/>
                    </a:lnTo>
                    <a:lnTo>
                      <a:pt x="192" y="0"/>
                    </a:lnTo>
                    <a:lnTo>
                      <a:pt x="2" y="0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7232760" y="5191200"/>
                <a:ext cx="304560" cy="625320"/>
              </a:xfrm>
              <a:custGeom>
                <a:avLst/>
                <a:gdLst/>
                <a:ahLst/>
                <a:rect l="l" t="t" r="r" b="b"/>
                <a:pathLst>
                  <a:path w="192" h="394">
                    <a:moveTo>
                      <a:pt x="0" y="394"/>
                    </a:moveTo>
                    <a:lnTo>
                      <a:pt x="192" y="394"/>
                    </a:lnTo>
                    <a:lnTo>
                      <a:pt x="192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4773600" y="507852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4773600" y="555948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3600360" y="4402080"/>
                <a:ext cx="268200" cy="731880"/>
              </a:xfrm>
              <a:custGeom>
                <a:avLst/>
                <a:gdLst/>
                <a:ahLst/>
                <a:rect l="l" t="t" r="r" b="b"/>
                <a:pathLst>
                  <a:path w="169" h="461">
                    <a:moveTo>
                      <a:pt x="169" y="0"/>
                    </a:moveTo>
                    <a:lnTo>
                      <a:pt x="0" y="2"/>
                    </a:lnTo>
                    <a:lnTo>
                      <a:pt x="0" y="461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 flipH="1">
                <a:off x="3773520" y="4722840"/>
                <a:ext cx="950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3890880" y="4292640"/>
                <a:ext cx="176400" cy="539640"/>
              </a:xfrm>
              <a:custGeom>
                <a:avLst/>
                <a:gdLst/>
                <a:ahLst/>
                <a:rect l="l" t="t" r="r" b="b"/>
                <a:pathLst>
                  <a:path w="111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7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111" y="237"/>
                    </a:lnTo>
                    <a:lnTo>
                      <a:pt x="111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3890880" y="4292640"/>
                <a:ext cx="176400" cy="539640"/>
              </a:xfrm>
              <a:custGeom>
                <a:avLst/>
                <a:gdLst/>
                <a:ahLst/>
                <a:rect l="l" t="t" r="r" b="b"/>
                <a:pathLst>
                  <a:path w="111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7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111" y="237"/>
                    </a:lnTo>
                    <a:lnTo>
                      <a:pt x="111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5842080" y="53611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5842080" y="55990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6024600" y="547992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 flipH="1">
                <a:off x="5974920" y="5492880"/>
                <a:ext cx="586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6024600" y="51595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7870680" y="53895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7870680" y="56275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6902280" y="56880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5978520" y="574524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10" y="231"/>
                    </a:lnTo>
                    <a:lnTo>
                      <a:pt x="116" y="215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4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10" y="41"/>
                    </a:lnTo>
                    <a:lnTo>
                      <a:pt x="101" y="27"/>
                    </a:lnTo>
                    <a:lnTo>
                      <a:pt x="93" y="17"/>
                    </a:lnTo>
                    <a:lnTo>
                      <a:pt x="83" y="9"/>
                    </a:lnTo>
                    <a:lnTo>
                      <a:pt x="75" y="3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5" y="9"/>
                    </a:lnTo>
                    <a:lnTo>
                      <a:pt x="35" y="17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4" y="93"/>
                    </a:lnTo>
                    <a:lnTo>
                      <a:pt x="2" y="114"/>
                    </a:lnTo>
                    <a:lnTo>
                      <a:pt x="0" y="136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9" y="196"/>
                    </a:lnTo>
                    <a:lnTo>
                      <a:pt x="13" y="215"/>
                    </a:lnTo>
                    <a:lnTo>
                      <a:pt x="19" y="231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3" y="267"/>
                    </a:lnTo>
                    <a:lnTo>
                      <a:pt x="65" y="269"/>
                    </a:lnTo>
                    <a:lnTo>
                      <a:pt x="65" y="269"/>
                    </a:lnTo>
                    <a:lnTo>
                      <a:pt x="63" y="269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5978520" y="574524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10" y="231"/>
                    </a:lnTo>
                    <a:lnTo>
                      <a:pt x="116" y="215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4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10" y="41"/>
                    </a:lnTo>
                    <a:lnTo>
                      <a:pt x="101" y="27"/>
                    </a:lnTo>
                    <a:lnTo>
                      <a:pt x="93" y="17"/>
                    </a:lnTo>
                    <a:lnTo>
                      <a:pt x="83" y="9"/>
                    </a:lnTo>
                    <a:lnTo>
                      <a:pt x="75" y="3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5" y="9"/>
                    </a:lnTo>
                    <a:lnTo>
                      <a:pt x="35" y="17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4" y="93"/>
                    </a:lnTo>
                    <a:lnTo>
                      <a:pt x="2" y="114"/>
                    </a:lnTo>
                    <a:lnTo>
                      <a:pt x="0" y="136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9" y="196"/>
                    </a:lnTo>
                    <a:lnTo>
                      <a:pt x="13" y="215"/>
                    </a:lnTo>
                    <a:lnTo>
                      <a:pt x="19" y="231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3" y="267"/>
                    </a:lnTo>
                    <a:lnTo>
                      <a:pt x="65" y="269"/>
                    </a:lnTo>
                    <a:lnTo>
                      <a:pt x="65" y="26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5670720" y="5958000"/>
                <a:ext cx="2887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 rot="16200000">
                <a:off x="7890480" y="5227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 rot="16200000">
                <a:off x="7901280" y="519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 rot="16200000">
                <a:off x="7890480" y="5153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 rot="16200000">
                <a:off x="7912080" y="5131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 rot="16200000">
                <a:off x="7901280" y="51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 rot="16200000">
                <a:off x="7895160" y="5069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 rot="16200000">
                <a:off x="7901280" y="5037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 rot="16200000">
                <a:off x="7901280" y="500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6107040" y="6199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6141600" y="619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6172200" y="6199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6209640" y="619920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6251400" y="619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6842160" y="4797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6876360" y="4797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6892560" y="47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6921000" y="47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6954480" y="4797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6980040" y="47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5908680" y="6507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5946480" y="650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5978160" y="650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6008760" y="6507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6046560" y="6507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6071760" y="65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6172200" y="4948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6210000" y="4948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6238800" y="4948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6276960" y="4948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6312960" y="4948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6329160" y="4948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3586320" y="51213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7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3859200" y="43894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3859200" y="47102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3717720" y="469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 flipH="1">
                <a:off x="5675400" y="4562640"/>
                <a:ext cx="25560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5956200" y="4452840"/>
                <a:ext cx="333360" cy="54000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5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5956200" y="4452840"/>
                <a:ext cx="333360" cy="54000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5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 flipH="1">
                <a:off x="6289200" y="4722840"/>
                <a:ext cx="3207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6594480" y="47102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3538440" y="5133960"/>
                <a:ext cx="1224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3648240" y="51181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3406680" y="511812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5924520" y="45496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5924520" y="48704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7899480" y="5354640"/>
                <a:ext cx="102960" cy="336600"/>
              </a:xfrm>
              <a:custGeom>
                <a:avLst/>
                <a:gdLst/>
                <a:ahLst/>
                <a:rect l="l" t="t" r="r" b="b"/>
                <a:pathLst>
                  <a:path w="65" h="212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9" y="12"/>
                    </a:lnTo>
                    <a:lnTo>
                      <a:pt x="11" y="8"/>
                    </a:lnTo>
                    <a:lnTo>
                      <a:pt x="15" y="6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1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5" y="26"/>
                    </a:lnTo>
                    <a:lnTo>
                      <a:pt x="65" y="30"/>
                    </a:lnTo>
                    <a:lnTo>
                      <a:pt x="65" y="182"/>
                    </a:lnTo>
                    <a:lnTo>
                      <a:pt x="65" y="186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1" y="206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2"/>
                    </a:lnTo>
                    <a:lnTo>
                      <a:pt x="33" y="212"/>
                    </a:lnTo>
                    <a:lnTo>
                      <a:pt x="29" y="212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6"/>
                    </a:lnTo>
                    <a:lnTo>
                      <a:pt x="11" y="204"/>
                    </a:lnTo>
                    <a:lnTo>
                      <a:pt x="9" y="200"/>
                    </a:lnTo>
                    <a:lnTo>
                      <a:pt x="4" y="196"/>
                    </a:lnTo>
                    <a:lnTo>
                      <a:pt x="4" y="192"/>
                    </a:lnTo>
                    <a:lnTo>
                      <a:pt x="2" y="186"/>
                    </a:lnTo>
                    <a:lnTo>
                      <a:pt x="2" y="182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7899480" y="5354640"/>
                <a:ext cx="102960" cy="336600"/>
              </a:xfrm>
              <a:custGeom>
                <a:avLst/>
                <a:gdLst/>
                <a:ahLst/>
                <a:rect l="l" t="t" r="r" b="b"/>
                <a:pathLst>
                  <a:path w="65" h="212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9" y="12"/>
                    </a:lnTo>
                    <a:lnTo>
                      <a:pt x="11" y="8"/>
                    </a:lnTo>
                    <a:lnTo>
                      <a:pt x="15" y="6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1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5" y="26"/>
                    </a:lnTo>
                    <a:lnTo>
                      <a:pt x="65" y="30"/>
                    </a:lnTo>
                    <a:lnTo>
                      <a:pt x="65" y="182"/>
                    </a:lnTo>
                    <a:lnTo>
                      <a:pt x="65" y="186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1" y="206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2"/>
                    </a:lnTo>
                    <a:lnTo>
                      <a:pt x="33" y="212"/>
                    </a:lnTo>
                    <a:lnTo>
                      <a:pt x="29" y="212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6"/>
                    </a:lnTo>
                    <a:lnTo>
                      <a:pt x="11" y="204"/>
                    </a:lnTo>
                    <a:lnTo>
                      <a:pt x="9" y="200"/>
                    </a:lnTo>
                    <a:lnTo>
                      <a:pt x="4" y="196"/>
                    </a:lnTo>
                    <a:lnTo>
                      <a:pt x="4" y="192"/>
                    </a:lnTo>
                    <a:lnTo>
                      <a:pt x="2" y="186"/>
                    </a:lnTo>
                    <a:lnTo>
                      <a:pt x="2" y="182"/>
                    </a:lnTo>
                    <a:lnTo>
                      <a:pt x="2" y="30"/>
                    </a:lnTo>
                    <a:lnTo>
                      <a:pt x="2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5873760" y="532620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8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5873760" y="532620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8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5892480" y="534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5830920" y="6162840"/>
                <a:ext cx="10332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5" y="22"/>
                    </a:lnTo>
                    <a:lnTo>
                      <a:pt x="7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9" y="4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2"/>
                    </a:lnTo>
                    <a:lnTo>
                      <a:pt x="65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3" y="208"/>
                    </a:lnTo>
                    <a:lnTo>
                      <a:pt x="49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7" y="198"/>
                    </a:lnTo>
                    <a:lnTo>
                      <a:pt x="5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5830920" y="6162840"/>
                <a:ext cx="10332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5" y="22"/>
                    </a:lnTo>
                    <a:lnTo>
                      <a:pt x="7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9" y="4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2"/>
                    </a:lnTo>
                    <a:lnTo>
                      <a:pt x="65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3" y="208"/>
                    </a:lnTo>
                    <a:lnTo>
                      <a:pt x="49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7" y="198"/>
                    </a:lnTo>
                    <a:lnTo>
                      <a:pt x="5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2"/>
                    </a:lnTo>
                    <a:lnTo>
                      <a:pt x="3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5854320" y="618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5854320" y="6423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5110200" y="41529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6024600" y="4694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6059160" y="469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6087600" y="469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6181560" y="4668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6216480" y="466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6244920" y="466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6276960" y="4668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6135120" y="4719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6156000" y="4719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6184440" y="4719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6210000" y="4719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6238800" y="4719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6251040" y="4719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4773600" y="52387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4805280" y="5018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4805280" y="5018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5103720" y="5021280"/>
                <a:ext cx="301680" cy="62532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5103720" y="5021280"/>
                <a:ext cx="301680" cy="62532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 flipH="1">
                <a:off x="4587840" y="5091120"/>
                <a:ext cx="1951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 flipH="1">
                <a:off x="5792760" y="5614920"/>
                <a:ext cx="619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5892480" y="558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6053040" y="5062680"/>
                <a:ext cx="333360" cy="542880"/>
              </a:xfrm>
              <a:custGeom>
                <a:avLst/>
                <a:gdLst/>
                <a:ahLst/>
                <a:rect l="l" t="t" r="r" b="b"/>
                <a:pathLst>
                  <a:path w="210" h="342">
                    <a:moveTo>
                      <a:pt x="0" y="0"/>
                    </a:moveTo>
                    <a:lnTo>
                      <a:pt x="0" y="140"/>
                    </a:lnTo>
                    <a:lnTo>
                      <a:pt x="36" y="172"/>
                    </a:lnTo>
                    <a:lnTo>
                      <a:pt x="0" y="204"/>
                    </a:lnTo>
                    <a:lnTo>
                      <a:pt x="0" y="342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6053040" y="5062680"/>
                <a:ext cx="333360" cy="542880"/>
              </a:xfrm>
              <a:custGeom>
                <a:avLst/>
                <a:gdLst/>
                <a:ahLst/>
                <a:rect l="l" t="t" r="r" b="b"/>
                <a:pathLst>
                  <a:path w="210" h="342">
                    <a:moveTo>
                      <a:pt x="0" y="0"/>
                    </a:moveTo>
                    <a:lnTo>
                      <a:pt x="0" y="140"/>
                    </a:lnTo>
                    <a:lnTo>
                      <a:pt x="36" y="172"/>
                    </a:lnTo>
                    <a:lnTo>
                      <a:pt x="0" y="204"/>
                    </a:lnTo>
                    <a:lnTo>
                      <a:pt x="0" y="342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6273720" y="5319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6313320" y="531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6342120" y="5319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6380280" y="5319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6231960" y="5370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625140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6279840" y="5370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630828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6338880" y="5370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6351120" y="5370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4587840" y="5251320"/>
                <a:ext cx="1951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5533920" y="53611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 flipH="1">
                <a:off x="5405040" y="5373720"/>
                <a:ext cx="13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5710320" y="4754520"/>
                <a:ext cx="166680" cy="263520"/>
              </a:xfrm>
              <a:custGeom>
                <a:avLst/>
                <a:gdLst/>
                <a:ahLst/>
                <a:rect l="l" t="t" r="r" b="b"/>
                <a:pathLst>
                  <a:path w="105" h="166">
                    <a:moveTo>
                      <a:pt x="52" y="164"/>
                    </a:moveTo>
                    <a:lnTo>
                      <a:pt x="60" y="164"/>
                    </a:lnTo>
                    <a:lnTo>
                      <a:pt x="68" y="162"/>
                    </a:lnTo>
                    <a:lnTo>
                      <a:pt x="76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5" y="132"/>
                    </a:lnTo>
                    <a:lnTo>
                      <a:pt x="99" y="119"/>
                    </a:lnTo>
                    <a:lnTo>
                      <a:pt x="103" y="109"/>
                    </a:lnTo>
                    <a:lnTo>
                      <a:pt x="105" y="95"/>
                    </a:lnTo>
                    <a:lnTo>
                      <a:pt x="105" y="83"/>
                    </a:lnTo>
                    <a:lnTo>
                      <a:pt x="105" y="69"/>
                    </a:lnTo>
                    <a:lnTo>
                      <a:pt x="103" y="57"/>
                    </a:lnTo>
                    <a:lnTo>
                      <a:pt x="99" y="45"/>
                    </a:lnTo>
                    <a:lnTo>
                      <a:pt x="95" y="33"/>
                    </a:lnTo>
                    <a:lnTo>
                      <a:pt x="89" y="25"/>
                    </a:lnTo>
                    <a:lnTo>
                      <a:pt x="83" y="14"/>
                    </a:lnTo>
                    <a:lnTo>
                      <a:pt x="76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2" y="0"/>
                    </a:lnTo>
                    <a:lnTo>
                      <a:pt x="44" y="0"/>
                    </a:lnTo>
                    <a:lnTo>
                      <a:pt x="36" y="4"/>
                    </a:lnTo>
                    <a:lnTo>
                      <a:pt x="28" y="8"/>
                    </a:lnTo>
                    <a:lnTo>
                      <a:pt x="22" y="14"/>
                    </a:lnTo>
                    <a:lnTo>
                      <a:pt x="16" y="25"/>
                    </a:lnTo>
                    <a:lnTo>
                      <a:pt x="10" y="33"/>
                    </a:lnTo>
                    <a:lnTo>
                      <a:pt x="6" y="45"/>
                    </a:lnTo>
                    <a:lnTo>
                      <a:pt x="4" y="57"/>
                    </a:lnTo>
                    <a:lnTo>
                      <a:pt x="2" y="69"/>
                    </a:lnTo>
                    <a:lnTo>
                      <a:pt x="0" y="83"/>
                    </a:lnTo>
                    <a:lnTo>
                      <a:pt x="2" y="95"/>
                    </a:lnTo>
                    <a:lnTo>
                      <a:pt x="4" y="109"/>
                    </a:lnTo>
                    <a:lnTo>
                      <a:pt x="6" y="119"/>
                    </a:lnTo>
                    <a:lnTo>
                      <a:pt x="10" y="132"/>
                    </a:lnTo>
                    <a:lnTo>
                      <a:pt x="16" y="142"/>
                    </a:lnTo>
                    <a:lnTo>
                      <a:pt x="22" y="150"/>
                    </a:lnTo>
                    <a:lnTo>
                      <a:pt x="28" y="156"/>
                    </a:lnTo>
                    <a:lnTo>
                      <a:pt x="36" y="162"/>
                    </a:lnTo>
                    <a:lnTo>
                      <a:pt x="44" y="164"/>
                    </a:lnTo>
                    <a:lnTo>
                      <a:pt x="52" y="166"/>
                    </a:lnTo>
                    <a:lnTo>
                      <a:pt x="52" y="166"/>
                    </a:lnTo>
                    <a:lnTo>
                      <a:pt x="52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5710320" y="4754520"/>
                <a:ext cx="166680" cy="263520"/>
              </a:xfrm>
              <a:custGeom>
                <a:avLst/>
                <a:gdLst/>
                <a:ahLst/>
                <a:rect l="l" t="t" r="r" b="b"/>
                <a:pathLst>
                  <a:path w="105" h="166">
                    <a:moveTo>
                      <a:pt x="52" y="164"/>
                    </a:moveTo>
                    <a:lnTo>
                      <a:pt x="60" y="164"/>
                    </a:lnTo>
                    <a:lnTo>
                      <a:pt x="68" y="162"/>
                    </a:lnTo>
                    <a:lnTo>
                      <a:pt x="76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5" y="132"/>
                    </a:lnTo>
                    <a:lnTo>
                      <a:pt x="99" y="119"/>
                    </a:lnTo>
                    <a:lnTo>
                      <a:pt x="103" y="109"/>
                    </a:lnTo>
                    <a:lnTo>
                      <a:pt x="105" y="95"/>
                    </a:lnTo>
                    <a:lnTo>
                      <a:pt x="105" y="83"/>
                    </a:lnTo>
                    <a:lnTo>
                      <a:pt x="105" y="69"/>
                    </a:lnTo>
                    <a:lnTo>
                      <a:pt x="103" y="57"/>
                    </a:lnTo>
                    <a:lnTo>
                      <a:pt x="99" y="45"/>
                    </a:lnTo>
                    <a:lnTo>
                      <a:pt x="95" y="33"/>
                    </a:lnTo>
                    <a:lnTo>
                      <a:pt x="89" y="25"/>
                    </a:lnTo>
                    <a:lnTo>
                      <a:pt x="83" y="14"/>
                    </a:lnTo>
                    <a:lnTo>
                      <a:pt x="76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2" y="0"/>
                    </a:lnTo>
                    <a:lnTo>
                      <a:pt x="44" y="0"/>
                    </a:lnTo>
                    <a:lnTo>
                      <a:pt x="36" y="4"/>
                    </a:lnTo>
                    <a:lnTo>
                      <a:pt x="28" y="8"/>
                    </a:lnTo>
                    <a:lnTo>
                      <a:pt x="22" y="14"/>
                    </a:lnTo>
                    <a:lnTo>
                      <a:pt x="16" y="25"/>
                    </a:lnTo>
                    <a:lnTo>
                      <a:pt x="10" y="33"/>
                    </a:lnTo>
                    <a:lnTo>
                      <a:pt x="6" y="45"/>
                    </a:lnTo>
                    <a:lnTo>
                      <a:pt x="4" y="57"/>
                    </a:lnTo>
                    <a:lnTo>
                      <a:pt x="2" y="69"/>
                    </a:lnTo>
                    <a:lnTo>
                      <a:pt x="0" y="83"/>
                    </a:lnTo>
                    <a:lnTo>
                      <a:pt x="2" y="95"/>
                    </a:lnTo>
                    <a:lnTo>
                      <a:pt x="4" y="109"/>
                    </a:lnTo>
                    <a:lnTo>
                      <a:pt x="6" y="119"/>
                    </a:lnTo>
                    <a:lnTo>
                      <a:pt x="10" y="132"/>
                    </a:lnTo>
                    <a:lnTo>
                      <a:pt x="16" y="142"/>
                    </a:lnTo>
                    <a:lnTo>
                      <a:pt x="22" y="150"/>
                    </a:lnTo>
                    <a:lnTo>
                      <a:pt x="28" y="156"/>
                    </a:lnTo>
                    <a:lnTo>
                      <a:pt x="36" y="162"/>
                    </a:lnTo>
                    <a:lnTo>
                      <a:pt x="44" y="164"/>
                    </a:lnTo>
                    <a:lnTo>
                      <a:pt x="52" y="166"/>
                    </a:lnTo>
                    <a:lnTo>
                      <a:pt x="52" y="16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6031080" y="5900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6065640" y="5900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6094440" y="5900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6132600" y="59007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5995800" y="5964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6021000" y="596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6052680" y="596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6081120" y="5964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6093720" y="5964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6113160" y="596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6141960" y="5964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5950080" y="59450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4575240" y="53197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4575240" y="507852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8" y="16"/>
                    </a:moveTo>
                    <a:lnTo>
                      <a:pt x="10" y="19"/>
                    </a:lnTo>
                    <a:lnTo>
                      <a:pt x="12" y="19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4575240" y="52387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8" y="16"/>
                    </a:moveTo>
                    <a:lnTo>
                      <a:pt x="10" y="19"/>
                    </a:lnTo>
                    <a:lnTo>
                      <a:pt x="12" y="19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5735520" y="4822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5773320" y="4822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5802480" y="4822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5811120" y="4822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5826960" y="4822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9" name=""/>
            <p:cNvGrpSpPr/>
            <p:nvPr/>
          </p:nvGrpSpPr>
          <p:grpSpPr>
            <a:xfrm>
              <a:off x="3359160" y="3462480"/>
              <a:ext cx="5088600" cy="3319200"/>
              <a:chOff x="3359160" y="3462480"/>
              <a:chExt cx="5088600" cy="3319200"/>
            </a:xfrm>
          </p:grpSpPr>
          <p:sp>
            <p:nvSpPr>
              <p:cNvPr id="4920" name=""/>
              <p:cNvSpPr/>
              <p:nvPr/>
            </p:nvSpPr>
            <p:spPr>
              <a:xfrm>
                <a:off x="5845320" y="4822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5729400" y="4889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5741640" y="488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5770080" y="4889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5782680" y="4889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5798520" y="4889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5814720" y="488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 rot="16200000">
                <a:off x="5005800" y="4902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rot="16200000">
                <a:off x="5011920" y="486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rot="16200000">
                <a:off x="5011920" y="483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rot="16200000">
                <a:off x="4997520" y="4793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 rot="16200000">
                <a:off x="5020200" y="4766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 rot="16200000">
                <a:off x="5024880" y="4755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 rot="16200000">
                <a:off x="5022720" y="4740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 rot="16200000">
                <a:off x="5011920" y="471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5138640" y="3933720"/>
                <a:ext cx="22248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3" y="287"/>
                    </a:lnTo>
                    <a:lnTo>
                      <a:pt x="103" y="279"/>
                    </a:lnTo>
                    <a:lnTo>
                      <a:pt x="111" y="267"/>
                    </a:lnTo>
                    <a:lnTo>
                      <a:pt x="119" y="253"/>
                    </a:lnTo>
                    <a:lnTo>
                      <a:pt x="127" y="234"/>
                    </a:lnTo>
                    <a:lnTo>
                      <a:pt x="131" y="216"/>
                    </a:lnTo>
                    <a:lnTo>
                      <a:pt x="136" y="194"/>
                    </a:lnTo>
                    <a:lnTo>
                      <a:pt x="140" y="172"/>
                    </a:lnTo>
                    <a:lnTo>
                      <a:pt x="140" y="148"/>
                    </a:lnTo>
                    <a:lnTo>
                      <a:pt x="140" y="123"/>
                    </a:lnTo>
                    <a:lnTo>
                      <a:pt x="136" y="101"/>
                    </a:lnTo>
                    <a:lnTo>
                      <a:pt x="131" y="81"/>
                    </a:lnTo>
                    <a:lnTo>
                      <a:pt x="127" y="61"/>
                    </a:lnTo>
                    <a:lnTo>
                      <a:pt x="119" y="45"/>
                    </a:lnTo>
                    <a:lnTo>
                      <a:pt x="111" y="28"/>
                    </a:lnTo>
                    <a:lnTo>
                      <a:pt x="103" y="16"/>
                    </a:lnTo>
                    <a:lnTo>
                      <a:pt x="93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30" y="28"/>
                    </a:lnTo>
                    <a:lnTo>
                      <a:pt x="20" y="45"/>
                    </a:lnTo>
                    <a:lnTo>
                      <a:pt x="14" y="61"/>
                    </a:lnTo>
                    <a:lnTo>
                      <a:pt x="8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8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8" y="216"/>
                    </a:lnTo>
                    <a:lnTo>
                      <a:pt x="14" y="234"/>
                    </a:lnTo>
                    <a:lnTo>
                      <a:pt x="20" y="253"/>
                    </a:lnTo>
                    <a:lnTo>
                      <a:pt x="30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5138640" y="3933720"/>
                <a:ext cx="22248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3" y="287"/>
                    </a:lnTo>
                    <a:lnTo>
                      <a:pt x="103" y="279"/>
                    </a:lnTo>
                    <a:lnTo>
                      <a:pt x="111" y="267"/>
                    </a:lnTo>
                    <a:lnTo>
                      <a:pt x="119" y="253"/>
                    </a:lnTo>
                    <a:lnTo>
                      <a:pt x="127" y="234"/>
                    </a:lnTo>
                    <a:lnTo>
                      <a:pt x="131" y="216"/>
                    </a:lnTo>
                    <a:lnTo>
                      <a:pt x="136" y="194"/>
                    </a:lnTo>
                    <a:lnTo>
                      <a:pt x="140" y="172"/>
                    </a:lnTo>
                    <a:lnTo>
                      <a:pt x="140" y="148"/>
                    </a:lnTo>
                    <a:lnTo>
                      <a:pt x="140" y="123"/>
                    </a:lnTo>
                    <a:lnTo>
                      <a:pt x="136" y="101"/>
                    </a:lnTo>
                    <a:lnTo>
                      <a:pt x="131" y="81"/>
                    </a:lnTo>
                    <a:lnTo>
                      <a:pt x="127" y="61"/>
                    </a:lnTo>
                    <a:lnTo>
                      <a:pt x="119" y="45"/>
                    </a:lnTo>
                    <a:lnTo>
                      <a:pt x="111" y="28"/>
                    </a:lnTo>
                    <a:lnTo>
                      <a:pt x="103" y="16"/>
                    </a:lnTo>
                    <a:lnTo>
                      <a:pt x="93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30" y="28"/>
                    </a:lnTo>
                    <a:lnTo>
                      <a:pt x="20" y="45"/>
                    </a:lnTo>
                    <a:lnTo>
                      <a:pt x="14" y="61"/>
                    </a:lnTo>
                    <a:lnTo>
                      <a:pt x="8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8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8" y="216"/>
                    </a:lnTo>
                    <a:lnTo>
                      <a:pt x="14" y="234"/>
                    </a:lnTo>
                    <a:lnTo>
                      <a:pt x="20" y="253"/>
                    </a:lnTo>
                    <a:lnTo>
                      <a:pt x="30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5792760" y="5014800"/>
                <a:ext cx="1440" cy="946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 flipH="1">
                <a:off x="5877000" y="4883040"/>
                <a:ext cx="540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5780160" y="560232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5780160" y="59450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 flipH="1">
                <a:off x="5675400" y="6451560"/>
                <a:ext cx="139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 flipH="1">
                <a:off x="5675400" y="6210360"/>
                <a:ext cx="1396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4465800" y="5332320"/>
                <a:ext cx="1220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4330800" y="53197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4280040" y="5332320"/>
                <a:ext cx="568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5533920" y="51595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flipH="1">
                <a:off x="5675400" y="5172120"/>
                <a:ext cx="355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flipH="1">
                <a:off x="5405040" y="5172120"/>
                <a:ext cx="1350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5533920" y="6197760"/>
                <a:ext cx="2880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5533920" y="64389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5537160" y="43354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5537160" y="41529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5537160" y="397188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6658920" y="4319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6643440" y="41371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6691320" y="4137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6597720" y="426708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6597720" y="408780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5537160" y="454968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6594480" y="63165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5931000" y="6332400"/>
                <a:ext cx="672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6594480" y="5389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 flipH="1">
                <a:off x="6735600" y="5402160"/>
                <a:ext cx="59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 flipH="1">
                <a:off x="6386400" y="5402160"/>
                <a:ext cx="217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6594480" y="56880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 flipH="1">
                <a:off x="6735600" y="5700600"/>
                <a:ext cx="1764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5732640" y="5373720"/>
                <a:ext cx="868320" cy="330120"/>
              </a:xfrm>
              <a:custGeom>
                <a:avLst/>
                <a:gdLst/>
                <a:ahLst/>
                <a:rect l="l" t="t" r="r" b="b"/>
                <a:pathLst>
                  <a:path w="547" h="208">
                    <a:moveTo>
                      <a:pt x="547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7624800" y="42670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7624800" y="5389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 flipH="1">
                <a:off x="7762680" y="5402160"/>
                <a:ext cx="1206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7624800" y="586440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7763040" y="5640480"/>
                <a:ext cx="120600" cy="236520"/>
              </a:xfrm>
              <a:custGeom>
                <a:avLst/>
                <a:gdLst/>
                <a:ahLst/>
                <a:rect l="l" t="t" r="r" b="b"/>
                <a:pathLst>
                  <a:path w="76" h="149">
                    <a:moveTo>
                      <a:pt x="76" y="0"/>
                    </a:moveTo>
                    <a:lnTo>
                      <a:pt x="38" y="2"/>
                    </a:lnTo>
                    <a:lnTo>
                      <a:pt x="38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7624800" y="63165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6732720" y="6332400"/>
                <a:ext cx="90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4330800" y="454968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 flipH="1">
                <a:off x="4468680" y="4562640"/>
                <a:ext cx="1074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 flipH="1">
                <a:off x="4066920" y="4562640"/>
                <a:ext cx="2667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3897360" y="385452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3897360" y="40942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3789360" y="3870360"/>
                <a:ext cx="361800" cy="695160"/>
              </a:xfrm>
              <a:custGeom>
                <a:avLst/>
                <a:gdLst/>
                <a:ahLst/>
                <a:rect l="l" t="t" r="r" b="b"/>
                <a:pathLst>
                  <a:path w="228" h="438">
                    <a:moveTo>
                      <a:pt x="76" y="0"/>
                    </a:moveTo>
                    <a:lnTo>
                      <a:pt x="0" y="0"/>
                    </a:lnTo>
                    <a:lnTo>
                      <a:pt x="0" y="246"/>
                    </a:lnTo>
                    <a:lnTo>
                      <a:pt x="228" y="246"/>
                    </a:lnTo>
                    <a:lnTo>
                      <a:pt x="228" y="43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3359160" y="3780000"/>
                <a:ext cx="731880" cy="1353960"/>
              </a:xfrm>
              <a:custGeom>
                <a:avLst/>
                <a:gdLst/>
                <a:ahLst/>
                <a:rect l="l" t="t" r="r" b="b"/>
                <a:pathLst>
                  <a:path w="461" h="853">
                    <a:moveTo>
                      <a:pt x="36" y="853"/>
                    </a:moveTo>
                    <a:lnTo>
                      <a:pt x="0" y="853"/>
                    </a:lnTo>
                    <a:lnTo>
                      <a:pt x="0" y="0"/>
                    </a:lnTo>
                    <a:lnTo>
                      <a:pt x="461" y="0"/>
                    </a:lnTo>
                    <a:lnTo>
                      <a:pt x="461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3849840" y="3700440"/>
                <a:ext cx="3213000" cy="1025640"/>
              </a:xfrm>
              <a:custGeom>
                <a:avLst/>
                <a:gdLst/>
                <a:ahLst/>
                <a:rect l="l" t="t" r="r" b="b"/>
                <a:pathLst>
                  <a:path w="2024" h="646">
                    <a:moveTo>
                      <a:pt x="1816" y="644"/>
                    </a:moveTo>
                    <a:lnTo>
                      <a:pt x="2024" y="646"/>
                    </a:lnTo>
                    <a:lnTo>
                      <a:pt x="2024" y="0"/>
                    </a:lnTo>
                    <a:lnTo>
                      <a:pt x="226" y="0"/>
                    </a:lnTo>
                    <a:lnTo>
                      <a:pt x="226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38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4414680" y="3462480"/>
                <a:ext cx="1800" cy="9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 flipV="1">
                <a:off x="4414680" y="6502320"/>
                <a:ext cx="180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 rot="16200000">
                <a:off x="4527720" y="5247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 rot="16200000">
                <a:off x="4516920" y="5220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 rot="16200000">
                <a:off x="4519080" y="5192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 rot="16200000">
                <a:off x="4527720" y="5175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 rot="16200000">
                <a:off x="4525200" y="5157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 rot="16200000">
                <a:off x="4516920" y="5129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 rot="16200000">
                <a:off x="4519080" y="5103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 rot="16200000">
                <a:off x="4527720" y="508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 rot="16200000">
                <a:off x="4529880" y="50727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 rot="16200000">
                <a:off x="4516920" y="5047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 rot="16200000">
                <a:off x="4516920" y="5016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4356000" y="380844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435240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4367880" y="38098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440136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441756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4433760" y="3809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619600" y="3462480"/>
                <a:ext cx="1800" cy="436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 flipV="1">
                <a:off x="5619600" y="6502320"/>
                <a:ext cx="180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562720" y="380844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6681960" y="3462480"/>
                <a:ext cx="1440" cy="615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 flipV="1">
                <a:off x="6681960" y="6502320"/>
                <a:ext cx="14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6622920" y="380844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657864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661356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664956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6665400" y="3809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670716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6744600" y="3809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7707240" y="3462480"/>
                <a:ext cx="3240" cy="795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 flipV="1">
                <a:off x="7707240" y="6502320"/>
                <a:ext cx="32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54940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565600" y="3809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60340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61960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65452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44395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4465800" y="3471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45316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45586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45842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46382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46890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47412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476676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481788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48686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49237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49492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49748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0256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0778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1033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12892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18292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645160" y="3471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707080" y="3471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7700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7952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58212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5873400" y="347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59047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59306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59814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60336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60876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61128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61383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61653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61905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62161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62413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6706440" y="3471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6783480" y="3471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6847920" y="3471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69242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69494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69768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702756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708156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71337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715932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721008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72608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73130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73414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73670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73922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74178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74448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74700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7735680" y="34718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7823160" y="3471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78861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79131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7938720" y="3471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798336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80370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80892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811512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816588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82166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82717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82972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83228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83480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83736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84006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84258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7653240" y="380844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7598880" y="3809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764388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7678080" y="3809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772272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7735680" y="3809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778824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33840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3409200" y="347184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34682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34934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35190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35697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35967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362232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3675960" y="347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3705120" y="347184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376056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3814560" y="347184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537984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540828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543996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5379840" y="391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5408280" y="391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537984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540828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0" name=""/>
            <p:cNvGrpSpPr/>
            <p:nvPr/>
          </p:nvGrpSpPr>
          <p:grpSpPr>
            <a:xfrm>
              <a:off x="3456000" y="3821040"/>
              <a:ext cx="4537800" cy="2681280"/>
              <a:chOff x="3456000" y="3821040"/>
              <a:chExt cx="4537800" cy="2681280"/>
            </a:xfrm>
          </p:grpSpPr>
          <p:sp>
            <p:nvSpPr>
              <p:cNvPr id="5121" name=""/>
              <p:cNvSpPr/>
              <p:nvPr/>
            </p:nvSpPr>
            <p:spPr>
              <a:xfrm>
                <a:off x="543996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546876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569736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572904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575748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5697360" y="391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5729040" y="391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5697360" y="4284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5729040" y="4284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5697360" y="421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5697360" y="435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675756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678924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6757560" y="4284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6757560" y="421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6757560" y="435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787880" y="4238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787880" y="4319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5619600" y="4437000"/>
                <a:ext cx="55800" cy="2065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5619600" y="4437000"/>
                <a:ext cx="55800" cy="20653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5565600" y="4437000"/>
                <a:ext cx="54000" cy="2065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5565600" y="4437000"/>
                <a:ext cx="54000" cy="20653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6626160" y="4437000"/>
                <a:ext cx="10944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7" y="130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  <a:lnTo>
                      <a:pt x="67" y="130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6626160" y="4437000"/>
                <a:ext cx="10944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7" y="130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3930480" y="3821040"/>
                <a:ext cx="9864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1"/>
                    </a:moveTo>
                    <a:lnTo>
                      <a:pt x="0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8" y="9"/>
                    </a:lnTo>
                    <a:lnTo>
                      <a:pt x="12" y="7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0" y="7"/>
                    </a:lnTo>
                    <a:lnTo>
                      <a:pt x="52" y="9"/>
                    </a:lnTo>
                    <a:lnTo>
                      <a:pt x="56" y="13"/>
                    </a:lnTo>
                    <a:lnTo>
                      <a:pt x="58" y="17"/>
                    </a:lnTo>
                    <a:lnTo>
                      <a:pt x="60" y="21"/>
                    </a:lnTo>
                    <a:lnTo>
                      <a:pt x="62" y="27"/>
                    </a:lnTo>
                    <a:lnTo>
                      <a:pt x="62" y="31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0" y="192"/>
                    </a:lnTo>
                    <a:lnTo>
                      <a:pt x="58" y="196"/>
                    </a:lnTo>
                    <a:lnTo>
                      <a:pt x="56" y="200"/>
                    </a:lnTo>
                    <a:lnTo>
                      <a:pt x="52" y="204"/>
                    </a:lnTo>
                    <a:lnTo>
                      <a:pt x="50" y="206"/>
                    </a:lnTo>
                    <a:lnTo>
                      <a:pt x="46" y="211"/>
                    </a:lnTo>
                    <a:lnTo>
                      <a:pt x="40" y="213"/>
                    </a:lnTo>
                    <a:lnTo>
                      <a:pt x="36" y="213"/>
                    </a:lnTo>
                    <a:lnTo>
                      <a:pt x="30" y="213"/>
                    </a:lnTo>
                    <a:lnTo>
                      <a:pt x="26" y="213"/>
                    </a:lnTo>
                    <a:lnTo>
                      <a:pt x="22" y="213"/>
                    </a:lnTo>
                    <a:lnTo>
                      <a:pt x="16" y="211"/>
                    </a:lnTo>
                    <a:lnTo>
                      <a:pt x="12" y="206"/>
                    </a:lnTo>
                    <a:lnTo>
                      <a:pt x="8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3930480" y="3821040"/>
                <a:ext cx="9864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1"/>
                    </a:moveTo>
                    <a:lnTo>
                      <a:pt x="0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8" y="9"/>
                    </a:lnTo>
                    <a:lnTo>
                      <a:pt x="12" y="7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0" y="7"/>
                    </a:lnTo>
                    <a:lnTo>
                      <a:pt x="52" y="9"/>
                    </a:lnTo>
                    <a:lnTo>
                      <a:pt x="56" y="13"/>
                    </a:lnTo>
                    <a:lnTo>
                      <a:pt x="58" y="17"/>
                    </a:lnTo>
                    <a:lnTo>
                      <a:pt x="60" y="21"/>
                    </a:lnTo>
                    <a:lnTo>
                      <a:pt x="62" y="27"/>
                    </a:lnTo>
                    <a:lnTo>
                      <a:pt x="62" y="31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0" y="192"/>
                    </a:lnTo>
                    <a:lnTo>
                      <a:pt x="58" y="196"/>
                    </a:lnTo>
                    <a:lnTo>
                      <a:pt x="56" y="200"/>
                    </a:lnTo>
                    <a:lnTo>
                      <a:pt x="52" y="204"/>
                    </a:lnTo>
                    <a:lnTo>
                      <a:pt x="50" y="206"/>
                    </a:lnTo>
                    <a:lnTo>
                      <a:pt x="46" y="211"/>
                    </a:lnTo>
                    <a:lnTo>
                      <a:pt x="40" y="213"/>
                    </a:lnTo>
                    <a:lnTo>
                      <a:pt x="36" y="213"/>
                    </a:lnTo>
                    <a:lnTo>
                      <a:pt x="30" y="213"/>
                    </a:lnTo>
                    <a:lnTo>
                      <a:pt x="26" y="213"/>
                    </a:lnTo>
                    <a:lnTo>
                      <a:pt x="22" y="213"/>
                    </a:lnTo>
                    <a:lnTo>
                      <a:pt x="16" y="211"/>
                    </a:lnTo>
                    <a:lnTo>
                      <a:pt x="12" y="206"/>
                    </a:lnTo>
                    <a:lnTo>
                      <a:pt x="8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3955320" y="3905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4000680" y="3905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3965400" y="396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3994200" y="3960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3965040" y="4011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3949200" y="3838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3949200" y="4078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3959280" y="4533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3993840" y="4533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4025520" y="4533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456000" y="5102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3490920" y="5102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922880" y="5611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6957720" y="56466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7008120" y="5646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7024680" y="5646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036920" y="5646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052760" y="5646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081920" y="5646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6957720" y="570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6986160" y="570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017840" y="5702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030800" y="570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929000" y="5438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970760" y="5438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935480" y="5492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967520" y="5492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935480" y="5545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92288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707240" y="4437000"/>
                <a:ext cx="55800" cy="2065320"/>
              </a:xfrm>
              <a:custGeom>
                <a:avLst/>
                <a:gdLst/>
                <a:ahLst/>
                <a:rect l="l" t="t" r="r" b="b"/>
                <a:pathLst>
                  <a:path w="35" h="1301">
                    <a:moveTo>
                      <a:pt x="0" y="1301"/>
                    </a:moveTo>
                    <a:lnTo>
                      <a:pt x="35" y="1301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30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707240" y="4437000"/>
                <a:ext cx="55800" cy="2065320"/>
              </a:xfrm>
              <a:custGeom>
                <a:avLst/>
                <a:gdLst/>
                <a:ahLst/>
                <a:rect l="l" t="t" r="r" b="b"/>
                <a:pathLst>
                  <a:path w="35" h="1301">
                    <a:moveTo>
                      <a:pt x="0" y="1301"/>
                    </a:moveTo>
                    <a:lnTo>
                      <a:pt x="35" y="1301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656480" y="4437000"/>
                <a:ext cx="54000" cy="2065320"/>
              </a:xfrm>
              <a:custGeom>
                <a:avLst/>
                <a:gdLst/>
                <a:ahLst/>
                <a:rect l="l" t="t" r="r" b="b"/>
                <a:pathLst>
                  <a:path w="34" h="1301">
                    <a:moveTo>
                      <a:pt x="32" y="0"/>
                    </a:moveTo>
                    <a:lnTo>
                      <a:pt x="0" y="0"/>
                    </a:lnTo>
                    <a:lnTo>
                      <a:pt x="0" y="1301"/>
                    </a:lnTo>
                    <a:lnTo>
                      <a:pt x="34" y="130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656480" y="4437000"/>
                <a:ext cx="54000" cy="2065320"/>
              </a:xfrm>
              <a:custGeom>
                <a:avLst/>
                <a:gdLst/>
                <a:ahLst/>
                <a:rect l="l" t="t" r="r" b="b"/>
                <a:pathLst>
                  <a:path w="34" h="1301">
                    <a:moveTo>
                      <a:pt x="32" y="0"/>
                    </a:moveTo>
                    <a:lnTo>
                      <a:pt x="0" y="0"/>
                    </a:lnTo>
                    <a:lnTo>
                      <a:pt x="0" y="1301"/>
                    </a:lnTo>
                    <a:lnTo>
                      <a:pt x="34" y="130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461304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464472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467316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4359240" y="4437000"/>
                <a:ext cx="55440" cy="2065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4359240" y="4437000"/>
                <a:ext cx="55440" cy="206532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4414680" y="4437000"/>
                <a:ext cx="54000" cy="2065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4414680" y="4437000"/>
                <a:ext cx="54000" cy="20653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5160960" y="4137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5200200" y="41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5232240" y="41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5260320" y="4137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5273280" y="4137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5292360" y="41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5321160" y="4137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4987800" y="5303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5028840" y="530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5059080" y="530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5087880" y="5303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5100120" y="5303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5125320" y="5303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5141520" y="530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5169960" y="5303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5189040" y="5303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5261040" y="5118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5298840" y="511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5330520" y="511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5360760" y="511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5389560" y="5118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5229000" y="516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5260680" y="516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5289120" y="5168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5302080" y="516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5333400" y="5168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5346360" y="516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5261040" y="5316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5298840" y="531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5330520" y="531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5360760" y="531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5389560" y="5316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522900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526068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5289120" y="5370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530208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5333400" y="5370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534636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4827600" y="5037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4865400" y="50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4895640" y="50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4924080" y="50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4956120" y="5037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4827240" y="5089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484308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487656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4905360" y="5089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4914720" y="5089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4942800" y="5089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495576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4987440" y="5089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5003280" y="5089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501948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4827600" y="5197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4865400" y="519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4895640" y="519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4924080" y="519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4956120" y="5197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4827240" y="5249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4843080" y="524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4876560" y="524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4905360" y="5249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4914720" y="5249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4942800" y="524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4955760" y="524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4987440" y="5249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5003280" y="524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5019480" y="524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4587840" y="4168800"/>
                <a:ext cx="955800" cy="2282760"/>
              </a:xfrm>
              <a:custGeom>
                <a:avLst/>
                <a:gdLst/>
                <a:ahLst/>
                <a:rect l="l" t="t" r="r" b="b"/>
                <a:pathLst>
                  <a:path w="602" h="1438">
                    <a:moveTo>
                      <a:pt x="602" y="1438"/>
                    </a:moveTo>
                    <a:lnTo>
                      <a:pt x="0" y="1438"/>
                    </a:lnTo>
                    <a:lnTo>
                      <a:pt x="0" y="0"/>
                    </a:lnTo>
                    <a:lnTo>
                      <a:pt x="33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460656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463500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4606920" y="6137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4606920" y="5884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4606560" y="517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4606560" y="501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4587840" y="6210360"/>
                <a:ext cx="955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4747680" y="6083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4760640" y="608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4792320" y="6083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4817520" y="6083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4830120" y="6083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4849560" y="608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4879440" y="6083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4907880" y="6083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4921200" y="60832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4933440" y="608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4962240" y="608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4991040" y="6083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4747680" y="613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4760640" y="613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4792320" y="613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4820760" y="613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4858920" y="613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4892400" y="613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4920480" y="613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4747680" y="582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4760640" y="582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4792320" y="5829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4817520" y="582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4833360" y="5829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4849560" y="582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4879440" y="5829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4907880" y="582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4921200" y="5829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4933440" y="582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4962240" y="582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4994280" y="58294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4747680" y="5884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4760640" y="5884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4792320" y="5884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4820760" y="5884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4858920" y="5884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4892040" y="5884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4747680" y="6323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4760640" y="632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4792320" y="6323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4817520" y="6323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4830120" y="6323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4849560" y="632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4879440" y="6323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4907880" y="6323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4921200" y="6323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4933440" y="632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4962240" y="632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4991040" y="6323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4747680" y="6378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476064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479232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482076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485892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489240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4920480" y="6378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4575240" y="619776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16"/>
                    </a:moveTo>
                    <a:lnTo>
                      <a:pt x="10" y="19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5459400" y="5884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1" name=""/>
            <p:cNvGrpSpPr/>
            <p:nvPr/>
          </p:nvGrpSpPr>
          <p:grpSpPr>
            <a:xfrm>
              <a:off x="4135320" y="717480"/>
              <a:ext cx="3927600" cy="5983200"/>
              <a:chOff x="4135320" y="717480"/>
              <a:chExt cx="3927600" cy="5983200"/>
            </a:xfrm>
          </p:grpSpPr>
          <p:sp>
            <p:nvSpPr>
              <p:cNvPr id="5322" name=""/>
              <p:cNvSpPr/>
              <p:nvPr/>
            </p:nvSpPr>
            <p:spPr>
              <a:xfrm>
                <a:off x="543996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547164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439960" y="509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471640" y="509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5459400" y="6137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543996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47164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 rot="16200000">
                <a:off x="7171200" y="1690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 rot="16200000">
                <a:off x="7182000" y="1659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 rot="16200000">
                <a:off x="7171200" y="1616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 rot="16200000">
                <a:off x="7167600" y="15674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 rot="16200000">
                <a:off x="7190280" y="1544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 rot="16200000">
                <a:off x="7194960" y="1527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 rot="16200000">
                <a:off x="7192800" y="1513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 rot="16200000">
                <a:off x="7182000" y="14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7260480" y="5923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7306920" y="592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7335360" y="5923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7380360" y="5923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7418160" y="592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7448040" y="592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7476840" y="592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 rot="16200000">
                <a:off x="7171200" y="5067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 rot="16200000">
                <a:off x="7182000" y="5032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 rot="16200000">
                <a:off x="7171200" y="4988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 rot="16200000">
                <a:off x="7167600" y="49442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 rot="16200000">
                <a:off x="7190280" y="4917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 rot="16200000">
                <a:off x="7194960" y="4902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 rot="16200000">
                <a:off x="7192800" y="4891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 rot="16200000">
                <a:off x="7182000" y="486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4613040" y="71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4644360" y="717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460656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463500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4606920" y="2763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4606920" y="2511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4606560" y="180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4606560" y="1644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5459400" y="2511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543996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547164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543996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547164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5459400" y="2763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543996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547164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569412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572256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 flipH="1">
                <a:off x="4587840" y="1717560"/>
                <a:ext cx="195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4587840" y="1878120"/>
                <a:ext cx="195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4465800" y="1959120"/>
                <a:ext cx="122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4575240" y="19461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4575240" y="1704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4575240" y="18651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4587840" y="793800"/>
                <a:ext cx="955800" cy="2284200"/>
              </a:xfrm>
              <a:custGeom>
                <a:avLst/>
                <a:gdLst/>
                <a:ahLst/>
                <a:rect l="l" t="t" r="r" b="b"/>
                <a:pathLst>
                  <a:path w="602" h="1439">
                    <a:moveTo>
                      <a:pt x="602" y="1439"/>
                    </a:moveTo>
                    <a:lnTo>
                      <a:pt x="0" y="1439"/>
                    </a:lnTo>
                    <a:lnTo>
                      <a:pt x="0" y="0"/>
                    </a:lnTo>
                    <a:lnTo>
                      <a:pt x="33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4359240" y="1063800"/>
                <a:ext cx="10944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  <a:lnTo>
                      <a:pt x="67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4359240" y="1063800"/>
                <a:ext cx="10944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 flipH="1">
                <a:off x="5675400" y="1798560"/>
                <a:ext cx="355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 flipH="1">
                <a:off x="6386400" y="2028960"/>
                <a:ext cx="21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5792760" y="2238480"/>
                <a:ext cx="1440" cy="34596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5670720" y="2584440"/>
                <a:ext cx="122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5792760" y="2584440"/>
                <a:ext cx="166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860440" y="2876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5905440" y="28764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5866920" y="2927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899320" y="29275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5866920" y="2981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5854320" y="2808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898600" y="2036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5943600" y="2036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5908320" y="209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5937120" y="2090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5908320" y="2144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5892480" y="220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6107040" y="2825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6141600" y="28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6172200" y="2825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6209640" y="282564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6251400" y="28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5908680" y="3132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946480" y="31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5978160" y="31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6008760" y="3132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6046560" y="313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6071760" y="31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6031080" y="2523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6065640" y="25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6094440" y="2523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6132600" y="2523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5995800" y="2590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6021000" y="259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6052680" y="259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6081120" y="2590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6093720" y="2590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6113160" y="259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6141960" y="2590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6626160" y="1063800"/>
                <a:ext cx="55800" cy="2065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6626160" y="1063800"/>
                <a:ext cx="55800" cy="20653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6681960" y="1063800"/>
                <a:ext cx="53640" cy="2065320"/>
              </a:xfrm>
              <a:custGeom>
                <a:avLst/>
                <a:gdLst/>
                <a:ahLst/>
                <a:rect l="l" t="t" r="r" b="b"/>
                <a:pathLst>
                  <a:path w="34" h="1301">
                    <a:moveTo>
                      <a:pt x="0" y="1299"/>
                    </a:moveTo>
                    <a:lnTo>
                      <a:pt x="34" y="1301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6681960" y="1063800"/>
                <a:ext cx="53640" cy="2065320"/>
              </a:xfrm>
              <a:custGeom>
                <a:avLst/>
                <a:gdLst/>
                <a:ahLst/>
                <a:rect l="l" t="t" r="r" b="b"/>
                <a:pathLst>
                  <a:path w="34" h="1301">
                    <a:moveTo>
                      <a:pt x="0" y="1299"/>
                    </a:moveTo>
                    <a:lnTo>
                      <a:pt x="34" y="1301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6658920" y="942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6643440" y="7635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6691320" y="7635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569412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572256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5694120" y="509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5722560" y="509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569412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572256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5860440" y="6249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5905440" y="6249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5866920" y="63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5899320" y="6300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5866920" y="63565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5898600" y="5410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5943600" y="5410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5908320" y="546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5937120" y="5464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5908320" y="5518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6119640" y="5303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6156000" y="530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6188040" y="5303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 flipH="1">
                <a:off x="5675400" y="5373720"/>
                <a:ext cx="1792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5719680" y="53611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7392960" y="5345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7432200" y="534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7461000" y="534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7489440" y="534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7518240" y="53452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740844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743868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7467120" y="5400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748296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6754320" y="625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6783120" y="625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 flipH="1">
                <a:off x="7536960" y="5402160"/>
                <a:ext cx="939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7668720" y="43196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7719840" y="4319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6754320" y="288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6783120" y="288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7784640" y="288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7813440" y="288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460656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463500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5694120" y="1924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5722560" y="1924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569412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572256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4708440" y="2147760"/>
                <a:ext cx="3354480" cy="1179720"/>
              </a:xfrm>
              <a:custGeom>
                <a:avLst/>
                <a:gdLst/>
                <a:ahLst/>
                <a:rect l="l" t="t" r="r" b="b"/>
                <a:pathLst>
                  <a:path w="2113" h="743">
                    <a:moveTo>
                      <a:pt x="47" y="32"/>
                    </a:moveTo>
                    <a:lnTo>
                      <a:pt x="0" y="32"/>
                    </a:lnTo>
                    <a:lnTo>
                      <a:pt x="0" y="743"/>
                    </a:lnTo>
                    <a:lnTo>
                      <a:pt x="2113" y="743"/>
                    </a:lnTo>
                    <a:lnTo>
                      <a:pt x="2113" y="0"/>
                    </a:lnTo>
                    <a:lnTo>
                      <a:pt x="207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4525920" y="2038320"/>
                <a:ext cx="3297240" cy="1231920"/>
              </a:xfrm>
              <a:custGeom>
                <a:avLst/>
                <a:gdLst/>
                <a:ahLst/>
                <a:rect l="l" t="t" r="r" b="b"/>
                <a:pathLst>
                  <a:path w="2077" h="776">
                    <a:moveTo>
                      <a:pt x="2039" y="578"/>
                    </a:moveTo>
                    <a:lnTo>
                      <a:pt x="2077" y="580"/>
                    </a:lnTo>
                    <a:lnTo>
                      <a:pt x="2077" y="776"/>
                    </a:lnTo>
                    <a:lnTo>
                      <a:pt x="0" y="776"/>
                    </a:lnTo>
                    <a:lnTo>
                      <a:pt x="0" y="0"/>
                    </a:lnTo>
                    <a:lnTo>
                      <a:pt x="16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5780160" y="25718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5719680" y="198756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5780160" y="22273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8" y="17"/>
                    </a:moveTo>
                    <a:lnTo>
                      <a:pt x="10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 flipH="1">
                <a:off x="6735600" y="2028960"/>
                <a:ext cx="59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6794640" y="2028960"/>
                <a:ext cx="836640" cy="474480"/>
              </a:xfrm>
              <a:custGeom>
                <a:avLst/>
                <a:gdLst/>
                <a:ahLst/>
                <a:rect l="l" t="t" r="r" b="b"/>
                <a:pathLst>
                  <a:path w="527" h="299">
                    <a:moveTo>
                      <a:pt x="527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7668720" y="9428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7719840" y="942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 rot="16200000">
                <a:off x="7890480" y="1853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 rot="16200000">
                <a:off x="7901280" y="18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 rot="16200000">
                <a:off x="7890480" y="17794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 rot="16200000">
                <a:off x="7912080" y="1757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 rot="16200000">
                <a:off x="7901280" y="173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 rot="16200000">
                <a:off x="7895160" y="1696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 rot="16200000">
                <a:off x="7901280" y="1662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 rot="16200000">
                <a:off x="7901280" y="16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7787880" y="86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7787880" y="94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4606560" y="533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4635000" y="533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7784640" y="625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7813440" y="625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4135320" y="45496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4827240" y="5357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4876200" y="5357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4896000" y="5357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4907880" y="5357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4920840" y="535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4952880" y="5357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4827240" y="541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4843080" y="541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4876560" y="541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4905360" y="5410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4914720" y="5410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4942800" y="541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4955760" y="541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4987440" y="541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4827240" y="55180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4876200" y="5518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4896000" y="5518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4907880" y="5518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4920840" y="551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4952880" y="5518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4827240" y="557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4855680" y="557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4885560" y="5570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4901760" y="557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4708440" y="5521320"/>
                <a:ext cx="3354480" cy="1179360"/>
              </a:xfrm>
              <a:custGeom>
                <a:avLst/>
                <a:gdLst/>
                <a:ahLst/>
                <a:rect l="l" t="t" r="r" b="b"/>
                <a:pathLst>
                  <a:path w="2113" h="743">
                    <a:moveTo>
                      <a:pt x="47" y="32"/>
                    </a:moveTo>
                    <a:lnTo>
                      <a:pt x="0" y="34"/>
                    </a:lnTo>
                    <a:lnTo>
                      <a:pt x="0" y="743"/>
                    </a:lnTo>
                    <a:lnTo>
                      <a:pt x="2113" y="743"/>
                    </a:lnTo>
                    <a:lnTo>
                      <a:pt x="2113" y="0"/>
                    </a:lnTo>
                    <a:lnTo>
                      <a:pt x="207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4525920" y="5415120"/>
                <a:ext cx="3297240" cy="1228680"/>
              </a:xfrm>
              <a:custGeom>
                <a:avLst/>
                <a:gdLst/>
                <a:ahLst/>
                <a:rect l="l" t="t" r="r" b="b"/>
                <a:pathLst>
                  <a:path w="2077" h="774">
                    <a:moveTo>
                      <a:pt x="2039" y="578"/>
                    </a:moveTo>
                    <a:lnTo>
                      <a:pt x="2077" y="578"/>
                    </a:lnTo>
                    <a:lnTo>
                      <a:pt x="2077" y="774"/>
                    </a:lnTo>
                    <a:lnTo>
                      <a:pt x="0" y="774"/>
                    </a:lnTo>
                    <a:lnTo>
                      <a:pt x="0" y="0"/>
                    </a:lnTo>
                    <a:lnTo>
                      <a:pt x="16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6794640" y="5402160"/>
                <a:ext cx="836640" cy="474840"/>
              </a:xfrm>
              <a:custGeom>
                <a:avLst/>
                <a:gdLst/>
                <a:ahLst/>
                <a:rect l="l" t="t" r="r" b="b"/>
                <a:pathLst>
                  <a:path w="527" h="299">
                    <a:moveTo>
                      <a:pt x="527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6392880" y="5257800"/>
                <a:ext cx="214200" cy="3240"/>
              </a:xfrm>
              <a:prstGeom prst="line">
                <a:avLst/>
              </a:prstGeom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2" name=""/>
            <p:cNvSpPr/>
            <p:nvPr/>
          </p:nvSpPr>
          <p:spPr>
            <a:xfrm>
              <a:off x="6594480" y="5245200"/>
              <a:ext cx="2844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2" y="19"/>
                  </a:lnTo>
                  <a:lnTo>
                    <a:pt x="18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6266520" y="523080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Z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6302160" y="5230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6332040" y="52308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6348240" y="5230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386400" y="1890720"/>
              <a:ext cx="214560" cy="3240"/>
            </a:xfrm>
            <a:prstGeom prst="line">
              <a:avLst/>
            </a:prstGeom>
            <a:ln w="648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6594480" y="187812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2" y="18"/>
                  </a:lnTo>
                  <a:lnTo>
                    <a:pt x="18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6260400" y="186228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Z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6295680" y="1862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6325560" y="18622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6341760" y="1862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6905520" y="538956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2" y="18"/>
                  </a:lnTo>
                  <a:lnTo>
                    <a:pt x="18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 flipH="1">
              <a:off x="6794640" y="5402160"/>
              <a:ext cx="126720" cy="180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7184880" y="54450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7222680" y="5445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7251120" y="54450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7267320" y="5445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7297560" y="544500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7146360" y="55119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7191000" y="5511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7219440" y="55119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7264080" y="5511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7293960" y="551196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7313400" y="55119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6964200" y="53704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6999120" y="537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7027560" y="537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7059240" y="53704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7075080" y="537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7103880" y="53704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7133760" y="53704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6780240" y="539280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9" y="16"/>
                  </a:moveTo>
                  <a:lnTo>
                    <a:pt x="11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6908760" y="201312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 flipH="1">
              <a:off x="6794640" y="2025720"/>
              <a:ext cx="1267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7184880" y="20685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7222680" y="2068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7251120" y="20685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7267320" y="2068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7297560" y="206856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7146360" y="21351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7191000" y="2135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7219440" y="21351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7264080" y="2135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7293960" y="213516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7313400" y="21351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6964200" y="1994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6999120" y="1994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7027560" y="1994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7059240" y="199404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7075080" y="1994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7103880" y="19940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7133760" y="19940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6780240" y="201600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9" y="16"/>
                  </a:moveTo>
                  <a:lnTo>
                    <a:pt x="11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9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5113440" y="25718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5145120" y="2371680"/>
              <a:ext cx="198360" cy="426960"/>
            </a:xfrm>
            <a:custGeom>
              <a:avLst/>
              <a:gdLst/>
              <a:ahLst/>
              <a:rect l="l" t="t" r="r" b="b"/>
              <a:pathLst>
                <a:path w="125" h="269">
                  <a:moveTo>
                    <a:pt x="63" y="269"/>
                  </a:moveTo>
                  <a:lnTo>
                    <a:pt x="73" y="267"/>
                  </a:lnTo>
                  <a:lnTo>
                    <a:pt x="83" y="263"/>
                  </a:lnTo>
                  <a:lnTo>
                    <a:pt x="93" y="255"/>
                  </a:lnTo>
                  <a:lnTo>
                    <a:pt x="101" y="243"/>
                  </a:lnTo>
                  <a:lnTo>
                    <a:pt x="107" y="229"/>
                  </a:lnTo>
                  <a:lnTo>
                    <a:pt x="113" y="215"/>
                  </a:lnTo>
                  <a:lnTo>
                    <a:pt x="119" y="196"/>
                  </a:lnTo>
                  <a:lnTo>
                    <a:pt x="123" y="178"/>
                  </a:lnTo>
                  <a:lnTo>
                    <a:pt x="125" y="156"/>
                  </a:lnTo>
                  <a:lnTo>
                    <a:pt x="125" y="136"/>
                  </a:lnTo>
                  <a:lnTo>
                    <a:pt x="125" y="113"/>
                  </a:lnTo>
                  <a:lnTo>
                    <a:pt x="123" y="93"/>
                  </a:lnTo>
                  <a:lnTo>
                    <a:pt x="119" y="73"/>
                  </a:lnTo>
                  <a:lnTo>
                    <a:pt x="113" y="55"/>
                  </a:lnTo>
                  <a:lnTo>
                    <a:pt x="107" y="41"/>
                  </a:lnTo>
                  <a:lnTo>
                    <a:pt x="101" y="27"/>
                  </a:lnTo>
                  <a:lnTo>
                    <a:pt x="93" y="17"/>
                  </a:lnTo>
                  <a:lnTo>
                    <a:pt x="83" y="8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8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8" y="41"/>
                  </a:lnTo>
                  <a:lnTo>
                    <a:pt x="12" y="55"/>
                  </a:lnTo>
                  <a:lnTo>
                    <a:pt x="6" y="73"/>
                  </a:lnTo>
                  <a:lnTo>
                    <a:pt x="4" y="93"/>
                  </a:lnTo>
                  <a:lnTo>
                    <a:pt x="0" y="113"/>
                  </a:lnTo>
                  <a:lnTo>
                    <a:pt x="0" y="136"/>
                  </a:lnTo>
                  <a:lnTo>
                    <a:pt x="0" y="156"/>
                  </a:lnTo>
                  <a:lnTo>
                    <a:pt x="4" y="178"/>
                  </a:lnTo>
                  <a:lnTo>
                    <a:pt x="6" y="196"/>
                  </a:lnTo>
                  <a:lnTo>
                    <a:pt x="12" y="215"/>
                  </a:lnTo>
                  <a:lnTo>
                    <a:pt x="18" y="229"/>
                  </a:lnTo>
                  <a:lnTo>
                    <a:pt x="26" y="243"/>
                  </a:lnTo>
                  <a:lnTo>
                    <a:pt x="35" y="255"/>
                  </a:lnTo>
                  <a:lnTo>
                    <a:pt x="43" y="263"/>
                  </a:lnTo>
                  <a:lnTo>
                    <a:pt x="53" y="267"/>
                  </a:lnTo>
                  <a:lnTo>
                    <a:pt x="63" y="269"/>
                  </a:lnTo>
                  <a:lnTo>
                    <a:pt x="63" y="2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5145120" y="2371680"/>
              <a:ext cx="198360" cy="426960"/>
            </a:xfrm>
            <a:custGeom>
              <a:avLst/>
              <a:gdLst/>
              <a:ahLst/>
              <a:rect l="l" t="t" r="r" b="b"/>
              <a:pathLst>
                <a:path w="125" h="269">
                  <a:moveTo>
                    <a:pt x="63" y="269"/>
                  </a:moveTo>
                  <a:lnTo>
                    <a:pt x="73" y="267"/>
                  </a:lnTo>
                  <a:lnTo>
                    <a:pt x="83" y="263"/>
                  </a:lnTo>
                  <a:lnTo>
                    <a:pt x="93" y="255"/>
                  </a:lnTo>
                  <a:lnTo>
                    <a:pt x="101" y="243"/>
                  </a:lnTo>
                  <a:lnTo>
                    <a:pt x="107" y="229"/>
                  </a:lnTo>
                  <a:lnTo>
                    <a:pt x="113" y="215"/>
                  </a:lnTo>
                  <a:lnTo>
                    <a:pt x="119" y="196"/>
                  </a:lnTo>
                  <a:lnTo>
                    <a:pt x="123" y="178"/>
                  </a:lnTo>
                  <a:lnTo>
                    <a:pt x="125" y="156"/>
                  </a:lnTo>
                  <a:lnTo>
                    <a:pt x="125" y="136"/>
                  </a:lnTo>
                  <a:lnTo>
                    <a:pt x="125" y="113"/>
                  </a:lnTo>
                  <a:lnTo>
                    <a:pt x="123" y="93"/>
                  </a:lnTo>
                  <a:lnTo>
                    <a:pt x="119" y="73"/>
                  </a:lnTo>
                  <a:lnTo>
                    <a:pt x="113" y="55"/>
                  </a:lnTo>
                  <a:lnTo>
                    <a:pt x="107" y="41"/>
                  </a:lnTo>
                  <a:lnTo>
                    <a:pt x="101" y="27"/>
                  </a:lnTo>
                  <a:lnTo>
                    <a:pt x="93" y="17"/>
                  </a:lnTo>
                  <a:lnTo>
                    <a:pt x="83" y="8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8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8" y="41"/>
                  </a:lnTo>
                  <a:lnTo>
                    <a:pt x="12" y="55"/>
                  </a:lnTo>
                  <a:lnTo>
                    <a:pt x="6" y="73"/>
                  </a:lnTo>
                  <a:lnTo>
                    <a:pt x="4" y="93"/>
                  </a:lnTo>
                  <a:lnTo>
                    <a:pt x="0" y="113"/>
                  </a:lnTo>
                  <a:lnTo>
                    <a:pt x="0" y="136"/>
                  </a:lnTo>
                  <a:lnTo>
                    <a:pt x="0" y="156"/>
                  </a:lnTo>
                  <a:lnTo>
                    <a:pt x="4" y="178"/>
                  </a:lnTo>
                  <a:lnTo>
                    <a:pt x="6" y="196"/>
                  </a:lnTo>
                  <a:lnTo>
                    <a:pt x="12" y="215"/>
                  </a:lnTo>
                  <a:lnTo>
                    <a:pt x="18" y="229"/>
                  </a:lnTo>
                  <a:lnTo>
                    <a:pt x="26" y="243"/>
                  </a:lnTo>
                  <a:lnTo>
                    <a:pt x="35" y="255"/>
                  </a:lnTo>
                  <a:lnTo>
                    <a:pt x="43" y="263"/>
                  </a:lnTo>
                  <a:lnTo>
                    <a:pt x="53" y="267"/>
                  </a:lnTo>
                  <a:lnTo>
                    <a:pt x="63" y="269"/>
                  </a:lnTo>
                  <a:lnTo>
                    <a:pt x="63" y="269"/>
                  </a:lnTo>
                </a:path>
              </a:pathLst>
            </a:custGeom>
            <a:noFill/>
            <a:ln w="648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4584600" y="2584440"/>
              <a:ext cx="5349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5189400" y="25239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5229360" y="25239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5238360" y="2523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5267160" y="2523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5299200" y="252396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5160600" y="259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5189040" y="25909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5218920" y="25909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5232240" y="259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5263920" y="259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5292360" y="259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5343480" y="2584440"/>
              <a:ext cx="1969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5533920" y="25718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4572000" y="25718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8" y="16"/>
                  </a:move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5113440" y="59450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5145120" y="5745240"/>
              <a:ext cx="198360" cy="426960"/>
            </a:xfrm>
            <a:custGeom>
              <a:avLst/>
              <a:gdLst/>
              <a:ahLst/>
              <a:rect l="l" t="t" r="r" b="b"/>
              <a:pathLst>
                <a:path w="125" h="269">
                  <a:moveTo>
                    <a:pt x="63" y="269"/>
                  </a:moveTo>
                  <a:lnTo>
                    <a:pt x="73" y="267"/>
                  </a:lnTo>
                  <a:lnTo>
                    <a:pt x="83" y="263"/>
                  </a:lnTo>
                  <a:lnTo>
                    <a:pt x="93" y="255"/>
                  </a:lnTo>
                  <a:lnTo>
                    <a:pt x="101" y="243"/>
                  </a:lnTo>
                  <a:lnTo>
                    <a:pt x="107" y="231"/>
                  </a:lnTo>
                  <a:lnTo>
                    <a:pt x="113" y="215"/>
                  </a:lnTo>
                  <a:lnTo>
                    <a:pt x="119" y="196"/>
                  </a:lnTo>
                  <a:lnTo>
                    <a:pt x="123" y="178"/>
                  </a:lnTo>
                  <a:lnTo>
                    <a:pt x="125" y="158"/>
                  </a:lnTo>
                  <a:lnTo>
                    <a:pt x="125" y="136"/>
                  </a:lnTo>
                  <a:lnTo>
                    <a:pt x="125" y="114"/>
                  </a:lnTo>
                  <a:lnTo>
                    <a:pt x="123" y="93"/>
                  </a:lnTo>
                  <a:lnTo>
                    <a:pt x="119" y="73"/>
                  </a:lnTo>
                  <a:lnTo>
                    <a:pt x="113" y="57"/>
                  </a:lnTo>
                  <a:lnTo>
                    <a:pt x="107" y="41"/>
                  </a:lnTo>
                  <a:lnTo>
                    <a:pt x="101" y="27"/>
                  </a:lnTo>
                  <a:lnTo>
                    <a:pt x="93" y="17"/>
                  </a:lnTo>
                  <a:lnTo>
                    <a:pt x="83" y="9"/>
                  </a:lnTo>
                  <a:lnTo>
                    <a:pt x="73" y="3"/>
                  </a:lnTo>
                  <a:lnTo>
                    <a:pt x="63" y="0"/>
                  </a:lnTo>
                  <a:lnTo>
                    <a:pt x="53" y="3"/>
                  </a:lnTo>
                  <a:lnTo>
                    <a:pt x="43" y="9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8" y="41"/>
                  </a:lnTo>
                  <a:lnTo>
                    <a:pt x="12" y="57"/>
                  </a:lnTo>
                  <a:lnTo>
                    <a:pt x="6" y="73"/>
                  </a:lnTo>
                  <a:lnTo>
                    <a:pt x="4" y="93"/>
                  </a:lnTo>
                  <a:lnTo>
                    <a:pt x="0" y="114"/>
                  </a:lnTo>
                  <a:lnTo>
                    <a:pt x="0" y="136"/>
                  </a:lnTo>
                  <a:lnTo>
                    <a:pt x="0" y="158"/>
                  </a:lnTo>
                  <a:lnTo>
                    <a:pt x="4" y="178"/>
                  </a:lnTo>
                  <a:lnTo>
                    <a:pt x="6" y="196"/>
                  </a:lnTo>
                  <a:lnTo>
                    <a:pt x="12" y="215"/>
                  </a:lnTo>
                  <a:lnTo>
                    <a:pt x="18" y="231"/>
                  </a:lnTo>
                  <a:lnTo>
                    <a:pt x="26" y="243"/>
                  </a:lnTo>
                  <a:lnTo>
                    <a:pt x="35" y="255"/>
                  </a:lnTo>
                  <a:lnTo>
                    <a:pt x="43" y="263"/>
                  </a:lnTo>
                  <a:lnTo>
                    <a:pt x="53" y="267"/>
                  </a:lnTo>
                  <a:lnTo>
                    <a:pt x="63" y="269"/>
                  </a:lnTo>
                  <a:lnTo>
                    <a:pt x="63" y="2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5145120" y="5745240"/>
              <a:ext cx="198360" cy="426960"/>
            </a:xfrm>
            <a:custGeom>
              <a:avLst/>
              <a:gdLst/>
              <a:ahLst/>
              <a:rect l="l" t="t" r="r" b="b"/>
              <a:pathLst>
                <a:path w="125" h="269">
                  <a:moveTo>
                    <a:pt x="63" y="269"/>
                  </a:moveTo>
                  <a:lnTo>
                    <a:pt x="73" y="267"/>
                  </a:lnTo>
                  <a:lnTo>
                    <a:pt x="83" y="263"/>
                  </a:lnTo>
                  <a:lnTo>
                    <a:pt x="93" y="255"/>
                  </a:lnTo>
                  <a:lnTo>
                    <a:pt x="101" y="243"/>
                  </a:lnTo>
                  <a:lnTo>
                    <a:pt x="107" y="231"/>
                  </a:lnTo>
                  <a:lnTo>
                    <a:pt x="113" y="215"/>
                  </a:lnTo>
                  <a:lnTo>
                    <a:pt x="119" y="196"/>
                  </a:lnTo>
                  <a:lnTo>
                    <a:pt x="123" y="178"/>
                  </a:lnTo>
                  <a:lnTo>
                    <a:pt x="125" y="158"/>
                  </a:lnTo>
                  <a:lnTo>
                    <a:pt x="125" y="136"/>
                  </a:lnTo>
                  <a:lnTo>
                    <a:pt x="125" y="114"/>
                  </a:lnTo>
                  <a:lnTo>
                    <a:pt x="123" y="93"/>
                  </a:lnTo>
                  <a:lnTo>
                    <a:pt x="119" y="73"/>
                  </a:lnTo>
                  <a:lnTo>
                    <a:pt x="113" y="57"/>
                  </a:lnTo>
                  <a:lnTo>
                    <a:pt x="107" y="41"/>
                  </a:lnTo>
                  <a:lnTo>
                    <a:pt x="101" y="27"/>
                  </a:lnTo>
                  <a:lnTo>
                    <a:pt x="93" y="17"/>
                  </a:lnTo>
                  <a:lnTo>
                    <a:pt x="83" y="9"/>
                  </a:lnTo>
                  <a:lnTo>
                    <a:pt x="73" y="3"/>
                  </a:lnTo>
                  <a:lnTo>
                    <a:pt x="63" y="0"/>
                  </a:lnTo>
                  <a:lnTo>
                    <a:pt x="53" y="3"/>
                  </a:lnTo>
                  <a:lnTo>
                    <a:pt x="43" y="9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8" y="41"/>
                  </a:lnTo>
                  <a:lnTo>
                    <a:pt x="12" y="57"/>
                  </a:lnTo>
                  <a:lnTo>
                    <a:pt x="6" y="73"/>
                  </a:lnTo>
                  <a:lnTo>
                    <a:pt x="4" y="93"/>
                  </a:lnTo>
                  <a:lnTo>
                    <a:pt x="0" y="114"/>
                  </a:lnTo>
                  <a:lnTo>
                    <a:pt x="0" y="136"/>
                  </a:lnTo>
                  <a:lnTo>
                    <a:pt x="0" y="158"/>
                  </a:lnTo>
                  <a:lnTo>
                    <a:pt x="4" y="178"/>
                  </a:lnTo>
                  <a:lnTo>
                    <a:pt x="6" y="196"/>
                  </a:lnTo>
                  <a:lnTo>
                    <a:pt x="12" y="215"/>
                  </a:lnTo>
                  <a:lnTo>
                    <a:pt x="18" y="231"/>
                  </a:lnTo>
                  <a:lnTo>
                    <a:pt x="26" y="243"/>
                  </a:lnTo>
                  <a:lnTo>
                    <a:pt x="35" y="255"/>
                  </a:lnTo>
                  <a:lnTo>
                    <a:pt x="43" y="263"/>
                  </a:lnTo>
                  <a:lnTo>
                    <a:pt x="53" y="267"/>
                  </a:lnTo>
                  <a:lnTo>
                    <a:pt x="63" y="269"/>
                  </a:lnTo>
                  <a:lnTo>
                    <a:pt x="63" y="269"/>
                  </a:lnTo>
                </a:path>
              </a:pathLst>
            </a:custGeom>
            <a:noFill/>
            <a:ln w="648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4584600" y="5958000"/>
              <a:ext cx="53496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5189400" y="59007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5229360" y="59007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5238360" y="590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5267160" y="590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5299200" y="590076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5160600" y="596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5189040" y="59673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5218920" y="59673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5232240" y="596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5263920" y="596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5292360" y="596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5343480" y="5958000"/>
              <a:ext cx="19692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5533920" y="594504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4572000" y="59482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8" y="16"/>
                  </a:move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3833640" y="30290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3909960" y="30290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3936600" y="3029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3993840" y="30290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4047840" y="30290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4100040" y="30290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4132080" y="3029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3833640" y="64436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3909960" y="64436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3936600" y="6443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3993840" y="64436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4047840" y="64436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4100040" y="64436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4132080" y="6443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5" name=""/>
          <p:cNvSpPr/>
          <p:nvPr/>
        </p:nvSpPr>
        <p:spPr>
          <a:xfrm>
            <a:off x="442080" y="2541600"/>
            <a:ext cx="196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0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($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1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2, $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and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2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4, $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or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3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6, 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add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4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8, $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19810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ag. 47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7" name=""/>
          <p:cNvGrpSpPr/>
          <p:nvPr/>
        </p:nvGrpSpPr>
        <p:grpSpPr>
          <a:xfrm>
            <a:off x="3336840" y="88920"/>
            <a:ext cx="5088600" cy="6688080"/>
            <a:chOff x="3336840" y="88920"/>
            <a:chExt cx="5088600" cy="6688080"/>
          </a:xfrm>
        </p:grpSpPr>
        <p:grpSp>
          <p:nvGrpSpPr>
            <p:cNvPr id="5628" name=""/>
            <p:cNvGrpSpPr/>
            <p:nvPr/>
          </p:nvGrpSpPr>
          <p:grpSpPr>
            <a:xfrm>
              <a:off x="3384720" y="264960"/>
              <a:ext cx="4592520" cy="6313680"/>
              <a:chOff x="3384720" y="264960"/>
              <a:chExt cx="4592520" cy="6313680"/>
            </a:xfrm>
          </p:grpSpPr>
          <p:sp>
            <p:nvSpPr>
              <p:cNvPr id="5629" name=""/>
              <p:cNvSpPr/>
              <p:nvPr/>
            </p:nvSpPr>
            <p:spPr>
              <a:xfrm>
                <a:off x="5648400" y="906480"/>
                <a:ext cx="812880" cy="2300400"/>
              </a:xfrm>
              <a:custGeom>
                <a:avLst/>
                <a:gdLst/>
                <a:ahLst/>
                <a:rect l="l" t="t" r="r" b="b"/>
                <a:pathLst>
                  <a:path w="512" h="1449">
                    <a:moveTo>
                      <a:pt x="0" y="0"/>
                    </a:moveTo>
                    <a:lnTo>
                      <a:pt x="512" y="0"/>
                    </a:lnTo>
                    <a:lnTo>
                      <a:pt x="512" y="1449"/>
                    </a:lnTo>
                    <a:lnTo>
                      <a:pt x="133" y="1449"/>
                    </a:lnTo>
                    <a:lnTo>
                      <a:pt x="133" y="139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5648400" y="973080"/>
                <a:ext cx="755640" cy="1922400"/>
              </a:xfrm>
              <a:custGeom>
                <a:avLst/>
                <a:gdLst/>
                <a:ahLst/>
                <a:rect l="l" t="t" r="r" b="b"/>
                <a:pathLst>
                  <a:path w="476" h="1211">
                    <a:moveTo>
                      <a:pt x="0" y="0"/>
                    </a:moveTo>
                    <a:lnTo>
                      <a:pt x="476" y="0"/>
                    </a:lnTo>
                    <a:lnTo>
                      <a:pt x="476" y="1211"/>
                    </a:lnTo>
                    <a:lnTo>
                      <a:pt x="256" y="1211"/>
                    </a:lnTo>
                    <a:lnTo>
                      <a:pt x="256" y="1149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6362640" y="1890720"/>
                <a:ext cx="214200" cy="3240"/>
              </a:xfrm>
              <a:prstGeom prst="line">
                <a:avLst/>
              </a:prstGeom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6570720" y="18763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1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7737480" y="4386240"/>
                <a:ext cx="189000" cy="961920"/>
              </a:xfrm>
              <a:custGeom>
                <a:avLst/>
                <a:gdLst/>
                <a:ahLst/>
                <a:rect l="l" t="t" r="r" b="b"/>
                <a:pathLst>
                  <a:path w="119" h="606">
                    <a:moveTo>
                      <a:pt x="119" y="606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6653160" y="407520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6653160" y="407520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6602400" y="40719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6602400" y="40719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5648400" y="4411800"/>
                <a:ext cx="695160" cy="911160"/>
              </a:xfrm>
              <a:custGeom>
                <a:avLst/>
                <a:gdLst/>
                <a:ahLst/>
                <a:rect l="l" t="t" r="r" b="b"/>
                <a:pathLst>
                  <a:path w="438" h="574">
                    <a:moveTo>
                      <a:pt x="0" y="0"/>
                    </a:moveTo>
                    <a:lnTo>
                      <a:pt x="438" y="0"/>
                    </a:lnTo>
                    <a:lnTo>
                      <a:pt x="438" y="384"/>
                    </a:lnTo>
                    <a:lnTo>
                      <a:pt x="157" y="384"/>
                    </a:lnTo>
                    <a:lnTo>
                      <a:pt x="157" y="574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5648400" y="4276800"/>
                <a:ext cx="812880" cy="2301840"/>
              </a:xfrm>
              <a:custGeom>
                <a:avLst/>
                <a:gdLst/>
                <a:ahLst/>
                <a:rect l="l" t="t" r="r" b="b"/>
                <a:pathLst>
                  <a:path w="512" h="1450">
                    <a:moveTo>
                      <a:pt x="0" y="0"/>
                    </a:moveTo>
                    <a:lnTo>
                      <a:pt x="512" y="0"/>
                    </a:lnTo>
                    <a:lnTo>
                      <a:pt x="512" y="1450"/>
                    </a:lnTo>
                    <a:lnTo>
                      <a:pt x="133" y="1450"/>
                    </a:lnTo>
                    <a:lnTo>
                      <a:pt x="133" y="1399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5648400" y="4344840"/>
                <a:ext cx="755640" cy="1922760"/>
              </a:xfrm>
              <a:custGeom>
                <a:avLst/>
                <a:gdLst/>
                <a:ahLst/>
                <a:rect l="l" t="t" r="r" b="b"/>
                <a:pathLst>
                  <a:path w="476" h="1211">
                    <a:moveTo>
                      <a:pt x="0" y="0"/>
                    </a:moveTo>
                    <a:lnTo>
                      <a:pt x="476" y="0"/>
                    </a:lnTo>
                    <a:lnTo>
                      <a:pt x="476" y="1211"/>
                    </a:lnTo>
                    <a:lnTo>
                      <a:pt x="256" y="1211"/>
                    </a:lnTo>
                    <a:lnTo>
                      <a:pt x="256" y="1148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5648400" y="4165560"/>
                <a:ext cx="931680" cy="111240"/>
              </a:xfrm>
              <a:custGeom>
                <a:avLst/>
                <a:gdLst/>
                <a:ahLst/>
                <a:rect l="l" t="t" r="r" b="b"/>
                <a:pathLst>
                  <a:path w="587" h="70">
                    <a:moveTo>
                      <a:pt x="587" y="70"/>
                    </a:moveTo>
                    <a:lnTo>
                      <a:pt x="533" y="70"/>
                    </a:lnTo>
                    <a:lnTo>
                      <a:pt x="533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5648400" y="3986280"/>
                <a:ext cx="931680" cy="110880"/>
              </a:xfrm>
              <a:custGeom>
                <a:avLst/>
                <a:gdLst/>
                <a:ahLst/>
                <a:rect l="l" t="t" r="r" b="b"/>
                <a:pathLst>
                  <a:path w="587" h="70">
                    <a:moveTo>
                      <a:pt x="587" y="70"/>
                    </a:moveTo>
                    <a:lnTo>
                      <a:pt x="551" y="70"/>
                    </a:lnTo>
                    <a:lnTo>
                      <a:pt x="55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5294160" y="4344840"/>
                <a:ext cx="225720" cy="180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5337000" y="4165560"/>
                <a:ext cx="182880" cy="180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5294160" y="3983040"/>
                <a:ext cx="225720" cy="32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7737480" y="1014480"/>
                <a:ext cx="189000" cy="961920"/>
              </a:xfrm>
              <a:custGeom>
                <a:avLst/>
                <a:gdLst/>
                <a:ahLst/>
                <a:rect l="l" t="t" r="r" b="b"/>
                <a:pathLst>
                  <a:path w="119" h="606">
                    <a:moveTo>
                      <a:pt x="119" y="606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5648400" y="1041480"/>
                <a:ext cx="695160" cy="909720"/>
              </a:xfrm>
              <a:custGeom>
                <a:avLst/>
                <a:gdLst/>
                <a:ahLst/>
                <a:rect l="l" t="t" r="r" b="b"/>
                <a:pathLst>
                  <a:path w="438" h="573">
                    <a:moveTo>
                      <a:pt x="0" y="0"/>
                    </a:moveTo>
                    <a:lnTo>
                      <a:pt x="438" y="0"/>
                    </a:lnTo>
                    <a:lnTo>
                      <a:pt x="438" y="383"/>
                    </a:lnTo>
                    <a:lnTo>
                      <a:pt x="157" y="383"/>
                    </a:lnTo>
                    <a:lnTo>
                      <a:pt x="157" y="57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5541840" y="884160"/>
                <a:ext cx="5400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5541840" y="884160"/>
                <a:ext cx="54000" cy="17964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5595840" y="884160"/>
                <a:ext cx="5256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5595840" y="884160"/>
                <a:ext cx="5256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5541840" y="70164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5541840" y="70164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5595840" y="704880"/>
                <a:ext cx="5256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5595840" y="704880"/>
                <a:ext cx="5256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5541840" y="5223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5541840" y="5223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5595840" y="525600"/>
                <a:ext cx="52560" cy="179280"/>
              </a:xfrm>
              <a:custGeom>
                <a:avLst/>
                <a:gdLst/>
                <a:ahLst/>
                <a:rect l="l" t="t" r="r" b="b"/>
                <a:pathLst>
                  <a:path w="33" h="113">
                    <a:moveTo>
                      <a:pt x="0" y="111"/>
                    </a:moveTo>
                    <a:lnTo>
                      <a:pt x="33" y="113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5595840" y="525600"/>
                <a:ext cx="52560" cy="179280"/>
              </a:xfrm>
              <a:custGeom>
                <a:avLst/>
                <a:gdLst/>
                <a:ahLst/>
                <a:rect l="l" t="t" r="r" b="b"/>
                <a:pathLst>
                  <a:path w="33" h="113">
                    <a:moveTo>
                      <a:pt x="0" y="111"/>
                    </a:moveTo>
                    <a:lnTo>
                      <a:pt x="33" y="113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6708600" y="4344840"/>
                <a:ext cx="843120" cy="1649520"/>
              </a:xfrm>
              <a:custGeom>
                <a:avLst/>
                <a:gdLst/>
                <a:ahLst/>
                <a:rect l="l" t="t" r="r" b="b"/>
                <a:pathLst>
                  <a:path w="531" h="1039">
                    <a:moveTo>
                      <a:pt x="315" y="924"/>
                    </a:moveTo>
                    <a:lnTo>
                      <a:pt x="317" y="1039"/>
                    </a:lnTo>
                    <a:lnTo>
                      <a:pt x="531" y="1039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6708600" y="906480"/>
                <a:ext cx="160560" cy="631800"/>
              </a:xfrm>
              <a:custGeom>
                <a:avLst/>
                <a:gdLst/>
                <a:ahLst/>
                <a:rect l="l" t="t" r="r" b="b"/>
                <a:pathLst>
                  <a:path w="101" h="398">
                    <a:moveTo>
                      <a:pt x="0" y="0"/>
                    </a:moveTo>
                    <a:lnTo>
                      <a:pt x="50" y="0"/>
                    </a:lnTo>
                    <a:lnTo>
                      <a:pt x="50" y="398"/>
                    </a:lnTo>
                    <a:lnTo>
                      <a:pt x="101" y="39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6708600" y="973080"/>
                <a:ext cx="843120" cy="1650960"/>
              </a:xfrm>
              <a:custGeom>
                <a:avLst/>
                <a:gdLst/>
                <a:ahLst/>
                <a:rect l="l" t="t" r="r" b="b"/>
                <a:pathLst>
                  <a:path w="531" h="1040">
                    <a:moveTo>
                      <a:pt x="315" y="925"/>
                    </a:moveTo>
                    <a:lnTo>
                      <a:pt x="317" y="1040"/>
                    </a:lnTo>
                    <a:lnTo>
                      <a:pt x="531" y="1040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6708600" y="1041480"/>
                <a:ext cx="503280" cy="771480"/>
              </a:xfrm>
              <a:custGeom>
                <a:avLst/>
                <a:gdLst/>
                <a:ahLst/>
                <a:rect l="l" t="t" r="r" b="b"/>
                <a:pathLst>
                  <a:path w="317" h="486">
                    <a:moveTo>
                      <a:pt x="315" y="486"/>
                    </a:moveTo>
                    <a:lnTo>
                      <a:pt x="317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7682040" y="42544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7682040" y="42544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7631280" y="4254480"/>
                <a:ext cx="5364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7631280" y="4254480"/>
                <a:ext cx="5364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6708600" y="4276800"/>
                <a:ext cx="160560" cy="631800"/>
              </a:xfrm>
              <a:custGeom>
                <a:avLst/>
                <a:gdLst/>
                <a:ahLst/>
                <a:rect l="l" t="t" r="r" b="b"/>
                <a:pathLst>
                  <a:path w="101" h="398">
                    <a:moveTo>
                      <a:pt x="0" y="0"/>
                    </a:moveTo>
                    <a:lnTo>
                      <a:pt x="50" y="0"/>
                    </a:lnTo>
                    <a:lnTo>
                      <a:pt x="50" y="398"/>
                    </a:lnTo>
                    <a:lnTo>
                      <a:pt x="101" y="39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6708600" y="4411800"/>
                <a:ext cx="503280" cy="772920"/>
              </a:xfrm>
              <a:custGeom>
                <a:avLst/>
                <a:gdLst/>
                <a:ahLst/>
                <a:rect l="l" t="t" r="r" b="b"/>
                <a:pathLst>
                  <a:path w="317" h="487">
                    <a:moveTo>
                      <a:pt x="315" y="487"/>
                    </a:moveTo>
                    <a:lnTo>
                      <a:pt x="317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6653160" y="7048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6653160" y="7048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6602400" y="70164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6602400" y="70164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5294160" y="973080"/>
                <a:ext cx="225720" cy="180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5337000" y="790560"/>
                <a:ext cx="182880" cy="32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5294160" y="611280"/>
                <a:ext cx="225720" cy="32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5648400" y="793800"/>
                <a:ext cx="931680" cy="112680"/>
              </a:xfrm>
              <a:custGeom>
                <a:avLst/>
                <a:gdLst/>
                <a:ahLst/>
                <a:rect l="l" t="t" r="r" b="b"/>
                <a:pathLst>
                  <a:path w="587" h="71">
                    <a:moveTo>
                      <a:pt x="587" y="71"/>
                    </a:moveTo>
                    <a:lnTo>
                      <a:pt x="533" y="71"/>
                    </a:lnTo>
                    <a:lnTo>
                      <a:pt x="533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5648400" y="614520"/>
                <a:ext cx="931680" cy="112680"/>
              </a:xfrm>
              <a:custGeom>
                <a:avLst/>
                <a:gdLst/>
                <a:ahLst/>
                <a:rect l="l" t="t" r="r" b="b"/>
                <a:pathLst>
                  <a:path w="587" h="71">
                    <a:moveTo>
                      <a:pt x="587" y="71"/>
                    </a:moveTo>
                    <a:lnTo>
                      <a:pt x="551" y="71"/>
                    </a:lnTo>
                    <a:lnTo>
                      <a:pt x="55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 flipH="1">
                <a:off x="5769000" y="2239920"/>
                <a:ext cx="619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7631280" y="884160"/>
                <a:ext cx="10620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7631280" y="884160"/>
                <a:ext cx="10620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6653160" y="884160"/>
                <a:ext cx="5544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6653160" y="884160"/>
                <a:ext cx="5544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6602400" y="884160"/>
                <a:ext cx="54000" cy="17964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6602400" y="884160"/>
                <a:ext cx="54000" cy="17964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3956040" y="264960"/>
                <a:ext cx="3162240" cy="1317600"/>
              </a:xfrm>
              <a:custGeom>
                <a:avLst/>
                <a:gdLst/>
                <a:ahLst/>
                <a:rect l="l" t="t" r="r" b="b"/>
                <a:pathLst>
                  <a:path w="1992" h="830">
                    <a:moveTo>
                      <a:pt x="0" y="113"/>
                    </a:moveTo>
                    <a:lnTo>
                      <a:pt x="0" y="0"/>
                    </a:lnTo>
                    <a:lnTo>
                      <a:pt x="1992" y="0"/>
                    </a:lnTo>
                    <a:lnTo>
                      <a:pt x="1992" y="830"/>
                    </a:lnTo>
                    <a:lnTo>
                      <a:pt x="1942" y="83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6708600" y="1623960"/>
                <a:ext cx="160560" cy="266760"/>
              </a:xfrm>
              <a:custGeom>
                <a:avLst/>
                <a:gdLst/>
                <a:ahLst/>
                <a:rect l="l" t="t" r="r" b="b"/>
                <a:pathLst>
                  <a:path w="101" h="168">
                    <a:moveTo>
                      <a:pt x="0" y="168"/>
                    </a:moveTo>
                    <a:lnTo>
                      <a:pt x="50" y="168"/>
                    </a:lnTo>
                    <a:lnTo>
                      <a:pt x="50" y="0"/>
                    </a:lnTo>
                    <a:lnTo>
                      <a:pt x="101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6708600" y="793800"/>
                <a:ext cx="897120" cy="112680"/>
              </a:xfrm>
              <a:custGeom>
                <a:avLst/>
                <a:gdLst/>
                <a:ahLst/>
                <a:rect l="l" t="t" r="r" b="b"/>
                <a:pathLst>
                  <a:path w="565" h="71">
                    <a:moveTo>
                      <a:pt x="565" y="71"/>
                    </a:moveTo>
                    <a:lnTo>
                      <a:pt x="531" y="71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6154560" y="2124000"/>
                <a:ext cx="82800" cy="461880"/>
              </a:xfrm>
              <a:custGeom>
                <a:avLst/>
                <a:gdLst/>
                <a:ahLst/>
                <a:rect l="l" t="t" r="r" b="b"/>
                <a:pathLst>
                  <a:path w="52" h="291">
                    <a:moveTo>
                      <a:pt x="50" y="0"/>
                    </a:moveTo>
                    <a:lnTo>
                      <a:pt x="52" y="291"/>
                    </a:lnTo>
                    <a:lnTo>
                      <a:pt x="0" y="291"/>
                    </a:lnTo>
                  </a:path>
                </a:pathLst>
              </a:custGeom>
              <a:noFill/>
              <a:ln w="1260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5041800" y="387360"/>
                <a:ext cx="2774880" cy="1258920"/>
              </a:xfrm>
              <a:custGeom>
                <a:avLst/>
                <a:gdLst/>
                <a:ahLst/>
                <a:rect l="l" t="t" r="r" b="b"/>
                <a:pathLst>
                  <a:path w="1748" h="793">
                    <a:moveTo>
                      <a:pt x="1698" y="343"/>
                    </a:moveTo>
                    <a:lnTo>
                      <a:pt x="1748" y="345"/>
                    </a:lnTo>
                    <a:lnTo>
                      <a:pt x="1748" y="0"/>
                    </a:lnTo>
                    <a:lnTo>
                      <a:pt x="0" y="0"/>
                    </a:lnTo>
                    <a:lnTo>
                      <a:pt x="0" y="79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6869160" y="1511280"/>
                <a:ext cx="169920" cy="138240"/>
              </a:xfrm>
              <a:custGeom>
                <a:avLst/>
                <a:gdLst/>
                <a:ahLst/>
                <a:rect l="l" t="t" r="r" b="b"/>
                <a:pathLst>
                  <a:path w="107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9" y="79"/>
                    </a:lnTo>
                    <a:lnTo>
                      <a:pt x="95" y="75"/>
                    </a:lnTo>
                    <a:lnTo>
                      <a:pt x="99" y="69"/>
                    </a:lnTo>
                    <a:lnTo>
                      <a:pt x="101" y="65"/>
                    </a:lnTo>
                    <a:lnTo>
                      <a:pt x="105" y="57"/>
                    </a:lnTo>
                    <a:lnTo>
                      <a:pt x="107" y="51"/>
                    </a:lnTo>
                    <a:lnTo>
                      <a:pt x="107" y="45"/>
                    </a:lnTo>
                    <a:lnTo>
                      <a:pt x="107" y="37"/>
                    </a:lnTo>
                    <a:lnTo>
                      <a:pt x="105" y="31"/>
                    </a:lnTo>
                    <a:lnTo>
                      <a:pt x="101" y="23"/>
                    </a:lnTo>
                    <a:lnTo>
                      <a:pt x="99" y="19"/>
                    </a:lnTo>
                    <a:lnTo>
                      <a:pt x="95" y="12"/>
                    </a:lnTo>
                    <a:lnTo>
                      <a:pt x="89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4" y="87"/>
                    </a:lnTo>
                    <a:lnTo>
                      <a:pt x="64" y="87"/>
                    </a:lnTo>
                    <a:lnTo>
                      <a:pt x="62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6869160" y="1511280"/>
                <a:ext cx="169920" cy="138240"/>
              </a:xfrm>
              <a:custGeom>
                <a:avLst/>
                <a:gdLst/>
                <a:ahLst/>
                <a:rect l="l" t="t" r="r" b="b"/>
                <a:pathLst>
                  <a:path w="107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9" y="79"/>
                    </a:lnTo>
                    <a:lnTo>
                      <a:pt x="95" y="75"/>
                    </a:lnTo>
                    <a:lnTo>
                      <a:pt x="99" y="69"/>
                    </a:lnTo>
                    <a:lnTo>
                      <a:pt x="101" y="65"/>
                    </a:lnTo>
                    <a:lnTo>
                      <a:pt x="105" y="57"/>
                    </a:lnTo>
                    <a:lnTo>
                      <a:pt x="107" y="51"/>
                    </a:lnTo>
                    <a:lnTo>
                      <a:pt x="107" y="45"/>
                    </a:lnTo>
                    <a:lnTo>
                      <a:pt x="107" y="37"/>
                    </a:lnTo>
                    <a:lnTo>
                      <a:pt x="105" y="31"/>
                    </a:lnTo>
                    <a:lnTo>
                      <a:pt x="101" y="23"/>
                    </a:lnTo>
                    <a:lnTo>
                      <a:pt x="99" y="19"/>
                    </a:lnTo>
                    <a:lnTo>
                      <a:pt x="95" y="12"/>
                    </a:lnTo>
                    <a:lnTo>
                      <a:pt x="89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4" y="87"/>
                    </a:lnTo>
                    <a:lnTo>
                      <a:pt x="64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5775480" y="28224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5775480" y="306216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4749840" y="202392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3417840" y="1617840"/>
                <a:ext cx="98640" cy="282240"/>
              </a:xfrm>
              <a:custGeom>
                <a:avLst/>
                <a:gdLst/>
                <a:ahLst/>
                <a:rect l="l" t="t" r="r" b="b"/>
                <a:pathLst>
                  <a:path w="62" h="178">
                    <a:moveTo>
                      <a:pt x="62" y="176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2" y="178"/>
                    </a:lnTo>
                    <a:lnTo>
                      <a:pt x="62" y="178"/>
                    </a:lnTo>
                    <a:lnTo>
                      <a:pt x="62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3417840" y="1617840"/>
                <a:ext cx="98640" cy="282240"/>
              </a:xfrm>
              <a:custGeom>
                <a:avLst/>
                <a:gdLst/>
                <a:ahLst/>
                <a:rect l="l" t="t" r="r" b="b"/>
                <a:pathLst>
                  <a:path w="62" h="178">
                    <a:moveTo>
                      <a:pt x="62" y="176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2" y="178"/>
                    </a:lnTo>
                    <a:lnTo>
                      <a:pt x="62" y="17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3657600" y="1643040"/>
                <a:ext cx="298440" cy="628560"/>
              </a:xfrm>
              <a:custGeom>
                <a:avLst/>
                <a:gdLst/>
                <a:ahLst/>
                <a:rect l="l" t="t" r="r" b="b"/>
                <a:pathLst>
                  <a:path w="188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88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3657600" y="1643040"/>
                <a:ext cx="298440" cy="628560"/>
              </a:xfrm>
              <a:custGeom>
                <a:avLst/>
                <a:gdLst/>
                <a:ahLst/>
                <a:rect l="l" t="t" r="r" b="b"/>
                <a:pathLst>
                  <a:path w="188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88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3956040" y="1646280"/>
                <a:ext cx="299880" cy="625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3956040" y="1646280"/>
                <a:ext cx="299880" cy="62532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3826800" y="1897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3839760" y="1897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3868200" y="1897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3896640" y="1897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3909600" y="1897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3930480" y="1897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3958920" y="1897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3987360" y="1897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4000680" y="1897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4012920" y="1897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4041360" y="1897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4070520" y="18972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3861720" y="1963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3903480" y="196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3936600" y="1963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3981240" y="196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4009680" y="1963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4025520" y="1963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3679920" y="1727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3714480" y="172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3742920" y="172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3772800" y="1727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3792240" y="172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3820680" y="1727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3846240" y="1727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6910560" y="1812960"/>
                <a:ext cx="598320" cy="628560"/>
              </a:xfrm>
              <a:custGeom>
                <a:avLst/>
                <a:gdLst/>
                <a:ahLst/>
                <a:rect l="l" t="t" r="r" b="b"/>
                <a:pathLst>
                  <a:path w="377" h="396">
                    <a:moveTo>
                      <a:pt x="377" y="396"/>
                    </a:moveTo>
                    <a:lnTo>
                      <a:pt x="377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77" y="396"/>
                    </a:lnTo>
                    <a:lnTo>
                      <a:pt x="377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6910560" y="1812960"/>
                <a:ext cx="598320" cy="628560"/>
              </a:xfrm>
              <a:custGeom>
                <a:avLst/>
                <a:gdLst/>
                <a:ahLst/>
                <a:rect l="l" t="t" r="r" b="b"/>
                <a:pathLst>
                  <a:path w="377" h="396">
                    <a:moveTo>
                      <a:pt x="377" y="396"/>
                    </a:moveTo>
                    <a:lnTo>
                      <a:pt x="377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77" y="396"/>
                    </a:lnTo>
                    <a:lnTo>
                      <a:pt x="377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4749840" y="170352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4749840" y="21844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3576600" y="102888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0" h="460">
                    <a:moveTo>
                      <a:pt x="170" y="0"/>
                    </a:moveTo>
                    <a:lnTo>
                      <a:pt x="0" y="0"/>
                    </a:lnTo>
                    <a:lnTo>
                      <a:pt x="0" y="46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 flipH="1">
                <a:off x="3749400" y="1347840"/>
                <a:ext cx="968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3868560" y="919080"/>
                <a:ext cx="173160" cy="538200"/>
              </a:xfrm>
              <a:custGeom>
                <a:avLst/>
                <a:gdLst/>
                <a:ahLst/>
                <a:rect l="l" t="t" r="r" b="b"/>
                <a:pathLst>
                  <a:path w="1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69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109" y="236"/>
                    </a:lnTo>
                    <a:lnTo>
                      <a:pt x="109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3868560" y="919080"/>
                <a:ext cx="173160" cy="538200"/>
              </a:xfrm>
              <a:custGeom>
                <a:avLst/>
                <a:gdLst/>
                <a:ahLst/>
                <a:rect l="l" t="t" r="r" b="b"/>
                <a:pathLst>
                  <a:path w="1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69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109" y="236"/>
                    </a:lnTo>
                    <a:lnTo>
                      <a:pt x="109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5818320" y="19861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5818320" y="222264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5997600" y="21049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 flipH="1">
                <a:off x="5947920" y="2117880"/>
                <a:ext cx="586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5997600" y="1784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7842240" y="201132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7842240" y="225252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6878520" y="23130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5954760" y="2370240"/>
                <a:ext cx="199800" cy="426960"/>
              </a:xfrm>
              <a:custGeom>
                <a:avLst/>
                <a:gdLst/>
                <a:ahLst/>
                <a:rect l="l" t="t" r="r" b="b"/>
                <a:pathLst>
                  <a:path w="126" h="269">
                    <a:moveTo>
                      <a:pt x="63" y="269"/>
                    </a:moveTo>
                    <a:lnTo>
                      <a:pt x="73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6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19" y="73"/>
                    </a:lnTo>
                    <a:lnTo>
                      <a:pt x="113" y="55"/>
                    </a:lnTo>
                    <a:lnTo>
                      <a:pt x="107" y="41"/>
                    </a:lnTo>
                    <a:lnTo>
                      <a:pt x="101" y="27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8"/>
                    </a:lnTo>
                    <a:lnTo>
                      <a:pt x="35" y="16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2" y="55"/>
                    </a:lnTo>
                    <a:lnTo>
                      <a:pt x="6" y="73"/>
                    </a:lnTo>
                    <a:lnTo>
                      <a:pt x="4" y="93"/>
                    </a:lnTo>
                    <a:lnTo>
                      <a:pt x="0" y="113"/>
                    </a:lnTo>
                    <a:lnTo>
                      <a:pt x="0" y="136"/>
                    </a:lnTo>
                    <a:lnTo>
                      <a:pt x="0" y="156"/>
                    </a:lnTo>
                    <a:lnTo>
                      <a:pt x="4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9" y="228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3" y="263"/>
                    </a:lnTo>
                    <a:lnTo>
                      <a:pt x="53" y="267"/>
                    </a:lnTo>
                    <a:lnTo>
                      <a:pt x="63" y="269"/>
                    </a:lnTo>
                    <a:lnTo>
                      <a:pt x="63" y="269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5954760" y="2370240"/>
                <a:ext cx="199800" cy="426960"/>
              </a:xfrm>
              <a:custGeom>
                <a:avLst/>
                <a:gdLst/>
                <a:ahLst/>
                <a:rect l="l" t="t" r="r" b="b"/>
                <a:pathLst>
                  <a:path w="126" h="269">
                    <a:moveTo>
                      <a:pt x="63" y="269"/>
                    </a:moveTo>
                    <a:lnTo>
                      <a:pt x="73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6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19" y="73"/>
                    </a:lnTo>
                    <a:lnTo>
                      <a:pt x="113" y="55"/>
                    </a:lnTo>
                    <a:lnTo>
                      <a:pt x="107" y="41"/>
                    </a:lnTo>
                    <a:lnTo>
                      <a:pt x="101" y="27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8"/>
                    </a:lnTo>
                    <a:lnTo>
                      <a:pt x="35" y="16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2" y="55"/>
                    </a:lnTo>
                    <a:lnTo>
                      <a:pt x="6" y="73"/>
                    </a:lnTo>
                    <a:lnTo>
                      <a:pt x="4" y="93"/>
                    </a:lnTo>
                    <a:lnTo>
                      <a:pt x="0" y="113"/>
                    </a:lnTo>
                    <a:lnTo>
                      <a:pt x="0" y="136"/>
                    </a:lnTo>
                    <a:lnTo>
                      <a:pt x="0" y="156"/>
                    </a:lnTo>
                    <a:lnTo>
                      <a:pt x="4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9" y="228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3" y="263"/>
                    </a:lnTo>
                    <a:lnTo>
                      <a:pt x="53" y="267"/>
                    </a:lnTo>
                    <a:lnTo>
                      <a:pt x="63" y="269"/>
                    </a:lnTo>
                    <a:lnTo>
                      <a:pt x="63" y="26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4720680" y="270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4736880" y="270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4765320" y="2708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4795200" y="270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4808160" y="2708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4827240" y="270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4855680" y="2708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4880880" y="270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4897440" y="27082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4909680" y="270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4938480" y="270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4968720" y="2708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4720680" y="2762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4736880" y="27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4765320" y="27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4798800" y="27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4836600" y="27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4865400" y="27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4896720" y="2762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6813720" y="1422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6849720" y="1422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6868800" y="14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6897240" y="14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6926040" y="1422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6954480" y="14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6146640" y="1573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183000" y="1573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6215040" y="1573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6253200" y="1573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6287400" y="1573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6303600" y="1573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3560760" y="174636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7" y="14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3836880" y="101448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3836880" y="133524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369540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 flipH="1">
                <a:off x="5648040" y="1187280"/>
                <a:ext cx="25884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5929200" y="107964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7" y="169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5929200" y="107964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7" y="169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 flipH="1">
                <a:off x="6265800" y="1347840"/>
                <a:ext cx="3175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6570720" y="13352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3516480" y="1758960"/>
                <a:ext cx="1188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3625920" y="17431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3384720" y="17431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4723920" y="2454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4736880" y="245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4765320" y="2454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4795200" y="2454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4808160" y="2454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4827240" y="245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4855680" y="2454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4880880" y="2454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4897440" y="2454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4909680" y="245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4938480" y="245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4968720" y="2454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4723920" y="2508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4736880" y="250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4765320" y="250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4798800" y="250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4836600" y="250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4865040" y="2508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5900760" y="117468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5900760" y="14954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7875720" y="1976400"/>
                <a:ext cx="101520" cy="33984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2"/>
                    </a:moveTo>
                    <a:lnTo>
                      <a:pt x="2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8" y="14"/>
                    </a:lnTo>
                    <a:lnTo>
                      <a:pt x="60" y="18"/>
                    </a:lnTo>
                    <a:lnTo>
                      <a:pt x="62" y="22"/>
                    </a:lnTo>
                    <a:lnTo>
                      <a:pt x="62" y="26"/>
                    </a:lnTo>
                    <a:lnTo>
                      <a:pt x="64" y="32"/>
                    </a:lnTo>
                    <a:lnTo>
                      <a:pt x="64" y="184"/>
                    </a:lnTo>
                    <a:lnTo>
                      <a:pt x="62" y="188"/>
                    </a:lnTo>
                    <a:lnTo>
                      <a:pt x="62" y="194"/>
                    </a:lnTo>
                    <a:lnTo>
                      <a:pt x="60" y="198"/>
                    </a:lnTo>
                    <a:lnTo>
                      <a:pt x="58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2" y="214"/>
                    </a:lnTo>
                    <a:lnTo>
                      <a:pt x="38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2" y="188"/>
                    </a:lnTo>
                    <a:lnTo>
                      <a:pt x="0" y="184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7875720" y="1976400"/>
                <a:ext cx="101520" cy="33984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2"/>
                    </a:moveTo>
                    <a:lnTo>
                      <a:pt x="2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8" y="14"/>
                    </a:lnTo>
                    <a:lnTo>
                      <a:pt x="60" y="18"/>
                    </a:lnTo>
                    <a:lnTo>
                      <a:pt x="62" y="22"/>
                    </a:lnTo>
                    <a:lnTo>
                      <a:pt x="62" y="26"/>
                    </a:lnTo>
                    <a:lnTo>
                      <a:pt x="64" y="32"/>
                    </a:lnTo>
                    <a:lnTo>
                      <a:pt x="64" y="184"/>
                    </a:lnTo>
                    <a:lnTo>
                      <a:pt x="62" y="188"/>
                    </a:lnTo>
                    <a:lnTo>
                      <a:pt x="62" y="194"/>
                    </a:lnTo>
                    <a:lnTo>
                      <a:pt x="60" y="198"/>
                    </a:lnTo>
                    <a:lnTo>
                      <a:pt x="58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2" y="214"/>
                    </a:lnTo>
                    <a:lnTo>
                      <a:pt x="38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2" y="188"/>
                    </a:lnTo>
                    <a:lnTo>
                      <a:pt x="0" y="184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5846760" y="1951200"/>
                <a:ext cx="101520" cy="33948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2"/>
                    </a:lnTo>
                    <a:lnTo>
                      <a:pt x="64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2" y="208"/>
                    </a:lnTo>
                    <a:lnTo>
                      <a:pt x="48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8" y="212"/>
                    </a:lnTo>
                    <a:lnTo>
                      <a:pt x="24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6" y="196"/>
                    </a:lnTo>
                    <a:lnTo>
                      <a:pt x="4" y="192"/>
                    </a:lnTo>
                    <a:lnTo>
                      <a:pt x="2" y="186"/>
                    </a:lnTo>
                    <a:lnTo>
                      <a:pt x="2" y="182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5846760" y="1951200"/>
                <a:ext cx="101520" cy="33948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2"/>
                    </a:lnTo>
                    <a:lnTo>
                      <a:pt x="64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2" y="208"/>
                    </a:lnTo>
                    <a:lnTo>
                      <a:pt x="48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8" y="212"/>
                    </a:lnTo>
                    <a:lnTo>
                      <a:pt x="24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6" y="196"/>
                    </a:lnTo>
                    <a:lnTo>
                      <a:pt x="4" y="192"/>
                    </a:lnTo>
                    <a:lnTo>
                      <a:pt x="2" y="186"/>
                    </a:lnTo>
                    <a:lnTo>
                      <a:pt x="2" y="182"/>
                    </a:lnTo>
                    <a:lnTo>
                      <a:pt x="2" y="30"/>
                    </a:lnTo>
                    <a:lnTo>
                      <a:pt x="2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5868720" y="1967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5807160" y="2787480"/>
                <a:ext cx="10296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3" y="22"/>
                    </a:lnTo>
                    <a:lnTo>
                      <a:pt x="5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3" y="26"/>
                    </a:lnTo>
                    <a:lnTo>
                      <a:pt x="65" y="32"/>
                    </a:lnTo>
                    <a:lnTo>
                      <a:pt x="65" y="181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5" y="198"/>
                    </a:lnTo>
                    <a:lnTo>
                      <a:pt x="3" y="192"/>
                    </a:lnTo>
                    <a:lnTo>
                      <a:pt x="3" y="188"/>
                    </a:lnTo>
                    <a:lnTo>
                      <a:pt x="3" y="181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5807160" y="2787480"/>
                <a:ext cx="10296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3" y="22"/>
                    </a:lnTo>
                    <a:lnTo>
                      <a:pt x="5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3" y="26"/>
                    </a:lnTo>
                    <a:lnTo>
                      <a:pt x="65" y="32"/>
                    </a:lnTo>
                    <a:lnTo>
                      <a:pt x="65" y="181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5" y="198"/>
                    </a:lnTo>
                    <a:lnTo>
                      <a:pt x="3" y="192"/>
                    </a:lnTo>
                    <a:lnTo>
                      <a:pt x="3" y="188"/>
                    </a:lnTo>
                    <a:lnTo>
                      <a:pt x="3" y="181"/>
                    </a:lnTo>
                    <a:lnTo>
                      <a:pt x="3" y="32"/>
                    </a:lnTo>
                    <a:lnTo>
                      <a:pt x="3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5827320" y="304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5083200" y="777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6000840" y="1320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03540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606384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6157800" y="1290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6192360" y="129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6221160" y="129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249960" y="1290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111360" y="1346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6127560" y="134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6160680" y="1346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6186240" y="134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6215040" y="1346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9" name=""/>
            <p:cNvGrpSpPr/>
            <p:nvPr/>
          </p:nvGrpSpPr>
          <p:grpSpPr>
            <a:xfrm>
              <a:off x="3336840" y="88920"/>
              <a:ext cx="4518000" cy="3316320"/>
              <a:chOff x="3336840" y="88920"/>
              <a:chExt cx="4518000" cy="3316320"/>
            </a:xfrm>
          </p:grpSpPr>
          <p:sp>
            <p:nvSpPr>
              <p:cNvPr id="5830" name=""/>
              <p:cNvSpPr/>
              <p:nvPr/>
            </p:nvSpPr>
            <p:spPr>
              <a:xfrm>
                <a:off x="6227280" y="1346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4749840" y="186372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5079960" y="1646280"/>
                <a:ext cx="301680" cy="625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5079960" y="1646280"/>
                <a:ext cx="301680" cy="62532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4778280" y="1643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90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4778280" y="1643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90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4965840" y="1928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5003640" y="192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5035320" y="192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5064120" y="1928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5073120" y="1928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5101560" y="1928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5114520" y="192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5147640" y="1928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5163840" y="1928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4801680" y="19796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4852440" y="1979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4871880" y="1979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4880880" y="1979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4897080" y="1979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4925880" y="1979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4801680" y="2035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4820760" y="203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4849560" y="203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4878360" y="2035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4890600" y="2035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4919040" y="2035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4932000" y="203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4961880" y="2035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4801680" y="21398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4852440" y="2139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4871880" y="2139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4880880" y="2139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4897080" y="2139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4925880" y="2139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4801680" y="219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4833720" y="219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4861800" y="2195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4878000" y="219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029280" y="1687680"/>
                <a:ext cx="333360" cy="53964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4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6029280" y="1687680"/>
                <a:ext cx="333360" cy="53964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4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249960" y="1944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6284520" y="1944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6313320" y="1944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6356520" y="1944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6208200" y="1995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622728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6256080" y="1995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628128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6313320" y="1995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6324120" y="1995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5510160" y="19861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5769000" y="1639800"/>
                <a:ext cx="1440" cy="6001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 flipH="1">
                <a:off x="5648040" y="1998720"/>
                <a:ext cx="1825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 flipH="1">
                <a:off x="5381280" y="1998720"/>
                <a:ext cx="1350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5686560" y="1378080"/>
                <a:ext cx="166680" cy="264960"/>
              </a:xfrm>
              <a:custGeom>
                <a:avLst/>
                <a:gdLst/>
                <a:ahLst/>
                <a:rect l="l" t="t" r="r" b="b"/>
                <a:pathLst>
                  <a:path w="105" h="167">
                    <a:moveTo>
                      <a:pt x="52" y="165"/>
                    </a:moveTo>
                    <a:lnTo>
                      <a:pt x="60" y="165"/>
                    </a:lnTo>
                    <a:lnTo>
                      <a:pt x="68" y="163"/>
                    </a:lnTo>
                    <a:lnTo>
                      <a:pt x="76" y="157"/>
                    </a:lnTo>
                    <a:lnTo>
                      <a:pt x="83" y="151"/>
                    </a:lnTo>
                    <a:lnTo>
                      <a:pt x="89" y="143"/>
                    </a:lnTo>
                    <a:lnTo>
                      <a:pt x="95" y="133"/>
                    </a:lnTo>
                    <a:lnTo>
                      <a:pt x="99" y="121"/>
                    </a:lnTo>
                    <a:lnTo>
                      <a:pt x="101" y="109"/>
                    </a:lnTo>
                    <a:lnTo>
                      <a:pt x="103" y="96"/>
                    </a:lnTo>
                    <a:lnTo>
                      <a:pt x="105" y="84"/>
                    </a:lnTo>
                    <a:lnTo>
                      <a:pt x="103" y="70"/>
                    </a:lnTo>
                    <a:lnTo>
                      <a:pt x="101" y="58"/>
                    </a:lnTo>
                    <a:lnTo>
                      <a:pt x="99" y="46"/>
                    </a:lnTo>
                    <a:lnTo>
                      <a:pt x="95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6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6" y="6"/>
                    </a:lnTo>
                    <a:lnTo>
                      <a:pt x="28" y="10"/>
                    </a:lnTo>
                    <a:lnTo>
                      <a:pt x="22" y="16"/>
                    </a:lnTo>
                    <a:lnTo>
                      <a:pt x="16" y="24"/>
                    </a:lnTo>
                    <a:lnTo>
                      <a:pt x="10" y="34"/>
                    </a:lnTo>
                    <a:lnTo>
                      <a:pt x="6" y="46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0" y="96"/>
                    </a:lnTo>
                    <a:lnTo>
                      <a:pt x="2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6" y="143"/>
                    </a:lnTo>
                    <a:lnTo>
                      <a:pt x="22" y="151"/>
                    </a:lnTo>
                    <a:lnTo>
                      <a:pt x="28" y="157"/>
                    </a:lnTo>
                    <a:lnTo>
                      <a:pt x="36" y="163"/>
                    </a:lnTo>
                    <a:lnTo>
                      <a:pt x="44" y="165"/>
                    </a:lnTo>
                    <a:lnTo>
                      <a:pt x="52" y="167"/>
                    </a:lnTo>
                    <a:lnTo>
                      <a:pt x="52" y="167"/>
                    </a:lnTo>
                    <a:lnTo>
                      <a:pt x="52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5686560" y="1378080"/>
                <a:ext cx="166680" cy="264960"/>
              </a:xfrm>
              <a:custGeom>
                <a:avLst/>
                <a:gdLst/>
                <a:ahLst/>
                <a:rect l="l" t="t" r="r" b="b"/>
                <a:pathLst>
                  <a:path w="105" h="167">
                    <a:moveTo>
                      <a:pt x="52" y="165"/>
                    </a:moveTo>
                    <a:lnTo>
                      <a:pt x="60" y="165"/>
                    </a:lnTo>
                    <a:lnTo>
                      <a:pt x="68" y="163"/>
                    </a:lnTo>
                    <a:lnTo>
                      <a:pt x="76" y="157"/>
                    </a:lnTo>
                    <a:lnTo>
                      <a:pt x="83" y="151"/>
                    </a:lnTo>
                    <a:lnTo>
                      <a:pt x="89" y="143"/>
                    </a:lnTo>
                    <a:lnTo>
                      <a:pt x="95" y="133"/>
                    </a:lnTo>
                    <a:lnTo>
                      <a:pt x="99" y="121"/>
                    </a:lnTo>
                    <a:lnTo>
                      <a:pt x="101" y="109"/>
                    </a:lnTo>
                    <a:lnTo>
                      <a:pt x="103" y="96"/>
                    </a:lnTo>
                    <a:lnTo>
                      <a:pt x="105" y="84"/>
                    </a:lnTo>
                    <a:lnTo>
                      <a:pt x="103" y="70"/>
                    </a:lnTo>
                    <a:lnTo>
                      <a:pt x="101" y="58"/>
                    </a:lnTo>
                    <a:lnTo>
                      <a:pt x="99" y="46"/>
                    </a:lnTo>
                    <a:lnTo>
                      <a:pt x="95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6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6" y="6"/>
                    </a:lnTo>
                    <a:lnTo>
                      <a:pt x="28" y="10"/>
                    </a:lnTo>
                    <a:lnTo>
                      <a:pt x="22" y="16"/>
                    </a:lnTo>
                    <a:lnTo>
                      <a:pt x="16" y="24"/>
                    </a:lnTo>
                    <a:lnTo>
                      <a:pt x="10" y="34"/>
                    </a:lnTo>
                    <a:lnTo>
                      <a:pt x="6" y="46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0" y="96"/>
                    </a:lnTo>
                    <a:lnTo>
                      <a:pt x="2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6" y="143"/>
                    </a:lnTo>
                    <a:lnTo>
                      <a:pt x="22" y="151"/>
                    </a:lnTo>
                    <a:lnTo>
                      <a:pt x="28" y="157"/>
                    </a:lnTo>
                    <a:lnTo>
                      <a:pt x="36" y="163"/>
                    </a:lnTo>
                    <a:lnTo>
                      <a:pt x="44" y="165"/>
                    </a:lnTo>
                    <a:lnTo>
                      <a:pt x="52" y="167"/>
                    </a:lnTo>
                    <a:lnTo>
                      <a:pt x="52" y="167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5923080" y="25700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5711760" y="1447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5746320" y="144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5775480" y="1447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5787360" y="1447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5803200" y="1447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5818320" y="14479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5705640" y="1515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5714640" y="151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574632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575892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577476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5787720" y="151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 rot="16200000">
                <a:off x="4982040" y="1527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 rot="16200000">
                <a:off x="4988160" y="1496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 rot="16200000">
                <a:off x="4988160" y="146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 rot="16200000">
                <a:off x="4973760" y="1418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 rot="16200000">
                <a:off x="4996440" y="1392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 rot="16200000">
                <a:off x="5001120" y="1380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 rot="16200000">
                <a:off x="4998960" y="1365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 rot="16200000">
                <a:off x="4988160" y="133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7236720" y="2548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7278480" y="25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7309800" y="2548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7356600" y="2548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7394400" y="25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7422840" y="25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7451280" y="25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5114880" y="560520"/>
                <a:ext cx="22212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11" y="266"/>
                    </a:lnTo>
                    <a:lnTo>
                      <a:pt x="120" y="252"/>
                    </a:lnTo>
                    <a:lnTo>
                      <a:pt x="126" y="234"/>
                    </a:lnTo>
                    <a:lnTo>
                      <a:pt x="132" y="216"/>
                    </a:lnTo>
                    <a:lnTo>
                      <a:pt x="136" y="194"/>
                    </a:lnTo>
                    <a:lnTo>
                      <a:pt x="138" y="171"/>
                    </a:lnTo>
                    <a:lnTo>
                      <a:pt x="140" y="147"/>
                    </a:lnTo>
                    <a:lnTo>
                      <a:pt x="138" y="123"/>
                    </a:lnTo>
                    <a:lnTo>
                      <a:pt x="136" y="101"/>
                    </a:lnTo>
                    <a:lnTo>
                      <a:pt x="132" y="81"/>
                    </a:lnTo>
                    <a:lnTo>
                      <a:pt x="126" y="60"/>
                    </a:lnTo>
                    <a:lnTo>
                      <a:pt x="120" y="42"/>
                    </a:lnTo>
                    <a:lnTo>
                      <a:pt x="111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29" y="28"/>
                    </a:lnTo>
                    <a:lnTo>
                      <a:pt x="21" y="42"/>
                    </a:lnTo>
                    <a:lnTo>
                      <a:pt x="15" y="60"/>
                    </a:lnTo>
                    <a:lnTo>
                      <a:pt x="9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1"/>
                    </a:lnTo>
                    <a:lnTo>
                      <a:pt x="4" y="194"/>
                    </a:lnTo>
                    <a:lnTo>
                      <a:pt x="9" y="216"/>
                    </a:lnTo>
                    <a:lnTo>
                      <a:pt x="15" y="234"/>
                    </a:lnTo>
                    <a:lnTo>
                      <a:pt x="21" y="252"/>
                    </a:lnTo>
                    <a:lnTo>
                      <a:pt x="29" y="266"/>
                    </a:lnTo>
                    <a:lnTo>
                      <a:pt x="39" y="278"/>
                    </a:lnTo>
                    <a:lnTo>
                      <a:pt x="49" y="286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5114880" y="560520"/>
                <a:ext cx="22212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11" y="266"/>
                    </a:lnTo>
                    <a:lnTo>
                      <a:pt x="120" y="252"/>
                    </a:lnTo>
                    <a:lnTo>
                      <a:pt x="126" y="234"/>
                    </a:lnTo>
                    <a:lnTo>
                      <a:pt x="132" y="216"/>
                    </a:lnTo>
                    <a:lnTo>
                      <a:pt x="136" y="194"/>
                    </a:lnTo>
                    <a:lnTo>
                      <a:pt x="138" y="171"/>
                    </a:lnTo>
                    <a:lnTo>
                      <a:pt x="140" y="147"/>
                    </a:lnTo>
                    <a:lnTo>
                      <a:pt x="138" y="123"/>
                    </a:lnTo>
                    <a:lnTo>
                      <a:pt x="136" y="101"/>
                    </a:lnTo>
                    <a:lnTo>
                      <a:pt x="132" y="81"/>
                    </a:lnTo>
                    <a:lnTo>
                      <a:pt x="126" y="60"/>
                    </a:lnTo>
                    <a:lnTo>
                      <a:pt x="120" y="42"/>
                    </a:lnTo>
                    <a:lnTo>
                      <a:pt x="111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29" y="28"/>
                    </a:lnTo>
                    <a:lnTo>
                      <a:pt x="21" y="42"/>
                    </a:lnTo>
                    <a:lnTo>
                      <a:pt x="15" y="60"/>
                    </a:lnTo>
                    <a:lnTo>
                      <a:pt x="9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1"/>
                    </a:lnTo>
                    <a:lnTo>
                      <a:pt x="4" y="194"/>
                    </a:lnTo>
                    <a:lnTo>
                      <a:pt x="9" y="216"/>
                    </a:lnTo>
                    <a:lnTo>
                      <a:pt x="15" y="234"/>
                    </a:lnTo>
                    <a:lnTo>
                      <a:pt x="21" y="252"/>
                    </a:lnTo>
                    <a:lnTo>
                      <a:pt x="29" y="266"/>
                    </a:lnTo>
                    <a:lnTo>
                      <a:pt x="39" y="278"/>
                    </a:lnTo>
                    <a:lnTo>
                      <a:pt x="49" y="286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5138640" y="762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517644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520524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5236560" y="762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5249520" y="762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526860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5299200" y="762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6095880" y="1928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6130440" y="192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6161040" y="1928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4720680" y="2948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4736880" y="294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4765320" y="2948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4795200" y="2948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4808160" y="2948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4827240" y="294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4855680" y="2948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4880880" y="2948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4897440" y="2948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4909680" y="294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4938480" y="294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4968720" y="2948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4720680" y="3002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473688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476532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479880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483660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486540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4896720" y="3002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4551480" y="282240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 flipH="1">
                <a:off x="5852880" y="1508040"/>
                <a:ext cx="507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 flipH="1">
                <a:off x="5648400" y="3075120"/>
                <a:ext cx="139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 flipH="1">
                <a:off x="5648400" y="2835360"/>
                <a:ext cx="1396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4305240" y="1944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4255920" y="1957320"/>
                <a:ext cx="5904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5510160" y="17845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 flipH="1">
                <a:off x="5381280" y="1797120"/>
                <a:ext cx="1350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5089680" y="25700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4551480" y="25700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5121360" y="237024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09" y="228"/>
                    </a:lnTo>
                    <a:lnTo>
                      <a:pt x="116" y="214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09" y="41"/>
                    </a:lnTo>
                    <a:lnTo>
                      <a:pt x="101" y="27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5" y="8"/>
                    </a:lnTo>
                    <a:lnTo>
                      <a:pt x="35" y="16"/>
                    </a:lnTo>
                    <a:lnTo>
                      <a:pt x="27" y="27"/>
                    </a:lnTo>
                    <a:lnTo>
                      <a:pt x="21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5" y="93"/>
                    </a:lnTo>
                    <a:lnTo>
                      <a:pt x="3" y="113"/>
                    </a:lnTo>
                    <a:lnTo>
                      <a:pt x="0" y="136"/>
                    </a:lnTo>
                    <a:lnTo>
                      <a:pt x="3" y="156"/>
                    </a:lnTo>
                    <a:lnTo>
                      <a:pt x="5" y="178"/>
                    </a:lnTo>
                    <a:lnTo>
                      <a:pt x="9" y="196"/>
                    </a:lnTo>
                    <a:lnTo>
                      <a:pt x="13" y="214"/>
                    </a:lnTo>
                    <a:lnTo>
                      <a:pt x="21" y="228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5" y="267"/>
                    </a:lnTo>
                    <a:lnTo>
                      <a:pt x="65" y="269"/>
                    </a:lnTo>
                    <a:lnTo>
                      <a:pt x="65" y="269"/>
                    </a:lnTo>
                    <a:lnTo>
                      <a:pt x="63" y="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5121360" y="237024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09" y="228"/>
                    </a:lnTo>
                    <a:lnTo>
                      <a:pt x="116" y="214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09" y="41"/>
                    </a:lnTo>
                    <a:lnTo>
                      <a:pt x="101" y="27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5" y="8"/>
                    </a:lnTo>
                    <a:lnTo>
                      <a:pt x="35" y="16"/>
                    </a:lnTo>
                    <a:lnTo>
                      <a:pt x="27" y="27"/>
                    </a:lnTo>
                    <a:lnTo>
                      <a:pt x="21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5" y="93"/>
                    </a:lnTo>
                    <a:lnTo>
                      <a:pt x="3" y="113"/>
                    </a:lnTo>
                    <a:lnTo>
                      <a:pt x="0" y="136"/>
                    </a:lnTo>
                    <a:lnTo>
                      <a:pt x="3" y="156"/>
                    </a:lnTo>
                    <a:lnTo>
                      <a:pt x="5" y="178"/>
                    </a:lnTo>
                    <a:lnTo>
                      <a:pt x="9" y="196"/>
                    </a:lnTo>
                    <a:lnTo>
                      <a:pt x="13" y="214"/>
                    </a:lnTo>
                    <a:lnTo>
                      <a:pt x="21" y="228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5" y="267"/>
                    </a:lnTo>
                    <a:lnTo>
                      <a:pt x="65" y="269"/>
                    </a:lnTo>
                    <a:lnTo>
                      <a:pt x="65" y="269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4564080" y="2583000"/>
                <a:ext cx="5317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5170320" y="25225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5205240" y="2522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5217840" y="2522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5246280" y="2522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5275440" y="25225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513828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5169960" y="2589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5195160" y="2589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521136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524016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526860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5324400" y="2583000"/>
                <a:ext cx="1954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5510160" y="25700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5510160" y="282240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4564080" y="2835360"/>
                <a:ext cx="9558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5510160" y="306216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556416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559908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5569920" y="762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5554440" y="582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5605560" y="582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5510160" y="9604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5510160" y="7779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5510160" y="59832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6570720" y="8938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6570720" y="711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5510160" y="117468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6570720" y="29415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5907240" y="2954160"/>
                <a:ext cx="672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6570720" y="20145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6570720" y="23130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 flipH="1">
                <a:off x="6708240" y="2325600"/>
                <a:ext cx="1796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5708520" y="1998720"/>
                <a:ext cx="868320" cy="330120"/>
              </a:xfrm>
              <a:custGeom>
                <a:avLst/>
                <a:gdLst/>
                <a:ahLst/>
                <a:rect l="l" t="t" r="r" b="b"/>
                <a:pathLst>
                  <a:path w="547" h="208">
                    <a:moveTo>
                      <a:pt x="547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7599240" y="8938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7599240" y="20113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 flipH="1">
                <a:off x="7737480" y="2027160"/>
                <a:ext cx="1173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 flipH="1">
                <a:off x="7511760" y="2027160"/>
                <a:ext cx="903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7599240" y="24890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7737480" y="2265480"/>
                <a:ext cx="117360" cy="236520"/>
              </a:xfrm>
              <a:custGeom>
                <a:avLst/>
                <a:gdLst/>
                <a:ahLst/>
                <a:rect l="l" t="t" r="r" b="b"/>
                <a:pathLst>
                  <a:path w="74" h="149">
                    <a:moveTo>
                      <a:pt x="74" y="0"/>
                    </a:moveTo>
                    <a:lnTo>
                      <a:pt x="38" y="2"/>
                    </a:lnTo>
                    <a:lnTo>
                      <a:pt x="38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7599240" y="29415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6708600" y="2954160"/>
                <a:ext cx="900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4305240" y="117468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 flipH="1">
                <a:off x="4443120" y="1187280"/>
                <a:ext cx="10731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 flipH="1">
                <a:off x="4041720" y="1187280"/>
                <a:ext cx="2700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3875040" y="47952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3875040" y="7207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3767040" y="492120"/>
                <a:ext cx="358920" cy="695160"/>
              </a:xfrm>
              <a:custGeom>
                <a:avLst/>
                <a:gdLst/>
                <a:ahLst/>
                <a:rect l="l" t="t" r="r" b="b"/>
                <a:pathLst>
                  <a:path w="226" h="438">
                    <a:moveTo>
                      <a:pt x="76" y="0"/>
                    </a:moveTo>
                    <a:lnTo>
                      <a:pt x="0" y="2"/>
                    </a:lnTo>
                    <a:lnTo>
                      <a:pt x="0" y="249"/>
                    </a:lnTo>
                    <a:lnTo>
                      <a:pt x="226" y="249"/>
                    </a:lnTo>
                    <a:lnTo>
                      <a:pt x="226" y="43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3336840" y="406440"/>
                <a:ext cx="727200" cy="1352520"/>
              </a:xfrm>
              <a:custGeom>
                <a:avLst/>
                <a:gdLst/>
                <a:ahLst/>
                <a:rect l="l" t="t" r="r" b="b"/>
                <a:pathLst>
                  <a:path w="458" h="852">
                    <a:moveTo>
                      <a:pt x="36" y="852"/>
                    </a:moveTo>
                    <a:lnTo>
                      <a:pt x="0" y="852"/>
                    </a:lnTo>
                    <a:lnTo>
                      <a:pt x="0" y="0"/>
                    </a:lnTo>
                    <a:lnTo>
                      <a:pt x="458" y="0"/>
                    </a:lnTo>
                    <a:lnTo>
                      <a:pt x="458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3827520" y="325440"/>
                <a:ext cx="3211560" cy="1022400"/>
              </a:xfrm>
              <a:custGeom>
                <a:avLst/>
                <a:gdLst/>
                <a:ahLst/>
                <a:rect l="l" t="t" r="r" b="b"/>
                <a:pathLst>
                  <a:path w="2023" h="644">
                    <a:moveTo>
                      <a:pt x="1815" y="644"/>
                    </a:moveTo>
                    <a:lnTo>
                      <a:pt x="2023" y="644"/>
                    </a:lnTo>
                    <a:lnTo>
                      <a:pt x="2023" y="0"/>
                    </a:lnTo>
                    <a:lnTo>
                      <a:pt x="226" y="0"/>
                    </a:lnTo>
                    <a:lnTo>
                      <a:pt x="226" y="315"/>
                    </a:lnTo>
                    <a:lnTo>
                      <a:pt x="0" y="315"/>
                    </a:lnTo>
                    <a:lnTo>
                      <a:pt x="0" y="259"/>
                    </a:lnTo>
                    <a:lnTo>
                      <a:pt x="38" y="25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4113360" y="117468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4387680" y="88920"/>
                <a:ext cx="3240" cy="97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 flipV="1">
                <a:off x="4387680" y="3127320"/>
                <a:ext cx="32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 rot="16200000">
                <a:off x="4505400" y="1872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 rot="16200000">
                <a:off x="4494600" y="184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 rot="16200000">
                <a:off x="4496760" y="1818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 rot="16200000">
                <a:off x="4505400" y="1797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 rot="16200000">
                <a:off x="4502880" y="1782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 rot="16200000">
                <a:off x="4494600" y="17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 rot="16200000">
                <a:off x="4496760" y="1728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 rot="16200000">
                <a:off x="4505400" y="1711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 rot="16200000">
                <a:off x="4507560" y="16977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 rot="16200000">
                <a:off x="4494600" y="16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 rot="16200000">
                <a:off x="4494600" y="1643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4334040" y="434880"/>
                <a:ext cx="11556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433008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4345920" y="4348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437760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43934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440676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5592600" y="88920"/>
                <a:ext cx="3240" cy="436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 flipV="1">
                <a:off x="5592600" y="3127320"/>
                <a:ext cx="32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0" name=""/>
            <p:cNvGrpSpPr/>
            <p:nvPr/>
          </p:nvGrpSpPr>
          <p:grpSpPr>
            <a:xfrm>
              <a:off x="3361680" y="88920"/>
              <a:ext cx="5063760" cy="6134040"/>
              <a:chOff x="3361680" y="88920"/>
              <a:chExt cx="5063760" cy="6134040"/>
            </a:xfrm>
          </p:grpSpPr>
          <p:sp>
            <p:nvSpPr>
              <p:cNvPr id="6031" name=""/>
              <p:cNvSpPr/>
              <p:nvPr/>
            </p:nvSpPr>
            <p:spPr>
              <a:xfrm>
                <a:off x="5535720" y="434880"/>
                <a:ext cx="118800" cy="5724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5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6653160" y="88920"/>
                <a:ext cx="3240" cy="615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 flipV="1">
                <a:off x="6653160" y="3127320"/>
                <a:ext cx="32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6595920" y="434880"/>
                <a:ext cx="119160" cy="5724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3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655164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65898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662400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66366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66834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67176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7682040" y="88920"/>
                <a:ext cx="2880" cy="795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 flipV="1">
                <a:off x="7682040" y="3127320"/>
                <a:ext cx="288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55256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554184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55796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55926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562752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44157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4443480" y="98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45093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45349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45604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4612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46382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46638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4717440" y="98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4746600" y="982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48016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4856040" y="982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562140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568332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57430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5771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57970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58496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59004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59508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59767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60321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60829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61333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61603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61858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6211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62366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6262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62874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6682680" y="98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675972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6819480" y="98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6900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6925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69512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7002000" y="98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7035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70610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71118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71625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72147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7243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72684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72939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7319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73447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73717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7708680" y="982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779796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78573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78843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79135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79642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80150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80672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80928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81435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81975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82497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82749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8300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83257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83512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83782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84034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7624800" y="434880"/>
                <a:ext cx="119160" cy="5724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3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757008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761508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764964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769572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7711560" y="434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776304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3361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3386880" y="982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34459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3471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34970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3547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35730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36000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3650760" y="98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3682800" y="982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37368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3789000" y="982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535572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538452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541296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535572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538452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535572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538452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541296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544464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56732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57020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573372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56732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57020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567324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570204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5673240" y="843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5673240" y="97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673380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67622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673380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6733800" y="843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6733800" y="97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5541840" y="1063800"/>
                <a:ext cx="54000" cy="206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5541840" y="1063800"/>
                <a:ext cx="54000" cy="206352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5595840" y="1063800"/>
                <a:ext cx="52560" cy="2063520"/>
              </a:xfrm>
              <a:custGeom>
                <a:avLst/>
                <a:gdLst/>
                <a:ahLst/>
                <a:rect l="l" t="t" r="r" b="b"/>
                <a:pathLst>
                  <a:path w="33" h="1300">
                    <a:moveTo>
                      <a:pt x="0" y="1298"/>
                    </a:moveTo>
                    <a:lnTo>
                      <a:pt x="33" y="1300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129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5595840" y="1063800"/>
                <a:ext cx="52560" cy="2063520"/>
              </a:xfrm>
              <a:custGeom>
                <a:avLst/>
                <a:gdLst/>
                <a:ahLst/>
                <a:rect l="l" t="t" r="r" b="b"/>
                <a:pathLst>
                  <a:path w="33" h="1300">
                    <a:moveTo>
                      <a:pt x="0" y="1298"/>
                    </a:moveTo>
                    <a:lnTo>
                      <a:pt x="33" y="1300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3903840" y="444600"/>
                <a:ext cx="10296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2"/>
                    </a:moveTo>
                    <a:lnTo>
                      <a:pt x="2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3" y="0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4"/>
                    </a:lnTo>
                    <a:lnTo>
                      <a:pt x="65" y="188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6"/>
                    </a:lnTo>
                    <a:lnTo>
                      <a:pt x="51" y="208"/>
                    </a:lnTo>
                    <a:lnTo>
                      <a:pt x="47" y="212"/>
                    </a:lnTo>
                    <a:lnTo>
                      <a:pt x="43" y="214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4"/>
                    </a:lnTo>
                    <a:lnTo>
                      <a:pt x="19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8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3903840" y="444600"/>
                <a:ext cx="10296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2"/>
                    </a:moveTo>
                    <a:lnTo>
                      <a:pt x="2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3" y="0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4"/>
                    </a:lnTo>
                    <a:lnTo>
                      <a:pt x="65" y="188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6"/>
                    </a:lnTo>
                    <a:lnTo>
                      <a:pt x="51" y="208"/>
                    </a:lnTo>
                    <a:lnTo>
                      <a:pt x="47" y="212"/>
                    </a:lnTo>
                    <a:lnTo>
                      <a:pt x="43" y="214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4"/>
                    </a:lnTo>
                    <a:lnTo>
                      <a:pt x="19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8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2"/>
                    </a:lnTo>
                    <a:lnTo>
                      <a:pt x="2" y="3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3930120" y="531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3975120" y="53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3939840" y="58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3971880" y="585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3939840" y="638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3922200" y="465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3922200" y="70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3936960" y="1160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3971520" y="116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4000320" y="116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3430440" y="1727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3465360" y="1727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7894440" y="223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6932160" y="22716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6979680" y="2271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6999120" y="2271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7012800" y="2271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7025760" y="2271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7058160" y="2271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6932160" y="23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6960960" y="23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6989040" y="2322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7007040" y="23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7365960" y="19699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7403760" y="1969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7435440" y="1969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7464240" y="1969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7493040" y="1969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7381440" y="202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7413120" y="202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7441560" y="2025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7454520" y="202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7900560" y="2063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7945560" y="2063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7910280" y="211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7939080" y="2117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7910280" y="2168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789444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7631280" y="1063800"/>
                <a:ext cx="106200" cy="2063520"/>
              </a:xfrm>
              <a:custGeom>
                <a:avLst/>
                <a:gdLst/>
                <a:ahLst/>
                <a:rect l="l" t="t" r="r" b="b"/>
                <a:pathLst>
                  <a:path w="67" h="1300">
                    <a:moveTo>
                      <a:pt x="67" y="1298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0"/>
                    </a:lnTo>
                    <a:lnTo>
                      <a:pt x="67" y="1300"/>
                    </a:lnTo>
                    <a:lnTo>
                      <a:pt x="67" y="1300"/>
                    </a:lnTo>
                    <a:lnTo>
                      <a:pt x="67" y="129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7631280" y="1063800"/>
                <a:ext cx="106200" cy="2063520"/>
              </a:xfrm>
              <a:custGeom>
                <a:avLst/>
                <a:gdLst/>
                <a:ahLst/>
                <a:rect l="l" t="t" r="r" b="b"/>
                <a:pathLst>
                  <a:path w="67" h="1300">
                    <a:moveTo>
                      <a:pt x="67" y="1298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0"/>
                    </a:lnTo>
                    <a:lnTo>
                      <a:pt x="67" y="1300"/>
                    </a:lnTo>
                    <a:lnTo>
                      <a:pt x="67" y="130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5592600" y="3895560"/>
                <a:ext cx="5580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5592600" y="3895560"/>
                <a:ext cx="5580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5541840" y="389268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5541840" y="389268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5554440" y="39546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5605560" y="3954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5592600" y="407520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5592600" y="407520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5541840" y="40719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5541840" y="40719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5592600" y="425448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5592600" y="425448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5541840" y="42544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5541840" y="42544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5564160" y="4316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5599080" y="4316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5569920" y="4133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6602400" y="42544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6602400" y="42544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6653160" y="42544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6653160" y="42544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3956040" y="3637080"/>
                <a:ext cx="3162240" cy="1315800"/>
              </a:xfrm>
              <a:custGeom>
                <a:avLst/>
                <a:gdLst/>
                <a:ahLst/>
                <a:rect l="l" t="t" r="r" b="b"/>
                <a:pathLst>
                  <a:path w="1992" h="829">
                    <a:moveTo>
                      <a:pt x="0" y="113"/>
                    </a:moveTo>
                    <a:lnTo>
                      <a:pt x="0" y="0"/>
                    </a:lnTo>
                    <a:lnTo>
                      <a:pt x="1992" y="0"/>
                    </a:lnTo>
                    <a:lnTo>
                      <a:pt x="1992" y="829"/>
                    </a:lnTo>
                    <a:lnTo>
                      <a:pt x="1942" y="829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6708600" y="4995720"/>
                <a:ext cx="160560" cy="265320"/>
              </a:xfrm>
              <a:custGeom>
                <a:avLst/>
                <a:gdLst/>
                <a:ahLst/>
                <a:rect l="l" t="t" r="r" b="b"/>
                <a:pathLst>
                  <a:path w="101" h="167">
                    <a:moveTo>
                      <a:pt x="0" y="167"/>
                    </a:moveTo>
                    <a:lnTo>
                      <a:pt x="50" y="167"/>
                    </a:lnTo>
                    <a:lnTo>
                      <a:pt x="50" y="0"/>
                    </a:lnTo>
                    <a:lnTo>
                      <a:pt x="101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6708600" y="4165560"/>
                <a:ext cx="897120" cy="111240"/>
              </a:xfrm>
              <a:custGeom>
                <a:avLst/>
                <a:gdLst/>
                <a:ahLst/>
                <a:rect l="l" t="t" r="r" b="b"/>
                <a:pathLst>
                  <a:path w="565" h="70">
                    <a:moveTo>
                      <a:pt x="565" y="70"/>
                    </a:moveTo>
                    <a:lnTo>
                      <a:pt x="531" y="70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6154560" y="5495760"/>
                <a:ext cx="82800" cy="460440"/>
              </a:xfrm>
              <a:custGeom>
                <a:avLst/>
                <a:gdLst/>
                <a:ahLst/>
                <a:rect l="l" t="t" r="r" b="b"/>
                <a:pathLst>
                  <a:path w="52" h="290">
                    <a:moveTo>
                      <a:pt x="50" y="0"/>
                    </a:moveTo>
                    <a:lnTo>
                      <a:pt x="52" y="290"/>
                    </a:lnTo>
                    <a:lnTo>
                      <a:pt x="0" y="29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5041800" y="3757680"/>
                <a:ext cx="2774880" cy="1260360"/>
              </a:xfrm>
              <a:custGeom>
                <a:avLst/>
                <a:gdLst/>
                <a:ahLst/>
                <a:rect l="l" t="t" r="r" b="b"/>
                <a:pathLst>
                  <a:path w="1748" h="794">
                    <a:moveTo>
                      <a:pt x="1698" y="344"/>
                    </a:moveTo>
                    <a:lnTo>
                      <a:pt x="1748" y="346"/>
                    </a:lnTo>
                    <a:lnTo>
                      <a:pt x="1748" y="0"/>
                    </a:lnTo>
                    <a:lnTo>
                      <a:pt x="0" y="0"/>
                    </a:lnTo>
                    <a:lnTo>
                      <a:pt x="0" y="79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6869160" y="4883040"/>
                <a:ext cx="169920" cy="138240"/>
              </a:xfrm>
              <a:custGeom>
                <a:avLst/>
                <a:gdLst/>
                <a:ahLst/>
                <a:rect l="l" t="t" r="r" b="b"/>
                <a:pathLst>
                  <a:path w="107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9" y="79"/>
                    </a:lnTo>
                    <a:lnTo>
                      <a:pt x="95" y="75"/>
                    </a:lnTo>
                    <a:lnTo>
                      <a:pt x="99" y="69"/>
                    </a:lnTo>
                    <a:lnTo>
                      <a:pt x="101" y="65"/>
                    </a:lnTo>
                    <a:lnTo>
                      <a:pt x="105" y="59"/>
                    </a:lnTo>
                    <a:lnTo>
                      <a:pt x="107" y="50"/>
                    </a:lnTo>
                    <a:lnTo>
                      <a:pt x="107" y="44"/>
                    </a:lnTo>
                    <a:lnTo>
                      <a:pt x="107" y="36"/>
                    </a:lnTo>
                    <a:lnTo>
                      <a:pt x="105" y="30"/>
                    </a:lnTo>
                    <a:lnTo>
                      <a:pt x="101" y="24"/>
                    </a:lnTo>
                    <a:lnTo>
                      <a:pt x="99" y="18"/>
                    </a:lnTo>
                    <a:lnTo>
                      <a:pt x="95" y="12"/>
                    </a:lnTo>
                    <a:lnTo>
                      <a:pt x="89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4" y="87"/>
                    </a:lnTo>
                    <a:lnTo>
                      <a:pt x="64" y="87"/>
                    </a:lnTo>
                    <a:lnTo>
                      <a:pt x="62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6869160" y="4883040"/>
                <a:ext cx="169920" cy="138240"/>
              </a:xfrm>
              <a:custGeom>
                <a:avLst/>
                <a:gdLst/>
                <a:ahLst/>
                <a:rect l="l" t="t" r="r" b="b"/>
                <a:pathLst>
                  <a:path w="107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9" y="79"/>
                    </a:lnTo>
                    <a:lnTo>
                      <a:pt x="95" y="75"/>
                    </a:lnTo>
                    <a:lnTo>
                      <a:pt x="99" y="69"/>
                    </a:lnTo>
                    <a:lnTo>
                      <a:pt x="101" y="65"/>
                    </a:lnTo>
                    <a:lnTo>
                      <a:pt x="105" y="59"/>
                    </a:lnTo>
                    <a:lnTo>
                      <a:pt x="107" y="50"/>
                    </a:lnTo>
                    <a:lnTo>
                      <a:pt x="107" y="44"/>
                    </a:lnTo>
                    <a:lnTo>
                      <a:pt x="107" y="36"/>
                    </a:lnTo>
                    <a:lnTo>
                      <a:pt x="105" y="30"/>
                    </a:lnTo>
                    <a:lnTo>
                      <a:pt x="101" y="24"/>
                    </a:lnTo>
                    <a:lnTo>
                      <a:pt x="99" y="18"/>
                    </a:lnTo>
                    <a:lnTo>
                      <a:pt x="95" y="12"/>
                    </a:lnTo>
                    <a:lnTo>
                      <a:pt x="89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4" y="87"/>
                    </a:lnTo>
                    <a:lnTo>
                      <a:pt x="64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5775480" y="6194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1" name=""/>
            <p:cNvGrpSpPr/>
            <p:nvPr/>
          </p:nvGrpSpPr>
          <p:grpSpPr>
            <a:xfrm>
              <a:off x="3384720" y="3930480"/>
              <a:ext cx="4592520" cy="2663640"/>
              <a:chOff x="3384720" y="3930480"/>
              <a:chExt cx="4592520" cy="2663640"/>
            </a:xfrm>
          </p:grpSpPr>
          <p:sp>
            <p:nvSpPr>
              <p:cNvPr id="6232" name=""/>
              <p:cNvSpPr/>
              <p:nvPr/>
            </p:nvSpPr>
            <p:spPr>
              <a:xfrm>
                <a:off x="5775480" y="6434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749840" y="53960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3417840" y="4989600"/>
                <a:ext cx="98640" cy="280800"/>
              </a:xfrm>
              <a:custGeom>
                <a:avLst/>
                <a:gdLst/>
                <a:ahLst/>
                <a:rect l="l" t="t" r="r" b="b"/>
                <a:pathLst>
                  <a:path w="62" h="177">
                    <a:moveTo>
                      <a:pt x="62" y="175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2" y="177"/>
                    </a:lnTo>
                    <a:lnTo>
                      <a:pt x="62" y="177"/>
                    </a:lnTo>
                    <a:lnTo>
                      <a:pt x="62" y="1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3417840" y="4989600"/>
                <a:ext cx="98640" cy="280800"/>
              </a:xfrm>
              <a:custGeom>
                <a:avLst/>
                <a:gdLst/>
                <a:ahLst/>
                <a:rect l="l" t="t" r="r" b="b"/>
                <a:pathLst>
                  <a:path w="62" h="177">
                    <a:moveTo>
                      <a:pt x="62" y="175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2" y="177"/>
                    </a:lnTo>
                    <a:lnTo>
                      <a:pt x="62" y="177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3657600" y="5014800"/>
                <a:ext cx="298440" cy="627120"/>
              </a:xfrm>
              <a:custGeom>
                <a:avLst/>
                <a:gdLst/>
                <a:ahLst/>
                <a:rect l="l" t="t" r="r" b="b"/>
                <a:pathLst>
                  <a:path w="188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8" y="395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3657600" y="5014800"/>
                <a:ext cx="298440" cy="627120"/>
              </a:xfrm>
              <a:custGeom>
                <a:avLst/>
                <a:gdLst/>
                <a:ahLst/>
                <a:rect l="l" t="t" r="r" b="b"/>
                <a:pathLst>
                  <a:path w="188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8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3956040" y="5018040"/>
                <a:ext cx="299880" cy="623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3956040" y="5018040"/>
                <a:ext cx="299880" cy="62388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3826800" y="52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3839760" y="52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3868200" y="5267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3896640" y="52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3909600" y="5267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3930480" y="52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3958920" y="5267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3987360" y="52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000680" y="5267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012920" y="52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041360" y="52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070520" y="52671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3861720" y="5335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3903480" y="5335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3936600" y="5335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3981240" y="5335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009680" y="5335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025520" y="5335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3679920" y="5097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3714480" y="509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3742920" y="509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3772800" y="5097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3792240" y="509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3820680" y="5097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3846240" y="5097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6910560" y="5184720"/>
                <a:ext cx="30132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6910560" y="5184720"/>
                <a:ext cx="30132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7209000" y="5187960"/>
                <a:ext cx="299880" cy="623880"/>
              </a:xfrm>
              <a:custGeom>
                <a:avLst/>
                <a:gdLst/>
                <a:ahLst/>
                <a:rect l="l" t="t" r="r" b="b"/>
                <a:pathLst>
                  <a:path w="189" h="393">
                    <a:moveTo>
                      <a:pt x="0" y="393"/>
                    </a:moveTo>
                    <a:lnTo>
                      <a:pt x="189" y="393"/>
                    </a:lnTo>
                    <a:lnTo>
                      <a:pt x="189" y="0"/>
                    </a:lnTo>
                    <a:lnTo>
                      <a:pt x="2" y="0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7209000" y="5187960"/>
                <a:ext cx="299880" cy="623880"/>
              </a:xfrm>
              <a:custGeom>
                <a:avLst/>
                <a:gdLst/>
                <a:ahLst/>
                <a:rect l="l" t="t" r="r" b="b"/>
                <a:pathLst>
                  <a:path w="189" h="393">
                    <a:moveTo>
                      <a:pt x="0" y="393"/>
                    </a:moveTo>
                    <a:lnTo>
                      <a:pt x="189" y="393"/>
                    </a:lnTo>
                    <a:lnTo>
                      <a:pt x="189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749840" y="50752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749840" y="55562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3576600" y="4398840"/>
                <a:ext cx="270000" cy="730440"/>
              </a:xfrm>
              <a:custGeom>
                <a:avLst/>
                <a:gdLst/>
                <a:ahLst/>
                <a:rect l="l" t="t" r="r" b="b"/>
                <a:pathLst>
                  <a:path w="170" h="460">
                    <a:moveTo>
                      <a:pt x="170" y="0"/>
                    </a:moveTo>
                    <a:lnTo>
                      <a:pt x="0" y="2"/>
                    </a:lnTo>
                    <a:lnTo>
                      <a:pt x="0" y="46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 flipH="1">
                <a:off x="3749400" y="4719600"/>
                <a:ext cx="968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3868560" y="4290840"/>
                <a:ext cx="173160" cy="538200"/>
              </a:xfrm>
              <a:custGeom>
                <a:avLst/>
                <a:gdLst/>
                <a:ahLst/>
                <a:rect l="l" t="t" r="r" b="b"/>
                <a:pathLst>
                  <a:path w="1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3"/>
                    </a:lnTo>
                    <a:lnTo>
                      <a:pt x="0" y="339"/>
                    </a:lnTo>
                    <a:lnTo>
                      <a:pt x="109" y="236"/>
                    </a:lnTo>
                    <a:lnTo>
                      <a:pt x="109" y="10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3868560" y="4290840"/>
                <a:ext cx="173160" cy="538200"/>
              </a:xfrm>
              <a:custGeom>
                <a:avLst/>
                <a:gdLst/>
                <a:ahLst/>
                <a:rect l="l" t="t" r="r" b="b"/>
                <a:pathLst>
                  <a:path w="1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3"/>
                    </a:lnTo>
                    <a:lnTo>
                      <a:pt x="0" y="339"/>
                    </a:lnTo>
                    <a:lnTo>
                      <a:pt x="109" y="236"/>
                    </a:lnTo>
                    <a:lnTo>
                      <a:pt x="109" y="10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5818320" y="53578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5818320" y="55944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5997600" y="54752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 flipH="1">
                <a:off x="5947920" y="5487840"/>
                <a:ext cx="58680" cy="50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5997600" y="5156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7842240" y="538632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2" y="16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7842240" y="56228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6878520" y="56847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5954760" y="5742000"/>
                <a:ext cx="199800" cy="425520"/>
              </a:xfrm>
              <a:custGeom>
                <a:avLst/>
                <a:gdLst/>
                <a:ahLst/>
                <a:rect l="l" t="t" r="r" b="b"/>
                <a:pathLst>
                  <a:path w="126" h="268">
                    <a:moveTo>
                      <a:pt x="63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7" y="230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4" y="178"/>
                    </a:lnTo>
                    <a:lnTo>
                      <a:pt x="126" y="155"/>
                    </a:lnTo>
                    <a:lnTo>
                      <a:pt x="126" y="135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19" y="73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8"/>
                    </a:lnTo>
                    <a:lnTo>
                      <a:pt x="35" y="16"/>
                    </a:lnTo>
                    <a:lnTo>
                      <a:pt x="27" y="26"/>
                    </a:lnTo>
                    <a:lnTo>
                      <a:pt x="19" y="40"/>
                    </a:lnTo>
                    <a:lnTo>
                      <a:pt x="12" y="54"/>
                    </a:lnTo>
                    <a:lnTo>
                      <a:pt x="6" y="73"/>
                    </a:lnTo>
                    <a:lnTo>
                      <a:pt x="4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4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9" y="230"/>
                    </a:lnTo>
                    <a:lnTo>
                      <a:pt x="27" y="242"/>
                    </a:lnTo>
                    <a:lnTo>
                      <a:pt x="35" y="254"/>
                    </a:lnTo>
                    <a:lnTo>
                      <a:pt x="43" y="262"/>
                    </a:lnTo>
                    <a:lnTo>
                      <a:pt x="53" y="266"/>
                    </a:lnTo>
                    <a:lnTo>
                      <a:pt x="63" y="268"/>
                    </a:lnTo>
                    <a:lnTo>
                      <a:pt x="63" y="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5954760" y="5742000"/>
                <a:ext cx="199800" cy="425520"/>
              </a:xfrm>
              <a:custGeom>
                <a:avLst/>
                <a:gdLst/>
                <a:ahLst/>
                <a:rect l="l" t="t" r="r" b="b"/>
                <a:pathLst>
                  <a:path w="126" h="268">
                    <a:moveTo>
                      <a:pt x="63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7" y="230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4" y="178"/>
                    </a:lnTo>
                    <a:lnTo>
                      <a:pt x="126" y="155"/>
                    </a:lnTo>
                    <a:lnTo>
                      <a:pt x="126" y="135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19" y="73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8"/>
                    </a:lnTo>
                    <a:lnTo>
                      <a:pt x="35" y="16"/>
                    </a:lnTo>
                    <a:lnTo>
                      <a:pt x="27" y="26"/>
                    </a:lnTo>
                    <a:lnTo>
                      <a:pt x="19" y="40"/>
                    </a:lnTo>
                    <a:lnTo>
                      <a:pt x="12" y="54"/>
                    </a:lnTo>
                    <a:lnTo>
                      <a:pt x="6" y="73"/>
                    </a:lnTo>
                    <a:lnTo>
                      <a:pt x="4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4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9" y="230"/>
                    </a:lnTo>
                    <a:lnTo>
                      <a:pt x="27" y="242"/>
                    </a:lnTo>
                    <a:lnTo>
                      <a:pt x="35" y="254"/>
                    </a:lnTo>
                    <a:lnTo>
                      <a:pt x="43" y="262"/>
                    </a:lnTo>
                    <a:lnTo>
                      <a:pt x="53" y="266"/>
                    </a:lnTo>
                    <a:lnTo>
                      <a:pt x="63" y="268"/>
                    </a:lnTo>
                    <a:lnTo>
                      <a:pt x="63" y="26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5648400" y="5952960"/>
                <a:ext cx="2840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 rot="16200000">
                <a:off x="7862040" y="52243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 rot="16200000">
                <a:off x="7872840" y="519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 rot="16200000">
                <a:off x="7862040" y="5150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 rot="16200000">
                <a:off x="7883640" y="5128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 rot="16200000">
                <a:off x="7872840" y="510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 rot="16200000">
                <a:off x="7866720" y="5064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 rot="16200000">
                <a:off x="7872840" y="5032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 rot="16200000">
                <a:off x="7872840" y="500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6080040" y="61945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6114600" y="6194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6146640" y="6194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6185880" y="619452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6227280" y="6194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6813720" y="4794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6849720" y="4794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6868800" y="479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6897240" y="479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6926040" y="4794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6954480" y="479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5884920" y="6502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5922720" y="650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5951160" y="650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5985000" y="6502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6022440" y="6502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6047640" y="6502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6146640" y="4944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6183000" y="4944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6215040" y="4944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6253200" y="4944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6287400" y="4944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6303600" y="4944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3560760" y="511668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7" y="14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3836880" y="438624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3836880" y="47070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3695400" y="469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 flipH="1">
                <a:off x="5648040" y="4559400"/>
                <a:ext cx="2588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5929200" y="4449600"/>
                <a:ext cx="336600" cy="540000"/>
              </a:xfrm>
              <a:custGeom>
                <a:avLst/>
                <a:gdLst/>
                <a:ahLst/>
                <a:rect l="l" t="t" r="r" b="b"/>
                <a:pathLst>
                  <a:path w="212" h="340">
                    <a:moveTo>
                      <a:pt x="0" y="0"/>
                    </a:moveTo>
                    <a:lnTo>
                      <a:pt x="2" y="138"/>
                    </a:lnTo>
                    <a:lnTo>
                      <a:pt x="37" y="172"/>
                    </a:lnTo>
                    <a:lnTo>
                      <a:pt x="2" y="204"/>
                    </a:lnTo>
                    <a:lnTo>
                      <a:pt x="2" y="340"/>
                    </a:lnTo>
                    <a:lnTo>
                      <a:pt x="212" y="237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5929200" y="4449600"/>
                <a:ext cx="336600" cy="540000"/>
              </a:xfrm>
              <a:custGeom>
                <a:avLst/>
                <a:gdLst/>
                <a:ahLst/>
                <a:rect l="l" t="t" r="r" b="b"/>
                <a:pathLst>
                  <a:path w="212" h="340">
                    <a:moveTo>
                      <a:pt x="0" y="0"/>
                    </a:moveTo>
                    <a:lnTo>
                      <a:pt x="2" y="138"/>
                    </a:lnTo>
                    <a:lnTo>
                      <a:pt x="37" y="172"/>
                    </a:lnTo>
                    <a:lnTo>
                      <a:pt x="2" y="204"/>
                    </a:lnTo>
                    <a:lnTo>
                      <a:pt x="2" y="340"/>
                    </a:lnTo>
                    <a:lnTo>
                      <a:pt x="212" y="237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 flipH="1">
                <a:off x="6265800" y="4719600"/>
                <a:ext cx="31752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6570720" y="47070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3516480" y="5129280"/>
                <a:ext cx="1188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3625920" y="51134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3384720" y="51134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5089680" y="59403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5121360" y="5742000"/>
                <a:ext cx="203040" cy="425520"/>
              </a:xfrm>
              <a:custGeom>
                <a:avLst/>
                <a:gdLst/>
                <a:ahLst/>
                <a:rect l="l" t="t" r="r" b="b"/>
                <a:pathLst>
                  <a:path w="128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3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30"/>
                    </a:lnTo>
                    <a:lnTo>
                      <a:pt x="116" y="214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5"/>
                    </a:lnTo>
                    <a:lnTo>
                      <a:pt x="128" y="135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4"/>
                    </a:lnTo>
                    <a:lnTo>
                      <a:pt x="109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5" y="8"/>
                    </a:lnTo>
                    <a:lnTo>
                      <a:pt x="35" y="16"/>
                    </a:lnTo>
                    <a:lnTo>
                      <a:pt x="27" y="26"/>
                    </a:lnTo>
                    <a:lnTo>
                      <a:pt x="21" y="40"/>
                    </a:lnTo>
                    <a:lnTo>
                      <a:pt x="13" y="54"/>
                    </a:lnTo>
                    <a:lnTo>
                      <a:pt x="9" y="73"/>
                    </a:lnTo>
                    <a:lnTo>
                      <a:pt x="5" y="93"/>
                    </a:lnTo>
                    <a:lnTo>
                      <a:pt x="3" y="113"/>
                    </a:lnTo>
                    <a:lnTo>
                      <a:pt x="0" y="135"/>
                    </a:lnTo>
                    <a:lnTo>
                      <a:pt x="3" y="155"/>
                    </a:lnTo>
                    <a:lnTo>
                      <a:pt x="5" y="178"/>
                    </a:lnTo>
                    <a:lnTo>
                      <a:pt x="9" y="196"/>
                    </a:lnTo>
                    <a:lnTo>
                      <a:pt x="13" y="214"/>
                    </a:lnTo>
                    <a:lnTo>
                      <a:pt x="21" y="230"/>
                    </a:lnTo>
                    <a:lnTo>
                      <a:pt x="27" y="242"/>
                    </a:lnTo>
                    <a:lnTo>
                      <a:pt x="35" y="254"/>
                    </a:lnTo>
                    <a:lnTo>
                      <a:pt x="45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  <a:lnTo>
                      <a:pt x="63" y="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5121360" y="5742000"/>
                <a:ext cx="203040" cy="425520"/>
              </a:xfrm>
              <a:custGeom>
                <a:avLst/>
                <a:gdLst/>
                <a:ahLst/>
                <a:rect l="l" t="t" r="r" b="b"/>
                <a:pathLst>
                  <a:path w="128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3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30"/>
                    </a:lnTo>
                    <a:lnTo>
                      <a:pt x="116" y="214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5"/>
                    </a:lnTo>
                    <a:lnTo>
                      <a:pt x="128" y="135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4"/>
                    </a:lnTo>
                    <a:lnTo>
                      <a:pt x="109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5" y="8"/>
                    </a:lnTo>
                    <a:lnTo>
                      <a:pt x="35" y="16"/>
                    </a:lnTo>
                    <a:lnTo>
                      <a:pt x="27" y="26"/>
                    </a:lnTo>
                    <a:lnTo>
                      <a:pt x="21" y="40"/>
                    </a:lnTo>
                    <a:lnTo>
                      <a:pt x="13" y="54"/>
                    </a:lnTo>
                    <a:lnTo>
                      <a:pt x="9" y="73"/>
                    </a:lnTo>
                    <a:lnTo>
                      <a:pt x="5" y="93"/>
                    </a:lnTo>
                    <a:lnTo>
                      <a:pt x="3" y="113"/>
                    </a:lnTo>
                    <a:lnTo>
                      <a:pt x="0" y="135"/>
                    </a:lnTo>
                    <a:lnTo>
                      <a:pt x="3" y="155"/>
                    </a:lnTo>
                    <a:lnTo>
                      <a:pt x="5" y="178"/>
                    </a:lnTo>
                    <a:lnTo>
                      <a:pt x="9" y="196"/>
                    </a:lnTo>
                    <a:lnTo>
                      <a:pt x="13" y="214"/>
                    </a:lnTo>
                    <a:lnTo>
                      <a:pt x="21" y="230"/>
                    </a:lnTo>
                    <a:lnTo>
                      <a:pt x="27" y="242"/>
                    </a:lnTo>
                    <a:lnTo>
                      <a:pt x="35" y="254"/>
                    </a:lnTo>
                    <a:lnTo>
                      <a:pt x="45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5900760" y="45464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5900760" y="48672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>
                <a:off x="7875720" y="5351400"/>
                <a:ext cx="101520" cy="336600"/>
              </a:xfrm>
              <a:custGeom>
                <a:avLst/>
                <a:gdLst/>
                <a:ahLst/>
                <a:rect l="l" t="t" r="r" b="b"/>
                <a:pathLst>
                  <a:path w="64" h="212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2" y="185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0" y="206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2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7875720" y="5351400"/>
                <a:ext cx="101520" cy="336600"/>
              </a:xfrm>
              <a:custGeom>
                <a:avLst/>
                <a:gdLst/>
                <a:ahLst/>
                <a:rect l="l" t="t" r="r" b="b"/>
                <a:pathLst>
                  <a:path w="64" h="212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2" y="185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0" y="206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2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5846760" y="5322960"/>
                <a:ext cx="101520" cy="338040"/>
              </a:xfrm>
              <a:custGeom>
                <a:avLst/>
                <a:gdLst/>
                <a:ahLst/>
                <a:rect l="l" t="t" r="r" b="b"/>
                <a:pathLst>
                  <a:path w="64" h="213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4" y="187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199"/>
                    </a:lnTo>
                    <a:lnTo>
                      <a:pt x="54" y="203"/>
                    </a:lnTo>
                    <a:lnTo>
                      <a:pt x="52" y="207"/>
                    </a:lnTo>
                    <a:lnTo>
                      <a:pt x="48" y="209"/>
                    </a:lnTo>
                    <a:lnTo>
                      <a:pt x="42" y="211"/>
                    </a:lnTo>
                    <a:lnTo>
                      <a:pt x="38" y="211"/>
                    </a:lnTo>
                    <a:lnTo>
                      <a:pt x="32" y="213"/>
                    </a:lnTo>
                    <a:lnTo>
                      <a:pt x="28" y="211"/>
                    </a:lnTo>
                    <a:lnTo>
                      <a:pt x="24" y="211"/>
                    </a:lnTo>
                    <a:lnTo>
                      <a:pt x="18" y="209"/>
                    </a:lnTo>
                    <a:lnTo>
                      <a:pt x="14" y="207"/>
                    </a:lnTo>
                    <a:lnTo>
                      <a:pt x="10" y="203"/>
                    </a:lnTo>
                    <a:lnTo>
                      <a:pt x="8" y="199"/>
                    </a:lnTo>
                    <a:lnTo>
                      <a:pt x="6" y="195"/>
                    </a:lnTo>
                    <a:lnTo>
                      <a:pt x="4" y="191"/>
                    </a:lnTo>
                    <a:lnTo>
                      <a:pt x="2" y="187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5846760" y="5322960"/>
                <a:ext cx="101520" cy="338040"/>
              </a:xfrm>
              <a:custGeom>
                <a:avLst/>
                <a:gdLst/>
                <a:ahLst/>
                <a:rect l="l" t="t" r="r" b="b"/>
                <a:pathLst>
                  <a:path w="64" h="213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4" y="187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199"/>
                    </a:lnTo>
                    <a:lnTo>
                      <a:pt x="54" y="203"/>
                    </a:lnTo>
                    <a:lnTo>
                      <a:pt x="52" y="207"/>
                    </a:lnTo>
                    <a:lnTo>
                      <a:pt x="48" y="209"/>
                    </a:lnTo>
                    <a:lnTo>
                      <a:pt x="42" y="211"/>
                    </a:lnTo>
                    <a:lnTo>
                      <a:pt x="38" y="211"/>
                    </a:lnTo>
                    <a:lnTo>
                      <a:pt x="32" y="213"/>
                    </a:lnTo>
                    <a:lnTo>
                      <a:pt x="28" y="211"/>
                    </a:lnTo>
                    <a:lnTo>
                      <a:pt x="24" y="211"/>
                    </a:lnTo>
                    <a:lnTo>
                      <a:pt x="18" y="209"/>
                    </a:lnTo>
                    <a:lnTo>
                      <a:pt x="14" y="207"/>
                    </a:lnTo>
                    <a:lnTo>
                      <a:pt x="10" y="203"/>
                    </a:lnTo>
                    <a:lnTo>
                      <a:pt x="8" y="199"/>
                    </a:lnTo>
                    <a:lnTo>
                      <a:pt x="6" y="195"/>
                    </a:lnTo>
                    <a:lnTo>
                      <a:pt x="4" y="191"/>
                    </a:lnTo>
                    <a:lnTo>
                      <a:pt x="2" y="187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5868720" y="533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5807160" y="6157800"/>
                <a:ext cx="10296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1"/>
                    </a:moveTo>
                    <a:lnTo>
                      <a:pt x="3" y="27"/>
                    </a:lnTo>
                    <a:lnTo>
                      <a:pt x="3" y="23"/>
                    </a:lnTo>
                    <a:lnTo>
                      <a:pt x="5" y="17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7"/>
                    </a:lnTo>
                    <a:lnTo>
                      <a:pt x="63" y="23"/>
                    </a:lnTo>
                    <a:lnTo>
                      <a:pt x="63" y="27"/>
                    </a:lnTo>
                    <a:lnTo>
                      <a:pt x="65" y="33"/>
                    </a:lnTo>
                    <a:lnTo>
                      <a:pt x="65" y="182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5" y="198"/>
                    </a:lnTo>
                    <a:lnTo>
                      <a:pt x="3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5807160" y="6157800"/>
                <a:ext cx="10296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1"/>
                    </a:moveTo>
                    <a:lnTo>
                      <a:pt x="3" y="27"/>
                    </a:lnTo>
                    <a:lnTo>
                      <a:pt x="3" y="23"/>
                    </a:lnTo>
                    <a:lnTo>
                      <a:pt x="5" y="17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7"/>
                    </a:lnTo>
                    <a:lnTo>
                      <a:pt x="63" y="23"/>
                    </a:lnTo>
                    <a:lnTo>
                      <a:pt x="63" y="27"/>
                    </a:lnTo>
                    <a:lnTo>
                      <a:pt x="65" y="33"/>
                    </a:lnTo>
                    <a:lnTo>
                      <a:pt x="65" y="182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5" y="198"/>
                    </a:lnTo>
                    <a:lnTo>
                      <a:pt x="3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3"/>
                    </a:lnTo>
                    <a:lnTo>
                      <a:pt x="3" y="33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5827320" y="6178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5827320" y="6418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5083200" y="41497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6000840" y="4691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6035400" y="469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6063840" y="469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>
                <a:off x="6157800" y="4665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6192360" y="4665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>
                <a:off x="6221160" y="4665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6249960" y="4665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6111360" y="4716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6127560" y="4716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>
                <a:off x="6160680" y="4716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>
                <a:off x="6186240" y="4716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6215040" y="4716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>
                <a:off x="6227280" y="4716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>
                <a:off x="4749840" y="523548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>
                <a:off x="4778280" y="5014800"/>
                <a:ext cx="30168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90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>
                <a:off x="4778280" y="5014800"/>
                <a:ext cx="30168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90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>
                <a:off x="5079960" y="5018040"/>
                <a:ext cx="301680" cy="623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>
                <a:off x="5079960" y="5018040"/>
                <a:ext cx="301680" cy="62388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 flipH="1">
                <a:off x="4564080" y="5087880"/>
                <a:ext cx="19512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 flipH="1">
                <a:off x="5769000" y="5610240"/>
                <a:ext cx="619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5324400" y="5952960"/>
                <a:ext cx="1954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>
                <a:off x="5868720" y="5578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>
                <a:off x="6029280" y="5059440"/>
                <a:ext cx="333360" cy="541440"/>
              </a:xfrm>
              <a:custGeom>
                <a:avLst/>
                <a:gdLst/>
                <a:ahLst/>
                <a:rect l="l" t="t" r="r" b="b"/>
                <a:pathLst>
                  <a:path w="210" h="341">
                    <a:moveTo>
                      <a:pt x="0" y="0"/>
                    </a:moveTo>
                    <a:lnTo>
                      <a:pt x="0" y="139"/>
                    </a:lnTo>
                    <a:lnTo>
                      <a:pt x="34" y="172"/>
                    </a:lnTo>
                    <a:lnTo>
                      <a:pt x="0" y="204"/>
                    </a:lnTo>
                    <a:lnTo>
                      <a:pt x="0" y="341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>
                <a:off x="6029280" y="5059440"/>
                <a:ext cx="333360" cy="541440"/>
              </a:xfrm>
              <a:custGeom>
                <a:avLst/>
                <a:gdLst/>
                <a:ahLst/>
                <a:rect l="l" t="t" r="r" b="b"/>
                <a:pathLst>
                  <a:path w="210" h="341">
                    <a:moveTo>
                      <a:pt x="0" y="0"/>
                    </a:moveTo>
                    <a:lnTo>
                      <a:pt x="0" y="139"/>
                    </a:lnTo>
                    <a:lnTo>
                      <a:pt x="34" y="172"/>
                    </a:lnTo>
                    <a:lnTo>
                      <a:pt x="0" y="204"/>
                    </a:lnTo>
                    <a:lnTo>
                      <a:pt x="0" y="341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6249960" y="5316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6284520" y="531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6313320" y="5316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6356520" y="5316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6208200" y="5367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622728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6256080" y="5367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628128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6313320" y="5367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6324120" y="5367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>
                <a:off x="6362640" y="5261040"/>
                <a:ext cx="214200" cy="1440"/>
              </a:xfrm>
              <a:prstGeom prst="line">
                <a:avLst/>
              </a:prstGeom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>
                <a:off x="6570720" y="52484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6236640" y="523224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6268680" y="5232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6300360" y="5232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6316200" y="5232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4564080" y="5248440"/>
                <a:ext cx="19512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5510160" y="53578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 flipH="1">
                <a:off x="5381280" y="5370480"/>
                <a:ext cx="1350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5686560" y="4751280"/>
                <a:ext cx="166680" cy="263520"/>
              </a:xfrm>
              <a:custGeom>
                <a:avLst/>
                <a:gdLst/>
                <a:ahLst/>
                <a:rect l="l" t="t" r="r" b="b"/>
                <a:pathLst>
                  <a:path w="105" h="166">
                    <a:moveTo>
                      <a:pt x="52" y="164"/>
                    </a:moveTo>
                    <a:lnTo>
                      <a:pt x="60" y="164"/>
                    </a:lnTo>
                    <a:lnTo>
                      <a:pt x="68" y="162"/>
                    </a:lnTo>
                    <a:lnTo>
                      <a:pt x="76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5" y="131"/>
                    </a:lnTo>
                    <a:lnTo>
                      <a:pt x="99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5" y="83"/>
                    </a:lnTo>
                    <a:lnTo>
                      <a:pt x="103" y="69"/>
                    </a:lnTo>
                    <a:lnTo>
                      <a:pt x="101" y="57"/>
                    </a:lnTo>
                    <a:lnTo>
                      <a:pt x="99" y="45"/>
                    </a:lnTo>
                    <a:lnTo>
                      <a:pt x="95" y="32"/>
                    </a:lnTo>
                    <a:lnTo>
                      <a:pt x="89" y="24"/>
                    </a:lnTo>
                    <a:lnTo>
                      <a:pt x="83" y="14"/>
                    </a:lnTo>
                    <a:lnTo>
                      <a:pt x="76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2" y="0"/>
                    </a:lnTo>
                    <a:lnTo>
                      <a:pt x="44" y="0"/>
                    </a:lnTo>
                    <a:lnTo>
                      <a:pt x="36" y="4"/>
                    </a:lnTo>
                    <a:lnTo>
                      <a:pt x="28" y="8"/>
                    </a:lnTo>
                    <a:lnTo>
                      <a:pt x="22" y="14"/>
                    </a:lnTo>
                    <a:lnTo>
                      <a:pt x="16" y="24"/>
                    </a:lnTo>
                    <a:lnTo>
                      <a:pt x="10" y="32"/>
                    </a:lnTo>
                    <a:lnTo>
                      <a:pt x="6" y="45"/>
                    </a:lnTo>
                    <a:lnTo>
                      <a:pt x="2" y="57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6" y="119"/>
                    </a:lnTo>
                    <a:lnTo>
                      <a:pt x="10" y="131"/>
                    </a:lnTo>
                    <a:lnTo>
                      <a:pt x="16" y="142"/>
                    </a:lnTo>
                    <a:lnTo>
                      <a:pt x="22" y="150"/>
                    </a:lnTo>
                    <a:lnTo>
                      <a:pt x="28" y="156"/>
                    </a:lnTo>
                    <a:lnTo>
                      <a:pt x="36" y="162"/>
                    </a:lnTo>
                    <a:lnTo>
                      <a:pt x="44" y="164"/>
                    </a:lnTo>
                    <a:lnTo>
                      <a:pt x="52" y="166"/>
                    </a:lnTo>
                    <a:lnTo>
                      <a:pt x="52" y="166"/>
                    </a:lnTo>
                    <a:lnTo>
                      <a:pt x="52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5686560" y="4751280"/>
                <a:ext cx="166680" cy="263520"/>
              </a:xfrm>
              <a:custGeom>
                <a:avLst/>
                <a:gdLst/>
                <a:ahLst/>
                <a:rect l="l" t="t" r="r" b="b"/>
                <a:pathLst>
                  <a:path w="105" h="166">
                    <a:moveTo>
                      <a:pt x="52" y="164"/>
                    </a:moveTo>
                    <a:lnTo>
                      <a:pt x="60" y="164"/>
                    </a:lnTo>
                    <a:lnTo>
                      <a:pt x="68" y="162"/>
                    </a:lnTo>
                    <a:lnTo>
                      <a:pt x="76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5" y="131"/>
                    </a:lnTo>
                    <a:lnTo>
                      <a:pt x="99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5" y="83"/>
                    </a:lnTo>
                    <a:lnTo>
                      <a:pt x="103" y="69"/>
                    </a:lnTo>
                    <a:lnTo>
                      <a:pt x="101" y="57"/>
                    </a:lnTo>
                    <a:lnTo>
                      <a:pt x="99" y="45"/>
                    </a:lnTo>
                    <a:lnTo>
                      <a:pt x="95" y="32"/>
                    </a:lnTo>
                    <a:lnTo>
                      <a:pt x="89" y="24"/>
                    </a:lnTo>
                    <a:lnTo>
                      <a:pt x="83" y="14"/>
                    </a:lnTo>
                    <a:lnTo>
                      <a:pt x="76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2" y="0"/>
                    </a:lnTo>
                    <a:lnTo>
                      <a:pt x="44" y="0"/>
                    </a:lnTo>
                    <a:lnTo>
                      <a:pt x="36" y="4"/>
                    </a:lnTo>
                    <a:lnTo>
                      <a:pt x="28" y="8"/>
                    </a:lnTo>
                    <a:lnTo>
                      <a:pt x="22" y="14"/>
                    </a:lnTo>
                    <a:lnTo>
                      <a:pt x="16" y="24"/>
                    </a:lnTo>
                    <a:lnTo>
                      <a:pt x="10" y="32"/>
                    </a:lnTo>
                    <a:lnTo>
                      <a:pt x="6" y="45"/>
                    </a:lnTo>
                    <a:lnTo>
                      <a:pt x="2" y="57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6" y="119"/>
                    </a:lnTo>
                    <a:lnTo>
                      <a:pt x="10" y="131"/>
                    </a:lnTo>
                    <a:lnTo>
                      <a:pt x="16" y="142"/>
                    </a:lnTo>
                    <a:lnTo>
                      <a:pt x="22" y="150"/>
                    </a:lnTo>
                    <a:lnTo>
                      <a:pt x="28" y="156"/>
                    </a:lnTo>
                    <a:lnTo>
                      <a:pt x="36" y="162"/>
                    </a:lnTo>
                    <a:lnTo>
                      <a:pt x="44" y="164"/>
                    </a:lnTo>
                    <a:lnTo>
                      <a:pt x="52" y="166"/>
                    </a:lnTo>
                    <a:lnTo>
                      <a:pt x="52" y="16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6006960" y="5896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6041520" y="589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6070680" y="5896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6108840" y="58960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5970240" y="5961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>
                <a:off x="599724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602568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6054120" y="5961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6069960" y="5961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608940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>
                <a:off x="6118200" y="5961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5923080" y="59403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4551480" y="531504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0" y="19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4551480" y="50752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4551480" y="523548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5711760" y="4819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5746320" y="481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5775480" y="4819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5787360" y="4819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5803200" y="4819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5818320" y="48196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5705640" y="48862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5714640" y="4886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5746320" y="4886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5758920" y="4886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>
                <a:off x="5774760" y="4886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>
                <a:off x="5787720" y="4886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 rot="16200000">
                <a:off x="4982040" y="48996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 rot="16200000">
                <a:off x="4988160" y="486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 rot="16200000">
                <a:off x="4988160" y="483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 rot="16200000">
                <a:off x="4973760" y="47901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 rot="16200000">
                <a:off x="4996440" y="47635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 rot="16200000">
                <a:off x="5001120" y="47520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 rot="16200000">
                <a:off x="4998960" y="4736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 rot="16200000">
                <a:off x="4988160" y="471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5114880" y="3930480"/>
                <a:ext cx="22212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9"/>
                    </a:lnTo>
                    <a:lnTo>
                      <a:pt x="111" y="267"/>
                    </a:lnTo>
                    <a:lnTo>
                      <a:pt x="120" y="253"/>
                    </a:lnTo>
                    <a:lnTo>
                      <a:pt x="126" y="235"/>
                    </a:lnTo>
                    <a:lnTo>
                      <a:pt x="132" y="216"/>
                    </a:lnTo>
                    <a:lnTo>
                      <a:pt x="136" y="194"/>
                    </a:lnTo>
                    <a:lnTo>
                      <a:pt x="138" y="172"/>
                    </a:lnTo>
                    <a:lnTo>
                      <a:pt x="140" y="148"/>
                    </a:lnTo>
                    <a:lnTo>
                      <a:pt x="138" y="124"/>
                    </a:lnTo>
                    <a:lnTo>
                      <a:pt x="136" y="101"/>
                    </a:lnTo>
                    <a:lnTo>
                      <a:pt x="132" y="81"/>
                    </a:lnTo>
                    <a:lnTo>
                      <a:pt x="126" y="61"/>
                    </a:lnTo>
                    <a:lnTo>
                      <a:pt x="120" y="45"/>
                    </a:lnTo>
                    <a:lnTo>
                      <a:pt x="111" y="29"/>
                    </a:lnTo>
                    <a:lnTo>
                      <a:pt x="101" y="17"/>
                    </a:lnTo>
                    <a:lnTo>
                      <a:pt x="91" y="9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9"/>
                    </a:lnTo>
                    <a:lnTo>
                      <a:pt x="39" y="17"/>
                    </a:lnTo>
                    <a:lnTo>
                      <a:pt x="29" y="29"/>
                    </a:lnTo>
                    <a:lnTo>
                      <a:pt x="21" y="45"/>
                    </a:lnTo>
                    <a:lnTo>
                      <a:pt x="15" y="61"/>
                    </a:lnTo>
                    <a:lnTo>
                      <a:pt x="9" y="81"/>
                    </a:lnTo>
                    <a:lnTo>
                      <a:pt x="4" y="101"/>
                    </a:lnTo>
                    <a:lnTo>
                      <a:pt x="2" y="124"/>
                    </a:lnTo>
                    <a:lnTo>
                      <a:pt x="0" y="148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9" y="216"/>
                    </a:lnTo>
                    <a:lnTo>
                      <a:pt x="15" y="235"/>
                    </a:lnTo>
                    <a:lnTo>
                      <a:pt x="21" y="253"/>
                    </a:lnTo>
                    <a:lnTo>
                      <a:pt x="29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5114880" y="3930480"/>
                <a:ext cx="22212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9"/>
                    </a:lnTo>
                    <a:lnTo>
                      <a:pt x="111" y="267"/>
                    </a:lnTo>
                    <a:lnTo>
                      <a:pt x="120" y="253"/>
                    </a:lnTo>
                    <a:lnTo>
                      <a:pt x="126" y="235"/>
                    </a:lnTo>
                    <a:lnTo>
                      <a:pt x="132" y="216"/>
                    </a:lnTo>
                    <a:lnTo>
                      <a:pt x="136" y="194"/>
                    </a:lnTo>
                    <a:lnTo>
                      <a:pt x="138" y="172"/>
                    </a:lnTo>
                    <a:lnTo>
                      <a:pt x="140" y="148"/>
                    </a:lnTo>
                    <a:lnTo>
                      <a:pt x="138" y="124"/>
                    </a:lnTo>
                    <a:lnTo>
                      <a:pt x="136" y="101"/>
                    </a:lnTo>
                    <a:lnTo>
                      <a:pt x="132" y="81"/>
                    </a:lnTo>
                    <a:lnTo>
                      <a:pt x="126" y="61"/>
                    </a:lnTo>
                    <a:lnTo>
                      <a:pt x="120" y="45"/>
                    </a:lnTo>
                    <a:lnTo>
                      <a:pt x="111" y="29"/>
                    </a:lnTo>
                    <a:lnTo>
                      <a:pt x="101" y="17"/>
                    </a:lnTo>
                    <a:lnTo>
                      <a:pt x="91" y="9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9"/>
                    </a:lnTo>
                    <a:lnTo>
                      <a:pt x="39" y="17"/>
                    </a:lnTo>
                    <a:lnTo>
                      <a:pt x="29" y="29"/>
                    </a:lnTo>
                    <a:lnTo>
                      <a:pt x="21" y="45"/>
                    </a:lnTo>
                    <a:lnTo>
                      <a:pt x="15" y="61"/>
                    </a:lnTo>
                    <a:lnTo>
                      <a:pt x="9" y="81"/>
                    </a:lnTo>
                    <a:lnTo>
                      <a:pt x="4" y="101"/>
                    </a:lnTo>
                    <a:lnTo>
                      <a:pt x="2" y="124"/>
                    </a:lnTo>
                    <a:lnTo>
                      <a:pt x="0" y="148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9" y="216"/>
                    </a:lnTo>
                    <a:lnTo>
                      <a:pt x="15" y="235"/>
                    </a:lnTo>
                    <a:lnTo>
                      <a:pt x="21" y="253"/>
                    </a:lnTo>
                    <a:lnTo>
                      <a:pt x="29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5769000" y="5011560"/>
                <a:ext cx="1440" cy="9446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 flipH="1">
                <a:off x="5852880" y="4879800"/>
                <a:ext cx="507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5756400" y="559764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5756400" y="59403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 flipH="1">
                <a:off x="5648400" y="6446880"/>
                <a:ext cx="1396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 flipH="1">
                <a:off x="5648400" y="6207120"/>
                <a:ext cx="1396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2" name=""/>
            <p:cNvGrpSpPr/>
            <p:nvPr/>
          </p:nvGrpSpPr>
          <p:grpSpPr>
            <a:xfrm>
              <a:off x="3336840" y="3460680"/>
              <a:ext cx="5017320" cy="3316320"/>
              <a:chOff x="3336840" y="3460680"/>
              <a:chExt cx="5017320" cy="3316320"/>
            </a:xfrm>
          </p:grpSpPr>
          <p:sp>
            <p:nvSpPr>
              <p:cNvPr id="6433" name=""/>
              <p:cNvSpPr/>
              <p:nvPr/>
            </p:nvSpPr>
            <p:spPr>
              <a:xfrm>
                <a:off x="4443480" y="5329080"/>
                <a:ext cx="1206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4305240" y="531504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4255920" y="5329080"/>
                <a:ext cx="590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5510160" y="51562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 flipH="1">
                <a:off x="5648400" y="5168880"/>
                <a:ext cx="3585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 flipH="1">
                <a:off x="5381280" y="5168880"/>
                <a:ext cx="1350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5510160" y="59403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5510160" y="61945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5510160" y="64342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5510160" y="43322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5510160" y="4149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5510160" y="397044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6630480" y="4316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6614640" y="4133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6667560" y="4133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6570720" y="426420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6570720" y="4084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5510160" y="4546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6570720" y="63118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5907240" y="6327720"/>
                <a:ext cx="67284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6570720" y="5386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 flipH="1">
                <a:off x="6708600" y="5398920"/>
                <a:ext cx="60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 flipH="1">
                <a:off x="6362280" y="5398920"/>
                <a:ext cx="2142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6570720" y="56847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 flipH="1">
                <a:off x="6708240" y="5697360"/>
                <a:ext cx="1796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5708520" y="5370480"/>
                <a:ext cx="868320" cy="330120"/>
              </a:xfrm>
              <a:custGeom>
                <a:avLst/>
                <a:gdLst/>
                <a:ahLst/>
                <a:rect l="l" t="t" r="r" b="b"/>
                <a:pathLst>
                  <a:path w="547" h="208">
                    <a:moveTo>
                      <a:pt x="547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7599240" y="4264200"/>
                <a:ext cx="2880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7599240" y="538632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 flipH="1">
                <a:off x="7737480" y="5398920"/>
                <a:ext cx="1173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7599240" y="586116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7737480" y="5635800"/>
                <a:ext cx="117360" cy="237960"/>
              </a:xfrm>
              <a:custGeom>
                <a:avLst/>
                <a:gdLst/>
                <a:ahLst/>
                <a:rect l="l" t="t" r="r" b="b"/>
                <a:pathLst>
                  <a:path w="74" h="150">
                    <a:moveTo>
                      <a:pt x="74" y="0"/>
                    </a:moveTo>
                    <a:lnTo>
                      <a:pt x="38" y="2"/>
                    </a:lnTo>
                    <a:lnTo>
                      <a:pt x="38" y="150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7599240" y="63118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6708600" y="6327720"/>
                <a:ext cx="900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4305240" y="4546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 flipH="1">
                <a:off x="4443120" y="4559400"/>
                <a:ext cx="10731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 flipH="1">
                <a:off x="4041720" y="4559400"/>
                <a:ext cx="2700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3875040" y="38512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3875040" y="40910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3767040" y="3867120"/>
                <a:ext cx="358920" cy="695520"/>
              </a:xfrm>
              <a:custGeom>
                <a:avLst/>
                <a:gdLst/>
                <a:ahLst/>
                <a:rect l="l" t="t" r="r" b="b"/>
                <a:pathLst>
                  <a:path w="226" h="438">
                    <a:moveTo>
                      <a:pt x="76" y="0"/>
                    </a:moveTo>
                    <a:lnTo>
                      <a:pt x="0" y="0"/>
                    </a:lnTo>
                    <a:lnTo>
                      <a:pt x="0" y="246"/>
                    </a:lnTo>
                    <a:lnTo>
                      <a:pt x="226" y="246"/>
                    </a:lnTo>
                    <a:lnTo>
                      <a:pt x="226" y="43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3336840" y="3778200"/>
                <a:ext cx="727200" cy="1351080"/>
              </a:xfrm>
              <a:custGeom>
                <a:avLst/>
                <a:gdLst/>
                <a:ahLst/>
                <a:rect l="l" t="t" r="r" b="b"/>
                <a:pathLst>
                  <a:path w="458" h="851">
                    <a:moveTo>
                      <a:pt x="36" y="851"/>
                    </a:moveTo>
                    <a:lnTo>
                      <a:pt x="0" y="851"/>
                    </a:lnTo>
                    <a:lnTo>
                      <a:pt x="0" y="0"/>
                    </a:lnTo>
                    <a:lnTo>
                      <a:pt x="458" y="0"/>
                    </a:lnTo>
                    <a:lnTo>
                      <a:pt x="458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3827520" y="3697200"/>
                <a:ext cx="3211560" cy="1025640"/>
              </a:xfrm>
              <a:custGeom>
                <a:avLst/>
                <a:gdLst/>
                <a:ahLst/>
                <a:rect l="l" t="t" r="r" b="b"/>
                <a:pathLst>
                  <a:path w="2023" h="646">
                    <a:moveTo>
                      <a:pt x="1815" y="644"/>
                    </a:moveTo>
                    <a:lnTo>
                      <a:pt x="2023" y="646"/>
                    </a:lnTo>
                    <a:lnTo>
                      <a:pt x="2023" y="0"/>
                    </a:lnTo>
                    <a:lnTo>
                      <a:pt x="226" y="0"/>
                    </a:lnTo>
                    <a:lnTo>
                      <a:pt x="226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38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4387680" y="3460680"/>
                <a:ext cx="3240" cy="97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 flipV="1">
                <a:off x="4387680" y="6497640"/>
                <a:ext cx="32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 rot="16200000">
                <a:off x="4505400" y="524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 rot="16200000">
                <a:off x="4494600" y="5215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 rot="16200000">
                <a:off x="4496760" y="5189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 rot="16200000">
                <a:off x="4505400" y="5172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 rot="16200000">
                <a:off x="4502880" y="5154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 rot="16200000">
                <a:off x="4494600" y="5126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 rot="16200000">
                <a:off x="4496760" y="5100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 rot="16200000">
                <a:off x="4505400" y="5082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 rot="16200000">
                <a:off x="4507560" y="5068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 rot="16200000">
                <a:off x="4494600" y="5042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 rot="16200000">
                <a:off x="4494600" y="501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4334040" y="3807000"/>
                <a:ext cx="115560" cy="5688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433008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4345920" y="380700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437760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439344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4406760" y="3807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5592600" y="3460680"/>
                <a:ext cx="3240" cy="43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 flipV="1">
                <a:off x="5592600" y="6497640"/>
                <a:ext cx="32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5535720" y="3807000"/>
                <a:ext cx="11880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5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6653160" y="3460680"/>
                <a:ext cx="3240" cy="61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 flipV="1">
                <a:off x="6653160" y="6497640"/>
                <a:ext cx="32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6595920" y="3807000"/>
                <a:ext cx="11916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3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655164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658980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662400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6636600" y="3807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668340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6717600" y="3807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7682040" y="3460680"/>
                <a:ext cx="2880" cy="79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 flipV="1">
                <a:off x="7682040" y="6497640"/>
                <a:ext cx="288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552564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5541840" y="3807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557964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559260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562752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44157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4443480" y="34686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45093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453492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456048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46126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46382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466380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4717440" y="3468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474660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480168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485604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5621400" y="3468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5683320" y="3468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57430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577152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579708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58492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58748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590040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5951160" y="3468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598464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603864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608940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6682680" y="34686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6759720" y="3468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6819480" y="34686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690012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69256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695124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700200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705456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71049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713376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718632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723708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72874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73130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73382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73652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739080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74192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744480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7708680" y="34686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7797960" y="3468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78573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78843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791352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7963920" y="3468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79923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802116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807372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812448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81748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82018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82274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82526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827820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83066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833220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7624800" y="3807000"/>
                <a:ext cx="11916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3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7570080" y="3807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761508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7649640" y="3807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769572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7711560" y="38070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776304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33616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3386880" y="346860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344592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347112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349704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35474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357300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360000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3650760" y="3468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368280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373680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378900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535572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538452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541296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5355720" y="391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5384520" y="391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5355720" y="427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5384520" y="427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5412960" y="427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5444640" y="427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567324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570204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573372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5673240" y="391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5702040" y="391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567324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570204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5673240" y="421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5673240" y="43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673380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676224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673380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6733800" y="421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6733800" y="43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7762680" y="423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7762680" y="4316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5592600" y="4433760"/>
                <a:ext cx="5580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5592600" y="4433760"/>
                <a:ext cx="5580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554184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554184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6653160" y="4433760"/>
                <a:ext cx="5544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6653160" y="4433760"/>
                <a:ext cx="5544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660240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660240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3903840" y="3819600"/>
                <a:ext cx="102960" cy="336600"/>
              </a:xfrm>
              <a:custGeom>
                <a:avLst/>
                <a:gdLst/>
                <a:ahLst/>
                <a:rect l="l" t="t" r="r" b="b"/>
                <a:pathLst>
                  <a:path w="65" h="212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1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5" y="26"/>
                    </a:lnTo>
                    <a:lnTo>
                      <a:pt x="65" y="30"/>
                    </a:lnTo>
                    <a:lnTo>
                      <a:pt x="65" y="181"/>
                    </a:lnTo>
                    <a:lnTo>
                      <a:pt x="65" y="185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1" y="206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2"/>
                    </a:lnTo>
                    <a:lnTo>
                      <a:pt x="33" y="212"/>
                    </a:lnTo>
                    <a:lnTo>
                      <a:pt x="29" y="212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5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3903840" y="3819600"/>
                <a:ext cx="102960" cy="336600"/>
              </a:xfrm>
              <a:custGeom>
                <a:avLst/>
                <a:gdLst/>
                <a:ahLst/>
                <a:rect l="l" t="t" r="r" b="b"/>
                <a:pathLst>
                  <a:path w="65" h="212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1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5" y="26"/>
                    </a:lnTo>
                    <a:lnTo>
                      <a:pt x="65" y="30"/>
                    </a:lnTo>
                    <a:lnTo>
                      <a:pt x="65" y="181"/>
                    </a:lnTo>
                    <a:lnTo>
                      <a:pt x="65" y="185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1" y="206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2"/>
                    </a:lnTo>
                    <a:lnTo>
                      <a:pt x="33" y="212"/>
                    </a:lnTo>
                    <a:lnTo>
                      <a:pt x="29" y="212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5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3930120" y="3903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3975120" y="39038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3939840" y="395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3971880" y="3957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3939840" y="4008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3922200" y="3835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3922200" y="4076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3" name=""/>
            <p:cNvGrpSpPr/>
            <p:nvPr/>
          </p:nvGrpSpPr>
          <p:grpSpPr>
            <a:xfrm>
              <a:off x="3430440" y="793800"/>
              <a:ext cx="4534920" cy="5703840"/>
              <a:chOff x="3430440" y="793800"/>
              <a:chExt cx="4534920" cy="5703840"/>
            </a:xfrm>
          </p:grpSpPr>
          <p:sp>
            <p:nvSpPr>
              <p:cNvPr id="6634" name=""/>
              <p:cNvSpPr/>
              <p:nvPr/>
            </p:nvSpPr>
            <p:spPr>
              <a:xfrm>
                <a:off x="3936960" y="4530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3971520" y="453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4000320" y="453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3430440" y="5097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3465360" y="50976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7894440" y="560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6932160" y="56437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6979680" y="5643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6999120" y="5643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7012800" y="5643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7025760" y="564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7058160" y="56437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6932160" y="56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6960960" y="56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6989040" y="5697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7007040" y="56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7900560" y="5433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7945560" y="5433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7910280" y="5489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7939080" y="5489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7910280" y="5540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789444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7682040" y="4433760"/>
                <a:ext cx="5544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7682040" y="4433760"/>
                <a:ext cx="5544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7631280" y="4433760"/>
                <a:ext cx="5364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7631280" y="4433760"/>
                <a:ext cx="5364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433692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433692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4387680" y="4433760"/>
                <a:ext cx="5580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4387680" y="4433760"/>
                <a:ext cx="5580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5138640" y="4133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5176440" y="41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5205240" y="41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5236560" y="4133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5249520" y="4133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5268600" y="41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5299200" y="4133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4965840" y="5300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500364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503532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5064120" y="5300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5073120" y="5300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5101560" y="5300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511452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5147640" y="5300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5163840" y="5300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5237280" y="511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5275080" y="511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5304960" y="511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5337000" y="511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5365800" y="5114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5205240" y="516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5233680" y="516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265000" y="5165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5277960" y="516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5307840" y="5165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5324040" y="516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5237280" y="53132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5275080" y="531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5304960" y="531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5337000" y="531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5365800" y="53132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520524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523368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5265000" y="5367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527796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5307840" y="5367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532404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4802040" y="5033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4839840" y="50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4871880" y="50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4900320" y="50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4929120" y="5033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4801680" y="5084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4820760" y="508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4849560" y="508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4878360" y="5084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4890600" y="5084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4919040" y="5084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4932000" y="508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4961880" y="5084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4980960" y="5084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4997160" y="508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4802040" y="51944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4839840" y="519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4871880" y="519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4900320" y="519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4929120" y="51944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4801680" y="5245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4820760" y="524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4849560" y="524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4878360" y="5245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4890600" y="5245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4919040" y="5245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4932000" y="524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4961880" y="5245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4980960" y="5245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4997160" y="524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4564080" y="4165560"/>
                <a:ext cx="952560" cy="2281320"/>
              </a:xfrm>
              <a:custGeom>
                <a:avLst/>
                <a:gdLst/>
                <a:ahLst/>
                <a:rect l="l" t="t" r="r" b="b"/>
                <a:pathLst>
                  <a:path w="600" h="1437">
                    <a:moveTo>
                      <a:pt x="600" y="1437"/>
                    </a:moveTo>
                    <a:lnTo>
                      <a:pt x="0" y="1437"/>
                    </a:lnTo>
                    <a:lnTo>
                      <a:pt x="0" y="0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4564080" y="5952960"/>
                <a:ext cx="53172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4564080" y="6207120"/>
                <a:ext cx="9558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4720680" y="607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4736880" y="607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4765320" y="6078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4795200" y="607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4808160" y="6078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4827240" y="607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4855680" y="6078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4880880" y="607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4897440" y="6078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4909680" y="607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4938480" y="607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4968720" y="6078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4720680" y="613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4736880" y="61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4765320" y="61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4798800" y="61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4836600" y="61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4865400" y="61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4896720" y="613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>
                <a:off x="4723920" y="5826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>
                <a:off x="4736880" y="5826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4765320" y="5826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>
                <a:off x="4795200" y="5826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>
                <a:off x="4808160" y="5826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4827240" y="5826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4855680" y="5826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4880880" y="5826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4897440" y="5826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>
                <a:off x="4909680" y="5826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>
                <a:off x="4938480" y="5826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4968720" y="58262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4723920" y="5880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>
                <a:off x="4736880" y="588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>
                <a:off x="4765320" y="588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4798800" y="588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4836600" y="588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>
                <a:off x="4865040" y="5880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>
                <a:off x="5170320" y="5896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5205240" y="5896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5217840" y="589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5246280" y="589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5275440" y="58960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513828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5169960" y="5961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5195160" y="5961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521136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524016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526860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4720680" y="631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4736880" y="63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4765320" y="6319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4795200" y="631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4808160" y="6319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4827240" y="63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4855680" y="6319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4880880" y="631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4897440" y="63198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4909680" y="63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4938480" y="63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4968720" y="63198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4720680" y="6373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>
                <a:off x="4736880" y="637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>
                <a:off x="4765320" y="637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4798800" y="637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4836600" y="637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4865400" y="637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4896720" y="6373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4551480" y="59403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4551480" y="61945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 rot="16200000">
                <a:off x="7147440" y="1690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 rot="16200000">
                <a:off x="7158240" y="1659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 rot="16200000">
                <a:off x="7147440" y="1616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 rot="16200000">
                <a:off x="7143840" y="15660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 rot="16200000">
                <a:off x="7166520" y="1542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 rot="16200000">
                <a:off x="7171200" y="1527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 rot="16200000">
                <a:off x="7169040" y="1513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 rot="16200000">
                <a:off x="7158240" y="14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7236720" y="5918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7278480" y="591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>
                <a:off x="7309800" y="5918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7356600" y="5918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7394400" y="591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7422840" y="591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7451280" y="591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 rot="16200000">
                <a:off x="7147440" y="5064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 rot="16200000">
                <a:off x="7158240" y="5029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 rot="16200000">
                <a:off x="7147440" y="4987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 rot="16200000">
                <a:off x="7143840" y="49410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 rot="16200000">
                <a:off x="7166520" y="4914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 rot="16200000">
                <a:off x="7171200" y="4898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 rot="16200000">
                <a:off x="7169040" y="488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 rot="16200000">
                <a:off x="7158240" y="4860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5667120" y="172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5695560" y="172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 flipH="1">
                <a:off x="4564080" y="1717560"/>
                <a:ext cx="1951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4564080" y="1876320"/>
                <a:ext cx="1951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>
                <a:off x="4443480" y="1957320"/>
                <a:ext cx="1206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>
                <a:off x="4564080" y="793800"/>
                <a:ext cx="952560" cy="2281320"/>
              </a:xfrm>
              <a:custGeom>
                <a:avLst/>
                <a:gdLst/>
                <a:ahLst/>
                <a:rect l="l" t="t" r="r" b="b"/>
                <a:pathLst>
                  <a:path w="600" h="1437">
                    <a:moveTo>
                      <a:pt x="600" y="1437"/>
                    </a:moveTo>
                    <a:lnTo>
                      <a:pt x="0" y="1437"/>
                    </a:lnTo>
                    <a:lnTo>
                      <a:pt x="0" y="0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4336920" y="1063800"/>
                <a:ext cx="106560" cy="2063520"/>
              </a:xfrm>
              <a:custGeom>
                <a:avLst/>
                <a:gdLst/>
                <a:ahLst/>
                <a:rect l="l" t="t" r="r" b="b"/>
                <a:pathLst>
                  <a:path w="67" h="1300">
                    <a:moveTo>
                      <a:pt x="67" y="1298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0"/>
                    </a:lnTo>
                    <a:lnTo>
                      <a:pt x="67" y="1300"/>
                    </a:lnTo>
                    <a:lnTo>
                      <a:pt x="67" y="1300"/>
                    </a:lnTo>
                    <a:lnTo>
                      <a:pt x="67" y="12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4" name=""/>
            <p:cNvGrpSpPr/>
            <p:nvPr/>
          </p:nvGrpSpPr>
          <p:grpSpPr>
            <a:xfrm>
              <a:off x="4113360" y="762120"/>
              <a:ext cx="3922560" cy="5935680"/>
              <a:chOff x="4113360" y="762120"/>
              <a:chExt cx="3922560" cy="5935680"/>
            </a:xfrm>
          </p:grpSpPr>
          <p:sp>
            <p:nvSpPr>
              <p:cNvPr id="6835" name=""/>
              <p:cNvSpPr/>
              <p:nvPr/>
            </p:nvSpPr>
            <p:spPr>
              <a:xfrm>
                <a:off x="4336920" y="1063800"/>
                <a:ext cx="106560" cy="2063520"/>
              </a:xfrm>
              <a:custGeom>
                <a:avLst/>
                <a:gdLst/>
                <a:ahLst/>
                <a:rect l="l" t="t" r="r" b="b"/>
                <a:pathLst>
                  <a:path w="67" h="1300">
                    <a:moveTo>
                      <a:pt x="67" y="1298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0"/>
                    </a:lnTo>
                    <a:lnTo>
                      <a:pt x="67" y="1300"/>
                    </a:lnTo>
                    <a:lnTo>
                      <a:pt x="67" y="130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 flipH="1">
                <a:off x="5648400" y="1797120"/>
                <a:ext cx="3585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 flipH="1">
                <a:off x="6362280" y="2027160"/>
                <a:ext cx="214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5769000" y="2236680"/>
                <a:ext cx="1440" cy="3463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5648400" y="2583000"/>
                <a:ext cx="120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5765760" y="2583000"/>
                <a:ext cx="166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>
                <a:off x="5833440" y="2874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>
                <a:off x="5878440" y="2874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>
                <a:off x="5843160" y="292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5872320" y="2925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5843160" y="2979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5827320" y="2806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5874840" y="2035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>
                <a:off x="5919840" y="2035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5884560" y="2089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5913360" y="2089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5884560" y="2143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5868720" y="220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6080040" y="2822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6114600" y="282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6146640" y="28224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6185880" y="282240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6227280" y="282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5884920" y="3130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5922720" y="3130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5951160" y="3130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5985000" y="3130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6022440" y="3130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6047640" y="3130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6006960" y="25225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6041520" y="2522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6070680" y="2522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6108840" y="25225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5970240" y="2589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599724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602568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6054120" y="2589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6069960" y="2589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608940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6118200" y="2589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6602400" y="1063800"/>
                <a:ext cx="54000" cy="206352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6602400" y="1063800"/>
                <a:ext cx="54000" cy="206352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6653160" y="1063800"/>
                <a:ext cx="55440" cy="206352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298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29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6653160" y="1063800"/>
                <a:ext cx="55440" cy="206352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298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6630480" y="941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6614640" y="7621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6667560" y="762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5833440" y="6245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5878440" y="6245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5843160" y="629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5872320" y="6296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5843160" y="6351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5874840" y="5405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5919840" y="54054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5884560" y="546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5913360" y="5460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5884560" y="5514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6095880" y="5300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613044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6161040" y="5300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 flipH="1">
                <a:off x="5648040" y="5370480"/>
                <a:ext cx="1825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5695920" y="535788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7365960" y="5342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7403760" y="534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7435440" y="534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7464240" y="534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7493040" y="53420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7381440" y="539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7413120" y="539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7441560" y="5396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7454520" y="539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6730560" y="62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6759360" y="62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 flipH="1">
                <a:off x="7511760" y="5398920"/>
                <a:ext cx="903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7643520" y="4316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7696080" y="4316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6730560" y="2884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6759360" y="2884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7759440" y="2884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7787880" y="2884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4582800" y="196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4613040" y="196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5667120" y="192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5695560" y="192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566712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569556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4683240" y="2146320"/>
                <a:ext cx="3352680" cy="1179360"/>
              </a:xfrm>
              <a:custGeom>
                <a:avLst/>
                <a:gdLst/>
                <a:ahLst/>
                <a:rect l="l" t="t" r="r" b="b"/>
                <a:pathLst>
                  <a:path w="2112" h="743">
                    <a:moveTo>
                      <a:pt x="48" y="32"/>
                    </a:moveTo>
                    <a:lnTo>
                      <a:pt x="0" y="32"/>
                    </a:lnTo>
                    <a:lnTo>
                      <a:pt x="0" y="743"/>
                    </a:lnTo>
                    <a:lnTo>
                      <a:pt x="2112" y="743"/>
                    </a:lnTo>
                    <a:lnTo>
                      <a:pt x="2112" y="0"/>
                    </a:lnTo>
                    <a:lnTo>
                      <a:pt x="207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4503600" y="2036880"/>
                <a:ext cx="3294360" cy="1231920"/>
              </a:xfrm>
              <a:custGeom>
                <a:avLst/>
                <a:gdLst/>
                <a:ahLst/>
                <a:rect l="l" t="t" r="r" b="b"/>
                <a:pathLst>
                  <a:path w="2075" h="776">
                    <a:moveTo>
                      <a:pt x="2037" y="578"/>
                    </a:moveTo>
                    <a:lnTo>
                      <a:pt x="2075" y="580"/>
                    </a:lnTo>
                    <a:lnTo>
                      <a:pt x="2075" y="776"/>
                    </a:lnTo>
                    <a:lnTo>
                      <a:pt x="0" y="776"/>
                    </a:lnTo>
                    <a:lnTo>
                      <a:pt x="0" y="0"/>
                    </a:lnTo>
                    <a:lnTo>
                      <a:pt x="16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5756400" y="25700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5695920" y="19861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5756400" y="222732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 flipH="1">
                <a:off x="6708600" y="2027160"/>
                <a:ext cx="60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6769080" y="2027160"/>
                <a:ext cx="833400" cy="474840"/>
              </a:xfrm>
              <a:custGeom>
                <a:avLst/>
                <a:gdLst/>
                <a:ahLst/>
                <a:rect l="l" t="t" r="r" b="b"/>
                <a:pathLst>
                  <a:path w="525" h="299">
                    <a:moveTo>
                      <a:pt x="525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7643520" y="941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769608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 rot="16200000">
                <a:off x="7862040" y="1853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 rot="16200000">
                <a:off x="7872840" y="18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 rot="16200000">
                <a:off x="7862040" y="17794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 rot="16200000">
                <a:off x="7883640" y="1756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 rot="16200000">
                <a:off x="7872840" y="173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 rot="16200000">
                <a:off x="7866720" y="1694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 rot="16200000">
                <a:off x="7872840" y="1662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 rot="16200000">
                <a:off x="7872840" y="163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7762680" y="86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7762680" y="94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4582800" y="5335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4613040" y="5335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7759440" y="62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7787880" y="62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4113360" y="45464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4801680" y="53546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4852440" y="5354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4871880" y="5354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4880880" y="5354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4897080" y="53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4925880" y="5354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4801680" y="5405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4820760" y="540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4849560" y="540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4878360" y="5405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4890600" y="5405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4919040" y="5405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4932000" y="540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4961880" y="5405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4801680" y="55148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4852440" y="5514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4871880" y="5514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4880880" y="5514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4897080" y="551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4925880" y="5514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4801680" y="5565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4833720" y="5565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4861800" y="5565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4878000" y="5565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4683240" y="5518080"/>
                <a:ext cx="3352680" cy="1179720"/>
              </a:xfrm>
              <a:custGeom>
                <a:avLst/>
                <a:gdLst/>
                <a:ahLst/>
                <a:rect l="l" t="t" r="r" b="b"/>
                <a:pathLst>
                  <a:path w="2112" h="743">
                    <a:moveTo>
                      <a:pt x="48" y="32"/>
                    </a:moveTo>
                    <a:lnTo>
                      <a:pt x="0" y="34"/>
                    </a:lnTo>
                    <a:lnTo>
                      <a:pt x="0" y="743"/>
                    </a:lnTo>
                    <a:lnTo>
                      <a:pt x="2112" y="743"/>
                    </a:lnTo>
                    <a:lnTo>
                      <a:pt x="2112" y="0"/>
                    </a:lnTo>
                    <a:lnTo>
                      <a:pt x="207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4503600" y="5411880"/>
                <a:ext cx="3294360" cy="1226880"/>
              </a:xfrm>
              <a:custGeom>
                <a:avLst/>
                <a:gdLst/>
                <a:ahLst/>
                <a:rect l="l" t="t" r="r" b="b"/>
                <a:pathLst>
                  <a:path w="2075" h="773">
                    <a:moveTo>
                      <a:pt x="2037" y="577"/>
                    </a:moveTo>
                    <a:lnTo>
                      <a:pt x="2075" y="577"/>
                    </a:lnTo>
                    <a:lnTo>
                      <a:pt x="2075" y="773"/>
                    </a:lnTo>
                    <a:lnTo>
                      <a:pt x="0" y="773"/>
                    </a:lnTo>
                    <a:lnTo>
                      <a:pt x="0" y="0"/>
                    </a:lnTo>
                    <a:lnTo>
                      <a:pt x="16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6769080" y="5398920"/>
                <a:ext cx="833400" cy="474840"/>
              </a:xfrm>
              <a:custGeom>
                <a:avLst/>
                <a:gdLst/>
                <a:ahLst/>
                <a:rect l="l" t="t" r="r" b="b"/>
                <a:pathLst>
                  <a:path w="525" h="299">
                    <a:moveTo>
                      <a:pt x="525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6756480" y="538632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5237280" y="1739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5275080" y="173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5304960" y="173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5337000" y="173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5365800" y="1739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5205240" y="179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5233680" y="179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5265000" y="1793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5277960" y="179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5307840" y="1793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5324040" y="179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5237280" y="1941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5275080" y="194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5304960" y="194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5337000" y="194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5365800" y="1941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520524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523368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5265000" y="1995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527796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5307840" y="1995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532404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4802040" y="1658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483984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487188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490032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4929120" y="1658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4801680" y="1714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4820760" y="171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4849560" y="171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4878360" y="1714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4890600" y="1714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4919040" y="1714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4932000" y="171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4961880" y="1714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4980960" y="1714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4997160" y="171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4802040" y="18194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4839840" y="181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4871880" y="181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4900320" y="181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4929120" y="18194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4801680" y="1874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4820760" y="187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4849560" y="187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4878360" y="1874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4890600" y="1874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4919040" y="187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4932000" y="187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4961880" y="1874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4980960" y="187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4997160" y="187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4551480" y="19447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4551480" y="170352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4551480" y="186372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6236640" y="18622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6268680" y="18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6300360" y="1862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6316200" y="18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6878520" y="201456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 flipH="1">
                <a:off x="6769080" y="2027160"/>
                <a:ext cx="1252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7159680" y="2070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5" name=""/>
            <p:cNvSpPr/>
            <p:nvPr/>
          </p:nvSpPr>
          <p:spPr>
            <a:xfrm>
              <a:off x="7198920" y="2070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7227360" y="20700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7" name=""/>
            <p:cNvSpPr/>
            <p:nvPr/>
          </p:nvSpPr>
          <p:spPr>
            <a:xfrm>
              <a:off x="7243560" y="2070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8" name=""/>
            <p:cNvSpPr/>
            <p:nvPr/>
          </p:nvSpPr>
          <p:spPr>
            <a:xfrm>
              <a:off x="7272360" y="207000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9" name=""/>
            <p:cNvSpPr/>
            <p:nvPr/>
          </p:nvSpPr>
          <p:spPr>
            <a:xfrm>
              <a:off x="7120800" y="21366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0" name=""/>
            <p:cNvSpPr/>
            <p:nvPr/>
          </p:nvSpPr>
          <p:spPr>
            <a:xfrm>
              <a:off x="7165800" y="2136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7195680" y="21366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2" name=""/>
            <p:cNvSpPr/>
            <p:nvPr/>
          </p:nvSpPr>
          <p:spPr>
            <a:xfrm>
              <a:off x="7240320" y="2136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7268760" y="21366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4" name=""/>
            <p:cNvSpPr/>
            <p:nvPr/>
          </p:nvSpPr>
          <p:spPr>
            <a:xfrm>
              <a:off x="7287840" y="21366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6939000" y="19954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6" name=""/>
            <p:cNvSpPr/>
            <p:nvPr/>
          </p:nvSpPr>
          <p:spPr>
            <a:xfrm>
              <a:off x="6973560" y="1995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7007040" y="1995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7035120" y="19954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9" name=""/>
            <p:cNvSpPr/>
            <p:nvPr/>
          </p:nvSpPr>
          <p:spPr>
            <a:xfrm>
              <a:off x="7051320" y="1995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7083000" y="19954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7108560" y="19954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2" name=""/>
            <p:cNvSpPr/>
            <p:nvPr/>
          </p:nvSpPr>
          <p:spPr>
            <a:xfrm>
              <a:off x="6756480" y="20145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16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3" name=""/>
            <p:cNvSpPr/>
            <p:nvPr/>
          </p:nvSpPr>
          <p:spPr>
            <a:xfrm>
              <a:off x="6885000" y="538632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2" y="18"/>
                  </a:lnTo>
                  <a:lnTo>
                    <a:pt x="18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4" name=""/>
            <p:cNvSpPr/>
            <p:nvPr/>
          </p:nvSpPr>
          <p:spPr>
            <a:xfrm flipH="1">
              <a:off x="6768720" y="5398920"/>
              <a:ext cx="128520" cy="180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5" name=""/>
            <p:cNvSpPr/>
            <p:nvPr/>
          </p:nvSpPr>
          <p:spPr>
            <a:xfrm>
              <a:off x="7159680" y="5440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6" name=""/>
            <p:cNvSpPr/>
            <p:nvPr/>
          </p:nvSpPr>
          <p:spPr>
            <a:xfrm>
              <a:off x="7198920" y="5440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7227360" y="54403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7243560" y="5440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7272360" y="544032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0" name=""/>
            <p:cNvSpPr/>
            <p:nvPr/>
          </p:nvSpPr>
          <p:spPr>
            <a:xfrm>
              <a:off x="7120800" y="55087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7165800" y="5508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2" name=""/>
            <p:cNvSpPr/>
            <p:nvPr/>
          </p:nvSpPr>
          <p:spPr>
            <a:xfrm>
              <a:off x="7195680" y="55087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7240320" y="5508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4" name=""/>
            <p:cNvSpPr/>
            <p:nvPr/>
          </p:nvSpPr>
          <p:spPr>
            <a:xfrm>
              <a:off x="7268760" y="550872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7287840" y="55087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6" name=""/>
            <p:cNvSpPr/>
            <p:nvPr/>
          </p:nvSpPr>
          <p:spPr>
            <a:xfrm>
              <a:off x="6939000" y="53672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6973560" y="5367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7007040" y="5367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9" name=""/>
            <p:cNvSpPr/>
            <p:nvPr/>
          </p:nvSpPr>
          <p:spPr>
            <a:xfrm>
              <a:off x="7035120" y="536724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0" name=""/>
            <p:cNvSpPr/>
            <p:nvPr/>
          </p:nvSpPr>
          <p:spPr>
            <a:xfrm>
              <a:off x="7051320" y="5367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7083000" y="53672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7108560" y="53672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6756480" y="538632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16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3727440" y="30495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3805200" y="30495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6" name=""/>
            <p:cNvSpPr/>
            <p:nvPr/>
          </p:nvSpPr>
          <p:spPr>
            <a:xfrm>
              <a:off x="3827160" y="3049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7" name=""/>
            <p:cNvSpPr/>
            <p:nvPr/>
          </p:nvSpPr>
          <p:spPr>
            <a:xfrm>
              <a:off x="3887280" y="3049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8" name=""/>
            <p:cNvSpPr/>
            <p:nvPr/>
          </p:nvSpPr>
          <p:spPr>
            <a:xfrm>
              <a:off x="3943080" y="3049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9" name=""/>
            <p:cNvSpPr/>
            <p:nvPr/>
          </p:nvSpPr>
          <p:spPr>
            <a:xfrm>
              <a:off x="3993480" y="30495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0" name=""/>
            <p:cNvSpPr/>
            <p:nvPr/>
          </p:nvSpPr>
          <p:spPr>
            <a:xfrm>
              <a:off x="4025520" y="3049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1" name=""/>
            <p:cNvSpPr/>
            <p:nvPr/>
          </p:nvSpPr>
          <p:spPr>
            <a:xfrm>
              <a:off x="3727440" y="64371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3805200" y="64371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3" name=""/>
            <p:cNvSpPr/>
            <p:nvPr/>
          </p:nvSpPr>
          <p:spPr>
            <a:xfrm>
              <a:off x="3827160" y="6437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3887280" y="64371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3943080" y="64371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3993480" y="64371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4025520" y="6437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8" name=""/>
          <p:cNvSpPr/>
          <p:nvPr/>
        </p:nvSpPr>
        <p:spPr>
          <a:xfrm>
            <a:off x="442080" y="2541600"/>
            <a:ext cx="196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0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($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1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2, $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and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2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4, $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or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3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6, 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add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4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8, $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11:18Z</dcterms:created>
  <dc:creator>Tod Amon</dc:creator>
  <dc:description/>
  <dc:language>en-US</dc:language>
  <cp:lastModifiedBy>User</cp:lastModifiedBy>
  <cp:lastPrinted>1997-08-29T17:57:02Z</cp:lastPrinted>
  <dcterms:modified xsi:type="dcterms:W3CDTF">2002-05-04T21:01:03Z</dcterms:modified>
  <cp:revision>25</cp:revision>
  <dc:subject/>
  <dc:title>Chapter Six</dc:title>
</cp:coreProperties>
</file>