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B4D-3357-4144-BDBB-334AD9F0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025-DBDB-4FC1-A9C2-3301ABC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A0D-C9C9-4B09-8C89-DE469117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1CE-26D9-4A73-AA2A-906EE9B2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BCF-B75A-41BB-AC0E-264C0BD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FF3-1F17-4306-8947-4A293CA2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614-630E-4187-84FB-8116D85F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0B8-BA9B-45F4-A29A-311B1AB6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E8B-FFAF-4CE9-9B31-B111A8F9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A90-2BFC-4714-955B-A56B9FE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B1E-47A5-4CCB-B7A0-7040D2C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B87-26FC-4F43-A208-22B2CB7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F414-FADF-4F40-AB32-606109A52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00200" y="304920"/>
          <a:ext cx="5343480" cy="58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920"/>
                    <a:ext cx="5343480" cy="58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17840" y="1079640"/>
          <a:ext cx="43718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079640"/>
                    <a:ext cx="4371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17840" y="1079640"/>
          <a:ext cx="382896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079640"/>
                    <a:ext cx="382896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517840" y="1079640"/>
          <a:ext cx="383688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079640"/>
                    <a:ext cx="383688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517840" y="1079640"/>
          <a:ext cx="6276960" cy="45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079640"/>
                    <a:ext cx="627696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04:18:13Z</dcterms:created>
  <dc:creator>Luciano Antonio Digiampietri</dc:creator>
  <dc:description/>
  <dc:language>en-US</dc:language>
  <cp:lastModifiedBy>Luciano Antonio Digiampietri</cp:lastModifiedBy>
  <dcterms:modified xsi:type="dcterms:W3CDTF">2002-05-01T04:18:37Z</dcterms:modified>
  <cp:revision>1</cp:revision>
  <dc:subject/>
  <dc:title>Apresentação do PowerPoint</dc:title>
</cp:coreProperties>
</file>