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36200" y="655308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8-</a:t>
            </a:r>
            <a:fld id="{3F35B4B7-0EDD-424A-811D-1B2AA9838DF6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96440" y="3910680"/>
            <a:ext cx="6351120" cy="63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15440" y="1798560"/>
            <a:ext cx="5908680" cy="2722680"/>
            <a:chOff x="415440" y="1798560"/>
            <a:chExt cx="5908680" cy="2722680"/>
          </a:xfrm>
        </p:grpSpPr>
        <p:sp>
          <p:nvSpPr>
            <p:cNvPr id="427" name=""/>
            <p:cNvSpPr/>
            <p:nvPr/>
          </p:nvSpPr>
          <p:spPr>
            <a:xfrm>
              <a:off x="1730880" y="365256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362448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24040" y="3481560"/>
              <a:ext cx="335412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2640" y="3914640"/>
              <a:ext cx="207360" cy="4687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0" y="217"/>
                  </a:moveTo>
                  <a:lnTo>
                    <a:pt x="15" y="217"/>
                  </a:lnTo>
                  <a:lnTo>
                    <a:pt x="31" y="215"/>
                  </a:lnTo>
                  <a:lnTo>
                    <a:pt x="44" y="215"/>
                  </a:lnTo>
                  <a:lnTo>
                    <a:pt x="58" y="211"/>
                  </a:lnTo>
                  <a:lnTo>
                    <a:pt x="69" y="209"/>
                  </a:lnTo>
                  <a:lnTo>
                    <a:pt x="79" y="208"/>
                  </a:lnTo>
                  <a:lnTo>
                    <a:pt x="86" y="204"/>
                  </a:lnTo>
                  <a:lnTo>
                    <a:pt x="92" y="200"/>
                  </a:lnTo>
                  <a:lnTo>
                    <a:pt x="94" y="196"/>
                  </a:lnTo>
                  <a:lnTo>
                    <a:pt x="96" y="192"/>
                  </a:lnTo>
                  <a:lnTo>
                    <a:pt x="96" y="25"/>
                  </a:lnTo>
                  <a:lnTo>
                    <a:pt x="94" y="21"/>
                  </a:lnTo>
                  <a:lnTo>
                    <a:pt x="92" y="17"/>
                  </a:lnTo>
                  <a:lnTo>
                    <a:pt x="86" y="14"/>
                  </a:lnTo>
                  <a:lnTo>
                    <a:pt x="79" y="12"/>
                  </a:lnTo>
                  <a:lnTo>
                    <a:pt x="69" y="8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5280" y="2481840"/>
              <a:ext cx="41472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5280" y="2432160"/>
              <a:ext cx="41472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30880" y="217044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196704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30880" y="1999440"/>
              <a:ext cx="334728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6520" y="2135880"/>
              <a:ext cx="7128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316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7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9360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116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656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228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7840" y="2090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82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4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1384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1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5892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3020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97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760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41600" y="217440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7400" y="213588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18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1320" y="21358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34240" y="2481840"/>
              <a:ext cx="41508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34240" y="2432160"/>
              <a:ext cx="41508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0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3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89440" y="17985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844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36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4180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9960" y="1798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072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524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3836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616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352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80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18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440" y="179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65040" y="224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40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712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068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304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9444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576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38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376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07200" y="224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120" y="2767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00480" y="2767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346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994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7076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97840" y="3572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82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34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1384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1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892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3020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7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760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41600" y="365652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7400" y="3624480"/>
              <a:ext cx="6660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6" y="30"/>
                  </a:moveTo>
                  <a:lnTo>
                    <a:pt x="18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1320" y="3624480"/>
              <a:ext cx="7092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4240" y="3968280"/>
              <a:ext cx="41508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0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3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4240" y="3914640"/>
              <a:ext cx="41508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0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3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89440" y="3282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8844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6836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180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79960" y="3282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3072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0524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836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7616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352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0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118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3282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65040" y="3726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640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712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068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9444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576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38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376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7200" y="372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1120" y="4254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0480" y="4254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46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994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076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440" y="287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440" y="287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440" y="4353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440" y="4353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316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17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360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116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656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228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1320" y="36892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0" y="33"/>
                  </a:lnTo>
                  <a:lnTo>
                    <a:pt x="16" y="0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116240" y="3751560"/>
              <a:ext cx="1800" cy="216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95280" y="3968280"/>
              <a:ext cx="41472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280" y="3914640"/>
              <a:ext cx="41472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44880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1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6640" y="1967040"/>
              <a:ext cx="6696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5" y="30"/>
                  </a:moveTo>
                  <a:lnTo>
                    <a:pt x="17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284360" y="1999440"/>
              <a:ext cx="4320" cy="47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6640" y="3448800"/>
              <a:ext cx="66960" cy="712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2320" y="389664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33" y="0"/>
                  </a:lnTo>
                  <a:lnTo>
                    <a:pt x="17" y="3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289040" y="3481200"/>
              <a:ext cx="2160" cy="423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111920" y="2174760"/>
              <a:ext cx="432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84440" y="1905120"/>
            <a:ext cx="173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escri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WR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38520" y="3200400"/>
            <a:ext cx="152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a 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3680" y="1195560"/>
            <a:ext cx="4337640" cy="5043240"/>
            <a:chOff x="913680" y="1195560"/>
            <a:chExt cx="4337640" cy="5043240"/>
          </a:xfrm>
        </p:grpSpPr>
        <p:grpSp>
          <p:nvGrpSpPr>
            <p:cNvPr id="562" name=""/>
            <p:cNvGrpSpPr/>
            <p:nvPr/>
          </p:nvGrpSpPr>
          <p:grpSpPr>
            <a:xfrm>
              <a:off x="914040" y="1195560"/>
              <a:ext cx="4337280" cy="4510080"/>
              <a:chOff x="914040" y="1195560"/>
              <a:chExt cx="4337280" cy="4510080"/>
            </a:xfrm>
          </p:grpSpPr>
          <p:sp>
            <p:nvSpPr>
              <p:cNvPr id="563" name=""/>
              <p:cNvSpPr/>
              <p:nvPr/>
            </p:nvSpPr>
            <p:spPr>
              <a:xfrm>
                <a:off x="2419200" y="4334040"/>
                <a:ext cx="225360" cy="1371600"/>
              </a:xfrm>
              <a:custGeom>
                <a:avLst/>
                <a:gdLst/>
                <a:ahLst/>
                <a:rect l="l" t="t" r="r" b="b"/>
                <a:pathLst>
                  <a:path w="142" h="864">
                    <a:moveTo>
                      <a:pt x="142" y="864"/>
                    </a:moveTo>
                    <a:lnTo>
                      <a:pt x="0" y="8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54400" y="5172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5"/>
                    </a:lnTo>
                    <a:lnTo>
                      <a:pt x="29" y="17"/>
                    </a:lnTo>
                    <a:lnTo>
                      <a:pt x="41" y="19"/>
                    </a:lnTo>
                    <a:lnTo>
                      <a:pt x="54" y="21"/>
                    </a:lnTo>
                    <a:lnTo>
                      <a:pt x="68" y="23"/>
                    </a:lnTo>
                    <a:lnTo>
                      <a:pt x="83" y="23"/>
                    </a:lnTo>
                    <a:lnTo>
                      <a:pt x="98" y="25"/>
                    </a:lnTo>
                    <a:lnTo>
                      <a:pt x="114" y="23"/>
                    </a:lnTo>
                    <a:lnTo>
                      <a:pt x="129" y="23"/>
                    </a:lnTo>
                    <a:lnTo>
                      <a:pt x="143" y="21"/>
                    </a:lnTo>
                    <a:lnTo>
                      <a:pt x="154" y="19"/>
                    </a:lnTo>
                    <a:lnTo>
                      <a:pt x="166" y="17"/>
                    </a:lnTo>
                    <a:lnTo>
                      <a:pt x="175" y="15"/>
                    </a:lnTo>
                    <a:lnTo>
                      <a:pt x="183" y="12"/>
                    </a:lnTo>
                    <a:lnTo>
                      <a:pt x="189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57280" y="5135400"/>
                <a:ext cx="304920" cy="34164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7" y="200"/>
                    </a:lnTo>
                    <a:lnTo>
                      <a:pt x="181" y="202"/>
                    </a:lnTo>
                    <a:lnTo>
                      <a:pt x="173" y="206"/>
                    </a:lnTo>
                    <a:lnTo>
                      <a:pt x="164" y="207"/>
                    </a:lnTo>
                    <a:lnTo>
                      <a:pt x="152" y="211"/>
                    </a:lnTo>
                    <a:lnTo>
                      <a:pt x="141" y="213"/>
                    </a:lnTo>
                    <a:lnTo>
                      <a:pt x="127" y="215"/>
                    </a:lnTo>
                    <a:lnTo>
                      <a:pt x="112" y="215"/>
                    </a:lnTo>
                    <a:lnTo>
                      <a:pt x="96" y="215"/>
                    </a:lnTo>
                    <a:lnTo>
                      <a:pt x="81" y="215"/>
                    </a:lnTo>
                    <a:lnTo>
                      <a:pt x="66" y="215"/>
                    </a:lnTo>
                    <a:lnTo>
                      <a:pt x="52" y="213"/>
                    </a:lnTo>
                    <a:lnTo>
                      <a:pt x="39" y="211"/>
                    </a:lnTo>
                    <a:lnTo>
                      <a:pt x="27" y="207"/>
                    </a:lnTo>
                    <a:lnTo>
                      <a:pt x="18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52" y="2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41" y="2"/>
                    </a:lnTo>
                    <a:lnTo>
                      <a:pt x="152" y="4"/>
                    </a:lnTo>
                    <a:lnTo>
                      <a:pt x="164" y="6"/>
                    </a:lnTo>
                    <a:lnTo>
                      <a:pt x="173" y="10"/>
                    </a:lnTo>
                    <a:lnTo>
                      <a:pt x="181" y="12"/>
                    </a:lnTo>
                    <a:lnTo>
                      <a:pt x="187" y="15"/>
                    </a:lnTo>
                    <a:lnTo>
                      <a:pt x="190" y="19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34920" y="1392120"/>
                <a:ext cx="2502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176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208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53800" y="13334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508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585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122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47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184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7096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2352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7752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1808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0340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5776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4308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9996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3488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3986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373120" y="1366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0" y="33"/>
                    </a:lnTo>
                    <a:lnTo>
                      <a:pt x="22" y="33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465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460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0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3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92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1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8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57240" y="11955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2528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8216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3148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840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38400" y="1195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6180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172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7592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29920" y="1195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601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159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7284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04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6804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7702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558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321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032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064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3130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93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604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636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8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55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5400" y="198288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6496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9196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4740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0428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57560" y="1982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77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2992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85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34920" y="2558880"/>
                <a:ext cx="250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53800" y="2496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2508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585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22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647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184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7096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2352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7752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1808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340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5776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4308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9996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3488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81200" y="2360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474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809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924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8856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458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80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473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04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380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7188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15720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1300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9688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55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8868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38000" y="2360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68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22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8056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14040" y="3759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68040" y="3759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0844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607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130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63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984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0650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233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762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156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714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0283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841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410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698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238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844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607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130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163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44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607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9988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751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274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2307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10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0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128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794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377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906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30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58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942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985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54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842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82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988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751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274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307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10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988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9751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936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8221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491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290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57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30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980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792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077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347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146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13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286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836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1700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44520" y="25351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16" y="31"/>
                    </a:moveTo>
                    <a:lnTo>
                      <a:pt x="20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986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3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019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40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506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2089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6044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0012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57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1139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69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266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554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094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700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4520" y="3240000"/>
                <a:ext cx="52560" cy="4788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3986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3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019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1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700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4520" y="365760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64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91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203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002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551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142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06784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34920" y="4334040"/>
                <a:ext cx="250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  <a:lnTo>
                      <a:pt x="576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153800" y="4272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508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85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122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47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84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096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352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7752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  <a:lnTo>
                    <a:pt x="576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1808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0340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5776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4308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9996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488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81200" y="4138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4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6809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3924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8856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458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80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473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04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0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7188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5720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1300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9688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5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8868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8000" y="413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68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22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056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13680" y="6067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64800" y="606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31720" y="45194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56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5200" y="451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8120" y="45194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48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2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5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74280" y="4638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128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60320" y="4638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15960" y="494352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8680" y="5165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52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8360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3436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40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43080" y="5165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32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204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592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34960" y="5165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0772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6640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0040" y="528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28520" y="4824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95120" y="48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52000" y="48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01680" y="4824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28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7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55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1240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8200" y="4943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984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3880" y="49435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3406680" y="494316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11600" y="517212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5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14480" y="5135400"/>
              <a:ext cx="304920" cy="3416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7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7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5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865320" y="49431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8080" y="494352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29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401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876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2044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47440" y="47880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2700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1124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6632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544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572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0" y="190"/>
                  </a:moveTo>
                  <a:lnTo>
                    <a:pt x="190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0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28520" y="5586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95120" y="55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2000" y="5586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01680" y="55864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28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997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1240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8200" y="570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984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53880" y="57056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406680" y="570528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116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144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65320" y="570528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78080" y="570564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29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401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264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43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40960" y="55562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205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4752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0200" y="555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92200" y="4919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3520" y="2664000"/>
            <a:ext cx="2379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spectos de importâ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gargal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mpro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uns tipos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mente específ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amentos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it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tem interface direta com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la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barramento padrão para permitir a interconexão de vários tipos de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is (dados e controle) são sincronizados por um reló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pode ser feito por uma das unidades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item é transferido em time slot predefinido e conhecido pelas par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simplif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uca flexi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limitada pelo dispositivo mais l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ormalmente usado na comunicação CPU-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09480" y="2697120"/>
            <a:ext cx="3505320" cy="2333880"/>
            <a:chOff x="609480" y="2697120"/>
            <a:chExt cx="3505320" cy="2333880"/>
          </a:xfrm>
        </p:grpSpPr>
        <p:sp>
          <p:nvSpPr>
            <p:cNvPr id="893" name=""/>
            <p:cNvSpPr/>
            <p:nvPr/>
          </p:nvSpPr>
          <p:spPr>
            <a:xfrm>
              <a:off x="609480" y="2925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480" y="34592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480" y="45259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480" y="39927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981080" y="3001680"/>
              <a:ext cx="609840" cy="228960"/>
              <a:chOff x="1981080" y="3001680"/>
              <a:chExt cx="609840" cy="228960"/>
            </a:xfrm>
          </p:grpSpPr>
          <p:sp>
            <p:nvSpPr>
              <p:cNvPr id="898" name=""/>
              <p:cNvSpPr/>
              <p:nvPr/>
            </p:nvSpPr>
            <p:spPr>
              <a:xfrm>
                <a:off x="1981080" y="3230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228600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86000" y="3002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9092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590920" y="3001680"/>
              <a:ext cx="609480" cy="228960"/>
              <a:chOff x="2590920" y="3001680"/>
              <a:chExt cx="609480" cy="22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259092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289548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89548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40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3200400" y="3001680"/>
              <a:ext cx="609480" cy="228960"/>
              <a:chOff x="3200400" y="3001680"/>
              <a:chExt cx="609480" cy="228960"/>
            </a:xfrm>
          </p:grpSpPr>
          <p:sp>
            <p:nvSpPr>
              <p:cNvPr id="908" name=""/>
              <p:cNvSpPr/>
              <p:nvPr/>
            </p:nvSpPr>
            <p:spPr>
              <a:xfrm>
                <a:off x="320040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350496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0496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988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28600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9548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09880" y="3230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895480" y="4601880"/>
              <a:ext cx="609480" cy="152640"/>
              <a:chOff x="2895480" y="4601880"/>
              <a:chExt cx="609480" cy="15264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2895480" y="4601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95480" y="4602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4960" y="4602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057400" y="4754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5320" y="4754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28800" y="422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2362320" y="4068720"/>
              <a:ext cx="457200" cy="152640"/>
              <a:chOff x="2362320" y="4068720"/>
              <a:chExt cx="457200" cy="15264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23623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36232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8195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819520" y="4221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28800" y="368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62320" y="3535200"/>
              <a:ext cx="457200" cy="152640"/>
              <a:chOff x="2362320" y="3535200"/>
              <a:chExt cx="457200" cy="152640"/>
            </a:xfrm>
          </p:grpSpPr>
          <p:sp>
            <p:nvSpPr>
              <p:cNvPr id="930" name=""/>
              <p:cNvSpPr/>
              <p:nvPr/>
            </p:nvSpPr>
            <p:spPr>
              <a:xfrm flipV="1">
                <a:off x="2362320" y="3535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362320" y="353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19520" y="3535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2819520" y="3687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971800" y="4068720"/>
              <a:ext cx="457200" cy="152640"/>
              <a:chOff x="2971800" y="4068720"/>
              <a:chExt cx="457200" cy="15264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29718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7180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290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2095560" y="360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574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09960" y="4016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32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95680" y="399276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66880" y="47545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66880" y="4525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6094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ster requisita 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76920" y="1828800"/>
            <a:ext cx="3504960" cy="3278520"/>
            <a:chOff x="4876920" y="1828800"/>
            <a:chExt cx="3504960" cy="3278520"/>
          </a:xfrm>
        </p:grpSpPr>
        <p:sp>
          <p:nvSpPr>
            <p:cNvPr id="947" name=""/>
            <p:cNvSpPr/>
            <p:nvPr/>
          </p:nvSpPr>
          <p:spPr>
            <a:xfrm>
              <a:off x="4876920" y="30020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76920" y="35352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76920" y="46022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76920" y="40687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248520" y="3077640"/>
              <a:ext cx="609480" cy="228960"/>
              <a:chOff x="6248520" y="3077640"/>
              <a:chExt cx="609480" cy="228960"/>
            </a:xfrm>
          </p:grpSpPr>
          <p:sp>
            <p:nvSpPr>
              <p:cNvPr id="952" name=""/>
              <p:cNvSpPr/>
              <p:nvPr/>
            </p:nvSpPr>
            <p:spPr>
              <a:xfrm>
                <a:off x="624852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55308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55308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5800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858000" y="3077640"/>
              <a:ext cx="609480" cy="228960"/>
              <a:chOff x="6858000" y="3077640"/>
              <a:chExt cx="609480" cy="228960"/>
            </a:xfrm>
          </p:grpSpPr>
          <p:sp>
            <p:nvSpPr>
              <p:cNvPr id="957" name=""/>
              <p:cNvSpPr/>
              <p:nvPr/>
            </p:nvSpPr>
            <p:spPr>
              <a:xfrm>
                <a:off x="685800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716256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6256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48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467480" y="3077640"/>
              <a:ext cx="609840" cy="228960"/>
              <a:chOff x="7467480" y="3077640"/>
              <a:chExt cx="609840" cy="228960"/>
            </a:xfrm>
          </p:grpSpPr>
          <p:sp>
            <p:nvSpPr>
              <p:cNvPr id="962" name=""/>
              <p:cNvSpPr/>
              <p:nvPr/>
            </p:nvSpPr>
            <p:spPr>
              <a:xfrm>
                <a:off x="7467480" y="3306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777240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772400" y="3078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732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55308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6292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7240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77320" y="3306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7162920" y="4677840"/>
              <a:ext cx="609480" cy="152640"/>
              <a:chOff x="7162920" y="4677840"/>
              <a:chExt cx="609480" cy="152640"/>
            </a:xfrm>
          </p:grpSpPr>
          <p:sp>
            <p:nvSpPr>
              <p:cNvPr id="971" name=""/>
              <p:cNvSpPr/>
              <p:nvPr/>
            </p:nvSpPr>
            <p:spPr>
              <a:xfrm flipV="1">
                <a:off x="7162920" y="4677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62920" y="46782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72400" y="4678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6324480" y="48308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2400" y="48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95880" y="4297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629400" y="4144680"/>
              <a:ext cx="457200" cy="152640"/>
              <a:chOff x="6629400" y="4144680"/>
              <a:chExt cx="457200" cy="152640"/>
            </a:xfrm>
          </p:grpSpPr>
          <p:sp>
            <p:nvSpPr>
              <p:cNvPr id="978" name=""/>
              <p:cNvSpPr/>
              <p:nvPr/>
            </p:nvSpPr>
            <p:spPr>
              <a:xfrm flipV="1">
                <a:off x="6629400" y="4144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29400" y="414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86600" y="4145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086600" y="4297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5880" y="3763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6629400" y="3611160"/>
              <a:ext cx="457200" cy="152640"/>
              <a:chOff x="6629400" y="3611160"/>
              <a:chExt cx="457200" cy="152640"/>
            </a:xfrm>
          </p:grpSpPr>
          <p:sp>
            <p:nvSpPr>
              <p:cNvPr id="984" name=""/>
              <p:cNvSpPr/>
              <p:nvPr/>
            </p:nvSpPr>
            <p:spPr>
              <a:xfrm flipV="1">
                <a:off x="6629400" y="3611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9400" y="3611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86600" y="3611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7086600" y="376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238880" y="4144680"/>
              <a:ext cx="457200" cy="152640"/>
              <a:chOff x="7238880" y="4144680"/>
              <a:chExt cx="457200" cy="152640"/>
            </a:xfrm>
          </p:grpSpPr>
          <p:sp>
            <p:nvSpPr>
              <p:cNvPr id="989" name=""/>
              <p:cNvSpPr/>
              <p:nvPr/>
            </p:nvSpPr>
            <p:spPr>
              <a:xfrm flipV="1">
                <a:off x="7238880" y="414468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38880" y="4145040"/>
                <a:ext cx="4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96080" y="414504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6362640" y="367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244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7040" y="4092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02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62760" y="4068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4320" y="48308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6022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76920" y="18288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ster requisita escr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666880" y="5257800"/>
            <a:ext cx="40388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rdas do clo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limitam o tim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em o instante para a amostr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 Assíncrono: I/O -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200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- memória percebe ReadReq, lê endereço n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- I/O percebe Ack ativo e baixa ReadReq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- memória vê ReadReq baixo e baixa o 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- memória coloca o dado lido no barr. de dados e ativa o DataR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- I/O percebe DataRdy, lê o dado d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6- memória vê Ack ativo, baixa o DataRdy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7- I/O vê DataRdy baixo e baixa o sinal Ack, completando o cicl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486400" y="5638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3657600"/>
            <a:ext cx="4495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 tem problemas de clock sk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lexidade d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rmalmente usado em barr. de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759120" y="1828800"/>
            <a:ext cx="4927680" cy="1631880"/>
            <a:chOff x="3759120" y="1828800"/>
            <a:chExt cx="4927680" cy="1631880"/>
          </a:xfrm>
        </p:grpSpPr>
        <p:sp>
          <p:nvSpPr>
            <p:cNvPr id="1006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7" name="" descr=""/>
            <p:cNvPicPr/>
            <p:nvPr/>
          </p:nvPicPr>
          <p:blipFill>
            <a:blip r:embed="rId1"/>
            <a:stretch/>
          </p:blipFill>
          <p:spPr>
            <a:xfrm>
              <a:off x="3759120" y="1828800"/>
              <a:ext cx="492768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3759120" y="3252960"/>
              <a:ext cx="492768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97560" y="2239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78640" y="223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72000" y="1828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Example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handshaking protocol - read data in memory and receive it in an I/O devic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look at some examples from the tex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Synchronous vs. Asynchronous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Two Bus Schem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910880" y="1359000"/>
            <a:ext cx="5327640" cy="1754640"/>
            <a:chOff x="1910880" y="1359000"/>
            <a:chExt cx="5327640" cy="1754640"/>
          </a:xfrm>
        </p:grpSpPr>
        <p:sp>
          <p:nvSpPr>
            <p:cNvPr id="1016" name=""/>
            <p:cNvSpPr/>
            <p:nvPr/>
          </p:nvSpPr>
          <p:spPr>
            <a:xfrm>
              <a:off x="5447520" y="2446560"/>
              <a:ext cx="1782720" cy="196560"/>
            </a:xfrm>
            <a:custGeom>
              <a:avLst/>
              <a:gdLst/>
              <a:ahLst/>
              <a:rect l="l" t="t" r="r" b="b"/>
              <a:pathLst>
                <a:path w="860" h="95">
                  <a:moveTo>
                    <a:pt x="860" y="95"/>
                  </a:moveTo>
                  <a:lnTo>
                    <a:pt x="527" y="95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65160" y="1952280"/>
              <a:ext cx="1189440" cy="97200"/>
            </a:xfrm>
            <a:custGeom>
              <a:avLst/>
              <a:gdLst/>
              <a:ahLst/>
              <a:rect l="l" t="t" r="r" b="b"/>
              <a:pathLst>
                <a:path w="574" h="47">
                  <a:moveTo>
                    <a:pt x="574" y="0"/>
                  </a:moveTo>
                  <a:lnTo>
                    <a:pt x="528" y="47"/>
                  </a:lnTo>
                  <a:lnTo>
                    <a:pt x="47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70760" y="2840400"/>
              <a:ext cx="4659840" cy="199440"/>
            </a:xfrm>
            <a:custGeom>
              <a:avLst/>
              <a:gdLst/>
              <a:ahLst/>
              <a:rect l="l" t="t" r="r" b="b"/>
              <a:pathLst>
                <a:path w="2248" h="96">
                  <a:moveTo>
                    <a:pt x="2248" y="96"/>
                  </a:moveTo>
                  <a:lnTo>
                    <a:pt x="1676" y="96"/>
                  </a:lnTo>
                  <a:lnTo>
                    <a:pt x="1676" y="0"/>
                  </a:lnTo>
                  <a:lnTo>
                    <a:pt x="1101" y="0"/>
                  </a:lnTo>
                  <a:lnTo>
                    <a:pt x="1101" y="96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084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552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0400" y="2961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5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3236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26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98320" y="2961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28400" y="2564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1804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8356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000" y="187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5468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32080" y="1873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6592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959280" y="1852560"/>
              <a:ext cx="3279240" cy="99720"/>
            </a:xfrm>
            <a:custGeom>
              <a:avLst/>
              <a:gdLst/>
              <a:ahLst/>
              <a:rect l="l" t="t" r="r" b="b"/>
              <a:pathLst>
                <a:path w="1582" h="48">
                  <a:moveTo>
                    <a:pt x="0" y="48"/>
                  </a:moveTo>
                  <a:lnTo>
                    <a:pt x="433" y="48"/>
                  </a:lnTo>
                  <a:lnTo>
                    <a:pt x="481" y="0"/>
                  </a:lnTo>
                  <a:lnTo>
                    <a:pt x="960" y="0"/>
                  </a:lnTo>
                  <a:lnTo>
                    <a:pt x="1007" y="48"/>
                  </a:lnTo>
                  <a:lnTo>
                    <a:pt x="1582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4360" y="1952280"/>
              <a:ext cx="19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52800" y="1952280"/>
              <a:ext cx="1187280" cy="97200"/>
            </a:xfrm>
            <a:custGeom>
              <a:avLst/>
              <a:gdLst/>
              <a:ahLst/>
              <a:rect l="l" t="t" r="r" b="b"/>
              <a:pathLst>
                <a:path w="573" h="47">
                  <a:moveTo>
                    <a:pt x="573" y="0"/>
                  </a:moveTo>
                  <a:lnTo>
                    <a:pt x="527" y="47"/>
                  </a:lnTo>
                  <a:lnTo>
                    <a:pt x="48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1088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0628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08080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5316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2876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344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832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66440" y="1359000"/>
              <a:ext cx="4667760" cy="196920"/>
            </a:xfrm>
            <a:custGeom>
              <a:avLst/>
              <a:gdLst/>
              <a:ahLst/>
              <a:rect l="l" t="t" r="r" b="b"/>
              <a:pathLst>
                <a:path w="2252" h="95">
                  <a:moveTo>
                    <a:pt x="0" y="95"/>
                  </a:moveTo>
                  <a:lnTo>
                    <a:pt x="96" y="95"/>
                  </a:lnTo>
                  <a:lnTo>
                    <a:pt x="96" y="0"/>
                  </a:lnTo>
                  <a:lnTo>
                    <a:pt x="622" y="0"/>
                  </a:lnTo>
                  <a:lnTo>
                    <a:pt x="622" y="95"/>
                  </a:lnTo>
                  <a:lnTo>
                    <a:pt x="2252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047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0"/>
                  </a:moveTo>
                  <a:lnTo>
                    <a:pt x="0" y="11"/>
                  </a:lnTo>
                  <a:lnTo>
                    <a:pt x="27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28600" y="190872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3" y="34"/>
                  </a:lnTo>
                  <a:lnTo>
                    <a:pt x="34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065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0"/>
                  </a:moveTo>
                  <a:lnTo>
                    <a:pt x="0" y="10"/>
                  </a:lnTo>
                  <a:lnTo>
                    <a:pt x="23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61720" y="1958400"/>
              <a:ext cx="74160" cy="68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6"/>
                  </a:moveTo>
                  <a:lnTo>
                    <a:pt x="21" y="33"/>
                  </a:lnTo>
                  <a:lnTo>
                    <a:pt x="3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69640" y="2774160"/>
              <a:ext cx="70200" cy="601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0" y="29"/>
                  </a:lnTo>
                  <a:lnTo>
                    <a:pt x="34" y="2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4720" y="2454480"/>
              <a:ext cx="72360" cy="662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7"/>
                  </a:moveTo>
                  <a:lnTo>
                    <a:pt x="21" y="3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59160" y="1958400"/>
              <a:ext cx="72720" cy="72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5" y="35"/>
                  </a:lnTo>
                  <a:lnTo>
                    <a:pt x="35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3760" y="2761920"/>
              <a:ext cx="6840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1" y="0"/>
                  </a:moveTo>
                  <a:lnTo>
                    <a:pt x="0" y="23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57320" y="265176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5" y="34"/>
                  </a:lnTo>
                  <a:lnTo>
                    <a:pt x="34" y="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93320" y="1370880"/>
              <a:ext cx="62280" cy="70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0"/>
                  </a:moveTo>
                  <a:lnTo>
                    <a:pt x="30" y="34"/>
                  </a:lnTo>
                  <a:lnTo>
                    <a:pt x="28" y="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364200" y="1944000"/>
              <a:ext cx="4950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54960" y="1555920"/>
              <a:ext cx="186480" cy="83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158000" y="1987560"/>
              <a:ext cx="638640" cy="45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646960" y="1991880"/>
              <a:ext cx="451440" cy="45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646960" y="2446200"/>
              <a:ext cx="354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140160" y="2691360"/>
              <a:ext cx="352440" cy="34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95200" y="149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41000" y="166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66440" y="240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2200" y="266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65880" y="28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94120" y="213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79760" y="206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35040" y="21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5720" y="215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70760" y="2446560"/>
              <a:ext cx="2881080" cy="196560"/>
            </a:xfrm>
            <a:custGeom>
              <a:avLst/>
              <a:gdLst/>
              <a:ahLst/>
              <a:rect l="l" t="t" r="r" b="b"/>
              <a:pathLst>
                <a:path w="1390" h="95">
                  <a:moveTo>
                    <a:pt x="1390" y="95"/>
                  </a:moveTo>
                  <a:lnTo>
                    <a:pt x="766" y="95"/>
                  </a:lnTo>
                  <a:lnTo>
                    <a:pt x="766" y="0"/>
                  </a:lnTo>
                  <a:lnTo>
                    <a:pt x="335" y="0"/>
                  </a:lnTo>
                  <a:lnTo>
                    <a:pt x="335" y="95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4158000" y="2446560"/>
              <a:ext cx="638640" cy="36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948200" y="2485080"/>
              <a:ext cx="447480" cy="35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67680" y="1852560"/>
              <a:ext cx="1191600" cy="99720"/>
            </a:xfrm>
            <a:custGeom>
              <a:avLst/>
              <a:gdLst/>
              <a:ahLst/>
              <a:rect l="l" t="t" r="r" b="b"/>
              <a:pathLst>
                <a:path w="575" h="48">
                  <a:moveTo>
                    <a:pt x="0" y="48"/>
                  </a:moveTo>
                  <a:lnTo>
                    <a:pt x="48" y="0"/>
                  </a:lnTo>
                  <a:lnTo>
                    <a:pt x="529" y="0"/>
                  </a:lnTo>
                  <a:lnTo>
                    <a:pt x="575" y="4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62360" y="1359000"/>
              <a:ext cx="377280" cy="1027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364560" y="1410480"/>
              <a:ext cx="468000" cy="103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M -  Handsha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3117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55880" y="3259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67040" y="42958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59120" y="44388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13240" y="45784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78400" y="18702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687840" y="2011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22880" y="55306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874880" y="1111320"/>
            <a:ext cx="5384880" cy="5441400"/>
            <a:chOff x="1874880" y="1111320"/>
            <a:chExt cx="5384880" cy="5441400"/>
          </a:xfrm>
        </p:grpSpPr>
        <p:grpSp>
          <p:nvGrpSpPr>
            <p:cNvPr id="1085" name=""/>
            <p:cNvGrpSpPr/>
            <p:nvPr/>
          </p:nvGrpSpPr>
          <p:grpSpPr>
            <a:xfrm>
              <a:off x="4583160" y="1654200"/>
              <a:ext cx="2128680" cy="4745880"/>
              <a:chOff x="4583160" y="1654200"/>
              <a:chExt cx="2128680" cy="474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025320" y="285264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64520" y="167256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29240" y="235080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29200" y="185076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17760" y="3058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86880" y="3058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38760" y="3198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2444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88880" y="319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5080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013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0523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12144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15312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184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269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91720" y="3198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393960" y="31982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967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51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92632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9601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2784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096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8868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1424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1815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45640" y="3341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08280" y="334152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744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428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832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7384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07500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3332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923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57160" y="3480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9928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30600" y="348048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0880" y="36237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4404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9948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64520" y="292140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529240" y="3599640"/>
                <a:ext cx="64800" cy="62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029200" y="309960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53760" y="265356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7220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61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24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3936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5696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412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106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910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756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444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0780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8772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618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288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831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651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14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29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8470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154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808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475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25320" y="410112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53760" y="3902400"/>
                <a:ext cx="3240" cy="21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220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61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24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936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696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412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106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910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6756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7444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80780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772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618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0288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720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380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4548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7896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4840" y="42368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04280" y="4376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88160" y="43765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2668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9724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595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95880" y="43765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758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316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917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24480" y="437652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4632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1436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7736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0904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4720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4404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064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0928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73720" y="4519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12600" y="4519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73080" y="45194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6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89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5720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8960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5368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900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5232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14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534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2186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2852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172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84240" y="4660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3192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5784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812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5036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37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384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00552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04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063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6680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22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291720" y="4799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32988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62280" y="47998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3560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2488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89680" y="49431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02064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8904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7580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39160" y="4943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64520" y="4169880"/>
                <a:ext cx="981000" cy="9813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29240" y="484848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29200" y="4348800"/>
                <a:ext cx="568440" cy="62388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025320" y="534996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53760" y="515160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172200" y="51793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5392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1080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876560" y="42609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5396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01588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017760" y="5625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086880" y="56253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711760" y="5768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967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1880" y="57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89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547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21000" y="57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829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4412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77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463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1044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4608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10160" y="57686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1544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4316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72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36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98680" y="5909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59520" y="59097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904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61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24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93160" y="59097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3560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2488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89680" y="6049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02064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8904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7580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39160" y="60490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564520" y="541908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722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391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307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70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3788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50304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700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6333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84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947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1588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3349800" y="2852640"/>
              <a:ext cx="60120" cy="61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76480" y="1739880"/>
              <a:ext cx="61920" cy="64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3" y="0"/>
                  </a:moveTo>
                  <a:lnTo>
                    <a:pt x="0" y="21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87560" y="167328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852640" y="2350800"/>
              <a:ext cx="65160" cy="633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52600" y="185076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41520" y="312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09920" y="312732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35520" y="3270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20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6360" y="3270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126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7636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44400" y="3270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063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46932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17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701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63276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69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9268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1644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1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096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7448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3280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6592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0156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365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3512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9992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896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1584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82080" y="3411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2168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1431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317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9544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634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275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128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809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887560" y="2921040"/>
              <a:ext cx="982800" cy="9820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852640" y="3600360"/>
              <a:ext cx="65160" cy="615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52600" y="31003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76440" y="26542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95600" y="2681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7804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3348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49800" y="4101840"/>
              <a:ext cx="60120" cy="60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76440" y="39034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9560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841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647160" y="3930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6795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4832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3364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98440" y="3930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940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472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2400" y="301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3480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0356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8888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52240" y="30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41520" y="4308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09920" y="430848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19680" y="4448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046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1748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367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05520" y="444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3756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83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100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0180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69480" y="444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9800" y="444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9520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58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12624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5864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22308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58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90040" y="4591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303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94440" y="45910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9452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26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9388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63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6939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3388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26412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8752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35556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19280" y="4730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480480" y="4730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0464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6980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317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8752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5200" y="4873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9444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648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59240" y="4873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5413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9856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87560" y="417024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852640" y="4848120"/>
              <a:ext cx="65160" cy="63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352600" y="43495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349800" y="5351400"/>
              <a:ext cx="60120" cy="59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76440" y="5151240"/>
              <a:ext cx="50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9560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41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47160" y="5180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795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4832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364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8440" y="5180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940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472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02400" y="4260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3480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20356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8888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52240" y="4260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41520" y="5769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09920" y="576900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35520" y="5910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1208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856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5260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094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6996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37640" y="591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7544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0712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41680" y="5910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208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7956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87560" y="5419440"/>
              <a:ext cx="982800" cy="9810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67200" y="1879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1446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1192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4360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763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444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095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75800" y="187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1612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8092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63960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01880" y="187956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809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4468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200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444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13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544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082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560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812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046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748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364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29760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32964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36528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3008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920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780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15480" y="21636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5508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43160" y="2303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3172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544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6348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27560" y="230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1288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8092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95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618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0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939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6380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257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955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589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0320" y="1763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7772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33964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204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6980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39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62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746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379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063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697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381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0148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3713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30480" y="5168880"/>
              <a:ext cx="66960" cy="42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893960" y="2998800"/>
              <a:ext cx="55440" cy="471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5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45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0984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721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5672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930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2656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58240" y="6203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5040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82440" y="6203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224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908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41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225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5920" y="620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456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7488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6020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2572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103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452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769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08600" y="1111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0076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34600" y="1111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745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411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063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5729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2760" y="1111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978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23960" y="1284120"/>
              <a:ext cx="489240" cy="48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241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796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007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562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11640" y="1371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O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479280" y="990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bitragem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é compartilh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ganhar aces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mais simpl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-Mem; Master-Sl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a: sobrecarga para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: vários bus m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bitragem: Request - Gr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justiça, sem deadlocks ou star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2133720" y="43434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envia s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mede o m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se OK -&gt;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76920" y="434340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spera tempo ale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volta -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Arbitrag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 bus master centralizado recebe múltiplos requests e tem múltiplas linhas de Grant; desvantagens: gargalo e confia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: múltiplas linhas de Request; dispositivos examinam o barramento e julgam a sua própria prioridade (Nu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c/ detecção de colisão (ex: Ethernet; CSMA /CD, carrier sense multiple access / colision detection; meio físico: cabo coaxial, par trançado, fibra óptica, rád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ing Processors and Peripher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Design affected by many factors (expandability, resili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ccess latenc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roughp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nection between devices and the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memory hierarch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opera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ariety of different users (e.g., banks, supercomputers, engineer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79520" y="3841920"/>
            <a:ext cx="4501800" cy="2561760"/>
            <a:chOff x="2279520" y="3841920"/>
            <a:chExt cx="4501800" cy="2561760"/>
          </a:xfrm>
        </p:grpSpPr>
        <p:sp>
          <p:nvSpPr>
            <p:cNvPr id="47" name=""/>
            <p:cNvSpPr/>
            <p:nvPr/>
          </p:nvSpPr>
          <p:spPr>
            <a:xfrm>
              <a:off x="4028760" y="6020640"/>
              <a:ext cx="33408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39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3" y="17"/>
                  </a:lnTo>
                  <a:lnTo>
                    <a:pt x="173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28760" y="5980320"/>
              <a:ext cx="33408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3" y="206"/>
                  </a:lnTo>
                  <a:lnTo>
                    <a:pt x="163" y="208"/>
                  </a:lnTo>
                  <a:lnTo>
                    <a:pt x="154" y="210"/>
                  </a:lnTo>
                  <a:lnTo>
                    <a:pt x="140" y="212"/>
                  </a:lnTo>
                  <a:lnTo>
                    <a:pt x="127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1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9" y="210"/>
                  </a:lnTo>
                  <a:lnTo>
                    <a:pt x="29" y="208"/>
                  </a:lnTo>
                  <a:lnTo>
                    <a:pt x="20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20" y="9"/>
                  </a:lnTo>
                  <a:lnTo>
                    <a:pt x="29" y="7"/>
                  </a:lnTo>
                  <a:lnTo>
                    <a:pt x="39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5"/>
                  </a:lnTo>
                  <a:lnTo>
                    <a:pt x="163" y="7"/>
                  </a:lnTo>
                  <a:lnTo>
                    <a:pt x="173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9456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1138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8480" y="4035240"/>
              <a:ext cx="2961360" cy="938160"/>
            </a:xfrm>
            <a:custGeom>
              <a:avLst/>
              <a:gdLst/>
              <a:ahLst/>
              <a:rect l="l" t="t" r="r" b="b"/>
              <a:pathLst>
                <a:path w="1701" h="539">
                  <a:moveTo>
                    <a:pt x="1701" y="539"/>
                  </a:moveTo>
                  <a:lnTo>
                    <a:pt x="170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8020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78840" y="472464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635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0299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1963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0287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969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637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7884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8600" y="5590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184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2680" y="5590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932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8720" y="5590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588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9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960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2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4400" y="5724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0760" y="57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9520" y="5389920"/>
              <a:ext cx="999000" cy="667080"/>
            </a:xfrm>
            <a:custGeom>
              <a:avLst/>
              <a:gdLst/>
              <a:ahLst/>
              <a:rect l="l" t="t" r="r" b="b"/>
              <a:pathLst>
                <a:path w="574" h="383">
                  <a:moveTo>
                    <a:pt x="574" y="38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383"/>
                  </a:lnTo>
                  <a:lnTo>
                    <a:pt x="574" y="383"/>
                  </a:lnTo>
                  <a:lnTo>
                    <a:pt x="574" y="3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640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62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508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32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188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724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350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62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9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5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51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539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55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3928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45560" y="5389920"/>
              <a:ext cx="100116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331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26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918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796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70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88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32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26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4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2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9408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3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06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760" y="5389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18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95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124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00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78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534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7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0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3124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36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003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60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7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80520" y="5389920"/>
              <a:ext cx="100080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996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988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48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87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9648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9616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8160" y="60800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6000" y="6080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272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8356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620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8480" y="6080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260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552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3480" y="608004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6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948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72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3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5480" y="6023880"/>
              <a:ext cx="834120" cy="379800"/>
            </a:xfrm>
            <a:custGeom>
              <a:avLst/>
              <a:gdLst/>
              <a:ahLst/>
              <a:rect l="l" t="t" r="r" b="b"/>
              <a:pathLst>
                <a:path w="479" h="218">
                  <a:moveTo>
                    <a:pt x="479" y="218"/>
                  </a:moveTo>
                  <a:lnTo>
                    <a:pt x="479" y="0"/>
                  </a:lnTo>
                  <a:lnTo>
                    <a:pt x="0" y="0"/>
                  </a:lnTo>
                  <a:lnTo>
                    <a:pt x="0" y="218"/>
                  </a:lnTo>
                  <a:lnTo>
                    <a:pt x="479" y="218"/>
                  </a:lnTo>
                  <a:lnTo>
                    <a:pt x="479" y="2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1380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76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328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284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4040" y="604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392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708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6840" y="6046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6046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272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632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644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69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2680" y="5034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904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2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0656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968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9200" y="50349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5632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8584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6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896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4400" y="3969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108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4780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900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408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45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03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832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44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3841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20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5480" y="4534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504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7320" y="4534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52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46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6200" y="4474080"/>
              <a:ext cx="666720" cy="250560"/>
            </a:xfrm>
            <a:custGeom>
              <a:avLst/>
              <a:gdLst/>
              <a:ahLst/>
              <a:rect l="l" t="t" r="r" b="b"/>
              <a:pathLst>
                <a:path w="383" h="144">
                  <a:moveTo>
                    <a:pt x="383" y="144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383" y="144"/>
                  </a:lnTo>
                  <a:lnTo>
                    <a:pt x="383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78840" y="422496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85360" y="4003560"/>
              <a:ext cx="57600" cy="57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84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0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80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232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532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204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804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96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18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3200" y="387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9440" y="6020640"/>
              <a:ext cx="33372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38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6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3" y="17"/>
                  </a:lnTo>
                  <a:lnTo>
                    <a:pt x="172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29440" y="5980320"/>
              <a:ext cx="33372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2" y="206"/>
                  </a:lnTo>
                  <a:lnTo>
                    <a:pt x="163" y="208"/>
                  </a:lnTo>
                  <a:lnTo>
                    <a:pt x="153" y="210"/>
                  </a:lnTo>
                  <a:lnTo>
                    <a:pt x="140" y="212"/>
                  </a:lnTo>
                  <a:lnTo>
                    <a:pt x="126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8" y="210"/>
                  </a:lnTo>
                  <a:lnTo>
                    <a:pt x="29" y="208"/>
                  </a:lnTo>
                  <a:lnTo>
                    <a:pt x="19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028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6840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9180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83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52680" y="3657600"/>
            <a:ext cx="4191120" cy="2895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(cont.): Daisy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305360" y="4048200"/>
            <a:ext cx="6533280" cy="218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ired pela posi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: simples (on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14400" y="1295280"/>
            <a:ext cx="7148520" cy="2184480"/>
            <a:chOff x="914400" y="1295280"/>
            <a:chExt cx="7148520" cy="2184480"/>
          </a:xfrm>
        </p:grpSpPr>
        <p:sp>
          <p:nvSpPr>
            <p:cNvPr id="1538" name=""/>
            <p:cNvSpPr/>
            <p:nvPr/>
          </p:nvSpPr>
          <p:spPr>
            <a:xfrm>
              <a:off x="914400" y="2514600"/>
              <a:ext cx="119376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7440" y="2730240"/>
              <a:ext cx="8337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819520" y="1295280"/>
              <a:ext cx="96516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868840" y="1358640"/>
              <a:ext cx="927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gh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6600" y="1295280"/>
              <a:ext cx="88920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83640" y="1358640"/>
              <a:ext cx="10792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w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9720" y="1295280"/>
              <a:ext cx="88884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392720" y="1587240"/>
              <a:ext cx="927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84840" y="167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8976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9468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337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8828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4830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21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39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24520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57800" y="2654280"/>
              <a:ext cx="88920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7150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48520" y="2654280"/>
              <a:ext cx="88884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617220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624852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33720" y="3340080"/>
              <a:ext cx="401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1660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9272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17220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24852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2900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953240" y="32763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8348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012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48520" y="334008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33720" y="2958840"/>
              <a:ext cx="401328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617220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624852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4440" y="2895480"/>
              <a:ext cx="12672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48320" y="2895480"/>
              <a:ext cx="12708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48520" y="2958840"/>
              <a:ext cx="111744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8780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168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7892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078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080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3188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31520" y="2654280"/>
              <a:ext cx="83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31520" y="30351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ção entre métodos de ar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 programável (off 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 e deadlock: OK se control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e ethern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flexível, expansível e confiá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682560" y="2206800"/>
          <a:ext cx="772632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206800"/>
                    <a:ext cx="77263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a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, flexibilidade, expansão, confiabilidade, velocidade, tipo de tráfego, distância e “starvatio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s padrões de barramento (pag 67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330120" y="1066680"/>
          <a:ext cx="880128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66680"/>
                    <a:ext cx="88012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face E/S - Mem - CPU -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st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o usuário controla a E/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&lt;-&gt; memória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papel da CPU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pel da CPU é gran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rogram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s de E/S normalmente usam interrupção executada no modo supervisor do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de baixo nível de E/S é complex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CP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med I/O: CPU inicia, controla, supervisiona e termina a comunic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mapped: acesso à memória e I/O é feito com as mesmas instruções (espaço de endereçamento define o dispositivo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mapped: há instruções e linhas de controle dedicadas à comunicação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2057400" y="2590920"/>
            <a:ext cx="5532840" cy="1218600"/>
            <a:chOff x="2057400" y="2590920"/>
            <a:chExt cx="5532840" cy="1218600"/>
          </a:xfrm>
        </p:grpSpPr>
        <p:sp>
          <p:nvSpPr>
            <p:cNvPr id="1598" name=""/>
            <p:cNvSpPr/>
            <p:nvPr/>
          </p:nvSpPr>
          <p:spPr>
            <a:xfrm>
              <a:off x="2590560" y="274320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90560" y="2825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90560" y="2960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90560" y="304776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57400" y="26668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335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0024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09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6600" y="2590920"/>
              <a:ext cx="503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3809880" y="2743200"/>
              <a:ext cx="456840" cy="609120"/>
              <a:chOff x="3809880" y="2743200"/>
              <a:chExt cx="456840" cy="6091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8098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427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000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2667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857480" y="2743200"/>
              <a:ext cx="456840" cy="609120"/>
              <a:chOff x="4857480" y="2743200"/>
              <a:chExt cx="456840" cy="609120"/>
            </a:xfrm>
          </p:grpSpPr>
          <p:sp>
            <p:nvSpPr>
              <p:cNvPr id="1613" name=""/>
              <p:cNvSpPr/>
              <p:nvPr/>
            </p:nvSpPr>
            <p:spPr>
              <a:xfrm>
                <a:off x="48574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903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476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3143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867280" y="2743200"/>
              <a:ext cx="456840" cy="609120"/>
              <a:chOff x="5867280" y="2743200"/>
              <a:chExt cx="456840" cy="609120"/>
            </a:xfrm>
          </p:grpSpPr>
          <p:sp>
            <p:nvSpPr>
              <p:cNvPr id="1618" name=""/>
              <p:cNvSpPr/>
              <p:nvPr/>
            </p:nvSpPr>
            <p:spPr>
              <a:xfrm>
                <a:off x="58672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01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1574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3241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3733920" y="4879800"/>
            <a:ext cx="4086000" cy="1063800"/>
            <a:chOff x="3733920" y="4879800"/>
            <a:chExt cx="4086000" cy="1063800"/>
          </a:xfrm>
        </p:grpSpPr>
        <p:sp>
          <p:nvSpPr>
            <p:cNvPr id="1623" name=""/>
            <p:cNvSpPr/>
            <p:nvPr/>
          </p:nvSpPr>
          <p:spPr>
            <a:xfrm>
              <a:off x="4495680" y="56386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95680" y="58672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3920" y="518148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18148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40224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5200" y="4879800"/>
              <a:ext cx="504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3412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30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33920" y="502920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8620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84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434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3868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51560" y="54277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51200" y="568152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3200" y="541800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02480" y="56721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1: p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periodicamente consulta 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perdício do tempo da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 pode ter que ficar muito tempo aguardando o servi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2: interrup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PU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11840" y="132660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 de E/S avisa a CPU que precisa de atenção, por meio de sinal assíncr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deve completar a execução da instrução antes de atender a 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ipeline: é necessário stall e tratamento de todas as instruções no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nece indicação à CPU sobre o tipo de interrupção e a identidade do disposi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comum: vetor de interrupção usado para decidir o endereço da rotina de tratamento da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caso de múltiplos disposi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orização para decidir qual pedido será a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é possível o uso de um controlador de interrup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457200" y="2514600"/>
            <a:ext cx="2286000" cy="36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de polling = 30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 polling/s = 30 * 400 ciclos/s = 12000 c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ciclos da CPU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000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,00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2438280"/>
            <a:ext cx="25146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16 bits;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50 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0 KB /s /(2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*400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MAS +- OK para sistemas de baixo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19920" y="2438280"/>
            <a:ext cx="259056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co Ríg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4*32 bits; 4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 MB /s /(16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.25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inaceitável de ocupação da CPU para p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67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o polling para 3 dispositivos (fck = 500 MHz; ciclos p/ polling = 4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990720" y="2590920"/>
            <a:ext cx="6858000" cy="31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acessos é o mesmo de polling = 250 K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ciclos / s = 250 k * 500 = 125* 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iclos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% da CPU = 125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500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to do Polling, MAS, levando em consideração que o HD não está ativo apenas 5% do t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 5% * 25% = 1,25 %           (bastante razoá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rrupção só envolve a CPU se houver 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a interrupção sobre o Disco Rígido do exemplo anterior (com overhead da transferência de 500 ciclos, incluindo a interrupção, assumindo que o HD está ativo apenas 5% do tempo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but neglecte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he difficulties in assessing and designing I/O systems 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relegated I/O to second class status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courses in every aspect of computing, from programming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chitecture often ignore I/O or give it scanty coverage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extbooks leave the subject to near the end, making it eas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tudents and instructors to skip it!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LTY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e won’t be looking at I/O in much detail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 sure and read Chapter 8 in its entiret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you should probably take a networking clas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: dispositiv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ndo polling ou interrupção a CPU é envolvida diretamente n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pode ser OK para pequenos blocos; CPU se ocupa de outra coisa enquanto o dispositivo está trabalhando mas a escrita/leitura envolve diretamente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DMA (Direct Memor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há polling e a CPU não participa d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CPU informa: identidade do dispositivo, qual é a operação, endereço inicial da memória, Nº de bytes da trans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Controlador de DMA inicia a operação. Solicita e ganha controle do barramento. Faz a transferència entre o dispositivo (endereço, RD/WR, incrementa endereço, etc) e 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Controlador de DMA interrompe a CPU e avisa que a transferência está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843120" y="1627200"/>
            <a:ext cx="7834320" cy="4078800"/>
            <a:chOff x="843120" y="1627200"/>
            <a:chExt cx="7834320" cy="4078800"/>
          </a:xfrm>
        </p:grpSpPr>
        <p:sp>
          <p:nvSpPr>
            <p:cNvPr id="1656" name=""/>
            <p:cNvSpPr/>
            <p:nvPr/>
          </p:nvSpPr>
          <p:spPr>
            <a:xfrm>
              <a:off x="43102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90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2246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72120" y="415116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38600" y="4303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8600" y="4532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38600" y="4761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738600" y="498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95960" y="41511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95960" y="4379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95960" y="48369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95960" y="46083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8" name=""/>
            <p:cNvCxnSpPr>
              <a:stCxn id="1656" idx="2"/>
              <a:endCxn id="1659" idx="0"/>
            </p:cNvCxnSpPr>
            <p:nvPr/>
          </p:nvCxnSpPr>
          <p:spPr>
            <a:xfrm flipV="1" rot="10800000">
              <a:off x="4690440" y="369360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6253560" y="3693960"/>
              <a:ext cx="1218960" cy="8384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8120" y="3693960"/>
              <a:ext cx="838440" cy="6098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2062080" y="30081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2062080" y="27795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062080" y="25509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43120" y="23986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43120" y="2627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43120" y="28558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99000" y="3389400"/>
              <a:ext cx="6094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5128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247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91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952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1348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81920" y="297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632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91360" y="2970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083040" y="277920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235680" y="2556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720040" y="254484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583680" y="2759040"/>
              <a:ext cx="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35680" y="1627200"/>
              <a:ext cx="609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4260960" y="2158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4386600" y="2745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4427640" y="2163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26360" y="2178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218120" y="2512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19840" y="3205080"/>
              <a:ext cx="2955960" cy="22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64520" y="5398920"/>
              <a:ext cx="20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ador de 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34440" y="42451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isp. de 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pico Controlador de D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Operação de 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k Transfer: seqüência de palavras; usado por discos, fitas (vel. do disp. é importante); a CPU não usa o barramento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 executa instrução de IO; escreve em IOAR e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DMA REQ; CPU -&gt; DMA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transferência com Inc IOAR; Decr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 dispositivo for lento, retorna o controle para a CPU com DMA REQ = 0; estando pronto DMA REQ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se DC =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ycle Stealing: uma (ou mais palavras transmitidas) e o controle devolvido à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transparente: cycle stealing sincronizado de modo a usar barramento somento nos ciclos em que a CPU não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ção de memória deixa de ser problema sério com o uso d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, Cache e 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gunt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deve trabalhar com endereço físico ou virtu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transferir se os dados não estão em uma única págin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s dados estão em uma única página, trabalhar com endereço fí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contrário, trabalhar com o endereço virtual; o próprio controlador deve fazer o mapeamento (pequena page table inter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sistema operacional não deve mover páginas afetadas enquanto o DMA está em ope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acontecer incoerência de cache-memória devido a atualização da memória pelo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262160" y="3470400"/>
            <a:ext cx="6646680" cy="25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por transferência:    8 KB / 4 MB/s = 2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atividade constante do H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1000 + 500) ciclos / transf.  =  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 ms / 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/ (50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= 1,5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0,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PU é só envolvida no início e n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atividade &lt; 100 % este percentual é ainda 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03560" y="4424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; impacto em Hard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mo exemplo anteri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o 16B; taxa de transferência de 4 MB / s; clock de 500 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up do DMA: overhead de 10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do DMA 5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médio de transferência: 8 K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 do HD: 100% do tempo (ignorar contenção de barr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U com 300 MIPS e 50K instruções (no OS) por operação de I/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ory backplane: taxa de transmissão de 100 MB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adores SCSI-2: 20 MB/s e capacidade para 7 disc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D com taxa de 5 MB/s e atraso seek+rotational = 10 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orkload de IO: leituras de 64 KB (100 K instruções de usuário / Operação de I/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contrar: máxima taxa de I/O e o número de (HD+controladores) necess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is componentes (CPU e memory bus), qual é o gargal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op de I/O precisa de 50 K + 100K instruçõe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a CPU = (Instr rate) / (Instr. / IO) = 3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(100+50)*10*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000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o bus = (bus bandwidth) / (bytes / IO) = 1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64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1562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rgalo é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ora, configurar o resto do sistema para acomodar 1562 IO/s -&gt; quantos HD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ta: 1562 IO/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por IO no disco: 10 ms + 64 KB / (5 MB/s) = 10ms + 12.8ms = 22.8m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disco: 1/22.8ms = 43.9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cupar totalmente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562 /  43.9 = 36 disc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controladores SCSI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transf. / disco = 64 KB / 22.8ms = 2.74 MB 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ssível colocar 7 discos por controlador (7*2.74 &lt; 20 MB/s)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barramentos de IO e controladores SCSI =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36 discos / (7 discos / barramento) = 6 (barramentos + controlador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ande número de hipóteses simplificadoras: melhor precisão somente com simul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s para 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de E/S para Supercomput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esso a arquivos grandes em b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grande operação de leitura seguida de pequenas de escrita (confiabilidade, em caso de cr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Processamento de Transa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 medir tempo de resposta e through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ações são curtas: I/O rate (acessos / s) mais importante do que data rate (bytes / 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rate mais conhecido: TPC-B : simula rede de AT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 (throughput para transações dentro de faixa aceitável de tempo de resposta): TPS: transac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Sistemas de Arquiv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um ambiente de engenharia: 80% acessos a arq &lt; 10K; 67% de operações de leitura e 27% de escrita (6% R/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benchmark com 70 arquivos, total de 200 KB (mkdir, cp, make, ScanDir, ReadA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iverse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havior (i.e., input vs. out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artner (who is at the other end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ata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96760" y="2514600"/>
          <a:ext cx="73771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514600"/>
                    <a:ext cx="7377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ccess data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eek:  position head over the proper track  (8 to 20 ms. avg.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rotational latency:  wait for desired sector (.5 / RP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nsfer:  grab the data  (one or more sectors) 2 to 15 MB/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84520" y="1338120"/>
            <a:ext cx="3801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1000" y="1293120"/>
            <a:ext cx="80820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14300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 = 512 bytes;   5400 rpm;   average seek time = 12 ms                 transfer rate = 5 MB/sec; controller overhead = 2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verage time to read or write a sector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65440" y="2438280"/>
            <a:ext cx="4232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disk access =   average s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rotational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transfer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controller overh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5800" y="4135320"/>
                <a:ext cx="7848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B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mmunication link (one or more wi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design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ay be bottlen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ength of the b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umber of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deoffs (buffers for higher bandwidth increases latency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upport for many different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bu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rocessor-memory (short high speed, custom desig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ackplane (high speed, often standardized, e.g., PCI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I/O (lengthy, different devices, standardized, e.g., SCS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use a clock and a synchronous protocol, fast and sm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very device must operate at same rate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skew requires the bus to be sh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on’t use a clock and instead use handsha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2400" y="7908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800" y="1295280"/>
            <a:ext cx="5921280" cy="4218120"/>
            <a:chOff x="478800" y="1295280"/>
            <a:chExt cx="5921280" cy="4218120"/>
          </a:xfrm>
        </p:grpSpPr>
        <p:sp>
          <p:nvSpPr>
            <p:cNvPr id="222" name=""/>
            <p:cNvSpPr/>
            <p:nvPr/>
          </p:nvSpPr>
          <p:spPr>
            <a:xfrm>
              <a:off x="4066200" y="4905720"/>
              <a:ext cx="207720" cy="465840"/>
            </a:xfrm>
            <a:custGeom>
              <a:avLst/>
              <a:gdLst/>
              <a:ahLst/>
              <a:rect l="l" t="t" r="r" b="b"/>
              <a:pathLst>
                <a:path w="96" h="215">
                  <a:moveTo>
                    <a:pt x="96" y="215"/>
                  </a:move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215"/>
                  </a:lnTo>
                  <a:lnTo>
                    <a:pt x="96" y="215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6620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2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2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620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3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36280" y="4643280"/>
              <a:ext cx="341568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36280" y="4467960"/>
              <a:ext cx="262512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620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3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620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3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8920" y="1668240"/>
              <a:ext cx="335304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4920" y="1464120"/>
              <a:ext cx="69120" cy="6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8920" y="1492560"/>
              <a:ext cx="3353040" cy="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492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31"/>
                  </a:moveTo>
                  <a:lnTo>
                    <a:pt x="32" y="0"/>
                  </a:lnTo>
                  <a:lnTo>
                    <a:pt x="0" y="18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904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20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092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720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1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7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2720" y="15879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2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16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08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676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3416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5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34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05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640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514600" y="1509840"/>
              <a:ext cx="18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3160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9680" y="145584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3680" y="2998440"/>
              <a:ext cx="43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1280" y="2944440"/>
              <a:ext cx="7164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33680" y="4459320"/>
              <a:ext cx="432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1280" y="4430880"/>
              <a:ext cx="7164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192200" y="2989800"/>
              <a:ext cx="180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7280" y="294876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8640" y="1633320"/>
              <a:ext cx="66600" cy="71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0156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56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8560" y="1295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57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3820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1344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9800" y="1295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00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892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672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7660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086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24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295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34520" y="17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33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912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50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324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6428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596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440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0432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1000" y="1741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0960" y="226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9960" y="2266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045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184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413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620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2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3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6620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3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3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32320" y="3152160"/>
              <a:ext cx="34196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2320" y="2983320"/>
              <a:ext cx="34196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61400" y="4463280"/>
              <a:ext cx="790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04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0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092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7720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1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97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2720" y="30722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116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8908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676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416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05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734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505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6400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160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588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0156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2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156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2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58560" y="278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57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820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44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9800" y="2781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00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508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892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672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660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086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824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2360" y="2781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4520" y="3225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33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912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0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324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428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96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2440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432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1000" y="3225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0960" y="3750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69960" y="3750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045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184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13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2720" y="4558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16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908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5676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3416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05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34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505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4000" y="4643280"/>
              <a:ext cx="180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31600" y="4608720"/>
              <a:ext cx="69120" cy="66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0156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2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156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1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1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2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8560" y="4266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57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3820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344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9800" y="4266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0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508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892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672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660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86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824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62360" y="426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34520" y="471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3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912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0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2324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428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596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440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432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81000" y="471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0960" y="5241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9960" y="5241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045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184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413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9520" y="23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160" y="23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520" y="3854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1160" y="3854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800" y="5345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3960" y="5345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32864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904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20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92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7720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51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7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2960" y="4884120"/>
              <a:ext cx="7164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87880" y="4643280"/>
              <a:ext cx="1800" cy="25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14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2960" y="1464120"/>
              <a:ext cx="7164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187880" y="1496520"/>
              <a:ext cx="180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28640" y="4435200"/>
              <a:ext cx="66600" cy="69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8640" y="488412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61400" y="4467960"/>
              <a:ext cx="1800" cy="433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7880" y="4639320"/>
              <a:ext cx="95976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4608720"/>
              <a:ext cx="71640" cy="66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297560" y="1444680"/>
            <a:ext cx="1694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leitur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RD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6280" y="2895480"/>
            <a:ext cx="92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ecu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4120" y="4267080"/>
            <a:ext cx="1226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User</cp:lastModifiedBy>
  <cp:lastPrinted>2001-05-31T01:35:48Z</cp:lastPrinted>
  <dcterms:modified xsi:type="dcterms:W3CDTF">2002-06-11T22:23:41Z</dcterms:modified>
  <cp:revision>36</cp:revision>
  <dc:subject/>
  <dc:title>Chapter Seven</dc:title>
</cp:coreProperties>
</file>