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784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39280" y="6477120"/>
            <a:ext cx="168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5B-</a:t>
            </a:r>
            <a:fld id="{5167A540-FD80-433C-8855-E289A588394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hapter Five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he Processor: Datapath and Control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Parte C: microprogramaçã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225360" y="312840"/>
            <a:ext cx="325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encod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bit for each datapath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ster, requires more memory (logi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d for Vax 780 — an astonishing 400K of memor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ts of encod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nd the microinstructions through logic to get control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s less memory, sl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istorical context of CIS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o much logic to put on a single chip with everything e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a ROM (or even RAM) to hold the micro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t’s easy to add new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ximally vs. Minimally Enco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225360" y="312840"/>
            <a:ext cx="335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crocode:  Trade-of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istinction between specification and implementation is sometimes blurred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pecification Advantag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asy to design and wr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architecture and microcode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lementation (off-chip ROM) Advant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asy to change since values are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emulate other archite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make use of internal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lementation Disadvantages,  SLOWER now  th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 is implemented on same chip as proces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OM is no longer faster than 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need to go back and make chan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25360" y="312840"/>
            <a:ext cx="2317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822320" y="1004760"/>
            <a:ext cx="5035320" cy="3454200"/>
            <a:chOff x="1822320" y="1004760"/>
            <a:chExt cx="5035320" cy="3454200"/>
          </a:xfrm>
        </p:grpSpPr>
        <p:grpSp>
          <p:nvGrpSpPr>
            <p:cNvPr id="795" name=""/>
            <p:cNvGrpSpPr/>
            <p:nvPr/>
          </p:nvGrpSpPr>
          <p:grpSpPr>
            <a:xfrm>
              <a:off x="1822320" y="1225440"/>
              <a:ext cx="5034960" cy="2756880"/>
              <a:chOff x="1822320" y="1225440"/>
              <a:chExt cx="5034960" cy="2756880"/>
            </a:xfrm>
          </p:grpSpPr>
          <p:sp>
            <p:nvSpPr>
              <p:cNvPr id="796" name=""/>
              <p:cNvSpPr/>
              <p:nvPr/>
            </p:nvSpPr>
            <p:spPr>
              <a:xfrm>
                <a:off x="1822320" y="3594600"/>
                <a:ext cx="5034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822320" y="2728800"/>
                <a:ext cx="5034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822320" y="1864440"/>
                <a:ext cx="50349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37780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42460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2180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5816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60424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64420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73744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779920" y="12254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037240" y="1431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09412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18664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285280" y="1431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34000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434320" y="1431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2108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61900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712600" y="1431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75976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856960" y="1431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901960" y="14313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93904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3552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92520" y="12254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79476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83076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92976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96468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1508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11084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155840" y="1225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24476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28940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38696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3448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532400" y="12254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80880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908880" y="14313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94380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04352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136040" y="1431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19076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289760" y="1431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285520" y="13284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28080" y="1328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64800" y="132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553720" y="1328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0844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70096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799600" y="1328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85648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5008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048000" y="1328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10416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202080" y="13284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145240" y="2085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2586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3576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45016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5466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6402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73780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82168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86272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95380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053160" y="2085480"/>
                <a:ext cx="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32668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41272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50524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60424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651040" y="2292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70720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800800" y="2292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66240" y="2085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77928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8678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96000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00140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03776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2524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6124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20768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25340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3498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44888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53168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579920" y="2085480"/>
                <a:ext cx="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59424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7596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72708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82032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86784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96468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01112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05792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5476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24800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33620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382280" y="2292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42260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51476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975920" y="20854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11848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15520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244120" y="208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2988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3978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490000" y="208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5468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6458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738040" y="208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7934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892480" y="20854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3648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08400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17076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2632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36012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45552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4994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598440" y="208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656760" y="2085480"/>
                <a:ext cx="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140800" y="22921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24412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28804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83800" y="2292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42304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50548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0412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69664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74884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82948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92848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976000" y="2292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099120" y="229212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233040" y="22921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377040" y="2292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38716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47968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57868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670480" y="2946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712240" y="2946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801520" y="29462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037240" y="3147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0941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18664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285280" y="3147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34000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434320" y="3147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52108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61900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712600" y="3147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75976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856960" y="3147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901960" y="3147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93904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355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1824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0968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11048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203360" y="2946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244400" y="2946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326120" y="29462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7393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83580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92940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02624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125240" y="3147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171680" y="3147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2073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0596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98480" y="3147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604480" y="29462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713200" y="2946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76900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861520" y="2946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1372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006600" y="29462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562000" y="3147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6149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70744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804640" y="3147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84028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939280" y="3147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995120" y="379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042640" y="37994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18664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284920" y="3799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32164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419560" y="37994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55780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65644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753640" y="379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80008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892960" y="379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944080" y="3799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97936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07188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3171240" y="3799800"/>
              <a:ext cx="3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12200" y="400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25900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57640" y="400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4368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53728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634480" y="4006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67084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6876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6272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74080" y="3799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686760" y="3799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74220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8426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934800" y="3799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902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88880" y="37998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33960" y="37998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3718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4708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563720" y="3799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6040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697280" y="3799800"/>
              <a:ext cx="3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728160" y="4006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76920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86172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960000" y="4006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996360" y="400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83480" y="400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12920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228560" y="4006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84360" y="4006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4232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434480" y="400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428440" y="3799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5372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5020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74380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41720" y="3799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88888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98536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079320" y="3799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20360" y="3799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02440" y="3799800"/>
              <a:ext cx="3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01520" y="40064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4588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738760" y="40064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88240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75640" y="4006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037200" y="400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22320" y="1009800"/>
              <a:ext cx="5035320" cy="3449160"/>
            </a:xfrm>
            <a:custGeom>
              <a:avLst/>
              <a:gdLst/>
              <a:ahLst/>
              <a:rect l="l" t="t" r="r" b="b"/>
              <a:pathLst>
                <a:path w="2781" h="1904">
                  <a:moveTo>
                    <a:pt x="2781" y="1901"/>
                  </a:moveTo>
                  <a:lnTo>
                    <a:pt x="2781" y="0"/>
                  </a:lnTo>
                  <a:lnTo>
                    <a:pt x="0" y="0"/>
                  </a:lnTo>
                  <a:lnTo>
                    <a:pt x="0" y="1904"/>
                  </a:lnTo>
                  <a:lnTo>
                    <a:pt x="2781" y="1904"/>
                  </a:lnTo>
                  <a:lnTo>
                    <a:pt x="2781" y="19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41520" y="1004760"/>
              <a:ext cx="5040" cy="34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4111200" y="1668960"/>
              <a:ext cx="360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5794920" y="1668960"/>
              <a:ext cx="504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69080" y="1957320"/>
              <a:ext cx="86760" cy="86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5" y="4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4111200" y="1668960"/>
              <a:ext cx="360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755320" y="1957320"/>
              <a:ext cx="86400" cy="86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5" y="4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70320" y="1669320"/>
              <a:ext cx="1530000" cy="338760"/>
            </a:xfrm>
            <a:custGeom>
              <a:avLst/>
              <a:gdLst/>
              <a:ahLst/>
              <a:rect l="l" t="t" r="r" b="b"/>
              <a:pathLst>
                <a:path w="845" h="187">
                  <a:moveTo>
                    <a:pt x="842" y="176"/>
                  </a:moveTo>
                  <a:lnTo>
                    <a:pt x="845" y="0"/>
                  </a:lnTo>
                  <a:lnTo>
                    <a:pt x="0" y="18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217760" y="1963080"/>
              <a:ext cx="93960" cy="8100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52" y="45"/>
                  </a:moveTo>
                  <a:lnTo>
                    <a:pt x="43" y="0"/>
                  </a:lnTo>
                  <a:lnTo>
                    <a:pt x="0" y="34"/>
                  </a:lnTo>
                  <a:lnTo>
                    <a:pt x="52" y="45"/>
                  </a:lnTo>
                  <a:lnTo>
                    <a:pt x="5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11200" y="1669320"/>
              <a:ext cx="1530000" cy="338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599080" y="1963080"/>
              <a:ext cx="92160" cy="8100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0" y="45"/>
                  </a:moveTo>
                  <a:lnTo>
                    <a:pt x="12" y="0"/>
                  </a:lnTo>
                  <a:lnTo>
                    <a:pt x="51" y="34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4111200" y="2527560"/>
              <a:ext cx="3600" cy="32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5794920" y="2527560"/>
              <a:ext cx="5040" cy="32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69080" y="2817720"/>
              <a:ext cx="86760" cy="86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5" y="4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4111200" y="2527560"/>
              <a:ext cx="3600" cy="32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755320" y="2817720"/>
              <a:ext cx="86400" cy="86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5" y="4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70320" y="2527920"/>
              <a:ext cx="1530000" cy="340560"/>
            </a:xfrm>
            <a:custGeom>
              <a:avLst/>
              <a:gdLst/>
              <a:ahLst/>
              <a:rect l="l" t="t" r="r" b="b"/>
              <a:pathLst>
                <a:path w="845" h="188">
                  <a:moveTo>
                    <a:pt x="842" y="177"/>
                  </a:moveTo>
                  <a:lnTo>
                    <a:pt x="845" y="0"/>
                  </a:lnTo>
                  <a:lnTo>
                    <a:pt x="0" y="18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17760" y="2821680"/>
              <a:ext cx="93960" cy="8316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52" y="43"/>
                  </a:moveTo>
                  <a:lnTo>
                    <a:pt x="43" y="0"/>
                  </a:lnTo>
                  <a:lnTo>
                    <a:pt x="0" y="32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111200" y="2524680"/>
              <a:ext cx="1530000" cy="34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99080" y="2821680"/>
              <a:ext cx="92160" cy="8316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0" y="43"/>
                  </a:moveTo>
                  <a:lnTo>
                    <a:pt x="12" y="0"/>
                  </a:lnTo>
                  <a:lnTo>
                    <a:pt x="51" y="3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4111200" y="3382920"/>
              <a:ext cx="360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5794920" y="3382920"/>
              <a:ext cx="504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69080" y="3671280"/>
              <a:ext cx="86760" cy="885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0"/>
                  </a:moveTo>
                  <a:lnTo>
                    <a:pt x="0" y="3"/>
                  </a:lnTo>
                  <a:lnTo>
                    <a:pt x="25" y="49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4111200" y="3388680"/>
              <a:ext cx="3600" cy="31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755320" y="3671280"/>
              <a:ext cx="86400" cy="885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0"/>
                  </a:moveTo>
                  <a:lnTo>
                    <a:pt x="0" y="3"/>
                  </a:lnTo>
                  <a:lnTo>
                    <a:pt x="25" y="49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270320" y="3383280"/>
              <a:ext cx="1530000" cy="345600"/>
            </a:xfrm>
            <a:custGeom>
              <a:avLst/>
              <a:gdLst/>
              <a:ahLst/>
              <a:rect l="l" t="t" r="r" b="b"/>
              <a:pathLst>
                <a:path w="845" h="191">
                  <a:moveTo>
                    <a:pt x="842" y="176"/>
                  </a:moveTo>
                  <a:lnTo>
                    <a:pt x="845" y="0"/>
                  </a:lnTo>
                  <a:lnTo>
                    <a:pt x="0" y="19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217760" y="3676320"/>
              <a:ext cx="93960" cy="8316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52" y="46"/>
                  </a:moveTo>
                  <a:lnTo>
                    <a:pt x="43" y="0"/>
                  </a:lnTo>
                  <a:lnTo>
                    <a:pt x="0" y="34"/>
                  </a:lnTo>
                  <a:lnTo>
                    <a:pt x="52" y="46"/>
                  </a:lnTo>
                  <a:lnTo>
                    <a:pt x="5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111200" y="3383280"/>
              <a:ext cx="1530000" cy="34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599080" y="3676320"/>
              <a:ext cx="92160" cy="8316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0" y="46"/>
                  </a:moveTo>
                  <a:lnTo>
                    <a:pt x="12" y="0"/>
                  </a:lnTo>
                  <a:lnTo>
                    <a:pt x="51" y="34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2351520" y="4784760"/>
            <a:ext cx="4493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er “Historical perspective and further read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ISC x CI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ardw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croprogramado (firmw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4372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720" y="91260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lex instructions:  the "next state" is often current state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other Implementation Sty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36880" y="1371600"/>
            <a:ext cx="5083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isão ger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4118040" cy="29624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85280" y="2190600"/>
            <a:ext cx="4391280" cy="4017240"/>
            <a:chOff x="485280" y="2190600"/>
            <a:chExt cx="4391280" cy="4017240"/>
          </a:xfrm>
        </p:grpSpPr>
        <p:sp>
          <p:nvSpPr>
            <p:cNvPr id="50" name=""/>
            <p:cNvSpPr/>
            <p:nvPr/>
          </p:nvSpPr>
          <p:spPr>
            <a:xfrm>
              <a:off x="2438280" y="3962520"/>
              <a:ext cx="1905120" cy="1218960"/>
            </a:xfrm>
            <a:custGeom>
              <a:avLst/>
              <a:gdLst/>
              <a:ahLst/>
              <a:rect l="l" t="t" r="r" b="b"/>
              <a:pathLst>
                <a:path w="1200" h="768">
                  <a:moveTo>
                    <a:pt x="960" y="0"/>
                  </a:moveTo>
                  <a:lnTo>
                    <a:pt x="1200" y="0"/>
                  </a:lnTo>
                  <a:lnTo>
                    <a:pt x="1200" y="768"/>
                  </a:lnTo>
                  <a:lnTo>
                    <a:pt x="0" y="7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3886200" y="2666880"/>
              <a:ext cx="990360" cy="838440"/>
              <a:chOff x="3886200" y="2666880"/>
              <a:chExt cx="990360" cy="838440"/>
            </a:xfrm>
          </p:grpSpPr>
          <p:sp>
            <p:nvSpPr>
              <p:cNvPr id="52" name=""/>
              <p:cNvSpPr/>
              <p:nvPr/>
            </p:nvSpPr>
            <p:spPr>
              <a:xfrm>
                <a:off x="3886200" y="266688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86200" y="281952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886200" y="297180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86200" y="312408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886200" y="327672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886200" y="335268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886200" y="350532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90720" y="2819520"/>
              <a:ext cx="2057400" cy="1295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emória de 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icroContr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4419720"/>
              <a:ext cx="19051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5280" y="438768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0" idx="0"/>
              <a:endCxn id="59" idx="2"/>
            </p:cNvCxnSpPr>
            <p:nvPr/>
          </p:nvCxnSpPr>
          <p:spPr>
            <a:xfrm flipV="1">
              <a:off x="2018880" y="411408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" name=""/>
            <p:cNvSpPr/>
            <p:nvPr/>
          </p:nvSpPr>
          <p:spPr>
            <a:xfrm>
              <a:off x="2971800" y="45720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02040" y="431496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N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360" y="49528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(tabela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5" idx="0"/>
              <a:endCxn id="60" idx="2"/>
            </p:cNvCxnSpPr>
            <p:nvPr/>
          </p:nvCxnSpPr>
          <p:spPr>
            <a:xfrm flipV="1">
              <a:off x="2014200" y="4647960"/>
              <a:ext cx="54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" name=""/>
            <p:cNvSpPr/>
            <p:nvPr/>
          </p:nvSpPr>
          <p:spPr>
            <a:xfrm>
              <a:off x="2357280" y="5867280"/>
              <a:ext cx="1828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1120" y="58705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71480" y="5867280"/>
              <a:ext cx="685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9" idx="0"/>
              <a:endCxn id="65" idx="2"/>
            </p:cNvCxnSpPr>
            <p:nvPr/>
          </p:nvCxnSpPr>
          <p:spPr>
            <a:xfrm flipV="1">
              <a:off x="2014200" y="5486040"/>
              <a:ext cx="1080" cy="381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" name=""/>
            <p:cNvSpPr/>
            <p:nvPr/>
          </p:nvSpPr>
          <p:spPr>
            <a:xfrm>
              <a:off x="1753920" y="384336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2523240" y="33400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3276720" y="2971440"/>
              <a:ext cx="11430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3505320" y="3885840"/>
              <a:ext cx="685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2209680"/>
              <a:ext cx="4038480" cy="3429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880" y="2190600"/>
              <a:ext cx="32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Unidade de controle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program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3326760" y="2750400"/>
              <a:ext cx="50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8120" y="35053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7360" y="898560"/>
          <a:ext cx="6594480" cy="122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898560"/>
                    <a:ext cx="659448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71520" y="4629240"/>
          <a:ext cx="6062760" cy="205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520" y="4629240"/>
                    <a:ext cx="606276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448160" y="1638360"/>
            <a:ext cx="411804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croprogra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2400" y="2221560"/>
            <a:ext cx="8053560" cy="41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are the “microinstructions”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19320" y="1330200"/>
            <a:ext cx="4919760" cy="42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agrama de transição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463920" y="982800"/>
            <a:ext cx="5451480" cy="5645880"/>
            <a:chOff x="3463920" y="982800"/>
            <a:chExt cx="5451480" cy="5645880"/>
          </a:xfrm>
        </p:grpSpPr>
        <p:grpSp>
          <p:nvGrpSpPr>
            <p:cNvPr id="90" name=""/>
            <p:cNvGrpSpPr/>
            <p:nvPr/>
          </p:nvGrpSpPr>
          <p:grpSpPr>
            <a:xfrm>
              <a:off x="3514680" y="2795400"/>
              <a:ext cx="5078880" cy="2471040"/>
              <a:chOff x="3514680" y="2795400"/>
              <a:chExt cx="5078880" cy="2471040"/>
            </a:xfrm>
          </p:grpSpPr>
          <p:sp>
            <p:nvSpPr>
              <p:cNvPr id="91" name=""/>
              <p:cNvSpPr/>
              <p:nvPr/>
            </p:nvSpPr>
            <p:spPr>
              <a:xfrm>
                <a:off x="8057520" y="31554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124480" y="31554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197200" y="31554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290800" y="31554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325720" y="3155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349840" y="3155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376480" y="3155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35880" y="31554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892640" y="3277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61040" y="3277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035560" y="3277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10360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724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216280" y="327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49400" y="32778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0016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355960" y="3277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82960" y="32778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443440" y="3277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47188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52876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10040" y="2831760"/>
                <a:ext cx="91296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2"/>
                    </a:lnTo>
                    <a:lnTo>
                      <a:pt x="420" y="545"/>
                    </a:lnTo>
                    <a:lnTo>
                      <a:pt x="458" y="522"/>
                    </a:lnTo>
                    <a:lnTo>
                      <a:pt x="490" y="493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59" y="198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20" y="33"/>
                    </a:lnTo>
                    <a:lnTo>
                      <a:pt x="377" y="16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7" y="56"/>
                    </a:lnTo>
                    <a:lnTo>
                      <a:pt x="84" y="85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8"/>
                    </a:lnTo>
                    <a:lnTo>
                      <a:pt x="4" y="242"/>
                    </a:lnTo>
                    <a:lnTo>
                      <a:pt x="0" y="288"/>
                    </a:lnTo>
                    <a:lnTo>
                      <a:pt x="4" y="336"/>
                    </a:lnTo>
                    <a:lnTo>
                      <a:pt x="15" y="380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3"/>
                    </a:lnTo>
                    <a:lnTo>
                      <a:pt x="117" y="522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86080" y="2972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952320" y="2972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11720" y="2972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84440" y="2972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51040" y="29728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84160" y="29728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235280" y="2972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303680" y="2972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330680" y="2972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390800" y="2972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417800" y="2972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476840" y="29728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52600" y="309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19200" y="309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76800" y="3095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49520" y="309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17920" y="3095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50680" y="3095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01800" y="309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68760" y="3095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97200" y="3095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357680" y="3095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384320" y="309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443000" y="309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497720" y="30952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95440" y="32126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62040" y="3212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19640" y="32126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92720" y="321264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71560" y="3212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30600" y="3212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257600" y="32126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4840" y="3212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41480" y="3212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400160" y="3212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454880" y="32126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76360" y="33346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43320" y="33346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19280" y="33346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14680" y="3334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47800" y="33346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68680" y="3334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198560" y="3334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254360" y="33346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27080" y="3334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384320" y="3334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439760" y="3334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497720" y="33346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28840" y="3453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895800" y="34538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71760" y="3453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3836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9236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51040" y="34538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84160" y="3453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3492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290720" y="345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17720" y="34538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78200" y="345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0664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46352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57760" y="2834640"/>
                <a:ext cx="91260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3"/>
                    </a:moveTo>
                    <a:lnTo>
                      <a:pt x="335" y="571"/>
                    </a:lnTo>
                    <a:lnTo>
                      <a:pt x="379" y="560"/>
                    </a:lnTo>
                    <a:lnTo>
                      <a:pt x="419" y="543"/>
                    </a:lnTo>
                    <a:lnTo>
                      <a:pt x="458" y="520"/>
                    </a:lnTo>
                    <a:lnTo>
                      <a:pt x="490" y="491"/>
                    </a:lnTo>
                    <a:lnTo>
                      <a:pt x="519" y="456"/>
                    </a:lnTo>
                    <a:lnTo>
                      <a:pt x="544" y="420"/>
                    </a:lnTo>
                    <a:lnTo>
                      <a:pt x="561" y="378"/>
                    </a:lnTo>
                    <a:lnTo>
                      <a:pt x="571" y="334"/>
                    </a:lnTo>
                    <a:lnTo>
                      <a:pt x="575" y="288"/>
                    </a:lnTo>
                    <a:lnTo>
                      <a:pt x="571" y="240"/>
                    </a:lnTo>
                    <a:lnTo>
                      <a:pt x="561" y="196"/>
                    </a:lnTo>
                    <a:lnTo>
                      <a:pt x="544" y="155"/>
                    </a:lnTo>
                    <a:lnTo>
                      <a:pt x="519" y="117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19" y="33"/>
                    </a:lnTo>
                    <a:lnTo>
                      <a:pt x="379" y="14"/>
                    </a:lnTo>
                    <a:lnTo>
                      <a:pt x="335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4"/>
                    </a:lnTo>
                    <a:lnTo>
                      <a:pt x="155" y="33"/>
                    </a:lnTo>
                    <a:lnTo>
                      <a:pt x="118" y="56"/>
                    </a:lnTo>
                    <a:lnTo>
                      <a:pt x="84" y="85"/>
                    </a:lnTo>
                    <a:lnTo>
                      <a:pt x="55" y="117"/>
                    </a:lnTo>
                    <a:lnTo>
                      <a:pt x="32" y="155"/>
                    </a:lnTo>
                    <a:lnTo>
                      <a:pt x="15" y="196"/>
                    </a:lnTo>
                    <a:lnTo>
                      <a:pt x="3" y="240"/>
                    </a:lnTo>
                    <a:lnTo>
                      <a:pt x="0" y="288"/>
                    </a:lnTo>
                    <a:lnTo>
                      <a:pt x="3" y="334"/>
                    </a:lnTo>
                    <a:lnTo>
                      <a:pt x="15" y="378"/>
                    </a:lnTo>
                    <a:lnTo>
                      <a:pt x="32" y="420"/>
                    </a:lnTo>
                    <a:lnTo>
                      <a:pt x="55" y="456"/>
                    </a:lnTo>
                    <a:lnTo>
                      <a:pt x="84" y="491"/>
                    </a:lnTo>
                    <a:lnTo>
                      <a:pt x="118" y="520"/>
                    </a:lnTo>
                    <a:lnTo>
                      <a:pt x="155" y="543"/>
                    </a:lnTo>
                    <a:lnTo>
                      <a:pt x="197" y="560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33440" y="3115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00040" y="3115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57640" y="3115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30360" y="3115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98760" y="3115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31520" y="31158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82640" y="3115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49600" y="3115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278040" y="31158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344640" y="3115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99000" y="31158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87360" y="32382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53960" y="32382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13000" y="32382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986080" y="32382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52680" y="32382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85440" y="32382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36920" y="32382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204960" y="32382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31960" y="32382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292440" y="32382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319080" y="32382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374520" y="32382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32480" y="32382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39920" y="33555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06160" y="3355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963760" y="33555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037200" y="33555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116040" y="3355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182640" y="33555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44560" y="33555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271560" y="3355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325560" y="3355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44800" y="4354200"/>
                <a:ext cx="91296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8" y="561"/>
                    </a:lnTo>
                    <a:lnTo>
                      <a:pt x="420" y="544"/>
                    </a:lnTo>
                    <a:lnTo>
                      <a:pt x="458" y="521"/>
                    </a:lnTo>
                    <a:lnTo>
                      <a:pt x="491" y="492"/>
                    </a:lnTo>
                    <a:lnTo>
                      <a:pt x="519" y="458"/>
                    </a:lnTo>
                    <a:lnTo>
                      <a:pt x="542" y="419"/>
                    </a:lnTo>
                    <a:lnTo>
                      <a:pt x="560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0" y="197"/>
                    </a:lnTo>
                    <a:lnTo>
                      <a:pt x="542" y="157"/>
                    </a:lnTo>
                    <a:lnTo>
                      <a:pt x="519" y="118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78" y="15"/>
                    </a:lnTo>
                    <a:lnTo>
                      <a:pt x="333" y="3"/>
                    </a:lnTo>
                    <a:lnTo>
                      <a:pt x="287" y="0"/>
                    </a:lnTo>
                    <a:lnTo>
                      <a:pt x="241" y="3"/>
                    </a:lnTo>
                    <a:lnTo>
                      <a:pt x="197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6" y="118"/>
                    </a:lnTo>
                    <a:lnTo>
                      <a:pt x="33" y="157"/>
                    </a:lnTo>
                    <a:lnTo>
                      <a:pt x="15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5" y="379"/>
                    </a:lnTo>
                    <a:lnTo>
                      <a:pt x="33" y="419"/>
                    </a:lnTo>
                    <a:lnTo>
                      <a:pt x="56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7" y="561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60800" y="4609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933160" y="4609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990400" y="4609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046200" y="4609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18920" y="46098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171840" y="4609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98480" y="4609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25480" y="46098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85960" y="4609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14400" y="4609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372000" y="46098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916240" y="47286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988960" y="472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42960" y="472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100200" y="47286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195600" y="4728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228720" y="4728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52480" y="4728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80920" y="472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338880" y="4728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781600" y="48510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6656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24520" y="48510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09840" y="4851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3648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92280" y="48510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6500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22224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78040" y="4851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308280" y="48510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65520" y="4851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39216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79920" y="4354200"/>
                <a:ext cx="91260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8" y="575"/>
                    </a:moveTo>
                    <a:lnTo>
                      <a:pt x="334" y="571"/>
                    </a:lnTo>
                    <a:lnTo>
                      <a:pt x="378" y="561"/>
                    </a:lnTo>
                    <a:lnTo>
                      <a:pt x="420" y="544"/>
                    </a:lnTo>
                    <a:lnTo>
                      <a:pt x="458" y="521"/>
                    </a:lnTo>
                    <a:lnTo>
                      <a:pt x="491" y="492"/>
                    </a:lnTo>
                    <a:lnTo>
                      <a:pt x="520" y="458"/>
                    </a:lnTo>
                    <a:lnTo>
                      <a:pt x="543" y="419"/>
                    </a:lnTo>
                    <a:lnTo>
                      <a:pt x="560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0" y="197"/>
                    </a:lnTo>
                    <a:lnTo>
                      <a:pt x="543" y="157"/>
                    </a:lnTo>
                    <a:lnTo>
                      <a:pt x="520" y="118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78" y="15"/>
                    </a:lnTo>
                    <a:lnTo>
                      <a:pt x="334" y="3"/>
                    </a:lnTo>
                    <a:lnTo>
                      <a:pt x="288" y="0"/>
                    </a:lnTo>
                    <a:lnTo>
                      <a:pt x="242" y="3"/>
                    </a:lnTo>
                    <a:lnTo>
                      <a:pt x="198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6" y="118"/>
                    </a:lnTo>
                    <a:lnTo>
                      <a:pt x="33" y="157"/>
                    </a:lnTo>
                    <a:lnTo>
                      <a:pt x="15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5" y="379"/>
                    </a:lnTo>
                    <a:lnTo>
                      <a:pt x="33" y="419"/>
                    </a:lnTo>
                    <a:lnTo>
                      <a:pt x="56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8" y="561"/>
                    </a:lnTo>
                    <a:lnTo>
                      <a:pt x="242" y="571"/>
                    </a:lnTo>
                    <a:lnTo>
                      <a:pt x="288" y="575"/>
                    </a:lnTo>
                    <a:lnTo>
                      <a:pt x="288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11400" y="4692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9492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51080" y="4692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036400" y="469224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30360" y="46922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6720" y="46922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187240" y="4692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1568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73640" y="46922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53880" y="481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0880" y="481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938120" y="48114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971600" y="48114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44680" y="481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73120" y="48114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33600" y="481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60240" y="481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14680" y="4350960"/>
                <a:ext cx="91260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8" y="575"/>
                    </a:moveTo>
                    <a:lnTo>
                      <a:pt x="336" y="571"/>
                    </a:lnTo>
                    <a:lnTo>
                      <a:pt x="380" y="561"/>
                    </a:lnTo>
                    <a:lnTo>
                      <a:pt x="420" y="544"/>
                    </a:lnTo>
                    <a:lnTo>
                      <a:pt x="458" y="519"/>
                    </a:lnTo>
                    <a:lnTo>
                      <a:pt x="491" y="490"/>
                    </a:lnTo>
                    <a:lnTo>
                      <a:pt x="520" y="458"/>
                    </a:lnTo>
                    <a:lnTo>
                      <a:pt x="543" y="420"/>
                    </a:lnTo>
                    <a:lnTo>
                      <a:pt x="562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2" y="197"/>
                    </a:lnTo>
                    <a:lnTo>
                      <a:pt x="543" y="155"/>
                    </a:lnTo>
                    <a:lnTo>
                      <a:pt x="520" y="119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80" y="15"/>
                    </a:lnTo>
                    <a:lnTo>
                      <a:pt x="336" y="4"/>
                    </a:lnTo>
                    <a:lnTo>
                      <a:pt x="288" y="0"/>
                    </a:lnTo>
                    <a:lnTo>
                      <a:pt x="242" y="4"/>
                    </a:lnTo>
                    <a:lnTo>
                      <a:pt x="198" y="15"/>
                    </a:lnTo>
                    <a:lnTo>
                      <a:pt x="156" y="32"/>
                    </a:lnTo>
                    <a:lnTo>
                      <a:pt x="119" y="55"/>
                    </a:lnTo>
                    <a:lnTo>
                      <a:pt x="85" y="84"/>
                    </a:lnTo>
                    <a:lnTo>
                      <a:pt x="56" y="119"/>
                    </a:lnTo>
                    <a:lnTo>
                      <a:pt x="33" y="155"/>
                    </a:lnTo>
                    <a:lnTo>
                      <a:pt x="16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6" y="379"/>
                    </a:lnTo>
                    <a:lnTo>
                      <a:pt x="33" y="420"/>
                    </a:lnTo>
                    <a:lnTo>
                      <a:pt x="56" y="458"/>
                    </a:lnTo>
                    <a:lnTo>
                      <a:pt x="85" y="490"/>
                    </a:lnTo>
                    <a:lnTo>
                      <a:pt x="119" y="519"/>
                    </a:lnTo>
                    <a:lnTo>
                      <a:pt x="156" y="544"/>
                    </a:lnTo>
                    <a:lnTo>
                      <a:pt x="198" y="561"/>
                    </a:lnTo>
                    <a:lnTo>
                      <a:pt x="242" y="571"/>
                    </a:lnTo>
                    <a:lnTo>
                      <a:pt x="288" y="575"/>
                    </a:lnTo>
                    <a:lnTo>
                      <a:pt x="288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733560" y="4692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1564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873240" y="4692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58920" y="46922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3164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08708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432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00480" y="46922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776040" y="4814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03040" y="4814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58840" y="4814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891960" y="4814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65040" y="4814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995280" y="4814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53960" y="4814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80600" y="4814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27280" y="279540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5" y="571"/>
                    </a:lnTo>
                    <a:lnTo>
                      <a:pt x="379" y="562"/>
                    </a:lnTo>
                    <a:lnTo>
                      <a:pt x="420" y="545"/>
                    </a:lnTo>
                    <a:lnTo>
                      <a:pt x="458" y="520"/>
                    </a:lnTo>
                    <a:lnTo>
                      <a:pt x="491" y="491"/>
                    </a:lnTo>
                    <a:lnTo>
                      <a:pt x="519" y="458"/>
                    </a:lnTo>
                    <a:lnTo>
                      <a:pt x="544" y="420"/>
                    </a:lnTo>
                    <a:lnTo>
                      <a:pt x="562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62" y="198"/>
                    </a:lnTo>
                    <a:lnTo>
                      <a:pt x="544" y="156"/>
                    </a:lnTo>
                    <a:lnTo>
                      <a:pt x="519" y="119"/>
                    </a:lnTo>
                    <a:lnTo>
                      <a:pt x="491" y="85"/>
                    </a:lnTo>
                    <a:lnTo>
                      <a:pt x="458" y="56"/>
                    </a:lnTo>
                    <a:lnTo>
                      <a:pt x="420" y="33"/>
                    </a:lnTo>
                    <a:lnTo>
                      <a:pt x="379" y="16"/>
                    </a:lnTo>
                    <a:lnTo>
                      <a:pt x="335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9" y="56"/>
                    </a:lnTo>
                    <a:lnTo>
                      <a:pt x="84" y="85"/>
                    </a:lnTo>
                    <a:lnTo>
                      <a:pt x="56" y="119"/>
                    </a:lnTo>
                    <a:lnTo>
                      <a:pt x="33" y="156"/>
                    </a:lnTo>
                    <a:lnTo>
                      <a:pt x="15" y="198"/>
                    </a:lnTo>
                    <a:lnTo>
                      <a:pt x="4" y="242"/>
                    </a:lnTo>
                    <a:lnTo>
                      <a:pt x="0" y="288"/>
                    </a:lnTo>
                    <a:lnTo>
                      <a:pt x="4" y="336"/>
                    </a:lnTo>
                    <a:lnTo>
                      <a:pt x="15" y="380"/>
                    </a:lnTo>
                    <a:lnTo>
                      <a:pt x="33" y="420"/>
                    </a:lnTo>
                    <a:lnTo>
                      <a:pt x="56" y="458"/>
                    </a:lnTo>
                    <a:lnTo>
                      <a:pt x="84" y="491"/>
                    </a:lnTo>
                    <a:lnTo>
                      <a:pt x="119" y="520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690360" y="30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58400" y="30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16000" y="30729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88720" y="30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55680" y="3072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88440" y="3072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41360" y="30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07960" y="3072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34960" y="30729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6880" y="3072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23520" y="30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78240" y="307296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657240" y="31950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25280" y="3195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463920" y="1047600"/>
              <a:ext cx="5224320" cy="5581080"/>
              <a:chOff x="3463920" y="1047600"/>
              <a:chExt cx="5224320" cy="5581080"/>
            </a:xfrm>
          </p:grpSpPr>
          <p:sp>
            <p:nvSpPr>
              <p:cNvPr id="292" name=""/>
              <p:cNvSpPr/>
              <p:nvPr/>
            </p:nvSpPr>
            <p:spPr>
              <a:xfrm>
                <a:off x="3782520" y="31950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55600" y="31950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22200" y="31950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955320" y="31950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007880" y="31950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74480" y="3195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01480" y="31950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63400" y="3195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90400" y="3195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244400" y="3195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03440" y="319500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00080" y="33141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66320" y="331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25360" y="33141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898800" y="33141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7640" y="331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31640" y="3314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61880" y="33141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120560" y="3314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147560" y="331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04440" y="331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46160" y="5914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22120" y="5914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75760" y="5914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35160" y="5914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07520" y="5914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055400" y="5914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98240" y="59144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71320" y="5914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30360" y="59144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85760" y="60336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858480" y="603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912480" y="603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971520" y="60336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065120" y="6033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098240" y="6033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123800" y="6033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150440" y="603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208400" y="6033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73440" y="61560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75840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813120" y="61560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898440" y="6156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2508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82680" y="61560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05540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1084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81040" y="61560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5052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06680" y="61560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983040" y="6276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463920" y="5616000"/>
                <a:ext cx="1015920" cy="1012680"/>
              </a:xfrm>
              <a:custGeom>
                <a:avLst/>
                <a:gdLst/>
                <a:ahLst/>
                <a:rect l="l" t="t" r="r" b="b"/>
                <a:pathLst>
                  <a:path w="640" h="638">
                    <a:moveTo>
                      <a:pt x="320" y="638"/>
                    </a:moveTo>
                    <a:lnTo>
                      <a:pt x="372" y="635"/>
                    </a:lnTo>
                    <a:lnTo>
                      <a:pt x="421" y="623"/>
                    </a:lnTo>
                    <a:lnTo>
                      <a:pt x="467" y="604"/>
                    </a:lnTo>
                    <a:lnTo>
                      <a:pt x="508" y="577"/>
                    </a:lnTo>
                    <a:lnTo>
                      <a:pt x="546" y="546"/>
                    </a:lnTo>
                    <a:lnTo>
                      <a:pt x="577" y="508"/>
                    </a:lnTo>
                    <a:lnTo>
                      <a:pt x="603" y="466"/>
                    </a:lnTo>
                    <a:lnTo>
                      <a:pt x="623" y="420"/>
                    </a:lnTo>
                    <a:lnTo>
                      <a:pt x="634" y="372"/>
                    </a:lnTo>
                    <a:lnTo>
                      <a:pt x="640" y="320"/>
                    </a:lnTo>
                    <a:lnTo>
                      <a:pt x="634" y="268"/>
                    </a:lnTo>
                    <a:lnTo>
                      <a:pt x="623" y="219"/>
                    </a:lnTo>
                    <a:lnTo>
                      <a:pt x="603" y="173"/>
                    </a:lnTo>
                    <a:lnTo>
                      <a:pt x="577" y="130"/>
                    </a:lnTo>
                    <a:lnTo>
                      <a:pt x="546" y="94"/>
                    </a:lnTo>
                    <a:lnTo>
                      <a:pt x="508" y="61"/>
                    </a:lnTo>
                    <a:lnTo>
                      <a:pt x="467" y="37"/>
                    </a:lnTo>
                    <a:lnTo>
                      <a:pt x="421" y="17"/>
                    </a:lnTo>
                    <a:lnTo>
                      <a:pt x="372" y="4"/>
                    </a:lnTo>
                    <a:lnTo>
                      <a:pt x="320" y="0"/>
                    </a:lnTo>
                    <a:lnTo>
                      <a:pt x="268" y="4"/>
                    </a:lnTo>
                    <a:lnTo>
                      <a:pt x="218" y="17"/>
                    </a:lnTo>
                    <a:lnTo>
                      <a:pt x="172" y="37"/>
                    </a:lnTo>
                    <a:lnTo>
                      <a:pt x="132" y="61"/>
                    </a:lnTo>
                    <a:lnTo>
                      <a:pt x="94" y="94"/>
                    </a:lnTo>
                    <a:lnTo>
                      <a:pt x="61" y="130"/>
                    </a:lnTo>
                    <a:lnTo>
                      <a:pt x="36" y="173"/>
                    </a:lnTo>
                    <a:lnTo>
                      <a:pt x="17" y="219"/>
                    </a:lnTo>
                    <a:lnTo>
                      <a:pt x="5" y="268"/>
                    </a:lnTo>
                    <a:lnTo>
                      <a:pt x="0" y="320"/>
                    </a:lnTo>
                    <a:lnTo>
                      <a:pt x="5" y="372"/>
                    </a:lnTo>
                    <a:lnTo>
                      <a:pt x="17" y="420"/>
                    </a:lnTo>
                    <a:lnTo>
                      <a:pt x="36" y="466"/>
                    </a:lnTo>
                    <a:lnTo>
                      <a:pt x="61" y="508"/>
                    </a:lnTo>
                    <a:lnTo>
                      <a:pt x="94" y="546"/>
                    </a:lnTo>
                    <a:lnTo>
                      <a:pt x="132" y="577"/>
                    </a:lnTo>
                    <a:lnTo>
                      <a:pt x="172" y="604"/>
                    </a:lnTo>
                    <a:lnTo>
                      <a:pt x="218" y="623"/>
                    </a:lnTo>
                    <a:lnTo>
                      <a:pt x="268" y="635"/>
                    </a:lnTo>
                    <a:lnTo>
                      <a:pt x="320" y="638"/>
                    </a:lnTo>
                    <a:lnTo>
                      <a:pt x="320" y="6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31040" y="2223720"/>
                <a:ext cx="1440" cy="56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470120" y="1925280"/>
                <a:ext cx="3332160" cy="12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6338520" y="2077560"/>
                <a:ext cx="1554120" cy="78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7454520" y="2183760"/>
                <a:ext cx="587160" cy="6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75280" y="2831760"/>
                <a:ext cx="91296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2"/>
                    </a:lnTo>
                    <a:lnTo>
                      <a:pt x="419" y="545"/>
                    </a:lnTo>
                    <a:lnTo>
                      <a:pt x="458" y="522"/>
                    </a:lnTo>
                    <a:lnTo>
                      <a:pt x="490" y="493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59" y="198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19" y="33"/>
                    </a:lnTo>
                    <a:lnTo>
                      <a:pt x="377" y="16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7" y="56"/>
                    </a:lnTo>
                    <a:lnTo>
                      <a:pt x="84" y="85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8"/>
                    </a:lnTo>
                    <a:lnTo>
                      <a:pt x="3" y="242"/>
                    </a:lnTo>
                    <a:lnTo>
                      <a:pt x="0" y="288"/>
                    </a:lnTo>
                    <a:lnTo>
                      <a:pt x="3" y="336"/>
                    </a:lnTo>
                    <a:lnTo>
                      <a:pt x="15" y="380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3"/>
                    </a:lnTo>
                    <a:lnTo>
                      <a:pt x="117" y="522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00560" y="3744360"/>
                <a:ext cx="1440" cy="58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971880" y="3708000"/>
                <a:ext cx="1440" cy="62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46320" y="5559120"/>
                <a:ext cx="49320" cy="5040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31" y="0"/>
                    </a:moveTo>
                    <a:lnTo>
                      <a:pt x="0" y="0"/>
                    </a:lnTo>
                    <a:lnTo>
                      <a:pt x="16" y="32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971880" y="5266800"/>
                <a:ext cx="1440" cy="29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775280" y="131076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1"/>
                    </a:lnTo>
                    <a:lnTo>
                      <a:pt x="419" y="544"/>
                    </a:lnTo>
                    <a:lnTo>
                      <a:pt x="458" y="521"/>
                    </a:lnTo>
                    <a:lnTo>
                      <a:pt x="490" y="492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59" y="197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4"/>
                    </a:lnTo>
                    <a:lnTo>
                      <a:pt x="458" y="55"/>
                    </a:lnTo>
                    <a:lnTo>
                      <a:pt x="419" y="32"/>
                    </a:lnTo>
                    <a:lnTo>
                      <a:pt x="377" y="15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7"/>
                    </a:lnTo>
                    <a:lnTo>
                      <a:pt x="3" y="241"/>
                    </a:lnTo>
                    <a:lnTo>
                      <a:pt x="0" y="287"/>
                    </a:lnTo>
                    <a:lnTo>
                      <a:pt x="3" y="335"/>
                    </a:lnTo>
                    <a:lnTo>
                      <a:pt x="15" y="379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7" y="561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968600" y="1572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035200" y="1572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094240" y="15728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167320" y="1572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233920" y="15728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266680" y="1572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319600" y="1572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386200" y="1572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413200" y="15728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471880" y="1572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501760" y="1572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556480" y="15728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935480" y="1694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001720" y="1694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0760" y="1694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133840" y="1694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200440" y="16948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233560" y="16948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286120" y="1694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352720" y="1694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379720" y="1694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436960" y="1694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468640" y="1694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522640" y="1694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581680" y="16948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978320" y="18154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44560" y="181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103600" y="1815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177040" y="18154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254080" y="181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09880" y="1815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336880" y="18154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398800" y="1815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425800" y="181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479800" y="181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76640" y="13298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960160" y="132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016320" y="13298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00200" y="13298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72920" y="132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31600" y="132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85600" y="132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45000" y="13298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20840" y="1450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87440" y="1450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946480" y="1450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019200" y="1450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85800" y="14504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18920" y="145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71840" y="1450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238440" y="1450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265440" y="14504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325560" y="1450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354000" y="1450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11600" y="14504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17680" y="1569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946120" y="1569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003360" y="1569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036840" y="15696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09920" y="1569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36920" y="15696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98480" y="1569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225480" y="1569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281640" y="1569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43240" y="1691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70240" y="16916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42960" y="169164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36920" y="1691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71480" y="16916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95600" y="1691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2240" y="1691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81640" y="16916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787360" y="1810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53960" y="1810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13000" y="1810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986080" y="1810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52680" y="1810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85440" y="18108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36920" y="1810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04960" y="1810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31960" y="18108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92440" y="1810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319080" y="1810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377760" y="1810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432480" y="18108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30200" y="19314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896800" y="19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954400" y="19314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27480" y="193140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106320" y="19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65360" y="193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192360" y="19314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49600" y="193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77680" y="19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34920" y="19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91080" y="193140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927040" y="20505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94000" y="20505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66720" y="20505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62120" y="20505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195240" y="20505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19360" y="20505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46000" y="2050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05400" y="205056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763600" y="21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830560" y="21729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06520" y="21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7312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2712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85800" y="2172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118920" y="2172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17148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225480" y="2172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252480" y="21729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314400" y="2172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34140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39828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516280" y="1255320"/>
                <a:ext cx="1141560" cy="1137960"/>
              </a:xfrm>
              <a:custGeom>
                <a:avLst/>
                <a:gdLst/>
                <a:ahLst/>
                <a:rect l="l" t="t" r="r" b="b"/>
                <a:pathLst>
                  <a:path w="719" h="717">
                    <a:moveTo>
                      <a:pt x="359" y="717"/>
                    </a:moveTo>
                    <a:lnTo>
                      <a:pt x="418" y="713"/>
                    </a:lnTo>
                    <a:lnTo>
                      <a:pt x="474" y="700"/>
                    </a:lnTo>
                    <a:lnTo>
                      <a:pt x="526" y="677"/>
                    </a:lnTo>
                    <a:lnTo>
                      <a:pt x="572" y="648"/>
                    </a:lnTo>
                    <a:lnTo>
                      <a:pt x="614" y="614"/>
                    </a:lnTo>
                    <a:lnTo>
                      <a:pt x="650" y="572"/>
                    </a:lnTo>
                    <a:lnTo>
                      <a:pt x="679" y="524"/>
                    </a:lnTo>
                    <a:lnTo>
                      <a:pt x="700" y="472"/>
                    </a:lnTo>
                    <a:lnTo>
                      <a:pt x="713" y="418"/>
                    </a:lnTo>
                    <a:lnTo>
                      <a:pt x="719" y="359"/>
                    </a:lnTo>
                    <a:lnTo>
                      <a:pt x="713" y="301"/>
                    </a:lnTo>
                    <a:lnTo>
                      <a:pt x="700" y="246"/>
                    </a:lnTo>
                    <a:lnTo>
                      <a:pt x="679" y="194"/>
                    </a:lnTo>
                    <a:lnTo>
                      <a:pt x="650" y="148"/>
                    </a:lnTo>
                    <a:lnTo>
                      <a:pt x="614" y="106"/>
                    </a:lnTo>
                    <a:lnTo>
                      <a:pt x="572" y="69"/>
                    </a:lnTo>
                    <a:lnTo>
                      <a:pt x="526" y="41"/>
                    </a:lnTo>
                    <a:lnTo>
                      <a:pt x="474" y="20"/>
                    </a:lnTo>
                    <a:lnTo>
                      <a:pt x="418" y="6"/>
                    </a:lnTo>
                    <a:lnTo>
                      <a:pt x="361" y="0"/>
                    </a:lnTo>
                    <a:lnTo>
                      <a:pt x="301" y="6"/>
                    </a:lnTo>
                    <a:lnTo>
                      <a:pt x="246" y="20"/>
                    </a:lnTo>
                    <a:lnTo>
                      <a:pt x="196" y="41"/>
                    </a:lnTo>
                    <a:lnTo>
                      <a:pt x="148" y="69"/>
                    </a:lnTo>
                    <a:lnTo>
                      <a:pt x="106" y="106"/>
                    </a:lnTo>
                    <a:lnTo>
                      <a:pt x="71" y="148"/>
                    </a:lnTo>
                    <a:lnTo>
                      <a:pt x="41" y="194"/>
                    </a:lnTo>
                    <a:lnTo>
                      <a:pt x="20" y="246"/>
                    </a:lnTo>
                    <a:lnTo>
                      <a:pt x="6" y="301"/>
                    </a:lnTo>
                    <a:lnTo>
                      <a:pt x="0" y="359"/>
                    </a:lnTo>
                    <a:lnTo>
                      <a:pt x="6" y="418"/>
                    </a:lnTo>
                    <a:lnTo>
                      <a:pt x="20" y="472"/>
                    </a:lnTo>
                    <a:lnTo>
                      <a:pt x="41" y="524"/>
                    </a:lnTo>
                    <a:lnTo>
                      <a:pt x="71" y="572"/>
                    </a:lnTo>
                    <a:lnTo>
                      <a:pt x="106" y="614"/>
                    </a:lnTo>
                    <a:lnTo>
                      <a:pt x="148" y="648"/>
                    </a:lnTo>
                    <a:lnTo>
                      <a:pt x="196" y="677"/>
                    </a:lnTo>
                    <a:lnTo>
                      <a:pt x="246" y="700"/>
                    </a:lnTo>
                    <a:lnTo>
                      <a:pt x="301" y="713"/>
                    </a:lnTo>
                    <a:lnTo>
                      <a:pt x="361" y="717"/>
                    </a:lnTo>
                    <a:lnTo>
                      <a:pt x="361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46680" y="1766520"/>
                <a:ext cx="10890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20496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160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288840" y="11282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34140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368400" y="11282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0152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456960" y="11282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50808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536520" y="11282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56028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61428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67332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032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2696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78600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812640" y="11282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86520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79256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1920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3600360" y="982800"/>
              <a:ext cx="5315040" cy="5141520"/>
              <a:chOff x="3600360" y="982800"/>
              <a:chExt cx="5315040" cy="5141520"/>
            </a:xfrm>
          </p:grpSpPr>
          <p:sp>
            <p:nvSpPr>
              <p:cNvPr id="493" name=""/>
              <p:cNvSpPr/>
              <p:nvPr/>
            </p:nvSpPr>
            <p:spPr>
              <a:xfrm>
                <a:off x="7877880" y="1047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92576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957440" y="1047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99056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044560" y="1047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09748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124120" y="1047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14788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20332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26092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28900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34300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400240" y="1047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45280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50824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56548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61948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648640" y="1047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935480" y="1164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96860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02728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081280" y="11649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106480" y="1164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157600" y="116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18424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240040" y="1164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273520" y="116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303760" y="116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33040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386200" y="116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416080" y="1164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46540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290440" y="25891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343000" y="2589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400960" y="25891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482680" y="2589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542080" y="258912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290440" y="2708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34300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400960" y="27082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48268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541720" y="2708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56224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619480" y="2708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647920" y="2708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66844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72748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011360" y="25686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077960" y="2568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111080" y="256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168320" y="256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23760" y="2568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74880" y="256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3920" y="2568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922080" y="2687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714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29360" y="26874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11432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168320" y="268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19388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47880" y="2687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74880" y="268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0008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35408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87440" y="26874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953680" y="2687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0030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61680" y="2687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1128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68600" y="2687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195240" y="268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190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748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600360" y="25160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8532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43280" y="25160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2500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882600" y="2516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5360" y="25160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68280" y="25160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99492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05072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10760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163400" y="2516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19976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53760" y="25160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05960" y="25160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54200" y="25160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693240" y="2638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4580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800160" y="26384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88548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94416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998520" y="2638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02840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84200" y="2638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0840" y="26384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3460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9040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08320" y="4119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93280" y="4119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251240" y="4119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32960" y="4119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390560" y="4119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423320" y="4119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76600" y="41194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107600" y="4238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16484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21704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266360" y="4238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32360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37256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213160" y="4119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296680" y="4119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352840" y="4119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438160" y="4119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95400" y="4119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28520" y="4119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578200" y="41194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212440" y="4238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6644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31864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69760" y="4238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42520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47740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65440" y="4254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338520" y="4254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371640" y="425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98280" y="4254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45084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50484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563880" y="425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590520" y="4254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64308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697440" y="4254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78276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840000" y="42544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6196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919200" y="425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946200" y="42544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96852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2540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074480" y="54831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71320" y="5483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204440" y="54831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27120" y="548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25376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311000" y="5483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34592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39992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456800" y="548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09360" y="548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558680" y="548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588560" y="548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638240" y="548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66488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72212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281480" y="3598920"/>
                <a:ext cx="642600" cy="73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476600" y="982800"/>
                <a:ext cx="4438800" cy="5141520"/>
              </a:xfrm>
              <a:custGeom>
                <a:avLst/>
                <a:gdLst/>
                <a:ahLst/>
                <a:rect l="l" t="t" r="r" b="b"/>
                <a:pathLst>
                  <a:path w="2796" h="3239">
                    <a:moveTo>
                      <a:pt x="0" y="3237"/>
                    </a:moveTo>
                    <a:lnTo>
                      <a:pt x="2796" y="3239"/>
                    </a:lnTo>
                    <a:lnTo>
                      <a:pt x="2796" y="0"/>
                    </a:lnTo>
                    <a:lnTo>
                      <a:pt x="1023" y="0"/>
                    </a:lnTo>
                    <a:lnTo>
                      <a:pt x="1023" y="15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037120" y="5267160"/>
                <a:ext cx="1440" cy="80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100560" y="5267160"/>
                <a:ext cx="1440" cy="80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716600" y="1743120"/>
                <a:ext cx="52560" cy="518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8207280" y="2778120"/>
                <a:ext cx="47520" cy="5040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430760" y="2857320"/>
                <a:ext cx="52560" cy="536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19"/>
                    </a:moveTo>
                    <a:lnTo>
                      <a:pt x="10" y="0"/>
                    </a:lnTo>
                    <a:lnTo>
                      <a:pt x="0" y="34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305400" y="2828880"/>
                <a:ext cx="57240" cy="4572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34" y="29"/>
                    </a:moveTo>
                    <a:lnTo>
                      <a:pt x="23" y="0"/>
                    </a:lnTo>
                    <a:lnTo>
                      <a:pt x="0" y="29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430520" y="3112920"/>
                <a:ext cx="58680" cy="47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5" y="28"/>
                    </a:moveTo>
                    <a:lnTo>
                      <a:pt x="25" y="0"/>
                    </a:lnTo>
                    <a:lnTo>
                      <a:pt x="0" y="25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20400000">
                <a:off x="4743000" y="2886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20400000">
                <a:off x="4768560" y="28764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20400000">
                <a:off x="4800240" y="28569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20400000">
                <a:off x="4872960" y="28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20400000">
                <a:off x="4925520" y="2820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20400000">
                <a:off x="4952520" y="28047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20400000">
                <a:off x="5007960" y="2790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20400000">
                <a:off x="5035320" y="278280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0400000">
                <a:off x="5052240" y="2768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20400000">
                <a:off x="5103360" y="27396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20400000">
                <a:off x="5197320" y="272556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20400000">
                <a:off x="5214600" y="2712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20400000">
                <a:off x="5246280" y="2704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20400000">
                <a:off x="5272920" y="2685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20400000">
                <a:off x="5324400" y="26733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20400000">
                <a:off x="5358960" y="2661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20400000">
                <a:off x="5383080" y="2651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20400000">
                <a:off x="5414760" y="263160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20400000">
                <a:off x="5487120" y="2607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20400000">
                <a:off x="5542920" y="2594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20400000">
                <a:off x="5566680" y="25790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20400000">
                <a:off x="5625720" y="2564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20400000">
                <a:off x="5651280" y="255744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20400000">
                <a:off x="5666760" y="25412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20400000">
                <a:off x="5730120" y="25110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20400000">
                <a:off x="5824440" y="249696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20400000">
                <a:off x="5841720" y="24843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19980000">
                <a:off x="6798600" y="2463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980000">
                <a:off x="6826320" y="24375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9980000">
                <a:off x="6896880" y="2408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9980000">
                <a:off x="6951240" y="2391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9980000">
                <a:off x="6973200" y="23695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9980000">
                <a:off x="7030440" y="2352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9980000">
                <a:off x="7053120" y="2326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 rot="19980000">
              <a:off x="7117920" y="2304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9980000">
              <a:off x="7147800" y="2290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19980000">
              <a:off x="7176240" y="2272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9980000">
              <a:off x="7219080" y="224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9980000">
              <a:off x="7268400" y="2225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19980000">
              <a:off x="7322760" y="220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8600000">
              <a:off x="7520040" y="2593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8600000">
              <a:off x="7535520" y="254412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8600000">
              <a:off x="7589520" y="249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8600000">
              <a:off x="7631280" y="24660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8600000">
              <a:off x="7641720" y="242856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8600000">
              <a:off x="7688160" y="2399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8600000">
              <a:off x="7709040" y="238356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8600000">
              <a:off x="7710480" y="23443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8600000">
              <a:off x="7753320" y="22935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8600000">
              <a:off x="7797600" y="223632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8600000">
              <a:off x="7858440" y="220428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8600000">
              <a:off x="7866000" y="2181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6200000">
              <a:off x="8134200" y="2619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16200000">
              <a:off x="8109000" y="25581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6200000">
              <a:off x="8121240" y="2492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6200000">
              <a:off x="8137080" y="2454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6200000">
              <a:off x="8119800" y="240588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6200000">
              <a:off x="8137080" y="2367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6200000">
              <a:off x="8142480" y="23436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6200000">
              <a:off x="8124120" y="2304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6200000">
              <a:off x="8142480" y="227376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6200000">
              <a:off x="8134200" y="2244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2880000">
              <a:off x="4452120" y="3636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2880000">
              <a:off x="4467600" y="3660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880000">
              <a:off x="4486680" y="37029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2880000">
              <a:off x="4542120" y="3754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2880000">
              <a:off x="4581720" y="3785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2880000">
              <a:off x="4597920" y="382032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880000">
              <a:off x="4640760" y="3849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2880000">
              <a:off x="4659840" y="386676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2880000">
              <a:off x="4666320" y="39016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2880000">
              <a:off x="4703760" y="396540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880000">
              <a:off x="4779360" y="40032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880000">
              <a:off x="4791600" y="4025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6200000">
              <a:off x="3870360" y="4200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6200000">
              <a:off x="3845160" y="413784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6200000">
              <a:off x="3857400" y="4073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6200000">
              <a:off x="3873240" y="4034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6200000">
              <a:off x="3855960" y="398808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6200000">
              <a:off x="3873240" y="3945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6200000">
              <a:off x="3878640" y="392292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6200000">
              <a:off x="3857400" y="3883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6200000">
              <a:off x="3835080" y="38037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6200000">
              <a:off x="3878640" y="37530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6200000">
              <a:off x="3870360" y="3726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946320" y="429552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6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94200" y="4302000"/>
              <a:ext cx="54000" cy="5508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23" y="0"/>
                  </a:moveTo>
                  <a:lnTo>
                    <a:pt x="0" y="23"/>
                  </a:lnTo>
                  <a:lnTo>
                    <a:pt x="34" y="3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76800" y="429552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5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76800" y="6067440"/>
              <a:ext cx="49320" cy="50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11560" y="6067440"/>
              <a:ext cx="49320" cy="50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6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22480" y="609732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69400" y="5595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698440" y="1241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792200" y="133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792200" y="286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26960" y="286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61720" y="286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33040" y="286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61720" y="4381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98280" y="4381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33040" y="4381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076800" y="1204920"/>
              <a:ext cx="49320" cy="50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20920" y="1766880"/>
              <a:ext cx="490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59400" y="1743120"/>
              <a:ext cx="52200" cy="51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755600" y="17128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22200" y="171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53880" y="171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07880" y="1712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41360" y="171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858160" y="387324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31040" y="3744720"/>
              <a:ext cx="644400" cy="152280"/>
            </a:xfrm>
            <a:custGeom>
              <a:avLst/>
              <a:gdLst/>
              <a:ahLst/>
              <a:rect l="l" t="t" r="r" b="b"/>
              <a:pathLst>
                <a:path w="406" h="96">
                  <a:moveTo>
                    <a:pt x="0" y="0"/>
                  </a:moveTo>
                  <a:lnTo>
                    <a:pt x="0" y="96"/>
                  </a:lnTo>
                  <a:lnTo>
                    <a:pt x="40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858160" y="4025880"/>
              <a:ext cx="52200" cy="50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5800" y="3744720"/>
              <a:ext cx="1709640" cy="304560"/>
            </a:xfrm>
            <a:custGeom>
              <a:avLst/>
              <a:gdLst/>
              <a:ahLst/>
              <a:rect l="l" t="t" r="r" b="b"/>
              <a:pathLst>
                <a:path w="1077" h="192">
                  <a:moveTo>
                    <a:pt x="0" y="0"/>
                  </a:moveTo>
                  <a:lnTo>
                    <a:pt x="0" y="192"/>
                  </a:lnTo>
                  <a:lnTo>
                    <a:pt x="107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2" name=""/>
          <p:cNvGraphicFramePr/>
          <p:nvPr/>
        </p:nvGraphicFramePr>
        <p:xfrm>
          <a:off x="152280" y="1143000"/>
          <a:ext cx="3276720" cy="205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327672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m microprograma horizont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228600" y="3321000"/>
            <a:ext cx="8381880" cy="300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6" name=""/>
          <p:cNvGraphicFramePr/>
          <p:nvPr/>
        </p:nvGraphicFramePr>
        <p:xfrm>
          <a:off x="2286000" y="990720"/>
          <a:ext cx="3276720" cy="205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990720"/>
                    <a:ext cx="327672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225360" y="312840"/>
            <a:ext cx="2855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specification method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propriate if hundreds of opcodes, modes, cycle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gnals specified symbolically using microinstruction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Will two implementations of the same architecture have the same microcod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What would a microassembler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croprogra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746280" y="2390760"/>
          <a:ext cx="7664400" cy="28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390760"/>
                    <a:ext cx="766440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croinstruction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181080" y="689040"/>
          <a:ext cx="8796240" cy="58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689040"/>
                    <a:ext cx="8796240" cy="58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22:54Z</dcterms:created>
  <dc:creator>Tod Amon</dc:creator>
  <dc:description/>
  <dc:language>en-US</dc:language>
  <cp:lastModifiedBy>User</cp:lastModifiedBy>
  <cp:lastPrinted>1997-09-04T16:36:12Z</cp:lastPrinted>
  <dcterms:modified xsi:type="dcterms:W3CDTF">2002-05-04T12:07:32Z</dcterms:modified>
  <cp:revision>52</cp:revision>
  <dc:subject/>
  <dc:title>Chapter Five</dc:title>
</cp:coreProperties>
</file>