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07960" y="6245280"/>
            <a:ext cx="811692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7000"/>
              </a:lnSpc>
              <a:tabLst>
                <a:tab algn="ctr" pos="4138560"/>
                <a:tab algn="r" pos="8001000"/>
              </a:tabLst>
            </a:pP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Copyright  © 1994 Carnegie Mellon University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	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	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Disciplined Software Engineering - Lecture 2 </a:t>
            </a:r>
            <a:fld id="{3B9F3054-8821-412D-8808-1D21891C08F8}" type="slidenum"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07960" y="380880"/>
            <a:ext cx="8109000" cy="60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01600" y="858960"/>
            <a:ext cx="686448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95320" y="704880"/>
            <a:ext cx="72896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92840" y="3797280"/>
            <a:ext cx="3205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143000" y="793800"/>
            <a:ext cx="6726240" cy="25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isciplined Software </a:t>
            </a:r>
            <a:br>
              <a:rPr sz="4800"/>
            </a:br>
            <a:r>
              <a:rPr b="1" lang="en-US" sz="48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ngineering </a:t>
            </a:r>
            <a:br>
              <a:rPr sz="4800"/>
            </a:b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Lecture #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43000" y="3498840"/>
            <a:ext cx="6227640" cy="23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ittsburgh, PA 152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onsored by the U.S. Department of Defe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ext Pages Versus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79640" y="1711440"/>
            <a:ext cx="627372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cript LOC Versus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12760" y="1714680"/>
            <a:ext cx="620856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Report LOC Versus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79640" y="1697040"/>
            <a:ext cx="627372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creen LOC Versus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12760" y="1714680"/>
            <a:ext cx="620856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Relationship to Developmen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C is a reasonably good measure for development of source programs like Pascal and C++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ages are an acceptable measure for document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C is not an adequate measure for screens, reports, or scrip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me other possible measures are function points, screens, and modu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828800" y="1755720"/>
            <a:ext cx="1442880" cy="1414440"/>
          </a:xfrm>
          <a:prstGeom prst="ellipse">
            <a:avLst/>
          </a:prstGeom>
          <a:solidFill>
            <a:srgbClr val="302f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recision and Accurac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4206960"/>
            <a:ext cx="1442880" cy="1414440"/>
          </a:xfrm>
          <a:prstGeom prst="ellipse">
            <a:avLst/>
          </a:prstGeom>
          <a:solidFill>
            <a:srgbClr val="302f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1914480"/>
            <a:ext cx="1457280" cy="1428840"/>
          </a:xfrm>
          <a:prstGeom prst="ellipse">
            <a:avLst/>
          </a:prstGeom>
          <a:solidFill>
            <a:srgbClr val="302f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72000" y="4257720"/>
            <a:ext cx="1471680" cy="1428840"/>
          </a:xfrm>
          <a:prstGeom prst="ellipse">
            <a:avLst/>
          </a:prstGeom>
          <a:solidFill>
            <a:srgbClr val="302f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36760" y="1308240"/>
            <a:ext cx="262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mprecise and inaccur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51520" y="1308240"/>
            <a:ext cx="23986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ecise and inaccur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407960" y="3774960"/>
            <a:ext cx="2443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mprecise and accur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108400" y="3846600"/>
            <a:ext cx="2217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ecise and accur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08240" y="1631880"/>
            <a:ext cx="2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951200" y="1589040"/>
            <a:ext cx="2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08240" y="2332080"/>
            <a:ext cx="2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851120" y="1989000"/>
            <a:ext cx="2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951200" y="2417760"/>
            <a:ext cx="2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394000" y="1717560"/>
            <a:ext cx="2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22400" y="1946160"/>
            <a:ext cx="2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51520" y="1917720"/>
            <a:ext cx="4096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x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237280" y="1717560"/>
            <a:ext cx="523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x  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194440" y="2103480"/>
            <a:ext cx="2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80200" y="1903320"/>
            <a:ext cx="2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108400" y="1660680"/>
            <a:ext cx="2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793880" y="4175280"/>
            <a:ext cx="2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079720" y="5103720"/>
            <a:ext cx="2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108240" y="4203720"/>
            <a:ext cx="2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65360" y="4575240"/>
            <a:ext cx="2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122640" y="5318280"/>
            <a:ext cx="2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51040" y="5218200"/>
            <a:ext cx="2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279600" y="4818240"/>
            <a:ext cx="2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37200" y="4761000"/>
            <a:ext cx="523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x  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951520" y="4575240"/>
            <a:ext cx="636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x    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923080" y="4889520"/>
            <a:ext cx="636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x    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094440" y="5032440"/>
            <a:ext cx="2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easurement Preci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n 2 people measure the same thing will they get the same resul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do so requires a precise measurement defin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measure must also be properly appl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ascal LOC do not equate to assembler L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 LOC do not equate to modified L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gical LOC do not equate to physical L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++ LOC may not relate to C++ L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achine Coun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ze measurement is time consuming and inaccur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mated counters can only work on definable program characteris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unters can be complex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ze definition sel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unting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uitable for Early Planning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issue is: what can you visualize earl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a house, square feet predict co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ew people can visualize a house in terms of square feet of living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umbers of rooms are more intui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eded for good pla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uitive size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uitable for Early Planning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fortunately, the popular intuitive measure is not measurable and the popular measurable measure is not intuit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unction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ui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t directly measu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t intui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rectly measu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114560" y="1031760"/>
            <a:ext cx="693108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Lecture #2 Overview </a:t>
            </a:r>
            <a:br>
              <a:rPr sz="3600"/>
            </a:b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- Planning I and 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73080" y="187020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lanning ov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ftware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y measure siz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ze measurement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EI size measurement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unting program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u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ding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electing a Size Measure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th product development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s requir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 character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y special development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ank products by resources requi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e what characteristics distinguish those products that took the greatest effort from those that took the leas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electing a Size Measure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e if these differences are measur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rrelate this measure for the product 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no correlation, try ag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re may be no single best meas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combination of measures could be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thods for handling multiple measures are discussed 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electing a Size Measure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you are better at estimating resources than program size, size estimation will not improve your plan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you estimate resources directly, you mu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ep accurate recor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a large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an estimating gu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SEI Measurement Framewor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gical versus physical 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tement specif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ecu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nexecu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unted statement typ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lic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uage and code 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rigin and u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Counting Program Size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gical 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variant to editing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rrelate with development eff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iquely defin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lex to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ysical 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sy to cou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t invari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t uniquely defina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Counting Program Size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SP uses a coding standard and a physical LOC coun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s a physical line for each logical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s a defined coding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standard must be faithfully fo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n physical line counting equals logical line    cou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 Counting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14560" y="130824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dure ISet.Set(var N: int; var inc: boolean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c := fals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archPtr := SetStar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ile (SearchPtr&lt;&gt;nil) and (inc == false) 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SearchPtr^.ThisN ==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c := tr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archPtr:=SearchPtr^.Next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PSP Counting Stand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unt all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gin, end, if, then, else,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{, }, ;, .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unt declarations, directives, headers,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 not count blanks, comment lines, automatically generated code, or reused co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unt new and changed code for measuring and estimating  development productiv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Line of Code Accou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small programs, size tracking can be done manually, but it requires c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larger programs, size tracking requires an accounting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C accounting provides an orderly and precise way to track LOC changes through multiple program ver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xample of LOC Accounting - 1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309840" y="1743120"/>
            <a:ext cx="2655720" cy="903240"/>
          </a:xfrm>
          <a:prstGeom prst="rect">
            <a:avLst/>
          </a:prstGeom>
          <a:solidFill>
            <a:srgbClr val="302fb2"/>
          </a:solidFill>
          <a:ln w="38160">
            <a:solidFill>
              <a:srgbClr val="302fb2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ersion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50 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303720" y="3279600"/>
            <a:ext cx="2678040" cy="835200"/>
          </a:xfrm>
          <a:prstGeom prst="rect">
            <a:avLst/>
          </a:prstGeom>
          <a:solidFill>
            <a:srgbClr val="4747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nhance to Ver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 125 New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hanged 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805040" y="4621320"/>
            <a:ext cx="2514600" cy="650880"/>
          </a:xfrm>
          <a:prstGeom prst="rect">
            <a:avLst/>
          </a:prstGeom>
          <a:solidFill>
            <a:srgbClr val="6665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pected Siz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50+125=475 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514680" y="5594400"/>
            <a:ext cx="2639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dede96"/>
                </a:solidFill>
                <a:latin typeface="Arial"/>
                <a:ea typeface="Arial"/>
              </a:rPr>
              <a:t>What happen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119560" y="4621320"/>
            <a:ext cx="2514600" cy="650880"/>
          </a:xfrm>
          <a:prstGeom prst="rect">
            <a:avLst/>
          </a:prstGeom>
          <a:solidFill>
            <a:srgbClr val="6665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eas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ize 450 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84600" y="2654280"/>
            <a:ext cx="0" cy="609480"/>
          </a:xfrm>
          <a:prstGeom prst="line">
            <a:avLst/>
          </a:prstGeom>
          <a:ln w="38160">
            <a:solidFill>
              <a:srgbClr val="dede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959200" y="4140360"/>
            <a:ext cx="1625400" cy="469800"/>
          </a:xfrm>
          <a:prstGeom prst="line">
            <a:avLst/>
          </a:prstGeom>
          <a:ln w="38160">
            <a:solidFill>
              <a:srgbClr val="dede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4140360"/>
            <a:ext cx="1638360" cy="457200"/>
          </a:xfrm>
          <a:prstGeom prst="line">
            <a:avLst/>
          </a:prstGeom>
          <a:ln w="38160">
            <a:solidFill>
              <a:srgbClr val="dede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114560" y="103176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Why Make Pla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87480" y="183204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make commitments you can m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provide a basis for agreeing on the j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guide you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help track your prog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project compl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xample of LOC Accounting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114560" y="17463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dded     Subtracted     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ase V0                                                    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leted                             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dified            0             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dded            3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otal V0 LOC    350            -0               3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leted                              0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dified          25             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dded            1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inal Product   125            -25              4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otal New and Changed LOC              4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SP0.1  Process Addi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ding and LOC counting standar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ilored to your language and n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corporate PSP elements from the 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eded to write the PSP pr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 improvement proposal (PIP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d to record process improvement id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so used to record findings and comments on each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SP0.1  Summary Addition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gram size - before developm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this is an enhancement, measure the size of the bas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ter these LOC in the Base (B) space under Act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imate the new and changed L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ter these LOC in the Total New &amp; Changed (N) space under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SP0.1  Summary Addition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gram size - after developm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asure total program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ter these LOC in the Total LOC (T) space under Act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unt the deleted LOC and enter in the Deleted (D) space under Act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unt the modified LOC and enter in the Modified (M) space under Act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unt the reused LOC and enter in the Reused (R) space under Act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SP0.1  Summary Additions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fter development (continue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culate the added LOC 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= T - B + D -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ter the added LOC in the Added (A) space under act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unt or estimate the number of new and changed LOC that will be added to the reuse libra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ter as Total New Reuse in the space under Act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SP0.1  Summary Additions -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D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tal the actual reused, new and changed, total, and total new reuse LOC from this and all previous pr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ter these data in the To Date column for each LOC 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se To Date data are used to calculate various process parameters in later PSP ver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Completing the PSP For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this course, you are asked to complete a PIP form for each programming exercise and include the following inform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blem description - any problems you have encountered in using th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posal description - any suggestions you have for process improv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tes and comments - your observations and  findings from doing the 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ssignment #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chapters 3 and 4 of the t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e an LOC counting standard and a coding standa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PSP0.1 to write program 2A to count the logical LOC in your programs.  Use a coding standard and a physical line coun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e Appendices C and D for process and program specific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046160" y="89208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essages to Remember from Lecture 2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30240" y="169704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 -  To effectively plan and manage your work,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must measure product siz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-  The PSP uses LOC as the size meas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046160" y="89208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essages to Remember from Lecture 2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30240" y="169704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 -  For other measures, size must correlate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 -  Every size measure should be precise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ined and automatically cou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Project Planning Frame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754280" y="1693800"/>
            <a:ext cx="6083280" cy="3927600"/>
            <a:chOff x="1754280" y="1693800"/>
            <a:chExt cx="6083280" cy="3927600"/>
          </a:xfrm>
        </p:grpSpPr>
        <p:sp>
          <p:nvSpPr>
            <p:cNvPr id="51" name=""/>
            <p:cNvSpPr txBox="1"/>
            <p:nvPr/>
          </p:nvSpPr>
          <p:spPr>
            <a:xfrm>
              <a:off x="2766960" y="1693800"/>
              <a:ext cx="1287360" cy="541440"/>
            </a:xfrm>
            <a:prstGeom prst="rect">
              <a:avLst/>
            </a:prstGeom>
            <a:noFill/>
            <a:ln w="25560">
              <a:solidFill>
                <a:srgbClr val="302f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fi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quiremen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2766960" y="2370240"/>
              <a:ext cx="1287360" cy="682920"/>
            </a:xfrm>
            <a:prstGeom prst="rect">
              <a:avLst/>
            </a:prstGeom>
            <a:noFill/>
            <a:ln w="25560">
              <a:solidFill>
                <a:srgbClr val="302f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du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u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sig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2766960" y="3116160"/>
              <a:ext cx="1287360" cy="541440"/>
            </a:xfrm>
            <a:prstGeom prst="rect">
              <a:avLst/>
            </a:prstGeom>
            <a:noFill/>
            <a:ln w="25560">
              <a:solidFill>
                <a:srgbClr val="302f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im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iz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2766960" y="3792600"/>
              <a:ext cx="1287360" cy="542880"/>
            </a:xfrm>
            <a:prstGeom prst="rect">
              <a:avLst/>
            </a:prstGeom>
            <a:noFill/>
            <a:ln w="25560">
              <a:solidFill>
                <a:srgbClr val="302f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im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sourc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2766960" y="4470480"/>
              <a:ext cx="1287360" cy="474840"/>
            </a:xfrm>
            <a:prstGeom prst="rect">
              <a:avLst/>
            </a:prstGeom>
            <a:noFill/>
            <a:ln w="25560">
              <a:solidFill>
                <a:srgbClr val="302f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du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du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2766960" y="5079960"/>
              <a:ext cx="1287360" cy="474840"/>
            </a:xfrm>
            <a:prstGeom prst="rect">
              <a:avLst/>
            </a:prstGeom>
            <a:noFill/>
            <a:ln w="25560">
              <a:solidFill>
                <a:srgbClr val="302f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velo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du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4392720" y="5079960"/>
              <a:ext cx="1152360" cy="541440"/>
            </a:xfrm>
            <a:prstGeom prst="rect">
              <a:avLst/>
            </a:prstGeom>
            <a:noFill/>
            <a:ln w="25560">
              <a:solidFill>
                <a:srgbClr val="302f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ize, Resour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du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6018120" y="5079960"/>
              <a:ext cx="949320" cy="474840"/>
            </a:xfrm>
            <a:prstGeom prst="rect">
              <a:avLst/>
            </a:prstGeom>
            <a:noFill/>
            <a:ln w="25560">
              <a:solidFill>
                <a:srgbClr val="302f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ces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nalys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4460760" y="4470480"/>
              <a:ext cx="1015920" cy="541440"/>
            </a:xfrm>
            <a:prstGeom prst="rect">
              <a:avLst/>
            </a:prstGeom>
            <a:noFill/>
            <a:ln w="25560">
              <a:solidFill>
                <a:srgbClr val="004e4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sourc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vailab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4460760" y="3792600"/>
              <a:ext cx="1015920" cy="609480"/>
            </a:xfrm>
            <a:prstGeom prst="rect">
              <a:avLst/>
            </a:prstGeom>
            <a:noFill/>
            <a:ln w="25560">
              <a:solidFill>
                <a:srgbClr val="004e4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ductiv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atabas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4392720" y="3116160"/>
              <a:ext cx="1084320" cy="609480"/>
            </a:xfrm>
            <a:prstGeom prst="rect">
              <a:avLst/>
            </a:prstGeom>
            <a:noFill/>
            <a:ln w="25560">
              <a:solidFill>
                <a:srgbClr val="004e4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iz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atabas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62040" y="1943280"/>
              <a:ext cx="27180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44840" y="2235240"/>
              <a:ext cx="0" cy="13500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54320" y="5351400"/>
              <a:ext cx="33840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45080" y="5351400"/>
              <a:ext cx="47304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6492960" y="3386160"/>
              <a:ext cx="0" cy="169380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5477040" y="3386160"/>
              <a:ext cx="101592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5477040" y="4132440"/>
              <a:ext cx="101592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4054320" y="3386160"/>
              <a:ext cx="33840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3986280" y="4132440"/>
              <a:ext cx="47448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054320" y="4741920"/>
              <a:ext cx="40644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44840" y="2979720"/>
              <a:ext cx="0" cy="13644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44840" y="3657600"/>
              <a:ext cx="0" cy="13500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44840" y="4335480"/>
              <a:ext cx="0" cy="13500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44840" y="4944960"/>
              <a:ext cx="0" cy="13500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479680" y="5316480"/>
              <a:ext cx="25416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1754280" y="4716360"/>
              <a:ext cx="758880" cy="447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du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live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7037280" y="4782960"/>
              <a:ext cx="800280" cy="447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ck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por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77040" y="4741920"/>
              <a:ext cx="60948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67440" y="5334120"/>
              <a:ext cx="37152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Why Measure Siz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make better pl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assist in tracking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normalize other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ect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ize Measurement Crite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lationship to development eff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chine cou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itable for early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ize Versus Development Eff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inciple requirement: if the size measure is not directly related to development cost, it is not worth us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re are many possible measu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s of code (LO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unction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ages, screens, scripts,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ize measure should be sensitive to  language, design, and development pract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866880" y="712800"/>
            <a:ext cx="77565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C++ LOC Versus Development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81080" y="1828800"/>
            <a:ext cx="627228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ascal LOC Versus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81080" y="1814400"/>
            <a:ext cx="627228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