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07960" y="6245280"/>
            <a:ext cx="811692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7000"/>
              </a:lnSpc>
              <a:tabLst>
                <a:tab algn="ctr" pos="4138560"/>
                <a:tab algn="r" pos="8001000"/>
              </a:tabLst>
            </a:pP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Copyright  © 1994 Carnegie Mellon University</a:t>
            </a: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	</a:t>
            </a: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	</a:t>
            </a: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Disciplined Software Engineering - Lecture 1   </a:t>
            </a:r>
            <a:fld id="{B98311AE-3B26-4AA1-A698-7E9340EBABDE}" type="slidenum"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07960" y="380880"/>
            <a:ext cx="8109000" cy="60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01600" y="858960"/>
            <a:ext cx="686448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95320" y="704880"/>
            <a:ext cx="72896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92840" y="3797280"/>
            <a:ext cx="3205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143000" y="793800"/>
            <a:ext cx="6726240" cy="25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Disciplined Software </a:t>
            </a:r>
            <a:br>
              <a:rPr sz="4800"/>
            </a:br>
            <a:r>
              <a:rPr b="1" lang="en-US" sz="48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Engineering </a:t>
            </a:r>
            <a:br>
              <a:rPr sz="4800"/>
            </a:b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Lecture #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041480" y="3498840"/>
            <a:ext cx="6227640" cy="23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Institu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arnegie Mellon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ittsburgh, PA 152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ponsored by the U.S. Department of Defe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What is a PSP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personal process for developing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ined step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ndar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measurement and analyses framework to help you characterize your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defined procedure to help you to  improve your 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CMM and the PSP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capability maturity model (CMM) was developed by the SEI with the help of leading software grou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CMM characterizes the most effective large-scale software pract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SP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lies the CM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s for individual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CMM and the PSP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563920" y="4314960"/>
            <a:ext cx="2928960" cy="11844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Level 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Software configuration managemen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Software quality assuranc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Software subcontract managemen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Software project tracking and oversight*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Software project planning*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Requirements managemen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840280" y="5627520"/>
            <a:ext cx="19954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*PSP key practi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173400" y="2930400"/>
            <a:ext cx="2928960" cy="1298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Level 3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Peer reviews*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Intergroup coordinati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Software product engineering*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Integrated software management*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Training program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Organization process definition*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Organization process focus*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782880" y="2232000"/>
            <a:ext cx="2928960" cy="6127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Level 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Quality management*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Process measurement and analysis*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392720" y="1469880"/>
            <a:ext cx="2928960" cy="6764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Level 5: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Process change management*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Technology innovation*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Defect prevention*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954080" y="5584680"/>
            <a:ext cx="2928960" cy="2570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evel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571760" y="5524560"/>
            <a:ext cx="353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dede96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155680" y="4254480"/>
            <a:ext cx="353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dede96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803680" y="2882880"/>
            <a:ext cx="353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dede96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425760" y="2171520"/>
            <a:ext cx="353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dede96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022640" y="1422360"/>
            <a:ext cx="353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dede96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CMM and the PSP -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CMM provides the framework for effective process manag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 assumes that the software professionals will follow disciplined personal meth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SP provides the framework for disciplined individual wor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 assumes effective process manag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657440" y="2305080"/>
            <a:ext cx="482760" cy="2552760"/>
          </a:xfrm>
          <a:prstGeom prst="rect">
            <a:avLst/>
          </a:prstGeom>
          <a:noFill/>
          <a:ln w="25560">
            <a:solidFill>
              <a:srgbClr val="004e47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445080" y="2305080"/>
            <a:ext cx="482760" cy="2552760"/>
          </a:xfrm>
          <a:prstGeom prst="rect">
            <a:avLst/>
          </a:prstGeom>
          <a:noFill/>
          <a:ln w="25560">
            <a:solidFill>
              <a:srgbClr val="004e47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997360" y="1523880"/>
            <a:ext cx="2552760" cy="482760"/>
          </a:xfrm>
          <a:prstGeom prst="rect">
            <a:avLst/>
          </a:prstGeom>
          <a:noFill/>
          <a:ln w="25560">
            <a:solidFill>
              <a:srgbClr val="004e47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CMM and the PSP  -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036960" y="2819520"/>
            <a:ext cx="2525760" cy="1447920"/>
          </a:xfrm>
          <a:prstGeom prst="rect">
            <a:avLst/>
          </a:prstGeom>
          <a:solidFill>
            <a:srgbClr val="302f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546880" y="5423040"/>
            <a:ext cx="309096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SEPG - software engineering process group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SQA - software quality assuranc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SCM - software configuration managemen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997360" y="5410080"/>
            <a:ext cx="2552760" cy="482760"/>
          </a:xfrm>
          <a:prstGeom prst="rect">
            <a:avLst/>
          </a:prstGeom>
          <a:solidFill>
            <a:srgbClr val="004e47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Engine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97360" y="5143680"/>
            <a:ext cx="203040" cy="203040"/>
          </a:xfrm>
          <a:prstGeom prst="rect">
            <a:avLst/>
          </a:prstGeom>
          <a:solidFill>
            <a:srgbClr val="004e47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59120" y="5143680"/>
            <a:ext cx="203040" cy="203040"/>
          </a:xfrm>
          <a:prstGeom prst="rect">
            <a:avLst/>
          </a:prstGeom>
          <a:solidFill>
            <a:srgbClr val="004e47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21240" y="5143680"/>
            <a:ext cx="203040" cy="203040"/>
          </a:xfrm>
          <a:prstGeom prst="rect">
            <a:avLst/>
          </a:prstGeom>
          <a:solidFill>
            <a:srgbClr val="004e47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59320" y="5143680"/>
            <a:ext cx="203040" cy="203040"/>
          </a:xfrm>
          <a:prstGeom prst="rect">
            <a:avLst/>
          </a:prstGeom>
          <a:solidFill>
            <a:srgbClr val="004e47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67080" y="2057400"/>
            <a:ext cx="0" cy="685800"/>
          </a:xfrm>
          <a:prstGeom prst="line">
            <a:avLst/>
          </a:prstGeom>
          <a:ln w="38160">
            <a:solidFill>
              <a:srgbClr val="dede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124080" y="4191120"/>
            <a:ext cx="457200" cy="914400"/>
          </a:xfrm>
          <a:prstGeom prst="line">
            <a:avLst/>
          </a:prstGeom>
          <a:ln w="38160">
            <a:solidFill>
              <a:srgbClr val="dede9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886200" y="4267080"/>
            <a:ext cx="152280" cy="838440"/>
          </a:xfrm>
          <a:prstGeom prst="line">
            <a:avLst/>
          </a:prstGeom>
          <a:ln w="38160">
            <a:solidFill>
              <a:srgbClr val="dede9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4267080"/>
            <a:ext cx="228600" cy="838440"/>
          </a:xfrm>
          <a:prstGeom prst="line">
            <a:avLst/>
          </a:prstGeom>
          <a:ln w="38160">
            <a:solidFill>
              <a:srgbClr val="dede9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4191120"/>
            <a:ext cx="533160" cy="838080"/>
          </a:xfrm>
          <a:prstGeom prst="line">
            <a:avLst/>
          </a:prstGeom>
          <a:ln w="38160">
            <a:solidFill>
              <a:srgbClr val="dede9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3505320"/>
            <a:ext cx="914400" cy="0"/>
          </a:xfrm>
          <a:prstGeom prst="line">
            <a:avLst/>
          </a:prstGeom>
          <a:ln w="38160">
            <a:solidFill>
              <a:srgbClr val="dede9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562720" y="2743200"/>
            <a:ext cx="914400" cy="609480"/>
          </a:xfrm>
          <a:prstGeom prst="line">
            <a:avLst/>
          </a:prstGeom>
          <a:ln w="38160">
            <a:solidFill>
              <a:srgbClr val="dede9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914400" cy="609480"/>
          </a:xfrm>
          <a:prstGeom prst="line">
            <a:avLst/>
          </a:prstGeom>
          <a:ln w="38160">
            <a:solidFill>
              <a:srgbClr val="dede9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133720" y="2743200"/>
            <a:ext cx="914400" cy="1600200"/>
            <a:chOff x="2133720" y="2743200"/>
            <a:chExt cx="914400" cy="1600200"/>
          </a:xfrm>
        </p:grpSpPr>
        <p:sp>
          <p:nvSpPr>
            <p:cNvPr id="99" name=""/>
            <p:cNvSpPr/>
            <p:nvPr/>
          </p:nvSpPr>
          <p:spPr>
            <a:xfrm>
              <a:off x="2133720" y="3505320"/>
              <a:ext cx="914400" cy="0"/>
            </a:xfrm>
            <a:prstGeom prst="line">
              <a:avLst/>
            </a:prstGeom>
            <a:ln w="38160">
              <a:solidFill>
                <a:srgbClr val="dede9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2133720" y="2743200"/>
              <a:ext cx="914400" cy="609480"/>
            </a:xfrm>
            <a:prstGeom prst="line">
              <a:avLst/>
            </a:prstGeom>
            <a:ln w="38160">
              <a:solidFill>
                <a:srgbClr val="dede9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2133720" y="3733920"/>
              <a:ext cx="914400" cy="609480"/>
            </a:xfrm>
            <a:prstGeom prst="line">
              <a:avLst/>
            </a:prstGeom>
            <a:ln w="38160">
              <a:solidFill>
                <a:srgbClr val="dede9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SP Overview - 1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SP is introduced in 7 upward compatible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write 1 or 2 small programs at each st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gather and analyze data on your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use these and analyses to improve your wor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SP Overview - 2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924200" y="5006880"/>
            <a:ext cx="1508040" cy="863640"/>
          </a:xfrm>
          <a:prstGeom prst="rect">
            <a:avLst/>
          </a:prstGeom>
          <a:noFill/>
          <a:ln w="25560">
            <a:solidFill>
              <a:srgbClr val="302fb2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SP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urrent proc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ime record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efect record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efect type standar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762280" y="3922560"/>
            <a:ext cx="1490760" cy="797040"/>
          </a:xfrm>
          <a:prstGeom prst="rect">
            <a:avLst/>
          </a:prstGeom>
          <a:noFill/>
          <a:ln w="25560">
            <a:solidFill>
              <a:srgbClr val="4747b2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SP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ize estimat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est repor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600360" y="2771640"/>
            <a:ext cx="1457280" cy="892080"/>
          </a:xfrm>
          <a:prstGeom prst="rect">
            <a:avLst/>
          </a:prstGeom>
          <a:noFill/>
          <a:ln w="25560">
            <a:solidFill>
              <a:srgbClr val="6665b2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SP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de review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esign review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438800" y="1687680"/>
            <a:ext cx="1598760" cy="814320"/>
          </a:xfrm>
          <a:prstGeom prst="rect">
            <a:avLst/>
          </a:prstGeom>
          <a:noFill/>
          <a:ln w="25560">
            <a:solidFill>
              <a:srgbClr val="8988b2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SP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yclic developm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984920" y="2708280"/>
            <a:ext cx="1547640" cy="852480"/>
          </a:xfrm>
          <a:prstGeom prst="rect">
            <a:avLst/>
          </a:prstGeom>
          <a:solidFill>
            <a:srgbClr val="6665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SP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esign templ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159080" y="3770280"/>
            <a:ext cx="1515960" cy="835200"/>
          </a:xfrm>
          <a:prstGeom prst="rect">
            <a:avLst/>
          </a:prstGeom>
          <a:solidFill>
            <a:srgbClr val="4747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SP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ask pl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chedule pl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357720" y="4826160"/>
            <a:ext cx="1687680" cy="912960"/>
          </a:xfrm>
          <a:prstGeom prst="rect">
            <a:avLst/>
          </a:prstGeom>
          <a:solidFill>
            <a:srgbClr val="302f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SP0.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ding standar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ize  measurem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rocess improvem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roposal (PIP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44800" y="439416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1906" y="0"/>
                </a:moveTo>
                <a:lnTo>
                  <a:pt x="1906" y="0"/>
                </a:lnTo>
                <a:cubicBezTo>
                  <a:pt x="1571" y="0"/>
                  <a:pt x="1243" y="78"/>
                  <a:pt x="953" y="227"/>
                </a:cubicBezTo>
                <a:cubicBezTo>
                  <a:pt x="663" y="376"/>
                  <a:pt x="423" y="589"/>
                  <a:pt x="255" y="847"/>
                </a:cubicBezTo>
                <a:cubicBezTo>
                  <a:pt x="88" y="1105"/>
                  <a:pt x="0" y="1397"/>
                  <a:pt x="0" y="1694"/>
                </a:cubicBezTo>
              </a:path>
            </a:pathLst>
          </a:custGeom>
          <a:ln w="38160">
            <a:solidFill>
              <a:srgbClr val="dede96"/>
            </a:solidFill>
            <a:round/>
            <a:head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82880" y="330192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1906" y="0"/>
                </a:moveTo>
                <a:lnTo>
                  <a:pt x="1906" y="0"/>
                </a:lnTo>
                <a:cubicBezTo>
                  <a:pt x="1571" y="0"/>
                  <a:pt x="1243" y="78"/>
                  <a:pt x="953" y="227"/>
                </a:cubicBezTo>
                <a:cubicBezTo>
                  <a:pt x="663" y="376"/>
                  <a:pt x="423" y="589"/>
                  <a:pt x="255" y="847"/>
                </a:cubicBezTo>
                <a:cubicBezTo>
                  <a:pt x="88" y="1105"/>
                  <a:pt x="0" y="1397"/>
                  <a:pt x="0" y="1694"/>
                </a:cubicBezTo>
              </a:path>
            </a:pathLst>
          </a:custGeom>
          <a:ln w="38160">
            <a:solidFill>
              <a:srgbClr val="dede96"/>
            </a:solidFill>
            <a:round/>
            <a:head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20960" y="215892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1906" y="0"/>
                </a:moveTo>
                <a:lnTo>
                  <a:pt x="1906" y="0"/>
                </a:lnTo>
                <a:cubicBezTo>
                  <a:pt x="1571" y="0"/>
                  <a:pt x="1243" y="78"/>
                  <a:pt x="953" y="227"/>
                </a:cubicBezTo>
                <a:cubicBezTo>
                  <a:pt x="663" y="376"/>
                  <a:pt x="423" y="589"/>
                  <a:pt x="255" y="847"/>
                </a:cubicBezTo>
                <a:cubicBezTo>
                  <a:pt x="88" y="1105"/>
                  <a:pt x="0" y="1397"/>
                  <a:pt x="0" y="1694"/>
                </a:cubicBezTo>
              </a:path>
            </a:pathLst>
          </a:custGeom>
          <a:ln w="38160">
            <a:solidFill>
              <a:srgbClr val="dede96"/>
            </a:solidFill>
            <a:round/>
            <a:head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SP Overview -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SP0 -  you establish a measured performance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SP1 -  you make size, resource, and schedule pl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SP2 -  you practice defect and yield manage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SP3 -  you scale up PSP methods to larger pro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At Course Conclu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will have practiced the key elements of a level 5 industrial 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will understand which methods are most effective for yo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will do better 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will have long-term improvement go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Other Course Resul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following charts show how others have improved during the PSP cou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se data are for 12 students who took the PSP course at Carnegie Mellon University in the spring of 199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data are 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pile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 de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Course Objec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introduce you to a process-based approach to developing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show you how to measure and analyze your personal software process (PS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show you how to use process data to improve your personal performan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show you how to apply these methods to your other ta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87400" y="701640"/>
            <a:ext cx="7316640" cy="55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16000" y="469800"/>
            <a:ext cx="680076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60400" y="811080"/>
            <a:ext cx="741528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89120" y="727200"/>
            <a:ext cx="754524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PSP0 Proces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simple defined personal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use your current design and development meth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gather data on your wor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ime spent by ph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ects found in compile and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prepare a summary repor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PSP0 Script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ference - Table C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lanning - estimate development tim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 - develop the product using your current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ostmortem - complete the project plan summary, with the time spent and defects found and injected in each pha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PSP0 Script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sign - design the program, using your current design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pile - compile until defect fre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 - test the program and fix all defec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cord all defects found in the defect log and the time spent per phase in the time recording lo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SP0 Plan Summary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ference - Table C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eader - name, date, program, instructor, langu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ter your best estimate of the total time the development will tak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ter the actual time in minutes you spent in each pha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PSP0 Process Ele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process scri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project plan summary 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time recording 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defect reporting 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defect type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SP0 Plan Summary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ime - To Date -  Enter the total time spent in each phase to date.  For program 1A, this is the time spent on program 1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ime - To Date % -  Enter the percent of the total To Date time that was spent in each pha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ects injected and removed -  Enter the actual numbers of defects injected and removed in each pha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SP0 Plan Summary -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ects  - To Date -  Enter the total defects injected and removed in each phase to date.  For program 1A, this is the defects injected and removed with program 1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ects  - To Date % -  Enter the percent of the total To Date defects injected and removed in each pha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General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requis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must know a programming langu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elpful backgr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amiliarity with basic stat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bility to read simple formal no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ac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 available development environ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readsheet cap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SP0 Time Recording Log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ference - Table C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eader - name, date, instructor, and program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ate -  Enter the current d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-  Enter the time in minutes when you start a project pha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SP0 Time Recording Log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op -  Enter the time in minutes when you stop work on a project phase, even if you are not done with that pha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rruption time -  Enter any time you lost due to interruptions in the start to stop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lta time -  Enter the elapsed start to stop time less the interruption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SP0 Time Recording Log -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te the phase on which you were wor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the phas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ments - descri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interru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task you were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ything else that significantly affects your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Defect Recording Log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ference - Table C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eader - enter the name, date, instructor, and program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ate -  Enter the date when you found and fixed the defe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umber -  Enter a unique number for this defect.  Start each project with 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Defect Recording Log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ype -  Enter the defect type from the defect type standa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ject -  Enter the phase during which you judge the defect was injec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move -  Enter the phase in which you found and fixed the defect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Defect Recording Log -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ix time -  Enter the time you took to fix the defect.  You may time it exactly or use your best judgment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ix defect -  If this defect was injected while fixing another defect, enter the number of that defect or an X if you do not kno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te -  A defect is anything in the program that must be changed for it to be properly developed, enhanced, or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Defect Type Standard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ference - Table 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defect type standard provides a general set of defect categorie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ile you may replace this standard with your own, it is generally wise to stick with simple type definitions until you have data to guide your chan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Defect Type Standard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SP defect types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0 -  Docu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 -  Synt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0 -  Build, pack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0 -  Assig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50 -  Inte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60 -  Che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70 - 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80 - 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90 - 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00 - 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Assignment #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preface and chapters 1 and 2 of the tex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PSP0 to write program 1A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e Appendix D for the program specific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e Appendix C for the PSP0 definitions and examp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llow the specifications in Appendix C on the materials to submit and their order and cont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90720" y="3009960"/>
            <a:ext cx="7048440" cy="1981080"/>
          </a:xfrm>
          <a:prstGeom prst="rect">
            <a:avLst/>
          </a:prstGeom>
          <a:solidFill>
            <a:srgbClr val="dede96"/>
          </a:solidFill>
          <a:ln w="38160">
            <a:solidFill>
              <a:srgbClr val="dede96"/>
            </a:solidFill>
            <a:round/>
            <a:tail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rogram 1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lculates the standard deviation of a list of numbers.  The n numbers are held in a linked list.  The standard deviation is calculated as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 is an index to the numbers, and Xavg is the average value of the numb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558800" y="3125880"/>
            <a:ext cx="57182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Course 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roduction - 1 le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lanning the process - 5 le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ect management - 4 le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design process - 2 le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cess development - 1 le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ing the PSP - 1 le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ome Suggestions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ep your programs simple.  You will learn as much from small programs as from large 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ep your reports and standards simple and sho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 not hesitate to copy or build on the PSP materi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 it right the first time.  If you are not sure, find 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01720" y="684360"/>
            <a:ext cx="750240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ome Suggestions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ftware is not a solo business so you do not have to work al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must, however, produce your own estimates, designs, and co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may have others review your work and you may change it as a resu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should note this help in your process report, include the review time you and your associates spend, and log the defects fou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SP0 Evaluation Crite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r process report must b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ple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gib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 the specified 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r process data must b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ccu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lf-consist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046160" y="712800"/>
            <a:ext cx="7311960" cy="9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Messages to Remember from Lecture 1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 -  The PSP is a defined process to help you 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tter 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-  Once you have completed this course, y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ll know how to adjust and extend the PS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meet your future nee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 -  In using PSP0, your principal objective is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ather and report accurate and comple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ata on your work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Lecture #1 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SP princi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sts and bene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ersonal software process (PSP) over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capability maturity model (CM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cess mat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CMM and the PS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initial PSP0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SP Principles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quality of a software system is governed by the quality of its worst compon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quality of a software component is governed by the individual who developed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is is governed by y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nowledg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scip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mit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SP Principles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s software professionals you should know your own perform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should measure, track, and analyze  your wor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should learn from your performance vari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should Incorporate these lessons in your personal pract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With a Stable PS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c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timate and plan your wor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et your commit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ist unreasonable commitment pres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will al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derstand your 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 better able to impro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A PSP Also Provid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proven basis for developing and practicing     industrial-strength personal discip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discipline that shows you how to improve your personal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data to continually improve the productivity, quality, and predictability of your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