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1   </a:t>
            </a:r>
            <a:fld id="{D0066557-20C2-4B4C-9CB9-A1D4360BAF0F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Benefits of the PSP - 1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ig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better understand your strengths and    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be better able to maximize your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will help you to objectively deal with your 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Benefits of the PSP - 2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defining your process, you assert control ove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then act like a process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critical facilities will be in g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unconsciously observe your working 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see many ways to improve your process and you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Benefits of the PSP - 3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men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fined process provides a language for thinking about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better see how the process parts re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better focus on priority areas for     improv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Benefits of the PSP - 4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sona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have a planning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have the data on which to base your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lans will be more 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be better able to track your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be better able to manage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Benefits of the PSP - 5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complishments and personal b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recognize your personal b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better understand how to repeat and to surpas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see where and how you hav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have your own personal improvement go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have the satisfaction that comes with knowing you are doing superio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Benefits of the PSP - 6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your team’s processes are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better back them up and suppor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can better back you up and support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more precisely relate 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no longer need to protect yourself from your peers’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won’t need to protect against your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ams perform better when they can concentrate on the job and not worry about being defen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Using the PSP in an Organ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roducing the PSP into an organization involves 2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olo PSP performer - you are the only person using the PSP in your orga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one PSP team - your team uses the PSP but they are the only team in the organization to do 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also need management support for PSP int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olo PSP Performer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hard to maintain personal discipline without the support of peers and manag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easy to get discouraged by a slow rate of personal pro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eers may kid you for wasting your time with the PS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olo PSP Performer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are not confident that the PSP helps you, it will be hard to withstand such criticis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l statistical fluctuations will seem like major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ead of learning from your mistakes you may get defensive abou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il you have data to support the benefits of the PSP, you would be wise to say little abou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Lone PSP Team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your team has been trained in the PSP, you will have a powerful base of suppor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review each others’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share process improvement ideas and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celebrate successes and you can get support when you need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 15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ersonal implications of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sts and benefits of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roducing and using the PSP in an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sponsible profes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do you want from software engineer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Lone PSP Team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cautious about describing your results for other groups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itique your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gue that they already do better work than you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probably comparing their occasional best results with your normal perform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out consistent data, such comparasons are meaningless and should be avoi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Lone PSP Team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r results are superior, others may feel defen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careful not to seem critical of other peoples’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not imply that your results apply to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ggest they try the PSP for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e on how the PSP has helped you to impr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rganizational PSP Support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 most effective, you need organizational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on and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base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fin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get these, you will need management’s hel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rganizational PSP Support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ay have trouble getting management support un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see your work as a prototype for the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have data to demonstrate the benefits of the PSP for your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k to interest others in exploring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A and the SE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rganizational PSP Support -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 champions on other teams who wish to try the PS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other groups are interested in the PSP, management will be more willing to suppor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troducing the PSP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getting management support, show enough of your own and other groups’ data to convince them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important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sts are control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they understand the potential value of the PSP, they will more likely provide support for long enough to produce measurable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troducing the PSP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introducing the PSP, it is essential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be introduced with a formal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professionals voluntarily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ngineers be given time to do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anagers provide weekly support and encouragement to their engineers to complete the PSP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ngineers’ personal data be respected as their private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troducing the PSP -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possible, do the PSP training by project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tempt to build clusters of PSP-trained teams that can reinforce and support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electing the initial projects, try to pick ones that are not in perpetual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troducing the PSP - 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ter PSP training, adapt the PSP to each  project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ing and planning the curr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ing PSP2.1 or PSP3 to the project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ing each process change before general introdu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for continuous process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troducing the PSP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n’t try to introduce the PSP without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 is required to take the PSP course and to do the exerci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experienced instructor i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rse support will require at least 3/4 time from one engine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ersonal PSP Implica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seek personal excellence, the PSP can help you to attain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defining and measuring your work, you gain the knowledge to improve your personal perform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 is, “do you want to improve?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Responsible Profess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a responsible professional, you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d and learn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se methods in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gnize your strengths and 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areas for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actice, practice,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blicize the methods you find help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rn from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will assure your continuing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aching And Improv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ach can help you to improve your personal performanc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tivating superio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manding person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isting on a dedication to excel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ing and guiding you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k coaching support from your peers and your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5400" y="8668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at do You Want from </a:t>
            </a:r>
            <a:br>
              <a:rPr sz="36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ftware Enginee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79480" y="16714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are your personal object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prisingly often we achieve our objectives in ways we did not expect, so keep an open mind and keep lo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we all reach the same end, we should concentrate on the rou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can occasionally achieve excellence, it could be well worth the tri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46160" y="8668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1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0240" y="16714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The PSP is designed to help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Use it to improve your performance an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 you to act professionally in difficu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Emphasize what the PSP has done for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urge others to find out fo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t will do for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ersonal PSP Implica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consistently improve, you must critically examine your own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o this, you need a process framework and performance measu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provides a suitable framework and set of measuremen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ersonal PSP Implication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a software professional you need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commitments you can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al with unreasonable commitment pres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status and plans with customers, managers, and co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will help you to perform professionally even when your customers, managers, or coworkers do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ersonal PSP Implications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involves change and change involves ris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methods may have sufficed in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one else may use disciplined personal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t the problems of the future will be more challenging than those of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your current methods be adequ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you know a better wa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ersonal PSP Implications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using the PSP, you may face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you have a supportive environ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your management agree with your interest in personal improv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SP efforts will be most rewarding when your management and your teammates share your interests and objec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s of the PSP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ime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development takes about 1 to 2 hours per form and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updates will be needed at least every 3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entry and analysis will take about an hour for each PSP-sized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s of the PSP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motional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takes a lot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will be occasional frust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clearly see your own lim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can’t face your personal limitations, you should not use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perhaps you should reconsider your decision to be a software engine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