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07960" y="6245280"/>
            <a:ext cx="811692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7000"/>
              </a:lnSpc>
              <a:tabLst>
                <a:tab algn="ctr" pos="4138560"/>
                <a:tab algn="r" pos="8001000"/>
              </a:tabLst>
            </a:pP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Copyright  © 1994 Carnegie Mellon University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Disciplined Software Engineering - Lecture 1   </a:t>
            </a:r>
            <a:fld id="{09685127-5FD6-4176-A05C-6072067A45DD}" type="slidenum"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7960" y="380880"/>
            <a:ext cx="810900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01600" y="858960"/>
            <a:ext cx="68644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95320" y="704880"/>
            <a:ext cx="7289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92840" y="3797280"/>
            <a:ext cx="3205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793800"/>
            <a:ext cx="672624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isciplined Software </a:t>
            </a:r>
            <a:br>
              <a:rPr sz="4800"/>
            </a:b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ngineering </a:t>
            </a:r>
            <a:br>
              <a:rPr sz="4800"/>
            </a:b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#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43000" y="3498840"/>
            <a:ext cx="6227640" cy="23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ittsburgh, PA 152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onsored by the U.S. Department of Def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sign Verification Top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sign verification topics covered in this and the next lecture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ifying state machine correct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ecution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of by in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ce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thematical program ver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tate Machine Correct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y program that changes the state of the computing system is a state mach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program is a state machine if it can behave differently with identical input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emingly simple state machines can have sophisticated behavior.  It is thus important to verify them carefu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tate Machine Verific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teps in state machine verification ar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eck to ensure the state machine has no hidden traps or lo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eck that the set of all states is complete and 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eck that the set of all transitions from every state are complete and 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fter verifying state machine correctness, ensure that the program performs the intended application fun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Hidden Traps or Loop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check for hidden traps and lo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struct the state temp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struct a state machine dia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if any exit states are unreachable from any other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any exit states are unreachable from any other state, this is not a proper state machi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Hidden Traps or Loop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ample:  consider an object BSet as foll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states: EmptyState, Member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 methods: Push, Pop, Add, Sub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ush adds a member to B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p removes a member from B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adds a member to BSet if it does not already contain an identical m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tract removes a member from BSet if it contains an identical m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Hidden Traps or Loops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tate template for BSet would be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47960" y="2846520"/>
            <a:ext cx="5519880" cy="322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68360" y="3186000"/>
            <a:ext cx="5199120" cy="6602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63800" y="3862440"/>
            <a:ext cx="5504040" cy="322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4202280"/>
            <a:ext cx="5199120" cy="9986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68360" y="3506760"/>
            <a:ext cx="5199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8360" y="4540320"/>
            <a:ext cx="5181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95640" y="2846520"/>
            <a:ext cx="0" cy="237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017800" y="2914560"/>
            <a:ext cx="1143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mpty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000160" y="3930480"/>
            <a:ext cx="1281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ember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355840" y="3254400"/>
            <a:ext cx="1143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mpty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355840" y="3575160"/>
            <a:ext cx="1281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ember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406600" y="4286160"/>
            <a:ext cx="1143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mpty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06600" y="4591080"/>
            <a:ext cx="1281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ember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87680" y="2898720"/>
            <a:ext cx="574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 =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387680" y="3944880"/>
            <a:ext cx="7524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 &gt;=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049640" y="3236760"/>
            <a:ext cx="1547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op or Subtrac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049640" y="3610080"/>
            <a:ext cx="1222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ush or Ad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049640" y="4270320"/>
            <a:ext cx="3267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op(n=1) or Subtract(n=1)(D in BSe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32360" y="4575240"/>
            <a:ext cx="24908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dd or Push or Pop(n&gt;1)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ubtract(D not in BSet)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ubtract(n&gt;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Hidden Traps and Loops - 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767040" y="2608200"/>
            <a:ext cx="1422360" cy="54144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mpty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767040" y="3670200"/>
            <a:ext cx="1440000" cy="62712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ember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207040" y="2892600"/>
            <a:ext cx="609840" cy="1117800"/>
            <a:chOff x="5207040" y="2892600"/>
            <a:chExt cx="609840" cy="1117800"/>
          </a:xfrm>
        </p:grpSpPr>
        <p:sp>
          <p:nvSpPr>
            <p:cNvPr id="94" name=""/>
            <p:cNvSpPr/>
            <p:nvPr/>
          </p:nvSpPr>
          <p:spPr>
            <a:xfrm>
              <a:off x="5207040" y="2892600"/>
              <a:ext cx="609840" cy="592560"/>
            </a:xfrm>
            <a:custGeom>
              <a:avLst/>
              <a:gdLst/>
              <a:ahLst/>
              <a:rect l="0" t="0" r="r" b="b"/>
              <a:pathLst>
                <a:path fill="none" w="1694" h="1646">
                  <a:moveTo>
                    <a:pt x="1694" y="1646"/>
                  </a:moveTo>
                  <a:lnTo>
                    <a:pt x="1694" y="1646"/>
                  </a:lnTo>
                  <a:lnTo>
                    <a:pt x="1694" y="1646"/>
                  </a:lnTo>
                  <a:cubicBezTo>
                    <a:pt x="1694" y="1357"/>
                    <a:pt x="1616" y="1073"/>
                    <a:pt x="1467" y="823"/>
                  </a:cubicBezTo>
                  <a:cubicBezTo>
                    <a:pt x="1318" y="573"/>
                    <a:pt x="1105" y="365"/>
                    <a:pt x="847" y="221"/>
                  </a:cubicBezTo>
                  <a:cubicBezTo>
                    <a:pt x="589" y="76"/>
                    <a:pt x="297" y="0"/>
                    <a:pt x="0" y="0"/>
                  </a:cubicBezTo>
                </a:path>
              </a:pathLst>
            </a:custGeom>
            <a:ln w="25560">
              <a:solidFill>
                <a:srgbClr val="dede96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07040" y="3502080"/>
              <a:ext cx="609840" cy="508320"/>
            </a:xfrm>
            <a:custGeom>
              <a:avLst/>
              <a:gdLst/>
              <a:ahLst/>
              <a:rect l="0" t="0" r="r" b="b"/>
              <a:pathLst>
                <a:path fill="none" w="1694" h="1412">
                  <a:moveTo>
                    <a:pt x="0" y="1412"/>
                  </a:moveTo>
                  <a:lnTo>
                    <a:pt x="0" y="1412"/>
                  </a:lnTo>
                  <a:cubicBezTo>
                    <a:pt x="297" y="1412"/>
                    <a:pt x="589" y="1347"/>
                    <a:pt x="847" y="1223"/>
                  </a:cubicBezTo>
                  <a:cubicBezTo>
                    <a:pt x="1105" y="1099"/>
                    <a:pt x="1318" y="921"/>
                    <a:pt x="1467" y="706"/>
                  </a:cubicBezTo>
                  <a:cubicBezTo>
                    <a:pt x="1616" y="491"/>
                    <a:pt x="1694" y="248"/>
                    <a:pt x="1694" y="0"/>
                  </a:cubicBezTo>
                </a:path>
              </a:pathLst>
            </a:custGeom>
            <a:ln w="25560">
              <a:solidFill>
                <a:srgbClr val="dede96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792600" y="4309920"/>
            <a:ext cx="1470600" cy="686520"/>
            <a:chOff x="3792600" y="4309920"/>
            <a:chExt cx="1470600" cy="686520"/>
          </a:xfrm>
        </p:grpSpPr>
        <p:sp>
          <p:nvSpPr>
            <p:cNvPr id="97" name=""/>
            <p:cNvSpPr/>
            <p:nvPr/>
          </p:nvSpPr>
          <p:spPr>
            <a:xfrm>
              <a:off x="5008680" y="4309920"/>
              <a:ext cx="254520" cy="356040"/>
            </a:xfrm>
            <a:custGeom>
              <a:avLst/>
              <a:gdLst/>
              <a:ahLst/>
              <a:rect l="0" t="0" r="r" b="b"/>
              <a:pathLst>
                <a:path fill="none" w="707" h="989">
                  <a:moveTo>
                    <a:pt x="707" y="989"/>
                  </a:moveTo>
                  <a:lnTo>
                    <a:pt x="707" y="989"/>
                  </a:lnTo>
                  <a:lnTo>
                    <a:pt x="707" y="989"/>
                  </a:lnTo>
                  <a:cubicBezTo>
                    <a:pt x="707" y="815"/>
                    <a:pt x="674" y="645"/>
                    <a:pt x="612" y="494"/>
                  </a:cubicBezTo>
                  <a:cubicBezTo>
                    <a:pt x="550" y="344"/>
                    <a:pt x="461" y="219"/>
                    <a:pt x="353" y="133"/>
                  </a:cubicBezTo>
                  <a:cubicBezTo>
                    <a:pt x="246" y="46"/>
                    <a:pt x="124" y="0"/>
                    <a:pt x="0" y="0"/>
                  </a:cubicBezTo>
                </a:path>
              </a:pathLst>
            </a:custGeom>
            <a:ln w="25560">
              <a:solidFill>
                <a:srgbClr val="dede96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00720" y="4656960"/>
              <a:ext cx="762480" cy="339480"/>
            </a:xfrm>
            <a:custGeom>
              <a:avLst/>
              <a:gdLst/>
              <a:ahLst/>
              <a:rect l="0" t="0" r="r" b="b"/>
              <a:pathLst>
                <a:path fill="none" w="2118" h="943">
                  <a:moveTo>
                    <a:pt x="0" y="943"/>
                  </a:moveTo>
                  <a:lnTo>
                    <a:pt x="0" y="943"/>
                  </a:lnTo>
                  <a:cubicBezTo>
                    <a:pt x="372" y="943"/>
                    <a:pt x="737" y="899"/>
                    <a:pt x="1059" y="817"/>
                  </a:cubicBezTo>
                  <a:cubicBezTo>
                    <a:pt x="1381" y="734"/>
                    <a:pt x="1648" y="615"/>
                    <a:pt x="1834" y="471"/>
                  </a:cubicBezTo>
                  <a:cubicBezTo>
                    <a:pt x="2020" y="328"/>
                    <a:pt x="2118" y="166"/>
                    <a:pt x="2118" y="0"/>
                  </a:cubicBezTo>
                </a:path>
              </a:pathLst>
            </a:custGeom>
            <a:ln w="25560">
              <a:solidFill>
                <a:srgbClr val="dede96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2600" y="4327560"/>
              <a:ext cx="195480" cy="394200"/>
            </a:xfrm>
            <a:custGeom>
              <a:avLst/>
              <a:gdLst/>
              <a:ahLst/>
              <a:rect l="0" t="0" r="r" b="b"/>
              <a:pathLst>
                <a:path fill="none" w="543" h="1095">
                  <a:moveTo>
                    <a:pt x="543" y="0"/>
                  </a:moveTo>
                  <a:lnTo>
                    <a:pt x="543" y="0"/>
                  </a:lnTo>
                  <a:cubicBezTo>
                    <a:pt x="448" y="0"/>
                    <a:pt x="354" y="51"/>
                    <a:pt x="271" y="147"/>
                  </a:cubicBezTo>
                  <a:cubicBezTo>
                    <a:pt x="189" y="243"/>
                    <a:pt x="120" y="381"/>
                    <a:pt x="73" y="548"/>
                  </a:cubicBezTo>
                  <a:cubicBezTo>
                    <a:pt x="25" y="714"/>
                    <a:pt x="0" y="903"/>
                    <a:pt x="0" y="1095"/>
                  </a:cubicBezTo>
                </a:path>
              </a:pathLst>
            </a:custGeom>
            <a:ln w="25560">
              <a:solidFill>
                <a:srgbClr val="dede96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600" y="4691160"/>
              <a:ext cx="720360" cy="305280"/>
            </a:xfrm>
            <a:custGeom>
              <a:avLst/>
              <a:gdLst/>
              <a:ahLst/>
              <a:rect l="0" t="0" r="r" b="b"/>
              <a:pathLst>
                <a:path fill="none" w="2001" h="848">
                  <a:moveTo>
                    <a:pt x="0" y="0"/>
                  </a:moveTo>
                  <a:lnTo>
                    <a:pt x="0" y="0"/>
                  </a:lnTo>
                  <a:cubicBezTo>
                    <a:pt x="0" y="149"/>
                    <a:pt x="92" y="295"/>
                    <a:pt x="268" y="424"/>
                  </a:cubicBezTo>
                  <a:cubicBezTo>
                    <a:pt x="444" y="553"/>
                    <a:pt x="696" y="660"/>
                    <a:pt x="1001" y="734"/>
                  </a:cubicBezTo>
                  <a:cubicBezTo>
                    <a:pt x="1305" y="809"/>
                    <a:pt x="1650" y="848"/>
                    <a:pt x="2001" y="848"/>
                  </a:cubicBezTo>
                </a:path>
              </a:pathLst>
            </a:custGeom>
            <a:ln w="25560">
              <a:solidFill>
                <a:srgbClr val="dede96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"/>
          <p:cNvSpPr txBox="1"/>
          <p:nvPr/>
        </p:nvSpPr>
        <p:spPr>
          <a:xfrm>
            <a:off x="5353200" y="4065480"/>
            <a:ext cx="281304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p(n=1)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ubtract(n=1)(D in BSe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208480" y="1839960"/>
            <a:ext cx="187956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p or Subtr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33520" y="3278160"/>
            <a:ext cx="152388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ush or Ad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16000" y="5218200"/>
            <a:ext cx="3156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or Push or Pop(n&gt;1)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ubtract(D not in BSet)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ubtract(n&gt;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62240" y="2905200"/>
            <a:ext cx="609840" cy="1117800"/>
            <a:chOff x="3162240" y="2905200"/>
            <a:chExt cx="609840" cy="1117800"/>
          </a:xfrm>
        </p:grpSpPr>
        <p:sp>
          <p:nvSpPr>
            <p:cNvPr id="106" name=""/>
            <p:cNvSpPr/>
            <p:nvPr/>
          </p:nvSpPr>
          <p:spPr>
            <a:xfrm>
              <a:off x="3162240" y="3430440"/>
              <a:ext cx="609840" cy="592560"/>
            </a:xfrm>
            <a:custGeom>
              <a:avLst/>
              <a:gdLst/>
              <a:ahLst/>
              <a:rect l="0" t="0" r="r" b="b"/>
              <a:pathLst>
                <a:path fill="none" w="1694" h="1646">
                  <a:moveTo>
                    <a:pt x="0" y="0"/>
                  </a:moveTo>
                  <a:lnTo>
                    <a:pt x="0" y="0"/>
                  </a:lnTo>
                  <a:cubicBezTo>
                    <a:pt x="0" y="289"/>
                    <a:pt x="78" y="573"/>
                    <a:pt x="227" y="823"/>
                  </a:cubicBezTo>
                  <a:cubicBezTo>
                    <a:pt x="376" y="1073"/>
                    <a:pt x="589" y="1281"/>
                    <a:pt x="847" y="1425"/>
                  </a:cubicBezTo>
                  <a:cubicBezTo>
                    <a:pt x="1105" y="1570"/>
                    <a:pt x="1397" y="1646"/>
                    <a:pt x="1694" y="1646"/>
                  </a:cubicBezTo>
                </a:path>
              </a:pathLst>
            </a:custGeom>
            <a:ln w="25560">
              <a:solidFill>
                <a:srgbClr val="dede96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62240" y="2905200"/>
              <a:ext cx="609840" cy="508320"/>
            </a:xfrm>
            <a:custGeom>
              <a:avLst/>
              <a:gdLst/>
              <a:ahLst/>
              <a:rect l="0" t="0" r="r" b="b"/>
              <a:pathLst>
                <a:path fill="none" w="1694" h="1412">
                  <a:moveTo>
                    <a:pt x="1694" y="0"/>
                  </a:moveTo>
                  <a:lnTo>
                    <a:pt x="1694" y="0"/>
                  </a:lnTo>
                  <a:cubicBezTo>
                    <a:pt x="1397" y="0"/>
                    <a:pt x="1105" y="65"/>
                    <a:pt x="847" y="189"/>
                  </a:cubicBezTo>
                  <a:cubicBezTo>
                    <a:pt x="589" y="313"/>
                    <a:pt x="376" y="491"/>
                    <a:pt x="227" y="706"/>
                  </a:cubicBezTo>
                  <a:cubicBezTo>
                    <a:pt x="78" y="921"/>
                    <a:pt x="0" y="1164"/>
                    <a:pt x="0" y="1412"/>
                  </a:cubicBezTo>
                </a:path>
              </a:pathLst>
            </a:custGeom>
            <a:ln w="25560">
              <a:solidFill>
                <a:srgbClr val="dede96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728880" y="1909800"/>
            <a:ext cx="1470600" cy="686160"/>
            <a:chOff x="3728880" y="1909800"/>
            <a:chExt cx="1470600" cy="686160"/>
          </a:xfrm>
        </p:grpSpPr>
        <p:sp>
          <p:nvSpPr>
            <p:cNvPr id="109" name=""/>
            <p:cNvSpPr/>
            <p:nvPr/>
          </p:nvSpPr>
          <p:spPr>
            <a:xfrm>
              <a:off x="4944960" y="2239920"/>
              <a:ext cx="254520" cy="356040"/>
            </a:xfrm>
            <a:custGeom>
              <a:avLst/>
              <a:gdLst/>
              <a:ahLst/>
              <a:rect l="0" t="0" r="r" b="b"/>
              <a:pathLst>
                <a:path fill="none" w="707" h="989">
                  <a:moveTo>
                    <a:pt x="0" y="989"/>
                  </a:moveTo>
                  <a:lnTo>
                    <a:pt x="0" y="989"/>
                  </a:lnTo>
                  <a:cubicBezTo>
                    <a:pt x="124" y="989"/>
                    <a:pt x="246" y="943"/>
                    <a:pt x="354" y="856"/>
                  </a:cubicBezTo>
                  <a:cubicBezTo>
                    <a:pt x="461" y="770"/>
                    <a:pt x="550" y="645"/>
                    <a:pt x="612" y="494"/>
                  </a:cubicBezTo>
                  <a:cubicBezTo>
                    <a:pt x="674" y="344"/>
                    <a:pt x="707" y="174"/>
                    <a:pt x="707" y="0"/>
                  </a:cubicBezTo>
                </a:path>
              </a:pathLst>
            </a:custGeom>
            <a:ln w="25560">
              <a:solidFill>
                <a:srgbClr val="dede96"/>
              </a:solidFill>
              <a:round/>
              <a:head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37000" y="1909800"/>
              <a:ext cx="762480" cy="339480"/>
            </a:xfrm>
            <a:custGeom>
              <a:avLst/>
              <a:gdLst/>
              <a:ahLst/>
              <a:rect l="0" t="0" r="r" b="b"/>
              <a:pathLst>
                <a:path fill="none" w="2118" h="943">
                  <a:moveTo>
                    <a:pt x="2118" y="943"/>
                  </a:moveTo>
                  <a:lnTo>
                    <a:pt x="2118" y="943"/>
                  </a:lnTo>
                  <a:lnTo>
                    <a:pt x="2118" y="943"/>
                  </a:lnTo>
                  <a:cubicBezTo>
                    <a:pt x="2118" y="777"/>
                    <a:pt x="2020" y="615"/>
                    <a:pt x="1834" y="471"/>
                  </a:cubicBezTo>
                  <a:cubicBezTo>
                    <a:pt x="1648" y="328"/>
                    <a:pt x="1381" y="209"/>
                    <a:pt x="1059" y="126"/>
                  </a:cubicBezTo>
                  <a:cubicBezTo>
                    <a:pt x="737" y="44"/>
                    <a:pt x="372" y="0"/>
                    <a:pt x="0" y="0"/>
                  </a:cubicBezTo>
                </a:path>
              </a:pathLst>
            </a:custGeom>
            <a:ln w="25560">
              <a:solidFill>
                <a:srgbClr val="dede96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28880" y="2184480"/>
              <a:ext cx="195480" cy="394200"/>
            </a:xfrm>
            <a:custGeom>
              <a:avLst/>
              <a:gdLst/>
              <a:ahLst/>
              <a:rect l="0" t="0" r="r" b="b"/>
              <a:pathLst>
                <a:path fill="none" w="543" h="1095">
                  <a:moveTo>
                    <a:pt x="0" y="0"/>
                  </a:moveTo>
                  <a:lnTo>
                    <a:pt x="0" y="0"/>
                  </a:lnTo>
                  <a:cubicBezTo>
                    <a:pt x="0" y="192"/>
                    <a:pt x="25" y="381"/>
                    <a:pt x="73" y="548"/>
                  </a:cubicBezTo>
                  <a:cubicBezTo>
                    <a:pt x="120" y="714"/>
                    <a:pt x="189" y="852"/>
                    <a:pt x="272" y="948"/>
                  </a:cubicBezTo>
                  <a:cubicBezTo>
                    <a:pt x="354" y="1044"/>
                    <a:pt x="448" y="1095"/>
                    <a:pt x="543" y="1095"/>
                  </a:cubicBezTo>
                </a:path>
              </a:pathLst>
            </a:custGeom>
            <a:ln w="25560">
              <a:solidFill>
                <a:srgbClr val="dede96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28880" y="1909800"/>
              <a:ext cx="720360" cy="305280"/>
            </a:xfrm>
            <a:custGeom>
              <a:avLst/>
              <a:gdLst/>
              <a:ahLst/>
              <a:rect l="0" t="0" r="r" b="b"/>
              <a:pathLst>
                <a:path fill="none" w="2001" h="848">
                  <a:moveTo>
                    <a:pt x="2001" y="0"/>
                  </a:moveTo>
                  <a:lnTo>
                    <a:pt x="2001" y="0"/>
                  </a:lnTo>
                  <a:cubicBezTo>
                    <a:pt x="1650" y="0"/>
                    <a:pt x="1305" y="39"/>
                    <a:pt x="1000" y="114"/>
                  </a:cubicBezTo>
                  <a:cubicBezTo>
                    <a:pt x="696" y="188"/>
                    <a:pt x="444" y="295"/>
                    <a:pt x="268" y="424"/>
                  </a:cubicBezTo>
                  <a:cubicBezTo>
                    <a:pt x="92" y="553"/>
                    <a:pt x="0" y="699"/>
                    <a:pt x="0" y="848"/>
                  </a:cubicBezTo>
                </a:path>
              </a:pathLst>
            </a:custGeom>
            <a:ln w="25560">
              <a:solidFill>
                <a:srgbClr val="dede96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Hidden Traps or Loops -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is thus clear that this state machine has no hidden traps or loo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ll Possible State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common problem is to overlook some state machine st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amples are initial states, empty states, error states, and so for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amine all possible conditions of the state parameters to ensure they are either included or truly impos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ll Possible State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ecking the BSet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mptyState has n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mberState has n &gt;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nce n cannot be &lt; 0, this covers all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ensure that none of the n &gt; 0 states should be distinct, check to see if any of them exhibit different behavior from the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check of the state template or state diagram shows that all n&gt;0 states behave identically.  Added states are thus unnecess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sign Verific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gn verification is covered in 2 lectures.  This lecture add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reasons for design ver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te machine correct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ecution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of by in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next lecture co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ce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thematical program ver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am proo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tate Orthogonali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the states to be orthogonal, the state machine must not be able to be in 2 states at o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the example state machine, eith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 = 0 or n &gt; 0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tates are orthogonal because the machine must be in either the EmptyState  (n = 0) or the MemberState (n &gt; 0); it cannot be in both at onc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tate Transitions - 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a proper state machine, the state transitions must all be complete and orthog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this to be 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very state must have a defined next state for every possible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very state must have a unique next state for every possible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tate Transitions - 2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rst, check EmptyState in the BSet example for completene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onditions are Push, Pop, Add, and Sub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tes are defined for each condition, so the EmptyState transitions are  comple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following table shows they are comple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57600" y="4543560"/>
            <a:ext cx="3786120" cy="1457280"/>
          </a:xfrm>
          <a:prstGeom prst="rect">
            <a:avLst/>
          </a:prstGeom>
          <a:solidFill>
            <a:srgbClr val="302fb2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1640" y="5257800"/>
            <a:ext cx="37864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5600880"/>
            <a:ext cx="3772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71640" y="4871880"/>
            <a:ext cx="37864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7800" y="4557600"/>
            <a:ext cx="0" cy="14288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822400" y="4560840"/>
            <a:ext cx="681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u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36800" y="4917960"/>
            <a:ext cx="56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836800" y="5275440"/>
            <a:ext cx="5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851200" y="5661000"/>
            <a:ext cx="1008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ubtr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451400" y="4575240"/>
            <a:ext cx="14605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emberSt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451400" y="490392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mptySt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465800" y="5289480"/>
            <a:ext cx="14605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emberSt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479840" y="564660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mptySt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tate Transitions - 3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xt, check EmptyState transitions for orthogon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transition conditions to EmptyState are Pop and Subtra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transition conditions to MemberState are Push and Ad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nce these next state transition conditions do not overlap, the transition conditions are orthogona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tate Transitions - 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MemberState completeness, the possible case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00160" y="3486240"/>
            <a:ext cx="28440" cy="0"/>
          </a:xfrm>
          <a:prstGeom prst="line">
            <a:avLst/>
          </a:prstGeom>
          <a:ln w="25560">
            <a:solidFill>
              <a:srgbClr val="d0d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432080" y="2435400"/>
            <a:ext cx="6343560" cy="2000160"/>
            <a:chOff x="1432080" y="2435400"/>
            <a:chExt cx="6343560" cy="2000160"/>
          </a:xfrm>
        </p:grpSpPr>
        <p:sp>
          <p:nvSpPr>
            <p:cNvPr id="144" name=""/>
            <p:cNvSpPr/>
            <p:nvPr/>
          </p:nvSpPr>
          <p:spPr>
            <a:xfrm>
              <a:off x="1446120" y="2435400"/>
              <a:ext cx="6329520" cy="2000160"/>
            </a:xfrm>
            <a:prstGeom prst="rect">
              <a:avLst/>
            </a:prstGeom>
            <a:solidFill>
              <a:srgbClr val="302fb2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46360" y="2463840"/>
              <a:ext cx="0" cy="1971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31960" y="2735280"/>
              <a:ext cx="5129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18040" y="2449440"/>
              <a:ext cx="0" cy="1971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32080" y="2992320"/>
              <a:ext cx="6329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60920" y="2735280"/>
              <a:ext cx="0" cy="16858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89640" y="2735280"/>
              <a:ext cx="0" cy="16858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46120" y="3606840"/>
              <a:ext cx="6329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32080" y="3263760"/>
              <a:ext cx="63435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32080" y="4006800"/>
              <a:ext cx="6329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3139920" y="2438280"/>
              <a:ext cx="108756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dede96"/>
                  </a:solidFill>
                  <a:latin typeface="Arial"/>
                  <a:ea typeface="Arial"/>
                </a:rPr>
                <a:t>D in BS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5783400" y="2452680"/>
              <a:ext cx="146052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dede96"/>
                  </a:solidFill>
                  <a:latin typeface="Arial"/>
                  <a:ea typeface="Arial"/>
                </a:rPr>
                <a:t>D not in BS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2840040" y="2709720"/>
              <a:ext cx="65232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dede96"/>
                  </a:solidFill>
                  <a:latin typeface="Arial"/>
                  <a:ea typeface="Arial"/>
                </a:rPr>
                <a:t>n =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111560" y="2709720"/>
              <a:ext cx="65232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dede96"/>
                  </a:solidFill>
                  <a:latin typeface="Arial"/>
                  <a:ea typeface="Arial"/>
                </a:rPr>
                <a:t>n &gt;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5397480" y="2724120"/>
              <a:ext cx="65232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dede96"/>
                  </a:solidFill>
                  <a:latin typeface="Arial"/>
                  <a:ea typeface="Arial"/>
                </a:rPr>
                <a:t>n =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6726240" y="2738520"/>
              <a:ext cx="65232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dede96"/>
                  </a:solidFill>
                  <a:latin typeface="Arial"/>
                  <a:ea typeface="Arial"/>
                </a:rPr>
                <a:t>n &gt;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1554120" y="2981160"/>
              <a:ext cx="68112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dede96"/>
                  </a:solidFill>
                  <a:latin typeface="Arial"/>
                  <a:ea typeface="Arial"/>
                </a:rPr>
                <a:t>Pus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1554120" y="3281400"/>
              <a:ext cx="56844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dede96"/>
                  </a:solidFill>
                  <a:latin typeface="Arial"/>
                  <a:ea typeface="Arial"/>
                </a:rPr>
                <a:t>Po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1554120" y="3695760"/>
              <a:ext cx="57960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dede96"/>
                  </a:solidFill>
                  <a:latin typeface="Arial"/>
                  <a:ea typeface="Arial"/>
                </a:rPr>
                <a:t>Ad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1539720" y="4081320"/>
              <a:ext cx="100800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dede96"/>
                  </a:solidFill>
                  <a:latin typeface="Arial"/>
                  <a:ea typeface="Arial"/>
                </a:rPr>
                <a:t>Subtr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2639880" y="3036960"/>
              <a:ext cx="11415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MemberSt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792600" y="3017880"/>
              <a:ext cx="11415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MemberSt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5135400" y="3032280"/>
              <a:ext cx="11415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MemberSt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6507000" y="3046320"/>
              <a:ext cx="11415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MemberSt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3807000" y="3332160"/>
              <a:ext cx="11415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MemberSt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6521400" y="3317760"/>
              <a:ext cx="11415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MemberSt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2635200" y="3732120"/>
              <a:ext cx="11415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MemberSt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3807000" y="3732120"/>
              <a:ext cx="11415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MemberSt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5149800" y="3732120"/>
              <a:ext cx="11415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MemberSt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6507000" y="3703680"/>
              <a:ext cx="11415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MemberSt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3792600" y="4132440"/>
              <a:ext cx="11415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MemberSt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5149800" y="4132440"/>
              <a:ext cx="11415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MemberSt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6521400" y="4132440"/>
              <a:ext cx="11415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MemberSt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2668680" y="3322800"/>
              <a:ext cx="10224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EmptySt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5164200" y="3317760"/>
              <a:ext cx="10224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EmptySt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2692440" y="4118040"/>
              <a:ext cx="10224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dede96"/>
                  </a:solidFill>
                  <a:latin typeface="Arial"/>
                  <a:ea typeface="Arial"/>
                </a:rPr>
                <a:t>EmptySt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"/>
          <p:cNvSpPr txBox="1"/>
          <p:nvPr/>
        </p:nvSpPr>
        <p:spPr>
          <a:xfrm>
            <a:off x="1014480" y="4976640"/>
            <a:ext cx="635004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nce these are all the possible cases,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mberState transitions are comple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tate Transitions - 5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MemberState orthogonality, there must be no overlap between th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transitions from MemberState to EmptyState occur when: Pop(n=1) or Subtract(n=1) and (D in BS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transitions from MemberState to MemberState occur when: Add + Push + Pop(n&gt;1) + Subtract(D not in BSet) + Subtract(n&gt;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 is clear from the previous chart, these two cases have no condition in common and are thus orthogon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lass Exercise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ignOn object is to have the following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pen - initiates a sign-on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gOn - requests a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the name is correct, PassWord requests the pass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the PassWord is correct, SignOn terminates with the value 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there is any error, the program starts again at Lo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any two errors, SignOn terminates with the value fa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lass Exercise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struct the SignOn state template and state diag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eck for hidden traps and loo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eck the states for completeness and   orthogon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eck the transitions for completeness and  orthogon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029200" y="1752480"/>
            <a:ext cx="2438640" cy="3277080"/>
          </a:xfrm>
          <a:custGeom>
            <a:avLst/>
            <a:gdLst/>
            <a:ahLst/>
            <a:rect l="0" t="0" r="r" b="b"/>
            <a:pathLst>
              <a:path fill="none" w="6774" h="9103">
                <a:moveTo>
                  <a:pt x="4234" y="9103"/>
                </a:moveTo>
                <a:lnTo>
                  <a:pt x="6774" y="9103"/>
                </a:lnTo>
                <a:lnTo>
                  <a:pt x="6774" y="0"/>
                </a:lnTo>
                <a:lnTo>
                  <a:pt x="0" y="0"/>
                </a:lnTo>
              </a:path>
            </a:pathLst>
          </a:custGeom>
          <a:ln w="38160">
            <a:solidFill>
              <a:srgbClr val="dede96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lass Exercise - Stat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587760" y="1405080"/>
            <a:ext cx="1378080" cy="596880"/>
          </a:xfrm>
          <a:prstGeom prst="rect">
            <a:avLst/>
          </a:prstGeom>
          <a:solidFill>
            <a:srgbClr val="6665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n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62560" y="2992320"/>
            <a:ext cx="1173240" cy="595440"/>
          </a:xfrm>
          <a:prstGeom prst="rect">
            <a:avLst/>
          </a:prstGeom>
          <a:solidFill>
            <a:srgbClr val="4747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62560" y="4705200"/>
            <a:ext cx="1173240" cy="59544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267000" y="2057400"/>
            <a:ext cx="924120" cy="87156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525920" y="1986120"/>
            <a:ext cx="811080" cy="100620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57640" y="3308400"/>
            <a:ext cx="2104920" cy="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68520" y="3587760"/>
            <a:ext cx="0" cy="117324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05360" y="3587760"/>
            <a:ext cx="0" cy="111744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084480" y="3429000"/>
            <a:ext cx="2249640" cy="1643040"/>
          </a:xfrm>
          <a:prstGeom prst="line">
            <a:avLst/>
          </a:prstGeom>
          <a:ln w="255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489040" y="2154240"/>
            <a:ext cx="76500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60880" y="2090880"/>
            <a:ext cx="137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ogOn(N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fal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300480" y="2905200"/>
            <a:ext cx="137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ogOn(N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5240" y="3697200"/>
            <a:ext cx="1476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ogOn(Y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28880" y="5372280"/>
            <a:ext cx="1857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ssWord(Y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tru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330720" y="4743360"/>
            <a:ext cx="1755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ssWord(N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89520" y="3710160"/>
            <a:ext cx="1476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ogOn(Y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665680" y="5321160"/>
            <a:ext cx="2505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ssWord(Yes) (tru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ssWord(No) (fal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16000" y="1752480"/>
            <a:ext cx="2438640" cy="3277080"/>
          </a:xfrm>
          <a:custGeom>
            <a:avLst/>
            <a:gdLst/>
            <a:ahLst/>
            <a:rect l="0" t="0" r="r" b="b"/>
            <a:pathLst>
              <a:path fill="none" w="6774" h="9103">
                <a:moveTo>
                  <a:pt x="2540" y="9103"/>
                </a:moveTo>
                <a:lnTo>
                  <a:pt x="0" y="9103"/>
                </a:lnTo>
                <a:lnTo>
                  <a:pt x="0" y="0"/>
                </a:lnTo>
                <a:lnTo>
                  <a:pt x="6774" y="0"/>
                </a:lnTo>
              </a:path>
            </a:pathLst>
          </a:custGeom>
          <a:ln w="38160">
            <a:solidFill>
              <a:srgbClr val="dede96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017800" y="2976480"/>
            <a:ext cx="1284120" cy="595440"/>
          </a:xfrm>
          <a:prstGeom prst="rect">
            <a:avLst/>
          </a:prstGeom>
          <a:solidFill>
            <a:srgbClr val="4747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017800" y="4761000"/>
            <a:ext cx="1247760" cy="57780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ame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ercise - State Templ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554120"/>
            <a:ext cx="4995720" cy="304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82960" y="1859040"/>
            <a:ext cx="4741920" cy="355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62280" y="2214720"/>
            <a:ext cx="4962600" cy="372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82960" y="2587680"/>
            <a:ext cx="4741920" cy="576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62280" y="3164040"/>
            <a:ext cx="4962600" cy="371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82960" y="3535200"/>
            <a:ext cx="4741920" cy="576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62280" y="4111560"/>
            <a:ext cx="4962600" cy="372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82960" y="4484520"/>
            <a:ext cx="4741920" cy="574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62280" y="5064120"/>
            <a:ext cx="4962600" cy="372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82960" y="5437080"/>
            <a:ext cx="4741920" cy="574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82960" y="2879640"/>
            <a:ext cx="4757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82960" y="3844800"/>
            <a:ext cx="4741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82960" y="4792680"/>
            <a:ext cx="4741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82960" y="5742000"/>
            <a:ext cx="4741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949400" y="1589040"/>
            <a:ext cx="988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ndB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94120" y="1554120"/>
            <a:ext cx="0" cy="4457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135160" y="1911240"/>
            <a:ext cx="6285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948120" y="1911240"/>
            <a:ext cx="6843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p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000160" y="2300400"/>
            <a:ext cx="6285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948120" y="1606680"/>
            <a:ext cx="6332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 = 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48120" y="2284560"/>
            <a:ext cx="6332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 =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135160" y="2604960"/>
            <a:ext cx="988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me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135160" y="2909880"/>
            <a:ext cx="662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948120" y="2622600"/>
            <a:ext cx="13161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ogOn(Y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948120" y="2909880"/>
            <a:ext cx="12254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ogOn(N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982880" y="3265560"/>
            <a:ext cx="988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me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63960" y="3249720"/>
            <a:ext cx="6332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 =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152800" y="3587760"/>
            <a:ext cx="662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963960" y="3587760"/>
            <a:ext cx="15652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assWord(N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152800" y="3875040"/>
            <a:ext cx="15652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ndBy (tru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963960" y="3875040"/>
            <a:ext cx="1622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assword(Y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982880" y="4179960"/>
            <a:ext cx="662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81600" y="4197240"/>
            <a:ext cx="6332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 =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35160" y="4552920"/>
            <a:ext cx="5936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63960" y="4552920"/>
            <a:ext cx="13161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ogOn(Y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170080" y="4807080"/>
            <a:ext cx="1644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ndBy (fals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963960" y="4807080"/>
            <a:ext cx="12254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ogOn(N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967040" y="5145120"/>
            <a:ext cx="5936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81600" y="5129280"/>
            <a:ext cx="6332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 =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185920" y="5484960"/>
            <a:ext cx="15652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ndBy (tru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998880" y="5484960"/>
            <a:ext cx="16556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assWord(Y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170080" y="5772240"/>
            <a:ext cx="1587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ndBy(fals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98880" y="5789520"/>
            <a:ext cx="15652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assWord(N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Need for Design Verification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 you work to improve your personal software process, you will likely find it hard to significantly reduce the numbers of design defects you mak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y using checklists and taking increased care, you can improve the yield of your code review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improve the yield of design reviews, you need to use disciplined verification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ecution Table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 execution table is an orderly way to trace program exec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is a manual check of the program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starts with initial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set of variable values is se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ch execution step is exam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very change in variable values is ent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am behavior is checked against the spec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ecution Table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advantages of execution table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are simp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give reliable proo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isadvantages of execution table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only check one case at a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are time consu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are subject to human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ecution Table Proced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use an execution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ntify the key program variables and enter them at the top of the trace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er the principal program step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and enter the initial condi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ce the variable values through each program 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repeating loops, add additional execution table steps for each additional loop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long loops, group intermediate steps if their results are obvi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ecution Table Example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00160" y="1522440"/>
            <a:ext cx="6970680" cy="4390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00160" y="1900080"/>
            <a:ext cx="697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00160" y="2306520"/>
            <a:ext cx="697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00160" y="2728800"/>
            <a:ext cx="697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00160" y="3170160"/>
            <a:ext cx="697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00160" y="3627360"/>
            <a:ext cx="697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00160" y="4067280"/>
            <a:ext cx="6986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00160" y="4473720"/>
            <a:ext cx="697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00160" y="4948200"/>
            <a:ext cx="697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00160" y="5456160"/>
            <a:ext cx="6970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271520" y="1522440"/>
            <a:ext cx="8762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ycle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551400" y="1574640"/>
            <a:ext cx="4060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earSpaces(var Input: string; State: in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00120" y="1900080"/>
            <a:ext cx="0" cy="401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10600" y="1900080"/>
            <a:ext cx="0" cy="401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30840" y="1900080"/>
            <a:ext cx="0" cy="401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835600" y="1900080"/>
            <a:ext cx="0" cy="401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19680" y="1900080"/>
            <a:ext cx="0" cy="401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100160" y="19810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247760" y="23702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247760" y="28116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247760" y="32688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247760" y="37083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247760" y="41324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65400" y="45543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247760" y="50468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552680" y="2014560"/>
            <a:ext cx="13287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stru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788000" y="1998720"/>
            <a:ext cx="11127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d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905440" y="2014560"/>
            <a:ext cx="662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649920" y="1998720"/>
            <a:ext cx="8431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eng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7445520" y="1981080"/>
            <a:ext cx="662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519200" y="2387520"/>
            <a:ext cx="23144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ength = length(Inpu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854680" y="2405160"/>
            <a:ext cx="7412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‘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B  ‘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70600" y="24210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597800" y="24210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536840" y="2827440"/>
            <a:ext cx="1366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f Length &gt; 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923000" y="2827440"/>
            <a:ext cx="5493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552680" y="3268800"/>
            <a:ext cx="3349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peat(until State=3 or Length=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620720" y="3741840"/>
            <a:ext cx="2236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f Input[Length-1] = ‘ ‘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973760" y="3741840"/>
            <a:ext cx="5493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704960" y="4165560"/>
            <a:ext cx="204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ength = Length -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689120" y="4572000"/>
            <a:ext cx="2587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f State &lt; 2 State=State+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35680" y="41832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956120" y="4605480"/>
            <a:ext cx="5493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597800" y="45896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552680" y="5079960"/>
            <a:ext cx="14590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lse State =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19200" y="5587920"/>
            <a:ext cx="2603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until State=3 or Length=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973760" y="5570640"/>
            <a:ext cx="6285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a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ecution Table Example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 cycles are required before the until condition is satis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ust as with a test case, the execution table will only prove the case for this specific variable comb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refully check the initial conditions to ensure they are set by the progra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uble check the execution table for errors and omis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roof by In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method applies to Boolean functions with integer para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f(n) is true for n =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d i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n = z where z &gt;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d f(z) is 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show that f(z+1) is 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n f(n) is true for all values of n larger than 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roof by Indu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i=1 to Li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 xy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show that this is true for Limit = 1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is true for some arbitrary larger value z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then show it would be true for z+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n it is true for all positive values of Li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 Proof by Induction Techniq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have a design element using variable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verify that it works for x =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ume it works for some larger value x = 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y to find a value of z where program behavior would be improper at z +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you cannot, the proof is compl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actorial Example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e that the following program produces 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ctorial(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i = 1 to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 = F*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turn = 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actorial Example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ick k = 1 and show that when N=1, F = N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nce 1 factorial is 1, this is cor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xt, assume that when N = z, F = z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nally, find any value of z 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(z) = z! and F(z+1) &lt;&gt; (z+1)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ch cases would only occur w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omputing number system was exc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uting capacity was exc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77880" y="568440"/>
            <a:ext cx="778032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ssignment #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Chapter 12 in the 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inue developing program 10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you have time, start working on the Final Report, R5.  The specifications for  R5 can be found in Appendix 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046160" y="91440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Messages to Remember </a:t>
            </a:r>
            <a:br>
              <a:rPr sz="3600"/>
            </a:b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rom Lecture 12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30240" y="17193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 Your design review yield will significan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prove if you use disciplined desig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view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The time spent verifying designs will b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re than repaid by the testing time sa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 Practice verification techniques and sel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most effective for finding the defe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most comonly find in te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9720" y="549360"/>
            <a:ext cx="77994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Need for Design Verification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 orderly approach to design verification is essential bec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ny common design defects are caused by overlooked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seem like unlikely situations become more likely with high-powered comput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ditions that were not possible with an initial program version may be induced by later mod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Need for Design Verification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y following a structured design verification procedure, you are more likely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e overlooked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ntify rarely exposed r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cognize possible future expo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y recording data on your design reviews, you can simplify later design insp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Using Design Verification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gn verification methods should be us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uring desig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uring design revi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uring design insp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 design verification methods should focus on the defect types that have caused you the most trouble in t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Using Design Verification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topics covered in this and the next lecture were selected because they address the design defect categories that caused me the most trou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te machine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op constr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 would use additional verification methods for the following defect types if they were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i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