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07960" y="6245280"/>
            <a:ext cx="811692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7000"/>
              </a:lnSpc>
              <a:tabLst>
                <a:tab algn="ctr" pos="4138560"/>
                <a:tab algn="r" pos="8001000"/>
              </a:tabLst>
            </a:pP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Copyright  © 1994 Carnegie Mellon University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SE 735-SI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	</a:t>
            </a:r>
            <a:r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Disciplined Software Engineering - Lecture 9   </a:t>
            </a:r>
            <a:fld id="{5BFF7D3A-3B63-4607-8A6C-99D8117D8E4C}" type="slidenum">
              <a:rPr b="1" i="1" lang="en-US" sz="900" spc="-1" strike="noStrike">
                <a:solidFill>
                  <a:srgbClr val="919191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380880"/>
            <a:ext cx="8109000" cy="6083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1600" y="858960"/>
            <a:ext cx="68644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5320" y="704880"/>
            <a:ext cx="7289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92840" y="3797280"/>
            <a:ext cx="3205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793800"/>
            <a:ext cx="672624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48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Disciplined Software </a:t>
            </a:r>
            <a:br>
              <a:rPr sz="4800"/>
            </a:br>
            <a:r>
              <a:rPr b="0" lang="en-US" sz="48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ngineering </a:t>
            </a:r>
            <a:br>
              <a:rPr sz="4800"/>
            </a:b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Lecture #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3498840"/>
            <a:ext cx="622764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atts S. Humphr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ittsburgh, PA 152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onsored by the U.S. Department of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A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se you had a switch that you wanted to be on under the follow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or B or C are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when A and B are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when A and C are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ould represent this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B+C)*[(A*B)+(A*C)]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00160" y="855720"/>
            <a:ext cx="69310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Simplifying Boolean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guidelines when you  simplify Boolean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re are any primed paranethetical expressions, use DeMorgan’s theorem to remov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ok for common terms that can be factored by the 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 substitutions to reduce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tempt to reduce expressions to a union of inter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Simplification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light bulb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B+C)*[(A*B)+(A*C)]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y DeMorgan’s theo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B+C)*[(A’+B’)*(A’+C’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A’ is common to the last terms 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B+C)*[A’+(B’*C’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substitute x for B+C, and x’ for B’*C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x)*(A’+x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Simplification Example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this expression is fully simplified, it should be converted to a union of inter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+x)*(A’+x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[(A+x)*A’]+[(A+x)*x’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[(A*A’)+(x*A’)]+[(A*x’)+(x*x’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x*A’)+(A*x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replacing x with B+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[(B+C)*A’]+[A*(B’*C’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= (A*B’*C’)+[A’*(B+C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Simplification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plify the following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F = X+(X’*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F = (X+Y)+[(X*Z)+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F = (X’*Y’*Z’)+(X*Y*Z’)+(X*Y’*Z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F = [X’*(Y+Z’)]’*(X+Y’+Z)*(X’*Y’*Z’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1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ing with  F = X+(X’*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(X+X’)*(X+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with the property of the universal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+X’ = 1 AND 1*(X+Y) = X+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the answer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X+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2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ing with F = (X+Y)+[(X*Z)+Y]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y the distributive law to 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(X+Y)+(X+Y)*(Z+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factor out the common X+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(X+Y)*[1+(Z+Y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the property of the universal class, 1+Z+Y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the answer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X+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3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ing with F = (X’*Y’*Z’)+(X*Y*Z’)+(X*Y’*Z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 out the common Z’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Z’*(X’Y’+XY+XY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ng out the common X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Z’*[X’Y’+X(Y+Y’)] = Z’*(X’Y’+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, with the distributiv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Z’*(X’+X)*(Y’+X) = Z’*(Y’+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4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ing with F = [X’*(Y+Z’)]’*(X+Y’+Z)*(X’*Y’*Z’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apply DeMorgan’s theorem, g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(X+Y’Z)*(X+Y’+Z)*(X+Y+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ng out the common X term g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X+Y’Z*(Y’+Z)*(Y+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ng out the common Z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X+Y’Z*(Z+Y’Y) = X+Y’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Karnaugh Map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xpressions of 6 variables or less, Karnaugh maps can aid the simplifi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rnaugh maps are a structured way to represent all possible combinations of the variables in an ex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ing is then done by associating related terms to achieve simpl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Design Notation -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16178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importance of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lean alge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rnaugh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ful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Boolean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Karnaugh Map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lean expressions can be represented in minterm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interms are the products of the variables in all possible combi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interms for X and Y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’*Y’, X*Y’, X’*Y, 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2**n minterms for n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30360" y="10033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Karnaugh Map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05160" y="285264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73360" y="285264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9720" y="285264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83200" y="285264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05160" y="342900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32120" y="25113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878440" y="217152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06600" y="254484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49400" y="29178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32120" y="3494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82640" y="200196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Y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41600" y="35449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117960" y="35607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59360" y="283680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7920" y="28368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4280" y="28368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7400" y="28368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59360" y="3411360"/>
            <a:ext cx="2387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61160" y="25290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03960" y="29005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86320" y="34765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14800" y="2085840"/>
            <a:ext cx="4809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’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39040" y="29862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30880" y="30193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86320" y="25290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06600" y="218772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4120" y="4919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2680" y="4919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70480" y="4919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72160" y="4919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94120" y="54943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13120" y="4471920"/>
            <a:ext cx="1634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97360" y="4611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40160" y="4983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22520" y="5559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3440" y="50688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67440" y="510228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440160" y="46116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97360" y="420372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98880" y="561024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57600" y="56275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22360" y="4594320"/>
            <a:ext cx="9270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Y’+X’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0360" y="10033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A 4-Variable Karnaugh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540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360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1176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13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540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88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33864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8144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6380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473280" y="345924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49640" y="34765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3540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360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1176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13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3540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3068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1304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014720" y="40179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08360" y="405288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13524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08360" y="34941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08360" y="29178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00160" y="660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A 5 Variable Karnaugh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688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5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32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492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688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220680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10120" y="2460600"/>
            <a:ext cx="2368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0      111    101    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688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5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32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492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16120" y="277812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4680" y="27781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92480" y="27781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4160" y="27781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616120" y="3340080"/>
            <a:ext cx="2373480" cy="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74960" y="233532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19360" y="2470320"/>
            <a:ext cx="23684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0      001     011    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62160" y="28432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4880" y="34178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6120" y="3863880"/>
            <a:ext cx="2387520" cy="1087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387828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92480" y="387828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94160" y="387828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44546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11400" y="39434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93760" y="45194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16320" y="1943280"/>
            <a:ext cx="560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two adjacent cells both have 1s, then those cells can be factored, eliminating the variable that is different for the two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xample, the 0100 and 0101 cells can be factored, eliminating the variable 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shown on the following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30360" y="10033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3540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1176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13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3540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9388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33864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8144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86380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473280" y="345924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049640" y="34765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3540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360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1176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13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3540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3068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81304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14720" y="40179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08360" y="405288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13524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08360" y="34941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08360" y="29178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6920" y="3411360"/>
            <a:ext cx="914400" cy="37296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ilarly, when four adjacent cells have 1s, then those cells can be factored, eliminating the two variables that are different for the four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xample, the 0101, 0111, 1101, and 1111 cells can be factored, eliminating the variables w and 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shown on the following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30360" y="10033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3540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0360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176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13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3540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9388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3864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8144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6380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73280" y="345924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49640" y="34765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3540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360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176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13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3540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3068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81304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14720" y="40179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08360" y="405288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13524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08360" y="34941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08360" y="29178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46400" y="3446640"/>
            <a:ext cx="86364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all three of the possible factorings are made, the resulting express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w’yz + wxy’ + x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shown on the following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ap Factoring -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540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0360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1176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3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3540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69388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33864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88144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6380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473280" y="345924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49640" y="347652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3540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0360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1176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13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3540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83068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81304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14720" y="40179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08360" y="405288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13524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08360" y="349416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08360" y="2917800"/>
            <a:ext cx="2998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46400" y="3446640"/>
            <a:ext cx="86364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89640" y="2852640"/>
            <a:ext cx="457200" cy="93204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36920" y="3411360"/>
            <a:ext cx="914400" cy="37296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338640" y="5237280"/>
            <a:ext cx="17463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’YZ+W’XY’+X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The Importance of Not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y software development defects are caused by misunderstandings and con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otation used to represent program requirements and designs sh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ise and con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nient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on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itable for representing a broad range of software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notations meet these crite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Simplification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00160" y="1717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Karnaugh Maps, simplify the following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F = X+(X’*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F = (X+Y)+[(X*Z)+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F = (X’*Y’*Z’)+(X*Y*Z’)+(X*Y’*Z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F = [X’*(Y+Z’)]’*(X+Y’+Z)*(X’*Y’*Z’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1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237024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292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2928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276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54720" y="29462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6160" y="206208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998960" y="2435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981680" y="3009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84800" y="30607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59116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16752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2624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318440" y="2519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591160" y="3044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743880" y="30448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302600" y="3060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851360" y="204624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94240" y="168912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51040" y="1703520"/>
            <a:ext cx="2836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unction is F = X+(X’*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21240" y="4622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980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9616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9928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21240" y="5199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62440" y="453060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423040" y="43149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65840" y="4687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48200" y="5262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51680" y="5313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55768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3404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69276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284960" y="47721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557680" y="5297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710400" y="52974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269120" y="53132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818240" y="42991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61120" y="394164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836720" y="4046400"/>
            <a:ext cx="21034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actoring this g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+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43640" y="5300640"/>
            <a:ext cx="21859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743960" y="530064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529240" y="5672160"/>
            <a:ext cx="22003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43640" y="5300640"/>
            <a:ext cx="0" cy="3715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15080" y="4729320"/>
            <a:ext cx="885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4729320"/>
            <a:ext cx="0" cy="8571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715080" y="5586480"/>
            <a:ext cx="885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715080" y="4729320"/>
            <a:ext cx="0" cy="8571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2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54720" y="237024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292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2928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23276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54720" y="29462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6160" y="206208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8960" y="2435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981680" y="3009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84800" y="30607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59116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6752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2624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318440" y="2519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591160" y="3044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743880" y="30448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302600" y="3060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851360" y="204624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4240" y="168912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50800" y="1703520"/>
            <a:ext cx="2048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unction 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(X+Y)+[(X*Z)+Y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X+Y+XZ+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X+Y+X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21240" y="4622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9616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9928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21240" y="5199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62440" y="453060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423040" y="43149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965840" y="4687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48200" y="5262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51680" y="5313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55768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3404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69276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284960" y="47721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557680" y="5297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710400" y="52974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269120" y="53132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18240" y="42991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61120" y="394164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65200" y="4046400"/>
            <a:ext cx="21034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actoring this g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+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43640" y="5300640"/>
            <a:ext cx="21859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43960" y="530064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529240" y="5672160"/>
            <a:ext cx="22003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43640" y="5300640"/>
            <a:ext cx="0" cy="3715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15080" y="4729320"/>
            <a:ext cx="885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729320"/>
            <a:ext cx="0" cy="8571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715080" y="5586480"/>
            <a:ext cx="885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715080" y="4729320"/>
            <a:ext cx="0" cy="8571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3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4720" y="237024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2292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2928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32760" y="23702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54720" y="29462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456160" y="206208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998960" y="2435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981680" y="3009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84800" y="30607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56272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6752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726240" y="25020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318440" y="2519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591160" y="3044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743880" y="30448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302600" y="3060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851360" y="204624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394240" y="168912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365120" y="1703520"/>
            <a:ext cx="3181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unction 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(X’*Y’*Z’)+(X*Y*Z’)+(X*Y’*Z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X’Y’Z’+XYZ’+XY’Z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21240" y="4622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8980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9616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9928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21240" y="5199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62440" y="453060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423040" y="43149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965840" y="4687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948200" y="5262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51680" y="5313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52924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3404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69276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327800" y="47721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57680" y="5297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710400" y="52974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269120" y="53132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818240" y="42991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61120" y="394164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6760" y="4046400"/>
            <a:ext cx="210348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actoring this g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Y’Z’+XZ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Z’(Y’+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14840" y="4700520"/>
            <a:ext cx="4003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43600" y="4686480"/>
            <a:ext cx="0" cy="9856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0800" y="5672160"/>
            <a:ext cx="4428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500800" y="4700520"/>
            <a:ext cx="0" cy="97164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572080" y="5272200"/>
            <a:ext cx="2858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72080" y="5272200"/>
            <a:ext cx="0" cy="3142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72080" y="5586480"/>
            <a:ext cx="2858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00800" y="5272200"/>
            <a:ext cx="4287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29560" y="5272200"/>
            <a:ext cx="0" cy="3999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286760" y="5672160"/>
            <a:ext cx="4428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4 Answer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68880" y="26319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237440" y="26319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43800" y="26319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46920" y="26319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68880" y="3208320"/>
            <a:ext cx="2387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070680" y="23241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613480" y="2697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595840" y="32716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799320" y="33228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205680" y="27637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781680" y="27637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7340760" y="27637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961400" y="27813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205680" y="33066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358040" y="33066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916760" y="33228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465880" y="23083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037200" y="193680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00160" y="1608120"/>
            <a:ext cx="347040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unction 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[X’*(Y+Z’)]’*(X+Y’+Z)*(X’*Y’*Z’)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(X+Y’Z)*(X+Y’+Z)*(X+Y+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is can be covered in 3 ma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21240" y="4622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9616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199280" y="4622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21240" y="5199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62440" y="453060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423040" y="43149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965840" y="4687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948200" y="5262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51680" y="5313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55768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0560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692760" y="4754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284960" y="47721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557680" y="5297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710400" y="52974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269120" y="53132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818240" y="42991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361120" y="394164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451480" y="1589040"/>
            <a:ext cx="754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+Y’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16080" y="464652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84640" y="46465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90640" y="46465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94120" y="46465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16080" y="522288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57280" y="455436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117880" y="433872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60680" y="47116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643040" y="5286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46520" y="5337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252520" y="4778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28880" y="4778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387600" y="47782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22640" y="4781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252520" y="5321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405240" y="53211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963960" y="53370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512720" y="432288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055960" y="396540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79600" y="3603600"/>
            <a:ext cx="873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+Y’+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851360" y="3732120"/>
            <a:ext cx="816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+Y+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ercise 4 Answer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26080" y="261792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94640" y="2617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200640" y="2617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04120" y="2617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26080" y="3193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627520" y="23097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170320" y="26827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153040" y="32576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356520" y="3308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62520" y="2749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338880" y="2749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97600" y="2749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518240" y="27669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762520" y="3292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915240" y="32925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473960" y="33084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22720" y="22939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594400" y="192240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442880" y="1908000"/>
            <a:ext cx="331308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total function is the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of these maps, or a map with 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here all 3 maps have 1s and 0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elsewhere.  This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4240" y="482292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32440" y="4822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38800" y="4822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42280" y="482292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64240" y="5398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05440" y="473076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665680" y="45147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208480" y="4888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191200" y="54626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94320" y="5513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800680" y="4954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348240" y="4954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935760" y="4954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570800" y="49435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800680" y="549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953400" y="549756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12120" y="55134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060880" y="449892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603760" y="414180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479600" y="4032360"/>
            <a:ext cx="369576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actoring this map gives the ans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+Y’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86280" y="5486400"/>
            <a:ext cx="21290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929720" y="548640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786280" y="5843520"/>
            <a:ext cx="21434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786280" y="548640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43560" y="4900680"/>
            <a:ext cx="4143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57920" y="4900680"/>
            <a:ext cx="0" cy="8715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315120" y="5772240"/>
            <a:ext cx="4428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315120" y="4900680"/>
            <a:ext cx="0" cy="8715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actoring Z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factoring 1s, the 1s on a map are covered.  This gives the minterm form of the ex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ame map can be factored by covering the 0s and then applying DeMorgan’s Theor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gives the maxterm form of the expression, or the intersection of un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ample of Zeros Fact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100160" y="1608120"/>
            <a:ext cx="3773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ollowing map could be factor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by covering 1s as follows, gi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+Y+Z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21480" y="475128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8968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9604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9952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53276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062680" y="46594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722920" y="444348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265720" y="4816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248440" y="5391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451560" y="5442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85792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40548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99300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585200" y="4900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857920" y="5425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010280" y="54259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569360" y="54421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118120" y="442764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661000" y="407052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30840" y="248904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9940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0540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0888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30840" y="306540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72040" y="239724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732640" y="218124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275440" y="25542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257800" y="3129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461280" y="3179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86728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41520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00236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594560" y="26384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867280" y="31640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020000" y="3164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578720" y="31798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127480" y="216540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670720" y="180828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857920" y="3143160"/>
            <a:ext cx="215748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015400" y="3143160"/>
            <a:ext cx="0" cy="3859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43520" y="3529080"/>
            <a:ext cx="217188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843520" y="3143160"/>
            <a:ext cx="0" cy="3859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58040" y="2571840"/>
            <a:ext cx="9572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15280" y="2571840"/>
            <a:ext cx="0" cy="9000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458040" y="3471840"/>
            <a:ext cx="9572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458040" y="2557440"/>
            <a:ext cx="0" cy="9144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29360" y="2629080"/>
            <a:ext cx="9572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972560" y="2614680"/>
            <a:ext cx="0" cy="7714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058160" y="3386160"/>
            <a:ext cx="9144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7058160" y="2629080"/>
            <a:ext cx="0" cy="7570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843520" y="482904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29440" y="482904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29480" y="524340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829480" y="482904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100160" y="4032360"/>
            <a:ext cx="327816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Covering the 0s, however, g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’ = X’Y’Z’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pplying DeMorgan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orem gives the ans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+Y+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Another Factoring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95840" y="22780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100160" y="1608120"/>
            <a:ext cx="377352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ollowing map could be factor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by covering 1s as follows, giving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minterm resu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XY’+X’Y+Z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721480" y="475128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8968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9604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99520" y="4751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21480" y="53276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62680" y="465948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722920" y="444348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265720" y="4816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48440" y="5391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451560" y="5442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85792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40548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993000" y="4883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7585200" y="490068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857920" y="5425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010280" y="542592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569360" y="54421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118120" y="442764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661000" y="407052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30840" y="248904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89940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0540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08880" y="248904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30840" y="306540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72040" y="239724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732640" y="218124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275440" y="25542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57800" y="3129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461280" y="3179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86728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41520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002360" y="262080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594560" y="26384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867280" y="31640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020000" y="3164040"/>
            <a:ext cx="334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7578720" y="31798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127480" y="2165400"/>
            <a:ext cx="318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670720" y="1808280"/>
            <a:ext cx="444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843520" y="3143160"/>
            <a:ext cx="0" cy="3859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58040" y="2571840"/>
            <a:ext cx="9572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15280" y="2571840"/>
            <a:ext cx="0" cy="9000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458040" y="3471840"/>
            <a:ext cx="9572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458040" y="2557440"/>
            <a:ext cx="0" cy="9144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43520" y="482904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29440" y="482904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829480" y="524340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829480" y="482904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100160" y="3203640"/>
            <a:ext cx="3278160" cy="22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Covering the 0s, however, g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’ = X’Y’Z’+XYZ’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pplying DeMorgan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orem gives the answer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maxterm 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(X+Y+Z)*(X’+Y’+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(X+Y)*(X’+Y’)+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43520" y="3143160"/>
            <a:ext cx="97164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15160" y="3143160"/>
            <a:ext cx="14400" cy="3859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5843520" y="3514680"/>
            <a:ext cx="986040" cy="144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000920" y="2629080"/>
            <a:ext cx="10573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058240" y="2629080"/>
            <a:ext cx="0" cy="3427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015320" y="2971800"/>
            <a:ext cx="10429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7015320" y="261468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601040" y="5400720"/>
            <a:ext cx="4572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058240" y="5400720"/>
            <a:ext cx="0" cy="3715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615080" y="5772240"/>
            <a:ext cx="4431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615080" y="5400720"/>
            <a:ext cx="0" cy="3715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actoring Out Z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100160" y="17128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times, a 1s factoring will be complicated by one or two badly placed 0s.  This can be handled as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tor the map as if the inconvenient 0s were 1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, treating each of these factors as a small map, factor out the 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00160" y="855720"/>
            <a:ext cx="69310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Class Properties- Mathematical 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00160" y="1865160"/>
            <a:ext cx="724068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English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Symbol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            Ex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Union, sum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 or B, A+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Intersection, product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 and B, A*B, 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Complement, not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  '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', not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ll, universal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None, empty set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 0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33880" y="2571840"/>
            <a:ext cx="133200" cy="2476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267080" y="2571840"/>
            <a:ext cx="152640" cy="2286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33880" y="3029040"/>
            <a:ext cx="133200" cy="19044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009960"/>
            <a:ext cx="133560" cy="2095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1100160" y="660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actoring Out 0s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0688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75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5832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8492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00688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36572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01012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5292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3564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145120" y="34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721480" y="34765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0688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75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832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8492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0688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0216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8452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686560" y="4017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280200" y="4052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80708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280200" y="3494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323040" y="2874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168880" y="4011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321600" y="4564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931080" y="4559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5688000" y="4573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173560" y="4559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931080" y="4002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931080" y="34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93108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73084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514512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379520" y="1832040"/>
            <a:ext cx="28940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Except for two inconven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0s, this map ha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simple facto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Y’+W’Y = Y’+W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393920" y="3317760"/>
            <a:ext cx="2058840" cy="11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Because of the 0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’X’Y’Z’ and the 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t W’XYZ, howeve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e must factor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0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1100160" y="660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actoring Out 0s Example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006880" y="2768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54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8324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4920" y="27687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06880" y="33447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365720" y="232560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010120" y="24606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52920" y="28335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35640" y="3408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5145120" y="34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721480" y="34765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06880" y="38685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1754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58324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84920" y="38685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06880" y="44449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02160" y="39337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484520" y="4510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86560" y="4017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280200" y="4052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807080" y="19335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280200" y="3494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323040" y="28749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168880" y="4011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321600" y="4564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931080" y="4559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88000" y="4573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173560" y="4559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931080" y="4002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931080" y="34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93108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73084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145120" y="28875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308240" y="1465200"/>
            <a:ext cx="28494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first factor, Y’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creates the mini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in the variables W, X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and Z.  On this map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’X’Z’ is factored ou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1 = Y’*(W’X’Z’)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Y’*(W+X+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is factoring is essenti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Y’ and not W’X’Z’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308240" y="4118040"/>
            <a:ext cx="284328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second factoring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2 = W’Y*(XZ)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W’Y*(X’+Z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So the function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Y’*(W+X+Z)+W’Y*(X‘+Z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86440" y="2828880"/>
            <a:ext cx="101448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00920" y="2828880"/>
            <a:ext cx="0" cy="20862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072040" y="4915080"/>
            <a:ext cx="102888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072040" y="2814480"/>
            <a:ext cx="0" cy="21006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9440" y="2828880"/>
            <a:ext cx="11286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358040" y="2828880"/>
            <a:ext cx="0" cy="10000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215040" y="3814920"/>
            <a:ext cx="1143000" cy="1404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215040" y="2828880"/>
            <a:ext cx="0" cy="98604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286680" y="341460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00680" y="3414600"/>
            <a:ext cx="0" cy="34308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6286680" y="3757680"/>
            <a:ext cx="41400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286680" y="3400560"/>
            <a:ext cx="0" cy="35712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43680" y="2886120"/>
            <a:ext cx="3999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543640" y="2886120"/>
            <a:ext cx="0" cy="3999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5114880" y="3286080"/>
            <a:ext cx="42876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129280" y="287172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actoring With More Vari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00160" y="1708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rnaugh maps are possible with up to 6 variables.  Beyond that, special tricks are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expression involves 6 or fewer variables in most of the terms with an occasional additional variable, an approach much like factoring out 0s can be us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method is called exception factoring and can be used with any number of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1100160" y="5983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ception Factoring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factor the following function on a 4-variable Karnaugh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= AX’Y’+WXY’+W’Y’Z+XY’Z+W’XY’Z’+WX’Y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Construct the function, using th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, X, Y, and 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For the term with the A, instead of 1, enter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in that squ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In factoring out zeros, treat A as A+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100160" y="660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ception Factoring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06640" y="346860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174840" y="34686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83000" y="34686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84680" y="346860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006640" y="40449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222200" y="309708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009880" y="31608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52680" y="353376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535040" y="41083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144880" y="4159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20880" y="41767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06640" y="456876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74840" y="45687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83000" y="45687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784680" y="4568760"/>
            <a:ext cx="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006640" y="5145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501920" y="46339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484280" y="52102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685960" y="4718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279600" y="4753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806480" y="263376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279600" y="41940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322800" y="3575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168640" y="47116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321000" y="52642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930480" y="52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687760" y="52736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173320" y="5259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930480" y="47023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930480" y="4159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930480" y="35877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730600" y="35877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2144880" y="35877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100160" y="1465200"/>
            <a:ext cx="315288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irst, construct the map, u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only the terms containing W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X, Y, and 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1100160" y="2260440"/>
            <a:ext cx="39956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1 = WXY’+W’Y’Z+XY’Z+W’XY’Z’+WX’Y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773680" y="35067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942240" y="3506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50040" y="3506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551720" y="35067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73680" y="408312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989600" y="313524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76920" y="31989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5319720" y="357192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5302080" y="41464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911920" y="4197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488280" y="42148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73680" y="460692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42240" y="460692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50040" y="460692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51720" y="460692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73680" y="518328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268960" y="467208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5251320" y="52484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453360" y="47563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7047000" y="4791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587920" y="261468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7047000" y="42321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7089840" y="36133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935680" y="47498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088040" y="5302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697880" y="5297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454800" y="531180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940360" y="529740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697880" y="47401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7697880" y="4197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7697880" y="3625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497640" y="36259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5911920" y="362592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108400" y="1465200"/>
            <a:ext cx="349236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Next, enter the A term.  Put an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herever there are 0s and not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where there is a 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323040" y="2274840"/>
            <a:ext cx="1184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2 = AX’Y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1100160" y="660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Exception Factoring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516640" y="273528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684840" y="2735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93000" y="2735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294680" y="27352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516640" y="33116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732200" y="2363760"/>
            <a:ext cx="492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519880" y="242712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5062680" y="280044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045040" y="33750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654520" y="34257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230880" y="3443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516640" y="3835440"/>
            <a:ext cx="2387520" cy="110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84840" y="383544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93000" y="383544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294680" y="3835440"/>
            <a:ext cx="0" cy="110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6640" y="441180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5011560" y="39006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994280" y="4476600"/>
            <a:ext cx="3906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195960" y="3984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789600" y="40194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330880" y="1843200"/>
            <a:ext cx="425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Y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789600" y="34606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832440" y="28414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678640" y="39783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31000" y="45306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7440480" y="4525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197760" y="45403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683320" y="452592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440480" y="39686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7440480" y="34257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440480" y="2854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40600" y="28544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5654520" y="2854440"/>
            <a:ext cx="3110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600880" y="2800440"/>
            <a:ext cx="10285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2800440"/>
            <a:ext cx="0" cy="20574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586480" y="4857840"/>
            <a:ext cx="10429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586480" y="2786040"/>
            <a:ext cx="0" cy="207180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657760" y="2843280"/>
            <a:ext cx="3715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029280" y="284328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657760" y="3257640"/>
            <a:ext cx="371520" cy="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672160" y="2843280"/>
            <a:ext cx="0" cy="414360"/>
          </a:xfrm>
          <a:prstGeom prst="line">
            <a:avLst/>
          </a:prstGeom>
          <a:ln w="25560">
            <a:solidFill>
              <a:srgbClr val="ffa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236600" y="1689120"/>
            <a:ext cx="3594240" cy="22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irst, factor out the 1s, assu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the A was a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1 = Y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Next, factor out the A term, tre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it as A+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F = Y’*[A+(W’X’Z’)’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be3e83"/>
                </a:solidFill>
                <a:latin typeface="Arial"/>
                <a:ea typeface="Arial"/>
              </a:rPr>
              <a:t>= Y’*(A+W+X+Z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1100160" y="66996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Other Useful Symb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ollowing basic mathematical symbols are also useful in defining programming fun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means “is a member of the s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means “is not a member of the s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means “for all members of the s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means “there exists a member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479840" y="3103560"/>
            <a:ext cx="184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579680" y="2700360"/>
            <a:ext cx="318960" cy="3618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1593720" y="3573360"/>
            <a:ext cx="419040" cy="4158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3"/>
          <a:stretch/>
        </p:blipFill>
        <p:spPr>
          <a:xfrm>
            <a:off x="1638360" y="4452840"/>
            <a:ext cx="287280" cy="3571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4"/>
          <a:stretch/>
        </p:blipFill>
        <p:spPr>
          <a:xfrm>
            <a:off x="1636560" y="5310360"/>
            <a:ext cx="262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1100160" y="741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Notation Examp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1100160" y="16509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update a file when dataset D is a member of the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D    File) ::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dd a number x(i), when every number i is an even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when (i     even) :: add x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clear a register when any number n is 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when (i &lt; 0) :: C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1693800" y="2500200"/>
            <a:ext cx="204840" cy="2192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1395360" y="4067280"/>
            <a:ext cx="230040" cy="29988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3060720" y="4167360"/>
            <a:ext cx="219240" cy="2174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4"/>
          <a:stretch/>
        </p:blipFill>
        <p:spPr>
          <a:xfrm>
            <a:off x="1450800" y="5667480"/>
            <a:ext cx="21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unction Comple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100160" y="1789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functions is complete if it covers all possible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a complete set of functions, the Karnaugh map for the sum (or union) of the functions covers all map po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may be multiply-covered map po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unction Orthogon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100160" y="167472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functions is orthogonal if no two functions cover the same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the product (intersection) of any function with any other function is z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, j where (i   j) =&gt; F(i)*F(j) = 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ap may not be completely 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1380960" y="4110120"/>
            <a:ext cx="230040" cy="299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3316320" y="4154400"/>
            <a:ext cx="217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Using This Not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00160" y="175572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s familiarity with an important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t with the notation used in formal methods for proving program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tinguishes logic from other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lly takes more time to 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 take practice to build famili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coworkers may not underst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1100160" y="11606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Complete and Orthog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set of functions is complete and orthogonal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unctions cover all el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two functions cover the sam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1100160" y="855720"/>
            <a:ext cx="69310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Complete and Orthogonal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54400" y="241308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22600" y="24130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28960" y="24130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2440" y="241308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354400" y="298944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695600" y="2320920"/>
            <a:ext cx="1652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5335560" y="1663560"/>
            <a:ext cx="2185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, g, h are orthog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2355840" y="210492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898640" y="247824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1881360" y="305280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84480" y="310356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86400" y="24303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4960" y="24303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062760" y="24303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264440" y="2430360"/>
            <a:ext cx="0" cy="11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486400" y="300528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403960" y="1982880"/>
            <a:ext cx="165240" cy="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5487840" y="212256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5030640" y="2494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014800" y="30700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216480" y="259560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775560" y="259560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287440" y="1663560"/>
            <a:ext cx="201780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, g, h are comple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94120" y="4597560"/>
            <a:ext cx="2387520" cy="1100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62680" y="45975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470480" y="45975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672160" y="4597560"/>
            <a:ext cx="0" cy="1099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94120" y="5173560"/>
            <a:ext cx="238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97360" y="4289400"/>
            <a:ext cx="21985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       01      11  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440160" y="466236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422520" y="5237280"/>
            <a:ext cx="277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641840" y="474660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5218200" y="476424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727440" y="3848040"/>
            <a:ext cx="355284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, g, h are complete and orthog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032360" y="528804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624560" y="527220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2490840" y="254484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067200" y="254484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625920" y="2544840"/>
            <a:ext cx="412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218120" y="2562120"/>
            <a:ext cx="357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2490840" y="308772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643200" y="3087720"/>
            <a:ext cx="357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4202280" y="3103560"/>
            <a:ext cx="357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5624640" y="312120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199200" y="312120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418520" y="310356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049640" y="476424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5827680" y="476424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861160" y="5288040"/>
            <a:ext cx="2332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218200" y="5272200"/>
            <a:ext cx="2890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100160" y="17794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methods for software design have been developed based on mathematical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emise of formal methods i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er programs can be treated as  mathematical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inciples of mathematics thus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sign of a correct program can then be    treated as a theorem der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se of mathematically rigorous methods should thus produce correct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1100160" y="74124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1100160" y="15796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methods typically use a program precondition, a program postcondition, and a program invari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program then transforms the precondition to the postcondition while preserving the invari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prove program 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e that the program transforms the    preconditions to the post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preserves the invari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s 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100160" y="16462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formally develop a new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th a postcond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ive the pre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the invari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 a program that transforms the precondition to the postcondition and preserves the invari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program involves iteration, each cycle  should progress toward loop ter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The Pros of Formal N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are prec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can compactly represent complicated fun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form a foundation for learning formal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The Cons of Formal N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take time to lea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y take more time to build the familiarity    needed to use them for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associates may not understand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1100160" y="71928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s in This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100160" y="1465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herents claim formal methods provide a rigorous way to develop quality software.  Sceptics argue that they are not cost eff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ile formal methods show promise, their general use will requ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s who make fewer errors with formal proofs than they do in software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l methods are not treated further in this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 Suggestion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00160" y="16700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are familiar with or trained in formal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m with your P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your quality and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your results to others who use such   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your results to your results when you do not use formal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cide if these methods are effective for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ll others what you f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Formal Method Suggestion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1100160" y="16556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are not familiar with formal methods, consider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k users to show you thei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ke a course or study the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y them for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your quality and productivity before and after and decide if they are effective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ll others what you f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Boolean Algeb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0160" y="16365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lgebra of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ines and manipulates class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y - whether statements are self-   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lidity - whether statements represent rea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ass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n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ic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-244440">
              <a:lnSpc>
                <a:spcPct val="90000"/>
              </a:lnSpc>
              <a:spcBef>
                <a:spcPts val="360"/>
              </a:spcBef>
              <a:buClr>
                <a:srgbClr val="ffa040"/>
              </a:buClr>
              <a:buSzPct val="125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niversal and empty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Assignment #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100160" y="17463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appendix B in the text and work through the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ing PSP2.1, write program 8A to sort a linked list of N real numbers into ascending orde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the program specifications in Appendix D and the PSP2.1 description in Appendix C.  Follow the assignment specifications in Appendix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100160" y="1160640"/>
            <a:ext cx="69292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essages to Remember from Lecture 9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100160" y="187020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 A poor design notation is a source of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By using a defined and rigorous nota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improve the quality of your desig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eliminate de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100160" y="1160640"/>
            <a:ext cx="69292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Messages to Remember from Lecture 9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1100160" y="182736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 Select and use an appropriate notation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ong thos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.  Try formal methods in your softw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 and see if they work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Venn Dia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13040" y="1989000"/>
            <a:ext cx="22525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71760" y="2362320"/>
            <a:ext cx="1050840" cy="9651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65160" y="1698480"/>
            <a:ext cx="9669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um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44640" y="2671920"/>
            <a:ext cx="4698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33640" y="2095560"/>
            <a:ext cx="7160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7920" y="1973160"/>
            <a:ext cx="215100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16560" y="2311560"/>
            <a:ext cx="1031760" cy="93204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0560" y="2565360"/>
            <a:ext cx="1168560" cy="10159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538960" y="1663560"/>
            <a:ext cx="9669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um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675400" y="2062080"/>
            <a:ext cx="8762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n-adu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894280" y="3105000"/>
            <a:ext cx="6699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dul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Wom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335640" y="2733840"/>
            <a:ext cx="5223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dul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42080" y="2378160"/>
            <a:ext cx="4986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on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dul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03440" y="4056120"/>
            <a:ext cx="3014640" cy="2014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76760" y="4241880"/>
            <a:ext cx="1539720" cy="13539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26160" y="4259160"/>
            <a:ext cx="1389240" cy="14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4767120"/>
            <a:ext cx="1371600" cy="12351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56000" y="4156200"/>
            <a:ext cx="5842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’B’C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338640" y="3763800"/>
            <a:ext cx="16779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iversal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62440" y="4578480"/>
            <a:ext cx="5461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B’C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68960" y="4476600"/>
            <a:ext cx="5461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’BC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24560" y="5680080"/>
            <a:ext cx="5461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’B’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54560" y="5205240"/>
            <a:ext cx="5065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B’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81760" y="5307120"/>
            <a:ext cx="5065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A’B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44880" y="5005440"/>
            <a:ext cx="4129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B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44880" y="4599000"/>
            <a:ext cx="4446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BC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Properties of Classes -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00160" y="180324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lexive:          for every x, x&lt;=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mpotent:      xx=x, x+x=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tisymmetric: if x&lt;=y and y&lt;=x then x=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itive:         if x&lt;=y and y&lt;=z then x&lt;=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tative:   xy=yx, x+y=y+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ive:      x(yz)=(xy)z, x+(y+z)=(x+y)+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tive:      x(y+z)=xy+xz, x+yz=(x+y)(x+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00160" y="855720"/>
            <a:ext cx="6931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600" spc="-1" strike="noStrike">
                <a:solidFill>
                  <a:srgbClr val="ffa040"/>
                </a:solidFill>
                <a:latin typeface="Century Schoolbook"/>
                <a:ea typeface="Century Schoolbook"/>
              </a:rPr>
              <a:t>Properties of Classes -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00160" y="1727280"/>
            <a:ext cx="73137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pty and universal clas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x’=0, x+x’=1, 0&lt;=x&lt;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0=0, x+1=1, x+0=x, x1=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y:     x&lt;=y, xy=x, x+y=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e equiv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orption:       x(x+y)=x+xy=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Morgan’s 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x’)’=x, (xy)’=x’+y’, (x+y)’=x’y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