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10  </a:t>
            </a:r>
            <a:fld id="{2B0732CD-8BB8-491D-96CC-53FF483A7EC5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 Design Proc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focuses on what a design should contain when it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necessary be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provides criteria for determining when a given design phase is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provides a basis for reviewing the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there is no single best design method, the PSP must be capable of supporting multiple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oor Design Representations Cause Defect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vels of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obvious design concept may not be obvious during implemen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onstructing the design context during     implementation is time consuming and error pr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ave time and prevent defects, the design should be precisely recorded when it is conce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oor Design Representations Cause Defect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30240" y="17733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vi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x designs are difficult to visu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oor representation compounds this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well-represented design is unamb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redund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dundant design is often in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onsistency breeds errors and causes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quality design has minimum du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Representation - Requirem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30240" y="16970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representation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isely define all significant design asp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lude all important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e the designers’ i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lp identify design problems and o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s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should be compact and easy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topics must be readily 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dundancy must be avoi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Users of the Desig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users of the design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lemen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revie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ers and test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rs, maintainers, and enhan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Users of the Desig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users all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lear statement of the program’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scription of all external calls and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list of all external variables, parameters, and    cons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pecification for all related objects and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scription of all files and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pecification of all system 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pecification of all implementation 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Users of the Design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, the design and code reviewers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icture of where and how the program fits into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tructural view of th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ecise statement of the program’s extern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ther users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ical user scen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pecification of special error checks or   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asons for the design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Users of the Design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potentially a large amount of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all of it is needed immed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can be obtained from other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wise to limit the design workload as much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thus important to identify the critical design subset that the designers must prov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possible, the other items should be provided later or by other people or grou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Users of the Design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ritical materials that must be provided by the designers before implementation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lear statement of the program’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pecification of all external calls and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list of all external variables, parameters, and    cons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pecification for all related objects and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icture of where and how the program fits into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tructural view of th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Dim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79560" y="2081160"/>
            <a:ext cx="5994360" cy="3917880"/>
            <a:chOff x="1879560" y="2081160"/>
            <a:chExt cx="5994360" cy="3917880"/>
          </a:xfrm>
        </p:grpSpPr>
        <p:sp>
          <p:nvSpPr>
            <p:cNvPr id="174" name=""/>
            <p:cNvSpPr/>
            <p:nvPr/>
          </p:nvSpPr>
          <p:spPr>
            <a:xfrm>
              <a:off x="1879560" y="2090880"/>
              <a:ext cx="5994360" cy="3878280"/>
            </a:xfrm>
            <a:prstGeom prst="rect">
              <a:avLst/>
            </a:prstGeom>
            <a:noFill/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9560" y="4376880"/>
              <a:ext cx="5994360" cy="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68560" y="2116080"/>
              <a:ext cx="0" cy="387036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67280" y="2103480"/>
              <a:ext cx="0" cy="38955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898640" y="2081160"/>
              <a:ext cx="158760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f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898640" y="294012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898640" y="45990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ynam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049640" y="2328840"/>
              <a:ext cx="9907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929200" y="2328840"/>
              <a:ext cx="106668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049640" y="2940120"/>
              <a:ext cx="14349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tribu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trai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929200" y="2940120"/>
              <a:ext cx="1854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herita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ass Struct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49640" y="4599000"/>
              <a:ext cx="17017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te Mach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929200" y="4599000"/>
              <a:ext cx="125748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sag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892160" y="2717640"/>
              <a:ext cx="5956560" cy="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br>
              <a:rPr sz="36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ftware Design - Overview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s’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dim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tem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Temp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ur design templates are used in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c specification template - static, in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 specification template - dynamic, in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al specification template - dynamic and static, 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erational scenario template - dynamic, 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562720" y="3873600"/>
            <a:ext cx="2082960" cy="73656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ogic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05520" y="4178160"/>
            <a:ext cx="2082960" cy="73656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e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67080" y="2425680"/>
            <a:ext cx="2082960" cy="73656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unctional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9880" y="2730600"/>
            <a:ext cx="2082960" cy="73656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peration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905120" y="5245200"/>
            <a:ext cx="2082960" cy="73656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ule/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Design Hierarc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83160" y="3764880"/>
            <a:ext cx="948960" cy="948960"/>
          </a:xfrm>
          <a:custGeom>
            <a:avLst/>
            <a:gdLst/>
            <a:ahLst/>
            <a:rect l="0" t="0" r="r" b="b"/>
            <a:pathLst>
              <a:path fill="none" w="2636" h="2636">
                <a:moveTo>
                  <a:pt x="0" y="0"/>
                </a:moveTo>
                <a:lnTo>
                  <a:pt x="0" y="0"/>
                </a:lnTo>
                <a:cubicBezTo>
                  <a:pt x="0" y="463"/>
                  <a:pt x="122" y="917"/>
                  <a:pt x="353" y="1318"/>
                </a:cubicBezTo>
                <a:cubicBezTo>
                  <a:pt x="585" y="1719"/>
                  <a:pt x="917" y="2051"/>
                  <a:pt x="1318" y="2283"/>
                </a:cubicBezTo>
                <a:cubicBezTo>
                  <a:pt x="1719" y="2514"/>
                  <a:pt x="2173" y="2636"/>
                  <a:pt x="2636" y="2636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905120" y="1587600"/>
            <a:ext cx="2082960" cy="73656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gram requiremen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at the user n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352680" y="3035160"/>
            <a:ext cx="2082960" cy="73656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gram specific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at the pro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4483080"/>
            <a:ext cx="2082960" cy="73656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igh-level desig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ow the pro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87520" y="2393280"/>
            <a:ext cx="948960" cy="948960"/>
          </a:xfrm>
          <a:custGeom>
            <a:avLst/>
            <a:gdLst/>
            <a:ahLst/>
            <a:rect l="0" t="0" r="r" b="b"/>
            <a:pathLst>
              <a:path fill="none" w="2636" h="2636">
                <a:moveTo>
                  <a:pt x="0" y="0"/>
                </a:moveTo>
                <a:lnTo>
                  <a:pt x="0" y="0"/>
                </a:lnTo>
                <a:cubicBezTo>
                  <a:pt x="0" y="463"/>
                  <a:pt x="122" y="917"/>
                  <a:pt x="353" y="1318"/>
                </a:cubicBezTo>
                <a:cubicBezTo>
                  <a:pt x="585" y="1719"/>
                  <a:pt x="917" y="2051"/>
                  <a:pt x="1318" y="2283"/>
                </a:cubicBezTo>
                <a:cubicBezTo>
                  <a:pt x="1719" y="2514"/>
                  <a:pt x="2173" y="2636"/>
                  <a:pt x="2636" y="2636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800600"/>
            <a:ext cx="1371960" cy="457560"/>
          </a:xfrm>
          <a:custGeom>
            <a:avLst/>
            <a:gdLst/>
            <a:ahLst/>
            <a:rect l="0" t="0" r="r" b="b"/>
            <a:pathLst>
              <a:path fill="none" w="3811" h="1271">
                <a:moveTo>
                  <a:pt x="3811" y="0"/>
                </a:moveTo>
                <a:lnTo>
                  <a:pt x="3811" y="0"/>
                </a:lnTo>
                <a:cubicBezTo>
                  <a:pt x="3142" y="0"/>
                  <a:pt x="2485" y="59"/>
                  <a:pt x="1905" y="170"/>
                </a:cubicBezTo>
                <a:cubicBezTo>
                  <a:pt x="1326" y="282"/>
                  <a:pt x="845" y="442"/>
                  <a:pt x="511" y="636"/>
                </a:cubicBezTo>
                <a:cubicBezTo>
                  <a:pt x="176" y="829"/>
                  <a:pt x="0" y="1048"/>
                  <a:pt x="0" y="1271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562720" y="3873600"/>
            <a:ext cx="2082960" cy="736560"/>
          </a:xfrm>
          <a:prstGeom prst="rect">
            <a:avLst/>
          </a:prstGeom>
          <a:solidFill>
            <a:srgbClr val="529a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ogic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05520" y="4178160"/>
            <a:ext cx="2082960" cy="736560"/>
          </a:xfrm>
          <a:prstGeom prst="rect">
            <a:avLst/>
          </a:prstGeom>
          <a:solidFill>
            <a:srgbClr val="277a7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e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67080" y="2425680"/>
            <a:ext cx="2082960" cy="736560"/>
          </a:xfrm>
          <a:prstGeom prst="rect">
            <a:avLst/>
          </a:prstGeom>
          <a:solidFill>
            <a:srgbClr val="529a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unctional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09880" y="2730600"/>
            <a:ext cx="2082960" cy="736560"/>
          </a:xfrm>
          <a:prstGeom prst="rect">
            <a:avLst/>
          </a:prstGeom>
          <a:solidFill>
            <a:srgbClr val="277a7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peration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905120" y="5245200"/>
            <a:ext cx="2082960" cy="73656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ource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83160" y="3764880"/>
            <a:ext cx="948960" cy="948960"/>
          </a:xfrm>
          <a:custGeom>
            <a:avLst/>
            <a:gdLst/>
            <a:ahLst/>
            <a:rect l="0" t="0" r="r" b="b"/>
            <a:pathLst>
              <a:path fill="none" w="2636" h="2636">
                <a:moveTo>
                  <a:pt x="0" y="0"/>
                </a:moveTo>
                <a:lnTo>
                  <a:pt x="0" y="0"/>
                </a:lnTo>
                <a:cubicBezTo>
                  <a:pt x="0" y="463"/>
                  <a:pt x="122" y="917"/>
                  <a:pt x="353" y="1318"/>
                </a:cubicBezTo>
                <a:cubicBezTo>
                  <a:pt x="585" y="1719"/>
                  <a:pt x="917" y="2051"/>
                  <a:pt x="1318" y="2283"/>
                </a:cubicBezTo>
                <a:cubicBezTo>
                  <a:pt x="1719" y="2514"/>
                  <a:pt x="2173" y="2636"/>
                  <a:pt x="2636" y="2636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05120" y="1587600"/>
            <a:ext cx="2082960" cy="73656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ule requiremen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at the program n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352680" y="3035160"/>
            <a:ext cx="2082960" cy="73656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ule specific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at the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4483080"/>
            <a:ext cx="2082960" cy="73656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etailed desig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ow  the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87520" y="2393280"/>
            <a:ext cx="948960" cy="948960"/>
          </a:xfrm>
          <a:custGeom>
            <a:avLst/>
            <a:gdLst/>
            <a:ahLst/>
            <a:rect l="0" t="0" r="r" b="b"/>
            <a:pathLst>
              <a:path fill="none" w="2636" h="2636">
                <a:moveTo>
                  <a:pt x="0" y="0"/>
                </a:moveTo>
                <a:lnTo>
                  <a:pt x="0" y="0"/>
                </a:lnTo>
                <a:cubicBezTo>
                  <a:pt x="0" y="463"/>
                  <a:pt x="122" y="917"/>
                  <a:pt x="353" y="1318"/>
                </a:cubicBezTo>
                <a:cubicBezTo>
                  <a:pt x="585" y="1719"/>
                  <a:pt x="917" y="2051"/>
                  <a:pt x="1318" y="2283"/>
                </a:cubicBezTo>
                <a:cubicBezTo>
                  <a:pt x="1719" y="2514"/>
                  <a:pt x="2173" y="2636"/>
                  <a:pt x="2636" y="2636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4800600"/>
            <a:ext cx="1371960" cy="457560"/>
          </a:xfrm>
          <a:custGeom>
            <a:avLst/>
            <a:gdLst/>
            <a:ahLst/>
            <a:rect l="0" t="0" r="r" b="b"/>
            <a:pathLst>
              <a:path fill="none" w="3811" h="1271">
                <a:moveTo>
                  <a:pt x="3811" y="0"/>
                </a:moveTo>
                <a:lnTo>
                  <a:pt x="3811" y="0"/>
                </a:lnTo>
                <a:cubicBezTo>
                  <a:pt x="3142" y="0"/>
                  <a:pt x="2485" y="59"/>
                  <a:pt x="1905" y="170"/>
                </a:cubicBezTo>
                <a:cubicBezTo>
                  <a:pt x="1326" y="282"/>
                  <a:pt x="845" y="442"/>
                  <a:pt x="511" y="636"/>
                </a:cubicBezTo>
                <a:cubicBezTo>
                  <a:pt x="176" y="829"/>
                  <a:pt x="0" y="1048"/>
                  <a:pt x="0" y="1271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Implementation Hierarc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Using Design Temp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templates comprise one way to represent a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ir intent is to be precise, unambiguous,     non-redundant, and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design templates with the PSP where you 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 representations may be substituted if they are equally precise, unambiguous, non-redundant, and comp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tional representations are accep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emplate Dim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79560" y="2081160"/>
            <a:ext cx="5994360" cy="3917880"/>
            <a:chOff x="1879560" y="2081160"/>
            <a:chExt cx="5994360" cy="3917880"/>
          </a:xfrm>
        </p:grpSpPr>
        <p:sp>
          <p:nvSpPr>
            <p:cNvPr id="218" name=""/>
            <p:cNvSpPr/>
            <p:nvPr/>
          </p:nvSpPr>
          <p:spPr>
            <a:xfrm>
              <a:off x="1879560" y="2090880"/>
              <a:ext cx="5994360" cy="3878280"/>
            </a:xfrm>
            <a:prstGeom prst="rect">
              <a:avLst/>
            </a:prstGeom>
            <a:noFill/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9560" y="4376880"/>
              <a:ext cx="5994360" cy="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68560" y="2116080"/>
              <a:ext cx="0" cy="387036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2103480"/>
              <a:ext cx="0" cy="38955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1898640" y="2081160"/>
              <a:ext cx="158760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f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898640" y="294012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1898640" y="45990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ynam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4049640" y="2328840"/>
              <a:ext cx="99072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929200" y="2328840"/>
              <a:ext cx="1066680" cy="33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049640" y="2940120"/>
              <a:ext cx="15876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g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f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p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5929200" y="2940120"/>
              <a:ext cx="15876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tio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f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p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049640" y="4599000"/>
              <a:ext cx="15876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t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f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pl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5929200" y="4599000"/>
              <a:ext cx="1816200" cy="13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tio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fication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enar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pla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892160" y="2717640"/>
              <a:ext cx="5956560" cy="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4480" y="4376880"/>
              <a:ext cx="56894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al Specification Template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urpose of the functional specification template is to unambiguously define all the external functional services provided by this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bjects, classes, and inheri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xternally visible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ecise external functions provided by each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al Specification Template -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possible, each function call and return should be specified in a formal no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unctional specifications of related objects/classes should grouped together in common templ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11600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Functional Specification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2400" y="2097000"/>
            <a:ext cx="5519880" cy="6764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0920" y="2757600"/>
            <a:ext cx="5405400" cy="277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81600" y="2112840"/>
            <a:ext cx="0" cy="644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57720" y="2757600"/>
            <a:ext cx="0" cy="274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3078000"/>
            <a:ext cx="5298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3654360"/>
            <a:ext cx="534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043520"/>
            <a:ext cx="534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76360" y="4635360"/>
            <a:ext cx="5349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28760" y="2144880"/>
            <a:ext cx="14637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Set (CDat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886360" y="2168640"/>
            <a:ext cx="146844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stState (0 - 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stPosition(0 -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363760" y="2846520"/>
            <a:ext cx="146052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oid Push(data 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363760" y="3166920"/>
            <a:ext cx="155412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r *Pop(data &amp;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363760" y="3726000"/>
            <a:ext cx="14940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 AddSet(data 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63760" y="4132440"/>
            <a:ext cx="18162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 SubtractSet(data 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346480" y="4761000"/>
            <a:ext cx="178272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 MemberSet(data 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18120" y="2828880"/>
            <a:ext cx="253692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:: insert D at position 1 &amp;&amp; Re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48000" y="3102120"/>
            <a:ext cx="29685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mpty’ :: return D.name &amp;&amp; delete fir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amp;&amp; reset ||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mpty :: return “Empty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19560" y="3660840"/>
            <a:ext cx="3357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 not in ASet :: Push(D) &amp;&amp; Reset &amp;&amp; re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 || D in ASet :: Reset&amp;&amp; return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27480" y="4048200"/>
            <a:ext cx="29685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 in ASet :: delete(D) &amp;&amp; Reset &amp;&amp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turn true || D not in ASet :: Reset &amp;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turn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33960" y="4673520"/>
            <a:ext cx="34290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 in ASet :: return ListPosition ||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 not in ASet &amp;&amp; N==1 :: ListPostition = 1 &amp;&amp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stState = 1 &amp;&amp; return false ||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 not in ASet &amp;&amp; N&gt;1 :: ListPosition = N &amp;&amp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stState = 4 &amp;&amp; return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Specification Templat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object is a state machine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cal inputs produce different respo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vious history is remembered by the st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ate specification template precisely defines the object’s states and the transitions among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Specification Template 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each object state machine, the template specif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ame of every st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ttributes that characterize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ttribute values for tha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brief description of the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ecise conditions that cause transitions from the state to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ecise conditions that cause transitions from any other state to this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Constra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quirements must parallel design - they will often not be completely understood until you have a working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design level debugs higher level de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pecification debugs the requir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high-level-design debugs th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tailed design debugs the high-level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mplementation debugs the detailed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State Machine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68520" y="5753160"/>
            <a:ext cx="40766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*Note: the transitions of a state to itself are not sh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19280" y="1727280"/>
            <a:ext cx="5364000" cy="3495600"/>
            <a:chOff x="1619280" y="1727280"/>
            <a:chExt cx="5364000" cy="3495600"/>
          </a:xfrm>
        </p:grpSpPr>
        <p:sp>
          <p:nvSpPr>
            <p:cNvPr id="265" name=""/>
            <p:cNvSpPr/>
            <p:nvPr/>
          </p:nvSpPr>
          <p:spPr>
            <a:xfrm>
              <a:off x="4627440" y="2133720"/>
              <a:ext cx="0" cy="56808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221000" y="2133720"/>
              <a:ext cx="0" cy="56808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27440" y="3108240"/>
              <a:ext cx="0" cy="48744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221000" y="3108240"/>
              <a:ext cx="0" cy="48744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76880" y="4003560"/>
              <a:ext cx="569880" cy="81144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870440" y="4003560"/>
              <a:ext cx="569880" cy="81144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921040" y="4003560"/>
              <a:ext cx="649080" cy="81144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325680" y="4003560"/>
              <a:ext cx="652680" cy="81144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3920" y="4897440"/>
              <a:ext cx="1218960" cy="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733920" y="5140440"/>
              <a:ext cx="1218960" cy="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59040" y="2946240"/>
              <a:ext cx="731520" cy="813240"/>
            </a:xfrm>
            <a:custGeom>
              <a:avLst/>
              <a:gdLst/>
              <a:ahLst/>
              <a:rect l="0" t="0" r="r" b="b"/>
              <a:pathLst>
                <a:path fill="none" w="2032" h="2259">
                  <a:moveTo>
                    <a:pt x="0" y="0"/>
                  </a:moveTo>
                  <a:lnTo>
                    <a:pt x="0" y="0"/>
                  </a:lnTo>
                  <a:cubicBezTo>
                    <a:pt x="0" y="397"/>
                    <a:pt x="94" y="786"/>
                    <a:pt x="272" y="1130"/>
                  </a:cubicBezTo>
                  <a:cubicBezTo>
                    <a:pt x="451" y="1473"/>
                    <a:pt x="707" y="1758"/>
                    <a:pt x="1016" y="1956"/>
                  </a:cubicBezTo>
                  <a:cubicBezTo>
                    <a:pt x="1325" y="2155"/>
                    <a:pt x="1675" y="2259"/>
                    <a:pt x="2032" y="2259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59040" y="1889280"/>
              <a:ext cx="812520" cy="1057680"/>
            </a:xfrm>
            <a:custGeom>
              <a:avLst/>
              <a:gdLst/>
              <a:ahLst/>
              <a:rect l="0" t="0" r="r" b="b"/>
              <a:pathLst>
                <a:path fill="none" w="2257" h="2938">
                  <a:moveTo>
                    <a:pt x="2257" y="0"/>
                  </a:moveTo>
                  <a:lnTo>
                    <a:pt x="2257" y="0"/>
                  </a:lnTo>
                  <a:cubicBezTo>
                    <a:pt x="1861" y="0"/>
                    <a:pt x="1472" y="136"/>
                    <a:pt x="1128" y="394"/>
                  </a:cubicBezTo>
                  <a:cubicBezTo>
                    <a:pt x="785" y="651"/>
                    <a:pt x="500" y="1022"/>
                    <a:pt x="302" y="1469"/>
                  </a:cubicBezTo>
                  <a:cubicBezTo>
                    <a:pt x="104" y="1916"/>
                    <a:pt x="0" y="2422"/>
                    <a:pt x="0" y="2938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76880" y="2863800"/>
              <a:ext cx="975240" cy="1951560"/>
            </a:xfrm>
            <a:custGeom>
              <a:avLst/>
              <a:gdLst/>
              <a:ahLst/>
              <a:rect l="0" t="0" r="r" b="b"/>
              <a:pathLst>
                <a:path fill="none" w="2709" h="5421">
                  <a:moveTo>
                    <a:pt x="2709" y="5421"/>
                  </a:moveTo>
                  <a:lnTo>
                    <a:pt x="2709" y="5421"/>
                  </a:lnTo>
                  <a:lnTo>
                    <a:pt x="2709" y="5421"/>
                  </a:lnTo>
                  <a:cubicBezTo>
                    <a:pt x="2709" y="4469"/>
                    <a:pt x="2584" y="3535"/>
                    <a:pt x="2346" y="2710"/>
                  </a:cubicBezTo>
                  <a:cubicBezTo>
                    <a:pt x="2108" y="1886"/>
                    <a:pt x="1766" y="1202"/>
                    <a:pt x="1354" y="726"/>
                  </a:cubicBezTo>
                  <a:cubicBezTo>
                    <a:pt x="943" y="250"/>
                    <a:pt x="476" y="0"/>
                    <a:pt x="0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77600" y="1809720"/>
              <a:ext cx="1137960" cy="3007080"/>
            </a:xfrm>
            <a:custGeom>
              <a:avLst/>
              <a:gdLst/>
              <a:ahLst/>
              <a:rect l="0" t="0" r="r" b="b"/>
              <a:pathLst>
                <a:path fill="none" w="3161" h="8353">
                  <a:moveTo>
                    <a:pt x="3161" y="8353"/>
                  </a:moveTo>
                  <a:lnTo>
                    <a:pt x="3161" y="8353"/>
                  </a:lnTo>
                  <a:lnTo>
                    <a:pt x="3161" y="8353"/>
                  </a:lnTo>
                  <a:cubicBezTo>
                    <a:pt x="3161" y="6887"/>
                    <a:pt x="3015" y="5446"/>
                    <a:pt x="2738" y="4176"/>
                  </a:cubicBezTo>
                  <a:cubicBezTo>
                    <a:pt x="2460" y="2907"/>
                    <a:pt x="2061" y="1852"/>
                    <a:pt x="1580" y="1119"/>
                  </a:cubicBezTo>
                  <a:cubicBezTo>
                    <a:pt x="1100" y="386"/>
                    <a:pt x="555" y="0"/>
                    <a:pt x="0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89160" y="1809720"/>
              <a:ext cx="1382400" cy="3007080"/>
            </a:xfrm>
            <a:custGeom>
              <a:avLst/>
              <a:gdLst/>
              <a:ahLst/>
              <a:rect l="0" t="0" r="r" b="b"/>
              <a:pathLst>
                <a:path fill="none" w="3840" h="8353">
                  <a:moveTo>
                    <a:pt x="3840" y="0"/>
                  </a:moveTo>
                  <a:lnTo>
                    <a:pt x="3840" y="0"/>
                  </a:lnTo>
                  <a:cubicBezTo>
                    <a:pt x="3166" y="0"/>
                    <a:pt x="2504" y="386"/>
                    <a:pt x="1920" y="1119"/>
                  </a:cubicBezTo>
                  <a:cubicBezTo>
                    <a:pt x="1336" y="1852"/>
                    <a:pt x="851" y="2907"/>
                    <a:pt x="514" y="4177"/>
                  </a:cubicBezTo>
                  <a:cubicBezTo>
                    <a:pt x="177" y="5446"/>
                    <a:pt x="0" y="6887"/>
                    <a:pt x="0" y="8353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570120" y="1727280"/>
              <a:ext cx="1706400" cy="406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ptyS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570120" y="2701800"/>
              <a:ext cx="1706400" cy="406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rst&amp;On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489480" y="3595680"/>
              <a:ext cx="1868400" cy="40788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rstOfSev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1619280" y="4815000"/>
              <a:ext cx="2114640" cy="40788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ddleOfSev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4952880" y="4815000"/>
              <a:ext cx="2030400" cy="40788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stOfSev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Partial State Specific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43120" y="1851120"/>
            <a:ext cx="6367320" cy="642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64360" y="186696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59120" y="1851120"/>
            <a:ext cx="0" cy="625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762200" y="1881360"/>
            <a:ext cx="1203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rst&amp;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28960" y="1922400"/>
            <a:ext cx="1909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set has one 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334200" y="1973160"/>
            <a:ext cx="12952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stState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stPosition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46160" y="2494080"/>
            <a:ext cx="6164280" cy="2658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46160" y="3763800"/>
            <a:ext cx="616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63800" y="2933640"/>
            <a:ext cx="6146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46160" y="4170240"/>
            <a:ext cx="616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46160" y="4645080"/>
            <a:ext cx="6164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59120" y="2494080"/>
            <a:ext cx="0" cy="265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016000" y="2565360"/>
            <a:ext cx="86832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mpty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033640" y="3090960"/>
            <a:ext cx="9446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rst&amp;On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050920" y="3835440"/>
            <a:ext cx="120636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rstOfSev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66760" y="4309920"/>
            <a:ext cx="13590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ddleOfSev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066760" y="4800600"/>
            <a:ext cx="119052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stOfSev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794040" y="2549520"/>
            <a:ext cx="33242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|| Pop || (SubtractSet(D) &amp;&amp; D in ASe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11680" y="3073320"/>
            <a:ext cx="415296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set || StepForward || StepBackward ||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AddSet(D) &amp;&amp; D in ASet) || (SubtractSet(D) &amp;&amp; D no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et) || MemberSet || Empty || Last || Status ||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44800" y="3835440"/>
            <a:ext cx="281628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ush || (AddSet(D) &amp;&amp; D not in ASe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44800" y="4241880"/>
            <a:ext cx="96048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pos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44800" y="4800600"/>
            <a:ext cx="96048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pos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Specification Template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30240" y="1798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all the object state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rivial ones should be trivial to def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ten seemingly simple state machines are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state machines involve multiple objects, that could be a sign of poorly selecte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for completeness and consis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et of attribute conditions for all the states    must be complete and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et of all transition conditions from any given state must be complete and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ogic Specification Template 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ogic specification template precisely defines the program’s internal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cribe the logic in a convenient 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seudocode compatible with the    implementation language is oft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 notation is also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mplementors must be fluent with the notation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ogic Specification Template 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ogic specification template should speci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ogic for each method of each object and for the mai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ecise call to the program or meth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al data types and data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ject name, date, and develo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perational Scenario Templat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perational scenario template is used to ensure that the users’ normal and abnormal interactions with the system are considered and defined both before and during the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perational scenario template can be u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efine test scenarios and test ca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resolve development questions about operational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resolve requirements discussions with us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perational Scenario Templat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perational scenario template uses a  scenario form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cont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user actions and system respon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nticipated error and recovery condition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10 i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SP2.1, write program 9A to calculate the degree to which a string of N real numbers is normally distribu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me N is &gt;20 and an even multiple of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rogram 8A to sort the numbers into ascending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the process and report specifications in Appendix C and the program specifications in Appendix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While design is a creative process, 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utine aspects can be def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The definition of the design products a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of established formats can improve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ality of your desig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Experiment with the 4 PSP design templ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e course exercises and, if you find th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lpful, use them in your othe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Design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24120" y="1666800"/>
            <a:ext cx="1760400" cy="60948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ather data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r requirem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24120" y="2819520"/>
            <a:ext cx="1760400" cy="60948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z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24120" y="4173480"/>
            <a:ext cx="1760400" cy="60948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ceive of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igh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24120" y="5189400"/>
            <a:ext cx="1760400" cy="541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fine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cument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20840" y="3429000"/>
            <a:ext cx="1760400" cy="60948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alidat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esign again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38920" y="3444840"/>
            <a:ext cx="1770120" cy="60948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btain 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9560" y="1270080"/>
            <a:ext cx="0" cy="39060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3600" y="2276640"/>
            <a:ext cx="0" cy="54288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3600" y="3479760"/>
            <a:ext cx="0" cy="69372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3600" y="4821120"/>
            <a:ext cx="0" cy="36036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9560" y="5759280"/>
            <a:ext cx="0" cy="3398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938240"/>
            <a:ext cx="1490040" cy="1490040"/>
          </a:xfrm>
          <a:custGeom>
            <a:avLst/>
            <a:gdLst/>
            <a:ahLst/>
            <a:rect l="0" t="0" r="r" b="b"/>
            <a:pathLst>
              <a:path fill="none" w="4139" h="4139">
                <a:moveTo>
                  <a:pt x="4139" y="0"/>
                </a:moveTo>
                <a:lnTo>
                  <a:pt x="4139" y="0"/>
                </a:lnTo>
                <a:cubicBezTo>
                  <a:pt x="3412" y="0"/>
                  <a:pt x="2699" y="191"/>
                  <a:pt x="2069" y="555"/>
                </a:cubicBezTo>
                <a:cubicBezTo>
                  <a:pt x="1440" y="918"/>
                  <a:pt x="918" y="1440"/>
                  <a:pt x="555" y="2070"/>
                </a:cubicBezTo>
                <a:cubicBezTo>
                  <a:pt x="191" y="2699"/>
                  <a:pt x="0" y="3412"/>
                  <a:pt x="0" y="4139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038480"/>
            <a:ext cx="1490040" cy="1422720"/>
          </a:xfrm>
          <a:custGeom>
            <a:avLst/>
            <a:gdLst/>
            <a:ahLst/>
            <a:rect l="0" t="0" r="r" b="b"/>
            <a:pathLst>
              <a:path fill="none" w="4139" h="3952">
                <a:moveTo>
                  <a:pt x="0" y="0"/>
                </a:moveTo>
                <a:lnTo>
                  <a:pt x="0" y="0"/>
                </a:lnTo>
                <a:cubicBezTo>
                  <a:pt x="0" y="694"/>
                  <a:pt x="191" y="1375"/>
                  <a:pt x="555" y="1976"/>
                </a:cubicBezTo>
                <a:cubicBezTo>
                  <a:pt x="918" y="2577"/>
                  <a:pt x="1440" y="3076"/>
                  <a:pt x="2070" y="3423"/>
                </a:cubicBezTo>
                <a:cubicBezTo>
                  <a:pt x="2699" y="3769"/>
                  <a:pt x="3412" y="3952"/>
                  <a:pt x="4139" y="3952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1600" y="4038480"/>
            <a:ext cx="813240" cy="584640"/>
          </a:xfrm>
          <a:custGeom>
            <a:avLst/>
            <a:gdLst/>
            <a:ahLst/>
            <a:rect l="0" t="0" r="r" b="b"/>
            <a:pathLst>
              <a:path fill="none" w="2259" h="1624">
                <a:moveTo>
                  <a:pt x="0" y="0"/>
                </a:moveTo>
                <a:lnTo>
                  <a:pt x="0" y="0"/>
                </a:lnTo>
                <a:cubicBezTo>
                  <a:pt x="0" y="285"/>
                  <a:pt x="104" y="565"/>
                  <a:pt x="303" y="812"/>
                </a:cubicBezTo>
                <a:cubicBezTo>
                  <a:pt x="501" y="1059"/>
                  <a:pt x="786" y="1264"/>
                  <a:pt x="1130" y="1406"/>
                </a:cubicBezTo>
                <a:cubicBezTo>
                  <a:pt x="1473" y="1549"/>
                  <a:pt x="1862" y="1624"/>
                  <a:pt x="2259" y="1624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64160" y="1301760"/>
            <a:ext cx="21067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itial Requir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06920" y="5830920"/>
            <a:ext cx="1949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mpleted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1600" y="2857680"/>
            <a:ext cx="813240" cy="584640"/>
          </a:xfrm>
          <a:custGeom>
            <a:avLst/>
            <a:gdLst/>
            <a:ahLst/>
            <a:rect l="0" t="0" r="r" b="b"/>
            <a:pathLst>
              <a:path fill="none" w="2259" h="1624">
                <a:moveTo>
                  <a:pt x="2259" y="0"/>
                </a:moveTo>
                <a:lnTo>
                  <a:pt x="2259" y="0"/>
                </a:lnTo>
                <a:cubicBezTo>
                  <a:pt x="1862" y="0"/>
                  <a:pt x="1473" y="75"/>
                  <a:pt x="1129" y="218"/>
                </a:cubicBezTo>
                <a:cubicBezTo>
                  <a:pt x="786" y="360"/>
                  <a:pt x="501" y="565"/>
                  <a:pt x="303" y="812"/>
                </a:cubicBezTo>
                <a:cubicBezTo>
                  <a:pt x="104" y="1059"/>
                  <a:pt x="0" y="1339"/>
                  <a:pt x="0" y="1624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4038480"/>
            <a:ext cx="813240" cy="584640"/>
          </a:xfrm>
          <a:custGeom>
            <a:avLst/>
            <a:gdLst/>
            <a:ahLst/>
            <a:rect l="0" t="0" r="r" b="b"/>
            <a:pathLst>
              <a:path fill="none" w="2259" h="1624">
                <a:moveTo>
                  <a:pt x="0" y="1624"/>
                </a:moveTo>
                <a:lnTo>
                  <a:pt x="0" y="1624"/>
                </a:lnTo>
                <a:cubicBezTo>
                  <a:pt x="397" y="1624"/>
                  <a:pt x="786" y="1549"/>
                  <a:pt x="1130" y="1406"/>
                </a:cubicBezTo>
                <a:cubicBezTo>
                  <a:pt x="1473" y="1264"/>
                  <a:pt x="1758" y="1059"/>
                  <a:pt x="1956" y="812"/>
                </a:cubicBezTo>
                <a:cubicBezTo>
                  <a:pt x="2155" y="565"/>
                  <a:pt x="2259" y="285"/>
                  <a:pt x="2259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27720" y="2857680"/>
            <a:ext cx="813240" cy="584640"/>
          </a:xfrm>
          <a:custGeom>
            <a:avLst/>
            <a:gdLst/>
            <a:ahLst/>
            <a:rect l="0" t="0" r="r" b="b"/>
            <a:pathLst>
              <a:path fill="none" w="2259" h="1624">
                <a:moveTo>
                  <a:pt x="2259" y="1624"/>
                </a:moveTo>
                <a:lnTo>
                  <a:pt x="2259" y="1624"/>
                </a:lnTo>
                <a:lnTo>
                  <a:pt x="2259" y="1624"/>
                </a:lnTo>
                <a:cubicBezTo>
                  <a:pt x="2259" y="1339"/>
                  <a:pt x="2155" y="1059"/>
                  <a:pt x="1956" y="812"/>
                </a:cubicBezTo>
                <a:cubicBezTo>
                  <a:pt x="1758" y="565"/>
                  <a:pt x="1473" y="360"/>
                  <a:pt x="1129" y="218"/>
                </a:cubicBezTo>
                <a:cubicBezTo>
                  <a:pt x="786" y="75"/>
                  <a:pt x="397" y="0"/>
                  <a:pt x="0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60120" y="1938240"/>
            <a:ext cx="1490040" cy="1490040"/>
          </a:xfrm>
          <a:custGeom>
            <a:avLst/>
            <a:gdLst/>
            <a:ahLst/>
            <a:rect l="0" t="0" r="r" b="b"/>
            <a:pathLst>
              <a:path fill="none" w="4139" h="4139">
                <a:moveTo>
                  <a:pt x="4139" y="4139"/>
                </a:moveTo>
                <a:lnTo>
                  <a:pt x="4139" y="4139"/>
                </a:lnTo>
                <a:lnTo>
                  <a:pt x="4139" y="4139"/>
                </a:lnTo>
                <a:cubicBezTo>
                  <a:pt x="4139" y="3412"/>
                  <a:pt x="3948" y="2699"/>
                  <a:pt x="3584" y="2069"/>
                </a:cubicBezTo>
                <a:cubicBezTo>
                  <a:pt x="3221" y="1440"/>
                  <a:pt x="2699" y="918"/>
                  <a:pt x="2069" y="555"/>
                </a:cubicBezTo>
                <a:cubicBezTo>
                  <a:pt x="1440" y="191"/>
                  <a:pt x="727" y="0"/>
                  <a:pt x="0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60120" y="4038480"/>
            <a:ext cx="1490040" cy="1422720"/>
          </a:xfrm>
          <a:custGeom>
            <a:avLst/>
            <a:gdLst/>
            <a:ahLst/>
            <a:rect l="0" t="0" r="r" b="b"/>
            <a:pathLst>
              <a:path fill="none" w="4139" h="3952">
                <a:moveTo>
                  <a:pt x="0" y="3952"/>
                </a:moveTo>
                <a:lnTo>
                  <a:pt x="0" y="3952"/>
                </a:lnTo>
                <a:cubicBezTo>
                  <a:pt x="727" y="3952"/>
                  <a:pt x="1440" y="3769"/>
                  <a:pt x="2070" y="3423"/>
                </a:cubicBezTo>
                <a:cubicBezTo>
                  <a:pt x="2699" y="3076"/>
                  <a:pt x="3221" y="2577"/>
                  <a:pt x="3584" y="1976"/>
                </a:cubicBezTo>
                <a:cubicBezTo>
                  <a:pt x="3948" y="1375"/>
                  <a:pt x="4139" y="694"/>
                  <a:pt x="4139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92440" y="264168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692440" y="203184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92440" y="325116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it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92440" y="386064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gration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692440" y="447048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stem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92440" y="507996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ccep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92440" y="568944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velopment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46880" y="3056040"/>
            <a:ext cx="1160640" cy="787320"/>
          </a:xfrm>
          <a:prstGeom prst="rect">
            <a:avLst/>
          </a:prstGeom>
          <a:solidFill>
            <a:srgbClr val="b0313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17960" y="1773360"/>
            <a:ext cx="0" cy="2030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7960" y="2392200"/>
            <a:ext cx="0" cy="20340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17960" y="3002040"/>
            <a:ext cx="0" cy="2030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17960" y="3619440"/>
            <a:ext cx="0" cy="2714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17960" y="4221000"/>
            <a:ext cx="0" cy="20340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17960" y="4838760"/>
            <a:ext cx="0" cy="2030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17960" y="5465880"/>
            <a:ext cx="0" cy="2030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25120" y="3782520"/>
            <a:ext cx="2100240" cy="2034360"/>
          </a:xfrm>
          <a:custGeom>
            <a:avLst/>
            <a:gdLst/>
            <a:ahLst/>
            <a:rect l="0" t="0" r="r" b="b"/>
            <a:pathLst>
              <a:path fill="none" w="5834" h="5651">
                <a:moveTo>
                  <a:pt x="0" y="5651"/>
                </a:moveTo>
                <a:lnTo>
                  <a:pt x="0" y="5651"/>
                </a:lnTo>
                <a:lnTo>
                  <a:pt x="1" y="5651"/>
                </a:lnTo>
                <a:cubicBezTo>
                  <a:pt x="1025" y="5651"/>
                  <a:pt x="2031" y="5425"/>
                  <a:pt x="2917" y="4996"/>
                </a:cubicBezTo>
                <a:cubicBezTo>
                  <a:pt x="3804" y="4568"/>
                  <a:pt x="4541" y="3951"/>
                  <a:pt x="5052" y="3208"/>
                </a:cubicBezTo>
                <a:cubicBezTo>
                  <a:pt x="5564" y="2465"/>
                  <a:pt x="5834" y="1623"/>
                  <a:pt x="5834" y="765"/>
                </a:cubicBezTo>
                <a:cubicBezTo>
                  <a:pt x="5834" y="509"/>
                  <a:pt x="5810" y="253"/>
                  <a:pt x="5762" y="0"/>
                </a:cubicBezTo>
              </a:path>
            </a:pathLst>
          </a:custGeom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3280" y="1646280"/>
            <a:ext cx="1756800" cy="1435320"/>
          </a:xfrm>
          <a:custGeom>
            <a:avLst/>
            <a:gdLst/>
            <a:ahLst/>
            <a:rect l="0" t="0" r="r" b="b"/>
            <a:pathLst>
              <a:path fill="none" w="4880" h="3987">
                <a:moveTo>
                  <a:pt x="4880" y="3987"/>
                </a:moveTo>
                <a:lnTo>
                  <a:pt x="4880" y="3987"/>
                </a:lnTo>
                <a:lnTo>
                  <a:pt x="4880" y="3987"/>
                </a:lnTo>
                <a:cubicBezTo>
                  <a:pt x="4880" y="3287"/>
                  <a:pt x="4655" y="2600"/>
                  <a:pt x="4226" y="1993"/>
                </a:cubicBezTo>
                <a:cubicBezTo>
                  <a:pt x="3798" y="1387"/>
                  <a:pt x="3182" y="884"/>
                  <a:pt x="2440" y="534"/>
                </a:cubicBezTo>
                <a:cubicBezTo>
                  <a:pt x="1698" y="184"/>
                  <a:pt x="857" y="0"/>
                  <a:pt x="0" y="0"/>
                </a:cubicBezTo>
              </a:path>
            </a:pathLst>
          </a:custGeom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25120" y="3408480"/>
            <a:ext cx="474120" cy="609840"/>
          </a:xfrm>
          <a:custGeom>
            <a:avLst/>
            <a:gdLst/>
            <a:ahLst/>
            <a:rect l="0" t="0" r="r" b="b"/>
            <a:pathLst>
              <a:path fill="none" w="1317" h="1694">
                <a:moveTo>
                  <a:pt x="0" y="1694"/>
                </a:moveTo>
                <a:lnTo>
                  <a:pt x="0" y="1694"/>
                </a:lnTo>
                <a:cubicBezTo>
                  <a:pt x="231" y="1694"/>
                  <a:pt x="458" y="1616"/>
                  <a:pt x="659" y="1467"/>
                </a:cubicBezTo>
                <a:cubicBezTo>
                  <a:pt x="859" y="1318"/>
                  <a:pt x="1025" y="1105"/>
                  <a:pt x="1141" y="847"/>
                </a:cubicBezTo>
                <a:cubicBezTo>
                  <a:pt x="1256" y="589"/>
                  <a:pt x="1317" y="297"/>
                  <a:pt x="1317" y="0"/>
                </a:cubicBezTo>
              </a:path>
            </a:pathLst>
          </a:custGeom>
          <a:ln w="38160">
            <a:solidFill>
              <a:srgbClr val="dede96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25120" y="2933640"/>
            <a:ext cx="474120" cy="542520"/>
          </a:xfrm>
          <a:custGeom>
            <a:avLst/>
            <a:gdLst/>
            <a:ahLst/>
            <a:rect l="0" t="0" r="r" b="b"/>
            <a:pathLst>
              <a:path fill="none" w="1317" h="1507">
                <a:moveTo>
                  <a:pt x="1317" y="1507"/>
                </a:moveTo>
                <a:lnTo>
                  <a:pt x="1317" y="1507"/>
                </a:lnTo>
                <a:lnTo>
                  <a:pt x="1317" y="1507"/>
                </a:lnTo>
                <a:cubicBezTo>
                  <a:pt x="1317" y="1242"/>
                  <a:pt x="1256" y="983"/>
                  <a:pt x="1141" y="753"/>
                </a:cubicBezTo>
                <a:cubicBezTo>
                  <a:pt x="1025" y="524"/>
                  <a:pt x="859" y="334"/>
                  <a:pt x="658" y="202"/>
                </a:cubicBezTo>
                <a:cubicBezTo>
                  <a:pt x="458" y="70"/>
                  <a:pt x="231" y="0"/>
                  <a:pt x="0" y="0"/>
                </a:cubicBezTo>
              </a:path>
            </a:pathLst>
          </a:custGeom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05080" y="2268360"/>
            <a:ext cx="1253880" cy="2385000"/>
            <a:chOff x="1405080" y="2268360"/>
            <a:chExt cx="1253880" cy="2385000"/>
          </a:xfrm>
        </p:grpSpPr>
        <p:sp>
          <p:nvSpPr>
            <p:cNvPr id="92" name=""/>
            <p:cNvSpPr/>
            <p:nvPr/>
          </p:nvSpPr>
          <p:spPr>
            <a:xfrm>
              <a:off x="1405080" y="3370320"/>
              <a:ext cx="1253880" cy="1283040"/>
            </a:xfrm>
            <a:custGeom>
              <a:avLst/>
              <a:gdLst/>
              <a:ahLst/>
              <a:rect l="0" t="0" r="r" b="b"/>
              <a:pathLst>
                <a:path fill="none" w="3483" h="3564">
                  <a:moveTo>
                    <a:pt x="0" y="0"/>
                  </a:moveTo>
                  <a:lnTo>
                    <a:pt x="0" y="0"/>
                  </a:lnTo>
                  <a:cubicBezTo>
                    <a:pt x="0" y="626"/>
                    <a:pt x="161" y="1240"/>
                    <a:pt x="467" y="1782"/>
                  </a:cubicBezTo>
                  <a:cubicBezTo>
                    <a:pt x="772" y="2324"/>
                    <a:pt x="1212" y="2774"/>
                    <a:pt x="1742" y="3087"/>
                  </a:cubicBezTo>
                  <a:cubicBezTo>
                    <a:pt x="2271" y="3399"/>
                    <a:pt x="2872" y="3564"/>
                    <a:pt x="3483" y="3564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5080" y="2268360"/>
              <a:ext cx="1190160" cy="1101240"/>
            </a:xfrm>
            <a:custGeom>
              <a:avLst/>
              <a:gdLst/>
              <a:ahLst/>
              <a:rect l="0" t="0" r="r" b="b"/>
              <a:pathLst>
                <a:path fill="none" w="3306" h="3059">
                  <a:moveTo>
                    <a:pt x="3306" y="0"/>
                  </a:moveTo>
                  <a:lnTo>
                    <a:pt x="3306" y="0"/>
                  </a:lnTo>
                  <a:cubicBezTo>
                    <a:pt x="2726" y="0"/>
                    <a:pt x="2156" y="141"/>
                    <a:pt x="1653" y="410"/>
                  </a:cubicBezTo>
                  <a:cubicBezTo>
                    <a:pt x="1150" y="678"/>
                    <a:pt x="733" y="1064"/>
                    <a:pt x="443" y="1530"/>
                  </a:cubicBezTo>
                  <a:cubicBezTo>
                    <a:pt x="153" y="1995"/>
                    <a:pt x="0" y="2522"/>
                    <a:pt x="0" y="3059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26200" y="2095560"/>
            <a:ext cx="1029240" cy="3170520"/>
            <a:chOff x="5326200" y="2095560"/>
            <a:chExt cx="1029240" cy="3170520"/>
          </a:xfrm>
        </p:grpSpPr>
        <p:sp>
          <p:nvSpPr>
            <p:cNvPr id="95" name=""/>
            <p:cNvSpPr/>
            <p:nvPr/>
          </p:nvSpPr>
          <p:spPr>
            <a:xfrm>
              <a:off x="5326200" y="3530520"/>
              <a:ext cx="1029240" cy="1735560"/>
            </a:xfrm>
            <a:custGeom>
              <a:avLst/>
              <a:gdLst/>
              <a:ahLst/>
              <a:rect l="0" t="0" r="r" b="b"/>
              <a:pathLst>
                <a:path fill="none" w="2859" h="4821">
                  <a:moveTo>
                    <a:pt x="0" y="4821"/>
                  </a:moveTo>
                  <a:lnTo>
                    <a:pt x="0" y="4821"/>
                  </a:lnTo>
                  <a:cubicBezTo>
                    <a:pt x="502" y="4821"/>
                    <a:pt x="995" y="4598"/>
                    <a:pt x="1430" y="4175"/>
                  </a:cubicBezTo>
                  <a:cubicBezTo>
                    <a:pt x="1864" y="3752"/>
                    <a:pt x="2225" y="3143"/>
                    <a:pt x="2476" y="2410"/>
                  </a:cubicBezTo>
                  <a:cubicBezTo>
                    <a:pt x="2727" y="1678"/>
                    <a:pt x="2859" y="846"/>
                    <a:pt x="2859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8800" y="2095560"/>
              <a:ext cx="1016280" cy="1435320"/>
            </a:xfrm>
            <a:custGeom>
              <a:avLst/>
              <a:gdLst/>
              <a:ahLst/>
              <a:rect l="0" t="0" r="r" b="b"/>
              <a:pathLst>
                <a:path fill="none" w="2823" h="3987">
                  <a:moveTo>
                    <a:pt x="2823" y="3987"/>
                  </a:moveTo>
                  <a:lnTo>
                    <a:pt x="2823" y="3987"/>
                  </a:lnTo>
                  <a:lnTo>
                    <a:pt x="2823" y="3987"/>
                  </a:lnTo>
                  <a:cubicBezTo>
                    <a:pt x="2823" y="3287"/>
                    <a:pt x="2693" y="2600"/>
                    <a:pt x="2445" y="1993"/>
                  </a:cubicBezTo>
                  <a:cubicBezTo>
                    <a:pt x="2197" y="1387"/>
                    <a:pt x="1841" y="884"/>
                    <a:pt x="1411" y="534"/>
                  </a:cubicBezTo>
                  <a:cubicBezTo>
                    <a:pt x="982" y="184"/>
                    <a:pt x="496" y="0"/>
                    <a:pt x="0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701720" y="2738520"/>
            <a:ext cx="956880" cy="1808640"/>
            <a:chOff x="1701720" y="2738520"/>
            <a:chExt cx="956880" cy="1808640"/>
          </a:xfrm>
        </p:grpSpPr>
        <p:sp>
          <p:nvSpPr>
            <p:cNvPr id="98" name=""/>
            <p:cNvSpPr/>
            <p:nvPr/>
          </p:nvSpPr>
          <p:spPr>
            <a:xfrm>
              <a:off x="1701720" y="3425040"/>
              <a:ext cx="956880" cy="1122120"/>
            </a:xfrm>
            <a:custGeom>
              <a:avLst/>
              <a:gdLst/>
              <a:ahLst/>
              <a:rect l="0" t="0" r="r" b="b"/>
              <a:pathLst>
                <a:path fill="none" w="2658" h="3117">
                  <a:moveTo>
                    <a:pt x="0" y="0"/>
                  </a:moveTo>
                  <a:lnTo>
                    <a:pt x="0" y="0"/>
                  </a:lnTo>
                  <a:cubicBezTo>
                    <a:pt x="0" y="547"/>
                    <a:pt x="123" y="1085"/>
                    <a:pt x="356" y="1559"/>
                  </a:cubicBezTo>
                  <a:cubicBezTo>
                    <a:pt x="589" y="2032"/>
                    <a:pt x="925" y="2426"/>
                    <a:pt x="1329" y="2699"/>
                  </a:cubicBezTo>
                  <a:cubicBezTo>
                    <a:pt x="1733" y="2973"/>
                    <a:pt x="2191" y="3117"/>
                    <a:pt x="2658" y="3117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2738520"/>
              <a:ext cx="639360" cy="686160"/>
            </a:xfrm>
            <a:custGeom>
              <a:avLst/>
              <a:gdLst/>
              <a:ahLst/>
              <a:rect l="0" t="0" r="r" b="b"/>
              <a:pathLst>
                <a:path fill="none" w="1776" h="1906">
                  <a:moveTo>
                    <a:pt x="1776" y="0"/>
                  </a:moveTo>
                  <a:lnTo>
                    <a:pt x="1776" y="0"/>
                  </a:lnTo>
                  <a:cubicBezTo>
                    <a:pt x="1464" y="0"/>
                    <a:pt x="1158" y="88"/>
                    <a:pt x="888" y="255"/>
                  </a:cubicBezTo>
                  <a:cubicBezTo>
                    <a:pt x="618" y="423"/>
                    <a:pt x="394" y="663"/>
                    <a:pt x="238" y="953"/>
                  </a:cubicBezTo>
                  <a:cubicBezTo>
                    <a:pt x="82" y="1243"/>
                    <a:pt x="0" y="1571"/>
                    <a:pt x="0" y="1906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325120" y="3890160"/>
            <a:ext cx="1761840" cy="1482480"/>
          </a:xfrm>
          <a:custGeom>
            <a:avLst/>
            <a:gdLst/>
            <a:ahLst/>
            <a:rect l="0" t="0" r="r" b="b"/>
            <a:pathLst>
              <a:path fill="none" w="4894" h="4118">
                <a:moveTo>
                  <a:pt x="0" y="4118"/>
                </a:moveTo>
                <a:lnTo>
                  <a:pt x="0" y="4118"/>
                </a:lnTo>
                <a:cubicBezTo>
                  <a:pt x="859" y="4118"/>
                  <a:pt x="1703" y="3928"/>
                  <a:pt x="2447" y="3566"/>
                </a:cubicBezTo>
                <a:cubicBezTo>
                  <a:pt x="3191" y="3205"/>
                  <a:pt x="3809" y="2685"/>
                  <a:pt x="4238" y="2059"/>
                </a:cubicBezTo>
                <a:cubicBezTo>
                  <a:pt x="4668" y="1433"/>
                  <a:pt x="4894" y="723"/>
                  <a:pt x="4894" y="0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92440" y="1422360"/>
            <a:ext cx="2629080" cy="330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35240" y="1434960"/>
            <a:ext cx="432000" cy="864360"/>
            <a:chOff x="2235240" y="1434960"/>
            <a:chExt cx="432000" cy="864360"/>
          </a:xfrm>
        </p:grpSpPr>
        <p:sp>
          <p:nvSpPr>
            <p:cNvPr id="103" name=""/>
            <p:cNvSpPr/>
            <p:nvPr/>
          </p:nvSpPr>
          <p:spPr>
            <a:xfrm>
              <a:off x="2235240" y="1854360"/>
              <a:ext cx="432000" cy="444960"/>
            </a:xfrm>
            <a:custGeom>
              <a:avLst/>
              <a:gdLst/>
              <a:ahLst/>
              <a:rect l="0" t="0" r="r" b="b"/>
              <a:pathLst>
                <a:path fill="none" w="1200" h="1236">
                  <a:moveTo>
                    <a:pt x="0" y="0"/>
                  </a:moveTo>
                  <a:lnTo>
                    <a:pt x="0" y="0"/>
                  </a:lnTo>
                  <a:cubicBezTo>
                    <a:pt x="0" y="217"/>
                    <a:pt x="55" y="430"/>
                    <a:pt x="161" y="618"/>
                  </a:cubicBezTo>
                  <a:cubicBezTo>
                    <a:pt x="266" y="806"/>
                    <a:pt x="418" y="962"/>
                    <a:pt x="600" y="1070"/>
                  </a:cubicBezTo>
                  <a:cubicBezTo>
                    <a:pt x="782" y="1179"/>
                    <a:pt x="989" y="1236"/>
                    <a:pt x="1200" y="1236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35240" y="1434960"/>
              <a:ext cx="432000" cy="444960"/>
            </a:xfrm>
            <a:custGeom>
              <a:avLst/>
              <a:gdLst/>
              <a:ahLst/>
              <a:rect l="0" t="0" r="r" b="b"/>
              <a:pathLst>
                <a:path fill="none" w="1200" h="1236">
                  <a:moveTo>
                    <a:pt x="1200" y="0"/>
                  </a:moveTo>
                  <a:lnTo>
                    <a:pt x="1200" y="0"/>
                  </a:lnTo>
                  <a:cubicBezTo>
                    <a:pt x="989" y="0"/>
                    <a:pt x="782" y="57"/>
                    <a:pt x="600" y="166"/>
                  </a:cubicBezTo>
                  <a:cubicBezTo>
                    <a:pt x="418" y="274"/>
                    <a:pt x="266" y="430"/>
                    <a:pt x="161" y="618"/>
                  </a:cubicBezTo>
                  <a:cubicBezTo>
                    <a:pt x="55" y="806"/>
                    <a:pt x="0" y="1019"/>
                    <a:pt x="0" y="1236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35240" y="2654280"/>
            <a:ext cx="432000" cy="864000"/>
            <a:chOff x="2235240" y="2654280"/>
            <a:chExt cx="432000" cy="864000"/>
          </a:xfrm>
        </p:grpSpPr>
        <p:sp>
          <p:nvSpPr>
            <p:cNvPr id="106" name=""/>
            <p:cNvSpPr/>
            <p:nvPr/>
          </p:nvSpPr>
          <p:spPr>
            <a:xfrm>
              <a:off x="2235240" y="3073320"/>
              <a:ext cx="432000" cy="444960"/>
            </a:xfrm>
            <a:custGeom>
              <a:avLst/>
              <a:gdLst/>
              <a:ahLst/>
              <a:rect l="0" t="0" r="r" b="b"/>
              <a:pathLst>
                <a:path fill="none" w="1200" h="1236">
                  <a:moveTo>
                    <a:pt x="0" y="0"/>
                  </a:moveTo>
                  <a:lnTo>
                    <a:pt x="0" y="0"/>
                  </a:lnTo>
                  <a:cubicBezTo>
                    <a:pt x="0" y="217"/>
                    <a:pt x="55" y="430"/>
                    <a:pt x="161" y="618"/>
                  </a:cubicBezTo>
                  <a:cubicBezTo>
                    <a:pt x="266" y="806"/>
                    <a:pt x="418" y="962"/>
                    <a:pt x="600" y="1070"/>
                  </a:cubicBezTo>
                  <a:cubicBezTo>
                    <a:pt x="782" y="1179"/>
                    <a:pt x="989" y="1236"/>
                    <a:pt x="1200" y="1236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35240" y="2654280"/>
              <a:ext cx="432000" cy="444960"/>
            </a:xfrm>
            <a:custGeom>
              <a:avLst/>
              <a:gdLst/>
              <a:ahLst/>
              <a:rect l="0" t="0" r="r" b="b"/>
              <a:pathLst>
                <a:path fill="none" w="1200" h="1236">
                  <a:moveTo>
                    <a:pt x="1200" y="0"/>
                  </a:moveTo>
                  <a:lnTo>
                    <a:pt x="1200" y="0"/>
                  </a:lnTo>
                  <a:cubicBezTo>
                    <a:pt x="989" y="0"/>
                    <a:pt x="782" y="57"/>
                    <a:pt x="600" y="166"/>
                  </a:cubicBezTo>
                  <a:cubicBezTo>
                    <a:pt x="418" y="274"/>
                    <a:pt x="266" y="430"/>
                    <a:pt x="161" y="618"/>
                  </a:cubicBezTo>
                  <a:cubicBezTo>
                    <a:pt x="55" y="806"/>
                    <a:pt x="0" y="1019"/>
                    <a:pt x="0" y="1236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346720" y="2273400"/>
            <a:ext cx="432000" cy="533880"/>
            <a:chOff x="5346720" y="2273400"/>
            <a:chExt cx="432000" cy="533880"/>
          </a:xfrm>
        </p:grpSpPr>
        <p:sp>
          <p:nvSpPr>
            <p:cNvPr id="109" name=""/>
            <p:cNvSpPr/>
            <p:nvPr/>
          </p:nvSpPr>
          <p:spPr>
            <a:xfrm>
              <a:off x="5346720" y="2532240"/>
              <a:ext cx="432000" cy="275040"/>
            </a:xfrm>
            <a:custGeom>
              <a:avLst/>
              <a:gdLst/>
              <a:ahLst/>
              <a:rect l="0" t="0" r="r" b="b"/>
              <a:pathLst>
                <a:path fill="none" w="1200" h="764">
                  <a:moveTo>
                    <a:pt x="0" y="764"/>
                  </a:moveTo>
                  <a:lnTo>
                    <a:pt x="0" y="764"/>
                  </a:lnTo>
                  <a:cubicBezTo>
                    <a:pt x="211" y="764"/>
                    <a:pt x="418" y="729"/>
                    <a:pt x="600" y="662"/>
                  </a:cubicBezTo>
                  <a:cubicBezTo>
                    <a:pt x="782" y="595"/>
                    <a:pt x="934" y="498"/>
                    <a:pt x="1039" y="382"/>
                  </a:cubicBezTo>
                  <a:cubicBezTo>
                    <a:pt x="1145" y="266"/>
                    <a:pt x="1200" y="134"/>
                    <a:pt x="1200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273400"/>
              <a:ext cx="432000" cy="275040"/>
            </a:xfrm>
            <a:custGeom>
              <a:avLst/>
              <a:gdLst/>
              <a:ahLst/>
              <a:rect l="0" t="0" r="r" b="b"/>
              <a:pathLst>
                <a:path fill="none" w="1200" h="764">
                  <a:moveTo>
                    <a:pt x="1200" y="764"/>
                  </a:moveTo>
                  <a:lnTo>
                    <a:pt x="1200" y="764"/>
                  </a:lnTo>
                  <a:lnTo>
                    <a:pt x="1200" y="764"/>
                  </a:lnTo>
                  <a:cubicBezTo>
                    <a:pt x="1200" y="630"/>
                    <a:pt x="1145" y="498"/>
                    <a:pt x="1039" y="382"/>
                  </a:cubicBezTo>
                  <a:cubicBezTo>
                    <a:pt x="934" y="266"/>
                    <a:pt x="782" y="169"/>
                    <a:pt x="600" y="102"/>
                  </a:cubicBezTo>
                  <a:cubicBezTo>
                    <a:pt x="418" y="35"/>
                    <a:pt x="211" y="0"/>
                    <a:pt x="0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346720" y="4572000"/>
            <a:ext cx="432000" cy="609840"/>
            <a:chOff x="5346720" y="4572000"/>
            <a:chExt cx="432000" cy="609840"/>
          </a:xfrm>
        </p:grpSpPr>
        <p:sp>
          <p:nvSpPr>
            <p:cNvPr id="112" name=""/>
            <p:cNvSpPr/>
            <p:nvPr/>
          </p:nvSpPr>
          <p:spPr>
            <a:xfrm>
              <a:off x="5346720" y="4867920"/>
              <a:ext cx="432000" cy="313920"/>
            </a:xfrm>
            <a:custGeom>
              <a:avLst/>
              <a:gdLst/>
              <a:ahLst/>
              <a:rect l="0" t="0" r="r" b="b"/>
              <a:pathLst>
                <a:path fill="none" w="1200" h="872">
                  <a:moveTo>
                    <a:pt x="0" y="872"/>
                  </a:moveTo>
                  <a:lnTo>
                    <a:pt x="0" y="872"/>
                  </a:lnTo>
                  <a:cubicBezTo>
                    <a:pt x="211" y="872"/>
                    <a:pt x="418" y="832"/>
                    <a:pt x="600" y="755"/>
                  </a:cubicBezTo>
                  <a:cubicBezTo>
                    <a:pt x="782" y="679"/>
                    <a:pt x="934" y="569"/>
                    <a:pt x="1039" y="436"/>
                  </a:cubicBezTo>
                  <a:cubicBezTo>
                    <a:pt x="1145" y="303"/>
                    <a:pt x="1200" y="153"/>
                    <a:pt x="1200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46720" y="4572000"/>
              <a:ext cx="432000" cy="313920"/>
            </a:xfrm>
            <a:custGeom>
              <a:avLst/>
              <a:gdLst/>
              <a:ahLst/>
              <a:rect l="0" t="0" r="r" b="b"/>
              <a:pathLst>
                <a:path fill="none" w="1200" h="872">
                  <a:moveTo>
                    <a:pt x="1200" y="872"/>
                  </a:moveTo>
                  <a:lnTo>
                    <a:pt x="1200" y="872"/>
                  </a:lnTo>
                  <a:lnTo>
                    <a:pt x="1200" y="872"/>
                  </a:lnTo>
                  <a:cubicBezTo>
                    <a:pt x="1200" y="719"/>
                    <a:pt x="1145" y="569"/>
                    <a:pt x="1039" y="436"/>
                  </a:cubicBezTo>
                  <a:cubicBezTo>
                    <a:pt x="934" y="303"/>
                    <a:pt x="782" y="193"/>
                    <a:pt x="600" y="117"/>
                  </a:cubicBezTo>
                  <a:cubicBezTo>
                    <a:pt x="418" y="40"/>
                    <a:pt x="211" y="0"/>
                    <a:pt x="0" y="0"/>
                  </a:cubicBezTo>
                </a:path>
              </a:pathLst>
            </a:custGeom>
            <a:ln w="381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Design 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08200" y="1600200"/>
            <a:ext cx="135396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efini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707000" y="1668600"/>
            <a:ext cx="128736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yste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cif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0" y="2278080"/>
            <a:ext cx="1625760" cy="67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yste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igh-level desig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84880" y="2075040"/>
            <a:ext cx="0" cy="203040"/>
          </a:xfrm>
          <a:prstGeom prst="line">
            <a:avLst/>
          </a:pr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657840" y="2954160"/>
            <a:ext cx="128592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duc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cif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21400" y="3699000"/>
            <a:ext cx="1625760" cy="67788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duct 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igh-level desig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34280" y="3360600"/>
            <a:ext cx="0" cy="338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81240" y="2887560"/>
            <a:ext cx="128736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duct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cif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78200" y="3429000"/>
            <a:ext cx="1625760" cy="67788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duct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igh-level desig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59120" y="3294000"/>
            <a:ext cx="0" cy="203400"/>
          </a:xfrm>
          <a:prstGeom prst="line">
            <a:avLst/>
          </a:pr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52440" y="4241880"/>
            <a:ext cx="128736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omponent 1-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cif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49400" y="4851360"/>
            <a:ext cx="1625760" cy="67788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omponent 1-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igh-level desig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62280" y="4648320"/>
            <a:ext cx="0" cy="203040"/>
          </a:xfrm>
          <a:prstGeom prst="line">
            <a:avLst/>
          </a:pr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35440" y="3924360"/>
            <a:ext cx="128736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omponent 1-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cif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57600" y="4533840"/>
            <a:ext cx="1625760" cy="67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omponent 1-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igh-level desig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70480" y="4344840"/>
            <a:ext cx="0" cy="203400"/>
          </a:xfrm>
          <a:prstGeom prst="line">
            <a:avLst/>
          </a:pr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1803240"/>
            <a:ext cx="744840" cy="67680"/>
          </a:xfrm>
          <a:custGeom>
            <a:avLst/>
            <a:gdLst/>
            <a:ahLst/>
            <a:rect l="0" t="0" r="r" b="b"/>
            <a:pathLst>
              <a:path fill="none" w="2069" h="188">
                <a:moveTo>
                  <a:pt x="2069" y="188"/>
                </a:moveTo>
                <a:lnTo>
                  <a:pt x="2069" y="188"/>
                </a:lnTo>
                <a:lnTo>
                  <a:pt x="2069" y="188"/>
                </a:lnTo>
                <a:cubicBezTo>
                  <a:pt x="2069" y="155"/>
                  <a:pt x="1973" y="123"/>
                  <a:pt x="1792" y="94"/>
                </a:cubicBezTo>
                <a:cubicBezTo>
                  <a:pt x="1610" y="65"/>
                  <a:pt x="1349" y="42"/>
                  <a:pt x="1034" y="25"/>
                </a:cubicBezTo>
                <a:cubicBezTo>
                  <a:pt x="720" y="9"/>
                  <a:pt x="363" y="0"/>
                  <a:pt x="0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97760" y="2751120"/>
            <a:ext cx="945000" cy="203400"/>
          </a:xfrm>
          <a:custGeom>
            <a:avLst/>
            <a:gdLst/>
            <a:ahLst/>
            <a:rect l="0" t="0" r="r" b="b"/>
            <a:pathLst>
              <a:path fill="none" w="2625" h="565">
                <a:moveTo>
                  <a:pt x="2625" y="565"/>
                </a:moveTo>
                <a:lnTo>
                  <a:pt x="2625" y="565"/>
                </a:lnTo>
                <a:lnTo>
                  <a:pt x="2625" y="565"/>
                </a:lnTo>
                <a:cubicBezTo>
                  <a:pt x="2625" y="466"/>
                  <a:pt x="2504" y="368"/>
                  <a:pt x="2273" y="282"/>
                </a:cubicBezTo>
                <a:cubicBezTo>
                  <a:pt x="2043" y="197"/>
                  <a:pt x="1712" y="125"/>
                  <a:pt x="1312" y="76"/>
                </a:cubicBezTo>
                <a:cubicBezTo>
                  <a:pt x="913" y="26"/>
                  <a:pt x="461" y="0"/>
                  <a:pt x="0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94120" y="2684520"/>
            <a:ext cx="678240" cy="203400"/>
          </a:xfrm>
          <a:custGeom>
            <a:avLst/>
            <a:gdLst/>
            <a:ahLst/>
            <a:rect l="0" t="0" r="r" b="b"/>
            <a:pathLst>
              <a:path fill="none" w="1884" h="565">
                <a:moveTo>
                  <a:pt x="1884" y="0"/>
                </a:moveTo>
                <a:lnTo>
                  <a:pt x="1884" y="0"/>
                </a:lnTo>
                <a:cubicBezTo>
                  <a:pt x="1553" y="0"/>
                  <a:pt x="1228" y="26"/>
                  <a:pt x="942" y="76"/>
                </a:cubicBezTo>
                <a:cubicBezTo>
                  <a:pt x="656" y="125"/>
                  <a:pt x="418" y="197"/>
                  <a:pt x="252" y="283"/>
                </a:cubicBezTo>
                <a:cubicBezTo>
                  <a:pt x="87" y="368"/>
                  <a:pt x="0" y="466"/>
                  <a:pt x="0" y="565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37000" y="3903840"/>
            <a:ext cx="598680" cy="25920"/>
          </a:xfrm>
          <a:custGeom>
            <a:avLst/>
            <a:gdLst/>
            <a:ahLst/>
            <a:rect l="0" t="0" r="r" b="b"/>
            <a:pathLst>
              <a:path fill="none" w="1663" h="72">
                <a:moveTo>
                  <a:pt x="1663" y="72"/>
                </a:moveTo>
                <a:lnTo>
                  <a:pt x="1663" y="72"/>
                </a:lnTo>
                <a:lnTo>
                  <a:pt x="1663" y="72"/>
                </a:lnTo>
                <a:cubicBezTo>
                  <a:pt x="1663" y="59"/>
                  <a:pt x="1586" y="47"/>
                  <a:pt x="1440" y="36"/>
                </a:cubicBezTo>
                <a:cubicBezTo>
                  <a:pt x="1294" y="25"/>
                  <a:pt x="1084" y="16"/>
                  <a:pt x="831" y="10"/>
                </a:cubicBezTo>
                <a:cubicBezTo>
                  <a:pt x="579" y="3"/>
                  <a:pt x="292" y="0"/>
                  <a:pt x="0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3903840"/>
            <a:ext cx="881280" cy="338400"/>
          </a:xfrm>
          <a:custGeom>
            <a:avLst/>
            <a:gdLst/>
            <a:ahLst/>
            <a:rect l="0" t="0" r="r" b="b"/>
            <a:pathLst>
              <a:path fill="none" w="2448" h="940">
                <a:moveTo>
                  <a:pt x="2448" y="0"/>
                </a:moveTo>
                <a:lnTo>
                  <a:pt x="2448" y="0"/>
                </a:lnTo>
                <a:cubicBezTo>
                  <a:pt x="2018" y="0"/>
                  <a:pt x="1596" y="43"/>
                  <a:pt x="1224" y="126"/>
                </a:cubicBezTo>
                <a:cubicBezTo>
                  <a:pt x="852" y="208"/>
                  <a:pt x="543" y="327"/>
                  <a:pt x="328" y="470"/>
                </a:cubicBezTo>
                <a:cubicBezTo>
                  <a:pt x="113" y="613"/>
                  <a:pt x="0" y="775"/>
                  <a:pt x="0" y="94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41920" y="3100320"/>
            <a:ext cx="1428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 -  -  -  -  -  -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32120" y="4237200"/>
            <a:ext cx="16095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 -  -  -  -  -  -  -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69200" y="5200560"/>
            <a:ext cx="108252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odule 1n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cif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26120" y="4986360"/>
            <a:ext cx="609840" cy="271080"/>
          </a:xfrm>
          <a:custGeom>
            <a:avLst/>
            <a:gdLst/>
            <a:ahLst/>
            <a:rect l="0" t="0" r="r" b="b"/>
            <a:pathLst>
              <a:path fill="none" w="1694" h="753">
                <a:moveTo>
                  <a:pt x="1694" y="753"/>
                </a:moveTo>
                <a:lnTo>
                  <a:pt x="1694" y="753"/>
                </a:lnTo>
                <a:lnTo>
                  <a:pt x="1694" y="753"/>
                </a:lnTo>
                <a:cubicBezTo>
                  <a:pt x="1694" y="621"/>
                  <a:pt x="1616" y="491"/>
                  <a:pt x="1467" y="376"/>
                </a:cubicBezTo>
                <a:cubicBezTo>
                  <a:pt x="1318" y="262"/>
                  <a:pt x="1105" y="167"/>
                  <a:pt x="847" y="101"/>
                </a:cubicBezTo>
                <a:cubicBezTo>
                  <a:pt x="589" y="35"/>
                  <a:pt x="297" y="0"/>
                  <a:pt x="0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425840" y="5245200"/>
            <a:ext cx="19717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 -  -  -  -  -  -  -  -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84640" y="5172120"/>
            <a:ext cx="108432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odule 1n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cif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19680" y="4929120"/>
            <a:ext cx="609840" cy="271080"/>
          </a:xfrm>
          <a:custGeom>
            <a:avLst/>
            <a:gdLst/>
            <a:ahLst/>
            <a:rect l="0" t="0" r="r" b="b"/>
            <a:pathLst>
              <a:path fill="none" w="1694" h="753">
                <a:moveTo>
                  <a:pt x="1694" y="0"/>
                </a:moveTo>
                <a:lnTo>
                  <a:pt x="1694" y="0"/>
                </a:lnTo>
                <a:cubicBezTo>
                  <a:pt x="1397" y="0"/>
                  <a:pt x="1105" y="35"/>
                  <a:pt x="847" y="101"/>
                </a:cubicBezTo>
                <a:cubicBezTo>
                  <a:pt x="589" y="167"/>
                  <a:pt x="376" y="262"/>
                  <a:pt x="227" y="377"/>
                </a:cubicBezTo>
                <a:cubicBezTo>
                  <a:pt x="78" y="491"/>
                  <a:pt x="0" y="621"/>
                  <a:pt x="0" y="753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30560" y="5630760"/>
            <a:ext cx="1150920" cy="406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odule 1n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etailed desig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59480" y="5727600"/>
            <a:ext cx="1150920" cy="3380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odule 1n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etailed desig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48000" y="574848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 -  -  -  -  -  -  -  -  -  -  -  -  -  -  -  -  -  -  -  -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67200" y="5510160"/>
            <a:ext cx="271800" cy="136080"/>
          </a:xfrm>
          <a:custGeom>
            <a:avLst/>
            <a:gdLst/>
            <a:ahLst/>
            <a:rect l="0" t="0" r="r" b="b"/>
            <a:pathLst>
              <a:path fill="none" w="755" h="378">
                <a:moveTo>
                  <a:pt x="755" y="0"/>
                </a:moveTo>
                <a:lnTo>
                  <a:pt x="755" y="0"/>
                </a:lnTo>
                <a:cubicBezTo>
                  <a:pt x="622" y="0"/>
                  <a:pt x="492" y="17"/>
                  <a:pt x="377" y="51"/>
                </a:cubicBezTo>
                <a:cubicBezTo>
                  <a:pt x="263" y="84"/>
                  <a:pt x="167" y="132"/>
                  <a:pt x="101" y="189"/>
                </a:cubicBezTo>
                <a:cubicBezTo>
                  <a:pt x="35" y="246"/>
                  <a:pt x="0" y="312"/>
                  <a:pt x="0" y="378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4400" y="5470560"/>
            <a:ext cx="339480" cy="271800"/>
          </a:xfrm>
          <a:custGeom>
            <a:avLst/>
            <a:gdLst/>
            <a:ahLst/>
            <a:rect l="0" t="0" r="r" b="b"/>
            <a:pathLst>
              <a:path fill="none" w="943" h="755">
                <a:moveTo>
                  <a:pt x="943" y="755"/>
                </a:moveTo>
                <a:lnTo>
                  <a:pt x="943" y="755"/>
                </a:lnTo>
                <a:lnTo>
                  <a:pt x="943" y="755"/>
                </a:lnTo>
                <a:cubicBezTo>
                  <a:pt x="943" y="622"/>
                  <a:pt x="899" y="492"/>
                  <a:pt x="817" y="377"/>
                </a:cubicBezTo>
                <a:cubicBezTo>
                  <a:pt x="734" y="263"/>
                  <a:pt x="615" y="167"/>
                  <a:pt x="471" y="101"/>
                </a:cubicBezTo>
                <a:cubicBezTo>
                  <a:pt x="328" y="35"/>
                  <a:pt x="166" y="0"/>
                  <a:pt x="0" y="0"/>
                </a:cubicBezTo>
              </a:path>
            </a:pathLst>
          </a:custGeom>
          <a:ln w="25560">
            <a:solidFill>
              <a:srgbClr val="dede96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Design Proces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 design is the creative process of producing a precise and effective solution to an ill-defined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process cannot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duced to a routine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isely controlled or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Design Proces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process can be structur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parate the routine from the creativ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ure that the design work is properly per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potential design support tools and meth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important to separate two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to do the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to represent the design when it is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Design Proces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many desig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ne have been proven best for every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best method may depend on the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references are also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widely-usable process must work with many    different desig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also many types of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 assist in visualizing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ity provides pr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xt provides intuitive understanding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three are often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