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07960" y="6245280"/>
            <a:ext cx="811692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7000"/>
              </a:lnSpc>
              <a:tabLst>
                <a:tab algn="ctr" pos="4138560"/>
                <a:tab algn="r" pos="8001000"/>
              </a:tabLst>
            </a:pP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Copyright  © 1994 Carnegie Mellon University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Disciplined Software Engineering - Lecture 11   </a:t>
            </a:r>
            <a:fld id="{2EEB8727-BE32-4E10-85B7-FC98AB177345}" type="slidenum"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380880"/>
            <a:ext cx="8109000" cy="6083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01600" y="858960"/>
            <a:ext cx="68644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5320" y="704880"/>
            <a:ext cx="7289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92840" y="3797280"/>
            <a:ext cx="3205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793800"/>
            <a:ext cx="672624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isciplined Software </a:t>
            </a:r>
            <a:br>
              <a:rPr sz="4800"/>
            </a:b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ngineering </a:t>
            </a:r>
            <a:br>
              <a:rPr sz="48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3498840"/>
            <a:ext cx="6227640" cy="23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ittsburgh, PA 152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onsored by the U.S. Department of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alability Stag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ge 4 multi-systems may contain many millions of LOC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ltiple semi-independent systems must work togethe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ality is paramoun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move from stage 3 to stage 4 introduces large scale and distributed system issues as well as problems with centralized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ge 4 requires semi-autonomous development groups and self-directing tea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alability Condition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be sca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cess must be man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ject must be man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duct must be man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managed process shou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 def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vide the work into separable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ffectively integrate these elements into the fin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alability Condition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a managed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work must be plan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work must be managed to that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quirements changes must be contro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 design and system architecture must continue throughout the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figuration management must b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alability Conditions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a manage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s must be tracked and contro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 and system testing must be d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gression testing is used consist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 quality must be hi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dule defects should be removed before integration and system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module quality objective should be to find all defects before integration and system test (i.e. miss less than 100 defects per MLO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Scalability Ob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calability objective is to develop large products with the same quality and productivity as with small produ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alability will only apply to tasks that were done on the smaller pro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ce the new tasks required by the larger project require additional work, productivity will generally decline with increasing job sc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Scope of Scalability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16000" y="5383080"/>
            <a:ext cx="985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Smal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Pro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16000" y="3502080"/>
            <a:ext cx="985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Med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Pro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16000" y="2522520"/>
            <a:ext cx="873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Larg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Pro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116000" y="1978200"/>
            <a:ext cx="7048440" cy="3341520"/>
            <a:chOff x="1116000" y="1978200"/>
            <a:chExt cx="7048440" cy="3341520"/>
          </a:xfrm>
        </p:grpSpPr>
        <p:sp>
          <p:nvSpPr>
            <p:cNvPr id="76" name=""/>
            <p:cNvSpPr/>
            <p:nvPr/>
          </p:nvSpPr>
          <p:spPr>
            <a:xfrm flipH="1">
              <a:off x="2214720" y="3619440"/>
              <a:ext cx="385560" cy="85716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00400" y="3605040"/>
              <a:ext cx="371520" cy="91440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100480" y="3578400"/>
              <a:ext cx="1043280" cy="105696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72080" y="3592440"/>
              <a:ext cx="0" cy="104292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72400" y="3592440"/>
              <a:ext cx="979200" cy="97632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174840" y="2484360"/>
              <a:ext cx="1257480" cy="80028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95920" y="2508120"/>
              <a:ext cx="1243080" cy="700200"/>
            </a:xfrm>
            <a:prstGeom prst="line">
              <a:avLst/>
            </a:prstGeom>
            <a:ln w="381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1116000" y="4410000"/>
              <a:ext cx="1238040" cy="909720"/>
              <a:chOff x="1116000" y="4410000"/>
              <a:chExt cx="1238040" cy="909720"/>
            </a:xfrm>
          </p:grpSpPr>
          <p:sp>
            <p:nvSpPr>
              <p:cNvPr id="84" name=""/>
              <p:cNvSpPr txBox="1"/>
              <p:nvPr/>
            </p:nvSpPr>
            <p:spPr>
              <a:xfrm>
                <a:off x="1116000" y="4962600"/>
                <a:ext cx="757080" cy="357120"/>
              </a:xfrm>
              <a:prstGeom prst="rect">
                <a:avLst/>
              </a:prstGeom>
              <a:solidFill>
                <a:srgbClr val="6665b2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ule 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1368360" y="4678200"/>
                <a:ext cx="757080" cy="357120"/>
              </a:xfrm>
              <a:prstGeom prst="rect">
                <a:avLst/>
              </a:prstGeom>
              <a:solidFill>
                <a:srgbClr val="4747b2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ule 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1596960" y="4410000"/>
                <a:ext cx="757080" cy="357120"/>
              </a:xfrm>
              <a:prstGeom prst="rect">
                <a:avLst/>
              </a:prstGeom>
              <a:solidFill>
                <a:srgbClr val="302fb2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ule 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2654280" y="4410000"/>
              <a:ext cx="1238040" cy="909720"/>
              <a:chOff x="2654280" y="4410000"/>
              <a:chExt cx="1238040" cy="909720"/>
            </a:xfrm>
          </p:grpSpPr>
          <p:sp>
            <p:nvSpPr>
              <p:cNvPr id="88" name=""/>
              <p:cNvSpPr txBox="1"/>
              <p:nvPr/>
            </p:nvSpPr>
            <p:spPr>
              <a:xfrm>
                <a:off x="2654280" y="4962600"/>
                <a:ext cx="757080" cy="357120"/>
              </a:xfrm>
              <a:prstGeom prst="rect">
                <a:avLst/>
              </a:prstGeom>
              <a:solidFill>
                <a:srgbClr val="6665b2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ule 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 txBox="1"/>
              <p:nvPr/>
            </p:nvSpPr>
            <p:spPr>
              <a:xfrm>
                <a:off x="2892600" y="4678200"/>
                <a:ext cx="757080" cy="357120"/>
              </a:xfrm>
              <a:prstGeom prst="rect">
                <a:avLst/>
              </a:prstGeom>
              <a:solidFill>
                <a:srgbClr val="4747b2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ule 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3135240" y="4410000"/>
                <a:ext cx="757080" cy="357120"/>
              </a:xfrm>
              <a:prstGeom prst="rect">
                <a:avLst/>
              </a:prstGeom>
              <a:solidFill>
                <a:srgbClr val="302fb2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ule 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4083120" y="4410000"/>
              <a:ext cx="1223640" cy="909720"/>
              <a:chOff x="4083120" y="4410000"/>
              <a:chExt cx="1223640" cy="909720"/>
            </a:xfrm>
          </p:grpSpPr>
          <p:sp>
            <p:nvSpPr>
              <p:cNvPr id="92" name=""/>
              <p:cNvSpPr txBox="1"/>
              <p:nvPr/>
            </p:nvSpPr>
            <p:spPr>
              <a:xfrm>
                <a:off x="4083120" y="4962600"/>
                <a:ext cx="757080" cy="357120"/>
              </a:xfrm>
              <a:prstGeom prst="rect">
                <a:avLst/>
              </a:prstGeom>
              <a:solidFill>
                <a:srgbClr val="6665b2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ule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4321080" y="4678200"/>
                <a:ext cx="757080" cy="357120"/>
              </a:xfrm>
              <a:prstGeom prst="rect">
                <a:avLst/>
              </a:prstGeom>
              <a:solidFill>
                <a:srgbClr val="4747b2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ule 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4549680" y="4410000"/>
                <a:ext cx="757080" cy="357120"/>
              </a:xfrm>
              <a:prstGeom prst="rect">
                <a:avLst/>
              </a:prstGeom>
              <a:solidFill>
                <a:srgbClr val="302fb2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ule 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554800" y="4410000"/>
              <a:ext cx="1223640" cy="909720"/>
              <a:chOff x="5554800" y="4410000"/>
              <a:chExt cx="1223640" cy="909720"/>
            </a:xfrm>
          </p:grpSpPr>
          <p:sp>
            <p:nvSpPr>
              <p:cNvPr id="96" name=""/>
              <p:cNvSpPr txBox="1"/>
              <p:nvPr/>
            </p:nvSpPr>
            <p:spPr>
              <a:xfrm>
                <a:off x="5554800" y="4962600"/>
                <a:ext cx="757080" cy="357120"/>
              </a:xfrm>
              <a:prstGeom prst="rect">
                <a:avLst/>
              </a:prstGeom>
              <a:solidFill>
                <a:srgbClr val="6665b2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ule 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5792760" y="4678200"/>
                <a:ext cx="757080" cy="357120"/>
              </a:xfrm>
              <a:prstGeom prst="rect">
                <a:avLst/>
              </a:prstGeom>
              <a:solidFill>
                <a:srgbClr val="4747b2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ule 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6021360" y="4410000"/>
                <a:ext cx="757080" cy="357120"/>
              </a:xfrm>
              <a:prstGeom prst="rect">
                <a:avLst/>
              </a:prstGeom>
              <a:solidFill>
                <a:srgbClr val="302fb2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ule J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940440" y="4410000"/>
              <a:ext cx="1224000" cy="909720"/>
              <a:chOff x="6940440" y="4410000"/>
              <a:chExt cx="1224000" cy="909720"/>
            </a:xfrm>
          </p:grpSpPr>
          <p:sp>
            <p:nvSpPr>
              <p:cNvPr id="100" name=""/>
              <p:cNvSpPr txBox="1"/>
              <p:nvPr/>
            </p:nvSpPr>
            <p:spPr>
              <a:xfrm>
                <a:off x="6940440" y="4962600"/>
                <a:ext cx="757080" cy="357120"/>
              </a:xfrm>
              <a:prstGeom prst="rect">
                <a:avLst/>
              </a:prstGeom>
              <a:solidFill>
                <a:srgbClr val="6665b2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ule 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7178760" y="4678200"/>
                <a:ext cx="757080" cy="357120"/>
              </a:xfrm>
              <a:prstGeom prst="rect">
                <a:avLst/>
              </a:prstGeom>
              <a:solidFill>
                <a:srgbClr val="4747b2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ule 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7407360" y="4410000"/>
                <a:ext cx="757080" cy="357120"/>
              </a:xfrm>
              <a:prstGeom prst="rect">
                <a:avLst/>
              </a:prstGeom>
              <a:solidFill>
                <a:srgbClr val="302fb2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ule M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 txBox="1"/>
            <p:nvPr/>
          </p:nvSpPr>
          <p:spPr>
            <a:xfrm>
              <a:off x="2328840" y="3230640"/>
              <a:ext cx="1157400" cy="35712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ponent 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5853240" y="3230640"/>
              <a:ext cx="1157400" cy="35712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ponent 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3957480" y="1978200"/>
              <a:ext cx="1271520" cy="54288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duct Z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Scope of Scalability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scaling up from the module level to the component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seek to maintain the quality and productivity of the module level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omponent level work is new and thus cannot be scaled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scaling up to the product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seek to maintain the quality and productivity of the component level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duct level work is new and thus cannot be scaled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anaging Complexity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ze and complexity are closely rel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 small programs can be moderately complex, the critical problem is to handle large progr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ize of large programs generally makes them very comple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anaging Complexity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ftware development is largely done by indiv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write small programs al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rger programs are usually composed of multiple small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are three related problems with ways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 high quality small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able individuals to handle larger and more complex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bine these individually developed programs into larg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anaging Complexity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incipal problem with software complexity is that humans have limited abilities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ember 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isualize complex relation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thus seek ways to help individuals develop increasingly complex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st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11 Overview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aling up the Personal Softwar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alability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ndling software complex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yclic P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ftware insp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ower of Abstraction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ople think in conceptual chu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can actively use only 7 +/- 2 chu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icher the chunks, the more powerful our     thou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was demonstrated by asking amateur chess players to remember the positions of chess men in a game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could only remember 5 or 6 pie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perts could remember the entire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randomly placed pieces, the experts and amateurs did about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ower of Abstraction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ftware abstractions can form such chunks 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are pre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fully understand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perform exactly as concei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me potential software abstraction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out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ndard procedures and reusable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lete sub-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ower of Abstractions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reduce conceptual complexity, these abstractions m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rform precisely as spec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ve no interactions other than as spec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ceptually represent coherent and self-    contained system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ower of Abstractions -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we think in these larger terms, we can precisely define our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can then build the abstractions of which they are compo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these abstractions are then combined into the system, they are more likely to perform as exp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ower of Abstractions -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incipal limitations with abstraction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uman developers make specification err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stractions frequently contain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st abstractions are specializ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means that we are rarely able to build on other people’s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ur intellectual ability to conceive of complex software systems is thus limited by the abstractions we ourselves have develo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rchitecture and Reus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system architectural design can help reduce complexity because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s a coherent structural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ies conceptually similar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rmits isolation of sub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well structured architecture facilitates the use of standard desig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ication specifics are deferred to the lowest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re possible, adjustable parameters are defin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rchitecture and Reus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enhances reusability through the use of standardized compon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se precisely defined standard components can then be used as high-level design abst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ese components are of high quality, scalability will more likely be achie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eature-Oriented Domain Analysis -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ature-Oriented Domain Analysis was developed by the SEI.  It is an architectural design metho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ies conceptually similar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tegorizes these functions into 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s common abstractions for each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s parameters wherever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rs application-specific func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rmits maximum sharing of program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eature-Oriented Domain Analysis -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 example of feature-oriented domai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 a system output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highest level composes and sends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next lower level defines printers, display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next level handles printer forma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next level supports specific printer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velopment Strategie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development strategy is required when a system is too large to be built in one pie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must then be partitioned into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se elements must then be develo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veloped elements are then integrated into the finished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at is Scalabilit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roduct development process is scalable when the methods and techniques used will work equally well for larger pro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alability typ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ies over small product size r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limited to similar application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es not apply to unprecedente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es not work for poorly managed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unlikely to apply where the engineering work is undiscip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velopment Strategie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trateg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s the smaller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es the order in which they are develo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es the way in which they are integ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e strategy is appropriate and the elements are properly develo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velopment process will scale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otal development is the sum of the parts plus system design and integr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ome Development Strate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ny development strategies are pos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objective is to incrementally build the system so as to identify key problems at the earliest point in the proc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me example strategies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gressive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unctional enhanc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ast path enhanc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ummy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183280" y="3033720"/>
            <a:ext cx="550800" cy="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94440" y="4097160"/>
            <a:ext cx="549000" cy="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43440" y="3838680"/>
            <a:ext cx="1666800" cy="566640"/>
          </a:xfrm>
          <a:prstGeom prst="rect">
            <a:avLst/>
          </a:prstGeom>
          <a:solidFill>
            <a:srgbClr val="6665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08200" y="2771640"/>
            <a:ext cx="1666800" cy="566640"/>
          </a:xfrm>
          <a:prstGeom prst="rect">
            <a:avLst/>
          </a:prstGeom>
          <a:solidFill>
            <a:srgbClr val="4747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08200" y="3838680"/>
            <a:ext cx="1666800" cy="566640"/>
          </a:xfrm>
          <a:prstGeom prst="rect">
            <a:avLst/>
          </a:prstGeom>
          <a:solidFill>
            <a:srgbClr val="6665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755720" y="1628640"/>
            <a:ext cx="1216080" cy="5666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55720" y="2771640"/>
            <a:ext cx="1216080" cy="566640"/>
          </a:xfrm>
          <a:prstGeom prst="rect">
            <a:avLst/>
          </a:prstGeom>
          <a:solidFill>
            <a:srgbClr val="4747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55720" y="3838680"/>
            <a:ext cx="1216080" cy="581040"/>
          </a:xfrm>
          <a:prstGeom prst="rect">
            <a:avLst/>
          </a:prstGeom>
          <a:solidFill>
            <a:srgbClr val="6665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63880" y="1866960"/>
            <a:ext cx="549360" cy="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73240" y="3033720"/>
            <a:ext cx="551160" cy="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4400" y="4097160"/>
            <a:ext cx="549360" cy="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rogressive Strate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631880" y="4778280"/>
            <a:ext cx="6669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 the progressive strategy, the functions are developed in the order in which they are executed.  This permits relatively simple testing and little scaffolding or special test facil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1400" y="1866960"/>
            <a:ext cx="549000" cy="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680" y="1571760"/>
            <a:ext cx="41904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dede96"/>
                </a:solidFill>
                <a:latin typeface="Times New Roman"/>
                <a:ea typeface="Times New Roman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81240" y="1901880"/>
            <a:ext cx="5842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dede96"/>
                </a:solidFill>
                <a:latin typeface="Times New Roman"/>
                <a:ea typeface="Times New Roman"/>
              </a:rPr>
              <a:t>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20760" y="3033720"/>
            <a:ext cx="550800" cy="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275440" y="3089160"/>
            <a:ext cx="5842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dede96"/>
                </a:solidFill>
                <a:latin typeface="Times New Roman"/>
                <a:ea typeface="Times New Roman"/>
              </a:rPr>
              <a:t>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31920" y="4097160"/>
            <a:ext cx="549360" cy="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66680" y="1341360"/>
            <a:ext cx="100332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ycl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680" y="2460600"/>
            <a:ext cx="100332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ycl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66680" y="3551400"/>
            <a:ext cx="100332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ycl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680" y="2739960"/>
            <a:ext cx="41904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dede96"/>
                </a:solidFill>
                <a:latin typeface="Times New Roman"/>
                <a:ea typeface="Times New Roman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66680" y="3798720"/>
            <a:ext cx="41904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dede96"/>
                </a:solidFill>
                <a:latin typeface="Times New Roman"/>
                <a:ea typeface="Times New Roman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34360" y="4114800"/>
            <a:ext cx="549000" cy="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500960" y="4162320"/>
            <a:ext cx="5842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dede96"/>
                </a:solidFill>
                <a:latin typeface="Times New Roman"/>
                <a:ea typeface="Times New Roman"/>
              </a:rPr>
              <a:t>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unctional Enhanc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98560" y="4889520"/>
            <a:ext cx="5897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ith functional enhancement, a base system must first be built and then enhanced.  The large size of the base system often requires a different strategy for its develop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57560" y="2428920"/>
            <a:ext cx="457200" cy="357120"/>
          </a:xfrm>
          <a:prstGeom prst="line">
            <a:avLst/>
          </a:prstGeom>
          <a:ln w="38160">
            <a:solidFill>
              <a:srgbClr val="dede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386320" y="2428920"/>
            <a:ext cx="486000" cy="299880"/>
          </a:xfrm>
          <a:prstGeom prst="line">
            <a:avLst/>
          </a:prstGeom>
          <a:ln w="38160">
            <a:solidFill>
              <a:srgbClr val="dede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400720" y="3429000"/>
            <a:ext cx="485640" cy="299880"/>
          </a:xfrm>
          <a:prstGeom prst="line">
            <a:avLst/>
          </a:prstGeom>
          <a:ln w="38160">
            <a:solidFill>
              <a:srgbClr val="dede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143160" y="3471840"/>
            <a:ext cx="500040" cy="271440"/>
          </a:xfrm>
          <a:prstGeom prst="line">
            <a:avLst/>
          </a:prstGeom>
          <a:ln w="38160">
            <a:solidFill>
              <a:srgbClr val="dede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917720" y="3728880"/>
            <a:ext cx="1747800" cy="934920"/>
          </a:xfrm>
          <a:prstGeom prst="rect">
            <a:avLst/>
          </a:prstGeom>
          <a:noFill/>
          <a:ln w="38160">
            <a:solidFill>
              <a:srgbClr val="302fb2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nhanc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270400" y="3728880"/>
            <a:ext cx="1747800" cy="934920"/>
          </a:xfrm>
          <a:prstGeom prst="rect">
            <a:avLst/>
          </a:prstGeom>
          <a:noFill/>
          <a:ln w="38160">
            <a:solidFill>
              <a:srgbClr val="302fb2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nhanc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270400" y="1519200"/>
            <a:ext cx="1747800" cy="934920"/>
          </a:xfrm>
          <a:prstGeom prst="rect">
            <a:avLst/>
          </a:prstGeom>
          <a:noFill/>
          <a:ln w="38160">
            <a:solidFill>
              <a:srgbClr val="302fb2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nhanc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414600" y="2514600"/>
            <a:ext cx="2200320" cy="11714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r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917720" y="1519200"/>
            <a:ext cx="1747800" cy="934920"/>
          </a:xfrm>
          <a:prstGeom prst="rect">
            <a:avLst/>
          </a:prstGeom>
          <a:noFill/>
          <a:ln w="38160">
            <a:solidFill>
              <a:srgbClr val="302fb2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nhanc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ast Path Enhanc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940280" y="1760400"/>
            <a:ext cx="312408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fast path enhancemen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high performance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s built first, debugged, and measured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hen its performance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uitable, functi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nhancements are ma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ach enhancement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sured to ensure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rformance is st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thin specific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146240" y="1812960"/>
            <a:ext cx="3438360" cy="3933720"/>
            <a:chOff x="1146240" y="1812960"/>
            <a:chExt cx="3438360" cy="3933720"/>
          </a:xfrm>
        </p:grpSpPr>
        <p:sp>
          <p:nvSpPr>
            <p:cNvPr id="178" name=""/>
            <p:cNvSpPr/>
            <p:nvPr/>
          </p:nvSpPr>
          <p:spPr>
            <a:xfrm>
              <a:off x="1146240" y="3575160"/>
              <a:ext cx="457200" cy="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846440" y="3060720"/>
              <a:ext cx="223560" cy="38592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60720" y="2603520"/>
              <a:ext cx="457200" cy="22860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822840" y="3760920"/>
              <a:ext cx="137880" cy="44280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2160720" y="4389480"/>
              <a:ext cx="514080" cy="20016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1289160" y="1812960"/>
              <a:ext cx="1057320" cy="44280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hanc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2354400" y="5303880"/>
              <a:ext cx="1057320" cy="44280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2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hanc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2379600" y="3267000"/>
              <a:ext cx="1057320" cy="442800"/>
            </a:xfrm>
            <a:prstGeom prst="rect">
              <a:avLst/>
            </a:prstGeom>
            <a:solidFill>
              <a:srgbClr val="6665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3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hanc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3527280" y="1812960"/>
              <a:ext cx="1057320" cy="442800"/>
            </a:xfrm>
            <a:prstGeom prst="rect">
              <a:avLst/>
            </a:prstGeom>
            <a:solidFill>
              <a:srgbClr val="8988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4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hanc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03240" y="2274840"/>
              <a:ext cx="0" cy="114300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60800" y="2260440"/>
              <a:ext cx="0" cy="124308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894040" y="2755800"/>
              <a:ext cx="4680" cy="49068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95480" y="4778280"/>
              <a:ext cx="0" cy="50004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217600" y="2603520"/>
              <a:ext cx="462240" cy="20016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46520" y="3060720"/>
              <a:ext cx="304920" cy="38088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108240" y="4432320"/>
              <a:ext cx="409680" cy="20016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1817640" y="3703680"/>
              <a:ext cx="252360" cy="57636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1650960" y="3432240"/>
              <a:ext cx="343080" cy="328680"/>
            </a:xfrm>
            <a:prstGeom prst="rect">
              <a:avLst/>
            </a:prstGeom>
            <a:solidFill>
              <a:srgbClr val="4747b2"/>
            </a:solidFill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1955880" y="2746440"/>
              <a:ext cx="343080" cy="32868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2717640" y="2441520"/>
              <a:ext cx="343080" cy="328680"/>
            </a:xfrm>
            <a:prstGeom prst="rect">
              <a:avLst/>
            </a:prstGeom>
            <a:solidFill>
              <a:srgbClr val="6665b2"/>
            </a:solidFill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479760" y="2746440"/>
              <a:ext cx="343080" cy="32868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3860640" y="3432240"/>
              <a:ext cx="343080" cy="328680"/>
            </a:xfrm>
            <a:prstGeom prst="rect">
              <a:avLst/>
            </a:prstGeom>
            <a:solidFill>
              <a:srgbClr val="8988b2"/>
            </a:solidFill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1955880" y="4118040"/>
              <a:ext cx="343080" cy="32868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2717640" y="4422600"/>
              <a:ext cx="343080" cy="328680"/>
            </a:xfrm>
            <a:prstGeom prst="rect">
              <a:avLst/>
            </a:prstGeom>
            <a:solidFill>
              <a:srgbClr val="4747b2"/>
            </a:solidFill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3479760" y="4118040"/>
              <a:ext cx="343080" cy="32868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Dummy Strate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52600" y="1638360"/>
            <a:ext cx="1743120" cy="1895400"/>
            <a:chOff x="2352600" y="1638360"/>
            <a:chExt cx="1743120" cy="1895400"/>
          </a:xfrm>
        </p:grpSpPr>
        <p:sp>
          <p:nvSpPr>
            <p:cNvPr id="205" name=""/>
            <p:cNvSpPr txBox="1"/>
            <p:nvPr/>
          </p:nvSpPr>
          <p:spPr>
            <a:xfrm>
              <a:off x="3271680" y="2676600"/>
              <a:ext cx="314280" cy="27144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3781440" y="2676600"/>
              <a:ext cx="314280" cy="27144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521080" y="2181240"/>
              <a:ext cx="757080" cy="101916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48080" y="2238480"/>
              <a:ext cx="0" cy="42840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27360" y="2195640"/>
              <a:ext cx="285840" cy="50004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3033720" y="1638360"/>
              <a:ext cx="843120" cy="600120"/>
            </a:xfrm>
            <a:prstGeom prst="rect">
              <a:avLst/>
            </a:prstGeom>
            <a:noFill/>
            <a:ln w="381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2352600" y="3147840"/>
              <a:ext cx="743040" cy="38592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 txBox="1"/>
          <p:nvPr/>
        </p:nvSpPr>
        <p:spPr>
          <a:xfrm>
            <a:off x="1066680" y="4387680"/>
            <a:ext cx="5257800" cy="15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th the dummy strategy, a core system is first built with dummy code substituted for all or most of the system’s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se dummies are then gradually replaced with the full functions as they are develop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66680" y="1638360"/>
            <a:ext cx="1354320" cy="1314360"/>
            <a:chOff x="1066680" y="1638360"/>
            <a:chExt cx="1354320" cy="1314360"/>
          </a:xfrm>
        </p:grpSpPr>
        <p:sp>
          <p:nvSpPr>
            <p:cNvPr id="214" name=""/>
            <p:cNvSpPr txBox="1"/>
            <p:nvPr/>
          </p:nvSpPr>
          <p:spPr>
            <a:xfrm>
              <a:off x="1066680" y="2681280"/>
              <a:ext cx="314280" cy="27144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1596960" y="2676600"/>
              <a:ext cx="314280" cy="27144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2106720" y="2676600"/>
              <a:ext cx="314280" cy="27144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231920" y="2181240"/>
              <a:ext cx="371520" cy="50004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73360" y="2238480"/>
              <a:ext cx="0" cy="42840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52640" y="2195640"/>
              <a:ext cx="285840" cy="50004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1359000" y="1638360"/>
              <a:ext cx="843120" cy="600120"/>
            </a:xfrm>
            <a:prstGeom prst="rect">
              <a:avLst/>
            </a:prstGeom>
            <a:noFill/>
            <a:ln w="381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029120" y="1638360"/>
            <a:ext cx="1743120" cy="2357640"/>
            <a:chOff x="4029120" y="1638360"/>
            <a:chExt cx="1743120" cy="2357640"/>
          </a:xfrm>
        </p:grpSpPr>
        <p:sp>
          <p:nvSpPr>
            <p:cNvPr id="222" name=""/>
            <p:cNvSpPr/>
            <p:nvPr/>
          </p:nvSpPr>
          <p:spPr>
            <a:xfrm>
              <a:off x="5135400" y="2244600"/>
              <a:ext cx="0" cy="138600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4738680" y="3610080"/>
              <a:ext cx="743040" cy="385920"/>
            </a:xfrm>
            <a:prstGeom prst="rect">
              <a:avLst/>
            </a:prstGeom>
            <a:solidFill>
              <a:srgbClr val="6665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197240" y="2181240"/>
              <a:ext cx="757440" cy="101916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03880" y="2195640"/>
              <a:ext cx="285840" cy="50004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4710240" y="1638360"/>
              <a:ext cx="843120" cy="600120"/>
            </a:xfrm>
            <a:prstGeom prst="rect">
              <a:avLst/>
            </a:prstGeom>
            <a:noFill/>
            <a:ln w="381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4029120" y="3147840"/>
              <a:ext cx="743040" cy="38592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5457960" y="2676600"/>
              <a:ext cx="314280" cy="27144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781600" y="1638360"/>
            <a:ext cx="2200320" cy="2814840"/>
            <a:chOff x="5781600" y="1638360"/>
            <a:chExt cx="2200320" cy="2814840"/>
          </a:xfrm>
        </p:grpSpPr>
        <p:sp>
          <p:nvSpPr>
            <p:cNvPr id="230" name=""/>
            <p:cNvSpPr txBox="1"/>
            <p:nvPr/>
          </p:nvSpPr>
          <p:spPr>
            <a:xfrm>
              <a:off x="7238880" y="4067280"/>
              <a:ext cx="743040" cy="385920"/>
            </a:xfrm>
            <a:prstGeom prst="rect">
              <a:avLst/>
            </a:prstGeom>
            <a:solidFill>
              <a:srgbClr val="8988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88240" y="2244600"/>
              <a:ext cx="0" cy="138600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6491160" y="3610080"/>
              <a:ext cx="743040" cy="385920"/>
            </a:xfrm>
            <a:prstGeom prst="rect">
              <a:avLst/>
            </a:prstGeom>
            <a:solidFill>
              <a:srgbClr val="6665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950080" y="2181240"/>
              <a:ext cx="757080" cy="101916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56360" y="2195640"/>
              <a:ext cx="563760" cy="184284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6462720" y="1638360"/>
              <a:ext cx="843120" cy="600120"/>
            </a:xfrm>
            <a:prstGeom prst="rect">
              <a:avLst/>
            </a:prstGeom>
            <a:noFill/>
            <a:ln w="381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5781600" y="3147840"/>
              <a:ext cx="743040" cy="38592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yclic PSP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yclic PSP provides a framework for using a cyclic development strategy to develop modest sized program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a larger process that contains multiple PSP2.1-like cyclic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requirements, planning, and postmortem steps are done once for the total pro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2311560" y="1473120"/>
            <a:ext cx="1600200" cy="3886200"/>
            <a:chOff x="2311560" y="1473120"/>
            <a:chExt cx="1600200" cy="3886200"/>
          </a:xfrm>
        </p:grpSpPr>
        <p:sp>
          <p:nvSpPr>
            <p:cNvPr id="240" name=""/>
            <p:cNvSpPr txBox="1"/>
            <p:nvPr/>
          </p:nvSpPr>
          <p:spPr>
            <a:xfrm>
              <a:off x="2311560" y="2158920"/>
              <a:ext cx="1600200" cy="45720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High-lev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ig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2311560" y="1473120"/>
              <a:ext cx="1600200" cy="45720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quiremen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&amp; Plann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2311560" y="2844720"/>
              <a:ext cx="1600200" cy="45720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HL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vie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2311560" y="4902120"/>
              <a:ext cx="1600200" cy="45720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g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stem te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2311560" y="4216320"/>
              <a:ext cx="1600200" cy="45720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st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r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2311560" y="3530520"/>
              <a:ext cx="1600200" cy="45720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ycli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velop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65400" y="1938240"/>
              <a:ext cx="7920" cy="22068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65400" y="2624040"/>
              <a:ext cx="7920" cy="22068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65400" y="3309840"/>
              <a:ext cx="7920" cy="22068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65400" y="3995640"/>
              <a:ext cx="7920" cy="22068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65400" y="4681440"/>
              <a:ext cx="7920" cy="22068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yclic PSP 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14520" y="1824120"/>
            <a:ext cx="66996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514520" y="5173560"/>
            <a:ext cx="7030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962520" y="4419720"/>
            <a:ext cx="11430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886200" y="1465200"/>
            <a:ext cx="1227240" cy="2040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23800" y="3361680"/>
            <a:ext cx="948960" cy="2709360"/>
          </a:xfrm>
          <a:custGeom>
            <a:avLst/>
            <a:gdLst/>
            <a:ahLst/>
            <a:rect l="0" t="0" r="r" b="b"/>
            <a:pathLst>
              <a:path fill="none" w="2636" h="7526">
                <a:moveTo>
                  <a:pt x="0" y="7526"/>
                </a:moveTo>
                <a:lnTo>
                  <a:pt x="0" y="7526"/>
                </a:lnTo>
                <a:cubicBezTo>
                  <a:pt x="463" y="7526"/>
                  <a:pt x="917" y="7178"/>
                  <a:pt x="1318" y="6518"/>
                </a:cubicBezTo>
                <a:cubicBezTo>
                  <a:pt x="1719" y="5857"/>
                  <a:pt x="2051" y="4907"/>
                  <a:pt x="2283" y="3763"/>
                </a:cubicBezTo>
                <a:cubicBezTo>
                  <a:pt x="2514" y="2619"/>
                  <a:pt x="2636" y="1321"/>
                  <a:pt x="2636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23800" y="1531800"/>
            <a:ext cx="948960" cy="1829160"/>
          </a:xfrm>
          <a:custGeom>
            <a:avLst/>
            <a:gdLst/>
            <a:ahLst/>
            <a:rect l="0" t="0" r="r" b="b"/>
            <a:pathLst>
              <a:path fill="none" w="2636" h="5081">
                <a:moveTo>
                  <a:pt x="2636" y="5081"/>
                </a:moveTo>
                <a:lnTo>
                  <a:pt x="2636" y="5081"/>
                </a:lnTo>
                <a:lnTo>
                  <a:pt x="2636" y="5081"/>
                </a:lnTo>
                <a:cubicBezTo>
                  <a:pt x="2636" y="4189"/>
                  <a:pt x="2514" y="3313"/>
                  <a:pt x="2283" y="2540"/>
                </a:cubicBezTo>
                <a:cubicBezTo>
                  <a:pt x="2051" y="1768"/>
                  <a:pt x="1719" y="1127"/>
                  <a:pt x="1318" y="681"/>
                </a:cubicBezTo>
                <a:cubicBezTo>
                  <a:pt x="917" y="235"/>
                  <a:pt x="463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066680" y="1492200"/>
            <a:ext cx="119844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90440" y="4876920"/>
            <a:ext cx="74124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du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878280" y="2895480"/>
            <a:ext cx="1150920" cy="635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572000"/>
            <a:ext cx="1143000" cy="1066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37000" y="2548080"/>
            <a:ext cx="66600" cy="68400"/>
          </a:xfrm>
          <a:prstGeom prst="ellipse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37000" y="2819520"/>
            <a:ext cx="66600" cy="68400"/>
          </a:xfrm>
          <a:prstGeom prst="ellipse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00560" y="5529240"/>
            <a:ext cx="68400" cy="66600"/>
          </a:xfrm>
          <a:prstGeom prst="ellipse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5867280"/>
            <a:ext cx="68400" cy="68400"/>
          </a:xfrm>
          <a:prstGeom prst="ellipse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130720" y="1473120"/>
            <a:ext cx="1600200" cy="4572000"/>
            <a:chOff x="5130720" y="1473120"/>
            <a:chExt cx="1600200" cy="4572000"/>
          </a:xfrm>
        </p:grpSpPr>
        <p:sp>
          <p:nvSpPr>
            <p:cNvPr id="267" name=""/>
            <p:cNvSpPr txBox="1"/>
            <p:nvPr/>
          </p:nvSpPr>
          <p:spPr>
            <a:xfrm>
              <a:off x="5130720" y="2158920"/>
              <a:ext cx="1600200" cy="45720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tailed Design &amp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ign Revie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5130720" y="1473120"/>
              <a:ext cx="1600200" cy="45720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ecif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yc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5130720" y="2844720"/>
              <a:ext cx="1600200" cy="45720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st Develop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d Revie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5130720" y="4902120"/>
              <a:ext cx="1600200" cy="45720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5130720" y="4216320"/>
              <a:ext cx="1600200" cy="45720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pi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5130720" y="3530520"/>
              <a:ext cx="1600200" cy="45720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ement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d Code Revie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5130720" y="5587920"/>
              <a:ext cx="1600200" cy="457200"/>
            </a:xfrm>
            <a:prstGeom prst="rect">
              <a:avLst/>
            </a:prstGeom>
            <a:solidFill>
              <a:srgbClr val="302fb2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asses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d Recyc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4920" y="1938240"/>
              <a:ext cx="7920" cy="22068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84920" y="2624040"/>
              <a:ext cx="7920" cy="22068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84920" y="3309840"/>
              <a:ext cx="7920" cy="22068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84920" y="3995640"/>
              <a:ext cx="7920" cy="22068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84920" y="4681440"/>
              <a:ext cx="7920" cy="22068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84920" y="5367240"/>
              <a:ext cx="7920" cy="220680"/>
            </a:xfrm>
            <a:prstGeom prst="line">
              <a:avLst/>
            </a:prstGeom>
            <a:ln w="2556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yclic PSP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-level design partitions the program into smaller elements and establishes the development strate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cess ends with integration and system test, followed by the postmor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velopment strategy determines the cyclic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ement 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esting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may eliminate the need for final integration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Team Software Proces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further increase project scale, a team development process is typically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identifies the key project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lates them to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es entry and exit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igns team member r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es team 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es team goals and quality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alability Princi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alability requires that the elements of larger projects behave like small pro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duct design must thus divide the project into separably developed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requires that the development process consider the scale of projects that individuals can efficiently develo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Team Software Proces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eam process also provides a framework within which the individual PSPs can relate,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s the team-PSP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es standards and 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cifies where inspections are to b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es planning and reporting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ven with the PSP, you should attempt to get team support with insp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itially consider using design inspections to improve PSP yie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Inspection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pections are the most cost-effective technique known for improving software quality and reducing development time and co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pections help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tivate bette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sure effective team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ntain a dedication to excel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Inspection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objectives of inspections ar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nd errors at the earliest possible poin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sure that all parties agree on th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ify that the work meets defined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mally complete a 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pections can be used for any software product element, for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quirements, specifications, design,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mate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Inspection Proces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pections follow a formally structured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lists and standards are developed for each inspection ty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inspection is conducted by technical people for technical people.  Managers do not att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Inspection Proces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400040" y="2685960"/>
            <a:ext cx="1014480" cy="528480"/>
          </a:xfrm>
          <a:prstGeom prst="rect">
            <a:avLst/>
          </a:prstGeom>
          <a:solidFill>
            <a:srgbClr val="004e47"/>
          </a:solidFill>
          <a:ln w="25560">
            <a:solidFill>
              <a:srgbClr val="d0d22e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Plan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814480" y="2700360"/>
            <a:ext cx="1000080" cy="542880"/>
          </a:xfrm>
          <a:prstGeom prst="rect">
            <a:avLst/>
          </a:prstGeom>
          <a:solidFill>
            <a:srgbClr val="004e47"/>
          </a:solidFill>
          <a:ln w="25560">
            <a:solidFill>
              <a:srgbClr val="d0d22e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Brie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Mee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172040" y="2700360"/>
            <a:ext cx="1228680" cy="557280"/>
          </a:xfrm>
          <a:prstGeom prst="rect">
            <a:avLst/>
          </a:prstGeom>
          <a:solidFill>
            <a:srgbClr val="004e47"/>
          </a:solidFill>
          <a:ln w="25560">
            <a:solidFill>
              <a:srgbClr val="d0d22e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Prepa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672160" y="2700360"/>
            <a:ext cx="1143000" cy="542880"/>
          </a:xfrm>
          <a:prstGeom prst="rect">
            <a:avLst/>
          </a:prstGeom>
          <a:solidFill>
            <a:srgbClr val="004e47"/>
          </a:solidFill>
          <a:ln w="25560">
            <a:solidFill>
              <a:srgbClr val="d0d22e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Insp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Mee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101000" y="2700360"/>
            <a:ext cx="928800" cy="557280"/>
          </a:xfrm>
          <a:prstGeom prst="rect">
            <a:avLst/>
          </a:prstGeom>
          <a:solidFill>
            <a:srgbClr val="004e47"/>
          </a:solidFill>
          <a:ln w="25560">
            <a:solidFill>
              <a:srgbClr val="d0d22e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Follow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293840" y="3460680"/>
            <a:ext cx="11779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Mana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Produc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Mode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708280" y="3475080"/>
            <a:ext cx="118908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Mode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Produc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Review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165560" y="3489480"/>
            <a:ext cx="1189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Review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622840" y="3475080"/>
            <a:ext cx="118908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Mode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Recor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Produc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Review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7051680" y="3475080"/>
            <a:ext cx="1177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Mode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Produc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14520" y="2971800"/>
            <a:ext cx="385920" cy="14400"/>
          </a:xfrm>
          <a:prstGeom prst="line">
            <a:avLst/>
          </a:prstGeom>
          <a:ln w="25560">
            <a:solidFill>
              <a:srgbClr val="d0d22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28960" y="2986200"/>
            <a:ext cx="357120" cy="0"/>
          </a:xfrm>
          <a:prstGeom prst="line">
            <a:avLst/>
          </a:prstGeom>
          <a:ln w="25560">
            <a:solidFill>
              <a:srgbClr val="d0d22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00720" y="2986200"/>
            <a:ext cx="285840" cy="0"/>
          </a:xfrm>
          <a:prstGeom prst="line">
            <a:avLst/>
          </a:prstGeom>
          <a:ln w="25560">
            <a:solidFill>
              <a:srgbClr val="d0d22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29560" y="3000240"/>
            <a:ext cx="271440" cy="0"/>
          </a:xfrm>
          <a:prstGeom prst="line">
            <a:avLst/>
          </a:prstGeom>
          <a:ln w="25560">
            <a:solidFill>
              <a:srgbClr val="d0d22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Inspection Process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viewers prepare in adv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inspection meeting focuses on identifying problems, not on resolving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pection data are gathered and entered into an inspection database for tracking and analy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Inspection Role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moder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ads the inspec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ntains a focus on problem identification rather than problem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sures that the identified problems are resol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mits the inspection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ducer (the developer who did the w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s the review materi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swers ques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lves the identified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Inspection Role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view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tend the inspection kick-off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 the work in ad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tend the inspection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ise issues and questions about identified defects or other conc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cord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s the identified issues and notes the person responsible for resolving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ords all relevan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ssignment #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Chapter 11 in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PSP3, develop program 10A to calculate 3-parameter multiple-regression factors and prediction intervals from a data set.  Use program 5A to calculate the t distribution.  Three periods are allowed for this assig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and follow the program specifications in Appendix D and the process description and report specifications in Appendix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ultiple Regression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ose you had the following data on 6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 hours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, reused, and modified LOC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ose you wished to estimate the hours for a new project you judged would have 650 LOC of new code, 3,000 LOC reused code, and 155 LOC of modified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would you estimate the development hours and the prediction interv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alability S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can view software systems as divided into five scalability st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se scalability stage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ge 0 - simple rout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ge 1 -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ge 2 - the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ge 3 - th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ge 4 - the multi-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ultiple Regression - 2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#        New       Reuse     Modified     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             x                y                 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                 1,142    1,060            325              2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                   863       995              98                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                 1,065    3,205              23              1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                    554       120                0                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                    983    2,896            120              1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                    256       485              88                6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m           4,863     8,761           654              7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e       650     3,000           155            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143000" y="4419720"/>
            <a:ext cx="7010280" cy="1600200"/>
          </a:xfrm>
          <a:prstGeom prst="rect">
            <a:avLst/>
          </a:prstGeom>
          <a:solidFill>
            <a:srgbClr val="dede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ultiple Regression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ltiple regression provides a way to estimate the effects of multiple variables when you do not have separate data for ea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You would use the following multip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gression formula to calculate the estima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347840" y="4567320"/>
            <a:ext cx="61246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43000" y="2362320"/>
            <a:ext cx="7010280" cy="3733920"/>
          </a:xfrm>
          <a:prstGeom prst="rect">
            <a:avLst/>
          </a:prstGeom>
          <a:solidFill>
            <a:srgbClr val="dede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ultiple Regression -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You find the Beta parameters by solving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llowing simultaneous linear equ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15880" y="2473200"/>
            <a:ext cx="6521400" cy="1692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382760" y="4344840"/>
            <a:ext cx="6603840" cy="7333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1424160" y="5261040"/>
            <a:ext cx="650700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43000" y="3048120"/>
            <a:ext cx="7010280" cy="3048120"/>
          </a:xfrm>
          <a:prstGeom prst="rect">
            <a:avLst/>
          </a:prstGeom>
          <a:solidFill>
            <a:srgbClr val="dede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ultiple Regression -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When you calculate the values of the term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get the following simultaneous line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417680" y="3467160"/>
            <a:ext cx="667224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143000" y="3657600"/>
            <a:ext cx="7010280" cy="2438280"/>
          </a:xfrm>
          <a:prstGeom prst="rect">
            <a:avLst/>
          </a:prstGeom>
          <a:solidFill>
            <a:srgbClr val="dede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ultiple Regression -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.  Then you diagonalize using Gauss’ metho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successively eliminates one parame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 a time from the equations by success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ltiplication and subtraction to g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501920" y="3894120"/>
            <a:ext cx="65469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3000" y="2362320"/>
            <a:ext cx="7010280" cy="3733920"/>
          </a:xfrm>
          <a:prstGeom prst="rect">
            <a:avLst/>
          </a:prstGeom>
          <a:solidFill>
            <a:srgbClr val="dede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ultiple Regression -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.  Then you solve for the Beta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494160" y="3027240"/>
            <a:ext cx="18954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43000" y="2438280"/>
            <a:ext cx="7010280" cy="1600200"/>
          </a:xfrm>
          <a:prstGeom prst="rect">
            <a:avLst/>
          </a:prstGeom>
          <a:solidFill>
            <a:srgbClr val="dede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43000" y="4724280"/>
            <a:ext cx="7010280" cy="1295280"/>
          </a:xfrm>
          <a:prstGeom prst="rect">
            <a:avLst/>
          </a:prstGeom>
          <a:solidFill>
            <a:srgbClr val="dede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ultiple Regression -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.  Determine the prediction interval by 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the range with the following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 -  Calculate the variance as fol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195560" y="2589120"/>
            <a:ext cx="6797520" cy="11271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274760" y="4886280"/>
            <a:ext cx="58150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43000" y="1981080"/>
            <a:ext cx="7010280" cy="762120"/>
          </a:xfrm>
          <a:prstGeom prst="rect">
            <a:avLst/>
          </a:prstGeom>
          <a:solidFill>
            <a:srgbClr val="dede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ultiple Regression -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8.  The variance evaluates to the follow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.  The terms under the square root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389320" y="2092320"/>
            <a:ext cx="4414680" cy="6112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143000" y="3352680"/>
            <a:ext cx="7010280" cy="2438280"/>
          </a:xfrm>
          <a:prstGeom prst="rect">
            <a:avLst/>
          </a:prstGeom>
          <a:solidFill>
            <a:srgbClr val="dede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305000" y="3666960"/>
            <a:ext cx="66168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ultiple Regression -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.  The value of the t distribution for a 7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diction interval, n=6, and p=4 is f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 the 85% column and two degrees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eedom in Table A2.  It is 1.38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1.  The square root is then evaluated 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l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66680" y="4724280"/>
            <a:ext cx="7010280" cy="990720"/>
          </a:xfrm>
          <a:prstGeom prst="rect">
            <a:avLst/>
          </a:prstGeom>
          <a:solidFill>
            <a:srgbClr val="dede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233360" y="4900680"/>
            <a:ext cx="68119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ultiple Regression - 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2.  The final estimate is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z = 6.71+0.0784*650+0.0150*3,000+0.2461*1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 140.902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3.  The prediction interval of 38.846 hou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ns the estimate is from 102.1 to 179.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alability Stage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ge 0 is the basic construct level.  It concerns the construction of loops, case statement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ge 0 is the principal focus of initial programming cour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 stage 0, you consciously design each programming constru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your thinking is preoccupied with these details, it is hard to visualize larger constru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046160" y="71280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ssages to Remember from Lecture 11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Scalable software processes prov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ortant productivity and planning benef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Scalability requires that the process b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d, well managed, and of high q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046160" y="71280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ssages to Remember from Lecture 11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The PSP focus on yield management hel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achieve scalabi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.  The use of abstractions, architectures,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use will also help make a process scal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alability Stag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ge 1 concerns small programs of up to several hundred LO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vement from stage 0 to stage 1 naturally occurs with language fluency.  You now think of small programs as entities without consciously designing their detailed constru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 you gain experience at stage 1, you build a vocabulary of small program functions which you understand and can use with confi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alability Stag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ge 2 is the component level.  Here, multiple programs combine to provide sophisticated functions.  Stage 2 components are typically several thousand LO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move from stage 1 to stage 2 comes with increased experience.  You can now conceive of larger programs than you can possibly build alon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 stage 2, system issues begin to appear: quality, performance, usability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alability Stag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ge 3 systems may be as large as several million LOC.  Here, system issues predomin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omponents must work togeth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omponent parts must all be high qua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move from stage 2 to stage 3 invol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ndling program complex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standing system and application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king in a team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 stage 3, the principal emphasis must be on program q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