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07960" y="6245280"/>
            <a:ext cx="811692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7000"/>
              </a:lnSpc>
              <a:tabLst>
                <a:tab algn="ctr" pos="4138560"/>
                <a:tab algn="r" pos="8001000"/>
              </a:tabLst>
            </a:pP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Copyright  © 1994 Carnegie Mellon University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Disciplined Software Engineering - Lecture 3   </a:t>
            </a:r>
            <a:fld id="{10131894-3CFC-438A-ACDE-FFAD5F8782ED}" type="slidenum"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7960" y="380880"/>
            <a:ext cx="8109000" cy="60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01600" y="858960"/>
            <a:ext cx="68644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95320" y="704880"/>
            <a:ext cx="72896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92840" y="3797280"/>
            <a:ext cx="3205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43000" y="793800"/>
            <a:ext cx="6726240" cy="25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isciplined Software </a:t>
            </a:r>
            <a:br>
              <a:rPr sz="4800"/>
            </a:br>
            <a:r>
              <a:rPr b="1" lang="en-US" sz="48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ngineering </a:t>
            </a:r>
            <a:br>
              <a:rPr sz="4800"/>
            </a:b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ecture #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43000" y="3498840"/>
            <a:ext cx="6227640" cy="23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ittsburgh, PA 152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onsored by the U.S. Department of Def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754280" y="1693800"/>
            <a:ext cx="6083280" cy="3927600"/>
            <a:chOff x="1754280" y="1693800"/>
            <a:chExt cx="6083280" cy="3927600"/>
          </a:xfrm>
        </p:grpSpPr>
        <p:sp>
          <p:nvSpPr>
            <p:cNvPr id="60" name=""/>
            <p:cNvSpPr txBox="1"/>
            <p:nvPr/>
          </p:nvSpPr>
          <p:spPr>
            <a:xfrm>
              <a:off x="2766960" y="1693800"/>
              <a:ext cx="1287360" cy="541440"/>
            </a:xfrm>
            <a:prstGeom prst="rect">
              <a:avLst/>
            </a:prstGeom>
            <a:noFill/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fi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quiremen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2766960" y="2370240"/>
              <a:ext cx="1287360" cy="682920"/>
            </a:xfrm>
            <a:prstGeom prst="rect">
              <a:avLst/>
            </a:prstGeom>
            <a:noFill/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du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u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ig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2766960" y="3116160"/>
              <a:ext cx="1287360" cy="541440"/>
            </a:xfrm>
            <a:prstGeom prst="rect">
              <a:avLst/>
            </a:prstGeom>
            <a:noFill/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im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iz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2766960" y="3792600"/>
              <a:ext cx="1287360" cy="542880"/>
            </a:xfrm>
            <a:prstGeom prst="rect">
              <a:avLst/>
            </a:prstGeom>
            <a:noFill/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im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ourc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2766960" y="4470480"/>
              <a:ext cx="1287360" cy="474840"/>
            </a:xfrm>
            <a:prstGeom prst="rect">
              <a:avLst/>
            </a:prstGeom>
            <a:noFill/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du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du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2766960" y="5079960"/>
              <a:ext cx="1287360" cy="474840"/>
            </a:xfrm>
            <a:prstGeom prst="rect">
              <a:avLst/>
            </a:prstGeom>
            <a:noFill/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velo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du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4392720" y="5079960"/>
              <a:ext cx="1152360" cy="541440"/>
            </a:xfrm>
            <a:prstGeom prst="rect">
              <a:avLst/>
            </a:prstGeom>
            <a:noFill/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ize, Resour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du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6018120" y="5079960"/>
              <a:ext cx="949320" cy="474840"/>
            </a:xfrm>
            <a:prstGeom prst="rect">
              <a:avLst/>
            </a:prstGeom>
            <a:noFill/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ces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nalys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4460760" y="4470480"/>
              <a:ext cx="1015920" cy="541440"/>
            </a:xfrm>
            <a:prstGeom prst="rect">
              <a:avLst/>
            </a:prstGeom>
            <a:noFill/>
            <a:ln w="25560">
              <a:solidFill>
                <a:srgbClr val="004e4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ourc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vailab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4460760" y="3792600"/>
              <a:ext cx="1015920" cy="609480"/>
            </a:xfrm>
            <a:prstGeom prst="rect">
              <a:avLst/>
            </a:prstGeom>
            <a:noFill/>
            <a:ln w="25560">
              <a:solidFill>
                <a:srgbClr val="004e4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ductiv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tabas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4392720" y="3116160"/>
              <a:ext cx="1084320" cy="609480"/>
            </a:xfrm>
            <a:prstGeom prst="rect">
              <a:avLst/>
            </a:prstGeom>
            <a:noFill/>
            <a:ln w="25560">
              <a:solidFill>
                <a:srgbClr val="004e4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iz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tabas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62040" y="1943280"/>
              <a:ext cx="27180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44840" y="2235240"/>
              <a:ext cx="0" cy="13500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54320" y="5351400"/>
              <a:ext cx="33840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45080" y="5351400"/>
              <a:ext cx="47304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92960" y="3386160"/>
              <a:ext cx="0" cy="169380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477040" y="3386160"/>
              <a:ext cx="101592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5477040" y="4132440"/>
              <a:ext cx="101592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4054320" y="3386160"/>
              <a:ext cx="33840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986280" y="4132440"/>
              <a:ext cx="47448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4054320" y="4741920"/>
              <a:ext cx="40644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44840" y="2979720"/>
              <a:ext cx="0" cy="13644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44840" y="3657600"/>
              <a:ext cx="0" cy="13500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444840" y="4335480"/>
              <a:ext cx="0" cy="13500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44840" y="4944960"/>
              <a:ext cx="0" cy="13500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2479680" y="5316480"/>
              <a:ext cx="25416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1754280" y="4716360"/>
              <a:ext cx="758880" cy="447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du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live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7037280" y="4782960"/>
              <a:ext cx="800280" cy="447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ck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por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77040" y="4741920"/>
              <a:ext cx="60948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67440" y="5334120"/>
              <a:ext cx="37152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Size Estimating Frame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stimating Approach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zzy lo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nction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ndard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lph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uzzy Logic Size Estimating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ather size data on previously developed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divide these data into size categor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y large, large, medium, small, very sm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 size ran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clude all existing and expected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divide each range into subcateg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uzzy Logic Size Estimating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ocate the available data to the categor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 subcategory size ran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estimating a new program, judge which category and subcategory it most closely resem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 Fuzzy Logic Example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have historical data on 5 programs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file utility of 1,844 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file management program of 5,834 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personnel record keeping program of 6,845 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report generating package of 18,386 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 inventory management program of 25,943 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 Fuzzy Logic Example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thus establish 5 size ranges, as foll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g(1844) = 3.26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g(25,943) = 4.4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ifference is 1.1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/4th this difference is 0.2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logs of the five ranges are thus spaced 0.287 ap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limits or these ranges are at 0.1435 above and below the midpoint of each 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 Fuzzy Logic Example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5 size ranges are th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y small - 1,325 to 2,566: file ut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mall - 2,566 to 4970: no me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dium - 4,970 to 9,626: file management and personnel record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rge - 9,626 to 18,641: report gene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y large - 18,641 to 36, 104: inventory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 Fuzzy Logic Example -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r new program has the following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alyze marketing performance by product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the likely sales in each product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ocate these sales to marketing regions and time peri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e a monthly report of these projections and the actual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 Fuzzy Logic Example -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comparing the new program to the historical data you make the following judg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is a substantially more complex application than either the file management or personnel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is not as complex as the inventory management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appears to have significantly more function than the report pack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conclude that the new program is in the lower end of “very large,” or from 18 to 25 KLO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uzzy Logic - 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make a fuzzy logic estim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 -  Divide the historical produce size data into size ran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-  Compare the planned product with these prior produ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 -  Based on this comparison, select the size that seems most appropriate for the new produ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46160" y="81432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ecture #3 Overview - Size  Estimating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30240" y="17082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y estimate siz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me estimating back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ze estimating princi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imating appro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imating prox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046160" y="8920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uzzy Logic Size Estimating - Advant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zzy logic estima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s based on relevant historical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s easy to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quires no special tools or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ides reasonably good estimates where new work is like prior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46160" y="8920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uzzy Logic Size Estimating - Disadvant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isadvantages of fuzzy logic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requires a lot of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estimators must be familiar with the historically developed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only provides a crude siz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is not useful for new program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is not useful for programs much larger or smaller than the historical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unction Point Estimating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function point is an arbitrary un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d on application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08080">
              <a:lnSpc>
                <a:spcPct val="90000"/>
              </a:lnSpc>
              <a:spcBef>
                <a:spcPts val="241"/>
              </a:spcBef>
              <a:buClr>
                <a:srgbClr val="d0d22e"/>
              </a:buClr>
              <a:buSzPct val="125000"/>
              <a:buFont typeface="Arial"/>
              <a:buChar char="-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puts, outputs, files, inquirie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aled by simple, average, complex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job complex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just a further +/- 35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unction Point Estimating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numbers of each function type in the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udge the scale and complexity of each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culate function point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historical data on development cost per function point to make the esti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ultiply function points times rate to get the esti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 Function Point Example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r new program has the following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alyze marketing performance by product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the likely sales in each product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ocate these sales to marketing regions and time peri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e a monthly report of these projections and the actual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 Function Point Example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first estimate the numbers of raw function points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puts: 12 x 4 = 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utputs: 7 x 5 = 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quiries: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gical files: 3 x 10 = 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rfaces: 2 x 7 = 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tal raw function points: 1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 Function Point Example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next adjust for influence facto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a communication: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-line data entry: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lex processing: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perational ease: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cilitate change: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tal influence factors: 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lexity multiplier = 0.65+21x0.01=0.8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 Function Point Example -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function point total is thus: 127x0.86=109.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ing historical data on hours per function point, calculate the development time for the proje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unction Point Advant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advantages of function points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are usable in the earliest requirements ph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are independent of programming language, product design, or development 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re exists a large body of historical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is a well documented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re is an active users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unction Point Disadvant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isadvantages of function points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cannot directly count an existing product’s function point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out historical data, it is difficult to improve estimating sk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nction points do not reflect language, design, or style dif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nction points are designed for estimating commercial data processing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Why Estimate Siz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make better p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better size the j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divide the job into separable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assist in tracking pro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n judge when job scop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n better measure th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alue in this 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arn estimating metho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estimating skil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tandard Component Sizing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 the principal product size leve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onents, modules, screen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typical sizes of each lev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a new produc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the component level at which   estimation is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imate how many of those components will     likely be in the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the maximum and minimum number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tandard Component Sizing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culate the size as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umber of components of each 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mes typical sizes of each 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tal to give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culate for the maximum, minimum, and likely numbers of compon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culate size 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{maximum+4*(likely)+minimum}/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046160" y="8920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tandard Component Sizing Example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30240" y="17859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r new program has the following requir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alyze marketing performance by product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the likely sales in each product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ocate these sales to marketing regions and time peri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e a monthly report of these projections and the actual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033560" y="8920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tandard Component Sizing - Example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have the following historical data on a number of standard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a input component: 1,108 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utput component: 675 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le component: 1,585 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rol component: 2,550 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utation component: 475 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046160" y="8920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tandard Component Sizing - Example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rst, estimate the maximum, minimum, and likely numbers of the components like these in the new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a input component: 1, 4,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utput component: 1, 3,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le component: 2, 4,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rol component: 1, 2,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utation component: 1, 3,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46160" y="8920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tandard Component Sizing - Example -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cond, calculate the minimum, likely, and maximum size of the product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a input component: 1108, 4432, 775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utput component: 675, 2025, 337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le component: 3170, 6340, 126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rol component: 2550, 5100, 76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utation component: 475, 1425, 33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116000" y="8920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tandard Component Sizing - Example -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30240" y="1811160"/>
            <a:ext cx="731376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rd, calculate the minimum, likely, and maximum LOC of the new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nimum: 7,97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kely: 13,6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ximum: 34,78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ize estimate is t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C = (7978+4*13616+34786)/6 = 16,205 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tandard deviation is (34786-7978)/6=44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estimate range is: 11,737 to 20,673 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46160" y="8920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tandard Component Sizing - Advantages and Disadvant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30240" y="1862280"/>
            <a:ext cx="731376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d on relevant historical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sy to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quires no special tools or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ides a rough estimate 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ust use large components early in a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mited data on large compon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lphi Size Estimat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s several estim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ch makes an independent esti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ch submits estimate to a coord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ord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culates average esti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ters on form: average, other estimates    (anonymous), and previous esti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reestimates stabil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verage is the esti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ange is range of original estim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lphi Example - 1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 estimators are asked to estimate the produ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ir initial estimates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-  13,800 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 -  15,700 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 -  21,000 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oordinator t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culates average estimate as 16,833 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turns this with their original estimates to the estim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stimating Backgr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imating models in other fi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rge base of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wide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nerate detailed planning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quire a size estimate as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ftware size estimating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00% + errors are n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ew developers make estim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ewer still use orderly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lphi Example - 2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estimators then meet and discuss the estimate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ir second estimates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-  18,500 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 -  19,500 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 -  20,000 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oordinator t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culates average estimate as 19,333 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ks the estimators if they agree with this as the esti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lphi Size Estimating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n produce very accurate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tilizes organization’s sk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n work for any sized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lies on a few expe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s time consu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s subject to common bi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ize Estimating Proxie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basic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ood size measures are detai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ly estimators rarely can think in detai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tern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ait to estimate until you have the detai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 your best gu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ntify a suitable prox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ize Estimating Proxie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good proxy should correlate closely to development co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good proxy would be easy to visualize early in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should also be a physical entity that can be cou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ample Prox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nction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reens, reports, scripts, 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ook chap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unction Points as Proxie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a show that function point counts correlate well with development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nction points can be visualized early in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use function points properly, trained estimators are requ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unction Points as Proxie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nction points cannot directly be cou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version factors are available for counting LOC and calculating function points from the LOC val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function point users group (IFPUG) is refining the function point meth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tandard Components as Prox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onent count correlation with development depends on the compon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lot of development data is requ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onent counts are hard to visualize early in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onents are machine cou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Objects as Proxie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rrelation with development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umbers of objects correlate reasonably w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 lines of code (LOC) correlate very clos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 LOC can be estimated using the standard component estimating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n calculate LOC estimate from historical relationship between object LOC and program 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Objects as Proxie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objects are selected as application entities, they can be visualized early in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nctions and procedures can often be estimated in the same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s, functions, procedures, and their LOC  can be automatically cou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ize Estimating Principle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imating is an uncertain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 one knows how big the product will 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earlier the estimate, the less is kn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imates can be biased by business and other pres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imating is an intuitive learning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bility improves with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me people will be better at estimating than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046160" y="8920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Object LOC Correlation With </a:t>
            </a:r>
            <a:br>
              <a:rPr sz="3600"/>
            </a:b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velopment Hou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12760" y="2336760"/>
            <a:ext cx="661356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ample Proxies - O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ssible candid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reens, reports, scripts, 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ook chap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the number of items correlates with development, you estimate the number of i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 a suitable proxy size measure, you can  often estimate proxy siz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Chapter Pages vs.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79640" y="1925640"/>
            <a:ext cx="627372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046160" y="8920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Next Lecture - Estimating </a:t>
            </a:r>
            <a:br>
              <a:rPr sz="3600"/>
            </a:b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oftware Size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OBE estimating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tistical estimating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size estimating 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imating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ssignment #3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chapter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ing PSP0.1, write program 3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unt object or function LOC in a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e the name, LOC count, and method count for each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e the total program LOC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may enhance program 2A to make program 3A (but keep a copy of 2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ssignment #3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program 3A to count programs 1A, 2A, and 3A and report the results in the test re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e a report on the defect fix times for programs 1A, 2A, and 3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fer to the program and assignment specifications in Appendices C and 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046160" y="8920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essages to Remember from Lecture 3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30240" y="17604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 -  Accurate size estimates will help you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 better development pl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-  Size estimating skill improves with pract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 -  A defined and measured process provides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peatable basis for improv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 -  There are several ways to make siz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im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imating is a sk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mprovement will be gra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may never get very g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objective, however, is to get consist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will then understand the variability of your estim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seek an even balance between under and over estim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ize Estimating Principle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9040" y="584280"/>
            <a:ext cx="768816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73280" y="655560"/>
            <a:ext cx="761688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incipal advantages of using a defined estimating method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have known practices that you can work to impr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provides a framework for gathering estimating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y using consistent methods and historical data, your estimates will get more consis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ize Estimating Principles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