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7   </a:t>
            </a:r>
            <a:fld id="{C81E4FE5-E031-4822-804C-EB22B9B8EF6D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Do Reviews? -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ason to eliminate defects as early as possible is 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review, inspection, compile, and test finds only a fraction of the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us, the cleaner the code entering a phase, the cleaner it will be on ex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ly defect removal saves time and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cost more to find and fix later in the developm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cost much more to find and fix after development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Reviews are Efficient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tart with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you must find the 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xt, you devise a 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lly, you implement and test the 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reviews and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see the de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you devise a 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lly, you implement and review the 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Reviews are Efficient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esting, it the system produces an unusual result, then you m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ct that it was un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gure out what the test program was do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 where it was in you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gure out what defect could cause such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are searching for the unplanned and unexp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can take a lo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Reviews are Efficient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reviews and insp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follow your ow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you find a defect, you know exactly where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know what the program should do and did not 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thus know why this is a de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are therefore in a better position to devise a  complete and effective f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Review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objective is to produce the highest possible program quality at every process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 strategy to achieve this i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ther data on your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y thes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cide what works best for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 your process according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a continuous learning process using data on your ow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 reviews follow a disciplined proces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ry and exi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view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uidelines, checklists,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uggested PSP review goal is to find every defect before the first compile or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ddress this goal, you 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coding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design completeness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and improve your revi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Review Princip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designs that can be review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an explicit review strate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the design in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ify that the logic correctly implements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duce Designs that can be Revie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viewable design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defined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recise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nsistent and clear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suggest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’s purpose and function be explicitly st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have criteria for design complet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is structured in logic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Follow a Review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 strategy specifies the order in which you review the design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depends on the product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 strategy should thus be considered during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bjective should be to produce a design that can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ed i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ed i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ed i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the Design in 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reviewing in stages, you ensure that all selected topics are carefully checked.  Suggested review stag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check that all elements have been desig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verify overall program structure an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check the logical constructs for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check for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.  check the function, method, and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 to ensure prope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.  check special variables, parameters, typ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files for prope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89208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sign and Code Reviews -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7604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are design and code re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y should you do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Verify that the Logic Correctly Implements the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the requirements to ensure that each required function is addressed by the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carefully for oversights and omi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Meas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ze of the program being revie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view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umbers of defects 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umbers of defects not found: the esca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ive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yield: %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reviewed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per K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per review h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le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Yield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easure of process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ercent of defects in the product at review time that were found by th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s the effectiveness of a process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and code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verall process - prior to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08080">
              <a:lnSpc>
                <a:spcPct val="90000"/>
              </a:lnSpc>
              <a:spcBef>
                <a:spcPts val="241"/>
              </a:spcBef>
              <a:buClr>
                <a:srgbClr val="d0d22e"/>
              </a:buClr>
              <a:buSzPct val="125000"/>
              <a:buFont typeface="Arial"/>
              <a:buChar char="-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ment process - inclu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(for a phase or the entire process)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*(defects found)/(defects found + not fou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Yield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cannot be calculated until all defects have been found through test and product 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can be useful early in the process if all or most defects are coun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and code review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ile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t test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rocess data, control parameters can help to ensure high yield re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moval Leverage: D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L measures the relative effectiveness of a process step at removing de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L is the number of defects removed per hour by a process step relative to a base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sual base is unit 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L(X/UT) is the DRL for phase X with respect to unit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L is calculated as follows: DRL(X/UT) = (defects/hour phase X)/(defects/hour unit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ontrol your process, you need measures that are available while you are enacting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yield and DRL are very helpful, they are not available until after process compl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eed is for measure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relate with 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available at develop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otential Control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otential control parameters for yield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reviewed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found per KL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research has found the following correlations with 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/Hour: -0.63, with significance &gt; 0.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/Hour: 0.14, with significance of 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/KLOC: 0.47, with significance of 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none are good, LOC/Hour is b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6040" y="568440"/>
            <a:ext cx="76834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200" y="587520"/>
            <a:ext cx="77198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OC Reviewed per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ent data has considerable var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se examples show that structured reviews can be effective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follow a defined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use check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tailored to each engineer’s defect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e PSP, a suggested control target is to review no more than about 200 LOC per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at are Revie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view is a way to personally examine your ow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one of a family of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lkthroug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ll have the objective of finding and fixing product defects early in the developm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ing before or after comp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lationship of reviews and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heckli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performing precise tasks, it is difficult to do more than one thing well at a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hecklist defines the review steps in the order suggested for performing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checking off each item, you are more likely to perform it prope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 personal checklist that is customized to your defect exper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ing Before Compi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calls for code reviews before the first comp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ason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 time is about the same whether done before or after comp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reviews will find syntax defects that the compiler mi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reviews of compiled code tend to be much less 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piler is equally effective before or after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040" y="571680"/>
            <a:ext cx="7664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20" y="590400"/>
            <a:ext cx="762624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ing Before Compi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SP uses compile as a check on the quality of the re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oo many defects are found in compile, another review is called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compile is clean, it is likely that most of the defects have been 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ter you have completed the PSP exercises, you may wish to gather data on your reviews both before and after compile and see which are most effective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s and Inspe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focus of inspections should be to find those requirements and design problems that you have mi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programs have many simple defects, inspectors are distracted and often miss more important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ing the cod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s a quality product for the insp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ws respect for the inspectors’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higher quality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8 of the text and produce report R4.  Check Appendix D for the report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assignment calls for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a process for producing the R4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 a planning and postmortem phase in thi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 the R4 report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th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mit the report, the process, and the proces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30240" y="17478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and code reviews eff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 the quality of your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ve develop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do effective reviews, you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review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a disciplined revi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and improve your review qua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Insp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were introduced by Fagan at IBM in 197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follow a structur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e by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agers do not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participant has a defined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paration i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is to fin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are useful for requirements, designs, code, test cases, pla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alkthroug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lkthroughs typically follow a meeting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er leads the audience through th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dience may include peers, managers, or other interested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is to communicate or obtain   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preparation i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lkthroughs are most useful for requirements and system design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Revie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 person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fessional privately reviews his/he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is to find defects before the first compile an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s are most effective when structured and measu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ews can be used for requirements, designs,  an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Do Reviews? - 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show that it is much more efficient to find defects in reviews than i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unit test, typically only about 2 to 4 defects are found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reviews typically find about 10 defect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ienced reviewers can find 70% or more of the defects in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t test rarely exceeds a 50% 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 data show that reviews find 2 to 5 times as many defects per hour as unit 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5120" y="577800"/>
            <a:ext cx="7626240" cy="556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379680" y="1689120"/>
            <a:ext cx="9856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mp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22560" y="3274920"/>
            <a:ext cx="1449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de Re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1520" y="440388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Unit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y Do Reviews? - 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ter unit test, defect removal becomes much more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integration and system test it takes 10 to 40 programmer hours to find and fix each de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typically take less than an hour per de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inspection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’Neil: 80-90% yield at 25 minutes/de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ilips: 15 minutes/defect versus 8 hours i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