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 txBox="1"/>
          <p:nvPr/>
        </p:nvSpPr>
        <p:spPr>
          <a:xfrm>
            <a:off x="507960" y="6245280"/>
            <a:ext cx="8116920" cy="2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7000"/>
              </a:lnSpc>
              <a:tabLst>
                <a:tab algn="ctr" pos="4138560"/>
                <a:tab algn="r" pos="8001000"/>
              </a:tabLst>
            </a:pPr>
            <a:r>
              <a:rPr b="1" i="1" lang="en-US" sz="900" spc="-1" strike="noStrike">
                <a:solidFill>
                  <a:srgbClr val="919191"/>
                </a:solidFill>
                <a:latin typeface="Arial"/>
                <a:ea typeface="Arial"/>
              </a:rPr>
              <a:t>Copyright  © 1994 Carnegie Mellon University</a:t>
            </a:r>
            <a:r>
              <a:rPr b="1" i="1" lang="en-US" sz="900" spc="-1" strike="noStrike">
                <a:solidFill>
                  <a:srgbClr val="919191"/>
                </a:solidFill>
                <a:latin typeface="Arial"/>
                <a:ea typeface="Arial"/>
              </a:rPr>
              <a:t>	</a:t>
            </a:r>
            <a:r>
              <a:rPr b="1" i="1" lang="en-US" sz="900" spc="-1" strike="noStrike">
                <a:solidFill>
                  <a:srgbClr val="919191"/>
                </a:solidFill>
                <a:latin typeface="Arial"/>
                <a:ea typeface="Arial"/>
              </a:rPr>
              <a:t>	</a:t>
            </a:r>
            <a:r>
              <a:rPr b="1" i="1" lang="en-US" sz="900" spc="-1" strike="noStrike">
                <a:solidFill>
                  <a:srgbClr val="919191"/>
                </a:solidFill>
                <a:latin typeface="Arial"/>
                <a:ea typeface="Arial"/>
              </a:rPr>
              <a:t>Disciplined Software Engineering - Lecture 6   </a:t>
            </a:r>
            <a:fld id="{AC2FE047-BF26-4DEF-81AF-6C16A134CD6A}" type="slidenum">
              <a:rPr b="1" i="1" lang="en-US" sz="900" spc="-1" strike="noStrike">
                <a:solidFill>
                  <a:srgbClr val="919191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507960" y="380880"/>
            <a:ext cx="8109000" cy="60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101600" y="858960"/>
            <a:ext cx="6864480" cy="51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895320" y="704880"/>
            <a:ext cx="728964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992840" y="3797280"/>
            <a:ext cx="320508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1143000" y="793800"/>
            <a:ext cx="6726240" cy="25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48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Disciplined Software </a:t>
            </a:r>
            <a:br>
              <a:rPr sz="4800"/>
            </a:br>
            <a:r>
              <a:rPr b="1" lang="en-US" sz="48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Engineering </a:t>
            </a:r>
            <a:br>
              <a:rPr sz="4800"/>
            </a:b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Lecture #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1143000" y="3498840"/>
            <a:ext cx="6227640" cy="234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Software Engineering Institu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Carnegie Mellon Univers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ittsburgh, PA 1521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Sponsored by the U.S. Department of Defen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Measurement Questi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930240" y="15177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hat will it take to meet these goal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lan the actions requir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ho must take these action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o people need to be convinced to act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re data needed to convince them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how will these data be used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hat is needed to implement the action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hat data are required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how will these data be used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Measurement Metric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930240" y="15177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isely what data are needed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ine the data so others could gather th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stablish specific fields and forma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How will these data be gathered?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vide data gathering for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ine the data gathering proc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How will these data be retained and used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ine the specific calculations/analy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ork through some test ca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Making the Measuremen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930240" y="15177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You are now ready to start the data gathering proc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Fir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ommunicate the entire GQM frame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sure that the process is understoo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onduct a test if necessa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data gather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onitor data qua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vide feedbac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GQM for the PS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930240" y="15177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e PSP has the basic goal of assisting you in improving your personal perform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is suggests some likely personal goals 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nderstand your personal proces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termine steps to improve product qua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nderstand your personal productiv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stablish benchmarks for measuring improv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 better pla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Some General PSP Questi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930240" y="15177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How good is my proces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here can it be improved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hat is the most important improvement I should make now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hat are others doing that works better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How can I learn from them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How Good is my Process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930240" y="15177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e principal dimensions of process quality a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duct qua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dictabi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ductiv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ycle ti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ince improvement must start from the current process, the first step is to establish measures of current process qualit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You can then ask more informed questi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Measuring Process Quality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930240" y="15177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th building a basic understanding of your proc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hat do you do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how much time do you spend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how is this time distributed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how predictable is your work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how stable is your work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hat is the quality of the products you produc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e PSP addresses these issues by gathering basic process da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The PSP Measuremen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930240" y="15177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e basic PSP data a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gram siz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ime spent by pha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ects found and injected by pha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oth actual and estimated data are gathered on every i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e derived measures then establis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ata to support plan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easures of process quality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PSP Size Measur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930240" y="15177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e goals of the PSP size measures are 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ine a consistent size measur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stablish a basis for normalizing time and defect da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help make better size estima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e questions asked a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hat size program did I plan to develop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how good was my size estimat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hat was the complete size description of the finished program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PSP Time Measur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30240" y="15177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e goals of the PSP time measures are 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termine how much time you spend in each PSP phas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help you to make better time estima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e questions asked a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how much time did you spend by PSP phas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how much time did you plan to spend by PSP phas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Process Measurement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930240" y="15177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inciples of process measurement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e goal-question-metric (GQM) paradig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ic process measu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athering and using da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e process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PSP Defect Measur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930240" y="15177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e goals of the PSP defect measures are 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vide an historical baseline of defect da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nderstand the numbers and types of defects injec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nderstand the relative costs of removing  defects in each PSP pha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e questions asked a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how many defects did I make in each phas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how many defects did I inject in each phas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how much time did it take to find and fix each defect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PSP Derived Measures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930240" y="15177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e PSP1.1 derived measures a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o Date and To Date 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C/h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% Reuse and % New Reu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To Date and To Date %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930240" y="15177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o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vide a basis for projecting the time distribution of a new project based on the time distribution of previous proje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e questions a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how much time have I spent in each PSP phase for all projects to dat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hat is the % distribution of this tim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te - you may wish to restart these To Date data when your process chan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LOC/hou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930240" y="15177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oa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vide a convenient basis for comparing  plans with historical perform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vide a fall-back in case the regression method does not produce a reasonable resul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e questions a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how many LOC per hour have I produced on the most recent project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how many LOC per hour did I pla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hat has been my average LOC/hour on prior project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CP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930240" y="15177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o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lan and manage projects so they are generally completed at or near to the committed pl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e question 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hat is the ratio of the actual to the planned time for all my PSP projects to dat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% Reused and % New Reuse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930240" y="15177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oa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nderstand the degree to which previously developed code are reus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nderstand the degree to which new code are added to the reuse libra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e questions a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how much code was reused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how much was planned for reus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hat percent of new development contributed to the reuse library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hat are the percents to date for these data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Some Other Sources of Questi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930240" y="15177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Your peers and cowork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 manag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enior manag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Your Peers and Coworke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930240" y="15177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f my work depends on yours, will you be ready in tim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an you provide support in areas that I need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f I need your suppor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hen can you provide it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hat is the likely quality of this support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re you doing something that would help me to do a better job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Project Management Questi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930240" y="15177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hat is the project’s statu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How does this status compare with the pla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ll we meet the schedul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here are we in troubl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here are we ahead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General Management Questi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930240" y="15177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s productivity improving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here can we cut cost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hat can we do to reduce cycle time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how do we compare with competitio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s quality improving, by how much, and how does it compare to competitio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hat has changed since the last report and is it an improvement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Process Measurement Principl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930240" y="15177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o be useful, measurements should b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athered for a specific purpo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xplicitly defin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perly manag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perly use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easuring your process will not improve it.  You must make process changes to achieve lasting improvemen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Data Gathering Considerati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930240" y="15177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m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 personal process noteboo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Forms and templa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atabases and spreadshee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mmary project repor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Establishing a Process Baseline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30240" y="15177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re you getting better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you need an objective basis to tel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easuring alone will not cause improv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tistical vari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your performance will fluctu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mprovement is a statistical ques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olster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utch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Data Distributi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930240" y="15177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ata analysis requires knowledge of the distribution of the da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ere are many types of distribu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rmal, log-norm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oiss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hi-squar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udent’s 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e PSP analyses assume the data are normal or log-norm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The Normal Distribution - 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30240" y="15177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ften occurs in nat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heights or weights of peop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easurement erro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pert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mmetric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anges from minus to plus infin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e median equals the me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The Normal Distribution - 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930240" y="15177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 adding independent normal distribu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e mean of the sums = the sum of the mea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e variance of the sums = the sums of the varian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rror calcul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ndard deviation = square root of vari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bout 68% of values are within +/- 1 standard    deviation of the me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bout 95% are within 2 standard deviations of the me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930240" y="15177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chapter 7 of the tex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ing PSP1.1, write program 6A to calculate the 70% and 90% prediction intervals for your size and time estimates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alculate the 70% and 90% prediction intervals for your size and time estimates for program 6A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Follow the program, assignment, and process specifications in Appendices C and 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Assignment 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116000" y="2247840"/>
            <a:ext cx="6757920" cy="1663560"/>
          </a:xfrm>
          <a:prstGeom prst="rect">
            <a:avLst/>
          </a:prstGeom>
          <a:solidFill>
            <a:srgbClr val="dede96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Prediction Interval - 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930240" y="15177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e formula for calculating the prediction range 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x is your historical object size da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 is the number of members in 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 is the two-sided t distribution for n-2 degrees of freed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301760" y="2332080"/>
            <a:ext cx="6012000" cy="16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116000" y="2298600"/>
            <a:ext cx="6783480" cy="1778040"/>
          </a:xfrm>
          <a:prstGeom prst="rect">
            <a:avLst/>
          </a:prstGeom>
          <a:solidFill>
            <a:srgbClr val="dede96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Prediction Interval - 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930240" y="15177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e formulas for calculating the variance and standard deviation terms a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e upper and lower prediction interval values are th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PI = estimate + ran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PI = estimate - ran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651040" y="2400480"/>
            <a:ext cx="3962520" cy="16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Calculating the Value of t - 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930240" y="15177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o calculate the value of t, using program 5A, start with a known value of p and find the value of t that produces that p valu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 successive trial integrations from 0 to t until you obtain a proper p valu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for 70%, integrate to get 0.35 (0.85 - 0.5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for 90%, integrate to get 0.45 (0.95 - 0.5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ontinue iterating until the value is within an acceptable error, say 0.0001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Calculating the Value of t - 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930240" y="15177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ne way to make this calculation 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1.  start with a trial value of t, say 1.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2.  make an initial integral and test to see if i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ives the proper value of p, if not, continu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3.  if it is too low, add d = 1 to trial 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4.  if it is too high, subtract d = 0.5 from trial 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6.  integrate again and test if the result i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thin an acceptable error, if not continu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7.  if too low, subtract d/2 from trial 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8.  if too high, add d/2 to trial 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9.  repeat at 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Process Measurement Purpos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930240" y="15177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e measure for the following reas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o understand and manage chan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o predict or plan for the futur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o compare one product, process, or organization with anoth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o determine adherence to standar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o provide a basis for contro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Messages to Remember from Lecture 6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930240" y="15177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1.  To be useful, measures should b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lated to a go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ddress specific ques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e precisely defin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2.  The PSP provides examples of useful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cess measur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3.  Once you define your process and establish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oals, you can find many useful measur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Measurement Objectiv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930240" y="15177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easurements only produce numb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o be useful, they mu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late to business objectiv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e properly interpre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ead to appropriate actio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f the business purposes for the measurements are not understoo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e wrong data may be gather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e data may not be properly us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Types of Measurements - 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930240" y="15177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easurements may b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ive/subjectiv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bsolute/relativ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xplicit/derive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ynamic/static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dictive/explanatory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e generally seek objective, absolute, and explicit measu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ey may be dynamic or static, predictive or explanat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Types of Measurements - 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930240" y="15177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e seek useful relationships that correlate, for examp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gram size versus development hou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ost distribu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ect densit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e also seek controlling or predictive parameters, for examp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ctions to reduce test defe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eps to improve review qua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eans to improve productiv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1046160" y="892080"/>
            <a:ext cx="7311960" cy="91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The Goal-Question-Metric (GQM) Paradigm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930240" y="15177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e GQM paradigm establishes a framework for gathering and using dat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t starts with an explicit statement of data gathering goa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xt it defines the questions the data are to answer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nd then defines the data metric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Measurement Goal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930240" y="15177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hat are the goals for which data are required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ese may be personal, project, or busin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ey should be explici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e clear on whose goals these ar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yours, your project’s, your management’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ry to understand the goals at all these leve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lating your goals to other’s goals provid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 clearer context for the measure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ore likely support for your 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