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07960" y="6245280"/>
            <a:ext cx="811692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7000"/>
              </a:lnSpc>
              <a:tabLst>
                <a:tab algn="ctr" pos="4138560"/>
                <a:tab algn="r" pos="8001000"/>
              </a:tabLst>
            </a:pPr>
            <a:r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Copyright  © 1994 Carnegie Mellon University</a:t>
            </a:r>
            <a:r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	</a:t>
            </a:r>
            <a:r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	</a:t>
            </a:r>
            <a:r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Disciplined Software Engineering - Lecture 8   </a:t>
            </a:r>
            <a:fld id="{A80EBC68-7D34-4727-A73F-76BFEEB0BA2C}" type="slidenum"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07960" y="380880"/>
            <a:ext cx="8109000" cy="60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01600" y="858960"/>
            <a:ext cx="686448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95320" y="704880"/>
            <a:ext cx="72896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992840" y="3797280"/>
            <a:ext cx="3205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143000" y="793800"/>
            <a:ext cx="6726240" cy="25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Disciplined Software </a:t>
            </a:r>
            <a:br>
              <a:rPr sz="4800"/>
            </a:br>
            <a:r>
              <a:rPr b="1" lang="en-US" sz="48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Engineering </a:t>
            </a:r>
            <a:br>
              <a:rPr sz="4800"/>
            </a:b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Lecture #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143000" y="3498840"/>
            <a:ext cx="6227640" cy="234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oftware Engineering Institu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arnegie Mellon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ittsburgh, PA 152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ponsored by the U.S. Department of Defe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ests and Inspections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th inspections and a 50,000 LOC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spections take about 10 programmer hours per 250 LOC, or about 2,000 ho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is is 1 programmer y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done well, inspections can remove about 80% of the defec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is means, 250 defects would be left for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is would take about 2,500 ho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r a saving of 8,000 ho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r a saving of 4 programmer yea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ests and Inspections -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th the PS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de quality will be sharply impro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veral thousand hours could probably be sa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spection should still be d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inspection focus should be on de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rincipal advantages 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mproved product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more predictable sched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ime to focus on the important quality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ome Fix Time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me typical fix time rat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BM rules of thumb: coding - 1.5; testing - 60; usage -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oehm: design - 1; development test - 15 to 40; acceptance test - 30 to 70; operation - 40 to 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mus: design - 1, code - 20, test - 8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ckerman: test 2 - 10 times inspection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ussell: inspection - 1, test - 2 to 4, use - 3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SP research: unit test takes 12 times longer than code review to find and fix de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Cost of Quality (COQ)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Q is a way to measure process qual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Q has the following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ailure cos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raisal cos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vention cos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Cost of Quality (COQ)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ailure cos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pair, rework, and scr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 PSP, failure costs include all compile and test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raisal cos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sts of inspecting for de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 PSP, appraisal costs include all design and code review tim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Cost of Quality (COQ) -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vention cos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inding and resolving defect ca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nerally handled before projects st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hould typically be a process and not a project a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 the PSP, examples of prevention costs 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mal specification or design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totyp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cess analysis and impr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Cost of Quality (COQ) -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useful COQ measure is the ratio of appraisal to failure costs (A/FR).  This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00*(appraisal COQ)/(failure COQ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/FR exper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A/FR measure is not widely 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measured, most software organizations would be near z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 the PSP, A/FR should exceed 2.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gh A/FR is associated with low numbers of test defects and high product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Quality Strategy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ntify your PSP quality objectives, i.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moving all defects before the first comp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chieving high produ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ing accurate pl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tablish PSP process quality measures, i.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verall process yie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Q appraisal vs. failure costs - A/F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C reviewed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st performance index - CP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Quality Strategy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xamine the projects you have complet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termine their ratings on these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e what behaviors impacted these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d on these data, identify the most effective practices for your wo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corporate these practices in your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cess scrip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heckli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Quality Strategy -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ntify measures that will reasonably predict process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tablish these as control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t specifications for thes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rack your performance against these specific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rack your process to determ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and when to change the specific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ctions to take to improve the process fur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Lecture Over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at is qualit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 and process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uality economic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quality strate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haracterizing a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nchmarking a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ield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ect remov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ect preven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Process Benchmarki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method for tracking process improvement shou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sider quality and produ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vide means for comparing process used by different people or organiz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 insensitive to project specif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ustrial process benchmarking typically deals with the ability of the process 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e products within specif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thstand drift and perturb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Software Benchmarki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t present, software benchmarking techniques are process dependa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y are still useful, however as long as 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tablish objective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rack them over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them for improving the process for which they are desig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parisons should not be made among individuals or organizations using process sensitive benchmark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Using Software Benchmark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tablish a consistent set of measures for evaluating your process perform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ke these measures on every pro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pare individual projects to determine trends or probl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tablish and track short-term improvement goals against these measu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tablish and track long-term improvement goals against these measu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Benchmarking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following data are from various of the students in the PSP course at Carnegie Mellon University in the Spring of 199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data 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ield by pro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ield vs A/F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/FR vs test de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vity by pro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ield vs produ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/FR vs produ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77880" y="587520"/>
            <a:ext cx="7761240" cy="5656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2808360" y="3132000"/>
            <a:ext cx="1212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20323"/>
                </a:solidFill>
                <a:latin typeface="Arial"/>
                <a:ea typeface="Arial"/>
              </a:rPr>
              <a:t>class max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294680" y="3951360"/>
            <a:ext cx="11667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20323"/>
                </a:solidFill>
                <a:latin typeface="Arial"/>
                <a:ea typeface="Arial"/>
              </a:rPr>
              <a:t>class mi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05240" y="3433680"/>
            <a:ext cx="200520" cy="628920"/>
          </a:xfrm>
          <a:custGeom>
            <a:avLst/>
            <a:gdLst/>
            <a:ahLst/>
            <a:rect l="0" t="0" r="r" b="b"/>
            <a:pathLst>
              <a:path fill="none" w="557" h="1747">
                <a:moveTo>
                  <a:pt x="557" y="1747"/>
                </a:moveTo>
                <a:lnTo>
                  <a:pt x="557" y="1747"/>
                </a:lnTo>
                <a:lnTo>
                  <a:pt x="557" y="1747"/>
                </a:lnTo>
                <a:cubicBezTo>
                  <a:pt x="557" y="1440"/>
                  <a:pt x="531" y="1139"/>
                  <a:pt x="482" y="873"/>
                </a:cubicBezTo>
                <a:cubicBezTo>
                  <a:pt x="433" y="608"/>
                  <a:pt x="363" y="387"/>
                  <a:pt x="278" y="234"/>
                </a:cubicBezTo>
                <a:cubicBezTo>
                  <a:pt x="194" y="81"/>
                  <a:pt x="98" y="0"/>
                  <a:pt x="0" y="0"/>
                </a:cubicBezTo>
              </a:path>
            </a:pathLst>
          </a:custGeom>
          <a:ln w="25560">
            <a:solidFill>
              <a:srgbClr val="020323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15240" y="4272120"/>
            <a:ext cx="771840" cy="343440"/>
          </a:xfrm>
          <a:custGeom>
            <a:avLst/>
            <a:gdLst/>
            <a:ahLst/>
            <a:rect l="0" t="0" r="r" b="b"/>
            <a:pathLst>
              <a:path fill="none" w="2144" h="954">
                <a:moveTo>
                  <a:pt x="0" y="954"/>
                </a:moveTo>
                <a:lnTo>
                  <a:pt x="0" y="954"/>
                </a:lnTo>
                <a:cubicBezTo>
                  <a:pt x="376" y="954"/>
                  <a:pt x="746" y="910"/>
                  <a:pt x="1072" y="826"/>
                </a:cubicBezTo>
                <a:cubicBezTo>
                  <a:pt x="1398" y="742"/>
                  <a:pt x="1669" y="622"/>
                  <a:pt x="1857" y="477"/>
                </a:cubicBezTo>
                <a:cubicBezTo>
                  <a:pt x="2045" y="332"/>
                  <a:pt x="2144" y="167"/>
                  <a:pt x="2144" y="0"/>
                </a:cubicBezTo>
              </a:path>
            </a:pathLst>
          </a:custGeom>
          <a:ln w="25560">
            <a:solidFill>
              <a:srgbClr val="020323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39720" y="549360"/>
            <a:ext cx="7837560" cy="57135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2917800" y="3112920"/>
            <a:ext cx="1212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20323"/>
                </a:solidFill>
                <a:latin typeface="Arial"/>
                <a:ea typeface="Arial"/>
              </a:rPr>
              <a:t>class max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304040" y="4213080"/>
            <a:ext cx="11667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20323"/>
                </a:solidFill>
                <a:latin typeface="Arial"/>
                <a:ea typeface="Arial"/>
              </a:rPr>
              <a:t>class mi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0400" y="3390840"/>
            <a:ext cx="329040" cy="528840"/>
          </a:xfrm>
          <a:custGeom>
            <a:avLst/>
            <a:gdLst/>
            <a:ahLst/>
            <a:rect l="0" t="0" r="r" b="b"/>
            <a:pathLst>
              <a:path fill="none" w="914" h="1469">
                <a:moveTo>
                  <a:pt x="0" y="1469"/>
                </a:moveTo>
                <a:lnTo>
                  <a:pt x="0" y="1469"/>
                </a:lnTo>
                <a:cubicBezTo>
                  <a:pt x="160" y="1469"/>
                  <a:pt x="318" y="1401"/>
                  <a:pt x="457" y="1272"/>
                </a:cubicBezTo>
                <a:cubicBezTo>
                  <a:pt x="596" y="1143"/>
                  <a:pt x="711" y="958"/>
                  <a:pt x="792" y="734"/>
                </a:cubicBezTo>
                <a:cubicBezTo>
                  <a:pt x="872" y="511"/>
                  <a:pt x="914" y="258"/>
                  <a:pt x="914" y="0"/>
                </a:cubicBezTo>
              </a:path>
            </a:pathLst>
          </a:custGeom>
          <a:ln w="25560">
            <a:solidFill>
              <a:srgbClr val="020323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919920" y="4514760"/>
            <a:ext cx="786240" cy="133560"/>
          </a:xfrm>
          <a:custGeom>
            <a:avLst/>
            <a:gdLst/>
            <a:ahLst/>
            <a:rect l="0" t="0" r="r" b="b"/>
            <a:pathLst>
              <a:path fill="none" w="2184" h="371">
                <a:moveTo>
                  <a:pt x="0" y="371"/>
                </a:moveTo>
                <a:lnTo>
                  <a:pt x="0" y="371"/>
                </a:lnTo>
                <a:cubicBezTo>
                  <a:pt x="383" y="371"/>
                  <a:pt x="760" y="354"/>
                  <a:pt x="1092" y="321"/>
                </a:cubicBezTo>
                <a:cubicBezTo>
                  <a:pt x="1424" y="289"/>
                  <a:pt x="1700" y="242"/>
                  <a:pt x="1891" y="185"/>
                </a:cubicBezTo>
                <a:cubicBezTo>
                  <a:pt x="2083" y="129"/>
                  <a:pt x="2184" y="65"/>
                  <a:pt x="2184" y="0"/>
                </a:cubicBezTo>
              </a:path>
            </a:pathLst>
          </a:custGeom>
          <a:ln w="25560">
            <a:solidFill>
              <a:srgbClr val="020323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77880" y="606600"/>
            <a:ext cx="776124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7240" y="549360"/>
            <a:ext cx="783576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58800" y="568440"/>
            <a:ext cx="783756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Yield vs. A/FR Conclus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ield and A/F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re closely related for these stu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re is considerable variation among studen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gh A/FR ratios appear to lead to higher yie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70+% yields not achieved without A/FRs near 1.0 or abo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gh A/FR does not guarantee high yield - the appraisal time must be spent effectiv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What is Software Quality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ic defin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eeting the users’ nee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eds, not w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rue functional needs are often unknow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re is a hierarchy of nee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o the required tas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eet performance 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 usable and conven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 economical and tim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 dependable and rel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58800" y="568440"/>
            <a:ext cx="778032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77880" y="606600"/>
            <a:ext cx="7742160" cy="55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77880" y="606600"/>
            <a:ext cx="781848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est Defects vs. A/F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ects are reduced by high A/FR ratios for all stud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get very low numbers of test defects, A/FR values of above 2.0 appear requir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th A/FRs between 1.0 and 2.0, low test defects are occasionally obtai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th an A/FR of below 1.0, low test defects are ra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96960" y="552600"/>
            <a:ext cx="7761240" cy="57056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532240" y="1903320"/>
            <a:ext cx="1212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20323"/>
                </a:solidFill>
                <a:latin typeface="Arial"/>
                <a:ea typeface="Arial"/>
              </a:rPr>
              <a:t>class max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646600" y="4560840"/>
            <a:ext cx="11667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20323"/>
                </a:solidFill>
                <a:latin typeface="Arial"/>
                <a:ea typeface="Arial"/>
              </a:rPr>
              <a:t>class mi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19440" y="2324160"/>
            <a:ext cx="357480" cy="300240"/>
          </a:xfrm>
          <a:custGeom>
            <a:avLst/>
            <a:gdLst/>
            <a:ahLst/>
            <a:rect l="0" t="0" r="r" b="b"/>
            <a:pathLst>
              <a:path fill="none" w="993" h="834">
                <a:moveTo>
                  <a:pt x="0" y="834"/>
                </a:moveTo>
                <a:lnTo>
                  <a:pt x="0" y="834"/>
                </a:lnTo>
                <a:cubicBezTo>
                  <a:pt x="174" y="834"/>
                  <a:pt x="346" y="795"/>
                  <a:pt x="497" y="722"/>
                </a:cubicBezTo>
                <a:cubicBezTo>
                  <a:pt x="647" y="649"/>
                  <a:pt x="773" y="544"/>
                  <a:pt x="860" y="417"/>
                </a:cubicBezTo>
                <a:cubicBezTo>
                  <a:pt x="947" y="290"/>
                  <a:pt x="993" y="146"/>
                  <a:pt x="993" y="0"/>
                </a:cubicBezTo>
              </a:path>
            </a:pathLst>
          </a:custGeom>
          <a:ln w="25560">
            <a:solidFill>
              <a:srgbClr val="020323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67360" y="4572000"/>
            <a:ext cx="557640" cy="157680"/>
          </a:xfrm>
          <a:custGeom>
            <a:avLst/>
            <a:gdLst/>
            <a:ahLst/>
            <a:rect l="0" t="0" r="r" b="b"/>
            <a:pathLst>
              <a:path fill="none" w="1549" h="438">
                <a:moveTo>
                  <a:pt x="0" y="0"/>
                </a:moveTo>
                <a:lnTo>
                  <a:pt x="0" y="0"/>
                </a:lnTo>
                <a:cubicBezTo>
                  <a:pt x="0" y="77"/>
                  <a:pt x="72" y="152"/>
                  <a:pt x="208" y="219"/>
                </a:cubicBezTo>
                <a:cubicBezTo>
                  <a:pt x="343" y="286"/>
                  <a:pt x="539" y="341"/>
                  <a:pt x="775" y="379"/>
                </a:cubicBezTo>
                <a:cubicBezTo>
                  <a:pt x="1010" y="418"/>
                  <a:pt x="1277" y="438"/>
                  <a:pt x="1549" y="438"/>
                </a:cubicBezTo>
              </a:path>
            </a:pathLst>
          </a:custGeom>
          <a:ln w="25560">
            <a:solidFill>
              <a:srgbClr val="020323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68160" y="581040"/>
            <a:ext cx="7873920" cy="56484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2855880" y="2403360"/>
            <a:ext cx="1212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20323"/>
                </a:solidFill>
                <a:latin typeface="Arial"/>
                <a:ea typeface="Arial"/>
              </a:rPr>
              <a:t>class max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584680" y="4618080"/>
            <a:ext cx="11667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20323"/>
                </a:solidFill>
                <a:latin typeface="Arial"/>
                <a:ea typeface="Arial"/>
              </a:rPr>
              <a:t>class mi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62280" y="2719440"/>
            <a:ext cx="614880" cy="271800"/>
          </a:xfrm>
          <a:custGeom>
            <a:avLst/>
            <a:gdLst/>
            <a:ahLst/>
            <a:rect l="0" t="0" r="r" b="b"/>
            <a:pathLst>
              <a:path fill="none" w="1708" h="755">
                <a:moveTo>
                  <a:pt x="0" y="755"/>
                </a:moveTo>
                <a:lnTo>
                  <a:pt x="0" y="755"/>
                </a:lnTo>
                <a:cubicBezTo>
                  <a:pt x="300" y="755"/>
                  <a:pt x="594" y="720"/>
                  <a:pt x="854" y="654"/>
                </a:cubicBezTo>
                <a:cubicBezTo>
                  <a:pt x="1114" y="588"/>
                  <a:pt x="1329" y="492"/>
                  <a:pt x="1479" y="378"/>
                </a:cubicBezTo>
                <a:cubicBezTo>
                  <a:pt x="1629" y="263"/>
                  <a:pt x="1708" y="133"/>
                  <a:pt x="1708" y="0"/>
                </a:cubicBezTo>
              </a:path>
            </a:pathLst>
          </a:custGeom>
          <a:ln w="25560">
            <a:solidFill>
              <a:srgbClr val="020323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62600" y="4643280"/>
            <a:ext cx="628920" cy="157680"/>
          </a:xfrm>
          <a:custGeom>
            <a:avLst/>
            <a:gdLst/>
            <a:ahLst/>
            <a:rect l="0" t="0" r="r" b="b"/>
            <a:pathLst>
              <a:path fill="none" w="1747" h="438">
                <a:moveTo>
                  <a:pt x="0" y="0"/>
                </a:moveTo>
                <a:lnTo>
                  <a:pt x="0" y="0"/>
                </a:lnTo>
                <a:cubicBezTo>
                  <a:pt x="0" y="77"/>
                  <a:pt x="81" y="152"/>
                  <a:pt x="234" y="219"/>
                </a:cubicBezTo>
                <a:cubicBezTo>
                  <a:pt x="387" y="286"/>
                  <a:pt x="608" y="341"/>
                  <a:pt x="874" y="379"/>
                </a:cubicBezTo>
                <a:cubicBezTo>
                  <a:pt x="1139" y="418"/>
                  <a:pt x="1440" y="438"/>
                  <a:pt x="1747" y="438"/>
                </a:cubicBezTo>
              </a:path>
            </a:pathLst>
          </a:custGeom>
          <a:ln w="25560">
            <a:solidFill>
              <a:srgbClr val="020323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96960" y="549360"/>
            <a:ext cx="779940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12800" y="520560"/>
            <a:ext cx="7746840" cy="57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6960" y="568440"/>
            <a:ext cx="778032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41520" y="522360"/>
            <a:ext cx="7799400" cy="56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Dependable and Reli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be used, the software mu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stall quickly and eas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un consisten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perly handle normal and abnormal c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t do destructive or unexpected th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 essentially bug fr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latent bugs must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 operation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t be destru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arely be evi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68160" y="549360"/>
            <a:ext cx="7854840" cy="57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8800" y="568440"/>
            <a:ext cx="778032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Yield and A/FR vs. Productiv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vity has considerable variation among individu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 some cases, high yield produces higher productivity but in others it does no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gh A/FR also sometimes results in high productivity and sometimes no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rly, yield and A/FR are somewhat independent of productiv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Benchmark Conclus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 is desirable to have high values f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ie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/F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ince yield and A/FR are closely related, a yield vs A/FR benchmarking chart would not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ield vs. productivity or A/FR vs. productivity would likely be useful benchmarking char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Defect Removal Strategies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cus inspections and reviews on special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LD reviews - structural issu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LD reviews - logic correct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de reviews - implementation detai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save time, do not add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 issues in D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sign issues in code revie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o the reviews thoroughly the first time and then trust the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Defect Removal Strategies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o thorough unit te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heck all parameters at normal values, at limits, and outside limit val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heck all loops and recursions for normal and   abnormal term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heck all dependancies among procedures and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n do thorough system level te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gress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Defect Preven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ect prevention is important beca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 is always expensive to find de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the defects can be prevented, these costs are avoi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defect prevention analysis costs are incurred once but save time on every pro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ect prevention should follow an orderly strategy and a defined pro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 the PSP, defect prevention actions include improved design methods and prototyp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Defect Prevention Strategy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t priorities for the defects types that are the m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requently found de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roublesome de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sily prevented de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Defect Prevention Strategy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defect prevention process has the following step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.  follow an established sched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.  select one or two defect types for initi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c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.  track and evaluate the effectiveness of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ect prevention 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.  make needed adjustments and contin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Defect Prevention Strategy -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 setting your initial priorities, consider the defect types most frequently found in integration and system te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PSP data to pick one or two defect types for initial a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on’t just try harder, establish explicit prevention actions.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corporate these actions in your process scripts, checklists, and for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A Quality Pro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es quality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eets its users nee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are the user of the PSP proces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r customers are y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eers and associ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’s us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Assignment #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chapter 9 of the 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ing PSP2, write program 7A to calculate the correlation between two series of numbers and calculate the significance of that correlation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program 5A to calculate the values of the t distrib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sult Appendix C for the PSP2 description and Appendix D for program 7A specific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43000" y="2387520"/>
            <a:ext cx="7010280" cy="2044800"/>
          </a:xfrm>
          <a:prstGeom prst="rect">
            <a:avLst/>
          </a:prstGeom>
          <a:solidFill>
            <a:srgbClr val="dede9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Correl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formula for calculating the correlation coefficient r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x and y are the two paired sets of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 is the number of their me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374840" y="2498760"/>
            <a:ext cx="650088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16000" y="2222640"/>
            <a:ext cx="6921360" cy="1282680"/>
          </a:xfrm>
          <a:prstGeom prst="rect">
            <a:avLst/>
          </a:prstGeom>
          <a:solidFill>
            <a:srgbClr val="dede9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Correlation Signific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formula for calculating the correlation significance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 is the corre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program 5A to calculate the value of p for the value t from the t distribu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significance is indicated by 1 - 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gt; 0.2 is not significant, &lt; 0.05 is 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785960" y="2244600"/>
            <a:ext cx="42354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046160" y="892080"/>
            <a:ext cx="7311960" cy="9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Messages to Remember from Lecture 8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30240" y="2001960"/>
            <a:ext cx="7313760" cy="29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.  Software quality starts with defect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.  If defects are not managed, more import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uality issues cannot be adequate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dres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046160" y="841320"/>
            <a:ext cx="7311960" cy="9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Messages to Remember from Lecture 8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930240" y="1874880"/>
            <a:ext cx="7313760" cy="36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.  The most effective way to manage defects 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th the individual software engine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.  If you don’t eliminate your own defects, the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ll be much more expensive and tim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suming to remove l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PSP Quality Focus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 this course defects are the basic quality measure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te that bugs are not important to the user as long as they do 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ffect op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use inconven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st time or mon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use loss of confidence in the program’s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PSP Quality Focus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defect content of software products must first be managed before other more important quality issues can be addres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urrent software processes manage defects so poorly that little if any time is available for such important software quality issues 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stall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erform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cov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ability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he PSP Quality Focus -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w defect content is an essential prerequisite to a quality software pro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w defect content can best be achieved at the PSP leve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is is where the defects are injected and this is where the engineers shou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move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termine their ca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arn to prevent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046160" y="7128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d0d22e"/>
                </a:solidFill>
                <a:latin typeface="Times New Roman"/>
                <a:ea typeface="Times New Roman"/>
              </a:rPr>
              <a:t>Tests and Inspections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30240" y="15177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thout inspections and a 50,000 LOC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5+ defects/KLOC at test en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at is 1250 de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t the typical 10+ hours per defect, that is 12,500+ programmer hou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d0d22e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at is 6 programmer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properly planned, these tests could be done in 12 to 15 month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unplanned, testing could take two years or mo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