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3  </a:t>
            </a:r>
            <a:fld id="{99E1B271-E022-421B-9F16-F4554B4521C2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riables can be represented by x1 and x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quation for the result of each cyc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x1&gt;0: x2 = sqrt(x1) 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x1 &lt;= 0: x2 = -x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1 = 0, the program terminates on the first 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1 = 1, the program terminates on the first 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1 = -1, the program terminates on the second cy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king back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2 to be 1, x1 would have to be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2 to be 4, x1 would have to be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2 to be 25, x1 would have to be 6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x2 to be 676, x1 would have to be 4583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so forth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us, the program terminates for input values of + or - 1, 4, 25, 676, 458329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other large positive or negative values of x1, the value of x2 will converge to a non-zero number between -1 and +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happens for non-zero values between -1 and +1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ck x1=a, a very small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2=sqrt(a)-1, a negativ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x2 is made po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2 more cycles, x2 is approximately sqrt(a)/2, or slightly larger tha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small x1, the value of x2 thus gradually grows larger than x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lue of x2 will thus not reach 0 but will converge on some number less than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ercise Result -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the value converges, x1 = x2 = x and the result would be given by the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rt(x) - 1 = -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olution to this equa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= [3 - sqrt(5)]/2 = 0.3819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us, the program will end up cycling between the values of + and - 0.38196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proofs can be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proofs typically involve less work than other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proofs are less error prone than executing test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is hard to use except for algorithmic and substitution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proofs are manual and thus error pr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is difficult to use with complex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ase Checking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checking involves the following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Examine the program and determin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rious categories of program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For these categories, identify the cases to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Check the cases to ensure that they cover 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sible situati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ase Checking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Using trace tables, either alone or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or proof by in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ine program behavior for each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 Once every case has been verified,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havior has been ver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Verification, Part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the second lecture on design ver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cov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thematical program 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proo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learSpaces program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rs the leading and trailing spaces from a character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ves the imbedded spaces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a state value 0 for an empty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a state value 1 for a 1 space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a state value 2 for a 2 or more space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a state value 3 for a string containing non-space charac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22280" y="2589120"/>
            <a:ext cx="4060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earSpaces(var Input: string; State: i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19200" y="2887560"/>
            <a:ext cx="2314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ngth = length(Inp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36840" y="3213000"/>
            <a:ext cx="1366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Length &gt; 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09640" y="3483000"/>
            <a:ext cx="3349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peat(until State=3 or Length=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78120" y="3770280"/>
            <a:ext cx="2236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Input[Length-1] = ‘ 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4051440"/>
            <a:ext cx="204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ngth = Length -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1920" y="4386240"/>
            <a:ext cx="2587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f State &lt; 2 State=State+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95400" y="4651200"/>
            <a:ext cx="145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lse State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62120" y="4930920"/>
            <a:ext cx="2603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til State=3 or Length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ortion of ClearSpaces for removing trailing spaces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efine the cases for trailing spaces, establish the following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A message string is a string starting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ing with a non-space charac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An input string will consist of m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s and t trailing sp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m is either &gt;0 or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t is either &gt;0 or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thus a total of 4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0-0: m = 0, t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0-t:  m = 0, t &gt;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m-0:  m &gt; 0, t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m-t:  m &gt; 0, t &gt;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rategy is to verify program behavior with each case, using whatever method is most 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Check the 0-0 case by itself, using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ution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Check the other cases, using proof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u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Do each proof with a trace table, 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xecution table method describ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cture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Verifying Program Correc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methods are based on treating programs as mathematical theor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particularly useful during design and design re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cause program verification often involves sophisticated reasoning, it is important to check your work carefu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rrectness Verif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rrectness verification approach i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all the program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race tables to evaluate all the conditions the program must satisfy for every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of by induction where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gram is verified if all the conditions are satisfied for every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this verification approach works with most design constructs, only loops are described in this le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Verification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Loop is assumed to have the following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n = First to L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Verification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-loop conditions require that the answer to the following question be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ForLoop = FirstPart+SecondPart+...+Last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ify that the following program produces the factorial of 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al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i=1 to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= x*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urn =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e Table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 are similar to execution tables, but more gen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 examine general program behavior rather than verifying individual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e tables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, identify the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ses are for n = 1 and for n &gt;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n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Loop = 1!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Part+SecondPart+...=FirstPart = 1*1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se for n = 1 is thus val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n &gt; 1, say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Loop = 3!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Part+SecondPart+ThirdPart = 1*1*2*3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se for n = 3 is thus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use proof by induction to verify performance at all higher values of 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me that operation is verified for n =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Loop = k!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Part+...LastPart = 1*1*2*3*4*...*k = 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rLoop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for k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Loop = k!*(k+1) = (k+1)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Part+...LastPart = 1*1*2*3*4*...*k*(k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(k+1)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gram is thus valid for k+1 so, by induction, it is valid for all values of n =&gt;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Verification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WhileLoop is assumed to have the following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Whi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p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Verifica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1.  Is loop termination guaranteed for any argument of While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.  When WhileTest is true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 = LoopPart followed by While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3.  When WhileTest is false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 = ident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first part of a program to reduce a floating point number to standar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 is a positive integ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is to be made a positive non- zero digit before the decimal 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lizeReal(Mant, Exp, Neg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Mant &gt;= 10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= Mant/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egEx then Exp=Exp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se Exp = Exp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 value of Exp is not material, there are 3 cases of interes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of these cases is examined for NegEx true and NegEx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Mant &lt;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Mant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Mant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1.  Is loop termination guaranteed for any argument of While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1.  Mant &lt; 10, the while test fails immediately, so the loop term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2.  Mant = 10, the while test will fail after one cycle, thus terminating the lo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both cases, this happens regardless of the value of Neg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1,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3.  Mant &gt; 10, can be shown by in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= k*10**n, where 1 &lt;= k &lt;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n = 1, the test fails after 1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test is true for some value n=m then after m cycles, Mant =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us for n=m+1, after m cycles, Mant = k*10   and the WhileTest will fail in one mor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the value of NegEx does not affect the result, question 1 is satisfied for all n =&gt;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gram is represented symbol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behavior is examined analy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can produce quite general ver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bolic execution is not always prac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WhileLoop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.  When WhileTest is true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 = LoopPart followed by While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1.  Mant &lt; 10, is not pertinent since WhileTest is never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WhileLoop Example -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examine the other cases, check that this  program gives the same result as WhileLoop (the check is described in the next foi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= Mant/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egEx then Exp=Exp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se Exp = Exp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Mant &gt;= 10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= Mant/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egEx then Exp=Exp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se Exp = Exp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WhileLoop Example -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.  When WhileTest is true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 = LoopPart followed by While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case 2.  Mant = 10, the value of NegEx is im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Loop has one cycle, leaving Mant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pPart followed by WhileLoop starts with Mant = 10, LoopPart leaves value 1, and WhileLoop leaves the same valu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both give the same result, the answer is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 - 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3.  Mant &gt; 10, can be shown by in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 = k*10**n, where 1&lt;=k&lt;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n = 1, WhileLoop would take one cycle and the WhileLoop following the LoopPart would take 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n &gt; 1 the While Loop following LoopPart    would take one less cycle with the same resu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 is thus satisfied for all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ileLoop Example -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3.  When WhileTest is false does    WhileLoop = ident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e 1.  Mant &lt; 10 is the only case where WhileTest is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, in this case the program is not executed,   the conditions are left undisturbed which is the definition of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3 is thus satis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peatUntil Verifica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Until has the following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Un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p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il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peatUntil Verifica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-until verification is satisfied if the answers to the following 3 questions are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1.  Is loop termination guaranteed for any argument of Until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2.   When the UntilTest after LoopPart is false,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Until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pPart followed by RepeatUnt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peatUntil Verification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stion 3.  When UntilTest after LoopPart is true, d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Until = LoopPa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peat-until verification follows the same logical format as WhileLoop verification so no example is giv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mments on Program Verification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done correctly, these verification methods are quite general and can guarantee program correct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erification methods are tricky and require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you should attempt to use these methods, when in doubt, check with a trace table or an execution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mments on Program Verification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practice, you can do program verification quite rapid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areful examination of all possible cases will quickly reveal most de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op termination test is critical because endless loops are hard to identify with other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ymbolic execution, the approach i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gn algebraic symbols to the program variabl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tate the program as one or more equations in these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ze the behavior of these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3 Assig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ork on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pdate the process used to develop the mid-term report and use it to develop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urn in the updated process, the plan for the work, the actual data for the work, and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ult the report specifications in Appendix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There are many powerful ver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chn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Experiment with these techniques, fi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s that are most effective for you, and 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The time you spend verifying designs will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aid many times by the testing time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questions to ask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the program converge on a resul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es the program behave for both normal and abnormal input val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the program always produce the desired resul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iven the following simple program 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1 = V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2 = V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3 = V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4 = V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would be the result for various values of V1, V2, V3, and V4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ymbolic Trace 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ace table for this example would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us the result, for inputs A, B, C, and D is B, D, B, and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1160" y="2347920"/>
            <a:ext cx="5821200" cy="220176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19440" y="2649600"/>
            <a:ext cx="580860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9440" y="2971800"/>
            <a:ext cx="5808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9440" y="3276720"/>
            <a:ext cx="5808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9440" y="3598920"/>
            <a:ext cx="5808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9440" y="3886200"/>
            <a:ext cx="5808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9440" y="4208400"/>
            <a:ext cx="57909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09760" y="2362320"/>
            <a:ext cx="0" cy="215100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50160" y="2362320"/>
            <a:ext cx="0" cy="2151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72280" y="2362320"/>
            <a:ext cx="0" cy="2151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8560" y="2379600"/>
            <a:ext cx="0" cy="2166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0680" y="2379600"/>
            <a:ext cx="0" cy="2149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73160" y="23922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16040" y="2392200"/>
            <a:ext cx="1214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38560" y="2378160"/>
            <a:ext cx="414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49920" y="2395440"/>
            <a:ext cx="414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392880" y="2392200"/>
            <a:ext cx="414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70760" y="2392200"/>
            <a:ext cx="414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6040" y="2714760"/>
            <a:ext cx="13842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itial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06960" y="26971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83400" y="270036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43640" y="26971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21520" y="26971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73160" y="30020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6040" y="3002040"/>
            <a:ext cx="893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1 =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89680" y="300528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73160" y="33415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32240" y="3341520"/>
            <a:ext cx="893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2 = V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83400" y="33415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73160" y="3629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49520" y="3646440"/>
            <a:ext cx="893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3 = V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61280" y="362916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57320" y="39513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49520" y="3967200"/>
            <a:ext cx="893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4 = V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55000" y="395136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67160" y="4238640"/>
            <a:ext cx="13287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nal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89680" y="42559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67560" y="42577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61280" y="42559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55000" y="42577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ymbolic Execution Exerc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values for which the following program will termin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(x: re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x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=sqrt(x)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=-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x&lt;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