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5   </a:t>
            </a:r>
            <a:fld id="{2B8AA81E-9E4B-481D-9078-4BC79DB9A1E1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14560" y="485640"/>
            <a:ext cx="63658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lanning Developmen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67240" y="1704960"/>
            <a:ext cx="115236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Obtai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istorical dat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63840" y="2314440"/>
            <a:ext cx="1558800" cy="473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re there suffici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for  a regress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ion?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71480" y="2924280"/>
            <a:ext cx="1285920" cy="473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historic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ductivity in LO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er hour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71480" y="3736800"/>
            <a:ext cx="1285920" cy="473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th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ours required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68440" y="4549680"/>
            <a:ext cx="1692360" cy="473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the shortest  an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ongest likely tim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57640" y="2990880"/>
            <a:ext cx="1828800" cy="4748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re there sufficient  estimat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for  a regress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ion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06720" y="3736800"/>
            <a:ext cx="1692360" cy="622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o the regress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ion on actu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object  LO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nd actual hours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41720" y="4616280"/>
            <a:ext cx="1422360" cy="4748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the ti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requir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73680" y="5362560"/>
            <a:ext cx="155880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the predi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nterval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76960" y="3736800"/>
            <a:ext cx="1693800" cy="622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o the regress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ion on  estimat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object LOC and actual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hours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11960" y="4549680"/>
            <a:ext cx="1422360" cy="4730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the ti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required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345360" y="5294160"/>
            <a:ext cx="1557360" cy="406440"/>
          </a:xfrm>
          <a:prstGeom prst="rect">
            <a:avLst/>
          </a:prstGeom>
          <a:solidFill>
            <a:srgbClr val="020323"/>
          </a:solidFill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alculate the predi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ntervals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0120" y="136512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0120" y="211140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619360" y="2787480"/>
            <a:ext cx="744480" cy="136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23000" y="2787480"/>
            <a:ext cx="609480" cy="203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1320" y="3397320"/>
            <a:ext cx="0" cy="33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1320" y="4210200"/>
            <a:ext cx="0" cy="33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1320" y="5022720"/>
            <a:ext cx="0" cy="746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54600" y="3465360"/>
            <a:ext cx="54144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15000" y="3465360"/>
            <a:ext cx="40644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9600" y="4346640"/>
            <a:ext cx="0" cy="269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9600" y="509112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9600" y="576900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9840" y="434664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9840" y="502272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9840" y="570060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24560" y="1422360"/>
            <a:ext cx="15541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OC Size Estima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6400" y="2813040"/>
            <a:ext cx="36828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33760" y="2813040"/>
            <a:ext cx="43668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46640" y="3490920"/>
            <a:ext cx="36828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29520" y="3490920"/>
            <a:ext cx="43668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333520" y="5470560"/>
            <a:ext cx="137016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ime Estima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772160" y="5808600"/>
            <a:ext cx="13701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ime Estima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91120" y="5742000"/>
            <a:ext cx="13701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ime Estima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4560" y="2359080"/>
            <a:ext cx="11145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tim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hoice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87840" y="3105000"/>
            <a:ext cx="11145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tim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hoice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068960" y="3017880"/>
            <a:ext cx="11145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tim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hoice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Resource Planning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a siz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availabl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regression when you have 3+ sets of data that corre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data for estimated LOC to actual hours where avail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prediction interv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gression in Resource Pla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gression method for resource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 identical to that used for size esti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multiple estimates are combined from the sam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 the parts, i.e, if 3 LOC estimates were made, combine their object LOC as input to one resourc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the same for the prediction interv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xample of Combining 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3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-  45 hours + or -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 -  18 hours + or -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-  85 hours + or -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bined estimat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tal = 45 + 18 + 85 = 148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riance = 100 + 25 + 625 = 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nge = square root of variance = 27.4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is from 121 to 175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Using Multiple Prox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have size/hour data for several prox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each as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 the total estimates and prediction intervals as just descri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multiple regression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is a correlation between development time and each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xies do not have separate size/hou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ple regression is covere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source Estimat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ake a resourc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a siz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PROBE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your historical size and hour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regression if you have suffici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prediction interv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same method as with size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size and hou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Estima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make a schedule you need three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ed direct project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alendar of available direct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rder in which the tasks will be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then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the hours needed for each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read these hours over the calendar of available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vailable Direct H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ffing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 projects are not instantly staff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need a committed staffing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a calendar spread of available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52 weeks a year and 40 hour weeks - one year =  208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3 weeks vacation and 10 holidays, one year = 1880 hours (9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10% for meetings, 5% for mail, ... one year = 1000 to 1400 hours (50 to 6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Task 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ask order must be driven by the develop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need a conceptual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task needs complet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consider task interdepend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so consider cost and cycle time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planned task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sk order will change with new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nitial task order provides a basis for 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duce the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the hours for each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portion of total hours have such tasks    historically 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anything unusual affect this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ensure tasks are not omitted, spread the task time for the entir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read the task hours over the cale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key project check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tandard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5 Overview - Resource and Schedule Plann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 and schedule planning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 estim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hedule estim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ed value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ask Planning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task planning template is in Table C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tart filling out this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st the tasks in their expected order of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hours each task is expected to 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he hours in the cumulative hours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this point, start to prepare the schedule planning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30240" y="1517760"/>
            <a:ext cx="7516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schedule template is in Table C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tart filling out this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st the calendar dates in the left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days or weeks, depending on project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days, list every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weeks, use a standard day, say Mo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st the planned direct project hours to be available that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he hours in the cumulative hours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the task and schedule templates 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mpleting the Plan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each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d the cumulative hours to complete that task on the task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d the week on the schedule template when those hours have first been exc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week’s date in the Date column for that task on the task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now have the task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874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36720" y="14940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form C47, start with an estimate of the hours per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sk           Hours     Cum. H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2            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4           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7           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3           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5            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6            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3            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                  2           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000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0080" y="14940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form C49, estimate the direct hours available per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           Hours     Cum. H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3            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5           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5           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4            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6            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5            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5            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126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2680" y="14940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task schedule: the day on which the cumulative hours for each task are rea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sk           Hours     Cum. Hrs   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2              2  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7           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4            11           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7            18          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3            21           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5            26           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6            32           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3            35        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                  2            37        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000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arned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98560" y="136512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urpose of earned value i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a value for each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mit progress tracking against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tate tracking even with plan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les behind earned value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provides a common value for each task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value is the percent of total project hours this task is planned to 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value is given for partial task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jor plan changes require new plan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stablish the Planned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the task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tal the project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% each task is of the total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is % as the planned value (PV) for that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cumulative PV for each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the schedule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cumulative planned value for the tasks to be completed each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2564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49320" y="14940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produce the planned value (PV), or the % of the total job that each task repres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sk           Hours     Cum. Hrs    Day    PV    Cum. P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2              2             1      5.4        5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7             2     13.5     18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4            11             3     10.8     29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7            18             4     18.9     48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3            21             5       8.1     56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5            26             6     13.5     7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6            32             7     16.3     86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3            35             8       8.1     9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                  2            37             8       5.4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000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1160" y="14302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enter the cumulative planned value for 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           Hours     Cum. Hrs   Cum. P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3              3              5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8            18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5            13            29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5            18            48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4            22            56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6            28            7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5            33            86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5            38       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Resource and Schedule Plans Are Nee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a business basis for doing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the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s the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mits agreement on the 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es a management frame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s commi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s groups coordinat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ws status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racking th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each task is completed, it earns the plann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is earned value (EV) for that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date of task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he EV to date in the cumulative EV colum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e schedule template, enter the cumulative EV for each week as it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k earned value versus planned value by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jecting Project Comple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me that the project will continue to earn value at the rate it has in the p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trapolate to project completion by linearly extending the EV line until it reaches 10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the likely project completion date un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ate of progress can be accel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work for the remaining tasks can be reduced below the origin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000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1160" y="14940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ring the project, enter on the task planning template the day each task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sk      Hours     Cum. Hrs    Day    PV    Cum. PV  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2              2             1      5.4          5.4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5              7             2     13.5       18.9         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4            11             3     10.8       29.7        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7            18             4     18.9       48.6         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3            21             5       8.1       56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5            26             6     13.5       7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6            32             7     16.3       86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3            35             8       8.1       9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            2            37             8       5.4  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12680" y="73008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12680" y="14684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so, enter on the schedule template the earned value for each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           Hours     Cum. Hrs   Cum. PV   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3              3              5.4         5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8            18.9       18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5            13            29.7       18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5            18            48.6       29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4            22            56.7       48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6            28            7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5            33            86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5            38       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87480" y="80028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chedule Planning Example -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87480" y="15238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the actual EV earned per day of 9.72, enter the EV by day to project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           Hours     Cum. Hrs   Cum. PV    EV   Proj.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3              3              5.4         5.4       5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8            18.9       18.9     18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5            13            29.7       18.9     18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5            18            48.6       29.7     29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4            22            56.7       48.6     48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6            28            70.2                   58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5            33            86.5                   68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5            38          100.0                   77.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                                                                          87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                                                                          97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1                                                                     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hanging the Pla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small plan changes, the earned value amounts can be adjusted as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me the change is a task add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the hours for the new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new task PV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his amount to the project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ortionally reduce the value of every task  by the ratio 100/(100 + new task PV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hanging the Pla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lan is still tracked against the original planned value sche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adding a task, the value of all the completed and planned tasks is re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tasks are deleted, the value of all the completed and planned tasks is incre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major plan changes, you must produce a new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748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lan Change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85960" y="139212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dd a task, proportionately reduce the other task PVs so they total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sk   Hours   Cum. Hrs    PV   Cum. PV  Adj. EV  Cum. 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2            2           5.4          5.4          4.8            4.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5            7          13.5       18.9        11.9          16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4          11          10.8       29.7          9.5         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7          18          18.9       48.6        16.7          42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3          21            8.1       56.7          7.1          5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5          26          13.5       70.2        11.9          61.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6          32          16.3       86.5        14.3          7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3          35            8.1       94.6          7.1          83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        2          37            5.4     100.0          4.8          88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        5          42          13.5     113.5        11.9     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00080" y="755640"/>
            <a:ext cx="6929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lan Change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00080" y="14940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er the adjusted EV for each completed task but track to the original EV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           Hours     Cum. Hrs   Cum. PV    EV    Adj.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                 3              3              5.4         5.4        4.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                 5              8            18.9       18.9      16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                  5            13            29.7       18.9      16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                 5            18            48.6       29.7     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                 4            22            56.7       48.6      42.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                 6            28            70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                  5            33            86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                  5            38          100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1.1 Ad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is augmented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 estimating: already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hedule estimating: already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new project plan summ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ject plan summary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st performance 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us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stimating Accur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is a skill that must be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helps to build planning sk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n simple plans are subject to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foreseen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expected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ust plain mi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best strategy is to plan in d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the recognized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imate based on simila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judgments on the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 Performance Inde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st performance index (CPI)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easure of the degree to which projects are completed within planned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ndex of around 1.0 is most desi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ndex of more than 1.0 indicates that projects are costing more than 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ndex of less than 1.0 indicates that projects are costing less than 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index is much less than 1.0, it indicates overly conservative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use measures are % reused and % new re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high value of % reused is desi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s are concentrated on developing new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s are not spent on redeveloping existing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high value of % new reused indicates that a high percentage of the new and changed LOC are planned for future re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1.1, write program 5A to do a numerical integration, using Simpson’s r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rogram 5A to calculate the values of the normal distribution integral for three values: from minus infinity to 2.5, to 0.2, and to -1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the program, assignment, and process specifications in Appendices C and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umerical Integrat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principle, numerical integration treats a function as composed of multiple rectangular a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then adds these areas to produce the integral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rick is to sum these areas so as to minimize the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22320" y="696960"/>
            <a:ext cx="7275600" cy="5468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86640" y="2071800"/>
            <a:ext cx="0" cy="337176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4960" y="2085840"/>
            <a:ext cx="55728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6520" y="2071800"/>
            <a:ext cx="0" cy="337176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29240" y="2228760"/>
            <a:ext cx="54288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4840" y="2228760"/>
            <a:ext cx="0" cy="321480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915080" y="2700360"/>
            <a:ext cx="14040" cy="275760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86160" y="3586320"/>
            <a:ext cx="0" cy="185724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657600" y="4586400"/>
            <a:ext cx="0" cy="85716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00320" y="5172120"/>
            <a:ext cx="0" cy="27144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00320" y="5157720"/>
            <a:ext cx="55728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586400"/>
            <a:ext cx="64296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72120" y="3600360"/>
            <a:ext cx="64296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6280" y="2728800"/>
            <a:ext cx="600120" cy="0"/>
          </a:xfrm>
          <a:prstGeom prst="line">
            <a:avLst/>
          </a:prstGeom>
          <a:ln w="25560">
            <a:solidFill>
              <a:srgbClr val="d0d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808360" y="5518080"/>
            <a:ext cx="771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(low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437160" y="5532480"/>
            <a:ext cx="861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dede96"/>
                </a:solidFill>
                <a:latin typeface="Arial"/>
                <a:ea typeface="Arial"/>
              </a:rPr>
              <a:t>x(hig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2120760"/>
            <a:ext cx="7050240" cy="102888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umerical Integratio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mula for calculating the integral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 is the width of the rectangula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is the value of the function for each x va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16000" y="2381400"/>
            <a:ext cx="70311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Numerical Integration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etermine the integration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statistical functions are integrated from minus infinity to some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statistical functions have a total area of 1.0 when integrated from minus to plus inf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symmetric functions (the normal and t distributions) the procedu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positive values of x, integrate from 0 to x and add 0.5 to get the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negative values of x, integrate from 0 to the absolute value of x and subtract from 0.5 to get the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5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-  You can use the PROBE method to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-  This also gives you the likely hourly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in which the project will be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335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5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-  With an accurate estimates you can make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curate sche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 -  The earned value method helps you to 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s and project job compl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n Estimating Error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estimating in parts, the total error is less than the sum of the part err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rors tend to bal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assumes no comm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 1000 hour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estimating accuracy of + or - 5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otal estimate is from 500 to 150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25 parts, each with 50%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total would be 1000 hours as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e range is from 900 to 110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mbining Individual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combining individual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 the estimate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he estimate vari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25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estimate averages 4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ndard deviation is 50% or 2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ariance for each is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ariances thus total 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bined standard deviation is the square root of the variance, or 1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estimate range is thus 900 to 110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01640"/>
            <a:ext cx="72500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01640"/>
            <a:ext cx="72928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114560" y="585720"/>
            <a:ext cx="63673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lanning Pro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54280" y="1693800"/>
            <a:ext cx="6083280" cy="3927600"/>
            <a:chOff x="1754280" y="1693800"/>
            <a:chExt cx="6083280" cy="3927600"/>
          </a:xfrm>
        </p:grpSpPr>
        <p:sp>
          <p:nvSpPr>
            <p:cNvPr id="59" name=""/>
            <p:cNvSpPr txBox="1"/>
            <p:nvPr/>
          </p:nvSpPr>
          <p:spPr>
            <a:xfrm>
              <a:off x="2766960" y="1693800"/>
              <a:ext cx="1287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f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irem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766960" y="2370240"/>
              <a:ext cx="1287360" cy="68292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u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766960" y="3116160"/>
              <a:ext cx="1287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im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2766960" y="3792600"/>
              <a:ext cx="1287360" cy="54288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im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766960" y="4470480"/>
              <a:ext cx="128736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766960" y="5079960"/>
              <a:ext cx="128736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velo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392720" y="5079960"/>
              <a:ext cx="1152360" cy="5414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, Resour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6018120" y="5079960"/>
              <a:ext cx="949320" cy="474840"/>
            </a:xfrm>
            <a:prstGeom prst="rect">
              <a:avLst/>
            </a:prstGeom>
            <a:noFill/>
            <a:ln w="25560">
              <a:solidFill>
                <a:srgbClr val="302f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4460760" y="4470480"/>
              <a:ext cx="1015920" cy="54144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vail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460760" y="3792600"/>
              <a:ext cx="1015920" cy="60948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iv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392720" y="3116160"/>
              <a:ext cx="1084320" cy="609480"/>
            </a:xfrm>
            <a:prstGeom prst="rect">
              <a:avLst/>
            </a:prstGeom>
            <a:noFill/>
            <a:ln w="25560">
              <a:solidFill>
                <a:srgbClr val="004e4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z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62040" y="1943280"/>
              <a:ext cx="2718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44840" y="223524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54320" y="5351400"/>
              <a:ext cx="3384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45080" y="5351400"/>
              <a:ext cx="47304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492960" y="3386160"/>
              <a:ext cx="0" cy="16938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477040" y="3386160"/>
              <a:ext cx="10159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477040" y="4132440"/>
              <a:ext cx="10159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054320" y="3386160"/>
              <a:ext cx="33840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986280" y="4132440"/>
              <a:ext cx="47448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054320" y="4741920"/>
              <a:ext cx="40644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4840" y="2979720"/>
              <a:ext cx="0" cy="13644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44840" y="365760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4840" y="433548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44840" y="4944960"/>
              <a:ext cx="0" cy="13500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479680" y="5316480"/>
              <a:ext cx="25416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754280" y="4716360"/>
              <a:ext cx="758880" cy="4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7037280" y="4782960"/>
              <a:ext cx="800280" cy="4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77040" y="4741920"/>
              <a:ext cx="60948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67440" y="5334120"/>
              <a:ext cx="371520" cy="0"/>
            </a:xfrm>
            <a:prstGeom prst="line">
              <a:avLst/>
            </a:prstGeom>
            <a:ln w="12600">
              <a:solidFill>
                <a:srgbClr val="dede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