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14  </a:t>
            </a:r>
            <a:fld id="{6867337E-5421-4235-9A9D-4A71E540D912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9208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Architectur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architecture:  a conceptual framework for consistently incorporating, relating, and tailoring process elements into enactable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effective process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s consistency amon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ilitates unit process development and re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ies missing process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ables the use of consistent support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s a common measuremen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Architectur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architectures will ultimately be very helpful in guiding process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present, no general process architectures have been developed and there are no guidelines for their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il we have experience with developing multiple related processes, we will not likely be able to develop sound process architectural principles and guide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ining the Software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eps in defining a software proces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agent needs and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process objectives, goals and quality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racterize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racterize the curren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the develop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the initi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alidate the initi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tall and enhance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gent Needs and Prioriti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ctions involved in determining agent needs and prioriti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the potential process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 nature of the products that the process is to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the principal product attribu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 relative priorities of these 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 process features needed to produce these 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gent Needs and Prioriti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e the relationships among the product attributes and the process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tegorize these process features into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P - high 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 - 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 -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N - not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bjectives, Goals, Qual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etermine the process objectives, goals, and quality criteria define what a good process would look like to each using constitu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duct 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ganizatio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idering the agent’s needs, set composite product and process objec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the PSP as an example, define the using constituen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velopers of the PS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nts using th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fy the nature of products to be pro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mall experimental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improvem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Product Prioriti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est 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et the program functional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ize the number of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Product Prioriti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et the performance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ize the develop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ntain the development cost within 10% of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Product Prioritie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easy to use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aintainable 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usable object asset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 14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y defin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el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ocess developmen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Process Prioriti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est 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improvement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rehensive process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fully planned and tracke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Process Prioriti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re minimum latent product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ize test and rework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ximize process predic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Process Prioritie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ize cycl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ize development 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Goals and Criteria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al 1: learn how to produce an effectiv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improvement proposals (PIPs) are submit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ocess development process is used to make process upd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development data are gathered and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Goals and Criteria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al 2:  obtain comprehensive proces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final report is prepared on each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atabase is maintained for all defec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atabase is maintained for all plan and actual projec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Goals and Criteria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al 3: process and product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all inspection efficiency is above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defects are below 5/K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ile time is below 2% of total develop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Goals and Criteria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al 4:  process predic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stimate to actual standard deviations are under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Target Proces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arget process is used to relate process objectives to the process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setting a long-term direction, the target process guides process improvement prior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Target Proces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30240" y="1517760"/>
            <a:ext cx="74534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a target process will likely be hard to define, some helpful initial steps ar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ine other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vailable data on the curren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an early experimental version as a learning veh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a minimum, the target process should co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high-level listing of the principal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y process meas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improvement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Target Proces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k some questions about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ch steps are currently perform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ch steps are and are not well understoo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ch steps will be  frequently repe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ch steps will likely use the most resour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 do you expect the most proble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answers to guide your prototype studies and improvement prior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elected Process Term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curacy - the degree to which the process produces the intended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nt - the person or machine that enacts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delity - the faithfulness with which the process is fo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tness - the degree to which the agents can faithfully follow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urrent Proces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well do your understand the current proces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you describe the principal step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you know how these steps rel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you know the resource distribution among   these ste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each step have defined entry and exit criter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your current process have known serious deficienc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urrent Proces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the current process planned and track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it well enough measured to permit quantitative improvement pl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there a current quality base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hedule and cost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Development Strateg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k some questions about the steps in the current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some initial prior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the initial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nd adjust the initial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urrent Process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ch ste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e and are not well understoo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e frequently repe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most resour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use the most quality proble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ve the most management proble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ve the most technical proble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itial Prior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lude the following items in an early process 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initial planning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ic resource and produc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initial quality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ed estimates of all measured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ning and reporting forms for al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ocess completion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ostmortem phase for data gathering, data      analysis, and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ine, Test, and Adj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 the abstraction paradi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 define the total process as a single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cond define each subprocess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continue until the process is appropriately r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standard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cus on process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a walkthrough with availabl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an initial test with a small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courage use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inition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ocess captures knowledge; you must have   knowledge to develop a good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ly generally define the steps you know well and that do not cause current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udy and measure the steps you do not understand before attempting to define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steps you generally understand, define a little more than you know and revise the definition as your knowledge impro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ining Process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standard step definition template to ensure you include all the necessary i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s p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thods, procedures, and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ry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i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Definition Guide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th your current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 minimal initial enhanc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ly define things you know reasonably well how to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know a step well, focus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a step is confusing, experiment or talk to    someone who knows how to do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ect to get it wrong the firs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 to prototype an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 for perpetual enhan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 improvements in small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Ev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evolve and improve you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must be 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must reasonably represent what you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m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now where you want to 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willing to exper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serve and measure your own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ect process evolution to tak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elected Process Term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ision - the degree to which the process-defined actions produce accurat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architecture - a process design framew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definition - a process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design - an embodiment of a process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64040" y="3289320"/>
            <a:ext cx="1943280" cy="116856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at you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pp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4 Proces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8040" y="1701720"/>
            <a:ext cx="1943280" cy="116856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at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nt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54360" y="4775040"/>
            <a:ext cx="1943280" cy="116856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at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854360" y="2108160"/>
            <a:ext cx="1943280" cy="116856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at 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4040" y="3289320"/>
            <a:ext cx="1943280" cy="1168560"/>
          </a:xfrm>
          <a:prstGeom prst="ellipse">
            <a:avLst/>
          </a:prstGeom>
          <a:noFill/>
          <a:ln w="38160">
            <a:solidFill>
              <a:srgbClr val="302fb2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064040" y="3289320"/>
            <a:ext cx="1943280" cy="1168560"/>
          </a:xfrm>
          <a:prstGeom prst="rect">
            <a:avLst/>
          </a:prstGeom>
          <a:solidFill>
            <a:srgbClr val="302f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at you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pp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rt By Conve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13200" y="3352680"/>
            <a:ext cx="506880" cy="230400"/>
          </a:xfrm>
          <a:custGeom>
            <a:avLst/>
            <a:gdLst/>
            <a:ahLst/>
            <a:rect l="0" t="0" r="r" b="b"/>
            <a:pathLst>
              <a:path fill="none" w="1408" h="640">
                <a:moveTo>
                  <a:pt x="1408" y="0"/>
                </a:moveTo>
                <a:lnTo>
                  <a:pt x="1408" y="0"/>
                </a:lnTo>
                <a:cubicBezTo>
                  <a:pt x="1161" y="0"/>
                  <a:pt x="918" y="30"/>
                  <a:pt x="704" y="86"/>
                </a:cubicBezTo>
                <a:cubicBezTo>
                  <a:pt x="490" y="142"/>
                  <a:pt x="312" y="223"/>
                  <a:pt x="189" y="320"/>
                </a:cubicBezTo>
                <a:cubicBezTo>
                  <a:pt x="65" y="417"/>
                  <a:pt x="0" y="528"/>
                  <a:pt x="0" y="640"/>
                </a:cubicBezTo>
              </a:path>
            </a:pathLst>
          </a:custGeom>
          <a:ln w="38160">
            <a:solidFill>
              <a:srgbClr val="dede96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16920" y="4570560"/>
            <a:ext cx="271080" cy="406800"/>
          </a:xfrm>
          <a:custGeom>
            <a:avLst/>
            <a:gdLst/>
            <a:ahLst/>
            <a:rect l="0" t="0" r="r" b="b"/>
            <a:pathLst>
              <a:path fill="none" w="753" h="1130">
                <a:moveTo>
                  <a:pt x="0" y="1130"/>
                </a:moveTo>
                <a:lnTo>
                  <a:pt x="0" y="1130"/>
                </a:lnTo>
                <a:cubicBezTo>
                  <a:pt x="132" y="1130"/>
                  <a:pt x="262" y="1078"/>
                  <a:pt x="377" y="979"/>
                </a:cubicBezTo>
                <a:cubicBezTo>
                  <a:pt x="491" y="879"/>
                  <a:pt x="586" y="737"/>
                  <a:pt x="652" y="565"/>
                </a:cubicBezTo>
                <a:cubicBezTo>
                  <a:pt x="718" y="393"/>
                  <a:pt x="753" y="198"/>
                  <a:pt x="753" y="0"/>
                </a:cubicBezTo>
              </a:path>
            </a:pathLst>
          </a:custGeom>
          <a:ln w="38160">
            <a:solidFill>
              <a:srgbClr val="dede96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918040" y="1701720"/>
            <a:ext cx="1943280" cy="1168560"/>
          </a:xfrm>
          <a:prstGeom prst="rect">
            <a:avLst/>
          </a:prstGeom>
          <a:solidFill>
            <a:srgbClr val="004e4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at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nt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54360" y="4775040"/>
            <a:ext cx="1943280" cy="116856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at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54360" y="2108160"/>
            <a:ext cx="1943280" cy="116856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at 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40160" y="3479760"/>
            <a:ext cx="1943280" cy="1168560"/>
          </a:xfrm>
          <a:prstGeom prst="rect">
            <a:avLst/>
          </a:prstGeom>
          <a:solidFill>
            <a:srgbClr val="4747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40960" y="3122640"/>
            <a:ext cx="271080" cy="406800"/>
          </a:xfrm>
          <a:custGeom>
            <a:avLst/>
            <a:gdLst/>
            <a:ahLst/>
            <a:rect l="0" t="0" r="r" b="b"/>
            <a:pathLst>
              <a:path fill="none" w="753" h="1130">
                <a:moveTo>
                  <a:pt x="753" y="1130"/>
                </a:moveTo>
                <a:lnTo>
                  <a:pt x="753" y="1130"/>
                </a:lnTo>
                <a:lnTo>
                  <a:pt x="753" y="1130"/>
                </a:lnTo>
                <a:cubicBezTo>
                  <a:pt x="753" y="932"/>
                  <a:pt x="718" y="737"/>
                  <a:pt x="652" y="565"/>
                </a:cubicBezTo>
                <a:cubicBezTo>
                  <a:pt x="586" y="393"/>
                  <a:pt x="491" y="251"/>
                  <a:pt x="376" y="151"/>
                </a:cubicBezTo>
                <a:cubicBezTo>
                  <a:pt x="262" y="52"/>
                  <a:pt x="132" y="0"/>
                  <a:pt x="0" y="0"/>
                </a:cubicBezTo>
              </a:path>
            </a:pathLst>
          </a:custGeom>
          <a:ln w="38160">
            <a:solidFill>
              <a:srgbClr val="dede96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4040" y="3289320"/>
            <a:ext cx="1943280" cy="1168560"/>
          </a:xfrm>
          <a:prstGeom prst="ellipse">
            <a:avLst/>
          </a:prstGeom>
          <a:noFill/>
          <a:ln w="38160">
            <a:solidFill>
              <a:srgbClr val="302fb2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volving Your Proces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first objective should be to converge what you do, what you think you do, and what you are supposed to do to a comm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gence is an iterative process that lasts throughout process development and evolu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volving Your Proces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convergence is critical be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il converged, improvement actions will often not affect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gence provides a deeper understanding of the curren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gence can result in substantial behavior mod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Development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th a simplified process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 and measure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ord development time per process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 the numbers of product items by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productivity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 every process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ep a record of each process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a summary report for each process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100160" y="7700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Process Development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30480" y="2039760"/>
            <a:ext cx="1219320" cy="406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d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30480" y="2649600"/>
            <a:ext cx="1219320" cy="406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view P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63880" y="3327480"/>
            <a:ext cx="1353960" cy="4748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ep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efini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30480" y="4614840"/>
            <a:ext cx="1219320" cy="406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st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pd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30480" y="5224320"/>
            <a:ext cx="1219320" cy="406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t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r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468760" y="3327480"/>
            <a:ext cx="1152360" cy="3380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68760" y="4208400"/>
            <a:ext cx="1152360" cy="3380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468760" y="5021280"/>
            <a:ext cx="1152360" cy="406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b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68760" y="2243160"/>
            <a:ext cx="1152360" cy="406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s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mp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9960" y="2446200"/>
            <a:ext cx="0" cy="203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05604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9960" y="434340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9960" y="5021280"/>
            <a:ext cx="0" cy="20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317840" y="2243160"/>
            <a:ext cx="1150920" cy="10843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17840" y="3801960"/>
            <a:ext cx="1135080" cy="157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78600" y="2649600"/>
            <a:ext cx="0" cy="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76520" y="2649600"/>
            <a:ext cx="1015920" cy="4748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mis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92440" y="2852640"/>
            <a:ext cx="3380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7840" y="3462480"/>
            <a:ext cx="11509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17840" y="3598920"/>
            <a:ext cx="1150920" cy="812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30480" y="4005360"/>
            <a:ext cx="1219320" cy="3416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ur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finement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39960" y="3868560"/>
            <a:ext cx="0" cy="136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557440" y="4208400"/>
            <a:ext cx="47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7440" y="3598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7440" y="3598920"/>
            <a:ext cx="4064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068560" y="3827520"/>
            <a:ext cx="4190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4 Assig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te the final re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pdate the process used to develop the mid-term report and use it to develop the final re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urn in the updated process, the plan for the work, the actual data for the work, and the final re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ult the report specifications in Appendix 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6160" y="71280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1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Process development is an evolution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You must understand your process bef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properly define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Process development is a process t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ould also be defined, measured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a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elected Process Term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element - a component of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script - a process definition suitable for a human a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step - an atomic process action with no visible external sub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tailoring - the act of adopting a process design to support a particular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Define a Proc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purpose of a defined process is to help agents to faithfully enac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help to automate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provide a framework for process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improve the process - if you don’t know what you are doing, you can’t improv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ftware Process El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d scripts for performing the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et of planning, tracking, and recording forms and tem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et of standards and check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improvement procedure, with process improvement proposal (PIP) forms an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Forma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many possible process forma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onvenient format is helpful but not cri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extbook follows the principles of information mapp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formation Mapp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les of information m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oup information into manageable chu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ce only like things together in chu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 label for each c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consistent with terms, organization,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ables, illustrations,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at the most usable level of d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 clear hierarchy of chu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