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165-4047-4B56-B1E7-69D09AAB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DF9-1537-4ED8-827E-579BCE91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02D-4851-4BE4-9F99-D0B0F6DD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722-7899-49E4-B5D4-3C3548D5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2BB-0BFB-4136-8242-25DD9935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E0D-7E9F-4799-8361-6485F4BC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14C-7893-4C90-AABD-EFA90B22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2E6-9DBB-4999-B178-62645720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CCF-1FA3-42D7-833F-CED89721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2C8-7FDD-4264-A3B4-86A1B3C3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112-14F8-4F6F-9A06-FCAC9D56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3DE-DF2B-4373-ACD1-25087D6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38A0-8BD2-4C59-B7BE-D34E733B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vas Mídi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Meta-Mídia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iz Ve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volução em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ibulum Purus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entesque Tincidunt Luc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ecenas Non Sap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 Neque Di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que Porro Quisqu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volução em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ática + Telecomunic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údos Digi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 In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dades Virt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s Bases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ços pela 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dencias de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e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mi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v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a fide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dencias de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ro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ção Distribu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 Inteli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t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dade Aum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er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dencias de Prod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qu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 Var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atur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iv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 e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-Mí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981080"/>
            <a:ext cx="914400" cy="91440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1981080"/>
            <a:ext cx="99036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057400"/>
            <a:ext cx="1295280" cy="762120"/>
          </a:xfrm>
          <a:prstGeom prst="parallelogram">
            <a:avLst>
              <a:gd name="adj" fmla="val 424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429000"/>
            <a:ext cx="914400" cy="91440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3429000"/>
            <a:ext cx="99036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505320"/>
            <a:ext cx="1295280" cy="761760"/>
          </a:xfrm>
          <a:prstGeom prst="parallelogram">
            <a:avLst>
              <a:gd name="adj" fmla="val 42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800600"/>
            <a:ext cx="914400" cy="91440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4800600"/>
            <a:ext cx="99036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4876920"/>
            <a:ext cx="1295280" cy="761760"/>
          </a:xfrm>
          <a:prstGeom prst="parallelogram">
            <a:avLst>
              <a:gd name="adj" fmla="val 42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3657600"/>
            <a:ext cx="1295280" cy="304920"/>
          </a:xfrm>
          <a:prstGeom prst="leftRightArrow">
            <a:avLst>
              <a:gd name="adj1" fmla="val 36454"/>
              <a:gd name="adj2" fmla="val 635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029200"/>
            <a:ext cx="1295280" cy="304920"/>
          </a:xfrm>
          <a:prstGeom prst="leftRightArrow">
            <a:avLst>
              <a:gd name="adj1" fmla="val 36454"/>
              <a:gd name="adj2" fmla="val 635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105520"/>
            <a:ext cx="1295280" cy="304560"/>
          </a:xfrm>
          <a:prstGeom prst="leftRightArrow">
            <a:avLst>
              <a:gd name="adj1" fmla="val 36454"/>
              <a:gd name="adj2" fmla="val 6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657600"/>
            <a:ext cx="1295280" cy="304920"/>
          </a:xfrm>
          <a:prstGeom prst="leftRightArrow">
            <a:avLst>
              <a:gd name="adj1" fmla="val 36454"/>
              <a:gd name="adj2" fmla="val 635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286000"/>
            <a:ext cx="1295640" cy="304920"/>
          </a:xfrm>
          <a:prstGeom prst="leftRightArrow">
            <a:avLst>
              <a:gd name="adj1" fmla="val 36454"/>
              <a:gd name="adj2" fmla="val 635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286000"/>
            <a:ext cx="1295280" cy="304920"/>
          </a:xfrm>
          <a:prstGeom prst="leftRightArrow">
            <a:avLst>
              <a:gd name="adj1" fmla="val 36454"/>
              <a:gd name="adj2" fmla="val 635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743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895480"/>
            <a:ext cx="121896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38280" y="27432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03848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38280" y="396216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38280" y="2895480"/>
            <a:ext cx="121932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2743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2895480"/>
            <a:ext cx="121896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10080" y="27432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03848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410080" y="396216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410080" y="2895480"/>
            <a:ext cx="121932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9718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3434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289548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426708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289548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43434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55" idx="0"/>
            <a:endCxn id="54" idx="0"/>
          </p:cNvCxnSpPr>
          <p:nvPr/>
        </p:nvCxnSpPr>
        <p:spPr>
          <a:xfrm flipV="1" rot="16200000">
            <a:off x="4509720" y="-938880"/>
            <a:ext cx="10080" cy="5829840"/>
          </a:xfrm>
          <a:prstGeom prst="curvedConnector5">
            <a:avLst>
              <a:gd name="adj1" fmla="val 4062962"/>
              <a:gd name="adj2" fmla="val 49996"/>
              <a:gd name="adj3" fmla="val 406296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/>
          <p:nvPr/>
        </p:nvCxnSpPr>
        <p:spPr>
          <a:xfrm rot="10800000">
            <a:off x="1904400" y="3428280"/>
            <a:ext cx="5029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" name=""/>
          <p:cNvCxnSpPr>
            <a:stCxn id="61" idx="2"/>
            <a:endCxn id="60" idx="4"/>
          </p:cNvCxnSpPr>
          <p:nvPr/>
        </p:nvCxnSpPr>
        <p:spPr>
          <a:xfrm rot="5400000">
            <a:off x="4433400" y="2728800"/>
            <a:ext cx="162360" cy="5829840"/>
          </a:xfrm>
          <a:prstGeom prst="curvedConnector5">
            <a:avLst>
              <a:gd name="adj1" fmla="val 243111"/>
              <a:gd name="adj2" fmla="val 49996"/>
              <a:gd name="adj3" fmla="val 24311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56" idx="5"/>
            <a:endCxn id="62" idx="5"/>
          </p:cNvCxnSpPr>
          <p:nvPr/>
        </p:nvCxnSpPr>
        <p:spPr>
          <a:xfrm flipH="1" flipV="1" rot="10800000">
            <a:off x="4086000" y="2437920"/>
            <a:ext cx="2160" cy="2820240"/>
          </a:xfrm>
          <a:prstGeom prst="curvedConnector5">
            <a:avLst>
              <a:gd name="adj1" fmla="val -20500000"/>
              <a:gd name="adj2" fmla="val 49993"/>
              <a:gd name="adj3" fmla="val -20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727800" y="60199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nologias / Dados /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os Paradig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ção / Linguagem /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ação no Plan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ção Social e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s e Modelos de Negó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gui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1:50:34Z</dcterms:created>
  <dc:creator>lvelho</dc:creator>
  <dc:description/>
  <dc:language>en-US</dc:language>
  <cp:lastModifiedBy>lvelho</cp:lastModifiedBy>
  <cp:lastPrinted>2006-05-07T04:53:42Z</cp:lastPrinted>
  <dcterms:modified xsi:type="dcterms:W3CDTF">2006-05-08T02:23:05Z</dcterms:modified>
  <cp:revision>9</cp:revision>
  <dc:subject/>
  <dc:title>Novas Mídias &lt;Meta-Mídia&gt;</dc:title>
</cp:coreProperties>
</file>