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656-F514-494B-A0C1-8DAF47D3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99E-2775-4ECC-91B7-F3AE7FA0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D5C-E26B-497A-A829-5A80BF2E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337-92C8-495C-9D70-BD65DAC5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5B8-5DBC-499F-8C6F-A2E84B7A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642-2783-4E86-A4F2-4544B1E3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90F-5A51-47F6-800E-4F4CBE7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7D0-C46D-420A-A2BD-DE77F547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9CB-6BF2-4CA1-B254-53DF88B8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E13-EC59-4F4B-A8FB-02184F3A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175-A402-4C9F-8177-7208AA81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DF9-D660-4781-BE6A-C1AD9689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8648-7C9A-4B9F-B82D-CFBAFB52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andes Desafios da S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Paulo, 8-9 de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Qual é o desafio? e Por que é importan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prática importante da comunidade da computação acadêmica será resolver problemas de outras 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problemas devem envolver grande volume de dados, por exemplo, provenientes de redes de senso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e cenário, identifica-se a necessidade de criar, avaliar, modificar, compor, gerenciar modelos computacionais para essas aplic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afio: Exemplo de uma instâ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8000" y="2565360"/>
            <a:ext cx="21603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4502160"/>
            <a:ext cx="943200" cy="942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6280" y="1557360"/>
            <a:ext cx="204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licaçã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 um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olume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335772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484000" y="3129120"/>
            <a:ext cx="2879640" cy="3179520"/>
            <a:chOff x="2484000" y="3129120"/>
            <a:chExt cx="2879640" cy="3179520"/>
          </a:xfrm>
        </p:grpSpPr>
        <p:sp>
          <p:nvSpPr>
            <p:cNvPr id="67" name=""/>
            <p:cNvSpPr/>
            <p:nvPr/>
          </p:nvSpPr>
          <p:spPr>
            <a:xfrm rot="5400000">
              <a:off x="3782520" y="3138480"/>
              <a:ext cx="282600" cy="2879640"/>
            </a:xfrm>
            <a:custGeom>
              <a:avLst/>
              <a:gdLst>
                <a:gd name="textAreaLeft" fmla="*/ 180720 w 282600"/>
                <a:gd name="textAreaRight" fmla="*/ 282960 w 282600"/>
                <a:gd name="textAreaTop" fmla="*/ 74880 h 2879640"/>
                <a:gd name="textAreaBottom" fmla="*/ 2804760 h 28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4600" y="3129120"/>
              <a:ext cx="2274840" cy="9169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rtefato para tra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eta-modelos p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ados e 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89280" y="4568760"/>
              <a:ext cx="2402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safios científico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éc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etod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erram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26920" y="4005360"/>
            <a:ext cx="36036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962240" cy="3025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91280" y="3357720"/>
            <a:ext cx="576000" cy="431640"/>
          </a:xfrm>
          <a:prstGeom prst="rightArrow">
            <a:avLst>
              <a:gd name="adj1" fmla="val 50000"/>
              <a:gd name="adj2" fmla="val 33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01080" y="2276640"/>
            <a:ext cx="287280" cy="865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6680" y="17002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propriado de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94800" y="581184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propria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Redes, dados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516720" y="5734080"/>
            <a:ext cx="719280" cy="216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ções para os próximos 10 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r artefatos para tratar meta-modelos para dados e proce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ia, técnicas, metodologias, ferramentas, proce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nder os fundamentos de áreas como Bancos de Dados e Redes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uxos de dados, algoritmos distribuí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sibilizar a área da computação para os problemas da interdisciplinar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de resposta, vocabul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r novos profissionais com preparo para interagir com essas áreas e modelos computa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Yoshiraru Kohayakawa (IME-USP), Edmundo Silva (UFRJ), José Palazzo (UFRGS), Antonio Furtado (PUC-Rio), André Ponce (ICMC-U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Pesquisa joint ve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er modelo de ensino e pesquisa joint venture entre á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mular interação multidiscipl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aplicação: meio ambiente, agropecuária, e-learning, entretenimento digital, telemedicina, informação narrativa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entivar multidisciplinaridade; feedback para fortalecimento d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r massa crítica nos próximos 10 anos; redução da perda de pesquisadores para o ex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ia Cecilia Baranauskas (Unicamp), Paulo Eduardo Artaxo (IF-USP), Angelo Brayner (UNIFOR), Imre Simon (USP/TIDIA), Leila Ribeiro (UFR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delagem Multidisciplinar de Sistemas Compl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icul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gração de discip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cação entre pesquis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são que outras áreas têm da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foques diferenciados entre discip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endimento dos 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oritmos para assimilação de grandes volumes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faces adequadas ao domínio de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 flexibilidade nos currículos (mais generli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as capabilidades do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científica multidiscipl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úmero de áreas envolv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dade de replicar medidas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dimentação/Construção/ Constituição de uma Cultura Digital no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icul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sso aos recursos fí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fa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iciência em conteúdos e aplic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ção e capaci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seminação de compet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isionamento” em tecnologias propriet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ções Propo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líticas públicas de a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W e HW adaptáveis a necessidades lo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ção de a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entivar criação de conteú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er interfaces flexí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er ambientes com mobilidade e consciência de con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 colaborativo de SW a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ndizagem eletrônica contin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dimentação/Construção/ Constituição de uma Cultura Digital no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ricas para aval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oção dos sistemas na socie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ponilização das ferramentas e amb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úmero de agentes de multiplicadores no processo de dissemi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o e geração de conteúdo pela com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laudia Bauzer Medeiros (Unicamp), Virgilio Almeida (UFMG), Jose Carlos Maldonado (ICMC - USP), Carlos Lucena (PUC-Rio), Claudio Lucchesi (Unica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larisse (PUC-Rio), Flavio Wagner (UFRGS), Marcos Gonçalves (UFMG), Wagner Meira Jr. (UF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orde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cnologias de informação aplicadas à edu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ção e modelagem da complexidade da natureza, relações sociais e da interação homem-natu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actos da CC na transição tecnólogica do silício para as  novas tecnolo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o ao conhecimento para o cidadão brasil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utação confiável e seg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essibilidade Uni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putação ubíqua e dispon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canismos de superação de barreiras físicas, ambientais  e sócio-cultu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ratamento de heterogeneidade: perfil, interesse, aplicação, representação e semântica dos d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enefíc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ociedade: inclusão social, melhoria da qualidade de vida, melhoria das tomadas de decisão, governo alcançar cidadãos que hoje ele não alc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squisa: ontologias de informação e da interface, sistemas complexos de representação de informação, adaptabilidade da informação  e da interface, descoberta e utilização de contexto, descrição de formas para medir o sucesso (métricas adequadas de suces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ariantes: correção, escala, ut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ficuldades e barrei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álogo com outras á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 da S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usência e RH prepa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ticipação efetiva da sociedade ou segmentos da socie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enár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nitoramento epidemio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esso do cidadão aos serviços públicos (saúde e educaçã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cultar ao cidadão a participaçã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mputação Onivalente: convivência com fal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ar e implementar sistemas computacionais que estão s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ní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al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íq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sistência histórica e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s sistemas podem ser organizados em três níveis: hardware, software 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sistência histórica e ambiental: tempo e espaço não afetam a identidade e a integridade dos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variantes: tudo falha (dado, sistema, usuário) e evo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ários: os mesmos da acessibilidade unive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mputação Onivalente: convivência com fal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enefí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mentar o nível de confiança na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servação da memóri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gração entre as áreas de pesqu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s de medir o su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upos de coop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ar qualidade das informações prov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 longo dos anos, trabalhar com os dados de 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ejamento estraté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minários te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enários para provas de conc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tâncias de acompanh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ívio Ziviani (UFMG), Luiz Velho (IMPA-RJ), Philippe Navaux (UFRGS), Arndt von Staa (PUC-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tegração e Aplicação em Grandes Volumes de Dados Multimí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af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1) Integração e (2) aplicações em grandes volumes distribuídos de dados 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squ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presentação de dados 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cessamento distribuído (P2P) e/ou paralelo (diferentes níveis – multicore, grid, processad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s de comunicação heterogêneas e pervas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ntrada/saída multimo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ução da massa de dados por meio de modelagem comput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inição de contexto considerando loccalização do usuário, atividades, inte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envolvimento de interfaces humano-computador efe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écnicas de aquisição de dados tais como redes de sensores, celulares, PDAs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todos de reprodução de dados multimídia, icluindo visualiz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tamento da validação dos dados e da proteção da propriedade intele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riar técnicas para o desenvolvimento a baixo custo de software fidedig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strumentar a acess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icardo Torres (Unicamp), Jacques Wainer (Unicamp), Antonio Loureiro (UFMG), Marta Mattoso (UFR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Gerenciamento de Modelos Computacio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turo: nós vamos resolver problemas de </a:t>
            </a:r>
            <a:r>
              <a:rPr b="0" lang="pt-BR" sz="2800" spc="-1" strike="noStrike">
                <a:solidFill>
                  <a:srgbClr val="800000"/>
                </a:solidFill>
                <a:latin typeface="Arial"/>
              </a:rPr>
              <a:t>outras áre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grande volume de d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afio: criar, avaliar, modificar, compor e gerenciar </a:t>
            </a:r>
            <a:r>
              <a:rPr b="0" lang="pt-BR" sz="2800" spc="-1" strike="noStrike">
                <a:solidFill>
                  <a:srgbClr val="800000"/>
                </a:solidFill>
                <a:latin typeface="Arial"/>
              </a:rPr>
              <a:t>Modelos Computacionai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dados e proces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artefatos para tratar meta-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nder os fundametos de áreas como BD e 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sibilizar” para problemas de interdisciplina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r novos profiss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1:53:06Z</dcterms:created>
  <dc:creator>rtorres</dc:creator>
  <dc:description/>
  <dc:language>en-US</dc:language>
  <cp:lastModifiedBy>rtorres</cp:lastModifiedBy>
  <dcterms:modified xsi:type="dcterms:W3CDTF">2006-05-09T13:37:25Z</dcterms:modified>
  <cp:revision>50</cp:revision>
  <dc:subject/>
  <dc:title>Grandes Desafios da SBC</dc:title>
</cp:coreProperties>
</file>