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6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CB5B-F761-4723-A5A8-DAA3B00F999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Within scientific commun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:-the data is much more disper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the goal in modeling scientific problems was to find and to formulate governing laws in the form of precise mathematical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t has long been recognized that such perfect descriptions are not always possible. Incomplete and imprecise knowledge, observations that are often of a qualitative nature, the great heterogeneity of the surrounding world, boundaries and initial conditions being not completely know, all this generate the search for data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 build a model that </a:t>
            </a: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does not need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complex mathematical equations, one needs sufficient and good da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oje vivemos um momento semelhante ao potencial oferecido pelo telescopio de Galileo no seculo 15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Discovery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B6B-D65F-4979-8BDC-03A88C23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396-CADE-43FF-8789-887F187D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15A-83EB-4061-9FBA-4D4738D1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B71-C52C-4B92-8413-F6CE06C8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6A60-68B6-4CEA-B1B0-2F1D784B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CE51-9638-42C6-A79B-3207CFDF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6003-9751-44D2-ACBA-5D6DF783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558A-82BF-4F68-9227-657C854B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2089-F223-4288-B1BC-9B7B2961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D65F-71F4-4F9C-8BDB-645E9B28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83B0-E2A9-4326-AB44-60D5276D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4C5-7929-4204-BA32-41D9CC0B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D027-0DC3-4759-997C-21BCC407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C810-1061-4034-8711-888E7820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949A-F260-45ED-9641-2BCF62D4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D3B9-C2D7-41E4-BAE3-7E735643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E5E2-E70B-4EB6-8BF6-AF382ACB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ECD-8277-4323-ADD5-B5168CE3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84C-16A9-48D3-B55C-EFD19948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1B4-CBF9-4664-992A-CDB8CBF7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247-10EF-4470-B13F-98D60056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12B-5021-41B5-A9E4-D2820388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829-BE63-42CB-862D-EC0B05FC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72C-8B8C-4C96-98B2-2E025F79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4288-35B6-4747-BC7D-D0A80178B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15480" y="44280"/>
            <a:ext cx="102852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68000" y="6308640"/>
            <a:ext cx="26384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79280" y="5905440"/>
            <a:ext cx="36720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99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99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178920" y="6308640"/>
            <a:ext cx="289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000" spc="-1" strike="noStrike">
                <a:solidFill>
                  <a:srgbClr val="0099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DE2D-9E96-4E40-AC23-56511CE6DE73}" type="slidenum">
              <a:rPr b="0" sz="1000" spc="-1" strike="noStrike">
                <a:solidFill>
                  <a:srgbClr val="0099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1.png"/><Relationship Id="rId12" Type="http://schemas.openxmlformats.org/officeDocument/2006/relationships/image" Target="../media/image22.jpeg"/><Relationship Id="rId13" Type="http://schemas.openxmlformats.org/officeDocument/2006/relationships/image" Target="../media/image23.png"/><Relationship Id="rId14" Type="http://schemas.openxmlformats.org/officeDocument/2006/relationships/image" Target="../media/image11.jpeg"/><Relationship Id="rId15" Type="http://schemas.openxmlformats.org/officeDocument/2006/relationships/image" Target="../media/image24.png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image" Target="../media/image11.jpe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1720" y="1484280"/>
            <a:ext cx="8231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ência em Larga Esc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685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284960" y="115920"/>
            <a:ext cx="1751040" cy="1438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20880" y="2852640"/>
            <a:ext cx="74674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ta Mattoso  &amp;  Guilherme Travas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baseline="30000">
                <a:solidFill>
                  <a:srgbClr val="000000"/>
                </a:solidFill>
                <a:latin typeface="Arial"/>
              </a:rPr>
              <a:t>{marta, ght} @cos.ufrj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baseline="30000">
                <a:solidFill>
                  <a:srgbClr val="000000"/>
                </a:solidFill>
                <a:latin typeface="Arial"/>
              </a:rPr>
              <a:t>COPPE- Sistemas / UFR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5373720"/>
            <a:ext cx="8231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des Desaf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4221000"/>
            <a:ext cx="17287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57200" y="285264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ngenharia de Aplicações Cient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erência de Workflow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mbientes Computacionais (HPC) em Grid, redes móveis, sensor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veniência e curadoria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canismos para Gerenciamento e Manutenção de Conheciment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67200" y="50148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ãos a obra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67640" y="1262160"/>
            <a:ext cx="46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os e Técn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egrated Computational Environment for Modeling, Simulation and Visualization of Sedimentary Basins and Petroleum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622520" y="2135160"/>
            <a:ext cx="1197000" cy="388800"/>
            <a:chOff x="1622520" y="2135160"/>
            <a:chExt cx="1197000" cy="388800"/>
          </a:xfrm>
        </p:grpSpPr>
        <p:sp>
          <p:nvSpPr>
            <p:cNvPr id="329" name=""/>
            <p:cNvSpPr/>
            <p:nvPr/>
          </p:nvSpPr>
          <p:spPr>
            <a:xfrm>
              <a:off x="1622520" y="2135160"/>
              <a:ext cx="1197000" cy="388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22520" y="2135160"/>
              <a:ext cx="1197000" cy="3888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047680" y="22464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622520" y="3146400"/>
            <a:ext cx="1197000" cy="387360"/>
            <a:chOff x="1622520" y="3146400"/>
            <a:chExt cx="1197000" cy="387360"/>
          </a:xfrm>
        </p:grpSpPr>
        <p:sp>
          <p:nvSpPr>
            <p:cNvPr id="333" name=""/>
            <p:cNvSpPr/>
            <p:nvPr/>
          </p:nvSpPr>
          <p:spPr>
            <a:xfrm>
              <a:off x="1622520" y="3146400"/>
              <a:ext cx="1197000" cy="387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22520" y="3146400"/>
              <a:ext cx="1197000" cy="38736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047680" y="325764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622520" y="4156200"/>
            <a:ext cx="1197000" cy="388800"/>
            <a:chOff x="1622520" y="4156200"/>
            <a:chExt cx="1197000" cy="388800"/>
          </a:xfrm>
        </p:grpSpPr>
        <p:sp>
          <p:nvSpPr>
            <p:cNvPr id="337" name=""/>
            <p:cNvSpPr/>
            <p:nvPr/>
          </p:nvSpPr>
          <p:spPr>
            <a:xfrm>
              <a:off x="1622520" y="4156200"/>
              <a:ext cx="1197000" cy="388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22520" y="4156200"/>
              <a:ext cx="1197000" cy="3888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061360" y="426708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622520" y="5145120"/>
            <a:ext cx="1197000" cy="387360"/>
            <a:chOff x="1622520" y="5145120"/>
            <a:chExt cx="1197000" cy="387360"/>
          </a:xfrm>
        </p:grpSpPr>
        <p:sp>
          <p:nvSpPr>
            <p:cNvPr id="341" name=""/>
            <p:cNvSpPr/>
            <p:nvPr/>
          </p:nvSpPr>
          <p:spPr>
            <a:xfrm>
              <a:off x="1622520" y="5145120"/>
              <a:ext cx="1197000" cy="387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22520" y="5145120"/>
              <a:ext cx="1197000" cy="38736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993680" y="5256360"/>
            <a:ext cx="45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646440" y="2249640"/>
            <a:ext cx="257400" cy="158760"/>
            <a:chOff x="3646440" y="2249640"/>
            <a:chExt cx="257400" cy="158760"/>
          </a:xfrm>
        </p:grpSpPr>
        <p:sp>
          <p:nvSpPr>
            <p:cNvPr id="345" name=""/>
            <p:cNvSpPr/>
            <p:nvPr/>
          </p:nvSpPr>
          <p:spPr>
            <a:xfrm>
              <a:off x="3646440" y="2249640"/>
              <a:ext cx="257400" cy="158760"/>
            </a:xfrm>
            <a:prstGeom prst="ellipse">
              <a:avLst/>
            </a:prstGeom>
            <a:solidFill>
              <a:srgbClr val="cc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46440" y="2249640"/>
              <a:ext cx="257400" cy="15876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646440" y="5129280"/>
            <a:ext cx="257400" cy="160200"/>
            <a:chOff x="3646440" y="5129280"/>
            <a:chExt cx="257400" cy="160200"/>
          </a:xfrm>
        </p:grpSpPr>
        <p:sp>
          <p:nvSpPr>
            <p:cNvPr id="348" name=""/>
            <p:cNvSpPr/>
            <p:nvPr/>
          </p:nvSpPr>
          <p:spPr>
            <a:xfrm>
              <a:off x="3646440" y="5129280"/>
              <a:ext cx="257400" cy="160200"/>
            </a:xfrm>
            <a:prstGeom prst="ellipse">
              <a:avLst/>
            </a:prstGeom>
            <a:solidFill>
              <a:srgbClr val="cc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46440" y="5129280"/>
              <a:ext cx="257400" cy="1602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646440" y="5391000"/>
            <a:ext cx="257400" cy="160200"/>
            <a:chOff x="3646440" y="5391000"/>
            <a:chExt cx="257400" cy="160200"/>
          </a:xfrm>
        </p:grpSpPr>
        <p:sp>
          <p:nvSpPr>
            <p:cNvPr id="351" name=""/>
            <p:cNvSpPr/>
            <p:nvPr/>
          </p:nvSpPr>
          <p:spPr>
            <a:xfrm>
              <a:off x="3646440" y="5391000"/>
              <a:ext cx="257400" cy="160200"/>
            </a:xfrm>
            <a:prstGeom prst="ellipse">
              <a:avLst/>
            </a:prstGeom>
            <a:solidFill>
              <a:srgbClr val="cc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46440" y="5391000"/>
              <a:ext cx="257400" cy="1602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646440" y="4114800"/>
            <a:ext cx="257400" cy="158760"/>
            <a:chOff x="3646440" y="4114800"/>
            <a:chExt cx="257400" cy="158760"/>
          </a:xfrm>
        </p:grpSpPr>
        <p:sp>
          <p:nvSpPr>
            <p:cNvPr id="354" name=""/>
            <p:cNvSpPr/>
            <p:nvPr/>
          </p:nvSpPr>
          <p:spPr>
            <a:xfrm>
              <a:off x="3646440" y="4114800"/>
              <a:ext cx="257400" cy="158760"/>
            </a:xfrm>
            <a:prstGeom prst="ellipse">
              <a:avLst/>
            </a:prstGeom>
            <a:solidFill>
              <a:srgbClr val="cc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46440" y="4114800"/>
              <a:ext cx="257400" cy="15876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646440" y="4370400"/>
            <a:ext cx="257400" cy="160200"/>
            <a:chOff x="3646440" y="4370400"/>
            <a:chExt cx="257400" cy="160200"/>
          </a:xfrm>
        </p:grpSpPr>
        <p:sp>
          <p:nvSpPr>
            <p:cNvPr id="357" name=""/>
            <p:cNvSpPr/>
            <p:nvPr/>
          </p:nvSpPr>
          <p:spPr>
            <a:xfrm>
              <a:off x="3646440" y="4370400"/>
              <a:ext cx="257400" cy="160200"/>
            </a:xfrm>
            <a:prstGeom prst="ellipse">
              <a:avLst/>
            </a:prstGeom>
            <a:solidFill>
              <a:srgbClr val="cc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46440" y="4370400"/>
              <a:ext cx="257400" cy="1602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46440" y="3110040"/>
            <a:ext cx="257400" cy="160200"/>
            <a:chOff x="3646440" y="3110040"/>
            <a:chExt cx="257400" cy="160200"/>
          </a:xfrm>
        </p:grpSpPr>
        <p:sp>
          <p:nvSpPr>
            <p:cNvPr id="360" name=""/>
            <p:cNvSpPr/>
            <p:nvPr/>
          </p:nvSpPr>
          <p:spPr>
            <a:xfrm>
              <a:off x="3646440" y="3110040"/>
              <a:ext cx="257400" cy="160200"/>
            </a:xfrm>
            <a:prstGeom prst="ellipse">
              <a:avLst/>
            </a:prstGeom>
            <a:solidFill>
              <a:srgbClr val="cc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6440" y="3110040"/>
              <a:ext cx="257400" cy="1602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646440" y="3384720"/>
            <a:ext cx="257400" cy="160200"/>
            <a:chOff x="3646440" y="3384720"/>
            <a:chExt cx="257400" cy="160200"/>
          </a:xfrm>
        </p:grpSpPr>
        <p:sp>
          <p:nvSpPr>
            <p:cNvPr id="363" name=""/>
            <p:cNvSpPr/>
            <p:nvPr/>
          </p:nvSpPr>
          <p:spPr>
            <a:xfrm>
              <a:off x="3646440" y="3384720"/>
              <a:ext cx="257400" cy="160200"/>
            </a:xfrm>
            <a:prstGeom prst="ellipse">
              <a:avLst/>
            </a:prstGeom>
            <a:solidFill>
              <a:srgbClr val="cc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46440" y="3384720"/>
              <a:ext cx="257400" cy="1602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254040" y="2151000"/>
            <a:ext cx="261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62320" y="3041640"/>
            <a:ext cx="25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E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56200" y="3541680"/>
            <a:ext cx="259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9600" y="4546440"/>
            <a:ext cx="24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71760" y="554832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355920" y="5070600"/>
            <a:ext cx="17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14480" y="2301840"/>
            <a:ext cx="831960" cy="57240"/>
          </a:xfrm>
          <a:custGeom>
            <a:avLst/>
            <a:gdLst/>
            <a:ahLst/>
            <a:rect l="l" t="t" r="r" b="b"/>
            <a:pathLst>
              <a:path w="5875" h="400">
                <a:moveTo>
                  <a:pt x="34" y="167"/>
                </a:moveTo>
                <a:lnTo>
                  <a:pt x="5542" y="167"/>
                </a:lnTo>
                <a:cubicBezTo>
                  <a:pt x="5561" y="167"/>
                  <a:pt x="5575" y="182"/>
                  <a:pt x="5575" y="200"/>
                </a:cubicBezTo>
                <a:cubicBezTo>
                  <a:pt x="5575" y="219"/>
                  <a:pt x="5561" y="234"/>
                  <a:pt x="5542" y="234"/>
                </a:cubicBezTo>
                <a:lnTo>
                  <a:pt x="34" y="234"/>
                </a:lnTo>
                <a:cubicBezTo>
                  <a:pt x="15" y="234"/>
                  <a:pt x="0" y="219"/>
                  <a:pt x="0" y="200"/>
                </a:cubicBezTo>
                <a:cubicBezTo>
                  <a:pt x="0" y="182"/>
                  <a:pt x="15" y="167"/>
                  <a:pt x="34" y="167"/>
                </a:cubicBezTo>
                <a:close/>
                <a:moveTo>
                  <a:pt x="5475" y="0"/>
                </a:moveTo>
                <a:lnTo>
                  <a:pt x="5875" y="200"/>
                </a:lnTo>
                <a:lnTo>
                  <a:pt x="5475" y="400"/>
                </a:lnTo>
                <a:lnTo>
                  <a:pt x="5475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13040" y="3173400"/>
            <a:ext cx="833400" cy="173160"/>
          </a:xfrm>
          <a:custGeom>
            <a:avLst/>
            <a:gdLst/>
            <a:ahLst/>
            <a:rect l="l" t="t" r="r" b="b"/>
            <a:pathLst>
              <a:path w="5877" h="1220">
                <a:moveTo>
                  <a:pt x="30" y="1151"/>
                </a:moveTo>
                <a:lnTo>
                  <a:pt x="5544" y="152"/>
                </a:lnTo>
                <a:cubicBezTo>
                  <a:pt x="5562" y="148"/>
                  <a:pt x="5579" y="160"/>
                  <a:pt x="5582" y="179"/>
                </a:cubicBezTo>
                <a:cubicBezTo>
                  <a:pt x="5586" y="197"/>
                  <a:pt x="5574" y="214"/>
                  <a:pt x="5555" y="217"/>
                </a:cubicBezTo>
                <a:lnTo>
                  <a:pt x="42" y="1216"/>
                </a:lnTo>
                <a:cubicBezTo>
                  <a:pt x="24" y="1220"/>
                  <a:pt x="6" y="1208"/>
                  <a:pt x="3" y="1189"/>
                </a:cubicBezTo>
                <a:cubicBezTo>
                  <a:pt x="0" y="1171"/>
                  <a:pt x="12" y="1154"/>
                  <a:pt x="30" y="1151"/>
                </a:cubicBezTo>
                <a:close/>
                <a:moveTo>
                  <a:pt x="5448" y="0"/>
                </a:moveTo>
                <a:lnTo>
                  <a:pt x="5877" y="125"/>
                </a:lnTo>
                <a:lnTo>
                  <a:pt x="5520" y="393"/>
                </a:lnTo>
                <a:lnTo>
                  <a:pt x="544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13040" y="3335400"/>
            <a:ext cx="833400" cy="149040"/>
          </a:xfrm>
          <a:custGeom>
            <a:avLst/>
            <a:gdLst/>
            <a:ahLst/>
            <a:rect l="l" t="t" r="r" b="b"/>
            <a:pathLst>
              <a:path w="5877" h="1049">
                <a:moveTo>
                  <a:pt x="41" y="3"/>
                </a:moveTo>
                <a:lnTo>
                  <a:pt x="5553" y="828"/>
                </a:lnTo>
                <a:cubicBezTo>
                  <a:pt x="5571" y="831"/>
                  <a:pt x="5584" y="848"/>
                  <a:pt x="5581" y="866"/>
                </a:cubicBezTo>
                <a:cubicBezTo>
                  <a:pt x="5578" y="884"/>
                  <a:pt x="5561" y="897"/>
                  <a:pt x="5543" y="894"/>
                </a:cubicBezTo>
                <a:lnTo>
                  <a:pt x="31" y="68"/>
                </a:lnTo>
                <a:cubicBezTo>
                  <a:pt x="13" y="66"/>
                  <a:pt x="0" y="49"/>
                  <a:pt x="3" y="31"/>
                </a:cubicBezTo>
                <a:cubicBezTo>
                  <a:pt x="6" y="12"/>
                  <a:pt x="23" y="0"/>
                  <a:pt x="41" y="3"/>
                </a:cubicBezTo>
                <a:close/>
                <a:moveTo>
                  <a:pt x="5512" y="653"/>
                </a:moveTo>
                <a:lnTo>
                  <a:pt x="5877" y="910"/>
                </a:lnTo>
                <a:lnTo>
                  <a:pt x="5452" y="1049"/>
                </a:lnTo>
                <a:lnTo>
                  <a:pt x="5512" y="65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13040" y="4178160"/>
            <a:ext cx="833400" cy="177840"/>
          </a:xfrm>
          <a:custGeom>
            <a:avLst/>
            <a:gdLst/>
            <a:ahLst/>
            <a:rect l="l" t="t" r="r" b="b"/>
            <a:pathLst>
              <a:path w="5877" h="1259">
                <a:moveTo>
                  <a:pt x="30" y="1190"/>
                </a:moveTo>
                <a:lnTo>
                  <a:pt x="5544" y="151"/>
                </a:lnTo>
                <a:cubicBezTo>
                  <a:pt x="5562" y="148"/>
                  <a:pt x="5579" y="160"/>
                  <a:pt x="5583" y="178"/>
                </a:cubicBezTo>
                <a:cubicBezTo>
                  <a:pt x="5586" y="196"/>
                  <a:pt x="5574" y="213"/>
                  <a:pt x="5556" y="217"/>
                </a:cubicBezTo>
                <a:lnTo>
                  <a:pt x="42" y="1255"/>
                </a:lnTo>
                <a:cubicBezTo>
                  <a:pt x="24" y="1259"/>
                  <a:pt x="6" y="1247"/>
                  <a:pt x="3" y="1229"/>
                </a:cubicBezTo>
                <a:cubicBezTo>
                  <a:pt x="0" y="1211"/>
                  <a:pt x="12" y="1193"/>
                  <a:pt x="30" y="1190"/>
                </a:cubicBezTo>
                <a:close/>
                <a:moveTo>
                  <a:pt x="5447" y="0"/>
                </a:moveTo>
                <a:lnTo>
                  <a:pt x="5877" y="122"/>
                </a:lnTo>
                <a:lnTo>
                  <a:pt x="5521" y="393"/>
                </a:lnTo>
                <a:lnTo>
                  <a:pt x="544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3040" y="4346640"/>
            <a:ext cx="833400" cy="125280"/>
          </a:xfrm>
          <a:custGeom>
            <a:avLst/>
            <a:gdLst/>
            <a:ahLst/>
            <a:rect l="l" t="t" r="r" b="b"/>
            <a:pathLst>
              <a:path w="5877" h="894">
                <a:moveTo>
                  <a:pt x="40" y="2"/>
                </a:moveTo>
                <a:lnTo>
                  <a:pt x="5551" y="671"/>
                </a:lnTo>
                <a:cubicBezTo>
                  <a:pt x="5569" y="673"/>
                  <a:pt x="5582" y="689"/>
                  <a:pt x="5580" y="708"/>
                </a:cubicBezTo>
                <a:cubicBezTo>
                  <a:pt x="5577" y="726"/>
                  <a:pt x="5561" y="739"/>
                  <a:pt x="5543" y="737"/>
                </a:cubicBezTo>
                <a:lnTo>
                  <a:pt x="32" y="69"/>
                </a:lnTo>
                <a:cubicBezTo>
                  <a:pt x="14" y="66"/>
                  <a:pt x="0" y="50"/>
                  <a:pt x="3" y="31"/>
                </a:cubicBezTo>
                <a:cubicBezTo>
                  <a:pt x="5" y="13"/>
                  <a:pt x="22" y="0"/>
                  <a:pt x="40" y="2"/>
                </a:cubicBezTo>
                <a:close/>
                <a:moveTo>
                  <a:pt x="5504" y="497"/>
                </a:moveTo>
                <a:lnTo>
                  <a:pt x="5877" y="744"/>
                </a:lnTo>
                <a:lnTo>
                  <a:pt x="5456" y="894"/>
                </a:lnTo>
                <a:lnTo>
                  <a:pt x="5504" y="49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13040" y="5191200"/>
            <a:ext cx="833400" cy="152280"/>
          </a:xfrm>
          <a:custGeom>
            <a:avLst/>
            <a:gdLst/>
            <a:ahLst/>
            <a:rect l="l" t="t" r="r" b="b"/>
            <a:pathLst>
              <a:path w="5877" h="1073">
                <a:moveTo>
                  <a:pt x="31" y="1004"/>
                </a:moveTo>
                <a:lnTo>
                  <a:pt x="5543" y="155"/>
                </a:lnTo>
                <a:cubicBezTo>
                  <a:pt x="5561" y="152"/>
                  <a:pt x="5578" y="165"/>
                  <a:pt x="5581" y="183"/>
                </a:cubicBezTo>
                <a:cubicBezTo>
                  <a:pt x="5584" y="201"/>
                  <a:pt x="5571" y="218"/>
                  <a:pt x="5553" y="221"/>
                </a:cubicBezTo>
                <a:lnTo>
                  <a:pt x="41" y="1070"/>
                </a:lnTo>
                <a:cubicBezTo>
                  <a:pt x="23" y="1073"/>
                  <a:pt x="6" y="1060"/>
                  <a:pt x="3" y="1042"/>
                </a:cubicBezTo>
                <a:cubicBezTo>
                  <a:pt x="0" y="1024"/>
                  <a:pt x="13" y="1007"/>
                  <a:pt x="31" y="1004"/>
                </a:cubicBezTo>
                <a:close/>
                <a:moveTo>
                  <a:pt x="5452" y="0"/>
                </a:moveTo>
                <a:lnTo>
                  <a:pt x="5877" y="137"/>
                </a:lnTo>
                <a:lnTo>
                  <a:pt x="5513" y="396"/>
                </a:lnTo>
                <a:lnTo>
                  <a:pt x="545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13040" y="5334120"/>
            <a:ext cx="833400" cy="155520"/>
          </a:xfrm>
          <a:custGeom>
            <a:avLst/>
            <a:gdLst/>
            <a:ahLst/>
            <a:rect l="l" t="t" r="r" b="b"/>
            <a:pathLst>
              <a:path w="5877" h="1104">
                <a:moveTo>
                  <a:pt x="41" y="3"/>
                </a:moveTo>
                <a:lnTo>
                  <a:pt x="5554" y="884"/>
                </a:lnTo>
                <a:cubicBezTo>
                  <a:pt x="5572" y="887"/>
                  <a:pt x="5584" y="904"/>
                  <a:pt x="5581" y="922"/>
                </a:cubicBezTo>
                <a:cubicBezTo>
                  <a:pt x="5578" y="940"/>
                  <a:pt x="5561" y="953"/>
                  <a:pt x="5543" y="950"/>
                </a:cubicBezTo>
                <a:lnTo>
                  <a:pt x="31" y="69"/>
                </a:lnTo>
                <a:cubicBezTo>
                  <a:pt x="12" y="66"/>
                  <a:pt x="0" y="49"/>
                  <a:pt x="3" y="31"/>
                </a:cubicBezTo>
                <a:cubicBezTo>
                  <a:pt x="6" y="13"/>
                  <a:pt x="23" y="0"/>
                  <a:pt x="41" y="3"/>
                </a:cubicBezTo>
                <a:close/>
                <a:moveTo>
                  <a:pt x="5514" y="709"/>
                </a:moveTo>
                <a:lnTo>
                  <a:pt x="5877" y="969"/>
                </a:lnTo>
                <a:lnTo>
                  <a:pt x="5451" y="1104"/>
                </a:lnTo>
                <a:lnTo>
                  <a:pt x="5514" y="70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327640" y="2365200"/>
            <a:ext cx="1824120" cy="614520"/>
            <a:chOff x="5327640" y="2365200"/>
            <a:chExt cx="1824120" cy="614520"/>
          </a:xfrm>
        </p:grpSpPr>
        <p:sp>
          <p:nvSpPr>
            <p:cNvPr id="379" name=""/>
            <p:cNvSpPr/>
            <p:nvPr/>
          </p:nvSpPr>
          <p:spPr>
            <a:xfrm>
              <a:off x="5327640" y="2365200"/>
              <a:ext cx="1824120" cy="6145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483160" y="2466720"/>
              <a:ext cx="1511280" cy="409680"/>
              <a:chOff x="5483160" y="2466720"/>
              <a:chExt cx="1511280" cy="40968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5483160" y="2466720"/>
                <a:ext cx="1511280" cy="181080"/>
                <a:chOff x="5483160" y="2466720"/>
                <a:chExt cx="1511280" cy="1810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483160" y="2466720"/>
                  <a:ext cx="1511280" cy="181080"/>
                </a:xfrm>
                <a:prstGeom prst="rect">
                  <a:avLst/>
                </a:prstGeom>
                <a:solidFill>
                  <a:srgbClr val="f2f8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483160" y="2466720"/>
                  <a:ext cx="1511280" cy="18108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5997960" y="2496960"/>
                <a:ext cx="48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900" spc="-1" strike="noStrike">
                    <a:solidFill>
                      <a:srgbClr val="000000"/>
                    </a:solidFill>
                    <a:latin typeface="Arial"/>
                  </a:rPr>
                  <a:t>Plannin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5483160" y="2693880"/>
                <a:ext cx="1511280" cy="182520"/>
                <a:chOff x="5483160" y="2693880"/>
                <a:chExt cx="1511280" cy="1825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483160" y="2693880"/>
                  <a:ext cx="1511280" cy="182520"/>
                </a:xfrm>
                <a:prstGeom prst="rect">
                  <a:avLst/>
                </a:prstGeom>
                <a:solidFill>
                  <a:srgbClr val="f2f8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483160" y="2693880"/>
                  <a:ext cx="1511280" cy="18252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5982480" y="2725560"/>
                <a:ext cx="51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Workf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5327640" y="3481560"/>
            <a:ext cx="1824120" cy="614160"/>
            <a:chOff x="5327640" y="3481560"/>
            <a:chExt cx="1824120" cy="614160"/>
          </a:xfrm>
        </p:grpSpPr>
        <p:sp>
          <p:nvSpPr>
            <p:cNvPr id="390" name=""/>
            <p:cNvSpPr/>
            <p:nvPr/>
          </p:nvSpPr>
          <p:spPr>
            <a:xfrm>
              <a:off x="5327640" y="3481560"/>
              <a:ext cx="1824120" cy="61416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5483160" y="3582720"/>
              <a:ext cx="1511280" cy="408960"/>
              <a:chOff x="5483160" y="3582720"/>
              <a:chExt cx="1511280" cy="40896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5483160" y="3582720"/>
                <a:ext cx="1511280" cy="182160"/>
                <a:chOff x="5483160" y="3582720"/>
                <a:chExt cx="1511280" cy="1821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483160" y="3582720"/>
                  <a:ext cx="1511280" cy="182160"/>
                </a:xfrm>
                <a:prstGeom prst="rect">
                  <a:avLst/>
                </a:prstGeom>
                <a:solidFill>
                  <a:srgbClr val="f2f8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483160" y="3582720"/>
                  <a:ext cx="1511280" cy="18216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" name=""/>
              <p:cNvSpPr/>
              <p:nvPr/>
            </p:nvSpPr>
            <p:spPr>
              <a:xfrm>
                <a:off x="5983560" y="3614040"/>
                <a:ext cx="5173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900" spc="-1" strike="noStrike">
                    <a:solidFill>
                      <a:srgbClr val="000000"/>
                    </a:solidFill>
                    <a:latin typeface="Arial"/>
                  </a:rPr>
                  <a:t>Click/Cilk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5483160" y="3810960"/>
                <a:ext cx="1511280" cy="180720"/>
                <a:chOff x="5483160" y="3810960"/>
                <a:chExt cx="1511280" cy="1807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5483160" y="3810960"/>
                  <a:ext cx="1511280" cy="180720"/>
                </a:xfrm>
                <a:prstGeom prst="rect">
                  <a:avLst/>
                </a:prstGeom>
                <a:solidFill>
                  <a:srgbClr val="f2f8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483160" y="3810960"/>
                  <a:ext cx="1511280" cy="18072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5873040" y="3842640"/>
                <a:ext cx="738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900" spc="-1" strike="noStrike">
                    <a:solidFill>
                      <a:srgbClr val="000000"/>
                    </a:solidFill>
                    <a:latin typeface="Arial"/>
                  </a:rPr>
                  <a:t>MCC on Click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5327640" y="4576680"/>
            <a:ext cx="1824120" cy="568080"/>
            <a:chOff x="5327640" y="4576680"/>
            <a:chExt cx="1824120" cy="568080"/>
          </a:xfrm>
        </p:grpSpPr>
        <p:sp>
          <p:nvSpPr>
            <p:cNvPr id="401" name=""/>
            <p:cNvSpPr/>
            <p:nvPr/>
          </p:nvSpPr>
          <p:spPr>
            <a:xfrm>
              <a:off x="5327640" y="4576680"/>
              <a:ext cx="1824120" cy="5680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5483160" y="4652640"/>
              <a:ext cx="1511280" cy="416160"/>
              <a:chOff x="5483160" y="4652640"/>
              <a:chExt cx="1511280" cy="41616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483160" y="4886280"/>
                <a:ext cx="1511280" cy="182520"/>
                <a:chOff x="5483160" y="4886280"/>
                <a:chExt cx="1511280" cy="1825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483160" y="4886280"/>
                  <a:ext cx="1511280" cy="182520"/>
                </a:xfrm>
                <a:prstGeom prst="rect">
                  <a:avLst/>
                </a:prstGeom>
                <a:solidFill>
                  <a:srgbClr val="f2f8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483160" y="4886280"/>
                  <a:ext cx="1511280" cy="18252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>
                <a:off x="5824440" y="4917960"/>
                <a:ext cx="177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D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000480" y="4917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37200" y="4917960"/>
                <a:ext cx="622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BD for HP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5483160" y="4652640"/>
                <a:ext cx="1511280" cy="184320"/>
                <a:chOff x="5483160" y="4652640"/>
                <a:chExt cx="1511280" cy="1843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5483160" y="4652640"/>
                  <a:ext cx="1511280" cy="184320"/>
                </a:xfrm>
                <a:prstGeom prst="rect">
                  <a:avLst/>
                </a:prstGeom>
                <a:solidFill>
                  <a:srgbClr val="f2f8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483160" y="4652640"/>
                  <a:ext cx="1511280" cy="18432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"/>
              <p:cNvSpPr/>
              <p:nvPr/>
            </p:nvSpPr>
            <p:spPr>
              <a:xfrm>
                <a:off x="5834880" y="4686120"/>
                <a:ext cx="814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900" spc="-1" strike="noStrike">
                    <a:solidFill>
                      <a:srgbClr val="000000"/>
                    </a:solidFill>
                    <a:latin typeface="Arial"/>
                  </a:rPr>
                  <a:t>Algorithms D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"/>
          <p:cNvSpPr/>
          <p:nvPr/>
        </p:nvSpPr>
        <p:spPr>
          <a:xfrm>
            <a:off x="3897360" y="2325600"/>
            <a:ext cx="1585800" cy="252360"/>
          </a:xfrm>
          <a:custGeom>
            <a:avLst/>
            <a:gdLst/>
            <a:ahLst/>
            <a:rect l="l" t="t" r="r" b="b"/>
            <a:pathLst>
              <a:path w="11193" h="1777">
                <a:moveTo>
                  <a:pt x="40" y="2"/>
                </a:moveTo>
                <a:lnTo>
                  <a:pt x="10868" y="1555"/>
                </a:lnTo>
                <a:cubicBezTo>
                  <a:pt x="10886" y="1558"/>
                  <a:pt x="10899" y="1575"/>
                  <a:pt x="10897" y="1593"/>
                </a:cubicBezTo>
                <a:cubicBezTo>
                  <a:pt x="10894" y="1611"/>
                  <a:pt x="10877" y="1624"/>
                  <a:pt x="10859" y="1621"/>
                </a:cubicBezTo>
                <a:lnTo>
                  <a:pt x="30" y="68"/>
                </a:lnTo>
                <a:cubicBezTo>
                  <a:pt x="12" y="66"/>
                  <a:pt x="0" y="49"/>
                  <a:pt x="2" y="31"/>
                </a:cubicBezTo>
                <a:cubicBezTo>
                  <a:pt x="5" y="13"/>
                  <a:pt x="22" y="0"/>
                  <a:pt x="40" y="2"/>
                </a:cubicBezTo>
                <a:close/>
                <a:moveTo>
                  <a:pt x="10826" y="1381"/>
                </a:moveTo>
                <a:lnTo>
                  <a:pt x="11193" y="1635"/>
                </a:lnTo>
                <a:lnTo>
                  <a:pt x="10769" y="1777"/>
                </a:lnTo>
                <a:lnTo>
                  <a:pt x="10826" y="138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97360" y="2771640"/>
            <a:ext cx="1585800" cy="424080"/>
          </a:xfrm>
          <a:custGeom>
            <a:avLst/>
            <a:gdLst/>
            <a:ahLst/>
            <a:rect l="l" t="t" r="r" b="b"/>
            <a:pathLst>
              <a:path w="11195" h="2990">
                <a:moveTo>
                  <a:pt x="29" y="2921"/>
                </a:moveTo>
                <a:lnTo>
                  <a:pt x="10864" y="145"/>
                </a:lnTo>
                <a:cubicBezTo>
                  <a:pt x="10882" y="141"/>
                  <a:pt x="10900" y="151"/>
                  <a:pt x="10905" y="169"/>
                </a:cubicBezTo>
                <a:cubicBezTo>
                  <a:pt x="10909" y="187"/>
                  <a:pt x="10899" y="205"/>
                  <a:pt x="10881" y="210"/>
                </a:cubicBezTo>
                <a:lnTo>
                  <a:pt x="45" y="2985"/>
                </a:lnTo>
                <a:cubicBezTo>
                  <a:pt x="28" y="2990"/>
                  <a:pt x="9" y="2979"/>
                  <a:pt x="5" y="2961"/>
                </a:cubicBezTo>
                <a:cubicBezTo>
                  <a:pt x="0" y="2944"/>
                  <a:pt x="11" y="2925"/>
                  <a:pt x="29" y="2921"/>
                </a:cubicBezTo>
                <a:close/>
                <a:moveTo>
                  <a:pt x="10758" y="0"/>
                </a:moveTo>
                <a:lnTo>
                  <a:pt x="11195" y="95"/>
                </a:lnTo>
                <a:lnTo>
                  <a:pt x="10858" y="388"/>
                </a:lnTo>
                <a:lnTo>
                  <a:pt x="1075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97360" y="3664080"/>
            <a:ext cx="1585800" cy="536400"/>
          </a:xfrm>
          <a:custGeom>
            <a:avLst/>
            <a:gdLst/>
            <a:ahLst/>
            <a:rect l="l" t="t" r="r" b="b"/>
            <a:pathLst>
              <a:path w="11195" h="3777">
                <a:moveTo>
                  <a:pt x="27" y="3708"/>
                </a:moveTo>
                <a:lnTo>
                  <a:pt x="10868" y="137"/>
                </a:lnTo>
                <a:cubicBezTo>
                  <a:pt x="10886" y="131"/>
                  <a:pt x="10905" y="141"/>
                  <a:pt x="10911" y="158"/>
                </a:cubicBezTo>
                <a:cubicBezTo>
                  <a:pt x="10916" y="176"/>
                  <a:pt x="10907" y="195"/>
                  <a:pt x="10889" y="200"/>
                </a:cubicBezTo>
                <a:lnTo>
                  <a:pt x="48" y="3771"/>
                </a:lnTo>
                <a:cubicBezTo>
                  <a:pt x="30" y="3777"/>
                  <a:pt x="11" y="3767"/>
                  <a:pt x="5" y="3750"/>
                </a:cubicBezTo>
                <a:cubicBezTo>
                  <a:pt x="0" y="3732"/>
                  <a:pt x="9" y="3714"/>
                  <a:pt x="27" y="3708"/>
                </a:cubicBezTo>
                <a:close/>
                <a:moveTo>
                  <a:pt x="10753" y="0"/>
                </a:moveTo>
                <a:lnTo>
                  <a:pt x="11195" y="64"/>
                </a:lnTo>
                <a:lnTo>
                  <a:pt x="10878" y="380"/>
                </a:lnTo>
                <a:lnTo>
                  <a:pt x="10753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97360" y="3459240"/>
            <a:ext cx="1585800" cy="455400"/>
          </a:xfrm>
          <a:custGeom>
            <a:avLst/>
            <a:gdLst/>
            <a:ahLst/>
            <a:rect l="l" t="t" r="r" b="b"/>
            <a:pathLst>
              <a:path w="11195" h="3207">
                <a:moveTo>
                  <a:pt x="46" y="5"/>
                </a:moveTo>
                <a:lnTo>
                  <a:pt x="10883" y="3000"/>
                </a:lnTo>
                <a:cubicBezTo>
                  <a:pt x="10901" y="3005"/>
                  <a:pt x="10911" y="3023"/>
                  <a:pt x="10906" y="3041"/>
                </a:cubicBezTo>
                <a:cubicBezTo>
                  <a:pt x="10901" y="3059"/>
                  <a:pt x="10883" y="3069"/>
                  <a:pt x="10865" y="3064"/>
                </a:cubicBezTo>
                <a:lnTo>
                  <a:pt x="28" y="70"/>
                </a:lnTo>
                <a:cubicBezTo>
                  <a:pt x="11" y="65"/>
                  <a:pt x="0" y="46"/>
                  <a:pt x="5" y="29"/>
                </a:cubicBezTo>
                <a:cubicBezTo>
                  <a:pt x="10" y="11"/>
                  <a:pt x="28" y="0"/>
                  <a:pt x="46" y="5"/>
                </a:cubicBezTo>
                <a:close/>
                <a:moveTo>
                  <a:pt x="10863" y="2821"/>
                </a:moveTo>
                <a:lnTo>
                  <a:pt x="11195" y="3121"/>
                </a:lnTo>
                <a:lnTo>
                  <a:pt x="10757" y="3207"/>
                </a:lnTo>
                <a:lnTo>
                  <a:pt x="10863" y="282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97360" y="3894120"/>
            <a:ext cx="1585800" cy="561960"/>
          </a:xfrm>
          <a:custGeom>
            <a:avLst/>
            <a:gdLst/>
            <a:ahLst/>
            <a:rect l="l" t="t" r="r" b="b"/>
            <a:pathLst>
              <a:path w="11195" h="3970">
                <a:moveTo>
                  <a:pt x="26" y="3901"/>
                </a:moveTo>
                <a:lnTo>
                  <a:pt x="10870" y="136"/>
                </a:lnTo>
                <a:cubicBezTo>
                  <a:pt x="10887" y="130"/>
                  <a:pt x="10906" y="139"/>
                  <a:pt x="10912" y="156"/>
                </a:cubicBezTo>
                <a:cubicBezTo>
                  <a:pt x="10918" y="174"/>
                  <a:pt x="10909" y="193"/>
                  <a:pt x="10892" y="199"/>
                </a:cubicBezTo>
                <a:lnTo>
                  <a:pt x="48" y="3964"/>
                </a:lnTo>
                <a:cubicBezTo>
                  <a:pt x="31" y="3970"/>
                  <a:pt x="12" y="3961"/>
                  <a:pt x="6" y="3944"/>
                </a:cubicBezTo>
                <a:cubicBezTo>
                  <a:pt x="0" y="3926"/>
                  <a:pt x="9" y="3907"/>
                  <a:pt x="26" y="3901"/>
                </a:cubicBezTo>
                <a:close/>
                <a:moveTo>
                  <a:pt x="10752" y="0"/>
                </a:moveTo>
                <a:lnTo>
                  <a:pt x="11195" y="58"/>
                </a:lnTo>
                <a:lnTo>
                  <a:pt x="10883" y="378"/>
                </a:lnTo>
                <a:lnTo>
                  <a:pt x="1075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97360" y="4734000"/>
            <a:ext cx="1585800" cy="482400"/>
          </a:xfrm>
          <a:custGeom>
            <a:avLst/>
            <a:gdLst/>
            <a:ahLst/>
            <a:rect l="l" t="t" r="r" b="b"/>
            <a:pathLst>
              <a:path w="11195" h="3399">
                <a:moveTo>
                  <a:pt x="28" y="3330"/>
                </a:moveTo>
                <a:lnTo>
                  <a:pt x="10866" y="141"/>
                </a:lnTo>
                <a:cubicBezTo>
                  <a:pt x="10884" y="136"/>
                  <a:pt x="10902" y="146"/>
                  <a:pt x="10908" y="163"/>
                </a:cubicBezTo>
                <a:cubicBezTo>
                  <a:pt x="10913" y="181"/>
                  <a:pt x="10903" y="200"/>
                  <a:pt x="10885" y="205"/>
                </a:cubicBezTo>
                <a:lnTo>
                  <a:pt x="47" y="3394"/>
                </a:lnTo>
                <a:cubicBezTo>
                  <a:pt x="29" y="3399"/>
                  <a:pt x="10" y="3389"/>
                  <a:pt x="5" y="3372"/>
                </a:cubicBezTo>
                <a:cubicBezTo>
                  <a:pt x="0" y="3354"/>
                  <a:pt x="10" y="3335"/>
                  <a:pt x="28" y="3330"/>
                </a:cubicBezTo>
                <a:close/>
                <a:moveTo>
                  <a:pt x="10755" y="0"/>
                </a:moveTo>
                <a:lnTo>
                  <a:pt x="11195" y="79"/>
                </a:lnTo>
                <a:lnTo>
                  <a:pt x="10868" y="384"/>
                </a:lnTo>
                <a:lnTo>
                  <a:pt x="10755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97360" y="4957920"/>
            <a:ext cx="1585800" cy="258480"/>
          </a:xfrm>
          <a:custGeom>
            <a:avLst/>
            <a:gdLst/>
            <a:ahLst/>
            <a:rect l="l" t="t" r="r" b="b"/>
            <a:pathLst>
              <a:path w="11194" h="1817">
                <a:moveTo>
                  <a:pt x="31" y="1748"/>
                </a:moveTo>
                <a:lnTo>
                  <a:pt x="10860" y="155"/>
                </a:lnTo>
                <a:cubicBezTo>
                  <a:pt x="10878" y="152"/>
                  <a:pt x="10895" y="165"/>
                  <a:pt x="10898" y="183"/>
                </a:cubicBezTo>
                <a:cubicBezTo>
                  <a:pt x="10900" y="201"/>
                  <a:pt x="10888" y="218"/>
                  <a:pt x="10870" y="221"/>
                </a:cubicBezTo>
                <a:lnTo>
                  <a:pt x="41" y="1814"/>
                </a:lnTo>
                <a:cubicBezTo>
                  <a:pt x="23" y="1817"/>
                  <a:pt x="6" y="1804"/>
                  <a:pt x="3" y="1786"/>
                </a:cubicBezTo>
                <a:cubicBezTo>
                  <a:pt x="0" y="1768"/>
                  <a:pt x="13" y="1751"/>
                  <a:pt x="31" y="1748"/>
                </a:cubicBezTo>
                <a:close/>
                <a:moveTo>
                  <a:pt x="10770" y="0"/>
                </a:moveTo>
                <a:lnTo>
                  <a:pt x="11194" y="139"/>
                </a:lnTo>
                <a:lnTo>
                  <a:pt x="10828" y="396"/>
                </a:lnTo>
                <a:lnTo>
                  <a:pt x="1077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97360" y="4967280"/>
            <a:ext cx="1585800" cy="509760"/>
          </a:xfrm>
          <a:custGeom>
            <a:avLst/>
            <a:gdLst/>
            <a:ahLst/>
            <a:rect l="l" t="t" r="r" b="b"/>
            <a:pathLst>
              <a:path w="11195" h="3585">
                <a:moveTo>
                  <a:pt x="27" y="3516"/>
                </a:moveTo>
                <a:lnTo>
                  <a:pt x="10867" y="140"/>
                </a:lnTo>
                <a:cubicBezTo>
                  <a:pt x="10885" y="134"/>
                  <a:pt x="10904" y="144"/>
                  <a:pt x="10909" y="162"/>
                </a:cubicBezTo>
                <a:cubicBezTo>
                  <a:pt x="10915" y="179"/>
                  <a:pt x="10905" y="198"/>
                  <a:pt x="10887" y="203"/>
                </a:cubicBezTo>
                <a:lnTo>
                  <a:pt x="47" y="3579"/>
                </a:lnTo>
                <a:cubicBezTo>
                  <a:pt x="29" y="3585"/>
                  <a:pt x="11" y="3575"/>
                  <a:pt x="5" y="3557"/>
                </a:cubicBezTo>
                <a:cubicBezTo>
                  <a:pt x="0" y="3540"/>
                  <a:pt x="10" y="3521"/>
                  <a:pt x="27" y="3516"/>
                </a:cubicBezTo>
                <a:close/>
                <a:moveTo>
                  <a:pt x="10754" y="0"/>
                </a:moveTo>
                <a:lnTo>
                  <a:pt x="11195" y="72"/>
                </a:lnTo>
                <a:lnTo>
                  <a:pt x="10873" y="382"/>
                </a:lnTo>
                <a:lnTo>
                  <a:pt x="10754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97360" y="4743360"/>
            <a:ext cx="1585800" cy="733680"/>
          </a:xfrm>
          <a:custGeom>
            <a:avLst/>
            <a:gdLst/>
            <a:ahLst/>
            <a:rect l="l" t="t" r="r" b="b"/>
            <a:pathLst>
              <a:path w="11196" h="5169">
                <a:moveTo>
                  <a:pt x="24" y="5101"/>
                </a:moveTo>
                <a:lnTo>
                  <a:pt x="10880" y="123"/>
                </a:lnTo>
                <a:cubicBezTo>
                  <a:pt x="10896" y="116"/>
                  <a:pt x="10916" y="123"/>
                  <a:pt x="10924" y="140"/>
                </a:cubicBezTo>
                <a:cubicBezTo>
                  <a:pt x="10931" y="157"/>
                  <a:pt x="10924" y="176"/>
                  <a:pt x="10907" y="184"/>
                </a:cubicBezTo>
                <a:lnTo>
                  <a:pt x="52" y="5162"/>
                </a:lnTo>
                <a:cubicBezTo>
                  <a:pt x="35" y="5169"/>
                  <a:pt x="16" y="5162"/>
                  <a:pt x="8" y="5145"/>
                </a:cubicBezTo>
                <a:cubicBezTo>
                  <a:pt x="0" y="5129"/>
                  <a:pt x="8" y="5109"/>
                  <a:pt x="24" y="5101"/>
                </a:cubicBezTo>
                <a:close/>
                <a:moveTo>
                  <a:pt x="10750" y="0"/>
                </a:moveTo>
                <a:lnTo>
                  <a:pt x="11196" y="15"/>
                </a:lnTo>
                <a:lnTo>
                  <a:pt x="10916" y="363"/>
                </a:lnTo>
                <a:lnTo>
                  <a:pt x="1075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97360" y="3186000"/>
            <a:ext cx="1585800" cy="1559160"/>
          </a:xfrm>
          <a:custGeom>
            <a:avLst/>
            <a:gdLst/>
            <a:ahLst/>
            <a:rect l="l" t="t" r="r" b="b"/>
            <a:pathLst>
              <a:path w="11195" h="11004">
                <a:moveTo>
                  <a:pt x="60" y="13"/>
                </a:moveTo>
                <a:lnTo>
                  <a:pt x="10981" y="10746"/>
                </a:lnTo>
                <a:cubicBezTo>
                  <a:pt x="10994" y="10759"/>
                  <a:pt x="10994" y="10780"/>
                  <a:pt x="10982" y="10794"/>
                </a:cubicBezTo>
                <a:cubicBezTo>
                  <a:pt x="10969" y="10807"/>
                  <a:pt x="10948" y="10807"/>
                  <a:pt x="10934" y="10794"/>
                </a:cubicBezTo>
                <a:lnTo>
                  <a:pt x="14" y="61"/>
                </a:lnTo>
                <a:cubicBezTo>
                  <a:pt x="1" y="48"/>
                  <a:pt x="0" y="27"/>
                  <a:pt x="13" y="14"/>
                </a:cubicBezTo>
                <a:cubicBezTo>
                  <a:pt x="26" y="1"/>
                  <a:pt x="47" y="0"/>
                  <a:pt x="60" y="13"/>
                </a:cubicBezTo>
                <a:close/>
                <a:moveTo>
                  <a:pt x="11050" y="10581"/>
                </a:moveTo>
                <a:lnTo>
                  <a:pt x="11195" y="11004"/>
                </a:lnTo>
                <a:lnTo>
                  <a:pt x="10770" y="10866"/>
                </a:lnTo>
                <a:lnTo>
                  <a:pt x="11050" y="1058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97360" y="4446720"/>
            <a:ext cx="1585800" cy="541080"/>
          </a:xfrm>
          <a:custGeom>
            <a:avLst/>
            <a:gdLst/>
            <a:ahLst/>
            <a:rect l="l" t="t" r="r" b="b"/>
            <a:pathLst>
              <a:path w="11195" h="3818">
                <a:moveTo>
                  <a:pt x="48" y="6"/>
                </a:moveTo>
                <a:lnTo>
                  <a:pt x="10890" y="3618"/>
                </a:lnTo>
                <a:cubicBezTo>
                  <a:pt x="10907" y="3623"/>
                  <a:pt x="10917" y="3642"/>
                  <a:pt x="10911" y="3660"/>
                </a:cubicBezTo>
                <a:cubicBezTo>
                  <a:pt x="10905" y="3677"/>
                  <a:pt x="10886" y="3687"/>
                  <a:pt x="10869" y="3681"/>
                </a:cubicBezTo>
                <a:lnTo>
                  <a:pt x="27" y="69"/>
                </a:lnTo>
                <a:cubicBezTo>
                  <a:pt x="9" y="64"/>
                  <a:pt x="0" y="45"/>
                  <a:pt x="6" y="27"/>
                </a:cubicBezTo>
                <a:cubicBezTo>
                  <a:pt x="11" y="10"/>
                  <a:pt x="30" y="0"/>
                  <a:pt x="48" y="6"/>
                </a:cubicBezTo>
                <a:close/>
                <a:moveTo>
                  <a:pt x="10879" y="3438"/>
                </a:moveTo>
                <a:lnTo>
                  <a:pt x="11195" y="3754"/>
                </a:lnTo>
                <a:lnTo>
                  <a:pt x="10753" y="3818"/>
                </a:lnTo>
                <a:lnTo>
                  <a:pt x="10879" y="343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97360" y="3184560"/>
            <a:ext cx="1585800" cy="720720"/>
          </a:xfrm>
          <a:custGeom>
            <a:avLst/>
            <a:gdLst/>
            <a:ahLst/>
            <a:rect l="l" t="t" r="r" b="b"/>
            <a:pathLst>
              <a:path w="11196" h="5073">
                <a:moveTo>
                  <a:pt x="52" y="8"/>
                </a:moveTo>
                <a:lnTo>
                  <a:pt x="10906" y="4888"/>
                </a:lnTo>
                <a:cubicBezTo>
                  <a:pt x="10923" y="4895"/>
                  <a:pt x="10930" y="4915"/>
                  <a:pt x="10923" y="4932"/>
                </a:cubicBezTo>
                <a:cubicBezTo>
                  <a:pt x="10915" y="4949"/>
                  <a:pt x="10896" y="4956"/>
                  <a:pt x="10879" y="4949"/>
                </a:cubicBezTo>
                <a:lnTo>
                  <a:pt x="24" y="69"/>
                </a:lnTo>
                <a:cubicBezTo>
                  <a:pt x="8" y="61"/>
                  <a:pt x="0" y="41"/>
                  <a:pt x="8" y="24"/>
                </a:cubicBezTo>
                <a:cubicBezTo>
                  <a:pt x="15" y="8"/>
                  <a:pt x="35" y="0"/>
                  <a:pt x="52" y="8"/>
                </a:cubicBezTo>
                <a:close/>
                <a:moveTo>
                  <a:pt x="10914" y="4708"/>
                </a:moveTo>
                <a:lnTo>
                  <a:pt x="11196" y="5055"/>
                </a:lnTo>
                <a:lnTo>
                  <a:pt x="10750" y="5073"/>
                </a:lnTo>
                <a:lnTo>
                  <a:pt x="10914" y="470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97360" y="2325600"/>
            <a:ext cx="1585800" cy="471600"/>
          </a:xfrm>
          <a:custGeom>
            <a:avLst/>
            <a:gdLst/>
            <a:ahLst/>
            <a:rect l="l" t="t" r="r" b="b"/>
            <a:pathLst>
              <a:path w="11195" h="3327">
                <a:moveTo>
                  <a:pt x="46" y="5"/>
                </a:moveTo>
                <a:lnTo>
                  <a:pt x="10884" y="3122"/>
                </a:lnTo>
                <a:cubicBezTo>
                  <a:pt x="10902" y="3127"/>
                  <a:pt x="10912" y="3145"/>
                  <a:pt x="10907" y="3163"/>
                </a:cubicBezTo>
                <a:cubicBezTo>
                  <a:pt x="10902" y="3181"/>
                  <a:pt x="10884" y="3191"/>
                  <a:pt x="10866" y="3186"/>
                </a:cubicBezTo>
                <a:lnTo>
                  <a:pt x="28" y="70"/>
                </a:lnTo>
                <a:cubicBezTo>
                  <a:pt x="10" y="64"/>
                  <a:pt x="0" y="46"/>
                  <a:pt x="5" y="28"/>
                </a:cubicBezTo>
                <a:cubicBezTo>
                  <a:pt x="10" y="11"/>
                  <a:pt x="29" y="0"/>
                  <a:pt x="46" y="5"/>
                </a:cubicBezTo>
                <a:close/>
                <a:moveTo>
                  <a:pt x="10866" y="2943"/>
                </a:moveTo>
                <a:lnTo>
                  <a:pt x="11195" y="3246"/>
                </a:lnTo>
                <a:lnTo>
                  <a:pt x="10756" y="3327"/>
                </a:lnTo>
                <a:lnTo>
                  <a:pt x="10866" y="294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97360" y="4189320"/>
            <a:ext cx="1585800" cy="789120"/>
          </a:xfrm>
          <a:custGeom>
            <a:avLst/>
            <a:gdLst/>
            <a:ahLst/>
            <a:rect l="l" t="t" r="r" b="b"/>
            <a:pathLst>
              <a:path w="11196" h="5565">
                <a:moveTo>
                  <a:pt x="53" y="9"/>
                </a:moveTo>
                <a:lnTo>
                  <a:pt x="10913" y="5386"/>
                </a:lnTo>
                <a:cubicBezTo>
                  <a:pt x="10929" y="5394"/>
                  <a:pt x="10936" y="5414"/>
                  <a:pt x="10928" y="5430"/>
                </a:cubicBezTo>
                <a:cubicBezTo>
                  <a:pt x="10919" y="5447"/>
                  <a:pt x="10899" y="5454"/>
                  <a:pt x="10883" y="5445"/>
                </a:cubicBezTo>
                <a:lnTo>
                  <a:pt x="23" y="68"/>
                </a:lnTo>
                <a:cubicBezTo>
                  <a:pt x="7" y="60"/>
                  <a:pt x="0" y="40"/>
                  <a:pt x="8" y="24"/>
                </a:cubicBezTo>
                <a:cubicBezTo>
                  <a:pt x="16" y="7"/>
                  <a:pt x="36" y="0"/>
                  <a:pt x="53" y="9"/>
                </a:cubicBezTo>
                <a:close/>
                <a:moveTo>
                  <a:pt x="10927" y="5207"/>
                </a:moveTo>
                <a:lnTo>
                  <a:pt x="11196" y="5563"/>
                </a:lnTo>
                <a:lnTo>
                  <a:pt x="10749" y="5565"/>
                </a:lnTo>
                <a:lnTo>
                  <a:pt x="10927" y="520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97360" y="2781360"/>
            <a:ext cx="1585800" cy="689040"/>
          </a:xfrm>
          <a:custGeom>
            <a:avLst/>
            <a:gdLst/>
            <a:ahLst/>
            <a:rect l="l" t="t" r="r" b="b"/>
            <a:pathLst>
              <a:path w="11196" h="4855">
                <a:moveTo>
                  <a:pt x="25" y="4787"/>
                </a:moveTo>
                <a:lnTo>
                  <a:pt x="10877" y="127"/>
                </a:lnTo>
                <a:cubicBezTo>
                  <a:pt x="10894" y="119"/>
                  <a:pt x="10914" y="127"/>
                  <a:pt x="10921" y="144"/>
                </a:cubicBezTo>
                <a:cubicBezTo>
                  <a:pt x="10928" y="161"/>
                  <a:pt x="10920" y="181"/>
                  <a:pt x="10903" y="188"/>
                </a:cubicBezTo>
                <a:lnTo>
                  <a:pt x="51" y="4848"/>
                </a:lnTo>
                <a:cubicBezTo>
                  <a:pt x="34" y="4855"/>
                  <a:pt x="15" y="4848"/>
                  <a:pt x="8" y="4831"/>
                </a:cubicBezTo>
                <a:cubicBezTo>
                  <a:pt x="0" y="4814"/>
                  <a:pt x="8" y="4794"/>
                  <a:pt x="25" y="4787"/>
                </a:cubicBezTo>
                <a:close/>
                <a:moveTo>
                  <a:pt x="10750" y="0"/>
                </a:moveTo>
                <a:lnTo>
                  <a:pt x="11196" y="26"/>
                </a:lnTo>
                <a:lnTo>
                  <a:pt x="10908" y="367"/>
                </a:lnTo>
                <a:lnTo>
                  <a:pt x="1075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01800" y="174132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73920" y="174312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94560" y="174312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042920" y="2135160"/>
            <a:ext cx="1776240" cy="388800"/>
            <a:chOff x="1042920" y="2135160"/>
            <a:chExt cx="1776240" cy="388800"/>
          </a:xfrm>
        </p:grpSpPr>
        <p:sp>
          <p:nvSpPr>
            <p:cNvPr id="432" name=""/>
            <p:cNvSpPr/>
            <p:nvPr/>
          </p:nvSpPr>
          <p:spPr>
            <a:xfrm>
              <a:off x="1042920" y="2135160"/>
              <a:ext cx="1776240" cy="388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42920" y="2135160"/>
              <a:ext cx="1776240" cy="3888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1186560" y="2246400"/>
            <a:ext cx="157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42920" y="3146400"/>
            <a:ext cx="1776240" cy="387360"/>
            <a:chOff x="1042920" y="3146400"/>
            <a:chExt cx="1776240" cy="387360"/>
          </a:xfrm>
        </p:grpSpPr>
        <p:sp>
          <p:nvSpPr>
            <p:cNvPr id="436" name=""/>
            <p:cNvSpPr/>
            <p:nvPr/>
          </p:nvSpPr>
          <p:spPr>
            <a:xfrm>
              <a:off x="1042920" y="3146400"/>
              <a:ext cx="1776240" cy="387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42920" y="3146400"/>
              <a:ext cx="1776240" cy="38736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117080" y="3257640"/>
            <a:ext cx="164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odeling &amp; 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042920" y="4156200"/>
            <a:ext cx="1776240" cy="388800"/>
            <a:chOff x="1042920" y="4156200"/>
            <a:chExt cx="1776240" cy="388800"/>
          </a:xfrm>
        </p:grpSpPr>
        <p:sp>
          <p:nvSpPr>
            <p:cNvPr id="440" name=""/>
            <p:cNvSpPr/>
            <p:nvPr/>
          </p:nvSpPr>
          <p:spPr>
            <a:xfrm>
              <a:off x="1042920" y="4156200"/>
              <a:ext cx="1776240" cy="388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42920" y="4156200"/>
              <a:ext cx="1776240" cy="3888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116000" y="4267080"/>
            <a:ext cx="158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High Perform Com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042920" y="5145120"/>
            <a:ext cx="1776240" cy="387360"/>
            <a:chOff x="1042920" y="5145120"/>
            <a:chExt cx="1776240" cy="387360"/>
          </a:xfrm>
        </p:grpSpPr>
        <p:sp>
          <p:nvSpPr>
            <p:cNvPr id="444" name=""/>
            <p:cNvSpPr/>
            <p:nvPr/>
          </p:nvSpPr>
          <p:spPr>
            <a:xfrm>
              <a:off x="1042920" y="5145120"/>
              <a:ext cx="1776240" cy="387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42920" y="5145120"/>
              <a:ext cx="1776240" cy="38736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1113120" y="5256360"/>
            <a:ext cx="155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atabase Datam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646440" y="2249640"/>
            <a:ext cx="257400" cy="158760"/>
            <a:chOff x="3646440" y="2249640"/>
            <a:chExt cx="257400" cy="158760"/>
          </a:xfrm>
        </p:grpSpPr>
        <p:sp>
          <p:nvSpPr>
            <p:cNvPr id="448" name=""/>
            <p:cNvSpPr/>
            <p:nvPr/>
          </p:nvSpPr>
          <p:spPr>
            <a:xfrm>
              <a:off x="3646440" y="2249640"/>
              <a:ext cx="257400" cy="158760"/>
            </a:xfrm>
            <a:prstGeom prst="ellipse">
              <a:avLst/>
            </a:prstGeom>
            <a:solidFill>
              <a:srgbClr val="cc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46440" y="2249640"/>
              <a:ext cx="257400" cy="15876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3646440" y="5129280"/>
            <a:ext cx="257400" cy="160200"/>
            <a:chOff x="3646440" y="5129280"/>
            <a:chExt cx="257400" cy="160200"/>
          </a:xfrm>
        </p:grpSpPr>
        <p:sp>
          <p:nvSpPr>
            <p:cNvPr id="451" name=""/>
            <p:cNvSpPr/>
            <p:nvPr/>
          </p:nvSpPr>
          <p:spPr>
            <a:xfrm>
              <a:off x="3646440" y="5129280"/>
              <a:ext cx="257400" cy="160200"/>
            </a:xfrm>
            <a:prstGeom prst="ellipse">
              <a:avLst/>
            </a:prstGeom>
            <a:solidFill>
              <a:srgbClr val="cc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46440" y="5129280"/>
              <a:ext cx="257400" cy="1602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646440" y="5391000"/>
            <a:ext cx="257400" cy="160200"/>
            <a:chOff x="3646440" y="5391000"/>
            <a:chExt cx="257400" cy="160200"/>
          </a:xfrm>
        </p:grpSpPr>
        <p:sp>
          <p:nvSpPr>
            <p:cNvPr id="454" name=""/>
            <p:cNvSpPr/>
            <p:nvPr/>
          </p:nvSpPr>
          <p:spPr>
            <a:xfrm>
              <a:off x="3646440" y="5391000"/>
              <a:ext cx="257400" cy="160200"/>
            </a:xfrm>
            <a:prstGeom prst="ellipse">
              <a:avLst/>
            </a:prstGeom>
            <a:solidFill>
              <a:srgbClr val="cc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46440" y="5391000"/>
              <a:ext cx="257400" cy="1602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646440" y="4114800"/>
            <a:ext cx="257400" cy="158760"/>
            <a:chOff x="3646440" y="4114800"/>
            <a:chExt cx="257400" cy="158760"/>
          </a:xfrm>
        </p:grpSpPr>
        <p:sp>
          <p:nvSpPr>
            <p:cNvPr id="457" name=""/>
            <p:cNvSpPr/>
            <p:nvPr/>
          </p:nvSpPr>
          <p:spPr>
            <a:xfrm>
              <a:off x="3646440" y="4114800"/>
              <a:ext cx="257400" cy="158760"/>
            </a:xfrm>
            <a:prstGeom prst="ellipse">
              <a:avLst/>
            </a:prstGeom>
            <a:solidFill>
              <a:srgbClr val="cc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46440" y="4114800"/>
              <a:ext cx="257400" cy="15876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646440" y="4370400"/>
            <a:ext cx="257400" cy="160200"/>
            <a:chOff x="3646440" y="4370400"/>
            <a:chExt cx="257400" cy="160200"/>
          </a:xfrm>
        </p:grpSpPr>
        <p:sp>
          <p:nvSpPr>
            <p:cNvPr id="460" name=""/>
            <p:cNvSpPr/>
            <p:nvPr/>
          </p:nvSpPr>
          <p:spPr>
            <a:xfrm>
              <a:off x="3646440" y="4370400"/>
              <a:ext cx="257400" cy="160200"/>
            </a:xfrm>
            <a:prstGeom prst="ellipse">
              <a:avLst/>
            </a:prstGeom>
            <a:solidFill>
              <a:srgbClr val="cc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46440" y="4370400"/>
              <a:ext cx="257400" cy="1602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646440" y="3110040"/>
            <a:ext cx="257400" cy="160200"/>
            <a:chOff x="3646440" y="3110040"/>
            <a:chExt cx="257400" cy="160200"/>
          </a:xfrm>
        </p:grpSpPr>
        <p:sp>
          <p:nvSpPr>
            <p:cNvPr id="463" name=""/>
            <p:cNvSpPr/>
            <p:nvPr/>
          </p:nvSpPr>
          <p:spPr>
            <a:xfrm>
              <a:off x="3646440" y="3110040"/>
              <a:ext cx="257400" cy="160200"/>
            </a:xfrm>
            <a:prstGeom prst="ellipse">
              <a:avLst/>
            </a:prstGeom>
            <a:solidFill>
              <a:srgbClr val="cc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46440" y="3110040"/>
              <a:ext cx="257400" cy="1602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646440" y="3384720"/>
            <a:ext cx="257400" cy="160200"/>
            <a:chOff x="3646440" y="3384720"/>
            <a:chExt cx="257400" cy="160200"/>
          </a:xfrm>
        </p:grpSpPr>
        <p:sp>
          <p:nvSpPr>
            <p:cNvPr id="466" name=""/>
            <p:cNvSpPr/>
            <p:nvPr/>
          </p:nvSpPr>
          <p:spPr>
            <a:xfrm>
              <a:off x="3646440" y="3384720"/>
              <a:ext cx="257400" cy="160200"/>
            </a:xfrm>
            <a:prstGeom prst="ellipse">
              <a:avLst/>
            </a:prstGeom>
            <a:solidFill>
              <a:srgbClr val="cc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46440" y="3384720"/>
              <a:ext cx="257400" cy="1602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254040" y="2151000"/>
            <a:ext cx="261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262320" y="3041640"/>
            <a:ext cx="25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E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256200" y="3541680"/>
            <a:ext cx="259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279600" y="4546440"/>
            <a:ext cx="24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371760" y="554832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355920" y="5070600"/>
            <a:ext cx="17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14480" y="2301840"/>
            <a:ext cx="831960" cy="57240"/>
          </a:xfrm>
          <a:custGeom>
            <a:avLst/>
            <a:gdLst/>
            <a:ahLst/>
            <a:rect l="l" t="t" r="r" b="b"/>
            <a:pathLst>
              <a:path w="5875" h="400">
                <a:moveTo>
                  <a:pt x="34" y="167"/>
                </a:moveTo>
                <a:lnTo>
                  <a:pt x="5542" y="167"/>
                </a:lnTo>
                <a:cubicBezTo>
                  <a:pt x="5561" y="167"/>
                  <a:pt x="5575" y="182"/>
                  <a:pt x="5575" y="200"/>
                </a:cubicBezTo>
                <a:cubicBezTo>
                  <a:pt x="5575" y="219"/>
                  <a:pt x="5561" y="234"/>
                  <a:pt x="5542" y="234"/>
                </a:cubicBezTo>
                <a:lnTo>
                  <a:pt x="34" y="234"/>
                </a:lnTo>
                <a:cubicBezTo>
                  <a:pt x="15" y="234"/>
                  <a:pt x="0" y="219"/>
                  <a:pt x="0" y="200"/>
                </a:cubicBezTo>
                <a:cubicBezTo>
                  <a:pt x="0" y="182"/>
                  <a:pt x="15" y="167"/>
                  <a:pt x="34" y="167"/>
                </a:cubicBezTo>
                <a:close/>
                <a:moveTo>
                  <a:pt x="5475" y="0"/>
                </a:moveTo>
                <a:lnTo>
                  <a:pt x="5875" y="200"/>
                </a:lnTo>
                <a:lnTo>
                  <a:pt x="5475" y="400"/>
                </a:lnTo>
                <a:lnTo>
                  <a:pt x="5475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3040" y="3173400"/>
            <a:ext cx="833400" cy="173160"/>
          </a:xfrm>
          <a:custGeom>
            <a:avLst/>
            <a:gdLst/>
            <a:ahLst/>
            <a:rect l="l" t="t" r="r" b="b"/>
            <a:pathLst>
              <a:path w="5877" h="1220">
                <a:moveTo>
                  <a:pt x="30" y="1151"/>
                </a:moveTo>
                <a:lnTo>
                  <a:pt x="5544" y="152"/>
                </a:lnTo>
                <a:cubicBezTo>
                  <a:pt x="5562" y="148"/>
                  <a:pt x="5579" y="160"/>
                  <a:pt x="5582" y="179"/>
                </a:cubicBezTo>
                <a:cubicBezTo>
                  <a:pt x="5586" y="197"/>
                  <a:pt x="5574" y="214"/>
                  <a:pt x="5555" y="217"/>
                </a:cubicBezTo>
                <a:lnTo>
                  <a:pt x="42" y="1216"/>
                </a:lnTo>
                <a:cubicBezTo>
                  <a:pt x="24" y="1220"/>
                  <a:pt x="6" y="1208"/>
                  <a:pt x="3" y="1189"/>
                </a:cubicBezTo>
                <a:cubicBezTo>
                  <a:pt x="0" y="1171"/>
                  <a:pt x="12" y="1154"/>
                  <a:pt x="30" y="1151"/>
                </a:cubicBezTo>
                <a:close/>
                <a:moveTo>
                  <a:pt x="5448" y="0"/>
                </a:moveTo>
                <a:lnTo>
                  <a:pt x="5877" y="125"/>
                </a:lnTo>
                <a:lnTo>
                  <a:pt x="5520" y="393"/>
                </a:lnTo>
                <a:lnTo>
                  <a:pt x="544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13040" y="3335400"/>
            <a:ext cx="833400" cy="149040"/>
          </a:xfrm>
          <a:custGeom>
            <a:avLst/>
            <a:gdLst/>
            <a:ahLst/>
            <a:rect l="l" t="t" r="r" b="b"/>
            <a:pathLst>
              <a:path w="5877" h="1049">
                <a:moveTo>
                  <a:pt x="41" y="3"/>
                </a:moveTo>
                <a:lnTo>
                  <a:pt x="5553" y="828"/>
                </a:lnTo>
                <a:cubicBezTo>
                  <a:pt x="5571" y="831"/>
                  <a:pt x="5584" y="848"/>
                  <a:pt x="5581" y="866"/>
                </a:cubicBezTo>
                <a:cubicBezTo>
                  <a:pt x="5578" y="884"/>
                  <a:pt x="5561" y="897"/>
                  <a:pt x="5543" y="894"/>
                </a:cubicBezTo>
                <a:lnTo>
                  <a:pt x="31" y="68"/>
                </a:lnTo>
                <a:cubicBezTo>
                  <a:pt x="13" y="66"/>
                  <a:pt x="0" y="49"/>
                  <a:pt x="3" y="31"/>
                </a:cubicBezTo>
                <a:cubicBezTo>
                  <a:pt x="6" y="12"/>
                  <a:pt x="23" y="0"/>
                  <a:pt x="41" y="3"/>
                </a:cubicBezTo>
                <a:close/>
                <a:moveTo>
                  <a:pt x="5512" y="653"/>
                </a:moveTo>
                <a:lnTo>
                  <a:pt x="5877" y="910"/>
                </a:lnTo>
                <a:lnTo>
                  <a:pt x="5452" y="1049"/>
                </a:lnTo>
                <a:lnTo>
                  <a:pt x="5512" y="65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13040" y="4178160"/>
            <a:ext cx="833400" cy="177840"/>
          </a:xfrm>
          <a:custGeom>
            <a:avLst/>
            <a:gdLst/>
            <a:ahLst/>
            <a:rect l="l" t="t" r="r" b="b"/>
            <a:pathLst>
              <a:path w="5877" h="1259">
                <a:moveTo>
                  <a:pt x="30" y="1190"/>
                </a:moveTo>
                <a:lnTo>
                  <a:pt x="5544" y="151"/>
                </a:lnTo>
                <a:cubicBezTo>
                  <a:pt x="5562" y="148"/>
                  <a:pt x="5579" y="160"/>
                  <a:pt x="5583" y="178"/>
                </a:cubicBezTo>
                <a:cubicBezTo>
                  <a:pt x="5586" y="196"/>
                  <a:pt x="5574" y="213"/>
                  <a:pt x="5556" y="217"/>
                </a:cubicBezTo>
                <a:lnTo>
                  <a:pt x="42" y="1255"/>
                </a:lnTo>
                <a:cubicBezTo>
                  <a:pt x="24" y="1259"/>
                  <a:pt x="6" y="1247"/>
                  <a:pt x="3" y="1229"/>
                </a:cubicBezTo>
                <a:cubicBezTo>
                  <a:pt x="0" y="1211"/>
                  <a:pt x="12" y="1193"/>
                  <a:pt x="30" y="1190"/>
                </a:cubicBezTo>
                <a:close/>
                <a:moveTo>
                  <a:pt x="5447" y="0"/>
                </a:moveTo>
                <a:lnTo>
                  <a:pt x="5877" y="122"/>
                </a:lnTo>
                <a:lnTo>
                  <a:pt x="5521" y="393"/>
                </a:lnTo>
                <a:lnTo>
                  <a:pt x="5447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813040" y="4346640"/>
            <a:ext cx="833400" cy="125280"/>
          </a:xfrm>
          <a:custGeom>
            <a:avLst/>
            <a:gdLst/>
            <a:ahLst/>
            <a:rect l="l" t="t" r="r" b="b"/>
            <a:pathLst>
              <a:path w="5877" h="894">
                <a:moveTo>
                  <a:pt x="40" y="2"/>
                </a:moveTo>
                <a:lnTo>
                  <a:pt x="5551" y="671"/>
                </a:lnTo>
                <a:cubicBezTo>
                  <a:pt x="5569" y="673"/>
                  <a:pt x="5582" y="689"/>
                  <a:pt x="5580" y="708"/>
                </a:cubicBezTo>
                <a:cubicBezTo>
                  <a:pt x="5577" y="726"/>
                  <a:pt x="5561" y="739"/>
                  <a:pt x="5543" y="737"/>
                </a:cubicBezTo>
                <a:lnTo>
                  <a:pt x="32" y="69"/>
                </a:lnTo>
                <a:cubicBezTo>
                  <a:pt x="14" y="66"/>
                  <a:pt x="0" y="50"/>
                  <a:pt x="3" y="31"/>
                </a:cubicBezTo>
                <a:cubicBezTo>
                  <a:pt x="5" y="13"/>
                  <a:pt x="22" y="0"/>
                  <a:pt x="40" y="2"/>
                </a:cubicBezTo>
                <a:close/>
                <a:moveTo>
                  <a:pt x="5504" y="497"/>
                </a:moveTo>
                <a:lnTo>
                  <a:pt x="5877" y="744"/>
                </a:lnTo>
                <a:lnTo>
                  <a:pt x="5456" y="894"/>
                </a:lnTo>
                <a:lnTo>
                  <a:pt x="5504" y="49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13040" y="5191200"/>
            <a:ext cx="833400" cy="152280"/>
          </a:xfrm>
          <a:custGeom>
            <a:avLst/>
            <a:gdLst/>
            <a:ahLst/>
            <a:rect l="l" t="t" r="r" b="b"/>
            <a:pathLst>
              <a:path w="5877" h="1073">
                <a:moveTo>
                  <a:pt x="31" y="1004"/>
                </a:moveTo>
                <a:lnTo>
                  <a:pt x="5543" y="155"/>
                </a:lnTo>
                <a:cubicBezTo>
                  <a:pt x="5561" y="152"/>
                  <a:pt x="5578" y="165"/>
                  <a:pt x="5581" y="183"/>
                </a:cubicBezTo>
                <a:cubicBezTo>
                  <a:pt x="5584" y="201"/>
                  <a:pt x="5571" y="218"/>
                  <a:pt x="5553" y="221"/>
                </a:cubicBezTo>
                <a:lnTo>
                  <a:pt x="41" y="1070"/>
                </a:lnTo>
                <a:cubicBezTo>
                  <a:pt x="23" y="1073"/>
                  <a:pt x="6" y="1060"/>
                  <a:pt x="3" y="1042"/>
                </a:cubicBezTo>
                <a:cubicBezTo>
                  <a:pt x="0" y="1024"/>
                  <a:pt x="13" y="1007"/>
                  <a:pt x="31" y="1004"/>
                </a:cubicBezTo>
                <a:close/>
                <a:moveTo>
                  <a:pt x="5452" y="0"/>
                </a:moveTo>
                <a:lnTo>
                  <a:pt x="5877" y="137"/>
                </a:lnTo>
                <a:lnTo>
                  <a:pt x="5513" y="396"/>
                </a:lnTo>
                <a:lnTo>
                  <a:pt x="545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813040" y="5334120"/>
            <a:ext cx="833400" cy="155520"/>
          </a:xfrm>
          <a:custGeom>
            <a:avLst/>
            <a:gdLst/>
            <a:ahLst/>
            <a:rect l="l" t="t" r="r" b="b"/>
            <a:pathLst>
              <a:path w="5877" h="1104">
                <a:moveTo>
                  <a:pt x="41" y="3"/>
                </a:moveTo>
                <a:lnTo>
                  <a:pt x="5554" y="884"/>
                </a:lnTo>
                <a:cubicBezTo>
                  <a:pt x="5572" y="887"/>
                  <a:pt x="5584" y="904"/>
                  <a:pt x="5581" y="922"/>
                </a:cubicBezTo>
                <a:cubicBezTo>
                  <a:pt x="5578" y="940"/>
                  <a:pt x="5561" y="953"/>
                  <a:pt x="5543" y="950"/>
                </a:cubicBezTo>
                <a:lnTo>
                  <a:pt x="31" y="69"/>
                </a:lnTo>
                <a:cubicBezTo>
                  <a:pt x="12" y="66"/>
                  <a:pt x="0" y="49"/>
                  <a:pt x="3" y="31"/>
                </a:cubicBezTo>
                <a:cubicBezTo>
                  <a:pt x="6" y="13"/>
                  <a:pt x="23" y="0"/>
                  <a:pt x="41" y="3"/>
                </a:cubicBezTo>
                <a:close/>
                <a:moveTo>
                  <a:pt x="5514" y="709"/>
                </a:moveTo>
                <a:lnTo>
                  <a:pt x="5877" y="969"/>
                </a:lnTo>
                <a:lnTo>
                  <a:pt x="5451" y="1104"/>
                </a:lnTo>
                <a:lnTo>
                  <a:pt x="5514" y="70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327640" y="2365200"/>
            <a:ext cx="1824120" cy="614520"/>
          </a:xfrm>
          <a:prstGeom prst="rect">
            <a:avLst/>
          </a:prstGeom>
          <a:noFill/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5483160" y="2467080"/>
            <a:ext cx="1511280" cy="408960"/>
            <a:chOff x="5483160" y="2467080"/>
            <a:chExt cx="1511280" cy="408960"/>
          </a:xfrm>
        </p:grpSpPr>
        <p:grpSp>
          <p:nvGrpSpPr>
            <p:cNvPr id="483" name=""/>
            <p:cNvGrpSpPr/>
            <p:nvPr/>
          </p:nvGrpSpPr>
          <p:grpSpPr>
            <a:xfrm>
              <a:off x="5483160" y="2467080"/>
              <a:ext cx="1511280" cy="180720"/>
              <a:chOff x="5483160" y="2467080"/>
              <a:chExt cx="1511280" cy="180720"/>
            </a:xfrm>
          </p:grpSpPr>
          <p:sp>
            <p:nvSpPr>
              <p:cNvPr id="484" name=""/>
              <p:cNvSpPr/>
              <p:nvPr/>
            </p:nvSpPr>
            <p:spPr>
              <a:xfrm>
                <a:off x="5483160" y="2467080"/>
                <a:ext cx="1511280" cy="180720"/>
              </a:xfrm>
              <a:prstGeom prst="rect">
                <a:avLst/>
              </a:prstGeom>
              <a:solidFill>
                <a:srgbClr val="f2f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83160" y="2467080"/>
                <a:ext cx="1511280" cy="18072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997960" y="249696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5483160" y="2693880"/>
              <a:ext cx="1511280" cy="182160"/>
              <a:chOff x="5483160" y="2693880"/>
              <a:chExt cx="1511280" cy="182160"/>
            </a:xfrm>
          </p:grpSpPr>
          <p:sp>
            <p:nvSpPr>
              <p:cNvPr id="488" name=""/>
              <p:cNvSpPr/>
              <p:nvPr/>
            </p:nvSpPr>
            <p:spPr>
              <a:xfrm>
                <a:off x="5483160" y="2693880"/>
                <a:ext cx="1511280" cy="182160"/>
              </a:xfrm>
              <a:prstGeom prst="rect">
                <a:avLst/>
              </a:prstGeom>
              <a:solidFill>
                <a:srgbClr val="f2f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83160" y="2693880"/>
                <a:ext cx="1511280" cy="182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5982480" y="2725560"/>
              <a:ext cx="51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327640" y="2365200"/>
            <a:ext cx="1824120" cy="614520"/>
          </a:xfrm>
          <a:prstGeom prst="rect">
            <a:avLst/>
          </a:prstGeom>
          <a:noFill/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483160" y="2467080"/>
            <a:ext cx="1511280" cy="180720"/>
            <a:chOff x="5483160" y="2467080"/>
            <a:chExt cx="1511280" cy="180720"/>
          </a:xfrm>
        </p:grpSpPr>
        <p:sp>
          <p:nvSpPr>
            <p:cNvPr id="493" name=""/>
            <p:cNvSpPr/>
            <p:nvPr/>
          </p:nvSpPr>
          <p:spPr>
            <a:xfrm>
              <a:off x="5483160" y="2467080"/>
              <a:ext cx="1511280" cy="180720"/>
            </a:xfrm>
            <a:prstGeom prst="rect">
              <a:avLst/>
            </a:prstGeom>
            <a:solidFill>
              <a:srgbClr val="f2f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83160" y="2467080"/>
              <a:ext cx="1511280" cy="1807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5997960" y="249696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483160" y="2693880"/>
            <a:ext cx="1511280" cy="182520"/>
            <a:chOff x="5483160" y="2693880"/>
            <a:chExt cx="1511280" cy="182520"/>
          </a:xfrm>
        </p:grpSpPr>
        <p:sp>
          <p:nvSpPr>
            <p:cNvPr id="497" name=""/>
            <p:cNvSpPr/>
            <p:nvPr/>
          </p:nvSpPr>
          <p:spPr>
            <a:xfrm>
              <a:off x="5483160" y="2693880"/>
              <a:ext cx="1511280" cy="182520"/>
            </a:xfrm>
            <a:prstGeom prst="rect">
              <a:avLst/>
            </a:prstGeom>
            <a:solidFill>
              <a:srgbClr val="f2f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83160" y="2693880"/>
              <a:ext cx="1511280" cy="1825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982480" y="2725560"/>
            <a:ext cx="51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483160" y="2467080"/>
            <a:ext cx="1511280" cy="180720"/>
            <a:chOff x="5483160" y="2467080"/>
            <a:chExt cx="1511280" cy="180720"/>
          </a:xfrm>
        </p:grpSpPr>
        <p:sp>
          <p:nvSpPr>
            <p:cNvPr id="501" name=""/>
            <p:cNvSpPr/>
            <p:nvPr/>
          </p:nvSpPr>
          <p:spPr>
            <a:xfrm>
              <a:off x="5483160" y="2467080"/>
              <a:ext cx="1511280" cy="180720"/>
            </a:xfrm>
            <a:prstGeom prst="rect">
              <a:avLst/>
            </a:prstGeom>
            <a:solidFill>
              <a:srgbClr val="f2f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83160" y="2467080"/>
              <a:ext cx="1511280" cy="1807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5997960" y="249696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483160" y="2693880"/>
            <a:ext cx="1511280" cy="182520"/>
            <a:chOff x="5483160" y="2693880"/>
            <a:chExt cx="1511280" cy="182520"/>
          </a:xfrm>
        </p:grpSpPr>
        <p:sp>
          <p:nvSpPr>
            <p:cNvPr id="505" name=""/>
            <p:cNvSpPr/>
            <p:nvPr/>
          </p:nvSpPr>
          <p:spPr>
            <a:xfrm>
              <a:off x="5483160" y="2693880"/>
              <a:ext cx="1511280" cy="182520"/>
            </a:xfrm>
            <a:prstGeom prst="rect">
              <a:avLst/>
            </a:prstGeom>
            <a:solidFill>
              <a:srgbClr val="f2f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3160" y="2693880"/>
              <a:ext cx="1511280" cy="1825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5982480" y="2725560"/>
            <a:ext cx="59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327640" y="3481560"/>
            <a:ext cx="1824120" cy="614160"/>
          </a:xfrm>
          <a:prstGeom prst="rect">
            <a:avLst/>
          </a:prstGeom>
          <a:noFill/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483160" y="3583080"/>
            <a:ext cx="1511280" cy="408960"/>
            <a:chOff x="5483160" y="3583080"/>
            <a:chExt cx="1511280" cy="408960"/>
          </a:xfrm>
        </p:grpSpPr>
        <p:grpSp>
          <p:nvGrpSpPr>
            <p:cNvPr id="510" name=""/>
            <p:cNvGrpSpPr/>
            <p:nvPr/>
          </p:nvGrpSpPr>
          <p:grpSpPr>
            <a:xfrm>
              <a:off x="5483160" y="3583080"/>
              <a:ext cx="1511280" cy="182160"/>
              <a:chOff x="5483160" y="3583080"/>
              <a:chExt cx="1511280" cy="182160"/>
            </a:xfrm>
          </p:grpSpPr>
          <p:sp>
            <p:nvSpPr>
              <p:cNvPr id="511" name=""/>
              <p:cNvSpPr/>
              <p:nvPr/>
            </p:nvSpPr>
            <p:spPr>
              <a:xfrm>
                <a:off x="5483160" y="3583080"/>
                <a:ext cx="1511280" cy="182160"/>
              </a:xfrm>
              <a:prstGeom prst="rect">
                <a:avLst/>
              </a:prstGeom>
              <a:solidFill>
                <a:srgbClr val="f2f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483160" y="3583080"/>
                <a:ext cx="1511280" cy="182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5983560" y="3614400"/>
              <a:ext cx="51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Arial"/>
                </a:rPr>
                <a:t>Click/Cil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5483160" y="3811320"/>
              <a:ext cx="1511280" cy="180720"/>
              <a:chOff x="5483160" y="3811320"/>
              <a:chExt cx="1511280" cy="180720"/>
            </a:xfrm>
          </p:grpSpPr>
          <p:sp>
            <p:nvSpPr>
              <p:cNvPr id="515" name=""/>
              <p:cNvSpPr/>
              <p:nvPr/>
            </p:nvSpPr>
            <p:spPr>
              <a:xfrm>
                <a:off x="5483160" y="3811320"/>
                <a:ext cx="1511280" cy="180720"/>
              </a:xfrm>
              <a:prstGeom prst="rect">
                <a:avLst/>
              </a:prstGeom>
              <a:solidFill>
                <a:srgbClr val="f2f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483160" y="3811320"/>
                <a:ext cx="1511280" cy="18072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873040" y="3843000"/>
              <a:ext cx="73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Arial"/>
                </a:rPr>
                <a:t>MCC on Cli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5327640" y="3481560"/>
            <a:ext cx="1824120" cy="614160"/>
          </a:xfrm>
          <a:prstGeom prst="rect">
            <a:avLst/>
          </a:prstGeom>
          <a:noFill/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483160" y="3583080"/>
            <a:ext cx="1511280" cy="182520"/>
            <a:chOff x="5483160" y="3583080"/>
            <a:chExt cx="1511280" cy="182520"/>
          </a:xfrm>
        </p:grpSpPr>
        <p:sp>
          <p:nvSpPr>
            <p:cNvPr id="520" name=""/>
            <p:cNvSpPr/>
            <p:nvPr/>
          </p:nvSpPr>
          <p:spPr>
            <a:xfrm>
              <a:off x="5483160" y="3583080"/>
              <a:ext cx="1511280" cy="182520"/>
            </a:xfrm>
            <a:prstGeom prst="rect">
              <a:avLst/>
            </a:prstGeom>
            <a:solidFill>
              <a:srgbClr val="f2f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83160" y="3583080"/>
              <a:ext cx="1511280" cy="1825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5983560" y="361476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Click/Cil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5483160" y="3811680"/>
            <a:ext cx="1511280" cy="180720"/>
            <a:chOff x="5483160" y="3811680"/>
            <a:chExt cx="1511280" cy="180720"/>
          </a:xfrm>
        </p:grpSpPr>
        <p:sp>
          <p:nvSpPr>
            <p:cNvPr id="524" name=""/>
            <p:cNvSpPr/>
            <p:nvPr/>
          </p:nvSpPr>
          <p:spPr>
            <a:xfrm>
              <a:off x="5483160" y="3811680"/>
              <a:ext cx="1511280" cy="180720"/>
            </a:xfrm>
            <a:prstGeom prst="rect">
              <a:avLst/>
            </a:prstGeom>
            <a:solidFill>
              <a:srgbClr val="f2f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83160" y="3811680"/>
              <a:ext cx="1511280" cy="1807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5873040" y="3843360"/>
            <a:ext cx="738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MCC on Cli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483160" y="3583080"/>
            <a:ext cx="1511280" cy="182520"/>
            <a:chOff x="5483160" y="3583080"/>
            <a:chExt cx="1511280" cy="182520"/>
          </a:xfrm>
        </p:grpSpPr>
        <p:sp>
          <p:nvSpPr>
            <p:cNvPr id="528" name=""/>
            <p:cNvSpPr/>
            <p:nvPr/>
          </p:nvSpPr>
          <p:spPr>
            <a:xfrm>
              <a:off x="5483160" y="3583080"/>
              <a:ext cx="1511280" cy="182520"/>
            </a:xfrm>
            <a:prstGeom prst="rect">
              <a:avLst/>
            </a:prstGeom>
            <a:solidFill>
              <a:srgbClr val="f2f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83160" y="3583080"/>
              <a:ext cx="1511280" cy="1825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5983560" y="361476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Click/Cil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483160" y="3811680"/>
            <a:ext cx="1511280" cy="180720"/>
            <a:chOff x="5483160" y="3811680"/>
            <a:chExt cx="1511280" cy="180720"/>
          </a:xfrm>
        </p:grpSpPr>
        <p:sp>
          <p:nvSpPr>
            <p:cNvPr id="532" name=""/>
            <p:cNvSpPr/>
            <p:nvPr/>
          </p:nvSpPr>
          <p:spPr>
            <a:xfrm>
              <a:off x="5483160" y="3811680"/>
              <a:ext cx="1511280" cy="180720"/>
            </a:xfrm>
            <a:prstGeom prst="rect">
              <a:avLst/>
            </a:prstGeom>
            <a:solidFill>
              <a:srgbClr val="f2f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83160" y="3811680"/>
              <a:ext cx="1511280" cy="1807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873040" y="3843360"/>
            <a:ext cx="738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MCC on Cli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27640" y="4576680"/>
            <a:ext cx="1824120" cy="568440"/>
          </a:xfrm>
          <a:prstGeom prst="rect">
            <a:avLst/>
          </a:prstGeom>
          <a:noFill/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483160" y="4653000"/>
            <a:ext cx="1511280" cy="415440"/>
            <a:chOff x="5483160" y="4653000"/>
            <a:chExt cx="1511280" cy="415440"/>
          </a:xfrm>
        </p:grpSpPr>
        <p:grpSp>
          <p:nvGrpSpPr>
            <p:cNvPr id="537" name=""/>
            <p:cNvGrpSpPr/>
            <p:nvPr/>
          </p:nvGrpSpPr>
          <p:grpSpPr>
            <a:xfrm>
              <a:off x="5483160" y="4886280"/>
              <a:ext cx="1511280" cy="182160"/>
              <a:chOff x="5483160" y="4886280"/>
              <a:chExt cx="1511280" cy="182160"/>
            </a:xfrm>
          </p:grpSpPr>
          <p:sp>
            <p:nvSpPr>
              <p:cNvPr id="538" name=""/>
              <p:cNvSpPr/>
              <p:nvPr/>
            </p:nvSpPr>
            <p:spPr>
              <a:xfrm>
                <a:off x="5483160" y="4886280"/>
                <a:ext cx="1511280" cy="182160"/>
              </a:xfrm>
              <a:prstGeom prst="rect">
                <a:avLst/>
              </a:prstGeom>
              <a:solidFill>
                <a:srgbClr val="f2f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83160" y="4886280"/>
                <a:ext cx="1511280" cy="182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824440" y="4917960"/>
              <a:ext cx="17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00480" y="4917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37200" y="4917960"/>
              <a:ext cx="62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D for HP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5483160" y="4653000"/>
              <a:ext cx="1511280" cy="183960"/>
              <a:chOff x="5483160" y="4653000"/>
              <a:chExt cx="1511280" cy="183960"/>
            </a:xfrm>
          </p:grpSpPr>
          <p:sp>
            <p:nvSpPr>
              <p:cNvPr id="544" name=""/>
              <p:cNvSpPr/>
              <p:nvPr/>
            </p:nvSpPr>
            <p:spPr>
              <a:xfrm>
                <a:off x="5483160" y="4653000"/>
                <a:ext cx="1511280" cy="183960"/>
              </a:xfrm>
              <a:prstGeom prst="rect">
                <a:avLst/>
              </a:prstGeom>
              <a:solidFill>
                <a:srgbClr val="f2f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83160" y="4653000"/>
                <a:ext cx="1511280" cy="1839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5834880" y="4686120"/>
              <a:ext cx="81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Arial"/>
                </a:rPr>
                <a:t>Algorithms D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327640" y="4576680"/>
            <a:ext cx="1824120" cy="568440"/>
          </a:xfrm>
          <a:prstGeom prst="rect">
            <a:avLst/>
          </a:prstGeom>
          <a:noFill/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483160" y="4886280"/>
            <a:ext cx="1511280" cy="182520"/>
            <a:chOff x="5483160" y="4886280"/>
            <a:chExt cx="1511280" cy="182520"/>
          </a:xfrm>
        </p:grpSpPr>
        <p:sp>
          <p:nvSpPr>
            <p:cNvPr id="549" name=""/>
            <p:cNvSpPr/>
            <p:nvPr/>
          </p:nvSpPr>
          <p:spPr>
            <a:xfrm>
              <a:off x="5483160" y="4886280"/>
              <a:ext cx="1511280" cy="182520"/>
            </a:xfrm>
            <a:prstGeom prst="rect">
              <a:avLst/>
            </a:prstGeom>
            <a:solidFill>
              <a:srgbClr val="f2f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83160" y="4886280"/>
              <a:ext cx="1511280" cy="1825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824440" y="4917960"/>
            <a:ext cx="17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00480" y="491796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037200" y="4917960"/>
            <a:ext cx="622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D for HP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483160" y="4653000"/>
            <a:ext cx="1511280" cy="183960"/>
            <a:chOff x="5483160" y="4653000"/>
            <a:chExt cx="1511280" cy="183960"/>
          </a:xfrm>
        </p:grpSpPr>
        <p:sp>
          <p:nvSpPr>
            <p:cNvPr id="555" name=""/>
            <p:cNvSpPr/>
            <p:nvPr/>
          </p:nvSpPr>
          <p:spPr>
            <a:xfrm>
              <a:off x="5483160" y="4653000"/>
              <a:ext cx="1511280" cy="183960"/>
            </a:xfrm>
            <a:prstGeom prst="rect">
              <a:avLst/>
            </a:prstGeom>
            <a:solidFill>
              <a:srgbClr val="f2f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83160" y="4653000"/>
              <a:ext cx="1511280" cy="18396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5834880" y="468648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Algorithms D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483160" y="4886280"/>
            <a:ext cx="1511280" cy="182520"/>
            <a:chOff x="5483160" y="4886280"/>
            <a:chExt cx="1511280" cy="182520"/>
          </a:xfrm>
        </p:grpSpPr>
        <p:sp>
          <p:nvSpPr>
            <p:cNvPr id="559" name=""/>
            <p:cNvSpPr/>
            <p:nvPr/>
          </p:nvSpPr>
          <p:spPr>
            <a:xfrm>
              <a:off x="5483160" y="4886280"/>
              <a:ext cx="1511280" cy="182520"/>
            </a:xfrm>
            <a:prstGeom prst="rect">
              <a:avLst/>
            </a:prstGeom>
            <a:solidFill>
              <a:srgbClr val="f2f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83160" y="4886280"/>
              <a:ext cx="1511280" cy="1825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5824440" y="4917960"/>
            <a:ext cx="17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000480" y="491796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37200" y="4917960"/>
            <a:ext cx="622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D for HP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5483160" y="4653000"/>
            <a:ext cx="1511280" cy="183960"/>
            <a:chOff x="5483160" y="4653000"/>
            <a:chExt cx="1511280" cy="183960"/>
          </a:xfrm>
        </p:grpSpPr>
        <p:sp>
          <p:nvSpPr>
            <p:cNvPr id="565" name=""/>
            <p:cNvSpPr/>
            <p:nvPr/>
          </p:nvSpPr>
          <p:spPr>
            <a:xfrm>
              <a:off x="5483160" y="4653000"/>
              <a:ext cx="1511280" cy="183960"/>
            </a:xfrm>
            <a:prstGeom prst="rect">
              <a:avLst/>
            </a:prstGeom>
            <a:solidFill>
              <a:srgbClr val="f2f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3160" y="4653000"/>
              <a:ext cx="1511280" cy="18396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5834880" y="468648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Algorithms D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97360" y="2325600"/>
            <a:ext cx="1585800" cy="252360"/>
          </a:xfrm>
          <a:custGeom>
            <a:avLst/>
            <a:gdLst/>
            <a:ahLst/>
            <a:rect l="l" t="t" r="r" b="b"/>
            <a:pathLst>
              <a:path w="11193" h="1777">
                <a:moveTo>
                  <a:pt x="40" y="2"/>
                </a:moveTo>
                <a:lnTo>
                  <a:pt x="10868" y="1555"/>
                </a:lnTo>
                <a:cubicBezTo>
                  <a:pt x="10886" y="1558"/>
                  <a:pt x="10899" y="1575"/>
                  <a:pt x="10897" y="1593"/>
                </a:cubicBezTo>
                <a:cubicBezTo>
                  <a:pt x="10894" y="1611"/>
                  <a:pt x="10877" y="1624"/>
                  <a:pt x="10859" y="1621"/>
                </a:cubicBezTo>
                <a:lnTo>
                  <a:pt x="30" y="68"/>
                </a:lnTo>
                <a:cubicBezTo>
                  <a:pt x="12" y="66"/>
                  <a:pt x="0" y="49"/>
                  <a:pt x="2" y="31"/>
                </a:cubicBezTo>
                <a:cubicBezTo>
                  <a:pt x="5" y="13"/>
                  <a:pt x="22" y="0"/>
                  <a:pt x="40" y="2"/>
                </a:cubicBezTo>
                <a:close/>
                <a:moveTo>
                  <a:pt x="10826" y="1381"/>
                </a:moveTo>
                <a:lnTo>
                  <a:pt x="11193" y="1635"/>
                </a:lnTo>
                <a:lnTo>
                  <a:pt x="10769" y="1777"/>
                </a:lnTo>
                <a:lnTo>
                  <a:pt x="10826" y="138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97360" y="2771640"/>
            <a:ext cx="1585800" cy="424080"/>
          </a:xfrm>
          <a:custGeom>
            <a:avLst/>
            <a:gdLst/>
            <a:ahLst/>
            <a:rect l="l" t="t" r="r" b="b"/>
            <a:pathLst>
              <a:path w="11195" h="2990">
                <a:moveTo>
                  <a:pt x="29" y="2921"/>
                </a:moveTo>
                <a:lnTo>
                  <a:pt x="10864" y="145"/>
                </a:lnTo>
                <a:cubicBezTo>
                  <a:pt x="10882" y="141"/>
                  <a:pt x="10900" y="151"/>
                  <a:pt x="10905" y="169"/>
                </a:cubicBezTo>
                <a:cubicBezTo>
                  <a:pt x="10909" y="187"/>
                  <a:pt x="10899" y="205"/>
                  <a:pt x="10881" y="210"/>
                </a:cubicBezTo>
                <a:lnTo>
                  <a:pt x="45" y="2985"/>
                </a:lnTo>
                <a:cubicBezTo>
                  <a:pt x="28" y="2990"/>
                  <a:pt x="9" y="2979"/>
                  <a:pt x="5" y="2961"/>
                </a:cubicBezTo>
                <a:cubicBezTo>
                  <a:pt x="0" y="2944"/>
                  <a:pt x="11" y="2925"/>
                  <a:pt x="29" y="2921"/>
                </a:cubicBezTo>
                <a:close/>
                <a:moveTo>
                  <a:pt x="10758" y="0"/>
                </a:moveTo>
                <a:lnTo>
                  <a:pt x="11195" y="95"/>
                </a:lnTo>
                <a:lnTo>
                  <a:pt x="10858" y="388"/>
                </a:lnTo>
                <a:lnTo>
                  <a:pt x="1075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97360" y="3664080"/>
            <a:ext cx="1585800" cy="536400"/>
          </a:xfrm>
          <a:custGeom>
            <a:avLst/>
            <a:gdLst/>
            <a:ahLst/>
            <a:rect l="l" t="t" r="r" b="b"/>
            <a:pathLst>
              <a:path w="11195" h="3777">
                <a:moveTo>
                  <a:pt x="27" y="3708"/>
                </a:moveTo>
                <a:lnTo>
                  <a:pt x="10868" y="137"/>
                </a:lnTo>
                <a:cubicBezTo>
                  <a:pt x="10886" y="131"/>
                  <a:pt x="10905" y="141"/>
                  <a:pt x="10911" y="158"/>
                </a:cubicBezTo>
                <a:cubicBezTo>
                  <a:pt x="10916" y="176"/>
                  <a:pt x="10907" y="195"/>
                  <a:pt x="10889" y="200"/>
                </a:cubicBezTo>
                <a:lnTo>
                  <a:pt x="48" y="3771"/>
                </a:lnTo>
                <a:cubicBezTo>
                  <a:pt x="30" y="3777"/>
                  <a:pt x="11" y="3767"/>
                  <a:pt x="5" y="3750"/>
                </a:cubicBezTo>
                <a:cubicBezTo>
                  <a:pt x="0" y="3732"/>
                  <a:pt x="9" y="3714"/>
                  <a:pt x="27" y="3708"/>
                </a:cubicBezTo>
                <a:close/>
                <a:moveTo>
                  <a:pt x="10753" y="0"/>
                </a:moveTo>
                <a:lnTo>
                  <a:pt x="11195" y="64"/>
                </a:lnTo>
                <a:lnTo>
                  <a:pt x="10878" y="380"/>
                </a:lnTo>
                <a:lnTo>
                  <a:pt x="10753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97360" y="3459240"/>
            <a:ext cx="1585800" cy="455400"/>
          </a:xfrm>
          <a:custGeom>
            <a:avLst/>
            <a:gdLst/>
            <a:ahLst/>
            <a:rect l="l" t="t" r="r" b="b"/>
            <a:pathLst>
              <a:path w="11195" h="3207">
                <a:moveTo>
                  <a:pt x="46" y="5"/>
                </a:moveTo>
                <a:lnTo>
                  <a:pt x="10883" y="3000"/>
                </a:lnTo>
                <a:cubicBezTo>
                  <a:pt x="10901" y="3005"/>
                  <a:pt x="10911" y="3023"/>
                  <a:pt x="10906" y="3041"/>
                </a:cubicBezTo>
                <a:cubicBezTo>
                  <a:pt x="10901" y="3059"/>
                  <a:pt x="10883" y="3069"/>
                  <a:pt x="10865" y="3064"/>
                </a:cubicBezTo>
                <a:lnTo>
                  <a:pt x="28" y="70"/>
                </a:lnTo>
                <a:cubicBezTo>
                  <a:pt x="11" y="65"/>
                  <a:pt x="0" y="46"/>
                  <a:pt x="5" y="29"/>
                </a:cubicBezTo>
                <a:cubicBezTo>
                  <a:pt x="10" y="11"/>
                  <a:pt x="28" y="0"/>
                  <a:pt x="46" y="5"/>
                </a:cubicBezTo>
                <a:close/>
                <a:moveTo>
                  <a:pt x="10863" y="2821"/>
                </a:moveTo>
                <a:lnTo>
                  <a:pt x="11195" y="3121"/>
                </a:lnTo>
                <a:lnTo>
                  <a:pt x="10757" y="3207"/>
                </a:lnTo>
                <a:lnTo>
                  <a:pt x="10863" y="282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97360" y="3894120"/>
            <a:ext cx="1585800" cy="561960"/>
          </a:xfrm>
          <a:custGeom>
            <a:avLst/>
            <a:gdLst/>
            <a:ahLst/>
            <a:rect l="l" t="t" r="r" b="b"/>
            <a:pathLst>
              <a:path w="11195" h="3970">
                <a:moveTo>
                  <a:pt x="26" y="3901"/>
                </a:moveTo>
                <a:lnTo>
                  <a:pt x="10870" y="136"/>
                </a:lnTo>
                <a:cubicBezTo>
                  <a:pt x="10887" y="130"/>
                  <a:pt x="10906" y="139"/>
                  <a:pt x="10912" y="156"/>
                </a:cubicBezTo>
                <a:cubicBezTo>
                  <a:pt x="10918" y="174"/>
                  <a:pt x="10909" y="193"/>
                  <a:pt x="10892" y="199"/>
                </a:cubicBezTo>
                <a:lnTo>
                  <a:pt x="48" y="3964"/>
                </a:lnTo>
                <a:cubicBezTo>
                  <a:pt x="31" y="3970"/>
                  <a:pt x="12" y="3961"/>
                  <a:pt x="6" y="3944"/>
                </a:cubicBezTo>
                <a:cubicBezTo>
                  <a:pt x="0" y="3926"/>
                  <a:pt x="9" y="3907"/>
                  <a:pt x="26" y="3901"/>
                </a:cubicBezTo>
                <a:close/>
                <a:moveTo>
                  <a:pt x="10752" y="0"/>
                </a:moveTo>
                <a:lnTo>
                  <a:pt x="11195" y="58"/>
                </a:lnTo>
                <a:lnTo>
                  <a:pt x="10883" y="378"/>
                </a:lnTo>
                <a:lnTo>
                  <a:pt x="1075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897360" y="4734000"/>
            <a:ext cx="1585800" cy="482400"/>
          </a:xfrm>
          <a:custGeom>
            <a:avLst/>
            <a:gdLst/>
            <a:ahLst/>
            <a:rect l="l" t="t" r="r" b="b"/>
            <a:pathLst>
              <a:path w="11195" h="3399">
                <a:moveTo>
                  <a:pt x="28" y="3330"/>
                </a:moveTo>
                <a:lnTo>
                  <a:pt x="10866" y="141"/>
                </a:lnTo>
                <a:cubicBezTo>
                  <a:pt x="10884" y="136"/>
                  <a:pt x="10902" y="146"/>
                  <a:pt x="10908" y="163"/>
                </a:cubicBezTo>
                <a:cubicBezTo>
                  <a:pt x="10913" y="181"/>
                  <a:pt x="10903" y="200"/>
                  <a:pt x="10885" y="205"/>
                </a:cubicBezTo>
                <a:lnTo>
                  <a:pt x="47" y="3394"/>
                </a:lnTo>
                <a:cubicBezTo>
                  <a:pt x="29" y="3399"/>
                  <a:pt x="10" y="3389"/>
                  <a:pt x="5" y="3372"/>
                </a:cubicBezTo>
                <a:cubicBezTo>
                  <a:pt x="0" y="3354"/>
                  <a:pt x="10" y="3335"/>
                  <a:pt x="28" y="3330"/>
                </a:cubicBezTo>
                <a:close/>
                <a:moveTo>
                  <a:pt x="10755" y="0"/>
                </a:moveTo>
                <a:lnTo>
                  <a:pt x="11195" y="79"/>
                </a:lnTo>
                <a:lnTo>
                  <a:pt x="10868" y="384"/>
                </a:lnTo>
                <a:lnTo>
                  <a:pt x="10755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97360" y="4957920"/>
            <a:ext cx="1585800" cy="258480"/>
          </a:xfrm>
          <a:custGeom>
            <a:avLst/>
            <a:gdLst/>
            <a:ahLst/>
            <a:rect l="l" t="t" r="r" b="b"/>
            <a:pathLst>
              <a:path w="11194" h="1817">
                <a:moveTo>
                  <a:pt x="31" y="1748"/>
                </a:moveTo>
                <a:lnTo>
                  <a:pt x="10860" y="155"/>
                </a:lnTo>
                <a:cubicBezTo>
                  <a:pt x="10878" y="152"/>
                  <a:pt x="10895" y="165"/>
                  <a:pt x="10898" y="183"/>
                </a:cubicBezTo>
                <a:cubicBezTo>
                  <a:pt x="10900" y="201"/>
                  <a:pt x="10888" y="218"/>
                  <a:pt x="10870" y="221"/>
                </a:cubicBezTo>
                <a:lnTo>
                  <a:pt x="41" y="1814"/>
                </a:lnTo>
                <a:cubicBezTo>
                  <a:pt x="23" y="1817"/>
                  <a:pt x="6" y="1804"/>
                  <a:pt x="3" y="1786"/>
                </a:cubicBezTo>
                <a:cubicBezTo>
                  <a:pt x="0" y="1768"/>
                  <a:pt x="13" y="1751"/>
                  <a:pt x="31" y="1748"/>
                </a:cubicBezTo>
                <a:close/>
                <a:moveTo>
                  <a:pt x="10770" y="0"/>
                </a:moveTo>
                <a:lnTo>
                  <a:pt x="11194" y="139"/>
                </a:lnTo>
                <a:lnTo>
                  <a:pt x="10828" y="396"/>
                </a:lnTo>
                <a:lnTo>
                  <a:pt x="1077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897360" y="4967280"/>
            <a:ext cx="1585800" cy="509760"/>
          </a:xfrm>
          <a:custGeom>
            <a:avLst/>
            <a:gdLst/>
            <a:ahLst/>
            <a:rect l="l" t="t" r="r" b="b"/>
            <a:pathLst>
              <a:path w="11195" h="3585">
                <a:moveTo>
                  <a:pt x="27" y="3516"/>
                </a:moveTo>
                <a:lnTo>
                  <a:pt x="10867" y="140"/>
                </a:lnTo>
                <a:cubicBezTo>
                  <a:pt x="10885" y="134"/>
                  <a:pt x="10904" y="144"/>
                  <a:pt x="10909" y="162"/>
                </a:cubicBezTo>
                <a:cubicBezTo>
                  <a:pt x="10915" y="179"/>
                  <a:pt x="10905" y="198"/>
                  <a:pt x="10887" y="203"/>
                </a:cubicBezTo>
                <a:lnTo>
                  <a:pt x="47" y="3579"/>
                </a:lnTo>
                <a:cubicBezTo>
                  <a:pt x="29" y="3585"/>
                  <a:pt x="11" y="3575"/>
                  <a:pt x="5" y="3557"/>
                </a:cubicBezTo>
                <a:cubicBezTo>
                  <a:pt x="0" y="3540"/>
                  <a:pt x="10" y="3521"/>
                  <a:pt x="27" y="3516"/>
                </a:cubicBezTo>
                <a:close/>
                <a:moveTo>
                  <a:pt x="10754" y="0"/>
                </a:moveTo>
                <a:lnTo>
                  <a:pt x="11195" y="72"/>
                </a:lnTo>
                <a:lnTo>
                  <a:pt x="10873" y="382"/>
                </a:lnTo>
                <a:lnTo>
                  <a:pt x="10754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7360" y="4743360"/>
            <a:ext cx="1585800" cy="733680"/>
          </a:xfrm>
          <a:custGeom>
            <a:avLst/>
            <a:gdLst/>
            <a:ahLst/>
            <a:rect l="l" t="t" r="r" b="b"/>
            <a:pathLst>
              <a:path w="11196" h="5169">
                <a:moveTo>
                  <a:pt x="24" y="5101"/>
                </a:moveTo>
                <a:lnTo>
                  <a:pt x="10880" y="123"/>
                </a:lnTo>
                <a:cubicBezTo>
                  <a:pt x="10896" y="116"/>
                  <a:pt x="10916" y="123"/>
                  <a:pt x="10924" y="140"/>
                </a:cubicBezTo>
                <a:cubicBezTo>
                  <a:pt x="10931" y="157"/>
                  <a:pt x="10924" y="176"/>
                  <a:pt x="10907" y="184"/>
                </a:cubicBezTo>
                <a:lnTo>
                  <a:pt x="52" y="5162"/>
                </a:lnTo>
                <a:cubicBezTo>
                  <a:pt x="35" y="5169"/>
                  <a:pt x="16" y="5162"/>
                  <a:pt x="8" y="5145"/>
                </a:cubicBezTo>
                <a:cubicBezTo>
                  <a:pt x="0" y="5129"/>
                  <a:pt x="8" y="5109"/>
                  <a:pt x="24" y="5101"/>
                </a:cubicBezTo>
                <a:close/>
                <a:moveTo>
                  <a:pt x="10750" y="0"/>
                </a:moveTo>
                <a:lnTo>
                  <a:pt x="11196" y="15"/>
                </a:lnTo>
                <a:lnTo>
                  <a:pt x="10916" y="363"/>
                </a:lnTo>
                <a:lnTo>
                  <a:pt x="1075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97360" y="3186000"/>
            <a:ext cx="1585800" cy="1559160"/>
          </a:xfrm>
          <a:custGeom>
            <a:avLst/>
            <a:gdLst/>
            <a:ahLst/>
            <a:rect l="l" t="t" r="r" b="b"/>
            <a:pathLst>
              <a:path w="11195" h="11004">
                <a:moveTo>
                  <a:pt x="60" y="13"/>
                </a:moveTo>
                <a:lnTo>
                  <a:pt x="10981" y="10746"/>
                </a:lnTo>
                <a:cubicBezTo>
                  <a:pt x="10994" y="10759"/>
                  <a:pt x="10994" y="10780"/>
                  <a:pt x="10982" y="10794"/>
                </a:cubicBezTo>
                <a:cubicBezTo>
                  <a:pt x="10969" y="10807"/>
                  <a:pt x="10948" y="10807"/>
                  <a:pt x="10934" y="10794"/>
                </a:cubicBezTo>
                <a:lnTo>
                  <a:pt x="14" y="61"/>
                </a:lnTo>
                <a:cubicBezTo>
                  <a:pt x="1" y="48"/>
                  <a:pt x="0" y="27"/>
                  <a:pt x="13" y="14"/>
                </a:cubicBezTo>
                <a:cubicBezTo>
                  <a:pt x="26" y="1"/>
                  <a:pt x="47" y="0"/>
                  <a:pt x="60" y="13"/>
                </a:cubicBezTo>
                <a:close/>
                <a:moveTo>
                  <a:pt x="11050" y="10581"/>
                </a:moveTo>
                <a:lnTo>
                  <a:pt x="11195" y="11004"/>
                </a:lnTo>
                <a:lnTo>
                  <a:pt x="10770" y="10866"/>
                </a:lnTo>
                <a:lnTo>
                  <a:pt x="11050" y="1058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7360" y="4446720"/>
            <a:ext cx="1585800" cy="541080"/>
          </a:xfrm>
          <a:custGeom>
            <a:avLst/>
            <a:gdLst/>
            <a:ahLst/>
            <a:rect l="l" t="t" r="r" b="b"/>
            <a:pathLst>
              <a:path w="11195" h="3818">
                <a:moveTo>
                  <a:pt x="48" y="6"/>
                </a:moveTo>
                <a:lnTo>
                  <a:pt x="10890" y="3618"/>
                </a:lnTo>
                <a:cubicBezTo>
                  <a:pt x="10907" y="3623"/>
                  <a:pt x="10917" y="3642"/>
                  <a:pt x="10911" y="3660"/>
                </a:cubicBezTo>
                <a:cubicBezTo>
                  <a:pt x="10905" y="3677"/>
                  <a:pt x="10886" y="3687"/>
                  <a:pt x="10869" y="3681"/>
                </a:cubicBezTo>
                <a:lnTo>
                  <a:pt x="27" y="69"/>
                </a:lnTo>
                <a:cubicBezTo>
                  <a:pt x="9" y="64"/>
                  <a:pt x="0" y="45"/>
                  <a:pt x="6" y="27"/>
                </a:cubicBezTo>
                <a:cubicBezTo>
                  <a:pt x="11" y="10"/>
                  <a:pt x="30" y="0"/>
                  <a:pt x="48" y="6"/>
                </a:cubicBezTo>
                <a:close/>
                <a:moveTo>
                  <a:pt x="10879" y="3438"/>
                </a:moveTo>
                <a:lnTo>
                  <a:pt x="11195" y="3754"/>
                </a:lnTo>
                <a:lnTo>
                  <a:pt x="10753" y="3818"/>
                </a:lnTo>
                <a:lnTo>
                  <a:pt x="10879" y="343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897360" y="3184560"/>
            <a:ext cx="1585800" cy="720720"/>
          </a:xfrm>
          <a:custGeom>
            <a:avLst/>
            <a:gdLst/>
            <a:ahLst/>
            <a:rect l="l" t="t" r="r" b="b"/>
            <a:pathLst>
              <a:path w="11196" h="5073">
                <a:moveTo>
                  <a:pt x="52" y="8"/>
                </a:moveTo>
                <a:lnTo>
                  <a:pt x="10906" y="4888"/>
                </a:lnTo>
                <a:cubicBezTo>
                  <a:pt x="10923" y="4895"/>
                  <a:pt x="10930" y="4915"/>
                  <a:pt x="10923" y="4932"/>
                </a:cubicBezTo>
                <a:cubicBezTo>
                  <a:pt x="10915" y="4949"/>
                  <a:pt x="10896" y="4956"/>
                  <a:pt x="10879" y="4949"/>
                </a:cubicBezTo>
                <a:lnTo>
                  <a:pt x="24" y="69"/>
                </a:lnTo>
                <a:cubicBezTo>
                  <a:pt x="8" y="61"/>
                  <a:pt x="0" y="41"/>
                  <a:pt x="8" y="24"/>
                </a:cubicBezTo>
                <a:cubicBezTo>
                  <a:pt x="15" y="8"/>
                  <a:pt x="35" y="0"/>
                  <a:pt x="52" y="8"/>
                </a:cubicBezTo>
                <a:close/>
                <a:moveTo>
                  <a:pt x="10914" y="4708"/>
                </a:moveTo>
                <a:lnTo>
                  <a:pt x="11196" y="5055"/>
                </a:lnTo>
                <a:lnTo>
                  <a:pt x="10750" y="5073"/>
                </a:lnTo>
                <a:lnTo>
                  <a:pt x="10914" y="470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97360" y="2325600"/>
            <a:ext cx="1585800" cy="471600"/>
          </a:xfrm>
          <a:custGeom>
            <a:avLst/>
            <a:gdLst/>
            <a:ahLst/>
            <a:rect l="l" t="t" r="r" b="b"/>
            <a:pathLst>
              <a:path w="11195" h="3327">
                <a:moveTo>
                  <a:pt x="46" y="5"/>
                </a:moveTo>
                <a:lnTo>
                  <a:pt x="10884" y="3122"/>
                </a:lnTo>
                <a:cubicBezTo>
                  <a:pt x="10902" y="3127"/>
                  <a:pt x="10912" y="3145"/>
                  <a:pt x="10907" y="3163"/>
                </a:cubicBezTo>
                <a:cubicBezTo>
                  <a:pt x="10902" y="3181"/>
                  <a:pt x="10884" y="3191"/>
                  <a:pt x="10866" y="3186"/>
                </a:cubicBezTo>
                <a:lnTo>
                  <a:pt x="28" y="70"/>
                </a:lnTo>
                <a:cubicBezTo>
                  <a:pt x="10" y="64"/>
                  <a:pt x="0" y="46"/>
                  <a:pt x="5" y="28"/>
                </a:cubicBezTo>
                <a:cubicBezTo>
                  <a:pt x="10" y="11"/>
                  <a:pt x="29" y="0"/>
                  <a:pt x="46" y="5"/>
                </a:cubicBezTo>
                <a:close/>
                <a:moveTo>
                  <a:pt x="10866" y="2943"/>
                </a:moveTo>
                <a:lnTo>
                  <a:pt x="11195" y="3246"/>
                </a:lnTo>
                <a:lnTo>
                  <a:pt x="10756" y="3327"/>
                </a:lnTo>
                <a:lnTo>
                  <a:pt x="10866" y="294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97360" y="4189320"/>
            <a:ext cx="1585800" cy="789120"/>
          </a:xfrm>
          <a:custGeom>
            <a:avLst/>
            <a:gdLst/>
            <a:ahLst/>
            <a:rect l="l" t="t" r="r" b="b"/>
            <a:pathLst>
              <a:path w="11196" h="5565">
                <a:moveTo>
                  <a:pt x="53" y="9"/>
                </a:moveTo>
                <a:lnTo>
                  <a:pt x="10913" y="5386"/>
                </a:lnTo>
                <a:cubicBezTo>
                  <a:pt x="10929" y="5394"/>
                  <a:pt x="10936" y="5414"/>
                  <a:pt x="10928" y="5430"/>
                </a:cubicBezTo>
                <a:cubicBezTo>
                  <a:pt x="10919" y="5447"/>
                  <a:pt x="10899" y="5454"/>
                  <a:pt x="10883" y="5445"/>
                </a:cubicBezTo>
                <a:lnTo>
                  <a:pt x="23" y="68"/>
                </a:lnTo>
                <a:cubicBezTo>
                  <a:pt x="7" y="60"/>
                  <a:pt x="0" y="40"/>
                  <a:pt x="8" y="24"/>
                </a:cubicBezTo>
                <a:cubicBezTo>
                  <a:pt x="16" y="7"/>
                  <a:pt x="36" y="0"/>
                  <a:pt x="53" y="9"/>
                </a:cubicBezTo>
                <a:close/>
                <a:moveTo>
                  <a:pt x="10927" y="5207"/>
                </a:moveTo>
                <a:lnTo>
                  <a:pt x="11196" y="5563"/>
                </a:lnTo>
                <a:lnTo>
                  <a:pt x="10749" y="5565"/>
                </a:lnTo>
                <a:lnTo>
                  <a:pt x="10927" y="520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97360" y="2781360"/>
            <a:ext cx="1585800" cy="689040"/>
          </a:xfrm>
          <a:custGeom>
            <a:avLst/>
            <a:gdLst/>
            <a:ahLst/>
            <a:rect l="l" t="t" r="r" b="b"/>
            <a:pathLst>
              <a:path w="11196" h="4855">
                <a:moveTo>
                  <a:pt x="25" y="4787"/>
                </a:moveTo>
                <a:lnTo>
                  <a:pt x="10877" y="127"/>
                </a:lnTo>
                <a:cubicBezTo>
                  <a:pt x="10894" y="119"/>
                  <a:pt x="10914" y="127"/>
                  <a:pt x="10921" y="144"/>
                </a:cubicBezTo>
                <a:cubicBezTo>
                  <a:pt x="10928" y="161"/>
                  <a:pt x="10920" y="181"/>
                  <a:pt x="10903" y="188"/>
                </a:cubicBezTo>
                <a:lnTo>
                  <a:pt x="51" y="4848"/>
                </a:lnTo>
                <a:cubicBezTo>
                  <a:pt x="34" y="4855"/>
                  <a:pt x="15" y="4848"/>
                  <a:pt x="8" y="4831"/>
                </a:cubicBezTo>
                <a:cubicBezTo>
                  <a:pt x="0" y="4814"/>
                  <a:pt x="8" y="4794"/>
                  <a:pt x="25" y="4787"/>
                </a:cubicBezTo>
                <a:close/>
                <a:moveTo>
                  <a:pt x="10750" y="0"/>
                </a:moveTo>
                <a:lnTo>
                  <a:pt x="11196" y="26"/>
                </a:lnTo>
                <a:lnTo>
                  <a:pt x="10908" y="367"/>
                </a:lnTo>
                <a:lnTo>
                  <a:pt x="1075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01800" y="174132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373920" y="174312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4560" y="174312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945400" y="222084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43160" y="3325680"/>
            <a:ext cx="979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New A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883120" y="4429080"/>
            <a:ext cx="96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New Algorith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62320" y="4043520"/>
            <a:ext cx="32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2760" y="5967360"/>
            <a:ext cx="3402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ltidisciplinaridad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ORMAR ENGENHEIROS CAPAZ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erenciar ciência em larga 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iência da Comp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jetar aplicações avanç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ngenharia de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jetar e gerenciar exper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ngenharia Comput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binar simulação e realidade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771640" y="5661000"/>
            <a:ext cx="55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enharia Computação e Informação – COPPE e POLI / UFR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468360" y="5229360"/>
            <a:ext cx="234324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vite para participar HPDGrid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1011240" y="1355760"/>
            <a:ext cx="6945480" cy="54068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187280" y="5259240"/>
            <a:ext cx="2603520" cy="7621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250920" y="1057320"/>
            <a:ext cx="434340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ernational Workshop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igh-Performance Data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 Grid Environments (HPDGrid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ção da Ciê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ência baseada em Observ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entista obtém dados por observação dir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entista analisam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ência baseada em Anál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entista constrói o modelo analí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a previ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ência baseada em Simul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 o modelo analí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 o modelo e realiza previ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ção da Ciência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8000" y="4610160"/>
            <a:ext cx="3905280" cy="1914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851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iência baseada em Observ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iência baseada em Anál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iência baseada em Simu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ência baseada em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s obtidos por instrumentos, sensor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 dados gerados por si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ados po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azenados em bases de dados/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entista analisa bases de dados/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enharia Computa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2717640" cy="3810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038480" y="1703520"/>
            <a:ext cx="4953240" cy="3298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268360" y="4599000"/>
            <a:ext cx="5183280" cy="163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Dados Cientí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628640"/>
            <a:ext cx="4213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nde escala- avalan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tamente distribuí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nhuma organização possui todos 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cessit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tegraçã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ntre as diversas medidas, modelos utilizad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34340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ços computacion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3920" y="1557000"/>
            <a:ext cx="75708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volume de componentes de softw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osição, Execução e Monito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tamento sofisticado de serviç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içã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nibilizaçã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fa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stórico de uso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8600" y="4489560"/>
            <a:ext cx="8375400" cy="2035080"/>
            <a:chOff x="228600" y="4489560"/>
            <a:chExt cx="8375400" cy="2035080"/>
          </a:xfrm>
        </p:grpSpPr>
        <p:sp>
          <p:nvSpPr>
            <p:cNvPr id="148" name=""/>
            <p:cNvSpPr/>
            <p:nvPr/>
          </p:nvSpPr>
          <p:spPr>
            <a:xfrm>
              <a:off x="497880" y="4496040"/>
              <a:ext cx="1245960" cy="439920"/>
            </a:xfrm>
            <a:custGeom>
              <a:avLst/>
              <a:gdLst/>
              <a:ahLst/>
              <a:rect l="l" t="t" r="r" b="b"/>
              <a:pathLst>
                <a:path w="669" h="328">
                  <a:moveTo>
                    <a:pt x="335" y="0"/>
                  </a:moveTo>
                  <a:lnTo>
                    <a:pt x="317" y="0"/>
                  </a:lnTo>
                  <a:lnTo>
                    <a:pt x="301" y="0"/>
                  </a:lnTo>
                  <a:lnTo>
                    <a:pt x="284" y="2"/>
                  </a:lnTo>
                  <a:lnTo>
                    <a:pt x="267" y="3"/>
                  </a:lnTo>
                  <a:lnTo>
                    <a:pt x="251" y="4"/>
                  </a:lnTo>
                  <a:lnTo>
                    <a:pt x="236" y="7"/>
                  </a:lnTo>
                  <a:lnTo>
                    <a:pt x="220" y="10"/>
                  </a:lnTo>
                  <a:lnTo>
                    <a:pt x="205" y="13"/>
                  </a:lnTo>
                  <a:lnTo>
                    <a:pt x="190" y="15"/>
                  </a:lnTo>
                  <a:lnTo>
                    <a:pt x="176" y="19"/>
                  </a:lnTo>
                  <a:lnTo>
                    <a:pt x="162" y="24"/>
                  </a:lnTo>
                  <a:lnTo>
                    <a:pt x="148" y="28"/>
                  </a:lnTo>
                  <a:lnTo>
                    <a:pt x="135" y="32"/>
                  </a:lnTo>
                  <a:lnTo>
                    <a:pt x="122" y="37"/>
                  </a:lnTo>
                  <a:lnTo>
                    <a:pt x="110" y="43"/>
                  </a:lnTo>
                  <a:lnTo>
                    <a:pt x="99" y="47"/>
                  </a:lnTo>
                  <a:lnTo>
                    <a:pt x="88" y="54"/>
                  </a:lnTo>
                  <a:lnTo>
                    <a:pt x="78" y="59"/>
                  </a:lnTo>
                  <a:lnTo>
                    <a:pt x="67" y="65"/>
                  </a:lnTo>
                  <a:lnTo>
                    <a:pt x="58" y="72"/>
                  </a:lnTo>
                  <a:lnTo>
                    <a:pt x="49" y="79"/>
                  </a:lnTo>
                  <a:lnTo>
                    <a:pt x="42" y="85"/>
                  </a:lnTo>
                  <a:lnTo>
                    <a:pt x="34" y="92"/>
                  </a:lnTo>
                  <a:lnTo>
                    <a:pt x="27" y="99"/>
                  </a:lnTo>
                  <a:lnTo>
                    <a:pt x="21" y="107"/>
                  </a:lnTo>
                  <a:lnTo>
                    <a:pt x="16" y="114"/>
                  </a:lnTo>
                  <a:lnTo>
                    <a:pt x="11" y="123"/>
                  </a:lnTo>
                  <a:lnTo>
                    <a:pt x="7" y="131"/>
                  </a:lnTo>
                  <a:lnTo>
                    <a:pt x="4" y="139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0" y="164"/>
                  </a:lnTo>
                  <a:lnTo>
                    <a:pt x="2" y="172"/>
                  </a:lnTo>
                  <a:lnTo>
                    <a:pt x="3" y="180"/>
                  </a:lnTo>
                  <a:lnTo>
                    <a:pt x="4" y="189"/>
                  </a:lnTo>
                  <a:lnTo>
                    <a:pt x="7" y="197"/>
                  </a:lnTo>
                  <a:lnTo>
                    <a:pt x="11" y="205"/>
                  </a:lnTo>
                  <a:lnTo>
                    <a:pt x="16" y="212"/>
                  </a:lnTo>
                  <a:lnTo>
                    <a:pt x="21" y="220"/>
                  </a:lnTo>
                  <a:lnTo>
                    <a:pt x="27" y="227"/>
                  </a:lnTo>
                  <a:lnTo>
                    <a:pt x="34" y="235"/>
                  </a:lnTo>
                  <a:lnTo>
                    <a:pt x="42" y="242"/>
                  </a:lnTo>
                  <a:lnTo>
                    <a:pt x="49" y="249"/>
                  </a:lnTo>
                  <a:lnTo>
                    <a:pt x="58" y="256"/>
                  </a:lnTo>
                  <a:lnTo>
                    <a:pt x="67" y="262"/>
                  </a:lnTo>
                  <a:lnTo>
                    <a:pt x="78" y="268"/>
                  </a:lnTo>
                  <a:lnTo>
                    <a:pt x="88" y="274"/>
                  </a:lnTo>
                  <a:lnTo>
                    <a:pt x="99" y="279"/>
                  </a:lnTo>
                  <a:lnTo>
                    <a:pt x="110" y="285"/>
                  </a:lnTo>
                  <a:lnTo>
                    <a:pt x="122" y="290"/>
                  </a:lnTo>
                  <a:lnTo>
                    <a:pt x="135" y="295"/>
                  </a:lnTo>
                  <a:lnTo>
                    <a:pt x="148" y="300"/>
                  </a:lnTo>
                  <a:lnTo>
                    <a:pt x="162" y="304"/>
                  </a:lnTo>
                  <a:lnTo>
                    <a:pt x="176" y="308"/>
                  </a:lnTo>
                  <a:lnTo>
                    <a:pt x="190" y="311"/>
                  </a:lnTo>
                  <a:lnTo>
                    <a:pt x="205" y="315"/>
                  </a:lnTo>
                  <a:lnTo>
                    <a:pt x="220" y="318"/>
                  </a:lnTo>
                  <a:lnTo>
                    <a:pt x="236" y="321"/>
                  </a:lnTo>
                  <a:lnTo>
                    <a:pt x="251" y="322"/>
                  </a:lnTo>
                  <a:lnTo>
                    <a:pt x="267" y="325"/>
                  </a:lnTo>
                  <a:lnTo>
                    <a:pt x="284" y="326"/>
                  </a:lnTo>
                  <a:lnTo>
                    <a:pt x="301" y="326"/>
                  </a:lnTo>
                  <a:lnTo>
                    <a:pt x="317" y="328"/>
                  </a:lnTo>
                  <a:lnTo>
                    <a:pt x="335" y="328"/>
                  </a:lnTo>
                  <a:lnTo>
                    <a:pt x="352" y="328"/>
                  </a:lnTo>
                  <a:lnTo>
                    <a:pt x="368" y="326"/>
                  </a:lnTo>
                  <a:lnTo>
                    <a:pt x="385" y="326"/>
                  </a:lnTo>
                  <a:lnTo>
                    <a:pt x="402" y="325"/>
                  </a:lnTo>
                  <a:lnTo>
                    <a:pt x="418" y="322"/>
                  </a:lnTo>
                  <a:lnTo>
                    <a:pt x="433" y="321"/>
                  </a:lnTo>
                  <a:lnTo>
                    <a:pt x="450" y="318"/>
                  </a:lnTo>
                  <a:lnTo>
                    <a:pt x="464" y="315"/>
                  </a:lnTo>
                  <a:lnTo>
                    <a:pt x="479" y="311"/>
                  </a:lnTo>
                  <a:lnTo>
                    <a:pt x="494" y="308"/>
                  </a:lnTo>
                  <a:lnTo>
                    <a:pt x="508" y="304"/>
                  </a:lnTo>
                  <a:lnTo>
                    <a:pt x="521" y="300"/>
                  </a:lnTo>
                  <a:lnTo>
                    <a:pt x="535" y="295"/>
                  </a:lnTo>
                  <a:lnTo>
                    <a:pt x="547" y="290"/>
                  </a:lnTo>
                  <a:lnTo>
                    <a:pt x="559" y="285"/>
                  </a:lnTo>
                  <a:lnTo>
                    <a:pt x="571" y="279"/>
                  </a:lnTo>
                  <a:lnTo>
                    <a:pt x="582" y="274"/>
                  </a:lnTo>
                  <a:lnTo>
                    <a:pt x="593" y="268"/>
                  </a:lnTo>
                  <a:lnTo>
                    <a:pt x="602" y="262"/>
                  </a:lnTo>
                  <a:lnTo>
                    <a:pt x="612" y="256"/>
                  </a:lnTo>
                  <a:lnTo>
                    <a:pt x="620" y="249"/>
                  </a:lnTo>
                  <a:lnTo>
                    <a:pt x="629" y="242"/>
                  </a:lnTo>
                  <a:lnTo>
                    <a:pt x="636" y="235"/>
                  </a:lnTo>
                  <a:lnTo>
                    <a:pt x="642" y="227"/>
                  </a:lnTo>
                  <a:lnTo>
                    <a:pt x="648" y="220"/>
                  </a:lnTo>
                  <a:lnTo>
                    <a:pt x="654" y="212"/>
                  </a:lnTo>
                  <a:lnTo>
                    <a:pt x="658" y="205"/>
                  </a:lnTo>
                  <a:lnTo>
                    <a:pt x="662" y="197"/>
                  </a:lnTo>
                  <a:lnTo>
                    <a:pt x="665" y="189"/>
                  </a:lnTo>
                  <a:lnTo>
                    <a:pt x="667" y="180"/>
                  </a:lnTo>
                  <a:lnTo>
                    <a:pt x="667" y="172"/>
                  </a:lnTo>
                  <a:lnTo>
                    <a:pt x="669" y="164"/>
                  </a:lnTo>
                  <a:lnTo>
                    <a:pt x="667" y="156"/>
                  </a:lnTo>
                  <a:lnTo>
                    <a:pt x="667" y="147"/>
                  </a:lnTo>
                  <a:lnTo>
                    <a:pt x="665" y="139"/>
                  </a:lnTo>
                  <a:lnTo>
                    <a:pt x="662" y="131"/>
                  </a:lnTo>
                  <a:lnTo>
                    <a:pt x="658" y="123"/>
                  </a:lnTo>
                  <a:lnTo>
                    <a:pt x="654" y="114"/>
                  </a:lnTo>
                  <a:lnTo>
                    <a:pt x="648" y="107"/>
                  </a:lnTo>
                  <a:lnTo>
                    <a:pt x="642" y="99"/>
                  </a:lnTo>
                  <a:lnTo>
                    <a:pt x="636" y="92"/>
                  </a:lnTo>
                  <a:lnTo>
                    <a:pt x="629" y="85"/>
                  </a:lnTo>
                  <a:lnTo>
                    <a:pt x="620" y="79"/>
                  </a:lnTo>
                  <a:lnTo>
                    <a:pt x="612" y="72"/>
                  </a:lnTo>
                  <a:lnTo>
                    <a:pt x="602" y="65"/>
                  </a:lnTo>
                  <a:lnTo>
                    <a:pt x="593" y="59"/>
                  </a:lnTo>
                  <a:lnTo>
                    <a:pt x="582" y="54"/>
                  </a:lnTo>
                  <a:lnTo>
                    <a:pt x="571" y="47"/>
                  </a:lnTo>
                  <a:lnTo>
                    <a:pt x="559" y="43"/>
                  </a:lnTo>
                  <a:lnTo>
                    <a:pt x="547" y="37"/>
                  </a:lnTo>
                  <a:lnTo>
                    <a:pt x="535" y="32"/>
                  </a:lnTo>
                  <a:lnTo>
                    <a:pt x="521" y="28"/>
                  </a:lnTo>
                  <a:lnTo>
                    <a:pt x="508" y="24"/>
                  </a:lnTo>
                  <a:lnTo>
                    <a:pt x="494" y="19"/>
                  </a:lnTo>
                  <a:lnTo>
                    <a:pt x="479" y="15"/>
                  </a:lnTo>
                  <a:lnTo>
                    <a:pt x="464" y="13"/>
                  </a:lnTo>
                  <a:lnTo>
                    <a:pt x="450" y="10"/>
                  </a:lnTo>
                  <a:lnTo>
                    <a:pt x="433" y="7"/>
                  </a:lnTo>
                  <a:lnTo>
                    <a:pt x="418" y="4"/>
                  </a:lnTo>
                  <a:lnTo>
                    <a:pt x="402" y="3"/>
                  </a:lnTo>
                  <a:lnTo>
                    <a:pt x="385" y="2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7880" y="4496040"/>
              <a:ext cx="1245960" cy="439920"/>
            </a:xfrm>
            <a:custGeom>
              <a:avLst/>
              <a:gdLst/>
              <a:ahLst/>
              <a:rect l="l" t="t" r="r" b="b"/>
              <a:pathLst>
                <a:path w="669" h="328">
                  <a:moveTo>
                    <a:pt x="335" y="0"/>
                  </a:moveTo>
                  <a:lnTo>
                    <a:pt x="317" y="0"/>
                  </a:lnTo>
                  <a:lnTo>
                    <a:pt x="301" y="0"/>
                  </a:lnTo>
                  <a:lnTo>
                    <a:pt x="284" y="2"/>
                  </a:lnTo>
                  <a:lnTo>
                    <a:pt x="267" y="3"/>
                  </a:lnTo>
                  <a:lnTo>
                    <a:pt x="251" y="4"/>
                  </a:lnTo>
                  <a:lnTo>
                    <a:pt x="236" y="7"/>
                  </a:lnTo>
                  <a:lnTo>
                    <a:pt x="220" y="10"/>
                  </a:lnTo>
                  <a:lnTo>
                    <a:pt x="205" y="13"/>
                  </a:lnTo>
                  <a:lnTo>
                    <a:pt x="190" y="15"/>
                  </a:lnTo>
                  <a:lnTo>
                    <a:pt x="176" y="19"/>
                  </a:lnTo>
                  <a:lnTo>
                    <a:pt x="162" y="24"/>
                  </a:lnTo>
                  <a:lnTo>
                    <a:pt x="148" y="28"/>
                  </a:lnTo>
                  <a:lnTo>
                    <a:pt x="135" y="32"/>
                  </a:lnTo>
                  <a:lnTo>
                    <a:pt x="122" y="37"/>
                  </a:lnTo>
                  <a:lnTo>
                    <a:pt x="110" y="43"/>
                  </a:lnTo>
                  <a:lnTo>
                    <a:pt x="99" y="47"/>
                  </a:lnTo>
                  <a:lnTo>
                    <a:pt x="88" y="54"/>
                  </a:lnTo>
                  <a:lnTo>
                    <a:pt x="78" y="59"/>
                  </a:lnTo>
                  <a:lnTo>
                    <a:pt x="67" y="65"/>
                  </a:lnTo>
                  <a:lnTo>
                    <a:pt x="58" y="72"/>
                  </a:lnTo>
                  <a:lnTo>
                    <a:pt x="49" y="79"/>
                  </a:lnTo>
                  <a:lnTo>
                    <a:pt x="42" y="85"/>
                  </a:lnTo>
                  <a:lnTo>
                    <a:pt x="34" y="92"/>
                  </a:lnTo>
                  <a:lnTo>
                    <a:pt x="27" y="99"/>
                  </a:lnTo>
                  <a:lnTo>
                    <a:pt x="21" y="107"/>
                  </a:lnTo>
                  <a:lnTo>
                    <a:pt x="16" y="114"/>
                  </a:lnTo>
                  <a:lnTo>
                    <a:pt x="11" y="123"/>
                  </a:lnTo>
                  <a:lnTo>
                    <a:pt x="7" y="131"/>
                  </a:lnTo>
                  <a:lnTo>
                    <a:pt x="4" y="139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0" y="164"/>
                  </a:lnTo>
                  <a:lnTo>
                    <a:pt x="2" y="172"/>
                  </a:lnTo>
                  <a:lnTo>
                    <a:pt x="3" y="180"/>
                  </a:lnTo>
                  <a:lnTo>
                    <a:pt x="4" y="189"/>
                  </a:lnTo>
                  <a:lnTo>
                    <a:pt x="7" y="197"/>
                  </a:lnTo>
                  <a:lnTo>
                    <a:pt x="11" y="205"/>
                  </a:lnTo>
                  <a:lnTo>
                    <a:pt x="16" y="212"/>
                  </a:lnTo>
                  <a:lnTo>
                    <a:pt x="21" y="220"/>
                  </a:lnTo>
                  <a:lnTo>
                    <a:pt x="27" y="227"/>
                  </a:lnTo>
                  <a:lnTo>
                    <a:pt x="34" y="235"/>
                  </a:lnTo>
                  <a:lnTo>
                    <a:pt x="42" y="242"/>
                  </a:lnTo>
                  <a:lnTo>
                    <a:pt x="49" y="249"/>
                  </a:lnTo>
                  <a:lnTo>
                    <a:pt x="58" y="256"/>
                  </a:lnTo>
                  <a:lnTo>
                    <a:pt x="67" y="262"/>
                  </a:lnTo>
                  <a:lnTo>
                    <a:pt x="78" y="268"/>
                  </a:lnTo>
                  <a:lnTo>
                    <a:pt x="88" y="274"/>
                  </a:lnTo>
                  <a:lnTo>
                    <a:pt x="99" y="279"/>
                  </a:lnTo>
                  <a:lnTo>
                    <a:pt x="110" y="285"/>
                  </a:lnTo>
                  <a:lnTo>
                    <a:pt x="122" y="290"/>
                  </a:lnTo>
                  <a:lnTo>
                    <a:pt x="135" y="295"/>
                  </a:lnTo>
                  <a:lnTo>
                    <a:pt x="148" y="300"/>
                  </a:lnTo>
                  <a:lnTo>
                    <a:pt x="162" y="304"/>
                  </a:lnTo>
                  <a:lnTo>
                    <a:pt x="176" y="308"/>
                  </a:lnTo>
                  <a:lnTo>
                    <a:pt x="190" y="311"/>
                  </a:lnTo>
                  <a:lnTo>
                    <a:pt x="205" y="315"/>
                  </a:lnTo>
                  <a:lnTo>
                    <a:pt x="220" y="318"/>
                  </a:lnTo>
                  <a:lnTo>
                    <a:pt x="236" y="321"/>
                  </a:lnTo>
                  <a:lnTo>
                    <a:pt x="251" y="322"/>
                  </a:lnTo>
                  <a:lnTo>
                    <a:pt x="267" y="325"/>
                  </a:lnTo>
                  <a:lnTo>
                    <a:pt x="284" y="326"/>
                  </a:lnTo>
                  <a:lnTo>
                    <a:pt x="301" y="326"/>
                  </a:lnTo>
                  <a:lnTo>
                    <a:pt x="317" y="328"/>
                  </a:lnTo>
                  <a:lnTo>
                    <a:pt x="335" y="328"/>
                  </a:lnTo>
                  <a:lnTo>
                    <a:pt x="352" y="328"/>
                  </a:lnTo>
                  <a:lnTo>
                    <a:pt x="368" y="326"/>
                  </a:lnTo>
                  <a:lnTo>
                    <a:pt x="385" y="326"/>
                  </a:lnTo>
                  <a:lnTo>
                    <a:pt x="402" y="325"/>
                  </a:lnTo>
                  <a:lnTo>
                    <a:pt x="418" y="322"/>
                  </a:lnTo>
                  <a:lnTo>
                    <a:pt x="433" y="321"/>
                  </a:lnTo>
                  <a:lnTo>
                    <a:pt x="450" y="318"/>
                  </a:lnTo>
                  <a:lnTo>
                    <a:pt x="464" y="315"/>
                  </a:lnTo>
                  <a:lnTo>
                    <a:pt x="479" y="311"/>
                  </a:lnTo>
                  <a:lnTo>
                    <a:pt x="494" y="308"/>
                  </a:lnTo>
                  <a:lnTo>
                    <a:pt x="508" y="304"/>
                  </a:lnTo>
                  <a:lnTo>
                    <a:pt x="521" y="300"/>
                  </a:lnTo>
                  <a:lnTo>
                    <a:pt x="535" y="295"/>
                  </a:lnTo>
                  <a:lnTo>
                    <a:pt x="547" y="290"/>
                  </a:lnTo>
                  <a:lnTo>
                    <a:pt x="559" y="285"/>
                  </a:lnTo>
                  <a:lnTo>
                    <a:pt x="571" y="279"/>
                  </a:lnTo>
                  <a:lnTo>
                    <a:pt x="582" y="274"/>
                  </a:lnTo>
                  <a:lnTo>
                    <a:pt x="593" y="268"/>
                  </a:lnTo>
                  <a:lnTo>
                    <a:pt x="602" y="262"/>
                  </a:lnTo>
                  <a:lnTo>
                    <a:pt x="612" y="256"/>
                  </a:lnTo>
                  <a:lnTo>
                    <a:pt x="620" y="249"/>
                  </a:lnTo>
                  <a:lnTo>
                    <a:pt x="629" y="242"/>
                  </a:lnTo>
                  <a:lnTo>
                    <a:pt x="636" y="235"/>
                  </a:lnTo>
                  <a:lnTo>
                    <a:pt x="642" y="227"/>
                  </a:lnTo>
                  <a:lnTo>
                    <a:pt x="648" y="220"/>
                  </a:lnTo>
                  <a:lnTo>
                    <a:pt x="654" y="212"/>
                  </a:lnTo>
                  <a:lnTo>
                    <a:pt x="658" y="205"/>
                  </a:lnTo>
                  <a:lnTo>
                    <a:pt x="662" y="197"/>
                  </a:lnTo>
                  <a:lnTo>
                    <a:pt x="665" y="189"/>
                  </a:lnTo>
                  <a:lnTo>
                    <a:pt x="667" y="180"/>
                  </a:lnTo>
                  <a:lnTo>
                    <a:pt x="667" y="172"/>
                  </a:lnTo>
                  <a:lnTo>
                    <a:pt x="669" y="164"/>
                  </a:lnTo>
                  <a:lnTo>
                    <a:pt x="667" y="156"/>
                  </a:lnTo>
                  <a:lnTo>
                    <a:pt x="667" y="147"/>
                  </a:lnTo>
                  <a:lnTo>
                    <a:pt x="665" y="139"/>
                  </a:lnTo>
                  <a:lnTo>
                    <a:pt x="662" y="131"/>
                  </a:lnTo>
                  <a:lnTo>
                    <a:pt x="658" y="123"/>
                  </a:lnTo>
                  <a:lnTo>
                    <a:pt x="654" y="114"/>
                  </a:lnTo>
                  <a:lnTo>
                    <a:pt x="648" y="107"/>
                  </a:lnTo>
                  <a:lnTo>
                    <a:pt x="642" y="99"/>
                  </a:lnTo>
                  <a:lnTo>
                    <a:pt x="636" y="92"/>
                  </a:lnTo>
                  <a:lnTo>
                    <a:pt x="629" y="85"/>
                  </a:lnTo>
                  <a:lnTo>
                    <a:pt x="620" y="79"/>
                  </a:lnTo>
                  <a:lnTo>
                    <a:pt x="612" y="72"/>
                  </a:lnTo>
                  <a:lnTo>
                    <a:pt x="602" y="65"/>
                  </a:lnTo>
                  <a:lnTo>
                    <a:pt x="593" y="59"/>
                  </a:lnTo>
                  <a:lnTo>
                    <a:pt x="582" y="54"/>
                  </a:lnTo>
                  <a:lnTo>
                    <a:pt x="571" y="47"/>
                  </a:lnTo>
                  <a:lnTo>
                    <a:pt x="559" y="43"/>
                  </a:lnTo>
                  <a:lnTo>
                    <a:pt x="547" y="37"/>
                  </a:lnTo>
                  <a:lnTo>
                    <a:pt x="535" y="32"/>
                  </a:lnTo>
                  <a:lnTo>
                    <a:pt x="521" y="28"/>
                  </a:lnTo>
                  <a:lnTo>
                    <a:pt x="508" y="24"/>
                  </a:lnTo>
                  <a:lnTo>
                    <a:pt x="494" y="19"/>
                  </a:lnTo>
                  <a:lnTo>
                    <a:pt x="479" y="15"/>
                  </a:lnTo>
                  <a:lnTo>
                    <a:pt x="464" y="13"/>
                  </a:lnTo>
                  <a:lnTo>
                    <a:pt x="450" y="10"/>
                  </a:lnTo>
                  <a:lnTo>
                    <a:pt x="433" y="7"/>
                  </a:lnTo>
                  <a:lnTo>
                    <a:pt x="418" y="4"/>
                  </a:lnTo>
                  <a:lnTo>
                    <a:pt x="402" y="3"/>
                  </a:lnTo>
                  <a:lnTo>
                    <a:pt x="385" y="2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335" y="0"/>
                  </a:lnTo>
                </a:path>
              </a:pathLst>
            </a:cu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4680" y="4554000"/>
              <a:ext cx="600120" cy="1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rotei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6840" y="4717080"/>
              <a:ext cx="938520" cy="1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equen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4720" y="5139000"/>
              <a:ext cx="8360280" cy="1385640"/>
            </a:xfrm>
            <a:custGeom>
              <a:avLst/>
              <a:gdLst/>
              <a:ahLst/>
              <a:rect l="l" t="t" r="r" b="b"/>
              <a:pathLst>
                <a:path w="4498" h="1032">
                  <a:moveTo>
                    <a:pt x="173" y="0"/>
                  </a:moveTo>
                  <a:lnTo>
                    <a:pt x="164" y="0"/>
                  </a:lnTo>
                  <a:lnTo>
                    <a:pt x="156" y="0"/>
                  </a:lnTo>
                  <a:lnTo>
                    <a:pt x="146" y="1"/>
                  </a:lnTo>
                  <a:lnTo>
                    <a:pt x="138" y="3"/>
                  </a:lnTo>
                  <a:lnTo>
                    <a:pt x="130" y="4"/>
                  </a:lnTo>
                  <a:lnTo>
                    <a:pt x="122" y="7"/>
                  </a:lnTo>
                  <a:lnTo>
                    <a:pt x="113" y="9"/>
                  </a:lnTo>
                  <a:lnTo>
                    <a:pt x="106" y="12"/>
                  </a:lnTo>
                  <a:lnTo>
                    <a:pt x="98" y="16"/>
                  </a:lnTo>
                  <a:lnTo>
                    <a:pt x="91" y="20"/>
                  </a:lnTo>
                  <a:lnTo>
                    <a:pt x="77" y="29"/>
                  </a:lnTo>
                  <a:lnTo>
                    <a:pt x="63" y="38"/>
                  </a:lnTo>
                  <a:lnTo>
                    <a:pt x="51" y="49"/>
                  </a:lnTo>
                  <a:lnTo>
                    <a:pt x="40" y="62"/>
                  </a:lnTo>
                  <a:lnTo>
                    <a:pt x="30" y="75"/>
                  </a:lnTo>
                  <a:lnTo>
                    <a:pt x="21" y="89"/>
                  </a:lnTo>
                  <a:lnTo>
                    <a:pt x="18" y="96"/>
                  </a:lnTo>
                  <a:lnTo>
                    <a:pt x="14" y="104"/>
                  </a:lnTo>
                  <a:lnTo>
                    <a:pt x="11" y="113"/>
                  </a:lnTo>
                  <a:lnTo>
                    <a:pt x="8" y="119"/>
                  </a:lnTo>
                  <a:lnTo>
                    <a:pt x="5" y="128"/>
                  </a:lnTo>
                  <a:lnTo>
                    <a:pt x="4" y="136"/>
                  </a:lnTo>
                  <a:lnTo>
                    <a:pt x="3" y="144"/>
                  </a:lnTo>
                  <a:lnTo>
                    <a:pt x="1" y="154"/>
                  </a:lnTo>
                  <a:lnTo>
                    <a:pt x="1" y="162"/>
                  </a:lnTo>
                  <a:lnTo>
                    <a:pt x="0" y="172"/>
                  </a:lnTo>
                  <a:lnTo>
                    <a:pt x="0" y="860"/>
                  </a:lnTo>
                  <a:lnTo>
                    <a:pt x="1" y="868"/>
                  </a:lnTo>
                  <a:lnTo>
                    <a:pt x="1" y="876"/>
                  </a:lnTo>
                  <a:lnTo>
                    <a:pt x="3" y="886"/>
                  </a:lnTo>
                  <a:lnTo>
                    <a:pt x="4" y="894"/>
                  </a:lnTo>
                  <a:lnTo>
                    <a:pt x="5" y="902"/>
                  </a:lnTo>
                  <a:lnTo>
                    <a:pt x="8" y="911"/>
                  </a:lnTo>
                  <a:lnTo>
                    <a:pt x="11" y="919"/>
                  </a:lnTo>
                  <a:lnTo>
                    <a:pt x="14" y="926"/>
                  </a:lnTo>
                  <a:lnTo>
                    <a:pt x="18" y="934"/>
                  </a:lnTo>
                  <a:lnTo>
                    <a:pt x="21" y="941"/>
                  </a:lnTo>
                  <a:lnTo>
                    <a:pt x="30" y="955"/>
                  </a:lnTo>
                  <a:lnTo>
                    <a:pt x="40" y="968"/>
                  </a:lnTo>
                  <a:lnTo>
                    <a:pt x="51" y="981"/>
                  </a:lnTo>
                  <a:lnTo>
                    <a:pt x="63" y="992"/>
                  </a:lnTo>
                  <a:lnTo>
                    <a:pt x="77" y="1002"/>
                  </a:lnTo>
                  <a:lnTo>
                    <a:pt x="91" y="1010"/>
                  </a:lnTo>
                  <a:lnTo>
                    <a:pt x="98" y="1014"/>
                  </a:lnTo>
                  <a:lnTo>
                    <a:pt x="106" y="1018"/>
                  </a:lnTo>
                  <a:lnTo>
                    <a:pt x="113" y="1021"/>
                  </a:lnTo>
                  <a:lnTo>
                    <a:pt x="122" y="1024"/>
                  </a:lnTo>
                  <a:lnTo>
                    <a:pt x="130" y="1026"/>
                  </a:lnTo>
                  <a:lnTo>
                    <a:pt x="138" y="1028"/>
                  </a:lnTo>
                  <a:lnTo>
                    <a:pt x="146" y="1029"/>
                  </a:lnTo>
                  <a:lnTo>
                    <a:pt x="156" y="1030"/>
                  </a:lnTo>
                  <a:lnTo>
                    <a:pt x="164" y="1030"/>
                  </a:lnTo>
                  <a:lnTo>
                    <a:pt x="173" y="1032"/>
                  </a:lnTo>
                  <a:lnTo>
                    <a:pt x="4325" y="1032"/>
                  </a:lnTo>
                  <a:lnTo>
                    <a:pt x="4334" y="1030"/>
                  </a:lnTo>
                  <a:lnTo>
                    <a:pt x="4343" y="1030"/>
                  </a:lnTo>
                  <a:lnTo>
                    <a:pt x="4351" y="1029"/>
                  </a:lnTo>
                  <a:lnTo>
                    <a:pt x="4361" y="1028"/>
                  </a:lnTo>
                  <a:lnTo>
                    <a:pt x="4369" y="1026"/>
                  </a:lnTo>
                  <a:lnTo>
                    <a:pt x="4377" y="1024"/>
                  </a:lnTo>
                  <a:lnTo>
                    <a:pt x="4384" y="1021"/>
                  </a:lnTo>
                  <a:lnTo>
                    <a:pt x="4392" y="1018"/>
                  </a:lnTo>
                  <a:lnTo>
                    <a:pt x="4401" y="1014"/>
                  </a:lnTo>
                  <a:lnTo>
                    <a:pt x="4408" y="1010"/>
                  </a:lnTo>
                  <a:lnTo>
                    <a:pt x="4422" y="1002"/>
                  </a:lnTo>
                  <a:lnTo>
                    <a:pt x="4435" y="992"/>
                  </a:lnTo>
                  <a:lnTo>
                    <a:pt x="4448" y="981"/>
                  </a:lnTo>
                  <a:lnTo>
                    <a:pt x="4459" y="968"/>
                  </a:lnTo>
                  <a:lnTo>
                    <a:pt x="4469" y="955"/>
                  </a:lnTo>
                  <a:lnTo>
                    <a:pt x="4477" y="941"/>
                  </a:lnTo>
                  <a:lnTo>
                    <a:pt x="4481" y="934"/>
                  </a:lnTo>
                  <a:lnTo>
                    <a:pt x="4485" y="926"/>
                  </a:lnTo>
                  <a:lnTo>
                    <a:pt x="4488" y="919"/>
                  </a:lnTo>
                  <a:lnTo>
                    <a:pt x="4491" y="911"/>
                  </a:lnTo>
                  <a:lnTo>
                    <a:pt x="4492" y="902"/>
                  </a:lnTo>
                  <a:lnTo>
                    <a:pt x="4495" y="894"/>
                  </a:lnTo>
                  <a:lnTo>
                    <a:pt x="4496" y="886"/>
                  </a:lnTo>
                  <a:lnTo>
                    <a:pt x="4498" y="876"/>
                  </a:lnTo>
                  <a:lnTo>
                    <a:pt x="4498" y="868"/>
                  </a:lnTo>
                  <a:lnTo>
                    <a:pt x="4498" y="860"/>
                  </a:lnTo>
                  <a:lnTo>
                    <a:pt x="4498" y="172"/>
                  </a:lnTo>
                  <a:lnTo>
                    <a:pt x="4498" y="162"/>
                  </a:lnTo>
                  <a:lnTo>
                    <a:pt x="4498" y="154"/>
                  </a:lnTo>
                  <a:lnTo>
                    <a:pt x="4496" y="144"/>
                  </a:lnTo>
                  <a:lnTo>
                    <a:pt x="4495" y="136"/>
                  </a:lnTo>
                  <a:lnTo>
                    <a:pt x="4492" y="128"/>
                  </a:lnTo>
                  <a:lnTo>
                    <a:pt x="4491" y="119"/>
                  </a:lnTo>
                  <a:lnTo>
                    <a:pt x="4488" y="113"/>
                  </a:lnTo>
                  <a:lnTo>
                    <a:pt x="4485" y="104"/>
                  </a:lnTo>
                  <a:lnTo>
                    <a:pt x="4481" y="96"/>
                  </a:lnTo>
                  <a:lnTo>
                    <a:pt x="4477" y="89"/>
                  </a:lnTo>
                  <a:lnTo>
                    <a:pt x="4469" y="75"/>
                  </a:lnTo>
                  <a:lnTo>
                    <a:pt x="4459" y="62"/>
                  </a:lnTo>
                  <a:lnTo>
                    <a:pt x="4448" y="49"/>
                  </a:lnTo>
                  <a:lnTo>
                    <a:pt x="4435" y="38"/>
                  </a:lnTo>
                  <a:lnTo>
                    <a:pt x="4422" y="29"/>
                  </a:lnTo>
                  <a:lnTo>
                    <a:pt x="4408" y="20"/>
                  </a:lnTo>
                  <a:lnTo>
                    <a:pt x="4401" y="16"/>
                  </a:lnTo>
                  <a:lnTo>
                    <a:pt x="4392" y="12"/>
                  </a:lnTo>
                  <a:lnTo>
                    <a:pt x="4384" y="9"/>
                  </a:lnTo>
                  <a:lnTo>
                    <a:pt x="4377" y="7"/>
                  </a:lnTo>
                  <a:lnTo>
                    <a:pt x="4369" y="4"/>
                  </a:lnTo>
                  <a:lnTo>
                    <a:pt x="4361" y="3"/>
                  </a:lnTo>
                  <a:lnTo>
                    <a:pt x="4351" y="1"/>
                  </a:lnTo>
                  <a:lnTo>
                    <a:pt x="4343" y="0"/>
                  </a:lnTo>
                  <a:lnTo>
                    <a:pt x="4334" y="0"/>
                  </a:lnTo>
                  <a:lnTo>
                    <a:pt x="4325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4720" y="5139000"/>
              <a:ext cx="8360280" cy="1385640"/>
            </a:xfrm>
            <a:custGeom>
              <a:avLst/>
              <a:gdLst/>
              <a:ahLst/>
              <a:rect l="l" t="t" r="r" b="b"/>
              <a:pathLst>
                <a:path w="4498" h="1032">
                  <a:moveTo>
                    <a:pt x="173" y="0"/>
                  </a:moveTo>
                  <a:lnTo>
                    <a:pt x="164" y="0"/>
                  </a:lnTo>
                  <a:lnTo>
                    <a:pt x="156" y="0"/>
                  </a:lnTo>
                  <a:lnTo>
                    <a:pt x="146" y="1"/>
                  </a:lnTo>
                  <a:lnTo>
                    <a:pt x="138" y="3"/>
                  </a:lnTo>
                  <a:lnTo>
                    <a:pt x="130" y="4"/>
                  </a:lnTo>
                  <a:lnTo>
                    <a:pt x="122" y="7"/>
                  </a:lnTo>
                  <a:lnTo>
                    <a:pt x="113" y="9"/>
                  </a:lnTo>
                  <a:lnTo>
                    <a:pt x="106" y="12"/>
                  </a:lnTo>
                  <a:lnTo>
                    <a:pt x="98" y="16"/>
                  </a:lnTo>
                  <a:lnTo>
                    <a:pt x="91" y="20"/>
                  </a:lnTo>
                  <a:lnTo>
                    <a:pt x="77" y="29"/>
                  </a:lnTo>
                  <a:lnTo>
                    <a:pt x="63" y="38"/>
                  </a:lnTo>
                  <a:lnTo>
                    <a:pt x="51" y="49"/>
                  </a:lnTo>
                  <a:lnTo>
                    <a:pt x="40" y="62"/>
                  </a:lnTo>
                  <a:lnTo>
                    <a:pt x="30" y="75"/>
                  </a:lnTo>
                  <a:lnTo>
                    <a:pt x="21" y="89"/>
                  </a:lnTo>
                  <a:lnTo>
                    <a:pt x="18" y="96"/>
                  </a:lnTo>
                  <a:lnTo>
                    <a:pt x="14" y="104"/>
                  </a:lnTo>
                  <a:lnTo>
                    <a:pt x="11" y="113"/>
                  </a:lnTo>
                  <a:lnTo>
                    <a:pt x="8" y="119"/>
                  </a:lnTo>
                  <a:lnTo>
                    <a:pt x="5" y="128"/>
                  </a:lnTo>
                  <a:lnTo>
                    <a:pt x="4" y="136"/>
                  </a:lnTo>
                  <a:lnTo>
                    <a:pt x="3" y="144"/>
                  </a:lnTo>
                  <a:lnTo>
                    <a:pt x="1" y="154"/>
                  </a:lnTo>
                  <a:lnTo>
                    <a:pt x="1" y="162"/>
                  </a:lnTo>
                  <a:lnTo>
                    <a:pt x="0" y="172"/>
                  </a:lnTo>
                  <a:lnTo>
                    <a:pt x="0" y="860"/>
                  </a:lnTo>
                  <a:lnTo>
                    <a:pt x="1" y="868"/>
                  </a:lnTo>
                  <a:lnTo>
                    <a:pt x="1" y="876"/>
                  </a:lnTo>
                  <a:lnTo>
                    <a:pt x="3" y="886"/>
                  </a:lnTo>
                  <a:lnTo>
                    <a:pt x="4" y="894"/>
                  </a:lnTo>
                  <a:lnTo>
                    <a:pt x="5" y="902"/>
                  </a:lnTo>
                  <a:lnTo>
                    <a:pt x="8" y="911"/>
                  </a:lnTo>
                  <a:lnTo>
                    <a:pt x="11" y="919"/>
                  </a:lnTo>
                  <a:lnTo>
                    <a:pt x="14" y="926"/>
                  </a:lnTo>
                  <a:lnTo>
                    <a:pt x="18" y="934"/>
                  </a:lnTo>
                  <a:lnTo>
                    <a:pt x="21" y="941"/>
                  </a:lnTo>
                  <a:lnTo>
                    <a:pt x="30" y="955"/>
                  </a:lnTo>
                  <a:lnTo>
                    <a:pt x="40" y="968"/>
                  </a:lnTo>
                  <a:lnTo>
                    <a:pt x="51" y="981"/>
                  </a:lnTo>
                  <a:lnTo>
                    <a:pt x="63" y="992"/>
                  </a:lnTo>
                  <a:lnTo>
                    <a:pt x="77" y="1002"/>
                  </a:lnTo>
                  <a:lnTo>
                    <a:pt x="91" y="1010"/>
                  </a:lnTo>
                  <a:lnTo>
                    <a:pt x="98" y="1014"/>
                  </a:lnTo>
                  <a:lnTo>
                    <a:pt x="106" y="1018"/>
                  </a:lnTo>
                  <a:lnTo>
                    <a:pt x="113" y="1021"/>
                  </a:lnTo>
                  <a:lnTo>
                    <a:pt x="122" y="1024"/>
                  </a:lnTo>
                  <a:lnTo>
                    <a:pt x="130" y="1026"/>
                  </a:lnTo>
                  <a:lnTo>
                    <a:pt x="138" y="1028"/>
                  </a:lnTo>
                  <a:lnTo>
                    <a:pt x="146" y="1029"/>
                  </a:lnTo>
                  <a:lnTo>
                    <a:pt x="156" y="1030"/>
                  </a:lnTo>
                  <a:lnTo>
                    <a:pt x="164" y="1030"/>
                  </a:lnTo>
                  <a:lnTo>
                    <a:pt x="173" y="1032"/>
                  </a:lnTo>
                  <a:lnTo>
                    <a:pt x="4325" y="1032"/>
                  </a:lnTo>
                  <a:lnTo>
                    <a:pt x="4334" y="1030"/>
                  </a:lnTo>
                  <a:lnTo>
                    <a:pt x="4343" y="1030"/>
                  </a:lnTo>
                  <a:lnTo>
                    <a:pt x="4351" y="1029"/>
                  </a:lnTo>
                  <a:lnTo>
                    <a:pt x="4361" y="1028"/>
                  </a:lnTo>
                  <a:lnTo>
                    <a:pt x="4369" y="1026"/>
                  </a:lnTo>
                  <a:lnTo>
                    <a:pt x="4377" y="1024"/>
                  </a:lnTo>
                  <a:lnTo>
                    <a:pt x="4384" y="1021"/>
                  </a:lnTo>
                  <a:lnTo>
                    <a:pt x="4392" y="1018"/>
                  </a:lnTo>
                  <a:lnTo>
                    <a:pt x="4401" y="1014"/>
                  </a:lnTo>
                  <a:lnTo>
                    <a:pt x="4408" y="1010"/>
                  </a:lnTo>
                  <a:lnTo>
                    <a:pt x="4422" y="1002"/>
                  </a:lnTo>
                  <a:lnTo>
                    <a:pt x="4435" y="992"/>
                  </a:lnTo>
                  <a:lnTo>
                    <a:pt x="4448" y="981"/>
                  </a:lnTo>
                  <a:lnTo>
                    <a:pt x="4459" y="968"/>
                  </a:lnTo>
                  <a:lnTo>
                    <a:pt x="4469" y="955"/>
                  </a:lnTo>
                  <a:lnTo>
                    <a:pt x="4477" y="941"/>
                  </a:lnTo>
                  <a:lnTo>
                    <a:pt x="4481" y="934"/>
                  </a:lnTo>
                  <a:lnTo>
                    <a:pt x="4485" y="926"/>
                  </a:lnTo>
                  <a:lnTo>
                    <a:pt x="4488" y="919"/>
                  </a:lnTo>
                  <a:lnTo>
                    <a:pt x="4491" y="911"/>
                  </a:lnTo>
                  <a:lnTo>
                    <a:pt x="4492" y="902"/>
                  </a:lnTo>
                  <a:lnTo>
                    <a:pt x="4495" y="894"/>
                  </a:lnTo>
                  <a:lnTo>
                    <a:pt x="4496" y="886"/>
                  </a:lnTo>
                  <a:lnTo>
                    <a:pt x="4498" y="876"/>
                  </a:lnTo>
                  <a:lnTo>
                    <a:pt x="4498" y="868"/>
                  </a:lnTo>
                  <a:lnTo>
                    <a:pt x="4498" y="860"/>
                  </a:lnTo>
                  <a:lnTo>
                    <a:pt x="4498" y="172"/>
                  </a:lnTo>
                  <a:lnTo>
                    <a:pt x="4498" y="162"/>
                  </a:lnTo>
                  <a:lnTo>
                    <a:pt x="4498" y="154"/>
                  </a:lnTo>
                  <a:lnTo>
                    <a:pt x="4496" y="144"/>
                  </a:lnTo>
                  <a:lnTo>
                    <a:pt x="4495" y="136"/>
                  </a:lnTo>
                  <a:lnTo>
                    <a:pt x="4492" y="128"/>
                  </a:lnTo>
                  <a:lnTo>
                    <a:pt x="4491" y="119"/>
                  </a:lnTo>
                  <a:lnTo>
                    <a:pt x="4488" y="113"/>
                  </a:lnTo>
                  <a:lnTo>
                    <a:pt x="4485" y="104"/>
                  </a:lnTo>
                  <a:lnTo>
                    <a:pt x="4481" y="96"/>
                  </a:lnTo>
                  <a:lnTo>
                    <a:pt x="4477" y="89"/>
                  </a:lnTo>
                  <a:lnTo>
                    <a:pt x="4469" y="75"/>
                  </a:lnTo>
                  <a:lnTo>
                    <a:pt x="4459" y="62"/>
                  </a:lnTo>
                  <a:lnTo>
                    <a:pt x="4448" y="49"/>
                  </a:lnTo>
                  <a:lnTo>
                    <a:pt x="4435" y="38"/>
                  </a:lnTo>
                  <a:lnTo>
                    <a:pt x="4422" y="29"/>
                  </a:lnTo>
                  <a:lnTo>
                    <a:pt x="4408" y="20"/>
                  </a:lnTo>
                  <a:lnTo>
                    <a:pt x="4401" y="16"/>
                  </a:lnTo>
                  <a:lnTo>
                    <a:pt x="4392" y="12"/>
                  </a:lnTo>
                  <a:lnTo>
                    <a:pt x="4384" y="9"/>
                  </a:lnTo>
                  <a:lnTo>
                    <a:pt x="4377" y="7"/>
                  </a:lnTo>
                  <a:lnTo>
                    <a:pt x="4369" y="4"/>
                  </a:lnTo>
                  <a:lnTo>
                    <a:pt x="4361" y="3"/>
                  </a:lnTo>
                  <a:lnTo>
                    <a:pt x="4351" y="1"/>
                  </a:lnTo>
                  <a:lnTo>
                    <a:pt x="4343" y="0"/>
                  </a:lnTo>
                  <a:lnTo>
                    <a:pt x="4334" y="0"/>
                  </a:lnTo>
                  <a:lnTo>
                    <a:pt x="4325" y="0"/>
                  </a:lnTo>
                  <a:lnTo>
                    <a:pt x="173" y="0"/>
                  </a:lnTo>
                </a:path>
              </a:pathLst>
            </a:cu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83680" y="5371200"/>
              <a:ext cx="1542600" cy="86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3680" y="5371200"/>
              <a:ext cx="1542600" cy="867240"/>
            </a:xfrm>
            <a:prstGeom prst="rect">
              <a:avLst/>
            </a:prstGeom>
            <a:noFill/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62840" y="5451840"/>
              <a:ext cx="630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81760" y="5633280"/>
              <a:ext cx="101664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ignific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10120" y="5820480"/>
              <a:ext cx="8661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atch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6280" y="5820480"/>
              <a:ext cx="24012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94360" y="6004080"/>
              <a:ext cx="990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12200" y="5371200"/>
              <a:ext cx="1418760" cy="87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12200" y="5371200"/>
              <a:ext cx="1418760" cy="870840"/>
            </a:xfrm>
            <a:prstGeom prst="rect">
              <a:avLst/>
            </a:prstGeom>
            <a:noFill/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84880" y="5451840"/>
              <a:ext cx="5079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l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3120" y="5633280"/>
              <a:ext cx="98100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31080" y="5820480"/>
              <a:ext cx="4086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wi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68840" y="5820480"/>
              <a:ext cx="5691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09200" y="6004080"/>
              <a:ext cx="8737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760" y="5464440"/>
              <a:ext cx="1416960" cy="68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0760" y="5464440"/>
              <a:ext cx="1416960" cy="684720"/>
            </a:xfrm>
            <a:prstGeom prst="rect">
              <a:avLst/>
            </a:prstGeom>
            <a:noFill/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7840" y="5541480"/>
              <a:ext cx="71640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62600" y="5541480"/>
              <a:ext cx="25668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4880" y="5727600"/>
              <a:ext cx="6872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el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160" y="5910120"/>
              <a:ext cx="109728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quen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03840" y="5555160"/>
              <a:ext cx="1170720" cy="5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03840" y="5555160"/>
              <a:ext cx="1170720" cy="501840"/>
            </a:xfrm>
            <a:prstGeom prst="rect">
              <a:avLst/>
            </a:prstGeom>
            <a:noFill/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2680" y="5633280"/>
              <a:ext cx="5065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Bui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97240" y="5820480"/>
              <a:ext cx="62604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29520" y="5555160"/>
              <a:ext cx="1287360" cy="5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29520" y="5555160"/>
              <a:ext cx="1287360" cy="501840"/>
            </a:xfrm>
            <a:prstGeom prst="rect">
              <a:avLst/>
            </a:prstGeom>
            <a:noFill/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0640" y="5633280"/>
              <a:ext cx="86436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81600" y="5820480"/>
              <a:ext cx="6228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17280" y="5760360"/>
              <a:ext cx="266400" cy="92520"/>
            </a:xfrm>
            <a:custGeom>
              <a:avLst/>
              <a:gdLst/>
              <a:ahLst/>
              <a:rect l="l" t="t" r="r" b="b"/>
              <a:pathLst>
                <a:path w="143" h="69">
                  <a:moveTo>
                    <a:pt x="4" y="30"/>
                  </a:moveTo>
                  <a:lnTo>
                    <a:pt x="85" y="30"/>
                  </a:lnTo>
                  <a:lnTo>
                    <a:pt x="87" y="30"/>
                  </a:lnTo>
                  <a:lnTo>
                    <a:pt x="89" y="32"/>
                  </a:lnTo>
                  <a:lnTo>
                    <a:pt x="89" y="33"/>
                  </a:lnTo>
                  <a:lnTo>
                    <a:pt x="90" y="35"/>
                  </a:lnTo>
                  <a:lnTo>
                    <a:pt x="89" y="36"/>
                  </a:lnTo>
                  <a:lnTo>
                    <a:pt x="89" y="37"/>
                  </a:lnTo>
                  <a:lnTo>
                    <a:pt x="87" y="39"/>
                  </a:lnTo>
                  <a:lnTo>
                    <a:pt x="85" y="39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30"/>
                  </a:lnTo>
                  <a:close/>
                  <a:moveTo>
                    <a:pt x="74" y="0"/>
                  </a:moveTo>
                  <a:lnTo>
                    <a:pt x="143" y="35"/>
                  </a:lnTo>
                  <a:lnTo>
                    <a:pt x="74" y="6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21600" y="5760360"/>
              <a:ext cx="390240" cy="92520"/>
            </a:xfrm>
            <a:custGeom>
              <a:avLst/>
              <a:gdLst/>
              <a:ahLst/>
              <a:rect l="l" t="t" r="r" b="b"/>
              <a:pathLst>
                <a:path w="212" h="69">
                  <a:moveTo>
                    <a:pt x="4" y="30"/>
                  </a:moveTo>
                  <a:lnTo>
                    <a:pt x="154" y="30"/>
                  </a:lnTo>
                  <a:lnTo>
                    <a:pt x="156" y="30"/>
                  </a:lnTo>
                  <a:lnTo>
                    <a:pt x="158" y="32"/>
                  </a:lnTo>
                  <a:lnTo>
                    <a:pt x="158" y="33"/>
                  </a:lnTo>
                  <a:lnTo>
                    <a:pt x="159" y="35"/>
                  </a:lnTo>
                  <a:lnTo>
                    <a:pt x="158" y="36"/>
                  </a:lnTo>
                  <a:lnTo>
                    <a:pt x="158" y="37"/>
                  </a:lnTo>
                  <a:lnTo>
                    <a:pt x="156" y="39"/>
                  </a:lnTo>
                  <a:lnTo>
                    <a:pt x="154" y="39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2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30"/>
                  </a:lnTo>
                  <a:close/>
                  <a:moveTo>
                    <a:pt x="143" y="0"/>
                  </a:moveTo>
                  <a:lnTo>
                    <a:pt x="212" y="35"/>
                  </a:lnTo>
                  <a:lnTo>
                    <a:pt x="143" y="69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20520" y="5760360"/>
              <a:ext cx="264600" cy="92520"/>
            </a:xfrm>
            <a:custGeom>
              <a:avLst/>
              <a:gdLst/>
              <a:ahLst/>
              <a:rect l="l" t="t" r="r" b="b"/>
              <a:pathLst>
                <a:path w="142" h="69">
                  <a:moveTo>
                    <a:pt x="4" y="30"/>
                  </a:moveTo>
                  <a:lnTo>
                    <a:pt x="84" y="30"/>
                  </a:lnTo>
                  <a:lnTo>
                    <a:pt x="87" y="30"/>
                  </a:lnTo>
                  <a:lnTo>
                    <a:pt x="88" y="32"/>
                  </a:lnTo>
                  <a:lnTo>
                    <a:pt x="88" y="33"/>
                  </a:lnTo>
                  <a:lnTo>
                    <a:pt x="90" y="35"/>
                  </a:lnTo>
                  <a:lnTo>
                    <a:pt x="88" y="36"/>
                  </a:lnTo>
                  <a:lnTo>
                    <a:pt x="88" y="37"/>
                  </a:lnTo>
                  <a:lnTo>
                    <a:pt x="87" y="39"/>
                  </a:lnTo>
                  <a:lnTo>
                    <a:pt x="84" y="39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2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30"/>
                  </a:lnTo>
                  <a:close/>
                  <a:moveTo>
                    <a:pt x="73" y="0"/>
                  </a:moveTo>
                  <a:lnTo>
                    <a:pt x="142" y="35"/>
                  </a:lnTo>
                  <a:lnTo>
                    <a:pt x="73" y="6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37840" y="5760360"/>
              <a:ext cx="391680" cy="92520"/>
            </a:xfrm>
            <a:custGeom>
              <a:avLst/>
              <a:gdLst/>
              <a:ahLst/>
              <a:rect l="l" t="t" r="r" b="b"/>
              <a:pathLst>
                <a:path w="212" h="69">
                  <a:moveTo>
                    <a:pt x="4" y="30"/>
                  </a:moveTo>
                  <a:lnTo>
                    <a:pt x="154" y="30"/>
                  </a:lnTo>
                  <a:lnTo>
                    <a:pt x="156" y="30"/>
                  </a:lnTo>
                  <a:lnTo>
                    <a:pt x="158" y="32"/>
                  </a:lnTo>
                  <a:lnTo>
                    <a:pt x="158" y="33"/>
                  </a:lnTo>
                  <a:lnTo>
                    <a:pt x="159" y="35"/>
                  </a:lnTo>
                  <a:lnTo>
                    <a:pt x="158" y="36"/>
                  </a:lnTo>
                  <a:lnTo>
                    <a:pt x="158" y="37"/>
                  </a:lnTo>
                  <a:lnTo>
                    <a:pt x="156" y="39"/>
                  </a:lnTo>
                  <a:lnTo>
                    <a:pt x="154" y="39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2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30"/>
                  </a:lnTo>
                  <a:close/>
                  <a:moveTo>
                    <a:pt x="143" y="0"/>
                  </a:moveTo>
                  <a:lnTo>
                    <a:pt x="212" y="35"/>
                  </a:lnTo>
                  <a:lnTo>
                    <a:pt x="143" y="69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56600" y="4949640"/>
              <a:ext cx="125280" cy="469440"/>
            </a:xfrm>
            <a:custGeom>
              <a:avLst/>
              <a:gdLst/>
              <a:ahLst/>
              <a:rect l="l" t="t" r="r" b="b"/>
              <a:pathLst>
                <a:path w="69" h="349">
                  <a:moveTo>
                    <a:pt x="39" y="5"/>
                  </a:moveTo>
                  <a:lnTo>
                    <a:pt x="39" y="291"/>
                  </a:lnTo>
                  <a:lnTo>
                    <a:pt x="39" y="293"/>
                  </a:lnTo>
                  <a:lnTo>
                    <a:pt x="38" y="294"/>
                  </a:lnTo>
                  <a:lnTo>
                    <a:pt x="36" y="295"/>
                  </a:lnTo>
                  <a:lnTo>
                    <a:pt x="35" y="295"/>
                  </a:lnTo>
                  <a:lnTo>
                    <a:pt x="33" y="295"/>
                  </a:lnTo>
                  <a:lnTo>
                    <a:pt x="32" y="294"/>
                  </a:lnTo>
                  <a:lnTo>
                    <a:pt x="31" y="293"/>
                  </a:lnTo>
                  <a:lnTo>
                    <a:pt x="31" y="291"/>
                  </a:lnTo>
                  <a:lnTo>
                    <a:pt x="31" y="5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39" y="2"/>
                  </a:lnTo>
                  <a:lnTo>
                    <a:pt x="39" y="5"/>
                  </a:lnTo>
                  <a:lnTo>
                    <a:pt x="39" y="5"/>
                  </a:lnTo>
                  <a:close/>
                  <a:moveTo>
                    <a:pt x="69" y="280"/>
                  </a:moveTo>
                  <a:lnTo>
                    <a:pt x="35" y="349"/>
                  </a:lnTo>
                  <a:lnTo>
                    <a:pt x="0" y="280"/>
                  </a:lnTo>
                  <a:lnTo>
                    <a:pt x="69" y="28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7880" y="4496040"/>
              <a:ext cx="1245960" cy="439920"/>
            </a:xfrm>
            <a:custGeom>
              <a:avLst/>
              <a:gdLst/>
              <a:ahLst/>
              <a:rect l="l" t="t" r="r" b="b"/>
              <a:pathLst>
                <a:path w="669" h="328">
                  <a:moveTo>
                    <a:pt x="335" y="0"/>
                  </a:moveTo>
                  <a:lnTo>
                    <a:pt x="317" y="0"/>
                  </a:lnTo>
                  <a:lnTo>
                    <a:pt x="301" y="0"/>
                  </a:lnTo>
                  <a:lnTo>
                    <a:pt x="284" y="2"/>
                  </a:lnTo>
                  <a:lnTo>
                    <a:pt x="267" y="3"/>
                  </a:lnTo>
                  <a:lnTo>
                    <a:pt x="251" y="4"/>
                  </a:lnTo>
                  <a:lnTo>
                    <a:pt x="236" y="7"/>
                  </a:lnTo>
                  <a:lnTo>
                    <a:pt x="220" y="10"/>
                  </a:lnTo>
                  <a:lnTo>
                    <a:pt x="205" y="13"/>
                  </a:lnTo>
                  <a:lnTo>
                    <a:pt x="190" y="15"/>
                  </a:lnTo>
                  <a:lnTo>
                    <a:pt x="176" y="19"/>
                  </a:lnTo>
                  <a:lnTo>
                    <a:pt x="162" y="24"/>
                  </a:lnTo>
                  <a:lnTo>
                    <a:pt x="148" y="28"/>
                  </a:lnTo>
                  <a:lnTo>
                    <a:pt x="135" y="32"/>
                  </a:lnTo>
                  <a:lnTo>
                    <a:pt x="122" y="37"/>
                  </a:lnTo>
                  <a:lnTo>
                    <a:pt x="110" y="43"/>
                  </a:lnTo>
                  <a:lnTo>
                    <a:pt x="99" y="47"/>
                  </a:lnTo>
                  <a:lnTo>
                    <a:pt x="88" y="54"/>
                  </a:lnTo>
                  <a:lnTo>
                    <a:pt x="78" y="59"/>
                  </a:lnTo>
                  <a:lnTo>
                    <a:pt x="67" y="65"/>
                  </a:lnTo>
                  <a:lnTo>
                    <a:pt x="58" y="72"/>
                  </a:lnTo>
                  <a:lnTo>
                    <a:pt x="49" y="79"/>
                  </a:lnTo>
                  <a:lnTo>
                    <a:pt x="42" y="85"/>
                  </a:lnTo>
                  <a:lnTo>
                    <a:pt x="34" y="92"/>
                  </a:lnTo>
                  <a:lnTo>
                    <a:pt x="27" y="99"/>
                  </a:lnTo>
                  <a:lnTo>
                    <a:pt x="21" y="107"/>
                  </a:lnTo>
                  <a:lnTo>
                    <a:pt x="16" y="114"/>
                  </a:lnTo>
                  <a:lnTo>
                    <a:pt x="11" y="123"/>
                  </a:lnTo>
                  <a:lnTo>
                    <a:pt x="7" y="131"/>
                  </a:lnTo>
                  <a:lnTo>
                    <a:pt x="4" y="139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0" y="164"/>
                  </a:lnTo>
                  <a:lnTo>
                    <a:pt x="2" y="172"/>
                  </a:lnTo>
                  <a:lnTo>
                    <a:pt x="3" y="180"/>
                  </a:lnTo>
                  <a:lnTo>
                    <a:pt x="4" y="189"/>
                  </a:lnTo>
                  <a:lnTo>
                    <a:pt x="7" y="197"/>
                  </a:lnTo>
                  <a:lnTo>
                    <a:pt x="11" y="205"/>
                  </a:lnTo>
                  <a:lnTo>
                    <a:pt x="16" y="212"/>
                  </a:lnTo>
                  <a:lnTo>
                    <a:pt x="21" y="220"/>
                  </a:lnTo>
                  <a:lnTo>
                    <a:pt x="27" y="227"/>
                  </a:lnTo>
                  <a:lnTo>
                    <a:pt x="34" y="235"/>
                  </a:lnTo>
                  <a:lnTo>
                    <a:pt x="42" y="242"/>
                  </a:lnTo>
                  <a:lnTo>
                    <a:pt x="49" y="249"/>
                  </a:lnTo>
                  <a:lnTo>
                    <a:pt x="58" y="256"/>
                  </a:lnTo>
                  <a:lnTo>
                    <a:pt x="67" y="262"/>
                  </a:lnTo>
                  <a:lnTo>
                    <a:pt x="78" y="268"/>
                  </a:lnTo>
                  <a:lnTo>
                    <a:pt x="88" y="274"/>
                  </a:lnTo>
                  <a:lnTo>
                    <a:pt x="99" y="279"/>
                  </a:lnTo>
                  <a:lnTo>
                    <a:pt x="110" y="285"/>
                  </a:lnTo>
                  <a:lnTo>
                    <a:pt x="122" y="290"/>
                  </a:lnTo>
                  <a:lnTo>
                    <a:pt x="135" y="295"/>
                  </a:lnTo>
                  <a:lnTo>
                    <a:pt x="148" y="300"/>
                  </a:lnTo>
                  <a:lnTo>
                    <a:pt x="162" y="304"/>
                  </a:lnTo>
                  <a:lnTo>
                    <a:pt x="176" y="308"/>
                  </a:lnTo>
                  <a:lnTo>
                    <a:pt x="190" y="311"/>
                  </a:lnTo>
                  <a:lnTo>
                    <a:pt x="205" y="315"/>
                  </a:lnTo>
                  <a:lnTo>
                    <a:pt x="220" y="318"/>
                  </a:lnTo>
                  <a:lnTo>
                    <a:pt x="236" y="321"/>
                  </a:lnTo>
                  <a:lnTo>
                    <a:pt x="251" y="322"/>
                  </a:lnTo>
                  <a:lnTo>
                    <a:pt x="267" y="325"/>
                  </a:lnTo>
                  <a:lnTo>
                    <a:pt x="284" y="326"/>
                  </a:lnTo>
                  <a:lnTo>
                    <a:pt x="301" y="326"/>
                  </a:lnTo>
                  <a:lnTo>
                    <a:pt x="317" y="328"/>
                  </a:lnTo>
                  <a:lnTo>
                    <a:pt x="335" y="328"/>
                  </a:lnTo>
                  <a:lnTo>
                    <a:pt x="352" y="328"/>
                  </a:lnTo>
                  <a:lnTo>
                    <a:pt x="368" y="326"/>
                  </a:lnTo>
                  <a:lnTo>
                    <a:pt x="385" y="326"/>
                  </a:lnTo>
                  <a:lnTo>
                    <a:pt x="402" y="325"/>
                  </a:lnTo>
                  <a:lnTo>
                    <a:pt x="418" y="322"/>
                  </a:lnTo>
                  <a:lnTo>
                    <a:pt x="433" y="321"/>
                  </a:lnTo>
                  <a:lnTo>
                    <a:pt x="450" y="318"/>
                  </a:lnTo>
                  <a:lnTo>
                    <a:pt x="464" y="315"/>
                  </a:lnTo>
                  <a:lnTo>
                    <a:pt x="479" y="311"/>
                  </a:lnTo>
                  <a:lnTo>
                    <a:pt x="494" y="308"/>
                  </a:lnTo>
                  <a:lnTo>
                    <a:pt x="508" y="304"/>
                  </a:lnTo>
                  <a:lnTo>
                    <a:pt x="521" y="300"/>
                  </a:lnTo>
                  <a:lnTo>
                    <a:pt x="535" y="295"/>
                  </a:lnTo>
                  <a:lnTo>
                    <a:pt x="547" y="290"/>
                  </a:lnTo>
                  <a:lnTo>
                    <a:pt x="559" y="285"/>
                  </a:lnTo>
                  <a:lnTo>
                    <a:pt x="571" y="279"/>
                  </a:lnTo>
                  <a:lnTo>
                    <a:pt x="582" y="274"/>
                  </a:lnTo>
                  <a:lnTo>
                    <a:pt x="593" y="268"/>
                  </a:lnTo>
                  <a:lnTo>
                    <a:pt x="602" y="262"/>
                  </a:lnTo>
                  <a:lnTo>
                    <a:pt x="612" y="256"/>
                  </a:lnTo>
                  <a:lnTo>
                    <a:pt x="620" y="249"/>
                  </a:lnTo>
                  <a:lnTo>
                    <a:pt x="629" y="242"/>
                  </a:lnTo>
                  <a:lnTo>
                    <a:pt x="636" y="235"/>
                  </a:lnTo>
                  <a:lnTo>
                    <a:pt x="642" y="227"/>
                  </a:lnTo>
                  <a:lnTo>
                    <a:pt x="648" y="220"/>
                  </a:lnTo>
                  <a:lnTo>
                    <a:pt x="654" y="212"/>
                  </a:lnTo>
                  <a:lnTo>
                    <a:pt x="658" y="205"/>
                  </a:lnTo>
                  <a:lnTo>
                    <a:pt x="662" y="197"/>
                  </a:lnTo>
                  <a:lnTo>
                    <a:pt x="665" y="189"/>
                  </a:lnTo>
                  <a:lnTo>
                    <a:pt x="667" y="180"/>
                  </a:lnTo>
                  <a:lnTo>
                    <a:pt x="667" y="172"/>
                  </a:lnTo>
                  <a:lnTo>
                    <a:pt x="669" y="164"/>
                  </a:lnTo>
                  <a:lnTo>
                    <a:pt x="667" y="156"/>
                  </a:lnTo>
                  <a:lnTo>
                    <a:pt x="667" y="147"/>
                  </a:lnTo>
                  <a:lnTo>
                    <a:pt x="665" y="139"/>
                  </a:lnTo>
                  <a:lnTo>
                    <a:pt x="662" y="131"/>
                  </a:lnTo>
                  <a:lnTo>
                    <a:pt x="658" y="123"/>
                  </a:lnTo>
                  <a:lnTo>
                    <a:pt x="654" y="114"/>
                  </a:lnTo>
                  <a:lnTo>
                    <a:pt x="648" y="107"/>
                  </a:lnTo>
                  <a:lnTo>
                    <a:pt x="642" y="99"/>
                  </a:lnTo>
                  <a:lnTo>
                    <a:pt x="636" y="92"/>
                  </a:lnTo>
                  <a:lnTo>
                    <a:pt x="629" y="85"/>
                  </a:lnTo>
                  <a:lnTo>
                    <a:pt x="620" y="79"/>
                  </a:lnTo>
                  <a:lnTo>
                    <a:pt x="612" y="72"/>
                  </a:lnTo>
                  <a:lnTo>
                    <a:pt x="602" y="65"/>
                  </a:lnTo>
                  <a:lnTo>
                    <a:pt x="593" y="59"/>
                  </a:lnTo>
                  <a:lnTo>
                    <a:pt x="582" y="54"/>
                  </a:lnTo>
                  <a:lnTo>
                    <a:pt x="571" y="47"/>
                  </a:lnTo>
                  <a:lnTo>
                    <a:pt x="559" y="43"/>
                  </a:lnTo>
                  <a:lnTo>
                    <a:pt x="547" y="37"/>
                  </a:lnTo>
                  <a:lnTo>
                    <a:pt x="535" y="32"/>
                  </a:lnTo>
                  <a:lnTo>
                    <a:pt x="521" y="28"/>
                  </a:lnTo>
                  <a:lnTo>
                    <a:pt x="508" y="24"/>
                  </a:lnTo>
                  <a:lnTo>
                    <a:pt x="494" y="19"/>
                  </a:lnTo>
                  <a:lnTo>
                    <a:pt x="479" y="15"/>
                  </a:lnTo>
                  <a:lnTo>
                    <a:pt x="464" y="13"/>
                  </a:lnTo>
                  <a:lnTo>
                    <a:pt x="450" y="10"/>
                  </a:lnTo>
                  <a:lnTo>
                    <a:pt x="433" y="7"/>
                  </a:lnTo>
                  <a:lnTo>
                    <a:pt x="418" y="4"/>
                  </a:lnTo>
                  <a:lnTo>
                    <a:pt x="402" y="3"/>
                  </a:lnTo>
                  <a:lnTo>
                    <a:pt x="385" y="2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7880" y="4496040"/>
              <a:ext cx="1245960" cy="439920"/>
            </a:xfrm>
            <a:custGeom>
              <a:avLst/>
              <a:gdLst/>
              <a:ahLst/>
              <a:rect l="l" t="t" r="r" b="b"/>
              <a:pathLst>
                <a:path w="669" h="328">
                  <a:moveTo>
                    <a:pt x="335" y="0"/>
                  </a:moveTo>
                  <a:lnTo>
                    <a:pt x="317" y="0"/>
                  </a:lnTo>
                  <a:lnTo>
                    <a:pt x="301" y="0"/>
                  </a:lnTo>
                  <a:lnTo>
                    <a:pt x="284" y="2"/>
                  </a:lnTo>
                  <a:lnTo>
                    <a:pt x="267" y="3"/>
                  </a:lnTo>
                  <a:lnTo>
                    <a:pt x="251" y="4"/>
                  </a:lnTo>
                  <a:lnTo>
                    <a:pt x="236" y="7"/>
                  </a:lnTo>
                  <a:lnTo>
                    <a:pt x="220" y="10"/>
                  </a:lnTo>
                  <a:lnTo>
                    <a:pt x="205" y="13"/>
                  </a:lnTo>
                  <a:lnTo>
                    <a:pt x="190" y="15"/>
                  </a:lnTo>
                  <a:lnTo>
                    <a:pt x="176" y="19"/>
                  </a:lnTo>
                  <a:lnTo>
                    <a:pt x="162" y="24"/>
                  </a:lnTo>
                  <a:lnTo>
                    <a:pt x="148" y="28"/>
                  </a:lnTo>
                  <a:lnTo>
                    <a:pt x="135" y="32"/>
                  </a:lnTo>
                  <a:lnTo>
                    <a:pt x="122" y="37"/>
                  </a:lnTo>
                  <a:lnTo>
                    <a:pt x="110" y="43"/>
                  </a:lnTo>
                  <a:lnTo>
                    <a:pt x="99" y="47"/>
                  </a:lnTo>
                  <a:lnTo>
                    <a:pt x="88" y="54"/>
                  </a:lnTo>
                  <a:lnTo>
                    <a:pt x="78" y="59"/>
                  </a:lnTo>
                  <a:lnTo>
                    <a:pt x="67" y="65"/>
                  </a:lnTo>
                  <a:lnTo>
                    <a:pt x="58" y="72"/>
                  </a:lnTo>
                  <a:lnTo>
                    <a:pt x="49" y="79"/>
                  </a:lnTo>
                  <a:lnTo>
                    <a:pt x="42" y="85"/>
                  </a:lnTo>
                  <a:lnTo>
                    <a:pt x="34" y="92"/>
                  </a:lnTo>
                  <a:lnTo>
                    <a:pt x="27" y="99"/>
                  </a:lnTo>
                  <a:lnTo>
                    <a:pt x="21" y="107"/>
                  </a:lnTo>
                  <a:lnTo>
                    <a:pt x="16" y="114"/>
                  </a:lnTo>
                  <a:lnTo>
                    <a:pt x="11" y="123"/>
                  </a:lnTo>
                  <a:lnTo>
                    <a:pt x="7" y="131"/>
                  </a:lnTo>
                  <a:lnTo>
                    <a:pt x="4" y="139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0" y="164"/>
                  </a:lnTo>
                  <a:lnTo>
                    <a:pt x="2" y="172"/>
                  </a:lnTo>
                  <a:lnTo>
                    <a:pt x="3" y="180"/>
                  </a:lnTo>
                  <a:lnTo>
                    <a:pt x="4" y="189"/>
                  </a:lnTo>
                  <a:lnTo>
                    <a:pt x="7" y="197"/>
                  </a:lnTo>
                  <a:lnTo>
                    <a:pt x="11" y="205"/>
                  </a:lnTo>
                  <a:lnTo>
                    <a:pt x="16" y="212"/>
                  </a:lnTo>
                  <a:lnTo>
                    <a:pt x="21" y="220"/>
                  </a:lnTo>
                  <a:lnTo>
                    <a:pt x="27" y="227"/>
                  </a:lnTo>
                  <a:lnTo>
                    <a:pt x="34" y="235"/>
                  </a:lnTo>
                  <a:lnTo>
                    <a:pt x="42" y="242"/>
                  </a:lnTo>
                  <a:lnTo>
                    <a:pt x="49" y="249"/>
                  </a:lnTo>
                  <a:lnTo>
                    <a:pt x="58" y="256"/>
                  </a:lnTo>
                  <a:lnTo>
                    <a:pt x="67" y="262"/>
                  </a:lnTo>
                  <a:lnTo>
                    <a:pt x="78" y="268"/>
                  </a:lnTo>
                  <a:lnTo>
                    <a:pt x="88" y="274"/>
                  </a:lnTo>
                  <a:lnTo>
                    <a:pt x="99" y="279"/>
                  </a:lnTo>
                  <a:lnTo>
                    <a:pt x="110" y="285"/>
                  </a:lnTo>
                  <a:lnTo>
                    <a:pt x="122" y="290"/>
                  </a:lnTo>
                  <a:lnTo>
                    <a:pt x="135" y="295"/>
                  </a:lnTo>
                  <a:lnTo>
                    <a:pt x="148" y="300"/>
                  </a:lnTo>
                  <a:lnTo>
                    <a:pt x="162" y="304"/>
                  </a:lnTo>
                  <a:lnTo>
                    <a:pt x="176" y="308"/>
                  </a:lnTo>
                  <a:lnTo>
                    <a:pt x="190" y="311"/>
                  </a:lnTo>
                  <a:lnTo>
                    <a:pt x="205" y="315"/>
                  </a:lnTo>
                  <a:lnTo>
                    <a:pt x="220" y="318"/>
                  </a:lnTo>
                  <a:lnTo>
                    <a:pt x="236" y="321"/>
                  </a:lnTo>
                  <a:lnTo>
                    <a:pt x="251" y="322"/>
                  </a:lnTo>
                  <a:lnTo>
                    <a:pt x="267" y="325"/>
                  </a:lnTo>
                  <a:lnTo>
                    <a:pt x="284" y="326"/>
                  </a:lnTo>
                  <a:lnTo>
                    <a:pt x="301" y="326"/>
                  </a:lnTo>
                  <a:lnTo>
                    <a:pt x="317" y="328"/>
                  </a:lnTo>
                  <a:lnTo>
                    <a:pt x="335" y="328"/>
                  </a:lnTo>
                  <a:lnTo>
                    <a:pt x="352" y="328"/>
                  </a:lnTo>
                  <a:lnTo>
                    <a:pt x="368" y="326"/>
                  </a:lnTo>
                  <a:lnTo>
                    <a:pt x="385" y="326"/>
                  </a:lnTo>
                  <a:lnTo>
                    <a:pt x="402" y="325"/>
                  </a:lnTo>
                  <a:lnTo>
                    <a:pt x="418" y="322"/>
                  </a:lnTo>
                  <a:lnTo>
                    <a:pt x="433" y="321"/>
                  </a:lnTo>
                  <a:lnTo>
                    <a:pt x="450" y="318"/>
                  </a:lnTo>
                  <a:lnTo>
                    <a:pt x="464" y="315"/>
                  </a:lnTo>
                  <a:lnTo>
                    <a:pt x="479" y="311"/>
                  </a:lnTo>
                  <a:lnTo>
                    <a:pt x="494" y="308"/>
                  </a:lnTo>
                  <a:lnTo>
                    <a:pt x="508" y="304"/>
                  </a:lnTo>
                  <a:lnTo>
                    <a:pt x="521" y="300"/>
                  </a:lnTo>
                  <a:lnTo>
                    <a:pt x="535" y="295"/>
                  </a:lnTo>
                  <a:lnTo>
                    <a:pt x="547" y="290"/>
                  </a:lnTo>
                  <a:lnTo>
                    <a:pt x="559" y="285"/>
                  </a:lnTo>
                  <a:lnTo>
                    <a:pt x="571" y="279"/>
                  </a:lnTo>
                  <a:lnTo>
                    <a:pt x="582" y="274"/>
                  </a:lnTo>
                  <a:lnTo>
                    <a:pt x="593" y="268"/>
                  </a:lnTo>
                  <a:lnTo>
                    <a:pt x="602" y="262"/>
                  </a:lnTo>
                  <a:lnTo>
                    <a:pt x="612" y="256"/>
                  </a:lnTo>
                  <a:lnTo>
                    <a:pt x="620" y="249"/>
                  </a:lnTo>
                  <a:lnTo>
                    <a:pt x="629" y="242"/>
                  </a:lnTo>
                  <a:lnTo>
                    <a:pt x="636" y="235"/>
                  </a:lnTo>
                  <a:lnTo>
                    <a:pt x="642" y="227"/>
                  </a:lnTo>
                  <a:lnTo>
                    <a:pt x="648" y="220"/>
                  </a:lnTo>
                  <a:lnTo>
                    <a:pt x="654" y="212"/>
                  </a:lnTo>
                  <a:lnTo>
                    <a:pt x="658" y="205"/>
                  </a:lnTo>
                  <a:lnTo>
                    <a:pt x="662" y="197"/>
                  </a:lnTo>
                  <a:lnTo>
                    <a:pt x="665" y="189"/>
                  </a:lnTo>
                  <a:lnTo>
                    <a:pt x="667" y="180"/>
                  </a:lnTo>
                  <a:lnTo>
                    <a:pt x="667" y="172"/>
                  </a:lnTo>
                  <a:lnTo>
                    <a:pt x="669" y="164"/>
                  </a:lnTo>
                  <a:lnTo>
                    <a:pt x="667" y="156"/>
                  </a:lnTo>
                  <a:lnTo>
                    <a:pt x="667" y="147"/>
                  </a:lnTo>
                  <a:lnTo>
                    <a:pt x="665" y="139"/>
                  </a:lnTo>
                  <a:lnTo>
                    <a:pt x="662" y="131"/>
                  </a:lnTo>
                  <a:lnTo>
                    <a:pt x="658" y="123"/>
                  </a:lnTo>
                  <a:lnTo>
                    <a:pt x="654" y="114"/>
                  </a:lnTo>
                  <a:lnTo>
                    <a:pt x="648" y="107"/>
                  </a:lnTo>
                  <a:lnTo>
                    <a:pt x="642" y="99"/>
                  </a:lnTo>
                  <a:lnTo>
                    <a:pt x="636" y="92"/>
                  </a:lnTo>
                  <a:lnTo>
                    <a:pt x="629" y="85"/>
                  </a:lnTo>
                  <a:lnTo>
                    <a:pt x="620" y="79"/>
                  </a:lnTo>
                  <a:lnTo>
                    <a:pt x="612" y="72"/>
                  </a:lnTo>
                  <a:lnTo>
                    <a:pt x="602" y="65"/>
                  </a:lnTo>
                  <a:lnTo>
                    <a:pt x="593" y="59"/>
                  </a:lnTo>
                  <a:lnTo>
                    <a:pt x="582" y="54"/>
                  </a:lnTo>
                  <a:lnTo>
                    <a:pt x="571" y="47"/>
                  </a:lnTo>
                  <a:lnTo>
                    <a:pt x="559" y="43"/>
                  </a:lnTo>
                  <a:lnTo>
                    <a:pt x="547" y="37"/>
                  </a:lnTo>
                  <a:lnTo>
                    <a:pt x="535" y="32"/>
                  </a:lnTo>
                  <a:lnTo>
                    <a:pt x="521" y="28"/>
                  </a:lnTo>
                  <a:lnTo>
                    <a:pt x="508" y="24"/>
                  </a:lnTo>
                  <a:lnTo>
                    <a:pt x="494" y="19"/>
                  </a:lnTo>
                  <a:lnTo>
                    <a:pt x="479" y="15"/>
                  </a:lnTo>
                  <a:lnTo>
                    <a:pt x="464" y="13"/>
                  </a:lnTo>
                  <a:lnTo>
                    <a:pt x="450" y="10"/>
                  </a:lnTo>
                  <a:lnTo>
                    <a:pt x="433" y="7"/>
                  </a:lnTo>
                  <a:lnTo>
                    <a:pt x="418" y="4"/>
                  </a:lnTo>
                  <a:lnTo>
                    <a:pt x="402" y="3"/>
                  </a:lnTo>
                  <a:lnTo>
                    <a:pt x="385" y="2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335" y="0"/>
                  </a:lnTo>
                </a:path>
              </a:pathLst>
            </a:cu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4680" y="4554000"/>
              <a:ext cx="600120" cy="1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rotei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6840" y="4717080"/>
              <a:ext cx="938520" cy="1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equen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7880" y="4496040"/>
              <a:ext cx="1245960" cy="439920"/>
            </a:xfrm>
            <a:custGeom>
              <a:avLst/>
              <a:gdLst/>
              <a:ahLst/>
              <a:rect l="l" t="t" r="r" b="b"/>
              <a:pathLst>
                <a:path w="669" h="328">
                  <a:moveTo>
                    <a:pt x="335" y="0"/>
                  </a:moveTo>
                  <a:lnTo>
                    <a:pt x="317" y="0"/>
                  </a:lnTo>
                  <a:lnTo>
                    <a:pt x="301" y="0"/>
                  </a:lnTo>
                  <a:lnTo>
                    <a:pt x="284" y="2"/>
                  </a:lnTo>
                  <a:lnTo>
                    <a:pt x="267" y="3"/>
                  </a:lnTo>
                  <a:lnTo>
                    <a:pt x="251" y="4"/>
                  </a:lnTo>
                  <a:lnTo>
                    <a:pt x="236" y="7"/>
                  </a:lnTo>
                  <a:lnTo>
                    <a:pt x="220" y="10"/>
                  </a:lnTo>
                  <a:lnTo>
                    <a:pt x="205" y="13"/>
                  </a:lnTo>
                  <a:lnTo>
                    <a:pt x="190" y="15"/>
                  </a:lnTo>
                  <a:lnTo>
                    <a:pt x="176" y="19"/>
                  </a:lnTo>
                  <a:lnTo>
                    <a:pt x="162" y="24"/>
                  </a:lnTo>
                  <a:lnTo>
                    <a:pt x="148" y="28"/>
                  </a:lnTo>
                  <a:lnTo>
                    <a:pt x="135" y="32"/>
                  </a:lnTo>
                  <a:lnTo>
                    <a:pt x="122" y="37"/>
                  </a:lnTo>
                  <a:lnTo>
                    <a:pt x="110" y="43"/>
                  </a:lnTo>
                  <a:lnTo>
                    <a:pt x="99" y="47"/>
                  </a:lnTo>
                  <a:lnTo>
                    <a:pt x="88" y="54"/>
                  </a:lnTo>
                  <a:lnTo>
                    <a:pt x="78" y="59"/>
                  </a:lnTo>
                  <a:lnTo>
                    <a:pt x="67" y="65"/>
                  </a:lnTo>
                  <a:lnTo>
                    <a:pt x="58" y="72"/>
                  </a:lnTo>
                  <a:lnTo>
                    <a:pt x="49" y="79"/>
                  </a:lnTo>
                  <a:lnTo>
                    <a:pt x="42" y="85"/>
                  </a:lnTo>
                  <a:lnTo>
                    <a:pt x="34" y="92"/>
                  </a:lnTo>
                  <a:lnTo>
                    <a:pt x="27" y="99"/>
                  </a:lnTo>
                  <a:lnTo>
                    <a:pt x="21" y="107"/>
                  </a:lnTo>
                  <a:lnTo>
                    <a:pt x="16" y="114"/>
                  </a:lnTo>
                  <a:lnTo>
                    <a:pt x="11" y="123"/>
                  </a:lnTo>
                  <a:lnTo>
                    <a:pt x="7" y="131"/>
                  </a:lnTo>
                  <a:lnTo>
                    <a:pt x="4" y="139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0" y="164"/>
                  </a:lnTo>
                  <a:lnTo>
                    <a:pt x="2" y="172"/>
                  </a:lnTo>
                  <a:lnTo>
                    <a:pt x="3" y="180"/>
                  </a:lnTo>
                  <a:lnTo>
                    <a:pt x="4" y="189"/>
                  </a:lnTo>
                  <a:lnTo>
                    <a:pt x="7" y="197"/>
                  </a:lnTo>
                  <a:lnTo>
                    <a:pt x="11" y="205"/>
                  </a:lnTo>
                  <a:lnTo>
                    <a:pt x="16" y="212"/>
                  </a:lnTo>
                  <a:lnTo>
                    <a:pt x="21" y="220"/>
                  </a:lnTo>
                  <a:lnTo>
                    <a:pt x="27" y="227"/>
                  </a:lnTo>
                  <a:lnTo>
                    <a:pt x="34" y="235"/>
                  </a:lnTo>
                  <a:lnTo>
                    <a:pt x="42" y="242"/>
                  </a:lnTo>
                  <a:lnTo>
                    <a:pt x="49" y="249"/>
                  </a:lnTo>
                  <a:lnTo>
                    <a:pt x="58" y="256"/>
                  </a:lnTo>
                  <a:lnTo>
                    <a:pt x="67" y="262"/>
                  </a:lnTo>
                  <a:lnTo>
                    <a:pt x="78" y="268"/>
                  </a:lnTo>
                  <a:lnTo>
                    <a:pt x="88" y="274"/>
                  </a:lnTo>
                  <a:lnTo>
                    <a:pt x="99" y="279"/>
                  </a:lnTo>
                  <a:lnTo>
                    <a:pt x="110" y="285"/>
                  </a:lnTo>
                  <a:lnTo>
                    <a:pt x="122" y="290"/>
                  </a:lnTo>
                  <a:lnTo>
                    <a:pt x="135" y="295"/>
                  </a:lnTo>
                  <a:lnTo>
                    <a:pt x="148" y="300"/>
                  </a:lnTo>
                  <a:lnTo>
                    <a:pt x="162" y="304"/>
                  </a:lnTo>
                  <a:lnTo>
                    <a:pt x="176" y="308"/>
                  </a:lnTo>
                  <a:lnTo>
                    <a:pt x="190" y="311"/>
                  </a:lnTo>
                  <a:lnTo>
                    <a:pt x="205" y="315"/>
                  </a:lnTo>
                  <a:lnTo>
                    <a:pt x="220" y="318"/>
                  </a:lnTo>
                  <a:lnTo>
                    <a:pt x="236" y="321"/>
                  </a:lnTo>
                  <a:lnTo>
                    <a:pt x="251" y="322"/>
                  </a:lnTo>
                  <a:lnTo>
                    <a:pt x="267" y="325"/>
                  </a:lnTo>
                  <a:lnTo>
                    <a:pt x="284" y="326"/>
                  </a:lnTo>
                  <a:lnTo>
                    <a:pt x="301" y="326"/>
                  </a:lnTo>
                  <a:lnTo>
                    <a:pt x="317" y="328"/>
                  </a:lnTo>
                  <a:lnTo>
                    <a:pt x="335" y="328"/>
                  </a:lnTo>
                  <a:lnTo>
                    <a:pt x="352" y="328"/>
                  </a:lnTo>
                  <a:lnTo>
                    <a:pt x="368" y="326"/>
                  </a:lnTo>
                  <a:lnTo>
                    <a:pt x="385" y="326"/>
                  </a:lnTo>
                  <a:lnTo>
                    <a:pt x="402" y="325"/>
                  </a:lnTo>
                  <a:lnTo>
                    <a:pt x="418" y="322"/>
                  </a:lnTo>
                  <a:lnTo>
                    <a:pt x="433" y="321"/>
                  </a:lnTo>
                  <a:lnTo>
                    <a:pt x="450" y="318"/>
                  </a:lnTo>
                  <a:lnTo>
                    <a:pt x="464" y="315"/>
                  </a:lnTo>
                  <a:lnTo>
                    <a:pt x="479" y="311"/>
                  </a:lnTo>
                  <a:lnTo>
                    <a:pt x="494" y="308"/>
                  </a:lnTo>
                  <a:lnTo>
                    <a:pt x="508" y="304"/>
                  </a:lnTo>
                  <a:lnTo>
                    <a:pt x="521" y="300"/>
                  </a:lnTo>
                  <a:lnTo>
                    <a:pt x="535" y="295"/>
                  </a:lnTo>
                  <a:lnTo>
                    <a:pt x="547" y="290"/>
                  </a:lnTo>
                  <a:lnTo>
                    <a:pt x="559" y="285"/>
                  </a:lnTo>
                  <a:lnTo>
                    <a:pt x="571" y="279"/>
                  </a:lnTo>
                  <a:lnTo>
                    <a:pt x="582" y="274"/>
                  </a:lnTo>
                  <a:lnTo>
                    <a:pt x="593" y="268"/>
                  </a:lnTo>
                  <a:lnTo>
                    <a:pt x="602" y="262"/>
                  </a:lnTo>
                  <a:lnTo>
                    <a:pt x="612" y="256"/>
                  </a:lnTo>
                  <a:lnTo>
                    <a:pt x="620" y="249"/>
                  </a:lnTo>
                  <a:lnTo>
                    <a:pt x="629" y="242"/>
                  </a:lnTo>
                  <a:lnTo>
                    <a:pt x="636" y="235"/>
                  </a:lnTo>
                  <a:lnTo>
                    <a:pt x="642" y="227"/>
                  </a:lnTo>
                  <a:lnTo>
                    <a:pt x="648" y="220"/>
                  </a:lnTo>
                  <a:lnTo>
                    <a:pt x="654" y="212"/>
                  </a:lnTo>
                  <a:lnTo>
                    <a:pt x="658" y="205"/>
                  </a:lnTo>
                  <a:lnTo>
                    <a:pt x="662" y="197"/>
                  </a:lnTo>
                  <a:lnTo>
                    <a:pt x="665" y="189"/>
                  </a:lnTo>
                  <a:lnTo>
                    <a:pt x="667" y="180"/>
                  </a:lnTo>
                  <a:lnTo>
                    <a:pt x="667" y="172"/>
                  </a:lnTo>
                  <a:lnTo>
                    <a:pt x="669" y="164"/>
                  </a:lnTo>
                  <a:lnTo>
                    <a:pt x="667" y="156"/>
                  </a:lnTo>
                  <a:lnTo>
                    <a:pt x="667" y="147"/>
                  </a:lnTo>
                  <a:lnTo>
                    <a:pt x="665" y="139"/>
                  </a:lnTo>
                  <a:lnTo>
                    <a:pt x="662" y="131"/>
                  </a:lnTo>
                  <a:lnTo>
                    <a:pt x="658" y="123"/>
                  </a:lnTo>
                  <a:lnTo>
                    <a:pt x="654" y="114"/>
                  </a:lnTo>
                  <a:lnTo>
                    <a:pt x="648" y="107"/>
                  </a:lnTo>
                  <a:lnTo>
                    <a:pt x="642" y="99"/>
                  </a:lnTo>
                  <a:lnTo>
                    <a:pt x="636" y="92"/>
                  </a:lnTo>
                  <a:lnTo>
                    <a:pt x="629" y="85"/>
                  </a:lnTo>
                  <a:lnTo>
                    <a:pt x="620" y="79"/>
                  </a:lnTo>
                  <a:lnTo>
                    <a:pt x="612" y="72"/>
                  </a:lnTo>
                  <a:lnTo>
                    <a:pt x="602" y="65"/>
                  </a:lnTo>
                  <a:lnTo>
                    <a:pt x="593" y="59"/>
                  </a:lnTo>
                  <a:lnTo>
                    <a:pt x="582" y="54"/>
                  </a:lnTo>
                  <a:lnTo>
                    <a:pt x="571" y="47"/>
                  </a:lnTo>
                  <a:lnTo>
                    <a:pt x="559" y="43"/>
                  </a:lnTo>
                  <a:lnTo>
                    <a:pt x="547" y="37"/>
                  </a:lnTo>
                  <a:lnTo>
                    <a:pt x="535" y="32"/>
                  </a:lnTo>
                  <a:lnTo>
                    <a:pt x="521" y="28"/>
                  </a:lnTo>
                  <a:lnTo>
                    <a:pt x="508" y="24"/>
                  </a:lnTo>
                  <a:lnTo>
                    <a:pt x="494" y="19"/>
                  </a:lnTo>
                  <a:lnTo>
                    <a:pt x="479" y="15"/>
                  </a:lnTo>
                  <a:lnTo>
                    <a:pt x="464" y="13"/>
                  </a:lnTo>
                  <a:lnTo>
                    <a:pt x="450" y="10"/>
                  </a:lnTo>
                  <a:lnTo>
                    <a:pt x="433" y="7"/>
                  </a:lnTo>
                  <a:lnTo>
                    <a:pt x="418" y="4"/>
                  </a:lnTo>
                  <a:lnTo>
                    <a:pt x="402" y="3"/>
                  </a:lnTo>
                  <a:lnTo>
                    <a:pt x="385" y="2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880" y="4496040"/>
              <a:ext cx="1245960" cy="439920"/>
            </a:xfrm>
            <a:custGeom>
              <a:avLst/>
              <a:gdLst/>
              <a:ahLst/>
              <a:rect l="l" t="t" r="r" b="b"/>
              <a:pathLst>
                <a:path w="669" h="328">
                  <a:moveTo>
                    <a:pt x="335" y="0"/>
                  </a:moveTo>
                  <a:lnTo>
                    <a:pt x="317" y="0"/>
                  </a:lnTo>
                  <a:lnTo>
                    <a:pt x="301" y="0"/>
                  </a:lnTo>
                  <a:lnTo>
                    <a:pt x="284" y="2"/>
                  </a:lnTo>
                  <a:lnTo>
                    <a:pt x="267" y="3"/>
                  </a:lnTo>
                  <a:lnTo>
                    <a:pt x="251" y="4"/>
                  </a:lnTo>
                  <a:lnTo>
                    <a:pt x="236" y="7"/>
                  </a:lnTo>
                  <a:lnTo>
                    <a:pt x="220" y="10"/>
                  </a:lnTo>
                  <a:lnTo>
                    <a:pt x="205" y="13"/>
                  </a:lnTo>
                  <a:lnTo>
                    <a:pt x="190" y="15"/>
                  </a:lnTo>
                  <a:lnTo>
                    <a:pt x="176" y="19"/>
                  </a:lnTo>
                  <a:lnTo>
                    <a:pt x="162" y="24"/>
                  </a:lnTo>
                  <a:lnTo>
                    <a:pt x="148" y="28"/>
                  </a:lnTo>
                  <a:lnTo>
                    <a:pt x="135" y="32"/>
                  </a:lnTo>
                  <a:lnTo>
                    <a:pt x="122" y="37"/>
                  </a:lnTo>
                  <a:lnTo>
                    <a:pt x="110" y="43"/>
                  </a:lnTo>
                  <a:lnTo>
                    <a:pt x="99" y="47"/>
                  </a:lnTo>
                  <a:lnTo>
                    <a:pt x="88" y="54"/>
                  </a:lnTo>
                  <a:lnTo>
                    <a:pt x="78" y="59"/>
                  </a:lnTo>
                  <a:lnTo>
                    <a:pt x="67" y="65"/>
                  </a:lnTo>
                  <a:lnTo>
                    <a:pt x="58" y="72"/>
                  </a:lnTo>
                  <a:lnTo>
                    <a:pt x="49" y="79"/>
                  </a:lnTo>
                  <a:lnTo>
                    <a:pt x="42" y="85"/>
                  </a:lnTo>
                  <a:lnTo>
                    <a:pt x="34" y="92"/>
                  </a:lnTo>
                  <a:lnTo>
                    <a:pt x="27" y="99"/>
                  </a:lnTo>
                  <a:lnTo>
                    <a:pt x="21" y="107"/>
                  </a:lnTo>
                  <a:lnTo>
                    <a:pt x="16" y="114"/>
                  </a:lnTo>
                  <a:lnTo>
                    <a:pt x="11" y="123"/>
                  </a:lnTo>
                  <a:lnTo>
                    <a:pt x="7" y="131"/>
                  </a:lnTo>
                  <a:lnTo>
                    <a:pt x="4" y="139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0" y="164"/>
                  </a:lnTo>
                  <a:lnTo>
                    <a:pt x="2" y="172"/>
                  </a:lnTo>
                  <a:lnTo>
                    <a:pt x="3" y="180"/>
                  </a:lnTo>
                  <a:lnTo>
                    <a:pt x="4" y="189"/>
                  </a:lnTo>
                  <a:lnTo>
                    <a:pt x="7" y="197"/>
                  </a:lnTo>
                  <a:lnTo>
                    <a:pt x="11" y="205"/>
                  </a:lnTo>
                  <a:lnTo>
                    <a:pt x="16" y="212"/>
                  </a:lnTo>
                  <a:lnTo>
                    <a:pt x="21" y="220"/>
                  </a:lnTo>
                  <a:lnTo>
                    <a:pt x="27" y="227"/>
                  </a:lnTo>
                  <a:lnTo>
                    <a:pt x="34" y="235"/>
                  </a:lnTo>
                  <a:lnTo>
                    <a:pt x="42" y="242"/>
                  </a:lnTo>
                  <a:lnTo>
                    <a:pt x="49" y="249"/>
                  </a:lnTo>
                  <a:lnTo>
                    <a:pt x="58" y="256"/>
                  </a:lnTo>
                  <a:lnTo>
                    <a:pt x="67" y="262"/>
                  </a:lnTo>
                  <a:lnTo>
                    <a:pt x="78" y="268"/>
                  </a:lnTo>
                  <a:lnTo>
                    <a:pt x="88" y="274"/>
                  </a:lnTo>
                  <a:lnTo>
                    <a:pt x="99" y="279"/>
                  </a:lnTo>
                  <a:lnTo>
                    <a:pt x="110" y="285"/>
                  </a:lnTo>
                  <a:lnTo>
                    <a:pt x="122" y="290"/>
                  </a:lnTo>
                  <a:lnTo>
                    <a:pt x="135" y="295"/>
                  </a:lnTo>
                  <a:lnTo>
                    <a:pt x="148" y="300"/>
                  </a:lnTo>
                  <a:lnTo>
                    <a:pt x="162" y="304"/>
                  </a:lnTo>
                  <a:lnTo>
                    <a:pt x="176" y="308"/>
                  </a:lnTo>
                  <a:lnTo>
                    <a:pt x="190" y="311"/>
                  </a:lnTo>
                  <a:lnTo>
                    <a:pt x="205" y="315"/>
                  </a:lnTo>
                  <a:lnTo>
                    <a:pt x="220" y="318"/>
                  </a:lnTo>
                  <a:lnTo>
                    <a:pt x="236" y="321"/>
                  </a:lnTo>
                  <a:lnTo>
                    <a:pt x="251" y="322"/>
                  </a:lnTo>
                  <a:lnTo>
                    <a:pt x="267" y="325"/>
                  </a:lnTo>
                  <a:lnTo>
                    <a:pt x="284" y="326"/>
                  </a:lnTo>
                  <a:lnTo>
                    <a:pt x="301" y="326"/>
                  </a:lnTo>
                  <a:lnTo>
                    <a:pt x="317" y="328"/>
                  </a:lnTo>
                  <a:lnTo>
                    <a:pt x="335" y="328"/>
                  </a:lnTo>
                  <a:lnTo>
                    <a:pt x="352" y="328"/>
                  </a:lnTo>
                  <a:lnTo>
                    <a:pt x="368" y="326"/>
                  </a:lnTo>
                  <a:lnTo>
                    <a:pt x="385" y="326"/>
                  </a:lnTo>
                  <a:lnTo>
                    <a:pt x="402" y="325"/>
                  </a:lnTo>
                  <a:lnTo>
                    <a:pt x="418" y="322"/>
                  </a:lnTo>
                  <a:lnTo>
                    <a:pt x="433" y="321"/>
                  </a:lnTo>
                  <a:lnTo>
                    <a:pt x="450" y="318"/>
                  </a:lnTo>
                  <a:lnTo>
                    <a:pt x="464" y="315"/>
                  </a:lnTo>
                  <a:lnTo>
                    <a:pt x="479" y="311"/>
                  </a:lnTo>
                  <a:lnTo>
                    <a:pt x="494" y="308"/>
                  </a:lnTo>
                  <a:lnTo>
                    <a:pt x="508" y="304"/>
                  </a:lnTo>
                  <a:lnTo>
                    <a:pt x="521" y="300"/>
                  </a:lnTo>
                  <a:lnTo>
                    <a:pt x="535" y="295"/>
                  </a:lnTo>
                  <a:lnTo>
                    <a:pt x="547" y="290"/>
                  </a:lnTo>
                  <a:lnTo>
                    <a:pt x="559" y="285"/>
                  </a:lnTo>
                  <a:lnTo>
                    <a:pt x="571" y="279"/>
                  </a:lnTo>
                  <a:lnTo>
                    <a:pt x="582" y="274"/>
                  </a:lnTo>
                  <a:lnTo>
                    <a:pt x="593" y="268"/>
                  </a:lnTo>
                  <a:lnTo>
                    <a:pt x="602" y="262"/>
                  </a:lnTo>
                  <a:lnTo>
                    <a:pt x="612" y="256"/>
                  </a:lnTo>
                  <a:lnTo>
                    <a:pt x="620" y="249"/>
                  </a:lnTo>
                  <a:lnTo>
                    <a:pt x="629" y="242"/>
                  </a:lnTo>
                  <a:lnTo>
                    <a:pt x="636" y="235"/>
                  </a:lnTo>
                  <a:lnTo>
                    <a:pt x="642" y="227"/>
                  </a:lnTo>
                  <a:lnTo>
                    <a:pt x="648" y="220"/>
                  </a:lnTo>
                  <a:lnTo>
                    <a:pt x="654" y="212"/>
                  </a:lnTo>
                  <a:lnTo>
                    <a:pt x="658" y="205"/>
                  </a:lnTo>
                  <a:lnTo>
                    <a:pt x="662" y="197"/>
                  </a:lnTo>
                  <a:lnTo>
                    <a:pt x="665" y="189"/>
                  </a:lnTo>
                  <a:lnTo>
                    <a:pt x="667" y="180"/>
                  </a:lnTo>
                  <a:lnTo>
                    <a:pt x="667" y="172"/>
                  </a:lnTo>
                  <a:lnTo>
                    <a:pt x="669" y="164"/>
                  </a:lnTo>
                  <a:lnTo>
                    <a:pt x="667" y="156"/>
                  </a:lnTo>
                  <a:lnTo>
                    <a:pt x="667" y="147"/>
                  </a:lnTo>
                  <a:lnTo>
                    <a:pt x="665" y="139"/>
                  </a:lnTo>
                  <a:lnTo>
                    <a:pt x="662" y="131"/>
                  </a:lnTo>
                  <a:lnTo>
                    <a:pt x="658" y="123"/>
                  </a:lnTo>
                  <a:lnTo>
                    <a:pt x="654" y="114"/>
                  </a:lnTo>
                  <a:lnTo>
                    <a:pt x="648" y="107"/>
                  </a:lnTo>
                  <a:lnTo>
                    <a:pt x="642" y="99"/>
                  </a:lnTo>
                  <a:lnTo>
                    <a:pt x="636" y="92"/>
                  </a:lnTo>
                  <a:lnTo>
                    <a:pt x="629" y="85"/>
                  </a:lnTo>
                  <a:lnTo>
                    <a:pt x="620" y="79"/>
                  </a:lnTo>
                  <a:lnTo>
                    <a:pt x="612" y="72"/>
                  </a:lnTo>
                  <a:lnTo>
                    <a:pt x="602" y="65"/>
                  </a:lnTo>
                  <a:lnTo>
                    <a:pt x="593" y="59"/>
                  </a:lnTo>
                  <a:lnTo>
                    <a:pt x="582" y="54"/>
                  </a:lnTo>
                  <a:lnTo>
                    <a:pt x="571" y="47"/>
                  </a:lnTo>
                  <a:lnTo>
                    <a:pt x="559" y="43"/>
                  </a:lnTo>
                  <a:lnTo>
                    <a:pt x="547" y="37"/>
                  </a:lnTo>
                  <a:lnTo>
                    <a:pt x="535" y="32"/>
                  </a:lnTo>
                  <a:lnTo>
                    <a:pt x="521" y="28"/>
                  </a:lnTo>
                  <a:lnTo>
                    <a:pt x="508" y="24"/>
                  </a:lnTo>
                  <a:lnTo>
                    <a:pt x="494" y="19"/>
                  </a:lnTo>
                  <a:lnTo>
                    <a:pt x="479" y="15"/>
                  </a:lnTo>
                  <a:lnTo>
                    <a:pt x="464" y="13"/>
                  </a:lnTo>
                  <a:lnTo>
                    <a:pt x="450" y="10"/>
                  </a:lnTo>
                  <a:lnTo>
                    <a:pt x="433" y="7"/>
                  </a:lnTo>
                  <a:lnTo>
                    <a:pt x="418" y="4"/>
                  </a:lnTo>
                  <a:lnTo>
                    <a:pt x="402" y="3"/>
                  </a:lnTo>
                  <a:lnTo>
                    <a:pt x="385" y="2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335" y="0"/>
                  </a:lnTo>
                </a:path>
              </a:pathLst>
            </a:cu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4680" y="4554000"/>
              <a:ext cx="600120" cy="1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rotei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6840" y="4717080"/>
              <a:ext cx="938520" cy="1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equen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8600" y="5132160"/>
              <a:ext cx="8361720" cy="1380960"/>
            </a:xfrm>
            <a:custGeom>
              <a:avLst/>
              <a:gdLst/>
              <a:ahLst/>
              <a:rect l="l" t="t" r="r" b="b"/>
              <a:pathLst>
                <a:path w="4498" h="1032">
                  <a:moveTo>
                    <a:pt x="173" y="0"/>
                  </a:moveTo>
                  <a:lnTo>
                    <a:pt x="164" y="0"/>
                  </a:lnTo>
                  <a:lnTo>
                    <a:pt x="156" y="0"/>
                  </a:lnTo>
                  <a:lnTo>
                    <a:pt x="146" y="1"/>
                  </a:lnTo>
                  <a:lnTo>
                    <a:pt x="138" y="3"/>
                  </a:lnTo>
                  <a:lnTo>
                    <a:pt x="130" y="4"/>
                  </a:lnTo>
                  <a:lnTo>
                    <a:pt x="122" y="7"/>
                  </a:lnTo>
                  <a:lnTo>
                    <a:pt x="113" y="9"/>
                  </a:lnTo>
                  <a:lnTo>
                    <a:pt x="106" y="12"/>
                  </a:lnTo>
                  <a:lnTo>
                    <a:pt x="98" y="16"/>
                  </a:lnTo>
                  <a:lnTo>
                    <a:pt x="91" y="20"/>
                  </a:lnTo>
                  <a:lnTo>
                    <a:pt x="77" y="29"/>
                  </a:lnTo>
                  <a:lnTo>
                    <a:pt x="63" y="38"/>
                  </a:lnTo>
                  <a:lnTo>
                    <a:pt x="51" y="49"/>
                  </a:lnTo>
                  <a:lnTo>
                    <a:pt x="40" y="62"/>
                  </a:lnTo>
                  <a:lnTo>
                    <a:pt x="30" y="75"/>
                  </a:lnTo>
                  <a:lnTo>
                    <a:pt x="21" y="89"/>
                  </a:lnTo>
                  <a:lnTo>
                    <a:pt x="18" y="96"/>
                  </a:lnTo>
                  <a:lnTo>
                    <a:pt x="14" y="104"/>
                  </a:lnTo>
                  <a:lnTo>
                    <a:pt x="11" y="113"/>
                  </a:lnTo>
                  <a:lnTo>
                    <a:pt x="8" y="119"/>
                  </a:lnTo>
                  <a:lnTo>
                    <a:pt x="5" y="128"/>
                  </a:lnTo>
                  <a:lnTo>
                    <a:pt x="4" y="136"/>
                  </a:lnTo>
                  <a:lnTo>
                    <a:pt x="3" y="144"/>
                  </a:lnTo>
                  <a:lnTo>
                    <a:pt x="1" y="154"/>
                  </a:lnTo>
                  <a:lnTo>
                    <a:pt x="1" y="162"/>
                  </a:lnTo>
                  <a:lnTo>
                    <a:pt x="0" y="172"/>
                  </a:lnTo>
                  <a:lnTo>
                    <a:pt x="0" y="860"/>
                  </a:lnTo>
                  <a:lnTo>
                    <a:pt x="1" y="868"/>
                  </a:lnTo>
                  <a:lnTo>
                    <a:pt x="1" y="876"/>
                  </a:lnTo>
                  <a:lnTo>
                    <a:pt x="3" y="886"/>
                  </a:lnTo>
                  <a:lnTo>
                    <a:pt x="4" y="894"/>
                  </a:lnTo>
                  <a:lnTo>
                    <a:pt x="5" y="902"/>
                  </a:lnTo>
                  <a:lnTo>
                    <a:pt x="8" y="911"/>
                  </a:lnTo>
                  <a:lnTo>
                    <a:pt x="11" y="919"/>
                  </a:lnTo>
                  <a:lnTo>
                    <a:pt x="14" y="926"/>
                  </a:lnTo>
                  <a:lnTo>
                    <a:pt x="18" y="934"/>
                  </a:lnTo>
                  <a:lnTo>
                    <a:pt x="21" y="941"/>
                  </a:lnTo>
                  <a:lnTo>
                    <a:pt x="30" y="955"/>
                  </a:lnTo>
                  <a:lnTo>
                    <a:pt x="40" y="968"/>
                  </a:lnTo>
                  <a:lnTo>
                    <a:pt x="51" y="981"/>
                  </a:lnTo>
                  <a:lnTo>
                    <a:pt x="63" y="992"/>
                  </a:lnTo>
                  <a:lnTo>
                    <a:pt x="77" y="1002"/>
                  </a:lnTo>
                  <a:lnTo>
                    <a:pt x="91" y="1010"/>
                  </a:lnTo>
                  <a:lnTo>
                    <a:pt x="98" y="1014"/>
                  </a:lnTo>
                  <a:lnTo>
                    <a:pt x="106" y="1018"/>
                  </a:lnTo>
                  <a:lnTo>
                    <a:pt x="113" y="1021"/>
                  </a:lnTo>
                  <a:lnTo>
                    <a:pt x="122" y="1024"/>
                  </a:lnTo>
                  <a:lnTo>
                    <a:pt x="130" y="1026"/>
                  </a:lnTo>
                  <a:lnTo>
                    <a:pt x="138" y="1028"/>
                  </a:lnTo>
                  <a:lnTo>
                    <a:pt x="146" y="1029"/>
                  </a:lnTo>
                  <a:lnTo>
                    <a:pt x="156" y="1030"/>
                  </a:lnTo>
                  <a:lnTo>
                    <a:pt x="164" y="1030"/>
                  </a:lnTo>
                  <a:lnTo>
                    <a:pt x="173" y="1032"/>
                  </a:lnTo>
                  <a:lnTo>
                    <a:pt x="4325" y="1032"/>
                  </a:lnTo>
                  <a:lnTo>
                    <a:pt x="4334" y="1030"/>
                  </a:lnTo>
                  <a:lnTo>
                    <a:pt x="4343" y="1030"/>
                  </a:lnTo>
                  <a:lnTo>
                    <a:pt x="4351" y="1029"/>
                  </a:lnTo>
                  <a:lnTo>
                    <a:pt x="4361" y="1028"/>
                  </a:lnTo>
                  <a:lnTo>
                    <a:pt x="4369" y="1026"/>
                  </a:lnTo>
                  <a:lnTo>
                    <a:pt x="4377" y="1024"/>
                  </a:lnTo>
                  <a:lnTo>
                    <a:pt x="4384" y="1021"/>
                  </a:lnTo>
                  <a:lnTo>
                    <a:pt x="4392" y="1018"/>
                  </a:lnTo>
                  <a:lnTo>
                    <a:pt x="4401" y="1014"/>
                  </a:lnTo>
                  <a:lnTo>
                    <a:pt x="4408" y="1010"/>
                  </a:lnTo>
                  <a:lnTo>
                    <a:pt x="4422" y="1002"/>
                  </a:lnTo>
                  <a:lnTo>
                    <a:pt x="4435" y="992"/>
                  </a:lnTo>
                  <a:lnTo>
                    <a:pt x="4448" y="981"/>
                  </a:lnTo>
                  <a:lnTo>
                    <a:pt x="4459" y="968"/>
                  </a:lnTo>
                  <a:lnTo>
                    <a:pt x="4469" y="955"/>
                  </a:lnTo>
                  <a:lnTo>
                    <a:pt x="4477" y="941"/>
                  </a:lnTo>
                  <a:lnTo>
                    <a:pt x="4481" y="934"/>
                  </a:lnTo>
                  <a:lnTo>
                    <a:pt x="4485" y="926"/>
                  </a:lnTo>
                  <a:lnTo>
                    <a:pt x="4488" y="919"/>
                  </a:lnTo>
                  <a:lnTo>
                    <a:pt x="4491" y="911"/>
                  </a:lnTo>
                  <a:lnTo>
                    <a:pt x="4492" y="902"/>
                  </a:lnTo>
                  <a:lnTo>
                    <a:pt x="4495" y="894"/>
                  </a:lnTo>
                  <a:lnTo>
                    <a:pt x="4496" y="886"/>
                  </a:lnTo>
                  <a:lnTo>
                    <a:pt x="4498" y="876"/>
                  </a:lnTo>
                  <a:lnTo>
                    <a:pt x="4498" y="868"/>
                  </a:lnTo>
                  <a:lnTo>
                    <a:pt x="4498" y="860"/>
                  </a:lnTo>
                  <a:lnTo>
                    <a:pt x="4498" y="172"/>
                  </a:lnTo>
                  <a:lnTo>
                    <a:pt x="4498" y="162"/>
                  </a:lnTo>
                  <a:lnTo>
                    <a:pt x="4498" y="154"/>
                  </a:lnTo>
                  <a:lnTo>
                    <a:pt x="4496" y="144"/>
                  </a:lnTo>
                  <a:lnTo>
                    <a:pt x="4495" y="136"/>
                  </a:lnTo>
                  <a:lnTo>
                    <a:pt x="4492" y="128"/>
                  </a:lnTo>
                  <a:lnTo>
                    <a:pt x="4491" y="119"/>
                  </a:lnTo>
                  <a:lnTo>
                    <a:pt x="4488" y="113"/>
                  </a:lnTo>
                  <a:lnTo>
                    <a:pt x="4485" y="104"/>
                  </a:lnTo>
                  <a:lnTo>
                    <a:pt x="4481" y="96"/>
                  </a:lnTo>
                  <a:lnTo>
                    <a:pt x="4477" y="89"/>
                  </a:lnTo>
                  <a:lnTo>
                    <a:pt x="4469" y="75"/>
                  </a:lnTo>
                  <a:lnTo>
                    <a:pt x="4459" y="62"/>
                  </a:lnTo>
                  <a:lnTo>
                    <a:pt x="4448" y="49"/>
                  </a:lnTo>
                  <a:lnTo>
                    <a:pt x="4435" y="38"/>
                  </a:lnTo>
                  <a:lnTo>
                    <a:pt x="4422" y="29"/>
                  </a:lnTo>
                  <a:lnTo>
                    <a:pt x="4408" y="20"/>
                  </a:lnTo>
                  <a:lnTo>
                    <a:pt x="4401" y="16"/>
                  </a:lnTo>
                  <a:lnTo>
                    <a:pt x="4392" y="12"/>
                  </a:lnTo>
                  <a:lnTo>
                    <a:pt x="4384" y="9"/>
                  </a:lnTo>
                  <a:lnTo>
                    <a:pt x="4377" y="7"/>
                  </a:lnTo>
                  <a:lnTo>
                    <a:pt x="4369" y="4"/>
                  </a:lnTo>
                  <a:lnTo>
                    <a:pt x="4361" y="3"/>
                  </a:lnTo>
                  <a:lnTo>
                    <a:pt x="4351" y="1"/>
                  </a:lnTo>
                  <a:lnTo>
                    <a:pt x="4343" y="0"/>
                  </a:lnTo>
                  <a:lnTo>
                    <a:pt x="4334" y="0"/>
                  </a:lnTo>
                  <a:lnTo>
                    <a:pt x="4325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4720" y="5139000"/>
              <a:ext cx="8360280" cy="1385640"/>
            </a:xfrm>
            <a:custGeom>
              <a:avLst/>
              <a:gdLst/>
              <a:ahLst/>
              <a:rect l="l" t="t" r="r" b="b"/>
              <a:pathLst>
                <a:path w="4498" h="1032">
                  <a:moveTo>
                    <a:pt x="173" y="0"/>
                  </a:moveTo>
                  <a:lnTo>
                    <a:pt x="164" y="0"/>
                  </a:lnTo>
                  <a:lnTo>
                    <a:pt x="156" y="0"/>
                  </a:lnTo>
                  <a:lnTo>
                    <a:pt x="146" y="1"/>
                  </a:lnTo>
                  <a:lnTo>
                    <a:pt x="138" y="3"/>
                  </a:lnTo>
                  <a:lnTo>
                    <a:pt x="130" y="4"/>
                  </a:lnTo>
                  <a:lnTo>
                    <a:pt x="122" y="7"/>
                  </a:lnTo>
                  <a:lnTo>
                    <a:pt x="113" y="9"/>
                  </a:lnTo>
                  <a:lnTo>
                    <a:pt x="106" y="12"/>
                  </a:lnTo>
                  <a:lnTo>
                    <a:pt x="98" y="16"/>
                  </a:lnTo>
                  <a:lnTo>
                    <a:pt x="91" y="20"/>
                  </a:lnTo>
                  <a:lnTo>
                    <a:pt x="77" y="29"/>
                  </a:lnTo>
                  <a:lnTo>
                    <a:pt x="63" y="38"/>
                  </a:lnTo>
                  <a:lnTo>
                    <a:pt x="51" y="49"/>
                  </a:lnTo>
                  <a:lnTo>
                    <a:pt x="40" y="62"/>
                  </a:lnTo>
                  <a:lnTo>
                    <a:pt x="30" y="75"/>
                  </a:lnTo>
                  <a:lnTo>
                    <a:pt x="21" y="89"/>
                  </a:lnTo>
                  <a:lnTo>
                    <a:pt x="18" y="96"/>
                  </a:lnTo>
                  <a:lnTo>
                    <a:pt x="14" y="104"/>
                  </a:lnTo>
                  <a:lnTo>
                    <a:pt x="11" y="113"/>
                  </a:lnTo>
                  <a:lnTo>
                    <a:pt x="8" y="119"/>
                  </a:lnTo>
                  <a:lnTo>
                    <a:pt x="5" y="128"/>
                  </a:lnTo>
                  <a:lnTo>
                    <a:pt x="4" y="136"/>
                  </a:lnTo>
                  <a:lnTo>
                    <a:pt x="3" y="144"/>
                  </a:lnTo>
                  <a:lnTo>
                    <a:pt x="1" y="154"/>
                  </a:lnTo>
                  <a:lnTo>
                    <a:pt x="1" y="162"/>
                  </a:lnTo>
                  <a:lnTo>
                    <a:pt x="0" y="172"/>
                  </a:lnTo>
                  <a:lnTo>
                    <a:pt x="0" y="860"/>
                  </a:lnTo>
                  <a:lnTo>
                    <a:pt x="1" y="868"/>
                  </a:lnTo>
                  <a:lnTo>
                    <a:pt x="1" y="876"/>
                  </a:lnTo>
                  <a:lnTo>
                    <a:pt x="3" y="886"/>
                  </a:lnTo>
                  <a:lnTo>
                    <a:pt x="4" y="894"/>
                  </a:lnTo>
                  <a:lnTo>
                    <a:pt x="5" y="902"/>
                  </a:lnTo>
                  <a:lnTo>
                    <a:pt x="8" y="911"/>
                  </a:lnTo>
                  <a:lnTo>
                    <a:pt x="11" y="919"/>
                  </a:lnTo>
                  <a:lnTo>
                    <a:pt x="14" y="926"/>
                  </a:lnTo>
                  <a:lnTo>
                    <a:pt x="18" y="934"/>
                  </a:lnTo>
                  <a:lnTo>
                    <a:pt x="21" y="941"/>
                  </a:lnTo>
                  <a:lnTo>
                    <a:pt x="30" y="955"/>
                  </a:lnTo>
                  <a:lnTo>
                    <a:pt x="40" y="968"/>
                  </a:lnTo>
                  <a:lnTo>
                    <a:pt x="51" y="981"/>
                  </a:lnTo>
                  <a:lnTo>
                    <a:pt x="63" y="992"/>
                  </a:lnTo>
                  <a:lnTo>
                    <a:pt x="77" y="1002"/>
                  </a:lnTo>
                  <a:lnTo>
                    <a:pt x="91" y="1010"/>
                  </a:lnTo>
                  <a:lnTo>
                    <a:pt x="98" y="1014"/>
                  </a:lnTo>
                  <a:lnTo>
                    <a:pt x="106" y="1018"/>
                  </a:lnTo>
                  <a:lnTo>
                    <a:pt x="113" y="1021"/>
                  </a:lnTo>
                  <a:lnTo>
                    <a:pt x="122" y="1024"/>
                  </a:lnTo>
                  <a:lnTo>
                    <a:pt x="130" y="1026"/>
                  </a:lnTo>
                  <a:lnTo>
                    <a:pt x="138" y="1028"/>
                  </a:lnTo>
                  <a:lnTo>
                    <a:pt x="146" y="1029"/>
                  </a:lnTo>
                  <a:lnTo>
                    <a:pt x="156" y="1030"/>
                  </a:lnTo>
                  <a:lnTo>
                    <a:pt x="164" y="1030"/>
                  </a:lnTo>
                  <a:lnTo>
                    <a:pt x="173" y="1032"/>
                  </a:lnTo>
                  <a:lnTo>
                    <a:pt x="4325" y="1032"/>
                  </a:lnTo>
                  <a:lnTo>
                    <a:pt x="4334" y="1030"/>
                  </a:lnTo>
                  <a:lnTo>
                    <a:pt x="4343" y="1030"/>
                  </a:lnTo>
                  <a:lnTo>
                    <a:pt x="4351" y="1029"/>
                  </a:lnTo>
                  <a:lnTo>
                    <a:pt x="4361" y="1028"/>
                  </a:lnTo>
                  <a:lnTo>
                    <a:pt x="4369" y="1026"/>
                  </a:lnTo>
                  <a:lnTo>
                    <a:pt x="4377" y="1024"/>
                  </a:lnTo>
                  <a:lnTo>
                    <a:pt x="4384" y="1021"/>
                  </a:lnTo>
                  <a:lnTo>
                    <a:pt x="4392" y="1018"/>
                  </a:lnTo>
                  <a:lnTo>
                    <a:pt x="4401" y="1014"/>
                  </a:lnTo>
                  <a:lnTo>
                    <a:pt x="4408" y="1010"/>
                  </a:lnTo>
                  <a:lnTo>
                    <a:pt x="4422" y="1002"/>
                  </a:lnTo>
                  <a:lnTo>
                    <a:pt x="4435" y="992"/>
                  </a:lnTo>
                  <a:lnTo>
                    <a:pt x="4448" y="981"/>
                  </a:lnTo>
                  <a:lnTo>
                    <a:pt x="4459" y="968"/>
                  </a:lnTo>
                  <a:lnTo>
                    <a:pt x="4469" y="955"/>
                  </a:lnTo>
                  <a:lnTo>
                    <a:pt x="4477" y="941"/>
                  </a:lnTo>
                  <a:lnTo>
                    <a:pt x="4481" y="934"/>
                  </a:lnTo>
                  <a:lnTo>
                    <a:pt x="4485" y="926"/>
                  </a:lnTo>
                  <a:lnTo>
                    <a:pt x="4488" y="919"/>
                  </a:lnTo>
                  <a:lnTo>
                    <a:pt x="4491" y="911"/>
                  </a:lnTo>
                  <a:lnTo>
                    <a:pt x="4492" y="902"/>
                  </a:lnTo>
                  <a:lnTo>
                    <a:pt x="4495" y="894"/>
                  </a:lnTo>
                  <a:lnTo>
                    <a:pt x="4496" y="886"/>
                  </a:lnTo>
                  <a:lnTo>
                    <a:pt x="4498" y="876"/>
                  </a:lnTo>
                  <a:lnTo>
                    <a:pt x="4498" y="868"/>
                  </a:lnTo>
                  <a:lnTo>
                    <a:pt x="4498" y="860"/>
                  </a:lnTo>
                  <a:lnTo>
                    <a:pt x="4498" y="172"/>
                  </a:lnTo>
                  <a:lnTo>
                    <a:pt x="4498" y="162"/>
                  </a:lnTo>
                  <a:lnTo>
                    <a:pt x="4498" y="154"/>
                  </a:lnTo>
                  <a:lnTo>
                    <a:pt x="4496" y="144"/>
                  </a:lnTo>
                  <a:lnTo>
                    <a:pt x="4495" y="136"/>
                  </a:lnTo>
                  <a:lnTo>
                    <a:pt x="4492" y="128"/>
                  </a:lnTo>
                  <a:lnTo>
                    <a:pt x="4491" y="119"/>
                  </a:lnTo>
                  <a:lnTo>
                    <a:pt x="4488" y="113"/>
                  </a:lnTo>
                  <a:lnTo>
                    <a:pt x="4485" y="104"/>
                  </a:lnTo>
                  <a:lnTo>
                    <a:pt x="4481" y="96"/>
                  </a:lnTo>
                  <a:lnTo>
                    <a:pt x="4477" y="89"/>
                  </a:lnTo>
                  <a:lnTo>
                    <a:pt x="4469" y="75"/>
                  </a:lnTo>
                  <a:lnTo>
                    <a:pt x="4459" y="62"/>
                  </a:lnTo>
                  <a:lnTo>
                    <a:pt x="4448" y="49"/>
                  </a:lnTo>
                  <a:lnTo>
                    <a:pt x="4435" y="38"/>
                  </a:lnTo>
                  <a:lnTo>
                    <a:pt x="4422" y="29"/>
                  </a:lnTo>
                  <a:lnTo>
                    <a:pt x="4408" y="20"/>
                  </a:lnTo>
                  <a:lnTo>
                    <a:pt x="4401" y="16"/>
                  </a:lnTo>
                  <a:lnTo>
                    <a:pt x="4392" y="12"/>
                  </a:lnTo>
                  <a:lnTo>
                    <a:pt x="4384" y="9"/>
                  </a:lnTo>
                  <a:lnTo>
                    <a:pt x="4377" y="7"/>
                  </a:lnTo>
                  <a:lnTo>
                    <a:pt x="4369" y="4"/>
                  </a:lnTo>
                  <a:lnTo>
                    <a:pt x="4361" y="3"/>
                  </a:lnTo>
                  <a:lnTo>
                    <a:pt x="4351" y="1"/>
                  </a:lnTo>
                  <a:lnTo>
                    <a:pt x="4343" y="0"/>
                  </a:lnTo>
                  <a:lnTo>
                    <a:pt x="4334" y="0"/>
                  </a:lnTo>
                  <a:lnTo>
                    <a:pt x="4325" y="0"/>
                  </a:lnTo>
                  <a:lnTo>
                    <a:pt x="173" y="0"/>
                  </a:lnTo>
                </a:path>
              </a:pathLst>
            </a:cu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83680" y="5371200"/>
              <a:ext cx="1542600" cy="86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83680" y="5371200"/>
              <a:ext cx="1542600" cy="867240"/>
            </a:xfrm>
            <a:prstGeom prst="rect">
              <a:avLst/>
            </a:prstGeom>
            <a:noFill/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62840" y="5451840"/>
              <a:ext cx="630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81760" y="5633280"/>
              <a:ext cx="101664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ignific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10120" y="5820480"/>
              <a:ext cx="8661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atch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76280" y="5820480"/>
              <a:ext cx="24012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94360" y="6004080"/>
              <a:ext cx="990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67400" y="4489560"/>
              <a:ext cx="1236600" cy="575640"/>
            </a:xfrm>
            <a:custGeom>
              <a:avLst/>
              <a:gdLst/>
              <a:ahLst/>
              <a:rect l="l" t="t" r="r" b="b"/>
              <a:pathLst>
                <a:path w="665" h="431">
                  <a:moveTo>
                    <a:pt x="332" y="0"/>
                  </a:moveTo>
                  <a:lnTo>
                    <a:pt x="315" y="0"/>
                  </a:lnTo>
                  <a:lnTo>
                    <a:pt x="299" y="0"/>
                  </a:lnTo>
                  <a:lnTo>
                    <a:pt x="282" y="2"/>
                  </a:lnTo>
                  <a:lnTo>
                    <a:pt x="265" y="5"/>
                  </a:lnTo>
                  <a:lnTo>
                    <a:pt x="249" y="6"/>
                  </a:lnTo>
                  <a:lnTo>
                    <a:pt x="233" y="10"/>
                  </a:lnTo>
                  <a:lnTo>
                    <a:pt x="217" y="13"/>
                  </a:lnTo>
                  <a:lnTo>
                    <a:pt x="202" y="17"/>
                  </a:lnTo>
                  <a:lnTo>
                    <a:pt x="188" y="21"/>
                  </a:lnTo>
                  <a:lnTo>
                    <a:pt x="173" y="25"/>
                  </a:lnTo>
                  <a:lnTo>
                    <a:pt x="159" y="31"/>
                  </a:lnTo>
                  <a:lnTo>
                    <a:pt x="146" y="36"/>
                  </a:lnTo>
                  <a:lnTo>
                    <a:pt x="132" y="43"/>
                  </a:lnTo>
                  <a:lnTo>
                    <a:pt x="120" y="49"/>
                  </a:lnTo>
                  <a:lnTo>
                    <a:pt x="108" y="55"/>
                  </a:lnTo>
                  <a:lnTo>
                    <a:pt x="96" y="62"/>
                  </a:lnTo>
                  <a:lnTo>
                    <a:pt x="85" y="71"/>
                  </a:lnTo>
                  <a:lnTo>
                    <a:pt x="74" y="79"/>
                  </a:lnTo>
                  <a:lnTo>
                    <a:pt x="65" y="87"/>
                  </a:lnTo>
                  <a:lnTo>
                    <a:pt x="56" y="95"/>
                  </a:lnTo>
                  <a:lnTo>
                    <a:pt x="47" y="104"/>
                  </a:lnTo>
                  <a:lnTo>
                    <a:pt x="40" y="113"/>
                  </a:lnTo>
                  <a:lnTo>
                    <a:pt x="31" y="121"/>
                  </a:lnTo>
                  <a:lnTo>
                    <a:pt x="24" y="131"/>
                  </a:lnTo>
                  <a:lnTo>
                    <a:pt x="19" y="141"/>
                  </a:lnTo>
                  <a:lnTo>
                    <a:pt x="13" y="152"/>
                  </a:lnTo>
                  <a:lnTo>
                    <a:pt x="9" y="161"/>
                  </a:lnTo>
                  <a:lnTo>
                    <a:pt x="5" y="172"/>
                  </a:lnTo>
                  <a:lnTo>
                    <a:pt x="2" y="182"/>
                  </a:lnTo>
                  <a:lnTo>
                    <a:pt x="1" y="193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0" y="226"/>
                  </a:lnTo>
                  <a:lnTo>
                    <a:pt x="1" y="237"/>
                  </a:lnTo>
                  <a:lnTo>
                    <a:pt x="2" y="248"/>
                  </a:lnTo>
                  <a:lnTo>
                    <a:pt x="5" y="259"/>
                  </a:lnTo>
                  <a:lnTo>
                    <a:pt x="9" y="270"/>
                  </a:lnTo>
                  <a:lnTo>
                    <a:pt x="13" y="280"/>
                  </a:lnTo>
                  <a:lnTo>
                    <a:pt x="19" y="289"/>
                  </a:lnTo>
                  <a:lnTo>
                    <a:pt x="24" y="299"/>
                  </a:lnTo>
                  <a:lnTo>
                    <a:pt x="31" y="309"/>
                  </a:lnTo>
                  <a:lnTo>
                    <a:pt x="40" y="318"/>
                  </a:lnTo>
                  <a:lnTo>
                    <a:pt x="47" y="328"/>
                  </a:lnTo>
                  <a:lnTo>
                    <a:pt x="56" y="336"/>
                  </a:lnTo>
                  <a:lnTo>
                    <a:pt x="65" y="344"/>
                  </a:lnTo>
                  <a:lnTo>
                    <a:pt x="74" y="353"/>
                  </a:lnTo>
                  <a:lnTo>
                    <a:pt x="85" y="361"/>
                  </a:lnTo>
                  <a:lnTo>
                    <a:pt x="96" y="368"/>
                  </a:lnTo>
                  <a:lnTo>
                    <a:pt x="108" y="375"/>
                  </a:lnTo>
                  <a:lnTo>
                    <a:pt x="120" y="382"/>
                  </a:lnTo>
                  <a:lnTo>
                    <a:pt x="132" y="388"/>
                  </a:lnTo>
                  <a:lnTo>
                    <a:pt x="146" y="394"/>
                  </a:lnTo>
                  <a:lnTo>
                    <a:pt x="159" y="399"/>
                  </a:lnTo>
                  <a:lnTo>
                    <a:pt x="173" y="405"/>
                  </a:lnTo>
                  <a:lnTo>
                    <a:pt x="188" y="410"/>
                  </a:lnTo>
                  <a:lnTo>
                    <a:pt x="202" y="415"/>
                  </a:lnTo>
                  <a:lnTo>
                    <a:pt x="217" y="419"/>
                  </a:lnTo>
                  <a:lnTo>
                    <a:pt x="233" y="421"/>
                  </a:lnTo>
                  <a:lnTo>
                    <a:pt x="249" y="424"/>
                  </a:lnTo>
                  <a:lnTo>
                    <a:pt x="265" y="427"/>
                  </a:lnTo>
                  <a:lnTo>
                    <a:pt x="281" y="428"/>
                  </a:lnTo>
                  <a:lnTo>
                    <a:pt x="299" y="430"/>
                  </a:lnTo>
                  <a:lnTo>
                    <a:pt x="315" y="431"/>
                  </a:lnTo>
                  <a:lnTo>
                    <a:pt x="332" y="431"/>
                  </a:lnTo>
                  <a:lnTo>
                    <a:pt x="350" y="431"/>
                  </a:lnTo>
                  <a:lnTo>
                    <a:pt x="366" y="430"/>
                  </a:lnTo>
                  <a:lnTo>
                    <a:pt x="383" y="428"/>
                  </a:lnTo>
                  <a:lnTo>
                    <a:pt x="400" y="427"/>
                  </a:lnTo>
                  <a:lnTo>
                    <a:pt x="415" y="424"/>
                  </a:lnTo>
                  <a:lnTo>
                    <a:pt x="431" y="421"/>
                  </a:lnTo>
                  <a:lnTo>
                    <a:pt x="447" y="419"/>
                  </a:lnTo>
                  <a:lnTo>
                    <a:pt x="462" y="415"/>
                  </a:lnTo>
                  <a:lnTo>
                    <a:pt x="476" y="410"/>
                  </a:lnTo>
                  <a:lnTo>
                    <a:pt x="491" y="405"/>
                  </a:lnTo>
                  <a:lnTo>
                    <a:pt x="505" y="399"/>
                  </a:lnTo>
                  <a:lnTo>
                    <a:pt x="519" y="394"/>
                  </a:lnTo>
                  <a:lnTo>
                    <a:pt x="531" y="388"/>
                  </a:lnTo>
                  <a:lnTo>
                    <a:pt x="543" y="382"/>
                  </a:lnTo>
                  <a:lnTo>
                    <a:pt x="556" y="375"/>
                  </a:lnTo>
                  <a:lnTo>
                    <a:pt x="567" y="368"/>
                  </a:lnTo>
                  <a:lnTo>
                    <a:pt x="578" y="361"/>
                  </a:lnTo>
                  <a:lnTo>
                    <a:pt x="589" y="353"/>
                  </a:lnTo>
                  <a:lnTo>
                    <a:pt x="599" y="344"/>
                  </a:lnTo>
                  <a:lnTo>
                    <a:pt x="609" y="336"/>
                  </a:lnTo>
                  <a:lnTo>
                    <a:pt x="617" y="328"/>
                  </a:lnTo>
                  <a:lnTo>
                    <a:pt x="625" y="318"/>
                  </a:lnTo>
                  <a:lnTo>
                    <a:pt x="632" y="309"/>
                  </a:lnTo>
                  <a:lnTo>
                    <a:pt x="639" y="299"/>
                  </a:lnTo>
                  <a:lnTo>
                    <a:pt x="645" y="289"/>
                  </a:lnTo>
                  <a:lnTo>
                    <a:pt x="650" y="280"/>
                  </a:lnTo>
                  <a:lnTo>
                    <a:pt x="654" y="270"/>
                  </a:lnTo>
                  <a:lnTo>
                    <a:pt x="658" y="259"/>
                  </a:lnTo>
                  <a:lnTo>
                    <a:pt x="661" y="248"/>
                  </a:lnTo>
                  <a:lnTo>
                    <a:pt x="664" y="237"/>
                  </a:lnTo>
                  <a:lnTo>
                    <a:pt x="664" y="226"/>
                  </a:lnTo>
                  <a:lnTo>
                    <a:pt x="665" y="215"/>
                  </a:lnTo>
                  <a:lnTo>
                    <a:pt x="664" y="204"/>
                  </a:lnTo>
                  <a:lnTo>
                    <a:pt x="664" y="193"/>
                  </a:lnTo>
                  <a:lnTo>
                    <a:pt x="661" y="183"/>
                  </a:lnTo>
                  <a:lnTo>
                    <a:pt x="658" y="172"/>
                  </a:lnTo>
                  <a:lnTo>
                    <a:pt x="654" y="161"/>
                  </a:lnTo>
                  <a:lnTo>
                    <a:pt x="650" y="152"/>
                  </a:lnTo>
                  <a:lnTo>
                    <a:pt x="645" y="141"/>
                  </a:lnTo>
                  <a:lnTo>
                    <a:pt x="639" y="131"/>
                  </a:lnTo>
                  <a:lnTo>
                    <a:pt x="632" y="121"/>
                  </a:lnTo>
                  <a:lnTo>
                    <a:pt x="625" y="113"/>
                  </a:lnTo>
                  <a:lnTo>
                    <a:pt x="617" y="104"/>
                  </a:lnTo>
                  <a:lnTo>
                    <a:pt x="609" y="95"/>
                  </a:lnTo>
                  <a:lnTo>
                    <a:pt x="599" y="87"/>
                  </a:lnTo>
                  <a:lnTo>
                    <a:pt x="589" y="79"/>
                  </a:lnTo>
                  <a:lnTo>
                    <a:pt x="578" y="71"/>
                  </a:lnTo>
                  <a:lnTo>
                    <a:pt x="567" y="62"/>
                  </a:lnTo>
                  <a:lnTo>
                    <a:pt x="556" y="55"/>
                  </a:lnTo>
                  <a:lnTo>
                    <a:pt x="543" y="49"/>
                  </a:lnTo>
                  <a:lnTo>
                    <a:pt x="531" y="43"/>
                  </a:lnTo>
                  <a:lnTo>
                    <a:pt x="519" y="36"/>
                  </a:lnTo>
                  <a:lnTo>
                    <a:pt x="505" y="31"/>
                  </a:lnTo>
                  <a:lnTo>
                    <a:pt x="491" y="25"/>
                  </a:lnTo>
                  <a:lnTo>
                    <a:pt x="476" y="21"/>
                  </a:lnTo>
                  <a:lnTo>
                    <a:pt x="462" y="17"/>
                  </a:lnTo>
                  <a:lnTo>
                    <a:pt x="447" y="13"/>
                  </a:lnTo>
                  <a:lnTo>
                    <a:pt x="431" y="10"/>
                  </a:lnTo>
                  <a:lnTo>
                    <a:pt x="415" y="6"/>
                  </a:lnTo>
                  <a:lnTo>
                    <a:pt x="400" y="5"/>
                  </a:lnTo>
                  <a:lnTo>
                    <a:pt x="383" y="2"/>
                  </a:lnTo>
                  <a:lnTo>
                    <a:pt x="366" y="0"/>
                  </a:lnTo>
                  <a:lnTo>
                    <a:pt x="350" y="0"/>
                  </a:lnTo>
                  <a:lnTo>
                    <a:pt x="332" y="0"/>
                  </a:lnTo>
                </a:path>
              </a:pathLst>
            </a:cu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99680" y="4650480"/>
              <a:ext cx="572040" cy="1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rotei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90320" y="4811400"/>
              <a:ext cx="59112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od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12200" y="5371200"/>
              <a:ext cx="1418760" cy="87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12200" y="5371200"/>
              <a:ext cx="1418760" cy="870840"/>
            </a:xfrm>
            <a:prstGeom prst="rect">
              <a:avLst/>
            </a:prstGeom>
            <a:noFill/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84880" y="5451840"/>
              <a:ext cx="5079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l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63120" y="5633280"/>
              <a:ext cx="98100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31080" y="5820480"/>
              <a:ext cx="4086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wi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68840" y="5820480"/>
              <a:ext cx="5691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09200" y="6004080"/>
              <a:ext cx="8737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0760" y="5464440"/>
              <a:ext cx="1416960" cy="68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0760" y="5464440"/>
              <a:ext cx="1416960" cy="684720"/>
            </a:xfrm>
            <a:prstGeom prst="rect">
              <a:avLst/>
            </a:prstGeom>
            <a:noFill/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7840" y="5541480"/>
              <a:ext cx="71640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2600" y="5541480"/>
              <a:ext cx="25668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4880" y="5727600"/>
              <a:ext cx="6872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el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5160" y="5910120"/>
              <a:ext cx="109728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quen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03840" y="5555160"/>
              <a:ext cx="1170720" cy="5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03840" y="5555160"/>
              <a:ext cx="1170720" cy="501840"/>
            </a:xfrm>
            <a:prstGeom prst="rect">
              <a:avLst/>
            </a:prstGeom>
            <a:noFill/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52680" y="5633280"/>
              <a:ext cx="5065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Bui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97240" y="5820480"/>
              <a:ext cx="62604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29520" y="5555160"/>
              <a:ext cx="1287360" cy="5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29520" y="5555160"/>
              <a:ext cx="1287360" cy="501840"/>
            </a:xfrm>
            <a:prstGeom prst="rect">
              <a:avLst/>
            </a:prstGeom>
            <a:noFill/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60640" y="5633280"/>
              <a:ext cx="86436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81600" y="5820480"/>
              <a:ext cx="6228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17280" y="5760360"/>
              <a:ext cx="266400" cy="92520"/>
            </a:xfrm>
            <a:custGeom>
              <a:avLst/>
              <a:gdLst/>
              <a:ahLst/>
              <a:rect l="l" t="t" r="r" b="b"/>
              <a:pathLst>
                <a:path w="143" h="69">
                  <a:moveTo>
                    <a:pt x="4" y="30"/>
                  </a:moveTo>
                  <a:lnTo>
                    <a:pt x="85" y="30"/>
                  </a:lnTo>
                  <a:lnTo>
                    <a:pt x="87" y="30"/>
                  </a:lnTo>
                  <a:lnTo>
                    <a:pt x="89" y="32"/>
                  </a:lnTo>
                  <a:lnTo>
                    <a:pt x="89" y="33"/>
                  </a:lnTo>
                  <a:lnTo>
                    <a:pt x="90" y="35"/>
                  </a:lnTo>
                  <a:lnTo>
                    <a:pt x="89" y="36"/>
                  </a:lnTo>
                  <a:lnTo>
                    <a:pt x="89" y="37"/>
                  </a:lnTo>
                  <a:lnTo>
                    <a:pt x="87" y="39"/>
                  </a:lnTo>
                  <a:lnTo>
                    <a:pt x="85" y="39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30"/>
                  </a:lnTo>
                  <a:close/>
                  <a:moveTo>
                    <a:pt x="74" y="0"/>
                  </a:moveTo>
                  <a:lnTo>
                    <a:pt x="143" y="35"/>
                  </a:lnTo>
                  <a:lnTo>
                    <a:pt x="74" y="6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21600" y="5760360"/>
              <a:ext cx="390240" cy="92520"/>
            </a:xfrm>
            <a:custGeom>
              <a:avLst/>
              <a:gdLst/>
              <a:ahLst/>
              <a:rect l="l" t="t" r="r" b="b"/>
              <a:pathLst>
                <a:path w="212" h="69">
                  <a:moveTo>
                    <a:pt x="4" y="30"/>
                  </a:moveTo>
                  <a:lnTo>
                    <a:pt x="154" y="30"/>
                  </a:lnTo>
                  <a:lnTo>
                    <a:pt x="156" y="30"/>
                  </a:lnTo>
                  <a:lnTo>
                    <a:pt x="158" y="32"/>
                  </a:lnTo>
                  <a:lnTo>
                    <a:pt x="158" y="33"/>
                  </a:lnTo>
                  <a:lnTo>
                    <a:pt x="159" y="35"/>
                  </a:lnTo>
                  <a:lnTo>
                    <a:pt x="158" y="36"/>
                  </a:lnTo>
                  <a:lnTo>
                    <a:pt x="158" y="37"/>
                  </a:lnTo>
                  <a:lnTo>
                    <a:pt x="156" y="39"/>
                  </a:lnTo>
                  <a:lnTo>
                    <a:pt x="154" y="39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2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30"/>
                  </a:lnTo>
                  <a:close/>
                  <a:moveTo>
                    <a:pt x="143" y="0"/>
                  </a:moveTo>
                  <a:lnTo>
                    <a:pt x="212" y="35"/>
                  </a:lnTo>
                  <a:lnTo>
                    <a:pt x="143" y="69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20520" y="5760360"/>
              <a:ext cx="264600" cy="92520"/>
            </a:xfrm>
            <a:custGeom>
              <a:avLst/>
              <a:gdLst/>
              <a:ahLst/>
              <a:rect l="l" t="t" r="r" b="b"/>
              <a:pathLst>
                <a:path w="142" h="69">
                  <a:moveTo>
                    <a:pt x="4" y="30"/>
                  </a:moveTo>
                  <a:lnTo>
                    <a:pt x="84" y="30"/>
                  </a:lnTo>
                  <a:lnTo>
                    <a:pt x="87" y="30"/>
                  </a:lnTo>
                  <a:lnTo>
                    <a:pt x="88" y="32"/>
                  </a:lnTo>
                  <a:lnTo>
                    <a:pt x="88" y="33"/>
                  </a:lnTo>
                  <a:lnTo>
                    <a:pt x="90" y="35"/>
                  </a:lnTo>
                  <a:lnTo>
                    <a:pt x="88" y="36"/>
                  </a:lnTo>
                  <a:lnTo>
                    <a:pt x="88" y="37"/>
                  </a:lnTo>
                  <a:lnTo>
                    <a:pt x="87" y="39"/>
                  </a:lnTo>
                  <a:lnTo>
                    <a:pt x="84" y="39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2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30"/>
                  </a:lnTo>
                  <a:close/>
                  <a:moveTo>
                    <a:pt x="73" y="0"/>
                  </a:moveTo>
                  <a:lnTo>
                    <a:pt x="142" y="35"/>
                  </a:lnTo>
                  <a:lnTo>
                    <a:pt x="73" y="6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37840" y="5760360"/>
              <a:ext cx="391680" cy="92520"/>
            </a:xfrm>
            <a:custGeom>
              <a:avLst/>
              <a:gdLst/>
              <a:ahLst/>
              <a:rect l="l" t="t" r="r" b="b"/>
              <a:pathLst>
                <a:path w="212" h="69">
                  <a:moveTo>
                    <a:pt x="4" y="30"/>
                  </a:moveTo>
                  <a:lnTo>
                    <a:pt x="154" y="30"/>
                  </a:lnTo>
                  <a:lnTo>
                    <a:pt x="156" y="30"/>
                  </a:lnTo>
                  <a:lnTo>
                    <a:pt x="158" y="32"/>
                  </a:lnTo>
                  <a:lnTo>
                    <a:pt x="158" y="33"/>
                  </a:lnTo>
                  <a:lnTo>
                    <a:pt x="159" y="35"/>
                  </a:lnTo>
                  <a:lnTo>
                    <a:pt x="158" y="36"/>
                  </a:lnTo>
                  <a:lnTo>
                    <a:pt x="158" y="37"/>
                  </a:lnTo>
                  <a:lnTo>
                    <a:pt x="156" y="39"/>
                  </a:lnTo>
                  <a:lnTo>
                    <a:pt x="154" y="39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2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30"/>
                  </a:lnTo>
                  <a:close/>
                  <a:moveTo>
                    <a:pt x="143" y="0"/>
                  </a:moveTo>
                  <a:lnTo>
                    <a:pt x="212" y="35"/>
                  </a:lnTo>
                  <a:lnTo>
                    <a:pt x="143" y="69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56600" y="4949640"/>
              <a:ext cx="125280" cy="469440"/>
            </a:xfrm>
            <a:custGeom>
              <a:avLst/>
              <a:gdLst/>
              <a:ahLst/>
              <a:rect l="l" t="t" r="r" b="b"/>
              <a:pathLst>
                <a:path w="69" h="349">
                  <a:moveTo>
                    <a:pt x="39" y="5"/>
                  </a:moveTo>
                  <a:lnTo>
                    <a:pt x="39" y="291"/>
                  </a:lnTo>
                  <a:lnTo>
                    <a:pt x="39" y="293"/>
                  </a:lnTo>
                  <a:lnTo>
                    <a:pt x="38" y="294"/>
                  </a:lnTo>
                  <a:lnTo>
                    <a:pt x="36" y="295"/>
                  </a:lnTo>
                  <a:lnTo>
                    <a:pt x="35" y="295"/>
                  </a:lnTo>
                  <a:lnTo>
                    <a:pt x="33" y="295"/>
                  </a:lnTo>
                  <a:lnTo>
                    <a:pt x="32" y="294"/>
                  </a:lnTo>
                  <a:lnTo>
                    <a:pt x="31" y="293"/>
                  </a:lnTo>
                  <a:lnTo>
                    <a:pt x="31" y="291"/>
                  </a:lnTo>
                  <a:lnTo>
                    <a:pt x="31" y="5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39" y="2"/>
                  </a:lnTo>
                  <a:lnTo>
                    <a:pt x="39" y="5"/>
                  </a:lnTo>
                  <a:lnTo>
                    <a:pt x="39" y="5"/>
                  </a:lnTo>
                  <a:close/>
                  <a:moveTo>
                    <a:pt x="69" y="280"/>
                  </a:moveTo>
                  <a:lnTo>
                    <a:pt x="35" y="349"/>
                  </a:lnTo>
                  <a:lnTo>
                    <a:pt x="0" y="280"/>
                  </a:lnTo>
                  <a:lnTo>
                    <a:pt x="69" y="28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7906320" y="5131440"/>
              <a:ext cx="131400" cy="466920"/>
            </a:xfrm>
            <a:custGeom>
              <a:avLst/>
              <a:gdLst/>
              <a:ahLst/>
              <a:rect l="l" t="t" r="r" b="b"/>
              <a:pathLst>
                <a:path w="69" h="349">
                  <a:moveTo>
                    <a:pt x="39" y="5"/>
                  </a:moveTo>
                  <a:lnTo>
                    <a:pt x="39" y="291"/>
                  </a:lnTo>
                  <a:lnTo>
                    <a:pt x="39" y="293"/>
                  </a:lnTo>
                  <a:lnTo>
                    <a:pt x="38" y="294"/>
                  </a:lnTo>
                  <a:lnTo>
                    <a:pt x="36" y="295"/>
                  </a:lnTo>
                  <a:lnTo>
                    <a:pt x="35" y="295"/>
                  </a:lnTo>
                  <a:lnTo>
                    <a:pt x="33" y="295"/>
                  </a:lnTo>
                  <a:lnTo>
                    <a:pt x="32" y="294"/>
                  </a:lnTo>
                  <a:lnTo>
                    <a:pt x="31" y="293"/>
                  </a:lnTo>
                  <a:lnTo>
                    <a:pt x="31" y="291"/>
                  </a:lnTo>
                  <a:lnTo>
                    <a:pt x="31" y="5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39" y="2"/>
                  </a:lnTo>
                  <a:lnTo>
                    <a:pt x="39" y="5"/>
                  </a:lnTo>
                  <a:lnTo>
                    <a:pt x="39" y="5"/>
                  </a:lnTo>
                  <a:close/>
                  <a:moveTo>
                    <a:pt x="69" y="280"/>
                  </a:moveTo>
                  <a:lnTo>
                    <a:pt x="35" y="349"/>
                  </a:lnTo>
                  <a:lnTo>
                    <a:pt x="0" y="280"/>
                  </a:lnTo>
                  <a:lnTo>
                    <a:pt x="69" y="280"/>
                  </a:lnTo>
                  <a:close/>
                </a:path>
              </a:pathLst>
            </a:custGeom>
            <a:solidFill>
              <a:srgbClr val="000000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67640" y="3147840"/>
            <a:ext cx="1476360" cy="1360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211640" y="4653000"/>
            <a:ext cx="3456000" cy="936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xperimentos Cient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omic Sans MS"/>
              </a:rPr>
              <a:t>Ciclo de Vida de um Exper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16360" y="189000"/>
            <a:ext cx="577044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1989000"/>
            <a:ext cx="4734000" cy="2675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37440" y="2009880"/>
            <a:ext cx="7308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023240" y="3732120"/>
            <a:ext cx="71280" cy="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438440" y="4521240"/>
            <a:ext cx="1443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2473200"/>
            <a:ext cx="2660760" cy="1136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cobrir experimentos e reutilizá-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3933720"/>
            <a:ext cx="3097080" cy="12240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ados de Proveniência e resultados do Experimento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3862440"/>
            <a:ext cx="2449440" cy="9651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artilhar Resultados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80000" y="1773360"/>
            <a:ext cx="2448000" cy="8636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ersonaliz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1630440"/>
            <a:ext cx="2428920" cy="7923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riando o Experimento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56360" y="2925720"/>
            <a:ext cx="2232000" cy="10080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xecução e Monitor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120" y="54450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nte: myGrid (U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81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yGRID - Linking objects to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924360" y="2708280"/>
            <a:ext cx="1463760" cy="216072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6300720" y="1268280"/>
            <a:ext cx="2519280" cy="1558800"/>
            <a:chOff x="6300720" y="1268280"/>
            <a:chExt cx="2519280" cy="155880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6300720" y="1268280"/>
              <a:ext cx="2016360" cy="14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362720" y="2093760"/>
              <a:ext cx="14572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venance record of workflow ru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696000" y="299736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enance of the workflow template. Related workflow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03280" y="1125360"/>
            <a:ext cx="2592360" cy="1079640"/>
            <a:chOff x="1403280" y="1125360"/>
            <a:chExt cx="2592360" cy="1079640"/>
          </a:xfrm>
        </p:grpSpPr>
        <p:sp>
          <p:nvSpPr>
            <p:cNvPr id="256" name=""/>
            <p:cNvSpPr/>
            <p:nvPr/>
          </p:nvSpPr>
          <p:spPr>
            <a:xfrm>
              <a:off x="2412720" y="1160280"/>
              <a:ext cx="1582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eople who wrote the work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1403280" y="1125360"/>
              <a:ext cx="10094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2627280" y="2708280"/>
            <a:ext cx="115272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363640" y="263700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435640" y="3357720"/>
            <a:ext cx="1297080" cy="14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443700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941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16000" y="4292640"/>
            <a:ext cx="115092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rcRect l="21950" t="7695" r="6507" b="49414"/>
          <a:stretch/>
        </p:blipFill>
        <p:spPr>
          <a:xfrm>
            <a:off x="6443640" y="4581360"/>
            <a:ext cx="1766880" cy="12448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rcRect l="26043" t="42542" r="58933" b="42319"/>
          <a:stretch/>
        </p:blipFill>
        <p:spPr>
          <a:xfrm>
            <a:off x="7885080" y="4660920"/>
            <a:ext cx="936720" cy="679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885080" y="5284800"/>
            <a:ext cx="125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tologies describing work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851280" y="5516640"/>
            <a:ext cx="2016000" cy="1078560"/>
            <a:chOff x="3851280" y="5516640"/>
            <a:chExt cx="2016000" cy="1078560"/>
          </a:xfrm>
        </p:grpSpPr>
        <p:pic>
          <p:nvPicPr>
            <p:cNvPr id="268" name="" descr=""/>
            <p:cNvPicPr/>
            <p:nvPr/>
          </p:nvPicPr>
          <p:blipFill>
            <a:blip r:embed="rId6"/>
            <a:stretch/>
          </p:blipFill>
          <p:spPr>
            <a:xfrm>
              <a:off x="4932360" y="5734080"/>
              <a:ext cx="863640" cy="8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7"/>
            <a:stretch/>
          </p:blipFill>
          <p:spPr>
            <a:xfrm>
              <a:off x="3851280" y="5589720"/>
              <a:ext cx="86364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8"/>
            <a:stretch/>
          </p:blipFill>
          <p:spPr>
            <a:xfrm>
              <a:off x="4788000" y="5516640"/>
              <a:ext cx="107928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209120" y="6288120"/>
              <a:ext cx="130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rvices us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84360" y="3500280"/>
            <a:ext cx="1636200" cy="1439640"/>
            <a:chOff x="684360" y="3500280"/>
            <a:chExt cx="1636200" cy="1439640"/>
          </a:xfrm>
        </p:grpSpPr>
        <p:pic>
          <p:nvPicPr>
            <p:cNvPr id="273" name="" descr=""/>
            <p:cNvPicPr/>
            <p:nvPr/>
          </p:nvPicPr>
          <p:blipFill>
            <a:blip r:embed="rId9"/>
            <a:srcRect l="13836" t="12363" r="46307" b="9371"/>
            <a:stretch/>
          </p:blipFill>
          <p:spPr>
            <a:xfrm>
              <a:off x="684360" y="3500280"/>
              <a:ext cx="9842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673640" y="38588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o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flipV="1">
            <a:off x="4284720" y="2349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39640" y="5013360"/>
            <a:ext cx="2710080" cy="1589040"/>
            <a:chOff x="539640" y="5013360"/>
            <a:chExt cx="2710080" cy="1589040"/>
          </a:xfrm>
        </p:grpSpPr>
        <p:sp>
          <p:nvSpPr>
            <p:cNvPr id="277" name=""/>
            <p:cNvSpPr/>
            <p:nvPr/>
          </p:nvSpPr>
          <p:spPr>
            <a:xfrm>
              <a:off x="1977840" y="5013360"/>
              <a:ext cx="127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ata hold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10"/>
            <a:stretch/>
          </p:blipFill>
          <p:spPr>
            <a:xfrm>
              <a:off x="539640" y="5229360"/>
              <a:ext cx="16560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11"/>
            <a:stretch/>
          </p:blipFill>
          <p:spPr>
            <a:xfrm>
              <a:off x="1547640" y="5516640"/>
              <a:ext cx="1416240" cy="108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3848040" y="1268280"/>
            <a:ext cx="1660680" cy="1152000"/>
            <a:chOff x="3848040" y="1268280"/>
            <a:chExt cx="1660680" cy="1152000"/>
          </a:xfrm>
        </p:grpSpPr>
        <p:grpSp>
          <p:nvGrpSpPr>
            <p:cNvPr id="281" name=""/>
            <p:cNvGrpSpPr/>
            <p:nvPr/>
          </p:nvGrpSpPr>
          <p:grpSpPr>
            <a:xfrm>
              <a:off x="3848040" y="1599480"/>
              <a:ext cx="1348200" cy="820800"/>
              <a:chOff x="3848040" y="1599480"/>
              <a:chExt cx="1348200" cy="820800"/>
            </a:xfrm>
          </p:grpSpPr>
          <p:sp>
            <p:nvSpPr>
              <p:cNvPr id="282" name=""/>
              <p:cNvSpPr/>
              <p:nvPr/>
            </p:nvSpPr>
            <p:spPr>
              <a:xfrm>
                <a:off x="4008240" y="1900080"/>
                <a:ext cx="1188000" cy="520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Literatu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48040" y="1599480"/>
                <a:ext cx="604080" cy="589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4" name="" descr=""/>
            <p:cNvPicPr/>
            <p:nvPr/>
          </p:nvPicPr>
          <p:blipFill>
            <a:blip r:embed="rId13"/>
            <a:srcRect l="26000" t="12502" r="27002" b="4167"/>
            <a:stretch/>
          </p:blipFill>
          <p:spPr>
            <a:xfrm>
              <a:off x="4883760" y="1268280"/>
              <a:ext cx="624960" cy="63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 flipV="1">
            <a:off x="2268360" y="3573360"/>
            <a:ext cx="158292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4"/>
          <a:stretch/>
        </p:blipFill>
        <p:spPr>
          <a:xfrm>
            <a:off x="8244000" y="3284640"/>
            <a:ext cx="635040" cy="936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5"/>
          <a:stretch/>
        </p:blipFill>
        <p:spPr>
          <a:xfrm>
            <a:off x="324000" y="2205000"/>
            <a:ext cx="1368360" cy="9860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333440" y="2384280"/>
            <a:ext cx="158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ople to notify of the workflow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ência em Larga Esc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os Científicos precisam ser gerenciados e monito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ão do conheciment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ência de experimen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adoria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148360" y="4149720"/>
            <a:ext cx="3600000" cy="2461680"/>
            <a:chOff x="5148360" y="4149720"/>
            <a:chExt cx="3600000" cy="246168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6663240" y="4860360"/>
              <a:ext cx="615960" cy="9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3" name=""/>
            <p:cNvGrpSpPr/>
            <p:nvPr/>
          </p:nvGrpSpPr>
          <p:grpSpPr>
            <a:xfrm>
              <a:off x="7664040" y="4213080"/>
              <a:ext cx="1059840" cy="674640"/>
              <a:chOff x="7664040" y="4213080"/>
              <a:chExt cx="1059840" cy="674640"/>
            </a:xfrm>
          </p:grpSpPr>
          <p:pic>
            <p:nvPicPr>
              <p:cNvPr id="29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64040" y="4213080"/>
                <a:ext cx="848160" cy="6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8111520" y="4583880"/>
                <a:ext cx="612360" cy="30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601960" y="4149720"/>
              <a:ext cx="1091160" cy="484920"/>
              <a:chOff x="5601960" y="4149720"/>
              <a:chExt cx="1091160" cy="484920"/>
            </a:xfrm>
          </p:grpSpPr>
          <p:sp>
            <p:nvSpPr>
              <p:cNvPr id="297" name=""/>
              <p:cNvSpPr/>
              <p:nvPr/>
            </p:nvSpPr>
            <p:spPr>
              <a:xfrm>
                <a:off x="6027480" y="4166640"/>
                <a:ext cx="665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01960" y="4149720"/>
                <a:ext cx="424800" cy="48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9" name=""/>
            <p:cNvSpPr/>
            <p:nvPr/>
          </p:nvSpPr>
          <p:spPr>
            <a:xfrm>
              <a:off x="6117480" y="4860360"/>
              <a:ext cx="4852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269120" y="4829040"/>
              <a:ext cx="36324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7299360" y="5153040"/>
              <a:ext cx="54540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99360" y="5639040"/>
              <a:ext cx="42336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96600" y="5865840"/>
              <a:ext cx="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238800" y="5573880"/>
              <a:ext cx="48420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4"/>
            <a:srcRect l="21950" t="7695" r="6507" b="49414"/>
            <a:stretch/>
          </p:blipFill>
          <p:spPr>
            <a:xfrm>
              <a:off x="7723080" y="5703840"/>
              <a:ext cx="743400" cy="5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5"/>
            <a:srcRect l="26043" t="42542" r="58933" b="42319"/>
            <a:stretch/>
          </p:blipFill>
          <p:spPr>
            <a:xfrm>
              <a:off x="8330400" y="5738760"/>
              <a:ext cx="393480" cy="30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"/>
            <p:cNvGrpSpPr/>
            <p:nvPr/>
          </p:nvGrpSpPr>
          <p:grpSpPr>
            <a:xfrm>
              <a:off x="5299920" y="5217480"/>
              <a:ext cx="571320" cy="647280"/>
              <a:chOff x="5299920" y="5217480"/>
              <a:chExt cx="571320" cy="647280"/>
            </a:xfrm>
          </p:grpSpPr>
          <p:pic>
            <p:nvPicPr>
              <p:cNvPr id="308" name="" descr=""/>
              <p:cNvPicPr/>
              <p:nvPr/>
            </p:nvPicPr>
            <p:blipFill>
              <a:blip r:embed="rId6"/>
              <a:srcRect l="13836" t="12363" r="46307" b="9371"/>
              <a:stretch/>
            </p:blipFill>
            <p:spPr>
              <a:xfrm>
                <a:off x="5299920" y="5217480"/>
                <a:ext cx="414360" cy="64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5686920" y="5378040"/>
                <a:ext cx="184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 flipV="1">
              <a:off x="6815160" y="4699440"/>
              <a:ext cx="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238720" y="5897160"/>
              <a:ext cx="1020600" cy="714240"/>
              <a:chOff x="5238720" y="5897160"/>
              <a:chExt cx="1020600" cy="714240"/>
            </a:xfrm>
          </p:grpSpPr>
          <p:sp>
            <p:nvSpPr>
              <p:cNvPr id="312" name=""/>
              <p:cNvSpPr/>
              <p:nvPr/>
            </p:nvSpPr>
            <p:spPr>
              <a:xfrm>
                <a:off x="5816160" y="5897160"/>
                <a:ext cx="184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38720" y="5994000"/>
                <a:ext cx="696960" cy="52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63160" y="6123240"/>
                <a:ext cx="596160" cy="488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5" name=""/>
            <p:cNvGrpSpPr/>
            <p:nvPr/>
          </p:nvGrpSpPr>
          <p:grpSpPr>
            <a:xfrm>
              <a:off x="6630840" y="4213080"/>
              <a:ext cx="698400" cy="592200"/>
              <a:chOff x="6630840" y="4213080"/>
              <a:chExt cx="698400" cy="5922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6630840" y="4361760"/>
                <a:ext cx="567720" cy="443520"/>
                <a:chOff x="6630840" y="4361760"/>
                <a:chExt cx="567720" cy="443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6697440" y="4498200"/>
                  <a:ext cx="5011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9898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630840" y="4361760"/>
                  <a:ext cx="254160" cy="26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19" name="" descr=""/>
              <p:cNvPicPr/>
              <p:nvPr/>
            </p:nvPicPr>
            <p:blipFill>
              <a:blip r:embed="rId10"/>
              <a:srcRect l="26000" t="12502" r="27002" b="4167"/>
              <a:stretch/>
            </p:blipFill>
            <p:spPr>
              <a:xfrm>
                <a:off x="7066440" y="4213080"/>
                <a:ext cx="2628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0" name=""/>
            <p:cNvSpPr/>
            <p:nvPr/>
          </p:nvSpPr>
          <p:spPr>
            <a:xfrm flipV="1">
              <a:off x="5966640" y="5249880"/>
              <a:ext cx="66636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11"/>
            <a:stretch/>
          </p:blipFill>
          <p:spPr>
            <a:xfrm>
              <a:off x="8481240" y="5119920"/>
              <a:ext cx="267120" cy="42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2"/>
            <a:stretch/>
          </p:blipFill>
          <p:spPr>
            <a:xfrm>
              <a:off x="5148360" y="4634640"/>
              <a:ext cx="575640" cy="44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01:30:57Z</dcterms:created>
  <dc:creator>MartaM</dc:creator>
  <dc:description/>
  <dc:language>en-US</dc:language>
  <cp:lastModifiedBy>MartaM</cp:lastModifiedBy>
  <dcterms:modified xsi:type="dcterms:W3CDTF">2006-05-08T11:37:57Z</dcterms:modified>
  <cp:revision>57</cp:revision>
  <dc:subject/>
  <dc:title>Grandes Desafios</dc:title>
</cp:coreProperties>
</file>