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7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C7FC-A2C4-4F69-B1C6-4B9088108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4971600"/>
            <a:ext cx="79246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560" y="5439600"/>
            <a:ext cx="79246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8B6D-25C6-40D8-A205-7C4A7C330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560" y="4971600"/>
            <a:ext cx="38671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65360" y="4971600"/>
            <a:ext cx="38671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560" y="5439600"/>
            <a:ext cx="38671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365360" y="5439600"/>
            <a:ext cx="38671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5B38-5142-46C4-A431-3AC400D61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560" y="4971600"/>
            <a:ext cx="25516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84040" y="4971600"/>
            <a:ext cx="25516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63880" y="4971600"/>
            <a:ext cx="25516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560" y="5439600"/>
            <a:ext cx="25516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84040" y="5439600"/>
            <a:ext cx="25516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63880" y="5439600"/>
            <a:ext cx="25516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55C8-DAF7-4BB5-9669-F4B0C18C8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DD546-9073-44C9-8276-05588EE7D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560" y="4971600"/>
            <a:ext cx="792468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BEB7C-2B2D-4F83-9DCA-42A959A98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4971600"/>
            <a:ext cx="79246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4E713-C56A-4A03-8BAD-9A8972AE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4971600"/>
            <a:ext cx="386712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5360" y="4971600"/>
            <a:ext cx="386712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5B241-FF2D-4378-B5DB-770DEC6FD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7FD03-DF01-4B27-BBFB-A4DD0A72E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560" y="4038120"/>
            <a:ext cx="7924680" cy="43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2EBE5-94A9-49E2-A394-42F6BCF4F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560" y="4971600"/>
            <a:ext cx="38671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365360" y="4971600"/>
            <a:ext cx="386712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560" y="5439600"/>
            <a:ext cx="38671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1517C-B2DD-472D-AFBA-19FE187F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560" y="4971600"/>
            <a:ext cx="792468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4DEF-B046-489A-A05C-50D6C0224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4971600"/>
            <a:ext cx="386712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365360" y="4971600"/>
            <a:ext cx="38671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365360" y="5439600"/>
            <a:ext cx="38671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57335-B2D2-46D9-89A1-906364CF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560" y="4971600"/>
            <a:ext cx="38671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65360" y="4971600"/>
            <a:ext cx="38671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560" y="5439600"/>
            <a:ext cx="79246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859BF-3241-490B-89BF-E9530F4D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560" y="4971600"/>
            <a:ext cx="79246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560" y="5439600"/>
            <a:ext cx="79246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2FF0D-8C8F-4AEA-A80B-B4083F938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560" y="4971600"/>
            <a:ext cx="38671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365360" y="4971600"/>
            <a:ext cx="38671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560" y="5439600"/>
            <a:ext cx="38671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365360" y="5439600"/>
            <a:ext cx="38671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59452-E37D-4A13-83FD-321428ACE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560" y="4971600"/>
            <a:ext cx="25516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984040" y="4971600"/>
            <a:ext cx="25516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63880" y="4971600"/>
            <a:ext cx="25516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560" y="5439600"/>
            <a:ext cx="25516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984040" y="5439600"/>
            <a:ext cx="25516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63880" y="5439600"/>
            <a:ext cx="25516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98527-693A-4602-BD1C-A8987E1D2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560" y="4971600"/>
            <a:ext cx="79246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45F1-D378-4E73-A46D-EE73E3116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560" y="4971600"/>
            <a:ext cx="386712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365360" y="4971600"/>
            <a:ext cx="386712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DE91-8AC4-4410-B2FB-7A2CB63CF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435E-FDD6-4796-B2D1-D0E47D4EF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560" y="4038120"/>
            <a:ext cx="7924680" cy="43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DE48-3AC0-47AB-8303-7B9AC5FFC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560" y="4971600"/>
            <a:ext cx="38671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65360" y="4971600"/>
            <a:ext cx="386712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560" y="5439600"/>
            <a:ext cx="38671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E1F9-7479-4F57-AA67-DB7A2C5A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560" y="4971600"/>
            <a:ext cx="386712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365360" y="4971600"/>
            <a:ext cx="38671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365360" y="5439600"/>
            <a:ext cx="38671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B57B-3B46-43AE-BCA2-FCBF282A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560" y="4971600"/>
            <a:ext cx="38671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5360" y="4971600"/>
            <a:ext cx="38671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560" y="5439600"/>
            <a:ext cx="79246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5BEA-9921-4E09-83BF-A69E7095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r>
              <a:rPr b="0" lang="pt-BR" sz="1400" spc="-1" strike="noStrike">
                <a:solidFill>
                  <a:srgbClr val="080808"/>
                </a:solidFill>
                <a:latin typeface="Times New Roman"/>
              </a:rPr>
              <a:t>P. Navaux – N. Maill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7184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B0E8C-47B9-4FE6-AA62-1A4FDC02C122}" type="slidenum">
              <a:rPr b="0" lang="en-US" sz="1400" spc="-1" strike="noStrike">
                <a:solidFill>
                  <a:srgbClr val="080808"/>
                </a:solidFill>
                <a:latin typeface="Times New Roman"/>
                <a:ea typeface="Arial"/>
              </a:rPr>
              <a:t>&lt;number&gt;</a:t>
            </a:fld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Arial"/>
              </a:rPr>
              <a:t>SBC / 08-09/05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143000" cy="8827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152280" y="6107040"/>
            <a:ext cx="1143000" cy="37008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228600" y="3733920"/>
            <a:ext cx="990720" cy="1218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5107A-9CF7-4293-A4BE-27B521B57D03}" type="slidenum">
              <a:rPr b="0" lang="en-US" sz="1400" spc="-1" strike="noStrike">
                <a:solidFill>
                  <a:srgbClr val="080808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560" y="4309560"/>
            <a:ext cx="88390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80808"/>
                </a:solidFill>
                <a:latin typeface="Tahoma"/>
              </a:rPr>
              <a:t>Novos rumos em programação </a:t>
            </a:r>
            <a:br>
              <a:rPr sz="2800"/>
            </a:br>
            <a:r>
              <a:rPr b="1" lang="pt-BR" sz="2800" spc="-1" strike="noStrike">
                <a:solidFill>
                  <a:srgbClr val="080808"/>
                </a:solidFill>
                <a:latin typeface="Tahoma"/>
              </a:rPr>
              <a:t>para a exploração de paralelismo multi-nível</a:t>
            </a:r>
            <a:br>
              <a:rPr sz="2800"/>
            </a:b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560" y="5352840"/>
            <a:ext cx="792468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80808"/>
                </a:solidFill>
                <a:latin typeface="Tahoma"/>
              </a:rPr>
              <a:t>P. Navaux – N. Maillard - UFRGS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924680" y="5060880"/>
            <a:ext cx="1143000" cy="882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304920" y="6335640"/>
            <a:ext cx="1143000" cy="3700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136520" y="457200"/>
            <a:ext cx="7790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SBC – Maio de 2006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DESAFIOS DA PESQUISA EM INFORMÁTICA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PARA OS PRÓXIMOS 10 ANO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80808"/>
                </a:solidFill>
                <a:latin typeface="Tahoma"/>
              </a:rPr>
              <a:t>Data Flow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80808"/>
                </a:solidFill>
                <a:latin typeface="Tahoma"/>
              </a:rPr>
              <a:t>A linguagem deve possibilitar a especificação: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80808"/>
                </a:solidFill>
                <a:latin typeface="Tahoma"/>
              </a:rPr>
              <a:t>da tarefa seqüencial (</a:t>
            </a:r>
            <a:r>
              <a:rPr b="0" lang="pt-BR" sz="2400" spc="-1" strike="noStrike">
                <a:solidFill>
                  <a:srgbClr val="ff0000"/>
                </a:solidFill>
                <a:latin typeface="Tahoma"/>
              </a:rPr>
              <a:t>fluxo de execução</a:t>
            </a:r>
            <a:r>
              <a:rPr b="0" lang="pt-BR" sz="2400" spc="-1" strike="noStrike">
                <a:solidFill>
                  <a:srgbClr val="080808"/>
                </a:solidFill>
                <a:latin typeface="Tahoma"/>
              </a:rPr>
              <a:t>) e de seu momento de criação/terminação, </a:t>
            </a:r>
            <a:br>
              <a:rPr sz="2400"/>
            </a:br>
            <a:r>
              <a:rPr b="0" lang="pt-BR" sz="2400" spc="-1" strike="noStrike">
                <a:solidFill>
                  <a:srgbClr val="080808"/>
                </a:solidFill>
                <a:latin typeface="Tahoma"/>
              </a:rPr>
              <a:t>através de um Spawn ou Fork...</a:t>
            </a:r>
            <a:br>
              <a:rPr sz="2400"/>
            </a:br>
            <a:r>
              <a:rPr b="0" lang="pt-BR" sz="24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80808"/>
                </a:solidFill>
                <a:latin typeface="Tahoma"/>
              </a:rPr>
              <a:t>do </a:t>
            </a:r>
            <a:r>
              <a:rPr b="0" lang="pt-BR" sz="2400" spc="-1" strike="noStrike">
                <a:solidFill>
                  <a:srgbClr val="ff0000"/>
                </a:solidFill>
                <a:latin typeface="Tahoma"/>
              </a:rPr>
              <a:t>fluxo de dados</a:t>
            </a:r>
            <a:r>
              <a:rPr b="0" lang="pt-BR" sz="2400" spc="-1" strike="noStrike">
                <a:solidFill>
                  <a:srgbClr val="080808"/>
                </a:solidFill>
                <a:latin typeface="Tahoma"/>
              </a:rPr>
              <a:t> entre as tarefas pai/filhos. Este ponto não é, hoje, contemplado </a:t>
            </a:r>
            <a:br>
              <a:rPr sz="2400"/>
            </a:br>
            <a:r>
              <a:rPr b="0" lang="pt-BR" sz="2400" spc="-1" strike="noStrike">
                <a:solidFill>
                  <a:srgbClr val="080808"/>
                </a:solidFill>
                <a:latin typeface="Tahoma"/>
              </a:rPr>
              <a:t>pelas soluções (Cilk/OpenMP) que supõem o uso de memória compartilhada, onde os dados podem sempre ser acessados. 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808"/>
                </a:solidFill>
                <a:latin typeface="Tahoma"/>
              </a:rPr>
              <a:t>Algoritmos</a:t>
            </a: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: </a:t>
            </a:r>
            <a:br>
              <a:rPr sz="3600"/>
            </a:b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Divisão &amp; Conquista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80808"/>
                </a:solidFill>
                <a:latin typeface="Tahoma"/>
              </a:rPr>
              <a:t>Geração recursiva e adaptiva de paralelismo;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80808"/>
                </a:solidFill>
                <a:latin typeface="Tahoma"/>
              </a:rPr>
              <a:t>Cascata de algoritmos [Jajá];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80808"/>
                </a:solidFill>
                <a:latin typeface="Tahoma"/>
              </a:rPr>
              <a:t>Adaptado a muitos problemas difíceis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80808"/>
                </a:solidFill>
                <a:latin typeface="Tahoma"/>
              </a:rPr>
              <a:t>Busca em árvores, problemas de algebra linear, problemas geométricos (malhas)... 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5181480" y="3276720"/>
            <a:ext cx="914400" cy="380880"/>
          </a:xfrm>
          <a:prstGeom prst="ellipse">
            <a:avLst/>
          </a:prstGeom>
          <a:solidFill>
            <a:srgbClr val="917aa4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3733920" y="3581280"/>
            <a:ext cx="1523160" cy="1067040"/>
            <a:chOff x="3733920" y="3581280"/>
            <a:chExt cx="1523160" cy="1067040"/>
          </a:xfrm>
        </p:grpSpPr>
        <p:sp>
          <p:nvSpPr>
            <p:cNvPr id="124" name=""/>
            <p:cNvSpPr/>
            <p:nvPr/>
          </p:nvSpPr>
          <p:spPr>
            <a:xfrm>
              <a:off x="3733920" y="4267080"/>
              <a:ext cx="914040" cy="381240"/>
            </a:xfrm>
            <a:prstGeom prst="ellipse">
              <a:avLst/>
            </a:prstGeom>
            <a:solidFill>
              <a:srgbClr val="917aa4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4266720" y="3581280"/>
              <a:ext cx="99036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6019920" y="3581280"/>
            <a:ext cx="1523520" cy="1067040"/>
            <a:chOff x="6019920" y="3581280"/>
            <a:chExt cx="1523520" cy="1067040"/>
          </a:xfrm>
        </p:grpSpPr>
        <p:sp>
          <p:nvSpPr>
            <p:cNvPr id="127" name=""/>
            <p:cNvSpPr/>
            <p:nvPr/>
          </p:nvSpPr>
          <p:spPr>
            <a:xfrm>
              <a:off x="6629400" y="4267080"/>
              <a:ext cx="914040" cy="381240"/>
            </a:xfrm>
            <a:prstGeom prst="ellipse">
              <a:avLst/>
            </a:prstGeom>
            <a:solidFill>
              <a:srgbClr val="917aa4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19920" y="3581280"/>
              <a:ext cx="83808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7238880" y="4648320"/>
            <a:ext cx="1295280" cy="990360"/>
            <a:chOff x="7238880" y="4648320"/>
            <a:chExt cx="1295280" cy="990360"/>
          </a:xfrm>
        </p:grpSpPr>
        <p:sp>
          <p:nvSpPr>
            <p:cNvPr id="130" name=""/>
            <p:cNvSpPr/>
            <p:nvPr/>
          </p:nvSpPr>
          <p:spPr>
            <a:xfrm>
              <a:off x="7619760" y="5257800"/>
              <a:ext cx="914400" cy="380880"/>
            </a:xfrm>
            <a:prstGeom prst="ellipse">
              <a:avLst/>
            </a:prstGeom>
            <a:solidFill>
              <a:srgbClr val="917aa4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238880" y="4648320"/>
              <a:ext cx="60948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2590920" y="4648320"/>
            <a:ext cx="2514600" cy="990360"/>
            <a:chOff x="2590920" y="4648320"/>
            <a:chExt cx="2514600" cy="990360"/>
          </a:xfrm>
        </p:grpSpPr>
        <p:sp>
          <p:nvSpPr>
            <p:cNvPr id="133" name=""/>
            <p:cNvSpPr/>
            <p:nvPr/>
          </p:nvSpPr>
          <p:spPr>
            <a:xfrm>
              <a:off x="2590920" y="5257800"/>
              <a:ext cx="914400" cy="380880"/>
            </a:xfrm>
            <a:prstGeom prst="ellipse">
              <a:avLst/>
            </a:prstGeom>
            <a:solidFill>
              <a:srgbClr val="917aa4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191120" y="5257800"/>
              <a:ext cx="914400" cy="380880"/>
            </a:xfrm>
            <a:prstGeom prst="ellipse">
              <a:avLst/>
            </a:prstGeom>
            <a:solidFill>
              <a:srgbClr val="917aa4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2971800" y="4648320"/>
              <a:ext cx="106668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91120" y="4648320"/>
              <a:ext cx="38124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5029200" y="4648320"/>
            <a:ext cx="2514600" cy="1981080"/>
            <a:chOff x="5029200" y="4648320"/>
            <a:chExt cx="2514600" cy="1981080"/>
          </a:xfrm>
        </p:grpSpPr>
        <p:sp>
          <p:nvSpPr>
            <p:cNvPr id="138" name=""/>
            <p:cNvSpPr/>
            <p:nvPr/>
          </p:nvSpPr>
          <p:spPr>
            <a:xfrm>
              <a:off x="6019560" y="5257800"/>
              <a:ext cx="914400" cy="380880"/>
            </a:xfrm>
            <a:prstGeom prst="ellipse">
              <a:avLst/>
            </a:prstGeom>
            <a:solidFill>
              <a:srgbClr val="917aa4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029200" y="6248520"/>
              <a:ext cx="914400" cy="380880"/>
            </a:xfrm>
            <a:prstGeom prst="ellipse">
              <a:avLst/>
            </a:prstGeom>
            <a:solidFill>
              <a:srgbClr val="917aa4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629400" y="6248520"/>
              <a:ext cx="914400" cy="380880"/>
            </a:xfrm>
            <a:prstGeom prst="ellipse">
              <a:avLst/>
            </a:prstGeom>
            <a:solidFill>
              <a:srgbClr val="917aa4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6476760" y="4648320"/>
              <a:ext cx="53352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5714640" y="5638680"/>
              <a:ext cx="533160" cy="609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553080" y="5638680"/>
              <a:ext cx="457200" cy="609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8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Tahoma"/>
              </a:rPr>
              <a:t>Linguagens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: </a:t>
            </a:r>
            <a:br>
              <a:rPr sz="3200"/>
            </a:b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uporte ao D&amp;C com mensagen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80808"/>
                </a:solidFill>
                <a:latin typeface="Tahoma"/>
              </a:rPr>
              <a:t>Linguagens com novas instruções: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80808"/>
                </a:solidFill>
                <a:latin typeface="Tahoma"/>
              </a:rPr>
              <a:t>Criação de fluxos de execuções (tarefas)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80808"/>
                </a:solidFill>
                <a:latin typeface="Tahoma"/>
              </a:rPr>
              <a:t>Spawn, Fork (como no Cilk)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80808"/>
                </a:solidFill>
                <a:latin typeface="Tahoma"/>
              </a:rPr>
              <a:t>Sincronização / troca de dados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80808"/>
                </a:solidFill>
                <a:latin typeface="Tahoma"/>
              </a:rPr>
              <a:t>Novidade para levar em consideração comunicações em rede, além de memória compartilhada.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Tahoma"/>
              </a:rPr>
              <a:t>Semelhante ao “pipe” Unix.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80808"/>
                </a:solidFill>
                <a:latin typeface="Tahoma"/>
              </a:rPr>
              <a:t>Cilk/Open-MP apenas provê acessos concorrentes a dados em memória compartilhada!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80808"/>
                </a:solidFill>
                <a:latin typeface="Tahoma"/>
              </a:rPr>
              <a:t>Levar em consideração a rede possibilita melhor controle de escalonamento.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808"/>
                </a:solidFill>
                <a:latin typeface="Tahoma"/>
              </a:rPr>
              <a:t>Compiladores</a:t>
            </a: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: </a:t>
            </a:r>
            <a:br>
              <a:rPr sz="3600"/>
            </a:b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compilação on-line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80808"/>
                </a:solidFill>
                <a:latin typeface="Tahoma"/>
              </a:rPr>
              <a:t>A partir de tal linguagem, pode-se compilar estaticamente um código: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80808"/>
                </a:solidFill>
                <a:latin typeface="Tahoma"/>
              </a:rPr>
              <a:t>Para memória compartilhada (Threads)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80808"/>
                </a:solidFill>
                <a:latin typeface="Tahoma"/>
              </a:rPr>
              <a:t>Para memória distribuída (MPI)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80808"/>
                </a:solidFill>
                <a:latin typeface="Tahoma"/>
              </a:rPr>
              <a:t>Para arquiteturas Multi-Core 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80808"/>
                </a:solidFill>
                <a:latin typeface="Tahoma"/>
              </a:rPr>
              <a:t>Pode-se também usar compilação on-line para (recursivamente) criar tarefas: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80808"/>
                </a:solidFill>
                <a:latin typeface="Tahoma"/>
              </a:rPr>
              <a:t>Sob-demanda (dinamicamente)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80808"/>
                </a:solidFill>
                <a:latin typeface="Tahoma"/>
              </a:rPr>
              <a:t>Com código adaptado à arquitetura heterogênea.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0808"/>
                </a:solidFill>
                <a:latin typeface="Tahoma"/>
              </a:rPr>
              <a:t>Conclusão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23880" y="1295280"/>
            <a:ext cx="73915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80808"/>
                </a:solidFill>
                <a:latin typeface="Tahoma"/>
              </a:rPr>
              <a:t>Plataformas de Grades já existem, ou estão sendo construídas.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80808"/>
                </a:solidFill>
                <a:latin typeface="Tahoma"/>
              </a:rPr>
              <a:t>constituídas de nós que incluem alto paralelismo (SMP/ SMT/ Multicore) 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80808"/>
                </a:solidFill>
                <a:latin typeface="Tahoma"/>
              </a:rPr>
              <a:t>Apenas para aplicações trivialmente paralelas. 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80808"/>
                </a:solidFill>
                <a:latin typeface="Tahoma"/>
              </a:rPr>
              <a:t>Network On Chip - NOC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80808"/>
                </a:solidFill>
                <a:latin typeface="Tahoma"/>
              </a:rPr>
              <a:t>As linguagens de programação estão evoluindo para acompanhar Grids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80808"/>
                </a:solidFill>
                <a:latin typeface="Tahoma"/>
              </a:rPr>
              <a:t>MPI-2, UPC (Berkeley), ...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80808"/>
                </a:solidFill>
                <a:latin typeface="Tahoma"/>
              </a:rPr>
              <a:t>Deve-se prover soluções em novas 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080808"/>
                </a:solidFill>
                <a:latin typeface="Tahoma"/>
              </a:rPr>
              <a:t>linguagens para programação eficiente e que seja paralela para plataformas da década 2010.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3814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0808"/>
                </a:solidFill>
                <a:latin typeface="Tahoma"/>
              </a:rPr>
              <a:t>Obrigado!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3520" y="1294920"/>
            <a:ext cx="3619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Experiência do GPPD / UFRGS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+15 anos de experiência na área;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Dezenas de doutorandos, mestrandos...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Projetos CNPq/FINEP/CAPES...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Colaborações em nível internacional.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681960" y="1371600"/>
            <a:ext cx="1623960" cy="21193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1600200" y="4648320"/>
            <a:ext cx="1736640" cy="18288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5562720" y="3429000"/>
            <a:ext cx="36194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80808"/>
                </a:solidFill>
                <a:latin typeface="Tahoma"/>
              </a:rPr>
              <a:t>Arquiteturas de alto desempenho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Tahoma"/>
              </a:rPr>
              <a:t>Clusters, Máquinas SMP, Rede de Alto Desempenho, Multi-Core, Network on Chip, etc...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581280" y="5334120"/>
            <a:ext cx="3619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80808"/>
                </a:solidFill>
                <a:latin typeface="Tahoma"/>
              </a:rPr>
              <a:t>Programação Paralela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Tahoma"/>
              </a:rPr>
              <a:t>Deck, Athapascan, MPI,  Threads, HPF, Open-MP...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7697880" y="5257800"/>
            <a:ext cx="13698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560" y="4309560"/>
            <a:ext cx="88390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80808"/>
                </a:solidFill>
                <a:latin typeface="Tahoma"/>
              </a:rPr>
              <a:t>Novos rumos em programação </a:t>
            </a:r>
            <a:br>
              <a:rPr sz="2800"/>
            </a:br>
            <a:r>
              <a:rPr b="1" lang="pt-BR" sz="2800" spc="-1" strike="noStrike">
                <a:solidFill>
                  <a:srgbClr val="080808"/>
                </a:solidFill>
                <a:latin typeface="Tahoma"/>
              </a:rPr>
              <a:t>para a exploração de paralelismo multi-nível</a:t>
            </a:r>
            <a:br>
              <a:rPr sz="2800"/>
            </a:b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304560" y="5352840"/>
            <a:ext cx="792468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80808"/>
                </a:solidFill>
                <a:latin typeface="Tahoma"/>
              </a:rPr>
              <a:t>P. Navaux – N. Maillard - UFRGS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7924680" y="5060880"/>
            <a:ext cx="1143000" cy="882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304920" y="6335640"/>
            <a:ext cx="1143000" cy="3700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136520" y="457200"/>
            <a:ext cx="7790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SBC – Maio de 2006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DESAFIOS DA PESQUISA EM INFORMÁTICA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PARA OS PRÓXIMOS 10 ANO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Vários níveis de paralelismo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52480" y="1676520"/>
            <a:ext cx="2000520" cy="2666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345560" y="1981080"/>
            <a:ext cx="390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Do nível continental: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a grade computacional..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981760" y="3495600"/>
            <a:ext cx="2857320" cy="2981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139120" y="4875120"/>
            <a:ext cx="311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... ao nível local: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Máquina dedicada/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Cluster..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Vários níveis de paralelismo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2061000" y="5486400"/>
            <a:ext cx="50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80808"/>
                </a:solidFill>
                <a:latin typeface="Times New Roman"/>
              </a:rPr>
              <a:t>... Até o processador multi-core!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238880" y="472428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1828800" y="1523880"/>
            <a:ext cx="3768840" cy="2827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934600" y="2286000"/>
            <a:ext cx="305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80808"/>
                </a:solidFill>
                <a:latin typeface="Times New Roman"/>
              </a:rPr>
              <a:t>ao nível  do nó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80808"/>
                </a:solidFill>
                <a:latin typeface="Times New Roman"/>
              </a:rPr>
              <a:t>multi-processado..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O desafio da programação paralela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80808"/>
                </a:solidFill>
                <a:latin typeface="Tahoma"/>
              </a:rPr>
              <a:t>Em </a:t>
            </a:r>
            <a:r>
              <a:rPr b="0" lang="pt-BR" sz="2400" spc="-1" strike="noStrike">
                <a:solidFill>
                  <a:srgbClr val="ff0000"/>
                </a:solidFill>
                <a:latin typeface="Tahoma"/>
              </a:rPr>
              <a:t>todos os níveis</a:t>
            </a:r>
            <a:r>
              <a:rPr b="0" lang="pt-BR" sz="2400" spc="-1" strike="noStrike">
                <a:solidFill>
                  <a:srgbClr val="080808"/>
                </a:solidFill>
                <a:latin typeface="Tahoma"/>
              </a:rPr>
              <a:t>, as arquiteturas provêm </a:t>
            </a:r>
            <a:r>
              <a:rPr b="0" lang="pt-BR" sz="2400" spc="-1" strike="noStrike">
                <a:solidFill>
                  <a:srgbClr val="ff0000"/>
                </a:solidFill>
                <a:latin typeface="Tahoma"/>
              </a:rPr>
              <a:t>paralelismo</a:t>
            </a:r>
            <a:r>
              <a:rPr b="0" lang="pt-BR" sz="2400" spc="-1" strike="noStrike">
                <a:solidFill>
                  <a:srgbClr val="080808"/>
                </a:solidFill>
                <a:latin typeface="Tahoma"/>
              </a:rPr>
              <a:t> importante.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80808"/>
                </a:solidFill>
                <a:latin typeface="Tahoma"/>
              </a:rPr>
              <a:t>Linguagens de programação / algoritmos não são concebidos para aproveitar este paralelismo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80808"/>
                </a:solidFill>
                <a:latin typeface="Tahoma"/>
              </a:rPr>
              <a:t>Algoritmos: o modelo de referência é a máquina de Turing...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80808"/>
                </a:solidFill>
                <a:latin typeface="Tahoma"/>
              </a:rPr>
              <a:t>Modelos paralelos não capturam todos os parâmetros ou são impraticáveis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Tahoma"/>
              </a:rPr>
              <a:t>PRAM (memória compartilhada infinita)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Tahoma"/>
              </a:rPr>
              <a:t>BSP / CSM (fortemente síncrono)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Tahoma"/>
              </a:rPr>
              <a:t>LogP (poucos resultados)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80808"/>
                </a:solidFill>
                <a:latin typeface="Tahoma"/>
              </a:rPr>
              <a:t>Só se sabe explorar paralelismo “trivial”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80808"/>
                </a:solidFill>
                <a:latin typeface="Tahoma"/>
              </a:rPr>
              <a:t>Mestre/escravo, Task Farm, ...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934320" y="41148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Linguagens para programação paralela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80808"/>
                </a:solidFill>
                <a:latin typeface="Tahoma"/>
              </a:rPr>
              <a:t>Há muito problemas não trivialmente paralelos, que exigem muito poder computaciona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Tahoma"/>
              </a:rPr>
              <a:t>Simulação em climatologia, genoma, petróleo, nuclear,... 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80808"/>
                </a:solidFill>
                <a:latin typeface="Tahoma"/>
              </a:rPr>
              <a:t>Abordagens para sua programação: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c605f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80808"/>
                </a:solidFill>
                <a:latin typeface="Tahoma"/>
              </a:rPr>
              <a:t>Fornecer uma </a:t>
            </a:r>
            <a:r>
              <a:rPr b="0" lang="pt-BR" sz="2000" spc="-1" strike="noStrike">
                <a:solidFill>
                  <a:srgbClr val="ff0000"/>
                </a:solidFill>
                <a:latin typeface="Tahoma"/>
              </a:rPr>
              <a:t>abstração de alto-nível</a:t>
            </a:r>
            <a:r>
              <a:rPr b="0" lang="pt-BR" sz="2000" spc="-1" strike="noStrike">
                <a:solidFill>
                  <a:srgbClr val="080808"/>
                </a:solidFill>
                <a:latin typeface="Tahoma"/>
              </a:rPr>
              <a:t>, tal como o objeto (Java/Corba)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3c605f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Tahoma"/>
              </a:rPr>
              <a:t>Facilita a migração e o desenvolvimento;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3c605f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Tahoma"/>
              </a:rPr>
              <a:t>Quid da performance?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c605f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80808"/>
                </a:solidFill>
                <a:latin typeface="Tahoma"/>
              </a:rPr>
              <a:t>Deixar o </a:t>
            </a:r>
            <a:r>
              <a:rPr b="0" lang="pt-BR" sz="2000" spc="-1" strike="noStrike">
                <a:solidFill>
                  <a:srgbClr val="ff0000"/>
                </a:solidFill>
                <a:latin typeface="Tahoma"/>
              </a:rPr>
              <a:t>programador</a:t>
            </a:r>
            <a:r>
              <a:rPr b="0" lang="pt-BR" sz="20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0000"/>
                </a:solidFill>
                <a:latin typeface="Tahoma"/>
              </a:rPr>
              <a:t>definir </a:t>
            </a:r>
            <a:r>
              <a:rPr b="0" lang="pt-BR" sz="2000" spc="-1" strike="noStrike">
                <a:solidFill>
                  <a:srgbClr val="080808"/>
                </a:solidFill>
                <a:latin typeface="Tahoma"/>
              </a:rPr>
              <a:t>vários fluxos de execução: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3c605f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Tahoma"/>
              </a:rPr>
              <a:t>Com comunicação por memória (virtualmente) compartilhada – Threads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3c605f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Tahoma"/>
              </a:rPr>
              <a:t>Com comunicação por rede (Message Passing)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c605f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80808"/>
                </a:solidFill>
                <a:latin typeface="Tahoma"/>
              </a:rPr>
              <a:t>Fazer com que o </a:t>
            </a:r>
            <a:r>
              <a:rPr b="0" lang="pt-BR" sz="2000" spc="-1" strike="noStrike">
                <a:solidFill>
                  <a:srgbClr val="ff0000"/>
                </a:solidFill>
                <a:latin typeface="Tahoma"/>
              </a:rPr>
              <a:t>compilador</a:t>
            </a:r>
            <a:r>
              <a:rPr b="0" lang="pt-BR" sz="2000" spc="-1" strike="noStrike">
                <a:solidFill>
                  <a:srgbClr val="080808"/>
                </a:solidFill>
                <a:latin typeface="Tahoma"/>
              </a:rPr>
              <a:t> resolva...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Tahoma"/>
              </a:rPr>
              <a:t>Paralelização automática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Abordagem 1 – Abstração</a:t>
            </a:r>
            <a:br>
              <a:rPr sz="3200"/>
            </a:b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Objetos Distribuído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80808"/>
                </a:solidFill>
                <a:latin typeface="Tahoma"/>
              </a:rPr>
              <a:t>Virtualização do HW/O.S. através de uma Máquina Virtual;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80808"/>
                </a:solidFill>
                <a:latin typeface="Tahoma"/>
              </a:rPr>
              <a:t>Encapsulação de dados/métodos no Objeto;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80808"/>
                </a:solidFill>
                <a:latin typeface="Tahoma"/>
              </a:rPr>
              <a:t>Publicação / descoberta dos métodos;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80808"/>
                </a:solidFill>
                <a:latin typeface="Tahoma"/>
              </a:rPr>
              <a:t>Invocação remota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80808"/>
                </a:solidFill>
                <a:latin typeface="Tahoma"/>
              </a:rPr>
              <a:t>Dados de E/S a serem trocados devem ser serializados!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80808"/>
                </a:solidFill>
                <a:latin typeface="Tahoma"/>
              </a:rPr>
              <a:t>Facilita a portabilidade/ubiquidade... Mas com sobrecusto grande!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80808"/>
                </a:solidFill>
                <a:latin typeface="Tahoma"/>
              </a:rPr>
              <a:t>Adaptado para Ubiquous Computing, Pervasive Computing, ... 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8001000" y="2666880"/>
            <a:ext cx="9748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Abordagem 2 – Programador</a:t>
            </a:r>
            <a:br>
              <a:rPr sz="3200"/>
            </a:b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Processos comunicante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80808"/>
                </a:solidFill>
                <a:latin typeface="Tahoma"/>
              </a:rPr>
              <a:t>Extensões de linguagens seqüenciais clássicas: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80808"/>
                </a:solidFill>
                <a:latin typeface="Tahoma"/>
              </a:rPr>
              <a:t>Bibliotecas de threads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80808"/>
                </a:solidFill>
                <a:latin typeface="Tahoma"/>
              </a:rPr>
              <a:t>Definição, criação e sincronização de fluxos de execução.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643720" y="3754440"/>
            <a:ext cx="3500280" cy="2798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981080" y="3657600"/>
            <a:ext cx="41846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a4e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80808"/>
                </a:solidFill>
                <a:latin typeface="Times New Roman"/>
              </a:rPr>
              <a:t>Troca de mensagen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1a4e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80808"/>
                </a:solidFill>
                <a:latin typeface="Times New Roman"/>
              </a:rPr>
              <a:t>SPMD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1a4e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80808"/>
                </a:solidFill>
                <a:latin typeface="Times New Roman"/>
              </a:rPr>
              <a:t>Bufferização de mensagen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1a4e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80808"/>
                </a:solidFill>
                <a:latin typeface="Times New Roman"/>
              </a:rPr>
              <a:t>Mecanismos bloqueantes ou não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a4e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24080" y="547848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80808"/>
                </a:solidFill>
                <a:latin typeface="Tahoma"/>
              </a:rPr>
              <a:t>Abordagem 3 – Compilador</a:t>
            </a:r>
            <a:br>
              <a:rPr sz="3200"/>
            </a:br>
            <a:r>
              <a:rPr b="0" lang="pt-BR" sz="3200" spc="-1" strike="noStrike">
                <a:solidFill>
                  <a:srgbClr val="080808"/>
                </a:solidFill>
                <a:latin typeface="Tahoma"/>
              </a:rPr>
              <a:t>Paralelização automática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80808"/>
                </a:solidFill>
                <a:latin typeface="Tahoma"/>
              </a:rPr>
              <a:t>Paralelização direta e automática: muito </a:t>
            </a:r>
            <a:r>
              <a:rPr b="1" lang="pt-BR" sz="2800" spc="-1" strike="noStrike">
                <a:solidFill>
                  <a:srgbClr val="080808"/>
                </a:solidFill>
                <a:latin typeface="Tahoma"/>
              </a:rPr>
              <a:t>difícil</a:t>
            </a:r>
            <a:r>
              <a:rPr b="0" lang="pt-BR" sz="2800" spc="-1" strike="noStrike">
                <a:solidFill>
                  <a:srgbClr val="080808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80808"/>
                </a:solidFill>
                <a:latin typeface="Tahoma"/>
              </a:rPr>
              <a:t>Solução</a:t>
            </a:r>
            <a:r>
              <a:rPr b="0" lang="pt-BR" sz="2800" spc="-1" strike="noStrike">
                <a:solidFill>
                  <a:srgbClr val="080808"/>
                </a:solidFill>
                <a:latin typeface="Tahoma"/>
              </a:rPr>
              <a:t>: anotar o código fonte para ajudar o compilador a extrair o paralelismo.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80808"/>
                </a:solidFill>
                <a:latin typeface="Tahoma"/>
              </a:rPr>
              <a:t>Open-MP (estático)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80808"/>
                </a:solidFill>
                <a:latin typeface="Tahoma"/>
              </a:rPr>
              <a:t>Cilk (dinâmico)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80808"/>
                </a:solidFill>
                <a:latin typeface="Tahoma"/>
              </a:rPr>
              <a:t>Problema: hoje, só funciona bem com memória compartilhada...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94440" y="2895480"/>
            <a:ext cx="31258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Idéias para enfrentar o problema...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80808"/>
                </a:solidFill>
                <a:latin typeface="Tahoma"/>
              </a:rPr>
              <a:t>Algoritmos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80808"/>
                </a:solidFill>
                <a:latin typeface="Tahoma"/>
              </a:rPr>
              <a:t>Divisão &amp; Conquista</a:t>
            </a:r>
            <a:r>
              <a:rPr b="0" lang="pt-BR" sz="2400" spc="-1" strike="noStrike">
                <a:solidFill>
                  <a:srgbClr val="080808"/>
                </a:solidFill>
                <a:latin typeface="Tahoma"/>
              </a:rPr>
              <a:t>, para criação “sob-demanda” do paralelismo.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80808"/>
                </a:solidFill>
                <a:latin typeface="Tahoma"/>
              </a:rPr>
              <a:t>Necessita controle da recursividade/granularidade!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80808"/>
                </a:solidFill>
                <a:latin typeface="Tahoma"/>
              </a:rPr>
              <a:t>Linguagem</a:t>
            </a:r>
            <a:r>
              <a:rPr b="0" lang="pt-BR" sz="2800" spc="-1" strike="noStrike">
                <a:solidFill>
                  <a:srgbClr val="080808"/>
                </a:solidFill>
                <a:latin typeface="Tahoma"/>
              </a:rPr>
              <a:t>: dar suporte para ambientes distribuídos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80808"/>
                </a:solidFill>
                <a:latin typeface="Tahoma"/>
              </a:rPr>
              <a:t>Parecido ao Open-MP/Cilk, mas com </a:t>
            </a:r>
            <a:r>
              <a:rPr b="1" lang="pt-BR" sz="2400" spc="-1" strike="noStrike">
                <a:solidFill>
                  <a:srgbClr val="080808"/>
                </a:solidFill>
                <a:latin typeface="Tahoma"/>
              </a:rPr>
              <a:t>troca de mensagens</a:t>
            </a:r>
            <a:r>
              <a:rPr b="0" lang="pt-BR" sz="2400" spc="-1" strike="noStrike">
                <a:solidFill>
                  <a:srgbClr val="080808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80808"/>
                </a:solidFill>
                <a:latin typeface="Tahoma"/>
              </a:rPr>
              <a:t>Compilação on-line</a:t>
            </a:r>
            <a:r>
              <a:rPr b="0" lang="pt-BR" sz="2800" spc="-1" strike="noStrike">
                <a:solidFill>
                  <a:srgbClr val="080808"/>
                </a:solidFill>
                <a:latin typeface="Tahoma"/>
              </a:rPr>
              <a:t> para gerar código eficiente adaptado à máquina alvo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80808"/>
                </a:solidFill>
                <a:latin typeface="Tahoma"/>
              </a:rPr>
              <a:t>Threads vs. Troca de mensagens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nstituto de Informática</cp:lastModifiedBy>
  <dcterms:modified xsi:type="dcterms:W3CDTF">2006-05-08T13:03:57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