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0BD22-D6DD-4917-B355-CC88B034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DBDDD-5F52-4DB2-8AF1-45C47856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C55D0-4D0C-462B-A828-8337427F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B32AC-1C5E-4AEC-B463-3AC091D2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6A9F2-CEDD-47DA-886E-84C6E1AD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27B5D-FDAE-49B9-B54B-1D0C7578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0D1D0-2681-4A16-99B0-19F43DAB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BE0DB-A9F0-4695-8E0E-F18630EA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E8186-FBCC-4F4B-8CCD-5F171D4E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B7157-9E3E-4539-B40E-BDC885AC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1510D-292A-412C-A5E1-FCC9662D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B16CD-D0DD-4B78-929F-F5485B37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1A576B-DAB1-404B-9D5D-19CE907E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F0D5C2-5742-46E5-A053-395FDFAB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3FBF4C-B0EE-4AB5-B757-1BA2CB95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567268-BC6A-4217-88A4-54505421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D0C4CD-DAFB-44D0-9162-03FB2634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E39F09-A975-4418-A922-AA1A8658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84CC6A-8E8E-4E4C-BDF4-268C129B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06B4FA-8891-4EE8-960E-58E22DFC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C6F38B-2403-49B6-8B1D-57A74286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F2AAF3-A938-4520-953B-CDCF5E7C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7D58E3-BBB7-4616-9F1B-28F24CC9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B3CE09-944E-4D22-ACD4-D0A11B04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b812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7760" y="62485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LATIN – Laboratório para Tratamento da Informação</a:t>
            </a: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                  </a:t>
            </a:r>
            <a:fld id="{1D99A1A0-6616-4DD0-9179-ACC87E0E5909}" type="slidenum">
              <a:rPr b="0" lang="pt-B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812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4985-774C-4F14-B5E7-443929694F14}" type="slidenum">
              <a:rPr b="0" lang="pt-B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73E4-EDCD-43B6-8852-140DE9C46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2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b812f"/>
                </a:solidFill>
                <a:latin typeface="Arial"/>
              </a:rPr>
              <a:t>Recuperação de informação em Grandes Volumes de Dados Multimídia Distribuídos</a:t>
            </a:r>
            <a:br>
              <a:rPr sz="1900"/>
            </a:br>
            <a:br>
              <a:rPr sz="1900"/>
            </a:br>
            <a:br>
              <a:rPr sz="1900"/>
            </a:br>
            <a:r>
              <a:rPr b="1" lang="en-US" sz="1900" spc="-1" strike="noStrike">
                <a:solidFill>
                  <a:srgbClr val="3b812f"/>
                </a:solidFill>
                <a:latin typeface="Arial"/>
              </a:rPr>
              <a:t>Grandes Desafios em Computação no Brasil 2006-2016</a:t>
            </a:r>
            <a:br>
              <a:rPr sz="1900"/>
            </a:br>
            <a:br>
              <a:rPr sz="800"/>
            </a:br>
            <a:r>
              <a:rPr b="1" lang="en-US" sz="1900" spc="-1" strike="noStrike">
                <a:solidFill>
                  <a:srgbClr val="3b812f"/>
                </a:solidFill>
                <a:latin typeface="Arial"/>
              </a:rPr>
              <a:t>São Paulo, 8 de maio de 2006</a:t>
            </a:r>
            <a:endParaRPr b="0" lang="en-US" sz="19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5068800"/>
            <a:ext cx="80769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Nivio Ziviani            Edleno Silva de Mo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CC/UFMG                      DCC/UF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b812f"/>
                </a:solidFill>
                <a:latin typeface="Arial"/>
              </a:rPr>
              <a:t>O Problema: SI para a Web</a:t>
            </a:r>
            <a:endParaRPr b="0" lang="en-US" sz="3600" spc="-1" strike="noStrike">
              <a:solidFill>
                <a:srgbClr val="3b812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52960" y="990720"/>
            <a:ext cx="4457520" cy="4419360"/>
          </a:xfrm>
          <a:prstGeom prst="irregularSeal2">
            <a:avLst/>
          </a:prstGeom>
          <a:gradFill rotWithShape="0">
            <a:gsLst>
              <a:gs pos="0">
                <a:srgbClr val="dddddd"/>
              </a:gs>
              <a:gs pos="50000">
                <a:srgbClr val="ccffcc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05200" y="3052800"/>
            <a:ext cx="18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4172040"/>
            <a:ext cx="276120" cy="42048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040" y="2913120"/>
            <a:ext cx="277560" cy="420480"/>
          </a:xfrm>
          <a:prstGeom prst="foldedCorner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25960" y="3146400"/>
            <a:ext cx="277920" cy="41904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64200" y="3659040"/>
            <a:ext cx="279360" cy="42084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13280" y="2960640"/>
            <a:ext cx="276480" cy="41904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49960" y="2260440"/>
            <a:ext cx="277560" cy="42084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59360" y="2400480"/>
            <a:ext cx="276480" cy="42048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1600" y="2913120"/>
            <a:ext cx="277560" cy="42048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19880" y="2286000"/>
            <a:ext cx="277920" cy="41904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35840" y="3425760"/>
            <a:ext cx="277560" cy="42084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43800" y="3565440"/>
            <a:ext cx="279360" cy="42084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73600" y="3519360"/>
            <a:ext cx="277920" cy="41940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83480" y="2867040"/>
            <a:ext cx="277560" cy="419040"/>
          </a:xfrm>
          <a:prstGeom prst="foldedCorner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65760" y="4219560"/>
            <a:ext cx="277920" cy="41904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229440" y="4032360"/>
            <a:ext cx="276120" cy="419040"/>
          </a:xfrm>
          <a:prstGeom prst="foldedCorner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849840" y="3123720"/>
            <a:ext cx="166212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25800" y="3809880"/>
            <a:ext cx="24177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849840" y="3124080"/>
            <a:ext cx="302256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20840" y="3886200"/>
            <a:ext cx="1179360" cy="1189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64200" y="2057400"/>
            <a:ext cx="47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05000" y="1981080"/>
            <a:ext cx="10573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77840" y="3048120"/>
            <a:ext cx="3780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27000" y="3505320"/>
            <a:ext cx="22536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447920" y="3657240"/>
            <a:ext cx="43812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250040" y="2895480"/>
            <a:ext cx="279360" cy="41940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48360" y="2286000"/>
            <a:ext cx="277920" cy="41904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33526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b812f"/>
                </a:solidFill>
                <a:latin typeface="Arial"/>
              </a:rPr>
              <a:t>Tecnolog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5720" y="46483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3b812f"/>
                </a:solidFill>
                <a:latin typeface="Arial"/>
              </a:rPr>
              <a:t>A We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03240" y="1700280"/>
            <a:ext cx="7010280" cy="373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76400" y="2330280"/>
            <a:ext cx="924120" cy="1476720"/>
          </a:xfrm>
          <a:custGeom>
            <a:avLst/>
            <a:gdLst>
              <a:gd name="textAreaLeft" fmla="*/ 45000 w 924120"/>
              <a:gd name="textAreaRight" fmla="*/ 879120 w 924120"/>
              <a:gd name="textAreaTop" fmla="*/ 45000 h 1476720"/>
              <a:gd name="textAreaBottom" fmla="*/ 1431720 h 1476720"/>
            </a:gdLst>
            <a:ahLst/>
            <a:rect l="textAreaLeft" t="textAreaTop" r="textAreaRight" b="textAreaBottom"/>
            <a:pathLst>
              <a:path w="21600" h="34511">
                <a:moveTo>
                  <a:pt x="3600" y="0"/>
                </a:moveTo>
                <a:arcTo wR="3600" hR="3600" stAng="16200000" swAng="-5400000"/>
                <a:lnTo>
                  <a:pt x="0" y="30911"/>
                </a:lnTo>
                <a:arcTo wR="3600" hR="3600" stAng="10800000" swAng="-5400000"/>
                <a:lnTo>
                  <a:pt x="18000" y="345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6240" y="3294000"/>
            <a:ext cx="1006560" cy="34776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le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4648320"/>
            <a:ext cx="1295640" cy="3808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ss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2336760"/>
            <a:ext cx="1089000" cy="34776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i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6240" y="2128680"/>
            <a:ext cx="933480" cy="4827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60520" y="2730600"/>
            <a:ext cx="218880" cy="450720"/>
          </a:xfrm>
          <a:prstGeom prst="downArrow">
            <a:avLst>
              <a:gd name="adj1" fmla="val 50000"/>
              <a:gd name="adj2" fmla="val 5148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96960" y="3825720"/>
            <a:ext cx="1878120" cy="3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RepositorioCent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84280" y="3355920"/>
            <a:ext cx="451080" cy="230400"/>
          </a:xfrm>
          <a:prstGeom prst="rightArrow">
            <a:avLst>
              <a:gd name="adj1" fmla="val 50000"/>
              <a:gd name="adj2" fmla="val 4894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97360" y="2403360"/>
            <a:ext cx="452520" cy="230400"/>
          </a:xfrm>
          <a:prstGeom prst="rightArrow">
            <a:avLst>
              <a:gd name="adj1" fmla="val 50000"/>
              <a:gd name="adj2" fmla="val 4910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65600" y="2395440"/>
            <a:ext cx="452520" cy="230400"/>
          </a:xfrm>
          <a:prstGeom prst="rightArrow">
            <a:avLst>
              <a:gd name="adj1" fmla="val 50000"/>
              <a:gd name="adj2" fmla="val 4910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06800" y="3189240"/>
            <a:ext cx="504720" cy="53352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838080" y="4152960"/>
            <a:ext cx="5639040" cy="1357200"/>
            <a:chOff x="838080" y="4152960"/>
            <a:chExt cx="5639040" cy="1357200"/>
          </a:xfrm>
        </p:grpSpPr>
        <p:sp>
          <p:nvSpPr>
            <p:cNvPr id="170" name=""/>
            <p:cNvSpPr/>
            <p:nvPr/>
          </p:nvSpPr>
          <p:spPr>
            <a:xfrm>
              <a:off x="838080" y="4214880"/>
              <a:ext cx="5639040" cy="129528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54160" y="5002200"/>
              <a:ext cx="1220760" cy="387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axonom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4440" y="4651200"/>
              <a:ext cx="1584360" cy="433440"/>
            </a:xfrm>
            <a:prstGeom prst="flowChartProcess">
              <a:avLst/>
            </a:prstGeom>
            <a:solidFill>
              <a:srgbClr val="cc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292929"/>
                  </a:solidFill>
                  <a:latin typeface="Times New Roman"/>
                </a:rPr>
                <a:t>categoriz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46480" y="4152960"/>
              <a:ext cx="220680" cy="450720"/>
            </a:xfrm>
            <a:prstGeom prst="downArrow">
              <a:avLst>
                <a:gd name="adj1" fmla="val 50000"/>
                <a:gd name="adj2" fmla="val 5106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1114560" y="4371840"/>
              <a:ext cx="1128240" cy="669600"/>
              <a:chOff x="1114560" y="4371840"/>
              <a:chExt cx="1128240" cy="669600"/>
            </a:xfrm>
          </p:grpSpPr>
          <p:sp>
            <p:nvSpPr>
              <p:cNvPr id="175" name=""/>
              <p:cNvSpPr/>
              <p:nvPr/>
            </p:nvSpPr>
            <p:spPr>
              <a:xfrm>
                <a:off x="1465560" y="4539960"/>
                <a:ext cx="405720" cy="222480"/>
              </a:xfrm>
              <a:custGeom>
                <a:avLst/>
                <a:gdLst>
                  <a:gd name="textAreaLeft" fmla="*/ 0 w 405720"/>
                  <a:gd name="textAreaRight" fmla="*/ 406080 w 40572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5100" y="4334"/>
                    </a:lnTo>
                    <a:lnTo>
                      <a:pt x="13000" y="4334"/>
                    </a:lnTo>
                    <a:lnTo>
                      <a:pt x="13000" y="8600"/>
                    </a:lnTo>
                    <a:lnTo>
                      <a:pt x="17266" y="8600"/>
                    </a:lnTo>
                    <a:lnTo>
                      <a:pt x="17266" y="6500"/>
                    </a:lnTo>
                    <a:lnTo>
                      <a:pt x="21600" y="10800"/>
                    </a:lnTo>
                    <a:lnTo>
                      <a:pt x="17266" y="15100"/>
                    </a:lnTo>
                    <a:lnTo>
                      <a:pt x="17266" y="13000"/>
                    </a:lnTo>
                    <a:lnTo>
                      <a:pt x="4334" y="13000"/>
                    </a:lnTo>
                    <a:lnTo>
                      <a:pt x="4334" y="15100"/>
                    </a:lnTo>
                    <a:lnTo>
                      <a:pt x="0" y="10800"/>
                    </a:lnTo>
                    <a:lnTo>
                      <a:pt x="4334" y="6500"/>
                    </a:lnTo>
                    <a:lnTo>
                      <a:pt x="4334" y="8600"/>
                    </a:lnTo>
                    <a:lnTo>
                      <a:pt x="8600" y="8600"/>
                    </a:lnTo>
                    <a:lnTo>
                      <a:pt x="8600" y="4334"/>
                    </a:lnTo>
                    <a:lnTo>
                      <a:pt x="6500" y="4334"/>
                    </a:lnTo>
                    <a:close/>
                  </a:path>
                </a:pathLst>
              </a:custGeom>
              <a:solidFill>
                <a:srgbClr val="00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82920" y="4371840"/>
                <a:ext cx="150120" cy="1576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310040" y="4624920"/>
                <a:ext cx="150120" cy="157680"/>
              </a:xfrm>
              <a:prstGeom prst="ellipse">
                <a:avLst/>
              </a:prstGeom>
              <a:solidFill>
                <a:srgbClr val="ff7c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895760" y="4614840"/>
                <a:ext cx="150480" cy="158040"/>
              </a:xfrm>
              <a:prstGeom prst="ellipse">
                <a:avLst/>
              </a:prstGeom>
              <a:solidFill>
                <a:srgbClr val="ff7c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702800" y="4869720"/>
                <a:ext cx="150120" cy="157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092680" y="4861440"/>
                <a:ext cx="150120" cy="158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511640" y="4872600"/>
                <a:ext cx="150120" cy="157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114560" y="4883760"/>
                <a:ext cx="150480" cy="157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847520" y="4783320"/>
                <a:ext cx="246960" cy="222480"/>
              </a:xfrm>
              <a:custGeom>
                <a:avLst/>
                <a:gdLst>
                  <a:gd name="textAreaLeft" fmla="*/ 0 w 246960"/>
                  <a:gd name="textAreaRight" fmla="*/ 246960 w 24696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5100" y="4334"/>
                    </a:lnTo>
                    <a:lnTo>
                      <a:pt x="13000" y="4334"/>
                    </a:lnTo>
                    <a:lnTo>
                      <a:pt x="13000" y="8600"/>
                    </a:lnTo>
                    <a:lnTo>
                      <a:pt x="17266" y="8600"/>
                    </a:lnTo>
                    <a:lnTo>
                      <a:pt x="17266" y="6500"/>
                    </a:lnTo>
                    <a:lnTo>
                      <a:pt x="21600" y="10800"/>
                    </a:lnTo>
                    <a:lnTo>
                      <a:pt x="17266" y="15100"/>
                    </a:lnTo>
                    <a:lnTo>
                      <a:pt x="17266" y="13000"/>
                    </a:lnTo>
                    <a:lnTo>
                      <a:pt x="4334" y="13000"/>
                    </a:lnTo>
                    <a:lnTo>
                      <a:pt x="4334" y="15100"/>
                    </a:lnTo>
                    <a:lnTo>
                      <a:pt x="0" y="10800"/>
                    </a:lnTo>
                    <a:lnTo>
                      <a:pt x="4334" y="6500"/>
                    </a:lnTo>
                    <a:lnTo>
                      <a:pt x="4334" y="8600"/>
                    </a:lnTo>
                    <a:lnTo>
                      <a:pt x="8600" y="8600"/>
                    </a:lnTo>
                    <a:lnTo>
                      <a:pt x="8600" y="4334"/>
                    </a:lnTo>
                    <a:lnTo>
                      <a:pt x="6500" y="4334"/>
                    </a:ln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265760" y="4803840"/>
                <a:ext cx="246960" cy="222480"/>
              </a:xfrm>
              <a:custGeom>
                <a:avLst/>
                <a:gdLst>
                  <a:gd name="textAreaLeft" fmla="*/ 0 w 246960"/>
                  <a:gd name="textAreaRight" fmla="*/ 246960 w 24696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5100" y="4334"/>
                    </a:lnTo>
                    <a:lnTo>
                      <a:pt x="13000" y="4334"/>
                    </a:lnTo>
                    <a:lnTo>
                      <a:pt x="13000" y="8600"/>
                    </a:lnTo>
                    <a:lnTo>
                      <a:pt x="17266" y="8600"/>
                    </a:lnTo>
                    <a:lnTo>
                      <a:pt x="17266" y="6500"/>
                    </a:lnTo>
                    <a:lnTo>
                      <a:pt x="21600" y="10800"/>
                    </a:lnTo>
                    <a:lnTo>
                      <a:pt x="17266" y="15100"/>
                    </a:lnTo>
                    <a:lnTo>
                      <a:pt x="17266" y="13000"/>
                    </a:lnTo>
                    <a:lnTo>
                      <a:pt x="4334" y="13000"/>
                    </a:lnTo>
                    <a:lnTo>
                      <a:pt x="4334" y="15100"/>
                    </a:lnTo>
                    <a:lnTo>
                      <a:pt x="0" y="10800"/>
                    </a:lnTo>
                    <a:lnTo>
                      <a:pt x="4334" y="6500"/>
                    </a:lnTo>
                    <a:lnTo>
                      <a:pt x="4334" y="8600"/>
                    </a:lnTo>
                    <a:lnTo>
                      <a:pt x="8600" y="8600"/>
                    </a:lnTo>
                    <a:lnTo>
                      <a:pt x="8600" y="4334"/>
                    </a:lnTo>
                    <a:lnTo>
                      <a:pt x="6500" y="4334"/>
                    </a:ln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333520" y="4710240"/>
              <a:ext cx="451080" cy="230040"/>
            </a:xfrm>
            <a:prstGeom prst="rightArrow">
              <a:avLst>
                <a:gd name="adj1" fmla="val 50000"/>
                <a:gd name="adj2" fmla="val 49022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08680" y="4335480"/>
              <a:ext cx="1019160" cy="933480"/>
            </a:xfrm>
            <a:prstGeom prst="verticalScroll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Indic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pa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Cla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83160" y="4724280"/>
              <a:ext cx="452520" cy="230400"/>
            </a:xfrm>
            <a:prstGeom prst="rightArrow">
              <a:avLst>
                <a:gd name="adj1" fmla="val 50000"/>
                <a:gd name="adj2" fmla="val 49102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99040" y="4694400"/>
              <a:ext cx="451080" cy="230040"/>
            </a:xfrm>
            <a:prstGeom prst="rightArrow">
              <a:avLst>
                <a:gd name="adj1" fmla="val 50000"/>
                <a:gd name="adj2" fmla="val 49022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014880" y="1766880"/>
            <a:ext cx="1019160" cy="93348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I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48400" y="2184480"/>
            <a:ext cx="1071720" cy="93960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Ind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Ter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12920" y="3376440"/>
            <a:ext cx="6732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992320" y="2433600"/>
            <a:ext cx="792360" cy="703440"/>
            <a:chOff x="2992320" y="2433600"/>
            <a:chExt cx="792360" cy="703440"/>
          </a:xfrm>
        </p:grpSpPr>
        <p:sp>
          <p:nvSpPr>
            <p:cNvPr id="193" name=""/>
            <p:cNvSpPr/>
            <p:nvPr/>
          </p:nvSpPr>
          <p:spPr>
            <a:xfrm>
              <a:off x="2992320" y="2433600"/>
              <a:ext cx="744480" cy="703440"/>
            </a:xfrm>
            <a:custGeom>
              <a:avLst/>
              <a:gdLst>
                <a:gd name="textAreaLeft" fmla="*/ 186120 w 744480"/>
                <a:gd name="textAreaRight" fmla="*/ 558360 w 744480"/>
                <a:gd name="textAreaTop" fmla="*/ 175680 h 703440"/>
                <a:gd name="textAreaBottom" fmla="*/ 527760 h 70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00" y="540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5400"/>
                  </a:lnTo>
                  <a:lnTo>
                    <a:pt x="16200" y="5400"/>
                  </a:lnTo>
                  <a:lnTo>
                    <a:pt x="16200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6200" y="12200"/>
                  </a:lnTo>
                  <a:lnTo>
                    <a:pt x="16200" y="16200"/>
                  </a:lnTo>
                  <a:lnTo>
                    <a:pt x="12200" y="16200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6200"/>
                  </a:lnTo>
                  <a:lnTo>
                    <a:pt x="5400" y="16200"/>
                  </a:lnTo>
                  <a:lnTo>
                    <a:pt x="5400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5400" y="94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2920" y="2614680"/>
              <a:ext cx="6717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link</a:t>
              </a:r>
              <a:r>
                <a:rPr b="1" lang="pt-BR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086600" y="3216240"/>
            <a:ext cx="209520" cy="1341360"/>
          </a:xfrm>
          <a:prstGeom prst="downArrow">
            <a:avLst>
              <a:gd name="adj1" fmla="val 50000"/>
              <a:gd name="adj2" fmla="val 16005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423720"/>
            <a:ext cx="77724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b812f"/>
                </a:solidFill>
                <a:latin typeface="Arial"/>
              </a:rPr>
              <a:t>Evolu</a:t>
            </a:r>
            <a:r>
              <a:rPr b="0" lang="en-US" sz="3600" spc="-1" strike="noStrike">
                <a:solidFill>
                  <a:srgbClr val="3b812f"/>
                </a:solidFill>
                <a:latin typeface="Arial"/>
              </a:rPr>
              <a:t>çã</a:t>
            </a:r>
            <a:r>
              <a:rPr b="0" lang="en-US" sz="3600" spc="-1" strike="noStrike">
                <a:solidFill>
                  <a:srgbClr val="3b812f"/>
                </a:solidFill>
                <a:latin typeface="Arial"/>
              </a:rPr>
              <a:t>o da Tecnologia de Bus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72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b812f"/>
                </a:solidFill>
                <a:latin typeface="Arial"/>
              </a:rPr>
              <a:t>Necessidades de Soluções Inovad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1447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lvl="1" marL="599760" indent="-31176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máquinas de busca nã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ndexam conteúdo multimíd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apenas texto 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99760" indent="-31176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cessidade de novas estruturas de busca que sejam escaláveis e distribuí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99760" indent="-31176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údo multimídia muda frequente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99760" indent="-31176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et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ull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adequada para conteúdo dinâmic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b812f"/>
                </a:solidFill>
                <a:latin typeface="Arial"/>
              </a:rPr>
              <a:t>Arquitetura </a:t>
            </a:r>
            <a:r>
              <a:rPr b="0" i="1" lang="en-US" sz="3600" spc="-1" strike="noStrike">
                <a:solidFill>
                  <a:srgbClr val="3b812f"/>
                </a:solidFill>
                <a:latin typeface="Arial"/>
              </a:rPr>
              <a:t>peer-to-peer</a:t>
            </a:r>
            <a:r>
              <a:rPr b="0" lang="en-US" sz="3600" spc="-1" strike="noStrike">
                <a:solidFill>
                  <a:srgbClr val="3b812f"/>
                </a:solidFill>
                <a:latin typeface="Arial"/>
              </a:rPr>
              <a:t> de Máquina de Busca Distribuída</a:t>
            </a:r>
            <a:r>
              <a:rPr b="0" lang="pt-BR" sz="3600" spc="-1" strike="noStrike">
                <a:solidFill>
                  <a:srgbClr val="3b812f"/>
                </a:solidFill>
                <a:latin typeface="Arial"/>
              </a:rPr>
              <a:t> Multimí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9051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lvl="1" marL="485640" indent="-25236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ração automática de caracterís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5236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ruturas de indexação dinâmicas e distribuídas (tipo P2P) para suportar busca por similaridad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5236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ração de diferentes tipo de informação em sistemas de busca por relevânci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5236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écnicas dinâmicas escaláveis d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5236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r fontes de evidência de diferentes índices multimídia com a busca Web tradicion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72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b812f"/>
                </a:solidFill>
                <a:latin typeface="Arial"/>
              </a:rPr>
              <a:t>Arquitetura </a:t>
            </a:r>
            <a:r>
              <a:rPr b="0" i="1" lang="en-US" sz="3600" spc="-1" strike="noStrike">
                <a:solidFill>
                  <a:srgbClr val="3b812f"/>
                </a:solidFill>
                <a:latin typeface="Arial"/>
              </a:rPr>
              <a:t>peer-to-peer</a:t>
            </a:r>
            <a:r>
              <a:rPr b="0" lang="en-US" sz="3600" spc="-1" strike="noStrike">
                <a:solidFill>
                  <a:srgbClr val="3b812f"/>
                </a:solidFill>
                <a:latin typeface="Arial"/>
              </a:rPr>
              <a:t> de Máquina de Busca Distribuída</a:t>
            </a:r>
            <a:r>
              <a:rPr b="0" lang="pt-BR" sz="3600" spc="-1" strike="noStrike">
                <a:solidFill>
                  <a:srgbClr val="3b812f"/>
                </a:solidFill>
                <a:latin typeface="Arial"/>
              </a:rPr>
              <a:t> Multimí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19051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lvl="1" marL="637920" indent="-33156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orte à coleta baseada no conceit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ush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da com a coleta tradicional do tip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ul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7920" indent="-33156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ca baseada em contexto, explorando a arquitetura colaborativa P2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7920" indent="-33156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gurança e confiabilid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447920" y="4013280"/>
            <a:ext cx="4724280" cy="1828800"/>
          </a:xfrm>
          <a:prstGeom prst="cloudCallout">
            <a:avLst>
              <a:gd name="adj1" fmla="val 22513"/>
              <a:gd name="adj2" fmla="val 17537"/>
            </a:avLst>
          </a:prstGeom>
          <a:solidFill>
            <a:srgbClr val="ddf2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423720"/>
            <a:ext cx="77724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b812f"/>
                </a:solidFill>
                <a:latin typeface="Arial"/>
              </a:rPr>
              <a:t>Arquitetura P2P de Bus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19240" y="1752480"/>
            <a:ext cx="133344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ss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29000" y="175248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Indexad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175248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Colet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1905120"/>
            <a:ext cx="304920" cy="152280"/>
          </a:xfrm>
          <a:prstGeom prst="leftArrow">
            <a:avLst>
              <a:gd name="adj1" fmla="val 50000"/>
              <a:gd name="adj2" fmla="val 50059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2844720"/>
            <a:ext cx="825480" cy="6098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í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5" idx="2"/>
            <a:endCxn id="206" idx="2"/>
          </p:cNvCxnSpPr>
          <p:nvPr/>
        </p:nvCxnSpPr>
        <p:spPr>
          <a:xfrm flipH="1" rot="16200000">
            <a:off x="3342240" y="1552680"/>
            <a:ext cx="2520" cy="131544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1" name=""/>
          <p:cNvCxnSpPr>
            <a:stCxn id="209" idx="1"/>
            <a:endCxn id="212" idx="1"/>
          </p:cNvCxnSpPr>
          <p:nvPr/>
        </p:nvCxnSpPr>
        <p:spPr>
          <a:xfrm flipH="1" rot="16200000">
            <a:off x="3351600" y="2190600"/>
            <a:ext cx="2520" cy="1308600"/>
          </a:xfrm>
          <a:prstGeom prst="bentConnector3">
            <a:avLst>
              <a:gd name="adj1" fmla="val -112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3" name=""/>
          <p:cNvCxnSpPr/>
          <p:nvPr/>
        </p:nvCxnSpPr>
        <p:spPr>
          <a:xfrm>
            <a:off x="3301560" y="2437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4" name=""/>
          <p:cNvCxnSpPr>
            <a:stCxn id="215" idx="3"/>
            <a:endCxn id="216" idx="1"/>
          </p:cNvCxnSpPr>
          <p:nvPr/>
        </p:nvCxnSpPr>
        <p:spPr>
          <a:xfrm>
            <a:off x="2895120" y="50414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216" idx="3"/>
            <a:endCxn id="218" idx="1"/>
          </p:cNvCxnSpPr>
          <p:nvPr/>
        </p:nvCxnSpPr>
        <p:spPr>
          <a:xfrm>
            <a:off x="4038120" y="5041440"/>
            <a:ext cx="623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9" name=""/>
          <p:cNvSpPr/>
          <p:nvPr/>
        </p:nvSpPr>
        <p:spPr>
          <a:xfrm>
            <a:off x="4060080" y="448956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88000" y="410220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e P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1792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038480" y="3517560"/>
            <a:ext cx="190512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81680" y="1752480"/>
            <a:ext cx="2057400" cy="2819520"/>
          </a:xfrm>
          <a:prstGeom prst="cloudCallout">
            <a:avLst>
              <a:gd name="adj1" fmla="val 29476"/>
              <a:gd name="adj2" fmla="val -6194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162920" y="2819520"/>
            <a:ext cx="533160" cy="304560"/>
          </a:xfrm>
          <a:prstGeom prst="bevel">
            <a:avLst>
              <a:gd name="adj" fmla="val 12500"/>
            </a:avLst>
          </a:prstGeom>
          <a:solidFill>
            <a:srgbClr val="eff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ús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772400" y="2819520"/>
            <a:ext cx="533520" cy="304560"/>
          </a:xfrm>
          <a:prstGeom prst="foldedCorner">
            <a:avLst>
              <a:gd name="adj" fmla="val 12500"/>
            </a:avLst>
          </a:prstGeom>
          <a:solidFill>
            <a:srgbClr val="eff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62920" y="3505320"/>
            <a:ext cx="457200" cy="304560"/>
          </a:xfrm>
          <a:prstGeom prst="plus">
            <a:avLst>
              <a:gd name="adj" fmla="val 25000"/>
            </a:avLst>
          </a:prstGeom>
          <a:solidFill>
            <a:srgbClr val="eff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íde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886880" y="340344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eff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333760" y="32004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334120" y="2209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924680" y="18669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91320" y="19810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249240" y="16765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11880" y="343548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1209600"/>
            <a:ext cx="12193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Cs, PDAs,  Celular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6516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65160" y="1981080"/>
            <a:ext cx="101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28440" y="1727280"/>
            <a:ext cx="857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sult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28800" y="1523880"/>
            <a:ext cx="411480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124080" y="4660920"/>
            <a:ext cx="914400" cy="762120"/>
            <a:chOff x="3124080" y="4660920"/>
            <a:chExt cx="914400" cy="762120"/>
          </a:xfrm>
        </p:grpSpPr>
        <p:sp>
          <p:nvSpPr>
            <p:cNvPr id="240" name=""/>
            <p:cNvSpPr/>
            <p:nvPr/>
          </p:nvSpPr>
          <p:spPr>
            <a:xfrm>
              <a:off x="3298680" y="4716360"/>
              <a:ext cx="204840" cy="209520"/>
            </a:xfrm>
            <a:custGeom>
              <a:avLst/>
              <a:gdLst>
                <a:gd name="textAreaLeft" fmla="*/ 9720 w 204840"/>
                <a:gd name="textAreaRight" fmla="*/ 195120 w 204840"/>
                <a:gd name="textAreaTop" fmla="*/ 9720 h 209520"/>
                <a:gd name="textAreaBottom" fmla="*/ 199800 h 209520"/>
              </a:gdLst>
              <a:ahLst/>
              <a:rect l="textAreaLeft" t="textAreaTop" r="textAreaRight" b="textAreaBottom"/>
              <a:pathLst>
                <a:path w="21600" h="22093">
                  <a:moveTo>
                    <a:pt x="3600" y="0"/>
                  </a:moveTo>
                  <a:arcTo wR="3600" hR="3600" stAng="16200000" swAng="-5400000"/>
                  <a:lnTo>
                    <a:pt x="0" y="18493"/>
                  </a:lnTo>
                  <a:arcTo wR="3600" hR="3600" stAng="10800000" swAng="-5400000"/>
                  <a:lnTo>
                    <a:pt x="18000" y="220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c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570120" y="4726080"/>
              <a:ext cx="117720" cy="209520"/>
            </a:xfrm>
            <a:custGeom>
              <a:avLst/>
              <a:gdLst>
                <a:gd name="textAreaLeft" fmla="*/ 5760 w 117720"/>
                <a:gd name="textAreaRight" fmla="*/ 111960 w 117720"/>
                <a:gd name="textAreaTop" fmla="*/ 5760 h 209520"/>
                <a:gd name="textAreaBottom" fmla="*/ 203760 h 209520"/>
              </a:gdLst>
              <a:ahLst/>
              <a:rect l="textAreaLeft" t="textAreaTop" r="textAreaRight" b="textAreaBottom"/>
              <a:pathLst>
                <a:path w="21600" h="38393">
                  <a:moveTo>
                    <a:pt x="3600" y="0"/>
                  </a:moveTo>
                  <a:arcTo wR="3600" hR="3600" stAng="16200000" swAng="-5400000"/>
                  <a:lnTo>
                    <a:pt x="0" y="34793"/>
                  </a:lnTo>
                  <a:arcTo wR="3600" hR="3600" stAng="10800000" swAng="-5400000"/>
                  <a:lnTo>
                    <a:pt x="18000" y="383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c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74960" y="4734000"/>
              <a:ext cx="187560" cy="206280"/>
            </a:xfrm>
            <a:custGeom>
              <a:avLst/>
              <a:gdLst>
                <a:gd name="textAreaLeft" fmla="*/ 9000 w 187560"/>
                <a:gd name="textAreaRight" fmla="*/ 178560 w 187560"/>
                <a:gd name="textAreaTop" fmla="*/ 9000 h 206280"/>
                <a:gd name="textAreaBottom" fmla="*/ 197280 h 206280"/>
              </a:gdLst>
              <a:ahLst/>
              <a:rect l="textAreaLeft" t="textAreaTop" r="textAreaRight" b="textAreaBottom"/>
              <a:pathLst>
                <a:path w="21600" h="23752">
                  <a:moveTo>
                    <a:pt x="3600" y="0"/>
                  </a:moveTo>
                  <a:arcTo wR="3600" hR="3600" stAng="16200000" swAng="-5400000"/>
                  <a:lnTo>
                    <a:pt x="0" y="20152"/>
                  </a:lnTo>
                  <a:arcTo wR="3600" hR="3600" stAng="10800000" swAng="-5400000"/>
                  <a:lnTo>
                    <a:pt x="18000" y="237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c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97200" y="4786200"/>
              <a:ext cx="58680" cy="8892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311640" y="5199120"/>
              <a:ext cx="117360" cy="15084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5" name=""/>
            <p:cNvCxnSpPr>
              <a:stCxn id="240" idx="2"/>
              <a:endCxn id="241" idx="2"/>
            </p:cNvCxnSpPr>
            <p:nvPr/>
          </p:nvCxnSpPr>
          <p:spPr>
            <a:xfrm flipH="1" rot="16200000">
              <a:off x="3508920" y="4816080"/>
              <a:ext cx="10440" cy="229320"/>
            </a:xfrm>
            <a:prstGeom prst="bentConnector3">
              <a:avLst>
                <a:gd name="adj1" fmla="val 8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6" name=""/>
            <p:cNvCxnSpPr>
              <a:stCxn id="244" idx="1"/>
              <a:endCxn id="247" idx="1"/>
            </p:cNvCxnSpPr>
            <p:nvPr/>
          </p:nvCxnSpPr>
          <p:spPr>
            <a:xfrm flipH="1" rot="16200000">
              <a:off x="3516480" y="5052600"/>
              <a:ext cx="2160" cy="294480"/>
            </a:xfrm>
            <a:prstGeom prst="bentConnector3">
              <a:avLst>
                <a:gd name="adj1" fmla="val -790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47" name=""/>
            <p:cNvSpPr/>
            <p:nvPr/>
          </p:nvSpPr>
          <p:spPr>
            <a:xfrm>
              <a:off x="3605040" y="5199120"/>
              <a:ext cx="115920" cy="15084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05320" y="500364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4080" y="4660920"/>
              <a:ext cx="91440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981080" y="4660920"/>
            <a:ext cx="914400" cy="762120"/>
            <a:chOff x="1981080" y="4660920"/>
            <a:chExt cx="914400" cy="762120"/>
          </a:xfrm>
        </p:grpSpPr>
        <p:sp>
          <p:nvSpPr>
            <p:cNvPr id="250" name=""/>
            <p:cNvSpPr/>
            <p:nvPr/>
          </p:nvSpPr>
          <p:spPr>
            <a:xfrm>
              <a:off x="2155680" y="4716360"/>
              <a:ext cx="204840" cy="209520"/>
            </a:xfrm>
            <a:custGeom>
              <a:avLst/>
              <a:gdLst>
                <a:gd name="textAreaLeft" fmla="*/ 9720 w 204840"/>
                <a:gd name="textAreaRight" fmla="*/ 195120 w 204840"/>
                <a:gd name="textAreaTop" fmla="*/ 9720 h 209520"/>
                <a:gd name="textAreaBottom" fmla="*/ 199800 h 209520"/>
              </a:gdLst>
              <a:ahLst/>
              <a:rect l="textAreaLeft" t="textAreaTop" r="textAreaRight" b="textAreaBottom"/>
              <a:pathLst>
                <a:path w="21600" h="22093">
                  <a:moveTo>
                    <a:pt x="3600" y="0"/>
                  </a:moveTo>
                  <a:arcTo wR="3600" hR="3600" stAng="16200000" swAng="-5400000"/>
                  <a:lnTo>
                    <a:pt x="0" y="18493"/>
                  </a:lnTo>
                  <a:arcTo wR="3600" hR="3600" stAng="10800000" swAng="-5400000"/>
                  <a:lnTo>
                    <a:pt x="18000" y="220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c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27120" y="4726080"/>
              <a:ext cx="117720" cy="209520"/>
            </a:xfrm>
            <a:custGeom>
              <a:avLst/>
              <a:gdLst>
                <a:gd name="textAreaLeft" fmla="*/ 5760 w 117720"/>
                <a:gd name="textAreaRight" fmla="*/ 111960 w 117720"/>
                <a:gd name="textAreaTop" fmla="*/ 5760 h 209520"/>
                <a:gd name="textAreaBottom" fmla="*/ 203760 h 209520"/>
              </a:gdLst>
              <a:ahLst/>
              <a:rect l="textAreaLeft" t="textAreaTop" r="textAreaRight" b="textAreaBottom"/>
              <a:pathLst>
                <a:path w="21600" h="38393">
                  <a:moveTo>
                    <a:pt x="3600" y="0"/>
                  </a:moveTo>
                  <a:arcTo wR="3600" hR="3600" stAng="16200000" swAng="-5400000"/>
                  <a:lnTo>
                    <a:pt x="0" y="34793"/>
                  </a:lnTo>
                  <a:arcTo wR="3600" hR="3600" stAng="10800000" swAng="-5400000"/>
                  <a:lnTo>
                    <a:pt x="18000" y="383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c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31960" y="4734000"/>
              <a:ext cx="187560" cy="206280"/>
            </a:xfrm>
            <a:custGeom>
              <a:avLst/>
              <a:gdLst>
                <a:gd name="textAreaLeft" fmla="*/ 9000 w 187560"/>
                <a:gd name="textAreaRight" fmla="*/ 178560 w 187560"/>
                <a:gd name="textAreaTop" fmla="*/ 9000 h 206280"/>
                <a:gd name="textAreaBottom" fmla="*/ 197280 h 206280"/>
              </a:gdLst>
              <a:ahLst/>
              <a:rect l="textAreaLeft" t="textAreaTop" r="textAreaRight" b="textAreaBottom"/>
              <a:pathLst>
                <a:path w="21600" h="23752">
                  <a:moveTo>
                    <a:pt x="3600" y="0"/>
                  </a:moveTo>
                  <a:arcTo wR="3600" hR="3600" stAng="16200000" swAng="-5400000"/>
                  <a:lnTo>
                    <a:pt x="0" y="20152"/>
                  </a:lnTo>
                  <a:arcTo wR="3600" hR="3600" stAng="10800000" swAng="-5400000"/>
                  <a:lnTo>
                    <a:pt x="18000" y="237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c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54200" y="4786200"/>
              <a:ext cx="58680" cy="8892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68640" y="5199120"/>
              <a:ext cx="117360" cy="15084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5" name=""/>
            <p:cNvCxnSpPr>
              <a:stCxn id="250" idx="2"/>
              <a:endCxn id="251" idx="2"/>
            </p:cNvCxnSpPr>
            <p:nvPr/>
          </p:nvCxnSpPr>
          <p:spPr>
            <a:xfrm flipH="1" rot="16200000">
              <a:off x="2365920" y="4816080"/>
              <a:ext cx="10440" cy="229320"/>
            </a:xfrm>
            <a:prstGeom prst="bentConnector3">
              <a:avLst>
                <a:gd name="adj1" fmla="val 8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6" name=""/>
            <p:cNvCxnSpPr>
              <a:stCxn id="254" idx="1"/>
              <a:endCxn id="257" idx="1"/>
            </p:cNvCxnSpPr>
            <p:nvPr/>
          </p:nvCxnSpPr>
          <p:spPr>
            <a:xfrm flipH="1" rot="16200000">
              <a:off x="2373480" y="5052600"/>
              <a:ext cx="2160" cy="294480"/>
            </a:xfrm>
            <a:prstGeom prst="bentConnector3">
              <a:avLst>
                <a:gd name="adj1" fmla="val -790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57" name=""/>
            <p:cNvSpPr/>
            <p:nvPr/>
          </p:nvSpPr>
          <p:spPr>
            <a:xfrm>
              <a:off x="2462040" y="5199120"/>
              <a:ext cx="115920" cy="15084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62320" y="500364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81080" y="4660920"/>
              <a:ext cx="91440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660920" y="4660920"/>
            <a:ext cx="914400" cy="762120"/>
            <a:chOff x="4660920" y="4660920"/>
            <a:chExt cx="914400" cy="762120"/>
          </a:xfrm>
        </p:grpSpPr>
        <p:sp>
          <p:nvSpPr>
            <p:cNvPr id="260" name=""/>
            <p:cNvSpPr/>
            <p:nvPr/>
          </p:nvSpPr>
          <p:spPr>
            <a:xfrm>
              <a:off x="4835520" y="4716360"/>
              <a:ext cx="204840" cy="209520"/>
            </a:xfrm>
            <a:custGeom>
              <a:avLst/>
              <a:gdLst>
                <a:gd name="textAreaLeft" fmla="*/ 9720 w 204840"/>
                <a:gd name="textAreaRight" fmla="*/ 195120 w 204840"/>
                <a:gd name="textAreaTop" fmla="*/ 9720 h 209520"/>
                <a:gd name="textAreaBottom" fmla="*/ 199800 h 209520"/>
              </a:gdLst>
              <a:ahLst/>
              <a:rect l="textAreaLeft" t="textAreaTop" r="textAreaRight" b="textAreaBottom"/>
              <a:pathLst>
                <a:path w="21600" h="22093">
                  <a:moveTo>
                    <a:pt x="3600" y="0"/>
                  </a:moveTo>
                  <a:arcTo wR="3600" hR="3600" stAng="16200000" swAng="-5400000"/>
                  <a:lnTo>
                    <a:pt x="0" y="18493"/>
                  </a:lnTo>
                  <a:arcTo wR="3600" hR="3600" stAng="10800000" swAng="-5400000"/>
                  <a:lnTo>
                    <a:pt x="18000" y="220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c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06960" y="4726080"/>
              <a:ext cx="117720" cy="209520"/>
            </a:xfrm>
            <a:custGeom>
              <a:avLst/>
              <a:gdLst>
                <a:gd name="textAreaLeft" fmla="*/ 5760 w 117720"/>
                <a:gd name="textAreaRight" fmla="*/ 111960 w 117720"/>
                <a:gd name="textAreaTop" fmla="*/ 5760 h 209520"/>
                <a:gd name="textAreaBottom" fmla="*/ 203760 h 209520"/>
              </a:gdLst>
              <a:ahLst/>
              <a:rect l="textAreaLeft" t="textAreaTop" r="textAreaRight" b="textAreaBottom"/>
              <a:pathLst>
                <a:path w="21600" h="38393">
                  <a:moveTo>
                    <a:pt x="3600" y="0"/>
                  </a:moveTo>
                  <a:arcTo wR="3600" hR="3600" stAng="16200000" swAng="-5400000"/>
                  <a:lnTo>
                    <a:pt x="0" y="34793"/>
                  </a:lnTo>
                  <a:arcTo wR="3600" hR="3600" stAng="10800000" swAng="-5400000"/>
                  <a:lnTo>
                    <a:pt x="18000" y="383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c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11800" y="4734000"/>
              <a:ext cx="187560" cy="206280"/>
            </a:xfrm>
            <a:custGeom>
              <a:avLst/>
              <a:gdLst>
                <a:gd name="textAreaLeft" fmla="*/ 9000 w 187560"/>
                <a:gd name="textAreaRight" fmla="*/ 178560 w 187560"/>
                <a:gd name="textAreaTop" fmla="*/ 9000 h 206280"/>
                <a:gd name="textAreaBottom" fmla="*/ 197280 h 206280"/>
              </a:gdLst>
              <a:ahLst/>
              <a:rect l="textAreaLeft" t="textAreaTop" r="textAreaRight" b="textAreaBottom"/>
              <a:pathLst>
                <a:path w="21600" h="23752">
                  <a:moveTo>
                    <a:pt x="3600" y="0"/>
                  </a:moveTo>
                  <a:arcTo wR="3600" hR="3600" stAng="16200000" swAng="-5400000"/>
                  <a:lnTo>
                    <a:pt x="0" y="20152"/>
                  </a:lnTo>
                  <a:arcTo wR="3600" hR="3600" stAng="10800000" swAng="-5400000"/>
                  <a:lnTo>
                    <a:pt x="18000" y="237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c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34040" y="4786200"/>
              <a:ext cx="58680" cy="8892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48480" y="5199120"/>
              <a:ext cx="117360" cy="15084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5" name=""/>
            <p:cNvCxnSpPr>
              <a:stCxn id="260" idx="2"/>
              <a:endCxn id="261" idx="2"/>
            </p:cNvCxnSpPr>
            <p:nvPr/>
          </p:nvCxnSpPr>
          <p:spPr>
            <a:xfrm flipH="1" rot="16200000">
              <a:off x="5045760" y="4816080"/>
              <a:ext cx="10440" cy="229320"/>
            </a:xfrm>
            <a:prstGeom prst="bentConnector3">
              <a:avLst>
                <a:gd name="adj1" fmla="val 8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6" name=""/>
            <p:cNvCxnSpPr>
              <a:stCxn id="264" idx="1"/>
              <a:endCxn id="267" idx="1"/>
            </p:cNvCxnSpPr>
            <p:nvPr/>
          </p:nvCxnSpPr>
          <p:spPr>
            <a:xfrm flipH="1" rot="16200000">
              <a:off x="5053320" y="5052600"/>
              <a:ext cx="2160" cy="294480"/>
            </a:xfrm>
            <a:prstGeom prst="bentConnector3">
              <a:avLst>
                <a:gd name="adj1" fmla="val -790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67" name=""/>
            <p:cNvSpPr/>
            <p:nvPr/>
          </p:nvSpPr>
          <p:spPr>
            <a:xfrm>
              <a:off x="5141880" y="5199120"/>
              <a:ext cx="115920" cy="15084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42160" y="500364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60920" y="4660920"/>
              <a:ext cx="91440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3594240" y="2844720"/>
            <a:ext cx="825480" cy="6098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Tex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vio Ziviani</cp:lastModifiedBy>
  <dcterms:modified xsi:type="dcterms:W3CDTF">2006-05-05T22:17:44Z</dcterms:modified>
  <cp:revision>2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