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1EC-D3E0-4C37-9BB3-80E59589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331-9D0D-42E7-8A63-38A89FC2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C72-AFDC-4F6D-AF10-BCF60565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44D-5FF3-4B3F-AEF5-630A9415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09F4-6CB0-4BF9-85E7-DA59944C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C49F-1135-478D-8B80-5E891E52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31FE-F4FA-4FEF-BF30-BD92F452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C37D-47E2-4EBA-996E-D57C9D2A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26E7-28EE-4BC3-9F93-C4440F45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4A1A-AF61-44CD-A60C-A65A0DBA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919F-F493-4E5B-AE9D-6ACC43C2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949-CBF6-4339-AB94-82C6359D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1805-EF1D-41D1-88A5-C9B0222E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6087-9E5C-4ADF-9AEC-B6B2392B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48F4-6769-4411-91C4-216DF087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7D4A-FDA5-4985-9C89-E18747DF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2C3D-F82B-49DA-8074-B6D12617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2B9-A42F-4A1E-AF4A-2134C5F2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D582-1A57-4290-B0C1-7ED76D64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EE1B-2050-4309-A567-A50BFBA9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8D61-341C-42EC-BCA0-5D96FFC3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80C-BB0C-4C8E-93D7-BFE47C10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8E32-CD74-42F0-AD9E-9C2B720C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E2C-ABF0-47C9-9060-1755DF3C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4013-219C-47FC-AADC-AACF11106A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4C1A-6F75-4A18-9EFD-6D6E4B0171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randes Desafios:</a:t>
            </a:r>
            <a:br>
              <a:rPr sz="4000"/>
            </a:br>
            <a:r>
              <a:rPr b="0" lang="pt-BR" sz="4000" spc="-1" strike="noStrike">
                <a:solidFill>
                  <a:srgbClr val="333399"/>
                </a:solidFill>
                <a:latin typeface="Tahoma"/>
              </a:rPr>
              <a:t>Criação da Infra-Estrutura de Informação e Serviços da Biblioteca Digital Brasileira de Ciência e Tecnologia (BDB-CT)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berto H. F. Laen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cos And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G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ç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UFM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Por que é um (grande) desafi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gnitude do Proje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globará a coleta, disseminação, preservação e a provisão de serviços de informação relativos a toda a produção acadêmica (científica e educacional) nacional nas áreas de Ciência e Tecnologi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Porque interessa à Ciência da Computação em nível de excelência internacional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203364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contrução de tal sistema, para que se torne efetivo e cumpra seus propósitos requererá avanços em diversas áreas da computação incluindo (mas não limitado 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fra-estruturas avançadas (e.g., “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cyber-infrastructure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”, grids de dados, redes par-a-par) incluindo aspectos de escalabilidade (e.g., de armazenamento e de serviços) e mobilidade, possibilitando novos usos (mais criativos) de materia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étodos avançados e efetivos de recuperação de informação,  incluindo aspectos de exploração de contexto (e.g., tarefa em questão, conhecimento prévio do usuário e nível de educação do usuário, recursos computacionais disponíveis) e de multimidia (recuperaç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ã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baseada em con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Porque interessa à Ciência da Computação em nível de excelência internacional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20890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esquisa em interfaces mais usáveis que possibilitem personalização de materiais e serviços bem como adaptabilidade às diversas comunidades potencialmente afetadas pelo projeto (estudantes de graduação e pós-graduação, alunos do ensino médio, cientistas, tomadores de decisão, et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tegração de dados estruturados e semi-estruturados (e.g., advindos da Web) e resolução de problemas de interoperabilidade entre os sub-sistemas component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ploração e uso de novos e efetivos métodos de engenharia de software para garantir expansabilidade de conteúdo e serviç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Porque interessa à Ciência da Computação em nível de excelência internacional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mbientes colaborativos para uso e criação de material, por exemplo, material educacional compartilhado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oluções efetivas de problemas complexos tais como preservação digital e sustentabilidade do projeto, garantindo a longevidade de materiais e coleções, e garantia da qualidade da informaçã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DISCIPLINARIDAD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99"/>
                </a:solidFill>
                <a:latin typeface="Tahoma"/>
              </a:rPr>
              <a:t>Por que é relevante para o Brasil?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209340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potencial educacional e de preservação e disseminação científica existente neste desafio é inegáve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al potencial é ainda mais relevante no  contexto da realidade brasileira, onde a BDB-CT pode atuar como ferramenta de apoio a soluções de problemas específicos do país tais com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xclusão digi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nalfabetis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á preparação de educador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alta de material educacional de qualid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á preservação da memória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alta de divulgação do conhecimento científico produzido pelas universidad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ransferência tecnológica, .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Por que é viavél considerá-lo um desafi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orque o projeto é realizável no período que esse desafio teoricamente engloba (dez anos) com vontade política e recursos necessários para ta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Quem deverá estar envolvido na sua soluçã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oda a comunidade científica brasileira, principalmente a de Computação que fornecerá as soluções tecnológicas para o desenvolvimento do projeto, e portanto, participará efetivamente da conquista do desafi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Iniciativas Paralelas em outros Paí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91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SDL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National Science, Technology, Engineering, and Mathematics Education Digital Library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Criada pela National Science Foundation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os EUA para prover acesso organizado a recursos de alta qualidade e ferramentas que suportam inovações em ensino e pesquisa em todos os níveis da educação em Ciência, Tecnologia, Engenharia, e Matemática (da educação básica à pós-graduação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zenas de milhões de dólares já foram investidos em desenvolvimento e pesquisa para construção dessa grande visã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Unesco tem chamado por iniciativas semelhantes em outros países e idéias já têm sido exploradas na Coréia, China, Rússia e na União Européia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22:22:20Z</dcterms:created>
  <dc:creator> Marcos Andre Goncalves</dc:creator>
  <dc:description/>
  <dc:language>en-US</dc:language>
  <cp:lastModifiedBy> Marcos Andre Goncalves</cp:lastModifiedBy>
  <dcterms:modified xsi:type="dcterms:W3CDTF">2006-05-08T10:37:49Z</dcterms:modified>
  <cp:revision>15</cp:revision>
  <dc:subject/>
  <dc:title>Grandes Desafios: Criação da Infra-Estrutura de Informação e Serviços da Biblioteca Digital Brasileira de Ciência e Tecnologia (BDB-CT) </dc:title>
</cp:coreProperties>
</file>