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A70-2AE0-4350-B845-D52BAC99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656-D5D6-4528-AB44-0CDB0E3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AF5-BDCB-4B8D-AEA7-B1278138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3E5-29E6-4C84-8683-909FE4D9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24D5-31B6-42D4-9ED7-A268E5A3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3BC3-1BFE-49EE-AC09-FA966A71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6EBA-A8BA-4029-88E6-062AD8C3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820C-6227-4897-9E2D-486E8326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3F0F-717A-4699-8780-690ADB1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1326-65AB-4349-80AD-4CCCD8D3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F8B1-6D67-47B4-A181-C2AE5642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621-2A8C-4FA4-A68F-C2E457A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42B3-E1E2-4828-BA93-8991F4D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26B4-DD03-4217-84AC-1BBA5E04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9B15-413A-4C87-9EFE-0A3EEF96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BE1C-807A-4126-895E-A9E2C7A8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ACC8-69D5-4F9A-9C5A-9FB9EA50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EF3-71A3-4DA3-82BE-C6C7AB8B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2B1-ADD7-4092-B017-2C1F9A19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836-76AC-4A1E-ADE4-AC164F33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8B2-9D9B-4D13-8105-D36D7749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805-1511-421D-9711-A2AA2AE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749-13D8-4939-95B6-EA841E3F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53E-B4A5-498E-BFBD-A1304F3B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7955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  <a:p>
            <a:pPr lvl="2" marL="1062720" indent="-212400">
              <a:spcBef>
                <a:spcPts val="700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  <a:p>
            <a:pPr lvl="3" marL="1487880" indent="-212400">
              <a:spcBef>
                <a:spcPts val="700"/>
              </a:spcBef>
              <a:buClr>
                <a:srgbClr val="7955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  <a:p>
            <a:pPr lvl="4" marL="1913040" indent="-212400">
              <a:spcBef>
                <a:spcPts val="700"/>
              </a:spcBef>
              <a:buClr>
                <a:srgbClr val="79551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  <a:p>
            <a:pPr lvl="5" marL="1913040" indent="-212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  <a:p>
            <a:pPr lvl="6" marL="1913040" indent="-212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5A59-3B77-4CC6-9F6F-371106F69757}" type="slidenum"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FCE3-19F6-4DFC-A8D9-0F9FD6BC8859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9551b"/>
                </a:solidFill>
                <a:latin typeface="Arial"/>
              </a:rPr>
              <a:t>CC e Humanidades: computadores, criatividade, estética e qualidade</a:t>
            </a: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71640" y="357336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9551b"/>
                </a:solidFill>
                <a:latin typeface="Arial"/>
              </a:rPr>
              <a:t>José Palazzo M. de Oliveira - UFRGS </a:t>
            </a:r>
            <a:endParaRPr b="0" lang="en-US" sz="1800" spc="-1" strike="noStrike">
              <a:solidFill>
                <a:srgbClr val="79551b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9551b"/>
                </a:solidFill>
                <a:latin typeface="Arial"/>
              </a:rPr>
              <a:t>palazzo@inf.ufrgs.br</a:t>
            </a:r>
            <a:r>
              <a:rPr b="0" lang="en-US" sz="1800" spc="-1" strike="noStrike">
                <a:solidFill>
                  <a:srgbClr val="79551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7955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79551b"/>
                </a:solidFill>
                <a:latin typeface="Arial"/>
              </a:rPr>
              <a:t>Os computadores como máquinas de calcular 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59480" y="182844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9551b"/>
                </a:solidFill>
                <a:latin typeface="Arial"/>
              </a:rPr>
              <a:t>Há exatos sessenta anos o ENIAC  (Electronic Numerical Integrator and Computer) </a:t>
            </a:r>
            <a:endParaRPr b="0" lang="en-US" sz="2000" spc="-1" strike="noStrike">
              <a:solidFill>
                <a:srgbClr val="79551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9551b"/>
                </a:solidFill>
                <a:latin typeface="Arial"/>
              </a:rPr>
              <a:t>Vez de um computador deveríamos ter um raciocinador! </a:t>
            </a:r>
            <a:endParaRPr b="0" lang="en-US" sz="2000" spc="-1" strike="noStrike">
              <a:solidFill>
                <a:srgbClr val="79551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882880" y="2657520"/>
            <a:ext cx="23814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58276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Artigos encontrados do Scholar Google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79551b"/>
                </a:solidFill>
                <a:latin typeface="Arial"/>
              </a:rPr>
              <a:t>"Computers and Beauty" (keywords: Esthetics in computer art, mathematical beauty) 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"Acrylic windows, neon and strobe lights, Day-Glo colors, and vaguely alien shapes may be appealing for desktop PC cases". 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riatividade</a:t>
            </a:r>
            <a:br>
              <a:rPr sz="2000"/>
            </a:br>
            <a:r>
              <a:rPr b="0" lang="en-US" sz="2000" spc="-1" strike="noStrike">
                <a:solidFill>
                  <a:srgbClr val="79551b"/>
                </a:solidFill>
                <a:latin typeface="Arial"/>
              </a:rPr>
              <a:t>Domenico De Massi</a:t>
            </a:r>
            <a:r>
              <a:rPr b="0" lang="en-US" sz="2800" spc="-1" strike="noStrike">
                <a:solidFill>
                  <a:srgbClr val="79551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3429000"/>
            <a:ext cx="2592360" cy="194328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l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3141720"/>
            <a:ext cx="4824360" cy="280836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atiativ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2349360"/>
            <a:ext cx="3959280" cy="259236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84360" y="2276640"/>
            <a:ext cx="5905080" cy="2630160"/>
            <a:chOff x="2484360" y="2276640"/>
            <a:chExt cx="5905080" cy="2630160"/>
          </a:xfrm>
        </p:grpSpPr>
        <p:sp>
          <p:nvSpPr>
            <p:cNvPr id="95" name=""/>
            <p:cNvSpPr/>
            <p:nvPr/>
          </p:nvSpPr>
          <p:spPr>
            <a:xfrm>
              <a:off x="3708000" y="2276640"/>
              <a:ext cx="3457440" cy="1728720"/>
            </a:xfrm>
            <a:prstGeom prst="ellipse">
              <a:avLst/>
            </a:prstGeom>
            <a:solidFill>
              <a:srgbClr val="60597b">
                <a:alpha val="4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iativida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484360" y="3176640"/>
              <a:ext cx="5905080" cy="1730160"/>
              <a:chOff x="2484360" y="3176640"/>
              <a:chExt cx="5905080" cy="1730160"/>
            </a:xfrm>
          </p:grpSpPr>
          <p:sp>
            <p:nvSpPr>
              <p:cNvPr id="97" name=""/>
              <p:cNvSpPr/>
              <p:nvPr/>
            </p:nvSpPr>
            <p:spPr>
              <a:xfrm>
                <a:off x="4932000" y="3178080"/>
                <a:ext cx="3457440" cy="1728720"/>
              </a:xfrm>
              <a:prstGeom prst="ellipse">
                <a:avLst/>
              </a:prstGeom>
              <a:solidFill>
                <a:srgbClr val="60597b">
                  <a:alpha val="4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iversã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84360" y="3176640"/>
                <a:ext cx="3457440" cy="1728720"/>
              </a:xfrm>
              <a:prstGeom prst="ellipse">
                <a:avLst/>
              </a:prstGeom>
              <a:solidFill>
                <a:srgbClr val="60597b">
                  <a:alpha val="4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rabalh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Arial"/>
              </a:rPr>
              <a:t>Desafio</a:t>
            </a: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41400" y="1828800"/>
            <a:ext cx="5484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9551b"/>
                </a:solidFill>
                <a:latin typeface="Arial"/>
              </a:rPr>
              <a:t>Transformar a mentalidade para a compreensão que a competência técnica é necessária, mas não suficiente para o sucesso competitivo no mercado.</a:t>
            </a:r>
            <a:endParaRPr b="0" lang="en-US" sz="2000" spc="-1" strike="noStrike">
              <a:solidFill>
                <a:srgbClr val="79551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59280" y="3687840"/>
            <a:ext cx="1670040" cy="179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79880" y="3681360"/>
            <a:ext cx="1285920" cy="1808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516720" y="367344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Arial"/>
              </a:rPr>
              <a:t>Mudanças</a:t>
            </a:r>
            <a:endParaRPr b="0" lang="en-US" sz="3200" spc="-1" strike="noStrike">
              <a:solidFill>
                <a:srgbClr val="79551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9551b"/>
                </a:solidFill>
                <a:latin typeface="Arial"/>
              </a:rPr>
              <a:t>Precisamos, tanto no desenvolvimento de equipamentos quanto no de sistemas, levar em conta aspectos sociais, estéticos, de satisfação e de beleza. </a:t>
            </a:r>
            <a:endParaRPr b="0" lang="en-US" sz="2400" spc="-1" strike="noStrike">
              <a:solidFill>
                <a:srgbClr val="7955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9551b"/>
                </a:solidFill>
                <a:latin typeface="Arial"/>
              </a:rPr>
              <a:t>Para tanto será necessário um maior fortalecimento de grupos multidisciplinares no ensino, na pesquisa e no desenvolvimento.</a:t>
            </a:r>
            <a:endParaRPr b="0" lang="en-US" sz="2400" spc="-1" strike="noStrike">
              <a:solidFill>
                <a:srgbClr val="7955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18:04:20Z</dcterms:created>
  <dc:creator>Jose P M Oliveira</dc:creator>
  <dc:description/>
  <cp:keywords/>
  <dc:language>en-US</dc:language>
  <cp:lastModifiedBy>Jose P M Oliveira</cp:lastModifiedBy>
  <dcterms:modified xsi:type="dcterms:W3CDTF">2006-05-06T19:17:51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33</vt:lpwstr>
  </property>
</Properties>
</file>