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CHICOTE.WAV" ContentType="audio/x-wav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430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25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430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25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710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986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430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710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986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25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066680" y="380880"/>
            <a:ext cx="777240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25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430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25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25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5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15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228600"/>
            <a:ext cx="762120" cy="632448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COT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HICOTE.WAV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680" y="12949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DESAFIOS PARA A COMPUTAÇÃO EMBARCADA E PERVASIVA NO FUTURO CENÁRIO TECNOLÓGICO</a:t>
            </a:r>
            <a:r>
              <a:rPr b="1" i="1" lang="en-US" sz="4400" spc="-1" strike="noStrike">
                <a:solidFill>
                  <a:srgbClr val="993300"/>
                </a:solidFill>
                <a:latin typeface="Arial"/>
              </a:rPr>
              <a:t> </a:t>
            </a:r>
            <a:endParaRPr b="1" i="1" lang="en-US" sz="4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uigi Carro, Flávio R. Wagn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UFRGS – Instituto de Informát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061000" y="5333400"/>
            <a:ext cx="5090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mp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ósio Grandes Desafios da S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ão Paulo, 8-9 maio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993300"/>
                </a:solidFill>
                <a:latin typeface="Arial"/>
              </a:rPr>
              <a:t>Novo paradigma para software</a:t>
            </a:r>
            <a:endParaRPr b="1" i="1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m a lei de Moore, TODO sistema de software será um sistema embarcad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mites na disponibilidade de memó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mites no desempenho do process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mites na potência consum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umento do tempo e custo do projeto de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explorar o máximo do hardware (len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manter a potência baixa (número de componen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combater a variabi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993300"/>
                </a:solidFill>
                <a:latin typeface="Arial"/>
              </a:rPr>
              <a:t>Novo paradigma para software</a:t>
            </a:r>
            <a:endParaRPr b="1" i="1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oftwares mais complexos exigem abstração e automaçã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Mas hardware com restrições exige geração de software otimiz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esempenho, potência, variabilidade, paralelismo em sistemas heterogêne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omo automatizar a geração de SW (em conjunto com o HW) nestas condiçõ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993300"/>
                </a:solidFill>
                <a:latin typeface="Arial"/>
              </a:rPr>
              <a:t>Evolução tecnológica (10 anos)</a:t>
            </a:r>
            <a:endParaRPr b="1" i="1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3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MOS e nano-tecnologias vão co-exist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Novos paradigmas de projet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ojeto estatístico com garantias de funcionam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mputação reconfigurável contra defeitos de fabricação e funcionam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alelismo no seu máxim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apeia operações às partes do HW que se provarem operacion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juste dinâmico e heterogêneo de platafor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993300"/>
                </a:solidFill>
                <a:latin typeface="Arial"/>
              </a:rPr>
              <a:t>Disciplinas impactadas</a:t>
            </a:r>
            <a:endParaRPr b="1" i="1" lang="en-US" sz="4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ircu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configurabilidade dinâmic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quitetura e processamento paral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ixo consumo, multiprocessamento heterogên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olerância a falhas em HW e S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licação a sistemas de propósitos ger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 mais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993300"/>
                </a:solidFill>
                <a:latin typeface="Arial"/>
              </a:rPr>
              <a:t>Disciplinas impactadas</a:t>
            </a:r>
            <a:endParaRPr b="1" i="1" lang="en-US" sz="4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 mai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opera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Os distribuídos, dedicados, otimiz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gação estreita com hardwar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enharia de S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bstrações corretas com automação e otimização para as plataformas de H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bstrações e interfaces atuais entre as disciplinas precisam ser rev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jeto de sistemas de propósitos gerais exigirá muito maior interação entre todas estas discipli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mpacto na formação de recursos humano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3300"/>
                </a:solidFill>
                <a:latin typeface="Arial"/>
              </a:rPr>
              <a:t>Conclusões</a:t>
            </a:r>
            <a:endParaRPr b="1" i="1" lang="en-US" sz="4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á ainda muito por faz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2895480"/>
            <a:ext cx="8381880" cy="28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COT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993300"/>
                </a:solidFill>
                <a:latin typeface="Arial"/>
              </a:rPr>
              <a:t>Ao que estamos habituados</a:t>
            </a:r>
            <a:r>
              <a:rPr b="1" i="1" lang="en-US" sz="4000" spc="-1" strike="noStrike">
                <a:solidFill>
                  <a:srgbClr val="993300"/>
                </a:solidFill>
                <a:latin typeface="Arial"/>
              </a:rPr>
              <a:t>?</a:t>
            </a:r>
            <a:endParaRPr b="1" i="1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volução constante do hard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Lei de Moore: A cada 18 meses se dobra o número de transistores por ch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m circuitos menores, melhora também a velocidade dos circui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nfiamos em máquinas mais rápidas e barat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ngenharia de software aumenta a abstração, para produzir sistemas mais complex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enor relevância da otimização dos progra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ojetistas de SW sempre assumiram por default que virá um HW mais rápido e com memória ma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993300"/>
                </a:solidFill>
                <a:latin typeface="Arial"/>
              </a:rPr>
              <a:t>E se a lei de Moore falhasse?</a:t>
            </a:r>
            <a:endParaRPr b="1" i="1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Vai acontecer, e rápido (5-10 ano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 substituição do silício não vai ser indol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 impacto na maneira como se produz hardware e, sobretudo, software será enor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3300"/>
                </a:solidFill>
                <a:latin typeface="Arial"/>
              </a:rPr>
              <a:t>Novas tecnologias?</a:t>
            </a:r>
            <a:endParaRPr b="1" i="1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Nanotubes, SET, FinFet, etc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Estão além do silíc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Enorme capacidade de integraçã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ão pouco confiáve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6360" y="615960"/>
            <a:ext cx="907416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993300"/>
                </a:solidFill>
                <a:latin typeface="Arial"/>
              </a:rPr>
              <a:t>O que acontecerá: </a:t>
            </a:r>
            <a:br>
              <a:rPr sz="4000"/>
            </a:br>
            <a:r>
              <a:rPr b="1" i="1" lang="pt-BR" sz="4000" spc="-1" strike="noStrike">
                <a:solidFill>
                  <a:srgbClr val="993300"/>
                </a:solidFill>
                <a:latin typeface="Arial"/>
              </a:rPr>
              <a:t>nível de circuito (I)</a:t>
            </a:r>
            <a:endParaRPr b="1" i="1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114800" y="1523880"/>
            <a:ext cx="4572000" cy="3743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38080" y="1600200"/>
            <a:ext cx="37339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13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mo a tecnologia diminui o tamanho dos transistores, a qualidade destes deterio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13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Mais falhas de operaçã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13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Mais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otência consumid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191120" y="3048120"/>
            <a:ext cx="4557600" cy="34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COT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993300"/>
                </a:solidFill>
                <a:latin typeface="Arial"/>
              </a:rPr>
              <a:t>O que acontecerá: </a:t>
            </a:r>
            <a:br>
              <a:rPr sz="4000"/>
            </a:br>
            <a:r>
              <a:rPr b="1" i="1" lang="pt-BR" sz="4000" spc="-1" strike="noStrike">
                <a:solidFill>
                  <a:srgbClr val="993300"/>
                </a:solidFill>
                <a:latin typeface="Arial"/>
              </a:rPr>
              <a:t>nível de circuito (II)</a:t>
            </a:r>
            <a:endParaRPr b="1" i="1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Variabilidade do processo, poucos átom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Maior aleatorieda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ortas terão comportamento estatíst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oluções possíve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plicações de técnicas de tolerância a falhas em diversos níveis de SW e H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reconfigurabilidade dinâmica do circuito e da arquitetura para combater erros de funcionam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993300"/>
                </a:solidFill>
                <a:latin typeface="Arial"/>
              </a:rPr>
              <a:t>O que acontecerá: multiprocessamento</a:t>
            </a:r>
            <a:endParaRPr b="1" i="1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13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umentos de desempenho serão obtidos pela inclusão de múltiplos processadores numa pastilha, rodando a freqüências mais baix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3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rocessadores homogêneos, na computação de propósitos gera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301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rocessadores heterogêneos, para máxima eficiência energética, em sistemas embarc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ISC, DSP, VLIW, SIMD, SMT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vide seu celular 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993300"/>
                </a:solidFill>
                <a:latin typeface="Arial"/>
              </a:rPr>
              <a:t>Novo paradigma para SW multiprocessado</a:t>
            </a:r>
            <a:endParaRPr b="1" i="1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Não é um retorno à pesquisa clássica em processamento paralelo e distribuí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sistemas heterogêne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recursos limitados – memória, energia, 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ossibilidade de exploração de soluções em H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time-to-market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xigindo grandes doses de automa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26T11:07:18Z</dcterms:created>
  <dc:creator>Luigi Carro e Flavio Wagner</dc:creator>
  <dc:description/>
  <cp:keywords/>
  <dc:language>en-US</dc:language>
  <cp:lastModifiedBy>Renan</cp:lastModifiedBy>
  <cp:lastPrinted>2006-05-04T20:05:43Z</cp:lastPrinted>
  <dcterms:modified xsi:type="dcterms:W3CDTF">2006-05-06T23:00:56Z</dcterms:modified>
  <cp:revision>153</cp:revision>
  <dc:subject>desafios para computacao embarcada e pervasiva</dc:subject>
  <dc:title>simposio da SBC</dc:title>
</cp:coreProperties>
</file>