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B29-B981-4E85-B915-8723F824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7E5-CFC5-4ED4-8AAD-3649CFF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E66-FCA4-428D-B445-C3276A7D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802-2847-468F-9E23-598CDD7A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618-3E84-4C17-9C20-E6411926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675-54E1-4F38-A25F-A489AB90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DCB-A7AC-4FFF-AE69-F9B543B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152-D3F8-461A-954D-20D40D5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B76-404C-42A9-A9AF-09C09A72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360-2722-4DB6-80DC-DC4883F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C80-6ED7-4BDE-A3A5-99513EE3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7B9-2E29-4245-9E2F-21107791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266-A207-41C6-8563-2E61A58E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l é o desafio? e Por que é importante?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prática importante da comunidade da computação acadêmica será resolver problemas de outras á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s problemas devem envolver grande volume de dados, por exemplo, provenientes de redes de sens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se cenário, identifica-se a necessidade de criar, avaliar, modificar, compor, gerenciar modelos computacionais para essas apl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safio: Exemplo de uma instância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2565360"/>
            <a:ext cx="2160360" cy="128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502160"/>
            <a:ext cx="943200" cy="942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6280" y="1557360"/>
            <a:ext cx="204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çã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 um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35772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84000" y="3129120"/>
            <a:ext cx="2879640" cy="3179520"/>
            <a:chOff x="2484000" y="3129120"/>
            <a:chExt cx="2879640" cy="3179520"/>
          </a:xfrm>
        </p:grpSpPr>
        <p:sp>
          <p:nvSpPr>
            <p:cNvPr id="49" name=""/>
            <p:cNvSpPr/>
            <p:nvPr/>
          </p:nvSpPr>
          <p:spPr>
            <a:xfrm rot="5400000">
              <a:off x="3782520" y="3138480"/>
              <a:ext cx="282600" cy="2879640"/>
            </a:xfrm>
            <a:custGeom>
              <a:avLst/>
              <a:gdLst>
                <a:gd name="textAreaLeft" fmla="*/ 180720 w 282600"/>
                <a:gd name="textAreaRight" fmla="*/ 282960 w 28260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600" y="3129120"/>
              <a:ext cx="2274840" cy="916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rtefato para tra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eta-modelos 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ados e 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89280" y="4568760"/>
              <a:ext cx="2402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afios científic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éc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od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26920" y="4005360"/>
            <a:ext cx="36036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962240" cy="30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91280" y="3357720"/>
            <a:ext cx="576000" cy="431640"/>
          </a:xfrm>
          <a:prstGeom prst="rightArrow">
            <a:avLst>
              <a:gd name="adj1" fmla="val 50000"/>
              <a:gd name="adj2" fmla="val 33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1080" y="2276640"/>
            <a:ext cx="287280" cy="865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6680" y="17002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opriado de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94800" y="581184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opria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es, dado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516720" y="5734080"/>
            <a:ext cx="71928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ções para os próximos 10 ano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rtefatos para tratar meta-modelos para dados e proc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oria, técnicas, metodologias, ferramentas, 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nder os fundamentos de áreas como Bancos de Dados e Redes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uxos de dados, algoritmos distrib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sibilizar a área da computação para os problemas da interdisciplin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resposta, vocabu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r novos profissionais com preparo para interagir com essas áreas e modelos compu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13:52Z</dcterms:created>
  <dc:creator>MartaM</dc:creator>
  <dc:description/>
  <dc:language>en-US</dc:language>
  <cp:lastModifiedBy>MartaM</cp:lastModifiedBy>
  <dcterms:modified xsi:type="dcterms:W3CDTF">2006-05-09T12:58:27Z</dcterms:modified>
  <cp:revision>2</cp:revision>
  <dc:subject/>
  <dc:title>Qual é o desafio? e Por que é importante?</dc:title>
</cp:coreProperties>
</file>