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6F2F-DF97-418A-8942-D414C428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300F-2142-48A0-BA88-84592E7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FD96-CD28-420F-9772-F8C1DE3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B913-A6B1-4791-99E4-42A9FA64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DEFC-8C9D-4489-AF98-E3272DD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CC0-3665-4011-9EE0-B2B2BCCB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553-AD60-44D9-A635-83A0B1A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815A-9F9B-4B94-837B-25C5B41A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3C90-F91F-4CBF-9980-126EDC81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24920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AF4C-5F8D-4775-8F73-249CCFF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D7A-6993-4CFC-B2F8-03CA28E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E40C-7E9C-40D4-885C-8E6B08F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F3B-A228-460B-9A65-D8921AC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254-D4DA-42D7-9A9B-70891E2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56C7-92A2-40A8-9789-2DC990CB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1A0-45C6-4718-B66D-E57FD974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C421-F7C6-4175-B270-D47BA18D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176C-FAA7-4CF0-906A-7C8F727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262B-188E-4DFC-9BA1-88812A6F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43A9-0C33-4B30-A51D-EFA8F80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24920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994D-37DE-44A0-9D8F-02D49A04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3D97-4557-47CE-8037-8BE85A0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47DC-AC32-49CE-9ACF-5B17E8B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BEB7-4791-460A-A851-1E09600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-nt.inf.puc-rio.br/cgilua/cgilua.exe/index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-nt.inf.puc-rio.br/cgilua/cgilua.exe/index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risse Sieckenius de Sou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EFFB-5C6B-4504-A48D-78F98A50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258840"/>
            <a:ext cx="108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11080" y="426960"/>
            <a:ext cx="309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miotic engineering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533600" y="252360"/>
            <a:ext cx="901800" cy="561960"/>
            <a:chOff x="1533600" y="252360"/>
            <a:chExt cx="901800" cy="561960"/>
          </a:xfrm>
        </p:grpSpPr>
        <p:sp>
          <p:nvSpPr>
            <p:cNvPr id="9" name=""/>
            <p:cNvSpPr/>
            <p:nvPr/>
          </p:nvSpPr>
          <p:spPr>
            <a:xfrm>
              <a:off x="1731960" y="252360"/>
              <a:ext cx="305280" cy="15264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180" y="0"/>
                  </a:moveTo>
                  <a:lnTo>
                    <a:pt x="0" y="181"/>
                  </a:lnTo>
                  <a:lnTo>
                    <a:pt x="362" y="181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33600" y="470880"/>
              <a:ext cx="305280" cy="151920"/>
            </a:xfrm>
            <a:custGeom>
              <a:avLst/>
              <a:gdLst/>
              <a:ahLst/>
              <a:rect l="l" t="t" r="r" b="b"/>
              <a:pathLst>
                <a:path w="362" h="180">
                  <a:moveTo>
                    <a:pt x="182" y="0"/>
                  </a:moveTo>
                  <a:lnTo>
                    <a:pt x="0" y="180"/>
                  </a:lnTo>
                  <a:lnTo>
                    <a:pt x="362" y="180"/>
                  </a:lnTo>
                  <a:lnTo>
                    <a:pt x="182" y="0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27440" y="661680"/>
              <a:ext cx="306000" cy="152640"/>
            </a:xfrm>
            <a:custGeom>
              <a:avLst/>
              <a:gdLst/>
              <a:ahLst/>
              <a:rect l="l" t="t" r="r" b="b"/>
              <a:pathLst>
                <a:path w="363" h="181">
                  <a:moveTo>
                    <a:pt x="182" y="181"/>
                  </a:moveTo>
                  <a:lnTo>
                    <a:pt x="0" y="0"/>
                  </a:lnTo>
                  <a:lnTo>
                    <a:pt x="363" y="0"/>
                  </a:lnTo>
                  <a:lnTo>
                    <a:pt x="182" y="181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30120" y="449640"/>
              <a:ext cx="305280" cy="15264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180" y="181"/>
                  </a:moveTo>
                  <a:lnTo>
                    <a:pt x="0" y="0"/>
                  </a:lnTo>
                  <a:lnTo>
                    <a:pt x="362" y="0"/>
                  </a:lnTo>
                  <a:lnTo>
                    <a:pt x="180" y="181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731960" y="447120"/>
              <a:ext cx="305280" cy="151200"/>
            </a:xfrm>
            <a:custGeom>
              <a:avLst/>
              <a:gdLst/>
              <a:ahLst/>
              <a:rect l="l" t="t" r="r" b="b"/>
              <a:pathLst>
                <a:path w="362" h="179">
                  <a:moveTo>
                    <a:pt x="180" y="179"/>
                  </a:moveTo>
                  <a:lnTo>
                    <a:pt x="0" y="0"/>
                  </a:lnTo>
                  <a:lnTo>
                    <a:pt x="362" y="0"/>
                  </a:lnTo>
                  <a:lnTo>
                    <a:pt x="180" y="179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27440" y="470880"/>
              <a:ext cx="306000" cy="151920"/>
            </a:xfrm>
            <a:custGeom>
              <a:avLst/>
              <a:gdLst/>
              <a:ahLst/>
              <a:rect l="l" t="t" r="r" b="b"/>
              <a:pathLst>
                <a:path w="363" h="180">
                  <a:moveTo>
                    <a:pt x="182" y="0"/>
                  </a:moveTo>
                  <a:lnTo>
                    <a:pt x="0" y="180"/>
                  </a:lnTo>
                  <a:lnTo>
                    <a:pt x="363" y="180"/>
                  </a:lnTo>
                  <a:lnTo>
                    <a:pt x="182" y="0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7813800" y="33192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Informática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PUC-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>
            <a:hlinkClick r:id="rId2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7201080" y="152280"/>
            <a:ext cx="647640" cy="80964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ndes Desafio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-BR, 2006/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ndes Desafio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-BR, 2006/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CFD-7D02-444D-BA39-D474D8EBC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360" y="276120"/>
            <a:ext cx="108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11080" y="426960"/>
            <a:ext cx="309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miotic engineering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33600" y="252360"/>
            <a:ext cx="901800" cy="561960"/>
            <a:chOff x="1533600" y="252360"/>
            <a:chExt cx="901800" cy="561960"/>
          </a:xfrm>
        </p:grpSpPr>
        <p:sp>
          <p:nvSpPr>
            <p:cNvPr id="63" name=""/>
            <p:cNvSpPr/>
            <p:nvPr/>
          </p:nvSpPr>
          <p:spPr>
            <a:xfrm>
              <a:off x="1731960" y="252360"/>
              <a:ext cx="305280" cy="15264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180" y="0"/>
                  </a:moveTo>
                  <a:lnTo>
                    <a:pt x="0" y="181"/>
                  </a:lnTo>
                  <a:lnTo>
                    <a:pt x="362" y="181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33600" y="470880"/>
              <a:ext cx="305280" cy="151920"/>
            </a:xfrm>
            <a:custGeom>
              <a:avLst/>
              <a:gdLst/>
              <a:ahLst/>
              <a:rect l="l" t="t" r="r" b="b"/>
              <a:pathLst>
                <a:path w="362" h="180">
                  <a:moveTo>
                    <a:pt x="182" y="0"/>
                  </a:moveTo>
                  <a:lnTo>
                    <a:pt x="0" y="180"/>
                  </a:lnTo>
                  <a:lnTo>
                    <a:pt x="362" y="180"/>
                  </a:lnTo>
                  <a:lnTo>
                    <a:pt x="182" y="0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27440" y="661680"/>
              <a:ext cx="306000" cy="152640"/>
            </a:xfrm>
            <a:custGeom>
              <a:avLst/>
              <a:gdLst/>
              <a:ahLst/>
              <a:rect l="l" t="t" r="r" b="b"/>
              <a:pathLst>
                <a:path w="363" h="181">
                  <a:moveTo>
                    <a:pt x="182" y="181"/>
                  </a:moveTo>
                  <a:lnTo>
                    <a:pt x="0" y="0"/>
                  </a:lnTo>
                  <a:lnTo>
                    <a:pt x="363" y="0"/>
                  </a:lnTo>
                  <a:lnTo>
                    <a:pt x="182" y="181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0120" y="449640"/>
              <a:ext cx="305280" cy="15264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180" y="181"/>
                  </a:moveTo>
                  <a:lnTo>
                    <a:pt x="0" y="0"/>
                  </a:lnTo>
                  <a:lnTo>
                    <a:pt x="362" y="0"/>
                  </a:lnTo>
                  <a:lnTo>
                    <a:pt x="180" y="181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1960" y="447120"/>
              <a:ext cx="305280" cy="151200"/>
            </a:xfrm>
            <a:custGeom>
              <a:avLst/>
              <a:gdLst/>
              <a:ahLst/>
              <a:rect l="l" t="t" r="r" b="b"/>
              <a:pathLst>
                <a:path w="362" h="179">
                  <a:moveTo>
                    <a:pt x="180" y="179"/>
                  </a:moveTo>
                  <a:lnTo>
                    <a:pt x="0" y="0"/>
                  </a:lnTo>
                  <a:lnTo>
                    <a:pt x="362" y="0"/>
                  </a:lnTo>
                  <a:lnTo>
                    <a:pt x="180" y="179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27440" y="470880"/>
              <a:ext cx="306000" cy="151920"/>
            </a:xfrm>
            <a:custGeom>
              <a:avLst/>
              <a:gdLst/>
              <a:ahLst/>
              <a:rect l="l" t="t" r="r" b="b"/>
              <a:pathLst>
                <a:path w="363" h="180">
                  <a:moveTo>
                    <a:pt x="182" y="0"/>
                  </a:moveTo>
                  <a:lnTo>
                    <a:pt x="0" y="180"/>
                  </a:lnTo>
                  <a:lnTo>
                    <a:pt x="363" y="180"/>
                  </a:lnTo>
                  <a:lnTo>
                    <a:pt x="182" y="0"/>
                  </a:lnTo>
                  <a:close/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813800" y="33192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Informática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PUC-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7201080" y="152280"/>
            <a:ext cx="64764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Prática Científica Interdisciplinar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sse Sieckenius de Sou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sse@inf.puc-rio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505E-6FB7-486B-BE93-4DE5B7757A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 Desafio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 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biliza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tica científica inter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árias disciplinas realizar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ma pesquisa cientí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/desenvol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as e 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 a prática interdiscipl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que é importa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 públicas exig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aboração inter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dade CC.BR não 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 pr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s novos (híbrido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outras discipl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ar o cas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k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ão é o mesmo que analisar um modelo de impacto ambiental usando ferramentas comput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CB30-838A-412D-93BF-83E9019468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gumas preocupaçõe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ntivo à pesquisa científica inter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? Vejam-se os critérios de avaliação dos pro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m? O aparente perfil homogêneo de CC pode se repetir nas demais á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f-accomplished proph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squis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disciplin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nte é significativa e relevante? Se não fosse, isto não deveria ser usado como argumento para não apoiá-la. Ao contr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onde começ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io político-institucional a iniciativas pioneiras, começando pe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ção de R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não pel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que dela depen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45E4-39BE-4A4A-ADAD-0CAB2D047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5:46:03Z</dcterms:created>
  <dc:creator>Clarisse Sieckenius de Souza</dc:creator>
  <dc:description/>
  <dc:language>en-US</dc:language>
  <cp:lastModifiedBy>Clarisse Sieckenius de Souza</cp:lastModifiedBy>
  <dcterms:modified xsi:type="dcterms:W3CDTF">2006-05-07T16:19:14Z</dcterms:modified>
  <cp:revision>7</cp:revision>
  <dc:subject/>
  <dc:title>Prática Científica Interdisciplinar</dc:title>
</cp:coreProperties>
</file>