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2C959-539D-4631-9C83-715B2F5FB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E5F6D-D6B3-46F0-AF16-52EAD2310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5837F-BE35-40C8-B264-66DE8DDE3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045E4-C818-4988-8345-2BF5DF7A2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B04B4-3414-492F-8DCA-D54C77CA4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838E1-2268-4365-A869-D675844AD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C4AAB-9D9C-456D-9A70-E808E4FDE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09286-D73F-4616-B7B7-66C3F66E5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C0695-75AA-43AB-8BF2-CA73DD86A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8F0B1-FF75-41AD-929B-2D8DE76CB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55D8D-2956-4260-AC3A-FE779D512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16082-6628-4342-AB7E-F080D964A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2A527-D2D7-4D73-BB9E-610CE0407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F3213-7E77-4497-A43B-25ABD7DBD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A6CDC-497D-43E4-8F1B-CD027D35B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882C2-C33F-4E12-B1CD-2DE20F1C2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0E5BE-7618-49E3-8EF2-4AB924616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AFFA7-29D7-4B88-8F61-5D3317240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BA0A9-A012-4E52-994F-C8CC72727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8AAA5-77E9-48B6-8775-C17CE5368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AEDA7-5F0A-415A-99B2-BAC2DFFE4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41F02-935B-4C46-BA70-791D402E1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EF963-3D6C-4F50-A848-5F9ACE6C6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989EF-12D2-498F-A379-5C04AC266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8A821-7147-44F5-93AC-667FF2FE2986}" type="datetime">
              <a:rPr b="0" lang="en-US" sz="1400" spc="-1" strike="noStrike">
                <a:solidFill>
                  <a:srgbClr val="000000"/>
                </a:solidFill>
                <a:latin typeface="Tahoma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E6999-552D-4D34-AA3C-6CC5B0F7420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9C9CE-EAC4-42EC-88AC-2E06C0A57095}" type="datetime">
              <a:rPr b="0" lang="en-US" sz="1400" spc="-1" strike="noStrike">
                <a:solidFill>
                  <a:srgbClr val="1c1c1c"/>
                </a:solidFill>
                <a:latin typeface="Tahoma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EC76E-82F7-4189-A587-C1B69830911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4560" y="3886200"/>
            <a:ext cx="8458200" cy="122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600" spc="-1" strike="noStrike">
                <a:solidFill>
                  <a:srgbClr val="333399"/>
                </a:solidFill>
                <a:latin typeface="Tahoma"/>
              </a:rPr>
              <a:t>Computação para Agropecuaria e Meio Ambiente</a:t>
            </a:r>
            <a:r>
              <a:rPr b="0" lang="pt-BR" sz="5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"/>
          <p:cNvSpPr/>
          <p:nvPr/>
        </p:nvSpPr>
        <p:spPr>
          <a:xfrm>
            <a:off x="609480" y="5486400"/>
            <a:ext cx="77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ré de Carvalh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CMC-US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0720" y="990720"/>
            <a:ext cx="7476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Tahoma"/>
              </a:rPr>
              <a:t>Grandes desafios - Computacao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Tahoma"/>
              </a:rPr>
              <a:t>no Brasil 2006-201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incipais tópic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tivaçã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ssíveis Aplicaçõ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ibuição da Computaçã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iciativas Simila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iabilida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ndré de Carvalho - ICMC/US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B909F-42C9-420F-AEF8-ABCE41C3ECE2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çã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pel de desta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ursos natura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ção de aliment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romissos sociais aliado a interesses geopolíticos e econômic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tilizar bem os recursos disponíve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nimizar custo e agregar val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ciliar exploração dos recursos com minimização dos impactos ambienta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eservação do meio ambien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ndré de Carvalho - ICMC/US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55A0F-625A-4141-B04C-EE640AE550E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síveis aplicaçõ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Logísticas de armazenamento e transpor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anejo racional do cultivo e do sol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Otimização de cultur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ecuperação de áreas desmatadas e/ou degradad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nitoramento em tempo real de animais, cultivos e do meio ambien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revenção de desastres ecológic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revisão e controle de pragas e epidemi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estão de recursos naturai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elhoramento genétic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ndré de Carvalho - ICMC/US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353B1-819B-4B51-BE99-73EB0DA7238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tribuições da Computaçã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Pode vir de diferentes á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Aprendizado de Máquin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Arquitetura e Processamento de Alto Desempenh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Bases de Dad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Biologia Computacio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Engenharia de Softwa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Geoinformátic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Processamento de Image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Redes de Computad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Sistemas embarcad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Informática na Educaçã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ndré de Carvalho - ICMC/US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CE7A8-140E-4289-99C6-4EF0DC62414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iciativas Similar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570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Dinamarc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DINA: Rede dinamarquesa de informática em ciências agrícolas  - http://www.dina.dk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Tahoma"/>
              </a:rPr>
              <a:t>Reúne cientistas de Universidades e Centros de Pesquisa, associações e indústria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Tahoma"/>
              </a:rPr>
              <a:t>Promove cooperações relacionadas à aplicação de informática e tecnologia da informação na agricultur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Veterinári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Ciência dos aliment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Economia agrícol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Engenharia florest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Temas ligados a paisagismo e meio ambien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ndré de Carvalho - ICMC/US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A7616-B208-4011-B194-2EBA2BAE7B2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iciativas Similar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apã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stema de informação agrícola em larga escal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clusão digital em pequenas cidad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mover comunicação entre zonas urbanas e rura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ortância da informação para promoção e venda da produção agrícol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ponibiliza informação pela internet 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dução agrícol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dos estatístic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rismo rur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ndré de Carvalho - ICMC/US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6AB7C-4A32-46BF-A108-F1F5CE71F45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empl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 Unicode MS"/>
              </a:rPr>
              <a:t>NEC Engenharia - Japã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 Unicode MS"/>
              </a:rPr>
              <a:t>Projeto “Uso melhorado de Tecnologia da Informação na Agropecuária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 Unicode MS"/>
              </a:rPr>
              <a:t>Monitoramento da origem e histórico de cada peça de carne comercializad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Arial Unicode MS"/>
              </a:rPr>
              <a:t>Sens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Arial Unicode MS"/>
              </a:rPr>
              <a:t>Redes de computad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Arial Unicode MS"/>
              </a:rPr>
              <a:t>Sistemas de tempo re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Arial Unicode MS"/>
              </a:rPr>
              <a:t>Bases de dado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Arial Unicode MS"/>
              </a:rPr>
              <a:t>Mineração de dad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ndré de Carvalho - ICMC/US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A9D3C-25B5-448F-B6D8-6835C8755D7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iabilida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nergi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mbrap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ba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BP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ciedades Brasileiras ligadas a Agropecuária e Meio Ambien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curs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dos setoriai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ndré de Carvalho - ICMC/US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20AFD-A839-414C-B3B8-71E1D4AB66C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02T22:11:14Z</dcterms:created>
  <dc:creator>Prico</dc:creator>
  <dc:description/>
  <dc:language>en-US</dc:language>
  <cp:lastModifiedBy>André C. P. L. F. de Carvalho</cp:lastModifiedBy>
  <cp:lastPrinted>2001-08-29T18:33:17Z</cp:lastPrinted>
  <dcterms:modified xsi:type="dcterms:W3CDTF">2006-05-05T13:59:48Z</dcterms:modified>
  <cp:revision>1542</cp:revision>
  <dc:subject/>
  <dc:title>Recommending a Strategy</dc:title>
</cp:coreProperties>
</file>