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7.png" ContentType="image/png"/>
  <Override PartName="/ppt/media/image6.png" ContentType="image/png"/>
  <Override PartName="/ppt/media/image10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5.png" ContentType="image/png"/>
  <Override PartName="/ppt/media/image21.png" ContentType="image/png"/>
  <Override PartName="/ppt/media/image4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33"/>
              </a:buClr>
              <a:buSzPct val="6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66ff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49"/>
              </a:spcBef>
              <a:buClr>
                <a:srgbClr val="ff9933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1562040" indent="-228600">
              <a:spcBef>
                <a:spcPts val="649"/>
              </a:spcBef>
              <a:buClr>
                <a:srgbClr val="33cc33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1981080" indent="-228600">
              <a:spcBef>
                <a:spcPts val="649"/>
              </a:spcBef>
              <a:buClr>
                <a:srgbClr val="ff99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1981080" indent="-228600">
              <a:spcBef>
                <a:spcPts val="6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1981080" indent="-228600">
              <a:spcBef>
                <a:spcPts val="6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91440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Redes de Sensores Sem Fio</a:t>
            </a:r>
            <a:br>
              <a:rPr sz="4000"/>
            </a:b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ou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stabelecendo uma das bases para a Computação Ubíqüa</a:t>
            </a:r>
            <a:endParaRPr b="0" lang="en-US" sz="2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4123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Antonio Alfredo Ferreira Loureiro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UFMG/DCC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loureiro@dcc.ufmg.b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"/>
          <p:cNvSpPr/>
          <p:nvPr/>
        </p:nvSpPr>
        <p:spPr>
          <a:xfrm>
            <a:off x="684360" y="115920"/>
            <a:ext cx="7772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Tahoma"/>
              </a:rPr>
              <a:t>Grandes Desafios da Pesquisa em Compu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Tahoma"/>
              </a:rPr>
              <a:t>para o Período 2006-2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6840" y="58680"/>
            <a:ext cx="8362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ahoma"/>
              </a:rPr>
              <a:t>Aquecimento já extingue espécies de anfíbio</a:t>
            </a:r>
            <a:endParaRPr b="0" lang="en-US" sz="3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Tahoma"/>
              </a:rPr>
              <a:t>12 de janeiro de 2006, Reinaldo José Lopes, da Folha de S. Paulo </a:t>
            </a:r>
            <a:r>
              <a:rPr b="0" lang="pt-BR" sz="1700" spc="-1" strike="noStrike">
                <a:solidFill>
                  <a:srgbClr val="000000"/>
                </a:solidFill>
                <a:latin typeface="Tahoma"/>
              </a:rPr>
              <a:t>http://www1.folha.uol.com.br/folha/ciencia/ult306u14147.shtm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3333cc"/>
                </a:solidFill>
                <a:latin typeface="Tahoma"/>
              </a:rPr>
              <a:t>      </a:t>
            </a:r>
            <a:r>
              <a:rPr b="0" lang="pt-BR" sz="1900" spc="-1" strike="noStrike">
                <a:solidFill>
                  <a:srgbClr val="3333cc"/>
                </a:solidFill>
                <a:latin typeface="Tahoma"/>
              </a:rPr>
              <a:t>Para uma equipe internacional de pesquisadores, acabou a necessidade de usar os verbos no futuro para falar das extinções de animais causadas pelo aquecimento global.</a:t>
            </a:r>
            <a:r>
              <a:rPr b="0" lang="pt-BR" sz="1900" spc="-1" strike="noStrike">
                <a:solidFill>
                  <a:srgbClr val="000000"/>
                </a:solidFill>
                <a:latin typeface="Tahoma"/>
              </a:rPr>
              <a:t> As vítimas, dizem eles, estão tombando no presente mesmo: </a:t>
            </a:r>
            <a:r>
              <a:rPr b="0" lang="pt-BR" sz="1900" spc="-1" strike="noStrike">
                <a:solidFill>
                  <a:srgbClr val="3333cc"/>
                </a:solidFill>
                <a:latin typeface="Tahoma"/>
              </a:rPr>
              <a:t>mais de 70 espécies de sapos da América tropical, dizimadas por um fungo que se beneficia de temperaturas mais altas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pt-BR" sz="1900" spc="-1" strike="noStrike">
                <a:solidFill>
                  <a:srgbClr val="000000"/>
                </a:solidFill>
                <a:latin typeface="Tahoma"/>
              </a:rPr>
              <a:t>O trabalho, que está na edição de hoje da revista científica "Nature" (www.nature.com), está sendo considerado um marco na tentativa de entender como o aumento da temperatura do planeta vai afetar a vida. As conclusões são assustadoras não só porque traçam uma relação clara entre aquecimento e extinção mas também por mostrar que as conseqüências do fenômeno podem se revelar, na prática, imprevisíveis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pt-BR" sz="1900" spc="-1" strike="noStrike">
                <a:solidFill>
                  <a:srgbClr val="000000"/>
                </a:solidFill>
                <a:latin typeface="Tahoma"/>
              </a:rPr>
              <a:t>(...) O grupo viu, porém, que o aquecimento estimulava a formação de nuvens nesses lugares, o que, de dia, refrescava a temperatura e, de noite, a puxava para cima. O resultado é que, na média, o fungo estava no clima ideal. Detalhe: o parasita já atinge anfíbios na mata atlântica de Minas, diz o biólogo Reuber Brandão, do Ibama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pt-BR" sz="1900" spc="-1" strike="noStrike">
                <a:solidFill>
                  <a:srgbClr val="000000"/>
                </a:solidFill>
                <a:latin typeface="Tahoma"/>
              </a:rPr>
              <a:t>"É um trabalho muito importante, pois liga pela primeira vez a extinção de um grupo inteiro de espécies ao aquecimento", avalia Chris Thomas, biólogo da Universidade de York (Reino Unido)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048520" y="0"/>
            <a:ext cx="1095480" cy="1904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rcRect l="0" t="0" r="53475" b="5866"/>
          <a:stretch/>
        </p:blipFill>
        <p:spPr>
          <a:xfrm>
            <a:off x="7991640" y="189000"/>
            <a:ext cx="1152360" cy="35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Falando sobre desafios</a:t>
            </a:r>
            <a:br>
              <a:rPr sz="3600"/>
            </a:b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ou Por que é um grande desafio?</a:t>
            </a:r>
            <a:endParaRPr b="0" lang="en-US" sz="2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ff9933"/>
              </a:buClr>
              <a:buSzPct val="6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o ponto de vista científico, há muito por ser feito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0066ff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ão redes com características bem distintas das redes tradicionais como a Intern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0066ff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jetar aplicações para essas redes é desafiante devido à larga escala e várias restrições (físicas, operacionai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9933"/>
              </a:buClr>
              <a:buSzPct val="9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ão temos ainda fundamentos e modelos apropri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0066ff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agem com várias outras áreas do conhecimento humano (aplicaçõe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9933"/>
              </a:buClr>
              <a:buSzPct val="9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ses modelos não estão claros ai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Falando sobre desafios</a:t>
            </a:r>
            <a:br>
              <a:rPr sz="3200"/>
            </a:b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ou Por que interessa à CC em nível de excelência internacional?</a:t>
            </a:r>
            <a:endParaRPr b="0" lang="en-US" sz="2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33"/>
              </a:buClr>
              <a:buSzPct val="6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Aplicabilidade desse tipo de re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9933"/>
              </a:buClr>
              <a:buSzPct val="6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Exemplo real da computação ubíqüa, “pervasiva”, autonômic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9933"/>
              </a:buClr>
              <a:buSzPct val="6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Expande a nossa capacidade e habilidade de interagir com mundo físico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66ff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entidad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66ff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pesso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66ff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process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ou seja, a obtenção e tratamento da informaçã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33"/>
              </a:buClr>
              <a:buSzPct val="6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eio ambient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66ff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tremamente ric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9933"/>
              </a:buClr>
              <a:buSzPct val="6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conomi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66ff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ra vocação para a agropecuár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9933"/>
              </a:buClr>
              <a:buSzPct val="6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gras de mercad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66ff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stão cada vez mais incorporando aspectos tecnológ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Falando sobre desafios</a:t>
            </a:r>
            <a:br>
              <a:rPr sz="3600"/>
            </a:b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ou Por que é relevante para o Brasil?</a:t>
            </a:r>
            <a:endParaRPr b="0" lang="en-US" sz="24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99960" y="1980720"/>
            <a:ext cx="3810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io ambient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6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m 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% das espécies conheci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6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á entre os 15 países com maior grau de diversida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6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míferos, peixes de água doce e plantas 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lug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6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fíbios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lug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6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ássaros (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lug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6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épteis (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lug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6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É um dos 5 países com o maior número de espécies endêmic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373640" y="1820880"/>
            <a:ext cx="4736880" cy="40370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529160" y="5773680"/>
            <a:ext cx="407520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ted Nations Environment Program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ld Conservation Monitoring Cen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unep-wcmc.org/ forest/data/country/bra.ht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Falando sobre desafios</a:t>
            </a:r>
            <a:br>
              <a:rPr sz="3600"/>
            </a:b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ou Por que é relevante para o Brasil?</a:t>
            </a:r>
            <a:endParaRPr b="0" lang="en-US" sz="24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33"/>
              </a:buClr>
              <a:buSzPct val="6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Economia e regras de mercad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66ff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No futuro, será decisivo para o país ter a capacidade de rastrear a qualidade do produto agrícola desde a colheita no campo até a mesa do consumid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9933"/>
              </a:buClr>
              <a:buSzPct val="9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União Européia e o projeto de Segurança Alimentar (1999): </a:t>
            </a:r>
            <a:r>
              <a:rPr b="0" i="1" lang="pt-BR" sz="2000" spc="-1" strike="noStrike">
                <a:solidFill>
                  <a:srgbClr val="000000"/>
                </a:solidFill>
                <a:latin typeface="Tahoma"/>
              </a:rPr>
              <a:t>Food Safety: From the Farm to the F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66ff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Programas de avaliação genética de bovinos de cor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66ff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Processos industria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9933"/>
              </a:buClr>
              <a:buSzPct val="9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Indústria siderúrgica, mineração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Falando sobre desafios</a:t>
            </a:r>
            <a:br>
              <a:rPr sz="3600"/>
            </a:b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ou Por que é relevante para o Brasil?</a:t>
            </a:r>
            <a:endParaRPr b="0" lang="en-US" sz="24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33"/>
              </a:buClr>
              <a:buSzPct val="6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aramente permite criar uma agenda de pesquisa de longo praz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9933"/>
              </a:buClr>
              <a:buSzPct val="6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em o potencial de estabelecer avanços significativos para a CC e outras áreas do conheciment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9933"/>
              </a:buClr>
              <a:buSzPct val="6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É estratégico para o Brasi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Falando sobre desafios</a:t>
            </a:r>
            <a:br>
              <a:rPr sz="3600"/>
            </a:b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ou Por que é viável considerá-lo um desafio?</a:t>
            </a:r>
            <a:endParaRPr b="0" lang="en-US" sz="24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9933"/>
              </a:buClr>
              <a:buSzPct val="6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Academia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Ciências exatas (CC, ...), humanas, sociais, engenhari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9933"/>
              </a:buClr>
              <a:buSzPct val="6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Agências governamentais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EMBRAPA, Inst de Pesquisas da Amazônia,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9933"/>
              </a:buClr>
              <a:buSzPct val="6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Indústri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9933"/>
              </a:buClr>
              <a:buSzPct val="6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Falando sobre desafios</a:t>
            </a:r>
            <a:br>
              <a:rPr sz="3600"/>
            </a:b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ou Quem deverá estar envolvido na sua solução?</a:t>
            </a:r>
            <a:endParaRPr b="0" lang="en-US" sz="24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Obrigado!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68360" y="1773360"/>
            <a:ext cx="8207280" cy="50385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63640" y="2565360"/>
            <a:ext cx="6408720" cy="2664000"/>
          </a:xfrm>
          <a:prstGeom prst="roundRect">
            <a:avLst>
              <a:gd name="adj" fmla="val 16667"/>
            </a:avLst>
          </a:prstGeom>
          <a:solidFill>
            <a:srgbClr val="c5c5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02160" y="5946840"/>
            <a:ext cx="2158920" cy="577800"/>
          </a:xfrm>
          <a:prstGeom prst="cube">
            <a:avLst>
              <a:gd name="adj" fmla="val 25000"/>
            </a:avLst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 TEMPO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2635200"/>
            <a:ext cx="1008360" cy="2519280"/>
          </a:xfrm>
          <a:prstGeom prst="cube">
            <a:avLst>
              <a:gd name="adj" fmla="val 25000"/>
            </a:avLst>
          </a:prstGeom>
          <a:solidFill>
            <a:srgbClr val="277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3284640"/>
            <a:ext cx="1008000" cy="1439640"/>
          </a:xfrm>
          <a:prstGeom prst="cube">
            <a:avLst>
              <a:gd name="adj" fmla="val 25000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5240" y="3714840"/>
            <a:ext cx="2158920" cy="1152360"/>
          </a:xfrm>
          <a:prstGeom prst="cube">
            <a:avLst>
              <a:gd name="adj" fmla="val 25000"/>
            </a:avLst>
          </a:prstGeom>
          <a:solidFill>
            <a:srgbClr val="c49b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CESS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02160" y="2635200"/>
            <a:ext cx="2158920" cy="793800"/>
          </a:xfrm>
          <a:prstGeom prst="cube">
            <a:avLst>
              <a:gd name="adj" fmla="val 25000"/>
            </a:avLst>
          </a:prstGeom>
          <a:solidFill>
            <a:srgbClr val="c5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MÓ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21440" y="2708280"/>
            <a:ext cx="1008000" cy="2087640"/>
          </a:xfrm>
          <a:prstGeom prst="cube">
            <a:avLst>
              <a:gd name="adj" fmla="val 25000"/>
            </a:avLst>
          </a:prstGeom>
          <a:solidFill>
            <a:srgbClr val="29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12720" y="2635200"/>
            <a:ext cx="1008000" cy="2519280"/>
            <a:chOff x="612720" y="2635200"/>
            <a:chExt cx="1008000" cy="2519280"/>
          </a:xfrm>
        </p:grpSpPr>
        <p:sp>
          <p:nvSpPr>
            <p:cNvPr id="51" name=""/>
            <p:cNvSpPr/>
            <p:nvPr/>
          </p:nvSpPr>
          <p:spPr>
            <a:xfrm>
              <a:off x="612720" y="2635200"/>
              <a:ext cx="1008000" cy="2519280"/>
            </a:xfrm>
            <a:prstGeom prst="cube">
              <a:avLst>
                <a:gd name="adj" fmla="val 25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72720" y="3138480"/>
              <a:ext cx="3589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14160" y="2851200"/>
              <a:ext cx="3589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844720" y="378792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37080" y="3438360"/>
            <a:ext cx="289080" cy="493920"/>
          </a:xfrm>
          <a:prstGeom prst="upDownArrow">
            <a:avLst>
              <a:gd name="adj1" fmla="val 50000"/>
              <a:gd name="adj2" fmla="val 34013"/>
            </a:avLst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02160" y="5442120"/>
            <a:ext cx="2158920" cy="577800"/>
          </a:xfrm>
          <a:prstGeom prst="cube">
            <a:avLst>
              <a:gd name="adj" fmla="val 25000"/>
            </a:avLst>
          </a:prstGeom>
          <a:solidFill>
            <a:srgbClr val="c4c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GORIT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29080" y="1916280"/>
            <a:ext cx="2305080" cy="4824360"/>
          </a:xfrm>
          <a:custGeom>
            <a:avLst/>
            <a:gdLst>
              <a:gd name="textAreaLeft" fmla="*/ 112320 w 2305080"/>
              <a:gd name="textAreaRight" fmla="*/ 2192760 w 2305080"/>
              <a:gd name="textAreaTop" fmla="*/ 112320 h 4824360"/>
              <a:gd name="textAreaBottom" fmla="*/ 4712040 h 4824360"/>
            </a:gdLst>
            <a:ahLst/>
            <a:rect l="textAreaLeft" t="textAreaTop" r="textAreaRight" b="textAreaBottom"/>
            <a:pathLst>
              <a:path w="21600" h="45203">
                <a:moveTo>
                  <a:pt x="3600" y="0"/>
                </a:moveTo>
                <a:arcTo wR="3600" hR="3600" stAng="16200000" swAng="-5400000"/>
                <a:lnTo>
                  <a:pt x="0" y="41603"/>
                </a:lnTo>
                <a:arcTo wR="3600" hR="3600" stAng="10800000" swAng="-5400000"/>
                <a:lnTo>
                  <a:pt x="18000" y="45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645080" y="4869000"/>
            <a:ext cx="100800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5653080" y="4869000"/>
            <a:ext cx="100800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08000" y="1916280"/>
            <a:ext cx="2376720" cy="3457440"/>
          </a:xfrm>
          <a:custGeom>
            <a:avLst/>
            <a:gdLst>
              <a:gd name="textAreaLeft" fmla="*/ 115920 w 2376720"/>
              <a:gd name="textAreaRight" fmla="*/ 2260800 w 2376720"/>
              <a:gd name="textAreaTop" fmla="*/ 115920 h 3457440"/>
              <a:gd name="textAreaBottom" fmla="*/ 3341520 h 3457440"/>
            </a:gdLst>
            <a:ahLst/>
            <a:rect l="textAreaLeft" t="textAreaTop" r="textAreaRight" b="textAreaBottom"/>
            <a:pathLst>
              <a:path w="21600" h="31420">
                <a:moveTo>
                  <a:pt x="3600" y="0"/>
                </a:moveTo>
                <a:arcTo wR="3600" hR="3600" stAng="16200000" swAng="-5400000"/>
                <a:lnTo>
                  <a:pt x="0" y="27820"/>
                </a:lnTo>
                <a:arcTo wR="3600" hR="3600" stAng="10800000" swAng="-5400000"/>
                <a:lnTo>
                  <a:pt x="18000" y="314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49480" y="1916280"/>
            <a:ext cx="21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e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 Sensori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03240" y="1916280"/>
            <a:ext cx="221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e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 Process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77080" y="1916280"/>
            <a:ext cx="1584360" cy="345744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3457440"/>
              <a:gd name="textAreaBottom" fmla="*/ 3380400 h 3457440"/>
            </a:gdLst>
            <a:ahLst/>
            <a:rect l="textAreaLeft" t="textAreaTop" r="textAreaRight" b="textAreaBottom"/>
            <a:pathLst>
              <a:path w="21600" h="47130">
                <a:moveTo>
                  <a:pt x="3600" y="0"/>
                </a:moveTo>
                <a:arcTo wR="3600" hR="3600" stAng="16200000" swAng="-5400000"/>
                <a:lnTo>
                  <a:pt x="0" y="43530"/>
                </a:lnTo>
                <a:arcTo wR="3600" hR="3600" stAng="10800000" swAng="-5400000"/>
                <a:lnTo>
                  <a:pt x="18000" y="471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32720" y="199692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unic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6629760" y="3972600"/>
            <a:ext cx="288720" cy="493560"/>
          </a:xfrm>
          <a:prstGeom prst="upDownArrow">
            <a:avLst>
              <a:gd name="adj1" fmla="val 50000"/>
              <a:gd name="adj2" fmla="val 34031"/>
            </a:avLst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41800" y="407520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76360" y="3787920"/>
            <a:ext cx="503280" cy="287280"/>
          </a:xfrm>
          <a:prstGeom prst="rightArrow">
            <a:avLst>
              <a:gd name="adj1" fmla="val 50000"/>
              <a:gd name="adj2" fmla="val 43797"/>
            </a:avLst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11960" y="1125360"/>
            <a:ext cx="1579680" cy="642600"/>
            <a:chOff x="111960" y="1125360"/>
            <a:chExt cx="1579680" cy="642600"/>
          </a:xfrm>
        </p:grpSpPr>
        <p:sp>
          <p:nvSpPr>
            <p:cNvPr id="69" name=""/>
            <p:cNvSpPr/>
            <p:nvPr/>
          </p:nvSpPr>
          <p:spPr>
            <a:xfrm>
              <a:off x="166680" y="1157400"/>
              <a:ext cx="1454040" cy="609480"/>
            </a:xfrm>
            <a:prstGeom prst="wedgeRoundRectCallout">
              <a:avLst>
                <a:gd name="adj1" fmla="val 23472"/>
                <a:gd name="adj2" fmla="val 191925"/>
                <a:gd name="adj3" fmla="val 16667"/>
              </a:avLst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1960" y="1125360"/>
              <a:ext cx="157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Tempo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vida limit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203640" y="1131840"/>
            <a:ext cx="1454040" cy="642600"/>
            <a:chOff x="3203640" y="1131840"/>
            <a:chExt cx="1454040" cy="642600"/>
          </a:xfrm>
        </p:grpSpPr>
        <p:sp>
          <p:nvSpPr>
            <p:cNvPr id="72" name=""/>
            <p:cNvSpPr/>
            <p:nvPr/>
          </p:nvSpPr>
          <p:spPr>
            <a:xfrm>
              <a:off x="3203640" y="1163520"/>
              <a:ext cx="1454040" cy="609840"/>
            </a:xfrm>
            <a:prstGeom prst="wedgeRoundRectCallout">
              <a:avLst>
                <a:gd name="adj1" fmla="val 42685"/>
                <a:gd name="adj2" fmla="val 211458"/>
                <a:gd name="adj3" fmla="val 16667"/>
              </a:avLst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78600" y="113184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Memó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limit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rquitetura típica de um nó sensor</a:t>
            </a:r>
            <a:br>
              <a:rPr sz="3200"/>
            </a:b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971640" y="6021360"/>
            <a:ext cx="1454040" cy="647640"/>
            <a:chOff x="971640" y="6021360"/>
            <a:chExt cx="1454040" cy="647640"/>
          </a:xfrm>
        </p:grpSpPr>
        <p:sp>
          <p:nvSpPr>
            <p:cNvPr id="76" name=""/>
            <p:cNvSpPr/>
            <p:nvPr/>
          </p:nvSpPr>
          <p:spPr>
            <a:xfrm>
              <a:off x="971640" y="6059520"/>
              <a:ext cx="1454040" cy="609480"/>
            </a:xfrm>
            <a:prstGeom prst="wedgeRoundRectCallout">
              <a:avLst>
                <a:gd name="adj1" fmla="val 45305"/>
                <a:gd name="adj2" fmla="val -198175"/>
                <a:gd name="adj3" fmla="val 16667"/>
              </a:avLst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73800" y="6021360"/>
              <a:ext cx="138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Requ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supervis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2815560" y="6021360"/>
            <a:ext cx="1563120" cy="647640"/>
            <a:chOff x="2815560" y="6021360"/>
            <a:chExt cx="1563120" cy="647640"/>
          </a:xfrm>
        </p:grpSpPr>
        <p:sp>
          <p:nvSpPr>
            <p:cNvPr id="79" name=""/>
            <p:cNvSpPr/>
            <p:nvPr/>
          </p:nvSpPr>
          <p:spPr>
            <a:xfrm>
              <a:off x="2843280" y="6059520"/>
              <a:ext cx="1512720" cy="609480"/>
            </a:xfrm>
            <a:prstGeom prst="wedgeRoundRectCallout">
              <a:avLst>
                <a:gd name="adj1" fmla="val 63009"/>
                <a:gd name="adj2" fmla="val -243750"/>
                <a:gd name="adj3" fmla="val 16667"/>
              </a:avLst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15560" y="6021360"/>
              <a:ext cx="156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Process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mais l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580000" y="1131840"/>
            <a:ext cx="1454040" cy="642600"/>
            <a:chOff x="5580000" y="1131840"/>
            <a:chExt cx="1454040" cy="642600"/>
          </a:xfrm>
        </p:grpSpPr>
        <p:sp>
          <p:nvSpPr>
            <p:cNvPr id="82" name=""/>
            <p:cNvSpPr/>
            <p:nvPr/>
          </p:nvSpPr>
          <p:spPr>
            <a:xfrm>
              <a:off x="5580000" y="1163520"/>
              <a:ext cx="1454040" cy="609840"/>
            </a:xfrm>
            <a:prstGeom prst="wedgeRoundRectCallout">
              <a:avLst>
                <a:gd name="adj1" fmla="val 48143"/>
                <a:gd name="adj2" fmla="val 246356"/>
                <a:gd name="adj3" fmla="val 16667"/>
              </a:avLst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4000" y="1131840"/>
              <a:ext cx="136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Baix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velocida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Estrutura típica de uma RSSF</a:t>
            </a:r>
            <a:br>
              <a:rPr sz="3200"/>
            </a:b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401840" y="1844640"/>
            <a:ext cx="7851600" cy="4969080"/>
            <a:chOff x="1401840" y="1844640"/>
            <a:chExt cx="7851600" cy="496908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1401840" y="1844640"/>
              <a:ext cx="7345440" cy="496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512720" y="221472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ad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13080" y="387180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ater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40200" y="3798720"/>
              <a:ext cx="1389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ec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ra senso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86000" y="4449600"/>
              <a:ext cx="105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Nó sens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19280" y="4952880"/>
              <a:ext cx="91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91480" y="4614840"/>
              <a:ext cx="101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91800" y="3367080"/>
              <a:ext cx="167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6600"/>
                  </a:solidFill>
                  <a:latin typeface="Arial"/>
                </a:rPr>
                <a:t>Dado process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27360" y="4214880"/>
              <a:ext cx="180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Comando/Consul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99680" y="3638520"/>
              <a:ext cx="155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anco de d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227640" y="2917800"/>
              <a:ext cx="118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bservad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27840" y="6453360"/>
              <a:ext cx="85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Ev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0240" y="1146240"/>
            <a:ext cx="1949400" cy="1419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7640" y="2492280"/>
            <a:ext cx="1512720" cy="459000"/>
          </a:xfrm>
          <a:prstGeom prst="rect">
            <a:avLst/>
          </a:prstGeom>
          <a:solidFill>
            <a:srgbClr val="dcb9ff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Tahoma"/>
              </a:rPr>
              <a:t>Nó sensor Mic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Tahoma"/>
              </a:rPr>
              <a:t>Crossb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Tahoma"/>
              </a:rPr>
              <a:t>Características comuns das RSSFs</a:t>
            </a:r>
            <a:br>
              <a:rPr sz="3200"/>
            </a:b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33"/>
              </a:buClr>
              <a:buSzPct val="6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Quantidade e variedade de sensor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66ff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Redes com diferentes tamanhos: 10</a:t>
            </a:r>
            <a:r>
              <a:rPr b="0" lang="pt-BR" sz="22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 a 10</a:t>
            </a:r>
            <a:r>
              <a:rPr b="0" lang="pt-BR" sz="2200" spc="-1" strike="noStrike" baseline="30000">
                <a:solidFill>
                  <a:srgbClr val="000000"/>
                </a:solidFill>
                <a:latin typeface="Tahoma"/>
              </a:rPr>
              <a:t>5+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 nó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9933"/>
              </a:buClr>
              <a:buSzPct val="6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Diferentes soluções de projet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66ff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São fortemente dependentes da aplicaçã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9933"/>
              </a:buClr>
              <a:buSzPct val="6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Projeto deve considerar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66ff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Compromisso entre desempenho, custo, tempo de vida, quantidade de dados, et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66ff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Processamento dentro da re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66ff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Autonom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66ff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Flexibilida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Tahoma"/>
              </a:rPr>
              <a:t>Possíveis aplicações para RSSFs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33"/>
              </a:buClr>
              <a:buSzPct val="6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as mais diversas áreas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66ff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nitoramento ambiental, industri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66ff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gropecuár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66ff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astreamento de objet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66ff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guranç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66ff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iotecnolog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66ff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plicações cognitiv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26920" y="5516640"/>
            <a:ext cx="962280" cy="952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170080" y="5562720"/>
            <a:ext cx="961920" cy="961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419640" y="5589720"/>
            <a:ext cx="942840" cy="942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716360" y="558972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012000" y="5589720"/>
            <a:ext cx="952200" cy="961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7308720" y="5589720"/>
            <a:ext cx="95256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Tahoma"/>
              </a:rPr>
              <a:t>Possíveis aplicações para RSSFs</a:t>
            </a:r>
            <a:br>
              <a:rPr sz="3200"/>
            </a:br>
            <a:r>
              <a:rPr b="0" lang="pt-BR" sz="3200" spc="-1" strike="noStrike">
                <a:solidFill>
                  <a:srgbClr val="ff0000"/>
                </a:solidFill>
                <a:latin typeface="Tahoma"/>
              </a:rPr>
              <a:t>Monitoramento ambiental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33"/>
              </a:buClr>
              <a:buSzPct val="6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Água: qualidade, volume, vazão, etc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9933"/>
              </a:buClr>
              <a:buSzPct val="6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Detecção e prevenção de incêndi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714240" y="3198960"/>
            <a:ext cx="7672320" cy="3085920"/>
            <a:chOff x="714240" y="3198960"/>
            <a:chExt cx="7672320" cy="3085920"/>
          </a:xfrm>
        </p:grpSpPr>
        <p:grpSp>
          <p:nvGrpSpPr>
            <p:cNvPr id="113" name=""/>
            <p:cNvGrpSpPr/>
            <p:nvPr/>
          </p:nvGrpSpPr>
          <p:grpSpPr>
            <a:xfrm>
              <a:off x="714240" y="3198960"/>
              <a:ext cx="7672320" cy="3085920"/>
              <a:chOff x="714240" y="3198960"/>
              <a:chExt cx="7672320" cy="3085920"/>
            </a:xfrm>
          </p:grpSpPr>
          <p:pic>
            <p:nvPicPr>
              <p:cNvPr id="11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850920" y="3198960"/>
                <a:ext cx="4535640" cy="308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14240" y="3213000"/>
                <a:ext cx="2989080" cy="2989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6" name=""/>
            <p:cNvSpPr/>
            <p:nvPr/>
          </p:nvSpPr>
          <p:spPr>
            <a:xfrm>
              <a:off x="4535280" y="5877000"/>
              <a:ext cx="287280" cy="287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622920" y="5300640"/>
              <a:ext cx="71280" cy="730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02200" y="5661000"/>
              <a:ext cx="71280" cy="716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9" name=""/>
            <p:cNvGraphicFramePr/>
            <p:nvPr/>
          </p:nvGraphicFramePr>
          <p:xfrm>
            <a:off x="4606560" y="5950080"/>
            <a:ext cx="174960" cy="17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06560" y="5950080"/>
                      <a:ext cx="174960" cy="17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1" name=""/>
            <p:cNvSpPr/>
            <p:nvPr/>
          </p:nvSpPr>
          <p:spPr>
            <a:xfrm>
              <a:off x="6659280" y="4152960"/>
              <a:ext cx="67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49600" y="4368960"/>
              <a:ext cx="67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5"/>
            <a:stretch/>
          </p:blipFill>
          <p:spPr>
            <a:xfrm>
              <a:off x="7846920" y="4078440"/>
              <a:ext cx="22860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6"/>
            <a:stretch/>
          </p:blipFill>
          <p:spPr>
            <a:xfrm>
              <a:off x="7878600" y="5429160"/>
              <a:ext cx="22860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7"/>
            <a:stretch/>
          </p:blipFill>
          <p:spPr>
            <a:xfrm>
              <a:off x="7975440" y="5959440"/>
              <a:ext cx="22860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8"/>
            <a:stretch/>
          </p:blipFill>
          <p:spPr>
            <a:xfrm>
              <a:off x="7556400" y="5792760"/>
              <a:ext cx="22860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9"/>
            <a:stretch/>
          </p:blipFill>
          <p:spPr>
            <a:xfrm>
              <a:off x="7165800" y="5873760"/>
              <a:ext cx="22860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10"/>
            <a:stretch/>
          </p:blipFill>
          <p:spPr>
            <a:xfrm>
              <a:off x="6480000" y="6087960"/>
              <a:ext cx="22860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11"/>
            <a:stretch/>
          </p:blipFill>
          <p:spPr>
            <a:xfrm>
              <a:off x="5790960" y="5999040"/>
              <a:ext cx="22860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12"/>
            <a:stretch/>
          </p:blipFill>
          <p:spPr>
            <a:xfrm>
              <a:off x="4557600" y="5951520"/>
              <a:ext cx="228600" cy="19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Tahoma"/>
              </a:rPr>
              <a:t>Possíveis aplicações para RSSFs</a:t>
            </a:r>
            <a:br>
              <a:rPr sz="3200"/>
            </a:br>
            <a:r>
              <a:rPr b="0" lang="pt-BR" sz="3200" spc="-1" strike="noStrike">
                <a:solidFill>
                  <a:srgbClr val="ff0000"/>
                </a:solidFill>
                <a:latin typeface="Tahoma"/>
              </a:rPr>
              <a:t>Monitoramento ambiental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Monitoramento de habitat na </a:t>
            </a:r>
            <a:r>
              <a:rPr b="0" i="1" lang="pt-BR" sz="1800" spc="-1" strike="noStrike">
                <a:solidFill>
                  <a:srgbClr val="000000"/>
                </a:solidFill>
                <a:latin typeface="Tahoma"/>
              </a:rPr>
              <a:t>Great Duck Island, Maine, USA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(http://www.greatduckisland.net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SzPct val="6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32 nós depositados na ilh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SzPct val="6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Cada nó: microcontrolador, rádio de baixa potência, memória e bateri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SzPct val="6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Sensores: temperatura, umidade, pressão barométrica, e infra-vermelh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Objetivo: monitorar os microclimas de ninhos e vizinhanças usados por </a:t>
            </a:r>
            <a:r>
              <a:rPr b="0" i="1" lang="pt-BR" sz="1800" spc="-1" strike="noStrike">
                <a:solidFill>
                  <a:srgbClr val="000000"/>
                </a:solidFill>
                <a:latin typeface="Tahoma"/>
              </a:rPr>
              <a:t>Storm Petre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0" y="3952800"/>
            <a:ext cx="2481120" cy="2293920"/>
            <a:chOff x="0" y="3952800"/>
            <a:chExt cx="2481120" cy="229392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0" y="3952800"/>
              <a:ext cx="2481120" cy="229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1521000" y="5793480"/>
              <a:ext cx="942480" cy="422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2476440" y="3951360"/>
            <a:ext cx="2014560" cy="2282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495680" y="3940200"/>
            <a:ext cx="3090960" cy="2317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7551720" y="3924360"/>
            <a:ext cx="159228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Tahoma"/>
              </a:rPr>
              <a:t>Possíveis aplicações para RSSFs</a:t>
            </a:r>
            <a:br>
              <a:rPr sz="3200"/>
            </a:br>
            <a:r>
              <a:rPr b="0" lang="pt-BR" sz="3200" spc="-1" strike="noStrike">
                <a:solidFill>
                  <a:srgbClr val="ff0000"/>
                </a:solidFill>
                <a:latin typeface="Tahoma"/>
              </a:rPr>
              <a:t>Desastre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224000" y="1825560"/>
            <a:ext cx="2971800" cy="2022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219320" y="3913200"/>
            <a:ext cx="2968560" cy="2284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237200" y="1814400"/>
            <a:ext cx="3614400" cy="438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6840" y="58320"/>
            <a:ext cx="634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ustrália usa “sensor nuclear” para monitorar corais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Tahoma"/>
              </a:rPr>
              <a:t>17 de janeiro de 2006, Jake Krausmann, da BBC Brasi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Tahoma"/>
              </a:rPr>
              <a:t>http://www1.folha.uol.com.br/folha/bbc/ult272u50030.shtm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pt-BR" sz="1900" spc="-1" strike="noStrike">
                <a:solidFill>
                  <a:srgbClr val="3333cc"/>
                </a:solidFill>
                <a:latin typeface="Tahoma"/>
              </a:rPr>
              <a:t>Cientistas estão implementando uma rede de sensores na Grande Barreira de Corais da Austrália para monitorar e tentar impedir a degradação do sistema.</a:t>
            </a:r>
            <a:r>
              <a:rPr b="0" lang="pt-BR" sz="1900" spc="-1" strike="noStrike">
                <a:solidFill>
                  <a:srgbClr val="000000"/>
                </a:solidFill>
                <a:latin typeface="Tahoma"/>
              </a:rPr>
              <a:t> Os sensores "inteligentes" foram originalmente desenvolvidos para o uso em usinas nucleares. O atual projeto, tocado pelo Instituto Australiano de Ciência Marinha (AIMS, na sigla em inglês) junto com a Universidade James CooK, tem como objetivo observar eventuais problemas antes que eles destruam os corais. Os sensores podem se comunicar entre si e monitorar alterações como a perda de cor dos corais. Salinidade, temperatura e nível de nutrientes na água também serão medidos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pt-BR" sz="1900" spc="-1" strike="noStrike">
                <a:solidFill>
                  <a:srgbClr val="000000"/>
                </a:solidFill>
                <a:latin typeface="Tahoma"/>
              </a:rPr>
              <a:t>Ação.</a:t>
            </a:r>
            <a:r>
              <a:rPr b="0" lang="pt-BR" sz="1900" spc="-1" strike="noStrike">
                <a:solidFill>
                  <a:srgbClr val="000000"/>
                </a:solidFill>
                <a:latin typeface="Tahoma"/>
              </a:rPr>
              <a:t> "Um dos problemas é nossa tendência (dos cientistas) de monitorar as coisas após elas terem acontecido, vendo portanto mais os efeitos do que as causas", diz Scott Bainbridge, coordenador de tecnologia e dados do Aims. "Um bom exemplo disso é o desbotamento dos corais", disse ele. "Quando a temperatura aumenta, vemos os corais se tornando brancos e começamos então a fazer medições quando não há mais nada a se fazer. O que precisamos é monitoramento constante desses sistemas." A intenção final é que o monitoramento ajude na preservação dos corais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013600" y="0"/>
            <a:ext cx="109548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2:51:42Z</dcterms:created>
  <dc:creator>Antonio A F Loureiro</dc:creator>
  <dc:description/>
  <dc:language>en-US</dc:language>
  <cp:lastModifiedBy>Antonio A F Loureiro</cp:lastModifiedBy>
  <dcterms:modified xsi:type="dcterms:W3CDTF">2006-05-08T11:28:47Z</dcterms:modified>
  <cp:revision>25</cp:revision>
  <dc:subject/>
  <dc:title>Review</dc:title>
</cp:coreProperties>
</file>