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8C79-682B-4100-9DEB-BFB65BB4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7280" y="1469880"/>
            <a:ext cx="854064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287280" y="4165200"/>
            <a:ext cx="854064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1A99-02B0-4F13-89DA-F64AE1B5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7280" y="1469880"/>
            <a:ext cx="416772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3800" y="1469880"/>
            <a:ext cx="416772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87280" y="4165200"/>
            <a:ext cx="416772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3800" y="4165200"/>
            <a:ext cx="416772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B58A5-0192-4EE2-BD68-FF6C3D55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7280" y="1469880"/>
            <a:ext cx="274968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174840" y="1469880"/>
            <a:ext cx="274968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62400" y="1469880"/>
            <a:ext cx="274968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287280" y="4165200"/>
            <a:ext cx="274968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174840" y="4165200"/>
            <a:ext cx="274968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62400" y="4165200"/>
            <a:ext cx="274968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F5B5-5B70-4137-8484-40E29DA1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98A6A-FE86-42A1-9C2B-AF34ACD2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87280" y="1469880"/>
            <a:ext cx="854064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43272-DAAE-468B-A63F-5EA80237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7280" y="1469880"/>
            <a:ext cx="854064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4B941-9A5D-4828-9744-5E660AB8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87280" y="1469880"/>
            <a:ext cx="416772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3800" y="1469880"/>
            <a:ext cx="416772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FC1B6-C4EA-4EFB-9144-C1C2197B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258D5-43CF-4336-85FB-EF7575B8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1680" y="-36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56C48-B252-484F-9602-1EDB973E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87280" y="1469880"/>
            <a:ext cx="416772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3800" y="1469880"/>
            <a:ext cx="416772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87280" y="4165200"/>
            <a:ext cx="416772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0D351-C76B-49B0-9D8A-B067CB92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87280" y="1469880"/>
            <a:ext cx="854064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966D2-3A25-4A59-B720-AD32AAB7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7280" y="1469880"/>
            <a:ext cx="416772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3800" y="1469880"/>
            <a:ext cx="416772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3800" y="4165200"/>
            <a:ext cx="416772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4F2FF-3939-4A24-B44B-9E3C8981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87280" y="1469880"/>
            <a:ext cx="416772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3800" y="1469880"/>
            <a:ext cx="416772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287280" y="4165200"/>
            <a:ext cx="854064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0D5EF-6C57-4B9B-AC83-C9EAE760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87280" y="1469880"/>
            <a:ext cx="854064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87280" y="4165200"/>
            <a:ext cx="854064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F957C-F4E8-47CB-9597-B1A40815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87280" y="1469880"/>
            <a:ext cx="416772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3800" y="1469880"/>
            <a:ext cx="416772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87280" y="4165200"/>
            <a:ext cx="416772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3800" y="4165200"/>
            <a:ext cx="416772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3FC28-A47C-45DC-8560-5F6662EB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7280" y="1469880"/>
            <a:ext cx="274968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174840" y="1469880"/>
            <a:ext cx="274968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62400" y="1469880"/>
            <a:ext cx="274968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287280" y="4165200"/>
            <a:ext cx="274968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174840" y="4165200"/>
            <a:ext cx="274968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62400" y="4165200"/>
            <a:ext cx="274968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C758C-55A5-4849-A2EA-E4A9BE17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87280" y="1469880"/>
            <a:ext cx="854064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C0F60-FF35-4B4D-95EA-E14DE208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87280" y="1469880"/>
            <a:ext cx="416772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3800" y="1469880"/>
            <a:ext cx="416772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CE1E-F6A1-4D9E-B517-BFC1BD41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0FF4-72DC-42C7-8415-46394BC8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01680" y="-36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967F-90F3-46F5-AB75-4F470914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87280" y="1469880"/>
            <a:ext cx="416772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3800" y="1469880"/>
            <a:ext cx="416772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87280" y="4165200"/>
            <a:ext cx="416772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183B9-A43E-489C-96B8-4C7AB6EA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87280" y="1469880"/>
            <a:ext cx="416772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3800" y="1469880"/>
            <a:ext cx="416772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3800" y="4165200"/>
            <a:ext cx="416772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CC783-13FB-42F9-928C-D459AD13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87280" y="1469880"/>
            <a:ext cx="416772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3800" y="1469880"/>
            <a:ext cx="416772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87280" y="4165200"/>
            <a:ext cx="8540640" cy="24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670C-B15A-4D3A-B9FA-0D29CFB0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ldNum" idx="1"/>
          </p:nvPr>
        </p:nvSpPr>
        <p:spPr>
          <a:xfrm>
            <a:off x="6786720" y="6629040"/>
            <a:ext cx="228888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B98A-FB22-4935-9D65-97CC17632F95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body"/>
          </p:nvPr>
        </p:nvSpPr>
        <p:spPr>
          <a:xfrm>
            <a:off x="287280" y="1469880"/>
            <a:ext cx="854064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dt" idx="2"/>
          </p:nvPr>
        </p:nvSpPr>
        <p:spPr>
          <a:xfrm>
            <a:off x="0" y="6629400"/>
            <a:ext cx="2286000" cy="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ffffff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1" lang="de-DE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Tahoma"/>
              </a:rPr>
              <a:t>Angelo Bray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3"/>
          </p:nvPr>
        </p:nvSpPr>
        <p:spPr>
          <a:xfrm>
            <a:off x="2916000" y="6629400"/>
            <a:ext cx="3608280" cy="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ahoma"/>
              </a:rPr>
              <a:t>Grandes Desafios - S. Paulo, Maio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461080" y="0"/>
            <a:ext cx="781200" cy="851040"/>
            <a:chOff x="8461080" y="0"/>
            <a:chExt cx="781200" cy="851040"/>
          </a:xfrm>
        </p:grpSpPr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8558280" y="0"/>
              <a:ext cx="5824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8461080" y="574560"/>
              <a:ext cx="781200" cy="276480"/>
            </a:xfrm>
            <a:prstGeom prst="rect">
              <a:avLst/>
            </a:prstGeom>
            <a:solidFill>
              <a:srgbClr val="5a5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UNIF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1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Num" idx="4"/>
          </p:nvPr>
        </p:nvSpPr>
        <p:spPr>
          <a:xfrm>
            <a:off x="7362720" y="6629040"/>
            <a:ext cx="171288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C074-FFE0-4F91-8148-835B6564BADD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5"/>
          </p:nvPr>
        </p:nvSpPr>
        <p:spPr>
          <a:xfrm>
            <a:off x="0" y="6629400"/>
            <a:ext cx="2286000" cy="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ffffff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1" lang="de-DE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Tahoma"/>
              </a:rPr>
              <a:t>Angelo Bray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6"/>
          </p:nvPr>
        </p:nvSpPr>
        <p:spPr>
          <a:xfrm>
            <a:off x="2916000" y="6629400"/>
            <a:ext cx="3608280" cy="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ahoma"/>
              </a:rPr>
              <a:t>Grandes Desafios - S. Paulo, Maio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8461080" y="0"/>
            <a:ext cx="781200" cy="851040"/>
            <a:chOff x="8461080" y="0"/>
            <a:chExt cx="781200" cy="851040"/>
          </a:xfrm>
        </p:grpSpPr>
        <p:pic>
          <p:nvPicPr>
            <p:cNvPr id="351" name="" descr=""/>
            <p:cNvPicPr/>
            <p:nvPr/>
          </p:nvPicPr>
          <p:blipFill>
            <a:blip r:embed="rId2"/>
            <a:stretch/>
          </p:blipFill>
          <p:spPr>
            <a:xfrm>
              <a:off x="8558280" y="0"/>
              <a:ext cx="5824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8461080" y="574560"/>
              <a:ext cx="781200" cy="276480"/>
            </a:xfrm>
            <a:prstGeom prst="rect">
              <a:avLst/>
            </a:prstGeom>
            <a:solidFill>
              <a:srgbClr val="5a5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</a:rPr>
                <a:t>UNIF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3840" cy="20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rviços Computacionais para Todos em Qualquer Lugar e a Qualquer Momento</a:t>
            </a:r>
            <a:r>
              <a:rPr b="0" lang="pt-BR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76364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Angelo Bray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Universidade de Fortale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brayner@unifor.b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ahoma"/>
              </a:rPr>
              <a:t>Grande Desaf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84232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Ir além da fronteira do conhecimen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Desenvolvimento científico-tecnológic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Inclusão digit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ahoma"/>
              </a:rPr>
              <a:t>Grande Desaf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84232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safi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rviços Computacionais para Todos em Qualquer Lugar e a Qualquer Mom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Premiss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omputação ubíq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Tahoma"/>
              </a:rPr>
              <a:t>Computação móvel + Computação </a:t>
            </a:r>
            <a:r>
              <a:rPr b="1" i="1" lang="pt-BR" sz="2600" spc="-1" strike="noStrike">
                <a:solidFill>
                  <a:srgbClr val="ffffff"/>
                </a:solidFill>
                <a:latin typeface="Tahoma"/>
              </a:rPr>
              <a:t>pervasiv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ahoma"/>
              </a:rPr>
              <a:t>Grande Desaf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8423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Desenvolvimento científico-tecnológico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Gigantesco sistema distribuí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dispositivos computacionais espalhados 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uporte simultâneo a diferentes infra-estruturas de comunicaçã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ahoma"/>
              </a:rPr>
              <a:t>K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, K≤N, dispositivos móve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obilidade nos espaços físico e lóg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ódigos precisam ter ciência do contex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municando-se entre 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Redes 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ad ho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ahoma"/>
              </a:rPr>
              <a:t>Compartilhando dados e serviç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cc"/>
                </a:solidFill>
                <a:latin typeface="Tahoma"/>
              </a:rPr>
              <a:t>Movimento de Serviços e Dispositivos Computacionai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062000" y="1382760"/>
            <a:ext cx="1170000" cy="3773520"/>
            <a:chOff x="1062000" y="1382760"/>
            <a:chExt cx="1170000" cy="3773520"/>
          </a:xfrm>
        </p:grpSpPr>
        <p:sp>
          <p:nvSpPr>
            <p:cNvPr id="400" name=""/>
            <p:cNvSpPr/>
            <p:nvPr/>
          </p:nvSpPr>
          <p:spPr>
            <a:xfrm>
              <a:off x="2122560" y="1628640"/>
              <a:ext cx="0" cy="3527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62000" y="1382760"/>
              <a:ext cx="117000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Logic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pa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122560" y="5138640"/>
            <a:ext cx="7084800" cy="565920"/>
            <a:chOff x="2122560" y="5138640"/>
            <a:chExt cx="7084800" cy="565920"/>
          </a:xfrm>
        </p:grpSpPr>
        <p:sp>
          <p:nvSpPr>
            <p:cNvPr id="403" name=""/>
            <p:cNvSpPr/>
            <p:nvPr/>
          </p:nvSpPr>
          <p:spPr>
            <a:xfrm>
              <a:off x="2122560" y="5156280"/>
              <a:ext cx="64087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37360" y="5138640"/>
              <a:ext cx="117000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hysic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pa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0" y="5156280"/>
            <a:ext cx="2577960" cy="1419840"/>
            <a:chOff x="0" y="5156280"/>
            <a:chExt cx="2577960" cy="1419840"/>
          </a:xfrm>
        </p:grpSpPr>
        <p:sp>
          <p:nvSpPr>
            <p:cNvPr id="406" name=""/>
            <p:cNvSpPr/>
            <p:nvPr/>
          </p:nvSpPr>
          <p:spPr>
            <a:xfrm flipH="1">
              <a:off x="115920" y="5156280"/>
              <a:ext cx="2006640" cy="882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6039000"/>
              <a:ext cx="2577960" cy="53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text-Awarenes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pa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437000" y="4832280"/>
            <a:ext cx="1424160" cy="912960"/>
            <a:chOff x="4437000" y="4832280"/>
            <a:chExt cx="1424160" cy="912960"/>
          </a:xfrm>
        </p:grpSpPr>
        <p:sp>
          <p:nvSpPr>
            <p:cNvPr id="409" name=""/>
            <p:cNvSpPr/>
            <p:nvPr/>
          </p:nvSpPr>
          <p:spPr>
            <a:xfrm>
              <a:off x="4572000" y="4832280"/>
              <a:ext cx="1289160" cy="398880"/>
            </a:xfrm>
            <a:prstGeom prst="rect">
              <a:avLst/>
            </a:prstGeom>
            <a:solidFill>
              <a:srgbClr val="5a5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Host 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437000" y="4888080"/>
              <a:ext cx="1424160" cy="857160"/>
            </a:xfrm>
            <a:prstGeom prst="rect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3111480" y="2986200"/>
            <a:ext cx="457200" cy="457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577960" y="2986200"/>
            <a:ext cx="457200" cy="457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502000" y="2438280"/>
            <a:ext cx="1165320" cy="1081080"/>
            <a:chOff x="2502000" y="2438280"/>
            <a:chExt cx="1165320" cy="1081080"/>
          </a:xfrm>
        </p:grpSpPr>
        <p:sp>
          <p:nvSpPr>
            <p:cNvPr id="414" name=""/>
            <p:cNvSpPr/>
            <p:nvPr/>
          </p:nvSpPr>
          <p:spPr>
            <a:xfrm>
              <a:off x="2502000" y="2529000"/>
              <a:ext cx="1143000" cy="990360"/>
            </a:xfrm>
            <a:prstGeom prst="rect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57520" y="2438280"/>
              <a:ext cx="100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Host 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38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7.40741E-007 L 0.45 7.40741E-007 E">
                                      <p:cBhvr>
                                        <p:cTn id="42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L 0.44965 0 E">
                                      <p:cBhvr>
                                        <p:cTn id="44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0.33333 L 0.45695 0 E">
                                      <p:cBhvr>
                                        <p:cTn id="48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ahoma"/>
              </a:rPr>
              <a:t>Grande Desaf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87280" y="1469880"/>
            <a:ext cx="854064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Inclusão digi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Impacto social do desenvolvimento científico-tecnológ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Qualquer brasileiro ter acesso a serviços computaciona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Web, Ensino à distância, etc 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Sem necessidade de infra-estru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ergia elétrica, PCs, uma rede com ponto de entrada na Internet, softwares, etc.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professor transporta o mundo da computaçã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cesso ao conhecim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 rot="487800">
            <a:off x="5903640" y="6092640"/>
            <a:ext cx="2203200" cy="287280"/>
          </a:xfrm>
          <a:prstGeom prst="leftArrow">
            <a:avLst>
              <a:gd name="adj1" fmla="val 50000"/>
              <a:gd name="adj2" fmla="val 191729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744480" y="2513160"/>
            <a:ext cx="765504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3800" spc="-1" strike="noStrike">
                <a:solidFill>
                  <a:srgbClr val="ffffff"/>
                </a:solidFill>
                <a:latin typeface="Tahoma"/>
              </a:rPr>
              <a:t>No amount of experimentation can ever prove me right; a single experiment can prove me wrong</a:t>
            </a:r>
            <a:r>
              <a:rPr b="0" i="1" lang="pt-BR" sz="3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A. Eins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20:55:57Z</dcterms:created>
  <dc:creator>Unifor</dc:creator>
  <dc:description/>
  <dc:language>en-US</dc:language>
  <cp:lastModifiedBy> Angelo Brayner</cp:lastModifiedBy>
  <dcterms:modified xsi:type="dcterms:W3CDTF">2006-05-08T03:18:49Z</dcterms:modified>
  <cp:revision>37</cp:revision>
  <dc:subject/>
  <dc:title>Serviços Computacionais para Todos em Qualquer Lugar e a Qualquer Momento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