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7AA-8A00-43F9-A071-53A9DF9A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597-4326-4BB1-81B3-2E6A144B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8E9-424E-47EB-A2B6-E1B6A2E1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FE3-DAC4-4DDF-8EE4-5CC8CCC9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5334-277D-4280-858A-913E4FBB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00A-3244-41BC-911D-15181AB8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9A06-6257-4ECB-AA36-267E7F3D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A32F-3B59-425B-9734-86BF21EF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4F25-E1CB-4C8F-86BC-E4FFD71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925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8ECA-5F9A-452A-A4E5-CA0B4E91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1D2A-917C-4B9F-9360-799477B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038-E68D-4DE9-AE0E-AC7CFE1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6FC4-AE28-4D60-8B8A-6B9B0CDA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0DEB-6B9B-4FB7-9C99-550B80F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9B9E-354B-4503-A41C-37361D2C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3180-58C0-41CD-B427-D0F6EB16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0DD8-43B6-4F87-B193-C3D73D2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C17-7E65-4988-9206-274EDA80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01F-C768-4D85-A3C9-A3395FD1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24C-32FC-41AD-99EE-949DFE73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925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B30-24E9-4735-A21A-04D963FE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D9A-1797-47DC-B9FF-D6B34A0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312-F37C-4860-BC5B-B636129B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A39-512A-4231-9BD4-D813E1C1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2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14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14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14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26/04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rndt von St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033-5F5A-4645-930B-7DF9B64651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304920"/>
            <a:ext cx="51120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2732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rndt von St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ormática, PUC-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1E9-481C-47CD-8A88-BADF61B7BB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18520" y="304920"/>
            <a:ext cx="63828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51768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99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38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2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2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Engenharia de Software Fidedigno </a:t>
            </a:r>
            <a:endParaRPr b="0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dt von S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813-A2D5-4A6B-81D6-FF9E540FF6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Contexto</a:t>
            </a: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 problem has no solution, it may not be a problem, but a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- not to be solved, but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to be cop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ith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imon P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ão é uma questão de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se vai falhar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, mas de o que fazer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quando fal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utorandos  João Magalhães e Roberta Coe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033-5D95-4EA1-ACF5-602816815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Axiomas</a:t>
            </a:r>
            <a:endParaRPr b="0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474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sistema sem fa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alguns o melhor que se consegue hoje é em torno de 0,8 erros para cada 10.000 linhas de código p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um sistema não contenha faltas, não o sabe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os de uso humanos são inevi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rrow entre 60 e 80% das falhas são causados por erro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4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identes e agressões ocorrem com probabilidade maior do qu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A74-2A86-4492-BA1E-139554F28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776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7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row, C.; Normal Accidents: Living with High Risk Technologies; Perseus; 1990; citado 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tterson, D. et alii; “Recovery-Oriented Computing (ROC): Motivation, Definition, Techniques, and Case Studies”; Technical Report UCB/CSD-02-1175, Computer Science, University of California Berkeley; 2002; Buscado em: 7/8/2004; URL: http://roc.cs.berkeley.edu/papers/ROC_TR02-1175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F53-400A-4021-AC22-A642D75AD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Alguns problemas com software</a:t>
            </a: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iplined personal practices can reduce defect introduction rates by up to 75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l other things being equal, it costs 50 percent more per source instruction to develop high-dependability software products than to develop low-dependability software products. However, the investment is more than worth it if the project involves significant operations and maintenance cost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out 40 to 50 percent of user programs contain nontrivial de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ehm, B.W.; Basili, V.R.; “Software Defect Reduction Top 10 List”;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IEEE Compute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34(1); 2001; pags 135-1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B42-433D-4227-9E39-2974971F5F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3333cc"/>
                </a:solidFill>
                <a:latin typeface="Arial"/>
              </a:rPr>
              <a:t>The user’s point of view</a:t>
            </a:r>
            <a:endParaRPr b="0" i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rrect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solves the problems that I f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wor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I understand how to u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at I c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fely and reasonably dep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at does not keep going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159-5FA2-4C88-A91A-04332AC06F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Fidedignidade, definição</a:t>
            </a:r>
            <a:endParaRPr b="0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57000"/>
            <a:ext cx="792504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end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fined as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ustworth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computer system such tha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iance can justifiably be pla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service it delivers. The service delivered by a system is its behavior as i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s perceived by its user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a user is another system (human or physical) which interacts with the for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980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nstock, C.B.; Goodenough, J.B.; Hudak, J.J.;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ependability C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CMU/SEI -2004-TN-016, Software Engineering Institute, Carnegie Mellon University;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9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9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980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vizienis, A.; Laprie, J-C.; Randell, B.; Landwehr, C.; “</a:t>
            </a:r>
            <a:r>
              <a:rPr b="0" i="1" lang="pt-BR" sz="1400" spc="-1" strike="noStrike">
                <a:solidFill>
                  <a:srgbClr val="3333cc"/>
                </a:solidFill>
                <a:latin typeface="Arial"/>
              </a:rPr>
              <a:t>Basic Concepts and Taxonomy of Dependable and Secure Computing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”; IEEE Transactions on Dependable and Secure Computing 1(1); Los Alamitos, CA: IEEE Computer Society; 2004; pags 11-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87B-2E7A-4102-9206-32BA98DF73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Características da fidedignidade</a:t>
            </a:r>
            <a:endParaRPr b="0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Disponi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r pronto para prestar serviço correto sempre que solici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Confia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star continuamente serviço corr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Seguranç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habilidade de evitar conseqüências catastróficas tanto aos usuários como a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Prote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de evitar tentativas de agressão bem suced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Privac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de proteger dados e código contra acesso indev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Integr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de se proteger contra corrupção de elementos. (ausência de alterações não permiti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Robustez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de detectar falhas de modo que as conseqüências possam ser mantidas em um patamar aceit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Recupera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em ser rapidamente reposto em operação fidedigna após a ocorrência de uma fal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Manuteni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de ser modificado ou corrigido sem que novos problemas sejam inser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Depurabilida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bilidade de diagnosticar e eliminar as causas de fal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8E6-ADFB-42F5-B447-B7EFE675A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Como alcançar?</a:t>
            </a:r>
            <a:endParaRPr b="0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cesso de desenvolvimento deve ser visto como um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junto de atividades, métodos e técnicas de desenvolvimento utilizadas precisa ser harmonioso, integrado e efic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adianta otimizar uma atividade sem considerar as ou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atividade deve alimentar a pró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mente através de transformações suces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m estar embutidas n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enharia r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engenh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119-00B7-4DBC-B828-D0735D188C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3:05:35Z</dcterms:created>
  <dc:creator>Arndt von Staa</dc:creator>
  <dc:description/>
  <dc:language>en-US</dc:language>
  <cp:lastModifiedBy>Arndt </cp:lastModifiedBy>
  <dcterms:modified xsi:type="dcterms:W3CDTF">2006-05-05T00:15:07Z</dcterms:modified>
  <cp:revision>15</cp:revision>
  <dc:subject/>
  <dc:title>Engenharia de Software Fidedigno </dc:title>
</cp:coreProperties>
</file>