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522-8550-440D-BF37-F1209D0B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4AD-7F2D-4954-AB10-1197BCD4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179-FEE0-4BE3-8B72-9669F4FB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ECC-EFD3-41B9-A15F-35B6F3F0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039-4855-4BD6-826E-0835277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933-9BFD-4B61-85A0-8EBFD50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0EA-1016-4664-ADC5-278ABA9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479-0E4C-42B2-A1C7-BFD40605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292-966E-4F65-884C-6279882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44F-398D-4A3C-B1D8-79CF35A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62F-65AA-467F-B80B-08BDD29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638-FBCB-4F01-A2D2-A9FB364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72D1-46F4-41CC-9076-BB6562B47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Narrativas: Diversão e Conhecim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nio L. Fur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amento de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C/R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usos de narr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bulas –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divertir e ensin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da estó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Bíblia – ensino através de paráb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risprudênc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studo de cas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cínio baseado em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ção de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tórios indexados de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ação de novos textos (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nre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nredos dentro de um certo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êneros literár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tos de fadas, policiais, ficção científic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Brian </a:t>
            </a:r>
            <a:r>
              <a:rPr b="1" lang="en-US" sz="2400" spc="-1" strike="noStrike" u="sng">
                <a:solidFill>
                  <a:srgbClr val="ff99cc"/>
                </a:solidFill>
                <a:uFillTx/>
                <a:latin typeface="Arial"/>
              </a:rPr>
              <a:t>mata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dragão, </a:t>
            </a:r>
            <a:r>
              <a:rPr b="1" lang="en-US" sz="2400" spc="-1" strike="noStrike" u="sng">
                <a:solidFill>
                  <a:srgbClr val="ff99cc"/>
                </a:solidFill>
                <a:uFillTx/>
                <a:latin typeface="Arial"/>
              </a:rPr>
              <a:t>liberta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Marian, </a:t>
            </a:r>
            <a:r>
              <a:rPr b="1" lang="en-US" sz="2400" spc="-1" strike="noStrike" u="sng">
                <a:solidFill>
                  <a:srgbClr val="ff99cc"/>
                </a:solidFill>
                <a:uFillTx/>
                <a:latin typeface="Arial"/>
              </a:rPr>
              <a:t>casa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com M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ínios de aplic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ransações bancárias, administração escolar,vend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oão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aplica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230,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retira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100,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emite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cheque sem fu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êneros / domínio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de 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enredos vá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f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ses válidas de uma dada linguag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odelagem concei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ma abordagem para especifica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êne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is pessoas e coisas existem, qu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em ocorrer, como se comportam as pesso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cional + emo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objeto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operaçõe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gent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 não funcionais: o que é uma “boa estória”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divertir e ensi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lidando com enr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dor d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hecer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hecedor d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r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 a partir de plano reconh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amentas usando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ramação em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tórios de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nredos típ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pos e motivos literários, scripts como em Inteligência Artifi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tiv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usos, usos, usos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udar a compor enredos de estó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ed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xtos,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gos e “livros” eletrônicos, TV inte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r para antecipar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iar processo de decisão reusando sol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tretenimento Digital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igência artificial,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áfica, interação humano-computador, lingüística computacio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ologia, artes &amp; design, psicologia cognitiv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m resum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rea de pesquisa (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nterdisciplin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etenimento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-á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rração de Estóri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ory-t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r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agem conce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&amp;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icações convencionais 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-conven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2735280" cy="264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11280" y="3716280"/>
            <a:ext cx="258768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3095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4:31:12Z</dcterms:created>
  <dc:creator>Departamento de Informatica</dc:creator>
  <dc:description/>
  <dc:language>en-US</dc:language>
  <cp:lastModifiedBy>Departamento de Informatica</cp:lastModifiedBy>
  <dcterms:modified xsi:type="dcterms:W3CDTF">2006-05-04T12:34:56Z</dcterms:modified>
  <cp:revision>55</cp:revision>
  <dc:subject/>
  <dc:title>Narrativas: Diversao e Conhecimento </dc:title>
</cp:coreProperties>
</file>